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38A-46CD-4A3D-8DF5-2E59CB84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AFE-2704-4B87-864E-92D77FA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FCC-F213-46DB-AE9E-C1770DAC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08D-49ED-4531-8BFF-82658DEA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B17-584F-433F-A6C1-09A948C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BC4-9D1D-46D0-A816-C877C823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5F7-BD23-4E94-AABC-D8E7D1D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11A-4EB4-4632-81D8-48484870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FAE-7E53-4DDC-88B4-371D63C3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539-B673-402F-A2A2-163A84D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EE2-1D9F-4275-97CB-AB7577DC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99E-5802-4B4E-842C-95E2CD0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448-07F3-427B-82B1-DF60FAEF6714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b7e7ff"/>
                </a:solidFill>
                <a:latin typeface="Times New Roman"/>
              </a:rPr>
              <a:t>ДИСЦИПЛІНА</a:t>
            </a:r>
            <a:br>
              <a:rPr sz="1800"/>
            </a:br>
            <a:r>
              <a:rPr b="1" lang="uk-UA" sz="1800" spc="-1" strike="noStrike">
                <a:solidFill>
                  <a:srgbClr val="b7e7ff"/>
                </a:solidFill>
                <a:latin typeface="Times New Roman"/>
              </a:rPr>
              <a:t>«Ринкове ціноутворення»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Програма вивчення дисципліни складена відповідно до освітньо-професійної програми підготовки фахівців магістерського рівня вищої освіти спеціальності 073 «Менеджмен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Метою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викладання навчальної дисципліни «Ринкове ціноутворення в промисловості» є формування у студентів  системи спеціальних знань в галузі ціноутворення, практичних навичок з визначення й обґрунтування цінової політики, цінових стратегій та цінової тактики промислового підприємства, розрахунку цін на різні види товарів і послу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Основними </a:t>
            </a: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завданнями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викладання дисципліни «Ринкове ціноутворення в промисловості» є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навчання теоретичних та правових аспектів цінового механізму економі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теоретичних і практичних знань щодо визначення структуру ціни з позицій споживача та  промислового підприємст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розгляд та пояснення впливу факторів ціноутворення на формування цінової політики та стратегії промислового підприємст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теоретичних знань та практичних навичок щодо визначення цінової політики (стратегії) промислового підприємства виходячи із конкретних умов ринку та стадії життєвого циклу товар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опрацювання методичних та практичних прийомів розрахунку початкових цін відповідно до передумов їх практичного застосува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характеристика різних видів цінових пристосувань (цінові знижки, цінова дискримінація) та обґрунтовувати доцільність їх впровадження в практику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знань про особливості зовнішньої торгівлі з позицій ціноутворення та вміння їх враховувати при формуванні цін експорту / імпорт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визначення заходів державного регулювання цін та їх враховування в практиці ціноутворе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знань про  особливості дослідження кон’юнктури ринку для потреб ціноутворення.</a:t>
            </a: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7e7ff"/>
                </a:solidFill>
                <a:latin typeface="Arial"/>
              </a:rPr>
              <a:t>Теми лекційних занять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1. Теоретичні засади ринкового ціноутворення в промисловості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2. Види та функції ц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3. Склад ціни та формування її окремих елементі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4. Методи ринкового ціноутворенн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5. Ціноутворення на зовнішньому ри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6. Цінова політика промислового  підприє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7. Державна цінова політика та її вплив на економічні процеси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2T19:01:46Z</dcterms:created>
  <dc:creator>i</dc:creator>
  <dc:description/>
  <dc:language>en-US</dc:language>
  <cp:lastModifiedBy>Microsoft Office User</cp:lastModifiedBy>
  <dcterms:modified xsi:type="dcterms:W3CDTF">2021-12-18T17:14:11Z</dcterms:modified>
  <cp:revision>4</cp:revision>
  <dc:subject/>
  <dc:title>ДИСЦИПЛІНА «ФІНАНСИ ЗАРУБІЖНИХ КОРПОРАЦІЙ»</dc:title>
</cp:coreProperties>
</file>