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9E9-F892-429B-ABF4-31675D82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45C-A52C-448D-85A7-43499E47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7E6-9F8A-4EC3-930D-8925C0C1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58F-5430-4250-B503-F57D164D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48E-B836-4109-A57B-453CD5B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382-9837-4AAF-BE9E-AFBDA40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2E9-CB23-46A6-B188-8278C63F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883-3C49-470A-8E97-6EE64E66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8A3-0E4D-4C78-BD65-09B38B5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8B2-C443-4A95-97DF-4C0FD8B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49A-85D4-493B-966B-DFB2F0BA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487-A6E0-4779-B910-6B2F1A42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35CF-350B-41D3-BE05-DCCD4B1B3FB6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b7e7ff"/>
                </a:solidFill>
                <a:latin typeface="Times New Roman"/>
              </a:rPr>
              <a:t>ДИСЦИПЛІНА</a:t>
            </a:r>
            <a:br>
              <a:rPr sz="1800"/>
            </a:br>
            <a:r>
              <a:rPr b="1" lang="uk-UA" sz="1800" spc="-1" strike="noStrike">
                <a:solidFill>
                  <a:srgbClr val="b7e7ff"/>
                </a:solidFill>
                <a:latin typeface="Times New Roman"/>
              </a:rPr>
              <a:t>«Ринкове ціноутворення»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981000"/>
            <a:ext cx="7777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Програма вивчення дисципліни складена відповідно до освітньо-професійної програми підготовки фахівців магістерського рівня вищої освіти спеціальності 073 «Менеджмен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Метою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викладання навчальної дисципліни «Ринкове ціноутворення в промисловості» є формування у студентів  системи спеціальних знань в галузі ціноутворення, практичних навичок з визначення й обґрунтування цінової політики, цінових стратегій та цінової тактики промислового підприємства, розрахунку цін на різні види товарів і послу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Основними </a:t>
            </a:r>
            <a:r>
              <a:rPr b="1" lang="uk-UA" sz="1400" spc="-1" strike="noStrike">
                <a:solidFill>
                  <a:srgbClr val="ffffff"/>
                </a:solidFill>
                <a:latin typeface="Times New Roman"/>
              </a:rPr>
              <a:t>завданнями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викладання дисципліни «Ринкове ціноутворення в промисловості» є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навчання теоретичних та правових аспектів цінового механізму економі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теоретичних і практичних знань щодо визначення структуру ціни з позицій споживача та  промислового підприєм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розгляд та пояснення впливу факторів ціноутворення на формування цінової політики та стратегії промислового підприєм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теоретичних знань та практичних навичок щодо визначення цінової політики (стратегії) промислового підприємства виходячи із конкретних умов ринку та стадії життєвого циклу товар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опрацювання методичних та практичних прийомів розрахунку початкових цін відповідно до передумов їх практичного застосува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характеристика різних видів цінових пристосувань (цінові знижки, цінова дискримінація) та обґрунтовувати доцільність їх впровадження в практику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знань про особливості зовнішньої торгівлі з позицій ціноутворення та вміння їх враховувати при формуванні цін експорту / імпорт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визначення заходів державного регулювання цін та їх враховування в практиці ціноутворе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формування знань про  особливості дослідження кон’юнктури ринку для потреб ціноутворення.</a:t>
            </a: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7e7ff"/>
                </a:solidFill>
                <a:latin typeface="Arial"/>
              </a:rPr>
              <a:t>Теми лекційних занять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1. Теоретичні засади ринкового ціноутворення в промисловості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2. Види та функції ці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3. Склад ціни та формування її окремих елементі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4. Методи ринкового ціноутворенн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5. Ціноутворення на зовнішньому ри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6. Цінова політика промислового  підприєм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imes New Roman"/>
              </a:rPr>
              <a:t>Тема 7. Державна цінова політика та її вплив на економічні процеси</a:t>
            </a:r>
            <a:r>
              <a:rPr b="0" i="1" lang="uk-UA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2T19:01:46Z</dcterms:created>
  <dc:creator>i</dc:creator>
  <dc:description/>
  <dc:language>en-US</dc:language>
  <cp:lastModifiedBy>Microsoft Office User</cp:lastModifiedBy>
  <dcterms:modified xsi:type="dcterms:W3CDTF">2021-12-18T17:14:11Z</dcterms:modified>
  <cp:revision>4</cp:revision>
  <dc:subject/>
  <dc:title>ДИСЦИПЛІНА «ФІНАНСИ ЗАРУБІЖНИХ КОРПОРАЦІЙ»</dc:title>
</cp:coreProperties>
</file>