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299E8-180C-410F-A50B-95F8908845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DCC9E-D609-4851-BE6E-AE045B2E74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CD122-C096-4605-AAA2-A0EDCF168F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BC8-F2EE-4DA4-9AD0-CC7E345C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73B-536E-47BF-8831-FEAEED07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A919B-7942-4460-ACC2-D91A6FD8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75F6C-6917-4208-A1D9-B4DAC741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67019-D95D-47D3-8898-A76B7545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469F8-5998-4FAE-BD9A-35244861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07339-512E-4B71-878A-F668043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2880D-04C9-4C93-BDD1-C3F1A95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AE827-459F-439A-949C-B226E4D7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81B98-C36F-4932-96AD-BD187F9E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6D892-C458-4888-860C-F378FEB8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B5722-0D3A-463E-A56D-4CB9EDF3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1BE-AF38-4DA9-B6F2-5C0ECC0E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240F1-17DE-41F5-8594-7876B572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AA075-D6F1-4EF0-81C6-A6AF6AEA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13172-EAEA-4B21-AA09-DB69A193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09549-46B1-413A-BD58-052B31D8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54117-AAB8-4A2C-ADC2-B9782044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A80FB-8BDA-4067-82E5-C0C42ADC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D6B09-4310-4791-A575-D124EB4E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3DEA5-E44D-4566-B548-5D79A6F8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2822C-60FD-48DD-88E1-9A1835CA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24F25-7AAC-4754-8D9F-F8A8030A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96B-C51F-43BD-B7CB-296C94C2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FE91D-A318-4769-B422-ECD94C1F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C3469-0F7F-4C6B-8486-3D1F7C19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B2F42-90BC-4F0F-B4F7-07C5A9FB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A4C1E-392A-4CBE-B18E-444AD8FB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E9CCB-FD3D-47F8-B9BF-CAEA2E83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BD2CF-E139-4A30-BD56-5844C500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CCFB3-5D90-4164-9F73-9B9FE41F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B3FBE-FBCD-4522-BB01-A8741E7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65409-305A-4A5E-8A7D-901EEB5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30140-623D-4FD0-94B0-D0BED40A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BB76-85D1-484E-91C9-FBC05F9A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7E976-3612-4E23-810C-93C0EF43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0B1B8-1013-4015-8D23-3969D24B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C1023-624B-43A3-A69C-091F64C5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4178-06E5-4D8D-B848-B01FD839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B3AD-60CB-4D00-B555-837D584D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3D9D-DEF8-4803-A3DE-76C4E353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D668-7341-4773-8568-8D78A55D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AF4E-3F2D-44EB-A933-D5432567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042B-A36D-46AB-8FBC-54126866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29C-D5EE-469A-94CF-55301094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F7F1-8ED7-4095-8458-9224DAD5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8CFD-F704-4C9B-AB48-7B1B8727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4926-6C12-4BB5-8B04-712216D4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6B2C-5053-432A-B814-A68805E8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7BF8-8DDC-4C27-B9E9-2ADC77C8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081EF-7200-409D-A9BB-D2BBC497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712E9-909A-4128-8AFD-1FF37AD7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7568-D431-4733-BFA3-1DADFDCD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BF104-F373-497B-BC26-51967C65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BAAFB-5977-4BE0-B1B6-05352D1A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77A-C991-41C8-B1B8-6164478D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C69D-479E-432A-8EF1-4A1CAB48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DC1D8-617D-4A22-87E3-885614ED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B56C-A8AF-414A-8CFD-B5AC6D19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34FF3-AF7F-4517-8862-8B34448F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DC740-06D9-42C8-AE2F-547FA46F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43DF-2155-4E66-BCB0-5C11CA5B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40D7-98F2-45EF-ABBA-917F153E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663A4-D902-45E6-B235-37CCE9C7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D4D18-C4D6-4771-B0A0-8DEAFF5B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0C006-9F70-4551-93A7-6AB3AC65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BBD-F57F-4D65-8BBF-838A2B1D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735CB-E4C3-4C91-A6CA-4E7220B2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9A0CC-F1D1-4472-BD14-98767F55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9381-EB08-41DC-A0F9-57930755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AB847-9BB5-4A78-A8FB-95A6B662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35EC8-C509-4E2C-BCED-043724C2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EE5B0-799B-4037-865C-A185D9C0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23A90-49C9-4A29-8DF7-26D432EC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22D7B-FF6C-4BD7-824B-89FAD7D3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30922-B4D7-47DC-A0A2-E1FE1832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EBC75-6690-4543-9447-6B61DB30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AFC-3E6D-405C-AF50-81DD8F41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28083-202A-49D3-9B31-6F527A4E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03125-FC89-44CD-AB8F-6550BA04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4573F-46A4-401C-AA03-0A19F46B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437F-329E-47AA-ADE6-E91A11BE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30ACE-FD33-4098-B0EC-AA36684F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12F9E-FDFA-4956-9346-C0C6B5C2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EB02D-7EA0-4A09-B297-7DDDC343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ED983-A698-48C9-85A5-F4536122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CCA6D-C89B-4C32-8C63-40B10672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E10E4-8EA4-4B72-AAA3-11634E1B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F14-7986-4E1F-A59A-C164E68D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0CD95-6792-48C7-803C-011669DE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A6EA5-9FAB-4110-9827-E6E5D9B3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BFB21-553D-4773-9EEA-23384EB5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D6F6D-4986-43BA-8201-F4B54F8B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00534-258E-430B-8587-A763EC4D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36CFB-93F7-4638-AF03-E684995B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AF32B-2FE9-4043-9161-C2E0EF62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3F02B-4BA2-4EFD-8C2C-9D7CD7E5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7F5D2-C9C2-4FBF-A200-FD9D1266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88FAF-87FF-4AE1-A83A-940C758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AA5-4A63-4B7D-ABFB-B9A89D5D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6E137-651C-4783-BE6F-F8C4EDEA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F509A-5AB0-4990-9770-6D668F37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CA6CD-6867-4896-9BC4-70EE64B4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B52D7-E25A-4EB2-B81A-5023789C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D5190-E5E0-4CCD-B27F-343F8948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3F633-6DA7-47F5-AC15-3EE6A2E0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0E75A-6A40-4706-A7FC-A815EA6A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0CC52-52F5-4391-9896-F485C56B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27886-BE92-46EF-A17A-65FF90F9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EC29E-E62C-4DDF-978A-3E09FD9A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16D-5E1A-4DCB-9C11-3DFE897E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9A8E6-91BC-49C1-B56F-6C5CD095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E9BE6-E060-4B10-A78A-ECC07635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EA699-644E-4A7E-B30E-2A79DA4D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D2602-2F3D-4074-B876-F638B21A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539AA-99D8-4FC0-80DF-EF1096EC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D8AD3-A1FA-4CD3-BC3F-B1EB4161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DD02C-4AA5-4611-AFFF-2EF00EFF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699C2-5434-4E4F-94E6-C3648DBA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CA24C-234F-42C6-89A2-5C2DE08D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EFC5B-BA5B-4D64-8522-2E1498AC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CC3-CE8C-4284-AC26-50528DBB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B846E-A9CA-4BA8-8642-8198AFE5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2EFD3-162E-4153-BD65-E71EA716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77AD2-D961-4714-90C6-6E355D01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96FEF-F988-4F86-A7B4-9EDB7B7F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EEFC4-4819-482A-95A0-162C54B7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68D50-C035-40F2-B92D-5810D87A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8F30A-0DCB-439A-8C51-AE9373EA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5CCDC-0986-48CF-9BD5-97199D83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812C9-2CE4-45DB-80D3-D3286E61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E84B7-8F72-4F9C-A441-56F10D00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C2193-7F44-422E-8D4A-55BB8F9F7772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25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A26CB-95E4-44A8-8FDA-6977B2C10CEF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9439200" y="798480"/>
            <a:ext cx="0" cy="466092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5B59C-B59C-4C74-A019-4E862D135222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417760" y="3529080"/>
            <a:ext cx="86374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415960" y="328680"/>
            <a:ext cx="4973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7840" y="798480"/>
            <a:ext cx="80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ED628-5A9C-474A-B942-1F629AD94B84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0C25E-39F8-4C4B-8291-E52C633417D6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54040" y="3805200"/>
            <a:ext cx="863136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9331A-58CC-4479-87F5-DC4F00E5B304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3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839DB-340F-4389-8193-27805707E09F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2B052-DA3B-4773-8C24-201FA1096E7F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2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F7D77-76F4-4F28-BF21-05D112F8DDCD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7920" y="3205080"/>
            <a:ext cx="327024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881AB-89F1-4CC0-AEAF-3D8B73675063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7"/>
          <p:cNvGrpSpPr/>
          <p:nvPr/>
        </p:nvGrpSpPr>
        <p:grpSpPr>
          <a:xfrm>
            <a:off x="7477200" y="482760"/>
            <a:ext cx="4075200" cy="5148000"/>
            <a:chOff x="7477200" y="482760"/>
            <a:chExt cx="4075200" cy="5148000"/>
          </a:xfrm>
        </p:grpSpPr>
        <p:grpSp>
          <p:nvGrpSpPr>
            <p:cNvPr id="363" name="Rectangle 17"/>
            <p:cNvGrpSpPr/>
            <p:nvPr/>
          </p:nvGrpSpPr>
          <p:grpSpPr>
            <a:xfrm>
              <a:off x="7477200" y="482760"/>
              <a:ext cx="4075200" cy="5148000"/>
              <a:chOff x="7477200" y="482760"/>
              <a:chExt cx="4075200" cy="5148000"/>
            </a:xfrm>
          </p:grpSpPr>
          <p:pic>
            <p:nvPicPr>
              <p:cNvPr id="364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477200" y="482760"/>
                <a:ext cx="40752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7570800" y="506520"/>
                <a:ext cx="3880440" cy="48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Rectangle 18"/>
            <p:cNvGrpSpPr/>
            <p:nvPr/>
          </p:nvGrpSpPr>
          <p:grpSpPr>
            <a:xfrm>
              <a:off x="7827840" y="771840"/>
              <a:ext cx="3361680" cy="4328280"/>
              <a:chOff x="7827840" y="771840"/>
              <a:chExt cx="3361680" cy="4328280"/>
            </a:xfrm>
          </p:grpSpPr>
          <p:pic>
            <p:nvPicPr>
              <p:cNvPr id="367" name="Rectangl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827840" y="771840"/>
                <a:ext cx="3361680" cy="432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7868880" y="820080"/>
                <a:ext cx="3285720" cy="42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7920" y="3143160"/>
            <a:ext cx="552744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47920" y="5470560"/>
            <a:ext cx="552744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47920" y="318600"/>
            <a:ext cx="5540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F20C8-C45C-4880-8361-908EDEA5FC80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krstat.gov.ua/" TargetMode="External"/><Relationship Id="rId2" Type="http://schemas.openxmlformats.org/officeDocument/2006/relationships/hyperlink" Target="http://zakon.rada.gov.ua/" TargetMode="External"/><Relationship Id="rId3" Type="http://schemas.openxmlformats.org/officeDocument/2006/relationships/hyperlink" Target="http://zakon.rada.gov.ua/" TargetMode="External"/><Relationship Id="rId4" Type="http://schemas.openxmlformats.org/officeDocument/2006/relationships/hyperlink" Target="https://www.nssmc.gov.ua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af5"/>
            </a:gs>
            <a:gs pos="100000">
              <a:srgbClr val="fae3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Заголовок 1"/>
          <p:cNvGrpSpPr/>
          <p:nvPr/>
        </p:nvGrpSpPr>
        <p:grpSpPr>
          <a:xfrm>
            <a:off x="216000" y="203040"/>
            <a:ext cx="6832080" cy="2514240"/>
            <a:chOff x="216000" y="203040"/>
            <a:chExt cx="6832080" cy="2514240"/>
          </a:xfrm>
        </p:grpSpPr>
        <p:pic>
          <p:nvPicPr>
            <p:cNvPr id="50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16000" y="203040"/>
              <a:ext cx="6830640" cy="25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231480" y="210600"/>
              <a:ext cx="6816600" cy="25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a5644e"/>
                  </a:solidFill>
                  <a:latin typeface="Times New Roman"/>
                  <a:ea typeface="Times New Roman"/>
                </a:rPr>
                <a:t>ДИСЦИПЛІНА ЗА ВИБОРОМ СТУДЕНТА: </a:t>
              </a:r>
              <a:br>
                <a:rPr sz="3600"/>
              </a:b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ІРЖОВІ ФІНАНСОВІ ТЕХНОЛОГІЇ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380520" y="3730320"/>
            <a:ext cx="9690120" cy="289548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tIns="91440" bIns="9144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РОЗРОБНИК ДИСЦИПЛІНИ, ЛЕКТОР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c00000"/>
                </a:solidFill>
                <a:latin typeface="Cambria"/>
              </a:rPr>
              <a:t>Яришко Олена Володимирівн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К.Е.Н., ДОЦЕНТ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ДОЦЕНТ КАФЕДРИ ІНФОРМАЦІЙНОЇ ЕКОНОМІКИ, ПІДПРИЄМНИЦТВА ТА ФІНАНСІВ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ІНЖЕНЕРНИЙ НАВЧАЛЬНО-НАУКОВИЙ ІНСТИТУ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ЗАПОРІЗЬКОГО НАЦІОНАЛЬНОГО УНІВЕРСИТЕТУ ІМ. Ю.М. ПОТЕБНІ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7160" y="297000"/>
            <a:ext cx="10342440" cy="7855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mbria"/>
              </a:rPr>
              <a:t>ЯРИШКО ОЛЕНА ВОЛОДИМИРІВНА </a:t>
            </a:r>
            <a:r>
              <a:rPr b="1" lang="uk-UA" sz="22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НАУКОВІ НАПРЯМИ ДОСЛІДЖЕНЬ, ПРАКТИЧНИЙ ДОСВІД, ДОСВІД НАУКОВО – ПЕДАГОГІЧНОЇ ДІЯЛЬНОСТІ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64680" y="1279440"/>
            <a:ext cx="11241000" cy="541656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Cambria"/>
              </a:rPr>
              <a:t>Наукові напрями досліджень: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інанси промислових підприємств (галузі машинобудування, металургія); дослідження фінансового механізму підприємств промисловості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інанси підприємств бюджетної сфер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міжнародні фінанс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моніторинг фінансового стану комерційних і некомерційних підприємств 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управління державними та місцевими фінансам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ормування місцевих бюджетів громад в сучасних умовах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Практичний досвід роботи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Досвід роботи економістом в бюджетній установі, виконання обов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’</a:t>
            </a: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язків секретаря тендерного комітету 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Плідна співпраця з комерційними і некомерційними підприємствами з питань фінансового управління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77520" y="263520"/>
            <a:ext cx="9163080" cy="61920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НАУКОВО – ПЕДАГОГІЧНА ДІЯЛЬНІС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2760" y="1012680"/>
            <a:ext cx="10837800" cy="53150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Стаж роботи у закладах вищої освіти України більше 20 років (Запорізький електротехнічний коледж, Запорізька державна інженерна академія, Запорізький національний університет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Підготовка магістерських робіт з впровадженням результатів досліджень у практичну діяльність комерційних і некомерційних  підприємств регіону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Викладання дисциплін: фінанси, ринок фінансових послуг,  фінанси підприємств, фінансовий ринок, бюджетна система, державні фінанси, місцеві фінанси, економіка нерухомості та ін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курс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ормування системи знань з організації і функціонування біржового ринку як складового елемента інфраструктури ринку, технології здійснення біржових операцій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ми вивчення дисципліни 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йомлення з узагальненим досвідом роботи зарубіжних і вітчизняних бірж, вивчення нормативних основ здійснення біржової діяльності України, опанування технології здійснення біржових операцій на різних видах бірж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зультаті вивчення дисципліни студент повинен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міст основних нормативних і законодавчих документів, що регулюють здійснення біржової діяльності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новні принципи організації та проведення біржових торгів на товарній і фондовій біржі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ункцій і завдання посередників на біржах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хнологію формування ланцюга руху замовлення від покупця до продавця на біржі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нови ф’ючерсної торгівлі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новні види цінних паперів, що обертаються на фондовому ринку й методи оцінки їх вартості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іти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яти стратегію поведінки гравця на фондовій і товарній біржі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аховувати результат від здійснення певних видів біржових операцій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числювати рахунки клієнтів щодо ф’ючерсних контрактів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овувати механізм хеджування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ювати ринкову вартість цінних паперів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450440" y="2015640"/>
            <a:ext cx="9604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1.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уть біржі та її економічна природ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2. Біржовий товар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часники біржових операці</a:t>
            </a:r>
            <a:r>
              <a:rPr b="0" lang="uk-UA" sz="1800" spc="-1" strike="noStrike">
                <a:solidFill>
                  <a:srgbClr val="000000"/>
                </a:solidFill>
                <a:latin typeface="Gill Sans MT"/>
              </a:rPr>
              <a:t>й та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рганізація біржових торгів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4 Кліринг та система розрахунків за біржовими угодами. Процедура поставки за біржовими контрактам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5 Товарний ф’ючерсний контракт як інвестиційний інструмент біржового ринку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6. Фундаментальний аналіз біржових цін та курсів. Технічний аналіз ф’ючерсних цін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7 Хеджування цінових та курсових ризиків за допомогою ф’ючерсної торгівлі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8. Торгівля опціонам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56720" y="728640"/>
            <a:ext cx="8596440" cy="7063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mbria"/>
              </a:rPr>
              <a:t>БАЗОВІ ІНФОРМАЦІЙНІ РЕСУРС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77520" y="1982520"/>
            <a:ext cx="10099800" cy="40100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1.Державна служба статистики України. URL: </a:t>
            </a:r>
            <a:r>
              <a:rPr b="0" lang="uk-UA" sz="2000" spc="-1" strike="noStrike" u="sng">
                <a:solidFill>
                  <a:srgbClr val="ad1f1f"/>
                </a:solidFill>
                <a:uFillTx/>
                <a:latin typeface="Gill Sans MT"/>
                <a:hlinkClick r:id="rId1"/>
              </a:rPr>
              <a:t>http://www.ukrstat.gov.ua</a:t>
            </a: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2.Офіційний сайт Законодавство України URL: </a:t>
            </a:r>
            <a:r>
              <a:rPr b="0" lang="uk-UA" sz="2000" spc="-1" strike="noStrike" u="sng">
                <a:solidFill>
                  <a:srgbClr val="ad1f1f"/>
                </a:solidFill>
                <a:uFillTx/>
                <a:latin typeface="Gill Sans MT"/>
                <a:hlinkClick r:id="rId2"/>
              </a:rPr>
              <a:t>http://zakon.rada.gov.</a:t>
            </a:r>
            <a:r>
              <a:rPr b="0" lang="uk-UA" sz="2000" spc="-1" strike="noStrike" u="sng">
                <a:solidFill>
                  <a:srgbClr val="ad1f1f"/>
                </a:solidFill>
                <a:uFillTx/>
                <a:latin typeface="Gill Sans MT"/>
                <a:hlinkClick r:id="rId3"/>
              </a:rPr>
              <a:t>u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3. Сайт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Національної комісії з цінних паперів та фондового ринку </a:t>
            </a: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URL: </a:t>
            </a:r>
            <a:r>
              <a:rPr b="0" lang="pl-PL" sz="2000" spc="-1" strike="noStrike" u="sng">
                <a:solidFill>
                  <a:srgbClr val="ad1f1f"/>
                </a:solidFill>
                <a:uFillTx/>
                <a:latin typeface="Gill Sans MT"/>
                <a:hlinkClick r:id="rId4"/>
              </a:rPr>
              <a:t>https://www.nssmc.gov.ua</a:t>
            </a: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2T14:16:53Z</dcterms:created>
  <dc:creator>Buh</dc:creator>
  <dc:description/>
  <dc:language>en-US</dc:language>
  <cp:lastModifiedBy>Microsoft Office User</cp:lastModifiedBy>
  <dcterms:modified xsi:type="dcterms:W3CDTF">2021-12-18T19:09:29Z</dcterms:modified>
  <cp:revision>140</cp:revision>
  <dc:subject/>
  <dc:title>ПІДПРИЄМНИЦЬКІ РИЗИКИ ВТРАТИ ФІНАНСОВОЇ БЕЗПЕКИ ПРОМИСЛОВИМИ ПІДПРИЄМСТВАМИ УКРАЇНИ </dc:title>
</cp:coreProperties>
</file>