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F1B39-34AF-4F64-8A5D-16209D3C0D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2092F-2004-4964-B381-BF7617A3A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45CFF-62A7-49F0-9C13-2BCBB8D6C0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57C-6801-4338-AEC7-57B9182E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CCA-4450-4A4D-8987-EBC50024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09555-50B9-41DC-9C5A-E266B03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7F4A8-87F0-4FBE-B5AC-D3456701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B99FA-386F-4818-A62E-5B109289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B9AD3-2A3C-4636-8C15-5DD547F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B9F5B-05F5-47B8-BDA0-69770C2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2D127-9185-4355-8E0C-22EA2248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FB193-721D-4212-A912-432F4681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99983-4068-4DE3-891E-56B0B321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8A5CB-705A-4E45-94C6-56903C18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E9B23-0538-4ED2-B15B-E692FB15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8E5-2934-4158-B20E-C1AA6FCC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27442-E6B9-4CDB-B1CE-19336EA4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952BB-2B10-4887-89A7-A51F3118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5D1FE-8211-46AE-8C0A-768F005C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7F35F-83B4-49F8-97A3-6786B39F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7D611-31A1-4F25-B0A7-13B5581B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D173E-7926-455F-8126-EC46279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19FF1-A2D6-4172-B371-A7BC28C4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54219-251E-48BD-84B5-82C04301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60DC4-D92F-43BD-9131-D5DA7E24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B5A8C-8993-4D56-9575-F95E27D9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7F8-7388-44B0-B91C-4773E316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ECE40-8E13-4545-B32F-4087CE10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AECC3-8DBC-4B2E-97B8-F6C23F58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52BBA-83AF-4CF7-8952-D05DA283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B5881-68B1-4FD4-928C-E6F6DF8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2478E-0775-4114-96C5-5D24D79D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8CE5D-3C25-4927-848C-DFABD009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13ECE-01EE-4412-AE3A-8E390DE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6DCFB-4855-45FD-ADF6-FBCAF3C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E3B5F-159F-490D-9A50-F4D7E67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B9AD-2789-44A2-BA04-BFDA843E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53A0-F403-40BA-895F-A8C49822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1956-987A-496A-8A56-59B5004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70930-5A37-4C40-9759-B0AD702A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1EA78-B4CE-431E-9834-654C5DB7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5A6-1AB3-4506-A4FD-77AA4610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FBCF-1185-4F13-90BB-2D767869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C921-56BC-4162-8A13-17584D1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F686-0D3F-4C4C-8494-62389984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2938-4DF7-42B8-9019-2734951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B9FB-5B67-42AA-994E-28005B8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154-0CD3-4E6C-9FA0-9846896C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C3C0-945E-454C-B846-E0C0C7D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8322-BB76-4AF4-B93F-EFF5A02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6842-8B51-4423-AED7-A9C2ECCD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2A7D-B51F-4327-A65A-AC137262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574-C39D-4174-85B6-3C525B3D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D7C4-6816-4B35-8FC8-7E4AF2C4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62BC-FC5C-4D81-9378-C5FD556B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43A1-EC5D-4867-A54C-F615F18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D72B-4058-478B-B92E-624AA9E7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B6D6-E473-4B63-9359-66E9251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3E8-20E4-4E3E-A15A-5B93402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7E6FE-3E55-4E0C-A23B-6134EA6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6D67-01EB-4F94-B815-3B55500D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386F-3589-4BB8-A317-3C7411A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3C05-F4D1-44AE-A454-CEB68CE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D882-394F-41F2-9762-904AE88B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2273-A793-4C73-A3E8-A498F18C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02DE-8635-4502-9851-CFF5A6CB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3D6B-47FA-4945-8B61-AAC3ECA6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6B94A-7DE0-48C3-903A-9A723468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5523-385E-40CA-92FE-C43B8D25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B25-D5EE-477E-84DD-7205A640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BA38E-C084-48D0-8D28-2ADBC6D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FAA6-AB68-4A59-9DF0-D069ADDB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C71E-6B74-43B1-95F7-92C905C0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9F8D-2757-4FDE-8961-5C5FF04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CF97-CCB8-4E75-83CA-8ABABA2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FA7D-3079-489E-95E2-9CFBED4C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8BDE7-5A6D-468B-BEB6-A0D621EB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5231-8FD4-43A3-B126-9035573D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F0CEF-0850-4425-AEB8-DCD4C912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5070-2BE1-4A03-851F-38E218F8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F9B-7010-4F9E-BB28-F5520023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08325-D12B-4A99-B8D8-113DAA31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53A7-F11C-4160-B80A-B9B5AF86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BDF23-D464-42D9-AC44-A6DA9F0E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7E65-CFB8-4BB2-BA74-6DAA01FC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AD4B-EE30-41DF-97D6-3D2170C6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6413C-0E66-4193-ABE4-92CDACE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352DC-091E-4E62-941C-999A8BE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A71B-BCBE-4A5F-ACF4-36B0723A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404C-DC6F-4318-BD44-B058660C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E902-7ECB-4AFB-A2C9-167D5F82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D7B-E933-43F9-858B-84A5BEE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26C1-91E5-41B5-8AC7-AC69179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6CCDF-6312-4F00-A3A3-3ABC1E79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E317A-B838-4623-A75F-F03C0649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7979-241C-41F9-9040-3A4A8B3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4A42-3936-41DC-88DD-8A2E09B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610D-CC47-4FF4-BC87-88FEE29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D548-FB71-418F-A94E-425DCAE0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DB05-9CF3-45E6-B1AC-A9AAC90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B163-8514-4DC7-AFBA-6D03A64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A647-5531-4547-8276-3B26C0D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5BD-38A1-4B78-9FFB-3236915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14FE-B1E0-4896-AC65-03015F3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7A3AD-E41B-476B-B511-75FC6CCD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03F14-1A5D-4AEC-ABAC-E8E4269C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08517-964D-49A9-A2AD-2583BD1C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8A9C1-7134-4F63-A3A5-19B8F6EA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17B83-11EA-4EC8-98A3-8BA0E7BB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1A63C-35C5-4645-B03F-6B1F6501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0876-1777-4A27-97ED-104C794A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11901-BB5A-45B7-9CC9-1CC18830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7C45C-AEA7-49C7-9038-02FDA0EF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08E-E389-4ED5-9A59-147ED36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3D9F5-059A-41CD-8B1C-6E304BB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364C-6AD2-4938-BEE8-392DF03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3086-D66E-41A6-8981-5665952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84F41-EDD0-4A27-AA9E-23F6E2F8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421E-2FC6-42EF-B340-5AABF078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918C7-C428-4D2D-9842-A6022B46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9083-EBB0-435F-98CF-7176B38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BBE2D-F8FC-4A2D-B4C2-23122193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00E7-41E5-458C-810F-1BDF9E13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8C1E-7589-460D-9DCA-6D8CC4B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656-D7CD-4AA6-B291-2DCEEA09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2FF2-0E35-4F82-9C8E-07E64B3C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4556B-2A90-4A9A-9620-85D5B7A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900BE-F9A4-453F-AE93-27ADC00A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C1EA0-D093-443C-91A8-740C5571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6536F-BE52-4F0D-914E-8908CDE3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18B06-6610-4B44-A4E7-82361F56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61FE5-19E2-4D6B-9B2B-2E15CCDF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8EDDF-944F-4FC8-84D8-AC0C3700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D2CB5-4CD1-4499-A1D8-5DA70A20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13F72-4F12-41DD-B438-DDAEA34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5DABA-7802-46C5-B798-D51122BD3FF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37002-2D1A-41D2-B7E2-E2A109B76A89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77D9B-E6F2-4B0E-939F-326B8E72E3F1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EE32D-44B8-4D26-BD56-64566C5709A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D01C0-74DB-42F6-9CD4-AC4049713AF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C7EEE-9AC9-4C50-BA35-5A706A698A1B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338C3-6A6B-4783-80D7-9F1655A9FC8B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A0EA5-C246-44A4-9E9C-2FCE1DDF6725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A3926-914D-41B7-B62B-A25728EBE7D1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4F7DE-4827-45E7-8A6C-94D2925DDB7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0800" y="506520"/>
                <a:ext cx="3880440" cy="48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27840" y="771840"/>
              <a:ext cx="3361680" cy="4328280"/>
              <a:chOff x="7827840" y="771840"/>
              <a:chExt cx="3361680" cy="4328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27840" y="771840"/>
                <a:ext cx="3361680" cy="43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68880" y="820080"/>
                <a:ext cx="3285720" cy="42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FFF74-F775-4BD4-BD5C-47A6CA54313A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krstat.gov.ua/" TargetMode="External"/><Relationship Id="rId2" Type="http://schemas.openxmlformats.org/officeDocument/2006/relationships/hyperlink" Target="http://zakon.rada.gov.ua/" TargetMode="External"/><Relationship Id="rId3" Type="http://schemas.openxmlformats.org/officeDocument/2006/relationships/hyperlink" Target="http://zakon.rada.gov.ua/" TargetMode="External"/><Relationship Id="rId4" Type="http://schemas.openxmlformats.org/officeDocument/2006/relationships/hyperlink" Target="https://www.nssmc.gov.ua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5"/>
            </a:gs>
            <a:gs pos="100000">
              <a:srgbClr val="fae3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16000" y="203040"/>
            <a:ext cx="6832080" cy="2514240"/>
            <a:chOff x="216000" y="203040"/>
            <a:chExt cx="6832080" cy="251424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6000" y="203040"/>
              <a:ext cx="6830640" cy="25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31480" y="210600"/>
              <a:ext cx="6816600" cy="25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a5644e"/>
                  </a:solidFill>
                  <a:latin typeface="Times New Roman"/>
                  <a:ea typeface="Times New Roman"/>
                </a:rPr>
                <a:t>ДИСЦИПЛІНА ЗА ВИБОРОМ СТУДЕНТА: </a:t>
              </a:r>
              <a:br>
                <a:rPr sz="3600"/>
              </a:b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ІРЖОВІ ФІНАНСОВІ ТЕХНОЛОГІЇ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80520" y="3730320"/>
            <a:ext cx="9690120" cy="28954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РОЗРОБНИК ДИСЦИПЛІНИ, ЛЕКТОР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К.Е.Н., ДОЦЕНТ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ДОЦЕНТ КАФЕДРИ ІНФОРМАЦІЙНОЇ ЕКОНОМІКИ, ПІДПРИЄМНИЦТВА ТА ФІНАНСІ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ІНЖЕНЕРНИЙ НАВЧАЛЬНО-НАУКОВИЙ ІНСТИТУ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ЗАПОРІЗЬКОГО НАЦІОНАЛЬНОГО УНІВЕРСИТЕТУ ІМ. Ю.М. ПОТЕБНІ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7160" y="297000"/>
            <a:ext cx="10342440" cy="7855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 </a:t>
            </a: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НАУКОВІ НАПРЯМИ ДОСЛІДЖЕНЬ, ПРАКТИЧНИЙ ДОСВІД, ДОСВІД НАУКОВО – ПЕДАГОГІЧНОЇ ДІЯЛЬНОСТІ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64680" y="1279440"/>
            <a:ext cx="11241000" cy="54165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Cambria"/>
              </a:rPr>
              <a:t>Наукові напрями досліджень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ромислових підприємств (галузі машинобудування, металургія); дослідження фінансового механізму підприємств промисловост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ідприємств бюджетної сфер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іжнародні фінанс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оніторинг фінансового стану комерційних і некомерційних підприємств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управління державними та місцевими фінансам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ормування місцевих бюджетів громад в сучасних умов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Практичний досвід робот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Досвід роботи економістом в бюджетній установі, виконання обов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язків секретаря тендерного комітету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Плідна співпраця з комерційними і некомерційними підприємствами з питань фінансового управління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7520" y="263520"/>
            <a:ext cx="9163080" cy="6192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УКОВО – ПЕДАГОГІЧНА ДІЯЛЬНІС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2760" y="1012680"/>
            <a:ext cx="10837800" cy="5315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Стаж роботи у закладах вищої освіти України більше 20 років (Запорізький електротехнічний коледж, Запорізька державна інженерна академія, Запорізький національний університе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Підготовка магістерських робіт з впровадженням результатів досліджень у практичну діяльність комерційних і некомерційних  підприємств регіону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Викладання дисциплін: фінанси, ринок фінансових послуг,  фінанси підприємств, фінансовий ринок, бюджетна система, державні фінанси, місцеві фінанси, економіка нерухомості та і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курс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ормування системи знань з організації і функціонування біржового ринку як складового елемента інфраструктури ринку, технології здійснення біржових операцій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ми вивчення дисципліни 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йомлення з узагальненим досвідом роботи зарубіжних і вітчизняних бірж, вивчення нормативних основ здійснення біржової діяльності України, опанування технології здійснення біржових операцій на різних видах бірж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езультаті вивчення дисципліни студент повинен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міст основних нормативних і законодавчих документів, що регулюють здійснення біржової діяльност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новні принципи організації та проведення біржових торгів на товарній і фондовій бірж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ункцій і завдання посередників на біржах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хнологію формування ланцюга руху замовлення від покупця до продавця на бірж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нови ф’ючерсної торгівл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новні види цінних паперів, що обертаються на фондовому ринку й методи оцінки їх вартості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ти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ляти стратегію поведінки гравця на фондовій і товарній бірж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аховувати результат від здійснення певних видів біржових операцій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числювати рахунки клієнтів щодо ф’ючерсних контрактів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вати механізм хеджування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інювати ринкову вартість цінних паперів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450440" y="2015640"/>
            <a:ext cx="9604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1.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уть біржі та її економічна природ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2. Біржовий товар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часники біржових операці</a:t>
            </a:r>
            <a:r>
              <a:rPr b="0" lang="uk-UA" sz="1800" spc="-1" strike="noStrike">
                <a:solidFill>
                  <a:srgbClr val="000000"/>
                </a:solidFill>
                <a:latin typeface="Gill Sans MT"/>
              </a:rPr>
              <a:t>й та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рганізація біржових торгі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4 Кліринг та система розрахунків за біржовими угодами. Процедура поставки за біржовими контракт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5 Товарний ф’ючерсний контракт як інвестиційний інструмент біржового ринку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6. Фундаментальний аналіз біржових цін та курсів. Технічний аналіз ф’ючерсних цін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7 Хеджування цінових та курсових ризиків за допомогою ф’ючерсної торгівлі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Тема 8. Торгівля опціонами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14120" indent="-11412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6720" y="728640"/>
            <a:ext cx="8596440" cy="7063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mbria"/>
              </a:rPr>
              <a:t>БАЗОВІ ІНФОРМАЦІЙНІ РЕСУРС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77520" y="1982520"/>
            <a:ext cx="10099800" cy="4010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1.Державна служба статистики України. URL: 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1"/>
              </a:rPr>
              <a:t>http://www.ukrstat.gov.ua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2.Офіційний сайт Законодавство України URL: 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2"/>
              </a:rPr>
              <a:t>http://zakon.rada.gov.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3"/>
              </a:rPr>
              <a:t>u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3. Сайт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Національної комісії з цінних паперів та фондового ринку 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URL: </a:t>
            </a:r>
            <a:r>
              <a:rPr b="0" lang="pl-PL" sz="2000" spc="-1" strike="noStrike" u="sng">
                <a:solidFill>
                  <a:srgbClr val="ad1f1f"/>
                </a:solidFill>
                <a:uFillTx/>
                <a:latin typeface="Gill Sans MT"/>
                <a:hlinkClick r:id="rId4"/>
              </a:rPr>
              <a:t>https://www.nssmc.gov.ua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2T14:16:53Z</dcterms:created>
  <dc:creator>Buh</dc:creator>
  <dc:description/>
  <dc:language>en-US</dc:language>
  <cp:lastModifiedBy>Microsoft Office User</cp:lastModifiedBy>
  <dcterms:modified xsi:type="dcterms:W3CDTF">2021-12-18T19:09:29Z</dcterms:modified>
  <cp:revision>140</cp:revision>
  <dc:subject/>
  <dc:title>ПІДПРИЄМНИЦЬКІ РИЗИКИ ВТРАТИ ФІНАНСОВОЇ БЕЗПЕКИ ПРОМИСЛОВИМИ ПІДПРИЄМСТВАМИ УКРАЇНИ </dc:title>
</cp:coreProperties>
</file>