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7B7AB3-9985-4489-AD14-64C3ACD5BA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ED9E86-DA93-4755-B96A-8FC994FD16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4E1E-362D-42D4-A46A-E308ACE91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8C16-001A-4B21-BE1E-4BC25FDD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FCA89A-7682-4C6B-A16E-D0041EE2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2AB4F-0F6D-487E-8F14-4918DA3B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83D8F7-57F9-409B-8E5A-159B41F7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2B541E-5F10-4C8D-86D4-508850C9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18AC07-EE40-416F-AFD3-5F5B8A26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959305-DB50-4627-9DDB-F520EE72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5D17AE-F8FF-4575-BA64-F1D7B020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C9392-5E35-4DFF-964C-A35B3BE1B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FE10E-9076-4471-92A4-B0E5DA6A6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540B74-70F5-498B-86C8-C1DBF7271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DA41-8CDA-42DF-8D32-0184D7EE7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6B7537-6CCB-4E9D-9409-9334770B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DEE683-D623-486A-8071-A04D2CD0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38F25-568E-4EA9-B682-4EC3373F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743AED-070B-4501-81DE-15C34082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2E699F-B29D-4300-95CC-055622F1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E9A1A2-C995-4613-93E1-D230DC19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45DAFD-CB78-4A7C-B3AA-06F4FA37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3AD7D6-0A45-4212-94F1-0DF6B5FD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10D787-1142-4B01-A049-BAF06CF3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411898-FCFC-48EB-ACBE-063B35961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2025-A8F2-471E-8699-455E139E3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6D18DA-D3DA-43D2-9EDB-3FF2663FE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9F1ED-4E44-4CAF-8384-F57590A37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3C3231-94DE-4708-AA65-FF3A247E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34879-8FD4-483E-B0F3-C7DB0D74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00D812-0552-4464-83E9-BEF0CD0F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C210EF-1F69-4C1B-ACDE-603CD7BE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EA797E-1E3D-4880-9B56-68E07CA1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CE4EE-943B-4EAD-815F-A5B1008B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3E0DA-86B5-40B5-B4A3-3EC2B38F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2E0242-9842-4E16-9CFB-45E27DE8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4D8A-7A05-47EB-9896-BC0D27084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400429-7F1D-4F41-8BD8-D28B36C8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6E0F89-234E-4C38-BB92-0466DE864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2ED99C-45C3-430D-8D38-447CCB796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B58E-6532-4624-A45B-B852B534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5E6CF-79C0-4D8E-875F-7354C6DA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DBCD-8EC2-41D3-965B-5EE630D9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234A-F583-4FEE-ADDE-DB4A2381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DC89-870E-4FBF-AA79-CB2FB371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445FE-3B54-4A38-8759-4AD4F4C7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2948-0485-46C4-8E9B-E36AE35D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3700-82F3-4AF2-95E7-B7C29B08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7D917-BD3F-4B5E-8A28-1CCE9333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BBCE-E0AF-4315-A0D7-CD8CF9A3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921EC-E52B-4BB5-A03A-BE7CE6112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C4A1-8F7E-4633-9540-F4E25E719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F8BFA-D903-4E44-BA9D-EFE455054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B7057-F1A0-4E48-BD12-DA2ECECA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F9831-D698-4E2A-BA4A-C0CFDBAB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8D9FC-61F1-4D35-AC99-07C4B82C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B52D4-9E83-483F-A4DC-5AB4D0D3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82CD-93A9-43C3-97D3-4FB60054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8FC9C-160C-4C85-8A0F-E86370E4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05FD6-076D-48CD-A83E-E9A45B96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F9D5A-B73B-438A-BC73-BACE41F2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2F913-505D-4F4F-8ECB-24BBFE29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E66CA-47DD-4EB8-A90F-98958207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9A38D-7B7F-4750-B1C7-F38F9C7B9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E8D6C-6329-4C8C-BE4A-D7EF31C06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8CB9C-2C55-404A-85C3-26A1DD91F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E9CB0-CF73-4B2F-87D4-5BDE95E6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05936-A1C6-4874-87CE-773A9799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CE4E-0EE5-4ED9-A6EC-3C6953F8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35197-4C05-47BC-B40D-AE192392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E2F05-80B8-4A15-8EF6-15450A5C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982F4-FCBA-4E57-8748-686A1973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B6F9B-F92E-4C83-AC16-7BB1B798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8720E-EC1A-49A5-AB54-D42B0D64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77E18-E560-4B7A-826A-D0462ACF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C3EC2-B6AD-4FF3-9206-C1A36317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F846B-9087-44FC-B106-E0A934433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3EE15-FD80-4B1B-93B2-7698ACE2E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EAEDD-C9B4-476D-BFAF-548D428EA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C759-73FB-4AFD-B436-2A6014D1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4E2C3-A9AC-4C8A-AFF5-674C116C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E7A2B-2CB9-4821-A663-75DBCEA9E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40A93-B99F-409A-B540-7668D89A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A89E6-426F-4FA2-84A8-037D9243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1946D-BFE9-44A3-B5BC-DB27147F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C5A9E-0F7C-4A02-A27B-6A93760D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1C6C8-166D-4905-8DE0-72C1658C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26AB3-2A6B-4B22-8247-42C4A4FE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DB38F-2C6F-4F92-B591-AE149EED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103E9-840A-478F-9E29-30870FBCD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C5E9-A4A3-44B0-8A2A-445492E0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C98C0-F497-409E-B2D8-9ED155D4E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0C43A-657A-4EA2-80C1-3CB56D570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31D16-5BB5-43E2-BE2C-BDCDA392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A8FE7-BC22-4FB8-B3F6-1069DA86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CA83F-3094-4345-8148-1E2F9E15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B3E72-8B6F-4063-A743-1B0DDDFE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74A38-8375-4693-B621-31516F9D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35B74-DCDB-4649-B24C-BC744B78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79430-0D6F-4CEA-B1F2-1671E5A2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BE853-43B8-4FF9-89E2-CEA02503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F203-B0ED-421D-AEBD-D3062EB1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ADBBA-B30D-4CAB-9336-AB8A8E0B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5B4D2-0278-461D-A56C-B437DC198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44801-D10A-4981-A378-5791A4BF7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83B32-BF65-4B4D-9D5A-2B43DFBA7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12637-1137-4BD3-B202-7A79E9E1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F0E75-24B1-4226-A610-60B99D41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DF7E4-1449-43FD-A6BE-77CC5D74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49DA9-16E0-4D28-9CAF-09C4C5D6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860DB-3D52-46DB-B3E1-F7BD2971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96DFC-EDFB-49D1-9399-1F556E47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BBF1-D3D0-40DF-931E-D27E4DC3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7680F-BE92-4AEC-B5CA-2D6B19A0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40B47-5CD5-485C-B6DB-3B3DAB29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75919-39E7-47A9-9AA5-1953E339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417D2-599F-4F37-BE4D-A87ED8ED8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0CD52-15C8-4310-A20C-6B8DD9349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B19F6-BE1F-4898-AA2C-074196D40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47DC8-E145-47EE-81DF-2568B34E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43427-F3FC-41D8-A564-EE993128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6036A-6196-470C-9D65-F79DA6C9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67B3D-BB70-4C50-84A2-CC8BE282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4A2A-7DEF-4FC0-8B2E-486BC7D7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50440" y="804600"/>
            <a:ext cx="960444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EE714-5F2E-401D-BFF0-7B9A879C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CDB20-59C2-469E-B5CE-471892E8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0E50F-D1E9-4665-A45B-8A7020AF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426FC-1C05-41F9-AD07-65654E42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50440" y="3817800"/>
            <a:ext cx="96044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C440B-0302-4503-835F-70C2F3B8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372000" y="201564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5044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6372000" y="3817800"/>
            <a:ext cx="46868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641DC-0165-4D98-8074-4684F187B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980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7945200" y="201564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5044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46980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7945200" y="3817800"/>
            <a:ext cx="309240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AC9EC-554D-4AE0-8591-483D51378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84C91-A79E-49DB-B603-D24B39C6E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AB530-CE0F-4063-A572-3F24762D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3570DD-E592-411D-91E2-A5F94A3D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450440" y="328680"/>
            <a:ext cx="59389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AC9DC4-8C48-4AF7-BC27-3CE8EA41DF0E}" type="slidenum">
              <a:rPr b="0" lang="ru-RU" sz="2800" spc="-1" strike="noStrike">
                <a:solidFill>
                  <a:srgbClr val="f0a22e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traight Connector 25"/>
          <p:cNvSpPr/>
          <p:nvPr/>
        </p:nvSpPr>
        <p:spPr>
          <a:xfrm>
            <a:off x="1454040" y="1847880"/>
            <a:ext cx="9607680" cy="0"/>
          </a:xfrm>
          <a:prstGeom prst="line">
            <a:avLst/>
          </a:prstGeom>
          <a:ln w="316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50440" y="328680"/>
            <a:ext cx="59389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EF584F-6785-4C9C-AA37-D508E27EA36B}" type="slidenum">
              <a:rPr b="0" lang="ru-RU" sz="2800" spc="-1" strike="noStrike">
                <a:solidFill>
                  <a:srgbClr val="f0a22e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9439200" y="798480"/>
            <a:ext cx="0" cy="4660920"/>
          </a:xfrm>
          <a:prstGeom prst="line">
            <a:avLst/>
          </a:prstGeom>
          <a:ln w="316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50440" y="328680"/>
            <a:ext cx="59389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5BA1F6-3981-4C54-AB47-C4FD2FACC978}" type="slidenum">
              <a:rPr b="0" lang="ru-RU" sz="2800" spc="-1" strike="noStrike">
                <a:solidFill>
                  <a:srgbClr val="f0a22e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417760" y="3529080"/>
            <a:ext cx="8637480" cy="0"/>
          </a:xfrm>
          <a:prstGeom prst="line">
            <a:avLst/>
          </a:prstGeom>
          <a:ln w="316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415960" y="328680"/>
            <a:ext cx="4973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7840" y="798480"/>
            <a:ext cx="80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1DBA8B-30CD-401F-94EB-63A0319CD2C9}" type="slidenum">
              <a:rPr b="0" lang="ru-RU" sz="2800" spc="-1" strike="noStrike">
                <a:solidFill>
                  <a:srgbClr val="f0a22e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54040" y="1847880"/>
            <a:ext cx="9607680" cy="0"/>
          </a:xfrm>
          <a:prstGeom prst="line">
            <a:avLst/>
          </a:prstGeom>
          <a:ln w="316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50440" y="328680"/>
            <a:ext cx="59389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8F11E2-F713-497D-BBCD-5E947085B479}" type="slidenum">
              <a:rPr b="0" lang="ru-RU" sz="2800" spc="-1" strike="noStrike">
                <a:solidFill>
                  <a:srgbClr val="f0a22e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54040" y="3805200"/>
            <a:ext cx="8631360" cy="0"/>
          </a:xfrm>
          <a:prstGeom prst="line">
            <a:avLst/>
          </a:prstGeom>
          <a:ln w="316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50440" y="328680"/>
            <a:ext cx="59389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3DA39B-2FC6-4876-B6C9-897778B365CD}" type="slidenum">
              <a:rPr b="0" lang="ru-RU" sz="2800" spc="-1" strike="noStrike">
                <a:solidFill>
                  <a:srgbClr val="f0a22e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34"/>
          <p:cNvSpPr/>
          <p:nvPr/>
        </p:nvSpPr>
        <p:spPr>
          <a:xfrm>
            <a:off x="1454040" y="1847880"/>
            <a:ext cx="9607680" cy="0"/>
          </a:xfrm>
          <a:prstGeom prst="line">
            <a:avLst/>
          </a:prstGeom>
          <a:ln w="316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50440" y="328680"/>
            <a:ext cx="59389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2F3971-AE5B-4E2A-A171-8F7DC795D9E7}" type="slidenum">
              <a:rPr b="0" lang="ru-RU" sz="2800" spc="-1" strike="noStrike">
                <a:solidFill>
                  <a:srgbClr val="f0a22e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28"/>
          <p:cNvSpPr/>
          <p:nvPr/>
        </p:nvSpPr>
        <p:spPr>
          <a:xfrm>
            <a:off x="1454040" y="1847880"/>
            <a:ext cx="9607680" cy="0"/>
          </a:xfrm>
          <a:prstGeom prst="line">
            <a:avLst/>
          </a:prstGeom>
          <a:ln w="316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50440" y="328680"/>
            <a:ext cx="59389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8D0EBE-03C0-49DE-96E0-1EB0E81F5855}" type="slidenum">
              <a:rPr b="0" lang="ru-RU" sz="2800" spc="-1" strike="noStrike">
                <a:solidFill>
                  <a:srgbClr val="f0a22e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24"/>
          <p:cNvSpPr/>
          <p:nvPr/>
        </p:nvSpPr>
        <p:spPr>
          <a:xfrm>
            <a:off x="1454040" y="1847880"/>
            <a:ext cx="9607680" cy="0"/>
          </a:xfrm>
          <a:prstGeom prst="line">
            <a:avLst/>
          </a:prstGeom>
          <a:ln w="316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50440" y="328680"/>
            <a:ext cx="59389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416F9D-47C0-4D96-BE6C-3AECC5DFAAAC}" type="slidenum">
              <a:rPr b="0" lang="ru-RU" sz="2800" spc="-1" strike="noStrike">
                <a:solidFill>
                  <a:srgbClr val="f0a22e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7920" y="3205080"/>
            <a:ext cx="3270240" cy="0"/>
          </a:xfrm>
          <a:prstGeom prst="line">
            <a:avLst/>
          </a:prstGeom>
          <a:ln w="316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7554600" y="330120"/>
            <a:ext cx="350028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50440" y="328680"/>
            <a:ext cx="59389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0EB24F-C33C-4F6F-ACCB-38E9CC28DD0C}" type="slidenum">
              <a:rPr b="0" lang="ru-RU" sz="2800" spc="-1" strike="noStrike">
                <a:solidFill>
                  <a:srgbClr val="f0a22e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0" y="2019240"/>
            <a:ext cx="12192120" cy="4106880"/>
          </a:xfrm>
          <a:prstGeom prst="rect">
            <a:avLst/>
          </a:prstGeom>
          <a:gradFill rotWithShape="0">
            <a:gsLst>
              <a:gs pos="0">
                <a:srgbClr val="fbeec9">
                  <a:alpha val="0"/>
                </a:srgbClr>
              </a:gs>
              <a:gs pos="100000">
                <a:srgbClr val="fbe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6" descr=""/>
          <p:cNvPicPr/>
          <p:nvPr/>
        </p:nvPicPr>
        <p:blipFill>
          <a:blip r:embed="rId3"/>
          <a:srcRect l="0" t="1550" r="0" b="-1526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9"/>
          <p:cNvSpPr/>
          <p:nvPr/>
        </p:nvSpPr>
        <p:spPr>
          <a:xfrm>
            <a:off x="0" y="6127920"/>
            <a:ext cx="121921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7"/>
          <p:cNvGrpSpPr/>
          <p:nvPr/>
        </p:nvGrpSpPr>
        <p:grpSpPr>
          <a:xfrm>
            <a:off x="7477200" y="482760"/>
            <a:ext cx="4075200" cy="5148000"/>
            <a:chOff x="7477200" y="482760"/>
            <a:chExt cx="4075200" cy="5148000"/>
          </a:xfrm>
        </p:grpSpPr>
        <p:grpSp>
          <p:nvGrpSpPr>
            <p:cNvPr id="363" name="Rectangle 17"/>
            <p:cNvGrpSpPr/>
            <p:nvPr/>
          </p:nvGrpSpPr>
          <p:grpSpPr>
            <a:xfrm>
              <a:off x="7477200" y="482760"/>
              <a:ext cx="4075200" cy="5148000"/>
              <a:chOff x="7477200" y="482760"/>
              <a:chExt cx="4075200" cy="5148000"/>
            </a:xfrm>
          </p:grpSpPr>
          <p:pic>
            <p:nvPicPr>
              <p:cNvPr id="364" name="Rectangl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477200" y="482760"/>
                <a:ext cx="40752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7570800" y="506520"/>
                <a:ext cx="3880440" cy="48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Rectangle 18"/>
            <p:cNvGrpSpPr/>
            <p:nvPr/>
          </p:nvGrpSpPr>
          <p:grpSpPr>
            <a:xfrm>
              <a:off x="7827840" y="771840"/>
              <a:ext cx="3361680" cy="4328280"/>
              <a:chOff x="7827840" y="771840"/>
              <a:chExt cx="3361680" cy="4328280"/>
            </a:xfrm>
          </p:grpSpPr>
          <p:pic>
            <p:nvPicPr>
              <p:cNvPr id="367" name="Rectangle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7827840" y="771840"/>
                <a:ext cx="3361680" cy="432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7868880" y="820080"/>
                <a:ext cx="3285720" cy="42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7920" y="3143160"/>
            <a:ext cx="5527440" cy="0"/>
          </a:xfrm>
          <a:prstGeom prst="line">
            <a:avLst/>
          </a:prstGeom>
          <a:ln w="316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47920" y="5470560"/>
            <a:ext cx="552744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47920" y="318600"/>
            <a:ext cx="5540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79160" y="798480"/>
            <a:ext cx="811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f0a22e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23C0C0-E989-4D71-AFEA-718BF80A6AC1}" type="slidenum">
              <a:rPr b="0" lang="ru-RU" sz="2800" spc="-1" strike="noStrike">
                <a:solidFill>
                  <a:srgbClr val="f0a22e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af5"/>
            </a:gs>
            <a:gs pos="100000">
              <a:srgbClr val="fae3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Заголовок 1"/>
          <p:cNvGrpSpPr/>
          <p:nvPr/>
        </p:nvGrpSpPr>
        <p:grpSpPr>
          <a:xfrm>
            <a:off x="216000" y="203040"/>
            <a:ext cx="6832080" cy="2514240"/>
            <a:chOff x="216000" y="203040"/>
            <a:chExt cx="6832080" cy="2514240"/>
          </a:xfrm>
        </p:grpSpPr>
        <p:pic>
          <p:nvPicPr>
            <p:cNvPr id="509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16000" y="203040"/>
              <a:ext cx="6830640" cy="25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"/>
            <p:cNvSpPr/>
            <p:nvPr/>
          </p:nvSpPr>
          <p:spPr>
            <a:xfrm>
              <a:off x="231480" y="210600"/>
              <a:ext cx="6816600" cy="25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b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a5644e"/>
                  </a:solidFill>
                  <a:latin typeface="Times New Roman"/>
                  <a:ea typeface="Times New Roman"/>
                </a:rPr>
                <a:t>ДИСЦИПЛІНА ЗА ВИБОРОМ СТУДЕНТА: 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ІНАНСОВІ СИСТЕМ</a:t>
              </a:r>
              <a:r>
                <a:rPr b="0" lang="uk-UA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ЗАРУБІЖНИХ КРАЇ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380520" y="3730320"/>
            <a:ext cx="9690120" cy="2895480"/>
          </a:xfrm>
          <a:prstGeom prst="rect">
            <a:avLst/>
          </a:prstGeom>
          <a:gradFill rotWithShape="0">
            <a:gsLst>
              <a:gs pos="0">
                <a:srgbClr val="fefaf5"/>
              </a:gs>
              <a:gs pos="100000">
                <a:srgbClr val="fbe3c0"/>
              </a:gs>
            </a:gsLst>
            <a:lin ang="5400000"/>
          </a:gradFill>
          <a:ln w="0">
            <a:noFill/>
          </a:ln>
        </p:spPr>
        <p:txBody>
          <a:bodyPr tIns="91440" bIns="9144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Cambria"/>
              </a:rPr>
              <a:t>РОЗРОБНИК ДИСЦИПЛІНИ, ЛЕКТОР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c00000"/>
                </a:solidFill>
                <a:latin typeface="Cambria"/>
              </a:rPr>
              <a:t>Яришко Олена Володимирівна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mbria"/>
              </a:rPr>
              <a:t>К.Е.Н., ДОЦЕНТ,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mbria"/>
              </a:rPr>
              <a:t>ДОЦЕНТ КАФЕДРИ ІНФОРМАЦІЙНОЇ ЕКОНОМІКИ, ПІДПРИЄМНИЦТВА ТА ФІНАНСІВ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mbria"/>
              </a:rPr>
              <a:t>ІНЖЕНЕРНИЙ НАВЧАЛЬНО-НАУКОВИЙ ІНСТИТУТ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uk-UA" sz="2200" spc="-1" strike="noStrike">
                <a:solidFill>
                  <a:srgbClr val="000000"/>
                </a:solidFill>
                <a:latin typeface="Cambria"/>
              </a:rPr>
              <a:t>ЗАПОРІЗЬКОГО НАЦІОНАЛЬНОГО УНІВЕРСИТЕТУ ІМ. Ю.М. ПОТЕБНІ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87160" y="297000"/>
            <a:ext cx="10342440" cy="785520"/>
          </a:xfrm>
          <a:prstGeom prst="rect">
            <a:avLst/>
          </a:prstGeom>
          <a:gradFill rotWithShape="0">
            <a:gsLst>
              <a:gs pos="0">
                <a:srgbClr val="fefaf5"/>
              </a:gs>
              <a:gs pos="100000">
                <a:srgbClr val="fbe3c0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Cambria"/>
              </a:rPr>
              <a:t>ЯРИШКО ОЛЕНА ВОЛОДИМИРІВНА </a:t>
            </a:r>
            <a:r>
              <a:rPr b="1" lang="uk-UA" sz="2200" spc="-1" strike="noStrike">
                <a:solidFill>
                  <a:srgbClr val="000000"/>
                </a:solidFill>
                <a:latin typeface="Cambria"/>
              </a:rPr>
              <a:t>– </a:t>
            </a:r>
            <a:r>
              <a:rPr b="1" i="1" lang="uk-UA" sz="2200" spc="-1" strike="noStrike">
                <a:solidFill>
                  <a:srgbClr val="000000"/>
                </a:solidFill>
                <a:latin typeface="Cambria"/>
              </a:rPr>
              <a:t>НАУКОВІ НАПРЯМИ ДОСЛІДЖЕНЬ, ПРАКТИЧНИЙ ДОСВІД, ДОСВІД НАУКОВО – ПЕДАГОГІЧНОЇ ДІЯЛЬНОСТІ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64680" y="1279440"/>
            <a:ext cx="11241000" cy="5416560"/>
          </a:xfrm>
          <a:prstGeom prst="rect">
            <a:avLst/>
          </a:prstGeom>
          <a:gradFill rotWithShape="0">
            <a:gsLst>
              <a:gs pos="0">
                <a:srgbClr val="fefaf5"/>
              </a:gs>
              <a:gs pos="100000">
                <a:srgbClr val="fbe3c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400" spc="-1" strike="noStrike">
                <a:solidFill>
                  <a:srgbClr val="000000"/>
                </a:solidFill>
                <a:latin typeface="Cambria"/>
              </a:rPr>
              <a:t>Наукові напрями досліджень: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mbria"/>
              </a:rPr>
              <a:t>фінанси промислових підприємств (галузі машинобудування, металургія); дослідження фінансового механізму підприємств промисловості;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mbria"/>
              </a:rPr>
              <a:t>фінанси підприємств бюджетної сфери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mbria"/>
              </a:rPr>
              <a:t>міжнародні фінанси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mbria"/>
              </a:rPr>
              <a:t>моніторинг фінансового стану комерційних і некомерційних підприємств ;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mbria"/>
              </a:rPr>
              <a:t>управління державними та місцевими фінансами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mbria"/>
              </a:rPr>
              <a:t>формування місцевих бюджетів громад в сучасних умовах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Cambria"/>
              </a:rPr>
              <a:t>Практичний досвід роботи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mbria"/>
              </a:rPr>
              <a:t>Досвід роботи економістом в бюджетній установі, виконання обов</a:t>
            </a:r>
            <a:r>
              <a:rPr b="0" i="1" lang="en-US" sz="2000" spc="-1" strike="noStrike">
                <a:solidFill>
                  <a:srgbClr val="000000"/>
                </a:solidFill>
                <a:latin typeface="Cambria"/>
              </a:rPr>
              <a:t>’</a:t>
            </a:r>
            <a:r>
              <a:rPr b="0" i="1" lang="uk-UA" sz="2000" spc="-1" strike="noStrike">
                <a:solidFill>
                  <a:srgbClr val="000000"/>
                </a:solidFill>
                <a:latin typeface="Cambria"/>
              </a:rPr>
              <a:t>язків секретаря тендерного комітету 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mbria"/>
              </a:rPr>
              <a:t>Плідна співпраця з комерційними і некомерційними підприємствами з питань фінансового управління 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77520" y="263520"/>
            <a:ext cx="9163080" cy="619200"/>
          </a:xfrm>
          <a:prstGeom prst="rect">
            <a:avLst/>
          </a:prstGeom>
          <a:gradFill rotWithShape="0">
            <a:gsLst>
              <a:gs pos="0">
                <a:srgbClr val="fefaf5"/>
              </a:gs>
              <a:gs pos="100000">
                <a:srgbClr val="fbe3c0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НАУКОВО – ПЕДАГОГІЧНА ДІЯЛЬНІСТЬ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302760" y="1012680"/>
            <a:ext cx="10837800" cy="5315040"/>
          </a:xfrm>
          <a:prstGeom prst="rect">
            <a:avLst/>
          </a:prstGeom>
          <a:gradFill rotWithShape="0">
            <a:gsLst>
              <a:gs pos="0">
                <a:srgbClr val="fefaf5"/>
              </a:gs>
              <a:gs pos="100000">
                <a:srgbClr val="fbe3c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mbria"/>
              </a:rPr>
              <a:t>Стаж роботи у закладах вищої освіти України більше 20 років (Запорізький електротехнічний коледж, Запорізька державна інженерна академія, Запорізький національний університет)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mbria"/>
              </a:rPr>
              <a:t>Підготовка магістерських робіт з впровадженням результатів досліджень у практичну діяльність комерційних і некомерційних  підприємств регіону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mbria"/>
              </a:rPr>
              <a:t>Викладання дисциплін: фінанси, ринок фінансових послуг,  фінанси підприємств, фінансовий ринок, бюджетна система, державні фінанси, місцеві фінанси, економіка нерухомості та ін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buClr>
                <a:srgbClr val="f0a2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СТУДЕНТ БУДЕ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ill Sans MT"/>
              </a:rPr>
              <a:t>знати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14560" indent="-2145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ill Sans MT"/>
              </a:rPr>
              <a:t>принципи організації сучасних фінансових систем;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14560" indent="-2145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ill Sans MT"/>
              </a:rPr>
              <a:t>роль і місце національних фінансових систем у системі міжнародних економічних відносин;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14560" indent="-2145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ill Sans MT"/>
              </a:rPr>
              <a:t>особливості організації фінансових відносин у різних країнах світу;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14560" indent="-2145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uk-UA" sz="2000" spc="-1" strike="noStrike">
                <a:solidFill>
                  <a:srgbClr val="000000"/>
                </a:solidFill>
                <a:latin typeface="Gill Sans MT"/>
              </a:rPr>
              <a:t>можливі напрямки удосконалення організації фінансів у різних країнах;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14560" indent="-2145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ill Sans MT"/>
              </a:rPr>
              <a:t>особливості внутрішньої економічної політики зарубіжних країн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14560" indent="-2145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4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Метою вивчення навчальної дисципліни є формування знань з фінансових систем зарубіжних країн, ознайомлення з принципами побудови, основними тенденціями становлення і розвитку фінансових систем зарубіжних країн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1450440" y="2015640"/>
            <a:ext cx="960444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ill Sans MT"/>
              </a:rPr>
              <a:t>Вміти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Gill Sans MT"/>
              </a:rPr>
              <a:t>визначити роль і місце національних фінансових систем у сфері міжнародних економічних відносин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ill Sans MT"/>
              </a:rPr>
              <a:t>об’єктивно та грамотно оцінювати економічні процеси, що відбуваються у світі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ill Sans MT"/>
              </a:rPr>
              <a:t>аналізувати основні проблеми розвитку окремих національних фінансових ринків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ill Sans MT"/>
              </a:rPr>
              <a:t>орієнтуватися в особливостях національних фінансових систем зарубіжних країн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05560" indent="-20556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1450440" y="2015640"/>
            <a:ext cx="960444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marL="86760" indent="-867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 1.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тя, класифікація та склад фінансових систем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86760" indent="-867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 2.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інанси США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86760" indent="-867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 3.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інанси Великобританії̈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86760" indent="-867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 4.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інансові системи країн Європейського Союзу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86760" indent="-867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 5.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інансові системи Скандинавських країн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86760" indent="-867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 6.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інансові системи країн Азії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86760" indent="-867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 7.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інансові системи країн Північної і Південної Америки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86760" indent="-867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 8.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інансова система Австралії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86760" indent="-867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 9.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інансові системи країн Африки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86760" indent="-867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6760" indent="-867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6760" indent="-867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6760" indent="-867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6760" indent="-867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6760" indent="-867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6760" indent="-867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6760" indent="-867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6760" indent="-867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6760" indent="-867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6760" indent="-867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6760" indent="-867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6760" indent="-867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6760" indent="-867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6760" indent="-86760">
              <a:lnSpc>
                <a:spcPct val="120000"/>
              </a:lnSpc>
              <a:spcBef>
                <a:spcPts val="1001"/>
              </a:spcBef>
              <a:buClr>
                <a:srgbClr val="f0a2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02T14:16:53Z</dcterms:created>
  <dc:creator>Buh</dc:creator>
  <dc:description/>
  <dc:language>en-US</dc:language>
  <cp:lastModifiedBy>Microsoft Office User</cp:lastModifiedBy>
  <dcterms:modified xsi:type="dcterms:W3CDTF">2021-12-18T20:23:48Z</dcterms:modified>
  <cp:revision>144</cp:revision>
  <dc:subject/>
  <dc:title>ПІДПРИЄМНИЦЬКІ РИЗИКИ ВТРАТИ ФІНАНСОВОЇ БЕЗПЕКИ ПРОМИСЛОВИМИ ПІДПРИЄМСТВАМИ УКРАЇНИ </dc:title>
</cp:coreProperties>
</file>