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1E356-D212-4AB0-850B-3B48C28C18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1F07A-A3FC-4C76-80F7-BCC6D7CD73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1A2-01AF-478D-B6A5-71364393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BA1-D0E3-4D11-B7AE-740FF94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414CF-919C-43A9-9CE7-D7247C3B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DEE9F-3D07-411B-9F51-77E2B6B4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52938-FF7D-4120-B677-83D43F1C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BD3EB-6450-4F47-9C69-62C538C0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FC65C-7DD9-4237-8E90-5428311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372A0-A24E-4D39-BB58-13A96648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0D96D-3489-428B-93C1-84E3090D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60D2F-629F-41B2-A971-FD807085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09135-529F-474F-B496-D30B99C1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3229A-78EE-45D5-B232-73CAF84F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45D-A781-40B1-9169-C7DA5090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95E35-FDE2-4BF7-AA2E-B7134916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62B66-E6CC-4528-9679-D365B779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4D249-A16D-422D-89D1-00ECAB15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611E2-050D-4664-8BC1-A3357492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7F0F3-8C8C-4AC7-892D-9E47987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D042C-3799-437B-87BB-7BCB0387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35968-6F32-4395-B8E1-D4C5AC5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05D77-427D-4773-92A1-E931F08A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4E69C-9F69-451B-9FC3-DCC1D2E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BDC5C-A162-4CDE-9550-ABCA3AAA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89C-0F37-4911-8491-FEF6A1F5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5FA78-C5EB-4A28-8F23-2AB2983F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4AF18-52ED-46AF-A43D-1D3EDCCA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4E722-BBBD-41A7-8FF4-1441448F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29FFF-D813-451B-8C89-F15412F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B7A5A-2FA6-487D-82E4-29C77F6D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953CA-C17A-416A-8C93-FD5A5579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05DC9-9B7C-4316-88CB-03BE93C2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B1C13-C715-45A5-A7D1-3A59551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1F347-F106-467E-BBA2-8BB37781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E3036-8DBE-4235-BD05-F4511CA4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9CBD-1996-405A-AC43-BD606731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EF2F2-87B3-4A64-B6A6-2041DA12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E3DA5-9C2D-4F75-AA51-EC0CBCCD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7ECD8-5F60-48DD-9C40-FBABE6F1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B435-0794-4E89-8712-28C4D831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54D6-7079-45C6-A345-140CA6EF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B7B6-791D-443D-8ECE-117C005A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838A-BD45-4A12-B13F-45391BFB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95C-5332-416D-9F7C-A287C83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F51A-E754-4FA8-9078-AD23ED15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751-BED4-42D2-A3DD-EC92C982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80E1-0E42-427B-931B-CE9C1BDF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1E82-BE22-44E9-83E6-A339E2C5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B5D6-9D6D-4BD5-A6BD-ABCD1242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6634-EBC9-4716-8C11-56B66326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ED0-BE46-42AF-BDF2-539BCA96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051B-AC70-4CA6-81D3-D53C1A14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3B62-54D9-4993-90C9-DEE42E0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5B0E-3AAE-4C9E-A4AF-51E7BC8B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3B59-E327-4AF4-83D9-C77C48AB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E49C-7924-43B3-A453-A5DA36BA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C56-6FF8-4F28-8ED7-3DD2503A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EEFED-CAE3-44AE-88C3-E6993F85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4C8D-CD5D-4757-B187-4A92E044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2069-1AFA-4714-8328-2496E71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55B5-3B16-424D-A996-FF811066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AA21-9D29-4C1D-8AD0-078C4CF1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09F4-3FE0-4A01-9923-4998C2B6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C9EF-9DE8-4C55-AA6E-6A8DF341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4FD67-2A6E-4A44-B012-7E50F444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EC6E-1D5E-4FFE-87AF-271F05B6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60BC-04DE-452C-8CFB-37E5C708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324-7EDB-4FB1-B412-F6B4553C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E25A-A6FF-41A8-875F-D3A4C2AA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628FE-B773-49A4-99F0-8BCB8B13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3EF5-75CB-4FC9-81A7-0734C0F4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643E7-BB9D-406F-B795-1BCF7276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39F0D-82FB-484B-B084-0D9282F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9E59-D642-4985-A9CB-99CF787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60240-4BBD-4217-9C86-6F4CC810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D17D-08E6-4EF7-A58B-92EFC752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6F2F9-06E4-4C5D-B859-954606DA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2AA7-4BBE-4A89-9482-C35E023C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AF6-9D9D-4C52-8B14-4FD77358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536C-E9C6-454F-A5A7-7B9FA197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BD92A-9842-46B4-BB5B-322469D4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FD3DF-D892-42E2-A106-6233460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3194-75A7-4E89-99AE-9F937AF0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3694-258F-4494-BEE0-8AEA508C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FF9C-1D9C-4F14-B5EF-5CCE9B04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9BF3-032D-44B4-9796-AFA22F0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FBFFC-1B3F-4716-84E6-888938F6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EA403-F980-4B00-AC13-E10461F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9ACA1-1E7F-4BAA-A916-D1CF7B59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FD6-5B14-427D-9E02-6BE52739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A8265-F311-4771-A3D1-F053D8D0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0857-4D18-4857-890F-C469D22B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BA8C9-8399-4D0D-9166-4997811F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4662-A4F5-409A-9702-AC8EBBBB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2AD0F-8FB4-491C-BE0D-3693EA93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30CCE-6D7E-4D29-B406-B6E77066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FE14-4862-4751-B562-B39C7C28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6435D-AB5D-4290-B483-BF67D18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8165-0A28-47EC-9B8A-009274A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C66DD-CB33-4A4F-B647-9E49283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1F1-A7A4-4E1D-8B24-3F1A41B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02EA-3EB2-478C-8ED9-28CE20C5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8A1E4-16A4-4561-8C92-B10E2A95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876A1-04D6-44F3-8155-CF00D350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3A7B-CDD8-4693-B311-66825846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CB99-4EAB-4F55-9D5D-C7FE08DD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440A0-1B92-4D01-9C83-859A9051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5E2FB-77B8-4B43-B594-3C212411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B4629-F457-4E29-8085-0A2C2616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67E13-857A-4C67-9D91-E509F359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9A844-3134-493E-B6E6-AD3B4D59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C3F-EB83-4E7E-B5D2-3C4A4A3B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B8174-DD11-45EE-B682-CB9A961B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6B089-7972-49D7-9A1F-6FF5CE52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59195-E9A0-44A4-B953-96770BC6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72513-7A15-411C-A085-8D27E48A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B161-99CB-4505-9F2C-27634FF3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F6C55-DF64-4604-BF46-E9560957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EC45-304A-4516-A630-85CD19C9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7922F-623B-48BE-9771-F6B0440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4B204-BCBF-4A52-AD07-96FCA52C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683E3-0723-4508-87C3-E1D7584D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216-9287-41A3-99C1-09262D48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469F3-1A0E-4DF3-8CB3-5C8E10B4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8E9C9-3F5E-4B57-90A6-E283BBDA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93AC5-CA58-4EF9-9C05-40B4415B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04103-D32E-42D1-8DF2-11A863A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22F40-2BEB-4D52-9909-C3FA4335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5E0B7-235F-4171-8FB6-886162E4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C2C7B-66E7-4FE2-8374-E5522A0E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6B607-97AD-4FD5-9AE2-8DCE08C1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837D4-C2DA-4B51-8CEC-0B7C6F8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061AF-1560-4573-8CA8-6208AED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3649D-8ED7-439D-BCCC-D0FB2311B249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5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70248-6B34-4EF1-95C7-FF6AB2AFEE08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9439200" y="798480"/>
            <a:ext cx="0" cy="466092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E7A14-CBE5-4D86-B910-71EC15B2618D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417760" y="3529080"/>
            <a:ext cx="86374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415960" y="328680"/>
            <a:ext cx="4973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7840" y="798480"/>
            <a:ext cx="80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A33BB-8B96-488E-97B3-F3A24AE880D4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1CB70-D429-4038-8853-D218599DFB91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54040" y="3805200"/>
            <a:ext cx="863136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4B0FD-B4E8-4C53-AA2D-624DDC8C1E4A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D997A-6DB1-423A-B894-33D035D382F7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8E053-1CDC-4E30-81D6-103EFA1B83B6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2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7059A-22FF-4ACF-896D-49F5D601CA63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7920" y="3205080"/>
            <a:ext cx="32702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130E3-0DC8-43EB-A36E-C1E0F3EA2626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7477200" y="482760"/>
            <a:ext cx="4075200" cy="5148000"/>
            <a:chOff x="7477200" y="482760"/>
            <a:chExt cx="4075200" cy="5148000"/>
          </a:xfrm>
        </p:grpSpPr>
        <p:grpSp>
          <p:nvGrpSpPr>
            <p:cNvPr id="363" name="Rectangle 17"/>
            <p:cNvGrpSpPr/>
            <p:nvPr/>
          </p:nvGrpSpPr>
          <p:grpSpPr>
            <a:xfrm>
              <a:off x="7477200" y="482760"/>
              <a:ext cx="4075200" cy="5148000"/>
              <a:chOff x="7477200" y="482760"/>
              <a:chExt cx="4075200" cy="5148000"/>
            </a:xfrm>
          </p:grpSpPr>
          <p:pic>
            <p:nvPicPr>
              <p:cNvPr id="36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477200" y="482760"/>
                <a:ext cx="40752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7570800" y="506520"/>
                <a:ext cx="3880440" cy="48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8"/>
            <p:cNvGrpSpPr/>
            <p:nvPr/>
          </p:nvGrpSpPr>
          <p:grpSpPr>
            <a:xfrm>
              <a:off x="7827840" y="771840"/>
              <a:ext cx="3361680" cy="4328280"/>
              <a:chOff x="7827840" y="771840"/>
              <a:chExt cx="3361680" cy="4328280"/>
            </a:xfrm>
          </p:grpSpPr>
          <p:pic>
            <p:nvPicPr>
              <p:cNvPr id="367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27840" y="771840"/>
                <a:ext cx="3361680" cy="43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7868880" y="820080"/>
                <a:ext cx="3285720" cy="42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7920" y="3143160"/>
            <a:ext cx="55274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47920" y="5470560"/>
            <a:ext cx="552744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47920" y="318600"/>
            <a:ext cx="5540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D988C-A773-4CDE-AC31-5DA0BC90D36C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5"/>
            </a:gs>
            <a:gs pos="100000">
              <a:srgbClr val="fae3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Заголовок 1"/>
          <p:cNvGrpSpPr/>
          <p:nvPr/>
        </p:nvGrpSpPr>
        <p:grpSpPr>
          <a:xfrm>
            <a:off x="216000" y="203040"/>
            <a:ext cx="6832080" cy="2514240"/>
            <a:chOff x="216000" y="203040"/>
            <a:chExt cx="6832080" cy="2514240"/>
          </a:xfrm>
        </p:grpSpPr>
        <p:pic>
          <p:nvPicPr>
            <p:cNvPr id="50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6000" y="203040"/>
              <a:ext cx="6830640" cy="25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231480" y="210600"/>
              <a:ext cx="6816600" cy="25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a5644e"/>
                  </a:solidFill>
                  <a:latin typeface="Times New Roman"/>
                  <a:ea typeface="Times New Roman"/>
                </a:rPr>
                <a:t>ДИСЦИПЛІНА ЗА ВИБОРОМ СТУДЕНТА: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ІНАНСОВІ СИСТЕМ</a:t>
              </a:r>
              <a:r>
                <a:rPr b="0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АРУБІЖНИХ КРАЇ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80520" y="3730320"/>
            <a:ext cx="9690120" cy="28954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tIns="91440" bIns="914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РОЗРОБНИК ДИСЦИПЛІНИ, ЛЕКТОР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К.Е.Н., ДОЦЕНТ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ДОЦЕНТ КАФЕДРИ ІНФОРМАЦІЙНОЇ ЕКОНОМІКИ, ПІДПРИЄМНИЦТВА ТА ФІНАНСІВ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ІНЖЕНЕРНИЙ НАВЧАЛЬНО-НАУКОВИЙ ІНСТИТУ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ЗАПОРІЗЬКОГО НАЦІОНАЛЬНОГО УНІВЕРСИТЕТУ ІМ. Ю.М. ПОТЕБНІ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7160" y="297000"/>
            <a:ext cx="10342440" cy="7855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 </a:t>
            </a: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НАУКОВІ НАПРЯМИ ДОСЛІДЖЕНЬ, ПРАКТИЧНИЙ ДОСВІД, ДОСВІД НАУКОВО – ПЕДАГОГІЧНОЇ ДІЯЛЬНОСТІ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64680" y="1279440"/>
            <a:ext cx="11241000" cy="541656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Cambria"/>
              </a:rPr>
              <a:t>Наукові напрями досліджень: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ромислових підприємств (галузі машинобудування, металургія); дослідження фінансового механізму підприємств промисловості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ідприємств бюджетної сфер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іжнародні фінанс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оніторинг фінансового стану комерційних і некомерційних підприємств 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управління державними та місцевими фінансам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ормування місцевих бюджетів громад в сучасних умова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Практичний досвід роботи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Досвід роботи економістом в бюджетній установі, виконання обов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’</a:t>
            </a: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язків секретаря тендерного комітету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Плідна співпраця з комерційними і некомерційними підприємствами з питань фінансового управління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7520" y="263520"/>
            <a:ext cx="9163080" cy="6192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УКОВО – ПЕДАГОГІЧНА ДІЯЛЬНІС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2760" y="1012680"/>
            <a:ext cx="10837800" cy="5315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Стаж роботи у закладах вищої освіти України більше 20 років (Запорізький електротехнічний коледж, Запорізька державна інженерна академія, Запорізький національний університет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Підготовка магістерських робіт з впровадженням результатів досліджень у практичну діяльність комерційних і некомерційних  підприємств регіону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Викладання дисциплін: фінанси, ринок фінансових послуг,  фінанси підприємств, фінансовий ринок, бюджетна система, державні фінанси, місцеві фінанси, економіка нерухомості та і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ТУДЕНТ БУДЕ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знати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принципи організації сучасних фінансових систем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роль і місце національних фінансових систем у системі міжнародних економічних відносин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особливості організації фінансових відносин у різних країнах світу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можливі напрямки удосконалення організації фінансів у різних країнах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особливості внутрішньої економічної політики зарубіжних країн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Метою вивчення навчальної дисципліни є формування знань з фінансових систем зарубіжних країн, ознайомлення з принципами побудови, основними тенденціями становлення і розвитку фінансових систем зарубіжних країн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ill Sans MT"/>
              </a:rPr>
              <a:t>Вміт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визначити роль і місце національних фінансових систем у сфері міжнародних економічних відносин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об’єктивно та грамотно оцінювати економічні процеси, що відбуваються у світі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аналізувати основні проблеми розвитку окремих національних фінансових ринків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орієнтуватися в особливостях національних фінансових систем зарубіжних країн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450440" y="2015640"/>
            <a:ext cx="960444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1.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, класифікація та склад фінансових систем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2.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нанси США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3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и Великобританії̈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4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і системи країн Європейського Союзу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5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і системи Скандинавських країн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6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і системи країн Азії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7.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нансові системи країн Північної і Південної Америки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8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а система Австралії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9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і системи країн Африки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2T14:16:53Z</dcterms:created>
  <dc:creator>Buh</dc:creator>
  <dc:description/>
  <dc:language>en-US</dc:language>
  <cp:lastModifiedBy>Microsoft Office User</cp:lastModifiedBy>
  <dcterms:modified xsi:type="dcterms:W3CDTF">2021-12-18T20:23:48Z</dcterms:modified>
  <cp:revision>144</cp:revision>
  <dc:subject/>
  <dc:title>ПІДПРИЄМНИЦЬКІ РИЗИКИ ВТРАТИ ФІНАНСОВОЇ БЕЗПЕКИ ПРОМИСЛОВИМИ ПІДПРИЄМСТВАМИ УКРАЇНИ </dc:title>
</cp:coreProperties>
</file>