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28D-E805-453A-9CBC-1E915C7C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2B9-6D71-4EB3-A396-812FEDBE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EAA-057F-491B-A93A-B7302939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AFC-C7B3-4C06-9D37-6F37832E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D03-5268-4602-BFE4-4F3E9E3B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713-626C-4813-AF9E-890DEA0F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EB1-7140-4D00-AEAB-344A30C6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E0F-814F-4586-90F6-8C3D900C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B68-00BC-40A0-88A4-249FCC24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7C1-4A57-4B17-A4A0-E2922F28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ECF-79FC-4A3C-B453-3756529D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AFA-1D61-405A-8D3A-BAF4601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55D5-04C1-4781-9071-58C04E406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924680" cy="2822400"/>
          </a:xfrm>
          <a:prstGeom prst="rect">
            <a:avLst/>
          </a:prstGeom>
          <a:solidFill>
            <a:srgbClr val="a3a3e0"/>
          </a:solidFill>
          <a:ln w="9360">
            <a:solidFill>
              <a:srgbClr val="72bfc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іжнародний трансфер технологій та інноваційна політика в системі міжнародної економічної 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9480" y="228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інансове забезпече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уково-технічного розвит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Finansuvannya-nauky-875x500"/>
          <p:cNvPicPr/>
          <p:nvPr/>
        </p:nvPicPr>
        <p:blipFill>
          <a:blip r:embed="rId1"/>
          <a:stretch/>
        </p:blipFill>
        <p:spPr>
          <a:xfrm>
            <a:off x="228600" y="838080"/>
            <a:ext cx="5386320" cy="307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4252"/>
          <p:cNvPicPr/>
          <p:nvPr/>
        </p:nvPicPr>
        <p:blipFill>
          <a:blip r:embed="rId2"/>
          <a:stretch/>
        </p:blipFill>
        <p:spPr>
          <a:xfrm>
            <a:off x="5181480" y="31240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154149089_w0_h0_byh"/>
          <p:cNvPicPr/>
          <p:nvPr/>
        </p:nvPicPr>
        <p:blipFill>
          <a:blip r:embed="rId3"/>
          <a:stretch/>
        </p:blipFill>
        <p:spPr>
          <a:xfrm>
            <a:off x="1219320" y="3878280"/>
            <a:ext cx="39621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fond-doslidzhen0-800x445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4662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2860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рганізаційна підтрим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науково-технічної с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8600" y="2286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конодавча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Zakonoproect"/>
          <p:cNvPicPr/>
          <p:nvPr/>
        </p:nvPicPr>
        <p:blipFill>
          <a:blip r:embed="rId1"/>
          <a:stretch/>
        </p:blipFill>
        <p:spPr>
          <a:xfrm>
            <a:off x="228600" y="1143000"/>
            <a:ext cx="5410080" cy="3559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5791320" y="12952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он України про наукову та науково-технічну дія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країн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цедура патентування винаходу може тривати від 3 до 5 років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лідок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о втрачається не тільки пріоритетність вітчизняних розробок, а й час для впровадження винах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atent_1"/>
          <p:cNvPicPr/>
          <p:nvPr/>
        </p:nvPicPr>
        <p:blipFill>
          <a:blip r:embed="rId1"/>
          <a:stretch/>
        </p:blipFill>
        <p:spPr>
          <a:xfrm>
            <a:off x="304920" y="1523880"/>
            <a:ext cx="3087720" cy="441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ua-patentnyj-poisk"/>
          <p:cNvPicPr/>
          <p:nvPr/>
        </p:nvPicPr>
        <p:blipFill>
          <a:blip r:embed="rId2"/>
          <a:stretch/>
        </p:blipFill>
        <p:spPr>
          <a:xfrm>
            <a:off x="3733920" y="160020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505320" y="50292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Україні важливим напрямом оптимізації законодавчої бази та адміністрування є врегулювання проблем патентування винаход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уково-технічне співробітництво тісно пов’язане з таким новим технічно-економічним поняттям, як інформаційно-комунікаційні технологі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олол"/>
          <p:cNvPicPr/>
          <p:nvPr/>
        </p:nvPicPr>
        <p:blipFill>
          <a:blip r:embed="rId1"/>
          <a:stretch/>
        </p:blipFill>
        <p:spPr>
          <a:xfrm>
            <a:off x="228600" y="1523880"/>
            <a:ext cx="4319640" cy="242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5"/>
          <p:cNvPicPr/>
          <p:nvPr/>
        </p:nvPicPr>
        <p:blipFill>
          <a:blip r:embed="rId2"/>
          <a:stretch/>
        </p:blipFill>
        <p:spPr>
          <a:xfrm>
            <a:off x="4572000" y="3581280"/>
            <a:ext cx="4267080" cy="296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med-25419"/>
          <p:cNvPicPr/>
          <p:nvPr/>
        </p:nvPicPr>
        <p:blipFill>
          <a:blip r:embed="rId3"/>
          <a:stretch/>
        </p:blipFill>
        <p:spPr>
          <a:xfrm>
            <a:off x="533520" y="4038480"/>
            <a:ext cx="396216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структурі ринку інформаційних технологій найбільша частка належить телекомунікаці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"/>
          <p:cNvPicPr/>
          <p:nvPr/>
        </p:nvPicPr>
        <p:blipFill>
          <a:blip r:embed="rId1"/>
          <a:stretch/>
        </p:blipFill>
        <p:spPr>
          <a:xfrm>
            <a:off x="4343400" y="3505320"/>
            <a:ext cx="4572000" cy="316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720320"/>
          <p:cNvPicPr/>
          <p:nvPr/>
        </p:nvPicPr>
        <p:blipFill>
          <a:blip r:embed="rId2"/>
          <a:stretch/>
        </p:blipFill>
        <p:spPr>
          <a:xfrm>
            <a:off x="609480" y="4114800"/>
            <a:ext cx="3733920" cy="252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72_telecom-1024x441"/>
          <p:cNvPicPr/>
          <p:nvPr/>
        </p:nvPicPr>
        <p:blipFill>
          <a:blip r:embed="rId3"/>
          <a:stretch/>
        </p:blipFill>
        <p:spPr>
          <a:xfrm>
            <a:off x="4724280" y="1752480"/>
            <a:ext cx="4191120" cy="1805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vwe5"/>
          <p:cNvPicPr/>
          <p:nvPr/>
        </p:nvPicPr>
        <p:blipFill>
          <a:blip r:embed="rId4"/>
          <a:stretch/>
        </p:blipFill>
        <p:spPr>
          <a:xfrm>
            <a:off x="228600" y="1447920"/>
            <a:ext cx="5257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нформатизація також охоплює такі поняття як Інтернет-ринок та електронна комер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elektronnaya_kommerciya_eto"/>
          <p:cNvPicPr/>
          <p:nvPr/>
        </p:nvPicPr>
        <p:blipFill>
          <a:blip r:embed="rId1"/>
          <a:stretch/>
        </p:blipFill>
        <p:spPr>
          <a:xfrm>
            <a:off x="4343400" y="1371600"/>
            <a:ext cx="4591080" cy="208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lektronnaya-kommertsiya-300x296"/>
          <p:cNvPicPr/>
          <p:nvPr/>
        </p:nvPicPr>
        <p:blipFill>
          <a:blip r:embed="rId2"/>
          <a:stretch/>
        </p:blipFill>
        <p:spPr>
          <a:xfrm>
            <a:off x="380880" y="2057400"/>
            <a:ext cx="3886200" cy="383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скачанные файлы"/>
          <p:cNvPicPr/>
          <p:nvPr/>
        </p:nvPicPr>
        <p:blipFill>
          <a:blip r:embed="rId3"/>
          <a:stretch/>
        </p:blipFill>
        <p:spPr>
          <a:xfrm>
            <a:off x="4572000" y="35812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5029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ехнополіси відрізняє обов’язкова висока наукомісткість, а також мала матеріало- та енергоємність виробництва, орієнтованого виключно на нові види технологічно прогресивної продукції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_pad20180625T211620__8286bt9"/>
          <p:cNvPicPr/>
          <p:nvPr/>
        </p:nvPicPr>
        <p:blipFill>
          <a:blip r:embed="rId1"/>
          <a:stretch/>
        </p:blipFill>
        <p:spPr>
          <a:xfrm>
            <a:off x="228600" y="1981080"/>
            <a:ext cx="441972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470411587_1d068372d70b8025828de88edc9b61b5"/>
          <p:cNvPicPr/>
          <p:nvPr/>
        </p:nvPicPr>
        <p:blipFill>
          <a:blip r:embed="rId2"/>
          <a:stretch/>
        </p:blipFill>
        <p:spPr>
          <a:xfrm>
            <a:off x="4800600" y="1981080"/>
            <a:ext cx="4114800" cy="2738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0" y="228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поліс - це науково-промисловий комплекс, створений для виробництва нової прогресивної продукції або розроблення нових наукоемких технологій на базі тісних відносин з університетами і науково-технічними цент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228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практичному плані найбільш придатними для створення технополісів є мікрорайони, що створюються навколо високотехнологічних виробництв чи таких навчальних закладів, як університети та технологічні інститу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аною є наявність аеропорту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жливе значення має наявність прийнятної системи водо-, енергопостачання, обслугов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1529950288_172"/>
          <p:cNvPicPr/>
          <p:nvPr/>
        </p:nvPicPr>
        <p:blipFill>
          <a:blip r:embed="rId1"/>
          <a:stretch/>
        </p:blipFill>
        <p:spPr>
          <a:xfrm>
            <a:off x="762120" y="1905120"/>
            <a:ext cx="7839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клади технополі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3520" y="4114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коновая д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724280" y="342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ликоновая д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29528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жунгуаньцунь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ilicon-Valley"/>
          <p:cNvPicPr/>
          <p:nvPr/>
        </p:nvPicPr>
        <p:blipFill>
          <a:blip r:embed="rId1"/>
          <a:stretch/>
        </p:blipFill>
        <p:spPr>
          <a:xfrm>
            <a:off x="4343400" y="1066680"/>
            <a:ext cx="4619520" cy="230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779722"/>
          <p:cNvPicPr/>
          <p:nvPr/>
        </p:nvPicPr>
        <p:blipFill>
          <a:blip r:embed="rId2"/>
          <a:stretch/>
        </p:blipFill>
        <p:spPr>
          <a:xfrm>
            <a:off x="304920" y="9907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135136869_14565755704971n"/>
          <p:cNvPicPr/>
          <p:nvPr/>
        </p:nvPicPr>
        <p:blipFill>
          <a:blip r:embed="rId3"/>
          <a:stretch/>
        </p:blipFill>
        <p:spPr>
          <a:xfrm>
            <a:off x="4495680" y="3886200"/>
            <a:ext cx="41911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нновація відрізняє лідера від наздоганяюч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(Стів Джоб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Інноваційна діяльність - це гарно організова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раціональна і систематич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(П.Друк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еальними засобами та формами макроекономічної політики є визначення на державному рівні пріоритетів НДДК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hertej"/>
          <p:cNvPicPr/>
          <p:nvPr/>
        </p:nvPicPr>
        <p:blipFill>
          <a:blip r:embed="rId1"/>
          <a:stretch/>
        </p:blipFill>
        <p:spPr>
          <a:xfrm>
            <a:off x="533520" y="1371600"/>
            <a:ext cx="4495680" cy="34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aption"/>
          <p:cNvPicPr/>
          <p:nvPr/>
        </p:nvPicPr>
        <p:blipFill>
          <a:blip r:embed="rId2"/>
          <a:stretch/>
        </p:blipFill>
        <p:spPr>
          <a:xfrm>
            <a:off x="4114800" y="3581280"/>
            <a:ext cx="48769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акроекономічна політика України у сфері НТП проводиться за допомог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годипрлшш"/>
          <p:cNvPicPr/>
          <p:nvPr/>
        </p:nvPicPr>
        <p:blipFill>
          <a:blip r:embed="rId1"/>
          <a:stretch/>
        </p:blipFill>
        <p:spPr>
          <a:xfrm>
            <a:off x="4876920" y="914400"/>
            <a:ext cx="404784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953456"/>
          <p:cNvPicPr/>
          <p:nvPr/>
        </p:nvPicPr>
        <p:blipFill>
          <a:blip r:embed="rId2"/>
          <a:stretch/>
        </p:blipFill>
        <p:spPr>
          <a:xfrm>
            <a:off x="4876920" y="3809880"/>
            <a:ext cx="4047840" cy="198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original (1)"/>
          <p:cNvPicPr/>
          <p:nvPr/>
        </p:nvPicPr>
        <p:blipFill>
          <a:blip r:embed="rId3"/>
          <a:stretch/>
        </p:blipFill>
        <p:spPr>
          <a:xfrm>
            <a:off x="304920" y="3657600"/>
            <a:ext cx="4267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182855"/>
          <p:cNvPicPr/>
          <p:nvPr/>
        </p:nvPicPr>
        <p:blipFill>
          <a:blip r:embed="rId4"/>
          <a:stretch/>
        </p:blipFill>
        <p:spPr>
          <a:xfrm>
            <a:off x="533520" y="914400"/>
            <a:ext cx="3809880" cy="2133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228600" y="32004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півпраці з ЄС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A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CI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і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724280" y="30481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півпраці з США через американські міжнародні фонд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04920" y="57150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тримано 480 грантів українськими науковцямиу межах наукової програми з НА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724280" y="5867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ооперації з країнами СНД і створенні спільних наукових проекті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304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дартизація — діяльність, що полягає в установленні положень для загального та неодноразового використання щодо наявних чи потенційних завдань і спрямована на досягнення оптимального ступеня впорядкованості в певній сфері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138488"/>
          <p:cNvPicPr/>
          <p:nvPr/>
        </p:nvPicPr>
        <p:blipFill>
          <a:blip r:embed="rId1"/>
          <a:stretch/>
        </p:blipFill>
        <p:spPr>
          <a:xfrm>
            <a:off x="457200" y="2209680"/>
            <a:ext cx="4191120" cy="3732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4876920" y="236232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2014 р. функції національного органу стандартизації виконує державне підприємство «Український науково-дослідний і навчальний центр проблем стандартизації, сертифікації та якості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92Y7SEs8NFOvK2gyBfr2Q"/>
          <p:cNvPicPr/>
          <p:nvPr/>
        </p:nvPicPr>
        <p:blipFill>
          <a:blip r:embed="rId1"/>
          <a:stretch/>
        </p:blipFill>
        <p:spPr>
          <a:xfrm>
            <a:off x="6210360" y="3276720"/>
            <a:ext cx="2933640" cy="293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0" y="1522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ажливими функціями системи стандартизації та сертифікації є уніфікація параметрів економічної діяльності в Україні з міжнародними нормами, що має на меті оптимізацію умов спеціалізованого виробництва, експортної діяльності, недопущення надходження на територію України дешевої неякісної продукції іноземного походження, причому така продукція у більшості випадків створює конкуренцію продукції вітчизняного вироб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28600" y="297180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етою стандартизації в Україні є забезпечення безпеки для життя та здоров’я людини, тварин, рослин, а також майна та охорони довкілля, створення умов для раціонального використання всіх видів національних ресурсів та відповідності об’єктів стандартизації своєму призначенню, сприяння усуненню технічних бар’єрів у торгів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нути поняття міжнародного передання технологій, інформатизації, стандартизації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знайомитись з макроекономічною політикою України у науково-технічній сфері та її інструментами науково-технічного регулюван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характеризувати інновації як головний фактор економічного розвит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іжнародний рух технологій: предмет та сучасні тенден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форматизація як визначальний фактор моделі міжнародного співробітниц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ндартизація як фактор та умова міжнародного співробітниц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нновації як головний фактор економічного розвит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іжнародне передання технологі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 сукупність економічних відносин, які складаються між підприємствами різних країн у галузі використання зарубіжних науково-технічних досягне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pervyy_tehnopark_v_krymu_planiruyut_postroit_v_sevastopole"/>
          <p:cNvPicPr/>
          <p:nvPr/>
        </p:nvPicPr>
        <p:blipFill>
          <a:blip r:embed="rId1"/>
          <a:stretch/>
        </p:blipFill>
        <p:spPr>
          <a:xfrm>
            <a:off x="4343400" y="3951360"/>
            <a:ext cx="4362480" cy="290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017_09_18-01_36_33_x3"/>
          <p:cNvPicPr/>
          <p:nvPr/>
        </p:nvPicPr>
        <p:blipFill>
          <a:blip r:embed="rId2"/>
          <a:stretch/>
        </p:blipFill>
        <p:spPr>
          <a:xfrm>
            <a:off x="457200" y="167652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ooperation"/>
          <p:cNvPicPr/>
          <p:nvPr/>
        </p:nvPicPr>
        <p:blipFill>
          <a:blip r:embed="rId3"/>
          <a:stretch/>
        </p:blipFill>
        <p:spPr>
          <a:xfrm>
            <a:off x="1295280" y="4908600"/>
            <a:ext cx="3143520" cy="194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OCwzWgu3bgDQoPQDEFV"/>
          <p:cNvPicPr/>
          <p:nvPr/>
        </p:nvPicPr>
        <p:blipFill>
          <a:blip r:embed="rId4"/>
          <a:stretch/>
        </p:blipFill>
        <p:spPr>
          <a:xfrm>
            <a:off x="4419720" y="1752480"/>
            <a:ext cx="43434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Існуют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мерційні форм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міжнародного передання технологі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981080" y="54864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еред них виділяю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roctergamble"/>
          <p:cNvPicPr/>
          <p:nvPr/>
        </p:nvPicPr>
        <p:blipFill>
          <a:blip r:embed="rId1"/>
          <a:stretch/>
        </p:blipFill>
        <p:spPr>
          <a:xfrm>
            <a:off x="0" y="0"/>
            <a:ext cx="4191120" cy="24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92155_a863edb8af8839a6707b134a882b06c21d2b7674"/>
          <p:cNvPicPr/>
          <p:nvPr/>
        </p:nvPicPr>
        <p:blipFill>
          <a:blip r:embed="rId2"/>
          <a:stretch/>
        </p:blipFill>
        <p:spPr>
          <a:xfrm>
            <a:off x="4781520" y="0"/>
            <a:ext cx="4362480" cy="24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original"/>
          <p:cNvPicPr/>
          <p:nvPr/>
        </p:nvPicPr>
        <p:blipFill>
          <a:blip r:embed="rId3"/>
          <a:stretch/>
        </p:blipFill>
        <p:spPr>
          <a:xfrm>
            <a:off x="0" y="3352680"/>
            <a:ext cx="46483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predpriatia"/>
          <p:cNvPicPr/>
          <p:nvPr/>
        </p:nvPicPr>
        <p:blipFill>
          <a:blip r:embed="rId4"/>
          <a:stretch/>
        </p:blipFill>
        <p:spPr>
          <a:xfrm>
            <a:off x="4800600" y="3352680"/>
            <a:ext cx="4343400" cy="2509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0" y="2590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нутрішньофірм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80060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жфірмо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5943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овнішньоторгівель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жнародно-інвестицій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І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некомерційні форм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міжнародного передання технолог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6169A7E5207583D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2936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2"/>
          <p:cNvPicPr/>
          <p:nvPr/>
        </p:nvPicPr>
        <p:blipFill>
          <a:blip r:embed="rId2"/>
          <a:stretch/>
        </p:blipFill>
        <p:spPr>
          <a:xfrm>
            <a:off x="4724280" y="1600200"/>
            <a:ext cx="4419720" cy="3487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0" y="5029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собисті контакти уч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724280" y="52578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іграція учених, інженерів, техні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еред інструменті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уково-технічного регулювання виділяють так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9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22-01-21T15:50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