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C51-E618-4DEA-AE7F-678AC678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78E-1547-4B16-B71F-64475603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C8F3-00A7-4E67-9E44-A9365165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DE5-B334-482E-BD12-90EA8C9A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896-70D5-457B-A30F-56A9BBE0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83E-8887-4452-8E9E-41336F1E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84F-92A8-492F-AE89-52C4737E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DC0-E309-4F35-864D-4B2C4640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56A-704F-4C5B-996D-EA68FCCA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541-8BC8-4CB0-92AD-692A3AB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96F-D7CA-4FFB-B6E6-A755A758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C26-3143-4000-B3DD-22ED2060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9ABC-471A-4ADC-83F6-5E8BF3A11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zakon2.rada.gov.ua/laws/show/1197-18/paran713" TargetMode="External"/><Relationship Id="rId3" Type="http://schemas.openxmlformats.org/officeDocument/2006/relationships/hyperlink" Target="http://zakon2.rada.gov.ua/laws/show/1197-18/paran713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692360" y="765000"/>
            <a:ext cx="655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рядок надання адміністративних послу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488880" y="5013360"/>
            <a:ext cx="857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жажа М.А., д.н.держ.упр.,  профе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и менеджменту організаці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управління про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женерного навчально-наукового  інстит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різького національного університ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17691" t="19734" r="27301" b="5482"/>
          <a:stretch/>
        </p:blipFill>
        <p:spPr>
          <a:xfrm>
            <a:off x="108000" y="36360"/>
            <a:ext cx="8866080" cy="6777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2605680" y="2185920"/>
            <a:ext cx="6334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zp.gov.ua/uk/page/socialni-poslu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575" t="17889" r="29722" b="19828"/>
          <a:stretch/>
        </p:blipFill>
        <p:spPr>
          <a:xfrm>
            <a:off x="19080" y="0"/>
            <a:ext cx="9124920" cy="4938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642400" y="5661000"/>
            <a:ext cx="6003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gromada.ioc.gov.ua/#servic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хема 2" descr=""/>
          <p:cNvPicPr/>
          <p:nvPr/>
        </p:nvPicPr>
        <p:blipFill>
          <a:blip r:embed="rId1"/>
          <a:stretch/>
        </p:blipFill>
        <p:spPr>
          <a:xfrm>
            <a:off x="281160" y="1285920"/>
            <a:ext cx="8624880" cy="59068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250920" y="14400"/>
            <a:ext cx="86421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КОН УКРАЇНИ «Про адміністративні послуги» № 5203-VI від 6 вересня 2012 року визначає правові засади реалізації прав, свобод і законних інтересів фізичних та юридичних осіб у сфері надання адміністративних послуг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Із змінами, внесеними згідно із Законом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№ 1197-VII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ід 10.04.2014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50920" y="115920"/>
            <a:ext cx="8569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а політика у сфері надання адміністративних послуг базується на принцип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395280" y="981000"/>
            <a:ext cx="8424720" cy="51235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ерховенства права, у тому числі законності та юридичної визначе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абіль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івності перед зако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ідкритості та прозор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перативності та своєчас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доступності інформації про надання адміністративних по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захищеності персональних дани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раціональної мінімізації кількості документів та процедурних дій, що вимагаються для отримання адміністративних по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неупередженості та справедлив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доступності та зручності для суб’єктів зверн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34800" y="23760"/>
            <a:ext cx="8809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ими позитивами Закону «Про адміністративні послуги» є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хема 2" descr=""/>
          <p:cNvPicPr/>
          <p:nvPr/>
        </p:nvPicPr>
        <p:blipFill>
          <a:blip r:embed="rId1"/>
          <a:stretch/>
        </p:blipFill>
        <p:spPr>
          <a:xfrm>
            <a:off x="328680" y="365040"/>
            <a:ext cx="864396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хема 1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791920" cy="64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403280" y="115920"/>
            <a:ext cx="6697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ядок надання адміністративних по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2" descr=""/>
          <p:cNvPicPr/>
          <p:nvPr/>
        </p:nvPicPr>
        <p:blipFill>
          <a:blip r:embed="rId1"/>
          <a:stretch/>
        </p:blipFill>
        <p:spPr>
          <a:xfrm>
            <a:off x="171360" y="652320"/>
            <a:ext cx="88502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1" descr=""/>
          <p:cNvPicPr/>
          <p:nvPr/>
        </p:nvPicPr>
        <p:blipFill>
          <a:blip r:embed="rId1"/>
          <a:stretch/>
        </p:blipFill>
        <p:spPr>
          <a:xfrm>
            <a:off x="115920" y="152280"/>
            <a:ext cx="883296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7028" t="15089" r="26573" b="6250"/>
          <a:stretch/>
        </p:blipFill>
        <p:spPr>
          <a:xfrm>
            <a:off x="324000" y="34920"/>
            <a:ext cx="8638920" cy="57546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2272320" y="6021360"/>
            <a:ext cx="4015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//cnap.zoda.gov.ua/#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7271" t="8839" r="16759" b="8839"/>
          <a:stretch/>
        </p:blipFill>
        <p:spPr>
          <a:xfrm>
            <a:off x="0" y="30240"/>
            <a:ext cx="9172440" cy="5589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2615400" y="6093000"/>
            <a:ext cx="570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cnap.zp.gov.ua/echerga/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8:56:33Z</dcterms:created>
  <dc:creator>Admin</dc:creator>
  <dc:description/>
  <dc:language>en-US</dc:language>
  <cp:lastModifiedBy>Владелец</cp:lastModifiedBy>
  <dcterms:modified xsi:type="dcterms:W3CDTF">2022-01-23T21:55:45Z</dcterms:modified>
  <cp:revision>109</cp:revision>
  <dc:subject/>
  <dc:title>Презентация PowerPoint</dc:title>
</cp:coreProperties>
</file>