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64CD-5613-4106-BEEB-C97CFD7CC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EAB1-D2D5-46AE-8489-62C12DDC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39B0-4DC0-45BB-AEEE-C25DAAF56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5B98-CB3F-4B7A-9301-A51C71F56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9670-61FF-4A51-8BA8-56BD3865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7CF0-E064-4B2F-BC9B-22E5E88D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5736-0439-416E-BD59-3C50C7CD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6CCC-E619-40B0-A56F-0A478971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9432-070A-4666-B082-F5793E44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B80D-6674-4AC5-9D52-A5FA83BA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5C06-C48D-4356-9FD0-E5B0DAEA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F368-4616-48A9-B52B-2161FFF3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AA99-756C-4393-9365-9A713C67D4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zakon2.rada.gov.ua/laws/show/1197-18/paran713" TargetMode="External"/><Relationship Id="rId3" Type="http://schemas.openxmlformats.org/officeDocument/2006/relationships/hyperlink" Target="http://zakon2.rada.gov.ua/laws/show/1197-18/paran713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1692360" y="765000"/>
            <a:ext cx="6551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рядок надання адміністративних послу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5"/>
          <p:cNvSpPr/>
          <p:nvPr/>
        </p:nvSpPr>
        <p:spPr>
          <a:xfrm>
            <a:off x="488880" y="5013360"/>
            <a:ext cx="8572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жажа М.А., д.н.держ.упр.,  профес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и менеджменту організацій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управління проек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женерного навчально-наукового  інститу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різького національного університет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rcRect l="17691" t="19734" r="27301" b="5482"/>
          <a:stretch/>
        </p:blipFill>
        <p:spPr>
          <a:xfrm>
            <a:off x="108000" y="36360"/>
            <a:ext cx="8866080" cy="677736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1"/>
          <p:cNvSpPr/>
          <p:nvPr/>
        </p:nvSpPr>
        <p:spPr>
          <a:xfrm>
            <a:off x="2605680" y="2185920"/>
            <a:ext cx="63345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s://zp.gov.ua/uk/page/socialni-poslu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rcRect l="5575" t="17889" r="29722" b="19828"/>
          <a:stretch/>
        </p:blipFill>
        <p:spPr>
          <a:xfrm>
            <a:off x="19080" y="0"/>
            <a:ext cx="9124920" cy="49388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1"/>
          <p:cNvSpPr/>
          <p:nvPr/>
        </p:nvSpPr>
        <p:spPr>
          <a:xfrm>
            <a:off x="2642400" y="5661000"/>
            <a:ext cx="60037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gromada.ioc.gov.ua/#servic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Схема 2" descr=""/>
          <p:cNvPicPr/>
          <p:nvPr/>
        </p:nvPicPr>
        <p:blipFill>
          <a:blip r:embed="rId1"/>
          <a:stretch/>
        </p:blipFill>
        <p:spPr>
          <a:xfrm>
            <a:off x="281160" y="1285920"/>
            <a:ext cx="8624880" cy="590688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>
            <a:off x="250920" y="14400"/>
            <a:ext cx="864216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ЗАКОН УКРАЇНИ «Про адміністративні послуги» № 5203-VI від 6 вересня 2012 року визначає правові засади реалізації прав, свобод і законних інтересів фізичних та юридичних осіб у сфері надання адміністративних послуг 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Із змінами, внесеними згідно із Законом 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 № 1197-VII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від 10.04.2014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250920" y="115920"/>
            <a:ext cx="856908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жавна політика у сфері надання адміністративних послуг базується на принцип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2"/>
          <p:cNvSpPr/>
          <p:nvPr/>
        </p:nvSpPr>
        <p:spPr>
          <a:xfrm>
            <a:off x="395280" y="981000"/>
            <a:ext cx="8424720" cy="512352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верховенства права, у тому числі законності та юридичної визначеност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стабільност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рівності перед закон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відкритості та прозорост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оперативності та своєчасност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доступності інформації про надання адміністративних послу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захищеності персональних дани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) раціональної мінімізації кількості документів та процедурних дій, що вимагаються для отримання адміністративних послу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) неупередженості та справедливост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) доступності та зручності для суб’єктів зверн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334800" y="23760"/>
            <a:ext cx="88092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сновними позитивами Закону «Про адміністративні послуги» є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Схема 2" descr=""/>
          <p:cNvPicPr/>
          <p:nvPr/>
        </p:nvPicPr>
        <p:blipFill>
          <a:blip r:embed="rId1"/>
          <a:stretch/>
        </p:blipFill>
        <p:spPr>
          <a:xfrm>
            <a:off x="328680" y="365040"/>
            <a:ext cx="864396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Схема 1" descr=""/>
          <p:cNvPicPr/>
          <p:nvPr/>
        </p:nvPicPr>
        <p:blipFill>
          <a:blip r:embed="rId1"/>
          <a:stretch/>
        </p:blipFill>
        <p:spPr>
          <a:xfrm>
            <a:off x="176040" y="262080"/>
            <a:ext cx="8791920" cy="64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1403280" y="115920"/>
            <a:ext cx="6697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рядок надання адміністративних посл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Схема 2" descr=""/>
          <p:cNvPicPr/>
          <p:nvPr/>
        </p:nvPicPr>
        <p:blipFill>
          <a:blip r:embed="rId1"/>
          <a:stretch/>
        </p:blipFill>
        <p:spPr>
          <a:xfrm>
            <a:off x="171360" y="652320"/>
            <a:ext cx="885024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Схема 1" descr=""/>
          <p:cNvPicPr/>
          <p:nvPr/>
        </p:nvPicPr>
        <p:blipFill>
          <a:blip r:embed="rId1"/>
          <a:stretch/>
        </p:blipFill>
        <p:spPr>
          <a:xfrm>
            <a:off x="115920" y="152280"/>
            <a:ext cx="8832960" cy="663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rcRect l="7028" t="15089" r="26573" b="6250"/>
          <a:stretch/>
        </p:blipFill>
        <p:spPr>
          <a:xfrm>
            <a:off x="324000" y="34920"/>
            <a:ext cx="8638920" cy="57546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1"/>
          <p:cNvSpPr/>
          <p:nvPr/>
        </p:nvSpPr>
        <p:spPr>
          <a:xfrm>
            <a:off x="2272320" y="6021360"/>
            <a:ext cx="40150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//cnap.zoda.gov.ua/#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rcRect l="7271" t="8839" r="16759" b="8839"/>
          <a:stretch/>
        </p:blipFill>
        <p:spPr>
          <a:xfrm>
            <a:off x="0" y="30240"/>
            <a:ext cx="9172440" cy="558936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1"/>
          <p:cNvSpPr/>
          <p:nvPr/>
        </p:nvSpPr>
        <p:spPr>
          <a:xfrm>
            <a:off x="2615400" y="6093000"/>
            <a:ext cx="57067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s://cnap.zp.gov.ua/echerga/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0T18:56:33Z</dcterms:created>
  <dc:creator>Admin</dc:creator>
  <dc:description/>
  <dc:language>en-US</dc:language>
  <cp:lastModifiedBy>Владелец</cp:lastModifiedBy>
  <dcterms:modified xsi:type="dcterms:W3CDTF">2022-01-23T21:55:45Z</dcterms:modified>
  <cp:revision>109</cp:revision>
  <dc:subject/>
  <dc:title>Презентация PowerPoint</dc:title>
</cp:coreProperties>
</file>