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9BD43-EC0A-49F8-9330-226DF5731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DF28D-3220-489E-8BB6-691FA9125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9E198-70F3-45F9-AEA4-23B5984E2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1BD67-E5C5-4BC5-B5BA-DA80CB40C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2A090F-1B5C-4A0B-8093-FF948D0677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B560FB-D2D2-4C3D-9AEE-D2416E421E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81D4D-79AA-4409-AE6D-D385DB8DE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78E6E-98EC-437C-B928-CF09C0E9D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A8470-F9C8-4289-9BC9-873B8222D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5192F-E448-446D-9A06-270C1FEF7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964F8-FCED-406C-B21A-452CDB019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DE7C1-BB0A-4F72-A644-7560BC086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4BE16-6A97-4231-A783-633B75F34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0AB0A-5BEA-4B80-87C3-4C7DED489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EE69A-B4CB-4D96-AC27-8E13309FB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25F026-BAAD-4CC7-9C04-4C3488997B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4DFDBC-AD0D-4892-AD19-27DE77B3FB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6BFBEE-9585-4128-BB89-924EC90546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D9DEC9-C8DE-4B79-AA4B-1C3AB1617A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B7FCBC-AD3D-47DA-812E-ECA93130EE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4CFFB4-11F9-4D85-8754-749BDAB0D3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FADE51-0386-4B6A-9125-93706DEB4D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F8DF2-8708-48BE-8071-8367BB6A7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C318F8-D2BA-443C-B72D-93FA56A852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88213B-17D7-47BB-B049-663DE6D5BA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BB6AE0-B502-44C7-A696-C8AC4ABEFD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46B3F9-4BEA-46CE-B1E1-B1E30AA7DB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4D44AB-16DD-4EEF-A555-354B7D3A2F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65597C-BA36-440F-B034-1457CED969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5C2F22-DEF1-408D-B296-60882560F1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63BA9B-0E44-4C8F-855D-40DB05FDC3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4BA1CD-8AD2-4ABD-B447-AFC6A6BD1A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EFA601-2B46-4238-A1B8-F1BDFA0CB3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E4692-11AE-45B4-ABEA-4F57F4A4C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42DD64-A6DC-44E8-A461-5FB02A7713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5F7AF5-B827-41E8-9293-FF20EED21A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8627C3-BA3D-41A4-970E-1B155CD8E7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F8842D-A5DA-470D-BF9A-3056BB8856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A9EB29-CD74-43B5-84A6-9E704CEB55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999B8F-0903-485E-8CC0-F1DFE85FAA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2D5E3F-CF12-4674-B306-D4C2F6E787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8F631F-B4DC-4FE6-9326-1228E4D0D2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F98CEC-BE30-4B1D-B340-133DAF3283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4CFD96-82C3-4CA7-8FFD-9F24955492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1BC72-980D-4A8B-B4ED-50DC0392F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0BF5FF-CCBD-49F9-9CAD-F7EBFFE834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5515ED-B3B3-4817-9C42-D92B7A5215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6A4E18-6E1D-4E23-9972-7049C92F67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78B203-A5E9-4DDA-96F2-6714A5BA22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AD92C8-76CF-4B59-A660-0B27D1B379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DCFA44-CCDC-49BF-9236-48252AD248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BDCB6E-DE5D-4480-B6CE-39D52330E6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E1C3B7-76D9-4CBD-BCDA-0880928D49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5A473B-795D-45C7-9F21-AA52326C31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1BDFD6-C143-421B-B08D-E60667B551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CBC22-B3DE-4010-952C-DD76A4BF0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A013CB-1A59-491A-AEA3-30A2D38810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97A06-51E5-4340-86FB-6D11A4B48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7CA2D-BDB1-4FCC-90D9-8839DFFD4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442A5-8933-4F8F-9F05-6B6EACE7B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B82418-895B-481B-8902-0F184AC1037C}"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EFA39B-3759-414F-A8FE-8A879B402F80}"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7EACA6-7AE9-443B-AF66-B3469783BCFC}"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F2C975-C509-492D-8F90-4F9EDFA56EAA}"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16"/>
          <p:cNvGrpSpPr/>
          <p:nvPr/>
        </p:nvGrpSpPr>
        <p:grpSpPr>
          <a:xfrm>
            <a:off x="-7920" y="-7920"/>
            <a:ext cx="9169560" cy="6873840"/>
            <a:chOff x="-7920" y="-7920"/>
            <a:chExt cx="9169560" cy="6873840"/>
          </a:xfrm>
        </p:grpSpPr>
        <p:sp>
          <p:nvSpPr>
            <p:cNvPr id="21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85C1AE-2CF1-4825-8EC8-4DCDE3737E30}"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240" y="533160"/>
            <a:ext cx="80773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600" spc="-1" strike="noStrike">
                <a:solidFill>
                  <a:srgbClr val="90c226"/>
                </a:solidFill>
                <a:latin typeface="Trebuchet MS"/>
              </a:rPr>
              <a:t>ТЕМА 1. </a:t>
            </a:r>
            <a:br>
              <a:rPr sz="3600"/>
            </a:br>
            <a:r>
              <a:rPr b="1" lang="uk-UA" sz="3600" spc="-1" strike="noStrike">
                <a:solidFill>
                  <a:srgbClr val="90c226"/>
                </a:solidFill>
                <a:latin typeface="Trebuchet MS"/>
              </a:rPr>
              <a:t>СУТНІСТЬ МАРКЕТИНГУ</a:t>
            </a:r>
            <a:br>
              <a:rPr sz="3600"/>
            </a:br>
            <a:br>
              <a:rPr sz="3600"/>
            </a:br>
            <a:r>
              <a:rPr b="1" lang="uk-UA" sz="2400" spc="-1" strike="noStrike">
                <a:solidFill>
                  <a:srgbClr val="000000"/>
                </a:solidFill>
                <a:latin typeface="Trebuchet MS"/>
              </a:rPr>
              <a:t>1. Понятійний апарат терміну «маркетинг»</a:t>
            </a:r>
            <a:br>
              <a:rPr sz="2400"/>
            </a:br>
            <a:r>
              <a:rPr b="1" lang="uk-UA" sz="2400" spc="-1" strike="noStrike">
                <a:solidFill>
                  <a:srgbClr val="000000"/>
                </a:solidFill>
                <a:latin typeface="Trebuchet MS"/>
              </a:rPr>
              <a:t>2. Принципи, завдання та функції маркетингу.</a:t>
            </a:r>
            <a:br>
              <a:rPr sz="2400"/>
            </a:br>
            <a:r>
              <a:rPr b="1" lang="uk-UA" sz="2400" spc="-1" strike="noStrike">
                <a:solidFill>
                  <a:srgbClr val="000000"/>
                </a:solidFill>
                <a:latin typeface="Arial"/>
                <a:ea typeface="Arial"/>
              </a:rPr>
              <a:t>3. Система засобів маркетингу (mix-marketing).</a:t>
            </a:r>
            <a:br>
              <a:rPr sz="2400"/>
            </a:br>
            <a:r>
              <a:rPr b="1" lang="uk-UA" sz="2400" spc="-1" strike="noStrike">
                <a:solidFill>
                  <a:srgbClr val="000000"/>
                </a:solidFill>
                <a:latin typeface="Arial"/>
                <a:ea typeface="Arial"/>
              </a:rPr>
              <a:t>4.Ключові поняття маркетингу</a:t>
            </a:r>
            <a:br>
              <a:rPr sz="2400"/>
            </a:br>
            <a:r>
              <a:rPr b="1" lang="uk-UA" sz="2400" spc="-1" strike="noStrike">
                <a:solidFill>
                  <a:srgbClr val="000000"/>
                </a:solidFill>
                <a:latin typeface="Trebuchet MS"/>
              </a:rPr>
              <a:t>5. Розвиток концепцій маркетингу.</a:t>
            </a:r>
            <a:br>
              <a:rPr sz="2400"/>
            </a:br>
            <a:endParaRPr b="0" lang="en-US" sz="2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6172200"/>
            <a:ext cx="8229600" cy="457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90c226"/>
                </a:solidFill>
                <a:latin typeface="Trebuchet MS"/>
              </a:rPr>
              <a:t>Рис. -  Система мікс-маркетингу (“7 Р”)</a:t>
            </a:r>
            <a:endParaRPr b="0" lang="en-US" sz="1800" spc="-1" strike="noStrike">
              <a:solidFill>
                <a:srgbClr val="90c226"/>
              </a:solidFill>
              <a:latin typeface="Trebuchet MS"/>
            </a:endParaRPr>
          </a:p>
        </p:txBody>
      </p:sp>
      <p:sp>
        <p:nvSpPr>
          <p:cNvPr id="276" name="AutoShape 7"/>
          <p:cNvSpPr/>
          <p:nvPr/>
        </p:nvSpPr>
        <p:spPr>
          <a:xfrm>
            <a:off x="2843280" y="380880"/>
            <a:ext cx="3525840" cy="831960"/>
          </a:xfrm>
          <a:custGeom>
            <a:avLst/>
            <a:gdLst>
              <a:gd name="textAreaLeft" fmla="*/ 97920 w 3525840"/>
              <a:gd name="textAreaRight" fmla="*/ 3427920 w 3525840"/>
              <a:gd name="textAreaTop" fmla="*/ 97920 h 831960"/>
              <a:gd name="textAreaBottom" fmla="*/ 734040 h 831960"/>
            </a:gdLst>
            <a:ahLst/>
            <a:rect l="textAreaLeft" t="textAreaTop" r="textAreaRight" b="textAreaBottom"/>
            <a:pathLst>
              <a:path w="91510" h="21600">
                <a:moveTo>
                  <a:pt x="3600" y="0"/>
                </a:moveTo>
                <a:arcTo wR="3600" hR="3600" stAng="0" swAng="5400000"/>
                <a:lnTo>
                  <a:pt x="0" y="18000"/>
                </a:lnTo>
                <a:arcTo wR="3600" hR="3600" stAng="16200000" swAng="5400000"/>
                <a:lnTo>
                  <a:pt x="87910" y="21600"/>
                </a:lnTo>
                <a:arcTo wR="3600" hR="3600" stAng="10800000" swAng="5400000"/>
                <a:lnTo>
                  <a:pt x="91510" y="3600"/>
                </a:lnTo>
                <a:arcTo wR="3600" hR="3600" stAng="540000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7" name="WordArt 8"/>
          <p:cNvSpPr txBox="1"/>
          <p:nvPr/>
        </p:nvSpPr>
        <p:spPr>
          <a:xfrm>
            <a:off x="3728880" y="565200"/>
            <a:ext cx="1632240" cy="53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7Р</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
        <p:nvSpPr>
          <p:cNvPr id="278" name="AutoShape 9"/>
          <p:cNvSpPr/>
          <p:nvPr/>
        </p:nvSpPr>
        <p:spPr>
          <a:xfrm>
            <a:off x="727200" y="1952640"/>
            <a:ext cx="152712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9" name="WordArt 10"/>
          <p:cNvSpPr txBox="1"/>
          <p:nvPr/>
        </p:nvSpPr>
        <p:spPr>
          <a:xfrm>
            <a:off x="961920" y="2128680"/>
            <a:ext cx="955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duct</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товар</a:t>
            </a:r>
            <a:endParaRPr b="1" lang="en-US" sz="1400" spc="1" strike="noStrike">
              <a:ln w="9360">
                <a:solidFill>
                  <a:srgbClr val="000000"/>
                </a:solidFill>
                <a:miter/>
              </a:ln>
              <a:solidFill>
                <a:srgbClr val="000000"/>
              </a:solidFill>
              <a:latin typeface="바탕"/>
              <a:ea typeface="바탕"/>
            </a:endParaRPr>
          </a:p>
        </p:txBody>
      </p:sp>
      <p:sp>
        <p:nvSpPr>
          <p:cNvPr id="280" name="AutoShape 11"/>
          <p:cNvSpPr/>
          <p:nvPr/>
        </p:nvSpPr>
        <p:spPr>
          <a:xfrm>
            <a:off x="2960640" y="1952640"/>
            <a:ext cx="140976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1" name="AutoShape 12"/>
          <p:cNvSpPr/>
          <p:nvPr/>
        </p:nvSpPr>
        <p:spPr>
          <a:xfrm>
            <a:off x="4957920" y="1952640"/>
            <a:ext cx="176364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2" name="WordArt 13"/>
          <p:cNvSpPr txBox="1"/>
          <p:nvPr/>
        </p:nvSpPr>
        <p:spPr>
          <a:xfrm>
            <a:off x="5075280" y="2128680"/>
            <a:ext cx="1477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motion</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просування</a:t>
            </a:r>
            <a:endParaRPr b="1" lang="en-US" sz="1400" spc="1" strike="noStrike">
              <a:ln w="9360">
                <a:solidFill>
                  <a:srgbClr val="000000"/>
                </a:solidFill>
                <a:miter/>
              </a:ln>
              <a:solidFill>
                <a:srgbClr val="000000"/>
              </a:solidFill>
              <a:latin typeface="바탕"/>
              <a:ea typeface="바탕"/>
            </a:endParaRPr>
          </a:p>
        </p:txBody>
      </p:sp>
      <p:sp>
        <p:nvSpPr>
          <p:cNvPr id="283" name="WordArt 14"/>
          <p:cNvSpPr txBox="1"/>
          <p:nvPr/>
        </p:nvSpPr>
        <p:spPr>
          <a:xfrm>
            <a:off x="3195720" y="1974960"/>
            <a:ext cx="846000" cy="65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ic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ціна</a:t>
            </a:r>
            <a:endParaRPr b="1" lang="en-US" sz="1400" spc="1" strike="noStrike">
              <a:ln w="9360">
                <a:solidFill>
                  <a:srgbClr val="000000"/>
                </a:solidFill>
                <a:miter/>
              </a:ln>
              <a:solidFill>
                <a:srgbClr val="000000"/>
              </a:solidFill>
              <a:latin typeface="바탕"/>
              <a:ea typeface="바탕"/>
            </a:endParaRPr>
          </a:p>
        </p:txBody>
      </p:sp>
      <p:sp>
        <p:nvSpPr>
          <p:cNvPr id="284" name="Line 15"/>
          <p:cNvSpPr/>
          <p:nvPr/>
        </p:nvSpPr>
        <p:spPr>
          <a:xfrm flipH="1">
            <a:off x="1549080" y="1211400"/>
            <a:ext cx="3056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 name="Line 16"/>
          <p:cNvSpPr/>
          <p:nvPr/>
        </p:nvSpPr>
        <p:spPr>
          <a:xfrm>
            <a:off x="4605480" y="1211400"/>
            <a:ext cx="340812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 name="Line 17"/>
          <p:cNvSpPr/>
          <p:nvPr/>
        </p:nvSpPr>
        <p:spPr>
          <a:xfrm flipH="1">
            <a:off x="3665160" y="1211400"/>
            <a:ext cx="93996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7" name="Line 18"/>
          <p:cNvSpPr/>
          <p:nvPr/>
        </p:nvSpPr>
        <p:spPr>
          <a:xfrm>
            <a:off x="4605480" y="1211400"/>
            <a:ext cx="1292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 name="Text Box 20"/>
          <p:cNvSpPr/>
          <p:nvPr/>
        </p:nvSpPr>
        <p:spPr>
          <a:xfrm>
            <a:off x="609480" y="2817720"/>
            <a:ext cx="164484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Асортимент</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ластивості</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Якість</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Гарантії</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ервіс</a:t>
            </a:r>
            <a:endParaRPr b="0" lang="en-US" sz="1600" spc="-1" strike="noStrike">
              <a:solidFill>
                <a:srgbClr val="000000"/>
              </a:solidFill>
              <a:latin typeface="Trebuchet MS"/>
            </a:endParaRPr>
          </a:p>
        </p:txBody>
      </p:sp>
      <p:sp>
        <p:nvSpPr>
          <p:cNvPr id="289" name="Text Box 21"/>
          <p:cNvSpPr/>
          <p:nvPr/>
        </p:nvSpPr>
        <p:spPr>
          <a:xfrm>
            <a:off x="2843280" y="2817720"/>
            <a:ext cx="1644480" cy="1087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Цінова політик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ниж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Умови оплати</a:t>
            </a:r>
            <a:endParaRPr b="0" lang="en-US" sz="1600" spc="-1" strike="noStrike">
              <a:solidFill>
                <a:srgbClr val="000000"/>
              </a:solidFill>
              <a:latin typeface="Trebuchet MS"/>
            </a:endParaRPr>
          </a:p>
        </p:txBody>
      </p:sp>
      <p:sp>
        <p:nvSpPr>
          <p:cNvPr id="290" name="Text Box 22"/>
          <p:cNvSpPr/>
          <p:nvPr/>
        </p:nvSpPr>
        <p:spPr>
          <a:xfrm>
            <a:off x="4840200" y="2817720"/>
            <a:ext cx="211608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еклам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тимулювання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Особистий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рямий маркетинг</a:t>
            </a:r>
            <a:endParaRPr b="0" lang="en-US" sz="1600" spc="-1" strike="noStrike">
              <a:solidFill>
                <a:srgbClr val="000000"/>
              </a:solidFill>
              <a:latin typeface="Trebuchet MS"/>
            </a:endParaRPr>
          </a:p>
        </p:txBody>
      </p:sp>
      <p:sp>
        <p:nvSpPr>
          <p:cNvPr id="291" name="AutoShape 23"/>
          <p:cNvSpPr/>
          <p:nvPr/>
        </p:nvSpPr>
        <p:spPr>
          <a:xfrm>
            <a:off x="1784520" y="4060800"/>
            <a:ext cx="15285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2" name="AutoShape 24"/>
          <p:cNvSpPr/>
          <p:nvPr/>
        </p:nvSpPr>
        <p:spPr>
          <a:xfrm>
            <a:off x="3782880" y="4060800"/>
            <a:ext cx="164484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3" name="AutoShape 25"/>
          <p:cNvSpPr/>
          <p:nvPr/>
        </p:nvSpPr>
        <p:spPr>
          <a:xfrm>
            <a:off x="5897520" y="4060800"/>
            <a:ext cx="23511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4" name="WordArt 26"/>
          <p:cNvSpPr txBox="1"/>
          <p:nvPr/>
        </p:nvSpPr>
        <p:spPr>
          <a:xfrm>
            <a:off x="4017960" y="4091040"/>
            <a:ext cx="1174680" cy="55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ackag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упаковка</a:t>
            </a:r>
            <a:endParaRPr b="1" lang="en-US" sz="1400" spc="1" strike="noStrike">
              <a:ln w="9360">
                <a:solidFill>
                  <a:srgbClr val="000000"/>
                </a:solidFill>
                <a:miter/>
              </a:ln>
              <a:solidFill>
                <a:srgbClr val="000000"/>
              </a:solidFill>
              <a:latin typeface="바탕"/>
              <a:ea typeface="바탕"/>
            </a:endParaRPr>
          </a:p>
        </p:txBody>
      </p:sp>
      <p:sp>
        <p:nvSpPr>
          <p:cNvPr id="295" name="WordArt 27"/>
          <p:cNvSpPr txBox="1"/>
          <p:nvPr/>
        </p:nvSpPr>
        <p:spPr>
          <a:xfrm>
            <a:off x="2019240" y="4164120"/>
            <a:ext cx="824040" cy="4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opl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люди</a:t>
            </a:r>
            <a:endParaRPr b="1" lang="en-US" sz="1400" spc="1" strike="noStrike">
              <a:ln w="9360">
                <a:solidFill>
                  <a:srgbClr val="000000"/>
                </a:solidFill>
                <a:miter/>
              </a:ln>
              <a:solidFill>
                <a:srgbClr val="000000"/>
              </a:solidFill>
              <a:latin typeface="바탕"/>
              <a:ea typeface="바탕"/>
            </a:endParaRPr>
          </a:p>
        </p:txBody>
      </p:sp>
      <p:sp>
        <p:nvSpPr>
          <p:cNvPr id="296" name="WordArt 28"/>
          <p:cNvSpPr txBox="1"/>
          <p:nvPr/>
        </p:nvSpPr>
        <p:spPr>
          <a:xfrm>
            <a:off x="6132600" y="4186080"/>
            <a:ext cx="1881000" cy="45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rsonal selling</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особистийпродаж</a:t>
            </a:r>
            <a:endParaRPr b="1" lang="en-US" sz="1400" spc="1" strike="noStrike">
              <a:ln w="9360">
                <a:solidFill>
                  <a:srgbClr val="000000"/>
                </a:solidFill>
                <a:miter/>
              </a:ln>
              <a:solidFill>
                <a:srgbClr val="000000"/>
              </a:solidFill>
              <a:latin typeface="바탕"/>
              <a:ea typeface="바탕"/>
            </a:endParaRPr>
          </a:p>
        </p:txBody>
      </p:sp>
      <p:sp>
        <p:nvSpPr>
          <p:cNvPr id="297" name="Line 29"/>
          <p:cNvSpPr/>
          <p:nvPr/>
        </p:nvSpPr>
        <p:spPr>
          <a:xfrm>
            <a:off x="4562640" y="1212840"/>
            <a:ext cx="2880" cy="292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 name="Line 30"/>
          <p:cNvSpPr/>
          <p:nvPr/>
        </p:nvSpPr>
        <p:spPr>
          <a:xfrm>
            <a:off x="277488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 name="Line 31"/>
          <p:cNvSpPr/>
          <p:nvPr/>
        </p:nvSpPr>
        <p:spPr>
          <a:xfrm>
            <a:off x="682776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 name="Line 32"/>
          <p:cNvSpPr/>
          <p:nvPr/>
        </p:nvSpPr>
        <p:spPr>
          <a:xfrm flipV="1">
            <a:off x="2774880" y="1212480"/>
            <a:ext cx="176364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1" name="Line 33"/>
          <p:cNvSpPr/>
          <p:nvPr/>
        </p:nvSpPr>
        <p:spPr>
          <a:xfrm>
            <a:off x="4683240" y="1212840"/>
            <a:ext cx="211428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2" name="Text Box 34"/>
          <p:cNvSpPr/>
          <p:nvPr/>
        </p:nvSpPr>
        <p:spPr>
          <a:xfrm>
            <a:off x="1666800" y="4799160"/>
            <a:ext cx="1646280" cy="976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ерсонал фірм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поживачі</a:t>
            </a:r>
            <a:endParaRPr b="0" lang="en-US" sz="1600" spc="-1" strike="noStrike">
              <a:solidFill>
                <a:srgbClr val="000000"/>
              </a:solidFill>
              <a:latin typeface="Trebuchet MS"/>
            </a:endParaRPr>
          </a:p>
        </p:txBody>
      </p:sp>
      <p:sp>
        <p:nvSpPr>
          <p:cNvPr id="303" name="Text Box 35"/>
          <p:cNvSpPr/>
          <p:nvPr/>
        </p:nvSpPr>
        <p:spPr>
          <a:xfrm>
            <a:off x="3782880" y="4799160"/>
            <a:ext cx="1762200" cy="122076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овн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нутр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н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Ефективна упаковка</a:t>
            </a:r>
            <a:endParaRPr b="0" lang="en-US" sz="1600" spc="-1" strike="noStrike">
              <a:solidFill>
                <a:srgbClr val="000000"/>
              </a:solidFill>
              <a:latin typeface="Trebuchet MS"/>
            </a:endParaRPr>
          </a:p>
        </p:txBody>
      </p:sp>
      <p:sp>
        <p:nvSpPr>
          <p:cNvPr id="304" name="Text Box 36"/>
          <p:cNvSpPr/>
          <p:nvPr/>
        </p:nvSpPr>
        <p:spPr>
          <a:xfrm>
            <a:off x="6014880" y="4799160"/>
            <a:ext cx="2233800" cy="976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ехнологія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Ділові переговор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шук клієнтів</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pic>
        <p:nvPicPr>
          <p:cNvPr id="305" name="AutoShape 12" descr=""/>
          <p:cNvPicPr/>
          <p:nvPr/>
        </p:nvPicPr>
        <p:blipFill>
          <a:blip r:embed="rId1"/>
          <a:stretch/>
        </p:blipFill>
        <p:spPr>
          <a:xfrm>
            <a:off x="7169040" y="1968480"/>
            <a:ext cx="1773360" cy="774720"/>
          </a:xfrm>
          <a:prstGeom prst="rect">
            <a:avLst/>
          </a:prstGeom>
          <a:ln w="0">
            <a:noFill/>
          </a:ln>
        </p:spPr>
      </p:pic>
      <p:sp>
        <p:nvSpPr>
          <p:cNvPr id="306" name="Text Box 36"/>
          <p:cNvSpPr/>
          <p:nvPr/>
        </p:nvSpPr>
        <p:spPr>
          <a:xfrm>
            <a:off x="6873840" y="2747880"/>
            <a:ext cx="2233800" cy="1219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Канали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уван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озміщення </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апаси</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228600" y="304560"/>
            <a:ext cx="8610480" cy="6095880"/>
          </a:xfrm>
          <a:prstGeom prst="rect">
            <a:avLst/>
          </a:prstGeom>
          <a:noFill/>
          <a:ln w="0">
            <a:noFill/>
          </a:ln>
        </p:spPr>
        <p:txBody>
          <a:bodyPr anchor="t">
            <a:normAutofit fontScale="99000"/>
          </a:bodyPr>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Отже, основним елементом концепції мікс-маркетигу є </a:t>
            </a:r>
            <a:r>
              <a:rPr b="1" lang="uk-UA" sz="1600" spc="-1" strike="noStrike">
                <a:solidFill>
                  <a:srgbClr val="404040"/>
                </a:solidFill>
                <a:latin typeface="Trebuchet MS"/>
              </a:rPr>
              <a:t>товар</a:t>
            </a:r>
            <a:r>
              <a:rPr b="0" lang="uk-UA" sz="1600" spc="-1" strike="noStrike">
                <a:solidFill>
                  <a:srgbClr val="404040"/>
                </a:solidFill>
                <a:latin typeface="Trebuchet MS"/>
              </a:rPr>
              <a:t>, яким з точки зору маркетингу називають все те, що призначене для задоволення потреб споживачів і пропонується на ринку для привернення уваги, придбання, використання або споживання.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1600" spc="-1" strike="noStrike">
                <a:solidFill>
                  <a:srgbClr val="404040"/>
                </a:solidFill>
                <a:latin typeface="Trebuchet MS"/>
              </a:rPr>
              <a:t>Товар характеризується двома параметрами</a:t>
            </a:r>
            <a:r>
              <a:rPr b="0" lang="uk-UA" sz="1600" spc="-1" strike="noStrike">
                <a:solidFill>
                  <a:srgbClr val="404040"/>
                </a:solidFill>
                <a:latin typeface="Trebuchet MS"/>
              </a:rPr>
              <a:t>: - </a:t>
            </a:r>
            <a:r>
              <a:rPr b="1" lang="uk-UA" sz="1600" spc="-1" strike="noStrike">
                <a:solidFill>
                  <a:srgbClr val="404040"/>
                </a:solidFill>
                <a:latin typeface="Trebuchet MS"/>
              </a:rPr>
              <a:t>технічними</a:t>
            </a:r>
            <a:r>
              <a:rPr b="0" lang="uk-UA" sz="1600" spc="-1" strike="noStrike">
                <a:solidFill>
                  <a:srgbClr val="404040"/>
                </a:solidFill>
                <a:latin typeface="Trebuchet MS"/>
              </a:rPr>
              <a:t> (колір, стиль, розмір, вага, якість і т.д), - </a:t>
            </a:r>
            <a:r>
              <a:rPr b="1" lang="uk-UA" sz="1600" spc="-1" strike="noStrike">
                <a:solidFill>
                  <a:srgbClr val="404040"/>
                </a:solidFill>
                <a:latin typeface="Trebuchet MS"/>
              </a:rPr>
              <a:t>ринковими </a:t>
            </a:r>
            <a:r>
              <a:rPr b="0" lang="uk-UA" sz="1600" spc="-1" strike="noStrike">
                <a:solidFill>
                  <a:srgbClr val="404040"/>
                </a:solidFill>
                <a:latin typeface="Trebuchet MS"/>
              </a:rPr>
              <a:t>(конкурентність, попит і т.д.). Однак, завжди слід пам’ятати, що для споживача сам товар та його ціна мають менше значення, ніж та вигода, яку споживач отримає від використання даного товару.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Товар, як засіб задоволення потреб споживачів, розглядають на трьох рівнях: </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а задумом (те що буде придбано покупцем для вирішення певних проблем),</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у реальному виконанні (те що вдалося реально зробит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 підкріпленням (забезпечення комплексу додаткових послуг при реалізації товару). </a:t>
            </a:r>
            <a:r>
              <a:rPr b="0" lang="ru-RU" sz="1600" spc="-1" strike="noStrike">
                <a:solidFill>
                  <a:srgbClr val="404040"/>
                </a:solidFill>
                <a:latin typeface="Trebuchet MS"/>
              </a:rPr>
              <a:t>Гарантія або можливість повернення товару, сервісне обслуговування</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1" lang="uk-UA" sz="1600" spc="-1" strike="noStrike">
                <a:solidFill>
                  <a:srgbClr val="404040"/>
                </a:solidFill>
                <a:latin typeface="Trebuchet MS"/>
              </a:rPr>
              <a:t>Як правило, товари класифікують на дві великі груп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споживчі товари (товари широкого вжитку);</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и промислового призначення.</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Як правило, товар має </a:t>
            </a:r>
            <a:r>
              <a:rPr b="1" lang="uk-UA" sz="1600" spc="-1" strike="noStrike">
                <a:solidFill>
                  <a:srgbClr val="404040"/>
                </a:solidFill>
                <a:latin typeface="Trebuchet MS"/>
              </a:rPr>
              <a:t>споживчу вартість</a:t>
            </a:r>
            <a:r>
              <a:rPr b="0" lang="uk-UA" sz="1600" spc="-1" strike="noStrike">
                <a:solidFill>
                  <a:srgbClr val="404040"/>
                </a:solidFill>
                <a:latin typeface="Trebuchet MS"/>
              </a:rPr>
              <a:t> і </a:t>
            </a:r>
            <a:r>
              <a:rPr b="1" lang="uk-UA" sz="1600" spc="-1" strike="noStrike">
                <a:solidFill>
                  <a:srgbClr val="404040"/>
                </a:solidFill>
                <a:latin typeface="Trebuchet MS"/>
              </a:rPr>
              <a:t>вартість споживання</a:t>
            </a:r>
            <a:r>
              <a:rPr b="0" lang="uk-UA" sz="1600" spc="-1" strike="noStrike">
                <a:solidFill>
                  <a:srgbClr val="404040"/>
                </a:solidFill>
                <a:latin typeface="Trebuchet MS"/>
              </a:rPr>
              <a:t>. </a:t>
            </a:r>
            <a:r>
              <a:rPr b="1" lang="uk-UA" sz="1600" spc="-1" strike="noStrike">
                <a:solidFill>
                  <a:srgbClr val="404040"/>
                </a:solidFill>
                <a:latin typeface="Trebuchet MS"/>
              </a:rPr>
              <a:t>Споживча вартість – це встановлена ціна реалізації товару</a:t>
            </a:r>
            <a:r>
              <a:rPr b="0" lang="uk-UA" sz="1600" spc="-1" strike="noStrike">
                <a:solidFill>
                  <a:srgbClr val="404040"/>
                </a:solidFill>
                <a:latin typeface="Trebuchet MS"/>
              </a:rPr>
              <a:t>, яку споживач має сплатити для його придбання. </a:t>
            </a:r>
            <a:r>
              <a:rPr b="1" lang="uk-UA" sz="1600" spc="-1" strike="noStrike">
                <a:solidFill>
                  <a:srgbClr val="404040"/>
                </a:solidFill>
                <a:latin typeface="Trebuchet MS"/>
              </a:rPr>
              <a:t>Вартість споживання – це затрати, які несе споживач в процесі використання придбаного товару.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56840" y="304560"/>
            <a:ext cx="8381880" cy="6172200"/>
          </a:xfrm>
          <a:prstGeom prst="rect">
            <a:avLst/>
          </a:prstGeom>
          <a:noFill/>
          <a:ln w="0">
            <a:noFill/>
          </a:ln>
        </p:spPr>
        <p:txBody>
          <a:bodyPr anchor="t">
            <a:normAutofit fontScale="99000"/>
          </a:bodyPr>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Ціна, з погляду маркетингу, - це гроші або якась інша компенсація, що її пропонують за право власності або користування товаром.</a:t>
            </a:r>
            <a:r>
              <a:rPr b="0" lang="uk-UA" sz="1400" spc="-1" strike="noStrike">
                <a:solidFill>
                  <a:srgbClr val="404040"/>
                </a:solidFill>
                <a:latin typeface="Trebuchet MS"/>
              </a:rPr>
              <a:t> Роль та значення цінової політики можна представити вже виходячи з того, що в її формуванні приймають участь вища ланка керівництва підприємства.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1" lang="uk-UA" sz="1400" spc="-1" strike="noStrike">
                <a:solidFill>
                  <a:srgbClr val="404040"/>
                </a:solidFill>
                <a:latin typeface="Trebuchet MS"/>
              </a:rPr>
              <a:t>Головне завдання процесу маркетингового ціноутворення полягає у:</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безпеченні позитивного балансу від комерційної діяльності фірми;</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збалансуванні величини попиту та пропозиції товарів або послуг на ринку. </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Просування товару на ринку – це комплекс дій для створення двостороннього інформаційного зв’язку між підприємством і споживачами.</a:t>
            </a:r>
            <a:r>
              <a:rPr b="0" lang="uk-UA" sz="1400" spc="-1" strike="noStrike">
                <a:solidFill>
                  <a:srgbClr val="404040"/>
                </a:solidFill>
                <a:latin typeface="Trebuchet MS"/>
              </a:rPr>
              <a:t> Вони здійснюються за допомогою маркетингової комунікаційної політики, задачі якої спрямовані на інформування, переконання та нагадування споживачам про товари, стимулювання їх до дій, створення позитивного іміджу підприємства в очах громадськості.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400" spc="-1" strike="noStrike">
                <a:solidFill>
                  <a:srgbClr val="404040"/>
                </a:solidFill>
                <a:latin typeface="Trebuchet MS"/>
              </a:rPr>
              <a:t>Елементами маркетингової комунікаційної політики є:</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реклама;</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аблик рілейшнз;</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тимулювання збуту;</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особистий продаж;</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брендинг;</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рямий маркетинг.</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000" spc="-1" strike="noStrike">
                <a:solidFill>
                  <a:srgbClr val="ff0000"/>
                </a:solidFill>
                <a:latin typeface="Trebuchet MS"/>
              </a:rPr>
              <a:t>Завдання: дати визначення термінам і засвоїти їх!</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533520"/>
            <a:ext cx="8229600" cy="5867280"/>
          </a:xfrm>
          <a:prstGeom prst="rect">
            <a:avLst/>
          </a:prstGeom>
          <a:noFill/>
          <a:ln w="0">
            <a:noFill/>
          </a:ln>
        </p:spPr>
        <p:txBody>
          <a:bodyPr anchor="t">
            <a:normAutofit fontScale="99000"/>
          </a:bodyPr>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u="sng">
                <a:solidFill>
                  <a:srgbClr val="404040"/>
                </a:solidFill>
                <a:uFillTx/>
                <a:latin typeface="Trebuchet MS"/>
              </a:rPr>
              <a:t>	</a:t>
            </a:r>
            <a:r>
              <a:rPr b="0" lang="uk-UA" sz="1800" spc="-1" strike="noStrike" u="sng">
                <a:solidFill>
                  <a:srgbClr val="404040"/>
                </a:solidFill>
                <a:uFillTx/>
                <a:latin typeface="Trebuchet MS"/>
              </a:rPr>
              <a:t>Наступним елементом системи засобів маркетингу </a:t>
            </a:r>
            <a:r>
              <a:rPr b="0" lang="uk-UA" sz="1800" spc="-1" strike="noStrike">
                <a:solidFill>
                  <a:srgbClr val="404040"/>
                </a:solidFill>
                <a:latin typeface="Trebuchet MS"/>
              </a:rPr>
              <a:t>є </a:t>
            </a:r>
            <a:r>
              <a:rPr b="1" lang="uk-UA" sz="1800" spc="-1" strike="noStrike">
                <a:solidFill>
                  <a:srgbClr val="404040"/>
                </a:solidFill>
                <a:latin typeface="Trebuchet MS"/>
              </a:rPr>
              <a:t>місце, де відбувається розподіл товару</a:t>
            </a:r>
            <a:r>
              <a:rPr b="0" lang="uk-UA" sz="1800" spc="-1" strike="noStrike">
                <a:solidFill>
                  <a:srgbClr val="404040"/>
                </a:solidFill>
                <a:latin typeface="Trebuchet MS"/>
              </a:rPr>
              <a:t>. З прагматичної точки зору це, насамперед, вибір і формування раціональних каналів просування та збуту продукції, забезпечення транспортування, складування, укладання договорів, підготовки торговельних працівників, розміщення товарів у торговельних закладах.</a:t>
            </a:r>
            <a:endParaRPr b="0" lang="en-US" sz="1800" spc="-1" strike="noStrike">
              <a:solidFill>
                <a:srgbClr val="404040"/>
              </a:solidFill>
              <a:latin typeface="Trebuchet MS"/>
            </a:endParaRPr>
          </a:p>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Люди, з позицій маркетингу, поділяються на три групи: </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персонал підприємства</a:t>
            </a:r>
            <a:r>
              <a:rPr b="0" lang="uk-UA" sz="1800" spc="-1" strike="noStrike">
                <a:solidFill>
                  <a:srgbClr val="404040"/>
                </a:solidFill>
                <a:latin typeface="Trebuchet MS"/>
              </a:rPr>
              <a:t>, починаючи з рядового працівника і закінчуючи керівником. Всі вони представляють інтереси підприємства на різних рівнях, несуть інформацію, впливають на формування іміджу;</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торгові посередники</a:t>
            </a:r>
            <a:r>
              <a:rPr b="0" lang="uk-UA" sz="1800" spc="-1" strike="noStrike">
                <a:solidFill>
                  <a:srgbClr val="404040"/>
                </a:solidFill>
                <a:latin typeface="Trebuchet MS"/>
              </a:rPr>
              <a:t> (роздрібні та оптові) які займаються реалізацією продукції підприємства. Налагодження добрих стосунків суттєво вплине на результати комерційної діяльності підприємства;</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споживач</a:t>
            </a:r>
            <a:r>
              <a:rPr b="0" lang="uk-UA" sz="1800" spc="-1" strike="noStrike">
                <a:solidFill>
                  <a:srgbClr val="404040"/>
                </a:solidFill>
                <a:latin typeface="Trebuchet MS"/>
              </a:rPr>
              <a:t> із його бажаннями, потребами та капризами. Саме споживач є вирішальною силою в формуванні позитивного балансу діяльності підприємства, основний об’єкт уваги у стратегії і тактиці маркетингу.</a:t>
            </a: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51920" y="76320"/>
            <a:ext cx="8915400" cy="6324480"/>
          </a:xfrm>
          <a:prstGeom prst="rect">
            <a:avLst/>
          </a:prstGeom>
          <a:noFill/>
          <a:ln w="0">
            <a:noFill/>
          </a:ln>
        </p:spPr>
        <p:txBody>
          <a:bodyPr anchor="t">
            <a:normAutofit fontScale="92000"/>
          </a:bodyPr>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	</a:t>
            </a:r>
            <a:r>
              <a:rPr b="0" lang="uk-UA" sz="1400" spc="-1" strike="noStrike">
                <a:solidFill>
                  <a:srgbClr val="404040"/>
                </a:solidFill>
                <a:latin typeface="Trebuchet MS"/>
              </a:rPr>
              <a:t>	</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3. Ключові поняття маркетингу</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йважливіше з фундаментальних понять маркетингу – потреби людини. Секрет успіху будь-якої фірми на конкурентному ринку – вміння виявити та якнайкраще задовольнити потреби споживачів.</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треба</a:t>
            </a:r>
            <a:r>
              <a:rPr b="0" lang="uk-UA" sz="1400" spc="-1" strike="noStrike">
                <a:solidFill>
                  <a:srgbClr val="404040"/>
                </a:solidFill>
                <a:latin typeface="Trebuchet MS"/>
              </a:rPr>
              <a:t> – суб’єктивне відчуття людиною нестачі чогось необхідного, спрямоване на його зменшення чи ліквідацію. Це рушійна сила поведінки індивіда. Потреби практично безмежні, але ресурси для їх задоволення обмежені. Тому споживач обирає лише ті товари і послуги, які найкраще його задовольнять, виходячи з купівельної спроможності. Потреби приймають специфічну форму залежно від культурного рівня та індивідуальності людини. Саме потреби стають поштовхом для створення товарів, які здатні їх задовольни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Бажання</a:t>
            </a:r>
            <a:r>
              <a:rPr b="1" lang="uk-UA" sz="1400" spc="-1" strike="noStrike">
                <a:solidFill>
                  <a:srgbClr val="404040"/>
                </a:solidFill>
                <a:latin typeface="Trebuchet MS"/>
              </a:rPr>
              <a:t> </a:t>
            </a:r>
            <a:r>
              <a:rPr b="0" lang="uk-UA" sz="1400" spc="-1" strike="noStrike">
                <a:solidFill>
                  <a:srgbClr val="404040"/>
                </a:solidFill>
                <a:latin typeface="Trebuchet MS"/>
              </a:rPr>
              <a:t>– це зовнішня форма вияву потреби у специфічній, конкретній формі залежно від культурного та інтелектуального рівня особистості індивіда. Залежать від волі та поведінки підприємців і можуть бути сформовані ним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пит</a:t>
            </a:r>
            <a:r>
              <a:rPr b="0" lang="uk-UA" sz="1400" spc="-1" strike="noStrike">
                <a:solidFill>
                  <a:srgbClr val="404040"/>
                </a:solidFill>
                <a:latin typeface="Trebuchet MS"/>
              </a:rPr>
              <a:t> – це бажання забезпечити потребу в товарах і послугах, які реалізуються на ринку, з урахуванням купівельної спроможності.</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пит може бу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гативний (негативне ставлення до товару, послуг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ульовий (відсутні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ад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постійний (сезонний, колив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фіктив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дмірний (ажіотаж);</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ний (повноці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бажаний (нераціон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сякде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ецифічний (унік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інфляційни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Прямоугольник 3"/>
          <p:cNvSpPr/>
          <p:nvPr/>
        </p:nvSpPr>
        <p:spPr>
          <a:xfrm>
            <a:off x="228600" y="182520"/>
            <a:ext cx="868680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Товар</a:t>
            </a:r>
            <a:r>
              <a:rPr b="1" lang="uk-UA" sz="1600" spc="-1" strike="noStrike">
                <a:solidFill>
                  <a:srgbClr val="000000"/>
                </a:solidFill>
                <a:latin typeface="Trebuchet MS"/>
              </a:rPr>
              <a:t> </a:t>
            </a:r>
            <a:r>
              <a:rPr b="0" lang="uk-UA" sz="1600" spc="-1" strike="noStrike">
                <a:solidFill>
                  <a:srgbClr val="000000"/>
                </a:solidFill>
                <a:latin typeface="Trebuchet MS"/>
              </a:rPr>
              <a:t>– все те, що може задовольнити потребу або бажання і пропонується на ринку з метою привертання уваги, придбання, використання та споживання (вироби, послуги, фахівці, місця, організації, види діяльності, ідеї тощо).</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поживач на ринку завжди має потребу в придбанні ідеального товару, який би міг повністю задовольнив певну потребу. Тому, для успішної діяльності на ринку, надзвичайно важливо постійно досліджувати потреби споживачів і вміти пристосовувати до них товар.</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Будь-який товар чи послуга на ринку мають споживчу цінність.</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ча цінність</a:t>
            </a:r>
            <a:r>
              <a:rPr b="0" lang="uk-UA" sz="1600" spc="-1" strike="noStrike">
                <a:solidFill>
                  <a:srgbClr val="000000"/>
                </a:solidFill>
                <a:latin typeface="Trebuchet MS"/>
              </a:rPr>
              <a:t> – це співвідношення між перевагами, які споживач отримує при використанні товару та витратами на його придбання.</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Нестатки</a:t>
            </a:r>
            <a:r>
              <a:rPr b="0" lang="uk-UA" sz="1600" spc="-1" strike="noStrike">
                <a:solidFill>
                  <a:srgbClr val="000000"/>
                </a:solidFill>
                <a:latin typeface="Trebuchet MS"/>
              </a:rPr>
              <a:t> – виникають при відчутті людиною гострої потреби в чомусь. Нестатки бувають фізіологічними (одяг, їжа, сон, житло), соціальними (духовна близькість, взаємоповага), особистими (брак знань, неможливість самовираження). Нестатки завжди об’єктивні, людина намагається задовольнити їх.</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Задоволення споживача</a:t>
            </a:r>
            <a:r>
              <a:rPr b="0" lang="uk-UA" sz="1600" spc="-1" strike="noStrike">
                <a:solidFill>
                  <a:srgbClr val="000000"/>
                </a:solidFill>
                <a:latin typeface="Trebuchet MS"/>
              </a:rPr>
              <a:t> – це сприйняття властивостей товару, які створюють споживчу цінність. (якщо позитивні якості товару є нижчими за сподівання споживача – то споживач буде не задоволений; якщо співпадають – задоволений, перевищують сподівання </a:t>
            </a:r>
            <a:r>
              <a:rPr b="1" lang="uk-UA" sz="1600" spc="-1" strike="noStrike">
                <a:solidFill>
                  <a:srgbClr val="000000"/>
                </a:solidFill>
                <a:latin typeface="Trebuchet MS"/>
              </a:rPr>
              <a:t>–</a:t>
            </a:r>
            <a:r>
              <a:rPr b="0" lang="uk-UA" sz="1600" spc="-1" strike="noStrike">
                <a:solidFill>
                  <a:srgbClr val="000000"/>
                </a:solidFill>
                <a:latin typeface="Trebuchet MS"/>
              </a:rPr>
              <a:t> споживач у захва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Маркетингові комунікації</a:t>
            </a:r>
            <a:r>
              <a:rPr b="0" lang="uk-UA" sz="1600" spc="-1" strike="noStrike">
                <a:solidFill>
                  <a:srgbClr val="000000"/>
                </a:solidFill>
                <a:latin typeface="Trebuchet MS"/>
              </a:rPr>
              <a:t> – комплекс заходів інформаційної діяльності, спрямований на стимулювання купівельної активності споживача.</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Прямоугольник 3"/>
          <p:cNvSpPr/>
          <p:nvPr/>
        </p:nvSpPr>
        <p:spPr>
          <a:xfrm>
            <a:off x="266760" y="76320"/>
            <a:ext cx="887724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Маркетинг як процес передбачає обмін між продавцем і покупцем, в результаті якого покупець отримує товари (послуги), а продавець – прибуток або інший фінансовий чи не фінансовий зиск.</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Обмін</a:t>
            </a:r>
            <a:r>
              <a:rPr b="0" lang="uk-UA" sz="1600" spc="-1" strike="noStrike">
                <a:solidFill>
                  <a:srgbClr val="000000"/>
                </a:solidFill>
                <a:latin typeface="Trebuchet MS"/>
              </a:rPr>
              <a:t> – це акт отримання бажаного продукту взамін на щось інше. Розрізняють товарно-грошовий (товар – гроші) або бартерний (товар – товар) обм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Угода</a:t>
            </a:r>
            <a:r>
              <a:rPr b="0" lang="uk-UA" sz="1600" spc="-1" strike="noStrike">
                <a:solidFill>
                  <a:srgbClr val="000000"/>
                </a:solidFill>
                <a:latin typeface="Trebuchet MS"/>
              </a:rPr>
              <a:t> – комерційний обмін цінностями, що передбачає погодження умов, терміну та місця його реалізації.</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Ринок</a:t>
            </a:r>
            <a:r>
              <a:rPr b="1" lang="uk-UA" sz="1600" spc="-1" strike="noStrike">
                <a:solidFill>
                  <a:srgbClr val="000000"/>
                </a:solidFill>
                <a:latin typeface="Trebuchet MS"/>
              </a:rPr>
              <a:t> </a:t>
            </a:r>
            <a:r>
              <a:rPr b="0" lang="uk-UA" sz="1600" spc="-1" strike="noStrike">
                <a:solidFill>
                  <a:srgbClr val="000000"/>
                </a:solidFill>
                <a:latin typeface="Trebuchet MS"/>
              </a:rPr>
              <a:t>–сукупність покупців і продавців, які намагаються та здатні купити, заінтересовані у продажу товарів та схильні до обміну.</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Розрізняють ринок покупця і ринок продавця. </a:t>
            </a:r>
            <a:r>
              <a:rPr b="0" i="1" lang="uk-UA" sz="1600" spc="-1" strike="noStrike" u="sng">
                <a:solidFill>
                  <a:srgbClr val="000000"/>
                </a:solidFill>
                <a:uFillTx/>
                <a:latin typeface="Trebuchet MS"/>
              </a:rPr>
              <a:t>Ринок покупця</a:t>
            </a:r>
            <a:r>
              <a:rPr b="0" lang="uk-UA" sz="1600" spc="-1" strike="noStrike">
                <a:solidFill>
                  <a:srgbClr val="000000"/>
                </a:solidFill>
                <a:latin typeface="Trebuchet MS"/>
              </a:rPr>
              <a:t> – це ситуація на ринку за якої пропозиція виробників і продавців товарів перевищує попит на нього за існуючими цінами, внаслідок чого ціни знижуються. </a:t>
            </a:r>
            <a:r>
              <a:rPr b="0" i="1" lang="uk-UA" sz="1600" spc="-1" strike="noStrike" u="sng">
                <a:solidFill>
                  <a:srgbClr val="000000"/>
                </a:solidFill>
                <a:uFillTx/>
                <a:latin typeface="Trebuchet MS"/>
              </a:rPr>
              <a:t>Ринок продавця</a:t>
            </a:r>
            <a:r>
              <a:rPr b="0" lang="uk-UA" sz="1600" spc="-1" strike="noStrike">
                <a:solidFill>
                  <a:srgbClr val="000000"/>
                </a:solidFill>
                <a:latin typeface="Trebuchet MS"/>
              </a:rPr>
              <a:t> – це ситуація на ринку за якої попит на товар за існуючими цінами перевищує пропозицію цього товару, що призводить до зростання ц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укупність ринків країни утворює </a:t>
            </a:r>
            <a:r>
              <a:rPr b="0" i="1" lang="uk-UA" sz="1600" spc="-1" strike="noStrike" u="sng">
                <a:solidFill>
                  <a:srgbClr val="000000"/>
                </a:solidFill>
                <a:uFillTx/>
                <a:latin typeface="Trebuchet MS"/>
              </a:rPr>
              <a:t>національний ринок</a:t>
            </a:r>
            <a:r>
              <a:rPr b="0" lang="uk-UA" sz="1600" spc="-1" strike="noStrike">
                <a:solidFill>
                  <a:srgbClr val="000000"/>
                </a:solidFill>
                <a:latin typeface="Trebuchet MS"/>
              </a:rPr>
              <a:t>, а сукупність ринків світу – </a:t>
            </a:r>
            <a:r>
              <a:rPr b="0" i="1" lang="uk-UA" sz="1600" spc="-1" strike="noStrike" u="sng">
                <a:solidFill>
                  <a:srgbClr val="000000"/>
                </a:solidFill>
                <a:uFillTx/>
                <a:latin typeface="Trebuchet MS"/>
              </a:rPr>
              <a:t>світовий ринок</a:t>
            </a:r>
            <a:r>
              <a:rPr b="0" lang="uk-UA" sz="1600" spc="-1" strike="noStrike">
                <a:solidFill>
                  <a:srgbClr val="000000"/>
                </a:solidFill>
                <a:latin typeface="Trebuchet MS"/>
              </a:rPr>
              <a:t>.</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ачі</a:t>
            </a:r>
            <a:r>
              <a:rPr b="1" lang="uk-UA" sz="1600" spc="-1" strike="noStrike">
                <a:solidFill>
                  <a:srgbClr val="000000"/>
                </a:solidFill>
                <a:latin typeface="Trebuchet MS"/>
              </a:rPr>
              <a:t> </a:t>
            </a:r>
            <a:r>
              <a:rPr b="0" lang="uk-UA" sz="1600" spc="-1" strike="noStrike">
                <a:solidFill>
                  <a:srgbClr val="000000"/>
                </a:solidFill>
                <a:latin typeface="Trebuchet MS"/>
              </a:rPr>
              <a:t>– фізичні та юридичні особи, які мають бажання придбати товар або послугу за діючими цінами для власного споживання або інших вигод.</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Посередники</a:t>
            </a:r>
            <a:r>
              <a:rPr b="0" lang="uk-UA" sz="1600" spc="-1" strike="noStrike">
                <a:solidFill>
                  <a:srgbClr val="000000"/>
                </a:solidFill>
                <a:latin typeface="Trebuchet MS"/>
              </a:rPr>
              <a:t> – фізичні та юридичні особи, які сприяють виробникам у їхній виробничо-збутовій діяльнос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 </a:t>
            </a:r>
            <a:r>
              <a:rPr b="0" i="1" lang="uk-UA" sz="1600" spc="-1" strike="noStrike" u="sng">
                <a:solidFill>
                  <a:srgbClr val="000000"/>
                </a:solidFill>
                <a:uFillTx/>
                <a:latin typeface="Trebuchet MS"/>
              </a:rPr>
              <a:t>Виробники</a:t>
            </a:r>
            <a:r>
              <a:rPr b="0" lang="uk-UA" sz="1600" spc="-1" strike="noStrike">
                <a:solidFill>
                  <a:srgbClr val="000000"/>
                </a:solidFill>
                <a:latin typeface="Trebuchet MS"/>
              </a:rPr>
              <a:t> – фізичні та юридичні особи, які виробляють матеріальні блага або послуги на ринок для їх подальшої реалізації з відповідною вигодою та отримання бажаних прибутків.</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57200" y="304560"/>
            <a:ext cx="8229600" cy="617220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3. Розвиток концепцій маркетингу.</a:t>
            </a:r>
            <a:endParaRPr b="0" lang="en-US" sz="16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800" spc="-1" strike="noStrike">
                <a:solidFill>
                  <a:srgbClr val="404040"/>
                </a:solidFill>
                <a:latin typeface="Trebuchet MS"/>
              </a:rPr>
              <a:t>Маркетинг як економічне явище та поєднання управлінської структури і ринкового механізму, пройшов декілька етапів розвитку, кожний із яких має відповідну назву та характеризується відповідними рисами у відповідності із факторами, які сформували дану епоху.</a:t>
            </a:r>
            <a:endParaRPr b="0" lang="en-US" sz="18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Перший етап еволюції маркетингу отримав назву – </a:t>
            </a:r>
            <a:r>
              <a:rPr b="1" i="1" lang="uk-UA" sz="1800" spc="-1" strike="noStrike">
                <a:solidFill>
                  <a:srgbClr val="404040"/>
                </a:solidFill>
                <a:latin typeface="Trebuchet MS"/>
              </a:rPr>
              <a:t>виробнича концепція</a:t>
            </a:r>
            <a:r>
              <a:rPr b="0" lang="uk-UA" sz="1800" spc="-1" strike="noStrike">
                <a:solidFill>
                  <a:srgbClr val="404040"/>
                </a:solidFill>
                <a:latin typeface="Trebuchet MS"/>
              </a:rPr>
              <a:t> (кінець ХІХ ст. – середина 20-х рр. ХХ ст.). На цьому етапі особлива увага приділялася покращенню виробничої діяльності підприємства, а маркетинг виступає в ролі допоміжної функції. Вислів французького економіста Дж. Б. Сея “Виробництво створює свої особисті потреби” є характерним відображенням тих часів. Згідно з даним твердженням, головне завдання підприємства полягає в постійному збільшенні об’ємів виробництва продукції та зниженні собівартості одиниці продукції за рахунок економії від масштабів. Зниження ціни реалізації одиниці продукції неодмінно призведе до збільшення об’ємів реалізації, що вимагатиме збільшення обсягів виробництва. Отже, головним фактором ступеня задоволення ринку є обсяги випуску продукції.</a:t>
            </a: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ругий етап ввійшов в історію під назвою – </a:t>
            </a:r>
            <a:r>
              <a:rPr b="1" i="1" lang="uk-UA" sz="1800" spc="-1" strike="noStrike">
                <a:solidFill>
                  <a:srgbClr val="404040"/>
                </a:solidFill>
                <a:latin typeface="Trebuchet MS"/>
              </a:rPr>
              <a:t>товарна концепція</a:t>
            </a:r>
            <a:r>
              <a:rPr b="0" lang="uk-UA" sz="1800" spc="-1" strike="noStrike">
                <a:solidFill>
                  <a:srgbClr val="404040"/>
                </a:solidFill>
                <a:latin typeface="Trebuchet MS"/>
              </a:rPr>
              <a:t> (середина 20-х р. – кінець 30-х р.). На даному етапі розвитку підприємства основну увагу приділяють покращенню якості вироблюваної продукції, вдосконаленню технологій, фінансування нових розробок та ідей. Як правило, реалізація даної концепції призводить до збільшення ціни реалізації продукції, що негативно відображається на рівні споживчого попиту.</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6840" y="228240"/>
            <a:ext cx="8381880" cy="6172200"/>
          </a:xfrm>
          <a:prstGeom prst="rect">
            <a:avLst/>
          </a:prstGeom>
          <a:noFill/>
          <a:ln w="0">
            <a:noFill/>
          </a:ln>
        </p:spPr>
        <p:txBody>
          <a:bodyPr anchor="t">
            <a:normAutofit/>
          </a:bodyPr>
          <a:p>
            <a:pPr marL="380880" indent="-3808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аме це спонукало запровадженню нової концепції, яка отримала назву – </a:t>
            </a:r>
            <a:r>
              <a:rPr b="1" i="1" lang="uk-UA" sz="2000" spc="-1" strike="noStrike">
                <a:solidFill>
                  <a:srgbClr val="404040"/>
                </a:solidFill>
                <a:latin typeface="Trebuchet MS"/>
              </a:rPr>
              <a:t>концепція соціально-етичного маркетингу</a:t>
            </a:r>
            <a:r>
              <a:rPr b="0" lang="uk-UA" sz="2000" spc="-1" strike="noStrike">
                <a:solidFill>
                  <a:srgbClr val="404040"/>
                </a:solidFill>
                <a:latin typeface="Trebuchet MS"/>
              </a:rPr>
              <a:t> (з початку 80-х років). Її суть полягає у вивченні потреб споживачів та їх ефективному задоволенні, за умови, що дані потреби не шкідливі з точки зору суспільства. Реалізація даної концепції стала можливою лише при збалансуванні прибутку підприємства, потреб споживачів та інтересів суспільства. </a:t>
            </a: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 початку нового тисячоліття все більше розмов ведеться про те, що основа ефективної діяльності полягає в узгодженості інтересів між виробником та споживачем. </a:t>
            </a:r>
            <a:r>
              <a:rPr b="1" i="1" lang="uk-UA" sz="2000" spc="-1" strike="noStrike">
                <a:solidFill>
                  <a:srgbClr val="404040"/>
                </a:solidFill>
                <a:latin typeface="Trebuchet MS"/>
              </a:rPr>
              <a:t>Концепція взаємодії</a:t>
            </a:r>
            <a:r>
              <a:rPr b="0" lang="uk-UA" sz="2000" spc="-1" strike="noStrike">
                <a:solidFill>
                  <a:srgbClr val="404040"/>
                </a:solidFill>
                <a:latin typeface="Trebuchet MS"/>
              </a:rPr>
              <a:t>, яка поступово замінює попередню, стверджує, що в основі плідної співпраці лежать взаєморозуміння, взаємоповага, взаємодовіра, врахування інтересів усіх задіяних сторін та максимальне укріплення індивідуальних відносин. Становлення останньої концепції відбувається в умовах посилення глобалізаційних процесів, розвитку конс’юмеризму (руху споживачів на захист своїх прав) і “зеленого маркетингу”.</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533520"/>
            <a:ext cx="8229600" cy="5867280"/>
          </a:xfrm>
          <a:prstGeom prst="rect">
            <a:avLst/>
          </a:prstGeom>
          <a:noFill/>
          <a:ln w="0">
            <a:noFill/>
          </a:ln>
        </p:spPr>
        <p:txBody>
          <a:bodyPr anchor="t">
            <a:normAutofit fontScale="97000"/>
          </a:bodyPr>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Третій етап розвитку маркетингу має назву - </a:t>
            </a:r>
            <a:r>
              <a:rPr b="1" i="1" lang="uk-UA" sz="1800" spc="-1" strike="noStrike">
                <a:solidFill>
                  <a:srgbClr val="404040"/>
                </a:solidFill>
                <a:latin typeface="Trebuchet MS"/>
              </a:rPr>
              <a:t>збутова концепція</a:t>
            </a:r>
            <a:r>
              <a:rPr b="0" lang="uk-UA" sz="1800" spc="-1" strike="noStrike">
                <a:solidFill>
                  <a:srgbClr val="404040"/>
                </a:solidFill>
                <a:latin typeface="Trebuchet MS"/>
              </a:rPr>
              <a:t> (до середини 50-х р.). Розвиток науково-технічного прогресу призвів до перевищення пропозиції над попитом (формується ринок споживачів), посилюється конкуренція, виникають проблеми з проникненням товарів на ринок та їх просуванням. Головне завдання підприємств, що використовують дану концепцію – будь-що продати товар. Досягти поставленої мети можна лише за допомогою налагодженої системи збуту, розвитком агентської торгівлі – дистриб’юторства, комівояжерства, вкладення засобів в розвиток реклами, розробку і проведення рекламних кампаній.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Четвертий етап формувався в умовах кардинальної зміни відношення виробників до споживачів та оточуючого середовища. Він отримав назву – </a:t>
            </a:r>
            <a:r>
              <a:rPr b="1" i="1" lang="uk-UA" sz="1800" spc="-1" strike="noStrike">
                <a:solidFill>
                  <a:srgbClr val="404040"/>
                </a:solidFill>
                <a:latin typeface="Trebuchet MS"/>
              </a:rPr>
              <a:t>концепція маркетингу</a:t>
            </a:r>
            <a:r>
              <a:rPr b="0" lang="uk-UA" sz="1800" spc="-1" strike="noStrike">
                <a:solidFill>
                  <a:srgbClr val="404040"/>
                </a:solidFill>
                <a:latin typeface="Trebuchet MS"/>
              </a:rPr>
              <a:t> (середина 50-х років – кінець 70-х років). Філософія даної концепції полягає в тому, що товар повинен якомога повніше задовольняти вимоги, бажання та запити споживача. Цього можна досягти лише за умови систематичного моніторингу, з ціллю ідентифікації потреб, вивчення поведінки споживача, адаптування виробництва до сучасних вимог і т.д. Однак, застосування даної концепції призвело до того, що виробник, задовольняючи потреби споживача, створює саме такий товар, який хоче отримати споживач, і, як правило, не звертає увагу на засоби, за допомогою яких створюється сам товар. В технології виробництва товару застосовуються різні елементи, які негативно впливають на здоров’я споживача та погіршують навколишнє середовище.</a:t>
            </a:r>
            <a:r>
              <a:rPr b="0" lang="ru-RU" sz="1800" spc="-1" strike="noStrike">
                <a:solidFill>
                  <a:srgbClr val="404040"/>
                </a:solidFill>
                <a:latin typeface="Trebuchet MS"/>
              </a:rPr>
              <a:t>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0880" y="380880"/>
            <a:ext cx="8382240" cy="609624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Термін “маркетинг” – один із багатьох висловів, який увійшов в наше життя ще зовсім недавно, але досить впевнено і став звичайним в нашому лексиконі. Досить часто вказаний термін можна почути у виступах  працівників установ і підприємств, у статтях журналістів і науковців.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i="1" lang="uk-UA" sz="1600" spc="-1" strike="noStrike">
                <a:solidFill>
                  <a:srgbClr val="404040"/>
                </a:solidFill>
                <a:latin typeface="Trebuchet MS"/>
              </a:rPr>
              <a:t>Відносно самого </a:t>
            </a:r>
            <a:r>
              <a:rPr b="1" i="1" lang="uk-UA" sz="1600" spc="-1" strike="noStrike">
                <a:solidFill>
                  <a:srgbClr val="404040"/>
                </a:solidFill>
                <a:latin typeface="Trebuchet MS"/>
              </a:rPr>
              <a:t>терміну “маркетинг” (marketing),</a:t>
            </a:r>
            <a:r>
              <a:rPr b="0" i="1" lang="uk-UA" sz="1600" spc="-1" strike="noStrike">
                <a:solidFill>
                  <a:srgbClr val="404040"/>
                </a:solidFill>
                <a:latin typeface="Trebuchet MS"/>
              </a:rPr>
              <a:t> то його вперше застосували американські фермери в середині ХІХ ст. зіткнувшись з проблемами реалізації виробленої продукції. Пізніше, в кінці ХІХ – початку ХХ століть, його почали вживати в економічній літературі, а в університетах було запроваджено наукову дисципліну з такою назвою.</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Однак, щодо системи  маркетингу як комплексу практичних дій, то на думку компетентних авторів, вперше маркетинг почав практикуватись в Японії в кінці XVII ст., коли в Токіо відкрився перший у світі універмаг. Разом з тим слід мати на увазі, що сукупність операцій, які нині інтегровано поняттям “маркетинг”, існували завжди, вони лише не називались так. Ще в 1639 р. були опубліковані записки генуезця Г.Д.Пері “Il Negotiante”, в яких він виклав свої торгові навички. Карл Гюнтер Людовік (1707-1778) в своєму виданні “Описи завершеної купецької системи” звертався до маркетингу у вузькому розумінні слова, а Іоган Міхаель Лойх у книзі “Система торгівлі” в 1804р. присвятив вченню про продаж цілий розділ, в 1880р. І.Х.Веле видав книгу “Реклама”.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6840" y="304560"/>
            <a:ext cx="8381880" cy="6172200"/>
          </a:xfrm>
          <a:prstGeom prst="rect">
            <a:avLst/>
          </a:prstGeom>
          <a:noFill/>
          <a:ln w="0">
            <a:noFill/>
          </a:ln>
        </p:spPr>
        <p:txBody>
          <a:bodyPr anchor="t">
            <a:normAutofit/>
          </a:bodyPr>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2000" spc="-1" strike="noStrike">
                <a:solidFill>
                  <a:srgbClr val="404040"/>
                </a:solidFill>
                <a:latin typeface="Trebuchet MS"/>
              </a:rPr>
              <a:t>Для розкриття суті маркетингу звернемось до найбільш розповсюджених його визначень.</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Ф. Котлер </a:t>
            </a:r>
            <a:r>
              <a:rPr b="0" lang="uk-UA" sz="2000" spc="-1" strike="noStrike">
                <a:solidFill>
                  <a:srgbClr val="404040"/>
                </a:solidFill>
                <a:latin typeface="Trebuchet MS"/>
              </a:rPr>
              <a:t>трактує</a:t>
            </a:r>
            <a:r>
              <a:rPr b="1" lang="uk-UA" sz="2000" spc="-1" strike="noStrike">
                <a:solidFill>
                  <a:srgbClr val="404040"/>
                </a:solidFill>
                <a:latin typeface="Trebuchet MS"/>
              </a:rPr>
              <a:t> маркетинг, як вид людської діяльності, спрямований на задоволення нестатків та потреб шляхом обмін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Американська асоціація маркетингу</a:t>
            </a:r>
            <a:r>
              <a:rPr b="0" lang="uk-UA" sz="2000" spc="-1" strike="noStrike">
                <a:solidFill>
                  <a:srgbClr val="404040"/>
                </a:solidFill>
                <a:latin typeface="Trebuchet MS"/>
              </a:rPr>
              <a:t> (АМА) розглядає </a:t>
            </a:r>
            <a:r>
              <a:rPr b="1" lang="uk-UA" sz="2000" spc="-1" strike="noStrike">
                <a:solidFill>
                  <a:srgbClr val="404040"/>
                </a:solidFill>
                <a:latin typeface="Trebuchet MS"/>
              </a:rPr>
              <a:t>маркетинг, як процес планування і здійснення задуму щодо ціноутворення, просування та реалізації ідей, товарів та послуг шляхом обміну, який задовольняє цілі окремих осіб та організацій.</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Р.Аванс представляє </a:t>
            </a:r>
            <a:r>
              <a:rPr b="1" lang="uk-UA" sz="2000" spc="-1" strike="noStrike">
                <a:solidFill>
                  <a:srgbClr val="404040"/>
                </a:solidFill>
                <a:latin typeface="Trebuchet MS"/>
              </a:rPr>
              <a:t>маркетинг, як передбачення, управління і задоволення попиту на товари, послуги, організації, людей, території та ідеї шляхом обміну(уточнити думк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осить актуально трактує дане поняття </a:t>
            </a:r>
            <a:r>
              <a:rPr b="1" lang="uk-UA" sz="2000" spc="-1" strike="noStrike">
                <a:solidFill>
                  <a:srgbClr val="404040"/>
                </a:solidFill>
                <a:latin typeface="Trebuchet MS"/>
              </a:rPr>
              <a:t>Жан Жак Ламбен</a:t>
            </a:r>
            <a:r>
              <a:rPr b="0" lang="uk-UA" sz="2000" spc="-1" strike="noStrike">
                <a:solidFill>
                  <a:srgbClr val="404040"/>
                </a:solidFill>
                <a:latin typeface="Trebuchet MS"/>
              </a:rPr>
              <a:t>, за визначенням якого </a:t>
            </a:r>
            <a:r>
              <a:rPr b="1" lang="uk-UA" sz="2000" spc="-1" strike="noStrike">
                <a:solidFill>
                  <a:srgbClr val="404040"/>
                </a:solidFill>
                <a:latin typeface="Trebuchet MS"/>
              </a:rPr>
              <a:t>маркетинг – це одночасно філософія бізнесу і активний соціальний процес.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6840" y="304560"/>
            <a:ext cx="8381880" cy="6095880"/>
          </a:xfrm>
          <a:prstGeom prst="rect">
            <a:avLst/>
          </a:prstGeom>
          <a:noFill/>
          <a:ln w="0">
            <a:noFill/>
          </a:ln>
        </p:spPr>
        <p:txBody>
          <a:bodyPr anchor="t">
            <a:normAutofit/>
          </a:bodyPr>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600" spc="-1" strike="noStrike">
                <a:solidFill>
                  <a:srgbClr val="000000"/>
                </a:solidFill>
                <a:latin typeface="Trebuchet MS"/>
              </a:rPr>
              <a:t>Для кращого розуміння маркетингу слід ознайомитись з висловами відомих людей, які формують основні закони маркетингу. </a:t>
            </a:r>
            <a:endParaRPr b="0" lang="en-US" sz="1600" spc="-1" strike="noStrike">
              <a:solidFill>
                <a:srgbClr val="404040"/>
              </a:solidFill>
              <a:latin typeface="Trebuchet MS"/>
            </a:endParaRPr>
          </a:p>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 - це король, a ми - його вірні слуги і наше завдання в тому, щоб з повагою і з максимально більшими для короля зручностями допомогти зробити йому свій вибір (Мaцусіт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Треба нaмaгaтись виробляти те, що можна пpодaти, a не нaмaгaтись пpодaвaти те, що можна виробит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Інженери створюють виріб, a маркетологи - товap. При цьому слід завжди пам’ятати, що одна і та ж сaмa продукція одночасно може бути втіленням інженерної мрії та жахом для відділу збуту (Хьюджесс).</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а слід питати не про те, який виріб йому потрібен, a про те, в чому його проблеми сьогодні і які завдання він збирається вирішувати за допомогою Ваших товарів зaвтp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забуває про конкурентів, того зaвтpa забуде ринок.</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 забувайте та прогнозуйте зміни зовнішнього середовища та його вплив на Ваш ринок та Ваші товap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ороший дизайн - хороший бізнес (Уотсон).</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іхто не бажає платити за низьку якість. Але ніхто не бажає платити за зайву якість (важливо доносити потрібну інформацію до споживача).</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економить на системах збуту, той економить на процвітанні фірм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йві витpaти - витpaти на недостатню реклам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має сервісу - немає успіх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 зaгaльнопідприємницька спpaв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для підприємства, a не підприємство для маркетингу. </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6840" y="304560"/>
            <a:ext cx="8381880" cy="609588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000" spc="-1" strike="noStrike">
                <a:solidFill>
                  <a:srgbClr val="404040"/>
                </a:solidFill>
                <a:latin typeface="Trebuchet MS"/>
              </a:rPr>
              <a:t>	</a:t>
            </a:r>
            <a:r>
              <a:rPr b="0" lang="ru-RU" sz="1000" spc="-1" strike="noStrike">
                <a:solidFill>
                  <a:srgbClr val="404040"/>
                </a:solidFill>
                <a:latin typeface="Trebuchet MS"/>
              </a:rPr>
              <a:t>	</a:t>
            </a:r>
            <a:endParaRPr b="0" lang="en-US" sz="1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404040"/>
                </a:solidFill>
                <a:latin typeface="Trebuchet MS"/>
              </a:rPr>
              <a:t>	</a:t>
            </a:r>
            <a:r>
              <a:rPr b="1" lang="ru-RU" sz="1400" spc="-1" strike="noStrike">
                <a:solidFill>
                  <a:srgbClr val="404040"/>
                </a:solidFill>
                <a:latin typeface="Trebuchet MS"/>
              </a:rPr>
              <a:t>	</a:t>
            </a:r>
            <a:r>
              <a:rPr b="1" lang="ru-RU" sz="1600" spc="-1" strike="noStrike">
                <a:solidFill>
                  <a:srgbClr val="404040"/>
                </a:solidFill>
                <a:latin typeface="Trebuchet MS"/>
              </a:rPr>
              <a:t>Предметом маркетингу виступають відносини, які виникають на ринку між суб’єктом господарювання і споживачем.</a:t>
            </a:r>
            <a:r>
              <a:rPr b="0" lang="ru-RU" sz="1600" spc="-1" strike="noStrike">
                <a:solidFill>
                  <a:srgbClr val="404040"/>
                </a:solidFill>
                <a:latin typeface="Trebuchet MS"/>
              </a:rPr>
              <a:t> Особливість таких відносин полягає в тому, що, по перше, кожний суб'єкт господарювання працює на ринку і для ринку, де головна діюча особа - споживач. Саме споживач, своїм “грошовим бюлетенем” голосуючи “за” чи “проти” результатів господарювання, надає право на існування та визначає перспективи  кожного підприємства, які у конкурентній боротьбі намагаються завоювати прихильність споживача. Перемога в такій боротьбі визначається бажаннями і можливостями пристосуватися до вимог і потреб споживача. </a:t>
            </a:r>
            <a:endParaRPr b="0" lang="en-US" sz="16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00b050"/>
                </a:solidFill>
                <a:latin typeface="Trebuchet MS"/>
              </a:rPr>
              <a:t>2. Принципи, завдання та функції маркетингу.</a:t>
            </a:r>
            <a:endParaRPr b="0" lang="en-US" sz="2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Маркетинг як наука і специфічна сфера діяльності в умовах ринкових відносин ґрунтується на відповідних принципах.</a:t>
            </a:r>
            <a:r>
              <a:rPr b="0" lang="uk-UA" sz="1400" spc="-1" strike="noStrike">
                <a:solidFill>
                  <a:srgbClr val="404040"/>
                </a:solidFill>
                <a:latin typeface="Trebuchet MS"/>
              </a:rPr>
              <a:t> Це насамперед:</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демократичності, тобто вільного вибору мети, сфери і напрямків діяльності та розвитк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споживач завжди правий”, тобто відкритість до споживача, пристосування до його потреб та побажань, і головне активне формування цих потреб та побажань;</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альтернативізму, тобто наявність широкого кола можливих варіантів вибор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комерційності, тобто спрямованість на кінцевий результат діяльності підприємства;</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науковості, тобто застосування новітніх наукових досягнень у вирішенні маркетингових проблем;</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технологічності, тобто усебічне та комплексне використання наявних методологій для досягнення поставлених ціле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838080" y="1218960"/>
            <a:ext cx="746784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Відповідно до зазначених принципів підприємства обирають цілі своєї діяльності. В загальному цілі маркетингу можна звести до чотирьох основних напрямків:</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 можливого високого споживанн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ї споживчої задоволеності;</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надання максимально широкого вибору;</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максимальне підвищення рівня житт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304560"/>
            <a:ext cx="8229600" cy="6095880"/>
          </a:xfrm>
          <a:prstGeom prst="rect">
            <a:avLst/>
          </a:prstGeom>
          <a:noFill/>
          <a:ln w="0">
            <a:noFill/>
          </a:ln>
        </p:spPr>
        <p:txBody>
          <a:bodyPr anchor="t">
            <a:normAutofit fontScale="95000"/>
          </a:bodyPr>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Стратегі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формування стратегічних цілей та місії підприємства на ринк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визначення стратегії поведінки на цільових ринках;</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творення власних товарів та системи його просування та збуту.</a:t>
            </a:r>
            <a:endParaRPr b="0" lang="en-US" sz="2000" spc="-1" strike="noStrike">
              <a:solidFill>
                <a:srgbClr val="404040"/>
              </a:solidFill>
              <a:latin typeface="Trebuchet MS"/>
            </a:endParaRPr>
          </a:p>
          <a:p>
            <a:pPr marL="325800" indent="-3258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Такти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ошук потенційних та існуючих нестатків і потреб споживачів;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організація науково-дослідних робіт по створенню власної продукції;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і планування маркетингової, виробничої, фінансової та збутової діяльності підприємс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дійснення заходів управління якістю продукції підприємства на всіх етапах виробниц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та впровадження маркетингової цінової політик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налагодження ефективної роботи збутової та комунікаційної систем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контроль маркетингової діяльності підприємства.</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380520"/>
            <a:ext cx="8229600" cy="5745240"/>
          </a:xfrm>
          <a:prstGeom prst="rect">
            <a:avLst/>
          </a:prstGeom>
          <a:noFill/>
          <a:ln w="0">
            <a:noFill/>
          </a:ln>
        </p:spPr>
        <p:txBody>
          <a:bodyPr anchor="t">
            <a:normAutofit fontScale="98000"/>
          </a:bodyPr>
          <a:p>
            <a:pPr marL="335880" indent="-3358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404040"/>
                </a:solidFill>
                <a:latin typeface="Trebuchet MS"/>
              </a:rPr>
              <a:t>Функції маркетингу</a:t>
            </a:r>
            <a:r>
              <a:rPr b="0" lang="uk-UA" sz="2400" spc="-1" strike="noStrike">
                <a:solidFill>
                  <a:srgbClr val="404040"/>
                </a:solidFill>
                <a:latin typeface="Trebuchet MS"/>
              </a:rPr>
              <a:t> розроблені у відповідності до поставлених завдань:</a:t>
            </a:r>
            <a:endParaRPr b="0" lang="en-US" sz="24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комплексне вивчення ринку та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планування маркетингової і збутової діяльності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узгодження товарного асортименту, його параметрів, характеристик та цін з потребами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відповідної упаковки з функціональними потребами та інформаційним забезпеченням;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формування каналів розповсюдження продукції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абезпечення двостороннього комунікаційного зв’язку підприємства із споживачами, партнерами;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ісля продажний сервіс.</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6840" y="304560"/>
            <a:ext cx="8381880" cy="609588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404040"/>
                </a:solidFill>
                <a:latin typeface="Trebuchet MS"/>
              </a:rPr>
              <a:t>4. Система засобів маркетингу (mix-marketing).</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Система засобів маркетингу (mix-marketing) – це сукупність прийомів і методів, що використовується підприємством для досягнення поставленої мети та вирішення відповідних задач.</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Інструментарій мікс-маркетингу включає в себе планування та розробку продукції, забезпечення цінової політики, формування каналів розподілу продукції, інформаційне супроводження продукції, створення товарних знаків та брендів, забезпечення відповідної упаковки, налагодження та підтримування взаємовигідних стосунків із партнерами, клієнтами та ін.</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В економічній літературі система засобів маркетингу в кінці 1970-х років була об’єднана в чотири групи і отримала назву </a:t>
            </a:r>
            <a:r>
              <a:rPr b="1" lang="uk-UA" sz="2000" spc="-1" strike="noStrike">
                <a:solidFill>
                  <a:srgbClr val="404040"/>
                </a:solidFill>
                <a:latin typeface="Trebuchet MS"/>
              </a:rPr>
              <a:t>“концепція 4 Р”</a:t>
            </a:r>
            <a:r>
              <a:rPr b="0" lang="uk-UA" sz="2000" spc="-1" strike="noStrike">
                <a:solidFill>
                  <a:srgbClr val="404040"/>
                </a:solidFill>
                <a:latin typeface="Trebuchet MS"/>
              </a:rPr>
              <a:t> — від початкової букви англійської назви кожного елемента, а саме product (товар), place (місце), promotion (просування) і ргісе (ціна).</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Пізніше “концепція 4 Р” поповнилась новими елементами – people (люди), package (упаковка), personal selling (персональний продаж) і отримала назву </a:t>
            </a:r>
            <a:r>
              <a:rPr b="1" lang="uk-UA" sz="2000" spc="-1" strike="noStrike">
                <a:solidFill>
                  <a:srgbClr val="404040"/>
                </a:solidFill>
                <a:latin typeface="Trebuchet MS"/>
              </a:rPr>
              <a:t>“7 Р”.</a:t>
            </a:r>
            <a:endParaRPr b="0" lang="en-US" sz="2000" spc="-1" strike="noStrike">
              <a:solidFill>
                <a:srgbClr val="404040"/>
              </a:solidFill>
              <a:latin typeface="Trebuchet MS"/>
            </a:endParaRPr>
          </a:p>
        </p:txBody>
      </p:sp>
      <p:sp>
        <p:nvSpPr>
          <p:cNvPr id="273" name="Стрелка: штриховая вправо 1"/>
          <p:cNvSpPr/>
          <p:nvPr/>
        </p:nvSpPr>
        <p:spPr>
          <a:xfrm>
            <a:off x="228600" y="55627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74" name="Стрелка: штриховая вправо 3"/>
          <p:cNvSpPr/>
          <p:nvPr/>
        </p:nvSpPr>
        <p:spPr>
          <a:xfrm>
            <a:off x="228600" y="39625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2T09:56:23Z</dcterms:created>
  <dc:creator>1</dc:creator>
  <dc:description/>
  <dc:language>en-US</dc:language>
  <cp:lastModifiedBy>RePack by Diakov</cp:lastModifiedBy>
  <dcterms:modified xsi:type="dcterms:W3CDTF">2021-10-10T13:43:24Z</dcterms:modified>
  <cp:revision>23</cp:revision>
  <dc:subject/>
  <dc:title>Дисципліна “Маркетинг”</dc:title>
</cp:coreProperties>
</file>