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6E60-1E5E-4A52-8A48-889F3627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E5DD-F40F-4215-9C29-37674292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AF9F-655C-4485-B7C7-EAA712A8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97AF-5537-4A30-AB14-29CDC9B9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E130-850F-4258-9DE4-E5BCB74D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1C81-054D-49DF-B08E-E5B5A8E6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16A-C8C0-4F08-B1A3-D60B475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7844-8CE5-461B-82E0-8D428159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9951-99E7-46C1-BE1A-CA6BCA0B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187-050C-4CAD-A885-4C36456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4DD4-69B1-4009-89F3-344CC15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0C96-A73D-48D4-88B1-DEDCE28E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921A-1727-4BDC-986A-E1B0802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F2BB-B852-4846-A669-BC0E6A1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DB9-49B0-4F16-9E0E-145FA79D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79B-2663-41CB-8CFF-420805F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0CD-B001-4D9D-9EDA-8CAC968C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C757-6FD9-4729-A7E8-4315244E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A757-398B-49B2-AD32-9F074E4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9346-8338-4997-989A-2356B34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3428-2C04-4091-9D5F-9E40C81F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5FFD-941E-42AF-B55D-790EBB48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5774-3759-4168-9065-13A14032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AC20-BDA0-433A-83EC-A110317C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6048-0695-4AE7-A067-3C21419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7E96-E663-41B9-8066-695DEE2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9776-D08C-43DB-90A2-7F09667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93C9-1905-4670-BF7E-0690AA52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D090-4DD3-4E3B-A88C-DFBAC1F4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8D16-F666-4CFE-A203-5E7F883F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421D-24BB-45DD-AADB-14AEFFD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A178-5E94-4D38-B472-0FB1A7E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D051-E4E7-4DC9-9485-FD5D157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1D88-50AB-49FF-B4D3-DE095B1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CEDE-277D-4B8A-A61A-81DD99DE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B862-E468-4170-A2F7-1AB66D64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675A-79B0-473A-AC14-AB221000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E462-A5FD-4B36-9410-CFD0A26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9226-092B-448A-9EFC-D294757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45F2-4BF1-4570-8F19-22D4A457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78E3-D78F-45A3-A45E-439C9AEB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44D17-260E-4F0E-BB38-B4D96DB4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B778-9F6C-499A-A47B-E5A4E16C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E0E8D-795E-4F2F-9D2C-977C8CC6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E334-F054-43D3-8A13-BA289419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367E-E163-4F0E-9770-0F04144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E8B5-4996-4C41-8BCF-46BB3A8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B8DE-104A-42AE-B56A-5BE016A6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06AC-04C9-4BF2-9B0A-D144CC1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8869-6EA3-4694-BBEB-16A1E045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D485-9EE9-4F11-BB73-C0378D3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F4F1-7D17-4213-9B69-F9C7970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9139-1391-4C98-96D3-B1DEA13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D338-2CD2-4869-B3A8-9AD08EB6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F8F3-3035-4748-9D71-209DAF2D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7FB1-BAC2-44C7-B374-F7A2964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9624-FEB4-4CC3-90DF-7B468A17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AB9B-0C31-4B03-B668-50CF6C64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291D-3720-4514-AFF7-4A573B6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8D88-39C2-4A7A-B3E8-5AADD550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E9D7-8A7C-42BF-A06A-84698CD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4E0B-E408-496A-A71E-523B80E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DFADF-B2FD-479B-AF12-59D7612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8DEC-27BF-4366-8D59-2F47102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E20E-4F5A-423C-990A-9FE1288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3B1B-924A-4B7E-A7AE-2EF5487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9137-983A-4CD6-A263-971FCFD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5BCF-B46F-4D01-A396-C6B7405A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43B0-9F5F-4E33-8FEA-E4EEF63D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871DA-14A4-4D65-9EA0-16EEAB2C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CDD2-443D-4C5C-929E-2D3C6EF7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6394D-BDC3-48F2-8C73-9DACA15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933E2-2BA5-4D03-918B-3B1D47A2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E560-2A15-4BE8-86E9-BEC48F1C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8B7E-F08A-472E-AE83-612B3140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DF8C7-176A-4688-B7A7-395440AC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E09B8-3D0F-4A48-8BFF-2FBC791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6F04-37BA-412F-ABDB-1CA3E8E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37B5-7858-4528-B6D7-0FF165C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FEC2D-F809-4150-A47F-931C159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96FC-0376-4F86-B4EB-0BA713A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3235-9DDA-4699-AFCB-8F430D4B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32DE8-8F41-4FC8-9641-3BC8F5BE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3C09-F64E-4966-9D1F-E7C67F3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3A5D-362D-478C-8657-C2BFB53D8EA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B6D-E0D8-4752-9272-BFFE47777D9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E22-1B81-4465-8503-4498E4E588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A4B-6B3E-4B48-83E7-FD5E091459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C59D-7FFB-4F58-A77C-1DAD2D65D7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E7AB-ACD3-43D8-933C-6BC0FE39FA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252-B95A-4603-9B1B-8A9BDC227F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respublika.info/images/616a.jpg&amp;imgrefurl=http://www.chernigiv.osp-ua.info/news/single-33012.html&amp;usg=__F0Mysl223gs5x5BChEY7GQM5JSI=&amp;h=301&amp;w=300&amp;sz=39&amp;hl=uk&amp;start=114&amp;tbnid=URLmGfmHP5pwFM:&amp;tbnh=116&amp;tbnw=116&amp;prev=/images%3Fq%3D%25D0%25BB%25D1%2596%25D0%25BA%25D0%25B8%26gbv%3D2%26ndsp%3D20%26hl%3Duk%26sa%3DN%26start%3D10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intertop.ua/uploadfiles/news/4ab38017bb4af.jpg&amp;imgrefurl=http://intertop.ua/ua/news/moreschi/394.html&amp;usg=__96I5nNtxyOZh_N2QOIVF8x4OlYQ=&amp;h=400&amp;w=285&amp;sz=14&amp;hl=uk&amp;start=42&amp;tbnid=6Kt1txCZeTr1vM:&amp;tbnh=124&amp;tbnw=88&amp;prev=/images%3Fq%3D%25D1%2586%25D1%2596%25D0%25BD%25D0%25B0%26gbv%3D2%26ndsp%3D20%26hl%3Duk%26sa%3DN%26start%3D40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878508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ЕГМЕНТАЦІЯ ТА ПОЗИЦІОНУВАННЯ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 РИНКУ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Демографічні ознак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54" name="Picture 4" descr="bd10560_"/>
          <p:cNvPicPr/>
          <p:nvPr/>
        </p:nvPicPr>
        <p:blipFill>
          <a:blip r:embed="rId1"/>
          <a:stretch/>
        </p:blipFill>
        <p:spPr>
          <a:xfrm>
            <a:off x="228600" y="1628640"/>
            <a:ext cx="3479760" cy="4086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90720" y="1699920"/>
            <a:ext cx="4560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Вік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Стать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Розмір сім'ї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Життєвий цикл сім'ї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Рівень доходу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Рід занять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Освіт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Соціальний клас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WordArt 5"/>
          <p:cNvSpPr txBox="1"/>
          <p:nvPr/>
        </p:nvSpPr>
        <p:spPr>
          <a:xfrm rot="20487000">
            <a:off x="49320" y="5070600"/>
            <a:ext cx="4659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йбільш популярні ознаки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5920" y="549360"/>
            <a:ext cx="7343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 Black"/>
              </a:rPr>
              <a:t>Психографічні</a:t>
            </a:r>
            <a:r>
              <a:rPr b="1" lang="ru-RU" sz="3200" spc="-1" strike="noStrike">
                <a:solidFill>
                  <a:srgbClr val="ffff99"/>
                </a:solidFill>
                <a:latin typeface="Arial Black"/>
              </a:rPr>
              <a:t> ознаки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WordArt 5"/>
          <p:cNvSpPr txBox="1"/>
          <p:nvPr/>
        </p:nvSpPr>
        <p:spPr>
          <a:xfrm>
            <a:off x="250920" y="5734080"/>
            <a:ext cx="5041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Тип особистості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468360" y="1484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озбивка ринку на різні групи за ознак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short"/>
          <p:cNvPicPr/>
          <p:nvPr/>
        </p:nvPicPr>
        <p:blipFill>
          <a:blip r:embed="rId1"/>
          <a:stretch/>
        </p:blipFill>
        <p:spPr>
          <a:xfrm>
            <a:off x="5724360" y="2781360"/>
            <a:ext cx="3048120" cy="3535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4"/>
          <p:cNvSpPr txBox="1"/>
          <p:nvPr/>
        </p:nvSpPr>
        <p:spPr>
          <a:xfrm rot="20697000">
            <a:off x="4392360" y="2153880"/>
            <a:ext cx="45831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7206000"/>
                </a:gradFill>
                <a:latin typeface="Times New Roman"/>
              </a:rPr>
              <a:t>Стиль житт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7206000"/>
              </a:gradFill>
              <a:latin typeface="Times New Roman"/>
              <a:ea typeface="Times New Roman"/>
            </a:endParaRPr>
          </a:p>
        </p:txBody>
      </p:sp>
      <p:pic>
        <p:nvPicPr>
          <p:cNvPr id="362" name="Picture 8" descr="images (8)"/>
          <p:cNvPicPr/>
          <p:nvPr/>
        </p:nvPicPr>
        <p:blipFill>
          <a:blip r:embed="rId2"/>
          <a:stretch/>
        </p:blipFill>
        <p:spPr>
          <a:xfrm>
            <a:off x="539640" y="2781360"/>
            <a:ext cx="38880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1049400" y="1295280"/>
            <a:ext cx="7361280" cy="455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5145120" y="2927520"/>
            <a:ext cx="28526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337000" y="4719600"/>
            <a:ext cx="2559240" cy="78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160960" y="2557440"/>
            <a:ext cx="20520" cy="19080"/>
          </a:xfrm>
          <a:prstGeom prst="rightArrow">
            <a:avLst>
              <a:gd name="adj1" fmla="val 50000"/>
              <a:gd name="adj2" fmla="val 53778"/>
            </a:avLst>
          </a:prstGeom>
          <a:solidFill>
            <a:srgbClr val="292934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528920" y="1768320"/>
            <a:ext cx="5167080" cy="986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178920" y="1700280"/>
            <a:ext cx="8695080" cy="2504520"/>
            <a:chOff x="178920" y="1700280"/>
            <a:chExt cx="8695080" cy="2504520"/>
          </a:xfrm>
        </p:grpSpPr>
        <p:grpSp>
          <p:nvGrpSpPr>
            <p:cNvPr id="369" name="Group 8"/>
            <p:cNvGrpSpPr/>
            <p:nvPr/>
          </p:nvGrpSpPr>
          <p:grpSpPr>
            <a:xfrm>
              <a:off x="178920" y="1798560"/>
              <a:ext cx="3600360" cy="2266200"/>
              <a:chOff x="178920" y="1798560"/>
              <a:chExt cx="3600360" cy="2266200"/>
            </a:xfrm>
          </p:grpSpPr>
          <p:sp>
            <p:nvSpPr>
              <p:cNvPr id="370" name="AutoShape 9"/>
              <p:cNvSpPr/>
              <p:nvPr/>
            </p:nvSpPr>
            <p:spPr>
              <a:xfrm rot="5400000">
                <a:off x="1780920" y="196200"/>
                <a:ext cx="394920" cy="35989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Галуз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0"/>
              <p:cNvSpPr/>
              <p:nvPr/>
            </p:nvSpPr>
            <p:spPr>
              <a:xfrm rot="5400000">
                <a:off x="1780920" y="843480"/>
                <a:ext cx="394920" cy="35989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Размір підприємств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1"/>
              <p:cNvSpPr/>
              <p:nvPr/>
            </p:nvSpPr>
            <p:spPr>
              <a:xfrm rot="5400000">
                <a:off x="1780920" y="1419840"/>
                <a:ext cx="394920" cy="35989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Місцезнаходже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2"/>
              <p:cNvSpPr/>
              <p:nvPr/>
            </p:nvSpPr>
            <p:spPr>
              <a:xfrm rot="5400000">
                <a:off x="1781640" y="2066760"/>
                <a:ext cx="394920" cy="360036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Власніс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3"/>
            <p:cNvGrpSpPr/>
            <p:nvPr/>
          </p:nvGrpSpPr>
          <p:grpSpPr>
            <a:xfrm>
              <a:off x="3833640" y="1834920"/>
              <a:ext cx="360360" cy="2229840"/>
              <a:chOff x="3833640" y="1834920"/>
              <a:chExt cx="360360" cy="2229840"/>
            </a:xfrm>
          </p:grpSpPr>
          <p:sp>
            <p:nvSpPr>
              <p:cNvPr id="375" name="AutoShape 14"/>
              <p:cNvSpPr/>
              <p:nvPr/>
            </p:nvSpPr>
            <p:spPr>
              <a:xfrm>
                <a:off x="3833640" y="302220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15"/>
              <p:cNvSpPr/>
              <p:nvPr/>
            </p:nvSpPr>
            <p:spPr>
              <a:xfrm>
                <a:off x="3833640" y="244584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6"/>
              <p:cNvSpPr/>
              <p:nvPr/>
            </p:nvSpPr>
            <p:spPr>
              <a:xfrm>
                <a:off x="3833640" y="366984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17"/>
              <p:cNvSpPr/>
              <p:nvPr/>
            </p:nvSpPr>
            <p:spPr>
              <a:xfrm>
                <a:off x="3833640" y="183492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4267080" y="1700280"/>
              <a:ext cx="4606920" cy="2504520"/>
              <a:chOff x="4267080" y="1700280"/>
              <a:chExt cx="4606920" cy="2504520"/>
            </a:xfrm>
          </p:grpSpPr>
          <p:sp>
            <p:nvSpPr>
              <p:cNvPr id="380" name="AutoShape 19"/>
              <p:cNvSpPr/>
              <p:nvPr/>
            </p:nvSpPr>
            <p:spPr>
              <a:xfrm rot="5400000">
                <a:off x="5332320" y="634680"/>
                <a:ext cx="2474640" cy="460512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410000" y="1725480"/>
                <a:ext cx="444636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ahoma"/>
                  </a:rPr>
                  <a:t>На </a:t>
                </a: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яких галузях з числа, що споживають наш продукт нам варто зробити акцент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ahoma"/>
                  </a:rPr>
                  <a:t>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4410000" y="2374560"/>
                <a:ext cx="439236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Компанії якого розміру повинні бути в області наших інтересів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4410000" y="3022560"/>
                <a:ext cx="43923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На яких географічних ринках нам варто працювати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4410000" y="3598560"/>
                <a:ext cx="446400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Державне /приватне підприємство/СП/ нові підприємства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647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Arial Black"/>
              </a:rPr>
              <a:t>Сегментування ринків підприємств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95280" y="1268280"/>
            <a:ext cx="50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мографічні змі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395280" y="4292640"/>
            <a:ext cx="50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пераційні змі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7"/>
          <p:cNvGrpSpPr/>
          <p:nvPr/>
        </p:nvGrpSpPr>
        <p:grpSpPr>
          <a:xfrm>
            <a:off x="196560" y="4700520"/>
            <a:ext cx="8696520" cy="1812960"/>
            <a:chOff x="196560" y="4700520"/>
            <a:chExt cx="8696520" cy="1812960"/>
          </a:xfrm>
        </p:grpSpPr>
        <p:sp>
          <p:nvSpPr>
            <p:cNvPr id="389" name="AutoShape 28"/>
            <p:cNvSpPr/>
            <p:nvPr/>
          </p:nvSpPr>
          <p:spPr>
            <a:xfrm rot="5400000">
              <a:off x="5682600" y="3303360"/>
              <a:ext cx="1812960" cy="4606920"/>
            </a:xfrm>
            <a:prstGeom prst="cube">
              <a:avLst>
                <a:gd name="adj" fmla="val 199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daf6f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29"/>
            <p:cNvGrpSpPr/>
            <p:nvPr/>
          </p:nvGrpSpPr>
          <p:grpSpPr>
            <a:xfrm>
              <a:off x="196560" y="4724280"/>
              <a:ext cx="8696520" cy="1789200"/>
              <a:chOff x="196560" y="4724280"/>
              <a:chExt cx="8696520" cy="1789200"/>
            </a:xfrm>
          </p:grpSpPr>
          <p:grpSp>
            <p:nvGrpSpPr>
              <p:cNvPr id="391" name="Group 30"/>
              <p:cNvGrpSpPr/>
              <p:nvPr/>
            </p:nvGrpSpPr>
            <p:grpSpPr>
              <a:xfrm>
                <a:off x="3851280" y="4724280"/>
                <a:ext cx="360360" cy="1582920"/>
                <a:chOff x="3851280" y="4724280"/>
                <a:chExt cx="360360" cy="1582920"/>
              </a:xfrm>
            </p:grpSpPr>
            <p:sp>
              <p:nvSpPr>
                <p:cNvPr id="392" name="AutoShape 31"/>
                <p:cNvSpPr/>
                <p:nvPr/>
              </p:nvSpPr>
              <p:spPr>
                <a:xfrm>
                  <a:off x="3851280" y="5911920"/>
                  <a:ext cx="360360" cy="395280"/>
                </a:xfrm>
                <a:prstGeom prst="rightArrow">
                  <a:avLst>
                    <a:gd name="adj1" fmla="val 50000"/>
                    <a:gd name="adj2" fmla="val 50005"/>
                  </a:avLst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32"/>
                <p:cNvSpPr/>
                <p:nvPr/>
              </p:nvSpPr>
              <p:spPr>
                <a:xfrm>
                  <a:off x="3851280" y="5335560"/>
                  <a:ext cx="360360" cy="395280"/>
                </a:xfrm>
                <a:prstGeom prst="rightArrow">
                  <a:avLst>
                    <a:gd name="adj1" fmla="val 50000"/>
                    <a:gd name="adj2" fmla="val 50005"/>
                  </a:avLst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33"/>
                <p:cNvSpPr/>
                <p:nvPr/>
              </p:nvSpPr>
              <p:spPr>
                <a:xfrm>
                  <a:off x="3851280" y="4724280"/>
                  <a:ext cx="360360" cy="395280"/>
                </a:xfrm>
                <a:prstGeom prst="rightArrow">
                  <a:avLst>
                    <a:gd name="adj1" fmla="val 50000"/>
                    <a:gd name="adj2" fmla="val 50005"/>
                  </a:avLst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34"/>
              <p:cNvGrpSpPr/>
              <p:nvPr/>
            </p:nvGrpSpPr>
            <p:grpSpPr>
              <a:xfrm>
                <a:off x="196560" y="4724280"/>
                <a:ext cx="3600360" cy="1621080"/>
                <a:chOff x="196560" y="4724280"/>
                <a:chExt cx="3600360" cy="1621080"/>
              </a:xfrm>
            </p:grpSpPr>
            <p:sp>
              <p:nvSpPr>
                <p:cNvPr id="396" name="AutoShape 35"/>
                <p:cNvSpPr/>
                <p:nvPr/>
              </p:nvSpPr>
              <p:spPr>
                <a:xfrm rot="5400000">
                  <a:off x="1798920" y="3121560"/>
                  <a:ext cx="395280" cy="3600360"/>
                </a:xfrm>
                <a:prstGeom prst="cube">
                  <a:avLst>
                    <a:gd name="adj" fmla="val 11666"/>
                  </a:avLst>
                </a:prstGeom>
                <a:gradFill rotWithShape="0">
                  <a:gsLst>
                    <a:gs pos="0">
                      <a:srgbClr val="fcfeb9"/>
                    </a:gs>
                    <a:gs pos="100000">
                      <a:srgbClr val="fdfece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1400" bIns="414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31960"/>
                      <a:tab algn="l" pos="1663560"/>
                      <a:tab algn="l" pos="2495520"/>
                      <a:tab algn="l" pos="3327480"/>
                      <a:tab algn="l" pos="4159080"/>
                      <a:tab algn="l" pos="4991040"/>
                      <a:tab algn="l" pos="5823000"/>
                      <a:tab algn="l" pos="6654960"/>
                      <a:tab algn="l" pos="7486560"/>
                      <a:tab algn="l" pos="8318520"/>
                      <a:tab algn="l" pos="9150480"/>
                      <a:tab algn="l" pos="9982080"/>
                      <a:tab algn="l" pos="1081404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uk-UA" sz="2400" spc="-1" strike="noStrike">
                      <a:solidFill>
                        <a:srgbClr val="000000"/>
                      </a:solidFill>
                      <a:latin typeface="Tahoma"/>
                    </a:rPr>
                    <a:t>Технологія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36"/>
                <p:cNvSpPr/>
                <p:nvPr/>
              </p:nvSpPr>
              <p:spPr>
                <a:xfrm rot="5400000">
                  <a:off x="1798920" y="3697920"/>
                  <a:ext cx="395280" cy="3600360"/>
                </a:xfrm>
                <a:prstGeom prst="cube">
                  <a:avLst>
                    <a:gd name="adj" fmla="val 11666"/>
                  </a:avLst>
                </a:prstGeom>
                <a:gradFill rotWithShape="0">
                  <a:gsLst>
                    <a:gs pos="0">
                      <a:srgbClr val="fcfeb9"/>
                    </a:gs>
                    <a:gs pos="100000">
                      <a:srgbClr val="fcfec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1400" bIns="414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31960"/>
                      <a:tab algn="l" pos="1663560"/>
                      <a:tab algn="l" pos="2495520"/>
                      <a:tab algn="l" pos="3327480"/>
                      <a:tab algn="l" pos="4159080"/>
                      <a:tab algn="l" pos="4991040"/>
                      <a:tab algn="l" pos="5823000"/>
                      <a:tab algn="l" pos="6654960"/>
                      <a:tab algn="l" pos="7486560"/>
                      <a:tab algn="l" pos="8318520"/>
                      <a:tab algn="l" pos="9150480"/>
                      <a:tab algn="l" pos="9982080"/>
                      <a:tab algn="l" pos="10814040"/>
                    </a:tabLst>
                  </a:pPr>
                  <a:r>
                    <a:rPr b="0" lang="uk-UA" sz="2400" spc="-1" strike="noStrike">
                      <a:solidFill>
                        <a:srgbClr val="000000"/>
                      </a:solidFill>
                      <a:latin typeface="Tahoma"/>
                    </a:rPr>
                    <a:t>Статус споживач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37"/>
                <p:cNvSpPr/>
                <p:nvPr/>
              </p:nvSpPr>
              <p:spPr>
                <a:xfrm rot="5400000">
                  <a:off x="1798920" y="4347360"/>
                  <a:ext cx="395280" cy="3600360"/>
                </a:xfrm>
                <a:prstGeom prst="cube">
                  <a:avLst>
                    <a:gd name="adj" fmla="val 11666"/>
                  </a:avLst>
                </a:prstGeom>
                <a:gradFill rotWithShape="0">
                  <a:gsLst>
                    <a:gs pos="0">
                      <a:srgbClr val="fcfeb9"/>
                    </a:gs>
                    <a:gs pos="100000">
                      <a:srgbClr val="fdfec7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1400" bIns="414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31960"/>
                      <a:tab algn="l" pos="1663560"/>
                      <a:tab algn="l" pos="2495520"/>
                      <a:tab algn="l" pos="3327480"/>
                      <a:tab algn="l" pos="4159080"/>
                      <a:tab algn="l" pos="4991040"/>
                      <a:tab algn="l" pos="5823000"/>
                      <a:tab algn="l" pos="6654960"/>
                      <a:tab algn="l" pos="7486560"/>
                      <a:tab algn="l" pos="8318520"/>
                      <a:tab algn="l" pos="9150480"/>
                      <a:tab algn="l" pos="9982080"/>
                      <a:tab algn="l" pos="10814040"/>
                    </a:tabLst>
                  </a:pPr>
                  <a:r>
                    <a:rPr b="0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Можливості підприєм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38"/>
              <p:cNvGrpSpPr/>
              <p:nvPr/>
            </p:nvGrpSpPr>
            <p:grpSpPr>
              <a:xfrm>
                <a:off x="4356000" y="4726080"/>
                <a:ext cx="4537080" cy="1787400"/>
                <a:chOff x="4356000" y="4726080"/>
                <a:chExt cx="4537080" cy="1787400"/>
              </a:xfrm>
            </p:grpSpPr>
            <p:sp>
              <p:nvSpPr>
                <p:cNvPr id="400" name="Rectangle 39"/>
                <p:cNvSpPr/>
                <p:nvPr/>
              </p:nvSpPr>
              <p:spPr>
                <a:xfrm>
                  <a:off x="4356000" y="4726080"/>
                  <a:ext cx="4518000" cy="35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Які технології необхідно використовувати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40"/>
                <p:cNvSpPr/>
                <p:nvPr/>
              </p:nvSpPr>
              <p:spPr>
                <a:xfrm>
                  <a:off x="4356000" y="5084640"/>
                  <a:ext cx="4464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75000"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фокусуватися на великих, середніх, дрібних споживачах, на наявних або на колишніх споживачах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41"/>
                <p:cNvSpPr/>
                <p:nvPr/>
              </p:nvSpPr>
              <p:spPr>
                <a:xfrm>
                  <a:off x="4356000" y="5805360"/>
                  <a:ext cx="453708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95000"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фокусуватися на споживачах, які потребують інтенсивного або мінімального сервісного обслуговування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1049400" y="1295280"/>
            <a:ext cx="7361280" cy="455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45120" y="2927520"/>
            <a:ext cx="28526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337000" y="4719600"/>
            <a:ext cx="2559240" cy="78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5160960" y="2557440"/>
            <a:ext cx="20520" cy="19080"/>
          </a:xfrm>
          <a:prstGeom prst="rightArrow">
            <a:avLst>
              <a:gd name="adj1" fmla="val 50000"/>
              <a:gd name="adj2" fmla="val 53778"/>
            </a:avLst>
          </a:prstGeom>
          <a:solidFill>
            <a:srgbClr val="292934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528920" y="1768320"/>
            <a:ext cx="5167080" cy="986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179280" y="2133720"/>
            <a:ext cx="8694720" cy="3483000"/>
            <a:chOff x="179280" y="2133720"/>
            <a:chExt cx="8694720" cy="3483000"/>
          </a:xfrm>
        </p:grpSpPr>
        <p:grpSp>
          <p:nvGrpSpPr>
            <p:cNvPr id="409" name="Group 8"/>
            <p:cNvGrpSpPr/>
            <p:nvPr/>
          </p:nvGrpSpPr>
          <p:grpSpPr>
            <a:xfrm>
              <a:off x="179280" y="2232360"/>
              <a:ext cx="3798720" cy="3168360"/>
              <a:chOff x="179280" y="2232360"/>
              <a:chExt cx="3798720" cy="3168360"/>
            </a:xfrm>
          </p:grpSpPr>
          <p:sp>
            <p:nvSpPr>
              <p:cNvPr id="410" name="AutoShape 9"/>
              <p:cNvSpPr/>
              <p:nvPr/>
            </p:nvSpPr>
            <p:spPr>
              <a:xfrm rot="5400000">
                <a:off x="1772280" y="639000"/>
                <a:ext cx="610920" cy="379728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Організаційні функці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10"/>
              <p:cNvSpPr/>
              <p:nvPr/>
            </p:nvSpPr>
            <p:spPr>
              <a:xfrm rot="5400000">
                <a:off x="1772280" y="1539000"/>
                <a:ext cx="611280" cy="379728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Політика з постачанн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11"/>
              <p:cNvSpPr/>
              <p:nvPr/>
            </p:nvSpPr>
            <p:spPr>
              <a:xfrm rot="5400000">
                <a:off x="1772280" y="2404080"/>
                <a:ext cx="611280" cy="379728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Існуючі </a:t>
                </a: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ношення</a:t>
                </a: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2"/>
              <p:cNvSpPr/>
              <p:nvPr/>
            </p:nvSpPr>
            <p:spPr>
              <a:xfrm rot="5400000">
                <a:off x="1773000" y="3195720"/>
                <a:ext cx="610920" cy="3798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Критерій здійснення покупк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3978000" y="2268720"/>
              <a:ext cx="360360" cy="2987640"/>
              <a:chOff x="3978000" y="2268720"/>
              <a:chExt cx="360360" cy="2987640"/>
            </a:xfrm>
          </p:grpSpPr>
          <p:sp>
            <p:nvSpPr>
              <p:cNvPr id="415" name="AutoShape 14"/>
              <p:cNvSpPr/>
              <p:nvPr/>
            </p:nvSpPr>
            <p:spPr>
              <a:xfrm>
                <a:off x="3978000" y="4069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15"/>
              <p:cNvSpPr/>
              <p:nvPr/>
            </p:nvSpPr>
            <p:spPr>
              <a:xfrm>
                <a:off x="3978000" y="320544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16"/>
              <p:cNvSpPr/>
              <p:nvPr/>
            </p:nvSpPr>
            <p:spPr>
              <a:xfrm>
                <a:off x="3978000" y="4861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AutoShape 17"/>
              <p:cNvSpPr/>
              <p:nvPr/>
            </p:nvSpPr>
            <p:spPr>
              <a:xfrm>
                <a:off x="3978000" y="226872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8"/>
            <p:cNvGrpSpPr/>
            <p:nvPr/>
          </p:nvGrpSpPr>
          <p:grpSpPr>
            <a:xfrm>
              <a:off x="4338360" y="2133720"/>
              <a:ext cx="4535640" cy="3483000"/>
              <a:chOff x="4338360" y="2133720"/>
              <a:chExt cx="4535640" cy="3483000"/>
            </a:xfrm>
          </p:grpSpPr>
          <p:sp>
            <p:nvSpPr>
              <p:cNvPr id="420" name="AutoShape 19"/>
              <p:cNvSpPr/>
              <p:nvPr/>
            </p:nvSpPr>
            <p:spPr>
              <a:xfrm rot="5400000">
                <a:off x="4863600" y="1608120"/>
                <a:ext cx="3483000" cy="453384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20"/>
              <p:cNvGrpSpPr/>
              <p:nvPr/>
            </p:nvGrpSpPr>
            <p:grpSpPr>
              <a:xfrm>
                <a:off x="4479840" y="2159280"/>
                <a:ext cx="4394160" cy="3313080"/>
                <a:chOff x="4479840" y="2159280"/>
                <a:chExt cx="4394160" cy="3313080"/>
              </a:xfrm>
            </p:grpSpPr>
            <p:sp>
              <p:nvSpPr>
                <p:cNvPr id="422" name="Rectangle 21"/>
                <p:cNvSpPr/>
                <p:nvPr/>
              </p:nvSpPr>
              <p:spPr>
                <a:xfrm>
                  <a:off x="4479840" y="2159280"/>
                  <a:ext cx="437652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повинні ми фокусуватися на постачанні високоцентралізованих або децентралізованих організацій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22"/>
                <p:cNvSpPr/>
                <p:nvPr/>
              </p:nvSpPr>
              <p:spPr>
                <a:xfrm>
                  <a:off x="4479840" y="3024360"/>
                  <a:ext cx="439416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90000"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робити акцент на підприємст-вах, що віддають перевагу лізингу? Сервісні контракти? Участь у тендерах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23"/>
                <p:cNvSpPr/>
                <p:nvPr/>
              </p:nvSpPr>
              <p:spPr>
                <a:xfrm>
                  <a:off x="4479840" y="3816720"/>
                  <a:ext cx="4394160" cy="10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продавати компаніям, з якими у нас налагоджені зв'язки, або просто працювати з найбільш привабливими клієнтами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24"/>
                <p:cNvSpPr/>
                <p:nvPr/>
              </p:nvSpPr>
              <p:spPr>
                <a:xfrm>
                  <a:off x="4479840" y="4865760"/>
                  <a:ext cx="439416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89000"/>
                </a:bodyPr>
                <a:p>
                  <a:pPr>
                    <a:lnSpc>
                      <a:spcPct val="90000"/>
                    </a:lnSpc>
                    <a:spcBef>
                      <a:spcPts val="1001"/>
                    </a:spcBef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фокусувати зусилля на компаніях, які зацікавлені в якості? Сервісі? Ціні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913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292929"/>
                </a:solidFill>
                <a:latin typeface="Arial Black"/>
              </a:rPr>
              <a:t>Сегментування ринків підприємств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7" name="Rectangle 26"/>
          <p:cNvSpPr/>
          <p:nvPr/>
        </p:nvSpPr>
        <p:spPr>
          <a:xfrm>
            <a:off x="771480" y="1309680"/>
            <a:ext cx="741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ідходи до постачання і здійснення пок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049400" y="1295280"/>
            <a:ext cx="7361280" cy="455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5145120" y="2927520"/>
            <a:ext cx="28526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337000" y="4719600"/>
            <a:ext cx="2559240" cy="78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5160960" y="2557440"/>
            <a:ext cx="20520" cy="19080"/>
          </a:xfrm>
          <a:prstGeom prst="rightArrow">
            <a:avLst>
              <a:gd name="adj1" fmla="val 50000"/>
              <a:gd name="adj2" fmla="val 53778"/>
            </a:avLst>
          </a:prstGeom>
          <a:solidFill>
            <a:srgbClr val="292934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1528920" y="1768320"/>
            <a:ext cx="5167080" cy="986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000" y="285840"/>
            <a:ext cx="75913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d2533c"/>
                </a:solidFill>
                <a:latin typeface="Tahoma"/>
              </a:rPr>
              <a:t>Сегментування ринків підприємств</a:t>
            </a:r>
            <a:endParaRPr b="0" lang="en-US" sz="33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395280" y="1197000"/>
            <a:ext cx="50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итуаційні фак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179280" y="4005360"/>
            <a:ext cx="415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собисті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179280" y="1628640"/>
            <a:ext cx="8712000" cy="2376360"/>
            <a:chOff x="179280" y="1628640"/>
            <a:chExt cx="8712000" cy="2376360"/>
          </a:xfrm>
        </p:grpSpPr>
        <p:grpSp>
          <p:nvGrpSpPr>
            <p:cNvPr id="437" name="Group 11"/>
            <p:cNvGrpSpPr/>
            <p:nvPr/>
          </p:nvGrpSpPr>
          <p:grpSpPr>
            <a:xfrm>
              <a:off x="3833640" y="1846080"/>
              <a:ext cx="360360" cy="1943280"/>
              <a:chOff x="3833640" y="1846080"/>
              <a:chExt cx="360360" cy="1943280"/>
            </a:xfrm>
          </p:grpSpPr>
          <p:sp>
            <p:nvSpPr>
              <p:cNvPr id="438" name="AutoShape 12"/>
              <p:cNvSpPr/>
              <p:nvPr/>
            </p:nvSpPr>
            <p:spPr>
              <a:xfrm>
                <a:off x="3833640" y="3394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13"/>
              <p:cNvSpPr/>
              <p:nvPr/>
            </p:nvSpPr>
            <p:spPr>
              <a:xfrm>
                <a:off x="3833640" y="260172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14"/>
              <p:cNvSpPr/>
              <p:nvPr/>
            </p:nvSpPr>
            <p:spPr>
              <a:xfrm>
                <a:off x="3833640" y="1846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5"/>
            <p:cNvGrpSpPr/>
            <p:nvPr/>
          </p:nvGrpSpPr>
          <p:grpSpPr>
            <a:xfrm>
              <a:off x="179280" y="1700280"/>
              <a:ext cx="3600720" cy="2195280"/>
              <a:chOff x="179280" y="1700280"/>
              <a:chExt cx="3600720" cy="2195280"/>
            </a:xfrm>
          </p:grpSpPr>
          <p:sp>
            <p:nvSpPr>
              <p:cNvPr id="442" name="AutoShape 16"/>
              <p:cNvSpPr/>
              <p:nvPr/>
            </p:nvSpPr>
            <p:spPr>
              <a:xfrm rot="5400000">
                <a:off x="1674000" y="205200"/>
                <a:ext cx="61092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Швидкість  доставк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7"/>
              <p:cNvSpPr/>
              <p:nvPr/>
            </p:nvSpPr>
            <p:spPr>
              <a:xfrm rot="5400000">
                <a:off x="1654920" y="1016280"/>
                <a:ext cx="64944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ctr" anchorCtr="1" vert="eaVert" rot="10800000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Спеціальні</a:t>
                </a:r>
                <a:r>
                  <a:rPr b="0" lang="ru-RU" sz="2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властивості</a:t>
                </a:r>
                <a:r>
                  <a:rPr b="0" lang="ru-RU" sz="2200" spc="-1" strike="noStrike">
                    <a:solidFill>
                      <a:srgbClr val="000000"/>
                    </a:solidFill>
                    <a:latin typeface="Tahoma"/>
                  </a:rPr>
                  <a:t> товар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8"/>
              <p:cNvSpPr/>
              <p:nvPr/>
            </p:nvSpPr>
            <p:spPr>
              <a:xfrm rot="5400000">
                <a:off x="1674000" y="1789200"/>
                <a:ext cx="61128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Розмір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заказ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9"/>
            <p:cNvGrpSpPr/>
            <p:nvPr/>
          </p:nvGrpSpPr>
          <p:grpSpPr>
            <a:xfrm>
              <a:off x="4284360" y="1628640"/>
              <a:ext cx="4606920" cy="2376360"/>
              <a:chOff x="4284360" y="1628640"/>
              <a:chExt cx="4606920" cy="2376360"/>
            </a:xfrm>
          </p:grpSpPr>
          <p:sp>
            <p:nvSpPr>
              <p:cNvPr id="446" name="AutoShape 20"/>
              <p:cNvSpPr/>
              <p:nvPr/>
            </p:nvSpPr>
            <p:spPr>
              <a:xfrm rot="5400000">
                <a:off x="5399640" y="513000"/>
                <a:ext cx="2376360" cy="460692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1"/>
              <p:cNvSpPr/>
              <p:nvPr/>
            </p:nvSpPr>
            <p:spPr>
              <a:xfrm>
                <a:off x="4338720" y="1701720"/>
                <a:ext cx="4518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90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фокусувати зусилля на компаніях, що потребують швидкої доставки товару / послузі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2"/>
              <p:cNvSpPr/>
              <p:nvPr/>
            </p:nvSpPr>
            <p:spPr>
              <a:xfrm>
                <a:off x="4338720" y="2566800"/>
                <a:ext cx="4464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86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нам робити акцент на специфічних характеристиках нашого продукту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4338720" y="3359160"/>
                <a:ext cx="4537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"/>
                  </a:rPr>
                  <a:t>Чи варто нам фокусувати увагу на великих або невеликих замовлення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24"/>
          <p:cNvGrpSpPr/>
          <p:nvPr/>
        </p:nvGrpSpPr>
        <p:grpSpPr>
          <a:xfrm>
            <a:off x="179280" y="4365720"/>
            <a:ext cx="8712000" cy="2378160"/>
            <a:chOff x="179280" y="4365720"/>
            <a:chExt cx="8712000" cy="2378160"/>
          </a:xfrm>
        </p:grpSpPr>
        <p:grpSp>
          <p:nvGrpSpPr>
            <p:cNvPr id="451" name="Group 25"/>
            <p:cNvGrpSpPr/>
            <p:nvPr/>
          </p:nvGrpSpPr>
          <p:grpSpPr>
            <a:xfrm>
              <a:off x="3833640" y="4583160"/>
              <a:ext cx="360360" cy="1943280"/>
              <a:chOff x="3833640" y="4583160"/>
              <a:chExt cx="360360" cy="1943280"/>
            </a:xfrm>
          </p:grpSpPr>
          <p:sp>
            <p:nvSpPr>
              <p:cNvPr id="452" name="AutoShape 26"/>
              <p:cNvSpPr/>
              <p:nvPr/>
            </p:nvSpPr>
            <p:spPr>
              <a:xfrm>
                <a:off x="3833640" y="613116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27"/>
              <p:cNvSpPr/>
              <p:nvPr/>
            </p:nvSpPr>
            <p:spPr>
              <a:xfrm>
                <a:off x="3833640" y="533880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28"/>
              <p:cNvSpPr/>
              <p:nvPr/>
            </p:nvSpPr>
            <p:spPr>
              <a:xfrm>
                <a:off x="3833640" y="458316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29"/>
            <p:cNvGrpSpPr/>
            <p:nvPr/>
          </p:nvGrpSpPr>
          <p:grpSpPr>
            <a:xfrm>
              <a:off x="179280" y="4437360"/>
              <a:ext cx="3600720" cy="2195280"/>
              <a:chOff x="179280" y="4437360"/>
              <a:chExt cx="3600720" cy="2195280"/>
            </a:xfrm>
          </p:grpSpPr>
          <p:sp>
            <p:nvSpPr>
              <p:cNvPr id="456" name="AutoShape 30"/>
              <p:cNvSpPr/>
              <p:nvPr/>
            </p:nvSpPr>
            <p:spPr>
              <a:xfrm rot="5400000">
                <a:off x="1674000" y="2942280"/>
                <a:ext cx="61092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Подібність продавця і покупця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31"/>
              <p:cNvSpPr/>
              <p:nvPr/>
            </p:nvSpPr>
            <p:spPr>
              <a:xfrm rot="5400000">
                <a:off x="1654920" y="3753720"/>
                <a:ext cx="64944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Ставлення до ризик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32"/>
              <p:cNvSpPr/>
              <p:nvPr/>
            </p:nvSpPr>
            <p:spPr>
              <a:xfrm rot="5400000">
                <a:off x="1674000" y="4526640"/>
                <a:ext cx="61128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Лояльніс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3"/>
            <p:cNvGrpSpPr/>
            <p:nvPr/>
          </p:nvGrpSpPr>
          <p:grpSpPr>
            <a:xfrm>
              <a:off x="4284360" y="4365720"/>
              <a:ext cx="4606920" cy="2378160"/>
              <a:chOff x="4284360" y="4365720"/>
              <a:chExt cx="4606920" cy="2378160"/>
            </a:xfrm>
          </p:grpSpPr>
          <p:sp>
            <p:nvSpPr>
              <p:cNvPr id="460" name="AutoShape 34"/>
              <p:cNvSpPr/>
              <p:nvPr/>
            </p:nvSpPr>
            <p:spPr>
              <a:xfrm rot="5400000">
                <a:off x="5399640" y="3250080"/>
                <a:ext cx="2376360" cy="460692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35"/>
              <p:cNvSpPr/>
              <p:nvPr/>
            </p:nvSpPr>
            <p:spPr>
              <a:xfrm>
                <a:off x="4338720" y="4438800"/>
                <a:ext cx="4518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85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фокусуватися на компаніях, чиє сприйняття й система цінностей ідентичні нашим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36"/>
              <p:cNvSpPr/>
              <p:nvPr/>
            </p:nvSpPr>
            <p:spPr>
              <a:xfrm>
                <a:off x="4338720" y="5303880"/>
                <a:ext cx="4464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98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нам фокусуватися на готових йти на ризик або консервативних споживача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37"/>
              <p:cNvSpPr/>
              <p:nvPr/>
            </p:nvSpPr>
            <p:spPr>
              <a:xfrm>
                <a:off x="4338720" y="6096240"/>
                <a:ext cx="453708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"/>
                  </a:rPr>
                  <a:t>Чи варто нам фокусуватися лише на споживачах, що відносяться до нас лояльно 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2"/>
          <p:cNvSpPr/>
          <p:nvPr/>
        </p:nvSpPr>
        <p:spPr>
          <a:xfrm>
            <a:off x="155520" y="328464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сегментувати ринок взуття можна за такими о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За демографічним принцип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стать: чоловіче, жіно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ік: дитяче, молодіжне, для середнього та старшого в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За стилями житт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портивне, ділове, святкове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За соціально-економічними характеристиками споживачів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широких верств населення, престижне модельне взут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179280" y="1343160"/>
            <a:ext cx="876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ПП “Чобіток” значно скоротилися обсяги збуту взуття. Підприємство не має чіткої програми маркетингової діяльності і не визначилося з вибором цільового сегмента. Потрібно провести сегментування ринку взуття за найпоширенішими о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558720" y="620640"/>
            <a:ext cx="844560" cy="57636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1357560" y="58572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рикл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1262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зиціонування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4360" y="1483920"/>
            <a:ext cx="7920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292934"/>
                </a:solidFill>
                <a:uFillTx/>
                <a:latin typeface="Arial"/>
              </a:rPr>
              <a:t>Позиція товару</a:t>
            </a:r>
            <a:r>
              <a:rPr b="1" lang="uk-UA" sz="2600" spc="-1" strike="noStrike">
                <a:solidFill>
                  <a:srgbClr val="292934"/>
                </a:solidFill>
                <a:latin typeface="Arial"/>
              </a:rPr>
              <a:t> - місце, займане даним товаром або маркою у свідомості споживачів порівняно з аналогічними конкуруючими товарами</a:t>
            </a:r>
            <a:r>
              <a:rPr b="0" lang="uk-UA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292934"/>
                </a:solidFill>
                <a:uFillTx/>
                <a:latin typeface="Arial"/>
              </a:rPr>
              <a:t>Позиціонування</a:t>
            </a:r>
            <a:r>
              <a:rPr b="1" lang="uk-UA" sz="2600" spc="-1" strike="noStrike">
                <a:solidFill>
                  <a:srgbClr val="292934"/>
                </a:solidFill>
                <a:latin typeface="Arial"/>
              </a:rPr>
              <a:t> - дії з розробки пропозиції компанії, її іміджу, спрямовані на те, щоб зайняти відособлене сприятливе положення у свідомості цільової групи споживачів</a:t>
            </a:r>
            <a:r>
              <a:rPr b="0" lang="uk-UA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70" name="Picture 4" descr="images (9)"/>
          <p:cNvPicPr/>
          <p:nvPr/>
        </p:nvPicPr>
        <p:blipFill>
          <a:blip r:embed="rId1"/>
          <a:stretch/>
        </p:blipFill>
        <p:spPr>
          <a:xfrm>
            <a:off x="4788000" y="4941720"/>
            <a:ext cx="41148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ph01606j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1197000"/>
            <a:ext cx="8686800" cy="53560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Arial Black"/>
              </a:rPr>
              <a:t>Позиціонування товару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250920" y="1557360"/>
            <a:ext cx="3581280" cy="1752480"/>
            <a:chOff x="250920" y="1557360"/>
            <a:chExt cx="3581280" cy="1752480"/>
          </a:xfrm>
        </p:grpSpPr>
        <p:sp>
          <p:nvSpPr>
            <p:cNvPr id="474" name="AutoShape 5"/>
            <p:cNvSpPr/>
            <p:nvPr/>
          </p:nvSpPr>
          <p:spPr>
            <a:xfrm>
              <a:off x="361800" y="1557360"/>
              <a:ext cx="3353040" cy="1752480"/>
            </a:xfrm>
            <a:prstGeom prst="downArrowCallout">
              <a:avLst>
                <a:gd name="adj1" fmla="val 47837"/>
                <a:gd name="adj2" fmla="val 47833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"/>
            <p:cNvSpPr/>
            <p:nvPr/>
          </p:nvSpPr>
          <p:spPr>
            <a:xfrm>
              <a:off x="250920" y="1557360"/>
              <a:ext cx="35812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ff0000"/>
                  </a:solidFill>
                  <a:latin typeface="Tahoma"/>
                </a:rPr>
                <a:t>Шаг 1.</a:t>
              </a:r>
              <a:r>
                <a:rPr b="1" lang="uk-UA" sz="2100" spc="-1" strike="noStrike">
                  <a:solidFill>
                    <a:srgbClr val="000000"/>
                  </a:solidFill>
                  <a:latin typeface="Tahoma"/>
                </a:rPr>
                <a:t> Визначити можливі конкурентні перева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7"/>
          <p:cNvGrpSpPr/>
          <p:nvPr/>
        </p:nvGrpSpPr>
        <p:grpSpPr>
          <a:xfrm>
            <a:off x="2771640" y="3141720"/>
            <a:ext cx="3886200" cy="1752480"/>
            <a:chOff x="2771640" y="3141720"/>
            <a:chExt cx="3886200" cy="1752480"/>
          </a:xfrm>
        </p:grpSpPr>
        <p:sp>
          <p:nvSpPr>
            <p:cNvPr id="477" name="AutoShape 8"/>
            <p:cNvSpPr/>
            <p:nvPr/>
          </p:nvSpPr>
          <p:spPr>
            <a:xfrm>
              <a:off x="2771640" y="3141720"/>
              <a:ext cx="3810240" cy="1752480"/>
            </a:xfrm>
            <a:prstGeom prst="downArrowCallout">
              <a:avLst>
                <a:gd name="adj1" fmla="val 54360"/>
                <a:gd name="adj2" fmla="val 54355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9"/>
            <p:cNvSpPr/>
            <p:nvPr/>
          </p:nvSpPr>
          <p:spPr>
            <a:xfrm>
              <a:off x="2771640" y="3141720"/>
              <a:ext cx="388620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ff0000"/>
                  </a:solidFill>
                  <a:latin typeface="Tahoma"/>
                </a:rPr>
                <a:t>Шаг 2.</a:t>
              </a:r>
              <a:r>
                <a:rPr b="1" lang="uk-UA" sz="2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Вибрати перспективні конкурентні перева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0"/>
          <p:cNvGrpSpPr/>
          <p:nvPr/>
        </p:nvGrpSpPr>
        <p:grpSpPr>
          <a:xfrm>
            <a:off x="5562720" y="4724280"/>
            <a:ext cx="3352680" cy="1752840"/>
            <a:chOff x="5562720" y="4724280"/>
            <a:chExt cx="3352680" cy="1752840"/>
          </a:xfrm>
        </p:grpSpPr>
        <p:sp>
          <p:nvSpPr>
            <p:cNvPr id="480" name="AutoShape 11"/>
            <p:cNvSpPr/>
            <p:nvPr/>
          </p:nvSpPr>
          <p:spPr>
            <a:xfrm>
              <a:off x="5638680" y="4724280"/>
              <a:ext cx="3276720" cy="1752840"/>
            </a:xfrm>
            <a:prstGeom prst="downArrowCallout">
              <a:avLst>
                <a:gd name="adj1" fmla="val 46739"/>
                <a:gd name="adj2" fmla="val 46734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562720" y="4724280"/>
              <a:ext cx="3352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ff0000"/>
                  </a:solidFill>
                  <a:latin typeface="Tahoma"/>
                </a:rPr>
                <a:t>Шаг 3.</a:t>
              </a:r>
              <a:r>
                <a:rPr b="1" lang="uk-UA" sz="2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Довести і представити обрану позиці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6634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Диференціація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50920" y="1771560"/>
            <a:ext cx="86421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292934"/>
                </a:solidFill>
                <a:uFillTx/>
                <a:latin typeface="Arial Black"/>
              </a:rPr>
              <a:t>Диференціація</a:t>
            </a:r>
            <a:r>
              <a:rPr b="0" lang="uk-UA" sz="2600" spc="-1" strike="noStrike">
                <a:solidFill>
                  <a:srgbClr val="292934"/>
                </a:solidFill>
                <a:latin typeface="Arial"/>
              </a:rPr>
              <a:t> – запровадження у виробництво (продаж) нових номенклатурних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груп (продуктових ліній</a:t>
            </a:r>
            <a:r>
              <a:rPr b="0" lang="uk-UA" sz="26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292934"/>
                </a:solidFill>
                <a:uFillTx/>
                <a:latin typeface="Arial Black"/>
              </a:rPr>
              <a:t>Конкурентна перевага</a:t>
            </a:r>
            <a:r>
              <a:rPr b="0" lang="uk-UA" sz="26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uk-UA" sz="2600" spc="-1" strike="noStrike">
                <a:solidFill>
                  <a:srgbClr val="292934"/>
                </a:solidFill>
                <a:latin typeface="Arial"/>
              </a:rPr>
              <a:t>– перевага, що отримується компанією над конкурентами, за допомогою пропозиції споживачам більшої цінності або за рахунок більш низьких цін, або за рахунок великих вигод, що компенсують більш високі ціни на товари та послуги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-457200" y="6443640"/>
            <a:ext cx="2359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562120" y="6443640"/>
            <a:ext cx="358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d8f67"/>
                </a:solidFill>
                <a:latin typeface="Arial Black"/>
              </a:rPr>
              <a:t>Конкурентні переваг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25092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Диференціація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за това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фективність викорис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вговіч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ій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ь та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монтопридат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загруженное"/>
          <p:cNvPicPr/>
          <p:nvPr/>
        </p:nvPicPr>
        <p:blipFill>
          <a:blip r:embed="rId1"/>
          <a:stretch/>
        </p:blipFill>
        <p:spPr>
          <a:xfrm>
            <a:off x="5364000" y="3716280"/>
            <a:ext cx="3313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	</a:t>
            </a:r>
            <a:r>
              <a:rPr b="0" i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Потенціал ринку – </a:t>
            </a:r>
            <a:r>
              <a:rPr b="0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це прогнозована сукупність виробничих та споживчих сил, які обумовлюють попит і пропозицію</a:t>
            </a: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      </a:t>
            </a:r>
            <a:r>
              <a:rPr b="0" lang="uk-UA" sz="28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Складовими елементами є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-36360" y="2503440"/>
            <a:ext cx="7850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2929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робнич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тенціал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визначає можливість виробити і поставити на ринок певний обсяг това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2929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оживчий потенціал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-  можливість спожити певну кількість това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ничий потенціал фірми визначається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сукупністю його товар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споживчий –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сегментом ринк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на який фірма орієнту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61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22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-457200" y="6443640"/>
            <a:ext cx="2359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562120" y="6443640"/>
            <a:ext cx="358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280" y="1224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d8f67"/>
                </a:solidFill>
                <a:latin typeface="Arial Black"/>
              </a:rPr>
              <a:t>Конкурентні переваг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5092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Диференціаці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послугам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ота замо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но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монтні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вчання спожи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ультації спожи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даткові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loading-workmans"/>
          <p:cNvPicPr/>
          <p:nvPr/>
        </p:nvPicPr>
        <p:blipFill>
          <a:blip r:embed="rId1"/>
          <a:stretch/>
        </p:blipFill>
        <p:spPr>
          <a:xfrm>
            <a:off x="5292720" y="2511360"/>
            <a:ext cx="354816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-457200" y="6443640"/>
            <a:ext cx="2359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2562120" y="6443640"/>
            <a:ext cx="358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d8f67"/>
                </a:solidFill>
                <a:latin typeface="Arial Black"/>
              </a:rPr>
              <a:t>Конкурентні переваг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250920" y="170172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ференціація по персон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етентність, чемність, здатність вселяти довіру, надійність, чуйність, уміння спілкуват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ференціація за каналом розподі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ференціація за імідж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загруженное (1)"/>
          <p:cNvPicPr/>
          <p:nvPr/>
        </p:nvPicPr>
        <p:blipFill>
          <a:blip r:embed="rId1"/>
          <a:stretch/>
        </p:blipFill>
        <p:spPr>
          <a:xfrm>
            <a:off x="2987640" y="112536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1832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Кон’юнктура ринку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200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292934"/>
                </a:solidFill>
                <a:latin typeface="Times New Roman"/>
              </a:rPr>
              <a:t>	</a:t>
            </a:r>
            <a:r>
              <a:rPr b="1" i="1" lang="uk-UA" sz="2800" spc="-1" strike="noStrike">
                <a:solidFill>
                  <a:srgbClr val="292934"/>
                </a:solidFill>
                <a:latin typeface="Times New Roman"/>
              </a:rPr>
              <a:t>Кон'юнктура</a:t>
            </a:r>
            <a:r>
              <a:rPr b="1" i="1" lang="ru-RU" sz="2800" spc="-1" strike="noStrike">
                <a:solidFill>
                  <a:srgbClr val="292934"/>
                </a:solidFill>
                <a:latin typeface="Times New Roman"/>
              </a:rPr>
              <a:t> ринку - </a:t>
            </a:r>
            <a:r>
              <a:rPr b="1" i="1" lang="uk-UA" sz="2800" spc="-1" strike="noStrike">
                <a:solidFill>
                  <a:srgbClr val="292934"/>
                </a:solidFill>
                <a:latin typeface="Times New Roman"/>
              </a:rPr>
              <a:t>це економічна ситуація, що склалася на</a:t>
            </a:r>
            <a:r>
              <a:rPr b="1" i="1" lang="ru-RU" sz="2800" spc="-1" strike="noStrike">
                <a:solidFill>
                  <a:srgbClr val="292934"/>
                </a:solidFill>
                <a:latin typeface="Times New Roman"/>
              </a:rPr>
              <a:t> ринку </a:t>
            </a:r>
            <a:r>
              <a:rPr b="1" i="1" lang="uk-UA" sz="2800" spc="-1" strike="noStrike">
                <a:solidFill>
                  <a:srgbClr val="292934"/>
                </a:solidFill>
                <a:latin typeface="Times New Roman"/>
              </a:rPr>
              <a:t>стосовно попиту, пропозиції, рівня цін, товарних запасів, становища основних фірм - конкурентів</a:t>
            </a:r>
            <a:r>
              <a:rPr b="1" i="1" lang="ru-RU" sz="2800" spc="-1" strike="noStrike">
                <a:solidFill>
                  <a:srgbClr val="29293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292934"/>
                </a:solidFill>
                <a:uFillTx/>
                <a:latin typeface="Times New Roman"/>
              </a:rPr>
              <a:t>Для оцінки ринкової кон'юнктури застосовують ринкові індикатори</a:t>
            </a:r>
            <a:r>
              <a:rPr b="1" lang="uk-UA" sz="2800" spc="-1" strike="noStrike">
                <a:solidFill>
                  <a:srgbClr val="2929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92934"/>
                </a:solidFill>
                <a:latin typeface="Times New Roman"/>
              </a:rPr>
              <a:t>Ціни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92934"/>
                </a:solidFill>
                <a:latin typeface="Times New Roman"/>
              </a:rPr>
              <a:t>Продуктові запаси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92934"/>
                </a:solidFill>
                <a:latin typeface="Times New Roman"/>
              </a:rPr>
              <a:t>Показники ділової активності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15" name="Picture 4" descr="4ab38017bb4a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4149720"/>
            <a:ext cx="1327320" cy="187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tat7201"/>
          <p:cNvPicPr/>
          <p:nvPr/>
        </p:nvPicPr>
        <p:blipFill>
          <a:blip r:embed="rId3"/>
          <a:stretch/>
        </p:blipFill>
        <p:spPr>
          <a:xfrm>
            <a:off x="7164360" y="357336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_picture_file_path_5844"/>
          <p:cNvPicPr/>
          <p:nvPr/>
        </p:nvPicPr>
        <p:blipFill>
          <a:blip r:embed="rId4"/>
          <a:stretch/>
        </p:blipFill>
        <p:spPr>
          <a:xfrm>
            <a:off x="7093080" y="501336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24000" y="476280"/>
            <a:ext cx="8496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2533c"/>
                </a:solidFill>
                <a:latin typeface="Times New Roman"/>
              </a:rPr>
              <a:t>Види кон'юнктури</a:t>
            </a:r>
            <a:r>
              <a:rPr b="1" lang="ru-RU" sz="3200" spc="-1" strike="noStrike">
                <a:solidFill>
                  <a:srgbClr val="d2533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ростаюч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постерігається в умовах продуктового дефіци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характеризується відносною стійкістю високих цін і найбільшою активністю споживачів та постачальник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адн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постерігається в умовах затоварювання ринк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изьк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характеризується стабільно низькими цінами і пасивністю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уб′єктів р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186920" y="404280"/>
            <a:ext cx="7705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Вивчення і прогнозування кон'юнктури ринку здійснюють у такій послідовності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Загальне оцінювання особливостей даного товарного ринку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Вивчення динаміки виробництва товару,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використання наявних виробничих потужностей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попиту і  пропозиції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товару і його збуту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динаміки цін і факторів, які впливають на їх зміну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Вивчення конкурентів, аналіз їх сильних і слабких сторін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експортно-імпортних відносин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4680000" y="119700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341280" y="1844640"/>
            <a:ext cx="504720" cy="4248360"/>
          </a:xfrm>
          <a:prstGeom prst="downArrow">
            <a:avLst>
              <a:gd name="adj1" fmla="val 50000"/>
              <a:gd name="adj2" fmla="val 210432"/>
            </a:avLst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Етапи сегментування ринку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395280" y="2917800"/>
            <a:ext cx="8064360" cy="3751200"/>
            <a:chOff x="395280" y="2917800"/>
            <a:chExt cx="8064360" cy="3751200"/>
          </a:xfrm>
        </p:grpSpPr>
        <p:sp>
          <p:nvSpPr>
            <p:cNvPr id="324" name="Text Box 4"/>
            <p:cNvSpPr/>
            <p:nvPr/>
          </p:nvSpPr>
          <p:spPr>
            <a:xfrm>
              <a:off x="395280" y="2917800"/>
              <a:ext cx="5614920" cy="12142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marL="250560" indent="-2505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егментування рин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50560" indent="-250560">
                <a:buClr>
                  <a:srgbClr val="292934"/>
                </a:buClr>
                <a:buSzPct val="8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изначення принципів сегментування і сегментування рин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50560" indent="-250560">
                <a:buClr>
                  <a:srgbClr val="292934"/>
                </a:buClr>
                <a:buSzPct val="8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кладання профілю кожного сегм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1187280" y="4298760"/>
              <a:ext cx="5902560" cy="9954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8be8ff"/>
                </a:gs>
              </a:gsLst>
              <a:lin ang="5400000"/>
            </a:gradFill>
            <a:ln w="1260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61360" indent="-261360" algn="ctr"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Вибі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цільових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сегменті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рин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1360" indent="-261360"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цінка привабливості сегм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1360" indent="-261360"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ибі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одного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б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декілько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цільових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егм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6"/>
            <p:cNvSpPr/>
            <p:nvPr/>
          </p:nvSpPr>
          <p:spPr>
            <a:xfrm>
              <a:off x="1979640" y="5438520"/>
              <a:ext cx="6480000" cy="123048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5ddfff"/>
                </a:gs>
              </a:gsLst>
              <a:lin ang="5400000"/>
            </a:gradFill>
            <a:ln w="1260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253080" indent="-25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зиціонування товару на рин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53080" indent="-25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.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озробка можливих концепцій позиціонування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53080" indent="-25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6. Розробка маркетингового комплексу для кожного цільового сегм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7"/>
          <p:cNvSpPr/>
          <p:nvPr/>
        </p:nvSpPr>
        <p:spPr>
          <a:xfrm>
            <a:off x="324000" y="1413000"/>
            <a:ext cx="842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гментування ринку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поділ ринку на чіткі групи покупців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х можуть вимагати різні продукти до яких необхідно додавати різні маркетингові зусил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492360" y="4149720"/>
            <a:ext cx="0" cy="142920"/>
          </a:xfrm>
          <a:prstGeom prst="line">
            <a:avLst/>
          </a:prstGeom>
          <a:ln w="5724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4284720" y="5300640"/>
            <a:ext cx="0" cy="142920"/>
          </a:xfrm>
          <a:prstGeom prst="line">
            <a:avLst/>
          </a:prstGeom>
          <a:ln w="5724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56144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 Black"/>
              </a:rPr>
              <a:t>Рівні сегментування ринку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0" y="1700280"/>
            <a:ext cx="9144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акон Паретто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"закон 80:20"):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ільки 20% покупців приносять фірмі 80% доходу, представляючи собою узагальнену групу цільових клієнтів фір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5400000">
            <a:off x="3384000" y="152280"/>
            <a:ext cx="1727280" cy="770580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93a299"/>
              </a:gs>
              <a:gs pos="50000">
                <a:srgbClr val="dee3e0"/>
              </a:gs>
              <a:gs pos="100000">
                <a:srgbClr val="93a299"/>
              </a:gs>
            </a:gsLst>
            <a:lin ang="18900000"/>
          </a:gradFill>
          <a:ln w="1260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Масовий маркет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ин і той же товар для всіх споживач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немає сегментації, наприклад цукор, Ford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 rot="5400000">
            <a:off x="3707280" y="1627920"/>
            <a:ext cx="1729080" cy="792144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9688"/>
              </a:gs>
              <a:gs pos="50000">
                <a:srgbClr val="b2dfdb"/>
              </a:gs>
              <a:gs pos="100000">
                <a:srgbClr val="009688"/>
              </a:gs>
            </a:gsLst>
            <a:lin ang="18900000"/>
          </a:gradFill>
          <a:ln w="1260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аркетинг сег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ізні товари для різних сегме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еяка сегментація, наприкла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dak, Velco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 rot="5400000">
            <a:off x="3659400" y="-1491120"/>
            <a:ext cx="1751040" cy="784836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93a299"/>
              </a:gs>
              <a:gs pos="50000">
                <a:srgbClr val="dee3e0"/>
              </a:gs>
              <a:gs pos="100000">
                <a:srgbClr val="93a299"/>
              </a:gs>
            </a:gsLst>
            <a:lin ang="18900000"/>
          </a:gradFill>
          <a:ln w="1260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Маркетинг н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і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ізні товари дл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руп, які існують всередині сегментів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(більше сегментації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наприклад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rr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AutoShape 3"/>
          <p:cNvGrpSpPr/>
          <p:nvPr/>
        </p:nvGrpSpPr>
        <p:grpSpPr>
          <a:xfrm>
            <a:off x="682560" y="3279600"/>
            <a:ext cx="7858080" cy="1756080"/>
            <a:chOff x="682560" y="3279600"/>
            <a:chExt cx="7858080" cy="1756080"/>
          </a:xfrm>
        </p:grpSpPr>
        <p:pic>
          <p:nvPicPr>
            <p:cNvPr id="336" name="AutoShape 3" descr=""/>
            <p:cNvPicPr/>
            <p:nvPr/>
          </p:nvPicPr>
          <p:blipFill>
            <a:blip r:embed="rId1"/>
            <a:stretch/>
          </p:blipFill>
          <p:spPr>
            <a:xfrm>
              <a:off x="682560" y="3279600"/>
              <a:ext cx="78580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5400000">
              <a:off x="3737880" y="233640"/>
              <a:ext cx="1488960" cy="75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000000"/>
                  </a:solidFill>
                  <a:latin typeface="Arial Black"/>
                </a:rPr>
                <a:t>Мікромаркетинг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ahoma"/>
                </a:rPr>
                <a:t>Маркетингові програми для певних покупців і вузьких географічних сегментів </a:t>
              </a:r>
              <a:r>
                <a:rPr b="0" i="1" lang="uk-UA" sz="2400" spc="-1" strike="noStrike">
                  <a:solidFill>
                    <a:srgbClr val="000000"/>
                  </a:solidFill>
                  <a:latin typeface="Tahoma"/>
                </a:rPr>
                <a:t>(повна сегментація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 Black"/>
              </a:rPr>
              <a:t>Рівні сегментування ринку  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39" name="Group 5" descr=""/>
          <p:cNvPicPr/>
          <p:nvPr/>
        </p:nvPicPr>
        <p:blipFill>
          <a:blip r:embed="rId2"/>
          <a:stretch/>
        </p:blipFill>
        <p:spPr>
          <a:xfrm>
            <a:off x="237960" y="4737240"/>
            <a:ext cx="3810240" cy="1949400"/>
          </a:xfrm>
          <a:prstGeom prst="rect">
            <a:avLst/>
          </a:prstGeom>
          <a:ln w="0">
            <a:noFill/>
          </a:ln>
        </p:spPr>
      </p:pic>
      <p:pic>
        <p:nvPicPr>
          <p:cNvPr id="340" name="Group 8" descr=""/>
          <p:cNvPicPr/>
          <p:nvPr/>
        </p:nvPicPr>
        <p:blipFill>
          <a:blip r:embed="rId3"/>
          <a:stretch/>
        </p:blipFill>
        <p:spPr>
          <a:xfrm>
            <a:off x="4322880" y="4737240"/>
            <a:ext cx="437040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4"/>
          <p:cNvGrpSpPr/>
          <p:nvPr/>
        </p:nvGrpSpPr>
        <p:grpSpPr>
          <a:xfrm>
            <a:off x="0" y="1663560"/>
            <a:ext cx="9144000" cy="5194440"/>
            <a:chOff x="0" y="1663560"/>
            <a:chExt cx="9144000" cy="5194440"/>
          </a:xfrm>
        </p:grpSpPr>
        <p:pic>
          <p:nvPicPr>
            <p:cNvPr id="342" name="Picture 2" descr="ph02541j"/>
            <p:cNvPicPr/>
            <p:nvPr/>
          </p:nvPicPr>
          <p:blipFill>
            <a:blip r:embed="rId1"/>
            <a:stretch/>
          </p:blipFill>
          <p:spPr>
            <a:xfrm>
              <a:off x="0" y="1663560"/>
              <a:ext cx="9144000" cy="519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Group 4"/>
            <p:cNvGrpSpPr/>
            <p:nvPr/>
          </p:nvGrpSpPr>
          <p:grpSpPr>
            <a:xfrm>
              <a:off x="755640" y="4797360"/>
              <a:ext cx="7772400" cy="1584000"/>
              <a:chOff x="755640" y="4797360"/>
              <a:chExt cx="7772400" cy="1584000"/>
            </a:xfrm>
          </p:grpSpPr>
          <p:sp>
            <p:nvSpPr>
              <p:cNvPr id="344" name="AutoShape 5"/>
              <p:cNvSpPr/>
              <p:nvPr/>
            </p:nvSpPr>
            <p:spPr>
              <a:xfrm rot="10800000">
                <a:off x="755640" y="4797360"/>
                <a:ext cx="7772400" cy="1584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628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"/>
              <p:cNvSpPr/>
              <p:nvPr/>
            </p:nvSpPr>
            <p:spPr>
              <a:xfrm>
                <a:off x="2395440" y="4940280"/>
                <a:ext cx="431964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Щільність населення міста, передмістя, сільська місцеві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7"/>
            <p:cNvGrpSpPr/>
            <p:nvPr/>
          </p:nvGrpSpPr>
          <p:grpSpPr>
            <a:xfrm>
              <a:off x="755640" y="3645000"/>
              <a:ext cx="7772400" cy="1302840"/>
              <a:chOff x="755640" y="3645000"/>
              <a:chExt cx="7772400" cy="1302840"/>
            </a:xfrm>
          </p:grpSpPr>
          <p:sp>
            <p:nvSpPr>
              <p:cNvPr id="347" name="AutoShape 8"/>
              <p:cNvSpPr/>
              <p:nvPr/>
            </p:nvSpPr>
            <p:spPr>
              <a:xfrm rot="10800000">
                <a:off x="755640" y="3652200"/>
                <a:ext cx="7772400" cy="1295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628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9"/>
              <p:cNvSpPr/>
              <p:nvPr/>
            </p:nvSpPr>
            <p:spPr>
              <a:xfrm>
                <a:off x="1746360" y="3645000"/>
                <a:ext cx="5715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Розмір міста: меньше 1,000, 1,000-10,000, 10,000-50,000, 50,000-100,000,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100,000-250,000 та і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0"/>
            <p:cNvGrpSpPr/>
            <p:nvPr/>
          </p:nvGrpSpPr>
          <p:grpSpPr>
            <a:xfrm>
              <a:off x="611280" y="2492280"/>
              <a:ext cx="7772400" cy="1152720"/>
              <a:chOff x="611280" y="2492280"/>
              <a:chExt cx="7772400" cy="1152720"/>
            </a:xfrm>
          </p:grpSpPr>
          <p:sp>
            <p:nvSpPr>
              <p:cNvPr id="350" name="AutoShape 11"/>
              <p:cNvSpPr/>
              <p:nvPr/>
            </p:nvSpPr>
            <p:spPr>
              <a:xfrm rot="10800000">
                <a:off x="611280" y="2491920"/>
                <a:ext cx="7772400" cy="1152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628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"/>
              <p:cNvSpPr/>
              <p:nvPr/>
            </p:nvSpPr>
            <p:spPr>
              <a:xfrm>
                <a:off x="1525680" y="2683080"/>
                <a:ext cx="57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Регіон: області, регіон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327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ahoma"/>
              </a:rPr>
              <a:t>Сегментування ринку за географічною ознакою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6:51:54Z</dcterms:created>
  <dc:creator>Valek</dc:creator>
  <dc:description/>
  <dc:language>en-US</dc:language>
  <cp:lastModifiedBy>RePack by Diakov</cp:lastModifiedBy>
  <dcterms:modified xsi:type="dcterms:W3CDTF">2021-10-10T13:27:33Z</dcterms:modified>
  <cp:revision>79</cp:revision>
  <dc:subject/>
  <dc:title>Маркетинговая среда компании</dc:title>
</cp:coreProperties>
</file>