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15.wmf" ContentType="image/x-wmf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2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0EBD-61F0-445B-B324-961F70D8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BE18-EA4D-42FD-BA83-0D0D9F8D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12F1-ECAD-4594-8E1B-ADE01684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9C4A-717E-4C9C-96C9-361747A1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2D64-6540-49DA-A192-C82942D4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B776-2500-443F-95BD-2BFAF7C3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D3F8-6A75-427F-94D7-0AC0C8A3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AA7F-B52D-4391-8302-21D6448B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90D4-11B2-43DA-8E80-DA7D53DE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BE7B-F51D-4087-8AE0-C9F43ACD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510A-5A23-4E7A-845C-1C82490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1C8D-10FF-45F7-9A70-EC185CDF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7918-EB7A-4DA8-9E81-31F541D8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66ED-0303-411F-BFCD-E9406F5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A24E-F326-45E0-B7DE-0DAB08D8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F5D6-0F84-4CBB-819D-484131C7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D1AF-9E5A-47FB-9717-6FDFF5AD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43823-6C69-4B72-AA83-39077BF0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2CEB-4BD2-4C57-B8C1-5758585B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B94D-B5B5-4881-B411-75A9035E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55A8-708F-4626-A912-1312D249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F88BD-5A2E-4262-A023-01253B8F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B806D-E0ED-46D7-ADBC-692FD457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E617-D275-4E53-A57B-B3E10BB9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9545-C7CC-4786-9F43-EB7A7B39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DD9C-CB31-4F5E-966C-27166EF6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4675D-FE34-42E5-A9F9-CE4C384E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C8DB-398D-4CB2-BE71-C5AAD36E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13DB8-730D-426D-967D-AF918B89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038A-61B3-4587-A7FD-A791933D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16925-1E23-4FB7-B6EA-04E18E32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48C9-65AF-4F4A-A3EF-68FA84B1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E83E4-82DB-4C1E-9AC5-C432A8A1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72A6-D8A0-4AFB-9A5F-ABFF452E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026C7-D2BA-4BCA-AE0D-3C0E41C5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06EB-56AE-453F-8549-42B0581E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51FB-08F3-41B8-A409-1377D1D8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BBAE2-98C0-4B49-9A63-5333C9C7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D6EC-9A88-444D-94C0-6E3C8523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4002-47D6-4D7D-93F7-14EE4DF4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8FB73-6B03-489D-94C3-69D2837A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D0F19-568D-4AFD-9D9B-2A942659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02BE2-1564-4BF8-ACCC-C02A4E3D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C4DFA-22DE-4F73-84FB-CB4A2DAA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F956-A9CB-439A-AD48-01B81577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E34B-41E5-4AEF-A81C-CF0E057E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E44B-9EC4-4BEB-BF23-9B062343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894A0-8EC3-4A78-BA5C-9B21CE39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80D2-3067-4A80-92D8-8A90D28B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F5605-0E13-4648-9B58-96A253EE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ED89C-68C8-436B-849A-37587DAB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5BD4A-756D-40D6-8DFD-7F82D91E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B0A03-A4D9-4A8D-8259-F5CD41DB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93EC7-8E7A-4D89-A279-3F4DBD24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DC09B-DBB2-4A17-AC06-D1BF32EB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45BD-DC06-4610-9A51-04136E22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44CC4-8400-43EE-BB72-DCB923FF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72E12-5CAE-44A7-81BE-63207751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45BA0-5A36-441C-99D5-4678D9DE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30EAC-8A59-4178-AE71-38A79B55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A8134-5088-4DB9-9986-FE806049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D873B-6607-4FFE-ADCC-CD7F09A9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6CFBD-3180-4D74-9AB8-EBE96B99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B572F-1678-4D04-B870-0CD1102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0B133-ED94-4E9B-9959-ABF29398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40300-F10E-4FEE-8FA5-B980BEC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E386-93EA-4D06-834B-CA2762D2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89ECE-68BB-4A9A-8747-8472617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3902A-C260-4675-81D3-D9290D04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EE9CA-3583-4A05-9E1C-D17A1B30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F4C1E-7B19-47D3-89F6-4D69B1EC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DAC2-34F2-416D-955C-82457715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0BCD8-6B29-48C4-81FC-01598EEC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FA6EC-F7C2-4DCD-91DA-684CCC5C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A7ED4-B706-4D8C-8781-64A447E4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906C2-692D-48F9-874B-B47ECDA0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F3838-EDA2-4024-835A-4F14C226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7070-B5DE-4F59-B2EC-52A1866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F3170-773D-4BA9-B1A9-D1E8A671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2B23-6010-4E04-9996-A5062FED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202DC-F85A-4A03-8BB6-0FE404A2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6C29-14CB-42D0-A595-5CD65DA9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63CE6-06E9-4C1E-8654-73322039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D639-D9F5-4771-8904-BA7B91FC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image1.jpg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image2.png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image3.png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image4.png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4E09-55D6-48F8-ACD8-B46259F6491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5.pn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image6.png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rbe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rbe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9C7-B937-4407-B983-7C7545A949C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1B64-28C5-4900-BFB7-8A2AE8AAD3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0D38-A27E-4A2C-9347-69E80279BA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6033-83A4-4A7B-B649-1EC48F2AB1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9396-E26F-4598-AF9A-076F435358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1F7A-3B43-4F39-8713-C0C69954BEF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www.respublika.info/images/616a.jpg&amp;imgrefurl=http://www.chernigiv.osp-ua.info/news/single-33012.html&amp;usg=__F0Mysl223gs5x5BChEY7GQM5JSI=&amp;h=301&amp;w=300&amp;sz=39&amp;hl=uk&amp;start=114&amp;tbnid=URLmGfmHP5pwFM:&amp;tbnh=116&amp;tbnw=116&amp;prev=/images%3Fq%3D%25D0%25BB%25D1%2596%25D0%25BA%25D0%25B8%26gbv%3D2%26ndsp%3D20%26hl%3Duk%26sa%3DN%26start%3D10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intertop.ua/uploadfiles/news/4ab38017bb4af.jpg&amp;imgrefurl=http://intertop.ua/ua/news/moreschi/394.html&amp;usg=__96I5nNtxyOZh_N2QOIVF8x4OlYQ=&amp;h=400&amp;w=285&amp;sz=14&amp;hl=uk&amp;start=42&amp;tbnid=6Kt1txCZeTr1vM:&amp;tbnh=124&amp;tbnw=88&amp;prev=/images%3Fq%3D%25D1%2586%25D1%2596%25D0%25BD%25D0%25B0%26gbv%3D2%26ndsp%3D20%26hl%3Duk%26sa%3DN%26start%3D40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878508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СЕГМЕНТАЦІЯ ТА ПОЗИЦІОНУВАННЯ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А РИНКУ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0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Демографічні ознак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54" name="Picture 4" descr="bd10560_"/>
          <p:cNvPicPr/>
          <p:nvPr/>
        </p:nvPicPr>
        <p:blipFill>
          <a:blip r:embed="rId1"/>
          <a:stretch/>
        </p:blipFill>
        <p:spPr>
          <a:xfrm>
            <a:off x="228600" y="1628640"/>
            <a:ext cx="3479760" cy="40863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90720" y="1699920"/>
            <a:ext cx="45608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Вік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Стать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Розмір сім'ї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Життєвий цикл сім'ї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Рівень доходу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Рід занять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Освіт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34"/>
                </a:solidFill>
                <a:latin typeface="Arial Black"/>
              </a:rPr>
              <a:t>Соціальний клас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WordArt 5"/>
          <p:cNvSpPr txBox="1"/>
          <p:nvPr/>
        </p:nvSpPr>
        <p:spPr>
          <a:xfrm rot="20487000">
            <a:off x="49320" y="5070600"/>
            <a:ext cx="4659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Найбільш популярні ознаки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5920" y="549360"/>
            <a:ext cx="7343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 Black"/>
              </a:rPr>
              <a:t>Психографічні</a:t>
            </a:r>
            <a:r>
              <a:rPr b="1" lang="ru-RU" sz="3200" spc="-1" strike="noStrike">
                <a:solidFill>
                  <a:srgbClr val="ffff99"/>
                </a:solidFill>
                <a:latin typeface="Arial Black"/>
              </a:rPr>
              <a:t> ознаки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58" name="WordArt 5"/>
          <p:cNvSpPr txBox="1"/>
          <p:nvPr/>
        </p:nvSpPr>
        <p:spPr>
          <a:xfrm>
            <a:off x="250920" y="5734080"/>
            <a:ext cx="5041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Тип особистості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468360" y="1484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озбивка ринку на різні групи за ознак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short"/>
          <p:cNvPicPr/>
          <p:nvPr/>
        </p:nvPicPr>
        <p:blipFill>
          <a:blip r:embed="rId1"/>
          <a:stretch/>
        </p:blipFill>
        <p:spPr>
          <a:xfrm>
            <a:off x="5724360" y="2781360"/>
            <a:ext cx="3048120" cy="35352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4"/>
          <p:cNvSpPr txBox="1"/>
          <p:nvPr/>
        </p:nvSpPr>
        <p:spPr>
          <a:xfrm rot="20697000">
            <a:off x="4392360" y="2153880"/>
            <a:ext cx="45831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7206000"/>
                </a:gradFill>
                <a:latin typeface="Times New Roman"/>
              </a:rPr>
              <a:t>Стиль житт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7206000"/>
              </a:gradFill>
              <a:latin typeface="Times New Roman"/>
              <a:ea typeface="Times New Roman"/>
            </a:endParaRPr>
          </a:p>
        </p:txBody>
      </p:sp>
      <p:pic>
        <p:nvPicPr>
          <p:cNvPr id="362" name="Picture 8" descr="images (8)"/>
          <p:cNvPicPr/>
          <p:nvPr/>
        </p:nvPicPr>
        <p:blipFill>
          <a:blip r:embed="rId2"/>
          <a:stretch/>
        </p:blipFill>
        <p:spPr>
          <a:xfrm>
            <a:off x="539640" y="2781360"/>
            <a:ext cx="38880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1049400" y="1295280"/>
            <a:ext cx="7361280" cy="455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5145120" y="2927520"/>
            <a:ext cx="285264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337000" y="4719600"/>
            <a:ext cx="2559240" cy="78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5160960" y="2557440"/>
            <a:ext cx="20520" cy="19080"/>
          </a:xfrm>
          <a:prstGeom prst="rightArrow">
            <a:avLst>
              <a:gd name="adj1" fmla="val 50000"/>
              <a:gd name="adj2" fmla="val 53778"/>
            </a:avLst>
          </a:prstGeom>
          <a:solidFill>
            <a:srgbClr val="292934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528920" y="1768320"/>
            <a:ext cx="5167080" cy="986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7"/>
          <p:cNvGrpSpPr/>
          <p:nvPr/>
        </p:nvGrpSpPr>
        <p:grpSpPr>
          <a:xfrm>
            <a:off x="178920" y="1700280"/>
            <a:ext cx="8695080" cy="2504520"/>
            <a:chOff x="178920" y="1700280"/>
            <a:chExt cx="8695080" cy="2504520"/>
          </a:xfrm>
        </p:grpSpPr>
        <p:grpSp>
          <p:nvGrpSpPr>
            <p:cNvPr id="369" name="Group 8"/>
            <p:cNvGrpSpPr/>
            <p:nvPr/>
          </p:nvGrpSpPr>
          <p:grpSpPr>
            <a:xfrm>
              <a:off x="178920" y="1798560"/>
              <a:ext cx="3600360" cy="2266200"/>
              <a:chOff x="178920" y="1798560"/>
              <a:chExt cx="3600360" cy="2266200"/>
            </a:xfrm>
          </p:grpSpPr>
          <p:sp>
            <p:nvSpPr>
              <p:cNvPr id="370" name="AutoShape 9"/>
              <p:cNvSpPr/>
              <p:nvPr/>
            </p:nvSpPr>
            <p:spPr>
              <a:xfrm rot="5400000">
                <a:off x="1780920" y="196200"/>
                <a:ext cx="394920" cy="35989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Галуз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10"/>
              <p:cNvSpPr/>
              <p:nvPr/>
            </p:nvSpPr>
            <p:spPr>
              <a:xfrm rot="5400000">
                <a:off x="1780920" y="843480"/>
                <a:ext cx="394920" cy="35989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cfec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Размір підприємств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11"/>
              <p:cNvSpPr/>
              <p:nvPr/>
            </p:nvSpPr>
            <p:spPr>
              <a:xfrm rot="5400000">
                <a:off x="1780920" y="1419840"/>
                <a:ext cx="394920" cy="35989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Місцезнаходженн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12"/>
              <p:cNvSpPr/>
              <p:nvPr/>
            </p:nvSpPr>
            <p:spPr>
              <a:xfrm rot="5400000">
                <a:off x="1781640" y="2066760"/>
                <a:ext cx="394920" cy="360036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Власніст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3"/>
            <p:cNvGrpSpPr/>
            <p:nvPr/>
          </p:nvGrpSpPr>
          <p:grpSpPr>
            <a:xfrm>
              <a:off x="3833640" y="1834920"/>
              <a:ext cx="360360" cy="2229840"/>
              <a:chOff x="3833640" y="1834920"/>
              <a:chExt cx="360360" cy="2229840"/>
            </a:xfrm>
          </p:grpSpPr>
          <p:sp>
            <p:nvSpPr>
              <p:cNvPr id="375" name="AutoShape 14"/>
              <p:cNvSpPr/>
              <p:nvPr/>
            </p:nvSpPr>
            <p:spPr>
              <a:xfrm>
                <a:off x="3833640" y="3022200"/>
                <a:ext cx="360360" cy="39492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AutoShape 15"/>
              <p:cNvSpPr/>
              <p:nvPr/>
            </p:nvSpPr>
            <p:spPr>
              <a:xfrm>
                <a:off x="3833640" y="2445840"/>
                <a:ext cx="360360" cy="39492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AutoShape 16"/>
              <p:cNvSpPr/>
              <p:nvPr/>
            </p:nvSpPr>
            <p:spPr>
              <a:xfrm>
                <a:off x="3833640" y="3669840"/>
                <a:ext cx="360360" cy="39492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AutoShape 17"/>
              <p:cNvSpPr/>
              <p:nvPr/>
            </p:nvSpPr>
            <p:spPr>
              <a:xfrm>
                <a:off x="3833640" y="1834920"/>
                <a:ext cx="360360" cy="39492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4267080" y="1700280"/>
              <a:ext cx="4606920" cy="2504520"/>
              <a:chOff x="4267080" y="1700280"/>
              <a:chExt cx="4606920" cy="2504520"/>
            </a:xfrm>
          </p:grpSpPr>
          <p:sp>
            <p:nvSpPr>
              <p:cNvPr id="380" name="AutoShape 19"/>
              <p:cNvSpPr/>
              <p:nvPr/>
            </p:nvSpPr>
            <p:spPr>
              <a:xfrm rot="5400000">
                <a:off x="5332320" y="634680"/>
                <a:ext cx="2474640" cy="4605120"/>
              </a:xfrm>
              <a:prstGeom prst="cube">
                <a:avLst>
                  <a:gd name="adj" fmla="val 199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daf6f6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410000" y="1725480"/>
                <a:ext cx="444636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ahoma"/>
                  </a:rPr>
                  <a:t>На </a:t>
                </a: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яких галузях з числа, що споживають наш продукт нам варто зробити акцент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ahoma"/>
                  </a:rPr>
                  <a:t>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4410000" y="2374560"/>
                <a:ext cx="439236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Компанії якого розміру повинні бути в області наших інтересів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4410000" y="3022560"/>
                <a:ext cx="4392360" cy="5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На яких географічних ринках нам варто працювати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4410000" y="3598560"/>
                <a:ext cx="4464000" cy="60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Державне /приватне підприємство/СП/ нові підприємства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6472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29"/>
                </a:solidFill>
                <a:latin typeface="Arial Black"/>
              </a:rPr>
              <a:t>Сегментування ринків підприємств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395280" y="1268280"/>
            <a:ext cx="504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мографічні змін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6"/>
          <p:cNvSpPr/>
          <p:nvPr/>
        </p:nvSpPr>
        <p:spPr>
          <a:xfrm>
            <a:off x="395280" y="4292640"/>
            <a:ext cx="504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Операційні змін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7"/>
          <p:cNvGrpSpPr/>
          <p:nvPr/>
        </p:nvGrpSpPr>
        <p:grpSpPr>
          <a:xfrm>
            <a:off x="196560" y="4700520"/>
            <a:ext cx="8696520" cy="1812960"/>
            <a:chOff x="196560" y="4700520"/>
            <a:chExt cx="8696520" cy="1812960"/>
          </a:xfrm>
        </p:grpSpPr>
        <p:sp>
          <p:nvSpPr>
            <p:cNvPr id="389" name="AutoShape 28"/>
            <p:cNvSpPr/>
            <p:nvPr/>
          </p:nvSpPr>
          <p:spPr>
            <a:xfrm rot="5400000">
              <a:off x="5682600" y="3303360"/>
              <a:ext cx="1812960" cy="4606920"/>
            </a:xfrm>
            <a:prstGeom prst="cube">
              <a:avLst>
                <a:gd name="adj" fmla="val 199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daf6f6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29"/>
            <p:cNvGrpSpPr/>
            <p:nvPr/>
          </p:nvGrpSpPr>
          <p:grpSpPr>
            <a:xfrm>
              <a:off x="196560" y="4724280"/>
              <a:ext cx="8696520" cy="1789200"/>
              <a:chOff x="196560" y="4724280"/>
              <a:chExt cx="8696520" cy="1789200"/>
            </a:xfrm>
          </p:grpSpPr>
          <p:grpSp>
            <p:nvGrpSpPr>
              <p:cNvPr id="391" name="Group 30"/>
              <p:cNvGrpSpPr/>
              <p:nvPr/>
            </p:nvGrpSpPr>
            <p:grpSpPr>
              <a:xfrm>
                <a:off x="3851280" y="4724280"/>
                <a:ext cx="360360" cy="1582920"/>
                <a:chOff x="3851280" y="4724280"/>
                <a:chExt cx="360360" cy="1582920"/>
              </a:xfrm>
            </p:grpSpPr>
            <p:sp>
              <p:nvSpPr>
                <p:cNvPr id="392" name="AutoShape 31"/>
                <p:cNvSpPr/>
                <p:nvPr/>
              </p:nvSpPr>
              <p:spPr>
                <a:xfrm>
                  <a:off x="3851280" y="5911920"/>
                  <a:ext cx="360360" cy="395280"/>
                </a:xfrm>
                <a:prstGeom prst="rightArrow">
                  <a:avLst>
                    <a:gd name="adj1" fmla="val 50000"/>
                    <a:gd name="adj2" fmla="val 50005"/>
                  </a:avLst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AutoShape 32"/>
                <p:cNvSpPr/>
                <p:nvPr/>
              </p:nvSpPr>
              <p:spPr>
                <a:xfrm>
                  <a:off x="3851280" y="5335560"/>
                  <a:ext cx="360360" cy="395280"/>
                </a:xfrm>
                <a:prstGeom prst="rightArrow">
                  <a:avLst>
                    <a:gd name="adj1" fmla="val 50000"/>
                    <a:gd name="adj2" fmla="val 50005"/>
                  </a:avLst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AutoShape 33"/>
                <p:cNvSpPr/>
                <p:nvPr/>
              </p:nvSpPr>
              <p:spPr>
                <a:xfrm>
                  <a:off x="3851280" y="4724280"/>
                  <a:ext cx="360360" cy="395280"/>
                </a:xfrm>
                <a:prstGeom prst="rightArrow">
                  <a:avLst>
                    <a:gd name="adj1" fmla="val 50000"/>
                    <a:gd name="adj2" fmla="val 50005"/>
                  </a:avLst>
                </a:prstGeom>
                <a:solidFill>
                  <a:srgbClr val="333333"/>
                </a:solidFill>
                <a:ln w="0">
                  <a:noFill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Group 34"/>
              <p:cNvGrpSpPr/>
              <p:nvPr/>
            </p:nvGrpSpPr>
            <p:grpSpPr>
              <a:xfrm>
                <a:off x="196560" y="4724280"/>
                <a:ext cx="3600360" cy="1621080"/>
                <a:chOff x="196560" y="4724280"/>
                <a:chExt cx="3600360" cy="1621080"/>
              </a:xfrm>
            </p:grpSpPr>
            <p:sp>
              <p:nvSpPr>
                <p:cNvPr id="396" name="AutoShape 35"/>
                <p:cNvSpPr/>
                <p:nvPr/>
              </p:nvSpPr>
              <p:spPr>
                <a:xfrm rot="5400000">
                  <a:off x="1798920" y="3121560"/>
                  <a:ext cx="395280" cy="3600360"/>
                </a:xfrm>
                <a:prstGeom prst="cube">
                  <a:avLst>
                    <a:gd name="adj" fmla="val 11666"/>
                  </a:avLst>
                </a:prstGeom>
                <a:gradFill rotWithShape="0">
                  <a:gsLst>
                    <a:gs pos="0">
                      <a:srgbClr val="fcfeb9"/>
                    </a:gs>
                    <a:gs pos="100000">
                      <a:srgbClr val="fdfece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1400" bIns="41400" anchor="t" anchorCtr="1" vert="eaVert" rot="10800000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31960"/>
                      <a:tab algn="l" pos="1663560"/>
                      <a:tab algn="l" pos="2495520"/>
                      <a:tab algn="l" pos="3327480"/>
                      <a:tab algn="l" pos="4159080"/>
                      <a:tab algn="l" pos="4991040"/>
                      <a:tab algn="l" pos="5823000"/>
                      <a:tab algn="l" pos="6654960"/>
                      <a:tab algn="l" pos="7486560"/>
                      <a:tab algn="l" pos="8318520"/>
                      <a:tab algn="l" pos="9150480"/>
                      <a:tab algn="l" pos="9982080"/>
                      <a:tab algn="l" pos="1081404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uk-UA" sz="2400" spc="-1" strike="noStrike">
                      <a:solidFill>
                        <a:srgbClr val="000000"/>
                      </a:solidFill>
                      <a:latin typeface="Tahoma"/>
                    </a:rPr>
                    <a:t>Технологія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36"/>
                <p:cNvSpPr/>
                <p:nvPr/>
              </p:nvSpPr>
              <p:spPr>
                <a:xfrm rot="5400000">
                  <a:off x="1798920" y="3697920"/>
                  <a:ext cx="395280" cy="3600360"/>
                </a:xfrm>
                <a:prstGeom prst="cube">
                  <a:avLst>
                    <a:gd name="adj" fmla="val 11666"/>
                  </a:avLst>
                </a:prstGeom>
                <a:gradFill rotWithShape="0">
                  <a:gsLst>
                    <a:gs pos="0">
                      <a:srgbClr val="fcfeb9"/>
                    </a:gs>
                    <a:gs pos="100000">
                      <a:srgbClr val="fcfec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1400" bIns="41400" anchor="t" anchorCtr="1" vert="eaVert" rot="10800000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31960"/>
                      <a:tab algn="l" pos="1663560"/>
                      <a:tab algn="l" pos="2495520"/>
                      <a:tab algn="l" pos="3327480"/>
                      <a:tab algn="l" pos="4159080"/>
                      <a:tab algn="l" pos="4991040"/>
                      <a:tab algn="l" pos="5823000"/>
                      <a:tab algn="l" pos="6654960"/>
                      <a:tab algn="l" pos="7486560"/>
                      <a:tab algn="l" pos="8318520"/>
                      <a:tab algn="l" pos="9150480"/>
                      <a:tab algn="l" pos="9982080"/>
                      <a:tab algn="l" pos="10814040"/>
                    </a:tabLst>
                  </a:pPr>
                  <a:r>
                    <a:rPr b="0" lang="uk-UA" sz="2400" spc="-1" strike="noStrike">
                      <a:solidFill>
                        <a:srgbClr val="000000"/>
                      </a:solidFill>
                      <a:latin typeface="Tahoma"/>
                    </a:rPr>
                    <a:t>Статус споживач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37"/>
                <p:cNvSpPr/>
                <p:nvPr/>
              </p:nvSpPr>
              <p:spPr>
                <a:xfrm rot="5400000">
                  <a:off x="1798920" y="4347360"/>
                  <a:ext cx="395280" cy="3600360"/>
                </a:xfrm>
                <a:prstGeom prst="cube">
                  <a:avLst>
                    <a:gd name="adj" fmla="val 11666"/>
                  </a:avLst>
                </a:prstGeom>
                <a:gradFill rotWithShape="0">
                  <a:gsLst>
                    <a:gs pos="0">
                      <a:srgbClr val="fcfeb9"/>
                    </a:gs>
                    <a:gs pos="100000">
                      <a:srgbClr val="fdfec7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3880" rIns="83880" tIns="41400" bIns="41400" anchor="t" anchorCtr="1" vert="eaVert" rot="10800000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831960"/>
                      <a:tab algn="l" pos="1663560"/>
                      <a:tab algn="l" pos="2495520"/>
                      <a:tab algn="l" pos="3327480"/>
                      <a:tab algn="l" pos="4159080"/>
                      <a:tab algn="l" pos="4991040"/>
                      <a:tab algn="l" pos="5823000"/>
                      <a:tab algn="l" pos="6654960"/>
                      <a:tab algn="l" pos="7486560"/>
                      <a:tab algn="l" pos="8318520"/>
                      <a:tab algn="l" pos="9150480"/>
                      <a:tab algn="l" pos="9982080"/>
                      <a:tab algn="l" pos="10814040"/>
                    </a:tabLst>
                  </a:pPr>
                  <a:r>
                    <a:rPr b="0" lang="uk-UA" sz="2000" spc="-1" strike="noStrike">
                      <a:solidFill>
                        <a:srgbClr val="000000"/>
                      </a:solidFill>
                      <a:latin typeface="Tahoma"/>
                    </a:rPr>
                    <a:t>Можливості підприємств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Group 38"/>
              <p:cNvGrpSpPr/>
              <p:nvPr/>
            </p:nvGrpSpPr>
            <p:grpSpPr>
              <a:xfrm>
                <a:off x="4356000" y="4726080"/>
                <a:ext cx="4537080" cy="1787400"/>
                <a:chOff x="4356000" y="4726080"/>
                <a:chExt cx="4537080" cy="1787400"/>
              </a:xfrm>
            </p:grpSpPr>
            <p:sp>
              <p:nvSpPr>
                <p:cNvPr id="400" name="Rectangle 39"/>
                <p:cNvSpPr/>
                <p:nvPr/>
              </p:nvSpPr>
              <p:spPr>
                <a:xfrm>
                  <a:off x="4356000" y="4726080"/>
                  <a:ext cx="4518000" cy="35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Які технології необхідно використовувати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40"/>
                <p:cNvSpPr/>
                <p:nvPr/>
              </p:nvSpPr>
              <p:spPr>
                <a:xfrm>
                  <a:off x="4356000" y="5084640"/>
                  <a:ext cx="44640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 fontScale="75000"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варто нам фокусуватися на великих, середніх, дрібних споживачах, на наявних або на колишніх споживачах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Rectangle 41"/>
                <p:cNvSpPr/>
                <p:nvPr/>
              </p:nvSpPr>
              <p:spPr>
                <a:xfrm>
                  <a:off x="4356000" y="5805360"/>
                  <a:ext cx="4537080" cy="70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 fontScale="95000"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варто нам фокусуватися на споживачах, які потребують інтенсивного або мінімального сервісного обслуговування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1049400" y="1295280"/>
            <a:ext cx="7361280" cy="455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45120" y="2927520"/>
            <a:ext cx="285264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337000" y="4719600"/>
            <a:ext cx="2559240" cy="78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5160960" y="2557440"/>
            <a:ext cx="20520" cy="19080"/>
          </a:xfrm>
          <a:prstGeom prst="rightArrow">
            <a:avLst>
              <a:gd name="adj1" fmla="val 50000"/>
              <a:gd name="adj2" fmla="val 53778"/>
            </a:avLst>
          </a:prstGeom>
          <a:solidFill>
            <a:srgbClr val="292934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1528920" y="1768320"/>
            <a:ext cx="5167080" cy="986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7"/>
          <p:cNvGrpSpPr/>
          <p:nvPr/>
        </p:nvGrpSpPr>
        <p:grpSpPr>
          <a:xfrm>
            <a:off x="179280" y="2133720"/>
            <a:ext cx="8694720" cy="3483000"/>
            <a:chOff x="179280" y="2133720"/>
            <a:chExt cx="8694720" cy="3483000"/>
          </a:xfrm>
        </p:grpSpPr>
        <p:grpSp>
          <p:nvGrpSpPr>
            <p:cNvPr id="409" name="Group 8"/>
            <p:cNvGrpSpPr/>
            <p:nvPr/>
          </p:nvGrpSpPr>
          <p:grpSpPr>
            <a:xfrm>
              <a:off x="179280" y="2232360"/>
              <a:ext cx="3798720" cy="3168360"/>
              <a:chOff x="179280" y="2232360"/>
              <a:chExt cx="3798720" cy="3168360"/>
            </a:xfrm>
          </p:grpSpPr>
          <p:sp>
            <p:nvSpPr>
              <p:cNvPr id="410" name="AutoShape 9"/>
              <p:cNvSpPr/>
              <p:nvPr/>
            </p:nvSpPr>
            <p:spPr>
              <a:xfrm rot="5400000">
                <a:off x="1772280" y="639000"/>
                <a:ext cx="610920" cy="379728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Організаційні функці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10"/>
              <p:cNvSpPr/>
              <p:nvPr/>
            </p:nvSpPr>
            <p:spPr>
              <a:xfrm rot="5400000">
                <a:off x="1772280" y="1539000"/>
                <a:ext cx="611280" cy="379728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cfec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Політика з постачанн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11"/>
              <p:cNvSpPr/>
              <p:nvPr/>
            </p:nvSpPr>
            <p:spPr>
              <a:xfrm rot="5400000">
                <a:off x="1772280" y="2404080"/>
                <a:ext cx="611280" cy="379728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Існуючі </a:t>
                </a: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відношення</a:t>
                </a:r>
                <a:r>
                  <a:rPr b="0" lang="uk-UA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12"/>
              <p:cNvSpPr/>
              <p:nvPr/>
            </p:nvSpPr>
            <p:spPr>
              <a:xfrm rot="5400000">
                <a:off x="1773000" y="3195720"/>
                <a:ext cx="610920" cy="3798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Критерій здійснення покупк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"/>
            <p:cNvGrpSpPr/>
            <p:nvPr/>
          </p:nvGrpSpPr>
          <p:grpSpPr>
            <a:xfrm>
              <a:off x="3978000" y="2268720"/>
              <a:ext cx="360360" cy="2987640"/>
              <a:chOff x="3978000" y="2268720"/>
              <a:chExt cx="360360" cy="2987640"/>
            </a:xfrm>
          </p:grpSpPr>
          <p:sp>
            <p:nvSpPr>
              <p:cNvPr id="415" name="AutoShape 14"/>
              <p:cNvSpPr/>
              <p:nvPr/>
            </p:nvSpPr>
            <p:spPr>
              <a:xfrm>
                <a:off x="3978000" y="406908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15"/>
              <p:cNvSpPr/>
              <p:nvPr/>
            </p:nvSpPr>
            <p:spPr>
              <a:xfrm>
                <a:off x="3978000" y="320544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16"/>
              <p:cNvSpPr/>
              <p:nvPr/>
            </p:nvSpPr>
            <p:spPr>
              <a:xfrm>
                <a:off x="3978000" y="486108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AutoShape 17"/>
              <p:cNvSpPr/>
              <p:nvPr/>
            </p:nvSpPr>
            <p:spPr>
              <a:xfrm>
                <a:off x="3978000" y="226872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333333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8"/>
            <p:cNvGrpSpPr/>
            <p:nvPr/>
          </p:nvGrpSpPr>
          <p:grpSpPr>
            <a:xfrm>
              <a:off x="4338360" y="2133720"/>
              <a:ext cx="4535640" cy="3483000"/>
              <a:chOff x="4338360" y="2133720"/>
              <a:chExt cx="4535640" cy="3483000"/>
            </a:xfrm>
          </p:grpSpPr>
          <p:sp>
            <p:nvSpPr>
              <p:cNvPr id="420" name="AutoShape 19"/>
              <p:cNvSpPr/>
              <p:nvPr/>
            </p:nvSpPr>
            <p:spPr>
              <a:xfrm rot="5400000">
                <a:off x="4863600" y="1608120"/>
                <a:ext cx="3483000" cy="4533840"/>
              </a:xfrm>
              <a:prstGeom prst="cube">
                <a:avLst>
                  <a:gd name="adj" fmla="val 199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daf6f6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Group 20"/>
              <p:cNvGrpSpPr/>
              <p:nvPr/>
            </p:nvGrpSpPr>
            <p:grpSpPr>
              <a:xfrm>
                <a:off x="4479840" y="2159280"/>
                <a:ext cx="4394160" cy="3313080"/>
                <a:chOff x="4479840" y="2159280"/>
                <a:chExt cx="4394160" cy="3313080"/>
              </a:xfrm>
            </p:grpSpPr>
            <p:sp>
              <p:nvSpPr>
                <p:cNvPr id="422" name="Rectangle 21"/>
                <p:cNvSpPr/>
                <p:nvPr/>
              </p:nvSpPr>
              <p:spPr>
                <a:xfrm>
                  <a:off x="4479840" y="2159280"/>
                  <a:ext cx="4376520" cy="76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повинні ми фокусуватися на постачанні високоцентралізованих або децентралізованих організацій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22"/>
                <p:cNvSpPr/>
                <p:nvPr/>
              </p:nvSpPr>
              <p:spPr>
                <a:xfrm>
                  <a:off x="4479840" y="3024360"/>
                  <a:ext cx="4394160" cy="79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 fontScale="90000"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варто нам робити акцент на підприємст-вах, що віддають перевагу лізингу? Сервісні контракти? Участь у тендерах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Rectangle 23"/>
                <p:cNvSpPr/>
                <p:nvPr/>
              </p:nvSpPr>
              <p:spPr>
                <a:xfrm>
                  <a:off x="4479840" y="3816720"/>
                  <a:ext cx="4394160" cy="100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варто нам продавати компаніям, з якими у нас налагоджені зв'язки, або просто працювати з найбільш привабливими клієнтами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24"/>
                <p:cNvSpPr/>
                <p:nvPr/>
              </p:nvSpPr>
              <p:spPr>
                <a:xfrm>
                  <a:off x="4479840" y="4865760"/>
                  <a:ext cx="4394160" cy="60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1360" rIns="81360" tIns="39960" bIns="39960" anchor="t">
                  <a:normAutofit fontScale="89000"/>
                </a:bodyPr>
                <a:p>
                  <a:pPr>
                    <a:lnSpc>
                      <a:spcPct val="90000"/>
                    </a:lnSpc>
                    <a:spcBef>
                      <a:spcPts val="1001"/>
                    </a:spcBef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uk-UA" sz="1600" spc="-1" strike="noStrike">
                      <a:solidFill>
                        <a:srgbClr val="000000"/>
                      </a:solidFill>
                      <a:latin typeface="Tahoma"/>
                    </a:rPr>
                    <a:t>Чи варто фокусувати зусилля на компаніях, які зацікавлені в якості? Сервісі? Ціні?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59132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292929"/>
                </a:solidFill>
                <a:latin typeface="Arial Black"/>
              </a:rPr>
              <a:t>Сегментування ринків підприємств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7" name="Rectangle 26"/>
          <p:cNvSpPr/>
          <p:nvPr/>
        </p:nvSpPr>
        <p:spPr>
          <a:xfrm>
            <a:off x="771480" y="1309680"/>
            <a:ext cx="741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Підходи до постачання і здійснення поку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049400" y="1295280"/>
            <a:ext cx="7361280" cy="455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5145120" y="2927520"/>
            <a:ext cx="285264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5337000" y="4719600"/>
            <a:ext cx="2559240" cy="785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5160960" y="2557440"/>
            <a:ext cx="20520" cy="19080"/>
          </a:xfrm>
          <a:prstGeom prst="rightArrow">
            <a:avLst>
              <a:gd name="adj1" fmla="val 50000"/>
              <a:gd name="adj2" fmla="val 53778"/>
            </a:avLst>
          </a:prstGeom>
          <a:solidFill>
            <a:srgbClr val="292934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6"/>
          <p:cNvSpPr/>
          <p:nvPr/>
        </p:nvSpPr>
        <p:spPr>
          <a:xfrm>
            <a:off x="1528920" y="1768320"/>
            <a:ext cx="5167080" cy="986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000" y="285840"/>
            <a:ext cx="759132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d2533c"/>
                </a:solidFill>
                <a:latin typeface="Tahoma"/>
              </a:rPr>
              <a:t>Сегментування ринків підприємств</a:t>
            </a:r>
            <a:endParaRPr b="0" lang="en-US" sz="33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395280" y="1197000"/>
            <a:ext cx="504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итуаційні фак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179280" y="4005360"/>
            <a:ext cx="4159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Особисті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10"/>
          <p:cNvGrpSpPr/>
          <p:nvPr/>
        </p:nvGrpSpPr>
        <p:grpSpPr>
          <a:xfrm>
            <a:off x="179280" y="1628640"/>
            <a:ext cx="8712000" cy="2376360"/>
            <a:chOff x="179280" y="1628640"/>
            <a:chExt cx="8712000" cy="2376360"/>
          </a:xfrm>
        </p:grpSpPr>
        <p:grpSp>
          <p:nvGrpSpPr>
            <p:cNvPr id="437" name="Group 11"/>
            <p:cNvGrpSpPr/>
            <p:nvPr/>
          </p:nvGrpSpPr>
          <p:grpSpPr>
            <a:xfrm>
              <a:off x="3833640" y="1846080"/>
              <a:ext cx="360360" cy="1943280"/>
              <a:chOff x="3833640" y="1846080"/>
              <a:chExt cx="360360" cy="1943280"/>
            </a:xfrm>
          </p:grpSpPr>
          <p:sp>
            <p:nvSpPr>
              <p:cNvPr id="438" name="AutoShape 12"/>
              <p:cNvSpPr/>
              <p:nvPr/>
            </p:nvSpPr>
            <p:spPr>
              <a:xfrm>
                <a:off x="3833640" y="339408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AutoShape 13"/>
              <p:cNvSpPr/>
              <p:nvPr/>
            </p:nvSpPr>
            <p:spPr>
              <a:xfrm>
                <a:off x="3833640" y="260172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14"/>
              <p:cNvSpPr/>
              <p:nvPr/>
            </p:nvSpPr>
            <p:spPr>
              <a:xfrm>
                <a:off x="3833640" y="184608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5"/>
            <p:cNvGrpSpPr/>
            <p:nvPr/>
          </p:nvGrpSpPr>
          <p:grpSpPr>
            <a:xfrm>
              <a:off x="179280" y="1700280"/>
              <a:ext cx="3600720" cy="2195280"/>
              <a:chOff x="179280" y="1700280"/>
              <a:chExt cx="3600720" cy="2195280"/>
            </a:xfrm>
          </p:grpSpPr>
          <p:sp>
            <p:nvSpPr>
              <p:cNvPr id="442" name="AutoShape 16"/>
              <p:cNvSpPr/>
              <p:nvPr/>
            </p:nvSpPr>
            <p:spPr>
              <a:xfrm rot="5400000">
                <a:off x="1674000" y="205200"/>
                <a:ext cx="61092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Швидкість  доставк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17"/>
              <p:cNvSpPr/>
              <p:nvPr/>
            </p:nvSpPr>
            <p:spPr>
              <a:xfrm rot="5400000">
                <a:off x="1654920" y="1016280"/>
                <a:ext cx="64944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cfec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ctr" anchorCtr="1" vert="eaVert" rot="10800000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200" spc="-1" strike="noStrike">
                    <a:solidFill>
                      <a:srgbClr val="000000"/>
                    </a:solidFill>
                    <a:latin typeface="Tahoma"/>
                  </a:rPr>
                  <a:t>Спеціальні</a:t>
                </a:r>
                <a:r>
                  <a:rPr b="0" lang="ru-RU" sz="22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uk-UA" sz="2200" spc="-1" strike="noStrike">
                    <a:solidFill>
                      <a:srgbClr val="000000"/>
                    </a:solidFill>
                    <a:latin typeface="Tahoma"/>
                  </a:rPr>
                  <a:t>властивості</a:t>
                </a:r>
                <a:r>
                  <a:rPr b="0" lang="ru-RU" sz="2200" spc="-1" strike="noStrike">
                    <a:solidFill>
                      <a:srgbClr val="000000"/>
                    </a:solidFill>
                    <a:latin typeface="Tahoma"/>
                  </a:rPr>
                  <a:t> товар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18"/>
              <p:cNvSpPr/>
              <p:nvPr/>
            </p:nvSpPr>
            <p:spPr>
              <a:xfrm rot="5400000">
                <a:off x="1674000" y="1789200"/>
                <a:ext cx="61128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Розмір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заказ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19"/>
            <p:cNvGrpSpPr/>
            <p:nvPr/>
          </p:nvGrpSpPr>
          <p:grpSpPr>
            <a:xfrm>
              <a:off x="4284360" y="1628640"/>
              <a:ext cx="4606920" cy="2376360"/>
              <a:chOff x="4284360" y="1628640"/>
              <a:chExt cx="4606920" cy="2376360"/>
            </a:xfrm>
          </p:grpSpPr>
          <p:sp>
            <p:nvSpPr>
              <p:cNvPr id="446" name="AutoShape 20"/>
              <p:cNvSpPr/>
              <p:nvPr/>
            </p:nvSpPr>
            <p:spPr>
              <a:xfrm rot="5400000">
                <a:off x="5399640" y="513000"/>
                <a:ext cx="2376360" cy="4606920"/>
              </a:xfrm>
              <a:prstGeom prst="cube">
                <a:avLst>
                  <a:gd name="adj" fmla="val 199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daf6f6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21"/>
              <p:cNvSpPr/>
              <p:nvPr/>
            </p:nvSpPr>
            <p:spPr>
              <a:xfrm>
                <a:off x="4338720" y="1701720"/>
                <a:ext cx="4518000" cy="61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 fontScale="90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Чи варто фокусувати зусилля на компаніях, що потребують швидкої доставки товару / послузі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2"/>
              <p:cNvSpPr/>
              <p:nvPr/>
            </p:nvSpPr>
            <p:spPr>
              <a:xfrm>
                <a:off x="4338720" y="2566800"/>
                <a:ext cx="44640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 fontScale="86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Чи варто нам робити акцент на специфічних характеристиках нашого продукту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3"/>
              <p:cNvSpPr/>
              <p:nvPr/>
            </p:nvSpPr>
            <p:spPr>
              <a:xfrm>
                <a:off x="4338720" y="3359160"/>
                <a:ext cx="4537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"/>
                  </a:rPr>
                  <a:t>Чи варто нам фокусувати увагу на великих або невеликих замовленнях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24"/>
          <p:cNvGrpSpPr/>
          <p:nvPr/>
        </p:nvGrpSpPr>
        <p:grpSpPr>
          <a:xfrm>
            <a:off x="179280" y="4365720"/>
            <a:ext cx="8712000" cy="2378160"/>
            <a:chOff x="179280" y="4365720"/>
            <a:chExt cx="8712000" cy="2378160"/>
          </a:xfrm>
        </p:grpSpPr>
        <p:grpSp>
          <p:nvGrpSpPr>
            <p:cNvPr id="451" name="Group 25"/>
            <p:cNvGrpSpPr/>
            <p:nvPr/>
          </p:nvGrpSpPr>
          <p:grpSpPr>
            <a:xfrm>
              <a:off x="3833640" y="4583160"/>
              <a:ext cx="360360" cy="1943280"/>
              <a:chOff x="3833640" y="4583160"/>
              <a:chExt cx="360360" cy="1943280"/>
            </a:xfrm>
          </p:grpSpPr>
          <p:sp>
            <p:nvSpPr>
              <p:cNvPr id="452" name="AutoShape 26"/>
              <p:cNvSpPr/>
              <p:nvPr/>
            </p:nvSpPr>
            <p:spPr>
              <a:xfrm>
                <a:off x="3833640" y="613116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27"/>
              <p:cNvSpPr/>
              <p:nvPr/>
            </p:nvSpPr>
            <p:spPr>
              <a:xfrm>
                <a:off x="3833640" y="533880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28"/>
              <p:cNvSpPr/>
              <p:nvPr/>
            </p:nvSpPr>
            <p:spPr>
              <a:xfrm>
                <a:off x="3833640" y="4583160"/>
                <a:ext cx="360360" cy="39528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292934"/>
              </a:soli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29"/>
            <p:cNvGrpSpPr/>
            <p:nvPr/>
          </p:nvGrpSpPr>
          <p:grpSpPr>
            <a:xfrm>
              <a:off x="179280" y="4437360"/>
              <a:ext cx="3600720" cy="2195280"/>
              <a:chOff x="179280" y="4437360"/>
              <a:chExt cx="3600720" cy="2195280"/>
            </a:xfrm>
          </p:grpSpPr>
          <p:sp>
            <p:nvSpPr>
              <p:cNvPr id="456" name="AutoShape 30"/>
              <p:cNvSpPr/>
              <p:nvPr/>
            </p:nvSpPr>
            <p:spPr>
              <a:xfrm rot="5400000">
                <a:off x="1674000" y="2942280"/>
                <a:ext cx="61092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200" spc="-1" strike="noStrike">
                    <a:solidFill>
                      <a:srgbClr val="000000"/>
                    </a:solidFill>
                    <a:latin typeface="Tahoma"/>
                  </a:rPr>
                  <a:t>Подібність продавця і покупця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31"/>
              <p:cNvSpPr/>
              <p:nvPr/>
            </p:nvSpPr>
            <p:spPr>
              <a:xfrm rot="5400000">
                <a:off x="1654920" y="3753720"/>
                <a:ext cx="64944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cfec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200" spc="-1" strike="noStrike">
                    <a:solidFill>
                      <a:srgbClr val="000000"/>
                    </a:solidFill>
                    <a:latin typeface="Tahoma"/>
                  </a:rPr>
                  <a:t>Ставлення до ризику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AutoShape 32"/>
              <p:cNvSpPr/>
              <p:nvPr/>
            </p:nvSpPr>
            <p:spPr>
              <a:xfrm rot="5400000">
                <a:off x="1674000" y="4526640"/>
                <a:ext cx="611280" cy="3600720"/>
              </a:xfrm>
              <a:prstGeom prst="cube">
                <a:avLst>
                  <a:gd name="adj" fmla="val 11666"/>
                </a:avLst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dfec7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83880" rIns="83880" tIns="41400" bIns="41400" anchor="t" anchorCtr="1" vert="eaVert" rot="10800000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Лояльніст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3"/>
            <p:cNvGrpSpPr/>
            <p:nvPr/>
          </p:nvGrpSpPr>
          <p:grpSpPr>
            <a:xfrm>
              <a:off x="4284360" y="4365720"/>
              <a:ext cx="4606920" cy="2378160"/>
              <a:chOff x="4284360" y="4365720"/>
              <a:chExt cx="4606920" cy="2378160"/>
            </a:xfrm>
          </p:grpSpPr>
          <p:sp>
            <p:nvSpPr>
              <p:cNvPr id="460" name="AutoShape 34"/>
              <p:cNvSpPr/>
              <p:nvPr/>
            </p:nvSpPr>
            <p:spPr>
              <a:xfrm rot="5400000">
                <a:off x="5399640" y="3250080"/>
                <a:ext cx="2376360" cy="4606920"/>
              </a:xfrm>
              <a:prstGeom prst="cube">
                <a:avLst>
                  <a:gd name="adj" fmla="val 199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daf6f6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35"/>
              <p:cNvSpPr/>
              <p:nvPr/>
            </p:nvSpPr>
            <p:spPr>
              <a:xfrm>
                <a:off x="4338720" y="4438800"/>
                <a:ext cx="451800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 fontScale="85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Чи варто фокусуватися на компаніях, чиє сприйняття й система цінностей ідентичні нашим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36"/>
              <p:cNvSpPr/>
              <p:nvPr/>
            </p:nvSpPr>
            <p:spPr>
              <a:xfrm>
                <a:off x="4338720" y="5303880"/>
                <a:ext cx="4464000" cy="57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 fontScale="98000"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Tahoma"/>
                  </a:rPr>
                  <a:t>Чи варто нам фокусуватися на готових йти на ризик або консервативних споживачах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37"/>
              <p:cNvSpPr/>
              <p:nvPr/>
            </p:nvSpPr>
            <p:spPr>
              <a:xfrm>
                <a:off x="4338720" y="6096240"/>
                <a:ext cx="453708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1360" rIns="81360" tIns="39960" bIns="39960" anchor="t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uk-UA" sz="1600" spc="-1" strike="noStrike">
                    <a:solidFill>
                      <a:srgbClr val="000000"/>
                    </a:solidFill>
                    <a:latin typeface="Arial"/>
                  </a:rPr>
                  <a:t>Чи варто нам фокусуватися лише на споживачах, що відносяться до нас лояльно 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2"/>
          <p:cNvSpPr/>
          <p:nvPr/>
        </p:nvSpPr>
        <p:spPr>
          <a:xfrm>
            <a:off x="155520" y="3284640"/>
            <a:ext cx="89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сегментувати ринок взуття можна за такими озна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. За демографічним принцип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стать: чоловіче, жіноч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вік: дитяче, молодіжне, для середнього та старшого ві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. За стилями життя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спортивне, ділове, святкове 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. За соціально-економічними характеристиками споживачів: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ля широких верств населення, престижне модельне взут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3"/>
          <p:cNvSpPr/>
          <p:nvPr/>
        </p:nvSpPr>
        <p:spPr>
          <a:xfrm>
            <a:off x="179280" y="1343160"/>
            <a:ext cx="876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ПП “Чобіток” значно скоротилися обсяги збуту взуття. Підприємство не має чіткої програми маркетингової діяльності і не визначилося з вибором цільового сегмента. Потрібно провести сегментування ринку взуття за найпоширенішими озна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1"/>
          <a:stretch/>
        </p:blipFill>
        <p:spPr>
          <a:xfrm>
            <a:off x="558720" y="620640"/>
            <a:ext cx="844560" cy="57636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4"/>
          <p:cNvSpPr/>
          <p:nvPr/>
        </p:nvSpPr>
        <p:spPr>
          <a:xfrm>
            <a:off x="1357560" y="58572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Прикла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12628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Black"/>
              </a:rPr>
              <a:t>Позиціонування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84360" y="1483920"/>
            <a:ext cx="7920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292934"/>
                </a:solidFill>
                <a:uFillTx/>
                <a:latin typeface="Arial"/>
              </a:rPr>
              <a:t>Позиція товару</a:t>
            </a:r>
            <a:r>
              <a:rPr b="1" lang="uk-UA" sz="2600" spc="-1" strike="noStrike">
                <a:solidFill>
                  <a:srgbClr val="292934"/>
                </a:solidFill>
                <a:latin typeface="Arial"/>
              </a:rPr>
              <a:t> - місце, займане даним товаром або маркою у свідомості споживачів порівняно з аналогічними конкуруючими товарами</a:t>
            </a:r>
            <a:r>
              <a:rPr b="0" lang="uk-UA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24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292934"/>
                </a:solidFill>
                <a:uFillTx/>
                <a:latin typeface="Arial"/>
              </a:rPr>
              <a:t>Позиціонування</a:t>
            </a:r>
            <a:r>
              <a:rPr b="1" lang="uk-UA" sz="2600" spc="-1" strike="noStrike">
                <a:solidFill>
                  <a:srgbClr val="292934"/>
                </a:solidFill>
                <a:latin typeface="Arial"/>
              </a:rPr>
              <a:t> - дії з розробки пропозиції компанії, її іміджу, спрямовані на те, щоб зайняти відособлене сприятливе положення у свідомості цільової групи споживачів</a:t>
            </a:r>
            <a:r>
              <a:rPr b="0" lang="uk-UA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70" name="Picture 4" descr="images (9)"/>
          <p:cNvPicPr/>
          <p:nvPr/>
        </p:nvPicPr>
        <p:blipFill>
          <a:blip r:embed="rId1"/>
          <a:stretch/>
        </p:blipFill>
        <p:spPr>
          <a:xfrm>
            <a:off x="4788000" y="4941720"/>
            <a:ext cx="4114800" cy="1916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ph01606j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" y="1197000"/>
            <a:ext cx="8686800" cy="53560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543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ff"/>
                </a:solidFill>
                <a:latin typeface="Arial Black"/>
              </a:rPr>
              <a:t>Позиціонування товару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250920" y="1557360"/>
            <a:ext cx="3581280" cy="1752480"/>
            <a:chOff x="250920" y="1557360"/>
            <a:chExt cx="3581280" cy="1752480"/>
          </a:xfrm>
        </p:grpSpPr>
        <p:sp>
          <p:nvSpPr>
            <p:cNvPr id="474" name="AutoShape 5"/>
            <p:cNvSpPr/>
            <p:nvPr/>
          </p:nvSpPr>
          <p:spPr>
            <a:xfrm>
              <a:off x="361800" y="1557360"/>
              <a:ext cx="3353040" cy="1752480"/>
            </a:xfrm>
            <a:prstGeom prst="downArrowCallout">
              <a:avLst>
                <a:gd name="adj1" fmla="val 47837"/>
                <a:gd name="adj2" fmla="val 47833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6"/>
            <p:cNvSpPr/>
            <p:nvPr/>
          </p:nvSpPr>
          <p:spPr>
            <a:xfrm>
              <a:off x="250920" y="1557360"/>
              <a:ext cx="35812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ff0000"/>
                  </a:solidFill>
                  <a:latin typeface="Tahoma"/>
                </a:rPr>
                <a:t>Шаг 1.</a:t>
              </a:r>
              <a:r>
                <a:rPr b="1" lang="uk-UA" sz="2100" spc="-1" strike="noStrike">
                  <a:solidFill>
                    <a:srgbClr val="000000"/>
                  </a:solidFill>
                  <a:latin typeface="Tahoma"/>
                </a:rPr>
                <a:t> Визначити можливі конкурентні перева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7"/>
          <p:cNvGrpSpPr/>
          <p:nvPr/>
        </p:nvGrpSpPr>
        <p:grpSpPr>
          <a:xfrm>
            <a:off x="2771640" y="3141720"/>
            <a:ext cx="3886200" cy="1752480"/>
            <a:chOff x="2771640" y="3141720"/>
            <a:chExt cx="3886200" cy="1752480"/>
          </a:xfrm>
        </p:grpSpPr>
        <p:sp>
          <p:nvSpPr>
            <p:cNvPr id="477" name="AutoShape 8"/>
            <p:cNvSpPr/>
            <p:nvPr/>
          </p:nvSpPr>
          <p:spPr>
            <a:xfrm>
              <a:off x="2771640" y="3141720"/>
              <a:ext cx="3810240" cy="1752480"/>
            </a:xfrm>
            <a:prstGeom prst="downArrowCallout">
              <a:avLst>
                <a:gd name="adj1" fmla="val 54360"/>
                <a:gd name="adj2" fmla="val 54355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9"/>
            <p:cNvSpPr/>
            <p:nvPr/>
          </p:nvSpPr>
          <p:spPr>
            <a:xfrm>
              <a:off x="2771640" y="3141720"/>
              <a:ext cx="388620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ff0000"/>
                  </a:solidFill>
                  <a:latin typeface="Tahoma"/>
                </a:rPr>
                <a:t>Шаг 2.</a:t>
              </a:r>
              <a:r>
                <a:rPr b="1" lang="uk-UA" sz="21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Вибрати перспективні конкурентні перева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10"/>
          <p:cNvGrpSpPr/>
          <p:nvPr/>
        </p:nvGrpSpPr>
        <p:grpSpPr>
          <a:xfrm>
            <a:off x="5562720" y="4724280"/>
            <a:ext cx="3352680" cy="1752840"/>
            <a:chOff x="5562720" y="4724280"/>
            <a:chExt cx="3352680" cy="1752840"/>
          </a:xfrm>
        </p:grpSpPr>
        <p:sp>
          <p:nvSpPr>
            <p:cNvPr id="480" name="AutoShape 11"/>
            <p:cNvSpPr/>
            <p:nvPr/>
          </p:nvSpPr>
          <p:spPr>
            <a:xfrm>
              <a:off x="5638680" y="4724280"/>
              <a:ext cx="3276720" cy="1752840"/>
            </a:xfrm>
            <a:prstGeom prst="downArrowCallout">
              <a:avLst>
                <a:gd name="adj1" fmla="val 46739"/>
                <a:gd name="adj2" fmla="val 46734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562720" y="4724280"/>
              <a:ext cx="3352680" cy="10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ff0000"/>
                  </a:solidFill>
                  <a:latin typeface="Tahoma"/>
                </a:rPr>
                <a:t>Шаг 3.</a:t>
              </a:r>
              <a:r>
                <a:rPr b="1" lang="uk-UA" sz="21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uk-UA" sz="2100" spc="-1" strike="noStrike">
                  <a:solidFill>
                    <a:srgbClr val="000000"/>
                  </a:solidFill>
                  <a:latin typeface="Arial"/>
                </a:rPr>
                <a:t>Довести і представити обрану позиці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6634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Arial Black"/>
              </a:rPr>
              <a:t>Диференціація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50920" y="1771560"/>
            <a:ext cx="864216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292934"/>
                </a:solidFill>
                <a:uFillTx/>
                <a:latin typeface="Arial Black"/>
              </a:rPr>
              <a:t>Диференціація</a:t>
            </a:r>
            <a:r>
              <a:rPr b="0" lang="uk-UA" sz="2600" spc="-1" strike="noStrike">
                <a:solidFill>
                  <a:srgbClr val="292934"/>
                </a:solidFill>
                <a:latin typeface="Arial"/>
              </a:rPr>
              <a:t> – запровадження у виробництво (продаж) нових номенклатурних </a:t>
            </a:r>
            <a:r>
              <a:rPr b="0" lang="ru-RU" sz="2600" spc="-1" strike="noStrike">
                <a:solidFill>
                  <a:srgbClr val="292934"/>
                </a:solidFill>
                <a:latin typeface="Arial"/>
              </a:rPr>
              <a:t>груп (продуктових ліній</a:t>
            </a:r>
            <a:r>
              <a:rPr b="0" lang="uk-UA" sz="26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292934"/>
                </a:solidFill>
                <a:uFillTx/>
                <a:latin typeface="Arial Black"/>
              </a:rPr>
              <a:t>Конкурентна перевага</a:t>
            </a:r>
            <a:r>
              <a:rPr b="0" lang="uk-UA" sz="2600" spc="-1" strike="noStrike">
                <a:solidFill>
                  <a:srgbClr val="292934"/>
                </a:solidFill>
                <a:latin typeface="Arial Black"/>
              </a:rPr>
              <a:t> </a:t>
            </a:r>
            <a:r>
              <a:rPr b="0" lang="uk-UA" sz="2600" spc="-1" strike="noStrike">
                <a:solidFill>
                  <a:srgbClr val="292934"/>
                </a:solidFill>
                <a:latin typeface="Arial"/>
              </a:rPr>
              <a:t>– перевага, що отримується компанією над конкурентами, за допомогою пропозиції споживачам більшої цінності або за рахунок більш низьких цін, або за рахунок великих вигод, що компенсують більш високі ціни на товари та послуги.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-457200" y="6443640"/>
            <a:ext cx="23590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2562120" y="6443640"/>
            <a:ext cx="358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d8f67"/>
                </a:solidFill>
                <a:latin typeface="Arial Black"/>
              </a:rPr>
              <a:t>Конкурентні переваг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250920" y="155736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 Black"/>
              </a:rPr>
              <a:t>Диференціація </a:t>
            </a: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за товар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фективність використ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вговіч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ій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ь та диз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монтопридат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6" descr="загруженное"/>
          <p:cNvPicPr/>
          <p:nvPr/>
        </p:nvPicPr>
        <p:blipFill>
          <a:blip r:embed="rId1"/>
          <a:stretch/>
        </p:blipFill>
        <p:spPr>
          <a:xfrm>
            <a:off x="5364000" y="3716280"/>
            <a:ext cx="3313440" cy="22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	</a:t>
            </a:r>
            <a:r>
              <a:rPr b="0" i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Потенціал ринку – </a:t>
            </a:r>
            <a:r>
              <a:rPr b="0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це прогнозована сукупність виробничих та споживчих сил, які обумовлюють попит і пропозицію</a:t>
            </a:r>
            <a:r>
              <a:rPr b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. 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7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	</a:t>
            </a:r>
            <a:r>
              <a:rPr b="1" lang="uk-UA" sz="2800" spc="-1" strike="noStrike">
                <a:solidFill>
                  <a:srgbClr val="292934"/>
                </a:solidFill>
                <a:latin typeface="Arial"/>
                <a:ea typeface="Arial"/>
              </a:rPr>
              <a:t>      </a:t>
            </a:r>
            <a:r>
              <a:rPr b="0" lang="uk-UA" sz="2800" spc="-1" strike="noStrike" u="sng">
                <a:solidFill>
                  <a:srgbClr val="292934"/>
                </a:solidFill>
                <a:uFillTx/>
                <a:latin typeface="Arial"/>
                <a:ea typeface="Arial"/>
              </a:rPr>
              <a:t>Складовими елементами є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-36360" y="2503440"/>
            <a:ext cx="7850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2929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робнич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тенціал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визначає можливість виробити і поставити на ринок певний обсяг товар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29293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оживчий потенціал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-  можливість спожити певну кількість товар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робничий потенціал фірми визначається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сукупністю його товар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споживчий – </a:t>
            </a: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сегментом ринк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на який фірма орієнтує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61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22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-457200" y="6443640"/>
            <a:ext cx="23590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2562120" y="6443640"/>
            <a:ext cx="358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280" y="1224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d8f67"/>
                </a:solidFill>
                <a:latin typeface="Arial Black"/>
              </a:rPr>
              <a:t>Конкурентні переваг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250920" y="177336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Диференціація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за </a:t>
            </a:r>
            <a:r>
              <a:rPr b="1" lang="uk-UA" sz="2800" spc="-1" strike="noStrike">
                <a:solidFill>
                  <a:srgbClr val="000000"/>
                </a:solidFill>
                <a:latin typeface="Arial Black"/>
              </a:rPr>
              <a:t>послугами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стота замов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ст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станов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монтні по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вчання спожи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ультації споживач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даткові по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6" descr="loading-workmans"/>
          <p:cNvPicPr/>
          <p:nvPr/>
        </p:nvPicPr>
        <p:blipFill>
          <a:blip r:embed="rId1"/>
          <a:stretch/>
        </p:blipFill>
        <p:spPr>
          <a:xfrm>
            <a:off x="5292720" y="2511360"/>
            <a:ext cx="354816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-457200" y="6443640"/>
            <a:ext cx="23590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2562120" y="6443640"/>
            <a:ext cx="358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d8f67"/>
                </a:solidFill>
                <a:latin typeface="Arial Black"/>
              </a:rPr>
              <a:t>Конкурентні переваг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250920" y="1701720"/>
            <a:ext cx="856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иференціація по персон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мпетентність, чемність, здатність вселяти довіру, надійність, чуйність, уміння спілкувати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иференціація за каналом розподі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иференціація за імідж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загруженное (1)"/>
          <p:cNvPicPr/>
          <p:nvPr/>
        </p:nvPicPr>
        <p:blipFill>
          <a:blip r:embed="rId1"/>
          <a:stretch/>
        </p:blipFill>
        <p:spPr>
          <a:xfrm>
            <a:off x="2987640" y="1125360"/>
            <a:ext cx="2808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61832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Кон’юнктура ринку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2000" y="1125360"/>
            <a:ext cx="8280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292934"/>
                </a:solidFill>
                <a:latin typeface="Times New Roman"/>
              </a:rPr>
              <a:t>	</a:t>
            </a:r>
            <a:r>
              <a:rPr b="1" i="1" lang="uk-UA" sz="2800" spc="-1" strike="noStrike">
                <a:solidFill>
                  <a:srgbClr val="292934"/>
                </a:solidFill>
                <a:latin typeface="Times New Roman"/>
              </a:rPr>
              <a:t>Кон'юнктура</a:t>
            </a:r>
            <a:r>
              <a:rPr b="1" i="1" lang="ru-RU" sz="2800" spc="-1" strike="noStrike">
                <a:solidFill>
                  <a:srgbClr val="292934"/>
                </a:solidFill>
                <a:latin typeface="Times New Roman"/>
              </a:rPr>
              <a:t> ринку - </a:t>
            </a:r>
            <a:r>
              <a:rPr b="1" i="1" lang="uk-UA" sz="2800" spc="-1" strike="noStrike">
                <a:solidFill>
                  <a:srgbClr val="292934"/>
                </a:solidFill>
                <a:latin typeface="Times New Roman"/>
              </a:rPr>
              <a:t>це економічна ситуація, що склалася на</a:t>
            </a:r>
            <a:r>
              <a:rPr b="1" i="1" lang="ru-RU" sz="2800" spc="-1" strike="noStrike">
                <a:solidFill>
                  <a:srgbClr val="292934"/>
                </a:solidFill>
                <a:latin typeface="Times New Roman"/>
              </a:rPr>
              <a:t> ринку </a:t>
            </a:r>
            <a:r>
              <a:rPr b="1" i="1" lang="uk-UA" sz="2800" spc="-1" strike="noStrike">
                <a:solidFill>
                  <a:srgbClr val="292934"/>
                </a:solidFill>
                <a:latin typeface="Times New Roman"/>
              </a:rPr>
              <a:t>стосовно попиту, пропозиції, рівня цін, товарних запасів, становища основних фірм - конкурентів</a:t>
            </a:r>
            <a:r>
              <a:rPr b="1" i="1" lang="ru-RU" sz="2800" spc="-1" strike="noStrike">
                <a:solidFill>
                  <a:srgbClr val="29293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292934"/>
                </a:solidFill>
                <a:uFillTx/>
                <a:latin typeface="Times New Roman"/>
              </a:rPr>
              <a:t>Для оцінки ринкової кон'юнктури застосовують ринкові індикатори</a:t>
            </a:r>
            <a:r>
              <a:rPr b="1" lang="uk-UA" sz="2800" spc="-1" strike="noStrike">
                <a:solidFill>
                  <a:srgbClr val="2929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292934"/>
                </a:solidFill>
                <a:latin typeface="Times New Roman"/>
              </a:rPr>
              <a:t>Ціни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292934"/>
                </a:solidFill>
                <a:latin typeface="Times New Roman"/>
              </a:rPr>
              <a:t>Продуктові запаси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292934"/>
                </a:solidFill>
                <a:latin typeface="Times New Roman"/>
              </a:rPr>
              <a:t>Показники ділової активності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15" name="Picture 4" descr="4ab38017bb4a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4149720"/>
            <a:ext cx="1327320" cy="1871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stat7201"/>
          <p:cNvPicPr/>
          <p:nvPr/>
        </p:nvPicPr>
        <p:blipFill>
          <a:blip r:embed="rId3"/>
          <a:stretch/>
        </p:blipFill>
        <p:spPr>
          <a:xfrm>
            <a:off x="7164360" y="357336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_picture_file_path_5844"/>
          <p:cNvPicPr/>
          <p:nvPr/>
        </p:nvPicPr>
        <p:blipFill>
          <a:blip r:embed="rId4"/>
          <a:stretch/>
        </p:blipFill>
        <p:spPr>
          <a:xfrm>
            <a:off x="7093080" y="501336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24000" y="476280"/>
            <a:ext cx="8496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2533c"/>
                </a:solidFill>
                <a:latin typeface="Times New Roman"/>
              </a:rPr>
              <a:t>Види кон'юнктури</a:t>
            </a:r>
            <a:r>
              <a:rPr b="1" lang="ru-RU" sz="3200" spc="-1" strike="noStrike">
                <a:solidFill>
                  <a:srgbClr val="d2533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ростаюча кон′юнктур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спостерігається в умовах продуктового дефіцит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сока кон′юнктур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характеризується відносною стійкістю високих цін і найбільшою активністю споживачів та постачальник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Спадна кон′юнктур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спостерігається в умовах затоварювання ринк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929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изька кон′юнктур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характеризується стабільно низькими цінами і пасивністю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суб′єктів р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186920" y="404280"/>
            <a:ext cx="7705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</a:rPr>
              <a:t>Вивчення і прогнозування кон'юнктури ринку здійснюють у такій послідовності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Загальне оцінювання особливостей даного товарного ринку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Вивчення динаміки виробництва товару,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Аналіз використання наявних виробничих потужностей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Аналіз попиту і  пропозиції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Аналіз товару і його збуту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Аналіз динаміки цін і факторів, які впливають на їх зміну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Вивчення конкурентів, аналіз їх сильних і слабких сторін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buClr>
                <a:srgbClr val="47534c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292934"/>
                </a:solidFill>
                <a:latin typeface="Times New Roman"/>
              </a:rPr>
              <a:t>Аналіз експортно-імпортних відносин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4680000" y="119700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341280" y="1844640"/>
            <a:ext cx="504720" cy="4248360"/>
          </a:xfrm>
          <a:prstGeom prst="downArrow">
            <a:avLst>
              <a:gd name="adj1" fmla="val 50000"/>
              <a:gd name="adj2" fmla="val 210432"/>
            </a:avLst>
          </a:prstGeom>
          <a:solidFill>
            <a:srgbClr val="93a299"/>
          </a:solidFill>
          <a:ln w="93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Етапи сегментування ринку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395280" y="2917800"/>
            <a:ext cx="8064360" cy="3751200"/>
            <a:chOff x="395280" y="2917800"/>
            <a:chExt cx="8064360" cy="3751200"/>
          </a:xfrm>
        </p:grpSpPr>
        <p:sp>
          <p:nvSpPr>
            <p:cNvPr id="324" name="Text Box 4"/>
            <p:cNvSpPr/>
            <p:nvPr/>
          </p:nvSpPr>
          <p:spPr>
            <a:xfrm>
              <a:off x="395280" y="2917800"/>
              <a:ext cx="5614920" cy="12142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4000"/>
            </a:bodyPr>
            <a:p>
              <a:pPr marL="250560" indent="-2505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егментування рин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50560" indent="-250560">
                <a:buClr>
                  <a:srgbClr val="292934"/>
                </a:buClr>
                <a:buSzPct val="8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изначення принципів сегментування і сегментування рин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50560" indent="-250560">
                <a:buClr>
                  <a:srgbClr val="292934"/>
                </a:buClr>
                <a:buSzPct val="85000"/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кладання профілю кожного сегмен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5"/>
            <p:cNvSpPr/>
            <p:nvPr/>
          </p:nvSpPr>
          <p:spPr>
            <a:xfrm>
              <a:off x="1187280" y="4298760"/>
              <a:ext cx="5902560" cy="99540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8be8ff"/>
                </a:gs>
              </a:gsLst>
              <a:lin ang="5400000"/>
            </a:gradFill>
            <a:ln w="1260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61360" indent="-261360" algn="ctr"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Вибір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цільових 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сегментів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рин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61360" indent="-261360"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цінка привабливості сегмент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61360" indent="-261360"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4.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ибі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одного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б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декілько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цільових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егмент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6"/>
            <p:cNvSpPr/>
            <p:nvPr/>
          </p:nvSpPr>
          <p:spPr>
            <a:xfrm>
              <a:off x="1979640" y="5438520"/>
              <a:ext cx="6480000" cy="123048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5ddfff"/>
                </a:gs>
              </a:gsLst>
              <a:lin ang="5400000"/>
            </a:gradFill>
            <a:ln w="1260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253080" indent="-25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зиціонування товару на ринк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53080" indent="-25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.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озробка можливих концепцій позиціонування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53080" indent="-25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6. Розробка маркетингового комплексу для кожного цільового сегмен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Rectangle 7"/>
          <p:cNvSpPr/>
          <p:nvPr/>
        </p:nvSpPr>
        <p:spPr>
          <a:xfrm>
            <a:off x="324000" y="1413000"/>
            <a:ext cx="842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гментування ринку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поділ ринку на чіткі групи покупців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их можуть вимагати різні продукти до яких необхідно додавати різні маркетингові зусил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492360" y="4149720"/>
            <a:ext cx="0" cy="142920"/>
          </a:xfrm>
          <a:prstGeom prst="line">
            <a:avLst/>
          </a:prstGeom>
          <a:ln w="5724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4284720" y="5300640"/>
            <a:ext cx="0" cy="142920"/>
          </a:xfrm>
          <a:prstGeom prst="line">
            <a:avLst/>
          </a:prstGeom>
          <a:ln w="57240">
            <a:solidFill>
              <a:srgbClr val="2929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561440" cy="92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 Black"/>
              </a:rPr>
              <a:t>Рівні сегментування ринку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0" y="1700280"/>
            <a:ext cx="9144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Закон Паретто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"закон 80:20"):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ільки 20% покупців приносять фірмі 80% доходу, представляючи собою узагальнену групу цільових клієнтів фір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 rot="5400000">
            <a:off x="3384000" y="152280"/>
            <a:ext cx="1727280" cy="770580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93a299"/>
              </a:gs>
              <a:gs pos="50000">
                <a:srgbClr val="dee3e0"/>
              </a:gs>
              <a:gs pos="100000">
                <a:srgbClr val="93a299"/>
              </a:gs>
            </a:gsLst>
            <a:lin ang="18900000"/>
          </a:gradFill>
          <a:ln w="12600">
            <a:solidFill>
              <a:srgbClr val="0505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Масовий маркет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дин і той же товар для всіх споживач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(немає сегментації, наприклад цукор, Ford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 rot="5400000">
            <a:off x="3707280" y="1627920"/>
            <a:ext cx="1729080" cy="792144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009688"/>
              </a:gs>
              <a:gs pos="50000">
                <a:srgbClr val="b2dfdb"/>
              </a:gs>
              <a:gs pos="100000">
                <a:srgbClr val="009688"/>
              </a:gs>
            </a:gsLst>
            <a:lin ang="18900000"/>
          </a:gradFill>
          <a:ln w="12600">
            <a:solidFill>
              <a:srgbClr val="0505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аркетинг сег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ізні товари для різних сегме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деяка сегментація, наприклад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odak, Velcom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 rot="5400000">
            <a:off x="3659400" y="-1491120"/>
            <a:ext cx="1751040" cy="7848360"/>
          </a:xfrm>
          <a:prstGeom prst="cube">
            <a:avLst>
              <a:gd name="adj" fmla="val 14578"/>
            </a:avLst>
          </a:prstGeom>
          <a:gradFill rotWithShape="0">
            <a:gsLst>
              <a:gs pos="0">
                <a:srgbClr val="93a299"/>
              </a:gs>
              <a:gs pos="50000">
                <a:srgbClr val="dee3e0"/>
              </a:gs>
              <a:gs pos="100000">
                <a:srgbClr val="93a299"/>
              </a:gs>
            </a:gsLst>
            <a:lin ang="18900000"/>
          </a:gradFill>
          <a:ln w="12600">
            <a:solidFill>
              <a:srgbClr val="0505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Маркетинг н</a:t>
            </a:r>
            <a:r>
              <a:rPr b="0" lang="uk-UA" sz="2600" spc="-1" strike="noStrike">
                <a:solidFill>
                  <a:srgbClr val="000000"/>
                </a:solidFill>
                <a:latin typeface="Arial Black"/>
              </a:rPr>
              <a:t>і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ізні товари для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ідгруп, які існують всередині сегментів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(більше сегментації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наприклад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rra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AutoShape 3"/>
          <p:cNvGrpSpPr/>
          <p:nvPr/>
        </p:nvGrpSpPr>
        <p:grpSpPr>
          <a:xfrm>
            <a:off x="682560" y="3279600"/>
            <a:ext cx="7858080" cy="1756080"/>
            <a:chOff x="682560" y="3279600"/>
            <a:chExt cx="7858080" cy="1756080"/>
          </a:xfrm>
        </p:grpSpPr>
        <p:pic>
          <p:nvPicPr>
            <p:cNvPr id="336" name="AutoShape 3" descr=""/>
            <p:cNvPicPr/>
            <p:nvPr/>
          </p:nvPicPr>
          <p:blipFill>
            <a:blip r:embed="rId1"/>
            <a:stretch/>
          </p:blipFill>
          <p:spPr>
            <a:xfrm>
              <a:off x="682560" y="3279600"/>
              <a:ext cx="78580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 rot="5400000">
              <a:off x="3737880" y="233640"/>
              <a:ext cx="1488960" cy="75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600" spc="-1" strike="noStrike">
                  <a:solidFill>
                    <a:srgbClr val="000000"/>
                  </a:solidFill>
                  <a:latin typeface="Arial Black"/>
                </a:rPr>
                <a:t>Мікромаркетинг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Tahoma"/>
                </a:rPr>
                <a:t>Маркетингові програми для певних покупців і вузьких географічних сегментів </a:t>
              </a:r>
              <a:r>
                <a:rPr b="0" i="1" lang="uk-UA" sz="2400" spc="-1" strike="noStrike">
                  <a:solidFill>
                    <a:srgbClr val="000000"/>
                  </a:solidFill>
                  <a:latin typeface="Tahoma"/>
                </a:rPr>
                <a:t>(повна сегментація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 Black"/>
              </a:rPr>
              <a:t>Рівні сегментування ринку   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339" name="Group 5" descr=""/>
          <p:cNvPicPr/>
          <p:nvPr/>
        </p:nvPicPr>
        <p:blipFill>
          <a:blip r:embed="rId2"/>
          <a:stretch/>
        </p:blipFill>
        <p:spPr>
          <a:xfrm>
            <a:off x="237960" y="4737240"/>
            <a:ext cx="3810240" cy="1949400"/>
          </a:xfrm>
          <a:prstGeom prst="rect">
            <a:avLst/>
          </a:prstGeom>
          <a:ln w="0">
            <a:noFill/>
          </a:ln>
        </p:spPr>
      </p:pic>
      <p:pic>
        <p:nvPicPr>
          <p:cNvPr id="340" name="Group 8" descr=""/>
          <p:cNvPicPr/>
          <p:nvPr/>
        </p:nvPicPr>
        <p:blipFill>
          <a:blip r:embed="rId3"/>
          <a:stretch/>
        </p:blipFill>
        <p:spPr>
          <a:xfrm>
            <a:off x="4322880" y="4737240"/>
            <a:ext cx="4370400" cy="19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4"/>
          <p:cNvGrpSpPr/>
          <p:nvPr/>
        </p:nvGrpSpPr>
        <p:grpSpPr>
          <a:xfrm>
            <a:off x="0" y="1663560"/>
            <a:ext cx="9144000" cy="5194440"/>
            <a:chOff x="0" y="1663560"/>
            <a:chExt cx="9144000" cy="5194440"/>
          </a:xfrm>
        </p:grpSpPr>
        <p:pic>
          <p:nvPicPr>
            <p:cNvPr id="342" name="Picture 2" descr="ph02541j"/>
            <p:cNvPicPr/>
            <p:nvPr/>
          </p:nvPicPr>
          <p:blipFill>
            <a:blip r:embed="rId1"/>
            <a:stretch/>
          </p:blipFill>
          <p:spPr>
            <a:xfrm>
              <a:off x="0" y="1663560"/>
              <a:ext cx="9144000" cy="519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3" name="Group 4"/>
            <p:cNvGrpSpPr/>
            <p:nvPr/>
          </p:nvGrpSpPr>
          <p:grpSpPr>
            <a:xfrm>
              <a:off x="755640" y="4797360"/>
              <a:ext cx="7772400" cy="1584000"/>
              <a:chOff x="755640" y="4797360"/>
              <a:chExt cx="7772400" cy="1584000"/>
            </a:xfrm>
          </p:grpSpPr>
          <p:sp>
            <p:nvSpPr>
              <p:cNvPr id="344" name="AutoShape 5"/>
              <p:cNvSpPr/>
              <p:nvPr/>
            </p:nvSpPr>
            <p:spPr>
              <a:xfrm rot="10800000">
                <a:off x="755640" y="4797360"/>
                <a:ext cx="7772400" cy="15840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628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6"/>
              <p:cNvSpPr/>
              <p:nvPr/>
            </p:nvSpPr>
            <p:spPr>
              <a:xfrm>
                <a:off x="2395440" y="4940280"/>
                <a:ext cx="431964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Щільність населення міста, передмістя, сільська місцеві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7"/>
            <p:cNvGrpSpPr/>
            <p:nvPr/>
          </p:nvGrpSpPr>
          <p:grpSpPr>
            <a:xfrm>
              <a:off x="755640" y="3645000"/>
              <a:ext cx="7772400" cy="1302840"/>
              <a:chOff x="755640" y="3645000"/>
              <a:chExt cx="7772400" cy="1302840"/>
            </a:xfrm>
          </p:grpSpPr>
          <p:sp>
            <p:nvSpPr>
              <p:cNvPr id="347" name="AutoShape 8"/>
              <p:cNvSpPr/>
              <p:nvPr/>
            </p:nvSpPr>
            <p:spPr>
              <a:xfrm rot="10800000">
                <a:off x="755640" y="3652200"/>
                <a:ext cx="7772400" cy="1295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628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9"/>
              <p:cNvSpPr/>
              <p:nvPr/>
            </p:nvSpPr>
            <p:spPr>
              <a:xfrm>
                <a:off x="1746360" y="3645000"/>
                <a:ext cx="5715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Розмір міста: меньше 1,000, 1,000-10,000, 10,000-50,000, 50,000-100,000,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000" spc="-1" strike="noStrike">
                    <a:solidFill>
                      <a:srgbClr val="000000"/>
                    </a:solidFill>
                    <a:latin typeface="Tahoma"/>
                  </a:rPr>
                  <a:t>100,000-250,000 та ін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0"/>
            <p:cNvGrpSpPr/>
            <p:nvPr/>
          </p:nvGrpSpPr>
          <p:grpSpPr>
            <a:xfrm>
              <a:off x="611280" y="2492280"/>
              <a:ext cx="7772400" cy="1152720"/>
              <a:chOff x="611280" y="2492280"/>
              <a:chExt cx="7772400" cy="1152720"/>
            </a:xfrm>
          </p:grpSpPr>
          <p:sp>
            <p:nvSpPr>
              <p:cNvPr id="350" name="AutoShape 11"/>
              <p:cNvSpPr/>
              <p:nvPr/>
            </p:nvSpPr>
            <p:spPr>
              <a:xfrm rot="10800000">
                <a:off x="611280" y="2491920"/>
                <a:ext cx="7772400" cy="1152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6280">
                <a:solidFill>
                  <a:srgbClr val="2929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2"/>
              <p:cNvSpPr/>
              <p:nvPr/>
            </p:nvSpPr>
            <p:spPr>
              <a:xfrm>
                <a:off x="1525680" y="2683080"/>
                <a:ext cx="57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000000"/>
                    </a:solidFill>
                    <a:latin typeface="Tahoma"/>
                  </a:rPr>
                  <a:t>Регіон: області, регіон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327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ahoma"/>
              </a:rPr>
              <a:t>Сегментування ринку за географічною ознакою</a:t>
            </a:r>
            <a:endParaRPr b="0" lang="en-US" sz="32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6:51:54Z</dcterms:created>
  <dc:creator>Valek</dc:creator>
  <dc:description/>
  <dc:language>en-US</dc:language>
  <cp:lastModifiedBy>RePack by Diakov</cp:lastModifiedBy>
  <dcterms:modified xsi:type="dcterms:W3CDTF">2021-10-10T13:27:33Z</dcterms:modified>
  <cp:revision>79</cp:revision>
  <dc:subject/>
  <dc:title>Маркетинговая среда компании</dc:title>
</cp:coreProperties>
</file>