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713-DE7E-4032-BBE5-83F881B8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14B-97F3-4C0A-B80B-3EC8866D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B30-5F92-4F01-B3C4-A9501547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398-0855-418B-B318-7DC6E87A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25D8-76C1-48AE-83B7-141D4577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4640-4913-43CC-A650-38C9D019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773F-6ACF-49CB-81ED-69685F5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12B7-3950-4D88-B1F7-7B97D7B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A920-61AF-427F-B769-BC9332E0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062-B5FF-4815-AB18-E90C4F8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D2E1-04C8-454A-9FC4-B6B94D9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538-2D4E-43F3-ADF1-0A6CAFC6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A42-21F2-406C-9AE7-953EDA29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9168-155C-4ACA-972F-443D4EB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CE04-F66A-425B-9175-FAC3F133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563F-B763-4DFF-9029-F5C032A9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AABD-16C2-4D7A-8830-4885B298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8BC7-15C3-4BB6-B5B4-1F1CC52A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7BF3-C302-45E1-B575-09873A2A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8DB6-4C83-44F1-9ABA-25BEDAC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48BD-E4BE-4D2E-A7D2-E252C592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5735-6AA6-441B-807D-93512922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4B2-736D-4004-AE04-AD1813BB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F1BD-0BA3-4C2E-AAE9-B48952F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C787-9785-4931-8120-87AB19B7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1673-CA12-4A3A-800F-27DE5757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C400-1B08-4950-A6C3-51C8CCB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1618-4864-428F-84C5-A4567A0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D570-52C8-4784-91BA-A2FC8070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9626-76B7-4355-AD06-D0CFDC9D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2EBD-2E83-443A-B2CA-0B51F05C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715A-A64B-482C-B299-FE61F93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94CD-0C06-469D-95FA-E6FFDEA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8EE-39A5-4367-9599-626404A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41F33-944E-4A38-8460-77D98044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C2A5-292C-41A5-B1E7-C1DEEB92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D3A5-BE8A-4A36-BACA-0655808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4E25-0865-4F87-B13F-27DD4C14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B5F2-6FFF-47AA-B8AB-C63FF8D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D330-6575-42DF-B9E3-5951C0C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2A7F-950B-4E03-98ED-97D79B34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0608-24C8-4D89-93EF-D31F3795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182E-D5FD-4E6B-B0F8-1ECA640C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5AA94-326E-4B9A-B981-D44D646E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CB0-7AFA-4763-BBA6-7192F1B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98921-DDC4-4D02-A1CA-BB2BF13F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2DFD-5969-45BC-870B-FFDCC47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AC3D-D92A-4BF6-9602-4E94FA4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F3B9-EA0F-4BD1-BE79-802C035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FD10-A51A-4429-96AF-2002D67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531C-8C36-48F2-AC3A-C2340D0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1C30-DDF2-45C3-A030-DE96D6D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B964-8309-4870-8127-F31D3513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B6BC-EA1E-4199-8210-6561A625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06F9-24E1-4F3A-AF57-8941A9E8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BB7-7DAC-4B5D-814F-BAAEF441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9BCC-FBAE-47CD-8169-8353DC96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718A9-C029-44BD-9FDC-833B65CA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8CD43-3201-49BD-B382-C7E9CF85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56E82-4F03-4C4B-AD52-97609328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0690D-A97A-4B9B-BAC0-5F3B2AA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9A5A-BE7B-4125-A30A-9CFB81F7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690DD-53E8-467B-AB76-1FE2ABC5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3CED-7877-41C4-B43D-2D713DB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90DEF-AE55-4C10-9648-CD3875FC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48A0-12F9-4DCF-A781-F046614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DD1-9477-4282-95BC-A71A44E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32DC-562D-49A5-9B2D-B1751FE6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9D68-A5DD-43D3-BFEE-87E21B3B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64597-0B43-4D83-8821-A6D05ADF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85AF3-5422-407C-B00D-611CEF66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DF6E8-D1BE-4F39-9011-16CB835D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61B1-F53D-4A7B-BA6C-2B4CA62F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95EC-C1E2-4FD7-B461-C4192E9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4FB1B-DEDD-4816-ADAB-9C73D408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A9B9B-1626-44B4-90E7-B867FFF4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D5D38-7351-4260-A4B4-6F28540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DBC-06FF-4F63-8394-58D2927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97180-3EA3-4364-A719-C1FD802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A5CD-B860-4E49-92BB-9E31EB4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B6C8-F8A4-4DAD-9AFD-E2563F27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7DF9F-5243-4AF1-B4C7-5F0094C9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FC7D-2800-44A6-9E69-5A0CA8D8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903-51D1-4DA9-9A4C-4DD9349C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4B1D-B2D8-478A-B0CE-F8AD4D91C5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5B43-2FE9-4ADD-9FE9-90DB6A8613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1083-B020-4172-9877-B80DBCD53E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85C0-35D0-47C2-8291-5D6F54B4B8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4954-7E85-42A0-960B-6551E86C86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221C-3E52-4D9E-A2DE-877FFC123E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AA61-59FA-49A6-B590-DCC1F6C19F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7200" y="356760"/>
            <a:ext cx="7407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Тема 7. СИСТЕМА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22143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Лекція 8. Комунікаційна політика в системі маркетинг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Сутність маркетингових комунікацій та їх класифікаці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Класична модель здійснення маркетингових комунікаці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Роль реклами в комунікаційній політиці підприєм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Поняття рекламної кампанії та характеристика її етап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Етапи управління маркетинговими комунікація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цілей комунікац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цільової аудитор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озробка звернення (ефек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IDA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tract, interest, desire, action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бір каналів комунікації, їх оптимального комплекс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бюджету комунікаці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цінювання ефективності комунікаці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перативне управління, коригува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Методи визначення бюджету комунікацій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стійний відсоток від обсягів продаж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од прирос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се, що можна собі дозволити” (залишковий метод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од конкурентного парите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ходячи з цілей і завдань підприєм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Аналітичні методи (моделі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між витратами та рівнем досягнення поставлених ціле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99" name="Group 2"/>
          <p:cNvGrpSpPr/>
          <p:nvPr/>
        </p:nvGrpSpPr>
        <p:grpSpPr>
          <a:xfrm>
            <a:off x="1571760" y="1714680"/>
            <a:ext cx="7072200" cy="4572000"/>
            <a:chOff x="1571760" y="1714680"/>
            <a:chExt cx="7072200" cy="4572000"/>
          </a:xfrm>
        </p:grpSpPr>
        <p:sp>
          <p:nvSpPr>
            <p:cNvPr id="400" name="Text Box 3"/>
            <p:cNvSpPr/>
            <p:nvPr/>
          </p:nvSpPr>
          <p:spPr>
            <a:xfrm>
              <a:off x="2785680" y="1714680"/>
              <a:ext cx="457164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ЕФЕКТИВНОСТІ КОМУНІКАЦІ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"/>
            <p:cNvSpPr/>
            <p:nvPr/>
          </p:nvSpPr>
          <p:spPr>
            <a:xfrm>
              <a:off x="3976200" y="2509200"/>
              <a:ext cx="226296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ід час кампа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"/>
            <p:cNvSpPr/>
            <p:nvPr/>
          </p:nvSpPr>
          <p:spPr>
            <a:xfrm>
              <a:off x="5107680" y="211176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1571760" y="2509200"/>
              <a:ext cx="226296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початку кампа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6380640" y="2509200"/>
              <a:ext cx="226296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завершенні кампа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157176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повідом-л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зміст, сприйняття, запам’я-товуванн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70324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сіїв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охоплення, рейтинг, частот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ла впливу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P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0"/>
            <p:cNvSpPr/>
            <p:nvPr/>
          </p:nvSpPr>
          <p:spPr>
            <a:xfrm>
              <a:off x="397620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поінфор-мованості (когнітивна ефектив-ніст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510768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ставлення до марки (емоційна/ афективна ефектив-ніст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751248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глибинного впливу (зміна капіталу бренду та ефектив-ність ін-вестицій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3"/>
            <p:cNvSpPr/>
            <p:nvPr/>
          </p:nvSpPr>
          <p:spPr>
            <a:xfrm>
              <a:off x="2703240" y="2310480"/>
              <a:ext cx="480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4"/>
            <p:cNvSpPr/>
            <p:nvPr/>
          </p:nvSpPr>
          <p:spPr>
            <a:xfrm>
              <a:off x="2703240" y="23104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5"/>
            <p:cNvSpPr/>
            <p:nvPr/>
          </p:nvSpPr>
          <p:spPr>
            <a:xfrm>
              <a:off x="7512480" y="23104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6239160" y="330372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зміни продажів та прибутку (поведін-кова/ко-нативна ефектив-ніст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7"/>
            <p:cNvSpPr/>
            <p:nvPr/>
          </p:nvSpPr>
          <p:spPr>
            <a:xfrm>
              <a:off x="2137320" y="3105000"/>
              <a:ext cx="11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8"/>
            <p:cNvSpPr/>
            <p:nvPr/>
          </p:nvSpPr>
          <p:spPr>
            <a:xfrm>
              <a:off x="2703240" y="29062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9"/>
            <p:cNvSpPr/>
            <p:nvPr/>
          </p:nvSpPr>
          <p:spPr>
            <a:xfrm>
              <a:off x="213732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0"/>
            <p:cNvSpPr/>
            <p:nvPr/>
          </p:nvSpPr>
          <p:spPr>
            <a:xfrm>
              <a:off x="326880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>
              <a:off x="4541760" y="3105000"/>
              <a:ext cx="226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2"/>
            <p:cNvSpPr/>
            <p:nvPr/>
          </p:nvSpPr>
          <p:spPr>
            <a:xfrm>
              <a:off x="454176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3"/>
            <p:cNvSpPr/>
            <p:nvPr/>
          </p:nvSpPr>
          <p:spPr>
            <a:xfrm>
              <a:off x="680508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4"/>
            <p:cNvSpPr/>
            <p:nvPr/>
          </p:nvSpPr>
          <p:spPr>
            <a:xfrm>
              <a:off x="567360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5"/>
            <p:cNvSpPr/>
            <p:nvPr/>
          </p:nvSpPr>
          <p:spPr>
            <a:xfrm>
              <a:off x="6098040" y="29062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6"/>
            <p:cNvSpPr/>
            <p:nvPr/>
          </p:nvSpPr>
          <p:spPr>
            <a:xfrm>
              <a:off x="6522120" y="29062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7"/>
            <p:cNvSpPr/>
            <p:nvPr/>
          </p:nvSpPr>
          <p:spPr>
            <a:xfrm>
              <a:off x="8078040" y="2906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26" name="Group 31"/>
          <p:cNvGrpSpPr/>
          <p:nvPr/>
        </p:nvGrpSpPr>
        <p:grpSpPr>
          <a:xfrm>
            <a:off x="1857240" y="1785600"/>
            <a:ext cx="6357960" cy="4000320"/>
            <a:chOff x="1857240" y="1785600"/>
            <a:chExt cx="6357960" cy="4000320"/>
          </a:xfrm>
        </p:grpSpPr>
        <p:sp>
          <p:nvSpPr>
            <p:cNvPr id="427" name="Text Box 32"/>
            <p:cNvSpPr/>
            <p:nvPr/>
          </p:nvSpPr>
          <p:spPr>
            <a:xfrm>
              <a:off x="1857240" y="341892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Джерело (відправни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3"/>
            <p:cNvSpPr/>
            <p:nvPr/>
          </p:nvSpPr>
          <p:spPr>
            <a:xfrm>
              <a:off x="1857240" y="197568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Код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4"/>
            <p:cNvSpPr/>
            <p:nvPr/>
          </p:nvSpPr>
          <p:spPr>
            <a:xfrm>
              <a:off x="4103640" y="1975680"/>
              <a:ext cx="186480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Повідомл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5"/>
            <p:cNvSpPr/>
            <p:nvPr/>
          </p:nvSpPr>
          <p:spPr>
            <a:xfrm>
              <a:off x="6459480" y="197568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Декод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6"/>
            <p:cNvSpPr/>
            <p:nvPr/>
          </p:nvSpPr>
          <p:spPr>
            <a:xfrm>
              <a:off x="6459480" y="341892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Отримувач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37"/>
            <p:cNvSpPr/>
            <p:nvPr/>
          </p:nvSpPr>
          <p:spPr>
            <a:xfrm>
              <a:off x="4103640" y="2950560"/>
              <a:ext cx="1755720" cy="83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Канали комунікаці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38"/>
            <p:cNvSpPr/>
            <p:nvPr/>
          </p:nvSpPr>
          <p:spPr>
            <a:xfrm>
              <a:off x="4103640" y="4355640"/>
              <a:ext cx="1755720" cy="59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Перешкод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9"/>
            <p:cNvSpPr/>
            <p:nvPr/>
          </p:nvSpPr>
          <p:spPr>
            <a:xfrm>
              <a:off x="1857240" y="4950720"/>
              <a:ext cx="1755720" cy="83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Зворотний зв'яз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0"/>
            <p:cNvSpPr/>
            <p:nvPr/>
          </p:nvSpPr>
          <p:spPr>
            <a:xfrm>
              <a:off x="6459480" y="4950720"/>
              <a:ext cx="1755720" cy="83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Реакція у відповід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6" name="AutoShape 41"/>
            <p:cNvCxnSpPr/>
            <p:nvPr/>
          </p:nvCxnSpPr>
          <p:spPr>
            <a:xfrm>
              <a:off x="3612960" y="2405880"/>
              <a:ext cx="49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AutoShape 42"/>
            <p:cNvCxnSpPr/>
            <p:nvPr/>
          </p:nvCxnSpPr>
          <p:spPr>
            <a:xfrm>
              <a:off x="5968080" y="2405880"/>
              <a:ext cx="491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8" name="AutoShape 43"/>
            <p:cNvCxnSpPr/>
            <p:nvPr/>
          </p:nvCxnSpPr>
          <p:spPr>
            <a:xfrm flipV="1">
              <a:off x="2751120" y="2810520"/>
              <a:ext cx="1080" cy="60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AutoShape 44"/>
            <p:cNvCxnSpPr/>
            <p:nvPr/>
          </p:nvCxnSpPr>
          <p:spPr>
            <a:xfrm flipV="1">
              <a:off x="2751480" y="4254120"/>
              <a:ext cx="1440" cy="69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0" name="AutoShape 45"/>
            <p:cNvCxnSpPr/>
            <p:nvPr/>
          </p:nvCxnSpPr>
          <p:spPr>
            <a:xfrm flipH="1">
              <a:off x="3612960" y="5406480"/>
              <a:ext cx="28465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1" name="AutoShape 46"/>
            <p:cNvCxnSpPr/>
            <p:nvPr/>
          </p:nvCxnSpPr>
          <p:spPr>
            <a:xfrm>
              <a:off x="7353360" y="4254480"/>
              <a:ext cx="1080" cy="69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AutoShape 47"/>
            <p:cNvCxnSpPr/>
            <p:nvPr/>
          </p:nvCxnSpPr>
          <p:spPr>
            <a:xfrm>
              <a:off x="7353360" y="2810880"/>
              <a:ext cx="1080" cy="60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48"/>
            <p:cNvCxnSpPr/>
            <p:nvPr/>
          </p:nvCxnSpPr>
          <p:spPr>
            <a:xfrm flipV="1">
              <a:off x="4997520" y="4001040"/>
              <a:ext cx="10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AutoShape 49"/>
            <p:cNvCxnSpPr/>
            <p:nvPr/>
          </p:nvCxnSpPr>
          <p:spPr>
            <a:xfrm>
              <a:off x="4997520" y="4950360"/>
              <a:ext cx="108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AutoShape 50"/>
            <p:cNvCxnSpPr/>
            <p:nvPr/>
          </p:nvCxnSpPr>
          <p:spPr>
            <a:xfrm>
              <a:off x="5859360" y="4684680"/>
              <a:ext cx="27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51"/>
            <p:cNvCxnSpPr/>
            <p:nvPr/>
          </p:nvCxnSpPr>
          <p:spPr>
            <a:xfrm flipH="1">
              <a:off x="3874320" y="4684680"/>
              <a:ext cx="229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52"/>
            <p:cNvCxnSpPr/>
            <p:nvPr/>
          </p:nvCxnSpPr>
          <p:spPr>
            <a:xfrm flipV="1">
              <a:off x="5412600" y="4063680"/>
              <a:ext cx="262080" cy="29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53"/>
            <p:cNvCxnSpPr/>
            <p:nvPr/>
          </p:nvCxnSpPr>
          <p:spPr>
            <a:xfrm flipH="1" flipV="1">
              <a:off x="4277880" y="4063680"/>
              <a:ext cx="338400" cy="29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54"/>
            <p:cNvCxnSpPr/>
            <p:nvPr/>
          </p:nvCxnSpPr>
          <p:spPr>
            <a:xfrm flipH="1">
              <a:off x="4331880" y="4950720"/>
              <a:ext cx="284040" cy="29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AutoShape 55"/>
            <p:cNvCxnSpPr/>
            <p:nvPr/>
          </p:nvCxnSpPr>
          <p:spPr>
            <a:xfrm>
              <a:off x="5412600" y="4950720"/>
              <a:ext cx="262080" cy="29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AutoShape 56"/>
            <p:cNvCxnSpPr/>
            <p:nvPr/>
          </p:nvCxnSpPr>
          <p:spPr>
            <a:xfrm>
              <a:off x="3972960" y="1785600"/>
              <a:ext cx="216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52" name="AutoShape 57"/>
            <p:cNvCxnSpPr/>
            <p:nvPr/>
          </p:nvCxnSpPr>
          <p:spPr>
            <a:xfrm flipH="1">
              <a:off x="3972240" y="1785600"/>
              <a:ext cx="1080" cy="21020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53" name="AutoShape 58"/>
            <p:cNvCxnSpPr/>
            <p:nvPr/>
          </p:nvCxnSpPr>
          <p:spPr>
            <a:xfrm>
              <a:off x="3974400" y="3886920"/>
              <a:ext cx="216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54" name="AutoShape 59"/>
            <p:cNvCxnSpPr/>
            <p:nvPr/>
          </p:nvCxnSpPr>
          <p:spPr>
            <a:xfrm>
              <a:off x="6131880" y="1785600"/>
              <a:ext cx="1080" cy="21020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Джерело (відправник)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компанія або особа, яка володіє інформацією для передачі і є ініціатором цього процес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овідомленн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інформація, відіслана джерелом (відправником) отримувачам у процесі комунікації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анал комунікації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засоби (наприклад, продавець, рекламні ЗМІ або інструмени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ів з громадськістю) передачі повідомлення отримувач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Отримувачі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споживачі, які читають, чують або бачать повідомлення, відіслане джерелом (відправником) у процесі комунікації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одуванн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процес трансформації ідеї відправником у набір символі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Декодуванн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, навпаки, процес отримання набору символів повідомлення отримувачем і трансформації їх назад у ідею; отримувачі виконують це за допомогою власної структури сприйняття (знання, ставлень, цінностей і переконан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оле пізнання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взаємне, загальнодоступне розуміння і знання, яке відправник і отримувач обертають у повідомлення таким чином, що воно може бути ефективно використано у комунікації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Відповідь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зміна знання, ставлення або поведінки отримувача під впливом рекламного повідомленн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Зворотний зв’язок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інтерпретація відповіді відправником, яка показує, чи було повідомлення декодовано і сприйнято, як було запланова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ерешкоди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вплив сторонніх факторів, що можуть спрацювати проти ефективної комунікації з причини викривлення повідомлення або отриманого заворотного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ричини помилок у комунікації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Джерело (відправник) неадекватно трансформує ідею в ефективний набір символ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відомлення, закодоване належним чином, відіслано через невірний кана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тримувач неспроможний трансформувати набір символів у закладену відправником іде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воротний зв’язок уповільнений / скривлений і непридатний для використання відправник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відомлення впроваджується до культур з іншим полем пізнання або погано перекладе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а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інформація про особу чи товар, розповсюджена в будь-якій формі та в будь-який спосіб і призначена сформувати або підтримати обізнаність споживачів реклами та їх інтерес щодо таких осіб чи товар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акон України “Про рекламу” зі змінами та доповненнями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що вступив в дію 19.09.2003 р. № 176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а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одностороння, платна форма неособистої масової комунікації, що покликана створювати сприятливе враження про рекламований о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єкт               і має чітко визначеного спонсо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Ж.-Ж. Ламбе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Основні ознаки реклам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еособистісний характ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дностороння спрямовані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евизначеність щодо оцінки ефект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Суспільний характ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Інформаційна насичені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аочність і здатність до переконанн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1.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642680"/>
            <a:ext cx="7499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омунікаці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це процес передачі інформації (повідомлення) від джерела інформації (відправника) до отримувача (адресата) через певні канали (лінії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або засоби для передачі інформації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Маркетингові комунікації -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це тип комунікацій, які комунікатор використовує у взаємо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ах зі своїми цільовими аудиторіями для впливу на них з метою вирішення своїх маркетингових завдан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рекла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о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єкта реклами (реклама марки, товару, компанії, подій, ідей, осіб тощо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можливості зворотного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з рекламодавцем (анонімна реклама, реклама з напівдіалогом, реклама з повним діалогом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характеру (інформаційна, агресивн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ступеня адаптації до особливостей цільових груп споживачів (однорідна, пристосован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Основні різновиди носіїв рекла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ліграфічні інформаційно-рекламні матеріа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періодичній пресі (газети, журнал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ряма поштов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Усна реклама при персональному продаж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місцях продаж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овнішня реклама (бігборди, сіті-лайти, трол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бразотворча реклама (афіші, плакат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вітлов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транспорті (внутрішня, зовнішн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споживчих товарах (пакети, майки, бейсбол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адіо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елевізійн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відеоносія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кінотеатр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електронних носія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мережі Інтернет (банери, ролики, контекст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обільн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bient media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(на асфальті, на ліфтах, на сірниках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Інші носії (товарний знак, фірмовий стиль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571400" y="1571400"/>
            <a:ext cx="70722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Особливості сучасної рекл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71760" y="2071800"/>
          <a:ext cx="7072200" cy="3929040"/>
        </p:xfrm>
        <a:graphic>
          <a:graphicData uri="http://schemas.openxmlformats.org/drawingml/2006/table">
            <a:tbl>
              <a:tblPr/>
              <a:tblGrid>
                <a:gridCol w="3535200"/>
                <a:gridCol w="3537000"/>
              </a:tblGrid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м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ий рівень якості вико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сутність національних м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анс інформації та емо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і пріоритети у нос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речний емоційний ф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ієнтація на різні структурні ланки, рівні ри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хування національних, мовних, інших культурних, гендерних, релігійних особлив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ізке збільшення кількості та організованості зацікавлених учасни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іоналізм і дисципліна вико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дивідуалізація рекламного впл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хування регіональних проб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аптація до умов економічної кри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тич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ідсилення зворотного зв’яз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28480" y="1642680"/>
            <a:ext cx="74991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ні закони А. Політц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, яка називає ту відмінну ознаку товару, яка наявна в дуже малій кількості та яку сам споживач не може виявити, допомагає встановити, що ця ознака відсутня, і тим самим прискорює провал товар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стимулює продаж хорошого товару та прискорює провал поганого. Вона показує, яких властивостей товар не має, і допомагає споживачеві швидше в цьому розібрати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ний закон Мерфі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Недостатні рекламні витрати призводять до безглуздого витрачання кошт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Джон Ванамейкер, американський комерсан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 знаю, що половина мого рекламного бюджету витрачається марно, але не знаю, яка са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Відповідь на запитання керівника відомої фір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Чому ви витрачаєте так багато грошей на рекламу, якщо товар і так вже непогано продається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ому, що я не впевнений, що потрібно виключити двигуни, коли літак набрав висо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Рекламна кампані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цілеспрямована система ретельно спланованих заходів з реклами та просування на ринок якогось товару. Завдання рекламної кампанії - донести серію якісних рекламних повідомлень до кінцевого споживача за допомогою найбільш доречних рекламних носії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Рекламна кампані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декілька заходів, об’єднаних єдиною метою, які охоплюють визначений період часу  та розподілені в часі так, щоб один захід доповнював інші. В ході рекламної кампанії для досягнення поставлених цілей часто використовуються методи та прийоми інших елементів маркетингових комунікацій: пропаганда, стимулювання збуту, паблік рилейшнз та інші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28480" y="1571400"/>
            <a:ext cx="749916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рекламних кампані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а (підтримка товару, формування іміджу фірм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ериторіальне охоплення (локальні, регіональні, національні, міжнародні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ерміни проведення (короткострокові – до 1 року, довгострокові – більше року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прямованість (на окремі сегменти ринку, на широку громадські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озподіл у часі (рівномірні, зростаючі, спадаючі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Інтенсивність (інтенсивні: невелика аудиторія, інтенсивний вплив; екстенсивні: велика аудиторія, помірний впли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434960" y="1643040"/>
            <a:ext cx="7499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иск реклами має бути дозований. У зв’язку з цим слід виділят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інімальний рівень, достатній для досягнення мети рекламної кампанії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ксимальний рівень, за межами якого наростання рекламного тиску є байдужим, або навіть і шкідливи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фективність рекламної кампанії забезпечується в результаті спільних узгоджених дій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кламодавц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кламного агентств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собів розповсюдження рекл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357200" y="1785960"/>
            <a:ext cx="749952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Етапи рекламної кампанії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цілей рекл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озробка стратегій реклами (розробка рекламного звернення, вибір каналів комунікації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кладання графіка рекламної кампан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бюджету рекламної кампан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цінка ефективності рекламної кампан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омунікації – не просуванн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Маркетингові комунікації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діяльність підприємства, спрямована на інформування, переконання і нагадування цільовій аудиторії про свої товари, стимулювання їх збуту, створення позитивного іміджу фірми у суспільстві та налагоджування тісних взаємовигідних стосунків між підприємством та громадськістю, а також оцінювання ринкової ситуації через зворотний інформаційний потік з метою адаптації цілей фірми до ситуації, яка склала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.О. Прима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Заголовок 1"/>
          <p:cNvSpPr/>
          <p:nvPr/>
        </p:nvSpPr>
        <p:spPr>
          <a:xfrm>
            <a:off x="1357200" y="235728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ДЯКУЮ ЗА УВАГУ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Система маркетингових комунікацій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це комплекс, що поєднує учасників, канали та засоби комунікацій,  спрямований на встановлення й підтримання певних взаємовідносин, запланованих ініціатором цих комунікацій (комунікатором), з адресатами комунікацій ,                         а також на формування у останніх позитивни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для комунікатора психологічних установ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 метою досягнення маркетингових ці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7" name="Group 18"/>
          <p:cNvGrpSpPr/>
          <p:nvPr/>
        </p:nvGrpSpPr>
        <p:grpSpPr>
          <a:xfrm>
            <a:off x="1285920" y="1785960"/>
            <a:ext cx="7572240" cy="4571640"/>
            <a:chOff x="1285920" y="1785960"/>
            <a:chExt cx="7572240" cy="4571640"/>
          </a:xfrm>
        </p:grpSpPr>
        <p:sp>
          <p:nvSpPr>
            <p:cNvPr id="328" name="Text Box 19"/>
            <p:cNvSpPr/>
            <p:nvPr/>
          </p:nvSpPr>
          <p:spPr>
            <a:xfrm>
              <a:off x="128592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прияння пізнаванню товару цільовою аудиторіє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0"/>
            <p:cNvSpPr/>
            <p:nvPr/>
          </p:nvSpPr>
          <p:spPr>
            <a:xfrm>
              <a:off x="322560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Інформування щодо суті нового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707400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имулювання попиту на конкретний марочний тов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515484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Прискорення виведення на ринок нового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1285920" y="3394440"/>
              <a:ext cx="178416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Протидія ефекту сезонності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4"/>
            <p:cNvSpPr/>
            <p:nvPr/>
          </p:nvSpPr>
          <p:spPr>
            <a:xfrm>
              <a:off x="7074000" y="3394440"/>
              <a:ext cx="178416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Боротьба з марочними товарами конкур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5"/>
            <p:cNvSpPr/>
            <p:nvPr/>
          </p:nvSpPr>
          <p:spPr>
            <a:xfrm>
              <a:off x="3225600" y="3394440"/>
              <a:ext cx="371340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</a:rPr>
                <a:t>ЗАВДАННЯ МАРКЕТИНГОВИХ КОМУНІКАЦІ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6"/>
            <p:cNvSpPr/>
            <p:nvPr/>
          </p:nvSpPr>
          <p:spPr>
            <a:xfrm>
              <a:off x="4117680" y="5003280"/>
              <a:ext cx="193968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Формування, підтримка або зміна іміджу товару, фір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022120" y="5003280"/>
              <a:ext cx="193968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Підтримка посередників, системи розподіл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6223320" y="5003280"/>
              <a:ext cx="196056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понукання споживачів до відвідувань магазинів, вистав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AutoShape 29"/>
            <p:cNvCxnSpPr/>
            <p:nvPr/>
          </p:nvCxnSpPr>
          <p:spPr>
            <a:xfrm flipV="1">
              <a:off x="4117320" y="317628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30"/>
            <p:cNvCxnSpPr/>
            <p:nvPr/>
          </p:nvCxnSpPr>
          <p:spPr>
            <a:xfrm flipV="1">
              <a:off x="6057000" y="317628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31"/>
            <p:cNvCxnSpPr/>
            <p:nvPr/>
          </p:nvCxnSpPr>
          <p:spPr>
            <a:xfrm flipH="1" flipV="1">
              <a:off x="3070080" y="3176280"/>
              <a:ext cx="1558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2"/>
            <p:cNvCxnSpPr/>
            <p:nvPr/>
          </p:nvCxnSpPr>
          <p:spPr>
            <a:xfrm flipV="1">
              <a:off x="6939000" y="3176280"/>
              <a:ext cx="13536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3"/>
            <p:cNvCxnSpPr/>
            <p:nvPr/>
          </p:nvCxnSpPr>
          <p:spPr>
            <a:xfrm flipH="1" flipV="1">
              <a:off x="3070080" y="4059000"/>
              <a:ext cx="155880" cy="1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4"/>
            <p:cNvCxnSpPr/>
            <p:nvPr/>
          </p:nvCxnSpPr>
          <p:spPr>
            <a:xfrm>
              <a:off x="6939000" y="4059360"/>
              <a:ext cx="135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5"/>
            <p:cNvCxnSpPr/>
            <p:nvPr/>
          </p:nvCxnSpPr>
          <p:spPr>
            <a:xfrm>
              <a:off x="5092200" y="4749120"/>
              <a:ext cx="108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6"/>
            <p:cNvCxnSpPr/>
            <p:nvPr/>
          </p:nvCxnSpPr>
          <p:spPr>
            <a:xfrm flipH="1">
              <a:off x="3070080" y="4749120"/>
              <a:ext cx="15588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7"/>
            <p:cNvCxnSpPr/>
            <p:nvPr/>
          </p:nvCxnSpPr>
          <p:spPr>
            <a:xfrm>
              <a:off x="6939000" y="4749120"/>
              <a:ext cx="13536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28480" y="1642680"/>
            <a:ext cx="74293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маркетингових комунікаці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(основні / синтетичні засоб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428840" y="2643120"/>
          <a:ext cx="7286400" cy="3353040"/>
        </p:xfrm>
        <a:graphic>
          <a:graphicData uri="http://schemas.openxmlformats.org/drawingml/2006/table">
            <a:tbl>
              <a:tblPr/>
              <a:tblGrid>
                <a:gridCol w="3319200"/>
                <a:gridCol w="39672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і засоб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етичні засоб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л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блік рилейшн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зв’язки з громадськіст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имулювання збу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ямий маркет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тавки, ярма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корпоративної ідентифікації (фірмовий сти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нсо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вент-маркетинг (маркетинг поді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акт-плейс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етингові комунік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місцях прода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вергеймі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28480" y="164304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маркетингових комунікаці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L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TL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2357280" y="2643120"/>
            <a:ext cx="5629320" cy="3786120"/>
            <a:chOff x="2357280" y="2643120"/>
            <a:chExt cx="5629320" cy="3786120"/>
          </a:xfrm>
        </p:grpSpPr>
        <p:sp>
          <p:nvSpPr>
            <p:cNvPr id="353" name="Text Box 5"/>
            <p:cNvSpPr/>
            <p:nvPr/>
          </p:nvSpPr>
          <p:spPr>
            <a:xfrm>
              <a:off x="2357280" y="3216960"/>
              <a:ext cx="1438200" cy="77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BOVE THE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2423880" y="5397480"/>
              <a:ext cx="1438200" cy="74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ELOW THE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2357280" y="4581000"/>
              <a:ext cx="143820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4271760" y="264312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Реклама на телебаченн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9"/>
            <p:cNvSpPr/>
            <p:nvPr/>
          </p:nvSpPr>
          <p:spPr>
            <a:xfrm>
              <a:off x="4271760" y="314532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Радіорекл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0"/>
            <p:cNvSpPr/>
            <p:nvPr/>
          </p:nvSpPr>
          <p:spPr>
            <a:xfrm>
              <a:off x="4271760" y="363888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Зовнішня рекл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1"/>
            <p:cNvSpPr/>
            <p:nvPr/>
          </p:nvSpPr>
          <p:spPr>
            <a:xfrm>
              <a:off x="4271760" y="4159080"/>
              <a:ext cx="371484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Реклама у ЗМ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3862080" y="4742640"/>
              <a:ext cx="412416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4271760" y="504756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Засоби стимулювання збу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"/>
            <p:cNvSpPr/>
            <p:nvPr/>
          </p:nvSpPr>
          <p:spPr>
            <a:xfrm>
              <a:off x="4271760" y="555012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Засоби зв’язків з громадськіст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4271760" y="6079320"/>
              <a:ext cx="371484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Особистий прода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AutoShape 16"/>
            <p:cNvCxnSpPr/>
            <p:nvPr/>
          </p:nvCxnSpPr>
          <p:spPr>
            <a:xfrm flipV="1">
              <a:off x="3795480" y="2804040"/>
              <a:ext cx="476640" cy="5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AutoShape 17"/>
            <p:cNvCxnSpPr/>
            <p:nvPr/>
          </p:nvCxnSpPr>
          <p:spPr>
            <a:xfrm flipV="1">
              <a:off x="3795480" y="3351240"/>
              <a:ext cx="476640" cy="14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AutoShape 18"/>
            <p:cNvCxnSpPr/>
            <p:nvPr/>
          </p:nvCxnSpPr>
          <p:spPr>
            <a:xfrm>
              <a:off x="3795480" y="3638520"/>
              <a:ext cx="476640" cy="21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AutoShape 19"/>
            <p:cNvCxnSpPr/>
            <p:nvPr/>
          </p:nvCxnSpPr>
          <p:spPr>
            <a:xfrm>
              <a:off x="3795480" y="3799800"/>
              <a:ext cx="476640" cy="55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20"/>
            <p:cNvCxnSpPr/>
            <p:nvPr/>
          </p:nvCxnSpPr>
          <p:spPr>
            <a:xfrm flipV="1">
              <a:off x="3861720" y="5235840"/>
              <a:ext cx="410040" cy="31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21"/>
            <p:cNvCxnSpPr/>
            <p:nvPr/>
          </p:nvCxnSpPr>
          <p:spPr>
            <a:xfrm flipV="1">
              <a:off x="3861720" y="5747040"/>
              <a:ext cx="410040" cy="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22"/>
            <p:cNvCxnSpPr/>
            <p:nvPr/>
          </p:nvCxnSpPr>
          <p:spPr>
            <a:xfrm>
              <a:off x="3861720" y="5980680"/>
              <a:ext cx="410040" cy="31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1500120" y="1857240"/>
            <a:ext cx="7095960" cy="4000320"/>
            <a:chOff x="1500120" y="1857240"/>
            <a:chExt cx="7095960" cy="4000320"/>
          </a:xfrm>
        </p:grpSpPr>
        <p:sp>
          <p:nvSpPr>
            <p:cNvPr id="373" name="Text Box 3"/>
            <p:cNvSpPr/>
            <p:nvPr/>
          </p:nvSpPr>
          <p:spPr>
            <a:xfrm>
              <a:off x="150012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Тип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331776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адія життєвого циклу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5"/>
            <p:cNvSpPr/>
            <p:nvPr/>
          </p:nvSpPr>
          <p:spPr>
            <a:xfrm>
              <a:off x="692424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адія купівельної готовності покупц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"/>
            <p:cNvSpPr/>
            <p:nvPr/>
          </p:nvSpPr>
          <p:spPr>
            <a:xfrm>
              <a:off x="512604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Тип рин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00120" y="3264840"/>
              <a:ext cx="16718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упінь довіри до джерел звернення (ЗМІ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6924240" y="3264840"/>
              <a:ext cx="16718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Маркетингові комунікації конкур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3317760" y="3264840"/>
              <a:ext cx="348012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 ВИБОРУ МАРКЕТИНГОВИХ КОМУНІКАЦІ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0"/>
            <p:cNvSpPr/>
            <p:nvPr/>
          </p:nvSpPr>
          <p:spPr>
            <a:xfrm>
              <a:off x="4154040" y="4672440"/>
              <a:ext cx="18176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Бюдж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2190240" y="4672440"/>
              <a:ext cx="18176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Мета компані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"/>
            <p:cNvSpPr/>
            <p:nvPr/>
          </p:nvSpPr>
          <p:spPr>
            <a:xfrm>
              <a:off x="6127200" y="4672440"/>
              <a:ext cx="183708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Комунікаційні традиції компані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AutoShape 13"/>
            <p:cNvCxnSpPr/>
            <p:nvPr/>
          </p:nvCxnSpPr>
          <p:spPr>
            <a:xfrm flipV="1">
              <a:off x="4153680" y="3073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14"/>
            <p:cNvCxnSpPr/>
            <p:nvPr/>
          </p:nvCxnSpPr>
          <p:spPr>
            <a:xfrm flipV="1">
              <a:off x="5971320" y="3073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15"/>
            <p:cNvCxnSpPr/>
            <p:nvPr/>
          </p:nvCxnSpPr>
          <p:spPr>
            <a:xfrm flipH="1" flipV="1">
              <a:off x="3171600" y="3073320"/>
              <a:ext cx="146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16"/>
            <p:cNvCxnSpPr/>
            <p:nvPr/>
          </p:nvCxnSpPr>
          <p:spPr>
            <a:xfrm flipV="1">
              <a:off x="6797520" y="3073320"/>
              <a:ext cx="1267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AutoShape 17"/>
            <p:cNvCxnSpPr/>
            <p:nvPr/>
          </p:nvCxnSpPr>
          <p:spPr>
            <a:xfrm flipH="1" flipV="1">
              <a:off x="3171600" y="3846240"/>
              <a:ext cx="14616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18"/>
            <p:cNvCxnSpPr/>
            <p:nvPr/>
          </p:nvCxnSpPr>
          <p:spPr>
            <a:xfrm>
              <a:off x="6797520" y="3846600"/>
              <a:ext cx="12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AutoShape 19"/>
            <p:cNvCxnSpPr/>
            <p:nvPr/>
          </p:nvCxnSpPr>
          <p:spPr>
            <a:xfrm>
              <a:off x="5067360" y="4449600"/>
              <a:ext cx="10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0" name="AutoShape 20"/>
            <p:cNvCxnSpPr/>
            <p:nvPr/>
          </p:nvCxnSpPr>
          <p:spPr>
            <a:xfrm flipH="1">
              <a:off x="3171600" y="4449600"/>
              <a:ext cx="146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AutoShape 21"/>
            <p:cNvCxnSpPr/>
            <p:nvPr/>
          </p:nvCxnSpPr>
          <p:spPr>
            <a:xfrm>
              <a:off x="6797520" y="4449600"/>
              <a:ext cx="1267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Цілі комунікації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ають залежно від стану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 якому знаходиться цільова аудиторі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і в який черговий стан її потрібно перевест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бізнаність (чули про марку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нання (можуть описати особливості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приятливе ставлення (позитивна оцінк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еревага (марка краще конкуренті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ереконаність (кращий вибір даного споживач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дійснення купівл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12:08:49Z</dcterms:created>
  <dc:creator>Customer</dc:creator>
  <dc:description/>
  <dc:language>en-US</dc:language>
  <cp:lastModifiedBy>RePack by Diakov</cp:lastModifiedBy>
  <dcterms:modified xsi:type="dcterms:W3CDTF">2021-03-31T11:24:57Z</dcterms:modified>
  <cp:revision>97</cp:revision>
  <dc:subject/>
  <dc:title>Тема 6. МАРКЕТИНГОВА ЗБУТОВА ДІЯЛЬНІСТЬ</dc:title>
</cp:coreProperties>
</file>