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21C-DF47-4962-99B2-0492F5A0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9C8-F52A-49BF-9990-CD6F369E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0BC-A01F-4A87-8103-3B14B1AA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29C-78E1-4671-ABCB-75131EBA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D517-CF81-4634-88E3-66940B83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47C6-3E5B-4F0C-BD1E-92E10116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0958-41AE-49B2-BD8C-1A360763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AFB0-57D5-4F6B-99D6-D345EB2D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2CD2-A375-41E8-8839-96B19840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B5CC-8364-41E1-AD5F-8F107411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E9CC-12BE-40F7-912A-48DFA089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CDD-75B0-44B0-8973-354F320C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E7D6-59BF-47CA-B7CC-692595E2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3C89-790D-4C66-8F28-A2C26508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94DA-043E-4151-8444-E3F291AF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300B-908F-48BF-AB4C-C5A11C9D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47F8-130F-4A1B-952B-6057F3A9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73DA-2AC6-4698-92CD-4A83CBFD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52EDE-8B03-41D3-AD91-6AD89E92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D8F02-81BE-4DA8-BE90-09D8ADF3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B674-3E4F-413C-87F1-176ECC35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F263-1574-4C15-A879-FBD58F3E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24E-05BC-4CC9-8D87-957448F3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C810B-B733-4FFA-866D-8CC1A655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6E828-1CC1-4C84-9DF1-87C733D1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82C8E-E88B-473C-B621-90046087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7C6A-76E8-46F8-9B12-F4BC51E0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2F685-8341-430C-9E24-18C49191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8245D-2210-4F57-A065-C7C2F068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57ACE-FAEE-4CB4-8769-59D7A6B2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CBF77-8545-4AE8-81F0-41BD5F96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A2C33-3FED-4AEC-88AB-E5C133BE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9628F-C935-45E8-9AF3-EC37E6E6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CCA-8F95-4B5B-A4A6-0A342B85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A6B75-BFE3-47B5-A534-8F3A8DC0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16480-9123-4CA8-A338-17CA7BCE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179CE-18B3-4C80-9AB2-CB84F7EA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3A1E0-EB64-4468-BCAC-328089B5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585DA-75E7-4E14-A3DC-00F7A997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293B0-68D9-438C-9AC9-2DEE5393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88537-DF4A-4255-A2CF-907EB743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4A84C-12AF-4851-A540-4C14868E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98AA0-EFFC-4E75-B801-77D63899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B0191-073E-4AC7-AA7E-97A9BDBE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25B-A96C-49F9-833F-E773B3E5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96213-D384-4A08-AA74-8023BD34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885BB-1FFD-477A-B421-C9263E93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36243-217D-431B-AF7E-7EB344AB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C7B8F-0DF9-43AB-92AB-C6DC3FBF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A78D1-61FB-456A-AF6F-AB381A91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F5935-6938-45D6-BEFB-9BF8AFAF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7094C-D6F6-4D57-931A-8DA30195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38CCF-1C3A-4945-959C-D4EAD557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39F8E-C355-4EB8-90FA-0BE89DEC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82357-1024-4D1C-866D-1F3B603B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1B39-37CB-4FF9-93B2-4B40AE98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DE199-A40E-45A2-8C0E-1108E529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F701B-4326-425C-B813-40993406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D0000-8D42-4BA4-A82F-24B4753A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92A8C-56EE-46AB-94EA-3E44F015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DBDD2-2A6C-4A68-A33E-578F5B22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E5A4B-D113-472A-A3C1-916B5908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777EA-039A-48DA-9462-441A38A6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B84C2-9576-4EA8-BA6D-EC85E933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0A743-824C-4F03-AE7A-4E45D71F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F37E1-3550-4EB6-8704-4FC04C5C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DFB-50AD-43C0-B959-44C2E42F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ED03C-BF6F-418A-A1ED-2262E5D7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5A5AF-4836-4587-8442-06D5B40B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0368E-CCA3-4882-8CA3-3BEC0C18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4CD98-EAF8-4848-9215-D70FF32E3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93618-5239-444A-82BB-B6C45328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E253E-CCAA-4A26-A64F-F6395B59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0AB22-D359-4B35-AE47-1B6E6BC9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47D59-C8FE-4157-9D8C-2AA0502F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7376D-EF0C-441E-9EDD-A0BB2470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E6124-8D94-4943-A982-97FD7C5C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13F-99BA-4C17-97E4-65F76FDE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E8304-F304-4B52-91A7-28EAE367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56350-6A85-4D56-8A70-BC195EEB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60301-E8AC-4C9F-9E3D-6DB2309B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7F7B8-24B0-474A-A90E-30C02CF9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96594-CCAE-4C1F-8CD2-3094460E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001-CA3F-48B2-AF94-E3D1E806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7A1A-DF50-48B1-8D6D-65573A0C6F4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32DC-3F87-4BBD-B318-BC14AE8C9D1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C6D7-A470-4B62-941B-6E3A0836511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97CC-4F53-49E1-8898-8867004F6CF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6351-7A0A-4CF8-84BA-46860083221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8B40-764F-4AC9-ABA3-BFD794FDC21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5C4D-A5C7-4C92-AA56-EC2D2AC029E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57200" y="356760"/>
            <a:ext cx="7407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Тема 7. СИСТЕМА МАРКЕТИНГОВИХ КОМУНІКАЦІ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57200" y="2214360"/>
            <a:ext cx="740736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20e04"/>
                </a:solidFill>
                <a:latin typeface="Corbel"/>
              </a:rPr>
              <a:t>Лекція 8. Комунікаційна політика в системі маркетинг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20e04"/>
                </a:solidFill>
                <a:latin typeface="Corbel"/>
              </a:rPr>
              <a:t>Сутність маркетингових комунікацій та їх класифікаці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20e04"/>
                </a:solidFill>
                <a:latin typeface="Corbel"/>
              </a:rPr>
              <a:t>Класична модель здійснення маркетингових комунікаці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20e04"/>
                </a:solidFill>
                <a:latin typeface="Corbel"/>
              </a:rPr>
              <a:t>Роль реклами в комунікаційній політиці підприємств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20e04"/>
                </a:solidFill>
                <a:latin typeface="Corbel"/>
              </a:rPr>
              <a:t>Поняття рекламної кампанії та характеристика її етап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Сутність маркетингових комунікацій та їх характеристика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Етапи управління маркетинговими комунікаціям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изначення цілей комунікації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изначення цільової аудиторії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озробка звернення (ефект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IDA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tract, interest, desire, action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ибір каналів комунікації, їх оптимального комплекс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изначення бюджету комунікаці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Оцінювання ефективності комунікаці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Оперативне управління, коригуванн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Сутність маркетингових комунікацій та їх характеристика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Методи визначення бюджету комунікацій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остійний відсоток від обсягів продаж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Метод прирост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се, що можна собі дозволити” (залишковий метод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Метод конкурентного паритет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иходячи з цілей і завдань підприємств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Аналітичні методи (моделі з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язку між витратами та рівнем досягнення поставлених цілей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Сутність маркетингових комунікацій та їх характеристика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99" name="Group 2"/>
          <p:cNvGrpSpPr/>
          <p:nvPr/>
        </p:nvGrpSpPr>
        <p:grpSpPr>
          <a:xfrm>
            <a:off x="1571760" y="1714680"/>
            <a:ext cx="7072200" cy="4572000"/>
            <a:chOff x="1571760" y="1714680"/>
            <a:chExt cx="7072200" cy="4572000"/>
          </a:xfrm>
        </p:grpSpPr>
        <p:sp>
          <p:nvSpPr>
            <p:cNvPr id="400" name="Text Box 3"/>
            <p:cNvSpPr/>
            <p:nvPr/>
          </p:nvSpPr>
          <p:spPr>
            <a:xfrm>
              <a:off x="2785680" y="1714680"/>
              <a:ext cx="4571640" cy="3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ІНКА ЕФЕКТИВНОСТІ КОМУНІКАЦІ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4"/>
            <p:cNvSpPr/>
            <p:nvPr/>
          </p:nvSpPr>
          <p:spPr>
            <a:xfrm>
              <a:off x="3976200" y="2509200"/>
              <a:ext cx="2262960" cy="3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ід час кампані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"/>
            <p:cNvSpPr/>
            <p:nvPr/>
          </p:nvSpPr>
          <p:spPr>
            <a:xfrm>
              <a:off x="5107680" y="211176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6"/>
            <p:cNvSpPr/>
            <p:nvPr/>
          </p:nvSpPr>
          <p:spPr>
            <a:xfrm>
              <a:off x="1571760" y="2509200"/>
              <a:ext cx="2262960" cy="3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 початку кампані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7"/>
            <p:cNvSpPr/>
            <p:nvPr/>
          </p:nvSpPr>
          <p:spPr>
            <a:xfrm>
              <a:off x="6380640" y="2509200"/>
              <a:ext cx="2262960" cy="3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 завершенні кампані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8"/>
            <p:cNvSpPr/>
            <p:nvPr/>
          </p:nvSpPr>
          <p:spPr>
            <a:xfrm>
              <a:off x="1571760" y="3300480"/>
              <a:ext cx="1131480" cy="298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інка повідом-л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зміст, сприйняття, запам’я-товування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9"/>
            <p:cNvSpPr/>
            <p:nvPr/>
          </p:nvSpPr>
          <p:spPr>
            <a:xfrm>
              <a:off x="2703240" y="3300480"/>
              <a:ext cx="1131480" cy="298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інка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сіїв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охоплення, рейтинг, частота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ла впливу,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P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P</a:t>
              </a: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0"/>
            <p:cNvSpPr/>
            <p:nvPr/>
          </p:nvSpPr>
          <p:spPr>
            <a:xfrm>
              <a:off x="3976200" y="3300480"/>
              <a:ext cx="1131480" cy="298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інка поінфор-мованості (когнітивна ефектив-ність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1"/>
            <p:cNvSpPr/>
            <p:nvPr/>
          </p:nvSpPr>
          <p:spPr>
            <a:xfrm>
              <a:off x="5107680" y="3300480"/>
              <a:ext cx="1131480" cy="298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інка ставлення до марки (емоційна/ афективна ефектив-ність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2"/>
            <p:cNvSpPr/>
            <p:nvPr/>
          </p:nvSpPr>
          <p:spPr>
            <a:xfrm>
              <a:off x="7512480" y="3300480"/>
              <a:ext cx="1131480" cy="298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інка глибинного впливу (зміна капіталу бренду та ефектив-ність ін-вестицій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3"/>
            <p:cNvSpPr/>
            <p:nvPr/>
          </p:nvSpPr>
          <p:spPr>
            <a:xfrm>
              <a:off x="2703240" y="2310480"/>
              <a:ext cx="480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4"/>
            <p:cNvSpPr/>
            <p:nvPr/>
          </p:nvSpPr>
          <p:spPr>
            <a:xfrm>
              <a:off x="2703240" y="231048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5"/>
            <p:cNvSpPr/>
            <p:nvPr/>
          </p:nvSpPr>
          <p:spPr>
            <a:xfrm>
              <a:off x="7512480" y="231048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6"/>
            <p:cNvSpPr/>
            <p:nvPr/>
          </p:nvSpPr>
          <p:spPr>
            <a:xfrm>
              <a:off x="6239160" y="3303720"/>
              <a:ext cx="1131480" cy="298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інка зміни продажів та прибутку (поведін-кова/ко-нативна ефектив-ність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7"/>
            <p:cNvSpPr/>
            <p:nvPr/>
          </p:nvSpPr>
          <p:spPr>
            <a:xfrm>
              <a:off x="2137320" y="3105000"/>
              <a:ext cx="113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8"/>
            <p:cNvSpPr/>
            <p:nvPr/>
          </p:nvSpPr>
          <p:spPr>
            <a:xfrm>
              <a:off x="2703240" y="290628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9"/>
            <p:cNvSpPr/>
            <p:nvPr/>
          </p:nvSpPr>
          <p:spPr>
            <a:xfrm>
              <a:off x="2137320" y="310500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0"/>
            <p:cNvSpPr/>
            <p:nvPr/>
          </p:nvSpPr>
          <p:spPr>
            <a:xfrm>
              <a:off x="3268800" y="310500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21"/>
            <p:cNvSpPr/>
            <p:nvPr/>
          </p:nvSpPr>
          <p:spPr>
            <a:xfrm>
              <a:off x="4541760" y="3105000"/>
              <a:ext cx="226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2"/>
            <p:cNvSpPr/>
            <p:nvPr/>
          </p:nvSpPr>
          <p:spPr>
            <a:xfrm>
              <a:off x="4541760" y="310500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3"/>
            <p:cNvSpPr/>
            <p:nvPr/>
          </p:nvSpPr>
          <p:spPr>
            <a:xfrm>
              <a:off x="6805080" y="310500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4"/>
            <p:cNvSpPr/>
            <p:nvPr/>
          </p:nvSpPr>
          <p:spPr>
            <a:xfrm>
              <a:off x="5673600" y="310500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5"/>
            <p:cNvSpPr/>
            <p:nvPr/>
          </p:nvSpPr>
          <p:spPr>
            <a:xfrm>
              <a:off x="6098040" y="290628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6"/>
            <p:cNvSpPr/>
            <p:nvPr/>
          </p:nvSpPr>
          <p:spPr>
            <a:xfrm>
              <a:off x="6522120" y="290628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7"/>
            <p:cNvSpPr/>
            <p:nvPr/>
          </p:nvSpPr>
          <p:spPr>
            <a:xfrm>
              <a:off x="8078040" y="2906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2. Класична модель здійснення маркетингових комунікаці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26" name="Group 31"/>
          <p:cNvGrpSpPr/>
          <p:nvPr/>
        </p:nvGrpSpPr>
        <p:grpSpPr>
          <a:xfrm>
            <a:off x="1857240" y="1785600"/>
            <a:ext cx="6357960" cy="4000320"/>
            <a:chOff x="1857240" y="1785600"/>
            <a:chExt cx="6357960" cy="4000320"/>
          </a:xfrm>
        </p:grpSpPr>
        <p:sp>
          <p:nvSpPr>
            <p:cNvPr id="427" name="Text Box 32"/>
            <p:cNvSpPr/>
            <p:nvPr/>
          </p:nvSpPr>
          <p:spPr>
            <a:xfrm>
              <a:off x="1857240" y="3418920"/>
              <a:ext cx="1755720" cy="8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Джерело (відправник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3"/>
            <p:cNvSpPr/>
            <p:nvPr/>
          </p:nvSpPr>
          <p:spPr>
            <a:xfrm>
              <a:off x="1857240" y="1975680"/>
              <a:ext cx="1755720" cy="8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Кодува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4"/>
            <p:cNvSpPr/>
            <p:nvPr/>
          </p:nvSpPr>
          <p:spPr>
            <a:xfrm>
              <a:off x="4103640" y="1975680"/>
              <a:ext cx="1864800" cy="8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Повідомле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35"/>
            <p:cNvSpPr/>
            <p:nvPr/>
          </p:nvSpPr>
          <p:spPr>
            <a:xfrm>
              <a:off x="6459480" y="1975680"/>
              <a:ext cx="1755720" cy="8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Декодува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36"/>
            <p:cNvSpPr/>
            <p:nvPr/>
          </p:nvSpPr>
          <p:spPr>
            <a:xfrm>
              <a:off x="6459480" y="3418920"/>
              <a:ext cx="1755720" cy="83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Отримувач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37"/>
            <p:cNvSpPr/>
            <p:nvPr/>
          </p:nvSpPr>
          <p:spPr>
            <a:xfrm>
              <a:off x="4103640" y="2950560"/>
              <a:ext cx="1755720" cy="83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Канали комунікаці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38"/>
            <p:cNvSpPr/>
            <p:nvPr/>
          </p:nvSpPr>
          <p:spPr>
            <a:xfrm>
              <a:off x="4103640" y="4355640"/>
              <a:ext cx="1755720" cy="59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Перешкод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39"/>
            <p:cNvSpPr/>
            <p:nvPr/>
          </p:nvSpPr>
          <p:spPr>
            <a:xfrm>
              <a:off x="1857240" y="4950720"/>
              <a:ext cx="1755720" cy="83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Зворотний зв'яз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0"/>
            <p:cNvSpPr/>
            <p:nvPr/>
          </p:nvSpPr>
          <p:spPr>
            <a:xfrm>
              <a:off x="6459480" y="4950720"/>
              <a:ext cx="1755720" cy="83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Times New Roman"/>
                </a:rPr>
                <a:t>Реакція у відповід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6" name="AutoShape 41"/>
            <p:cNvCxnSpPr/>
            <p:nvPr/>
          </p:nvCxnSpPr>
          <p:spPr>
            <a:xfrm>
              <a:off x="3612960" y="2405880"/>
              <a:ext cx="491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7" name="AutoShape 42"/>
            <p:cNvCxnSpPr/>
            <p:nvPr/>
          </p:nvCxnSpPr>
          <p:spPr>
            <a:xfrm>
              <a:off x="5968080" y="2405880"/>
              <a:ext cx="491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8" name="AutoShape 43"/>
            <p:cNvCxnSpPr/>
            <p:nvPr/>
          </p:nvCxnSpPr>
          <p:spPr>
            <a:xfrm flipV="1">
              <a:off x="2751120" y="2810520"/>
              <a:ext cx="1080" cy="60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9" name="AutoShape 44"/>
            <p:cNvCxnSpPr/>
            <p:nvPr/>
          </p:nvCxnSpPr>
          <p:spPr>
            <a:xfrm flipV="1">
              <a:off x="2751480" y="4254120"/>
              <a:ext cx="1440" cy="69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0" name="AutoShape 45"/>
            <p:cNvCxnSpPr/>
            <p:nvPr/>
          </p:nvCxnSpPr>
          <p:spPr>
            <a:xfrm flipH="1">
              <a:off x="3612960" y="5406480"/>
              <a:ext cx="28465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1" name="AutoShape 46"/>
            <p:cNvCxnSpPr/>
            <p:nvPr/>
          </p:nvCxnSpPr>
          <p:spPr>
            <a:xfrm>
              <a:off x="7353360" y="4254480"/>
              <a:ext cx="1080" cy="69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AutoShape 47"/>
            <p:cNvCxnSpPr/>
            <p:nvPr/>
          </p:nvCxnSpPr>
          <p:spPr>
            <a:xfrm>
              <a:off x="7353360" y="2810880"/>
              <a:ext cx="1080" cy="60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AutoShape 48"/>
            <p:cNvCxnSpPr/>
            <p:nvPr/>
          </p:nvCxnSpPr>
          <p:spPr>
            <a:xfrm flipV="1">
              <a:off x="4997520" y="4001040"/>
              <a:ext cx="10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AutoShape 49"/>
            <p:cNvCxnSpPr/>
            <p:nvPr/>
          </p:nvCxnSpPr>
          <p:spPr>
            <a:xfrm>
              <a:off x="4997520" y="4950360"/>
              <a:ext cx="108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5" name="AutoShape 50"/>
            <p:cNvCxnSpPr/>
            <p:nvPr/>
          </p:nvCxnSpPr>
          <p:spPr>
            <a:xfrm>
              <a:off x="5859360" y="4684680"/>
              <a:ext cx="273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6" name="AutoShape 51"/>
            <p:cNvCxnSpPr/>
            <p:nvPr/>
          </p:nvCxnSpPr>
          <p:spPr>
            <a:xfrm flipH="1">
              <a:off x="3874320" y="4684680"/>
              <a:ext cx="229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7" name="AutoShape 52"/>
            <p:cNvCxnSpPr/>
            <p:nvPr/>
          </p:nvCxnSpPr>
          <p:spPr>
            <a:xfrm flipV="1">
              <a:off x="5412600" y="4063680"/>
              <a:ext cx="262080" cy="29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AutoShape 53"/>
            <p:cNvCxnSpPr/>
            <p:nvPr/>
          </p:nvCxnSpPr>
          <p:spPr>
            <a:xfrm flipH="1" flipV="1">
              <a:off x="4277880" y="4063680"/>
              <a:ext cx="338400" cy="29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9" name="AutoShape 54"/>
            <p:cNvCxnSpPr/>
            <p:nvPr/>
          </p:nvCxnSpPr>
          <p:spPr>
            <a:xfrm flipH="1">
              <a:off x="4331880" y="4950720"/>
              <a:ext cx="284040" cy="29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AutoShape 55"/>
            <p:cNvCxnSpPr/>
            <p:nvPr/>
          </p:nvCxnSpPr>
          <p:spPr>
            <a:xfrm>
              <a:off x="5412600" y="4950720"/>
              <a:ext cx="262080" cy="29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1" name="AutoShape 56"/>
            <p:cNvCxnSpPr/>
            <p:nvPr/>
          </p:nvCxnSpPr>
          <p:spPr>
            <a:xfrm>
              <a:off x="3972960" y="1785600"/>
              <a:ext cx="2160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452" name="AutoShape 57"/>
            <p:cNvCxnSpPr/>
            <p:nvPr/>
          </p:nvCxnSpPr>
          <p:spPr>
            <a:xfrm flipH="1">
              <a:off x="3972240" y="1785600"/>
              <a:ext cx="1080" cy="21020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453" name="AutoShape 58"/>
            <p:cNvCxnSpPr/>
            <p:nvPr/>
          </p:nvCxnSpPr>
          <p:spPr>
            <a:xfrm>
              <a:off x="3974400" y="3886920"/>
              <a:ext cx="2160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454" name="AutoShape 59"/>
            <p:cNvCxnSpPr/>
            <p:nvPr/>
          </p:nvCxnSpPr>
          <p:spPr>
            <a:xfrm>
              <a:off x="6131880" y="1785600"/>
              <a:ext cx="1080" cy="21020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2. Класична модель здійснення маркетингових комунікаці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Джерело (відправник)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– це компанія або особа, яка володіє інформацією для передачі і є ініціатором цього процес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Повідомлення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– це інформація, відіслана джерелом (відправником) отримувачам у процесі комунікації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Канал комунікації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– це засоби (наприклад, продавець, рекламні ЗМІ або інструмени з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язків з громадськістю) передачі повідомлення отримувач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Отримувачі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– це споживачі, які читають, чують або бачать повідомлення, відіслане джерелом (відправником) у процесі комунікації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2. Класична модель здійснення маркетингових комунікаці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434960" y="157140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Кодування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– це процес трансформації ідеї відправником у набір символі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Декодування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– це, навпаки, процес отримання набору символів повідомлення отримувачем і трансформації їх назад у ідею; отримувачі виконують це за допомогою власної структури сприйняття (знання, ставлень, цінностей і переконан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Поле пізнання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– це взаємне, загальнодоступне розуміння і знання, яке відправник і отримувач обертають у повідомлення таким чином, що воно може бути ефективно використано у комунікації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2. Класична модель здійснення маркетингових комунікаці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Відповідь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– це зміна знання, ставлення або поведінки отримувача під впливом рекламного повідомленн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Зворотний зв’язок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– це інтерпретація відповіді відправником, яка показує, чи було повідомлення декодовано і сприйнято, як було заплановано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Перешкоди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– це вплив сторонніх факторів, що можуть спрацювати проти ефективної комунікації з причини викривлення повідомлення або отриманого заворотного з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язку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2. Класична модель здійснення маркетингових комунікацій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Причини помилок у комунікації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Джерело (відправник) неадекватно трансформує ідею в ефективний набір символ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овідомлення, закодоване належним чином, відіслано через невірний кана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Отримувач неспроможний трансформувати набір символів у закладену відправником іде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воротний зв’язок уповільнений / скривлений і непридатний для використання відправник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овідомлення впроваджується до культур з іншим полем пізнання або погано перекладен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3. Роль реклами в комунікаційній політиці підприєм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57140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Реклама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– інформація про особу чи товар, розповсюджена в будь-якій формі та в будь-який спосіб і призначена сформувати або підтримати обізнаність споживачів реклами та їх інтерес щодо таких осіб чи товар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Закон України “Про рекламу” зі змінами та доповненнями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що вступив в дію 19.09.2003 р. № 176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Реклама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– одностороння, платна форма неособистої масової комунікації, що покликана створювати сприятливе враження про рекламований об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єкт               і має чітко визначеного спонсор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rbel"/>
              </a:rPr>
              <a:t>Ж.-Ж. Ламбен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3. Роль реклами в комунікаційній політиці підприєм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rbel"/>
              </a:rPr>
              <a:t>Основні ознаки реклам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Неособистісний характе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Одностороння спрямовані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Невизначеність щодо оцінки ефект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Суспільний характе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Інформаційна насичені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rbel"/>
              </a:rPr>
              <a:t>Наочність і здатність до переконанн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572314"/>
                </a:solidFill>
                <a:latin typeface="Corbel"/>
              </a:rPr>
              <a:t>1. </a:t>
            </a: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Сутність маркетингових комунікацій та їх характеристик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642680"/>
            <a:ext cx="74995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Комунікація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це процес передачі інформації (повідомлення) від джерела інформації (відправника) до отримувача (адресата) через певні канали (лінії з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язку або засоби для передачі інформації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Маркетингові комунікації -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це тип комунікацій, які комунікатор використовує у взаємоз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язках зі своїми цільовими аудиторіями для впливу на них з метою вирішення своїх маркетингових завдан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3. Роль реклами в комунікаційній політиці підприєм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Класифікація реклам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алежно від об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єкта реклами (реклама марки, товару, компанії, подій, ідей, осіб тощо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алежно від можливості зворотного з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язку з рекламодавцем (анонімна реклама, реклама з напівдіалогом, реклама з повним діалогом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алежно від характеру (інформаційна, агресивн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алежно від ступеня адаптації до особливостей цільових груп споживачів (однорідна, пристосован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3. Роль реклами в комунікаційній політиці підприєм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Основні різновиди носіїв реклам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оліграфічні інформаційно-рекламні матеріал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в періодичній пресі (газети, журнал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ряма поштова рекла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Усна реклама при персональному продаж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в місцях продаж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овнішня реклама (бігборди, сіті-лайти, трол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Образотворча реклама (афіші, плакат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Світлова рекла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на транспорті (внутрішня, зовнішня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3. Роль реклами в комунікаційній політиці підприєм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на споживчих товарах (пакети, майки, бейсболк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адіорекла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Телевізійна рекла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на відеоносія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в кінотеатра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на електронних носіях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в мережі Інтернет (банери, ролики, контекст…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Мобільна реклам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bient media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(на асфальті, на ліфтах, на сірниках…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Інші носії (товарний знак, фірмовий стиль…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3. Роль реклами в комунікаційній політиці підприєм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571400" y="1571400"/>
            <a:ext cx="70722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Особливості сучасної рекла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571760" y="2071800"/>
          <a:ext cx="7072200" cy="3929040"/>
        </p:xfrm>
        <a:graphic>
          <a:graphicData uri="http://schemas.openxmlformats.org/drawingml/2006/table">
            <a:tbl>
              <a:tblPr/>
              <a:tblGrid>
                <a:gridCol w="3535200"/>
                <a:gridCol w="3537000"/>
              </a:tblGrid>
              <a:tr h="27468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м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сокий рівень якості викон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сутність національних м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ланс інформації та емоці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ві пріоритети у носі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речний емоційний ф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ієнтація на різні структурні ланки, рівні ри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ахування національних, мовних, інших культурних, гендерних, релігійних особлив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ізке збільшення кількості та організованості зацікавлених учасник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фесіоналізм і дисципліна викон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ндивідуалізація рекламного впли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ахування регіональних проб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аптація до умов економічної кри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тич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ідсилення зворотного зв’яз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840" marR="51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3. Роль реклами в комунікаційній політиці підприєм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428480" y="1642680"/>
            <a:ext cx="74991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Рекламні закони А. Політца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, яка називає ту відмінну ознаку товару, яка наявна в дуже малій кількості та яку сам споживач не може виявити, допомагає встановити, що ця ознака відсутня, і тим самим прискорює провал товару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еклама стимулює продаж хорошого товару та прискорює провал поганого. Вона показує, яких властивостей товар не має, і допомагає споживачеві швидше в цьому розібрати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3. Роль реклами в комунікаційній політиці підприємств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Рекламний закон Мерфі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Недостатні рекламні витрати призводять до безглуздого витрачання кошті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Джон Ванамейкер, американський комерсант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Я знаю, що половина мого рекламного бюджету витрачається марно, але не знаю, яка сам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Відповідь на запитання керівника відомої фірм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Чому ви витрачаєте так багато грошей на рекламу, якщо товар і так вже непогано продається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Тому, що я не впевнений, що потрібно виключити двигуни, коли літак набрав висот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4. Поняття рекламної кампанії та характеристика її етапів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Рекламна кампані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цілеспрямована система ретельно спланованих заходів з реклами та просування на ринок якогось товару. Завдання рекламної кампанії - донести серію якісних рекламних повідомлень до кінцевого споживача за допомогою найбільш доречних рекламних носії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Рекламна кампані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- декілька заходів, об’єднаних єдиною метою, які охоплюють визначений період часу  та розподілені в часі так, щоб один захід доповнював інші. В ході рекламної кампанії для досягнення поставлених цілей часто використовуються методи та прийоми інших елементів маркетингових комунікацій: пропаганда, стимулювання збуту, паблік рилейшнз та інші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4. Поняття рекламної кампанії та характеристика її етапів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428480" y="1571400"/>
            <a:ext cx="749916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Класифікація рекламних кампаній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Мета (підтримка товару, формування іміджу фірм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Територіальне охоплення (локальні, регіональні, національні, міжнародні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Терміни проведення (короткострокові – до 1 року, довгострокові – більше року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Спрямованість (на окремі сегменти ринку, на широку громадськіст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озподіл у часі (рівномірні, зростаючі, спадаючі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Інтенсивність (інтенсивні: невелика аудиторія, інтенсивний вплив; екстенсивні: велика аудиторія, помірний впли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4. Поняття рекламної кампанії та характеристика її етапів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434960" y="1643040"/>
            <a:ext cx="7499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иск реклами має бути дозований. У зв’язку з цим слід виділят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інімальний рівень, достатній для досягнення мети рекламної кампанії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аксимальний рівень, за межами якого наростання рекламного тиску є байдужим, або навіть і шкідливи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фективність рекламної кампанії забезпечується в результаті спільних узгоджених дій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екламодавц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екламного агентств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собів розповсюдження рекл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4. Поняття рекламної кампанії та характеристика її етапів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357200" y="1785960"/>
            <a:ext cx="749952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Етапи рекламної кампанії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изначення цілей рекл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Розробка стратегій реклами (розробка рекламного звернення, вибір каналів комунікації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Складання графіка рекламної кампанії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изначення бюджету рекламної кампанії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Оцінка ефективності рекламної кампанії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 Сутність маркетингових комунікацій та їх характеристик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Комунікації – не просування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Маркетингові комунікації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діяльність підприємства, спрямована на інформування, переконання і нагадування цільовій аудиторії про свої товари, стимулювання їх збуту, створення позитивного іміджу фірми у суспільстві та налагоджування тісних взаємовигідних стосунків між підприємством та громадськістю, а також оцінювання ринкової ситуації через зворотний інформаційний потік з метою адаптації цілей фірми до ситуації, яка склала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Т.О. Прима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Заголовок 1"/>
          <p:cNvSpPr/>
          <p:nvPr/>
        </p:nvSpPr>
        <p:spPr>
          <a:xfrm>
            <a:off x="1357200" y="235728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572314"/>
                </a:solidFill>
                <a:latin typeface="Corbel"/>
              </a:rPr>
              <a:t>ДЯКУЮ ЗА УВАГУ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 Сутність маркетингових комунікацій та їх характеристик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Система маркетингових комунікацій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це комплекс, що поєднує учасників, канали та засоби комунікацій,  спрямований на встановлення й підтримання певних взаємовідносин, запланованих ініціатором цих комунікацій (комунікатором), з адресатами комунікацій ,                         а також на формування у останніх позитивних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для комунікатора психологічних установок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 метою досягнення маркетингових ціл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 Сутність маркетингових комунікацій та їх характеристик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27" name="Group 18"/>
          <p:cNvGrpSpPr/>
          <p:nvPr/>
        </p:nvGrpSpPr>
        <p:grpSpPr>
          <a:xfrm>
            <a:off x="1285920" y="1785960"/>
            <a:ext cx="7572240" cy="4571640"/>
            <a:chOff x="1285920" y="1785960"/>
            <a:chExt cx="7572240" cy="4571640"/>
          </a:xfrm>
        </p:grpSpPr>
        <p:sp>
          <p:nvSpPr>
            <p:cNvPr id="328" name="Text Box 19"/>
            <p:cNvSpPr/>
            <p:nvPr/>
          </p:nvSpPr>
          <p:spPr>
            <a:xfrm>
              <a:off x="1285920" y="1785960"/>
              <a:ext cx="1784160" cy="13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прияння пізнаванню товару цільовою аудиторіє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20"/>
            <p:cNvSpPr/>
            <p:nvPr/>
          </p:nvSpPr>
          <p:spPr>
            <a:xfrm>
              <a:off x="3225600" y="1785960"/>
              <a:ext cx="1784160" cy="13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Інформування щодо суті нового това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1"/>
            <p:cNvSpPr/>
            <p:nvPr/>
          </p:nvSpPr>
          <p:spPr>
            <a:xfrm>
              <a:off x="7074000" y="1785960"/>
              <a:ext cx="1784160" cy="13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тимулювання попиту на конкретний марочний тов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22"/>
            <p:cNvSpPr/>
            <p:nvPr/>
          </p:nvSpPr>
          <p:spPr>
            <a:xfrm>
              <a:off x="5154840" y="1785960"/>
              <a:ext cx="1784160" cy="139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Прискорення виведення на ринок нового това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3"/>
            <p:cNvSpPr/>
            <p:nvPr/>
          </p:nvSpPr>
          <p:spPr>
            <a:xfrm>
              <a:off x="1285920" y="3394440"/>
              <a:ext cx="1784160" cy="135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Протидія ефекту сезонності това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24"/>
            <p:cNvSpPr/>
            <p:nvPr/>
          </p:nvSpPr>
          <p:spPr>
            <a:xfrm>
              <a:off x="7074000" y="3394440"/>
              <a:ext cx="1784160" cy="135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Боротьба з марочними товарами конкуренті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5"/>
            <p:cNvSpPr/>
            <p:nvPr/>
          </p:nvSpPr>
          <p:spPr>
            <a:xfrm>
              <a:off x="3225600" y="3394440"/>
              <a:ext cx="3713400" cy="135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200" spc="-1" strike="noStrike">
                  <a:solidFill>
                    <a:srgbClr val="000000"/>
                  </a:solidFill>
                  <a:latin typeface="Times New Roman"/>
                </a:rPr>
                <a:t>ЗАВДАННЯ МАРКЕТИНГОВИХ КОМУНІКАЦІ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6"/>
            <p:cNvSpPr/>
            <p:nvPr/>
          </p:nvSpPr>
          <p:spPr>
            <a:xfrm>
              <a:off x="4117680" y="5003280"/>
              <a:ext cx="1939680" cy="135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Формування, підтримка або зміна іміджу товару, фір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022120" y="5003280"/>
              <a:ext cx="1939680" cy="135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Підтримка посередників, системи розподілен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6223320" y="5003280"/>
              <a:ext cx="1960560" cy="135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понукання споживачів до відвідувань магазинів, вистав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AutoShape 29"/>
            <p:cNvCxnSpPr/>
            <p:nvPr/>
          </p:nvCxnSpPr>
          <p:spPr>
            <a:xfrm flipV="1">
              <a:off x="4117320" y="317628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AutoShape 30"/>
            <p:cNvCxnSpPr/>
            <p:nvPr/>
          </p:nvCxnSpPr>
          <p:spPr>
            <a:xfrm flipV="1">
              <a:off x="6057000" y="317628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AutoShape 31"/>
            <p:cNvCxnSpPr/>
            <p:nvPr/>
          </p:nvCxnSpPr>
          <p:spPr>
            <a:xfrm flipH="1" flipV="1">
              <a:off x="3070080" y="3176280"/>
              <a:ext cx="1558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AutoShape 32"/>
            <p:cNvCxnSpPr/>
            <p:nvPr/>
          </p:nvCxnSpPr>
          <p:spPr>
            <a:xfrm flipV="1">
              <a:off x="6939000" y="3176280"/>
              <a:ext cx="13536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33"/>
            <p:cNvCxnSpPr/>
            <p:nvPr/>
          </p:nvCxnSpPr>
          <p:spPr>
            <a:xfrm flipH="1" flipV="1">
              <a:off x="3070080" y="4059000"/>
              <a:ext cx="155880" cy="1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34"/>
            <p:cNvCxnSpPr/>
            <p:nvPr/>
          </p:nvCxnSpPr>
          <p:spPr>
            <a:xfrm>
              <a:off x="6939000" y="4059360"/>
              <a:ext cx="135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AutoShape 35"/>
            <p:cNvCxnSpPr/>
            <p:nvPr/>
          </p:nvCxnSpPr>
          <p:spPr>
            <a:xfrm>
              <a:off x="5092200" y="4749120"/>
              <a:ext cx="1080" cy="25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AutoShape 36"/>
            <p:cNvCxnSpPr/>
            <p:nvPr/>
          </p:nvCxnSpPr>
          <p:spPr>
            <a:xfrm flipH="1">
              <a:off x="3070080" y="4749120"/>
              <a:ext cx="155880" cy="25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37"/>
            <p:cNvCxnSpPr/>
            <p:nvPr/>
          </p:nvCxnSpPr>
          <p:spPr>
            <a:xfrm>
              <a:off x="6939000" y="4749120"/>
              <a:ext cx="135360" cy="25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 Сутність маркетингових комунікацій та їх характеристика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28480" y="1642680"/>
            <a:ext cx="74293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Класифікація маркетингових комунікаці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(основні / синтетичні засоб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428840" y="2643120"/>
          <a:ext cx="7286400" cy="3353040"/>
        </p:xfrm>
        <a:graphic>
          <a:graphicData uri="http://schemas.openxmlformats.org/drawingml/2006/table">
            <a:tbl>
              <a:tblPr/>
              <a:tblGrid>
                <a:gridCol w="3319200"/>
                <a:gridCol w="396720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і засоб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тетичні засоб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кла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блік рилейшн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зв’язки з громадськіст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имулювання збу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ямий маркети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ставки, ярмар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стема корпоративної ідентифікації (фірмовий стил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нсор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вент-маркетинг (маркетинг поді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акт-плейс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кетингові комуніка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місцях продаж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двергеймі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Сутність маркетингових комунікацій та їх характеристика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28480" y="1643040"/>
            <a:ext cx="74977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Класифікація маркетингових комунікаці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L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TL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2357280" y="2643120"/>
            <a:ext cx="5629320" cy="3786120"/>
            <a:chOff x="2357280" y="2643120"/>
            <a:chExt cx="5629320" cy="3786120"/>
          </a:xfrm>
        </p:grpSpPr>
        <p:sp>
          <p:nvSpPr>
            <p:cNvPr id="353" name="Text Box 5"/>
            <p:cNvSpPr/>
            <p:nvPr/>
          </p:nvSpPr>
          <p:spPr>
            <a:xfrm>
              <a:off x="2357280" y="3216960"/>
              <a:ext cx="1438200" cy="77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BOVE THE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6"/>
            <p:cNvSpPr/>
            <p:nvPr/>
          </p:nvSpPr>
          <p:spPr>
            <a:xfrm>
              <a:off x="2423880" y="5397480"/>
              <a:ext cx="1438200" cy="74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ELOW THE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2357280" y="4581000"/>
              <a:ext cx="1438200" cy="38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E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8"/>
            <p:cNvSpPr/>
            <p:nvPr/>
          </p:nvSpPr>
          <p:spPr>
            <a:xfrm>
              <a:off x="4271760" y="2643120"/>
              <a:ext cx="371484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Реклама на телебаченн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9"/>
            <p:cNvSpPr/>
            <p:nvPr/>
          </p:nvSpPr>
          <p:spPr>
            <a:xfrm>
              <a:off x="4271760" y="3145320"/>
              <a:ext cx="371484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Радіорекла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0"/>
            <p:cNvSpPr/>
            <p:nvPr/>
          </p:nvSpPr>
          <p:spPr>
            <a:xfrm>
              <a:off x="4271760" y="3638880"/>
              <a:ext cx="371484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Зовнішня рекла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1"/>
            <p:cNvSpPr/>
            <p:nvPr/>
          </p:nvSpPr>
          <p:spPr>
            <a:xfrm>
              <a:off x="4271760" y="4159080"/>
              <a:ext cx="3714840" cy="34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Реклама у ЗМ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2"/>
            <p:cNvSpPr/>
            <p:nvPr/>
          </p:nvSpPr>
          <p:spPr>
            <a:xfrm>
              <a:off x="3862080" y="4742640"/>
              <a:ext cx="412416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3"/>
            <p:cNvSpPr/>
            <p:nvPr/>
          </p:nvSpPr>
          <p:spPr>
            <a:xfrm>
              <a:off x="4271760" y="5047560"/>
              <a:ext cx="371484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Засоби стимулювання збу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4"/>
            <p:cNvSpPr/>
            <p:nvPr/>
          </p:nvSpPr>
          <p:spPr>
            <a:xfrm>
              <a:off x="4271760" y="5550120"/>
              <a:ext cx="3714840" cy="34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Засоби зв’язків з громадськіст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4271760" y="6079320"/>
              <a:ext cx="3714840" cy="34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Особистий прода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4" name="AutoShape 16"/>
            <p:cNvCxnSpPr/>
            <p:nvPr/>
          </p:nvCxnSpPr>
          <p:spPr>
            <a:xfrm flipV="1">
              <a:off x="3795480" y="2804040"/>
              <a:ext cx="476640" cy="54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5" name="AutoShape 17"/>
            <p:cNvCxnSpPr/>
            <p:nvPr/>
          </p:nvCxnSpPr>
          <p:spPr>
            <a:xfrm flipV="1">
              <a:off x="3795480" y="3351240"/>
              <a:ext cx="476640" cy="14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6" name="AutoShape 18"/>
            <p:cNvCxnSpPr/>
            <p:nvPr/>
          </p:nvCxnSpPr>
          <p:spPr>
            <a:xfrm>
              <a:off x="3795480" y="3638520"/>
              <a:ext cx="476640" cy="21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AutoShape 19"/>
            <p:cNvCxnSpPr/>
            <p:nvPr/>
          </p:nvCxnSpPr>
          <p:spPr>
            <a:xfrm>
              <a:off x="3795480" y="3799800"/>
              <a:ext cx="476640" cy="55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AutoShape 20"/>
            <p:cNvCxnSpPr/>
            <p:nvPr/>
          </p:nvCxnSpPr>
          <p:spPr>
            <a:xfrm flipV="1">
              <a:off x="3861720" y="5235840"/>
              <a:ext cx="410040" cy="314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AutoShape 21"/>
            <p:cNvCxnSpPr/>
            <p:nvPr/>
          </p:nvCxnSpPr>
          <p:spPr>
            <a:xfrm flipV="1">
              <a:off x="3861720" y="5747040"/>
              <a:ext cx="410040" cy="9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0" name="AutoShape 22"/>
            <p:cNvCxnSpPr/>
            <p:nvPr/>
          </p:nvCxnSpPr>
          <p:spPr>
            <a:xfrm>
              <a:off x="3861720" y="5980680"/>
              <a:ext cx="410040" cy="314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Сутність маркетингових комунікацій та їх характеристика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72" name="Group 2"/>
          <p:cNvGrpSpPr/>
          <p:nvPr/>
        </p:nvGrpSpPr>
        <p:grpSpPr>
          <a:xfrm>
            <a:off x="1500120" y="1857240"/>
            <a:ext cx="7095960" cy="4000320"/>
            <a:chOff x="1500120" y="1857240"/>
            <a:chExt cx="7095960" cy="4000320"/>
          </a:xfrm>
        </p:grpSpPr>
        <p:sp>
          <p:nvSpPr>
            <p:cNvPr id="373" name="Text Box 3"/>
            <p:cNvSpPr/>
            <p:nvPr/>
          </p:nvSpPr>
          <p:spPr>
            <a:xfrm>
              <a:off x="1500120" y="1857240"/>
              <a:ext cx="1671840" cy="12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Тип това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"/>
            <p:cNvSpPr/>
            <p:nvPr/>
          </p:nvSpPr>
          <p:spPr>
            <a:xfrm>
              <a:off x="3317760" y="1857240"/>
              <a:ext cx="1671840" cy="12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тадія життєвого циклу това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5"/>
            <p:cNvSpPr/>
            <p:nvPr/>
          </p:nvSpPr>
          <p:spPr>
            <a:xfrm>
              <a:off x="6924240" y="1857240"/>
              <a:ext cx="1671840" cy="12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тадія купівельної готовності покупц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6"/>
            <p:cNvSpPr/>
            <p:nvPr/>
          </p:nvSpPr>
          <p:spPr>
            <a:xfrm>
              <a:off x="5126040" y="1857240"/>
              <a:ext cx="1671840" cy="12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Тип рин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7"/>
            <p:cNvSpPr/>
            <p:nvPr/>
          </p:nvSpPr>
          <p:spPr>
            <a:xfrm>
              <a:off x="1500120" y="3264840"/>
              <a:ext cx="1671840" cy="118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Ступінь довіри до джерел звернення (ЗМІ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8"/>
            <p:cNvSpPr/>
            <p:nvPr/>
          </p:nvSpPr>
          <p:spPr>
            <a:xfrm>
              <a:off x="6924240" y="3264840"/>
              <a:ext cx="1671840" cy="118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Маркетингові комунікації конкуренті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9"/>
            <p:cNvSpPr/>
            <p:nvPr/>
          </p:nvSpPr>
          <p:spPr>
            <a:xfrm>
              <a:off x="3317760" y="3264840"/>
              <a:ext cx="3480120" cy="118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ФАКТОРИ ВИБОРУ МАРКЕТИНГОВИХ КОМУНІКАЦІ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0"/>
            <p:cNvSpPr/>
            <p:nvPr/>
          </p:nvSpPr>
          <p:spPr>
            <a:xfrm>
              <a:off x="4154040" y="4672440"/>
              <a:ext cx="1817640" cy="118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Бюдж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1"/>
            <p:cNvSpPr/>
            <p:nvPr/>
          </p:nvSpPr>
          <p:spPr>
            <a:xfrm>
              <a:off x="2190240" y="4672440"/>
              <a:ext cx="1817640" cy="118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Мета компані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2"/>
            <p:cNvSpPr/>
            <p:nvPr/>
          </p:nvSpPr>
          <p:spPr>
            <a:xfrm>
              <a:off x="6127200" y="4672440"/>
              <a:ext cx="1837080" cy="118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Комунікаційні традиції компані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3" name="AutoShape 13"/>
            <p:cNvCxnSpPr/>
            <p:nvPr/>
          </p:nvCxnSpPr>
          <p:spPr>
            <a:xfrm flipV="1">
              <a:off x="4153680" y="3073320"/>
              <a:ext cx="1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14"/>
            <p:cNvCxnSpPr/>
            <p:nvPr/>
          </p:nvCxnSpPr>
          <p:spPr>
            <a:xfrm flipV="1">
              <a:off x="5971320" y="3073320"/>
              <a:ext cx="1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15"/>
            <p:cNvCxnSpPr/>
            <p:nvPr/>
          </p:nvCxnSpPr>
          <p:spPr>
            <a:xfrm flipH="1" flipV="1">
              <a:off x="3171600" y="3073320"/>
              <a:ext cx="146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16"/>
            <p:cNvCxnSpPr/>
            <p:nvPr/>
          </p:nvCxnSpPr>
          <p:spPr>
            <a:xfrm flipV="1">
              <a:off x="6797520" y="3073320"/>
              <a:ext cx="1267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AutoShape 17"/>
            <p:cNvCxnSpPr/>
            <p:nvPr/>
          </p:nvCxnSpPr>
          <p:spPr>
            <a:xfrm flipH="1" flipV="1">
              <a:off x="3171600" y="3846240"/>
              <a:ext cx="14616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18"/>
            <p:cNvCxnSpPr/>
            <p:nvPr/>
          </p:nvCxnSpPr>
          <p:spPr>
            <a:xfrm>
              <a:off x="6797520" y="3846600"/>
              <a:ext cx="12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9" name="AutoShape 19"/>
            <p:cNvCxnSpPr/>
            <p:nvPr/>
          </p:nvCxnSpPr>
          <p:spPr>
            <a:xfrm>
              <a:off x="5067360" y="4449600"/>
              <a:ext cx="108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0" name="AutoShape 20"/>
            <p:cNvCxnSpPr/>
            <p:nvPr/>
          </p:nvCxnSpPr>
          <p:spPr>
            <a:xfrm flipH="1">
              <a:off x="3171600" y="4449600"/>
              <a:ext cx="146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AutoShape 21"/>
            <p:cNvCxnSpPr/>
            <p:nvPr/>
          </p:nvCxnSpPr>
          <p:spPr>
            <a:xfrm>
              <a:off x="6797520" y="4449600"/>
              <a:ext cx="1267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1.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uk-UA" sz="3600" spc="-1" strike="noStrike">
                <a:solidFill>
                  <a:srgbClr val="572314"/>
                </a:solidFill>
                <a:latin typeface="Corbel"/>
              </a:rPr>
              <a:t>Сутність маркетингових комунікацій та їх характеристика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Цілі комунікації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изначають залежно від стану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в якому знаходиться цільова аудиторія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і в який черговий стан її потрібно перевест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обізнаність (чули про марку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нання (можуть описати особливості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сприятливе ставлення (позитивна оцінк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еревага (марка краще конкурентів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переконаність (кращий вибір даного споживач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rbel"/>
              </a:rPr>
              <a:t>здійснення купівл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2T12:08:49Z</dcterms:created>
  <dc:creator>Customer</dc:creator>
  <dc:description/>
  <dc:language>en-US</dc:language>
  <cp:lastModifiedBy>RePack by Diakov</cp:lastModifiedBy>
  <dcterms:modified xsi:type="dcterms:W3CDTF">2021-03-31T11:24:57Z</dcterms:modified>
  <cp:revision>97</cp:revision>
  <dc:subject/>
  <dc:title>Тема 6. МАРКЕТИНГОВА ЗБУТОВА ДІЯЛЬНІСТЬ</dc:title>
</cp:coreProperties>
</file>