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0696-F88C-43CA-A678-92B9093BE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52B5-9FE6-443C-A4D2-9DBA46A04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9A34-2DB9-482D-8CBC-0E5E8C724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A052-FECA-4819-AA8A-D91E16F5A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06118-901C-4135-A355-E4B6EE230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E8087-64BC-4EF3-AF57-920F795AB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984FC-399F-4EC2-B582-A76B3FF17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A87F5-B7BF-4827-B2E0-50714F979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74BDB-760D-4EA9-9917-129EBA2C1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CEF39-D7C8-45F8-A29C-9F9AB319F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405FC-9095-487F-A5CC-C55FE3428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2217-6A78-470A-9102-853952FDB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45733-6465-42E6-A226-4A985A5AC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98A28-86CE-4D99-9993-3484B4808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41051-2F69-4036-A3FB-8DBEFA531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58256-E019-4AE2-9B15-33E0148D1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512C0-D7DE-4A43-9776-113D6D534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F03F-4791-470E-9FEA-B60C1D658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1E5B-A9E5-4947-A0FD-F7E5465E3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89D5-5E14-4AA4-AA47-548678ADD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C79E-6E38-4A29-A6CB-2BE59BCFB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20E1-BD7C-42BF-A9B6-CB291EB79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8686-3EDA-4572-A24A-FDA152BEA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6FFF-6F2E-4904-8022-C6D39BCDA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400" cy="3117960"/>
              <a:chOff x="-1080" y="2601000"/>
              <a:chExt cx="268740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840" y="385056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4200" cy="1663920"/>
                <a:chOff x="852120" y="4055040"/>
                <a:chExt cx="183420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3600" y="3943800"/>
                  <a:ext cx="475560" cy="121932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33880" y="4975200"/>
                  <a:ext cx="109800" cy="50040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424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3640"/>
              <a:ext cx="790920" cy="634680"/>
              <a:chOff x="467280" y="6173640"/>
              <a:chExt cx="79092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2680" y="6172560"/>
                <a:ext cx="196560" cy="2541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9600" y="6513480"/>
                <a:ext cx="336600" cy="2109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0880"/>
                <a:ext cx="352080" cy="1072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F4D5D-1802-4DEF-B0FD-CC9001DAAA67}" type="datetime">
              <a:rPr b="0" lang="ru-RU" sz="1400" spc="-1" strike="noStrike">
                <a:solidFill>
                  <a:srgbClr val="000000"/>
                </a:solidFill>
                <a:latin typeface="Verdana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0B09B-8E39-4500-8EAD-3BADBF3F7CD3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85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86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87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0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1" name="Group 9"/>
            <p:cNvGrpSpPr/>
            <p:nvPr/>
          </p:nvGrpSpPr>
          <p:grpSpPr>
            <a:xfrm>
              <a:off x="-1080" y="2601000"/>
              <a:ext cx="2687400" cy="3117960"/>
              <a:chOff x="-1080" y="2601000"/>
              <a:chExt cx="2687400" cy="3117960"/>
            </a:xfrm>
          </p:grpSpPr>
          <p:sp>
            <p:nvSpPr>
              <p:cNvPr id="92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3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4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5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6" name="Freeform 14"/>
              <p:cNvSpPr/>
              <p:nvPr/>
            </p:nvSpPr>
            <p:spPr>
              <a:xfrm flipH="1" rot="789600">
                <a:off x="807840" y="385056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97" name="Group 15"/>
              <p:cNvGrpSpPr/>
              <p:nvPr/>
            </p:nvGrpSpPr>
            <p:grpSpPr>
              <a:xfrm>
                <a:off x="852120" y="4055040"/>
                <a:ext cx="1834200" cy="1663920"/>
                <a:chOff x="852120" y="4055040"/>
                <a:chExt cx="1834200" cy="1663920"/>
              </a:xfrm>
            </p:grpSpPr>
            <p:sp>
              <p:nvSpPr>
                <p:cNvPr id="98" name="Freeform 16"/>
                <p:cNvSpPr/>
                <p:nvPr/>
              </p:nvSpPr>
              <p:spPr>
                <a:xfrm flipH="1" rot="7102800">
                  <a:off x="1263600" y="3943800"/>
                  <a:ext cx="475560" cy="121932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99" name="Freeform 17"/>
                <p:cNvSpPr/>
                <p:nvPr/>
              </p:nvSpPr>
              <p:spPr>
                <a:xfrm flipH="1" rot="7102800">
                  <a:off x="2333880" y="4975200"/>
                  <a:ext cx="109800" cy="50040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00" name="Freeform 18"/>
                <p:cNvSpPr/>
                <p:nvPr/>
              </p:nvSpPr>
              <p:spPr>
                <a:xfrm flipH="1" rot="7102800">
                  <a:off x="2502000" y="5569200"/>
                  <a:ext cx="199080" cy="8424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01" name="Group 19"/>
            <p:cNvGrpSpPr/>
            <p:nvPr/>
          </p:nvGrpSpPr>
          <p:grpSpPr>
            <a:xfrm>
              <a:off x="467280" y="6173640"/>
              <a:ext cx="790920" cy="634680"/>
              <a:chOff x="467280" y="6173640"/>
              <a:chExt cx="790920" cy="634680"/>
            </a:xfrm>
          </p:grpSpPr>
          <p:sp>
            <p:nvSpPr>
              <p:cNvPr id="102" name="Freeform 20"/>
              <p:cNvSpPr/>
              <p:nvPr/>
            </p:nvSpPr>
            <p:spPr>
              <a:xfrm rot="6248400">
                <a:off x="1012680" y="6172560"/>
                <a:ext cx="196560" cy="2541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3" name="Freeform 21"/>
              <p:cNvSpPr/>
              <p:nvPr/>
            </p:nvSpPr>
            <p:spPr>
              <a:xfrm rot="6248400">
                <a:off x="759600" y="6513480"/>
                <a:ext cx="336600" cy="2109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4" name="Freeform 22"/>
              <p:cNvSpPr/>
              <p:nvPr/>
            </p:nvSpPr>
            <p:spPr>
              <a:xfrm rot="6248400">
                <a:off x="386280" y="6410880"/>
                <a:ext cx="352080" cy="1072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5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106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7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8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9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110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1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2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3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14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15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16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17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18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19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6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127" name="Group 2"/>
          <p:cNvGrpSpPr/>
          <p:nvPr/>
        </p:nvGrpSpPr>
        <p:grpSpPr>
          <a:xfrm>
            <a:off x="-20160" y="0"/>
            <a:ext cx="9050400" cy="6858000"/>
            <a:chOff x="-20160" y="0"/>
            <a:chExt cx="9050400" cy="6858000"/>
          </a:xfrm>
        </p:grpSpPr>
        <p:grpSp>
          <p:nvGrpSpPr>
            <p:cNvPr id="128" name="Group 3"/>
            <p:cNvGrpSpPr/>
            <p:nvPr/>
          </p:nvGrpSpPr>
          <p:grpSpPr>
            <a:xfrm>
              <a:off x="5407560" y="63000"/>
              <a:ext cx="3622680" cy="6129000"/>
              <a:chOff x="5407560" y="63000"/>
              <a:chExt cx="3622680" cy="6129000"/>
            </a:xfrm>
          </p:grpSpPr>
          <p:sp>
            <p:nvSpPr>
              <p:cNvPr id="129" name="Freeform 4"/>
              <p:cNvSpPr/>
              <p:nvPr/>
            </p:nvSpPr>
            <p:spPr>
              <a:xfrm flipV="1" rot="11970000">
                <a:off x="6581160" y="348120"/>
                <a:ext cx="2116440" cy="235656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30" name="Freeform 5"/>
              <p:cNvSpPr/>
              <p:nvPr/>
            </p:nvSpPr>
            <p:spPr>
              <a:xfrm flipV="1" rot="11970000">
                <a:off x="7421400" y="1959840"/>
                <a:ext cx="906480" cy="84276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31" name="Freeform 6"/>
              <p:cNvSpPr/>
              <p:nvPr/>
            </p:nvSpPr>
            <p:spPr>
              <a:xfrm flipV="1" rot="11970000">
                <a:off x="6825600" y="2592360"/>
                <a:ext cx="439560" cy="39492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32" name="Freeform 7"/>
              <p:cNvSpPr/>
              <p:nvPr/>
            </p:nvSpPr>
            <p:spPr>
              <a:xfrm flipV="1" rot="11970000">
                <a:off x="7251480" y="674280"/>
                <a:ext cx="38880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33" name="Freeform 8"/>
              <p:cNvSpPr/>
              <p:nvPr/>
            </p:nvSpPr>
            <p:spPr>
              <a:xfrm flipV="1" rot="11970000">
                <a:off x="7154280" y="2645280"/>
                <a:ext cx="163440" cy="33156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34" name="Freeform 9"/>
              <p:cNvSpPr/>
              <p:nvPr/>
            </p:nvSpPr>
            <p:spPr>
              <a:xfrm flipV="1" rot="11970000">
                <a:off x="7140240" y="1243080"/>
                <a:ext cx="190800" cy="14256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35" name="Freeform 10"/>
              <p:cNvSpPr/>
              <p:nvPr/>
            </p:nvSpPr>
            <p:spPr>
              <a:xfrm flipV="1" rot="11970000">
                <a:off x="5937840" y="2930400"/>
                <a:ext cx="523800" cy="326772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36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37" name="Freeform 12"/>
            <p:cNvSpPr/>
            <p:nvPr/>
          </p:nvSpPr>
          <p:spPr>
            <a:xfrm>
              <a:off x="266400" y="2000160"/>
              <a:ext cx="199836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38" name="Freeform 13"/>
            <p:cNvSpPr/>
            <p:nvPr/>
          </p:nvSpPr>
          <p:spPr>
            <a:xfrm>
              <a:off x="0" y="4143240"/>
              <a:ext cx="127116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39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40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41" name="Freeform 16"/>
            <p:cNvSpPr/>
            <p:nvPr/>
          </p:nvSpPr>
          <p:spPr>
            <a:xfrm>
              <a:off x="1888920" y="5195880"/>
              <a:ext cx="175860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142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43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44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45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46" name="Group 21"/>
            <p:cNvGrpSpPr/>
            <p:nvPr/>
          </p:nvGrpSpPr>
          <p:grpSpPr>
            <a:xfrm>
              <a:off x="5653800" y="297720"/>
              <a:ext cx="891360" cy="829440"/>
              <a:chOff x="5653800" y="297720"/>
              <a:chExt cx="891360" cy="829440"/>
            </a:xfrm>
          </p:grpSpPr>
          <p:sp>
            <p:nvSpPr>
              <p:cNvPr id="147" name="Freeform 22"/>
              <p:cNvSpPr/>
              <p:nvPr/>
            </p:nvSpPr>
            <p:spPr>
              <a:xfrm rot="14908200">
                <a:off x="5765400" y="796320"/>
                <a:ext cx="179280" cy="361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48" name="Freeform 23"/>
              <p:cNvSpPr/>
              <p:nvPr/>
            </p:nvSpPr>
            <p:spPr>
              <a:xfrm rot="14908200">
                <a:off x="5714280" y="476640"/>
                <a:ext cx="306360" cy="300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49" name="Freeform 24"/>
              <p:cNvSpPr/>
              <p:nvPr/>
            </p:nvSpPr>
            <p:spPr>
              <a:xfrm rot="14908200">
                <a:off x="6255720" y="397440"/>
                <a:ext cx="319320" cy="153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50" name="Group 25"/>
            <p:cNvGrpSpPr/>
            <p:nvPr/>
          </p:nvGrpSpPr>
          <p:grpSpPr>
            <a:xfrm>
              <a:off x="961200" y="5253480"/>
              <a:ext cx="1062360" cy="833400"/>
              <a:chOff x="961200" y="5253480"/>
              <a:chExt cx="1062360" cy="833400"/>
            </a:xfrm>
          </p:grpSpPr>
          <p:sp>
            <p:nvSpPr>
              <p:cNvPr id="151" name="Freeform 26"/>
              <p:cNvSpPr/>
              <p:nvPr/>
            </p:nvSpPr>
            <p:spPr>
              <a:xfrm rot="8524800">
                <a:off x="1706400" y="5520600"/>
                <a:ext cx="250920" cy="30168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52" name="Freeform 27"/>
              <p:cNvSpPr/>
              <p:nvPr/>
            </p:nvSpPr>
            <p:spPr>
              <a:xfrm rot="8524800">
                <a:off x="1188000" y="5730840"/>
                <a:ext cx="429480" cy="2505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53" name="Freeform 28"/>
              <p:cNvSpPr/>
              <p:nvPr/>
            </p:nvSpPr>
            <p:spPr>
              <a:xfrm rot="8524800">
                <a:off x="952560" y="5377680"/>
                <a:ext cx="448920" cy="1274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54" name="Group 29"/>
            <p:cNvGrpSpPr/>
            <p:nvPr/>
          </p:nvGrpSpPr>
          <p:grpSpPr>
            <a:xfrm>
              <a:off x="375840" y="451080"/>
              <a:ext cx="1690200" cy="1146600"/>
              <a:chOff x="375840" y="451080"/>
              <a:chExt cx="1690200" cy="1146600"/>
            </a:xfrm>
          </p:grpSpPr>
          <p:sp>
            <p:nvSpPr>
              <p:cNvPr id="155" name="Freeform 30"/>
              <p:cNvSpPr/>
              <p:nvPr/>
            </p:nvSpPr>
            <p:spPr>
              <a:xfrm flipH="1" rot="4107000">
                <a:off x="1576080" y="1069560"/>
                <a:ext cx="35532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56" name="Freeform 31"/>
              <p:cNvSpPr/>
              <p:nvPr/>
            </p:nvSpPr>
            <p:spPr>
              <a:xfrm flipH="1" rot="4107000">
                <a:off x="1022760" y="594720"/>
                <a:ext cx="608400" cy="4406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57" name="Freeform 32"/>
              <p:cNvSpPr/>
              <p:nvPr/>
            </p:nvSpPr>
            <p:spPr>
              <a:xfrm flipH="1" rot="4107000">
                <a:off x="278640" y="1108440"/>
                <a:ext cx="636120" cy="22392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58" name="Group 33"/>
            <p:cNvGrpSpPr/>
            <p:nvPr/>
          </p:nvGrpSpPr>
          <p:grpSpPr>
            <a:xfrm>
              <a:off x="7377480" y="3712320"/>
              <a:ext cx="1156320" cy="1607760"/>
              <a:chOff x="7377480" y="3712320"/>
              <a:chExt cx="1156320" cy="1607760"/>
            </a:xfrm>
          </p:grpSpPr>
          <p:sp>
            <p:nvSpPr>
              <p:cNvPr id="159" name="Freeform 34"/>
              <p:cNvSpPr/>
              <p:nvPr/>
            </p:nvSpPr>
            <p:spPr>
              <a:xfrm flipH="1" rot="10015800">
                <a:off x="7432200" y="4755960"/>
                <a:ext cx="35532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60" name="Freeform 35"/>
              <p:cNvSpPr/>
              <p:nvPr/>
            </p:nvSpPr>
            <p:spPr>
              <a:xfrm flipH="1" rot="10015800">
                <a:off x="7882920" y="4455360"/>
                <a:ext cx="608400" cy="4406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61" name="Freeform 36"/>
              <p:cNvSpPr/>
              <p:nvPr/>
            </p:nvSpPr>
            <p:spPr>
              <a:xfrm flipH="1" rot="10015800">
                <a:off x="7575840" y="3781440"/>
                <a:ext cx="636120" cy="22392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62" name="Freeform 37"/>
            <p:cNvSpPr/>
            <p:nvPr/>
          </p:nvSpPr>
          <p:spPr>
            <a:xfrm>
              <a:off x="1931760" y="3240"/>
              <a:ext cx="136800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63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64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65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66" name="Freeform 41"/>
            <p:cNvSpPr/>
            <p:nvPr/>
          </p:nvSpPr>
          <p:spPr>
            <a:xfrm>
              <a:off x="2544120" y="0"/>
              <a:ext cx="19656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67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68" name="Freeform 43"/>
            <p:cNvSpPr/>
            <p:nvPr/>
          </p:nvSpPr>
          <p:spPr>
            <a:xfrm>
              <a:off x="0" y="2933640"/>
              <a:ext cx="5688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B22CF-8C80-4773-8828-8E104AA4F73E}" type="datetime">
              <a:rPr b="0" lang="ru-RU" sz="1400" spc="-1" strike="noStrike">
                <a:solidFill>
                  <a:srgbClr val="006699"/>
                </a:solidFill>
                <a:latin typeface="Verdana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85157-8A4B-4AB3-9351-0C3A1E94AC50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0" y="549360"/>
            <a:ext cx="9144000" cy="63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ОНКУРЕНТОСПРОМОЖНІСТЬ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7030a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утність конкуренції та її види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7030a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Конкурентоспроможність товару та методи її вимірювання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7030a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Методи оцінки конкурентоспроможності підприємства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7030a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Характеристика конкурентних переваг і методи її оцінки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7030a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Конкурентний статус підприємства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7030a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цінка конкурентної позиції підприємства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285840" y="285480"/>
            <a:ext cx="857232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Знаходячись у взаємозв'язку та взаємозалежност</a:t>
            </a:r>
            <a:r>
              <a:rPr b="0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, категорії  конкурентоспроможност</a:t>
            </a:r>
            <a:r>
              <a:rPr b="0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 товару та підприємства відрізняються за свою сутністю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1. </a:t>
            </a:r>
            <a:r>
              <a:rPr b="0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O</a:t>
            </a:r>
            <a:r>
              <a:rPr b="0" lang="uk-UA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ц</a:t>
            </a:r>
            <a:r>
              <a:rPr b="0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нка конкурентоспроможност</a:t>
            </a:r>
            <a:r>
              <a:rPr b="0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 продукції застосовується до кожного конкретного виду, а конкурентоспроможн</a:t>
            </a:r>
            <a:r>
              <a:rPr b="0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c</a:t>
            </a:r>
            <a:r>
              <a:rPr b="0" lang="uk-UA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ть п</a:t>
            </a:r>
            <a:r>
              <a:rPr b="0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дприємства охоплює всю номенклатуру продукції, що виробляється, її динам</a:t>
            </a:r>
            <a:r>
              <a:rPr b="0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ку, структури, а також в</a:t>
            </a:r>
            <a:r>
              <a:rPr b="0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ci</a:t>
            </a:r>
            <a:r>
              <a:rPr b="0" lang="uk-UA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 види виробничо-економ</a:t>
            </a:r>
            <a:r>
              <a:rPr b="0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чної д</a:t>
            </a:r>
            <a:r>
              <a:rPr b="0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яльност</a:t>
            </a:r>
            <a:r>
              <a:rPr b="0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, як</a:t>
            </a:r>
            <a:r>
              <a:rPr b="0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 зд</a:t>
            </a:r>
            <a:r>
              <a:rPr b="0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йснюються п</a:t>
            </a:r>
            <a:r>
              <a:rPr b="0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дприємством, включаючи роботи та послуги, валютно-ф</a:t>
            </a:r>
            <a:r>
              <a:rPr b="0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нансов</a:t>
            </a:r>
            <a:r>
              <a:rPr b="0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 операції,  </a:t>
            </a:r>
            <a:r>
              <a:rPr b="0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нвестиц</a:t>
            </a:r>
            <a:r>
              <a:rPr b="0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йну  д</a:t>
            </a:r>
            <a:r>
              <a:rPr b="0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яльн</a:t>
            </a:r>
            <a:r>
              <a:rPr b="0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сть.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2. Визнання конкурентоспроможностi товару та виробника здi</a:t>
            </a:r>
            <a:r>
              <a:rPr b="0" lang="uk-UA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й</a:t>
            </a:r>
            <a:r>
              <a:rPr b="0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снюється на ринку. У той же час oцiн</a:t>
            </a:r>
            <a:r>
              <a:rPr b="0" lang="uk-UA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к</a:t>
            </a:r>
            <a:r>
              <a:rPr b="0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a рiвня конкурентоспроможностi </a:t>
            </a:r>
            <a:r>
              <a:rPr b="0" lang="uk-UA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п</a:t>
            </a:r>
            <a:r>
              <a:rPr b="0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дприємства здiйснюється не </a:t>
            </a:r>
            <a:r>
              <a:rPr b="0" lang="uk-UA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тіль</a:t>
            </a:r>
            <a:r>
              <a:rPr b="0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ки споживачем, але й ним самим. Саме  пi</a:t>
            </a:r>
            <a:r>
              <a:rPr b="0" lang="uk-UA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дп</a:t>
            </a:r>
            <a:r>
              <a:rPr b="0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риємство-виробник вирiшує  питання щодо доцiльностi виробничо­економiчн</a:t>
            </a:r>
            <a:r>
              <a:rPr b="0" lang="uk-UA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ої</a:t>
            </a:r>
            <a:r>
              <a:rPr b="0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 дi</a:t>
            </a:r>
            <a:r>
              <a:rPr b="0" lang="uk-UA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ял</a:t>
            </a:r>
            <a:r>
              <a:rPr b="0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ьностi в конкретних </a:t>
            </a:r>
            <a:r>
              <a:rPr b="0" lang="uk-UA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умова</a:t>
            </a:r>
            <a:r>
              <a:rPr b="0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x. При oцiнцi конкурентоспроможностi товару споживача не цiкавить piвe</a:t>
            </a:r>
            <a:r>
              <a:rPr b="0" lang="uk-UA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нь</a:t>
            </a:r>
            <a:r>
              <a:rPr b="0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 витрат i ефективнiсть виробничо-господа</a:t>
            </a:r>
            <a:r>
              <a:rPr b="0" lang="uk-UA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рської</a:t>
            </a:r>
            <a:r>
              <a:rPr b="0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 дiяльностi виробника.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3. Товар i пiдприємство мають рiзнi часовi перiоди свого життєвого циклу. Якщо предметом дослiдження </a:t>
            </a:r>
            <a:r>
              <a:rPr b="0" lang="uk-UA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є</a:t>
            </a:r>
            <a:r>
              <a:rPr b="0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 поточна oцiнкa конкурентоспроможностi, то фактор часу не </a:t>
            </a:r>
            <a:r>
              <a:rPr b="0" lang="uk-UA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має</a:t>
            </a:r>
            <a:r>
              <a:rPr b="0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 визначального значення, але коли процес розглядається в довгостроковому аспектi, то слiд мати на увазi, що житrєвий цикл пiдприємства, як правило, є бiльш тривалим, оскільки за пе</a:t>
            </a:r>
            <a:r>
              <a:rPr b="0" lang="uk-UA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ріод його функціонування змінюються від декількох до багатьох поколінь виробів.</a:t>
            </a:r>
            <a:r>
              <a:rPr b="0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 Разом iз тим, iнколи життєвий цикл продукцi</a:t>
            </a:r>
            <a:r>
              <a:rPr b="0" lang="uk-UA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ї</a:t>
            </a:r>
            <a:r>
              <a:rPr b="0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  може  перевищувати  </a:t>
            </a:r>
            <a:r>
              <a:rPr b="0" lang="uk-UA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п</a:t>
            </a:r>
            <a:r>
              <a:rPr b="0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epio</a:t>
            </a:r>
            <a:r>
              <a:rPr b="0" lang="uk-UA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д  ф</a:t>
            </a:r>
            <a:r>
              <a:rPr b="0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ункцiонування  пiдприємства</a:t>
            </a:r>
            <a:r>
              <a:rPr b="0" lang="uk-UA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0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1613A-6A4F-455E-9F63-300F8C2DC13B}" type="slidenum">
              <a:rPr b="0" lang="ru-RU" sz="1200" spc="-1" strike="noStrike">
                <a:solidFill>
                  <a:srgbClr val="89a0b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0" y="1125000"/>
            <a:ext cx="91440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За своєю економ</a:t>
            </a:r>
            <a:r>
              <a:rPr b="0" lang="ru-RU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чною сутн</a:t>
            </a:r>
            <a:r>
              <a:rPr b="0" lang="ru-RU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стю  конкурентоспроможність п</a:t>
            </a:r>
            <a:r>
              <a:rPr b="0" lang="ru-RU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дприємства  становить б</a:t>
            </a:r>
            <a:r>
              <a:rPr b="0" lang="ru-RU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льш широку системну категор</a:t>
            </a:r>
            <a:r>
              <a:rPr b="0" lang="ru-RU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ю, що включає в себе в якост</a:t>
            </a:r>
            <a:r>
              <a:rPr b="0" lang="ru-RU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 п</a:t>
            </a:r>
            <a:r>
              <a:rPr b="0" lang="ru-RU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дсистеми конкурентоспроможн</a:t>
            </a:r>
            <a:r>
              <a:rPr b="0" lang="ru-RU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сть товару, яка  </a:t>
            </a:r>
            <a:r>
              <a:rPr b="0" lang="ru-RU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 розглядається як  передумова та  необxiдна,  але  не  достатня  умова   для забезпечення стiйких конкурентних позицiй пiдприємства .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Конкурентоспроможнiсть пiдприємства (КСП) залежить від  його внутрiшнього стану, а також зовнiшнього положения пiдприємства. КСП підприємства не є його постiйною характеристикою, вона визначає здатнicть здійснювати успiшну конкурентну боротьбу, протистояти в певний  перiод основним конкурентам.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3 точки зору впливу зовнiшнього середовища на дану категорiю, конкурентоспроможнiсть пiдприємства розглядається як відноснa категорiя, тобто кожне пiдприємство за одними або iншими характеристиками зicтавляється з конкурентами (причому, як правило, усерединi  однієї галузi) на тому самому  </a:t>
            </a:r>
            <a:r>
              <a:rPr b="0" lang="uk-UA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р</a:t>
            </a:r>
            <a:r>
              <a:rPr b="0" lang="ru-RU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инку</a:t>
            </a:r>
            <a:r>
              <a:rPr b="0" lang="uk-UA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2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26BE0-E63D-4331-B6A5-EDD49A2D4035}" type="slidenum">
              <a:rPr b="0" lang="ru-RU" sz="1200" spc="-1" strike="noStrike">
                <a:solidFill>
                  <a:srgbClr val="89a0b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213840" y="428400"/>
            <a:ext cx="86439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З позиції </a:t>
            </a:r>
            <a:r>
              <a:rPr b="1" lang="ru-RU" sz="24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системного пiдходу </a:t>
            </a:r>
            <a:r>
              <a:rPr b="0" lang="ru-RU" sz="24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КСП пiдприємства варто розглядати як систему, що складається з беззупинно взаємодiючих факторiв, i здатність, що характеризує, реалiзацiю потенцiйних можливостей пiдприємства по придбанню й утриманню протягом досить тривалого перiоду часу конкурентної  переваги. Тому пiд конкурентоспро-можнicтю варто розyмiти не тiльки ефективнicть, але й ступiнь динамiчностi пристосування пiдприємства до умов  зовнішнього  середовища, що змiнюються.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4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BA8DE-40BA-40BA-8F50-F0F4999071E5}" type="slidenum">
              <a:rPr b="0" lang="ru-RU" sz="1200" spc="-1" strike="noStrike">
                <a:solidFill>
                  <a:srgbClr val="89a0b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214200" y="285840"/>
            <a:ext cx="871560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Поняття конкурентоспроможностi пiдприємства можна охарак-теризувати такими </a:t>
            </a:r>
            <a:r>
              <a:rPr b="1" lang="ru-RU" sz="20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особливостями: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-  конкурентоспроможнiсть не є iманентною якiстю пiдприємства, вона може бути виявлена та оцiнена тiльки в умовах наявностi конкурентів (реальних або потенційних);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-  поняття конкурентоспроможностi відносне, тобто вона буде  мати рiзний  piвeнь  стосовно  рiзних  конкурентів;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-  визначається конкурентспроможнicть пiдприємства   продуктивнiстю використання  залучених   (використовуваних) реcypciв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онкурентоспроможнicть пiдпримства визначають три групи фактоpiв: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на макроекономiчному piвні </a:t>
            </a:r>
            <a:r>
              <a:rPr b="0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- </a:t>
            </a:r>
            <a:r>
              <a:rPr b="0" lang="ru-RU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конкурентоспроможнicть території  та крaїни ;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на галузевому piвнi </a:t>
            </a:r>
            <a:r>
              <a:rPr b="0" lang="ru-RU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- конкурентоспроможнiсть  галузi;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на piвні пiдприємства </a:t>
            </a:r>
            <a:r>
              <a:rPr b="0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- </a:t>
            </a:r>
            <a:r>
              <a:rPr b="0" lang="ru-RU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фактори, що характеризують його власний потенціал i мicцe на ринку, зокрема  унiкальнicть  продукції  й рівень її  конкурентоспроможностi.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6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592DD-E250-4859-BD77-4E0DB48042F5}" type="slidenum">
              <a:rPr b="0" lang="ru-RU" sz="1200" spc="-1" strike="noStrike">
                <a:solidFill>
                  <a:srgbClr val="89a0b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713880" y="357120"/>
            <a:ext cx="747108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2. Методи оцінки конкурентоспроможності підприємства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285480" y="1699920"/>
            <a:ext cx="86439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1. Методи, засновaнi на аналiзi порiвняльних переваг.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2. Методи, що </a:t>
            </a:r>
            <a:r>
              <a:rPr b="0" lang="uk-UA" sz="24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б</a:t>
            </a:r>
            <a:r>
              <a:rPr b="0" lang="ru-RU" sz="24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азуються на тeopiї рiвноваги фiрми i галузi.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3. Методи, побудованi на основі тeopiї ефективної  конкуренції.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4. Методи, засновaнi на теорії якостi товару.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5. Матричнi методи оцiнки конкурентоспроможностi.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6. Комплекснi методи (у тому числi iнтегральнi).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7. Метод визначення позицiї  конкуpeнцiї з погляду стратегiчного потенцiалу  пiдприємства.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8. Методи, заснованi на порiвняннi з еталоном (модифiкацiя комплексних методів із  застосуванням iнтегральних оцінок).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10181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9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02FE6-3B68-4B95-BD47-AD18F7D2E27A}" type="slidenum">
              <a:rPr b="0" lang="ru-RU" sz="1200" spc="-1" strike="noStrike">
                <a:solidFill>
                  <a:srgbClr val="89a0b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285480" y="357120"/>
            <a:ext cx="864396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1. Метод зіставлення порівняльних переваг. </a:t>
            </a:r>
            <a:r>
              <a:rPr b="0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Звичайно оцiнка рiвня КСП пiдприємства проводиться шляхом зіставлення piвнiв одного з вказаних показникiв даного пiдприємства з рівнем аналогiчного показника пiдприємства-конкурента. Бiльш високий рівень цього зіставного показника вважається достатньою умовою для того, щоб оцінити дане пiдприємство  як бiльш  конкурентоспроможне.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Використання об'ємних показникiв дозволяє зicтавити масштаб діяльності пiдприємств, але конкypeнтнi позицiї  визначаються не стiльки масштабом, скiльки ефективнiстю виробничо-господарськoї дiяльностi i  рівнем конкурентоспроможностi  продукцiї.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Бiльш переважним є використання як критерiю оцiнки  показника  прибутку або рентабельностi. Проте й цi показники не повнicтю  виражають конкypeнтнi позицiї фiрм. Так, наприклад, тимчасове зниження  рентабельностi при одночасному розширеннi ринку збуту i масшта</a:t>
            </a:r>
            <a:r>
              <a:rPr b="0" lang="uk-UA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бів виробництва, </a:t>
            </a:r>
            <a:r>
              <a:rPr b="0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або при масових iнвестицiях,   пов' язаних з упровадженням нововедень, свiдчить швидше про пiдвищення рiвня конкурентоспроможності  підприємства.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cтотним недолiком даного методичного пiдходу є також статичнicть одержуваних оцiнок, оскiльки процес розвитку конкурентних переваг не  є предметом </a:t>
            </a:r>
            <a:r>
              <a:rPr b="0" lang="en-US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вивчення </a:t>
            </a:r>
            <a:r>
              <a:rPr b="0" lang="en-US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 </a:t>
            </a:r>
            <a:r>
              <a:rPr b="0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анал</a:t>
            </a:r>
            <a:r>
              <a:rPr b="0" lang="en-US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зу.  Kpi</a:t>
            </a:r>
            <a:r>
              <a:rPr b="0" lang="uk-UA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м</a:t>
            </a:r>
            <a:r>
              <a:rPr b="0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 того, ця методика не дaє можливостi  оцінити ступiнь ефективностi процесу  адаптацiї  пiдприємства до умов  зовнiшнього середовища, що змiнюються.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1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BF84B-9B02-4EF5-952C-3542987D3D01}" type="slidenum">
              <a:rPr b="0" lang="ru-RU" sz="1200" spc="-1" strike="noStrike">
                <a:solidFill>
                  <a:srgbClr val="89a0b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0" y="549360"/>
            <a:ext cx="9144000" cy="60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2. </a:t>
            </a:r>
            <a:r>
              <a:rPr b="1" i="1" lang="uk-UA" sz="19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цінка рівня конкурентосп</a:t>
            </a:r>
            <a:r>
              <a:rPr b="1" i="1" lang="ru-RU" sz="19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оможностi вuробнuка на базi теорії рівноваги фiрмu i галузi А. Маршалла й теорії вартості чинників виробництва</a:t>
            </a:r>
            <a:r>
              <a:rPr b="0" i="1" lang="ru-RU" sz="19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.  </a:t>
            </a:r>
            <a:r>
              <a:rPr b="0" lang="ru-RU" sz="19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Вiдповiдно до цього пiдходу пiд рівновагою розуміється такий стан, коли у виробника відсутні  стимули i мотиви для  переходу в iнший стан.</a:t>
            </a:r>
            <a:endParaRPr b="0" lang="en-US" sz="19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 </a:t>
            </a:r>
            <a:r>
              <a:rPr b="0" i="1" lang="ru-RU" sz="19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Критерiєм</a:t>
            </a:r>
            <a:r>
              <a:rPr b="0" lang="ru-RU" sz="19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 КСП в рамках цього методичного пiдxоду слугує наявність у виробника таких чинникiв виробництва, якi можуть бути використанi з кращою, нiж у конкурентів, продуктивнiстю. </a:t>
            </a:r>
            <a:endParaRPr b="0" lang="en-US" sz="19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Як </a:t>
            </a:r>
            <a:r>
              <a:rPr b="0" i="1" lang="ru-RU" sz="19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аналiзованi </a:t>
            </a:r>
            <a:r>
              <a:rPr b="0" i="1" lang="uk-UA" sz="19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показники</a:t>
            </a:r>
            <a:r>
              <a:rPr b="0" i="1" lang="ru-RU" sz="19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 звичайно використовуються</a:t>
            </a:r>
            <a:r>
              <a:rPr b="0" lang="ru-RU" sz="19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: відсоткові ставки за кредитами; відносна вартість устаткування, що закуповується; відносні ставки заробiтної· платнi; відносна вартість матерiальних pecypciв. </a:t>
            </a:r>
            <a:endParaRPr b="0" lang="en-US" sz="19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Чим нижче показники відносної вартості чинникiв виробництва у конкретного виробника порiвняно з конкурентами, тим мiцнiше вважаються його конкурентні позицiї i вище piвень конкурентоспроможностi. </a:t>
            </a:r>
            <a:endParaRPr b="0" lang="en-US" sz="19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 u="sng">
                <a:solidFill>
                  <a:srgbClr val="10181c"/>
                </a:solidFill>
                <a:uFillTx/>
                <a:latin typeface="Times New Roman"/>
                <a:ea typeface="Times New Roman"/>
              </a:rPr>
              <a:t>Загальним недолiком </a:t>
            </a:r>
            <a:r>
              <a:rPr b="0" lang="ru-RU" sz="19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цього методичного пiдходу  є те, що він вiдображає  бiльшою мiрою умови роботи пiдприємства, що об‘єктивно склалися, i практично не характеризує здатність пiдприємства до адаптації, тобто не враховує вплив чинникiв внутрiшнього середовища. Такий пiдxiд отримав найбiльше розповсюдження для оцiнки конкурентоспроможностi на piвнi галузей у рiзних країнах i використовується з цiєю метою Комітетом  iз   вивчення  економiчного стану та проблем  розвитку. </a:t>
            </a:r>
            <a:endParaRPr b="0" lang="en-US" sz="19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3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77C57-92AC-43F6-9B90-AD8D074A4434}" type="slidenum">
              <a:rPr b="0" lang="ru-RU" sz="1200" spc="-1" strike="noStrike">
                <a:solidFill>
                  <a:srgbClr val="89a0b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9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3. Методи визначення конку</a:t>
            </a:r>
            <a:r>
              <a:rPr b="1" i="1" lang="ru-RU" sz="19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ентоспроможностi, побудованi на базi теорii ефективної конкуренції</a:t>
            </a:r>
            <a:r>
              <a:rPr b="1" i="1" lang="ru-RU" sz="19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.</a:t>
            </a:r>
            <a:r>
              <a:rPr b="0" i="1" lang="ru-RU" sz="19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 </a:t>
            </a:r>
            <a:r>
              <a:rPr b="0" lang="ru-RU" sz="19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Основним iнструментом аналiзу конкурентоспроможностi стає зiставлення положення пiдприємств, що входять у галузь, з конкуруючими фiрмами  i з середньо­галузевими показниками. </a:t>
            </a:r>
            <a:endParaRPr b="0" lang="en-US" sz="19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При такому пiдходi предметом аналiзу, як правило, виступають </a:t>
            </a:r>
            <a:r>
              <a:rPr b="1" i="1" lang="ru-RU" sz="19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три головнi групи показникiв: </a:t>
            </a:r>
            <a:endParaRPr b="0" lang="en-US" sz="19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-  ефективнicть  збутової  дiяльностi  пiдприємства; </a:t>
            </a:r>
            <a:endParaRPr b="0" lang="en-US" sz="19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-  ефективнicть   виробничої  дiяльностi; </a:t>
            </a:r>
            <a:endParaRPr b="0" lang="en-US" sz="19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-  фiнансова  стiйкicть пiдприємства. </a:t>
            </a:r>
            <a:endParaRPr b="0" lang="en-US" sz="19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Для оцiнки КСП проводиться зicтавлення одиничних i групових показникiв роботи пiдприємств з вiдповiдними показниками конкурентів та середньогалузевими. На основі отриманих таким чином спiввiдношень показникiв робляться певнi висновки про порiвняльну конкурентоспроможність об</a:t>
            </a:r>
            <a:r>
              <a:rPr b="0" lang="en-US" sz="19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’</a:t>
            </a:r>
            <a:r>
              <a:rPr b="0" lang="ru-RU" sz="19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єктів дослiдження. У той же час </a:t>
            </a:r>
            <a:r>
              <a:rPr b="1" i="1" lang="ru-RU" sz="19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цей пiдхiд має  iстотні  недолiки .</a:t>
            </a:r>
            <a:endParaRPr b="0" lang="en-US" sz="19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По-перше,</a:t>
            </a:r>
            <a:r>
              <a:rPr b="0" lang="ru-RU" sz="19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 показники першої i другої груп достатньо тісно взаємопов'язанi, та їх розмежування носить умовний характер. </a:t>
            </a:r>
            <a:endParaRPr b="0" lang="en-US" sz="19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По-друге,</a:t>
            </a:r>
            <a:r>
              <a:rPr b="0" lang="ru-RU" sz="19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 складним є узагальнення результатiв аналiзу навіть по гpупах показникiв, а тим бiльше складно обгрунтувати пiдсумкову інтегральну  оцiнку рiвня конкурентоспроможностi пiдприємства. </a:t>
            </a:r>
            <a:endParaRPr b="0" lang="en-US" sz="19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По-трете,</a:t>
            </a:r>
            <a:r>
              <a:rPr b="0" lang="ru-RU" sz="19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 аналiзований методичний пiдхiд не дозволяє оцiнити  динаміку  чинникiв,  що впливають на piвень конкурентоспроможностi.</a:t>
            </a:r>
            <a:endParaRPr b="0" lang="en-US" sz="19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5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24E28-7BF4-44EF-8360-0E67A692FEFA}" type="slidenum">
              <a:rPr b="0" lang="ru-RU" sz="1200" spc="-1" strike="noStrike">
                <a:solidFill>
                  <a:srgbClr val="89a0b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42920" y="274680"/>
            <a:ext cx="8786880" cy="18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4. </a:t>
            </a:r>
            <a:r>
              <a:rPr b="1" i="1" lang="uk-UA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цінка</a:t>
            </a:r>
            <a:r>
              <a:rPr b="1" i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конкурентоспроможностi на пiдставi теорії якостi товару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зумовлює переважно дослiдження споживчої цiнностi вироблюваної </a:t>
            </a:r>
            <a:br>
              <a:rPr sz="2000"/>
            </a:br>
            <a:r>
              <a:rPr b="0" lang="ru-RU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продукцiї, причому найважливiшi параметри зicтавляються з аналогічними параметрами продукцiї  виробникiв-конкурентiв. </a:t>
            </a:r>
            <a:br>
              <a:rPr sz="2000"/>
            </a:br>
            <a:endParaRPr b="0" lang="en-US" sz="2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214200" y="1643040"/>
            <a:ext cx="8715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Рівень конкурентоспроможності (К) продукції оцінюється таким чином</a:t>
            </a:r>
            <a:r>
              <a:rPr b="1" lang="uk-UA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де     </a:t>
            </a:r>
            <a:r>
              <a:rPr b="0" lang="uk-UA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І</a:t>
            </a:r>
            <a:r>
              <a:rPr b="0" lang="uk-UA" sz="1800" spc="-1" strike="noStrike" baseline="-25000">
                <a:solidFill>
                  <a:srgbClr val="10181c"/>
                </a:solidFill>
                <a:latin typeface="Times New Roman"/>
                <a:ea typeface="Times New Roman"/>
              </a:rPr>
              <a:t>О</a:t>
            </a:r>
            <a:r>
              <a:rPr b="0" lang="uk-UA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 - </a:t>
            </a:r>
            <a:r>
              <a:rPr b="0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 iнтегральний показник оцiнюваної  продукцiї;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        </a:t>
            </a:r>
            <a:r>
              <a:rPr b="0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І</a:t>
            </a:r>
            <a:r>
              <a:rPr b="0" lang="ru-RU" sz="1800" spc="-1" strike="noStrike" baseline="-25000">
                <a:solidFill>
                  <a:srgbClr val="10181c"/>
                </a:solidFill>
                <a:latin typeface="Times New Roman"/>
                <a:ea typeface="Times New Roman"/>
              </a:rPr>
              <a:t>А</a:t>
            </a:r>
            <a:r>
              <a:rPr b="0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 -  iнтегральний  показник  продукцiї-аналога.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10181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При цьому, якщо К &gt; 1, то оцiнювана продукцiя перевершує продукцiю конкурента. </a:t>
            </a:r>
            <a:r>
              <a:rPr b="1" i="1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нтегральний показник,  у свою чергу,  розраховується за формулою: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де   П</a:t>
            </a:r>
            <a:r>
              <a:rPr b="0" lang="ru-RU" sz="1800" spc="-1" strike="noStrike" baseline="-25000">
                <a:solidFill>
                  <a:srgbClr val="10181c"/>
                </a:solidFill>
                <a:latin typeface="Times New Roman"/>
                <a:ea typeface="Times New Roman"/>
              </a:rPr>
              <a:t>Е</a:t>
            </a:r>
            <a:r>
              <a:rPr b="0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 - сумарний корисний ефект від використання продукцiї за призначенням;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       </a:t>
            </a:r>
            <a:r>
              <a:rPr b="0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Зп - cумарні витрати на створення продукцiї;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       </a:t>
            </a:r>
            <a:r>
              <a:rPr b="0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З</a:t>
            </a:r>
            <a:r>
              <a:rPr b="0" lang="ru-RU" sz="1800" spc="-1" strike="noStrike" baseline="-25000">
                <a:solidFill>
                  <a:srgbClr val="10181c"/>
                </a:solidFill>
                <a:latin typeface="Times New Roman"/>
                <a:ea typeface="Times New Roman"/>
              </a:rPr>
              <a:t>Е</a:t>
            </a:r>
            <a:r>
              <a:rPr b="0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 – cумарні  витрати на експлуатацiю продукцiї;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      </a:t>
            </a:r>
            <a:r>
              <a:rPr b="0" lang="uk-UA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U</a:t>
            </a:r>
            <a:r>
              <a:rPr b="0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 - комплексний показник якостi, що визначає  кориснicть продукцiї;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      </a:t>
            </a:r>
            <a:r>
              <a:rPr b="0" lang="uk-UA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С </a:t>
            </a:r>
            <a:r>
              <a:rPr b="0" lang="ru-RU" sz="1800" spc="-1" strike="noStrike" baseline="-25000">
                <a:solidFill>
                  <a:srgbClr val="10181c"/>
                </a:solidFill>
                <a:latin typeface="Times New Roman"/>
                <a:ea typeface="Times New Roman"/>
              </a:rPr>
              <a:t>∑</a:t>
            </a:r>
            <a:r>
              <a:rPr b="0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 - </a:t>
            </a:r>
            <a:r>
              <a:rPr b="0" lang="uk-UA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 ц</a:t>
            </a:r>
            <a:r>
              <a:rPr b="0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на споживання, що складається з продажної ц</a:t>
            </a:r>
            <a:r>
              <a:rPr b="0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ни </a:t>
            </a:r>
            <a:r>
              <a:rPr b="0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 витрат споживача при                      експлуатац</a:t>
            </a:r>
            <a:r>
              <a:rPr b="0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ї</a:t>
            </a:r>
            <a:r>
              <a:rPr b="0" lang="uk-UA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9" name="Object 1"/>
              <p:cNvSpPr txBox="1"/>
              <p:nvPr/>
            </p:nvSpPr>
            <p:spPr>
              <a:xfrm>
                <a:off x="3143160" y="1928880"/>
                <a:ext cx="222732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К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І</m:t>
                            </m:r>
                          </m:e>
                          <m:sub>
                            <m:r>
                              <m:t xml:space="preserve">о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І</m:t>
                            </m:r>
                          </m:e>
                          <m:sub>
                            <m:r>
                              <m:t xml:space="preserve">А</m:t>
                            </m:r>
                          </m:sub>
                        </m:sSub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Object 3"/>
              <p:cNvSpPr txBox="1"/>
              <p:nvPr/>
            </p:nvSpPr>
            <p:spPr>
              <a:xfrm>
                <a:off x="1981080" y="4143240"/>
                <a:ext cx="2386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І</m:t>
                        </m:r>
                      </m:e>
                      <m:sub>
                        <m:r>
                          <m:t xml:space="preserve">O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П</m:t>
                            </m:r>
                          </m:e>
                          <m:sub>
                            <m:r>
                              <m:t xml:space="preserve">Е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З</m:t>
                            </m:r>
                          </m:e>
                          <m:sub>
                            <m:r>
                              <m:t xml:space="preserve">П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З</m:t>
                        </m:r>
                      </m:e>
                      <m:sub>
                        <m:r>
                          <m:t xml:space="preserve">Е</m:t>
                        </m:r>
                      </m:sub>
                    </m:sSub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3" name="Object 5"/>
              <p:cNvSpPr txBox="1"/>
              <p:nvPr/>
            </p:nvSpPr>
            <p:spPr>
              <a:xfrm>
                <a:off x="6200640" y="4143240"/>
                <a:ext cx="1203480" cy="75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І</m:t>
                        </m:r>
                      </m:e>
                      <m:sub>
                        <m:r>
                          <m:t xml:space="preserve">O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U</m:t>
                        </m:r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Σ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4" name="Rectangle 7"/>
          <p:cNvSpPr/>
          <p:nvPr/>
        </p:nvSpPr>
        <p:spPr>
          <a:xfrm>
            <a:off x="4857840" y="4358160"/>
            <a:ext cx="50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10181c"/>
                </a:solidFill>
                <a:latin typeface="Arial"/>
                <a:ea typeface="Times New Roman"/>
              </a:rPr>
              <a:t>або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5" name="Номер слайда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2B375-595F-429A-BDFB-9A93D3C38146}" type="slidenum">
              <a:rPr b="0" lang="ru-RU" sz="1200" spc="-1" strike="noStrike">
                <a:solidFill>
                  <a:srgbClr val="89a0b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0" y="549360"/>
            <a:ext cx="9144000" cy="63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Недол</a:t>
            </a:r>
            <a:r>
              <a:rPr b="1" i="1" lang="ru-RU" sz="24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1" i="1" lang="uk-UA" sz="24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ком под</a:t>
            </a:r>
            <a:r>
              <a:rPr b="1" i="1" lang="ru-RU" sz="24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1" i="1" lang="uk-UA" sz="24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бного методу </a:t>
            </a:r>
            <a:r>
              <a:rPr b="0" lang="uk-UA" sz="24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є те, що в</a:t>
            </a:r>
            <a:r>
              <a:rPr b="0" lang="ru-RU" sz="24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24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н не враховує ефективн</a:t>
            </a:r>
            <a:r>
              <a:rPr b="0" lang="ru-RU" sz="24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24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сть виробничо-збутової д</a:t>
            </a:r>
            <a:r>
              <a:rPr b="0" lang="ru-RU" sz="24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24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яльност</a:t>
            </a:r>
            <a:r>
              <a:rPr b="0" lang="ru-RU" sz="24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24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 п</a:t>
            </a:r>
            <a:r>
              <a:rPr b="0" lang="ru-RU" sz="24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24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дприємства та ототожнює конкурентоспроможн</a:t>
            </a:r>
            <a:r>
              <a:rPr b="0" lang="ru-RU" sz="24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24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сть товару з конкурентоспро-можн</a:t>
            </a:r>
            <a:r>
              <a:rPr b="0" lang="ru-RU" sz="24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c</a:t>
            </a:r>
            <a:r>
              <a:rPr b="0" lang="uk-UA" sz="24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тю п</a:t>
            </a:r>
            <a:r>
              <a:rPr b="0" lang="ru-RU" sz="24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24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дприємства; </a:t>
            </a:r>
            <a:r>
              <a:rPr b="0" lang="ru-RU" sz="24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крім</a:t>
            </a:r>
            <a:r>
              <a:rPr b="0" lang="uk-UA" sz="24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 того,  метод може бути застосовний т</a:t>
            </a:r>
            <a:r>
              <a:rPr b="0" lang="ru-RU" sz="24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24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льки для п</a:t>
            </a:r>
            <a:r>
              <a:rPr b="0" lang="ru-RU" sz="24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24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дприємств-виробник</a:t>
            </a:r>
            <a:r>
              <a:rPr b="0" lang="ru-RU" sz="24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24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в одного виду продукц</a:t>
            </a:r>
            <a:r>
              <a:rPr b="0" lang="ru-RU" sz="24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ї</a:t>
            </a:r>
            <a:r>
              <a:rPr b="0" lang="uk-UA" sz="24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, оск</a:t>
            </a:r>
            <a:r>
              <a:rPr b="0" lang="ru-RU" sz="24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24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льки в раз</a:t>
            </a:r>
            <a:r>
              <a:rPr b="0" lang="ru-RU" sz="24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24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 диверсиф</a:t>
            </a:r>
            <a:r>
              <a:rPr b="0" lang="ru-RU" sz="24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24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кованого виробництва використання методу неправом</a:t>
            </a:r>
            <a:r>
              <a:rPr b="0" lang="ru-RU" sz="24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24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рно з методичної точки зору внасл</a:t>
            </a:r>
            <a:r>
              <a:rPr b="0" lang="ru-RU" sz="24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24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док нез</a:t>
            </a:r>
            <a:r>
              <a:rPr b="0" lang="ru-RU" sz="24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c</a:t>
            </a:r>
            <a:r>
              <a:rPr b="0" lang="uk-UA" sz="24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тавност</a:t>
            </a:r>
            <a:r>
              <a:rPr b="0" lang="ru-RU" sz="24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24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 параметр</a:t>
            </a:r>
            <a:r>
              <a:rPr b="0" lang="ru-RU" sz="24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24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в об'єктів пор</a:t>
            </a:r>
            <a:r>
              <a:rPr b="0" lang="ru-RU" sz="24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24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вняння.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7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CB722-F5F1-42DE-9B9A-530DEBD4EBB9}" type="slidenum">
              <a:rPr b="0" lang="ru-RU" sz="1200" spc="-1" strike="noStrike">
                <a:solidFill>
                  <a:srgbClr val="89a0b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652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10181c"/>
                </a:solidFill>
                <a:uFillTx/>
                <a:latin typeface="Times New Roman"/>
                <a:ea typeface="Times New Roman"/>
              </a:rPr>
              <a:t>1. Конкуренцiя</a:t>
            </a:r>
            <a:r>
              <a:rPr b="0" lang="ru-RU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 є однiєю з найбiльш яскравих рис бiзнесу, двигуном </a:t>
            </a:r>
            <a:br>
              <a:rPr sz="2000"/>
            </a:br>
            <a:r>
              <a:rPr b="0" lang="ru-RU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eкономiчного прогресу, механiзмом саморегуляцi</a:t>
            </a:r>
            <a:r>
              <a:rPr b="0" lang="uk-UA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ї</a:t>
            </a:r>
            <a:r>
              <a:rPr b="0" lang="ru-RU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 ринкової економiки. Етимологiчно слово «конкурецiя» походить вiд латинського «concurrentia» - </a:t>
            </a:r>
            <a:br>
              <a:rPr sz="2000"/>
            </a:br>
            <a:r>
              <a:rPr b="0" lang="ru-RU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зiткнення, «змагання». Сьoгoдні немає загальноприинятого визначення  </a:t>
            </a:r>
            <a:br>
              <a:rPr sz="2000"/>
            </a:br>
            <a:r>
              <a:rPr b="0" lang="uk-UA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поняття “конкуренція”. В економiчнiй лiтературi, присвяченiй цiй проблемi, присутнi три пiдходи до визначення конкуренції:</a:t>
            </a:r>
            <a:br>
              <a:rPr sz="2000"/>
            </a:br>
            <a:br>
              <a:rPr sz="2000"/>
            </a:br>
            <a:r>
              <a:rPr b="0" lang="uk-UA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	</a:t>
            </a:r>
            <a:r>
              <a:rPr b="0" i="1" lang="uk-UA" sz="2000" spc="-1" strike="noStrike" u="sng">
                <a:solidFill>
                  <a:srgbClr val="10181c"/>
                </a:solidFill>
                <a:uFillTx/>
                <a:latin typeface="Times New Roman"/>
                <a:ea typeface="Times New Roman"/>
              </a:rPr>
              <a:t>Конку</a:t>
            </a:r>
            <a:r>
              <a:rPr b="0" i="1" lang="ru-RU" sz="2000" spc="-1" strike="noStrike" u="sng">
                <a:solidFill>
                  <a:srgbClr val="10181c"/>
                </a:solidFill>
                <a:uFillTx/>
                <a:latin typeface="Times New Roman"/>
                <a:ea typeface="Times New Roman"/>
              </a:rPr>
              <a:t>p</a:t>
            </a:r>
            <a:r>
              <a:rPr b="0" i="1" lang="uk-UA" sz="2000" spc="-1" strike="noStrike" u="sng">
                <a:solidFill>
                  <a:srgbClr val="10181c"/>
                </a:solidFill>
                <a:uFillTx/>
                <a:latin typeface="Times New Roman"/>
                <a:ea typeface="Times New Roman"/>
              </a:rPr>
              <a:t>енція як економ</a:t>
            </a:r>
            <a:r>
              <a:rPr b="0" i="1" lang="ru-RU" sz="2000" spc="-1" strike="noStrike" u="sng">
                <a:solidFill>
                  <a:srgbClr val="10181c"/>
                </a:solidFill>
                <a:uFillTx/>
                <a:latin typeface="Times New Roman"/>
                <a:ea typeface="Times New Roman"/>
              </a:rPr>
              <a:t>i</a:t>
            </a:r>
            <a:r>
              <a:rPr b="0" i="1" lang="uk-UA" sz="2000" spc="-1" strike="noStrike" u="sng">
                <a:solidFill>
                  <a:srgbClr val="10181c"/>
                </a:solidFill>
                <a:uFillTx/>
                <a:latin typeface="Times New Roman"/>
                <a:ea typeface="Times New Roman"/>
              </a:rPr>
              <a:t>чна категор</a:t>
            </a:r>
            <a:r>
              <a:rPr b="0" i="1" lang="ru-RU" sz="2000" spc="-1" strike="noStrike" u="sng">
                <a:solidFill>
                  <a:srgbClr val="10181c"/>
                </a:solidFill>
                <a:uFillTx/>
                <a:latin typeface="Times New Roman"/>
                <a:ea typeface="Times New Roman"/>
              </a:rPr>
              <a:t>i</a:t>
            </a:r>
            <a:r>
              <a:rPr b="0" i="1" lang="uk-UA" sz="2000" spc="-1" strike="noStrike" u="sng">
                <a:solidFill>
                  <a:srgbClr val="10181c"/>
                </a:solidFill>
                <a:uFillTx/>
                <a:latin typeface="Times New Roman"/>
                <a:ea typeface="Times New Roman"/>
              </a:rPr>
              <a:t>я </a:t>
            </a:r>
            <a:r>
              <a:rPr b="0" lang="uk-UA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- це боротьба м</a:t>
            </a:r>
            <a:r>
              <a:rPr b="0" lang="ru-RU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ж п</a:t>
            </a:r>
            <a:r>
              <a:rPr b="0" lang="ru-RU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дприємцями за найб</a:t>
            </a:r>
            <a:r>
              <a:rPr b="0" lang="ru-RU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льш ефективн</a:t>
            </a:r>
            <a:r>
              <a:rPr b="0" lang="ru-RU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 умови й результати вкладення ресурсів у процес</a:t>
            </a:r>
            <a:r>
              <a:rPr b="0" lang="ru-RU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 виробництва й збуту товарів. </a:t>
            </a:r>
            <a:r>
              <a:rPr b="0" lang="ru-RU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Конкуренцiю можна розглядати на рiзних рiвнях. </a:t>
            </a:r>
            <a:r>
              <a:rPr b="0" lang="ru-RU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Мiж собою конкурують товари - за покупця, пiдпри</a:t>
            </a:r>
            <a:r>
              <a:rPr b="0" lang="uk-UA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є</a:t>
            </a:r>
            <a:r>
              <a:rPr b="0" lang="ru-RU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мства - за ч</a:t>
            </a:r>
            <a:r>
              <a:rPr b="0" lang="uk-UA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а</a:t>
            </a:r>
            <a:r>
              <a:rPr b="0" lang="ru-RU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стку ринку i, вiдповiдно, за сво</a:t>
            </a:r>
            <a:r>
              <a:rPr b="0" lang="uk-UA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ї</a:t>
            </a:r>
            <a:r>
              <a:rPr b="0" lang="ru-RU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 прибутки. </a:t>
            </a:r>
            <a:br>
              <a:rPr sz="2000"/>
            </a:br>
            <a:r>
              <a:rPr b="0" lang="ru-RU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Конкурують мiж собою i галузi - за ринок, держзамовлення, iнвестицi</a:t>
            </a:r>
            <a:r>
              <a:rPr b="0" lang="uk-UA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ї</a:t>
            </a:r>
            <a:r>
              <a:rPr b="0" lang="ru-RU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, а також крa</a:t>
            </a:r>
            <a:r>
              <a:rPr b="0" lang="uk-UA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ї</a:t>
            </a:r>
            <a:r>
              <a:rPr b="0" lang="ru-RU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ни. Мiж yci</a:t>
            </a:r>
            <a:r>
              <a:rPr b="0" lang="uk-UA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м</a:t>
            </a:r>
            <a:r>
              <a:rPr b="0" lang="ru-RU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a цими рiвнями i</a:t>
            </a:r>
            <a:r>
              <a:rPr b="0" lang="uk-UA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сн</a:t>
            </a:r>
            <a:r>
              <a:rPr b="0" lang="ru-RU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y</a:t>
            </a:r>
            <a:r>
              <a:rPr b="0" lang="uk-UA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є тісна</a:t>
            </a:r>
            <a:r>
              <a:rPr b="0" lang="ru-RU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 внутрiшня i зовнiшня залеж-нiсть. У теор</a:t>
            </a:r>
            <a:r>
              <a:rPr b="0" lang="uk-UA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ії</a:t>
            </a:r>
            <a:r>
              <a:rPr b="0" lang="ru-RU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 стратег</a:t>
            </a:r>
            <a:r>
              <a:rPr b="0" lang="uk-UA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ії для</a:t>
            </a:r>
            <a:r>
              <a:rPr b="0" lang="ru-RU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 того, щоб визначити економiчний змiст поняття «конкуренцiя», часто видiляють </a:t>
            </a:r>
            <a:r>
              <a:rPr b="1" lang="ru-RU" sz="2000" spc="-1" strike="noStrike" u="sng">
                <a:solidFill>
                  <a:srgbClr val="10181c"/>
                </a:solidFill>
                <a:uFillTx/>
                <a:latin typeface="Times New Roman"/>
                <a:ea typeface="Times New Roman"/>
              </a:rPr>
              <a:t>три пiдxоди до його </a:t>
            </a:r>
            <a:r>
              <a:rPr b="1" lang="uk-UA" sz="2000" spc="-1" strike="noStrike" u="sng">
                <a:solidFill>
                  <a:srgbClr val="10181c"/>
                </a:solidFill>
                <a:uFillTx/>
                <a:latin typeface="Times New Roman"/>
                <a:ea typeface="Times New Roman"/>
              </a:rPr>
              <a:t>р</a:t>
            </a:r>
            <a:r>
              <a:rPr b="1" lang="ru-RU" sz="2000" spc="-1" strike="noStrike" u="sng">
                <a:solidFill>
                  <a:srgbClr val="10181c"/>
                </a:solidFill>
                <a:uFillTx/>
                <a:latin typeface="Times New Roman"/>
                <a:ea typeface="Times New Roman"/>
              </a:rPr>
              <a:t>озумiння: </a:t>
            </a:r>
            <a:br>
              <a:rPr sz="2000"/>
            </a:br>
            <a:r>
              <a:rPr b="1" i="1" lang="uk-UA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поведінковий </a:t>
            </a:r>
            <a:r>
              <a:rPr b="0" lang="ru-RU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- боротьба за </a:t>
            </a:r>
            <a:r>
              <a:rPr b="0" lang="uk-UA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рідкі</a:t>
            </a:r>
            <a:r>
              <a:rPr b="0" lang="ru-RU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 економiчнi блага й, зрозумiло, за грошi споживача, на якi </a:t>
            </a:r>
            <a:r>
              <a:rPr b="0" lang="uk-UA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ї</a:t>
            </a:r>
            <a:r>
              <a:rPr b="0" lang="ru-RU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х можна придбати; </a:t>
            </a:r>
            <a:br>
              <a:rPr sz="2000"/>
            </a:br>
            <a:r>
              <a:rPr b="0" lang="ru-RU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функцiональнuй</a:t>
            </a:r>
            <a:r>
              <a:rPr b="0" lang="ru-RU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 - суперництво застарiлого з iнновацiями; </a:t>
            </a:r>
            <a:br>
              <a:rPr sz="2000"/>
            </a:br>
            <a:r>
              <a:rPr b="1" i="1" lang="uk-UA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структурнuй</a:t>
            </a:r>
            <a:r>
              <a:rPr b="0" lang="uk-UA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 - аналiз структури ринку для визначення ступеня волi продавця й покупця на ринку й способу виходу  на  нього.</a:t>
            </a:r>
            <a:br>
              <a:rPr sz="2000"/>
            </a:br>
            <a:endParaRPr b="0" lang="en-US" sz="2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2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24A23-DBD6-48A3-9B94-4C44BF12BE3A}" type="slidenum">
              <a:rPr b="0" lang="ru-RU" sz="1200" spc="-1" strike="noStrike">
                <a:solidFill>
                  <a:srgbClr val="89a0ba"/>
                </a:solidFill>
                <a:latin typeface="Verdana"/>
              </a:rPr>
              <a:t>1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0" y="404640"/>
            <a:ext cx="9144000" cy="645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5.</a:t>
            </a:r>
            <a:r>
              <a:rPr b="0" lang="uk-UA" sz="22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 </a:t>
            </a:r>
            <a:r>
              <a:rPr b="0" lang="uk-UA" sz="22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На сучасному етап</a:t>
            </a:r>
            <a:r>
              <a:rPr b="0" lang="ru-RU" sz="22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22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 розвитку п</a:t>
            </a:r>
            <a:r>
              <a:rPr b="0" lang="ru-RU" sz="22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22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дприємств особливий </a:t>
            </a:r>
            <a:r>
              <a:rPr b="0" lang="ru-RU" sz="22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22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н</a:t>
            </a:r>
            <a:r>
              <a:rPr b="0" lang="ru-RU" sz="22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тepec</a:t>
            </a:r>
            <a:r>
              <a:rPr b="0" lang="uk-UA" sz="22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 представляють </a:t>
            </a:r>
            <a:r>
              <a:rPr b="1" i="1" lang="uk-UA" sz="2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омплексні методи </a:t>
            </a:r>
            <a:r>
              <a:rPr b="1" i="1" lang="ru-RU" sz="2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цінки</a:t>
            </a:r>
            <a:r>
              <a:rPr b="1" i="1" lang="uk-UA" sz="2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конкурентоспроможності п</a:t>
            </a:r>
            <a:r>
              <a:rPr b="1" i="1" lang="ru-RU" sz="2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</a:t>
            </a:r>
            <a:r>
              <a:rPr b="1" i="1" lang="uk-UA" sz="2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дпр</a:t>
            </a:r>
            <a:r>
              <a:rPr b="1" i="1" lang="ru-RU" sz="2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u</a:t>
            </a:r>
            <a:r>
              <a:rPr b="1" i="1" lang="uk-UA" sz="2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ємства</a:t>
            </a:r>
            <a:r>
              <a:rPr b="0" lang="uk-UA" sz="2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, </a:t>
            </a:r>
            <a:r>
              <a:rPr b="0" lang="uk-UA" sz="22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заснован</a:t>
            </a:r>
            <a:r>
              <a:rPr b="0" lang="ru-RU" sz="22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22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 на </a:t>
            </a:r>
            <a:r>
              <a:rPr b="0" lang="ru-RU" sz="22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22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д</a:t>
            </a:r>
            <a:r>
              <a:rPr b="0" lang="ru-RU" sz="22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e</a:t>
            </a:r>
            <a:r>
              <a:rPr b="0" lang="uk-UA" sz="22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ї розгляду процес</a:t>
            </a:r>
            <a:r>
              <a:rPr b="0" lang="ru-RU" sz="22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22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в конкуренц</a:t>
            </a:r>
            <a:r>
              <a:rPr b="0" lang="ru-RU" sz="22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ї</a:t>
            </a:r>
            <a:r>
              <a:rPr b="0" lang="uk-UA" sz="22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 в динам</a:t>
            </a:r>
            <a:r>
              <a:rPr b="0" lang="ru-RU" sz="22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22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ц</a:t>
            </a:r>
            <a:r>
              <a:rPr b="0" lang="ru-RU" sz="22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.</a:t>
            </a: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Комплексн</a:t>
            </a:r>
            <a:r>
              <a:rPr b="0" lang="ru-RU" sz="22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22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 методи оцінки КСП враховують оптимальне поєднання впливу на д</a:t>
            </a:r>
            <a:r>
              <a:rPr b="0" lang="ru-RU" sz="22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22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яльн</a:t>
            </a:r>
            <a:r>
              <a:rPr b="0" lang="ru-RU" sz="22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c</a:t>
            </a:r>
            <a:r>
              <a:rPr b="0" lang="uk-UA" sz="22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ть п</a:t>
            </a:r>
            <a:r>
              <a:rPr b="0" lang="ru-RU" sz="22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22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дприємства як чинників внутр</a:t>
            </a:r>
            <a:r>
              <a:rPr b="0" lang="ru-RU" sz="22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22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шнього, так </a:t>
            </a:r>
            <a:r>
              <a:rPr b="0" lang="ru-RU" sz="22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22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 зовн</a:t>
            </a:r>
            <a:r>
              <a:rPr b="0" lang="ru-RU" sz="22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22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шнього середовища, а також </a:t>
            </a:r>
            <a:r>
              <a:rPr b="0" lang="ru-RU" sz="22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г</a:t>
            </a:r>
            <a:r>
              <a:rPr b="0" lang="uk-UA" sz="22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рунтуються на визначеннях категор</a:t>
            </a:r>
            <a:r>
              <a:rPr b="0" lang="ru-RU" sz="22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22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й конкурентоспроможност</a:t>
            </a:r>
            <a:r>
              <a:rPr b="0" lang="ru-RU" sz="22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22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 товару </a:t>
            </a:r>
            <a:r>
              <a:rPr b="0" lang="ru-RU" sz="22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22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 конкурентоспроможност</a:t>
            </a:r>
            <a:r>
              <a:rPr b="0" lang="ru-RU" sz="22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22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 п</a:t>
            </a:r>
            <a:r>
              <a:rPr b="0" lang="ru-RU" sz="22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22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дриємства, </a:t>
            </a:r>
            <a:r>
              <a:rPr b="1" i="1" lang="uk-UA" sz="22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вид</a:t>
            </a:r>
            <a:r>
              <a:rPr b="1" i="1" lang="ru-RU" sz="22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1" i="1" lang="uk-UA" sz="22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ляються три групи характеристик його д</a:t>
            </a:r>
            <a:r>
              <a:rPr b="1" i="1" lang="ru-RU" sz="22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1" i="1" lang="uk-UA" sz="22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яльност</a:t>
            </a:r>
            <a:r>
              <a:rPr b="1" i="1" lang="ru-RU" sz="22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1" i="1" lang="uk-UA" sz="22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 для ан</a:t>
            </a:r>
            <a:r>
              <a:rPr b="1" i="1" lang="ru-RU" sz="22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a</a:t>
            </a:r>
            <a:r>
              <a:rPr b="1" i="1" lang="uk-UA" sz="22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л</a:t>
            </a:r>
            <a:r>
              <a:rPr b="1" i="1" lang="ru-RU" sz="22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1" i="1" lang="uk-UA" sz="22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зу конкурентоспроможност</a:t>
            </a:r>
            <a:r>
              <a:rPr b="1" i="1" lang="ru-RU" sz="22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1" i="1" lang="uk-UA" sz="22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: </a:t>
            </a: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- конкурентоспроможнiсть товару, ступiнь його вiдповiдностi   конкретнiй потребi i витратам споживача; </a:t>
            </a: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-  ринкова активнiсть, що характеризує поведiнку пiдприємства в  умовах  зовнiшнього середовища, що змiнюється; </a:t>
            </a: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- власнi можливостi, що показують наявнicть i ефективнicть використання pecypciв пiдприємства (основних фондiв, обiгових  коштiв, трудових pecypciв), а також ступiнь його залежностi </a:t>
            </a:r>
            <a:r>
              <a:rPr b="0" lang="uk-UA" sz="22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від зо</a:t>
            </a:r>
            <a:r>
              <a:rPr b="0" lang="ru-RU" sz="22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внiшнix</a:t>
            </a:r>
            <a:r>
              <a:rPr b="0" lang="uk-UA" sz="22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 джерел фі</a:t>
            </a:r>
            <a:r>
              <a:rPr b="0" lang="ru-RU" sz="22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нансуван</a:t>
            </a:r>
            <a:r>
              <a:rPr b="0" lang="uk-UA" sz="22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н</a:t>
            </a:r>
            <a:r>
              <a:rPr b="0" lang="ru-RU" sz="22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я</a:t>
            </a:r>
            <a:r>
              <a:rPr b="0" lang="uk-UA" sz="22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9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7535E-5DCD-4DCD-B83D-162F9AEA7116}" type="slidenum">
              <a:rPr b="0" lang="ru-RU" sz="1200" spc="-1" strike="noStrike">
                <a:solidFill>
                  <a:srgbClr val="89a0b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214200" y="1143000"/>
            <a:ext cx="878688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де     К</a:t>
            </a:r>
            <a:r>
              <a:rPr b="0" lang="ru-RU" sz="2000" spc="-1" strike="noStrike" baseline="-25000">
                <a:solidFill>
                  <a:srgbClr val="10181c"/>
                </a:solidFill>
                <a:latin typeface="Times New Roman"/>
                <a:ea typeface="Times New Roman"/>
              </a:rPr>
              <a:t>і </a:t>
            </a:r>
            <a:r>
              <a:rPr b="0" lang="ru-RU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- конкурентоспроможнiсть пiдприємства;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         </a:t>
            </a:r>
            <a:r>
              <a:rPr b="0" lang="ru-RU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 = 1, …:, </a:t>
            </a:r>
            <a:r>
              <a:rPr b="0" lang="en-US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n</a:t>
            </a:r>
            <a:r>
              <a:rPr b="0" lang="ru-RU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 - пiдприємства, що   аналiзуються;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         </a:t>
            </a:r>
            <a:r>
              <a:rPr b="0" lang="ru-RU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К</a:t>
            </a:r>
            <a:r>
              <a:rPr b="0" lang="ru-RU" sz="2000" spc="-1" strike="noStrike" baseline="-25000">
                <a:solidFill>
                  <a:srgbClr val="10181c"/>
                </a:solidFill>
                <a:latin typeface="Times New Roman"/>
                <a:ea typeface="Times New Roman"/>
              </a:rPr>
              <a:t>ПРi</a:t>
            </a:r>
            <a:r>
              <a:rPr b="0" lang="ru-RU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 - конкурентоспроможнicть  продукцiї  пiдприємства</a:t>
            </a:r>
            <a:r>
              <a:rPr b="0" lang="ru-RU" sz="1600" spc="-1" strike="noStrike">
                <a:solidFill>
                  <a:srgbClr val="10181c"/>
                </a:solidFill>
                <a:latin typeface="Verdana"/>
              </a:rPr>
              <a:t>;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3" name="Object 3"/>
              <p:cNvSpPr txBox="1"/>
              <p:nvPr/>
            </p:nvSpPr>
            <p:spPr>
              <a:xfrm>
                <a:off x="1785960" y="428760"/>
                <a:ext cx="413208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К</m:t>
                        </m:r>
                      </m:e>
                      <m:sub>
                        <m:r>
                          <m:t xml:space="preserve">і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К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ПР</m:t>
                        </m:r>
                        <m:r>
                          <m:t xml:space="preserve"> </m:t>
                        </m:r>
                        <m:r>
                          <m:t xml:space="preserve">і</m:t>
                        </m:r>
                      </m:sub>
                    </m:sSub>
                    <m:r>
                      <m:t xml:space="preserve">а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Р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АКТ</m:t>
                        </m:r>
                        <m:r>
                          <m:t xml:space="preserve"> </m:t>
                        </m:r>
                        <m:r>
                          <m:t xml:space="preserve">і</m:t>
                        </m:r>
                      </m:sub>
                    </m:sSub>
                    <m:r>
                      <m:t xml:space="preserve">в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С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МОЖЛ</m:t>
                        </m:r>
                        <m:r>
                          <m:t xml:space="preserve"> </m:t>
                        </m:r>
                        <m:r>
                          <m:t xml:space="preserve">і</m:t>
                        </m:r>
                      </m:sub>
                    </m:sSub>
                    <m:r>
                      <m:t xml:space="preserve">с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5" name="Object 5"/>
              <p:cNvSpPr txBox="1"/>
              <p:nvPr/>
            </p:nvSpPr>
            <p:spPr>
              <a:xfrm>
                <a:off x="2805120" y="2428920"/>
                <a:ext cx="183816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К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ПР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К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76" name="Прямоугольник 9"/>
          <p:cNvSpPr/>
          <p:nvPr/>
        </p:nvSpPr>
        <p:spPr>
          <a:xfrm>
            <a:off x="142920" y="3357720"/>
            <a:ext cx="8643960" cy="29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де  Р акт і - ринкова активнicть пiдприємства;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С можл і - власнi можливостi пiдприємства;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       </a:t>
            </a:r>
            <a:r>
              <a:rPr b="0" lang="ru-RU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а, </a:t>
            </a:r>
            <a:r>
              <a:rPr b="0" lang="en-US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b</a:t>
            </a:r>
            <a:r>
              <a:rPr b="0" lang="ru-RU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, с - вiдповiдно значущicть показникiв конкурентоспроможностi  продукцiї, ринкової  активностi i власних можливостей пiдприємства при оцiнцi його конкурентоспроможностi;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       </a:t>
            </a:r>
            <a:r>
              <a:rPr b="0" lang="ru-RU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j = 1, ... ,</a:t>
            </a:r>
            <a:r>
              <a:rPr b="0" lang="en-US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m</a:t>
            </a:r>
            <a:r>
              <a:rPr b="0" lang="ru-RU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- характеристики продукцiї;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       </a:t>
            </a:r>
            <a:r>
              <a:rPr b="0" lang="ru-RU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К</a:t>
            </a:r>
            <a:r>
              <a:rPr b="0" lang="en-US" sz="2000" spc="-1" strike="noStrike" baseline="-25000">
                <a:solidFill>
                  <a:srgbClr val="10181c"/>
                </a:solidFill>
                <a:latin typeface="Times New Roman"/>
                <a:ea typeface="Times New Roman"/>
              </a:rPr>
              <a:t>j</a:t>
            </a:r>
            <a:r>
              <a:rPr b="0" lang="ru-RU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 - cyмicнe врахування внутрiшньої і зовнiшньої значущостi характеристики;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       </a:t>
            </a:r>
            <a:r>
              <a:rPr b="0" lang="ru-RU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x</a:t>
            </a:r>
            <a:r>
              <a:rPr b="0" lang="ru-RU" sz="2000" spc="-1" strike="noStrike" baseline="-25000">
                <a:solidFill>
                  <a:srgbClr val="10181c"/>
                </a:solidFill>
                <a:latin typeface="Times New Roman"/>
                <a:ea typeface="Times New Roman"/>
              </a:rPr>
              <a:t>ij</a:t>
            </a:r>
            <a:r>
              <a:rPr b="0" lang="ru-RU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 - значення характеристики відносно  до  її кращого значення;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7" name="Номер слайда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9F81A-66A1-476A-BDA8-23F1071D5E31}" type="slidenum">
              <a:rPr b="0" lang="ru-RU" sz="1200" spc="-1" strike="noStrike">
                <a:solidFill>
                  <a:srgbClr val="89a0b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13840" y="274320"/>
            <a:ext cx="864396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6. В </a:t>
            </a:r>
            <a:r>
              <a:rPr b="1" i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</a:t>
            </a:r>
            <a:r>
              <a:rPr b="1" i="1" lang="uk-UA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нтегральному </a:t>
            </a:r>
            <a:r>
              <a:rPr b="1" i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методі </a:t>
            </a:r>
            <a:r>
              <a:rPr b="1" i="1" lang="uk-UA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оц</a:t>
            </a:r>
            <a:r>
              <a:rPr b="1" i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</a:t>
            </a:r>
            <a:r>
              <a:rPr b="1" i="1" lang="uk-UA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нки КСП</a:t>
            </a:r>
            <a:r>
              <a:rPr b="1" lang="uk-UA" sz="1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 </a:t>
            </a:r>
            <a:r>
              <a:rPr b="0" lang="uk-UA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п</a:t>
            </a:r>
            <a:r>
              <a:rPr b="0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дприємств можуть бути також застосовані показник Розенблюта, коеф</a:t>
            </a:r>
            <a:r>
              <a:rPr b="0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ц</a:t>
            </a:r>
            <a:r>
              <a:rPr b="0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є</a:t>
            </a:r>
            <a:r>
              <a:rPr b="0" lang="uk-UA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нт Джин</a:t>
            </a:r>
            <a:r>
              <a:rPr b="0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 та </a:t>
            </a:r>
            <a:r>
              <a:rPr b="0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н</a:t>
            </a:r>
            <a:r>
              <a:rPr b="0" lang="uk-UA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.  </a:t>
            </a:r>
            <a:br>
              <a:rPr sz="1800"/>
            </a:br>
            <a:r>
              <a:rPr b="0" lang="uk-UA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Інте</a:t>
            </a:r>
            <a:r>
              <a:rPr b="0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гp</a:t>
            </a:r>
            <a:r>
              <a:rPr b="0" lang="uk-UA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альний показник р</a:t>
            </a:r>
            <a:r>
              <a:rPr b="0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вня конкурентоспроможност</a:t>
            </a:r>
            <a:r>
              <a:rPr b="0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 п</a:t>
            </a:r>
            <a:r>
              <a:rPr b="0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дприємства (К)  включає два елементи: по-перше, критер</a:t>
            </a:r>
            <a:r>
              <a:rPr b="0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й, що в</a:t>
            </a:r>
            <a:r>
              <a:rPr b="0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дображає ступ</a:t>
            </a:r>
            <a:r>
              <a:rPr b="0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нь задоволення потреб споживача (</a:t>
            </a:r>
            <a:r>
              <a:rPr b="0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ru-RU" sz="1800" spc="-1" strike="noStrike" baseline="-25000">
                <a:solidFill>
                  <a:srgbClr val="10181c"/>
                </a:solidFill>
                <a:latin typeface="Times New Roman"/>
                <a:ea typeface="Times New Roman"/>
              </a:rPr>
              <a:t>Т</a:t>
            </a:r>
            <a:r>
              <a:rPr b="0" lang="uk-UA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); по-др</a:t>
            </a:r>
            <a:r>
              <a:rPr b="0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yг</a:t>
            </a:r>
            <a:r>
              <a:rPr b="0" lang="uk-UA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е, критер</a:t>
            </a:r>
            <a:r>
              <a:rPr b="0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й ефективност</a:t>
            </a:r>
            <a:r>
              <a:rPr b="0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 виробництва </a:t>
            </a:r>
            <a:r>
              <a:rPr b="0" lang="uk-UA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(</a:t>
            </a:r>
            <a:r>
              <a:rPr b="0" lang="ru-RU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l</a:t>
            </a:r>
            <a:r>
              <a:rPr b="0" lang="uk-UA" sz="2000" spc="-1" strike="noStrike" baseline="-25000">
                <a:solidFill>
                  <a:srgbClr val="10181c"/>
                </a:solidFill>
                <a:latin typeface="Times New Roman"/>
                <a:ea typeface="Times New Roman"/>
              </a:rPr>
              <a:t>е</a:t>
            </a:r>
            <a:r>
              <a:rPr b="0" lang="uk-UA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):</a:t>
            </a:r>
            <a:r>
              <a:rPr b="0" lang="uk-UA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213840" y="2071440"/>
            <a:ext cx="86439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Перший  спiвмножник  характеризує  відносну конкурентоспроможність товару (по вiдношенню до аналогiчної  продукції  конкурента) i може бути розрахований виходячи з виразу: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1" name="Object 1"/>
              <p:cNvSpPr txBox="1"/>
              <p:nvPr/>
            </p:nvSpPr>
            <p:spPr>
              <a:xfrm>
                <a:off x="3394080" y="1714680"/>
                <a:ext cx="194292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К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Т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" name="Object 3"/>
              <p:cNvSpPr txBox="1"/>
              <p:nvPr/>
            </p:nvSpPr>
            <p:spPr>
              <a:xfrm>
                <a:off x="3365640" y="2798640"/>
                <a:ext cx="220968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І</m:t>
                        </m:r>
                      </m:e>
                      <m:sub>
                        <m:r>
                          <m:t xml:space="preserve">Т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ФТ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І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НТ</m:t>
                            </m:r>
                          </m:sub>
                        </m:sSub>
                      </m:den>
                    </m:f>
                    <m:r>
                      <m:t xml:space="preserve">×</m:t>
                    </m:r>
                    <m:sSub>
                      <m:e>
                        <m:r>
                          <m:t xml:space="preserve">І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ЦС</m:t>
                        </m:r>
                      </m:sub>
                    </m:sSub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4" name="Прямоугольник 7"/>
          <p:cNvSpPr/>
          <p:nvPr/>
        </p:nvSpPr>
        <p:spPr>
          <a:xfrm>
            <a:off x="285840" y="3571920"/>
            <a:ext cx="864396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Де Інт - груповий показник нормативних технічних параметрiв конкурентоспроможностi аналiзованого i конкуруючого  товарів;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фт</a:t>
            </a:r>
            <a:r>
              <a:rPr b="0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 - груповий фактичний показник технiчних (тобто, що вiдображають споживацьку цiннicть) параметрiв конкурентоспроможностi аналiзованого i конкуруючого  товарів;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            </a:t>
            </a:r>
            <a:r>
              <a:rPr b="0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І</a:t>
            </a:r>
            <a:r>
              <a:rPr b="0" lang="ru-RU" sz="1800" spc="-1" strike="noStrike" baseline="-25000">
                <a:solidFill>
                  <a:srgbClr val="10181c"/>
                </a:solidFill>
                <a:latin typeface="Times New Roman"/>
                <a:ea typeface="Times New Roman"/>
              </a:rPr>
              <a:t>ЦС</a:t>
            </a:r>
            <a:r>
              <a:rPr b="0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 - спiввiдношення групових показникiв цiни споживання.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5" name="Прямоугольник 8"/>
          <p:cNvSpPr/>
          <p:nvPr/>
        </p:nvSpPr>
        <p:spPr>
          <a:xfrm>
            <a:off x="214200" y="5380200"/>
            <a:ext cx="864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У</a:t>
            </a:r>
            <a:r>
              <a:rPr b="0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 тому випадку, коли </a:t>
            </a:r>
            <a:r>
              <a:rPr b="1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К = 1</a:t>
            </a:r>
            <a:r>
              <a:rPr b="0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, piвень конкурентоспроможностi аналiзованого пiдприємства відповідає аналогiчному показнику конкурента.  Якщо </a:t>
            </a:r>
            <a:r>
              <a:rPr b="1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К &lt; 1</a:t>
            </a:r>
            <a:r>
              <a:rPr b="0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, то дослiджуваний виробник менш конкурентоспроможний, a якщо </a:t>
            </a:r>
            <a:r>
              <a:rPr b="1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К ≥ 1</a:t>
            </a:r>
            <a:r>
              <a:rPr b="0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 - бiлъш конкурентоспроможний, нiж пiдприємство,  взяте  за базу порiвняння.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6" name="Номер слайда 9"/>
          <p:cNvSpPr/>
          <p:nvPr/>
        </p:nvSpPr>
        <p:spPr>
          <a:xfrm>
            <a:off x="7667640" y="6356520"/>
            <a:ext cx="1019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9622A-B7D4-4C5B-AB8D-484E76BA6D28}" type="slidenum">
              <a:rPr b="0" lang="ru-RU" sz="1200" spc="-1" strike="noStrike">
                <a:solidFill>
                  <a:srgbClr val="89a0b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285840" y="356760"/>
            <a:ext cx="857232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7. </a:t>
            </a:r>
            <a:r>
              <a:rPr b="1" i="1" lang="uk-UA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Метод визначення позиції в конкуренції з погляду стратегічного потенціалу підприємства</a:t>
            </a:r>
            <a:r>
              <a:rPr b="0" i="1" lang="uk-UA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0" lang="uk-UA" sz="16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має </a:t>
            </a:r>
            <a:r>
              <a:rPr b="0" lang="uk-UA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за мету аналіз внутрішнього середовища підприємства з метою виявлення конкурентних переваг і потенціалу для їх реалізації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Метод формал</a:t>
            </a:r>
            <a:r>
              <a:rPr b="0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зованої оц</a:t>
            </a:r>
            <a:r>
              <a:rPr b="0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нки елемент</a:t>
            </a:r>
            <a:r>
              <a:rPr b="0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в, складових конкурентоспроможного потенц</a:t>
            </a:r>
            <a:r>
              <a:rPr b="0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алу промислових п</a:t>
            </a:r>
            <a:r>
              <a:rPr b="0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дприємств є основою для розрахунку інтегрального показника оц</a:t>
            </a:r>
            <a:r>
              <a:rPr b="0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нки конкурентоспроможного потенц</a:t>
            </a:r>
            <a:r>
              <a:rPr b="0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алу, обчислюваного як добуток відносного показника елемент</a:t>
            </a:r>
            <a:r>
              <a:rPr b="0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в потенц</a:t>
            </a:r>
            <a:r>
              <a:rPr b="0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алу по груп</a:t>
            </a:r>
            <a:r>
              <a:rPr b="0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 п</a:t>
            </a:r>
            <a:r>
              <a:rPr b="0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дприємств-конкурент</a:t>
            </a:r>
            <a:r>
              <a:rPr b="0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в </a:t>
            </a:r>
            <a:r>
              <a:rPr b="0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 вагового коеф</a:t>
            </a:r>
            <a:r>
              <a:rPr b="0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ц</a:t>
            </a:r>
            <a:r>
              <a:rPr b="0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єнта цих елемент</a:t>
            </a:r>
            <a:r>
              <a:rPr b="0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в.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ередня оцiнка елементiв по групi пiдприємств-конкурентiв розраховується як: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9" name="Object 1"/>
              <p:cNvSpPr txBox="1"/>
              <p:nvPr/>
            </p:nvSpPr>
            <p:spPr>
              <a:xfrm>
                <a:off x="3500280" y="2928960"/>
                <a:ext cx="17146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О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СР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fPr>
                            <m:type m:val="lin"/>
                          </m:fPr>
                          <m:num>
                            <m:r>
                              <m:t xml:space="preserve">О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90" name="Rectangle 3"/>
          <p:cNvSpPr/>
          <p:nvPr/>
        </p:nvSpPr>
        <p:spPr>
          <a:xfrm>
            <a:off x="214200" y="3430080"/>
            <a:ext cx="871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де ∑ О- оцiнки елементiв по групi пiдприємств-конкурентiв;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     </a:t>
            </a:r>
            <a:r>
              <a:rPr b="0" lang="en-US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n</a:t>
            </a:r>
            <a:r>
              <a:rPr b="0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 - кiлькiсть конкурентів.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1" name="Прямоугольник 6"/>
          <p:cNvSpPr/>
          <p:nvPr/>
        </p:nvSpPr>
        <p:spPr>
          <a:xfrm>
            <a:off x="214200" y="4214880"/>
            <a:ext cx="871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Iнтегральний показник конкурентоспроможного потенцiалу пiдпpиємства визначається таким чином: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3" name="Object 4"/>
              <p:cNvSpPr txBox="1"/>
              <p:nvPr/>
            </p:nvSpPr>
            <p:spPr>
              <a:xfrm>
                <a:off x="3643200" y="4786200"/>
                <a:ext cx="149544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І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ПП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І</m:t>
                            </m:r>
                          </m:e>
                          <m:sub>
                            <m:r>
                              <m:t xml:space="preserve">П</m:t>
                            </m:r>
                          </m:sub>
                        </m:sSub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4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3429000" y="5357880"/>
                <a:ext cx="201924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І</m:t>
                        </m:r>
                      </m:e>
                      <m:sub>
                        <m:r>
                          <m:t xml:space="preserve">П</m:t>
                        </m:r>
                      </m:sub>
                    </m:sSub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t xml:space="preserve">в</m:t>
                        </m:r>
                        <m:r>
                          <m:t xml:space="preserve">×</m:t>
                        </m:r>
                        <m:r>
                          <m:t xml:space="preserve">о</m:t>
                        </m:r>
                      </m:num>
                      <m:den>
                        <m:sSub>
                          <m:e>
                            <m:r>
                              <m:t xml:space="preserve">о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СР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6" name="Rectangle 8"/>
          <p:cNvSpPr/>
          <p:nvPr/>
        </p:nvSpPr>
        <p:spPr>
          <a:xfrm>
            <a:off x="214200" y="5788800"/>
            <a:ext cx="8572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де Іп - iнтегральний показник за елементом;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    </a:t>
            </a:r>
            <a:r>
              <a:rPr b="0" lang="ru-RU" sz="16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в - ваговий коефiцiєнт;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    </a:t>
            </a:r>
            <a:r>
              <a:rPr b="0" lang="ru-RU" sz="16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О - оцiнка елемента дослiджуваного пiдприємства.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7" name="Номер слайда 1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35598-FD0B-4FD7-BCAA-74AA73CD5ED3}" type="slidenum">
              <a:rPr b="0" lang="ru-RU" sz="1200" spc="-1" strike="noStrike">
                <a:solidFill>
                  <a:srgbClr val="89a0b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13840" y="274680"/>
            <a:ext cx="864396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8. </a:t>
            </a:r>
            <a:r>
              <a:rPr b="1" i="1" lang="uk-UA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Методи оц</a:t>
            </a:r>
            <a:r>
              <a:rPr b="1" i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</a:t>
            </a:r>
            <a:r>
              <a:rPr b="1" i="1" lang="uk-UA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нки конкурентоспроможності, заснован</a:t>
            </a:r>
            <a:r>
              <a:rPr b="1" i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 </a:t>
            </a:r>
            <a:r>
              <a:rPr b="1" i="1" lang="uk-UA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на врахуванні сукупної  д</a:t>
            </a:r>
            <a:r>
              <a:rPr b="1" i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ї детермінантів</a:t>
            </a:r>
            <a:r>
              <a:rPr b="1" i="1" lang="uk-UA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«нац</a:t>
            </a:r>
            <a:r>
              <a:rPr b="1" i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</a:t>
            </a:r>
            <a:r>
              <a:rPr b="1" i="1" lang="uk-UA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нального ромба» </a:t>
            </a:r>
            <a:r>
              <a:rPr b="1" i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</a:t>
            </a:r>
            <a:r>
              <a:rPr b="1" i="1" lang="uk-UA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стратег</a:t>
            </a:r>
            <a:r>
              <a:rPr b="1" i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</a:t>
            </a:r>
            <a:r>
              <a:rPr b="1" i="1" lang="uk-UA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чного потенціалу п</a:t>
            </a:r>
            <a:r>
              <a:rPr b="1" i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</a:t>
            </a:r>
            <a:r>
              <a:rPr b="1" i="1" lang="uk-UA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дприємства</a:t>
            </a:r>
            <a:r>
              <a:rPr b="0" i="1" lang="uk-UA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,</a:t>
            </a:r>
            <a:r>
              <a:rPr b="0" i="1" lang="uk-UA" sz="1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 </a:t>
            </a:r>
            <a:r>
              <a:rPr b="1" i="1" lang="uk-UA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а також пор</a:t>
            </a:r>
            <a:r>
              <a:rPr b="1" i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</a:t>
            </a:r>
            <a:r>
              <a:rPr b="1" i="1" lang="uk-UA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нянн</a:t>
            </a:r>
            <a:r>
              <a:rPr b="1" i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</a:t>
            </a:r>
            <a:r>
              <a:rPr b="1" i="1" lang="uk-UA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з еталоном: таксоном</a:t>
            </a:r>
            <a:r>
              <a:rPr b="1" i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</a:t>
            </a:r>
            <a:r>
              <a:rPr b="1" i="1" lang="uk-UA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чний аналіз і метод радара.</a:t>
            </a:r>
            <a:endParaRPr b="0" lang="en-US" sz="1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214200" y="1143000"/>
            <a:ext cx="871560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Потенційна можливість підприємства зберігати або збільшувати конкурентоспроможність у перспективі визначається в науці про теорії стратегії підприємств його конкурентним потенціалом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онкурентний потенцiал  </a:t>
            </a:r>
            <a:r>
              <a:rPr b="0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визначається як передумова збереження та збiльшення конкурентних пе</a:t>
            </a:r>
            <a:r>
              <a:rPr b="0" lang="uk-UA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реваг.</a:t>
            </a:r>
            <a:r>
              <a:rPr b="0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 Конкурентний потенцiал пiдприємства визначаєть</a:t>
            </a:r>
            <a:r>
              <a:rPr b="0" lang="uk-UA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ся </a:t>
            </a:r>
            <a:r>
              <a:rPr b="0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сукупнiстю параметрiв, що характеризують можливicть (потенцiал) i здатність пiдприємства ефективно функцiонувати на ринку в перспективi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Отж</a:t>
            </a:r>
            <a:r>
              <a:rPr b="0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е,  необxiдною умовою розвитку конкурентних переваг пiдприємства є достатність  його конкурентного потенцiалу</a:t>
            </a:r>
            <a:r>
              <a:rPr b="0" lang="uk-UA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Пiд </a:t>
            </a:r>
            <a:r>
              <a:rPr b="1" i="1" lang="uk-UA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онкурентними перевагами </a:t>
            </a:r>
            <a:r>
              <a:rPr b="0" lang="uk-UA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розумiється величина, iнтегральна стосовно до конкурентоспроможностi пiдприємства й конкурентоспроможного потенцiалу,</a:t>
            </a:r>
            <a:r>
              <a:rPr b="1" lang="uk-UA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 </a:t>
            </a:r>
            <a:r>
              <a:rPr b="0" lang="uk-UA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що представляється у виглядi адитивноі функцiї.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0" name="Прямоугольник 3"/>
          <p:cNvSpPr/>
          <p:nvPr/>
        </p:nvSpPr>
        <p:spPr>
          <a:xfrm>
            <a:off x="2183760" y="4648320"/>
            <a:ext cx="266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Конкурентна перевага =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" name="Object 1"/>
              <p:cNvSpPr txBox="1"/>
              <p:nvPr/>
            </p:nvSpPr>
            <p:spPr>
              <a:xfrm>
                <a:off x="4643280" y="4648320"/>
                <a:ext cx="26258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КС</m:t>
                    </m:r>
                    <m:r>
                      <m:t xml:space="preserve">+</m:t>
                    </m:r>
                    <m:r>
                      <m:t xml:space="preserve">β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КП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3" name="Прямоугольник 6"/>
          <p:cNvSpPr/>
          <p:nvPr/>
        </p:nvSpPr>
        <p:spPr>
          <a:xfrm>
            <a:off x="0" y="5214960"/>
            <a:ext cx="8929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д</a:t>
            </a:r>
            <a:r>
              <a:rPr b="0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е КС - конкурентоспроможнicть пiдприємства;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КП - конкурентоспроможний потенцiал;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     </a:t>
            </a:r>
            <a:r>
              <a:rPr b="0" lang="el-GR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α</a:t>
            </a:r>
            <a:r>
              <a:rPr b="0" lang="uk-UA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, </a:t>
            </a:r>
            <a:r>
              <a:rPr b="0" lang="el-GR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β</a:t>
            </a:r>
            <a:r>
              <a:rPr b="0" lang="uk-UA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- вaгові коефiцiєнти, якi позначають </a:t>
            </a:r>
            <a:r>
              <a:rPr b="0" lang="uk-UA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відносну</a:t>
            </a:r>
            <a:r>
              <a:rPr b="0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 значущicть кожного фактора й у cyмi становлять 1,0. Цi коефiцiєнти  вказують на порiвняльну  привабливicть орiєнтирiв для пiдприємства.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4" name="Номер слайда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7F718-8875-4BF5-A1BC-B2B661F48F4F}" type="slidenum">
              <a:rPr b="0" lang="ru-RU" sz="1200" spc="-1" strike="noStrike">
                <a:solidFill>
                  <a:srgbClr val="89a0b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0" y="475920"/>
            <a:ext cx="9144000" cy="63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50000"/>
              </a:lnSpc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онкурентні переваги </a:t>
            </a:r>
            <a:r>
              <a:rPr b="0" lang="uk-UA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створюються унікальними відчутними й невловимими активами, якими володіє підприємство, тими стратегічно важливими для даного бізнесу сферами діяльності, які дозволяють перемагати в конкурентній боротьбі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Конкурентні</a:t>
            </a:r>
            <a:r>
              <a:rPr b="0" lang="uk-UA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 переваги дозволяють п</a:t>
            </a:r>
            <a:r>
              <a:rPr b="0" lang="ru-RU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дприємству мати рентабельність вище середньої для п</a:t>
            </a:r>
            <a:r>
              <a:rPr b="0" lang="ru-RU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дприємств даної галуз</a:t>
            </a:r>
            <a:r>
              <a:rPr b="0" lang="ru-RU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 або даного ринкового сегмента (що забезпечується б</a:t>
            </a:r>
            <a:r>
              <a:rPr b="0" lang="ru-RU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льш високою ефективн</a:t>
            </a:r>
            <a:r>
              <a:rPr b="0" lang="ru-RU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c</a:t>
            </a:r>
            <a:r>
              <a:rPr b="0" lang="uk-UA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тю використання ресурс</a:t>
            </a:r>
            <a:r>
              <a:rPr b="0" lang="ru-RU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в) </a:t>
            </a:r>
            <a:r>
              <a:rPr b="0" lang="ru-RU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 завойовувати міцні позиції на ринку. Вважається, що переваги п</a:t>
            </a:r>
            <a:r>
              <a:rPr b="0" lang="ru-RU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дпиємства забезпечуються шляхом надання споживачам благ, що мають для них б</a:t>
            </a:r>
            <a:r>
              <a:rPr b="0" lang="ru-RU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льшу ц</a:t>
            </a:r>
            <a:r>
              <a:rPr b="0" lang="ru-RU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нн</a:t>
            </a:r>
            <a:r>
              <a:rPr b="0" lang="ru-RU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c</a:t>
            </a:r>
            <a:r>
              <a:rPr b="0" lang="uk-UA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ть: за рахунок реал</a:t>
            </a:r>
            <a:r>
              <a:rPr b="0" lang="ru-RU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зац</a:t>
            </a:r>
            <a:r>
              <a:rPr b="0" lang="ru-RU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ї </a:t>
            </a:r>
            <a:r>
              <a:rPr b="0" lang="uk-UA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 продукції по б</a:t>
            </a:r>
            <a:r>
              <a:rPr b="0" lang="ru-RU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льш  низьким  ц</a:t>
            </a:r>
            <a:r>
              <a:rPr b="0" lang="ru-RU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н</a:t>
            </a:r>
            <a:r>
              <a:rPr b="0" lang="ru-RU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a</a:t>
            </a:r>
            <a:r>
              <a:rPr b="0" lang="uk-UA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м (а може, </a:t>
            </a:r>
            <a:r>
              <a:rPr b="0" lang="ru-RU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, навпаки, по б</a:t>
            </a:r>
            <a:r>
              <a:rPr b="0" lang="ru-RU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льш високим - для престижно</a:t>
            </a:r>
            <a:r>
              <a:rPr b="0" lang="ru-RU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ї</a:t>
            </a:r>
            <a:r>
              <a:rPr b="0" lang="uk-UA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 продукц</a:t>
            </a:r>
            <a:r>
              <a:rPr b="0" lang="ru-RU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ї</a:t>
            </a:r>
            <a:r>
              <a:rPr b="0" lang="uk-UA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), пропозиції тов</a:t>
            </a:r>
            <a:r>
              <a:rPr b="0" lang="ru-RU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api</a:t>
            </a:r>
            <a:r>
              <a:rPr b="0" lang="uk-UA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в б</a:t>
            </a:r>
            <a:r>
              <a:rPr b="0" lang="ru-RU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льш високо</a:t>
            </a:r>
            <a:r>
              <a:rPr b="0" lang="ru-RU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ї </a:t>
            </a:r>
            <a:r>
              <a:rPr b="0" lang="uk-UA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якост</a:t>
            </a:r>
            <a:r>
              <a:rPr b="0" lang="ru-RU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 або з набором послуг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6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3E763-5203-41EF-B18A-80A7FCF2CBE2}" type="slidenum">
              <a:rPr b="0" lang="ru-RU" sz="1200" spc="-1" strike="noStrike">
                <a:solidFill>
                  <a:srgbClr val="89a0b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5550C-17A3-48E4-8013-DE677A910F25}" type="slidenum">
              <a:rPr b="0" lang="ru-RU" sz="1200" spc="-1" strike="noStrike">
                <a:solidFill>
                  <a:srgbClr val="89a0b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8" name="Rectangle 3"/>
          <p:cNvSpPr/>
          <p:nvPr/>
        </p:nvSpPr>
        <p:spPr>
          <a:xfrm>
            <a:off x="0" y="720"/>
            <a:ext cx="89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Визначення поняття «конкурентна перевага»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graphicFrame>
        <p:nvGraphicFramePr>
          <p:cNvPr id="309" name=""/>
          <p:cNvGraphicFramePr/>
          <p:nvPr/>
        </p:nvGraphicFramePr>
        <p:xfrm>
          <a:off x="428760" y="428760"/>
          <a:ext cx="8215200" cy="6203880"/>
        </p:xfrm>
        <a:graphic>
          <a:graphicData uri="http://schemas.openxmlformats.org/drawingml/2006/table">
            <a:tbl>
              <a:tblPr/>
              <a:tblGrid>
                <a:gridCol w="2185920"/>
                <a:gridCol w="6029280"/>
              </a:tblGrid>
              <a:tr h="245880">
                <a:tc>
                  <a:txBody>
                    <a:bodyPr lIns="27720" rIns="27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143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Автор 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720" rIns="27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143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Визначення 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160">
                <a:tc>
                  <a:txBody>
                    <a:bodyPr lIns="27720" rIns="27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143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720" rIns="27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143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1000">
                <a:tc>
                  <a:txBody>
                    <a:bodyPr lIns="27720" rIns="27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143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Г. Ассель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720" rIns="277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1143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Перевага, що досягається, коли компанія використовує маркетингову можливість завдяки випуску більш розгалуженої мережі розподілу, кращому сервісу й більше різноманітним асортиментам продукції в порівнянні з конкуруючими компаніями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27720" rIns="27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143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В. Немцов,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143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Д. Довгань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720" rIns="277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1143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Характеристики, особливості товару або торгівельної марки, які створюють для підприємства певні переваги над конкурентами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4320">
                <a:tc>
                  <a:txBody>
                    <a:bodyPr lIns="27720" rIns="27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143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В. Шевченко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720" rIns="277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1143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Конкурентні переваги – це ті характеристики товарів, специфічні умови виробництва й продажі, додаткові послуги, які відрізняють діяльність фірми й створюють її переваги над прямими конкурентами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6560">
                <a:tc>
                  <a:txBody>
                    <a:bodyPr lIns="27720" rIns="27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143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В. Оберемчук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720" rIns="277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1143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Конкурентна перевага – це перевага, що забезпечує доходи, які перевищують середньогалузевий рівень і сприяють завоюванню міцних позицій на ринку; основа успішного існування та розвитку фірми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6560">
                <a:tc>
                  <a:txBody>
                    <a:bodyPr lIns="27720" rIns="27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143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М. Портер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720" rIns="277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1143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Виникає як результат виявлення й використання унікальних, відмінних від суперників, способів конкуренції, які можуть утримуватися деякий період часу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27720" rIns="27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143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А.Градов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720" rIns="277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1143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Глобальна мета економічної стратегії фірми галузі національної економіки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4680">
                <a:tc>
                  <a:txBody>
                    <a:bodyPr lIns="27720" rIns="27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143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Е. Голубків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720" rIns="277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1143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Перевага над конкурентами, отримана шляхом надання споживачам більших благ, або за рахунок пропозиції високоякісних продуктів з набором необхідних послуг, але за виправдано більш високими цінами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3600">
                <a:tc>
                  <a:txBody>
                    <a:bodyPr lIns="27720" rIns="27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143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Ф. Котлер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720" rIns="277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1143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Перевага над конкурентами, що досягається за рахунок пропозиції споживачам більш високої цінності або за рахунок більш низьких цін, або за рахунок подання більших вигід, що виправдовують більш високі ціни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FE4CF-CF5E-4E07-BEB5-D0CA7D516749}" type="slidenum">
              <a:rPr b="0" lang="ru-RU" sz="1200" spc="-1" strike="noStrike">
                <a:solidFill>
                  <a:srgbClr val="89a0b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1" name="Rectangle 2"/>
          <p:cNvSpPr/>
          <p:nvPr/>
        </p:nvSpPr>
        <p:spPr>
          <a:xfrm>
            <a:off x="3644280" y="59760"/>
            <a:ext cx="185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Продовження табл.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285840" y="428760"/>
          <a:ext cx="8643960" cy="6033960"/>
        </p:xfrm>
        <a:graphic>
          <a:graphicData uri="http://schemas.openxmlformats.org/drawingml/2006/table">
            <a:tbl>
              <a:tblPr/>
              <a:tblGrid>
                <a:gridCol w="2071440"/>
                <a:gridCol w="6572520"/>
              </a:tblGrid>
              <a:tr h="280800">
                <a:tc>
                  <a:txBody>
                    <a:bodyPr lIns="29160" rIns="29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143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143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6880">
                <a:tc>
                  <a:txBody>
                    <a:bodyPr lIns="29160" rIns="29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143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Б. Карлоф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1143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Те, на що спрямовано всі стратегії в області бізнесу; конкурентні переваги формуються численними факторами: ефективним виробництвом, володінням патентами, рекламою, грамотним менеджментом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29160" rIns="29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143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Н. Куденко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1143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Це той показник, що забезпечує переваги конкурентів на цільовому ринку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5720">
                <a:tc>
                  <a:txBody>
                    <a:bodyPr lIns="29160" rIns="29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143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Р. Фатхутдінов 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1143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Конкурентна перевага організації означає перевагу, високу компетентність фірми в якій-небудь області діяльності або у випуску товару в порівнянні з конкуруючими фірмами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1320">
                <a:tc>
                  <a:txBody>
                    <a:bodyPr lIns="29160" rIns="29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143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Д. Кембел,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143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Дж. Стоунхаус,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143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Б. Хьюстон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1143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Компанія має конкурентні переваги, якщо її прибуток вище, ніж прибуток конкурентів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0680">
                <a:tc>
                  <a:txBody>
                    <a:bodyPr lIns="29160" rIns="29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143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В. Маркова,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143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С. Кузнєцова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1143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Конкурентні переваги – це унікальні відчутні й невловимі  ресурси, якими володіє підприємство, а також стратегічно важливі для даного підприємства сфери бізнесу, які дозволяють перемагати в конкурентній боротьбі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1440">
                <a:tc>
                  <a:txBody>
                    <a:bodyPr lIns="29160" rIns="29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143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Б. Мільнер,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143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Ф. Лііса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9160" rIns="291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1143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Конкурентні переваги – результат низької собівартості продукції, впровадження нововведень, більш високої продуктивності праці, більш високого рівня кваліфікації виробничого, технічного, комерційного персоналу, якості й технічних параметрів вироблених виробів, управлінської майстерності, оптимального сегментування ринку, швидкого реагування на потреби ринку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C2825-0FEA-4963-8D66-A68F37A18D1C}" type="slidenum">
              <a:rPr b="0" lang="ru-RU" sz="1200" spc="-1" strike="noStrike">
                <a:solidFill>
                  <a:srgbClr val="89a0b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4" name="Прямоугольник 5"/>
          <p:cNvSpPr/>
          <p:nvPr/>
        </p:nvSpPr>
        <p:spPr>
          <a:xfrm>
            <a:off x="1476360" y="5516640"/>
            <a:ext cx="66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Визначення конкурентних переваг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grpSp>
        <p:nvGrpSpPr>
          <p:cNvPr id="315" name="Group 5"/>
          <p:cNvGrpSpPr/>
          <p:nvPr/>
        </p:nvGrpSpPr>
        <p:grpSpPr>
          <a:xfrm>
            <a:off x="1643040" y="1143000"/>
            <a:ext cx="5816520" cy="3848040"/>
            <a:chOff x="1643040" y="1143000"/>
            <a:chExt cx="5816520" cy="3848040"/>
          </a:xfrm>
        </p:grpSpPr>
        <p:sp>
          <p:nvSpPr>
            <p:cNvPr id="316" name="Text Box 6"/>
            <p:cNvSpPr/>
            <p:nvPr/>
          </p:nvSpPr>
          <p:spPr>
            <a:xfrm>
              <a:off x="1643040" y="1143000"/>
              <a:ext cx="1866600" cy="1041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10181c"/>
                  </a:solidFill>
                  <a:latin typeface="Times New Roman"/>
                </a:rPr>
                <a:t>Вид конкуренції:</a:t>
              </a:r>
              <a:endParaRPr b="0" lang="en-US" sz="1400" spc="-1" strike="noStrike">
                <a:solidFill>
                  <a:srgbClr val="0066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10181c"/>
                  </a:solidFill>
                  <a:latin typeface="Times New Roman"/>
                </a:rPr>
                <a:t>товарна, виробнича та ін.. стратегії (як Ви</a:t>
              </a:r>
              <a:r>
                <a:rPr b="0" lang="ru-RU" sz="1100" spc="-1" strike="noStrike">
                  <a:solidFill>
                    <a:srgbClr val="10181c"/>
                  </a:solidFill>
                  <a:latin typeface="Times New Roman"/>
                </a:rPr>
                <a:t> </a:t>
              </a:r>
              <a:r>
                <a:rPr b="0" lang="ru-RU" sz="1400" spc="-1" strike="noStrike">
                  <a:solidFill>
                    <a:srgbClr val="10181c"/>
                  </a:solidFill>
                  <a:latin typeface="Times New Roman"/>
                </a:rPr>
                <a:t>конкуруєте?)</a:t>
              </a:r>
              <a:endParaRPr b="0" lang="en-US" sz="1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7" name="Text Box 7"/>
            <p:cNvSpPr/>
            <p:nvPr/>
          </p:nvSpPr>
          <p:spPr>
            <a:xfrm>
              <a:off x="5630760" y="1143000"/>
              <a:ext cx="1828800" cy="1041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10181c"/>
                  </a:solidFill>
                  <a:latin typeface="Times New Roman"/>
                </a:rPr>
                <a:t>Цільовий ринок:</a:t>
              </a:r>
              <a:endParaRPr b="0" lang="en-US" sz="1400" spc="-1" strike="noStrike">
                <a:solidFill>
                  <a:srgbClr val="0066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10181c"/>
                  </a:solidFill>
                  <a:latin typeface="Times New Roman"/>
                </a:rPr>
                <a:t>(де Ви конкуруєте?)</a:t>
              </a:r>
              <a:endParaRPr b="0" lang="en-US" sz="1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8" name="Text Box 8"/>
            <p:cNvSpPr/>
            <p:nvPr/>
          </p:nvSpPr>
          <p:spPr>
            <a:xfrm>
              <a:off x="1782720" y="3657600"/>
              <a:ext cx="1904760" cy="133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10181c"/>
                  </a:solidFill>
                  <a:latin typeface="Times New Roman"/>
                </a:rPr>
                <a:t>Основа конкуренції: ресурси та сфера діяльності (хто Ви і який продукт виробляєте?)</a:t>
              </a:r>
              <a:endParaRPr b="0" lang="en-US" sz="1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9" name="Text Box 9"/>
            <p:cNvSpPr/>
            <p:nvPr/>
          </p:nvSpPr>
          <p:spPr>
            <a:xfrm>
              <a:off x="5630760" y="3657600"/>
              <a:ext cx="1828800" cy="133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10181c"/>
                  </a:solidFill>
                  <a:latin typeface="Times New Roman"/>
                </a:rPr>
                <a:t>Хто Ваші конкуренти?</a:t>
              </a:r>
              <a:endParaRPr b="0" lang="en-US" sz="1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0" name="Text Box 10"/>
            <p:cNvSpPr/>
            <p:nvPr/>
          </p:nvSpPr>
          <p:spPr>
            <a:xfrm>
              <a:off x="3852720" y="2476440"/>
              <a:ext cx="1650960" cy="76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10181c"/>
                  </a:solidFill>
                  <a:latin typeface="Times New Roman"/>
                </a:rPr>
                <a:t>КОНКУРЕНТНІ ПЕРЕВАГИ</a:t>
              </a:r>
              <a:endParaRPr b="0" lang="en-US" sz="1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cxnSp>
          <p:nvCxnSpPr>
            <p:cNvPr id="321" name="AutoShape 11"/>
            <p:cNvCxnSpPr/>
            <p:nvPr/>
          </p:nvCxnSpPr>
          <p:spPr>
            <a:xfrm>
              <a:off x="3509640" y="1434960"/>
              <a:ext cx="635760" cy="1041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22" name="AutoShape 12"/>
            <p:cNvCxnSpPr/>
            <p:nvPr/>
          </p:nvCxnSpPr>
          <p:spPr>
            <a:xfrm flipH="1">
              <a:off x="4995360" y="1434960"/>
              <a:ext cx="635760" cy="1041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23" name="AutoShape 13"/>
            <p:cNvCxnSpPr/>
            <p:nvPr/>
          </p:nvCxnSpPr>
          <p:spPr>
            <a:xfrm flipV="1">
              <a:off x="3687480" y="3238560"/>
              <a:ext cx="597600" cy="1143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24" name="AutoShape 14"/>
            <p:cNvCxnSpPr/>
            <p:nvPr/>
          </p:nvCxnSpPr>
          <p:spPr>
            <a:xfrm flipH="1" flipV="1">
              <a:off x="5072040" y="3238560"/>
              <a:ext cx="559080" cy="1143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78242-7655-4166-9B88-F6664C4F27FB}" type="slidenum">
              <a:rPr b="0" lang="ru-RU" sz="1200" spc="-1" strike="noStrike">
                <a:solidFill>
                  <a:srgbClr val="89a0b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graphicFrame>
        <p:nvGraphicFramePr>
          <p:cNvPr id="326" name="Содержимое 4"/>
          <p:cNvGraphicFramePr/>
          <p:nvPr/>
        </p:nvGraphicFramePr>
        <p:xfrm>
          <a:off x="250920" y="544680"/>
          <a:ext cx="8642160" cy="617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7" name="Содержимое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544680"/>
                    <a:ext cx="8642160" cy="617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8" name="Rectangle 2"/>
          <p:cNvSpPr/>
          <p:nvPr/>
        </p:nvSpPr>
        <p:spPr>
          <a:xfrm>
            <a:off x="2087640" y="720"/>
            <a:ext cx="536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641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Класифікація конкурентних переваг підприємств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2"/>
          <p:cNvSpPr/>
          <p:nvPr/>
        </p:nvSpPr>
        <p:spPr>
          <a:xfrm>
            <a:off x="2174400" y="60120"/>
            <a:ext cx="479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Класифікація  конкуренції  за основами ознаками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4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1749E-8ACE-43D4-A3AB-059BEF87682E}" type="slidenum">
              <a:rPr b="0" lang="ru-RU" sz="1200" spc="-1" strike="noStrike">
                <a:solidFill>
                  <a:srgbClr val="89a0b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285840" y="571680"/>
          <a:ext cx="8429400" cy="6153120"/>
        </p:xfrm>
        <a:graphic>
          <a:graphicData uri="http://schemas.openxmlformats.org/drawingml/2006/table">
            <a:tbl>
              <a:tblPr/>
              <a:tblGrid>
                <a:gridCol w="857160"/>
                <a:gridCol w="1071720"/>
                <a:gridCol w="6500520"/>
              </a:tblGrid>
              <a:tr h="365040">
                <a:tc>
                  <a:txBody>
                    <a:bodyPr lIns="28440" rIns="28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Основні ознаки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440" rIns="28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Вид 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440" rIns="28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Основні риси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3960">
                <a:tc>
                  <a:txBody>
                    <a:bodyPr lIns="28440" rIns="28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440" rIns="28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440" rIns="28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 rowSpan="6">
                  <a:txBody>
                    <a:bodyPr lIns="28440" rIns="28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За масштабом розвитку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440" rIns="28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Індивідуальна 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440" rIns="28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Учасник ринкових відносин прагне вибрати найкращі умови купівлі-продажу товарів і послуг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8440" rIns="28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Місцева 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440" rIns="28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Конкурентна боротьба між учасниками ринкових відносин на обмеженій території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8440" rIns="28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Галузева 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440" rIns="28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Конкурентна боротьба в одній з галузей ринку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8440" rIns="28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Міжгалузева 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440" rIns="28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Суперництво представників різних галузей ринку за залучення на свою сторону покупців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8440" rIns="28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Національна 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440" rIns="28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Суперництво вітчизняних продавців і покупців усередині певної країни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8440" rIns="28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Міжнародна 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440" rIns="28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Боротьба  підприємств, господарських об’єднань і держав різних країн на світовому ринку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 rowSpan="2">
                  <a:txBody>
                    <a:bodyPr lIns="28440" rIns="28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За формою 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440" rIns="28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Пряма 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440" rIns="28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Конкурентна боротьба йде усередині категорії одного продукту або торговельної марки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8440" rIns="28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Непряма 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440" rIns="28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Конкурентна боротьба розвертається між продуктами різних категорій, але діючих як альтернативні при купівельному виборі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400">
                <a:tc rowSpan="3">
                  <a:txBody>
                    <a:bodyPr lIns="28440" rIns="28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За способом й характером задово-лення споживчого попиту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440" rIns="28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Функціональна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440" rIns="28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Конкуренція між різними товарами (виробниками), що задовольняють одну певну людську потребу, тобто виконують одну загальну функцію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3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8440" rIns="28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Видова 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440" rIns="28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Конкуренція розгортається між товарами (виробниками) одного виду, призначеними для задоволення однієї й тієї ж потреби, але відрізняються один від одного за яким-небудь істотним важливим параметром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8440" rIns="28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Предметна 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440" rIns="28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Конкуренція виникає між ідентичними товарами (виробниками), що відрізняються якістю виготовлення або навіть однаковими по якості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400">
                <a:tc rowSpan="2">
                  <a:txBody>
                    <a:bodyPr lIns="28440" rIns="28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За характером розвитку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440" rIns="28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Вільна 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440" rIns="28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Наявність на ринку безлічі незалежних товаровласників; необмежений доступ на ринок всіх бажаючих; відсутність контролю за ринковими цінами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8440" rIns="28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Регульована 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440" rIns="28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Втручання держави, як гаранта економічних прав і обов’язків, у процеси, що протікають в економіці з метою створення умов для розвитку ринкових суб’єктів і регулювання їх діяльності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28440" marR="28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4F279-743D-4AD1-893F-4EB88CD7CC65}" type="slidenum">
              <a:rPr b="0" lang="ru-RU" sz="1200" spc="-1" strike="noStrike">
                <a:solidFill>
                  <a:srgbClr val="89a0b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graphicFrame>
        <p:nvGraphicFramePr>
          <p:cNvPr id="330" name="Содержимое 4"/>
          <p:cNvGraphicFramePr/>
          <p:nvPr/>
        </p:nvGraphicFramePr>
        <p:xfrm>
          <a:off x="355680" y="673200"/>
          <a:ext cx="8597880" cy="609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1" name="Содержимое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5680" y="673200"/>
                    <a:ext cx="85978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2" name="Прямоугольник 5"/>
          <p:cNvSpPr/>
          <p:nvPr/>
        </p:nvSpPr>
        <p:spPr>
          <a:xfrm>
            <a:off x="6500880" y="214200"/>
            <a:ext cx="22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6699"/>
                </a:solidFill>
                <a:latin typeface="Calibri"/>
              </a:rPr>
              <a:t>Продовження табл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-360" y="285480"/>
            <a:ext cx="8929800" cy="329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Внутрішня </a:t>
            </a:r>
            <a:r>
              <a:rPr b="1" i="1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 конкурентна перевага</a:t>
            </a:r>
            <a:r>
              <a:rPr b="0" i="1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базується на перевазi пiдпри</a:t>
            </a:r>
            <a:r>
              <a:rPr b="0" lang="uk-UA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ємст</a:t>
            </a:r>
            <a:r>
              <a:rPr b="0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ва </a:t>
            </a:r>
            <a:r>
              <a:rPr b="0" lang="uk-UA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відносно </a:t>
            </a:r>
            <a:r>
              <a:rPr b="0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витрат, що дозволяє домoгтися собiвартостi меншої </a:t>
            </a:r>
            <a:r>
              <a:rPr b="0" lang="uk-UA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ніж конкуренті</a:t>
            </a:r>
            <a:r>
              <a:rPr b="0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в. </a:t>
            </a:r>
            <a:r>
              <a:rPr b="0" lang="uk-UA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В</a:t>
            </a:r>
            <a:r>
              <a:rPr b="0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арто враховувати, що бiльш низька собiвартicть дає </a:t>
            </a:r>
            <a:r>
              <a:rPr b="0" lang="uk-UA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підприємству </a:t>
            </a:r>
            <a:r>
              <a:rPr b="0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 перевагу, якщо продукцiя вiдповiдає середн</a:t>
            </a:r>
            <a:r>
              <a:rPr b="0" lang="uk-UA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ь</a:t>
            </a:r>
            <a:r>
              <a:rPr b="0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огалузевому с</a:t>
            </a:r>
            <a:r>
              <a:rPr b="0" lang="uk-UA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тандар</a:t>
            </a:r>
            <a:r>
              <a:rPr b="0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ту якостi. У протилежному випадку товар гiршої якостi може ре</a:t>
            </a:r>
            <a:r>
              <a:rPr b="0" lang="uk-UA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алізува</a:t>
            </a:r>
            <a:r>
              <a:rPr b="0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тися тiльки через зниження цiни на нього, що зменшує частку пр</a:t>
            </a:r>
            <a:r>
              <a:rPr b="0" lang="uk-UA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ибутку.</a:t>
            </a:r>
            <a:br>
              <a:rPr sz="1800"/>
            </a:br>
            <a:r>
              <a:rPr b="0" lang="uk-UA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В</a:t>
            </a:r>
            <a:r>
              <a:rPr b="0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дповiдно, </a:t>
            </a:r>
            <a:r>
              <a:rPr b="0" lang="uk-UA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у</a:t>
            </a:r>
            <a:r>
              <a:rPr b="0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 даному </a:t>
            </a:r>
            <a:r>
              <a:rPr b="0" lang="uk-UA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варіанті</a:t>
            </a:r>
            <a:r>
              <a:rPr b="0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 перевага в собiвартостi не дa</a:t>
            </a:r>
            <a:r>
              <a:rPr b="0" lang="uk-UA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є </a:t>
            </a:r>
            <a:r>
              <a:rPr b="0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виго</a:t>
            </a:r>
            <a:r>
              <a:rPr b="0" lang="uk-UA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ди</a:t>
            </a:r>
            <a:r>
              <a:rPr b="0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. </a:t>
            </a:r>
            <a:br>
              <a:rPr sz="1800"/>
            </a:br>
            <a:endParaRPr b="0" lang="en-US" sz="1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3071520"/>
            <a:ext cx="8929800" cy="35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7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Внутр</a:t>
            </a:r>
            <a:r>
              <a:rPr b="0" lang="ru-RU" sz="17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17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шн</a:t>
            </a:r>
            <a:r>
              <a:rPr b="0" lang="ru-RU" sz="17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 конкурентні</a:t>
            </a:r>
            <a:r>
              <a:rPr b="0" lang="uk-UA" sz="17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 переваги створюються у внутр</a:t>
            </a:r>
            <a:r>
              <a:rPr b="0" lang="ru-RU" sz="17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17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шньому середовищі п</a:t>
            </a:r>
            <a:r>
              <a:rPr b="0" lang="ru-RU" sz="17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17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дприємства (технолог</a:t>
            </a:r>
            <a:r>
              <a:rPr b="0" lang="ru-RU" sz="17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17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я, орган</a:t>
            </a:r>
            <a:r>
              <a:rPr b="0" lang="ru-RU" sz="17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17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зац</a:t>
            </a:r>
            <a:r>
              <a:rPr b="0" lang="ru-RU" sz="17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17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я виробництва, лог</a:t>
            </a:r>
            <a:r>
              <a:rPr b="0" lang="ru-RU" sz="17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17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стика, управління персоналом, як</a:t>
            </a:r>
            <a:r>
              <a:rPr b="0" lang="ru-RU" sz="17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c</a:t>
            </a:r>
            <a:r>
              <a:rPr b="0" lang="uk-UA" sz="17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тъ продукц</a:t>
            </a:r>
            <a:r>
              <a:rPr b="0" lang="ru-RU" sz="17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17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ї й </a:t>
            </a:r>
            <a:r>
              <a:rPr b="0" lang="ru-RU" sz="17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н</a:t>
            </a:r>
            <a:r>
              <a:rPr b="0" lang="uk-UA" sz="17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.), </a:t>
            </a:r>
            <a:r>
              <a:rPr b="0" lang="ru-RU" sz="17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17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 п</a:t>
            </a:r>
            <a:r>
              <a:rPr b="0" lang="ru-RU" sz="17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17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дприємство </a:t>
            </a:r>
            <a:r>
              <a:rPr b="0" lang="ru-RU" sz="17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мa</a:t>
            </a:r>
            <a:r>
              <a:rPr b="0" lang="uk-UA" sz="17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є </a:t>
            </a:r>
            <a:r>
              <a:rPr b="0" lang="ru-RU" sz="17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вci</a:t>
            </a:r>
            <a:r>
              <a:rPr b="0" lang="uk-UA" sz="17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 можливост</a:t>
            </a:r>
            <a:r>
              <a:rPr b="0" lang="ru-RU" sz="17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17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 для активного управл</a:t>
            </a:r>
            <a:r>
              <a:rPr b="0" lang="ru-RU" sz="17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17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ння процесами ї</a:t>
            </a:r>
            <a:r>
              <a:rPr b="0" lang="ru-RU" sz="17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x</a:t>
            </a:r>
            <a:r>
              <a:rPr b="0" lang="uk-UA" sz="17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 створення та розвитку. Внутришня конкурентна перевага є насл</a:t>
            </a:r>
            <a:r>
              <a:rPr b="0" lang="ru-RU" sz="17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17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дком високої продуктивност</a:t>
            </a:r>
            <a:r>
              <a:rPr b="0" lang="ru-RU" sz="17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17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 й ефективного управл</a:t>
            </a:r>
            <a:r>
              <a:rPr b="0" lang="ru-RU" sz="17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17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ння витратами.  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7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П</a:t>
            </a:r>
            <a:r>
              <a:rPr b="0" lang="ru-RU" sz="17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рикладом внутрiшнiх конкурентних переваг можуть бути прийнятi суспільством цiнностi органiзацiї, модульна автоматизована технологiя,</a:t>
            </a:r>
            <a:r>
              <a:rPr b="0" lang="uk-UA" sz="17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 кваліфі</a:t>
            </a:r>
            <a:r>
              <a:rPr b="0" lang="ru-RU" sz="17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кo</a:t>
            </a:r>
            <a:r>
              <a:rPr b="0" lang="uk-UA" sz="17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в</a:t>
            </a:r>
            <a:r>
              <a:rPr b="0" lang="ru-RU" sz="17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aнi  кадри  органiзацiї</a:t>
            </a:r>
            <a:r>
              <a:rPr b="0" lang="uk-UA" sz="17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. 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5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DB428-E9A6-4F81-8DDA-70BE85D3B7FC}" type="slidenum">
              <a:rPr b="0" lang="ru-RU" sz="1200" spc="-1" strike="noStrike">
                <a:solidFill>
                  <a:srgbClr val="89a0b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 txBox="1"/>
          <p:nvPr/>
        </p:nvSpPr>
        <p:spPr>
          <a:xfrm>
            <a:off x="0" y="285840"/>
            <a:ext cx="914400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9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Зов</a:t>
            </a:r>
            <a:r>
              <a:rPr b="1" i="1" lang="ru-RU" sz="19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нiшня конку</a:t>
            </a:r>
            <a:r>
              <a:rPr b="1" i="1" lang="uk-UA" sz="19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р</a:t>
            </a:r>
            <a:r>
              <a:rPr b="1" i="1" lang="ru-RU" sz="19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ентна пе</a:t>
            </a:r>
            <a:r>
              <a:rPr b="1" i="1" lang="uk-UA" sz="19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р</a:t>
            </a:r>
            <a:r>
              <a:rPr b="1" i="1" lang="ru-RU" sz="19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евага </a:t>
            </a:r>
            <a:r>
              <a:rPr b="0" lang="ru-RU" sz="19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з</a:t>
            </a:r>
            <a:r>
              <a:rPr b="0" lang="uk-UA" sz="19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а</a:t>
            </a:r>
            <a:r>
              <a:rPr b="0" lang="ru-RU" sz="19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снована на вiдмiнних властивостях послуги, якi утворять бiльшу «споживчу цiннicть» для покупця, </a:t>
            </a:r>
            <a:r>
              <a:rPr b="0" lang="uk-UA" sz="19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ніж </a:t>
            </a:r>
            <a:r>
              <a:rPr b="0" lang="ru-RU" sz="19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а</a:t>
            </a:r>
            <a:r>
              <a:rPr b="0" lang="uk-UA" sz="19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на</a:t>
            </a:r>
            <a:r>
              <a:rPr b="0" lang="ru-RU" sz="19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логiчна продукцiя </a:t>
            </a:r>
            <a:r>
              <a:rPr b="0" lang="uk-UA" sz="19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конкурентів</a:t>
            </a:r>
            <a:r>
              <a:rPr b="0" lang="ru-RU" sz="19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. Це дозволяє встановлювати  бiльш  </a:t>
            </a:r>
            <a:r>
              <a:rPr b="0" lang="uk-UA" sz="19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високі  ц</a:t>
            </a:r>
            <a:r>
              <a:rPr b="0" lang="ru-RU" sz="19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19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ни продаж</a:t>
            </a:r>
            <a:r>
              <a:rPr b="0" lang="ru-RU" sz="19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19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в, н</a:t>
            </a:r>
            <a:r>
              <a:rPr b="0" lang="ru-RU" sz="19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19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ж у конкурентів, як</a:t>
            </a:r>
            <a:r>
              <a:rPr b="0" lang="ru-RU" sz="19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19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 не забезпечують в</a:t>
            </a:r>
            <a:r>
              <a:rPr b="0" lang="ru-RU" sz="19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19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дпов</a:t>
            </a:r>
            <a:r>
              <a:rPr b="0" lang="ru-RU" sz="19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19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дної якості.</a:t>
            </a:r>
            <a:endParaRPr b="0" lang="en-US" sz="19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Зовн</a:t>
            </a:r>
            <a:r>
              <a:rPr b="0" lang="ru-RU" sz="19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19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шн</a:t>
            </a:r>
            <a:r>
              <a:rPr b="0" lang="ru-RU" sz="19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19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ми також сл</a:t>
            </a:r>
            <a:r>
              <a:rPr b="0" lang="ru-RU" sz="19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19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д вважати так</a:t>
            </a:r>
            <a:r>
              <a:rPr b="0" lang="ru-RU" sz="19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 </a:t>
            </a:r>
            <a:r>
              <a:rPr b="0" lang="uk-UA" sz="19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конкурентні переваги, як</a:t>
            </a:r>
            <a:r>
              <a:rPr b="0" lang="ru-RU" sz="19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19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 виникли в результаті впливу фактор</a:t>
            </a:r>
            <a:r>
              <a:rPr b="0" lang="ru-RU" sz="19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19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в навколишнього середовища: галузевих, макроеконом</a:t>
            </a:r>
            <a:r>
              <a:rPr b="0" lang="ru-RU" sz="19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19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чних, фактор</a:t>
            </a:r>
            <a:r>
              <a:rPr b="0" lang="ru-RU" sz="19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19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в </a:t>
            </a:r>
            <a:r>
              <a:rPr b="0" lang="ru-RU" sz="19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c</a:t>
            </a:r>
            <a:r>
              <a:rPr b="0" lang="uk-UA" sz="19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вітової економ</a:t>
            </a:r>
            <a:r>
              <a:rPr b="0" lang="ru-RU" sz="19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19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ки, зм</a:t>
            </a:r>
            <a:r>
              <a:rPr b="0" lang="ru-RU" sz="19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19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ни позиц</a:t>
            </a:r>
            <a:r>
              <a:rPr b="0" lang="ru-RU" sz="19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19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й конкурентів, дій уряду й </a:t>
            </a:r>
            <a:r>
              <a:rPr b="0" lang="ru-RU" sz="19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н</a:t>
            </a:r>
            <a:r>
              <a:rPr b="0" lang="uk-UA" sz="19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. </a:t>
            </a:r>
            <a:r>
              <a:rPr b="0" lang="ru-RU" sz="19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Так, змiна полiтики в таких областях, як стандарти, охорона  навколишнього середовища, вимоги до нових галузей i торговельнi обмеження, - розповсюдженi фактори, що тягнуть за собою появу або змiну </a:t>
            </a:r>
            <a:r>
              <a:rPr b="0" lang="uk-UA" sz="19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конкур</a:t>
            </a:r>
            <a:r>
              <a:rPr b="0" lang="ru-RU" sz="19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ентно</a:t>
            </a:r>
            <a:r>
              <a:rPr b="0" lang="uk-UA" sz="19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ї</a:t>
            </a:r>
            <a:r>
              <a:rPr b="0" lang="ru-RU" sz="19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 переваги. Icнуючi лiдери ринку пристосувалися до певни</a:t>
            </a:r>
            <a:r>
              <a:rPr b="0" lang="uk-UA" sz="19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х «прав</a:t>
            </a:r>
            <a:r>
              <a:rPr b="0" lang="ru-RU" sz="19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ил г</a:t>
            </a:r>
            <a:r>
              <a:rPr b="0" lang="uk-UA" sz="19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р</a:t>
            </a:r>
            <a:r>
              <a:rPr b="0" lang="ru-RU" sz="19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и» </a:t>
            </a:r>
            <a:r>
              <a:rPr b="0" lang="uk-UA" sz="19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з</a:t>
            </a:r>
            <a:r>
              <a:rPr b="0" lang="ru-RU" sz="19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 боку уряду, i, коли правила цi раптом  змiнюються, </a:t>
            </a:r>
            <a:r>
              <a:rPr b="0" lang="uk-UA" sz="19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вони можуть </a:t>
            </a:r>
            <a:r>
              <a:rPr b="0" lang="ru-RU" sz="19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 виявитися не в змозi вiдповicти на цi змiни. </a:t>
            </a:r>
            <a:endParaRPr b="0" lang="en-US" sz="19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7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EA3B0-FA19-496A-8583-3AC6B513AA7D}" type="slidenum">
              <a:rPr b="0" lang="ru-RU" sz="1200" spc="-1" strike="noStrike">
                <a:solidFill>
                  <a:srgbClr val="89a0b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0040" y="542916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озиціонування конкурентної переваги</a:t>
            </a:r>
            <a:endParaRPr b="0" lang="en-US" sz="2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39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4BF85-C547-4E32-A2A9-3878495BC371}" type="slidenum">
              <a:rPr b="0" lang="ru-RU" sz="1200" spc="-1" strike="noStrike">
                <a:solidFill>
                  <a:srgbClr val="89a0b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40" name="Picture 2" descr=""/>
          <p:cNvPicPr/>
          <p:nvPr/>
        </p:nvPicPr>
        <p:blipFill>
          <a:blip r:embed="rId1"/>
          <a:stretch/>
        </p:blipFill>
        <p:spPr>
          <a:xfrm>
            <a:off x="1643040" y="1071720"/>
            <a:ext cx="600084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0" y="333360"/>
            <a:ext cx="914400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Видiляються шicть зон, кожна з яких вiдповiдає визначенню особливої конкурентної позиції. </a:t>
            </a:r>
            <a:r>
              <a:rPr b="1" i="1" lang="ru-RU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Дiагональ «конкурентної рiвноваги» розділяє  сприятливi зони – 2, 3 i 4</a:t>
            </a:r>
            <a:r>
              <a:rPr b="0" lang="ru-RU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, де продукцiя пiдприємства має певну перевагу  над аналогiчним товаром прямого конкурента й основною прiоритетною метою є збереження й по можливостi посилення icнуючого положення i </a:t>
            </a:r>
            <a:r>
              <a:rPr b="1" i="1" lang="ru-RU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несприятливi, зони - 1, 5 i 6, </a:t>
            </a:r>
            <a:r>
              <a:rPr b="0" lang="ru-RU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де пiдприємство не має відносну конкурентну перевагу.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Зони 1, 5 - прiоритетнi цiлi </a:t>
            </a:r>
            <a:r>
              <a:rPr b="0" lang="ru-RU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- придiлити бiльше уваги проблемам якостi продукцiї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Зона 6 - прiоритетнi цiлi </a:t>
            </a:r>
            <a:r>
              <a:rPr b="0" lang="ru-RU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- покинути ринок,  якщо немає перспектив для полiпшення конкурентної позиції за даною продукцiєю.  Завданням такого анaлiзу є позицiонування пiдприємством своєї продукції з метою визначення iз цього стратегiчних  наслiдків  й  сформування  прiоритетних цiлей.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2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925F3-7E66-4A7E-BC35-49FD88483FE5}" type="slidenum">
              <a:rPr b="0" lang="ru-RU" sz="1200" spc="-1" strike="noStrike">
                <a:solidFill>
                  <a:srgbClr val="89a0b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0" y="549360"/>
            <a:ext cx="9144000" cy="63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9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М</a:t>
            </a:r>
            <a:r>
              <a:rPr b="1" i="1" lang="ru-RU" sz="19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ожливостi збереженн</a:t>
            </a:r>
            <a:r>
              <a:rPr b="1" i="1" lang="uk-UA" sz="19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я</a:t>
            </a:r>
            <a:r>
              <a:rPr b="1" i="1" lang="ru-RU" sz="19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  конкурентних переваг залежать </a:t>
            </a:r>
            <a:r>
              <a:rPr b="1" i="1" lang="uk-UA" sz="19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від</a:t>
            </a:r>
            <a:r>
              <a:rPr b="1" i="1" lang="ru-RU" sz="19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 ряду факторiв.</a:t>
            </a:r>
            <a:endParaRPr b="0" lang="en-US" sz="19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 </a:t>
            </a:r>
            <a:r>
              <a:rPr b="0" i="1" lang="ru-RU" sz="19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1. Характер досягнення конкурентної переваги.  </a:t>
            </a:r>
            <a:endParaRPr b="0" lang="en-US" sz="19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 </a:t>
            </a:r>
            <a:r>
              <a:rPr b="0" i="1" lang="ru-RU" sz="19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2. Очевиднicть джерел конкурентних переваг. </a:t>
            </a:r>
            <a:r>
              <a:rPr b="0" lang="ru-RU" sz="19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При наявностi яв</a:t>
            </a:r>
            <a:r>
              <a:rPr b="0" lang="uk-UA" sz="19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них</a:t>
            </a:r>
            <a:r>
              <a:rPr b="0" lang="ru-RU" sz="19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 джерел переваг (дешева сировина, певна технологiя, залежнicть від </a:t>
            </a:r>
            <a:r>
              <a:rPr b="0" lang="uk-UA" sz="19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конку</a:t>
            </a:r>
            <a:r>
              <a:rPr b="0" lang="ru-RU" sz="19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ретного постачальника) зростає ймовiрнicть того, що конкуренти </a:t>
            </a:r>
            <a:r>
              <a:rPr b="0" lang="uk-UA" sz="19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поста</a:t>
            </a:r>
            <a:r>
              <a:rPr b="0" lang="ru-RU" sz="19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раються позбавити пiдприємства цих переваг. </a:t>
            </a:r>
            <a:endParaRPr b="0" lang="en-US" sz="19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3. Iнновацiї. </a:t>
            </a:r>
            <a:r>
              <a:rPr b="0" lang="ru-RU" sz="19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Для втримання лiдируючого положения строки</a:t>
            </a:r>
            <a:r>
              <a:rPr b="0" lang="uk-UA" sz="19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 впровад</a:t>
            </a:r>
            <a:r>
              <a:rPr b="0" lang="ru-RU" sz="19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ження iнновацiй повиннi, принаймнi, рiвнятися строкам їxньoгo мо</a:t>
            </a:r>
            <a:r>
              <a:rPr b="0" lang="uk-UA" sz="19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жливо</a:t>
            </a:r>
            <a:r>
              <a:rPr b="0" lang="ru-RU" sz="19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го повторения конкурентами або перевершувати їx. Iнновацiйний про</a:t>
            </a:r>
            <a:r>
              <a:rPr b="0" lang="uk-UA" sz="19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цес </a:t>
            </a:r>
            <a:r>
              <a:rPr b="0" lang="ru-RU" sz="19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 дозволяє пiдприємствам переходити до реалiзації конкурентних пер</a:t>
            </a:r>
            <a:r>
              <a:rPr b="0" lang="uk-UA" sz="19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еваг </a:t>
            </a:r>
            <a:r>
              <a:rPr b="0" lang="ru-RU" sz="19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 бiльш високого рангу й збiльшувати кiлькiсть  їxнix джерел. </a:t>
            </a:r>
            <a:endParaRPr b="0" lang="en-US" sz="19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4. Biдмoвa вiд наявної конкурентної переваги для придбання но</a:t>
            </a:r>
            <a:r>
              <a:rPr b="0" i="1" lang="uk-UA" sz="19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вої. </a:t>
            </a:r>
            <a:r>
              <a:rPr b="0" lang="uk-UA" sz="19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Відмова від конкурентної переваги  важлива для реал</a:t>
            </a:r>
            <a:r>
              <a:rPr b="0" lang="ru-RU" sz="19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i</a:t>
            </a:r>
            <a:r>
              <a:rPr b="0" lang="uk-UA" sz="19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зації стратегії, тому  що створює  бар‘єри для імітаторів.</a:t>
            </a:r>
            <a:endParaRPr b="0" lang="en-US" sz="19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4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02694-4301-44DE-8982-C0D2A44FEEFB}" type="slidenum">
              <a:rPr b="0" lang="ru-RU" sz="1200" spc="-1" strike="noStrike">
                <a:solidFill>
                  <a:srgbClr val="89a0b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0" y="213840"/>
            <a:ext cx="9144000" cy="664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Прикладами конкурентних переваг всесвітньо  вiдомих  пiдприємств -  лiдерiв  слугують: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- виняткова iнженерна майстернicть i переконанicть споживачів  щодо  якості  товарів  фірми  «Mercedes Benz»;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- впiзнаваємicть торговельної марки й перевага товару Соса­</a:t>
            </a:r>
            <a:r>
              <a:rPr b="0" lang="en-US" sz="24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Cola</a:t>
            </a:r>
            <a:r>
              <a:rPr b="0" lang="uk-UA" sz="24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-  </a:t>
            </a:r>
            <a:r>
              <a:rPr b="0" lang="ru-RU" sz="24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перевага  низької  вартості, досягнута British Telecom;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-  чудове знання бiзнесу  швидкого харчування в McDonald's;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- переваги  масштабностi  отриманi фірмою «</a:t>
            </a:r>
            <a:r>
              <a:rPr b="0" lang="en-US" sz="24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Nestle</a:t>
            </a:r>
            <a:r>
              <a:rPr b="0" lang="ru-RU" sz="24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» на </a:t>
            </a:r>
            <a:r>
              <a:rPr b="0" lang="uk-UA" sz="24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євро</a:t>
            </a:r>
            <a:r>
              <a:rPr b="0" lang="ru-RU" sz="24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пейському ринку.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6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D007B-8916-4EE2-9DA0-6772AFD925E0}" type="slidenum">
              <a:rPr b="0" lang="ru-RU" sz="1200" spc="-1" strike="noStrike">
                <a:solidFill>
                  <a:srgbClr val="89a0b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Прямоугольник 4"/>
          <p:cNvSpPr/>
          <p:nvPr/>
        </p:nvSpPr>
        <p:spPr>
          <a:xfrm>
            <a:off x="6786720" y="0"/>
            <a:ext cx="21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6699"/>
                </a:solidFill>
                <a:latin typeface="Calibri"/>
              </a:rPr>
              <a:t>Продовження табл</a:t>
            </a:r>
            <a:r>
              <a:rPr b="0" lang="uk-UA" sz="1800" spc="-1" strike="noStrike">
                <a:solidFill>
                  <a:srgbClr val="006699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7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D0193-759B-4BF5-BC6A-D9BCD613774B}" type="slidenum">
              <a:rPr b="0" lang="ru-RU" sz="1200" spc="-1" strike="noStrike">
                <a:solidFill>
                  <a:srgbClr val="89a0b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428760" y="500040"/>
          <a:ext cx="8286480" cy="5927760"/>
        </p:xfrm>
        <a:graphic>
          <a:graphicData uri="http://schemas.openxmlformats.org/drawingml/2006/table">
            <a:tbl>
              <a:tblPr/>
              <a:tblGrid>
                <a:gridCol w="1360440"/>
                <a:gridCol w="1211040"/>
                <a:gridCol w="5715000"/>
              </a:tblGrid>
              <a:tr h="684360">
                <a:tc rowSpan="2">
                  <a:txBody>
                    <a:bodyPr lIns="25920" rIns="25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За  методами введення конкуренції</a:t>
                      </a:r>
                      <a:endParaRPr b="0" lang="en-US" sz="13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25920" marR="25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920" rIns="25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Цінова</a:t>
                      </a:r>
                      <a:endParaRPr b="0" lang="en-US" sz="13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25920" marR="25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920" rIns="25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Вид конкурентної боротьби за допомогою штучної зміни цін на товари з метою витиснення й знищення конкурента й завоювання монопольного положення на ринку</a:t>
                      </a:r>
                      <a:endParaRPr b="0" lang="en-US" sz="13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25920" marR="25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8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920" rIns="25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Нецінова</a:t>
                      </a:r>
                      <a:endParaRPr b="0" lang="en-US" sz="13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25920" marR="25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920" rIns="25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Конкуренція, що заснована на продажі товарів високої якості й надійності, яка досягається за допомогою технічної  переваги, використанні будь-яких законних засобів, крім зниження цін, з метою одержання нових споживачів</a:t>
                      </a:r>
                      <a:endParaRPr b="0" lang="en-US" sz="13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25920" marR="25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8480">
                <a:tc rowSpan="4">
                  <a:txBody>
                    <a:bodyPr lIns="25920" rIns="25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Залежно від моделі ринку</a:t>
                      </a:r>
                      <a:endParaRPr b="0" lang="en-US" sz="13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25920" marR="25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920" rIns="259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Досконала </a:t>
                      </a:r>
                      <a:endParaRPr b="0" lang="en-US" sz="13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25920" marR="25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920" rIns="25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Велика кількість компаній, що реалізують стандартну продукцію; контроль над ціною відсутній; абсолютно еластичний попит; нецінові методи конкуренції не практикуються; відсутні перешкоди для організації бізнесу</a:t>
                      </a:r>
                      <a:endParaRPr b="0" lang="en-US" sz="13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25920" marR="25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8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920" rIns="259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Монополіс-тична </a:t>
                      </a:r>
                      <a:endParaRPr b="0" lang="en-US" sz="13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25920" marR="25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920" rIns="25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Велика кількість компаній, що реалізують диференційовану продукцію; вузький діапазон контролю цін; еластичний попит; використовуються нецінові методи конкуренції; вхідний бар’єр у галузь незначний</a:t>
                      </a:r>
                      <a:endParaRPr b="0" lang="en-US" sz="13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25920" marR="25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920" rIns="259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Олігополіс-тична </a:t>
                      </a:r>
                      <a:endParaRPr b="0" lang="en-US" sz="13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25920" marR="25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920" rIns="25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Невелика кількість компаній; діапазон контролю цін залежить від рівня погодженості їх дій; переважно нецінова конкуренція; наявність істотних перешкод для організації бізнесу</a:t>
                      </a:r>
                      <a:endParaRPr b="0" lang="en-US" sz="13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25920" marR="25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920" rIns="259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Чиста монополія</a:t>
                      </a:r>
                      <a:endParaRPr b="0" lang="en-US" sz="13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25920" marR="25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920" rIns="25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Одна компанія,  яка випускає унікальну продукцію, що не має ефективних замінників; контроль над цінами значний; попит нееластичний; вхід у галузь для інших компаній заблокований</a:t>
                      </a:r>
                      <a:endParaRPr b="0" lang="en-US" sz="13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25920" marR="25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8480">
                <a:tc rowSpan="2">
                  <a:txBody>
                    <a:bodyPr lIns="25920" rIns="25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З урахуванням дотримання норм законодавства</a:t>
                      </a:r>
                      <a:endParaRPr b="0" lang="en-US" sz="13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25920" marR="25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920" rIns="259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Сумлінна </a:t>
                      </a:r>
                      <a:endParaRPr b="0" lang="en-US" sz="13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25920" marR="25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920" rIns="25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Основними методами є підвищення якості продукції, зниження цін. Однією з форм сумлінної конкуренції є цінова конкуренція, що використовується для видалення з ринку більш слабких суперників або проникнення на новий ринок</a:t>
                      </a:r>
                      <a:endParaRPr b="0" lang="en-US" sz="13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25920" marR="25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920" rIns="259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Несумлінна </a:t>
                      </a:r>
                      <a:endParaRPr b="0" lang="en-US" sz="13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25920" marR="25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920" rIns="25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Дії суб’єктів, які господарюють, по дискредитації конкурентів. Основні методи: економічне й промислове шпигунство, незаконне використання товарного знаку конкурентів</a:t>
                      </a:r>
                      <a:endParaRPr b="0" lang="en-US" sz="13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25920" marR="25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00040" y="6286680"/>
            <a:ext cx="8229600" cy="29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ласифікація поняття конкурентоспроможності</a:t>
            </a:r>
            <a:endParaRPr b="0" lang="en-US" sz="18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20" name="Содержимое 3"/>
          <p:cNvGraphicFramePr/>
          <p:nvPr/>
        </p:nvGraphicFramePr>
        <p:xfrm>
          <a:off x="285840" y="214200"/>
          <a:ext cx="8643960" cy="585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1" name="Содержимое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5840" y="214200"/>
                    <a:ext cx="8643960" cy="58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2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F33D3-2227-43F8-B513-7C7E1B8067FE}" type="slidenum">
              <a:rPr b="0" lang="ru-RU" sz="1200" spc="-1" strike="noStrike">
                <a:solidFill>
                  <a:srgbClr val="89a0b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3" name="Line 5"/>
          <p:cNvSpPr/>
          <p:nvPr/>
        </p:nvSpPr>
        <p:spPr>
          <a:xfrm flipV="1">
            <a:off x="250920" y="1413000"/>
            <a:ext cx="0" cy="122400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4" name="Line 6"/>
          <p:cNvSpPr/>
          <p:nvPr/>
        </p:nvSpPr>
        <p:spPr>
          <a:xfrm>
            <a:off x="250920" y="1413000"/>
            <a:ext cx="288720" cy="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5" name="Line 7"/>
          <p:cNvSpPr/>
          <p:nvPr/>
        </p:nvSpPr>
        <p:spPr>
          <a:xfrm>
            <a:off x="8820000" y="1341360"/>
            <a:ext cx="73080" cy="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6" name="Line 8"/>
          <p:cNvSpPr/>
          <p:nvPr/>
        </p:nvSpPr>
        <p:spPr>
          <a:xfrm>
            <a:off x="8893080" y="1341360"/>
            <a:ext cx="0" cy="115092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7" name="Line 9"/>
          <p:cNvSpPr/>
          <p:nvPr/>
        </p:nvSpPr>
        <p:spPr>
          <a:xfrm>
            <a:off x="8604360" y="2492280"/>
            <a:ext cx="288720" cy="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38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Залежно від об'єкта застосування цього терміна варто розрізняти </a:t>
            </a:r>
            <a:r>
              <a:rPr b="1" lang="uk-UA" sz="2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“конкурентоспроможність національної економіки”, “конкурентоспроможність продукції”, “конкурентоспроможність підприємства”, “конкурентонтоспроможність галузі”. </a:t>
            </a:r>
            <a:r>
              <a:rPr b="0" lang="uk-UA" sz="2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Кожна з цих категорій має істотні відмінності й характерні риси, які підтверджують правомірність і доцільність їх диференціації.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4121280"/>
            <a:ext cx="914400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Узагальнюючим для всіх розглянутих категорій є те, що вони відображають здатність досліджуваного об'єкта ефективно виконувати свої функції в умовах формування конкурентного середовища</a:t>
            </a:r>
            <a:r>
              <a:rPr b="0" lang="uk-UA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0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4BC79-74C6-4529-8D46-628E6847EB49}" type="slidenum">
              <a:rPr b="0" lang="ru-RU" sz="1200" spc="-1" strike="noStrike">
                <a:solidFill>
                  <a:srgbClr val="89a0b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14200" y="274320"/>
            <a:ext cx="8715600" cy="229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Конкурентоспроможність</a:t>
            </a:r>
            <a:r>
              <a:rPr b="1" lang="ru-RU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 товару - це властивiсть продукту, що характеризується ступенем задоволення їм конкретної потреби в порiвнянні з аналогiчними продуктами, представленими на ринку. </a:t>
            </a:r>
            <a:r>
              <a:rPr b="0" lang="ru-RU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Тобто це можливicть задоволення сукупних вимог ринку до продукту, що забезпечу</a:t>
            </a:r>
            <a:r>
              <a:rPr b="0" lang="uk-UA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є </a:t>
            </a:r>
            <a:r>
              <a:rPr b="0" lang="ru-RU" sz="20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пiдпpиємцевi одержання певноi норми прибутку</a:t>
            </a:r>
            <a:r>
              <a:rPr b="0" lang="uk-UA" sz="24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.</a:t>
            </a:r>
            <a:br>
              <a:rPr sz="1600"/>
            </a:b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214200" y="2214720"/>
            <a:ext cx="871560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Конкурентоспроможність продукції </a:t>
            </a:r>
            <a:r>
              <a:rPr b="0" lang="uk-UA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визначається її технічними, якісними, ергономічними й іншими характеристиками, які мають відповідати, як мінімум, рівню аналогічних характеристик конкурентів або мати  </a:t>
            </a:r>
            <a:r>
              <a:rPr b="0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бiльш низьку цiнy при гiрших  характеристиках, а як максимум - перевершувати характеристики продукцiї, що випускається конкурентами, i  мати  економiчну  привабливicть для покyпця.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Основні фактори, що впливають на конкурентоспроможнicть товару: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1) якiсть товару - технiчний рiвень товару; тexнiчний  рівень виробництва; piвeнь оргaнiзації  й управлiння; корисний ефект; iнновацiйнicть; вiдповiднiсть стандартам якостi;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2) цiна продукцiї - витрати виробництва; витрати маркетингу й реклами; витрати управлiння; прибуток; витрати на НДР i вiдновлення; умови ринку; продажна цiнa;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3) витрати в процесi споживання - експлуатацiйнi витрати; економiчність  споживання; багатофункцiональнiсть призначення;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4) якість cepвicy обслуговування - система техничного обслуговування; строк експлуатaцiї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3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B04C4-20E2-4127-B9E4-E7535D6314BA}" type="slidenum">
              <a:rPr b="0" lang="ru-RU" sz="1200" spc="-1" strike="noStrike">
                <a:solidFill>
                  <a:srgbClr val="89a0b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-360" y="549360"/>
            <a:ext cx="8929800" cy="59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Під конкурентоспроможністю товару </a:t>
            </a:r>
            <a:r>
              <a:rPr b="0" lang="uk-UA" sz="24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розуміється все те, що забезпечує йому переваги на ринку, сприяє успішному збуту товару в умовах конкуренції. Конкурентоспроможність товару проявляється тільки на ринку в момент обміну і визначається покупцем, який купує  продукцію, визначаючи її відповідність своїм потребам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10181c"/>
                </a:solidFill>
                <a:latin typeface="Times New Roman"/>
                <a:ea typeface="Times New Roman"/>
              </a:rPr>
              <a:t>Категорія  конкурентоспроможність продукції є складовою такого багатогранного поняття як конкурентоспроможність підприємства .  Конкурентоспроможний товар, що задовольняє потреби споживачів найбільшою мірою, створює передумови для конкурентоспрожності виробника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5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C23A9-EF48-49F4-93F6-584049B66FD1}" type="slidenum">
              <a:rPr b="0" lang="ru-RU" sz="1200" spc="-1" strike="noStrike">
                <a:solidFill>
                  <a:srgbClr val="89a0b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2"/>
          <p:cNvSpPr/>
          <p:nvPr/>
        </p:nvSpPr>
        <p:spPr>
          <a:xfrm>
            <a:off x="1487160" y="45360"/>
            <a:ext cx="618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6699"/>
                </a:solidFill>
                <a:latin typeface="Arial"/>
                <a:ea typeface="Times New Roman"/>
              </a:rPr>
              <a:t>Визначення конкурентоспроможності  підприємств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7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04B29-0B79-4BBD-8F44-B6E4C525AE6D}" type="slidenum">
              <a:rPr b="0" lang="ru-RU" sz="1200" spc="-1" strike="noStrike">
                <a:solidFill>
                  <a:srgbClr val="89a0b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0" y="357120"/>
          <a:ext cx="9144000" cy="6502320"/>
        </p:xfrm>
        <a:graphic>
          <a:graphicData uri="http://schemas.openxmlformats.org/drawingml/2006/table">
            <a:tbl>
              <a:tblPr/>
              <a:tblGrid>
                <a:gridCol w="1643040"/>
                <a:gridCol w="7500960"/>
              </a:tblGrid>
              <a:tr h="190440">
                <a:tc>
                  <a:txBody>
                    <a:bodyPr lIns="22320" rIns="22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Автор 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22320" marR="22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2320" rIns="22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Визначення 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22320" marR="22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800">
                <a:tc>
                  <a:txBody>
                    <a:bodyPr lIns="22320" rIns="22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М. Портер 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22320" marR="22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2320" rIns="22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Конкурентоспроможність підприємства – порівняльна перевага стосовно інших фірм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22320" marR="22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22320" rIns="22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А. Градов 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22320" marR="22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2320" rIns="22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Конкурентоспроможність підприємства – порівняльна перевага підприємства стосовно інших підприємств даної галузі усередині країни й за її межами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22320" marR="22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22320" rIns="22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В. Стівенсон 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22320" marR="22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2320" rIns="22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Конкурентоспроможність характеризує те, «наскільки ефективно компанія задовольняє потреби клієнта в порівнянні з іншими компаніями, які пропонують схожу продукцію або послуги»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22320" marR="22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22320" rIns="22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Фатхудінов 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22320" marR="22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2320" rIns="22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Конкурентоспроможність – «це можливість підприємства робити конкурентоспроможну продукцію, перевагу підприємства щодо інших підприємств даної галузі в країні й за її межами»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22320" marR="22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880">
                <a:tc>
                  <a:txBody>
                    <a:bodyPr lIns="22320" rIns="22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Швейцарська організація «ma</a:t>
                      </a:r>
                      <a:r>
                        <a:rPr b="0" lang="en-US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nagement forum</a:t>
                      </a:r>
                      <a:r>
                        <a:rPr b="0" lang="uk-UA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»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22320" marR="22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2320" rIns="22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Конкурентоспроможність підприємства – реальна й потенційна можливість проектувати, робити, збувати при існуючих умовах товари, які за ціновими й неціновими характеристиками в комплексі є привабливішими, чим товари їхніх конкурентів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22320" marR="22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880">
                <a:tc>
                  <a:txBody>
                    <a:bodyPr lIns="22320" rIns="22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В. Коршунов 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22320" marR="22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2320" rIns="22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Конкурентоспроможність визначається як «реальна й потенційна можливість підприємств в існуючих для них умовах проектувати, виготовляти й збувати товари, які за ціновими і неціновими характеристиками більш привабливі для споживачів, ніж товари їх конкурентів»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22320" marR="22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880">
                <a:tc>
                  <a:txBody>
                    <a:bodyPr lIns="22320" rIns="22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В. Єрмолов 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22320" marR="22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2320" rIns="22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Конкурентоспроможність виробника являє собою відносну характеристику, що відображає відмінності процесу розвитку даного виробника від виробника-конкурента як за ступенем задоволення своїми товарами й послугами конкретної суспільної потреби, так і за ефективністю виробничої діяльності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22320" marR="22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1200">
                <a:tc>
                  <a:txBody>
                    <a:bodyPr lIns="22320" rIns="22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Ю. Іванов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22320" marR="22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2320" rIns="22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Конкурентоспроможність – це властивість підприємства змінювати траєкторію руху або намічений режим функціонування в процесі адаптації до впливів зовнішнього середовища з метою збереження розвитку вже наявних або створених нових конкурентних переваг. Дана властивість відбиває ступінь реалізації потенційних можливостей підприємства по придбанню й утриманню протягом досить тривалого часу конкурентної переваги, тому характеризує не тільки ефективність, але й динаміку пристосування підприємства до умов, що змінюються, зовнішнього середовища.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22320" marR="22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600">
                <a:tc>
                  <a:txBody>
                    <a:bodyPr lIns="22320" rIns="22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В. Шинкаренко 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22320" marR="22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2320" rIns="22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Під конкурентоспроможністю підприємства варто розуміти динамічну характеристику здатності підприємства адаптуватися до змін зовнішнього середовища й забезпечувати при цьому певний рівень конкурентних переваг.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22320" marR="22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880">
                <a:tc>
                  <a:txBody>
                    <a:bodyPr lIns="22320" rIns="22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А. Воронкова,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Г. Теплінський,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В. Коміссаренко 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22320" marR="22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2320" rIns="22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Конкурентоспроможність підприємства – характеристика, що визначає стійкість підприємства, здатність його зберігати своє положення на ринку або розширювати займаний сектор ринку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22320" marR="22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880">
                <a:tc>
                  <a:txBody>
                    <a:bodyPr lIns="22320" rIns="22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І. Отенко 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22320" marR="22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2320" rIns="22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Конкурентоспроможність підприємства є багатовимірним поняттям, основними напрямками якого виступають здатності адаптуватися на ринку, забезпечувати внутрішню гнучкість структури керування й організації виробничої системи, ефективно використати потенціал підприємства й потенціал ринку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22320" marR="22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880">
                <a:tc>
                  <a:txBody>
                    <a:bodyPr lIns="22320" rIns="22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О. Тищенко 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22320" marR="22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2320" rIns="22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10181c"/>
                          </a:solidFill>
                          <a:latin typeface="Times New Roman"/>
                          <a:ea typeface="Times New Roman"/>
                        </a:rPr>
                        <a:t>Конкурентоспроможність підприємства – це здатність підприємства до спостереження синергійного ефекту від раціонального використання наявних і знову створюваних у процесі реалізації стратегії розвитку конкурентних переваг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22320" marR="22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</dc:creator>
  <dc:description/>
  <dc:language>en-US</dc:language>
  <cp:lastModifiedBy>RePack by Diakov</cp:lastModifiedBy>
  <dcterms:modified xsi:type="dcterms:W3CDTF">2022-01-30T18:51:24Z</dcterms:modified>
  <cp:revision>237</cp:revision>
  <dc:subject/>
  <dc:title>Конкуренцiя є однiєю найбiльш яскравих рис бiзнссу, двигуном  eкономiчного прогресу, механiзмом саморегуляцii' ринкової економiки. Етимологiчно слово «конкурецiя» походить вiд латинського «concurrentia» -  .зiткнення), «змагання». Сьoгoдні немає загальноприинятого визначення   поняття «конкуренція”. В економiчнiй лiтературi, присвяченiй цiй проблемi, присутнi три пiдходи до визначення конкуренції:</dc:title>
</cp:coreProperties>
</file>