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F49-2398-4DCC-824A-D2972295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AFE-E0CC-4203-A575-A6065CA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C54-7B38-404D-A0DD-57FC0764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FDD-5D9C-4820-A6B7-92ECCB48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442F-B5C0-41BF-A614-AF27278C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C5A5-CCAE-435B-943C-DBD7AA43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DD9D-EEB3-4BBD-A8F6-F835485D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886E-9A05-4806-BFF8-845CCBB3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1E16-D8DF-4C77-8724-BEB35FE0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7246-CA1E-4247-8534-AC513A7A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C44E-8FBD-4ECE-B4D9-06466099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8DC-5341-4974-8253-B8535629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64E9-3758-43F8-8781-36AE320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B0E1-6EB5-4542-9B27-9E67234F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0732-A162-422D-B638-F73902FA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5119-D6DD-4AE1-BA67-B9E6D1B1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82C5-C705-4A9C-9A7A-060B90F7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142-774F-40BF-A2E6-17A49D30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96F-3284-4027-B080-F708407D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319-5CAB-4768-940B-1DC2A81F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532-A138-4995-90FD-362916E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992-5F18-446F-9A92-5859AA72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42E-774C-4228-9C85-56A53F41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1E7-3592-4DFB-A5AA-0CBEABC2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D7A8-C353-4F32-931A-E387BD9DB4BB}" type="datetime">
              <a:rPr b="0" lang="ru-RU" sz="14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780F-B330-4AFA-978C-F0355A79F4A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DF73-3A4B-486B-ABD6-DF4247F2F6E2}" type="datetime">
              <a:rPr b="0" lang="ru-RU" sz="1400" spc="-1" strike="noStrike">
                <a:solidFill>
                  <a:srgbClr val="006699"/>
                </a:solidFill>
                <a:latin typeface="Verdana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4833-C1AF-4FA6-9EE3-E505993082C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КУРЕНТОСПРОМОЖНІ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тність конкуренції та її вид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ентоспроможність товару та методи її вимірюванн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оди оцінки конкурентоспроможності підприємств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арактеристика конкурентних переваг і методи її оцін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ентний статус підприємств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цінка конкурентної позиції підприємств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находячись у взаємозв'язку та взаємозалеж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категорії  конкурентоспромож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вару та підприємства відрізняються за свою сутністю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O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ка конкурентоспромож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родукції застосовується до кожного конкретного виду, а конкурентоспроможн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ь 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охоплює всю номенклатуру продукції, що виробляється, її динам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у, структури, а також в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c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ди виробничо-економ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чної д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ь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як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зд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снюються 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ом, включаючи роботи та послуги, валютно-ф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ансов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операції,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вести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ну  д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ьн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ь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2. Визнання конкурентоспроможностi товару та виробника зд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нюється на ринку. У той же час oцiн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 рiвня конкурентоспроможностi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дприємства здiйснюється не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іль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и споживачем, але й ним самим. Саме  п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иємство-виробник вирiшує  питання щодо доцiльностi виробничо­економiчн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ї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ьностi в конкретних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мова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x. При oцiнцi конкурентоспроможностi товару споживача не цiкавить piвe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ь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трат i ефективнiсть виробничо-господа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ської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iяльностi виробник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3. Товар i пiдприємство мають рiзнi часовi перiоди свого життєвого циклу. Якщо предметом дослiдження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оточна oцiнкa конкурентоспроможностi, то фактор часу не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ає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значального значення, але коли процес розглядається в довгостроковому аспектi, то слiд мати на увазi, що житrєвий цикл пiдприємства, як правило, є бiльш тривалим, оскільки за пе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іод його функціонування змінюються від декількох до багатьох поколінь виробів.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Разом iз тим, iнколи життєвий цикл продукц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може  перевищувати 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epio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  ф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нкцiонування  пiдприємства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272E-0395-4060-B6E2-6B5B236CA820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 своєю економ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чною сут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ю  конкурентоспроможність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 становить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широку системну категор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ю, що включає в себе в якост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системи конкурентоспромож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ь товару, яка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розглядається як  передумова та  необxiдна,  але  не  достатня  умова   для забезпечення стiйких конкурентних позицiй пiдприємства 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оспроможнiсть пiдприємства (КСП) залежить від  його внутрiшнього стану, а також зовнiшнього положения пiдприємства. КСП підприємства не є його постiйною характеристикою, вона визначає здатнicть здійснювати успiшну конкурентну боротьбу, протистояти в певний  перiод основним конкурента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3 точки зору впливу зовнiшнього середовища на дану категорiю, конкурентоспроможнiсть пiдприємства розглядається як відноснa категорiя, тобто кожне пiдприємство за одними або iншими характеристиками зicтавляється з конкурентами (причому, як правило, усерединi  однієї галузi) на тому самому 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нку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129C-840B-4A15-9B2E-841EE9DBB9DB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13840" y="42840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 позиції </a:t>
            </a: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истемного пiдходу 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СП пiдприємства варто розглядати як систему, що складається з беззупинно взаємодiючих факторiв, i здатність, що характеризує, реалiзацiю потенцiйних можливостей пiдприємства по придбанню й утриманню протягом досить тривалого перiоду часу конкурентної  переваги. Тому пiд конкурентоспро-можнicтю варто розyмiти не тiльки ефективнicть, але й ступiнь динамiчностi пристосування пiдприємства до умов  зовнішнього  середовища, що змiнюютьс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9DD3-CC7A-4804-A61B-3CDF8F440E3F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няття конкурентоспроможностi пiдприємства можна охарак-теризувати такими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особливостям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конкурентоспроможнiсть не є iманентною якiстю пiдприємства, вона може бути виявлена та оцiнена тiльки в умовах наявностi конкурентів (реальних або потенційних)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поняття конкурентоспроможностi відносне, тобто вона буде  мати рiзний  piвeнь  стосовно  рiзних  конкурентів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визначається конкурентспроможнicть пiдприємства   продуктивнiстю використання  залучених   (використовуваних) реcypci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курентоспроможнicть пiдпримства визначають три групи фактоpiв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макроекономiчному piвні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оспроможнicть території  та крaїни 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галузевому piвнi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конкурентоспроможнiсть  галузi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piвні пiдприємства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фактори, що характеризують його власний потенціал i мicцe на ринку, зокрема  унiкальнicть  продукції  й рівень її  конкурентоспроможностi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A2A4-4CDA-4B5F-A597-433062640471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3880" y="357120"/>
            <a:ext cx="74710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2. Методи оцінки конкурентоспроможності підприємств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480" y="1699920"/>
            <a:ext cx="8643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1. Методи, засновaнi на аналiзi порiвняльних переваг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2. Методи, що 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зуються на тeopiї рiвноваги фiрми i галузi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3. Методи, побудованi на основі тeopiї ефективної  конкуренції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4. Методи, засновaнi на теорії якостi товару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5. Матричнi методи оцiнки конкурентоспроможностi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6. Комплекснi методи (у тому числi iнтегральнi)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7. Метод визначення позицiї  конкуpeнцiї з погляду стратегiчного потенцiалу  пiдприємств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8. Методи, заснованi на порiвняннi з еталоном (модифiкацiя комплексних методів із  застосуванням iнтегральних оцінок)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AB17-04F3-47E0-A070-E3B32AF8B517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85480" y="35712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Метод зіставлення порівняльних переваг.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вичайно оцiнка рiвня КСП пiдприємства проводиться шляхом зіставлення piвнiв одного з вказаних показникiв даного пiдприємства з рівнем аналогiчного показника пiдприємства-конкурента. Бiльш високий рівень цього зіставного показника вважається достатньою умовою для того, щоб оцінити дане пiдприємство  як бiльш  конкурентоспроможне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користання об'ємних показникiв дозволяє зicтавити масштаб діяльності пiдприємств, але конкypeнтнi позицiї  визначаються не стiльки масштабом, скiльки ефективнiстю виробничо-господарськoї дiяльностi i  рівнем конкурентоспроможностi  продукцiї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iльш переважним є використання як критерiю оцiнки  показника  прибутку або рентабельностi. Проте й цi показники не повнicтю  виражають конкypeнтнi позицiї фiрм. Так, наприклад, тимчасове зниження  рентабельностi при одночасному розширеннi ринку збуту i масшта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ів виробництва,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бо при масових iнвестицiях,   пов' язаних з упровадженням нововедень, свiдчить швидше про пiдвищення рiвня конкурентоспроможності  підприємств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тотним недолiком даного методичного пiдходу є також статичнicть одержуваних оцiнок, оскiльки процес розвитку конкурентних переваг не  є предметом 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вчення 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нал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у.  Kp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го, ця методика не дaє можливостi  оцінити ступiнь ефективностi процесу  адаптацiї  пiдприємства до умов  зовнiшнього середовища, що змiнюютьс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FA66-2C4F-4A7A-9D43-C51112BA1941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549360"/>
            <a:ext cx="914400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</a:t>
            </a:r>
            <a:r>
              <a:rPr b="1" i="1" lang="uk-UA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інка рівня конкурентосп</a:t>
            </a:r>
            <a:r>
              <a:rPr b="1" i="1" lang="ru-RU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можностi вuробнuка на базi теорії рівноваги фiрмu i галузi А. Маршалла й теорії вартості чинників виробництва</a:t>
            </a:r>
            <a:r>
              <a:rPr b="0" i="1" lang="ru-RU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iдповiдно до цього пiдходу пiд рівновагою розуміється такий стан, коли у виробника відсутні  стимули i мотиви для  переходу в iнший стан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ритерiєм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КСП в рамках цього методичного пiдxоду слугує наявність у виробника таких чинникiв виробництва, якi можуть бути використанi з кращою, нiж у конкурентів, продуктивнiстю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к 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налiзованi </a:t>
            </a:r>
            <a:r>
              <a:rPr b="0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казники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звичайно використовуються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: відсоткові ставки за кредитами; відносна вартість устаткування, що закуповується; відносні ставки заробiтної· платнi; відносна вартість матерiальних pecypciв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Чим нижче показники відносної вартості чинникiв виробництва у конкретного виробника порiвняно з конкурентами, тим мiцнiше вважаються його конкурентні позицiї i вище piвень конкурентоспроможностi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Загальним недолiком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ього методичного пiдходу  є те, що він вiдображає  бiльшою мiрою умови роботи пiдприємства, що об‘єктивно склалися, i практично не характеризує здатність пiдприємства до адаптації, тобто не враховує вплив чинникiв внутрiшнього середовища. Такий пiдxiд отримав найбiльше розповсюдження для оцiнки конкурентоспроможностi на piвнi галузей у рiзних країнах i використовується з цiєю метою Комітетом  iз   вивчення  економiчного стану та проблем  розвитку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8EFE-670C-4C9E-A35D-43D7429C8288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Методи визначення конку</a:t>
            </a:r>
            <a:r>
              <a:rPr b="1" i="1" lang="ru-RU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нтоспроможностi, побудованi на базi теорii ефективної конкуренції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сновним iнструментом аналiзу конкурентоспроможностi стає зiставлення положення пiдприємств, що входять у галузь, з конкуруючими фiрмами  i з середньо­галузевими показниками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и такому пiдходi предметом аналiзу, як правило, виступають 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ри головнi групи показникiв: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ефективнicть  збутової  дiяльностi  пiдприємства;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ефективнicть   виробничої  дiяльностi;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фiнансова  стiйкicть пiдприємства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ля оцiнки КСП проводиться зicтавлення одиничних i групових показникiв роботи пiдприємств з вiдповiдними показниками конкурентів та середньогалузевими. На основі отриманих таким чином спiввiдношень показникiв робляться певнi висновки про порiвняльну конкурентоспроможність об</a:t>
            </a:r>
            <a:r>
              <a:rPr b="0" lang="en-US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’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ктів дослiдження. У той же час 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ей пiдхiд має  iстотні  недолiки 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-перше,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оказники першої i другої груп достатньо тісно взаємопов'язанi, та їх розмежування носить умовний характер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-друге,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складним є узагальнення результатiв аналiзу навіть по гpупах показникiв, а тим бiльше складно обгрунтувати пiдсумкову інтегральну  оцiнку рiвня конкурентоспроможностi пiдприємства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-трете,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аналiзований методичний пiдхiд не дозволяє оцiнити  динаміку  чинникiв,  що впливають на piвень конкурентоспроможностi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5D22-7679-4FDB-A51C-148AEDC2A22A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</a:t>
            </a:r>
            <a:r>
              <a:rPr b="1" i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інка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конкурентоспроможностi на пiдставi теорії якостi товару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умовлює переважно дослiдження споживчої цiнностi вироблюваної 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одукцiї, причому найважливiшi параметри зicтавляються з аналогічними параметрами продукцiї  виробникiв-конкурентiв.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4200" y="16430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івень конкурентоспроможності (К) продукції оцінюється таким чином</a:t>
            </a:r>
            <a:r>
              <a:rPr b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   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</a:t>
            </a:r>
            <a:r>
              <a:rPr b="0" lang="uk-UA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О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iнтегральний показник оцiнюваної  продукцiї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 iнтегральний  показник  продукцiї-аналог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и цьому, якщо К &gt; 1, то оцiнювана продукцiя перевершує продукцiю конкурента. </a:t>
            </a:r>
            <a:r>
              <a:rPr b="1" i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нтегральний показник,  у свою чергу,  розраховується за формулою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  П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сумарний корисний ефект від використання продукцiї за призначенням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п - cумарні витрати на створення продукцiї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– cумарні  витрати на експлуатацiю продукцiї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U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комплексний показник якостi, що визначає  кориснicть продукцiї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 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∑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а споживання, що складається з продажної 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и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трат споживача при                      експлуата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ї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"/>
              <p:cNvSpPr txBox="1"/>
              <p:nvPr/>
            </p:nvSpPr>
            <p:spPr>
              <a:xfrm>
                <a:off x="3143160" y="1928880"/>
                <a:ext cx="2227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І</m:t>
                            </m:r>
                          </m:e>
                          <m:sub>
                            <m:r>
                              <m:t xml:space="preserve">о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І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981080" y="4143240"/>
                <a:ext cx="2386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Е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З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З</m:t>
                        </m:r>
                      </m:e>
                      <m:sub>
                        <m:r>
                          <m:t xml:space="preserve">Е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6200640" y="4143240"/>
                <a:ext cx="12034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Rectangle 7"/>
          <p:cNvSpPr/>
          <p:nvPr/>
        </p:nvSpPr>
        <p:spPr>
          <a:xfrm>
            <a:off x="4857840" y="435816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10181c"/>
                </a:solidFill>
                <a:latin typeface="Arial"/>
                <a:ea typeface="Times New Roman"/>
              </a:rPr>
              <a:t>аб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1294-0B30-43F4-8C84-ADB6AABF4F96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едол</a:t>
            </a:r>
            <a:r>
              <a:rPr b="1" i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м под</a:t>
            </a:r>
            <a:r>
              <a:rPr b="1" i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ного методу 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 те, що в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 не враховує ефективн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ь виробничо-збутової д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ьност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та ототожнює конкурентоспроможн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ь товару з конкурентоспро-можн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ю п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; 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рім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го,  метод може бути застосовний т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ки для п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-виробник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одного виду продукц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ї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оск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ки в раз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иверсиф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ваного виробництва використання методу неправом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но з методичної точки зору внасл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ок нез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авност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араметр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об'єктів пор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нянн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16F4-8927-4683-80FB-9B9D86ADFECD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1. Конкуренцiя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є однiєю з найбiльш яскравих рис бiзнесу, двигуном 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eкономiчного прогресу, механiзмом саморегуляц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ринкової економiки. Етимологiчно слово «конкурецiя» походить вiд латинського «concurrentia» - 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iткнення, «змагання». Сьoгoдні немає загальноприинятого визначення  </a:t>
            </a:r>
            <a:br>
              <a:rPr sz="2000"/>
            </a:b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няття “конкуренція”. В економiчнiй лiтературi, присвяченiй цiй проблемi, присутнi три пiдходи до визначення конкуренції: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	</a:t>
            </a:r>
            <a:r>
              <a:rPr b="0" i="1" lang="uk-UA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Конку</a:t>
            </a:r>
            <a:r>
              <a:rPr b="0" i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i="1" lang="uk-UA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енція як економ</a:t>
            </a:r>
            <a:r>
              <a:rPr b="0" i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uk-UA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чна категор</a:t>
            </a:r>
            <a:r>
              <a:rPr b="0" i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uk-UA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я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це боротьба м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ж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цями за най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ефектив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умови й результати вкладення ресурсів у процес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робництва й збуту товарів.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цiю можна розглядати на рiзних рiвнях.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iж собою конкурують товари - за покупця, пiдпри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ства - за ч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ку ринку i, вiдповiдно, за сво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рибутки. 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ують мiж собою i галузi - за ринок, держзамовлення, iнвестиц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а також крa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и. Мiж yc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 цими рiвнями 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y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 тісна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нутрiшня i зовнiшня залеж-нiсть. У теор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стратег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ї для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го, щоб визначити економiчний змiст поняття «конкуренцiя», часто видiляють </a:t>
            </a:r>
            <a:r>
              <a:rPr b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три пiдxоди до його </a:t>
            </a:r>
            <a:r>
              <a:rPr b="1" lang="uk-UA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озумiння: </a:t>
            </a:r>
            <a:br>
              <a:rPr sz="2000"/>
            </a:br>
            <a:r>
              <a:rPr b="1" i="1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ведінковий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боротьба за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ідкі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економiчнi блага й, зрозумiло, за грошi споживача, на якi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х можна придбати; 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функцiональнuй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суперництво застарiлого з iнновацiями; </a:t>
            </a:r>
            <a:br>
              <a:rPr sz="2000"/>
            </a:br>
            <a:r>
              <a:rPr b="1" i="1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руктурнuй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аналiз структури ринку для визначення ступеня волi продавця й покупця на ринку й способу виходу  на  нього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D3F-0F57-4AF3-AACB-11C4D7160474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1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</a:t>
            </a:r>
            <a:r>
              <a:rPr b="0" lang="uk-UA" sz="2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а сучасному етап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розвитку п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 особливий 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epec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редставляють </a:t>
            </a:r>
            <a:r>
              <a:rPr b="1" i="1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лексні методи 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інки</a:t>
            </a:r>
            <a:r>
              <a:rPr b="1" i="1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конкурентоспроможності п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пр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</a:t>
            </a:r>
            <a:r>
              <a:rPr b="1" i="1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ємства</a:t>
            </a:r>
            <a:r>
              <a:rPr b="0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снова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на 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e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 розгляду процес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конкуренц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ї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 динам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мплекс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методи оцінки КСП враховують оптимальне поєднання впливу на д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ь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ь п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як чинників внутр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шнього, так 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зов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шнього середовища, а також 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г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унтуються на визначеннях категор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 конкурентоспроможност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вару 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конкурентоспроможност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риємства, 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д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яються три групи характеристик його д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ьност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ля ан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у конкурентоспроможност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конкурентоспроможнiсть товару, ступiнь його вiдповiдностi   конкретнiй потребi i витратам споживача;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ринкова активнiсть, що характеризує поведiнку пiдприємства в  умовах  зовнiшнього середовища, що змiнюється;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власнi можливостi, що показують наявнicть i ефективнicть використання pecypciв пiдприємства (основних фондiв, обiгових  коштiв, трудових pecypciв), а також ступiнь його залежностi 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д зо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нiшнix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жерел фі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ансуван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FA91-399F-43DE-9C85-358F6756C78E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14200" y="114300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    К</a:t>
            </a:r>
            <a:r>
              <a:rPr b="0" lang="ru-RU" sz="20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і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конкурентоспроможнiсть пiдприємств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 = 1, …:, </a:t>
            </a:r>
            <a:r>
              <a:rPr b="0" lang="en-US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пiдприємства, що   аналiзуютьс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ПРi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конкурентоспроможнicть  продукцiї  пiдприємства</a:t>
            </a: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785960" y="428760"/>
                <a:ext cx="4132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і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  <m:r>
                          <m:t xml:space="preserve"> </m:t>
                        </m:r>
                        <m:r>
                          <m:t xml:space="preserve">і</m:t>
                        </m:r>
                      </m:sub>
                    </m:sSub>
                    <m:r>
                      <m:t xml:space="preserve">а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КТ</m:t>
                        </m:r>
                        <m:r>
                          <m:t xml:space="preserve"> </m:t>
                        </m:r>
                        <m:r>
                          <m:t xml:space="preserve">і</m:t>
                        </m:r>
                      </m:sub>
                    </m:sSub>
                    <m:r>
                      <m:t xml:space="preserve">в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МОЖЛ</m:t>
                        </m:r>
                        <m:r>
                          <m:t xml:space="preserve"> </m:t>
                        </m:r>
                        <m:r>
                          <m:t xml:space="preserve">і</m:t>
                        </m:r>
                      </m:sub>
                    </m:sSub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2805120" y="2428920"/>
                <a:ext cx="1838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Прямоугольник 9"/>
          <p:cNvSpPr/>
          <p:nvPr/>
        </p:nvSpPr>
        <p:spPr>
          <a:xfrm>
            <a:off x="142920" y="3357720"/>
            <a:ext cx="864396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 Р акт і - ринкова активнicть пiдприємств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 можл і - власнi можливостi пiдприємств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, </a:t>
            </a:r>
            <a:r>
              <a:rPr b="0" lang="en-US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с - вiдповiдно значущicть показникiв конкурентоспроможностi  продукцiї, ринкової  активностi i власних можливостей пiдприємства при оцiнцi його конкурентоспроможностi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j = 1, ... ,</a:t>
            </a:r>
            <a:r>
              <a:rPr b="0" lang="en-US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характеристики продукцiї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</a:t>
            </a:r>
            <a:r>
              <a:rPr b="0" lang="en-US" sz="20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cyмicнe врахування внутрiшньої і зовнiшньої значущостi характеристики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ij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значення характеристики відносно  до  її кращого значенн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EBD6-A3E6-47F6-9BD7-C13080D4D86D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В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тегральному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і 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оц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ки КСП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 можуть бути також застосовані показник Розенблюта, коеф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є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т Джин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а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н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 </a:t>
            </a:r>
            <a:br>
              <a:rPr sz="1800"/>
            </a:b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нте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гp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льний показник р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ня конкурентоспромож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(К)  включає два елементи: по-перше, критер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, що в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ображає сту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ь задоволення потреб споживача (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Т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); по-др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yг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, критер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 ефектив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робництва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l</a:t>
            </a:r>
            <a:r>
              <a:rPr b="0" lang="uk-UA" sz="20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е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):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13840" y="20714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ерший  спiвмножник  характеризує  відносну конкурентоспроможність товару (по вiдношенню до аналогiчної  продукції  конкурента) i може бути розрахований виходячи з виразу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"/>
              <p:cNvSpPr txBox="1"/>
              <p:nvPr/>
            </p:nvSpPr>
            <p:spPr>
              <a:xfrm>
                <a:off x="3394080" y="1714680"/>
                <a:ext cx="19429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3365640" y="2798640"/>
                <a:ext cx="2209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ФТ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І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Т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ЦС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Прямоугольник 7"/>
          <p:cNvSpPr/>
          <p:nvPr/>
        </p:nvSpPr>
        <p:spPr>
          <a:xfrm>
            <a:off x="285840" y="3571920"/>
            <a:ext cx="8643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Інт - груповий показник нормативних технічних параметрiв конкурентоспроможностi аналiзованого i конкуруючого  товарів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ф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груповий фактичний показник технiчних (тобто, що вiдображають споживацьку цiннicть) параметрiв конкурентоспроможностi аналiзованого i конкуруючого  товарів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ЦС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спiввiдношення групових показникiв цiни споживанн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214200" y="5380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му випадку, коли </a:t>
            </a:r>
            <a:r>
              <a:rPr b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 = 1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piвень конкурентоспроможностi аналiзованого пiдприємства відповідає аналогiчному показнику конкурента.  Якщо </a:t>
            </a:r>
            <a:r>
              <a:rPr b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 &lt; 1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то дослiджуваний виробник менш конкурентоспроможний, a якщо </a:t>
            </a:r>
            <a:r>
              <a:rPr b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 ≥ 1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бiлъш конкурентоспроможний, нiж пiдприємство,  взяте  за базу порiвнянн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Номер слайда 9"/>
          <p:cNvSpPr/>
          <p:nvPr/>
        </p:nvSpPr>
        <p:spPr>
          <a:xfrm>
            <a:off x="7667640" y="6356520"/>
            <a:ext cx="101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2AD4-21B1-4A78-92DB-148DE39D209D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85840" y="356760"/>
            <a:ext cx="85723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 визначення позиції в конкуренції з погляду стратегічного потенціалу підприємства</a:t>
            </a:r>
            <a:r>
              <a:rPr b="0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ає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 мету аналіз внутрішнього середовища підприємства з метою виявлення конкурентних переваг і потенціалу для їх реалізації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етод формал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ованої о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ки елемен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, складових конкурентоспроможного потен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лу промислових 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 є основою для розрахунку інтегрального показника о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ки конкурентоспроможного потен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лу, обчислюваного як добуток відносного показника елемен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потен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лу по гру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-конкурен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агового коеф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нта цих елемен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редня оцiнка елементiв по групi пiдприємств-конкурентiв розраховується як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"/>
              <p:cNvSpPr txBox="1"/>
              <p:nvPr/>
            </p:nvSpPr>
            <p:spPr>
              <a:xfrm>
                <a:off x="3500280" y="2928960"/>
                <a:ext cx="1714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О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0" name="Rectangle 3"/>
          <p:cNvSpPr/>
          <p:nvPr/>
        </p:nvSpPr>
        <p:spPr>
          <a:xfrm>
            <a:off x="214200" y="343008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∑ О- оцiнки елементiв по групi пiдприємств-конкурентiв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кiлькiсть конкурентів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Прямоугольник 6"/>
          <p:cNvSpPr/>
          <p:nvPr/>
        </p:nvSpPr>
        <p:spPr>
          <a:xfrm>
            <a:off x="214200" y="421488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нтегральний показник конкурентоспроможного потенцiалу пiдпpиємства визначається таким чином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3643200" y="4786200"/>
                <a:ext cx="1495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П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І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3429000" y="5357880"/>
                <a:ext cx="2019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в</m:t>
                        </m:r>
                        <m:r>
                          <m:t xml:space="preserve">×</m:t>
                        </m:r>
                        <m:r>
                          <m:t xml:space="preserve">о</m:t>
                        </m:r>
                      </m:num>
                      <m:den>
                        <m:sSub>
                          <m:e>
                            <m:r>
                              <m:t xml:space="preserve">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Rectangle 8"/>
          <p:cNvSpPr/>
          <p:nvPr/>
        </p:nvSpPr>
        <p:spPr>
          <a:xfrm>
            <a:off x="214200" y="5788800"/>
            <a:ext cx="857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Іп - iнтегральний показник за елементом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- ваговий коефiцiєнт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 - оцiнка елемента дослiджуваного пiдприємств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0BCE-4A63-4A05-BBF8-F2BF9455CC46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 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и оц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ки конкурентоспроможності, заснован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врахуванні сукупної  д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ї детермінантів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«нац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ального ромба»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стратег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ного потенціалу п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приємства</a:t>
            </a:r>
            <a:r>
              <a:rPr b="0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0" i="1" lang="uk-UA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акож пор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янн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з еталоном: таксоном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ний аналіз і метод радара.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14200" y="1143000"/>
            <a:ext cx="8715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тенційна можливість підприємства зберігати або збільшувати конкурентоспроможність у перспективі визначається в науці про теорії стратегії підприємств його конкурентним потенціал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курентний потенцiал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значається як передумова збереження та збiльшення конкурентних пе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еваг.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Конкурентний потенцiал пiдприємства визначаєть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я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укупнiстю параметрiв, що характеризують можливicть (потенцiал) i здатність пiдприємства ефективно функцiонувати на ринку в перспективi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тж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,  необxiдною умовою розвитку конкурентних переваг пiдприємства є достатність  його конкурентного потенцiалу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iд 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курентними перевагами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озумiється величина, iнтегральна стосовно до конкурентоспроможностi пiдприємства й конкурентоспроможного потенцiалу,</a:t>
            </a:r>
            <a:r>
              <a:rPr b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що представляється у виглядi адитивноі функцiї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Прямоугольник 3"/>
          <p:cNvSpPr/>
          <p:nvPr/>
        </p:nvSpPr>
        <p:spPr>
          <a:xfrm>
            <a:off x="2183760" y="46483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на перевага =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"/>
              <p:cNvSpPr txBox="1"/>
              <p:nvPr/>
            </p:nvSpPr>
            <p:spPr>
              <a:xfrm>
                <a:off x="4643280" y="4648320"/>
                <a:ext cx="262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КС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КП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6"/>
          <p:cNvSpPr/>
          <p:nvPr/>
        </p:nvSpPr>
        <p:spPr>
          <a:xfrm>
            <a:off x="0" y="521496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 КС - конкурентоспроможнicть пiдприємства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П - конкурентоспроможний потенцiал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r>
              <a:rPr b="0" lang="el-GR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α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</a:t>
            </a:r>
            <a:r>
              <a:rPr b="0" lang="el-GR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β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вaгові коефiцiєнти, якi позначають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дносну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значущicть кожного фактора й у cyмi становлять 1,0. Цi коефiцiєнти  вказують на порiвняльну  привабливicть орiєнтирiв для пiдприємств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B4FD-86C3-4BFA-A6CF-B42BDD7F5238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курентні переваги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ворюються унікальними відчутними й невловимими активами, якими володіє підприємство, тими стратегічно важливими для даного бізнесу сферами діяльності, які дозволяють перемагати в конкурентній боротьбі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ні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ереваги дозволяють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у мати рентабельність вище середньої для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 даної галуз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або даного ринкового сегмента (що забезпечується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високою ефектив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ю використання ресурс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)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завойовувати міцні позиції на ринку. Вважається, що переваги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иємства забезпечуються шляхом надання споживачам благ, що мають для них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у ц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ь: за рахунок реал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ц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ї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родукції по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 низьким  ц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 (а може,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навпаки, по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високим - для престижно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родукц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ї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), пропозиції тов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p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високо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кост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або з набором послуг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D911-6DFD-4DD2-A2CE-3AECBA2A844D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CADA-1A0D-46D9-9DB8-A819FDA2FA3A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72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изначення поняття «конкурентна переваг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28760" y="428760"/>
          <a:ext cx="8215200" cy="6203880"/>
        </p:xfrm>
        <a:graphic>
          <a:graphicData uri="http://schemas.openxmlformats.org/drawingml/2006/table">
            <a:tbl>
              <a:tblPr/>
              <a:tblGrid>
                <a:gridCol w="2185920"/>
                <a:gridCol w="6029280"/>
              </a:tblGrid>
              <a:tr h="24588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втор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значення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Г. Ассел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еревага, що досягається, коли компанія використовує маркетингову можливість завдяки випуску більш розгалуженої мережі розподілу, кращому сервісу й більше різноманітним асортиментам продукції в порівнянні з конкуруючими компаніям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Немцов,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. Довган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Характеристики, особливості товару або торгівельної марки, які створюють для підприємства певні переваги над конкурентам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Шевченк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і переваги – це ті характеристики товарів, специфічні умови виробництва й продажі, додаткові послуги, які відрізняють діяльність фірми й створюють її переваги над прямими конкурентам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Оберемчук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перевага – це перевага, що забезпечує доходи, які перевищують середньогалузевий рівень і сприяють завоюванню міцних позицій на ринку; основа успішного існування та розвитку фірм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. Порте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никає як результат виявлення й використання унікальних, відмінних від суперників, способів конкуренції, які можуть утримуватися деякий період часу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.Градо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Глобальна мета економічної стратегії фірми галузі національної економік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Е. Голубкі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еревага над конкурентами, отримана шляхом надання споживачам більших благ, або за рахунок пропозиції високоякісних продуктів з набором необхідних послуг, але за виправдано більш високими цінам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еревага над конкурентами, що досягається за рахунок пропозиції споживачам більш високої цінності або за рахунок більш низьких цін, або за рахунок подання більших вигід, що виправдовують більш високі цін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FC3B-52DE-4700-8FD9-9E66FAA51E6B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644280" y="597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довження табл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28760"/>
          <a:ext cx="8643960" cy="6033960"/>
        </p:xfrm>
        <a:graphic>
          <a:graphicData uri="http://schemas.openxmlformats.org/drawingml/2006/table">
            <a:tbl>
              <a:tblPr/>
              <a:tblGrid>
                <a:gridCol w="2071440"/>
                <a:gridCol w="6572520"/>
              </a:tblGrid>
              <a:tr h="28080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Б. Карлоф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Те, на що спрямовано всі стратегії в області бізнесу; конкурентні переваги формуються численними факторами: ефективним виробництвом, володінням патентами, рекламою, грамотним менеджментом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. Куденко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Це той показник, що забезпечує переваги конкурентів на цільовому ринк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Р. Фатхутдінов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перевага організації означає перевагу, високу компетентність фірми в якій-небудь області діяльності або у випуску товару в порівнянні з конкуруючими фірмам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. Кембел,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ж. Стоунхаус,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Б. Хьюстон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мпанія має конкурентні переваги, якщо її прибуток вище, ніж прибуток конкурентів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Маркова,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. Кузнєцов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і переваги – це унікальні відчутні й невловимі  ресурси, якими володіє підприємство, а також стратегічно важливі для даного підприємства сфери бізнесу, які дозволяють перемагати в конкурентній боротьбі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Б. Мільнер,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Ф. Лііс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і переваги – результат низької собівартості продукції, впровадження нововведень, більш високої продуктивності праці, більш високого рівня кваліфікації виробничого, технічного, комерційного персоналу, якості й технічних параметрів вироблених виробів, управлінської майстерності, оптимального сегментування ринку, швидкого реагування на потреби ринк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65F9-377C-4CB4-94F8-D6D838F1D411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Прямоугольник 5"/>
          <p:cNvSpPr/>
          <p:nvPr/>
        </p:nvSpPr>
        <p:spPr>
          <a:xfrm>
            <a:off x="1476360" y="551664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значення конкурентних переваг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1643040" y="1143000"/>
            <a:ext cx="5816520" cy="3848040"/>
            <a:chOff x="1643040" y="1143000"/>
            <a:chExt cx="5816520" cy="3848040"/>
          </a:xfrm>
        </p:grpSpPr>
        <p:sp>
          <p:nvSpPr>
            <p:cNvPr id="316" name="Text Box 6"/>
            <p:cNvSpPr/>
            <p:nvPr/>
          </p:nvSpPr>
          <p:spPr>
            <a:xfrm>
              <a:off x="1643040" y="1143000"/>
              <a:ext cx="18666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Вид конкуренції: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товарна, виробнича та ін.. стратегії (як Ви</a:t>
              </a:r>
              <a:r>
                <a:rPr b="0" lang="ru-RU" sz="1100" spc="-1" strike="noStrike">
                  <a:solidFill>
                    <a:srgbClr val="10181c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конкуруєте?)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7" name="Text Box 7"/>
            <p:cNvSpPr/>
            <p:nvPr/>
          </p:nvSpPr>
          <p:spPr>
            <a:xfrm>
              <a:off x="5630760" y="1143000"/>
              <a:ext cx="18288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Цільовий ринок: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(де Ви конкуруєте?)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8" name="Text Box 8"/>
            <p:cNvSpPr/>
            <p:nvPr/>
          </p:nvSpPr>
          <p:spPr>
            <a:xfrm>
              <a:off x="1782720" y="3657600"/>
              <a:ext cx="190476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Основа конкуренції: ресурси та сфера діяльності (хто Ви і який продукт виробляєте?)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9" name="Text Box 9"/>
            <p:cNvSpPr/>
            <p:nvPr/>
          </p:nvSpPr>
          <p:spPr>
            <a:xfrm>
              <a:off x="5630760" y="3657600"/>
              <a:ext cx="182880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Хто Ваші конкуренти?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0" name="Text Box 10"/>
            <p:cNvSpPr/>
            <p:nvPr/>
          </p:nvSpPr>
          <p:spPr>
            <a:xfrm>
              <a:off x="3852720" y="2476440"/>
              <a:ext cx="16509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0181c"/>
                  </a:solidFill>
                  <a:latin typeface="Times New Roman"/>
                </a:rPr>
                <a:t>КОНКУРЕНТНІ ПЕРЕВАГИ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321" name="AutoShape 11"/>
            <p:cNvCxnSpPr/>
            <p:nvPr/>
          </p:nvCxnSpPr>
          <p:spPr>
            <a:xfrm>
              <a:off x="3509640" y="1434960"/>
              <a:ext cx="635760" cy="104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AutoShape 12"/>
            <p:cNvCxnSpPr/>
            <p:nvPr/>
          </p:nvCxnSpPr>
          <p:spPr>
            <a:xfrm flipH="1">
              <a:off x="4995360" y="1434960"/>
              <a:ext cx="635760" cy="104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" name="AutoShape 13"/>
            <p:cNvCxnSpPr/>
            <p:nvPr/>
          </p:nvCxnSpPr>
          <p:spPr>
            <a:xfrm flipV="1">
              <a:off x="3687480" y="3238560"/>
              <a:ext cx="597600" cy="114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4" name="AutoShape 14"/>
            <p:cNvCxnSpPr/>
            <p:nvPr/>
          </p:nvCxnSpPr>
          <p:spPr>
            <a:xfrm flipH="1" flipV="1">
              <a:off x="5072040" y="3238560"/>
              <a:ext cx="559080" cy="114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550C-2ADC-4616-9A31-C7BED9FCE9C2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26" name="Содержимое 4"/>
          <p:cNvGraphicFramePr/>
          <p:nvPr/>
        </p:nvGraphicFramePr>
        <p:xfrm>
          <a:off x="250920" y="544680"/>
          <a:ext cx="8642160" cy="61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4680"/>
                    <a:ext cx="8642160" cy="61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2"/>
          <p:cNvSpPr/>
          <p:nvPr/>
        </p:nvSpPr>
        <p:spPr>
          <a:xfrm>
            <a:off x="2087640" y="72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4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ласифікація конкурентних переваг підприємств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174400" y="60120"/>
            <a:ext cx="47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ласифікація  конкуренції  за основами ознакам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C775-2F30-4300-8D29-BF045E8FFC69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5840" y="571680"/>
          <a:ext cx="8429400" cy="6153120"/>
        </p:xfrm>
        <a:graphic>
          <a:graphicData uri="http://schemas.openxmlformats.org/drawingml/2006/table">
            <a:tbl>
              <a:tblPr/>
              <a:tblGrid>
                <a:gridCol w="857160"/>
                <a:gridCol w="1071720"/>
                <a:gridCol w="6500520"/>
              </a:tblGrid>
              <a:tr h="365040"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сновні озна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сновні рис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rowSpan="6"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 масштабом розвит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Індивідуаль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Учасник ринкових відносин прагне вибрати найкращі умови купівлі-продажу товарів і послуг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ісцев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боротьба між учасниками ринкових відносин на обмеженій території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Галузев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боротьба в одній з галузей рин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іжгалузев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уперництво представників різних галузей ринку за залучення на свою сторону покупці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аціональ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уперництво вітчизняних продавців і покупців усередині певної країн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іжнарод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Боротьба  підприємств, господарських об’єднань і держав різних країн на світовому рин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rowSpan="2"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 формою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рям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боротьба йде усередині категорії одного продукту або торговельної мар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епрям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боротьба розвертається між продуктами різних категорій, але діючих як альтернативні при купівельному вибор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 rowSpan="3"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 способом й характером задово-лення споживчого попит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Функціональн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ція між різними товарами (виробниками), що задовольняють одну певну людську потребу, тобто виконують одну загальну функцію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дов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ція розгортається між товарами (виробниками) одного виду, призначеними для задоволення однієї й тієї ж потреби, але відрізняються один від одного за яким-небудь істотним важливим параметром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редмет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ція виникає між ідентичними товарами (виробниками), що відрізняються якістю виготовлення або навіть однаковими по якост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 rowSpan="2"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 характером розвит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іль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аявність на ринку безлічі незалежних товаровласників; необмежений доступ на ринок всіх бажаючих; відсутність контролю за ринковими цінам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Регульова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тручання держави, як гаранта економічних прав і обов’язків, у процеси, що протікають в економіці з метою створення умов для розвитку ринкових суб’єктів і регулювання їх діяльност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D480-D1B5-43B3-ADA6-6350F014C589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30" name="Содержимое 4"/>
          <p:cNvGraphicFramePr/>
          <p:nvPr/>
        </p:nvGraphicFramePr>
        <p:xfrm>
          <a:off x="355680" y="673200"/>
          <a:ext cx="8597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673200"/>
                    <a:ext cx="8597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Прямоугольник 5"/>
          <p:cNvSpPr/>
          <p:nvPr/>
        </p:nvSpPr>
        <p:spPr>
          <a:xfrm>
            <a:off x="6500880" y="2142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Calibri"/>
              </a:rPr>
              <a:t>Продовження таб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298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нутрішня </a:t>
            </a:r>
            <a:r>
              <a:rPr b="1" i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конкурентна перевага</a:t>
            </a:r>
            <a:r>
              <a:rPr b="0" i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азується на перевазi пiдпри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м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а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дносно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трат, що дозволяє домoгтися собiвартостi меншої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іж конкуренті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.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рто враховувати, що бiльш низька собiвартicть дає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ідприємству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еревагу, якщо продукцiя вiдповiдає середн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ь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галузевому с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андар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у якостi. У протилежному випадку товар гiршої якостi може ре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лізува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ися тiльки через зниження цiни на нього, що зменшує частку пр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бутку.</a:t>
            </a:r>
            <a:br>
              <a:rPr sz="1800"/>
            </a:b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дповiдно,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аному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аріанті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еревага в собiвартостi не дa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го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и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3071520"/>
            <a:ext cx="8929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нутр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шн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 конкурентні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ереваги створюються у внутр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шньому середовищі п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(технолог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, орган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ц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 виробництва, лог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ика, управління персоналом, як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ъ продукц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 й 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н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), 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о 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a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 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c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можливост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ля активного управл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ня процесами ї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x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створення та розвитку. Внутришня конкурентна перевага є насл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ком високої продуктивност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й ефективного управл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ня витратами. 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икладом внутрiшнiх конкурентних переваг можуть бути прийнятi суспільством цiнностi органiзацiї, модульна автоматизована технологiя,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кваліфі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o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нi  кадри  органiзацiї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D68D-15E7-43CB-943E-EE7F15245272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0" y="28584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ов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iшня конку</a:t>
            </a: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нтна пе</a:t>
            </a: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вага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нована на вiдмiнних властивостях послуги, якi утворять бiльшу «споживчу цiннicть» для покупця,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іж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а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огiчна продукцiя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ів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Це дозволяє встановлювати  бiльш 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сокі  ц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и продаж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, н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ж у конкурентів, як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не забезпечують в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ов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ної якості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овн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шн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и також сл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 вважати так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ні переваги, як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никли в результаті впливу фактор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навколишнього середовища: галузевих, макроеконом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чних, фактор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c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тової економ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и, зм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и позиц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 конкурентів, дій уряду й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н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ак, змiна полiтики в таких областях, як стандарти, охорона  навколишнього середовища, вимоги до нових галузей i торговельнi обмеження, - розповсюдженi фактори, що тягнуть за собою появу або змiну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нтно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ереваги. Icнуючi лiдери ринку пристосувалися до певни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х «прав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л г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»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боку уряду, i, коли правила цi раптом  змiнюються,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они можуть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явитися не в змозi вiдповicти на цi змiни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826-EEA4-4A0B-AB9B-80BAC1AA0782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0040" y="54291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зиціонування конкурентної переваг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3A1C-E678-4312-A45A-6C5DCFDE739D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6000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дiляються шicть зон, кожна з яких вiдповiдає визначенню особливої конкурентної позиції. </a:t>
            </a:r>
            <a:r>
              <a:rPr b="1" i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iагональ «конкурентної рiвноваги» розділяє  сприятливi зони – 2, 3 i 4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де продукцiя пiдприємства має певну перевагу  над аналогiчним товаром прямого конкурента й основною прiоритетною метою є збереження й по можливостi посилення icнуючого положення i </a:t>
            </a:r>
            <a:r>
              <a:rPr b="1" i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есприятливi, зони - 1, 5 i 6,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пiдприємство не має відносну конкурентну перевагу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они 1, 5 - прiоритетнi цiлi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придiлити бiльше уваги проблемам якостi продукцiї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она 6 - прiоритетнi цiлi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покинути ринок,  якщо немає перспектив для полiпшення конкурентної позиції за даною продукцiєю.  Завданням такого анaлiзу є позицiонування пiдприємством своєї продукції з метою визначення iз цього стратегiчних  наслiдків  й  сформування  прiоритетних цiле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252A-8D52-4C10-8FEC-4F45CF00797D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жливостi збереженн</a:t>
            </a: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конкурентних переваг залежать </a:t>
            </a: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д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ряду факторiв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1. Характер досягнення конкурентної переваги. 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2. Очевиднicть джерел конкурентних переваг.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и наявностi яв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их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жерел переваг (дешева сировина, певна технологiя, залежнicть від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етного постачальника) зростає ймовiрнicть того, що конкуренти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ста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ються позбавити пiдприємства цих переваг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3. Iнновацiї.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ля втримання лiдируючого положения строки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провад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ження iнновацiй повиннi, принаймнi, рiвнятися строкам їxньoгo мо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жливо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го повторения конкурентами або перевершувати їx. Iнновацiйний про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ес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озволяє пiдприємствам переходити до реалiзації конкурентних пер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ваг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бiльш високого рангу й збiльшувати кiлькiсть  їxнix джерел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4. Biдмoвa вiд наявної конкурентної переваги для придбання но</a:t>
            </a:r>
            <a:r>
              <a:rPr b="0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ої.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дмова від конкурентної переваги  важлива для реал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ції стратегії, тому  що створює  бар‘єри для імітаторів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16A7-2530-45B5-84BC-9F2D8BB9E7E2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икладами конкурентних переваг всесвітньо  вiдомих  пiдприємств -  лiдерiв  слугують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виняткова iнженерна майстернicть i переконанicть споживачів  щодо  якості  товарів  фірми  «Mercedes Benz»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впiзнаваємicть торговельної марки й перевага товару Соса­</a:t>
            </a:r>
            <a:r>
              <a:rPr b="0" lang="en-US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Cola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еревага  низької  вартості, досягнута British Telecom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чудове знання бiзнесу  швидкого харчування в McDonald's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переваги  масштабностi  отриманi фірмою «</a:t>
            </a:r>
            <a:r>
              <a:rPr b="0" lang="en-US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Nestle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» на 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вро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ейському ринку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B04E-1702-4DD3-A428-275CC9BDA654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4"/>
          <p:cNvSpPr/>
          <p:nvPr/>
        </p:nvSpPr>
        <p:spPr>
          <a:xfrm>
            <a:off x="6786720" y="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6699"/>
                </a:solidFill>
                <a:latin typeface="Calibri"/>
              </a:rPr>
              <a:t>Продовження табл</a:t>
            </a:r>
            <a:r>
              <a:rPr b="0" lang="uk-UA" sz="1800" spc="-1" strike="noStrike">
                <a:solidFill>
                  <a:srgbClr val="0066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5975-C141-4608-B2DC-894BE34AD922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8760" y="500040"/>
          <a:ext cx="8286480" cy="5927760"/>
        </p:xfrm>
        <a:graphic>
          <a:graphicData uri="http://schemas.openxmlformats.org/drawingml/2006/table">
            <a:tbl>
              <a:tblPr/>
              <a:tblGrid>
                <a:gridCol w="1360440"/>
                <a:gridCol w="1211040"/>
                <a:gridCol w="5715000"/>
              </a:tblGrid>
              <a:tr h="684360">
                <a:tc rowSpan="2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  методами введення конкуренції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Цінова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д конкурентної боротьби за допомогою штучної зміни цін на товари з метою витиснення й знищення конкурента й завоювання монопольного положення на ринку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ецінова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ція, що заснована на продажі товарів високої якості й надійності, яка досягається за допомогою технічної  переваги, використанні будь-яких законних засобів, крім зниження цін, з метою одержання нових споживачів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 rowSpan="4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лежно від моделі ринку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осконала 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елика кількість компаній, що реалізують стандартну продукцію; контроль над ціною відсутній; абсолютно еластичний попит; нецінові методи конкуренції не практикуються; відсутні перешкоди для організації бізнесу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онополіс-тична 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елика кількість компаній, що реалізують диференційовану продукцію; вузький діапазон контролю цін; еластичний попит; використовуються нецінові методи конкуренції; вхідний бар’єр у галузь незначний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лігополіс-тична 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евелика кількість компаній; діапазон контролю цін залежить від рівня погодженості їх дій; переважно нецінова конкуренція; наявність істотних перешкод для організації бізнесу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Чиста монополія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дна компанія,  яка випускає унікальну продукцію, що не має ефективних замінників; контроль над цінами значний; попит нееластичний; вхід у галузь для інших компаній заблокований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 rowSpan="2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 урахуванням дотримання норм законодавства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умлінна 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сновними методами є підвищення якості продукції, зниження цін. Однією з форм сумлінної конкуренції є цінова конкуренція, що використовується для видалення з ринку більш слабких суперників або проникнення на новий ринок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есумлінна 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ії суб’єктів, які господарюють, по дискредитації конкурентів. Основні методи: економічне й промислове шпигунство, незаконне використання товарного знаку конкурентів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628668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ласифікація поняття конкурентоспроможності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0" name="Содержимое 3"/>
          <p:cNvGraphicFramePr/>
          <p:nvPr/>
        </p:nvGraphicFramePr>
        <p:xfrm>
          <a:off x="285840" y="214200"/>
          <a:ext cx="8643960" cy="58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14200"/>
                    <a:ext cx="86439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63B4-3540-4B4A-BF2B-905BD1E47028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5"/>
          <p:cNvSpPr/>
          <p:nvPr/>
        </p:nvSpPr>
        <p:spPr>
          <a:xfrm flipV="1">
            <a:off x="250920" y="1413000"/>
            <a:ext cx="0" cy="1224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250920" y="1413000"/>
            <a:ext cx="288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8820000" y="1341360"/>
            <a:ext cx="730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8893080" y="1341360"/>
            <a:ext cx="0" cy="1150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8604360" y="2492280"/>
            <a:ext cx="288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лежно від об'єкта застосування цього терміна варто розрізняти </a:t>
            </a:r>
            <a:r>
              <a:rPr b="1" lang="uk-UA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“конкурентоспроможність національної економіки”, “конкурентоспроможність продукції”, “конкурентоспроможність підприємства”, “конкурентонтоспроможність галузі”. </a:t>
            </a:r>
            <a:r>
              <a:rPr b="0" lang="uk-UA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жна з цих категорій має істотні відмінності й характерні риси, які підтверджують правомірність і доцільність їх диференціації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121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загальнюючим для всіх розглянутих категорій є те, що вони відображають здатність досліджуваного об'єкта ефективно виконувати свої функції в умовах формування конкурентного середовища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0086-C132-471D-9B81-27A6D6198A83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оспроможність</a:t>
            </a:r>
            <a:r>
              <a:rPr b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вару - це властивiсть продукту, що характеризується ступенем задоволення їм конкретної потреби в порiвнянні з аналогiчними продуктами, представленими на ринку.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обто це можливicть задоволення сукупних вимог ринку до продукту, що забезпечу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iдпpиємцевi одержання певноi норми прибутку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14200" y="2214720"/>
            <a:ext cx="8715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оспроможність продукції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значається її технічними, якісними, ергономічними й іншими характеристиками, які мають відповідати, як мінімум, рівню аналогічних характеристик конкурентів або мати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iльш низьку цiнy при гiрших  характеристиках, а як максимум - перевершувати характеристики продукцiї, що випускається конкурентами, i  мати  економiчну  привабливicть для покyпц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сновні фактори, що впливають на конкурентоспроможнicть товару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1) якiсть товару - технiчний рiвень товару; тexнiчний  рівень виробництва; piвeнь оргaнiзації  й управлiння; корисний ефект; iнновацiйнicть; вiдповiднiсть стандартам якостi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2) цiна продукцiї - витрати виробництва; витрати маркетингу й реклами; витрати управлiння; прибуток; витрати на НДР i вiдновлення; умови ринку; продажна цiнa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3) витрати в процесi споживання - експлуатацiйнi витрати; економiчність  споживання; багатофункцiональнiсть призначення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4) якість cepвicy обслуговування - система техничного обслуговування; строк експлуатaцiї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E8B3-82EC-4878-812A-A838D4352EBF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-360" y="549360"/>
            <a:ext cx="89298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ід конкурентоспроможністю товару 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озуміється все те, що забезпечує йому переваги на ринку, сприяє успішному збуту товару в умовах конкуренції. Конкурентоспроможність товару проявляється тільки на ринку в момент обміну і визначається покупцем, який купує  продукцію, визначаючи її відповідність своїм потреба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атегорія  конкурентоспроможність продукції є складовою такого багатогранного поняття як конкурентоспроможність підприємства .  Конкурентоспроможний товар, що задовольняє потреби споживачів найбільшою мірою, створює передумови для конкурентоспрожності виробни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E250-E9F0-4582-9516-B50B89B16D84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487160" y="45360"/>
            <a:ext cx="618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Визначення конкурентоспроможності  підприємств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8D2E-3106-4F04-A5D1-AD8AF469BD73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357120"/>
          <a:ext cx="9144000" cy="6502320"/>
        </p:xfrm>
        <a:graphic>
          <a:graphicData uri="http://schemas.openxmlformats.org/drawingml/2006/table">
            <a:tbl>
              <a:tblPr/>
              <a:tblGrid>
                <a:gridCol w="1643040"/>
                <a:gridCol w="7500960"/>
              </a:tblGrid>
              <a:tr h="19044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втор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значення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. Портер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– порівняльна перевага стосовно інших фірм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. Градов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– порівняльна перевага підприємства стосовно інших підприємств даної галузі усередині країни й за її межам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Стівенсон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характеризує те, «наскільки ефективно компанія задовольняє потреби клієнта в порівнянні з іншими компаніями, які пропонують схожу продукцію або послуг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Фатхудінов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– «це можливість підприємства робити конкурентоспроможну продукцію, перевагу підприємства щодо інших підприємств даної галузі в країні й за її межам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Швейцарська організація «ma</a:t>
                      </a:r>
                      <a:r>
                        <a:rPr b="0" lang="en-US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nagement forum</a:t>
                      </a: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– реальна й потенційна можливість проектувати, робити, збувати при існуючих умовах товари, які за ціновими й неціновими характеристиками в комплексі є привабливішими, чим товари їхніх конкуренті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Коршунов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визначається як «реальна й потенційна можливість підприємств в існуючих для них умовах проектувати, виготовляти й збувати товари, які за ціновими і неціновими характеристиками більш привабливі для споживачів, ніж товари їх конкурентів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Єрмолов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виробника являє собою відносну характеристику, що відображає відмінності процесу розвитку даного виробника від виробника-конкурента як за ступенем задоволення своїми товарами й послугами конкретної суспільної потреби, так і за ефективністю виробничої діяльност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Ю. Івано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– це властивість підприємства змінювати траєкторію руху або намічений режим функціонування в процесі адаптації до впливів зовнішнього середовища з метою збереження розвитку вже наявних або створених нових конкурентних переваг. Дана властивість відбиває ступінь реалізації потенційних можливостей підприємства по придбанню й утриманню протягом досить тривалого часу конкурентної переваги, тому характеризує не тільки ефективність, але й динаміку пристосування підприємства до умов, що змінюються, зовнішнього середовищ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Шинкаренко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ід конкурентоспроможністю підприємства варто розуміти динамічну характеристику здатності підприємства адаптуватися до змін зовнішнього середовища й забезпечувати при цьому певний рівень конкурентних перева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. Воронкова,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Г. Теплінський,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Коміссаренко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– характеристика, що визначає стійкість підприємства, здатність його зберігати своє положення на ринку або розширювати займаний сектор рин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І. Отенко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є багатовимірним поняттям, основними напрямками якого виступають здатності адаптуватися на ринку, забезпечувати внутрішню гнучкість структури керування й організації виробничої системи, ефективно використати потенціал підприємства й потенціал рин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. Тищенко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– це здатність підприємства до спостереження синергійного ефекту від раціонального використання наявних і знову створюваних у процесі реалізації стратегії розвитку конкурентних переваг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RePack by Diakov</cp:lastModifiedBy>
  <dcterms:modified xsi:type="dcterms:W3CDTF">2022-01-30T18:51:24Z</dcterms:modified>
  <cp:revision>237</cp:revision>
  <dc:subject/>
  <dc:title>Конкуренцiя є однiєю найбiльш яскравих рис бiзнссу, двигуном  eкономiчного прогресу, механiзмом саморегуляцii' ринкової економiки. Етимологiчно слово «конкурецiя» походить вiд латинського «concurrentia» -  .зiткнення), «змагання». Сьoгoдні немає загальноприинятого визначення   поняття «конкуренція”. В економiчнiй лiтературi, присвяченiй цiй проблемi, присутнi три пiдходи до визначення конкуренції:</dc:title>
</cp:coreProperties>
</file>