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257.wmf" ContentType="image/x-wmf"/>
  <Override PartName="/ppt/media/image394.wmf" ContentType="image/x-wmf"/>
  <Override PartName="/ppt/media/image256.wmf" ContentType="image/x-wmf"/>
  <Override PartName="/ppt/media/image393.wmf" ContentType="image/x-wmf"/>
  <Override PartName="/ppt/media/image255.wmf" ContentType="image/x-wmf"/>
  <Override PartName="/ppt/media/image392.wmf" ContentType="image/x-wmf"/>
  <Override PartName="/ppt/media/image253.wmf" ContentType="image/x-wmf"/>
  <Override PartName="/ppt/media/image390.wmf" ContentType="image/x-wmf"/>
  <Override PartName="/ppt/media/image252.wmf" ContentType="image/x-wmf"/>
  <Override PartName="/ppt/media/image418.wmf" ContentType="image/x-wmf"/>
  <Override PartName="/ppt/media/image251.wmf" ContentType="image/x-wmf"/>
  <Override PartName="/ppt/media/image417.wmf" ContentType="image/x-wmf"/>
  <Override PartName="/ppt/media/image250.wmf" ContentType="image/x-wmf"/>
  <Override PartName="/ppt/media/image416.wmf" ContentType="image/x-wmf"/>
  <Override PartName="/ppt/media/image249.wmf" ContentType="image/x-wmf"/>
  <Override PartName="/ppt/media/image121.wmf" ContentType="image/x-wmf"/>
  <Override PartName="/ppt/media/image386.wmf" ContentType="image/x-wmf"/>
  <Override PartName="/ppt/media/image248.wmf" ContentType="image/x-wmf"/>
  <Override PartName="/ppt/media/image114.png" ContentType="image/png"/>
  <Override PartName="/ppt/media/image120.wmf" ContentType="image/x-wmf"/>
  <Override PartName="/ppt/media/image385.wmf" ContentType="image/x-wmf"/>
  <Override PartName="/ppt/media/image247.wmf" ContentType="image/x-wmf"/>
  <Override PartName="/ppt/media/image384.wmf" ContentType="image/x-wmf"/>
  <Override PartName="/ppt/media/image246.wmf" ContentType="image/x-wmf"/>
  <Override PartName="/ppt/media/image383.wmf" ContentType="image/x-wmf"/>
  <Override PartName="/ppt/media/image245.wmf" ContentType="image/x-wmf"/>
  <Override PartName="/ppt/media/image382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409.wmf" ContentType="image/x-wmf"/>
  <Override PartName="/ppt/media/image241.wmf" ContentType="image/x-wmf"/>
  <Override PartName="/ppt/media/image407.wmf" ContentType="image/x-wmf"/>
  <Override PartName="/ppt/media/image240.wmf" ContentType="image/x-wmf"/>
  <Override PartName="/ppt/media/image406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254.wmf" ContentType="image/x-wmf"/>
  <Override PartName="/ppt/media/image391.wmf" ContentType="image/x-wmf"/>
  <Override PartName="/ppt/media/image194.png" ContentType="image/png"/>
  <Override PartName="/ppt/media/image366.wmf" ContentType="image/x-wmf"/>
  <Override PartName="/ppt/media/image189.wmf" ContentType="image/x-wmf"/>
  <Override PartName="/ppt/media/image188.wmf" ContentType="image/x-wmf"/>
  <Override PartName="/ppt/media/image182.wmf" ContentType="image/x-wmf"/>
  <Override PartName="/ppt/media/image34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166.wmf" ContentType="image/x-wmf"/>
  <Override PartName="/ppt/media/image165.wmf" ContentType="image/x-wmf"/>
  <Override PartName="/ppt/media/image164.wmf" ContentType="image/x-wmf"/>
  <Override PartName="/ppt/media/image163.wmf" ContentType="image/x-wmf"/>
  <Override PartName="/ppt/media/image329.wmf" ContentType="image/x-wmf"/>
  <Override PartName="/ppt/media/image161.wmf" ContentType="image/x-wmf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7.wmf" ContentType="image/x-wmf"/>
  <Override PartName="/ppt/media/image156.wmf" ContentType="image/x-wmf"/>
  <Override PartName="/ppt/media/image155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2.wmf" ContentType="image/x-wmf"/>
  <Override PartName="/ppt/media/image308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139.wmf" ContentType="image/x-wmf"/>
  <Override PartName="/ppt/media/image138.wmf" ContentType="image/x-wmf"/>
  <Override PartName="/ppt/media/image136.wmf" ContentType="image/x-wmf"/>
  <Override PartName="/ppt/media/image135.wmf" ContentType="image/x-wmf"/>
  <Override PartName="/ppt/media/image134.wmf" ContentType="image/x-wmf"/>
  <Override PartName="/ppt/media/image399.wmf" ContentType="image/x-wmf"/>
  <Override PartName="/ppt/media/image133.wmf" ContentType="image/x-wmf"/>
  <Override PartName="/ppt/media/image398.wmf" ContentType="image/x-wmf"/>
  <Override PartName="/ppt/media/image132.wmf" ContentType="image/x-wmf"/>
  <Override PartName="/ppt/media/image397.wmf" ContentType="image/x-wmf"/>
  <Override PartName="/ppt/media/image131.wmf" ContentType="image/x-wmf"/>
  <Override PartName="/ppt/media/image259.wmf" ContentType="image/x-wmf"/>
  <Override PartName="/ppt/media/image396.wmf" ContentType="image/x-wmf"/>
  <Override PartName="/ppt/media/image130.wmf" ContentType="image/x-wmf"/>
  <Override PartName="/ppt/media/image258.wmf" ContentType="image/x-wmf"/>
  <Override PartName="/ppt/media/image395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5.jpeg" ContentType="image/jpeg"/>
  <Override PartName="/ppt/media/image128.wmf" ContentType="image/x-wmf"/>
  <Override PartName="/ppt/media/image58.wmf" ContentType="image/x-wmf"/>
  <Override PartName="/ppt/media/image57.wmf" ContentType="image/x-wmf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372.wmf" ContentType="image/x-wmf"/>
  <Override PartName="/ppt/media/image350.wmf" ContentType="image/x-wmf"/>
  <Override PartName="/ppt/media/image24.wmf" ContentType="image/x-wmf"/>
  <Override PartName="/ppt/media/image96.wmf" ContentType="image/x-wmf"/>
  <Override PartName="/ppt/media/image28.wmf" ContentType="image/x-wmf"/>
  <Override PartName="/ppt/media/image354.wmf" ContentType="image/x-wmf"/>
  <Override PartName="/ppt/media/image97.wmf" ContentType="image/x-wmf"/>
  <Override PartName="/ppt/media/image29.wmf" ContentType="image/x-wmf"/>
  <Override PartName="/ppt/media/image355.wmf" ContentType="image/x-wmf"/>
  <Override PartName="/ppt/media/image98.wmf" ContentType="image/x-wmf"/>
  <Override PartName="/ppt/media/image99.wmf" ContentType="image/x-wmf"/>
  <Override PartName="/ppt/media/image173.wmf" ContentType="image/x-wmf"/>
  <Override PartName="/ppt/media/image339.wmf" ContentType="image/x-wmf"/>
  <Override PartName="/ppt/media/image174.wmf" ContentType="image/x-wmf"/>
  <Override PartName="/ppt/media/image367.wmf" ContentType="image/x-wmf"/>
  <Override PartName="/ppt/media/image1.wmf" ContentType="image/x-wmf"/>
  <Override PartName="/ppt/media/image2.wmf" ContentType="image/x-wmf"/>
  <Override PartName="/ppt/media/image154.wmf" ContentType="image/x-wmf"/>
  <Override PartName="/ppt/media/image184.wmf" ContentType="image/x-wmf"/>
  <Override PartName="/ppt/media/image377.wmf" ContentType="image/x-wmf"/>
  <Override PartName="/ppt/media/image92.wmf" ContentType="image/x-wmf"/>
  <Override PartName="/ppt/media/image116.wmf" ContentType="image/x-wmf"/>
  <Override PartName="/ppt/media/image143.wmf" ContentType="image/x-wmf"/>
  <Override PartName="/ppt/media/image309.wmf" ContentType="image/x-wmf"/>
  <Override PartName="/ppt/media/image185.wmf" ContentType="image/x-wmf"/>
  <Override PartName="/ppt/media/image378.wmf" ContentType="image/x-wmf"/>
  <Override PartName="/ppt/media/image186.wmf" ContentType="image/x-wmf"/>
  <Override PartName="/ppt/media/image379.wmf" ContentType="image/x-wmf"/>
  <Override PartName="/ppt/media/image125.wmf" ContentType="image/x-wmf"/>
  <Override PartName="/ppt/media/image193.wmf" ContentType="image/x-wmf"/>
  <Override PartName="/ppt/media/image359.wmf" ContentType="image/x-wmf"/>
  <Override PartName="/ppt/media/image260.wmf" ContentType="image/x-wmf"/>
  <Override PartName="/ppt/media/image261.wmf" ContentType="image/x-wmf"/>
  <Override PartName="/ppt/media/image300.wmf" ContentType="image/x-wmf"/>
  <Override PartName="/ppt/media/image262.wmf" ContentType="image/x-wmf"/>
  <Override PartName="/ppt/media/image301.wmf" ContentType="image/x-wmf"/>
  <Override PartName="/ppt/media/image263.wmf" ContentType="image/x-wmf"/>
  <Override PartName="/ppt/media/image102.wmf" ContentType="image/x-wmf"/>
  <Override PartName="/ppt/media/image336.wmf" ContentType="image/x-wmf"/>
  <Override PartName="/ppt/media/image298.wmf" ContentType="image/x-wmf"/>
  <Override PartName="/ppt/media/image170.wmf" ContentType="image/x-wmf"/>
  <Override PartName="/ppt/media/image353.wmf" ContentType="image/x-wmf"/>
  <Override PartName="/ppt/media/image376.wmf" ContentType="image/x-wmf"/>
  <Override PartName="/ppt/media/image369.wmf" ContentType="image/x-wmf"/>
  <Override PartName="/ppt/media/image176.wmf" ContentType="image/x-wmf"/>
  <Override PartName="/ppt/media/image338.wmf" ContentType="image/x-wmf"/>
  <Override PartName="/ppt/media/image172.wmf" ContentType="image/x-wmf"/>
  <Override PartName="/ppt/media/image358.wmf" ContentType="image/x-wmf"/>
  <Override PartName="/ppt/media/image192.wmf" ContentType="image/x-wmf"/>
  <Override PartName="/ppt/media/image335.wmf" ContentType="image/x-wmf"/>
  <Override PartName="/ppt/media/image297.wmf" ContentType="image/x-wmf"/>
  <Override PartName="/ppt/media/image403.wmf" ContentType="image/x-wmf"/>
  <Override PartName="/ppt/media/image365.wmf" ContentType="image/x-wmf"/>
  <Override PartName="/ppt/media/image39.wmf" ContentType="image/x-wmf"/>
  <Override PartName="/ppt/media/image290.wmf" ContentType="image/x-wmf"/>
  <Override PartName="/ppt/media/image415.wmf" ContentType="image/x-wmf"/>
  <Override PartName="/ppt/media/image368.wmf" ContentType="image/x-wmf"/>
  <Override PartName="/ppt/media/image175.wmf" ContentType="image/x-wmf"/>
  <Override PartName="/ppt/media/image299.wmf" ContentType="image/x-wmf"/>
  <Override PartName="/ppt/media/image337.wmf" ContentType="image/x-wmf"/>
  <Override PartName="/ppt/media/image171.wmf" ContentType="image/x-wmf"/>
  <Override PartName="/ppt/media/image103.wmf" ContentType="image/x-wmf"/>
  <Override PartName="/ppt/media/image364.wmf" ContentType="image/x-wmf"/>
  <Override PartName="/ppt/media/image267.wmf" ContentType="image/x-wmf"/>
  <Override PartName="/ppt/media/image305.wmf" ContentType="image/x-wmf"/>
  <Override PartName="/ppt/media/image346.wmf" ContentType="image/x-wmf"/>
  <Override PartName="/ppt/media/image180.wmf" ContentType="image/x-wmf"/>
  <Override PartName="/ppt/media/image112.wmf" ContentType="image/x-wmf"/>
  <Override PartName="/ppt/media/image402.wmf" ContentType="image/x-wmf"/>
  <Override PartName="/ppt/media/image413.wmf" ContentType="image/x-wmf"/>
  <Override PartName="/ppt/media/image266.wmf" ContentType="image/x-wmf"/>
  <Override PartName="/ppt/media/image304.wmf" ContentType="image/x-wmf"/>
  <Override PartName="/ppt/media/image401.wmf" ContentType="image/x-wmf"/>
  <Override PartName="/ppt/media/image412.wmf" ContentType="image/x-wmf"/>
  <Override PartName="/ppt/media/image265.wmf" ContentType="image/x-wmf"/>
  <Override PartName="/ppt/media/image303.wmf" ContentType="image/x-wmf"/>
  <Override PartName="/ppt/media/image45.wmf" ContentType="image/x-wmf"/>
  <Override PartName="/ppt/media/image371.wmf" ContentType="image/x-wmf"/>
  <Override PartName="/ppt/media/image400.wmf" ContentType="image/x-wmf"/>
  <Override PartName="/ppt/media/image411.wmf" ContentType="image/x-wmf"/>
  <Override PartName="/ppt/media/image264.wmf" ContentType="image/x-wmf"/>
  <Override PartName="/ppt/media/image302.wmf" ContentType="image/x-wmf"/>
  <Override PartName="/ppt/media/image410.wmf" ContentType="image/x-wmf"/>
  <Override PartName="/ppt/media/image59.wmf" ContentType="image/x-wmf"/>
  <Override PartName="/ppt/media/image271.wmf" ContentType="image/x-wmf"/>
  <Override PartName="/ppt/media/image405.wmf" ContentType="image/x-wmf"/>
  <Override PartName="/ppt/media/image280.wmf" ContentType="image/x-wmf"/>
  <Override PartName="/ppt/media/image270.wmf" ContentType="image/x-wmf"/>
  <Override PartName="/ppt/media/image404.wmf" ContentType="image/x-wmf"/>
  <Override PartName="/ppt/media/image357.wmf" ContentType="image/x-wmf"/>
  <Override PartName="/ppt/media/image191.wmf" ContentType="image/x-wmf"/>
  <Override PartName="/ppt/media/image388.wmf" ContentType="image/x-wmf"/>
  <Override PartName="/ppt/media/image123.wmf" ContentType="image/x-wmf"/>
  <Override PartName="/ppt/media/image126.wmf" ContentType="image/x-wmf"/>
  <Override PartName="/ppt/media/image153.wmf" ContentType="image/x-wmf"/>
  <Override PartName="/ppt/media/image319.wmf" ContentType="image/x-wmf"/>
  <Override PartName="/ppt/media/image334.wmf" ContentType="image/x-wmf"/>
  <Override PartName="/ppt/media/image296.wmf" ContentType="image/x-wmf"/>
  <Override PartName="/ppt/media/image325.wmf" ContentType="image/x-wmf"/>
  <Override PartName="/ppt/media/image287.wmf" ContentType="image/x-wmf"/>
  <Override PartName="/ppt/media/image356.wmf" ContentType="image/x-wmf"/>
  <Override PartName="/ppt/media/image190.wmf" ContentType="image/x-wmf"/>
  <Override PartName="/ppt/media/image277.wmf" ContentType="image/x-wmf"/>
  <Override PartName="/ppt/media/image315.wmf" ContentType="image/x-wmf"/>
  <Override PartName="/ppt/media/image387.wmf" ContentType="image/x-wmf"/>
  <Override PartName="/ppt/media/image122.wmf" ContentType="image/x-wmf"/>
  <Override PartName="/ppt/media/image333.wmf" ContentType="image/x-wmf"/>
  <Override PartName="/ppt/media/image295.wmf" ContentType="image/x-wmf"/>
  <Override PartName="/ppt/media/image272.wmf" ContentType="image/x-wmf"/>
  <Override PartName="/ppt/media/image310.wmf" ContentType="image/x-wmf"/>
  <Override PartName="/ppt/media/image281.wmf" ContentType="image/x-wmf"/>
  <Override PartName="/ppt/media/image347.wmf" ContentType="image/x-wmf"/>
  <Override PartName="/ppt/media/image181.wmf" ContentType="image/x-wmf"/>
  <Override PartName="/ppt/media/image113.wmf" ContentType="image/x-wmf"/>
  <Override PartName="/ppt/media/image324.wmf" ContentType="image/x-wmf"/>
  <Override PartName="/ppt/media/image286.wmf" ContentType="image/x-wmf"/>
  <Override PartName="/ppt/media/image332.wmf" ContentType="image/x-wmf"/>
  <Override PartName="/ppt/media/image294.wmf" ContentType="image/x-wmf"/>
  <Override PartName="/ppt/media/image414.wmf" ContentType="image/x-wmf"/>
  <Override PartName="/ppt/media/image331.wmf" ContentType="image/x-wmf"/>
  <Override PartName="/ppt/media/image293.wmf" ContentType="image/x-wmf"/>
  <Override PartName="/ppt/media/image330.wmf" ContentType="image/x-wmf"/>
  <Override PartName="/ppt/media/image292.wmf" ContentType="image/x-wmf"/>
  <Override PartName="/ppt/media/image124.wmf" ContentType="image/x-wmf"/>
  <Override PartName="/ppt/media/image389.wmf" ContentType="image/x-wmf"/>
  <Override PartName="/ppt/media/image291.wmf" ContentType="image/x-wmf"/>
  <Override PartName="/ppt/media/image323.wmf" ContentType="image/x-wmf"/>
  <Override PartName="/ppt/media/image285.wmf" ContentType="image/x-wmf"/>
  <Override PartName="/ppt/media/image276.wmf" ContentType="image/x-wmf"/>
  <Override PartName="/ppt/media/image314.wmf" ContentType="image/x-wmf"/>
  <Override PartName="/ppt/media/image322.wmf" ContentType="image/x-wmf"/>
  <Override PartName="/ppt/media/image284.wmf" ContentType="image/x-wmf"/>
  <Override PartName="/ppt/media/image4.png" ContentType="image/png"/>
  <Override PartName="/ppt/media/image216.wmf" ContentType="image/x-wmf"/>
  <Override PartName="/ppt/media/image275.wmf" ContentType="image/x-wmf"/>
  <Override PartName="/ppt/media/image313.wmf" ContentType="image/x-wmf"/>
  <Override PartName="/ppt/media/image321.wmf" ContentType="image/x-wmf"/>
  <Override PartName="/ppt/media/image283.wmf" ContentType="image/x-wmf"/>
  <Override PartName="/ppt/media/image3.png" ContentType="image/png"/>
  <Override PartName="/ppt/media/image215.wmf" ContentType="image/x-wmf"/>
  <Override PartName="/ppt/media/image274.wmf" ContentType="image/x-wmf"/>
  <Override PartName="/ppt/media/image312.wmf" ContentType="image/x-wmf"/>
  <Override PartName="/ppt/media/image320.wmf" ContentType="image/x-wmf"/>
  <Override PartName="/ppt/media/image282.wmf" ContentType="image/x-wmf"/>
  <Override PartName="/ppt/media/image273.wmf" ContentType="image/x-wmf"/>
  <Override PartName="/ppt/media/image31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351.wmf" ContentType="image/x-wmf"/>
  <Override PartName="/ppt/media/image25.wmf" ContentType="image/x-wmf"/>
  <Override PartName="/ppt/media/image87.png" ContentType="image/png"/>
  <Override PartName="/ppt/media/image117.wmf" ContentType="image/x-wmf"/>
  <Override PartName="/ppt/media/image93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89.wmf" ContentType="image/x-wmf"/>
  <Override PartName="/ppt/media/image21.png" ContentType="image/png"/>
  <Override PartName="/ppt/media/image88.wmf" ContentType="image/x-wmf"/>
  <Override PartName="/ppt/media/image20.png" ContentType="image/png"/>
  <Override PartName="/ppt/media/image340.wmf" ContentType="image/x-wmf"/>
  <Override PartName="/ppt/media/image14.wmf" ContentType="image/x-wmf"/>
  <Override PartName="/ppt/media/image76.png" ContentType="image/png"/>
  <Override PartName="/ppt/media/image106.wmf" ContentType="image/x-wmf"/>
  <Override PartName="/ppt/media/image82.wmf" ContentType="image/x-wmf"/>
  <Override PartName="/ppt/media/image343.wmf" ContentType="image/x-wmf"/>
  <Override PartName="/ppt/media/image17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342.wmf" ContentType="image/x-wmf"/>
  <Override PartName="/ppt/media/image16.wmf" ContentType="image/x-wmf"/>
  <Override PartName="/ppt/media/image108.wmf" ContentType="image/x-wmf"/>
  <Override PartName="/ppt/media/image8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1.wmf" ContentType="image/x-wmf"/>
  <Override PartName="/ppt/media/image9.wmf" ContentType="image/x-wmf"/>
  <Override PartName="/ppt/media/image32.wmf" ContentType="image/x-wmf"/>
  <Override PartName="/ppt/media/image183.wmf" ContentType="image/x-wmf"/>
  <Override PartName="/ppt/media/image349.wmf" ContentType="image/x-wmf"/>
  <Override PartName="/ppt/media/image137.wmf" ContentType="image/x-wmf"/>
  <Override PartName="/ppt/media/image11.wmf" ContentType="image/x-wmf"/>
  <Override PartName="/ppt/media/image374.wmf" ContentType="image/x-wmf"/>
  <Override PartName="/ppt/media/image48.wmf" ContentType="image/x-wmf"/>
  <Override PartName="/ppt/media/image86.wmf" ContentType="image/x-wmf"/>
  <Override PartName="/ppt/media/image18.wmf" ContentType="image/x-wmf"/>
  <Override PartName="/ppt/media/image344.wmf" ContentType="image/x-wmf"/>
  <Override PartName="/ppt/media/image6.wmf" ContentType="image/x-wmf"/>
  <Override PartName="/ppt/media/image158.wmf" ContentType="image/x-wmf"/>
  <Override PartName="/ppt/media/image362.wmf" ContentType="image/x-wmf"/>
  <Override PartName="/ppt/media/image36.wmf" ContentType="image/x-wmf"/>
  <Override PartName="/ppt/media/image345.wmf" ContentType="image/x-wmf"/>
  <Override PartName="/ppt/media/image19.wmf" ContentType="image/x-wmf"/>
  <Override PartName="/ppt/media/image7.wmf" ContentType="image/x-wmf"/>
  <Override PartName="/ppt/media/image159.wmf" ContentType="image/x-wmf"/>
  <Override PartName="/ppt/media/image363.wmf" ContentType="image/x-wmf"/>
  <Override PartName="/ppt/media/image37.wmf" ContentType="image/x-wmf"/>
  <Override PartName="/ppt/media/image162.wmf" ContentType="image/x-wmf"/>
  <Override PartName="/ppt/media/image328.wmf" ContentType="image/x-wmf"/>
  <Override PartName="/ppt/media/image127.wmf" ContentType="image/x-wmf"/>
  <Override PartName="/ppt/media/image195.wmf" ContentType="image/x-wmf"/>
  <Override PartName="/ppt/media/image30.wmf" ContentType="image/x-wmf"/>
  <Override PartName="/ppt/media/image8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375.wmf" ContentType="image/x-wmf"/>
  <Override PartName="/ppt/media/image408.wmf" ContentType="image/x-wmf"/>
  <Override PartName="/ppt/media/image242.wmf" ContentType="image/x-wmf"/>
  <Override PartName="/ppt/media/image10.wmf" ContentType="image/x-wmf"/>
  <Override PartName="/ppt/media/image373.wmf" ContentType="image/x-wmf"/>
  <Override PartName="/ppt/media/image47.wmf" ContentType="image/x-wmf"/>
  <Override PartName="/ppt/media/image27.png" ContentType="image/png"/>
  <Override PartName="/ppt/media/image33.wmf" ContentType="image/x-wmf"/>
  <Override PartName="/ppt/media/image360.wmf" ContentType="image/x-wmf"/>
  <Override PartName="/ppt/media/image34.wmf" ContentType="image/x-wmf"/>
  <Override PartName="/ppt/media/image361.wmf" ContentType="image/x-wmf"/>
  <Override PartName="/ppt/media/image35.wmf" ContentType="image/x-wmf"/>
  <Override PartName="/ppt/media/image54.png" ContentType="image/png"/>
  <Override PartName="/ppt/media/image60.wmf" ContentType="image/x-wmf"/>
  <Override PartName="/ppt/media/image41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38.png" ContentType="image/png"/>
  <Override PartName="/ppt/media/image370.wmf" ContentType="image/x-wmf"/>
  <Override PartName="/ppt/media/image4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789738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050-514D-476F-B5CE-8E74EDFD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8E9-5A39-478A-9DFD-9B0A5F27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222-1E6B-4EBF-A41B-063A11AC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1AB-73EE-463F-B41A-9DC6F8D9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942-0712-4134-A3DF-5F1E2678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7D2-0DD3-4B19-92D9-E16CDE2C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187-ECD8-490F-8440-937C02D9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2D35-0FD6-43CE-98F5-0BE49A41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937-188E-4C73-A946-F74AFA07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DC3-0DC1-411B-AE99-1238E8EB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C83-0F9E-406E-A0F2-D24AF96A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628-40C0-49A8-AC2A-FFB6503D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4C39-42E3-4C80-8744-B92346C68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5.xml"/><Relationship Id="rId15" Type="http://schemas.openxmlformats.org/officeDocument/2006/relationships/slide" Target="slide7.xml"/><Relationship Id="rId16" Type="http://schemas.openxmlformats.org/officeDocument/2006/relationships/slide" Target="slide8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slide" Target="slide59.xml"/><Relationship Id="rId12" Type="http://schemas.openxmlformats.org/officeDocument/2006/relationships/slide" Target="slide60.xml"/><Relationship Id="rId13" Type="http://schemas.openxmlformats.org/officeDocument/2006/relationships/slide" Target="slide61.xml"/><Relationship Id="rId14" Type="http://schemas.openxmlformats.org/officeDocument/2006/relationships/slide" Target="slide62.xml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66.wmf"/><Relationship Id="rId17" Type="http://schemas.openxmlformats.org/officeDocument/2006/relationships/slide" Target="slide1.xml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" Target="slide67.xml"/><Relationship Id="rId4" Type="http://schemas.openxmlformats.org/officeDocument/2006/relationships/slide" Target="slide64.xml"/><Relationship Id="rId5" Type="http://schemas.openxmlformats.org/officeDocument/2006/relationships/slide" Target="slide63.xml"/><Relationship Id="rId6" Type="http://schemas.openxmlformats.org/officeDocument/2006/relationships/oleObject" Target="../embeddings/oleObject2.bin"/><Relationship Id="rId7" Type="http://schemas.openxmlformats.org/officeDocument/2006/relationships/image" Target="../media/image6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9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0.wmf"/><Relationship Id="rId12" Type="http://schemas.openxmlformats.org/officeDocument/2006/relationships/slide" Target="slide65.xml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71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72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73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74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75.wmf"/><Relationship Id="rId23" Type="http://schemas.openxmlformats.org/officeDocument/2006/relationships/image" Target="../media/image76.png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77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78.wmf"/><Relationship Id="rId28" Type="http://schemas.openxmlformats.org/officeDocument/2006/relationships/slide" Target="slide66.xml"/><Relationship Id="rId29" Type="http://schemas.openxmlformats.org/officeDocument/2006/relationships/oleObject" Target="../embeddings/oleObject12.bin"/><Relationship Id="rId30" Type="http://schemas.openxmlformats.org/officeDocument/2006/relationships/image" Target="../media/image79.wmf"/><Relationship Id="rId31" Type="http://schemas.openxmlformats.org/officeDocument/2006/relationships/slide" Target="slide1.xml"/><Relationship Id="rId3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2.wmf"/><Relationship Id="rId11" Type="http://schemas.openxmlformats.org/officeDocument/2006/relationships/slide" Target="slide68.xml"/><Relationship Id="rId12" Type="http://schemas.openxmlformats.org/officeDocument/2006/relationships/slide" Target="slide69.xml"/><Relationship Id="rId13" Type="http://schemas.openxmlformats.org/officeDocument/2006/relationships/slide" Target="slide70.xml"/><Relationship Id="rId14" Type="http://schemas.openxmlformats.org/officeDocument/2006/relationships/slide" Target="slide71.xml"/><Relationship Id="rId15" Type="http://schemas.openxmlformats.org/officeDocument/2006/relationships/slide" Target="slide1.xml"/><Relationship Id="rId1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" Target="slide72.xml"/><Relationship Id="rId10" Type="http://schemas.openxmlformats.org/officeDocument/2006/relationships/slide" Target="slide73.xml"/><Relationship Id="rId11" Type="http://schemas.openxmlformats.org/officeDocument/2006/relationships/slide" Target="slide76.xml"/><Relationship Id="rId12" Type="http://schemas.openxmlformats.org/officeDocument/2006/relationships/slide" Target="slide75.xml"/><Relationship Id="rId13" Type="http://schemas.openxmlformats.org/officeDocument/2006/relationships/image" Target="../media/image87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8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8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9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91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92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93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94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88.wmf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95.wmf"/><Relationship Id="rId32" Type="http://schemas.openxmlformats.org/officeDocument/2006/relationships/slide" Target="slide74.xml"/><Relationship Id="rId33" Type="http://schemas.openxmlformats.org/officeDocument/2006/relationships/oleObject" Target="../embeddings/oleObject14.bin"/><Relationship Id="rId34" Type="http://schemas.openxmlformats.org/officeDocument/2006/relationships/image" Target="../media/image96.wmf"/><Relationship Id="rId35" Type="http://schemas.openxmlformats.org/officeDocument/2006/relationships/slide" Target="slide1.xml"/><Relationship Id="rId3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slide" Target="slide77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83.wmf"/><Relationship Id="rId24" Type="http://schemas.openxmlformats.org/officeDocument/2006/relationships/slide" Target="slide1.xml"/><Relationship Id="rId2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8.wmf"/><Relationship Id="rId12" Type="http://schemas.openxmlformats.org/officeDocument/2006/relationships/slide" Target="slide1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9.wmf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wmf"/><Relationship Id="rId11" Type="http://schemas.openxmlformats.org/officeDocument/2006/relationships/slide" Target="slide1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4.wmf"/><Relationship Id="rId25" Type="http://schemas.openxmlformats.org/officeDocument/2006/relationships/slide" Target="slide1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7.wmf"/><Relationship Id="rId9" Type="http://schemas.openxmlformats.org/officeDocument/2006/relationships/slide" Target="slide1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" Target="slide18.xm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" Target="slide21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19.xml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6.wmf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.xml"/><Relationship Id="rId1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7.wmf"/><Relationship Id="rId19" Type="http://schemas.openxmlformats.org/officeDocument/2006/relationships/slide" Target="slide1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1.wmf"/><Relationship Id="rId11" Type="http://schemas.openxmlformats.org/officeDocument/2006/relationships/slide" Target="slide1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3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8.wmf"/><Relationship Id="rId12" Type="http://schemas.openxmlformats.org/officeDocument/2006/relationships/slide" Target="slide1.xml"/><Relationship Id="rId13" Type="http://schemas.openxmlformats.org/officeDocument/2006/relationships/slide" Target="slide3.xml"/><Relationship Id="rId1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4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45.wmf"/><Relationship Id="rId12" Type="http://schemas.openxmlformats.org/officeDocument/2006/relationships/slide" Target="slide1.xml"/><Relationship Id="rId13" Type="http://schemas.openxmlformats.org/officeDocument/2006/relationships/slide" Target="slide3.xml"/><Relationship Id="rId1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wmf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49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50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51.wmf"/><Relationship Id="rId20" Type="http://schemas.openxmlformats.org/officeDocument/2006/relationships/slide" Target="slide1.xml"/><Relationship Id="rId21" Type="http://schemas.openxmlformats.org/officeDocument/2006/relationships/slide" Target="slide3.xml"/><Relationship Id="rId2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slide" Target="slide1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4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8.wmf"/><Relationship Id="rId12" Type="http://schemas.openxmlformats.org/officeDocument/2006/relationships/slide" Target="slide1.xml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7.wmf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58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59.wmf"/><Relationship Id="rId18" Type="http://schemas.openxmlformats.org/officeDocument/2006/relationships/slide" Target="slide1.xml"/><Relationship Id="rId19" Type="http://schemas.openxmlformats.org/officeDocument/2006/relationships/slide" Target="slide3.xml"/><Relationship Id="rId20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0.wmf"/><Relationship Id="rId23" Type="http://schemas.openxmlformats.org/officeDocument/2006/relationships/slide" Target="slide1.xml"/><Relationship Id="rId24" Type="http://schemas.openxmlformats.org/officeDocument/2006/relationships/slide" Target="slide3.xml"/><Relationship Id="rId2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5.xml"/><Relationship Id="rId11" Type="http://schemas.openxmlformats.org/officeDocument/2006/relationships/slide" Target="slide26.xml"/><Relationship Id="rId12" Type="http://schemas.openxmlformats.org/officeDocument/2006/relationships/slide" Target="slide27.xml"/><Relationship Id="rId13" Type="http://schemas.openxmlformats.org/officeDocument/2006/relationships/slide" Target="slide28.xml"/><Relationship Id="rId14" Type="http://schemas.openxmlformats.org/officeDocument/2006/relationships/slide" Target="slide29.xml"/><Relationship Id="rId15" Type="http://schemas.openxmlformats.org/officeDocument/2006/relationships/slide" Target="slide1.xml"/><Relationship Id="rId1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7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7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74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75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76.wmf"/><Relationship Id="rId18" Type="http://schemas.openxmlformats.org/officeDocument/2006/relationships/slide" Target="slide1.xml"/><Relationship Id="rId19" Type="http://schemas.openxmlformats.org/officeDocument/2006/relationships/slide" Target="slide4.xml"/><Relationship Id="rId20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7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79.wmf"/><Relationship Id="rId12" Type="http://schemas.openxmlformats.org/officeDocument/2006/relationships/slide" Target="slide1.xml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78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82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83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184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185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186.wmf"/><Relationship Id="rId26" Type="http://schemas.openxmlformats.org/officeDocument/2006/relationships/slide" Target="slide74.xml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87.wmf"/><Relationship Id="rId29" Type="http://schemas.openxmlformats.org/officeDocument/2006/relationships/slide" Target="slide74.xml"/><Relationship Id="rId30" Type="http://schemas.openxmlformats.org/officeDocument/2006/relationships/slide" Target="slide74.xml"/><Relationship Id="rId31" Type="http://schemas.openxmlformats.org/officeDocument/2006/relationships/oleObject" Target="../embeddings/oleObject13.bin"/><Relationship Id="rId32" Type="http://schemas.openxmlformats.org/officeDocument/2006/relationships/image" Target="../media/image188.wmf"/><Relationship Id="rId33" Type="http://schemas.openxmlformats.org/officeDocument/2006/relationships/slide" Target="slide74.xml"/><Relationship Id="rId34" Type="http://schemas.openxmlformats.org/officeDocument/2006/relationships/slide" Target="slide74.xml"/><Relationship Id="rId35" Type="http://schemas.openxmlformats.org/officeDocument/2006/relationships/slide" Target="slide74.xml"/><Relationship Id="rId36" Type="http://schemas.openxmlformats.org/officeDocument/2006/relationships/oleObject" Target="../embeddings/oleObject14.bin"/><Relationship Id="rId37" Type="http://schemas.openxmlformats.org/officeDocument/2006/relationships/image" Target="../media/image189.wmf"/><Relationship Id="rId38" Type="http://schemas.openxmlformats.org/officeDocument/2006/relationships/slide" Target="slide1.xml"/><Relationship Id="rId39" Type="http://schemas.openxmlformats.org/officeDocument/2006/relationships/slide" Target="slide4.xml"/><Relationship Id="rId40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0.wmf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5.jpe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91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192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193.wmf"/><Relationship Id="rId24" Type="http://schemas.openxmlformats.org/officeDocument/2006/relationships/slide" Target="slide1.xml"/><Relationship Id="rId25" Type="http://schemas.openxmlformats.org/officeDocument/2006/relationships/slide" Target="slide4.xml"/><Relationship Id="rId26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4.png"/><Relationship Id="rId2" Type="http://schemas.openxmlformats.org/officeDocument/2006/relationships/image" Target="../media/image19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01.wmf"/><Relationship Id="rId17" Type="http://schemas.openxmlformats.org/officeDocument/2006/relationships/slide" Target="slide1.xml"/><Relationship Id="rId18" Type="http://schemas.openxmlformats.org/officeDocument/2006/relationships/slide" Target="slide4.xml"/><Relationship Id="rId19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5.wmf"/><Relationship Id="rId10" Type="http://schemas.openxmlformats.org/officeDocument/2006/relationships/slide" Target="slide1.xml"/><Relationship Id="rId11" Type="http://schemas.openxmlformats.org/officeDocument/2006/relationships/slide" Target="slide4.xml"/><Relationship Id="rId12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5.wmf"/><Relationship Id="rId23" Type="http://schemas.openxmlformats.org/officeDocument/2006/relationships/slide" Target="slide1.xml"/><Relationship Id="rId24" Type="http://schemas.openxmlformats.org/officeDocument/2006/relationships/slide" Target="slide4.xml"/><Relationship Id="rId25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0.wmf"/><Relationship Id="rId13" Type="http://schemas.openxmlformats.org/officeDocument/2006/relationships/slide" Target="slide1.xml"/><Relationship Id="rId14" Type="http://schemas.openxmlformats.org/officeDocument/2006/relationships/slide" Target="slide4.xml"/><Relationship Id="rId15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image" Target="../media/image2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2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22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28.wmf"/><Relationship Id="rId25" Type="http://schemas.openxmlformats.org/officeDocument/2006/relationships/slide" Target="slide1.xml"/><Relationship Id="rId26" Type="http://schemas.openxmlformats.org/officeDocument/2006/relationships/slide" Target="slide5.xml"/><Relationship Id="rId27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5.wmf"/><Relationship Id="rId15" Type="http://schemas.openxmlformats.org/officeDocument/2006/relationships/slide" Target="slide1.xml"/><Relationship Id="rId16" Type="http://schemas.openxmlformats.org/officeDocument/2006/relationships/slide" Target="slide5.xml"/><Relationship Id="rId1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slide" Target="slide30.xml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5.jpeg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22.wmf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5.xml"/><Relationship Id="rId34" Type="http://schemas.openxmlformats.org/officeDocument/2006/relationships/slide" Target="slide36.xml"/><Relationship Id="rId35" Type="http://schemas.openxmlformats.org/officeDocument/2006/relationships/slide" Target="slide37.xml"/><Relationship Id="rId36" Type="http://schemas.openxmlformats.org/officeDocument/2006/relationships/slide" Target="slide1.xml"/><Relationship Id="rId3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4.wmf"/><Relationship Id="rId15" Type="http://schemas.openxmlformats.org/officeDocument/2006/relationships/slide" Target="slide1.xml"/><Relationship Id="rId16" Type="http://schemas.openxmlformats.org/officeDocument/2006/relationships/slide" Target="slide5.xml"/><Relationship Id="rId17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9.wmf"/><Relationship Id="rId11" Type="http://schemas.openxmlformats.org/officeDocument/2006/relationships/slide" Target="slide1.xml"/><Relationship Id="rId12" Type="http://schemas.openxmlformats.org/officeDocument/2006/relationships/slide" Target="slide5.xml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4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4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46.wmf"/><Relationship Id="rId22" Type="http://schemas.openxmlformats.org/officeDocument/2006/relationships/slide" Target="slide1.xml"/><Relationship Id="rId23" Type="http://schemas.openxmlformats.org/officeDocument/2006/relationships/slide" Target="slide6.xml"/><Relationship Id="rId2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0.wmf"/><Relationship Id="rId9" Type="http://schemas.openxmlformats.org/officeDocument/2006/relationships/image" Target="../media/image3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0.wmf"/><Relationship Id="rId18" Type="http://schemas.openxmlformats.org/officeDocument/2006/relationships/slide" Target="slide1.xml"/><Relationship Id="rId19" Type="http://schemas.openxmlformats.org/officeDocument/2006/relationships/slide" Target="slide6.xml"/><Relationship Id="rId2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0.wmf"/><Relationship Id="rId21" Type="http://schemas.openxmlformats.org/officeDocument/2006/relationships/slide" Target="slide1.xml"/><Relationship Id="rId22" Type="http://schemas.openxmlformats.org/officeDocument/2006/relationships/slide" Target="slide6.xml"/><Relationship Id="rId2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2.wmf"/><Relationship Id="rId5" Type="http://schemas.openxmlformats.org/officeDocument/2006/relationships/image" Target="../media/image3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3.wmf"/><Relationship Id="rId16" Type="http://schemas.openxmlformats.org/officeDocument/2006/relationships/slide" Target="slide1.xml"/><Relationship Id="rId17" Type="http://schemas.openxmlformats.org/officeDocument/2006/relationships/slide" Target="slide6.xml"/><Relationship Id="rId1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0.wmf"/><Relationship Id="rId15" Type="http://schemas.openxmlformats.org/officeDocument/2006/relationships/slide" Target="slide1.xml"/><Relationship Id="rId16" Type="http://schemas.openxmlformats.org/officeDocument/2006/relationships/slide" Target="slide7.xml"/><Relationship Id="rId1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7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7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7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74.wmf"/><Relationship Id="rId19" Type="http://schemas.openxmlformats.org/officeDocument/2006/relationships/slide" Target="slide1.xml"/><Relationship Id="rId20" Type="http://schemas.openxmlformats.org/officeDocument/2006/relationships/slide" Target="slide7.xml"/><Relationship Id="rId2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7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7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7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7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79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80.wmf"/><Relationship Id="rId23" Type="http://schemas.openxmlformats.org/officeDocument/2006/relationships/slide" Target="slide1.xml"/><Relationship Id="rId24" Type="http://schemas.openxmlformats.org/officeDocument/2006/relationships/slide" Target="slide7.xml"/><Relationship Id="rId2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8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8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8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84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85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86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287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288.wmf"/><Relationship Id="rId27" Type="http://schemas.openxmlformats.org/officeDocument/2006/relationships/slide" Target="slide1.xml"/><Relationship Id="rId28" Type="http://schemas.openxmlformats.org/officeDocument/2006/relationships/slide" Target="slide7.xml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" Target="slide40.xml"/><Relationship Id="rId10" Type="http://schemas.openxmlformats.org/officeDocument/2006/relationships/slide" Target="slide41.xml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8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2.wmf"/><Relationship Id="rId16" Type="http://schemas.openxmlformats.org/officeDocument/2006/relationships/image" Target="../media/image21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30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3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33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34.wmf"/><Relationship Id="rId29" Type="http://schemas.openxmlformats.org/officeDocument/2006/relationships/slide" Target="slide38.xml"/><Relationship Id="rId30" Type="http://schemas.openxmlformats.org/officeDocument/2006/relationships/slide" Target="slide39.xml"/><Relationship Id="rId31" Type="http://schemas.openxmlformats.org/officeDocument/2006/relationships/slide" Target="slide1.xml"/><Relationship Id="rId3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0.wmf"/><Relationship Id="rId5" Type="http://schemas.openxmlformats.org/officeDocument/2006/relationships/image" Target="../media/image3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slide" Target="slide1.xml"/><Relationship Id="rId15" Type="http://schemas.openxmlformats.org/officeDocument/2006/relationships/slide" Target="slide8.xml"/><Relationship Id="rId16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5.wmf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1.wmf"/><Relationship Id="rId17" Type="http://schemas.openxmlformats.org/officeDocument/2006/relationships/slide" Target="slide1.xml"/><Relationship Id="rId1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0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05.wmf"/><Relationship Id="rId18" Type="http://schemas.openxmlformats.org/officeDocument/2006/relationships/slide" Target="slide1.xml"/><Relationship Id="rId1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0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0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11.wmf"/><Relationship Id="rId22" Type="http://schemas.openxmlformats.org/officeDocument/2006/relationships/slide" Target="slide1.xml"/><Relationship Id="rId23" Type="http://schemas.openxmlformats.org/officeDocument/2006/relationships/slideLayout" Target="../slideLayouts/slideLayout1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5.wmf"/><Relationship Id="rId9" Type="http://schemas.openxmlformats.org/officeDocument/2006/relationships/slide" Target="slide1.xml"/><Relationship Id="rId10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6.wmf"/><Relationship Id="rId12" Type="http://schemas.openxmlformats.org/officeDocument/2006/relationships/slide" Target="slide1.xml"/><Relationship Id="rId1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1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2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21.wmf"/><Relationship Id="rId20" Type="http://schemas.openxmlformats.org/officeDocument/2006/relationships/slide" Target="slide1.xml"/><Relationship Id="rId2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5.wmf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" Target="slide45.xml"/><Relationship Id="rId8" Type="http://schemas.openxmlformats.org/officeDocument/2006/relationships/slide" Target="slide42.xml"/><Relationship Id="rId9" Type="http://schemas.openxmlformats.org/officeDocument/2006/relationships/slide" Target="slide43.xml"/><Relationship Id="rId10" Type="http://schemas.openxmlformats.org/officeDocument/2006/relationships/slide" Target="slide44.xml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7.wmf"/><Relationship Id="rId13" Type="http://schemas.openxmlformats.org/officeDocument/2006/relationships/image" Target="../media/image38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9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0.wmf"/><Relationship Id="rId22" Type="http://schemas.openxmlformats.org/officeDocument/2006/relationships/slide" Target="slide1.xml"/><Relationship Id="rId2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5.wmf"/><Relationship Id="rId11" Type="http://schemas.openxmlformats.org/officeDocument/2006/relationships/slide" Target="slide1.xml"/><Relationship Id="rId12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2.wmf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4.wmf"/><Relationship Id="rId7" Type="http://schemas.openxmlformats.org/officeDocument/2006/relationships/slide" Target="slide1.xml"/><Relationship Id="rId8" Type="http://schemas.openxmlformats.org/officeDocument/2006/relationships/slideLayout" Target="../slideLayouts/slideLayout8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6.wmf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8.wmf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1.wmf"/><Relationship Id="rId21" Type="http://schemas.openxmlformats.org/officeDocument/2006/relationships/slide" Target="slide1.xml"/><Relationship Id="rId2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5.wmf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0.wmf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6.wmf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0.wmf"/><Relationship Id="rId11" Type="http://schemas.openxmlformats.org/officeDocument/2006/relationships/slide" Target="slide1.xml"/><Relationship Id="rId1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45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46.wmf"/><Relationship Id="rId16" Type="http://schemas.openxmlformats.org/officeDocument/2006/relationships/image" Target="../media/image27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2.wmf"/><Relationship Id="rId19" Type="http://schemas.openxmlformats.org/officeDocument/2006/relationships/image" Target="../media/image21.png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1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32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47.wmf"/><Relationship Id="rId26" Type="http://schemas.openxmlformats.org/officeDocument/2006/relationships/slide" Target="slide46.xml"/><Relationship Id="rId27" Type="http://schemas.openxmlformats.org/officeDocument/2006/relationships/slide" Target="slide47.xml"/><Relationship Id="rId28" Type="http://schemas.openxmlformats.org/officeDocument/2006/relationships/slide" Target="slide48.xml"/><Relationship Id="rId29" Type="http://schemas.openxmlformats.org/officeDocument/2006/relationships/slide" Target="slide49.xml"/><Relationship Id="rId30" Type="http://schemas.openxmlformats.org/officeDocument/2006/relationships/slide" Target="slide1.xml"/><Relationship Id="rId3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72.wmf"/><Relationship Id="rId25" Type="http://schemas.openxmlformats.org/officeDocument/2006/relationships/slide" Target="slide1.xml"/><Relationship Id="rId2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8.wmf"/><Relationship Id="rId15" Type="http://schemas.openxmlformats.org/officeDocument/2006/relationships/slide" Target="slide1.xml"/><Relationship Id="rId1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8.wmf"/><Relationship Id="rId21" Type="http://schemas.openxmlformats.org/officeDocument/2006/relationships/slide" Target="slide1.xml"/><Relationship Id="rId22" Type="http://schemas.openxmlformats.org/officeDocument/2006/relationships/slideLayout" Target="../slideLayouts/slideLayout1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6.wmf"/><Relationship Id="rId19" Type="http://schemas.openxmlformats.org/officeDocument/2006/relationships/slide" Target="slide1.xml"/><Relationship Id="rId20" Type="http://schemas.openxmlformats.org/officeDocument/2006/relationships/slideLayout" Target="../slideLayouts/slideLayout1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0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03.wmf"/><Relationship Id="rId27" Type="http://schemas.openxmlformats.org/officeDocument/2006/relationships/image" Target="../media/image87.png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88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89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90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91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92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93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94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88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95.wmf"/><Relationship Id="rId46" Type="http://schemas.openxmlformats.org/officeDocument/2006/relationships/slide" Target="slide1.xml"/><Relationship Id="rId47" Type="http://schemas.openxmlformats.org/officeDocument/2006/relationships/slideLayout" Target="../slideLayouts/slideLayout1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4.wmf"/><Relationship Id="rId9" Type="http://schemas.openxmlformats.org/officeDocument/2006/relationships/image" Target="../media/image8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9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4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88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95.wmf"/><Relationship Id="rId28" Type="http://schemas.openxmlformats.org/officeDocument/2006/relationships/slide" Target="slide1.xml"/><Relationship Id="rId29" Type="http://schemas.openxmlformats.org/officeDocument/2006/relationships/slideLayout" Target="../slideLayouts/slideLayout8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11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8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0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91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92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93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410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9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8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95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412.wmf"/><Relationship Id="rId40" Type="http://schemas.openxmlformats.org/officeDocument/2006/relationships/slide" Target="slide1.xml"/><Relationship Id="rId4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18.wmf"/><Relationship Id="rId29" Type="http://schemas.openxmlformats.org/officeDocument/2006/relationships/slide" Target="slide1.xml"/><Relationship Id="rId30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3.wmf"/><Relationship Id="rId22" Type="http://schemas.openxmlformats.org/officeDocument/2006/relationships/slide" Target="slide50.xml"/><Relationship Id="rId23" Type="http://schemas.openxmlformats.org/officeDocument/2006/relationships/slide" Target="slide51.xml"/><Relationship Id="rId24" Type="http://schemas.openxmlformats.org/officeDocument/2006/relationships/slide" Target="slide52.xml"/><Relationship Id="rId25" Type="http://schemas.openxmlformats.org/officeDocument/2006/relationships/slide" Target="slide53.xml"/><Relationship Id="rId26" Type="http://schemas.openxmlformats.org/officeDocument/2006/relationships/slide" Target="slide1.xm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image" Target="../media/image5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58.wmf"/><Relationship Id="rId15" Type="http://schemas.openxmlformats.org/officeDocument/2006/relationships/slide" Target="slide54.xml"/><Relationship Id="rId16" Type="http://schemas.openxmlformats.org/officeDocument/2006/relationships/slide" Target="slide55.xml"/><Relationship Id="rId17" Type="http://schemas.openxmlformats.org/officeDocument/2006/relationships/slide" Target="slide56.xml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9.wmf"/><Relationship Id="rId20" Type="http://schemas.openxmlformats.org/officeDocument/2006/relationships/slide" Target="slide57.xml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60.wmf"/><Relationship Id="rId23" Type="http://schemas.openxmlformats.org/officeDocument/2006/relationships/slide" Target="slide1.xml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ХАНІЧНІ КОЛИ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262160" y="1154160"/>
            <a:ext cx="3770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МОНІЧНІ КОЛ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3"/>
          <p:cNvSpPr/>
          <p:nvPr/>
        </p:nvSpPr>
        <p:spPr>
          <a:xfrm>
            <a:off x="2174760" y="1700280"/>
            <a:ext cx="43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Пружинний маятник у полі тяж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документ 8">
            <a:hlinkClick r:id="rId1" action="ppaction://hlinksldjump"/>
          </p:cNvPr>
          <p:cNvSpPr/>
          <p:nvPr/>
        </p:nvSpPr>
        <p:spPr>
          <a:xfrm>
            <a:off x="1806480" y="1698480"/>
            <a:ext cx="443160" cy="417600"/>
          </a:xfrm>
          <a:custGeom>
            <a:avLst/>
            <a:gdLst>
              <a:gd name="textAreaLeft" fmla="*/ 27000 w 443160"/>
              <a:gd name="textAreaRight" fmla="*/ 416160 w 44316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21" h="21600">
                <a:moveTo>
                  <a:pt x="0" y="0"/>
                </a:moveTo>
                <a:lnTo>
                  <a:pt x="22921" y="0"/>
                </a:lnTo>
                <a:lnTo>
                  <a:pt x="22921" y="21600"/>
                </a:lnTo>
                <a:lnTo>
                  <a:pt x="0" y="21600"/>
                </a:lnTo>
                <a:close/>
              </a:path>
              <a:path fill="lightenLess" w="22921" h="21600">
                <a:moveTo>
                  <a:pt x="0" y="0"/>
                </a:moveTo>
                <a:lnTo>
                  <a:pt x="22921" y="0"/>
                </a:lnTo>
                <a:lnTo>
                  <a:pt x="21521" y="1400"/>
                </a:lnTo>
                <a:lnTo>
                  <a:pt x="1400" y="1400"/>
                </a:lnTo>
                <a:close/>
              </a:path>
              <a:path fill="darken" w="22921" h="21600">
                <a:moveTo>
                  <a:pt x="22921" y="0"/>
                </a:moveTo>
                <a:lnTo>
                  <a:pt x="22921" y="21600"/>
                </a:lnTo>
                <a:lnTo>
                  <a:pt x="21521" y="20200"/>
                </a:lnTo>
                <a:lnTo>
                  <a:pt x="21521" y="1400"/>
                </a:lnTo>
                <a:close/>
              </a:path>
              <a:path fill="darkenLess" w="22921" h="21600">
                <a:moveTo>
                  <a:pt x="22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1" y="20200"/>
                </a:lnTo>
                <a:close/>
              </a:path>
              <a:path fill="lighten" w="22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21" h="21600">
                <a:moveTo>
                  <a:pt x="5934" y="3985"/>
                </a:moveTo>
                <a:lnTo>
                  <a:pt x="12931" y="3985"/>
                </a:lnTo>
                <a:lnTo>
                  <a:pt x="16987" y="7484"/>
                </a:lnTo>
                <a:lnTo>
                  <a:pt x="16987" y="17615"/>
                </a:lnTo>
                <a:lnTo>
                  <a:pt x="5934" y="17615"/>
                </a:lnTo>
                <a:close/>
              </a:path>
              <a:path fill="darken" w="22921" h="21600">
                <a:moveTo>
                  <a:pt x="12931" y="3985"/>
                </a:moveTo>
                <a:lnTo>
                  <a:pt x="16987" y="7484"/>
                </a:lnTo>
                <a:lnTo>
                  <a:pt x="12931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191040" y="229392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Математичний ма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документ 10">
            <a:hlinkClick r:id="rId2" action="ppaction://hlinksldjump"/>
          </p:cNvPr>
          <p:cNvSpPr/>
          <p:nvPr/>
        </p:nvSpPr>
        <p:spPr>
          <a:xfrm>
            <a:off x="2824200" y="2227320"/>
            <a:ext cx="412560" cy="43488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4880"/>
              <a:gd name="textAreaBottom" fmla="*/ 408240 h 434880"/>
            </a:gdLst>
            <a:ahLst/>
            <a:rect l="textAreaLeft" t="textAreaTop" r="textAreaRight" b="textAreaBottom"/>
            <a:pathLst>
              <a:path w="21600" h="22768">
                <a:moveTo>
                  <a:pt x="0" y="0"/>
                </a:moveTo>
                <a:lnTo>
                  <a:pt x="21600" y="0"/>
                </a:lnTo>
                <a:lnTo>
                  <a:pt x="21600" y="22768"/>
                </a:lnTo>
                <a:lnTo>
                  <a:pt x="0" y="22768"/>
                </a:lnTo>
                <a:close/>
              </a:path>
              <a:path fill="lightenLess" w="21600" h="227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8">
                <a:moveTo>
                  <a:pt x="21600" y="0"/>
                </a:moveTo>
                <a:lnTo>
                  <a:pt x="21600" y="22768"/>
                </a:lnTo>
                <a:lnTo>
                  <a:pt x="20200" y="21368"/>
                </a:lnTo>
                <a:lnTo>
                  <a:pt x="20200" y="1400"/>
                </a:lnTo>
                <a:close/>
              </a:path>
              <a:path fill="darkenLess" w="21600" h="22768">
                <a:moveTo>
                  <a:pt x="21600" y="22768"/>
                </a:moveTo>
                <a:lnTo>
                  <a:pt x="0" y="22768"/>
                </a:lnTo>
                <a:lnTo>
                  <a:pt x="1400" y="21368"/>
                </a:lnTo>
                <a:lnTo>
                  <a:pt x="20200" y="21368"/>
                </a:lnTo>
                <a:close/>
              </a:path>
              <a:path fill="lighten" w="21600" h="22768">
                <a:moveTo>
                  <a:pt x="0" y="227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8"/>
                </a:lnTo>
                <a:close/>
              </a:path>
              <a:path fill="darkenLess" w="21600" h="22768">
                <a:moveTo>
                  <a:pt x="5273" y="4569"/>
                </a:moveTo>
                <a:lnTo>
                  <a:pt x="12271" y="4569"/>
                </a:lnTo>
                <a:lnTo>
                  <a:pt x="16327" y="8068"/>
                </a:lnTo>
                <a:lnTo>
                  <a:pt x="16327" y="18199"/>
                </a:lnTo>
                <a:lnTo>
                  <a:pt x="5273" y="18199"/>
                </a:lnTo>
                <a:close/>
              </a:path>
              <a:path fill="darken" w="21600" h="22768">
                <a:moveTo>
                  <a:pt x="12271" y="4569"/>
                </a:moveTo>
                <a:lnTo>
                  <a:pt x="16327" y="8068"/>
                </a:lnTo>
                <a:lnTo>
                  <a:pt x="12271" y="8068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268880" y="276372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Фізичний ма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правляющая кнопка: документ 12">
            <a:hlinkClick r:id="rId3" action="ppaction://hlinksldjump"/>
          </p:cNvPr>
          <p:cNvSpPr/>
          <p:nvPr/>
        </p:nvSpPr>
        <p:spPr>
          <a:xfrm>
            <a:off x="3892680" y="2730600"/>
            <a:ext cx="412560" cy="43344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3440"/>
              <a:gd name="textAreaBottom" fmla="*/ 406800 h 433440"/>
            </a:gdLst>
            <a:ahLst/>
            <a:rect l="textAreaLeft" t="textAreaTop" r="textAreaRight" b="textAreaBottom"/>
            <a:pathLst>
              <a:path w="21600" h="22692">
                <a:moveTo>
                  <a:pt x="0" y="0"/>
                </a:moveTo>
                <a:lnTo>
                  <a:pt x="21600" y="0"/>
                </a:lnTo>
                <a:lnTo>
                  <a:pt x="21600" y="22692"/>
                </a:lnTo>
                <a:lnTo>
                  <a:pt x="0" y="22692"/>
                </a:lnTo>
                <a:close/>
              </a:path>
              <a:path fill="lightenLess" w="21600" h="22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2">
                <a:moveTo>
                  <a:pt x="21600" y="0"/>
                </a:moveTo>
                <a:lnTo>
                  <a:pt x="21600" y="22692"/>
                </a:lnTo>
                <a:lnTo>
                  <a:pt x="20200" y="21292"/>
                </a:lnTo>
                <a:lnTo>
                  <a:pt x="20200" y="1400"/>
                </a:lnTo>
                <a:close/>
              </a:path>
              <a:path fill="darkenLess" w="21600" h="22692">
                <a:moveTo>
                  <a:pt x="21600" y="22692"/>
                </a:moveTo>
                <a:lnTo>
                  <a:pt x="0" y="22692"/>
                </a:lnTo>
                <a:lnTo>
                  <a:pt x="1400" y="21292"/>
                </a:lnTo>
                <a:lnTo>
                  <a:pt x="20200" y="21292"/>
                </a:lnTo>
                <a:close/>
              </a:path>
              <a:path fill="lighten" w="21600" h="22692">
                <a:moveTo>
                  <a:pt x="0" y="22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2"/>
                </a:lnTo>
                <a:close/>
              </a:path>
              <a:path fill="darkenLess" w="21600" h="22692">
                <a:moveTo>
                  <a:pt x="5273" y="4531"/>
                </a:moveTo>
                <a:lnTo>
                  <a:pt x="12271" y="4531"/>
                </a:lnTo>
                <a:lnTo>
                  <a:pt x="16327" y="8030"/>
                </a:lnTo>
                <a:lnTo>
                  <a:pt x="16327" y="18161"/>
                </a:lnTo>
                <a:lnTo>
                  <a:pt x="5273" y="18161"/>
                </a:lnTo>
                <a:close/>
              </a:path>
              <a:path fill="darken" w="21600" h="22692">
                <a:moveTo>
                  <a:pt x="12271" y="4531"/>
                </a:moveTo>
                <a:lnTo>
                  <a:pt x="16327" y="8030"/>
                </a:lnTo>
                <a:lnTo>
                  <a:pt x="12271" y="8030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048280" y="3097080"/>
            <a:ext cx="299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Гармонічні коливання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закон збереження енерг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Управляющая кнопка: документ 14">
            <a:hlinkClick r:id="rId4" action="ppaction://hlinksldjump"/>
          </p:cNvPr>
          <p:cNvSpPr/>
          <p:nvPr/>
        </p:nvSpPr>
        <p:spPr>
          <a:xfrm>
            <a:off x="4660920" y="3244680"/>
            <a:ext cx="412560" cy="43524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5240"/>
              <a:gd name="textAreaBottom" fmla="*/ 408600 h 435240"/>
            </a:gdLst>
            <a:ahLst/>
            <a:rect l="textAreaLeft" t="textAreaTop" r="textAreaRight" b="textAreaBottom"/>
            <a:pathLst>
              <a:path w="21600" h="22786">
                <a:moveTo>
                  <a:pt x="0" y="0"/>
                </a:moveTo>
                <a:lnTo>
                  <a:pt x="21600" y="0"/>
                </a:lnTo>
                <a:lnTo>
                  <a:pt x="21600" y="22786"/>
                </a:lnTo>
                <a:lnTo>
                  <a:pt x="0" y="22786"/>
                </a:lnTo>
                <a:close/>
              </a:path>
              <a:path fill="lightenLess" w="21600" h="22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6">
                <a:moveTo>
                  <a:pt x="21600" y="0"/>
                </a:moveTo>
                <a:lnTo>
                  <a:pt x="21600" y="22786"/>
                </a:lnTo>
                <a:lnTo>
                  <a:pt x="20200" y="21386"/>
                </a:lnTo>
                <a:lnTo>
                  <a:pt x="20200" y="1400"/>
                </a:lnTo>
                <a:close/>
              </a:path>
              <a:path fill="darkenLess" w="21600" h="22786">
                <a:moveTo>
                  <a:pt x="21600" y="22786"/>
                </a:moveTo>
                <a:lnTo>
                  <a:pt x="0" y="22786"/>
                </a:lnTo>
                <a:lnTo>
                  <a:pt x="1400" y="21386"/>
                </a:lnTo>
                <a:lnTo>
                  <a:pt x="20200" y="21386"/>
                </a:lnTo>
                <a:close/>
              </a:path>
              <a:path fill="lighten" w="21600" h="22786">
                <a:moveTo>
                  <a:pt x="0" y="22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6"/>
                </a:lnTo>
                <a:close/>
              </a:path>
              <a:path fill="darkenLess" w="21600" h="22786">
                <a:moveTo>
                  <a:pt x="5273" y="4578"/>
                </a:moveTo>
                <a:lnTo>
                  <a:pt x="12271" y="4578"/>
                </a:lnTo>
                <a:lnTo>
                  <a:pt x="16327" y="8077"/>
                </a:lnTo>
                <a:lnTo>
                  <a:pt x="16327" y="18208"/>
                </a:lnTo>
                <a:lnTo>
                  <a:pt x="5273" y="18208"/>
                </a:lnTo>
                <a:close/>
              </a:path>
              <a:path fill="darken" w="21600" h="22786">
                <a:moveTo>
                  <a:pt x="12271" y="4578"/>
                </a:moveTo>
                <a:lnTo>
                  <a:pt x="16327" y="8077"/>
                </a:lnTo>
                <a:lnTo>
                  <a:pt x="12271" y="8077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19200" y="3994200"/>
            <a:ext cx="37418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ГАСАЮЧІ КОЛ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Управляющая кнопка: документ 16">
            <a:hlinkClick r:id="rId5" action="ppaction://hlinksldjump"/>
          </p:cNvPr>
          <p:cNvSpPr/>
          <p:nvPr/>
        </p:nvSpPr>
        <p:spPr>
          <a:xfrm>
            <a:off x="287280" y="3957480"/>
            <a:ext cx="442800" cy="417600"/>
          </a:xfrm>
          <a:custGeom>
            <a:avLst/>
            <a:gdLst>
              <a:gd name="textAreaLeft" fmla="*/ 27000 w 442800"/>
              <a:gd name="textAreaRight" fmla="*/ 415800 w 44280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02" h="21600">
                <a:moveTo>
                  <a:pt x="5924" y="3985"/>
                </a:moveTo>
                <a:lnTo>
                  <a:pt x="12922" y="3985"/>
                </a:lnTo>
                <a:lnTo>
                  <a:pt x="16978" y="7484"/>
                </a:lnTo>
                <a:lnTo>
                  <a:pt x="16978" y="17615"/>
                </a:lnTo>
                <a:lnTo>
                  <a:pt x="5924" y="17615"/>
                </a:lnTo>
                <a:close/>
              </a:path>
              <a:path fill="darken" w="22902" h="21600">
                <a:moveTo>
                  <a:pt x="12922" y="3985"/>
                </a:moveTo>
                <a:lnTo>
                  <a:pt x="16978" y="7484"/>
                </a:lnTo>
                <a:lnTo>
                  <a:pt x="12922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12800" y="4613400"/>
            <a:ext cx="36399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МУШЕНІ КОЛ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правляющая кнопка: документ 18">
            <a:hlinkClick r:id="rId6" action="ppaction://hlinksldjump"/>
          </p:cNvPr>
          <p:cNvSpPr/>
          <p:nvPr/>
        </p:nvSpPr>
        <p:spPr>
          <a:xfrm>
            <a:off x="277920" y="4660920"/>
            <a:ext cx="444240" cy="417600"/>
          </a:xfrm>
          <a:custGeom>
            <a:avLst/>
            <a:gdLst>
              <a:gd name="textAreaLeft" fmla="*/ 27000 w 444240"/>
              <a:gd name="textAreaRight" fmla="*/ 417240 w 44424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77" h="21600">
                <a:moveTo>
                  <a:pt x="0" y="0"/>
                </a:moveTo>
                <a:lnTo>
                  <a:pt x="22977" y="0"/>
                </a:lnTo>
                <a:lnTo>
                  <a:pt x="22977" y="21600"/>
                </a:lnTo>
                <a:lnTo>
                  <a:pt x="0" y="21600"/>
                </a:lnTo>
                <a:close/>
              </a:path>
              <a:path fill="lightenLess" w="22977" h="21600">
                <a:moveTo>
                  <a:pt x="0" y="0"/>
                </a:moveTo>
                <a:lnTo>
                  <a:pt x="22977" y="0"/>
                </a:lnTo>
                <a:lnTo>
                  <a:pt x="21577" y="1400"/>
                </a:lnTo>
                <a:lnTo>
                  <a:pt x="1400" y="1400"/>
                </a:lnTo>
                <a:close/>
              </a:path>
              <a:path fill="darken" w="22977" h="21600">
                <a:moveTo>
                  <a:pt x="22977" y="0"/>
                </a:moveTo>
                <a:lnTo>
                  <a:pt x="22977" y="21600"/>
                </a:lnTo>
                <a:lnTo>
                  <a:pt x="21577" y="20200"/>
                </a:lnTo>
                <a:lnTo>
                  <a:pt x="21577" y="1400"/>
                </a:lnTo>
                <a:close/>
              </a:path>
              <a:path fill="darkenLess" w="22977" h="21600">
                <a:moveTo>
                  <a:pt x="22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77" y="20200"/>
                </a:lnTo>
                <a:close/>
              </a:path>
              <a:path fill="lighten" w="22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77" h="21600">
                <a:moveTo>
                  <a:pt x="5962" y="3985"/>
                </a:moveTo>
                <a:lnTo>
                  <a:pt x="12959" y="3985"/>
                </a:lnTo>
                <a:lnTo>
                  <a:pt x="17015" y="7484"/>
                </a:lnTo>
                <a:lnTo>
                  <a:pt x="17015" y="17615"/>
                </a:lnTo>
                <a:lnTo>
                  <a:pt x="5962" y="17615"/>
                </a:lnTo>
                <a:close/>
              </a:path>
              <a:path fill="darken" w="22977" h="21600">
                <a:moveTo>
                  <a:pt x="12959" y="3985"/>
                </a:moveTo>
                <a:lnTo>
                  <a:pt x="17015" y="7484"/>
                </a:lnTo>
                <a:lnTo>
                  <a:pt x="12959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868320" y="5353200"/>
            <a:ext cx="35766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ЗОНАНС КООРДИН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правляющая кнопка: документ 20">
            <a:hlinkClick r:id="rId7" action="ppaction://hlinksldjump"/>
          </p:cNvPr>
          <p:cNvSpPr/>
          <p:nvPr/>
        </p:nvSpPr>
        <p:spPr>
          <a:xfrm>
            <a:off x="295200" y="5324400"/>
            <a:ext cx="444600" cy="417600"/>
          </a:xfrm>
          <a:custGeom>
            <a:avLst/>
            <a:gdLst>
              <a:gd name="textAreaLeft" fmla="*/ 27000 w 444600"/>
              <a:gd name="textAreaRight" fmla="*/ 417600 w 44460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95" h="21600">
                <a:moveTo>
                  <a:pt x="0" y="0"/>
                </a:moveTo>
                <a:lnTo>
                  <a:pt x="22995" y="0"/>
                </a:lnTo>
                <a:lnTo>
                  <a:pt x="22995" y="21600"/>
                </a:lnTo>
                <a:lnTo>
                  <a:pt x="0" y="21600"/>
                </a:lnTo>
                <a:close/>
              </a:path>
              <a:path fill="lightenLess" w="22995" h="21600">
                <a:moveTo>
                  <a:pt x="0" y="0"/>
                </a:moveTo>
                <a:lnTo>
                  <a:pt x="22995" y="0"/>
                </a:lnTo>
                <a:lnTo>
                  <a:pt x="21595" y="1400"/>
                </a:lnTo>
                <a:lnTo>
                  <a:pt x="1400" y="1400"/>
                </a:lnTo>
                <a:close/>
              </a:path>
              <a:path fill="darken" w="22995" h="21600">
                <a:moveTo>
                  <a:pt x="22995" y="0"/>
                </a:moveTo>
                <a:lnTo>
                  <a:pt x="22995" y="21600"/>
                </a:lnTo>
                <a:lnTo>
                  <a:pt x="21595" y="20200"/>
                </a:lnTo>
                <a:lnTo>
                  <a:pt x="21595" y="1400"/>
                </a:lnTo>
                <a:close/>
              </a:path>
              <a:path fill="darkenLess" w="22995" h="21600">
                <a:moveTo>
                  <a:pt x="22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95" y="20200"/>
                </a:lnTo>
                <a:close/>
              </a:path>
              <a:path fill="lighten" w="22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95" h="21600">
                <a:moveTo>
                  <a:pt x="5971" y="3985"/>
                </a:moveTo>
                <a:lnTo>
                  <a:pt x="12969" y="3985"/>
                </a:lnTo>
                <a:lnTo>
                  <a:pt x="17025" y="7484"/>
                </a:lnTo>
                <a:lnTo>
                  <a:pt x="17025" y="17615"/>
                </a:lnTo>
                <a:lnTo>
                  <a:pt x="5971" y="17615"/>
                </a:lnTo>
                <a:close/>
              </a:path>
              <a:path fill="darken" w="22995" h="21600">
                <a:moveTo>
                  <a:pt x="12969" y="3985"/>
                </a:moveTo>
                <a:lnTo>
                  <a:pt x="17025" y="7484"/>
                </a:lnTo>
                <a:lnTo>
                  <a:pt x="12969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874800" y="5997600"/>
            <a:ext cx="3363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ЗОНАНС ШВИДК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правляющая кнопка: документ 22">
            <a:hlinkClick r:id="rId8" action="ppaction://hlinksldjump"/>
          </p:cNvPr>
          <p:cNvSpPr/>
          <p:nvPr/>
        </p:nvSpPr>
        <p:spPr>
          <a:xfrm>
            <a:off x="314280" y="5961240"/>
            <a:ext cx="442800" cy="417240"/>
          </a:xfrm>
          <a:custGeom>
            <a:avLst/>
            <a:gdLst>
              <a:gd name="textAreaLeft" fmla="*/ 27000 w 442800"/>
              <a:gd name="textAreaRight" fmla="*/ 415800 w 442800"/>
              <a:gd name="textAreaTop" fmla="*/ 27000 h 417240"/>
              <a:gd name="textAreaBottom" fmla="*/ 390240 h 417240"/>
            </a:gdLst>
            <a:ahLst/>
            <a:rect l="textAreaLeft" t="textAreaTop" r="textAreaRight" b="textAreaBottom"/>
            <a:pathLst>
              <a:path w="22922" h="21600">
                <a:moveTo>
                  <a:pt x="0" y="0"/>
                </a:moveTo>
                <a:lnTo>
                  <a:pt x="22922" y="0"/>
                </a:lnTo>
                <a:lnTo>
                  <a:pt x="22922" y="21600"/>
                </a:lnTo>
                <a:lnTo>
                  <a:pt x="0" y="21600"/>
                </a:lnTo>
                <a:close/>
              </a:path>
              <a:path fill="lightenLess" w="22922" h="21600">
                <a:moveTo>
                  <a:pt x="0" y="0"/>
                </a:moveTo>
                <a:lnTo>
                  <a:pt x="22922" y="0"/>
                </a:lnTo>
                <a:lnTo>
                  <a:pt x="21522" y="1400"/>
                </a:lnTo>
                <a:lnTo>
                  <a:pt x="1400" y="1400"/>
                </a:lnTo>
                <a:close/>
              </a:path>
              <a:path fill="darken" w="22922" h="21600">
                <a:moveTo>
                  <a:pt x="22922" y="0"/>
                </a:moveTo>
                <a:lnTo>
                  <a:pt x="22922" y="21600"/>
                </a:lnTo>
                <a:lnTo>
                  <a:pt x="21522" y="20200"/>
                </a:lnTo>
                <a:lnTo>
                  <a:pt x="21522" y="1400"/>
                </a:lnTo>
                <a:close/>
              </a:path>
              <a:path fill="darkenLess" w="22922" h="21600">
                <a:moveTo>
                  <a:pt x="22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2" y="20200"/>
                </a:lnTo>
                <a:close/>
              </a:path>
              <a:path fill="lighten" w="22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22" h="21600">
                <a:moveTo>
                  <a:pt x="5934" y="3985"/>
                </a:moveTo>
                <a:lnTo>
                  <a:pt x="12932" y="3985"/>
                </a:lnTo>
                <a:lnTo>
                  <a:pt x="16988" y="7484"/>
                </a:lnTo>
                <a:lnTo>
                  <a:pt x="16988" y="17615"/>
                </a:lnTo>
                <a:lnTo>
                  <a:pt x="5934" y="17615"/>
                </a:lnTo>
                <a:close/>
              </a:path>
              <a:path fill="darken" w="22922" h="21600">
                <a:moveTo>
                  <a:pt x="12932" y="3985"/>
                </a:moveTo>
                <a:lnTo>
                  <a:pt x="16988" y="7484"/>
                </a:lnTo>
                <a:lnTo>
                  <a:pt x="12932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9" action="ppaction://hlinksldjump"/>
          </p:cNvPr>
          <p:cNvSpPr/>
          <p:nvPr/>
        </p:nvSpPr>
        <p:spPr>
          <a:xfrm>
            <a:off x="4943520" y="108432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документ 8">
            <a:hlinkClick r:id="rId10" action="ppaction://hlinksldjump"/>
          </p:cNvPr>
          <p:cNvSpPr/>
          <p:nvPr/>
        </p:nvSpPr>
        <p:spPr>
          <a:xfrm>
            <a:off x="906480" y="1077840"/>
            <a:ext cx="442800" cy="417600"/>
          </a:xfrm>
          <a:custGeom>
            <a:avLst/>
            <a:gdLst>
              <a:gd name="textAreaLeft" fmla="*/ 27000 w 442800"/>
              <a:gd name="textAreaRight" fmla="*/ 415800 w 44280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02" h="21600">
                <a:moveTo>
                  <a:pt x="5924" y="3985"/>
                </a:moveTo>
                <a:lnTo>
                  <a:pt x="12922" y="3985"/>
                </a:lnTo>
                <a:lnTo>
                  <a:pt x="16978" y="7484"/>
                </a:lnTo>
                <a:lnTo>
                  <a:pt x="16978" y="17615"/>
                </a:lnTo>
                <a:lnTo>
                  <a:pt x="5924" y="17615"/>
                </a:lnTo>
                <a:close/>
              </a:path>
              <a:path fill="darken" w="22902" h="21600">
                <a:moveTo>
                  <a:pt x="12922" y="3985"/>
                </a:moveTo>
                <a:lnTo>
                  <a:pt x="16978" y="7484"/>
                </a:lnTo>
                <a:lnTo>
                  <a:pt x="12922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1" action="ppaction://hlinksldjump"/>
          </p:cNvPr>
          <p:cNvSpPr/>
          <p:nvPr/>
        </p:nvSpPr>
        <p:spPr>
          <a:xfrm>
            <a:off x="5338800" y="108576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2" action="ppaction://hlinksldjump"/>
          </p:cNvPr>
          <p:cNvSpPr/>
          <p:nvPr/>
        </p:nvSpPr>
        <p:spPr>
          <a:xfrm>
            <a:off x="6418440" y="167004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3" action="ppaction://hlinksldjump"/>
          </p:cNvPr>
          <p:cNvSpPr/>
          <p:nvPr/>
        </p:nvSpPr>
        <p:spPr>
          <a:xfrm>
            <a:off x="6481800" y="2749680"/>
            <a:ext cx="291960" cy="34740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400"/>
              <a:gd name="textAreaBottom" fmla="*/ 328680 h 34740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4" action="ppaction://hlinksldjump"/>
          </p:cNvPr>
          <p:cNvSpPr/>
          <p:nvPr/>
        </p:nvSpPr>
        <p:spPr>
          <a:xfrm>
            <a:off x="6062760" y="226692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5" action="ppaction://hlinksldjump"/>
          </p:cNvPr>
          <p:cNvSpPr/>
          <p:nvPr/>
        </p:nvSpPr>
        <p:spPr>
          <a:xfrm>
            <a:off x="8043840" y="323208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6" action="ppaction://hlinksldjump"/>
          </p:cNvPr>
          <p:cNvSpPr/>
          <p:nvPr/>
        </p:nvSpPr>
        <p:spPr>
          <a:xfrm>
            <a:off x="8375760" y="3233880"/>
            <a:ext cx="291960" cy="34740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400"/>
              <a:gd name="textAreaBottom" fmla="*/ 328680 h 34740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7" action="ppaction://hlinksldjump"/>
          </p:cNvPr>
          <p:cNvSpPr/>
          <p:nvPr/>
        </p:nvSpPr>
        <p:spPr>
          <a:xfrm>
            <a:off x="8718480" y="3233880"/>
            <a:ext cx="292320" cy="34740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400"/>
              <a:gd name="textAreaBottom" fmla="*/ 328680 h 347400"/>
            </a:gdLst>
            <a:ahLst/>
            <a:rect l="textAreaLeft" t="textAreaTop" r="textAreaRight" b="textAreaBottom"/>
            <a:pathLst>
              <a:path w="21600" h="25665">
                <a:moveTo>
                  <a:pt x="0" y="0"/>
                </a:moveTo>
                <a:lnTo>
                  <a:pt x="21600" y="0"/>
                </a:lnTo>
                <a:lnTo>
                  <a:pt x="21600" y="25665"/>
                </a:lnTo>
                <a:lnTo>
                  <a:pt x="0" y="25665"/>
                </a:lnTo>
                <a:close/>
              </a:path>
              <a:path fill="lightenLess" w="21600" h="25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65">
                <a:moveTo>
                  <a:pt x="21600" y="0"/>
                </a:moveTo>
                <a:lnTo>
                  <a:pt x="21600" y="25665"/>
                </a:lnTo>
                <a:lnTo>
                  <a:pt x="20200" y="24265"/>
                </a:lnTo>
                <a:lnTo>
                  <a:pt x="20200" y="1400"/>
                </a:lnTo>
                <a:close/>
              </a:path>
              <a:path fill="darkenLess" w="21600" h="25665">
                <a:moveTo>
                  <a:pt x="21600" y="25665"/>
                </a:moveTo>
                <a:lnTo>
                  <a:pt x="0" y="25665"/>
                </a:lnTo>
                <a:lnTo>
                  <a:pt x="1400" y="24265"/>
                </a:lnTo>
                <a:lnTo>
                  <a:pt x="20200" y="24265"/>
                </a:lnTo>
                <a:close/>
              </a:path>
              <a:path fill="lighten" w="21600" h="25665">
                <a:moveTo>
                  <a:pt x="0" y="25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8" action="ppaction://hlinksldjump"/>
          </p:cNvPr>
          <p:cNvSpPr/>
          <p:nvPr/>
        </p:nvSpPr>
        <p:spPr>
          <a:xfrm>
            <a:off x="4184640" y="395748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9" action="ppaction://hlinksldjump"/>
          </p:cNvPr>
          <p:cNvSpPr/>
          <p:nvPr/>
        </p:nvSpPr>
        <p:spPr>
          <a:xfrm>
            <a:off x="4565520" y="395748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0" action="ppaction://hlinksldjump"/>
          </p:cNvPr>
          <p:cNvSpPr/>
          <p:nvPr/>
        </p:nvSpPr>
        <p:spPr>
          <a:xfrm>
            <a:off x="4172040" y="4694400"/>
            <a:ext cx="291960" cy="34740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400"/>
              <a:gd name="textAreaBottom" fmla="*/ 328680 h 34740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1" action="ppaction://hlinksldjump"/>
          </p:cNvPr>
          <p:cNvSpPr/>
          <p:nvPr/>
        </p:nvSpPr>
        <p:spPr>
          <a:xfrm>
            <a:off x="4325760" y="536256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2" action="ppaction://hlinksldjump"/>
          </p:cNvPr>
          <p:cNvSpPr/>
          <p:nvPr/>
        </p:nvSpPr>
        <p:spPr>
          <a:xfrm>
            <a:off x="4087800" y="599760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928800" y="5178600"/>
            <a:ext cx="18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Знайдіть вираз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03440" y="24300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ГАСАЮЧІ КОЛ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618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830160" y="5724360"/>
            <a:ext cx="72770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и якому співвідношенні між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коливання будуть згасати за наведеним закон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610160" y="2814480"/>
            <a:ext cx="36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ласна частота коливань систе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4280" y="3033720"/>
            <a:ext cx="857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и деякому співвідношенні між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розв'язок диференціального рівняння має вигля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847960" y="3467160"/>
          <a:ext cx="298944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7960" y="3467160"/>
                    <a:ext cx="29894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637000" y="5240160"/>
          <a:ext cx="241200" cy="2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5240160"/>
                    <a:ext cx="241200" cy="2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5929200" y="3511440"/>
            <a:ext cx="159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 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04640" y="3987720"/>
            <a:ext cx="8334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ві довільні константи загального розв'язку однорідного диференціального рівняння другого порядку. Значення цих констант можна визначити лише за наявності додаткової інформації. Зазвичай такою інформацією слугують початкові умови (значення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).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А ось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можна визначити через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підставивши вираз для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у диференціальне рівня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928760" y="2532240"/>
            <a:ext cx="352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890960" y="295596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3718080" y="2239920"/>
          <a:ext cx="49824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8080" y="2239920"/>
                    <a:ext cx="4982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5229360" y="2181240"/>
          <a:ext cx="57780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29360" y="2181240"/>
                    <a:ext cx="5778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5205240" y="2198520"/>
            <a:ext cx="371520" cy="362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072040" y="145260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 д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014480" y="952560"/>
          <a:ext cx="4309920" cy="13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14480" y="952560"/>
                    <a:ext cx="43099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9" name=""/>
          <p:cNvGrpSpPr/>
          <p:nvPr/>
        </p:nvGrpSpPr>
        <p:grpSpPr>
          <a:xfrm>
            <a:off x="4203720" y="2062080"/>
            <a:ext cx="620280" cy="550800"/>
            <a:chOff x="4203720" y="2062080"/>
            <a:chExt cx="620280" cy="550800"/>
          </a:xfrm>
        </p:grpSpPr>
        <p:sp>
          <p:nvSpPr>
            <p:cNvPr id="640" name="">
              <a:hlinkClick r:id="rId11" action="ppaction://hlinksldjump"/>
            </p:cNvPr>
            <p:cNvSpPr/>
            <p:nvPr/>
          </p:nvSpPr>
          <p:spPr>
            <a:xfrm>
              <a:off x="4203720" y="212400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46280" y="2062080"/>
              <a:ext cx="47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807160" y="2071800"/>
            <a:ext cx="510840" cy="549000"/>
            <a:chOff x="5807160" y="2071800"/>
            <a:chExt cx="510840" cy="549000"/>
          </a:xfrm>
        </p:grpSpPr>
        <p:sp>
          <p:nvSpPr>
            <p:cNvPr id="643" name="">
              <a:hlinkClick r:id="rId12" action="ppaction://hlinksldjump"/>
            </p:cNvPr>
            <p:cNvSpPr/>
            <p:nvPr/>
          </p:nvSpPr>
          <p:spPr>
            <a:xfrm>
              <a:off x="5807160" y="2131920"/>
              <a:ext cx="437400" cy="488880"/>
            </a:xfrm>
            <a:custGeom>
              <a:avLst/>
              <a:gdLst>
                <a:gd name="textAreaLeft" fmla="*/ 28080 w 437400"/>
                <a:gd name="textAreaRight" fmla="*/ 409320 w 437400"/>
                <a:gd name="textAreaTop" fmla="*/ 28080 h 488880"/>
                <a:gd name="textAreaBottom" fmla="*/ 460800 h 488880"/>
              </a:gdLst>
              <a:ahLst/>
              <a:rect l="textAreaLeft" t="textAreaTop" r="textAreaRight" b="textAreaBottom"/>
              <a:pathLst>
                <a:path w="21600" h="24140">
                  <a:moveTo>
                    <a:pt x="0" y="0"/>
                  </a:moveTo>
                  <a:lnTo>
                    <a:pt x="21600" y="0"/>
                  </a:lnTo>
                  <a:lnTo>
                    <a:pt x="21600" y="24140"/>
                  </a:lnTo>
                  <a:lnTo>
                    <a:pt x="0" y="24140"/>
                  </a:lnTo>
                  <a:close/>
                </a:path>
                <a:path fill="lightenLess" w="21600" h="2414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140">
                  <a:moveTo>
                    <a:pt x="21600" y="0"/>
                  </a:moveTo>
                  <a:lnTo>
                    <a:pt x="21600" y="24140"/>
                  </a:lnTo>
                  <a:lnTo>
                    <a:pt x="20200" y="22740"/>
                  </a:lnTo>
                  <a:lnTo>
                    <a:pt x="20200" y="1400"/>
                  </a:lnTo>
                  <a:close/>
                </a:path>
                <a:path fill="darkenLess" w="21600" h="24140">
                  <a:moveTo>
                    <a:pt x="21600" y="24140"/>
                  </a:moveTo>
                  <a:lnTo>
                    <a:pt x="0" y="24140"/>
                  </a:lnTo>
                  <a:lnTo>
                    <a:pt x="1400" y="22740"/>
                  </a:lnTo>
                  <a:lnTo>
                    <a:pt x="20200" y="22740"/>
                  </a:lnTo>
                  <a:close/>
                </a:path>
                <a:path fill="lighten" w="21600" h="24140">
                  <a:moveTo>
                    <a:pt x="0" y="2414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740"/>
                  </a:lnTo>
                  <a:close/>
                </a:path>
                <a:path fill="darken" w="21600" h="24140">
                  <a:moveTo>
                    <a:pt x="10800" y="1607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4140">
                  <a:moveTo>
                    <a:pt x="11905" y="15552"/>
                  </a:moveTo>
                  <a:lnTo>
                    <a:pt x="11905" y="13593"/>
                  </a:lnTo>
                  <a:cubicBezTo>
                    <a:pt x="11905" y="12766"/>
                    <a:pt x="12236" y="12070"/>
                    <a:pt x="12837" y="12070"/>
                  </a:cubicBezTo>
                  <a:cubicBezTo>
                    <a:pt x="13968" y="12070"/>
                    <a:pt x="14865" y="10704"/>
                    <a:pt x="14865" y="9120"/>
                  </a:cubicBezTo>
                  <a:cubicBezTo>
                    <a:pt x="14865" y="6804"/>
                    <a:pt x="13011" y="5064"/>
                    <a:pt x="10800" y="5064"/>
                  </a:cubicBezTo>
                  <a:cubicBezTo>
                    <a:pt x="8589" y="5064"/>
                    <a:pt x="6918" y="6804"/>
                    <a:pt x="6918" y="9120"/>
                  </a:cubicBezTo>
                  <a:lnTo>
                    <a:pt x="8772" y="9120"/>
                  </a:lnTo>
                  <a:cubicBezTo>
                    <a:pt x="8772" y="7979"/>
                    <a:pt x="9695" y="7092"/>
                    <a:pt x="10800" y="7092"/>
                  </a:cubicBezTo>
                  <a:cubicBezTo>
                    <a:pt x="11905" y="7092"/>
                    <a:pt x="12837" y="7979"/>
                    <a:pt x="12837" y="9120"/>
                  </a:cubicBezTo>
                  <a:cubicBezTo>
                    <a:pt x="12837" y="9859"/>
                    <a:pt x="12367" y="10590"/>
                    <a:pt x="11905" y="10590"/>
                  </a:cubicBezTo>
                  <a:cubicBezTo>
                    <a:pt x="10800" y="10590"/>
                    <a:pt x="9695" y="12070"/>
                    <a:pt x="9695" y="13593"/>
                  </a:cubicBezTo>
                  <a:lnTo>
                    <a:pt x="9695" y="1555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88960" y="2071800"/>
              <a:ext cx="32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20840" y="5014800"/>
            <a:ext cx="497880" cy="552240"/>
            <a:chOff x="420840" y="5014800"/>
            <a:chExt cx="497880" cy="552240"/>
          </a:xfrm>
        </p:grpSpPr>
        <p:sp>
          <p:nvSpPr>
            <p:cNvPr id="646" name="">
              <a:hlinkClick r:id="rId13" action="ppaction://hlinksldjump"/>
            </p:cNvPr>
            <p:cNvSpPr/>
            <p:nvPr/>
          </p:nvSpPr>
          <p:spPr>
            <a:xfrm>
              <a:off x="420840" y="507816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28560" y="5014800"/>
              <a:ext cx="29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90600" y="5678640"/>
            <a:ext cx="586800" cy="560160"/>
            <a:chOff x="390600" y="5678640"/>
            <a:chExt cx="586800" cy="560160"/>
          </a:xfrm>
        </p:grpSpPr>
        <p:sp>
          <p:nvSpPr>
            <p:cNvPr id="649" name="">
              <a:hlinkClick r:id="rId14" action="ppaction://hlinksldjump"/>
            </p:cNvPr>
            <p:cNvSpPr/>
            <p:nvPr/>
          </p:nvSpPr>
          <p:spPr>
            <a:xfrm>
              <a:off x="390600" y="5749920"/>
              <a:ext cx="475920" cy="488880"/>
            </a:xfrm>
            <a:custGeom>
              <a:avLst/>
              <a:gdLst>
                <a:gd name="textAreaLeft" fmla="*/ 30600 w 475920"/>
                <a:gd name="textAreaRight" fmla="*/ 445320 w 47592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88">
                  <a:moveTo>
                    <a:pt x="0" y="0"/>
                  </a:moveTo>
                  <a:lnTo>
                    <a:pt x="21600" y="0"/>
                  </a:lnTo>
                  <a:lnTo>
                    <a:pt x="21600" y="22188"/>
                  </a:lnTo>
                  <a:lnTo>
                    <a:pt x="0" y="22188"/>
                  </a:lnTo>
                  <a:close/>
                </a:path>
                <a:path fill="lightenLess" w="21600" h="221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88">
                  <a:moveTo>
                    <a:pt x="21600" y="0"/>
                  </a:moveTo>
                  <a:lnTo>
                    <a:pt x="21600" y="22188"/>
                  </a:lnTo>
                  <a:lnTo>
                    <a:pt x="20200" y="20788"/>
                  </a:lnTo>
                  <a:lnTo>
                    <a:pt x="20200" y="1400"/>
                  </a:lnTo>
                  <a:close/>
                </a:path>
                <a:path fill="darkenLess" w="21600" h="22188">
                  <a:moveTo>
                    <a:pt x="21600" y="22188"/>
                  </a:moveTo>
                  <a:lnTo>
                    <a:pt x="0" y="22188"/>
                  </a:lnTo>
                  <a:lnTo>
                    <a:pt x="1400" y="20788"/>
                  </a:lnTo>
                  <a:lnTo>
                    <a:pt x="20200" y="20788"/>
                  </a:lnTo>
                  <a:close/>
                </a:path>
                <a:path fill="lighten" w="21600" h="22188">
                  <a:moveTo>
                    <a:pt x="0" y="221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88"/>
                  </a:lnTo>
                  <a:close/>
                </a:path>
                <a:path fill="darken" w="21600" h="22188">
                  <a:moveTo>
                    <a:pt x="10800" y="15098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88">
                  <a:moveTo>
                    <a:pt x="11905" y="14575"/>
                  </a:moveTo>
                  <a:lnTo>
                    <a:pt x="11905" y="12617"/>
                  </a:lnTo>
                  <a:cubicBezTo>
                    <a:pt x="11905" y="11790"/>
                    <a:pt x="12236" y="11094"/>
                    <a:pt x="12837" y="11094"/>
                  </a:cubicBezTo>
                  <a:cubicBezTo>
                    <a:pt x="13968" y="11094"/>
                    <a:pt x="14865" y="9727"/>
                    <a:pt x="14865" y="8143"/>
                  </a:cubicBezTo>
                  <a:cubicBezTo>
                    <a:pt x="14865" y="5828"/>
                    <a:pt x="13011" y="4087"/>
                    <a:pt x="10800" y="4087"/>
                  </a:cubicBezTo>
                  <a:cubicBezTo>
                    <a:pt x="8589" y="4087"/>
                    <a:pt x="6918" y="5828"/>
                    <a:pt x="6918" y="8143"/>
                  </a:cubicBezTo>
                  <a:lnTo>
                    <a:pt x="8772" y="8143"/>
                  </a:lnTo>
                  <a:cubicBezTo>
                    <a:pt x="8772" y="7003"/>
                    <a:pt x="9695" y="6115"/>
                    <a:pt x="10800" y="6115"/>
                  </a:cubicBezTo>
                  <a:cubicBezTo>
                    <a:pt x="11905" y="6115"/>
                    <a:pt x="12837" y="7003"/>
                    <a:pt x="12837" y="8143"/>
                  </a:cubicBezTo>
                  <a:cubicBezTo>
                    <a:pt x="12837" y="8883"/>
                    <a:pt x="12367" y="9614"/>
                    <a:pt x="11905" y="9614"/>
                  </a:cubicBezTo>
                  <a:cubicBezTo>
                    <a:pt x="10800" y="9614"/>
                    <a:pt x="9695" y="11094"/>
                    <a:pt x="9695" y="12617"/>
                  </a:cubicBezTo>
                  <a:lnTo>
                    <a:pt x="9695" y="14575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0680" y="567864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51" name=""/>
          <p:cNvGraphicFramePr/>
          <p:nvPr/>
        </p:nvGraphicFramePr>
        <p:xfrm>
          <a:off x="6759720" y="4484520"/>
          <a:ext cx="179280" cy="246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59720" y="4484520"/>
                    <a:ext cx="17928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Управляющая кнопка: домой 85">
            <a:hlinkClick r:id="rId1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809640" y="4383000"/>
            <a:ext cx="753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Кількісно згасання коливань характеризують часом релаксації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uk-UA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час, за який амплітуда згасаючих коливань зменшується в е разів) та логарифмічним декрементом згасанн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587760" y="4930920"/>
          <a:ext cx="141912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7760" y="4930920"/>
                    <a:ext cx="14191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">
            <a:hlinkClick r:id="rId3" action="ppaction://hlinksldjump"/>
          </p:cNvPr>
          <p:cNvSpPr/>
          <p:nvPr/>
        </p:nvSpPr>
        <p:spPr>
          <a:xfrm>
            <a:off x="5905440" y="56926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8372520" y="200160"/>
            <a:ext cx="600120" cy="495000"/>
            <a:chOff x="8372520" y="200160"/>
            <a:chExt cx="600120" cy="495000"/>
          </a:xfrm>
        </p:grpSpPr>
        <p:sp>
          <p:nvSpPr>
            <p:cNvPr id="661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72520" y="257040"/>
              <a:ext cx="6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>
            <a:hlinkClick r:id="rId4" action="ppaction://hlinksldjump"/>
          </p:cNvPr>
          <p:cNvSpPr/>
          <p:nvPr/>
        </p:nvSpPr>
        <p:spPr>
          <a:xfrm>
            <a:off x="501480" y="204300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>
            <a:hlinkClick r:id="rId5" action="ppaction://hlinksldjump"/>
          </p:cNvPr>
          <p:cNvSpPr/>
          <p:nvPr/>
        </p:nvSpPr>
        <p:spPr>
          <a:xfrm>
            <a:off x="457200" y="12351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1028520" y="981000"/>
            <a:ext cx="533160" cy="4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27080" y="1693800"/>
            <a:ext cx="533520" cy="4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983520" y="14698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01160" y="216360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373040" y="561600"/>
            <a:ext cx="3310200" cy="2762280"/>
            <a:chOff x="1373040" y="561600"/>
            <a:chExt cx="3310200" cy="2762280"/>
          </a:xfrm>
        </p:grpSpPr>
        <p:graphicFrame>
          <p:nvGraphicFramePr>
            <p:cNvPr id="670" name=""/>
            <p:cNvGraphicFramePr/>
            <p:nvPr/>
          </p:nvGraphicFramePr>
          <p:xfrm>
            <a:off x="1378080" y="652680"/>
            <a:ext cx="177840" cy="201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78080" y="652680"/>
                      <a:ext cx="17784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2" name=""/>
            <p:cNvSpPr/>
            <p:nvPr/>
          </p:nvSpPr>
          <p:spPr>
            <a:xfrm flipV="1">
              <a:off x="1373040" y="2398680"/>
              <a:ext cx="33102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552680" y="561600"/>
              <a:ext cx="0" cy="27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1562040" y="955800"/>
              <a:ext cx="2695680" cy="2113560"/>
              <a:chOff x="1562040" y="955800"/>
              <a:chExt cx="2695680" cy="2113560"/>
            </a:xfrm>
          </p:grpSpPr>
          <p:sp>
            <p:nvSpPr>
              <p:cNvPr id="675" name=""/>
              <p:cNvSpPr/>
              <p:nvPr/>
            </p:nvSpPr>
            <p:spPr>
              <a:xfrm>
                <a:off x="1562040" y="955800"/>
                <a:ext cx="2695680" cy="1401120"/>
              </a:xfrm>
              <a:custGeom>
                <a:avLst/>
                <a:gdLst/>
                <a:ahLst/>
                <a:rect l="l" t="t" r="r" b="b"/>
                <a:pathLst>
                  <a:path w="4244" h="270">
                    <a:moveTo>
                      <a:pt x="0" y="0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43" y="9"/>
                      <a:pt x="43" y="9"/>
                      <a:pt x="43" y="9"/>
                    </a:cubicBezTo>
                    <a:cubicBezTo>
                      <a:pt x="51" y="11"/>
                      <a:pt x="51" y="11"/>
                      <a:pt x="51" y="11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8" y="14"/>
                      <a:pt x="68" y="14"/>
                      <a:pt x="68" y="14"/>
                    </a:cubicBezTo>
                    <a:cubicBezTo>
                      <a:pt x="77" y="15"/>
                      <a:pt x="77" y="15"/>
                      <a:pt x="77" y="15"/>
                    </a:cubicBezTo>
                    <a:cubicBezTo>
                      <a:pt x="85" y="17"/>
                      <a:pt x="85" y="17"/>
                      <a:pt x="85" y="17"/>
                    </a:cubicBezTo>
                    <a:cubicBezTo>
                      <a:pt x="94" y="19"/>
                      <a:pt x="94" y="19"/>
                      <a:pt x="94" y="19"/>
                    </a:cubicBezTo>
                    <a:cubicBezTo>
                      <a:pt x="102" y="20"/>
                      <a:pt x="102" y="20"/>
                      <a:pt x="102" y="20"/>
                    </a:cubicBezTo>
                    <a:cubicBezTo>
                      <a:pt x="111" y="22"/>
                      <a:pt x="111" y="22"/>
                      <a:pt x="111" y="22"/>
                    </a:cubicBezTo>
                    <a:cubicBezTo>
                      <a:pt x="119" y="23"/>
                      <a:pt x="119" y="23"/>
                      <a:pt x="119" y="23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36" y="26"/>
                      <a:pt x="136" y="26"/>
                      <a:pt x="136" y="26"/>
                    </a:cubicBezTo>
                    <a:cubicBezTo>
                      <a:pt x="145" y="28"/>
                      <a:pt x="145" y="28"/>
                      <a:pt x="145" y="28"/>
                    </a:cubicBezTo>
                    <a:cubicBezTo>
                      <a:pt x="153" y="30"/>
                      <a:pt x="153" y="30"/>
                      <a:pt x="153" y="30"/>
                    </a:cubicBezTo>
                    <a:cubicBezTo>
                      <a:pt x="162" y="31"/>
                      <a:pt x="162" y="31"/>
                      <a:pt x="162" y="31"/>
                    </a:cubicBezTo>
                    <a:cubicBezTo>
                      <a:pt x="170" y="33"/>
                      <a:pt x="170" y="33"/>
                      <a:pt x="170" y="33"/>
                    </a:cubicBezTo>
                    <a:cubicBezTo>
                      <a:pt x="179" y="34"/>
                      <a:pt x="179" y="34"/>
                      <a:pt x="179" y="34"/>
                    </a:cubicBezTo>
                    <a:cubicBezTo>
                      <a:pt x="187" y="36"/>
                      <a:pt x="187" y="36"/>
                      <a:pt x="187" y="36"/>
                    </a:cubicBezTo>
                    <a:cubicBezTo>
                      <a:pt x="196" y="37"/>
                      <a:pt x="196" y="37"/>
                      <a:pt x="196" y="37"/>
                    </a:cubicBezTo>
                    <a:cubicBezTo>
                      <a:pt x="204" y="39"/>
                      <a:pt x="204" y="39"/>
                      <a:pt x="204" y="39"/>
                    </a:cubicBezTo>
                    <a:cubicBezTo>
                      <a:pt x="213" y="40"/>
                      <a:pt x="213" y="40"/>
                      <a:pt x="213" y="40"/>
                    </a:cubicBezTo>
                    <a:cubicBezTo>
                      <a:pt x="221" y="41"/>
                      <a:pt x="221" y="41"/>
                      <a:pt x="221" y="41"/>
                    </a:cubicBezTo>
                    <a:cubicBezTo>
                      <a:pt x="230" y="43"/>
                      <a:pt x="230" y="43"/>
                      <a:pt x="230" y="43"/>
                    </a:cubicBezTo>
                    <a:cubicBezTo>
                      <a:pt x="238" y="44"/>
                      <a:pt x="238" y="44"/>
                      <a:pt x="238" y="44"/>
                    </a:cubicBezTo>
                    <a:cubicBezTo>
                      <a:pt x="247" y="46"/>
                      <a:pt x="247" y="46"/>
                      <a:pt x="247" y="46"/>
                    </a:cubicBezTo>
                    <a:cubicBezTo>
                      <a:pt x="255" y="47"/>
                      <a:pt x="255" y="47"/>
                      <a:pt x="255" y="47"/>
                    </a:cubicBezTo>
                    <a:cubicBezTo>
                      <a:pt x="264" y="49"/>
                      <a:pt x="264" y="49"/>
                      <a:pt x="264" y="49"/>
                    </a:cubicBezTo>
                    <a:cubicBezTo>
                      <a:pt x="272" y="50"/>
                      <a:pt x="272" y="50"/>
                      <a:pt x="272" y="50"/>
                    </a:cubicBezTo>
                    <a:cubicBezTo>
                      <a:pt x="281" y="51"/>
                      <a:pt x="281" y="51"/>
                      <a:pt x="281" y="51"/>
                    </a:cubicBezTo>
                    <a:cubicBezTo>
                      <a:pt x="289" y="53"/>
                      <a:pt x="289" y="53"/>
                      <a:pt x="289" y="53"/>
                    </a:cubicBezTo>
                    <a:cubicBezTo>
                      <a:pt x="298" y="54"/>
                      <a:pt x="298" y="54"/>
                      <a:pt x="298" y="54"/>
                    </a:cubicBezTo>
                    <a:cubicBezTo>
                      <a:pt x="306" y="56"/>
                      <a:pt x="306" y="56"/>
                      <a:pt x="306" y="56"/>
                    </a:cubicBezTo>
                    <a:cubicBezTo>
                      <a:pt x="315" y="57"/>
                      <a:pt x="315" y="57"/>
                      <a:pt x="315" y="57"/>
                    </a:cubicBezTo>
                    <a:cubicBezTo>
                      <a:pt x="323" y="58"/>
                      <a:pt x="323" y="58"/>
                      <a:pt x="323" y="58"/>
                    </a:cubicBezTo>
                    <a:cubicBezTo>
                      <a:pt x="332" y="60"/>
                      <a:pt x="332" y="60"/>
                      <a:pt x="332" y="60"/>
                    </a:cubicBezTo>
                    <a:cubicBezTo>
                      <a:pt x="340" y="61"/>
                      <a:pt x="340" y="61"/>
                      <a:pt x="340" y="61"/>
                    </a:cubicBezTo>
                    <a:cubicBezTo>
                      <a:pt x="349" y="62"/>
                      <a:pt x="349" y="62"/>
                      <a:pt x="349" y="62"/>
                    </a:cubicBezTo>
                    <a:cubicBezTo>
                      <a:pt x="357" y="64"/>
                      <a:pt x="357" y="64"/>
                      <a:pt x="357" y="64"/>
                    </a:cubicBezTo>
                    <a:cubicBezTo>
                      <a:pt x="366" y="65"/>
                      <a:pt x="366" y="65"/>
                      <a:pt x="366" y="65"/>
                    </a:cubicBezTo>
                    <a:cubicBezTo>
                      <a:pt x="374" y="66"/>
                      <a:pt x="374" y="66"/>
                      <a:pt x="374" y="66"/>
                    </a:cubicBezTo>
                    <a:cubicBezTo>
                      <a:pt x="383" y="68"/>
                      <a:pt x="383" y="68"/>
                      <a:pt x="383" y="68"/>
                    </a:cubicBezTo>
                    <a:cubicBezTo>
                      <a:pt x="391" y="69"/>
                      <a:pt x="391" y="69"/>
                      <a:pt x="391" y="69"/>
                    </a:cubicBezTo>
                    <a:cubicBezTo>
                      <a:pt x="400" y="70"/>
                      <a:pt x="400" y="70"/>
                      <a:pt x="400" y="70"/>
                    </a:cubicBezTo>
                    <a:cubicBezTo>
                      <a:pt x="408" y="71"/>
                      <a:pt x="408" y="71"/>
                      <a:pt x="408" y="71"/>
                    </a:cubicBezTo>
                    <a:cubicBezTo>
                      <a:pt x="417" y="73"/>
                      <a:pt x="417" y="73"/>
                      <a:pt x="417" y="73"/>
                    </a:cubicBezTo>
                    <a:cubicBezTo>
                      <a:pt x="425" y="74"/>
                      <a:pt x="425" y="74"/>
                      <a:pt x="425" y="74"/>
                    </a:cubicBezTo>
                    <a:cubicBezTo>
                      <a:pt x="434" y="75"/>
                      <a:pt x="434" y="75"/>
                      <a:pt x="434" y="75"/>
                    </a:cubicBezTo>
                    <a:cubicBezTo>
                      <a:pt x="442" y="76"/>
                      <a:pt x="442" y="76"/>
                      <a:pt x="442" y="76"/>
                    </a:cubicBezTo>
                    <a:cubicBezTo>
                      <a:pt x="451" y="78"/>
                      <a:pt x="451" y="78"/>
                      <a:pt x="451" y="78"/>
                    </a:cubicBezTo>
                    <a:cubicBezTo>
                      <a:pt x="459" y="79"/>
                      <a:pt x="459" y="79"/>
                      <a:pt x="459" y="79"/>
                    </a:cubicBezTo>
                    <a:cubicBezTo>
                      <a:pt x="468" y="80"/>
                      <a:pt x="468" y="80"/>
                      <a:pt x="468" y="80"/>
                    </a:cubicBezTo>
                    <a:cubicBezTo>
                      <a:pt x="476" y="81"/>
                      <a:pt x="476" y="81"/>
                      <a:pt x="476" y="81"/>
                    </a:cubicBezTo>
                    <a:cubicBezTo>
                      <a:pt x="485" y="83"/>
                      <a:pt x="485" y="83"/>
                      <a:pt x="485" y="83"/>
                    </a:cubicBezTo>
                    <a:cubicBezTo>
                      <a:pt x="493" y="84"/>
                      <a:pt x="493" y="84"/>
                      <a:pt x="493" y="84"/>
                    </a:cubicBezTo>
                    <a:cubicBezTo>
                      <a:pt x="502" y="85"/>
                      <a:pt x="502" y="85"/>
                      <a:pt x="502" y="85"/>
                    </a:cubicBezTo>
                    <a:cubicBezTo>
                      <a:pt x="510" y="86"/>
                      <a:pt x="510" y="86"/>
                      <a:pt x="510" y="86"/>
                    </a:cubicBezTo>
                    <a:cubicBezTo>
                      <a:pt x="519" y="87"/>
                      <a:pt x="519" y="87"/>
                      <a:pt x="519" y="87"/>
                    </a:cubicBezTo>
                    <a:cubicBezTo>
                      <a:pt x="527" y="89"/>
                      <a:pt x="527" y="89"/>
                      <a:pt x="527" y="89"/>
                    </a:cubicBezTo>
                    <a:cubicBezTo>
                      <a:pt x="536" y="90"/>
                      <a:pt x="536" y="90"/>
                      <a:pt x="536" y="90"/>
                    </a:cubicBezTo>
                    <a:cubicBezTo>
                      <a:pt x="544" y="91"/>
                      <a:pt x="544" y="91"/>
                      <a:pt x="544" y="91"/>
                    </a:cubicBezTo>
                    <a:cubicBezTo>
                      <a:pt x="553" y="92"/>
                      <a:pt x="553" y="92"/>
                      <a:pt x="553" y="92"/>
                    </a:cubicBezTo>
                    <a:cubicBezTo>
                      <a:pt x="561" y="93"/>
                      <a:pt x="561" y="93"/>
                      <a:pt x="561" y="93"/>
                    </a:cubicBezTo>
                    <a:cubicBezTo>
                      <a:pt x="570" y="94"/>
                      <a:pt x="570" y="94"/>
                      <a:pt x="570" y="94"/>
                    </a:cubicBezTo>
                    <a:cubicBezTo>
                      <a:pt x="578" y="95"/>
                      <a:pt x="578" y="95"/>
                      <a:pt x="578" y="95"/>
                    </a:cubicBezTo>
                    <a:cubicBezTo>
                      <a:pt x="587" y="97"/>
                      <a:pt x="587" y="97"/>
                      <a:pt x="587" y="97"/>
                    </a:cubicBezTo>
                    <a:cubicBezTo>
                      <a:pt x="595" y="98"/>
                      <a:pt x="595" y="98"/>
                      <a:pt x="595" y="98"/>
                    </a:cubicBezTo>
                    <a:cubicBezTo>
                      <a:pt x="604" y="99"/>
                      <a:pt x="604" y="99"/>
                      <a:pt x="604" y="99"/>
                    </a:cubicBezTo>
                    <a:cubicBezTo>
                      <a:pt x="612" y="100"/>
                      <a:pt x="612" y="100"/>
                      <a:pt x="612" y="100"/>
                    </a:cubicBezTo>
                    <a:cubicBezTo>
                      <a:pt x="621" y="101"/>
                      <a:pt x="621" y="101"/>
                      <a:pt x="621" y="101"/>
                    </a:cubicBezTo>
                    <a:cubicBezTo>
                      <a:pt x="629" y="102"/>
                      <a:pt x="629" y="102"/>
                      <a:pt x="629" y="102"/>
                    </a:cubicBezTo>
                    <a:cubicBezTo>
                      <a:pt x="638" y="103"/>
                      <a:pt x="638" y="103"/>
                      <a:pt x="638" y="103"/>
                    </a:cubicBezTo>
                    <a:cubicBezTo>
                      <a:pt x="646" y="104"/>
                      <a:pt x="646" y="104"/>
                      <a:pt x="646" y="104"/>
                    </a:cubicBezTo>
                    <a:cubicBezTo>
                      <a:pt x="655" y="105"/>
                      <a:pt x="655" y="105"/>
                      <a:pt x="655" y="105"/>
                    </a:cubicBezTo>
                    <a:cubicBezTo>
                      <a:pt x="663" y="106"/>
                      <a:pt x="663" y="106"/>
                      <a:pt x="663" y="106"/>
                    </a:cubicBezTo>
                    <a:cubicBezTo>
                      <a:pt x="672" y="108"/>
                      <a:pt x="672" y="108"/>
                      <a:pt x="672" y="108"/>
                    </a:cubicBezTo>
                    <a:cubicBezTo>
                      <a:pt x="680" y="109"/>
                      <a:pt x="680" y="109"/>
                      <a:pt x="680" y="109"/>
                    </a:cubicBezTo>
                    <a:cubicBezTo>
                      <a:pt x="689" y="110"/>
                      <a:pt x="689" y="110"/>
                      <a:pt x="689" y="110"/>
                    </a:cubicBezTo>
                    <a:cubicBezTo>
                      <a:pt x="697" y="111"/>
                      <a:pt x="697" y="111"/>
                      <a:pt x="697" y="111"/>
                    </a:cubicBezTo>
                    <a:cubicBezTo>
                      <a:pt x="706" y="112"/>
                      <a:pt x="706" y="112"/>
                      <a:pt x="706" y="112"/>
                    </a:cubicBezTo>
                    <a:cubicBezTo>
                      <a:pt x="714" y="113"/>
                      <a:pt x="714" y="113"/>
                      <a:pt x="714" y="113"/>
                    </a:cubicBezTo>
                    <a:cubicBezTo>
                      <a:pt x="723" y="114"/>
                      <a:pt x="723" y="114"/>
                      <a:pt x="723" y="114"/>
                    </a:cubicBezTo>
                    <a:cubicBezTo>
                      <a:pt x="731" y="115"/>
                      <a:pt x="731" y="115"/>
                      <a:pt x="731" y="115"/>
                    </a:cubicBezTo>
                    <a:cubicBezTo>
                      <a:pt x="740" y="116"/>
                      <a:pt x="740" y="116"/>
                      <a:pt x="740" y="116"/>
                    </a:cubicBezTo>
                    <a:cubicBezTo>
                      <a:pt x="748" y="117"/>
                      <a:pt x="748" y="117"/>
                      <a:pt x="748" y="117"/>
                    </a:cubicBezTo>
                    <a:cubicBezTo>
                      <a:pt x="757" y="118"/>
                      <a:pt x="757" y="118"/>
                      <a:pt x="757" y="118"/>
                    </a:cubicBezTo>
                    <a:cubicBezTo>
                      <a:pt x="765" y="119"/>
                      <a:pt x="765" y="119"/>
                      <a:pt x="765" y="119"/>
                    </a:cubicBezTo>
                    <a:cubicBezTo>
                      <a:pt x="774" y="120"/>
                      <a:pt x="774" y="120"/>
                      <a:pt x="774" y="120"/>
                    </a:cubicBezTo>
                    <a:cubicBezTo>
                      <a:pt x="782" y="121"/>
                      <a:pt x="782" y="121"/>
                      <a:pt x="782" y="121"/>
                    </a:cubicBezTo>
                    <a:cubicBezTo>
                      <a:pt x="791" y="122"/>
                      <a:pt x="791" y="122"/>
                      <a:pt x="791" y="122"/>
                    </a:cubicBezTo>
                    <a:cubicBezTo>
                      <a:pt x="799" y="123"/>
                      <a:pt x="799" y="123"/>
                      <a:pt x="799" y="123"/>
                    </a:cubicBezTo>
                    <a:cubicBezTo>
                      <a:pt x="808" y="124"/>
                      <a:pt x="808" y="124"/>
                      <a:pt x="808" y="124"/>
                    </a:cubicBezTo>
                    <a:cubicBezTo>
                      <a:pt x="816" y="125"/>
                      <a:pt x="816" y="125"/>
                      <a:pt x="816" y="125"/>
                    </a:cubicBezTo>
                    <a:cubicBezTo>
                      <a:pt x="825" y="126"/>
                      <a:pt x="825" y="126"/>
                      <a:pt x="825" y="126"/>
                    </a:cubicBezTo>
                    <a:cubicBezTo>
                      <a:pt x="833" y="127"/>
                      <a:pt x="833" y="127"/>
                      <a:pt x="833" y="127"/>
                    </a:cubicBezTo>
                    <a:cubicBezTo>
                      <a:pt x="842" y="127"/>
                      <a:pt x="842" y="127"/>
                      <a:pt x="842" y="127"/>
                    </a:cubicBezTo>
                    <a:cubicBezTo>
                      <a:pt x="850" y="128"/>
                      <a:pt x="850" y="128"/>
                      <a:pt x="850" y="128"/>
                    </a:cubicBezTo>
                    <a:cubicBezTo>
                      <a:pt x="859" y="129"/>
                      <a:pt x="859" y="129"/>
                      <a:pt x="859" y="129"/>
                    </a:cubicBezTo>
                    <a:cubicBezTo>
                      <a:pt x="868" y="130"/>
                      <a:pt x="868" y="130"/>
                      <a:pt x="868" y="130"/>
                    </a:cubicBezTo>
                    <a:cubicBezTo>
                      <a:pt x="876" y="131"/>
                      <a:pt x="876" y="131"/>
                      <a:pt x="876" y="131"/>
                    </a:cubicBezTo>
                    <a:cubicBezTo>
                      <a:pt x="885" y="132"/>
                      <a:pt x="885" y="132"/>
                      <a:pt x="885" y="132"/>
                    </a:cubicBezTo>
                    <a:cubicBezTo>
                      <a:pt x="893" y="133"/>
                      <a:pt x="893" y="133"/>
                      <a:pt x="893" y="133"/>
                    </a:cubicBezTo>
                    <a:cubicBezTo>
                      <a:pt x="902" y="134"/>
                      <a:pt x="902" y="134"/>
                      <a:pt x="902" y="134"/>
                    </a:cubicBezTo>
                    <a:cubicBezTo>
                      <a:pt x="910" y="135"/>
                      <a:pt x="910" y="135"/>
                      <a:pt x="910" y="135"/>
                    </a:cubicBezTo>
                    <a:cubicBezTo>
                      <a:pt x="919" y="136"/>
                      <a:pt x="919" y="136"/>
                      <a:pt x="919" y="136"/>
                    </a:cubicBezTo>
                    <a:cubicBezTo>
                      <a:pt x="927" y="137"/>
                      <a:pt x="927" y="137"/>
                      <a:pt x="927" y="137"/>
                    </a:cubicBezTo>
                    <a:cubicBezTo>
                      <a:pt x="936" y="137"/>
                      <a:pt x="936" y="137"/>
                      <a:pt x="936" y="137"/>
                    </a:cubicBezTo>
                    <a:cubicBezTo>
                      <a:pt x="944" y="138"/>
                      <a:pt x="944" y="138"/>
                      <a:pt x="944" y="138"/>
                    </a:cubicBezTo>
                    <a:cubicBezTo>
                      <a:pt x="953" y="139"/>
                      <a:pt x="953" y="139"/>
                      <a:pt x="953" y="139"/>
                    </a:cubicBezTo>
                    <a:cubicBezTo>
                      <a:pt x="961" y="140"/>
                      <a:pt x="961" y="140"/>
                      <a:pt x="961" y="140"/>
                    </a:cubicBezTo>
                    <a:cubicBezTo>
                      <a:pt x="970" y="141"/>
                      <a:pt x="970" y="141"/>
                      <a:pt x="970" y="141"/>
                    </a:cubicBezTo>
                    <a:cubicBezTo>
                      <a:pt x="978" y="142"/>
                      <a:pt x="978" y="142"/>
                      <a:pt x="978" y="142"/>
                    </a:cubicBezTo>
                    <a:cubicBezTo>
                      <a:pt x="987" y="143"/>
                      <a:pt x="987" y="143"/>
                      <a:pt x="987" y="143"/>
                    </a:cubicBezTo>
                    <a:cubicBezTo>
                      <a:pt x="995" y="143"/>
                      <a:pt x="995" y="143"/>
                      <a:pt x="995" y="143"/>
                    </a:cubicBezTo>
                    <a:cubicBezTo>
                      <a:pt x="1004" y="144"/>
                      <a:pt x="1004" y="144"/>
                      <a:pt x="1004" y="144"/>
                    </a:cubicBezTo>
                    <a:cubicBezTo>
                      <a:pt x="1012" y="145"/>
                      <a:pt x="1012" y="145"/>
                      <a:pt x="1012" y="145"/>
                    </a:cubicBezTo>
                    <a:cubicBezTo>
                      <a:pt x="1021" y="146"/>
                      <a:pt x="1021" y="146"/>
                      <a:pt x="1021" y="146"/>
                    </a:cubicBezTo>
                    <a:cubicBezTo>
                      <a:pt x="1029" y="147"/>
                      <a:pt x="1029" y="147"/>
                      <a:pt x="1029" y="147"/>
                    </a:cubicBezTo>
                    <a:cubicBezTo>
                      <a:pt x="1038" y="148"/>
                      <a:pt x="1038" y="148"/>
                      <a:pt x="1038" y="148"/>
                    </a:cubicBezTo>
                    <a:cubicBezTo>
                      <a:pt x="1046" y="148"/>
                      <a:pt x="1046" y="148"/>
                      <a:pt x="1046" y="148"/>
                    </a:cubicBezTo>
                    <a:cubicBezTo>
                      <a:pt x="1055" y="149"/>
                      <a:pt x="1055" y="149"/>
                      <a:pt x="1055" y="149"/>
                    </a:cubicBezTo>
                    <a:cubicBezTo>
                      <a:pt x="1063" y="150"/>
                      <a:pt x="1063" y="150"/>
                      <a:pt x="1063" y="150"/>
                    </a:cubicBezTo>
                    <a:cubicBezTo>
                      <a:pt x="1072" y="151"/>
                      <a:pt x="1072" y="151"/>
                      <a:pt x="1072" y="151"/>
                    </a:cubicBezTo>
                    <a:cubicBezTo>
                      <a:pt x="1080" y="152"/>
                      <a:pt x="1080" y="152"/>
                      <a:pt x="1080" y="152"/>
                    </a:cubicBezTo>
                    <a:cubicBezTo>
                      <a:pt x="1089" y="152"/>
                      <a:pt x="1089" y="152"/>
                      <a:pt x="1089" y="152"/>
                    </a:cubicBezTo>
                    <a:cubicBezTo>
                      <a:pt x="1097" y="153"/>
                      <a:pt x="1097" y="153"/>
                      <a:pt x="1097" y="153"/>
                    </a:cubicBezTo>
                    <a:cubicBezTo>
                      <a:pt x="1106" y="154"/>
                      <a:pt x="1106" y="154"/>
                      <a:pt x="1106" y="154"/>
                    </a:cubicBezTo>
                    <a:cubicBezTo>
                      <a:pt x="1114" y="155"/>
                      <a:pt x="1114" y="155"/>
                      <a:pt x="1114" y="155"/>
                    </a:cubicBezTo>
                    <a:cubicBezTo>
                      <a:pt x="1123" y="156"/>
                      <a:pt x="1123" y="156"/>
                      <a:pt x="1123" y="156"/>
                    </a:cubicBezTo>
                    <a:cubicBezTo>
                      <a:pt x="1131" y="156"/>
                      <a:pt x="1131" y="156"/>
                      <a:pt x="1131" y="156"/>
                    </a:cubicBezTo>
                    <a:cubicBezTo>
                      <a:pt x="1140" y="157"/>
                      <a:pt x="1140" y="157"/>
                      <a:pt x="1140" y="157"/>
                    </a:cubicBezTo>
                    <a:cubicBezTo>
                      <a:pt x="1148" y="158"/>
                      <a:pt x="1148" y="158"/>
                      <a:pt x="1148" y="158"/>
                    </a:cubicBezTo>
                    <a:cubicBezTo>
                      <a:pt x="1157" y="159"/>
                      <a:pt x="1157" y="159"/>
                      <a:pt x="1157" y="159"/>
                    </a:cubicBezTo>
                    <a:cubicBezTo>
                      <a:pt x="1165" y="159"/>
                      <a:pt x="1165" y="159"/>
                      <a:pt x="1165" y="159"/>
                    </a:cubicBezTo>
                    <a:cubicBezTo>
                      <a:pt x="1174" y="160"/>
                      <a:pt x="1174" y="160"/>
                      <a:pt x="1174" y="160"/>
                    </a:cubicBezTo>
                    <a:cubicBezTo>
                      <a:pt x="1182" y="161"/>
                      <a:pt x="1182" y="161"/>
                      <a:pt x="1182" y="161"/>
                    </a:cubicBezTo>
                    <a:cubicBezTo>
                      <a:pt x="1191" y="162"/>
                      <a:pt x="1191" y="162"/>
                      <a:pt x="1191" y="162"/>
                    </a:cubicBezTo>
                    <a:cubicBezTo>
                      <a:pt x="1199" y="162"/>
                      <a:pt x="1199" y="162"/>
                      <a:pt x="1199" y="162"/>
                    </a:cubicBezTo>
                    <a:cubicBezTo>
                      <a:pt x="1208" y="163"/>
                      <a:pt x="1208" y="163"/>
                      <a:pt x="1208" y="163"/>
                    </a:cubicBezTo>
                    <a:cubicBezTo>
                      <a:pt x="1216" y="164"/>
                      <a:pt x="1216" y="164"/>
                      <a:pt x="1216" y="164"/>
                    </a:cubicBezTo>
                    <a:cubicBezTo>
                      <a:pt x="1225" y="165"/>
                      <a:pt x="1225" y="165"/>
                      <a:pt x="1225" y="165"/>
                    </a:cubicBezTo>
                    <a:cubicBezTo>
                      <a:pt x="1233" y="165"/>
                      <a:pt x="1233" y="165"/>
                      <a:pt x="1233" y="165"/>
                    </a:cubicBezTo>
                    <a:cubicBezTo>
                      <a:pt x="1242" y="166"/>
                      <a:pt x="1242" y="166"/>
                      <a:pt x="1242" y="166"/>
                    </a:cubicBezTo>
                    <a:cubicBezTo>
                      <a:pt x="1250" y="167"/>
                      <a:pt x="1250" y="167"/>
                      <a:pt x="1250" y="167"/>
                    </a:cubicBezTo>
                    <a:cubicBezTo>
                      <a:pt x="1259" y="167"/>
                      <a:pt x="1259" y="167"/>
                      <a:pt x="1259" y="167"/>
                    </a:cubicBezTo>
                    <a:cubicBezTo>
                      <a:pt x="1267" y="168"/>
                      <a:pt x="1267" y="168"/>
                      <a:pt x="1267" y="168"/>
                    </a:cubicBezTo>
                    <a:cubicBezTo>
                      <a:pt x="1276" y="169"/>
                      <a:pt x="1276" y="169"/>
                      <a:pt x="1276" y="169"/>
                    </a:cubicBezTo>
                    <a:cubicBezTo>
                      <a:pt x="1284" y="169"/>
                      <a:pt x="1284" y="169"/>
                      <a:pt x="1284" y="169"/>
                    </a:cubicBezTo>
                    <a:cubicBezTo>
                      <a:pt x="1293" y="170"/>
                      <a:pt x="1293" y="170"/>
                      <a:pt x="1293" y="170"/>
                    </a:cubicBezTo>
                    <a:cubicBezTo>
                      <a:pt x="1301" y="171"/>
                      <a:pt x="1301" y="171"/>
                      <a:pt x="1301" y="171"/>
                    </a:cubicBezTo>
                    <a:cubicBezTo>
                      <a:pt x="1310" y="171"/>
                      <a:pt x="1310" y="171"/>
                      <a:pt x="1310" y="171"/>
                    </a:cubicBezTo>
                    <a:cubicBezTo>
                      <a:pt x="1318" y="172"/>
                      <a:pt x="1318" y="172"/>
                      <a:pt x="1318" y="172"/>
                    </a:cubicBezTo>
                    <a:cubicBezTo>
                      <a:pt x="1327" y="173"/>
                      <a:pt x="1327" y="173"/>
                      <a:pt x="1327" y="173"/>
                    </a:cubicBezTo>
                    <a:cubicBezTo>
                      <a:pt x="1335" y="173"/>
                      <a:pt x="1335" y="173"/>
                      <a:pt x="1335" y="173"/>
                    </a:cubicBezTo>
                    <a:cubicBezTo>
                      <a:pt x="1344" y="174"/>
                      <a:pt x="1344" y="174"/>
                      <a:pt x="1344" y="174"/>
                    </a:cubicBezTo>
                    <a:cubicBezTo>
                      <a:pt x="1352" y="175"/>
                      <a:pt x="1352" y="175"/>
                      <a:pt x="1352" y="175"/>
                    </a:cubicBezTo>
                    <a:cubicBezTo>
                      <a:pt x="1361" y="175"/>
                      <a:pt x="1361" y="175"/>
                      <a:pt x="1361" y="175"/>
                    </a:cubicBezTo>
                    <a:cubicBezTo>
                      <a:pt x="1369" y="176"/>
                      <a:pt x="1369" y="176"/>
                      <a:pt x="1369" y="176"/>
                    </a:cubicBezTo>
                    <a:cubicBezTo>
                      <a:pt x="1378" y="177"/>
                      <a:pt x="1378" y="177"/>
                      <a:pt x="1378" y="177"/>
                    </a:cubicBezTo>
                    <a:cubicBezTo>
                      <a:pt x="1386" y="177"/>
                      <a:pt x="1386" y="177"/>
                      <a:pt x="1386" y="177"/>
                    </a:cubicBezTo>
                    <a:cubicBezTo>
                      <a:pt x="1395" y="178"/>
                      <a:pt x="1395" y="178"/>
                      <a:pt x="1395" y="178"/>
                    </a:cubicBezTo>
                    <a:cubicBezTo>
                      <a:pt x="1403" y="179"/>
                      <a:pt x="1403" y="179"/>
                      <a:pt x="1403" y="179"/>
                    </a:cubicBezTo>
                    <a:cubicBezTo>
                      <a:pt x="1412" y="179"/>
                      <a:pt x="1412" y="179"/>
                      <a:pt x="1412" y="179"/>
                    </a:cubicBezTo>
                    <a:cubicBezTo>
                      <a:pt x="1420" y="180"/>
                      <a:pt x="1420" y="180"/>
                      <a:pt x="1420" y="180"/>
                    </a:cubicBezTo>
                    <a:cubicBezTo>
                      <a:pt x="1429" y="181"/>
                      <a:pt x="1429" y="181"/>
                      <a:pt x="1429" y="181"/>
                    </a:cubicBezTo>
                    <a:cubicBezTo>
                      <a:pt x="1437" y="181"/>
                      <a:pt x="1437" y="181"/>
                      <a:pt x="1437" y="181"/>
                    </a:cubicBezTo>
                    <a:cubicBezTo>
                      <a:pt x="1446" y="182"/>
                      <a:pt x="1446" y="182"/>
                      <a:pt x="1446" y="182"/>
                    </a:cubicBezTo>
                    <a:cubicBezTo>
                      <a:pt x="1454" y="182"/>
                      <a:pt x="1454" y="182"/>
                      <a:pt x="1454" y="182"/>
                    </a:cubicBezTo>
                    <a:cubicBezTo>
                      <a:pt x="1463" y="183"/>
                      <a:pt x="1463" y="183"/>
                      <a:pt x="1463" y="183"/>
                    </a:cubicBezTo>
                    <a:cubicBezTo>
                      <a:pt x="1471" y="184"/>
                      <a:pt x="1471" y="184"/>
                      <a:pt x="1471" y="184"/>
                    </a:cubicBezTo>
                    <a:cubicBezTo>
                      <a:pt x="1480" y="184"/>
                      <a:pt x="1480" y="184"/>
                      <a:pt x="1480" y="184"/>
                    </a:cubicBezTo>
                    <a:cubicBezTo>
                      <a:pt x="1488" y="185"/>
                      <a:pt x="1488" y="185"/>
                      <a:pt x="1488" y="185"/>
                    </a:cubicBezTo>
                    <a:cubicBezTo>
                      <a:pt x="1497" y="185"/>
                      <a:pt x="1497" y="185"/>
                      <a:pt x="1497" y="185"/>
                    </a:cubicBezTo>
                    <a:cubicBezTo>
                      <a:pt x="1505" y="186"/>
                      <a:pt x="1505" y="186"/>
                      <a:pt x="1505" y="186"/>
                    </a:cubicBezTo>
                    <a:cubicBezTo>
                      <a:pt x="1514" y="187"/>
                      <a:pt x="1514" y="187"/>
                      <a:pt x="1514" y="187"/>
                    </a:cubicBezTo>
                    <a:cubicBezTo>
                      <a:pt x="1522" y="187"/>
                      <a:pt x="1522" y="187"/>
                      <a:pt x="1522" y="187"/>
                    </a:cubicBezTo>
                    <a:cubicBezTo>
                      <a:pt x="1531" y="188"/>
                      <a:pt x="1531" y="188"/>
                      <a:pt x="1531" y="188"/>
                    </a:cubicBezTo>
                    <a:cubicBezTo>
                      <a:pt x="1539" y="188"/>
                      <a:pt x="1539" y="188"/>
                      <a:pt x="1539" y="188"/>
                    </a:cubicBezTo>
                    <a:cubicBezTo>
                      <a:pt x="1548" y="189"/>
                      <a:pt x="1548" y="189"/>
                      <a:pt x="1548" y="189"/>
                    </a:cubicBezTo>
                    <a:cubicBezTo>
                      <a:pt x="1556" y="189"/>
                      <a:pt x="1556" y="189"/>
                      <a:pt x="1556" y="189"/>
                    </a:cubicBezTo>
                    <a:cubicBezTo>
                      <a:pt x="1565" y="190"/>
                      <a:pt x="1565" y="190"/>
                      <a:pt x="1565" y="190"/>
                    </a:cubicBezTo>
                    <a:cubicBezTo>
                      <a:pt x="1573" y="191"/>
                      <a:pt x="1573" y="191"/>
                      <a:pt x="1573" y="191"/>
                    </a:cubicBezTo>
                    <a:cubicBezTo>
                      <a:pt x="1582" y="191"/>
                      <a:pt x="1582" y="191"/>
                      <a:pt x="1582" y="191"/>
                    </a:cubicBezTo>
                    <a:cubicBezTo>
                      <a:pt x="1590" y="192"/>
                      <a:pt x="1590" y="192"/>
                      <a:pt x="1590" y="192"/>
                    </a:cubicBezTo>
                    <a:cubicBezTo>
                      <a:pt x="1599" y="192"/>
                      <a:pt x="1599" y="192"/>
                      <a:pt x="1599" y="192"/>
                    </a:cubicBezTo>
                    <a:cubicBezTo>
                      <a:pt x="1607" y="193"/>
                      <a:pt x="1607" y="193"/>
                      <a:pt x="1607" y="193"/>
                    </a:cubicBezTo>
                    <a:cubicBezTo>
                      <a:pt x="1616" y="193"/>
                      <a:pt x="1616" y="193"/>
                      <a:pt x="1616" y="193"/>
                    </a:cubicBezTo>
                    <a:cubicBezTo>
                      <a:pt x="1624" y="194"/>
                      <a:pt x="1624" y="194"/>
                      <a:pt x="1624" y="194"/>
                    </a:cubicBezTo>
                    <a:cubicBezTo>
                      <a:pt x="1633" y="194"/>
                      <a:pt x="1633" y="194"/>
                      <a:pt x="1633" y="194"/>
                    </a:cubicBezTo>
                    <a:cubicBezTo>
                      <a:pt x="1641" y="195"/>
                      <a:pt x="1641" y="195"/>
                      <a:pt x="1641" y="195"/>
                    </a:cubicBezTo>
                    <a:cubicBezTo>
                      <a:pt x="1650" y="195"/>
                      <a:pt x="1650" y="195"/>
                      <a:pt x="1650" y="195"/>
                    </a:cubicBezTo>
                    <a:cubicBezTo>
                      <a:pt x="1658" y="196"/>
                      <a:pt x="1658" y="196"/>
                      <a:pt x="1658" y="196"/>
                    </a:cubicBezTo>
                    <a:cubicBezTo>
                      <a:pt x="1667" y="197"/>
                      <a:pt x="1667" y="197"/>
                      <a:pt x="1667" y="197"/>
                    </a:cubicBezTo>
                    <a:cubicBezTo>
                      <a:pt x="1675" y="197"/>
                      <a:pt x="1675" y="197"/>
                      <a:pt x="1675" y="197"/>
                    </a:cubicBezTo>
                    <a:cubicBezTo>
                      <a:pt x="1684" y="198"/>
                      <a:pt x="1684" y="198"/>
                      <a:pt x="1684" y="198"/>
                    </a:cubicBezTo>
                    <a:cubicBezTo>
                      <a:pt x="1692" y="198"/>
                      <a:pt x="1692" y="198"/>
                      <a:pt x="1692" y="198"/>
                    </a:cubicBezTo>
                    <a:cubicBezTo>
                      <a:pt x="1701" y="199"/>
                      <a:pt x="1701" y="199"/>
                      <a:pt x="1701" y="199"/>
                    </a:cubicBezTo>
                    <a:cubicBezTo>
                      <a:pt x="1710" y="199"/>
                      <a:pt x="1710" y="199"/>
                      <a:pt x="1710" y="199"/>
                    </a:cubicBezTo>
                    <a:cubicBezTo>
                      <a:pt x="1718" y="200"/>
                      <a:pt x="1718" y="200"/>
                      <a:pt x="1718" y="200"/>
                    </a:cubicBezTo>
                    <a:cubicBezTo>
                      <a:pt x="1727" y="200"/>
                      <a:pt x="1727" y="200"/>
                      <a:pt x="1727" y="200"/>
                    </a:cubicBezTo>
                    <a:cubicBezTo>
                      <a:pt x="1735" y="201"/>
                      <a:pt x="1735" y="201"/>
                      <a:pt x="1735" y="201"/>
                    </a:cubicBezTo>
                    <a:cubicBezTo>
                      <a:pt x="1744" y="201"/>
                      <a:pt x="1744" y="201"/>
                      <a:pt x="1744" y="201"/>
                    </a:cubicBezTo>
                    <a:cubicBezTo>
                      <a:pt x="1752" y="202"/>
                      <a:pt x="1752" y="202"/>
                      <a:pt x="1752" y="202"/>
                    </a:cubicBezTo>
                    <a:cubicBezTo>
                      <a:pt x="1761" y="202"/>
                      <a:pt x="1761" y="202"/>
                      <a:pt x="1761" y="202"/>
                    </a:cubicBezTo>
                    <a:cubicBezTo>
                      <a:pt x="1769" y="203"/>
                      <a:pt x="1769" y="203"/>
                      <a:pt x="1769" y="203"/>
                    </a:cubicBezTo>
                    <a:cubicBezTo>
                      <a:pt x="1778" y="203"/>
                      <a:pt x="1778" y="203"/>
                      <a:pt x="1778" y="203"/>
                    </a:cubicBezTo>
                    <a:cubicBezTo>
                      <a:pt x="1786" y="204"/>
                      <a:pt x="1786" y="204"/>
                      <a:pt x="1786" y="204"/>
                    </a:cubicBezTo>
                    <a:cubicBezTo>
                      <a:pt x="1795" y="204"/>
                      <a:pt x="1795" y="204"/>
                      <a:pt x="1795" y="204"/>
                    </a:cubicBezTo>
                    <a:cubicBezTo>
                      <a:pt x="1803" y="205"/>
                      <a:pt x="1803" y="205"/>
                      <a:pt x="1803" y="205"/>
                    </a:cubicBezTo>
                    <a:cubicBezTo>
                      <a:pt x="1812" y="205"/>
                      <a:pt x="1812" y="205"/>
                      <a:pt x="1812" y="205"/>
                    </a:cubicBezTo>
                    <a:cubicBezTo>
                      <a:pt x="1820" y="205"/>
                      <a:pt x="1820" y="205"/>
                      <a:pt x="1820" y="205"/>
                    </a:cubicBezTo>
                    <a:cubicBezTo>
                      <a:pt x="1829" y="206"/>
                      <a:pt x="1829" y="206"/>
                      <a:pt x="1829" y="206"/>
                    </a:cubicBezTo>
                    <a:cubicBezTo>
                      <a:pt x="1837" y="206"/>
                      <a:pt x="1837" y="206"/>
                      <a:pt x="1837" y="206"/>
                    </a:cubicBezTo>
                    <a:cubicBezTo>
                      <a:pt x="1846" y="207"/>
                      <a:pt x="1846" y="207"/>
                      <a:pt x="1846" y="207"/>
                    </a:cubicBezTo>
                    <a:cubicBezTo>
                      <a:pt x="1854" y="207"/>
                      <a:pt x="1854" y="207"/>
                      <a:pt x="1854" y="207"/>
                    </a:cubicBezTo>
                    <a:cubicBezTo>
                      <a:pt x="1863" y="208"/>
                      <a:pt x="1863" y="208"/>
                      <a:pt x="1863" y="208"/>
                    </a:cubicBezTo>
                    <a:cubicBezTo>
                      <a:pt x="1871" y="208"/>
                      <a:pt x="1871" y="208"/>
                      <a:pt x="1871" y="208"/>
                    </a:cubicBezTo>
                    <a:cubicBezTo>
                      <a:pt x="1880" y="209"/>
                      <a:pt x="1880" y="209"/>
                      <a:pt x="1880" y="209"/>
                    </a:cubicBezTo>
                    <a:cubicBezTo>
                      <a:pt x="1888" y="209"/>
                      <a:pt x="1888" y="209"/>
                      <a:pt x="1888" y="209"/>
                    </a:cubicBezTo>
                    <a:cubicBezTo>
                      <a:pt x="1897" y="210"/>
                      <a:pt x="1897" y="210"/>
                      <a:pt x="1897" y="210"/>
                    </a:cubicBezTo>
                    <a:cubicBezTo>
                      <a:pt x="1905" y="210"/>
                      <a:pt x="1905" y="210"/>
                      <a:pt x="1905" y="210"/>
                    </a:cubicBezTo>
                    <a:cubicBezTo>
                      <a:pt x="1914" y="211"/>
                      <a:pt x="1914" y="211"/>
                      <a:pt x="1914" y="211"/>
                    </a:cubicBezTo>
                    <a:cubicBezTo>
                      <a:pt x="1922" y="211"/>
                      <a:pt x="1922" y="211"/>
                      <a:pt x="1922" y="211"/>
                    </a:cubicBezTo>
                    <a:cubicBezTo>
                      <a:pt x="1931" y="211"/>
                      <a:pt x="1931" y="211"/>
                      <a:pt x="1931" y="211"/>
                    </a:cubicBezTo>
                    <a:cubicBezTo>
                      <a:pt x="1939" y="212"/>
                      <a:pt x="1939" y="212"/>
                      <a:pt x="1939" y="212"/>
                    </a:cubicBezTo>
                    <a:cubicBezTo>
                      <a:pt x="1948" y="212"/>
                      <a:pt x="1948" y="212"/>
                      <a:pt x="1948" y="212"/>
                    </a:cubicBezTo>
                    <a:cubicBezTo>
                      <a:pt x="1956" y="213"/>
                      <a:pt x="1956" y="213"/>
                      <a:pt x="1956" y="213"/>
                    </a:cubicBezTo>
                    <a:cubicBezTo>
                      <a:pt x="1965" y="213"/>
                      <a:pt x="1965" y="213"/>
                      <a:pt x="1965" y="213"/>
                    </a:cubicBezTo>
                    <a:cubicBezTo>
                      <a:pt x="1973" y="214"/>
                      <a:pt x="1973" y="214"/>
                      <a:pt x="1973" y="214"/>
                    </a:cubicBezTo>
                    <a:cubicBezTo>
                      <a:pt x="1982" y="214"/>
                      <a:pt x="1982" y="214"/>
                      <a:pt x="1982" y="214"/>
                    </a:cubicBezTo>
                    <a:cubicBezTo>
                      <a:pt x="1990" y="214"/>
                      <a:pt x="1990" y="214"/>
                      <a:pt x="1990" y="214"/>
                    </a:cubicBezTo>
                    <a:cubicBezTo>
                      <a:pt x="1999" y="215"/>
                      <a:pt x="1999" y="215"/>
                      <a:pt x="1999" y="215"/>
                    </a:cubicBezTo>
                    <a:cubicBezTo>
                      <a:pt x="2007" y="215"/>
                      <a:pt x="2007" y="215"/>
                      <a:pt x="2007" y="215"/>
                    </a:cubicBezTo>
                    <a:cubicBezTo>
                      <a:pt x="2016" y="216"/>
                      <a:pt x="2016" y="216"/>
                      <a:pt x="2016" y="216"/>
                    </a:cubicBezTo>
                    <a:cubicBezTo>
                      <a:pt x="2024" y="216"/>
                      <a:pt x="2024" y="216"/>
                      <a:pt x="2024" y="216"/>
                    </a:cubicBezTo>
                    <a:cubicBezTo>
                      <a:pt x="2033" y="216"/>
                      <a:pt x="2033" y="216"/>
                      <a:pt x="2033" y="216"/>
                    </a:cubicBezTo>
                    <a:cubicBezTo>
                      <a:pt x="2041" y="217"/>
                      <a:pt x="2041" y="217"/>
                      <a:pt x="2041" y="217"/>
                    </a:cubicBezTo>
                    <a:cubicBezTo>
                      <a:pt x="2050" y="217"/>
                      <a:pt x="2050" y="217"/>
                      <a:pt x="2050" y="217"/>
                    </a:cubicBezTo>
                    <a:cubicBezTo>
                      <a:pt x="2058" y="218"/>
                      <a:pt x="2058" y="218"/>
                      <a:pt x="2058" y="218"/>
                    </a:cubicBezTo>
                    <a:cubicBezTo>
                      <a:pt x="2067" y="218"/>
                      <a:pt x="2067" y="218"/>
                      <a:pt x="2067" y="218"/>
                    </a:cubicBezTo>
                    <a:cubicBezTo>
                      <a:pt x="2075" y="218"/>
                      <a:pt x="2075" y="218"/>
                      <a:pt x="2075" y="218"/>
                    </a:cubicBezTo>
                    <a:cubicBezTo>
                      <a:pt x="2084" y="219"/>
                      <a:pt x="2084" y="219"/>
                      <a:pt x="2084" y="219"/>
                    </a:cubicBezTo>
                    <a:cubicBezTo>
                      <a:pt x="2092" y="219"/>
                      <a:pt x="2092" y="219"/>
                      <a:pt x="2092" y="219"/>
                    </a:cubicBezTo>
                    <a:cubicBezTo>
                      <a:pt x="2101" y="220"/>
                      <a:pt x="2101" y="220"/>
                      <a:pt x="2101" y="220"/>
                    </a:cubicBezTo>
                    <a:cubicBezTo>
                      <a:pt x="2109" y="220"/>
                      <a:pt x="2109" y="220"/>
                      <a:pt x="2109" y="220"/>
                    </a:cubicBezTo>
                    <a:cubicBezTo>
                      <a:pt x="2118" y="220"/>
                      <a:pt x="2118" y="220"/>
                      <a:pt x="2118" y="220"/>
                    </a:cubicBezTo>
                    <a:cubicBezTo>
                      <a:pt x="2126" y="221"/>
                      <a:pt x="2126" y="221"/>
                      <a:pt x="2126" y="221"/>
                    </a:cubicBezTo>
                    <a:cubicBezTo>
                      <a:pt x="2135" y="221"/>
                      <a:pt x="2135" y="221"/>
                      <a:pt x="2135" y="221"/>
                    </a:cubicBezTo>
                    <a:cubicBezTo>
                      <a:pt x="2143" y="221"/>
                      <a:pt x="2143" y="221"/>
                      <a:pt x="2143" y="221"/>
                    </a:cubicBezTo>
                    <a:cubicBezTo>
                      <a:pt x="2152" y="222"/>
                      <a:pt x="2152" y="222"/>
                      <a:pt x="2152" y="222"/>
                    </a:cubicBezTo>
                    <a:cubicBezTo>
                      <a:pt x="2160" y="222"/>
                      <a:pt x="2160" y="222"/>
                      <a:pt x="2160" y="222"/>
                    </a:cubicBezTo>
                    <a:cubicBezTo>
                      <a:pt x="2169" y="223"/>
                      <a:pt x="2169" y="223"/>
                      <a:pt x="2169" y="223"/>
                    </a:cubicBezTo>
                    <a:cubicBezTo>
                      <a:pt x="2177" y="223"/>
                      <a:pt x="2177" y="223"/>
                      <a:pt x="2177" y="223"/>
                    </a:cubicBezTo>
                    <a:cubicBezTo>
                      <a:pt x="2186" y="223"/>
                      <a:pt x="2186" y="223"/>
                      <a:pt x="2186" y="223"/>
                    </a:cubicBezTo>
                    <a:cubicBezTo>
                      <a:pt x="2194" y="224"/>
                      <a:pt x="2194" y="224"/>
                      <a:pt x="2194" y="224"/>
                    </a:cubicBezTo>
                    <a:cubicBezTo>
                      <a:pt x="2203" y="224"/>
                      <a:pt x="2203" y="224"/>
                      <a:pt x="2203" y="224"/>
                    </a:cubicBezTo>
                    <a:cubicBezTo>
                      <a:pt x="2211" y="224"/>
                      <a:pt x="2211" y="224"/>
                      <a:pt x="2211" y="224"/>
                    </a:cubicBezTo>
                    <a:cubicBezTo>
                      <a:pt x="2220" y="225"/>
                      <a:pt x="2220" y="225"/>
                      <a:pt x="2220" y="225"/>
                    </a:cubicBezTo>
                    <a:cubicBezTo>
                      <a:pt x="2228" y="225"/>
                      <a:pt x="2228" y="225"/>
                      <a:pt x="2228" y="225"/>
                    </a:cubicBezTo>
                    <a:cubicBezTo>
                      <a:pt x="2237" y="225"/>
                      <a:pt x="2237" y="225"/>
                      <a:pt x="2237" y="225"/>
                    </a:cubicBezTo>
                    <a:cubicBezTo>
                      <a:pt x="2245" y="226"/>
                      <a:pt x="2245" y="226"/>
                      <a:pt x="2245" y="226"/>
                    </a:cubicBezTo>
                    <a:cubicBezTo>
                      <a:pt x="2254" y="226"/>
                      <a:pt x="2254" y="226"/>
                      <a:pt x="2254" y="226"/>
                    </a:cubicBezTo>
                    <a:cubicBezTo>
                      <a:pt x="2262" y="227"/>
                      <a:pt x="2262" y="227"/>
                      <a:pt x="2262" y="227"/>
                    </a:cubicBezTo>
                    <a:cubicBezTo>
                      <a:pt x="2271" y="227"/>
                      <a:pt x="2271" y="227"/>
                      <a:pt x="2271" y="227"/>
                    </a:cubicBezTo>
                    <a:cubicBezTo>
                      <a:pt x="2279" y="227"/>
                      <a:pt x="2279" y="227"/>
                      <a:pt x="2279" y="227"/>
                    </a:cubicBezTo>
                    <a:cubicBezTo>
                      <a:pt x="2288" y="228"/>
                      <a:pt x="2288" y="228"/>
                      <a:pt x="2288" y="228"/>
                    </a:cubicBezTo>
                    <a:cubicBezTo>
                      <a:pt x="2296" y="228"/>
                      <a:pt x="2296" y="228"/>
                      <a:pt x="2296" y="228"/>
                    </a:cubicBezTo>
                    <a:cubicBezTo>
                      <a:pt x="2305" y="228"/>
                      <a:pt x="2305" y="228"/>
                      <a:pt x="2305" y="228"/>
                    </a:cubicBezTo>
                    <a:cubicBezTo>
                      <a:pt x="2313" y="229"/>
                      <a:pt x="2313" y="229"/>
                      <a:pt x="2313" y="229"/>
                    </a:cubicBezTo>
                    <a:cubicBezTo>
                      <a:pt x="2322" y="229"/>
                      <a:pt x="2322" y="229"/>
                      <a:pt x="2322" y="229"/>
                    </a:cubicBezTo>
                    <a:cubicBezTo>
                      <a:pt x="2330" y="229"/>
                      <a:pt x="2330" y="229"/>
                      <a:pt x="2330" y="229"/>
                    </a:cubicBezTo>
                    <a:cubicBezTo>
                      <a:pt x="2339" y="230"/>
                      <a:pt x="2339" y="230"/>
                      <a:pt x="2339" y="230"/>
                    </a:cubicBezTo>
                    <a:cubicBezTo>
                      <a:pt x="2347" y="230"/>
                      <a:pt x="2347" y="230"/>
                      <a:pt x="2347" y="230"/>
                    </a:cubicBezTo>
                    <a:cubicBezTo>
                      <a:pt x="2356" y="230"/>
                      <a:pt x="2356" y="230"/>
                      <a:pt x="2356" y="230"/>
                    </a:cubicBezTo>
                    <a:cubicBezTo>
                      <a:pt x="2364" y="231"/>
                      <a:pt x="2364" y="231"/>
                      <a:pt x="2364" y="231"/>
                    </a:cubicBezTo>
                    <a:cubicBezTo>
                      <a:pt x="2373" y="231"/>
                      <a:pt x="2373" y="231"/>
                      <a:pt x="2373" y="231"/>
                    </a:cubicBezTo>
                    <a:cubicBezTo>
                      <a:pt x="2381" y="231"/>
                      <a:pt x="2381" y="231"/>
                      <a:pt x="2381" y="231"/>
                    </a:cubicBezTo>
                    <a:cubicBezTo>
                      <a:pt x="2390" y="231"/>
                      <a:pt x="2390" y="231"/>
                      <a:pt x="2390" y="231"/>
                    </a:cubicBezTo>
                    <a:cubicBezTo>
                      <a:pt x="2398" y="232"/>
                      <a:pt x="2398" y="232"/>
                      <a:pt x="2398" y="232"/>
                    </a:cubicBezTo>
                    <a:cubicBezTo>
                      <a:pt x="2407" y="232"/>
                      <a:pt x="2407" y="232"/>
                      <a:pt x="2407" y="232"/>
                    </a:cubicBezTo>
                    <a:cubicBezTo>
                      <a:pt x="2415" y="232"/>
                      <a:pt x="2415" y="232"/>
                      <a:pt x="2415" y="232"/>
                    </a:cubicBezTo>
                    <a:cubicBezTo>
                      <a:pt x="2424" y="233"/>
                      <a:pt x="2424" y="233"/>
                      <a:pt x="2424" y="233"/>
                    </a:cubicBezTo>
                    <a:cubicBezTo>
                      <a:pt x="2432" y="233"/>
                      <a:pt x="2432" y="233"/>
                      <a:pt x="2432" y="233"/>
                    </a:cubicBezTo>
                    <a:cubicBezTo>
                      <a:pt x="2441" y="233"/>
                      <a:pt x="2441" y="233"/>
                      <a:pt x="2441" y="233"/>
                    </a:cubicBezTo>
                    <a:cubicBezTo>
                      <a:pt x="2449" y="234"/>
                      <a:pt x="2449" y="234"/>
                      <a:pt x="2449" y="234"/>
                    </a:cubicBezTo>
                    <a:cubicBezTo>
                      <a:pt x="2458" y="234"/>
                      <a:pt x="2458" y="234"/>
                      <a:pt x="2458" y="234"/>
                    </a:cubicBezTo>
                    <a:cubicBezTo>
                      <a:pt x="2466" y="234"/>
                      <a:pt x="2466" y="234"/>
                      <a:pt x="2466" y="234"/>
                    </a:cubicBezTo>
                    <a:cubicBezTo>
                      <a:pt x="2475" y="235"/>
                      <a:pt x="2475" y="235"/>
                      <a:pt x="2475" y="235"/>
                    </a:cubicBezTo>
                    <a:cubicBezTo>
                      <a:pt x="2483" y="235"/>
                      <a:pt x="2483" y="235"/>
                      <a:pt x="2483" y="235"/>
                    </a:cubicBezTo>
                    <a:cubicBezTo>
                      <a:pt x="2492" y="235"/>
                      <a:pt x="2492" y="235"/>
                      <a:pt x="2492" y="235"/>
                    </a:cubicBezTo>
                    <a:cubicBezTo>
                      <a:pt x="2500" y="235"/>
                      <a:pt x="2500" y="235"/>
                      <a:pt x="2500" y="235"/>
                    </a:cubicBezTo>
                    <a:cubicBezTo>
                      <a:pt x="2509" y="236"/>
                      <a:pt x="2509" y="236"/>
                      <a:pt x="2509" y="236"/>
                    </a:cubicBezTo>
                    <a:cubicBezTo>
                      <a:pt x="2517" y="236"/>
                      <a:pt x="2517" y="236"/>
                      <a:pt x="2517" y="236"/>
                    </a:cubicBezTo>
                    <a:cubicBezTo>
                      <a:pt x="2526" y="236"/>
                      <a:pt x="2526" y="236"/>
                      <a:pt x="2526" y="236"/>
                    </a:cubicBezTo>
                    <a:cubicBezTo>
                      <a:pt x="2534" y="237"/>
                      <a:pt x="2534" y="237"/>
                      <a:pt x="2534" y="237"/>
                    </a:cubicBezTo>
                    <a:cubicBezTo>
                      <a:pt x="2543" y="237"/>
                      <a:pt x="2543" y="237"/>
                      <a:pt x="2543" y="237"/>
                    </a:cubicBezTo>
                    <a:cubicBezTo>
                      <a:pt x="2552" y="237"/>
                      <a:pt x="2552" y="237"/>
                      <a:pt x="2552" y="237"/>
                    </a:cubicBezTo>
                    <a:cubicBezTo>
                      <a:pt x="2560" y="237"/>
                      <a:pt x="2560" y="237"/>
                      <a:pt x="2560" y="237"/>
                    </a:cubicBezTo>
                    <a:cubicBezTo>
                      <a:pt x="2569" y="238"/>
                      <a:pt x="2569" y="238"/>
                      <a:pt x="2569" y="238"/>
                    </a:cubicBezTo>
                    <a:cubicBezTo>
                      <a:pt x="2577" y="238"/>
                      <a:pt x="2577" y="238"/>
                      <a:pt x="2577" y="238"/>
                    </a:cubicBezTo>
                    <a:cubicBezTo>
                      <a:pt x="2586" y="238"/>
                      <a:pt x="2586" y="238"/>
                      <a:pt x="2586" y="238"/>
                    </a:cubicBezTo>
                    <a:cubicBezTo>
                      <a:pt x="2594" y="239"/>
                      <a:pt x="2594" y="239"/>
                      <a:pt x="2594" y="239"/>
                    </a:cubicBezTo>
                    <a:cubicBezTo>
                      <a:pt x="2603" y="239"/>
                      <a:pt x="2603" y="239"/>
                      <a:pt x="2603" y="239"/>
                    </a:cubicBezTo>
                    <a:cubicBezTo>
                      <a:pt x="2611" y="239"/>
                      <a:pt x="2611" y="239"/>
                      <a:pt x="2611" y="239"/>
                    </a:cubicBezTo>
                    <a:cubicBezTo>
                      <a:pt x="2620" y="239"/>
                      <a:pt x="2620" y="239"/>
                      <a:pt x="2620" y="239"/>
                    </a:cubicBezTo>
                    <a:cubicBezTo>
                      <a:pt x="2628" y="240"/>
                      <a:pt x="2628" y="240"/>
                      <a:pt x="2628" y="240"/>
                    </a:cubicBezTo>
                    <a:cubicBezTo>
                      <a:pt x="2637" y="240"/>
                      <a:pt x="2637" y="240"/>
                      <a:pt x="2637" y="240"/>
                    </a:cubicBezTo>
                    <a:cubicBezTo>
                      <a:pt x="2645" y="240"/>
                      <a:pt x="2645" y="240"/>
                      <a:pt x="2645" y="240"/>
                    </a:cubicBezTo>
                    <a:cubicBezTo>
                      <a:pt x="2654" y="240"/>
                      <a:pt x="2654" y="240"/>
                      <a:pt x="2654" y="240"/>
                    </a:cubicBezTo>
                    <a:cubicBezTo>
                      <a:pt x="2662" y="241"/>
                      <a:pt x="2662" y="241"/>
                      <a:pt x="2662" y="241"/>
                    </a:cubicBezTo>
                    <a:cubicBezTo>
                      <a:pt x="2671" y="241"/>
                      <a:pt x="2671" y="241"/>
                      <a:pt x="2671" y="241"/>
                    </a:cubicBezTo>
                    <a:cubicBezTo>
                      <a:pt x="2679" y="241"/>
                      <a:pt x="2679" y="241"/>
                      <a:pt x="2679" y="241"/>
                    </a:cubicBezTo>
                    <a:cubicBezTo>
                      <a:pt x="2688" y="241"/>
                      <a:pt x="2688" y="241"/>
                      <a:pt x="2688" y="241"/>
                    </a:cubicBezTo>
                    <a:cubicBezTo>
                      <a:pt x="2696" y="242"/>
                      <a:pt x="2696" y="242"/>
                      <a:pt x="2696" y="242"/>
                    </a:cubicBezTo>
                    <a:cubicBezTo>
                      <a:pt x="2705" y="242"/>
                      <a:pt x="2705" y="242"/>
                      <a:pt x="2705" y="242"/>
                    </a:cubicBezTo>
                    <a:cubicBezTo>
                      <a:pt x="2713" y="242"/>
                      <a:pt x="2713" y="242"/>
                      <a:pt x="2713" y="242"/>
                    </a:cubicBezTo>
                    <a:cubicBezTo>
                      <a:pt x="2722" y="242"/>
                      <a:pt x="2722" y="242"/>
                      <a:pt x="2722" y="242"/>
                    </a:cubicBezTo>
                    <a:cubicBezTo>
                      <a:pt x="2730" y="243"/>
                      <a:pt x="2730" y="243"/>
                      <a:pt x="2730" y="243"/>
                    </a:cubicBezTo>
                    <a:cubicBezTo>
                      <a:pt x="2739" y="243"/>
                      <a:pt x="2739" y="243"/>
                      <a:pt x="2739" y="243"/>
                    </a:cubicBezTo>
                    <a:cubicBezTo>
                      <a:pt x="2747" y="243"/>
                      <a:pt x="2747" y="243"/>
                      <a:pt x="2747" y="243"/>
                    </a:cubicBezTo>
                    <a:cubicBezTo>
                      <a:pt x="2756" y="243"/>
                      <a:pt x="2756" y="243"/>
                      <a:pt x="2756" y="243"/>
                    </a:cubicBezTo>
                    <a:cubicBezTo>
                      <a:pt x="2764" y="244"/>
                      <a:pt x="2764" y="244"/>
                      <a:pt x="2764" y="244"/>
                    </a:cubicBezTo>
                    <a:cubicBezTo>
                      <a:pt x="2773" y="244"/>
                      <a:pt x="2773" y="244"/>
                      <a:pt x="2773" y="244"/>
                    </a:cubicBezTo>
                    <a:cubicBezTo>
                      <a:pt x="2781" y="244"/>
                      <a:pt x="2781" y="244"/>
                      <a:pt x="2781" y="244"/>
                    </a:cubicBezTo>
                    <a:cubicBezTo>
                      <a:pt x="2790" y="244"/>
                      <a:pt x="2790" y="244"/>
                      <a:pt x="2790" y="244"/>
                    </a:cubicBezTo>
                    <a:cubicBezTo>
                      <a:pt x="2798" y="245"/>
                      <a:pt x="2798" y="245"/>
                      <a:pt x="2798" y="245"/>
                    </a:cubicBezTo>
                    <a:cubicBezTo>
                      <a:pt x="2807" y="245"/>
                      <a:pt x="2807" y="245"/>
                      <a:pt x="2807" y="245"/>
                    </a:cubicBezTo>
                    <a:cubicBezTo>
                      <a:pt x="2815" y="245"/>
                      <a:pt x="2815" y="245"/>
                      <a:pt x="2815" y="245"/>
                    </a:cubicBezTo>
                    <a:cubicBezTo>
                      <a:pt x="2824" y="245"/>
                      <a:pt x="2824" y="245"/>
                      <a:pt x="2824" y="245"/>
                    </a:cubicBezTo>
                    <a:cubicBezTo>
                      <a:pt x="2832" y="246"/>
                      <a:pt x="2832" y="246"/>
                      <a:pt x="2832" y="246"/>
                    </a:cubicBezTo>
                    <a:cubicBezTo>
                      <a:pt x="2841" y="246"/>
                      <a:pt x="2841" y="246"/>
                      <a:pt x="2841" y="246"/>
                    </a:cubicBezTo>
                    <a:cubicBezTo>
                      <a:pt x="2849" y="246"/>
                      <a:pt x="2849" y="246"/>
                      <a:pt x="2849" y="246"/>
                    </a:cubicBezTo>
                    <a:cubicBezTo>
                      <a:pt x="2858" y="246"/>
                      <a:pt x="2858" y="246"/>
                      <a:pt x="2858" y="246"/>
                    </a:cubicBezTo>
                    <a:cubicBezTo>
                      <a:pt x="2866" y="246"/>
                      <a:pt x="2866" y="246"/>
                      <a:pt x="2866" y="246"/>
                    </a:cubicBezTo>
                    <a:cubicBezTo>
                      <a:pt x="2875" y="247"/>
                      <a:pt x="2875" y="247"/>
                      <a:pt x="2875" y="247"/>
                    </a:cubicBezTo>
                    <a:cubicBezTo>
                      <a:pt x="2883" y="247"/>
                      <a:pt x="2883" y="247"/>
                      <a:pt x="2883" y="247"/>
                    </a:cubicBezTo>
                    <a:cubicBezTo>
                      <a:pt x="2892" y="247"/>
                      <a:pt x="2892" y="247"/>
                      <a:pt x="2892" y="247"/>
                    </a:cubicBezTo>
                    <a:cubicBezTo>
                      <a:pt x="2900" y="247"/>
                      <a:pt x="2900" y="247"/>
                      <a:pt x="2900" y="247"/>
                    </a:cubicBezTo>
                    <a:cubicBezTo>
                      <a:pt x="2909" y="248"/>
                      <a:pt x="2909" y="248"/>
                      <a:pt x="2909" y="248"/>
                    </a:cubicBezTo>
                    <a:cubicBezTo>
                      <a:pt x="2917" y="248"/>
                      <a:pt x="2917" y="248"/>
                      <a:pt x="2917" y="248"/>
                    </a:cubicBezTo>
                    <a:cubicBezTo>
                      <a:pt x="2926" y="248"/>
                      <a:pt x="2926" y="248"/>
                      <a:pt x="2926" y="248"/>
                    </a:cubicBezTo>
                    <a:cubicBezTo>
                      <a:pt x="2934" y="248"/>
                      <a:pt x="2934" y="248"/>
                      <a:pt x="2934" y="248"/>
                    </a:cubicBezTo>
                    <a:cubicBezTo>
                      <a:pt x="2943" y="248"/>
                      <a:pt x="2943" y="248"/>
                      <a:pt x="2943" y="248"/>
                    </a:cubicBezTo>
                    <a:cubicBezTo>
                      <a:pt x="2951" y="249"/>
                      <a:pt x="2951" y="249"/>
                      <a:pt x="2951" y="249"/>
                    </a:cubicBezTo>
                    <a:cubicBezTo>
                      <a:pt x="2960" y="249"/>
                      <a:pt x="2960" y="249"/>
                      <a:pt x="2960" y="249"/>
                    </a:cubicBezTo>
                    <a:cubicBezTo>
                      <a:pt x="2968" y="249"/>
                      <a:pt x="2968" y="249"/>
                      <a:pt x="2968" y="249"/>
                    </a:cubicBezTo>
                    <a:cubicBezTo>
                      <a:pt x="2977" y="249"/>
                      <a:pt x="2977" y="249"/>
                      <a:pt x="2977" y="249"/>
                    </a:cubicBezTo>
                    <a:cubicBezTo>
                      <a:pt x="2985" y="249"/>
                      <a:pt x="2985" y="249"/>
                      <a:pt x="2985" y="249"/>
                    </a:cubicBezTo>
                    <a:cubicBezTo>
                      <a:pt x="2994" y="250"/>
                      <a:pt x="2994" y="250"/>
                      <a:pt x="2994" y="250"/>
                    </a:cubicBezTo>
                    <a:cubicBezTo>
                      <a:pt x="3002" y="250"/>
                      <a:pt x="3002" y="250"/>
                      <a:pt x="3002" y="250"/>
                    </a:cubicBezTo>
                    <a:cubicBezTo>
                      <a:pt x="3011" y="250"/>
                      <a:pt x="3011" y="250"/>
                      <a:pt x="3011" y="250"/>
                    </a:cubicBezTo>
                    <a:cubicBezTo>
                      <a:pt x="3019" y="250"/>
                      <a:pt x="3019" y="250"/>
                      <a:pt x="3019" y="250"/>
                    </a:cubicBezTo>
                    <a:cubicBezTo>
                      <a:pt x="3028" y="251"/>
                      <a:pt x="3028" y="251"/>
                      <a:pt x="3028" y="251"/>
                    </a:cubicBezTo>
                    <a:cubicBezTo>
                      <a:pt x="3036" y="251"/>
                      <a:pt x="3036" y="251"/>
                      <a:pt x="3036" y="251"/>
                    </a:cubicBezTo>
                    <a:cubicBezTo>
                      <a:pt x="3045" y="251"/>
                      <a:pt x="3045" y="251"/>
                      <a:pt x="3045" y="251"/>
                    </a:cubicBezTo>
                    <a:cubicBezTo>
                      <a:pt x="3053" y="251"/>
                      <a:pt x="3053" y="251"/>
                      <a:pt x="3053" y="251"/>
                    </a:cubicBezTo>
                    <a:cubicBezTo>
                      <a:pt x="3062" y="251"/>
                      <a:pt x="3062" y="251"/>
                      <a:pt x="3062" y="251"/>
                    </a:cubicBezTo>
                    <a:cubicBezTo>
                      <a:pt x="3070" y="252"/>
                      <a:pt x="3070" y="252"/>
                      <a:pt x="3070" y="252"/>
                    </a:cubicBezTo>
                    <a:cubicBezTo>
                      <a:pt x="3079" y="252"/>
                      <a:pt x="3079" y="252"/>
                      <a:pt x="3079" y="252"/>
                    </a:cubicBezTo>
                    <a:cubicBezTo>
                      <a:pt x="3087" y="252"/>
                      <a:pt x="3087" y="252"/>
                      <a:pt x="3087" y="252"/>
                    </a:cubicBezTo>
                    <a:cubicBezTo>
                      <a:pt x="3096" y="252"/>
                      <a:pt x="3096" y="252"/>
                      <a:pt x="3096" y="252"/>
                    </a:cubicBezTo>
                    <a:cubicBezTo>
                      <a:pt x="3104" y="252"/>
                      <a:pt x="3104" y="252"/>
                      <a:pt x="3104" y="252"/>
                    </a:cubicBezTo>
                    <a:cubicBezTo>
                      <a:pt x="3113" y="252"/>
                      <a:pt x="3113" y="252"/>
                      <a:pt x="3113" y="252"/>
                    </a:cubicBezTo>
                    <a:cubicBezTo>
                      <a:pt x="3121" y="253"/>
                      <a:pt x="3121" y="253"/>
                      <a:pt x="3121" y="253"/>
                    </a:cubicBezTo>
                    <a:cubicBezTo>
                      <a:pt x="3130" y="253"/>
                      <a:pt x="3130" y="253"/>
                      <a:pt x="3130" y="253"/>
                    </a:cubicBezTo>
                    <a:cubicBezTo>
                      <a:pt x="3138" y="253"/>
                      <a:pt x="3138" y="253"/>
                      <a:pt x="3138" y="253"/>
                    </a:cubicBezTo>
                    <a:cubicBezTo>
                      <a:pt x="3147" y="253"/>
                      <a:pt x="3147" y="253"/>
                      <a:pt x="3147" y="253"/>
                    </a:cubicBezTo>
                    <a:cubicBezTo>
                      <a:pt x="3155" y="253"/>
                      <a:pt x="3155" y="253"/>
                      <a:pt x="3155" y="253"/>
                    </a:cubicBezTo>
                    <a:cubicBezTo>
                      <a:pt x="3164" y="254"/>
                      <a:pt x="3164" y="254"/>
                      <a:pt x="3164" y="254"/>
                    </a:cubicBezTo>
                    <a:cubicBezTo>
                      <a:pt x="3172" y="254"/>
                      <a:pt x="3172" y="254"/>
                      <a:pt x="3172" y="254"/>
                    </a:cubicBezTo>
                    <a:cubicBezTo>
                      <a:pt x="3181" y="254"/>
                      <a:pt x="3181" y="254"/>
                      <a:pt x="3181" y="254"/>
                    </a:cubicBezTo>
                    <a:cubicBezTo>
                      <a:pt x="3189" y="254"/>
                      <a:pt x="3189" y="254"/>
                      <a:pt x="3189" y="254"/>
                    </a:cubicBezTo>
                    <a:cubicBezTo>
                      <a:pt x="3198" y="254"/>
                      <a:pt x="3198" y="254"/>
                      <a:pt x="3198" y="254"/>
                    </a:cubicBezTo>
                    <a:cubicBezTo>
                      <a:pt x="3206" y="254"/>
                      <a:pt x="3206" y="254"/>
                      <a:pt x="3206" y="254"/>
                    </a:cubicBezTo>
                    <a:cubicBezTo>
                      <a:pt x="3215" y="255"/>
                      <a:pt x="3215" y="255"/>
                      <a:pt x="3215" y="255"/>
                    </a:cubicBezTo>
                    <a:cubicBezTo>
                      <a:pt x="3223" y="255"/>
                      <a:pt x="3223" y="255"/>
                      <a:pt x="3223" y="255"/>
                    </a:cubicBezTo>
                    <a:cubicBezTo>
                      <a:pt x="3232" y="255"/>
                      <a:pt x="3232" y="255"/>
                      <a:pt x="3232" y="255"/>
                    </a:cubicBezTo>
                    <a:cubicBezTo>
                      <a:pt x="3240" y="255"/>
                      <a:pt x="3240" y="255"/>
                      <a:pt x="3240" y="255"/>
                    </a:cubicBezTo>
                    <a:cubicBezTo>
                      <a:pt x="3249" y="255"/>
                      <a:pt x="3249" y="255"/>
                      <a:pt x="3249" y="255"/>
                    </a:cubicBezTo>
                    <a:cubicBezTo>
                      <a:pt x="3257" y="256"/>
                      <a:pt x="3257" y="256"/>
                      <a:pt x="3257" y="256"/>
                    </a:cubicBezTo>
                    <a:cubicBezTo>
                      <a:pt x="3266" y="256"/>
                      <a:pt x="3266" y="256"/>
                      <a:pt x="3266" y="256"/>
                    </a:cubicBezTo>
                    <a:cubicBezTo>
                      <a:pt x="3274" y="256"/>
                      <a:pt x="3274" y="256"/>
                      <a:pt x="3274" y="256"/>
                    </a:cubicBezTo>
                    <a:cubicBezTo>
                      <a:pt x="3283" y="256"/>
                      <a:pt x="3283" y="256"/>
                      <a:pt x="3283" y="256"/>
                    </a:cubicBezTo>
                    <a:cubicBezTo>
                      <a:pt x="3291" y="256"/>
                      <a:pt x="3291" y="256"/>
                      <a:pt x="3291" y="256"/>
                    </a:cubicBezTo>
                    <a:cubicBezTo>
                      <a:pt x="3300" y="256"/>
                      <a:pt x="3300" y="256"/>
                      <a:pt x="3300" y="256"/>
                    </a:cubicBezTo>
                    <a:cubicBezTo>
                      <a:pt x="3308" y="257"/>
                      <a:pt x="3308" y="257"/>
                      <a:pt x="3308" y="257"/>
                    </a:cubicBezTo>
                    <a:cubicBezTo>
                      <a:pt x="3317" y="257"/>
                      <a:pt x="3317" y="257"/>
                      <a:pt x="3317" y="257"/>
                    </a:cubicBezTo>
                    <a:cubicBezTo>
                      <a:pt x="3325" y="257"/>
                      <a:pt x="3325" y="257"/>
                      <a:pt x="3325" y="257"/>
                    </a:cubicBezTo>
                    <a:cubicBezTo>
                      <a:pt x="3334" y="257"/>
                      <a:pt x="3334" y="257"/>
                      <a:pt x="3334" y="257"/>
                    </a:cubicBezTo>
                    <a:cubicBezTo>
                      <a:pt x="3342" y="257"/>
                      <a:pt x="3342" y="257"/>
                      <a:pt x="3342" y="257"/>
                    </a:cubicBezTo>
                    <a:cubicBezTo>
                      <a:pt x="3351" y="257"/>
                      <a:pt x="3351" y="257"/>
                      <a:pt x="3351" y="257"/>
                    </a:cubicBezTo>
                    <a:cubicBezTo>
                      <a:pt x="3359" y="257"/>
                      <a:pt x="3359" y="257"/>
                      <a:pt x="3359" y="257"/>
                    </a:cubicBezTo>
                    <a:cubicBezTo>
                      <a:pt x="3368" y="258"/>
                      <a:pt x="3368" y="258"/>
                      <a:pt x="3368" y="258"/>
                    </a:cubicBezTo>
                    <a:cubicBezTo>
                      <a:pt x="3376" y="258"/>
                      <a:pt x="3376" y="258"/>
                      <a:pt x="3376" y="258"/>
                    </a:cubicBezTo>
                    <a:cubicBezTo>
                      <a:pt x="3385" y="258"/>
                      <a:pt x="3385" y="258"/>
                      <a:pt x="3385" y="258"/>
                    </a:cubicBezTo>
                    <a:cubicBezTo>
                      <a:pt x="3393" y="258"/>
                      <a:pt x="3393" y="258"/>
                      <a:pt x="3393" y="258"/>
                    </a:cubicBezTo>
                    <a:cubicBezTo>
                      <a:pt x="3402" y="258"/>
                      <a:pt x="3402" y="258"/>
                      <a:pt x="3402" y="258"/>
                    </a:cubicBezTo>
                    <a:cubicBezTo>
                      <a:pt x="3411" y="258"/>
                      <a:pt x="3411" y="258"/>
                      <a:pt x="3411" y="258"/>
                    </a:cubicBezTo>
                    <a:cubicBezTo>
                      <a:pt x="3419" y="259"/>
                      <a:pt x="3419" y="259"/>
                      <a:pt x="3419" y="259"/>
                    </a:cubicBezTo>
                    <a:cubicBezTo>
                      <a:pt x="3428" y="259"/>
                      <a:pt x="3428" y="259"/>
                      <a:pt x="3428" y="259"/>
                    </a:cubicBezTo>
                    <a:cubicBezTo>
                      <a:pt x="3436" y="259"/>
                      <a:pt x="3436" y="259"/>
                      <a:pt x="3436" y="259"/>
                    </a:cubicBezTo>
                    <a:cubicBezTo>
                      <a:pt x="3445" y="259"/>
                      <a:pt x="3445" y="259"/>
                      <a:pt x="3445" y="259"/>
                    </a:cubicBezTo>
                    <a:cubicBezTo>
                      <a:pt x="3453" y="259"/>
                      <a:pt x="3453" y="259"/>
                      <a:pt x="3453" y="259"/>
                    </a:cubicBezTo>
                    <a:cubicBezTo>
                      <a:pt x="3462" y="259"/>
                      <a:pt x="3462" y="259"/>
                      <a:pt x="3462" y="259"/>
                    </a:cubicBezTo>
                    <a:cubicBezTo>
                      <a:pt x="3470" y="259"/>
                      <a:pt x="3470" y="259"/>
                      <a:pt x="3470" y="259"/>
                    </a:cubicBezTo>
                    <a:cubicBezTo>
                      <a:pt x="3479" y="260"/>
                      <a:pt x="3479" y="260"/>
                      <a:pt x="3479" y="260"/>
                    </a:cubicBezTo>
                    <a:cubicBezTo>
                      <a:pt x="3487" y="260"/>
                      <a:pt x="3487" y="260"/>
                      <a:pt x="3487" y="260"/>
                    </a:cubicBezTo>
                    <a:cubicBezTo>
                      <a:pt x="3496" y="260"/>
                      <a:pt x="3496" y="260"/>
                      <a:pt x="3496" y="260"/>
                    </a:cubicBezTo>
                    <a:cubicBezTo>
                      <a:pt x="3504" y="260"/>
                      <a:pt x="3504" y="260"/>
                      <a:pt x="3504" y="260"/>
                    </a:cubicBezTo>
                    <a:cubicBezTo>
                      <a:pt x="3513" y="260"/>
                      <a:pt x="3513" y="260"/>
                      <a:pt x="3513" y="260"/>
                    </a:cubicBezTo>
                    <a:cubicBezTo>
                      <a:pt x="3521" y="260"/>
                      <a:pt x="3521" y="260"/>
                      <a:pt x="3521" y="260"/>
                    </a:cubicBezTo>
                    <a:cubicBezTo>
                      <a:pt x="3530" y="260"/>
                      <a:pt x="3530" y="260"/>
                      <a:pt x="3530" y="260"/>
                    </a:cubicBezTo>
                    <a:cubicBezTo>
                      <a:pt x="3538" y="261"/>
                      <a:pt x="3538" y="261"/>
                      <a:pt x="3538" y="261"/>
                    </a:cubicBezTo>
                    <a:cubicBezTo>
                      <a:pt x="3547" y="261"/>
                      <a:pt x="3547" y="261"/>
                      <a:pt x="3547" y="261"/>
                    </a:cubicBezTo>
                    <a:cubicBezTo>
                      <a:pt x="3555" y="261"/>
                      <a:pt x="3555" y="261"/>
                      <a:pt x="3555" y="261"/>
                    </a:cubicBezTo>
                    <a:cubicBezTo>
                      <a:pt x="3564" y="261"/>
                      <a:pt x="3564" y="261"/>
                      <a:pt x="3564" y="261"/>
                    </a:cubicBezTo>
                    <a:cubicBezTo>
                      <a:pt x="3572" y="261"/>
                      <a:pt x="3572" y="261"/>
                      <a:pt x="3572" y="261"/>
                    </a:cubicBezTo>
                    <a:cubicBezTo>
                      <a:pt x="3581" y="261"/>
                      <a:pt x="3581" y="261"/>
                      <a:pt x="3581" y="261"/>
                    </a:cubicBezTo>
                    <a:cubicBezTo>
                      <a:pt x="3589" y="261"/>
                      <a:pt x="3589" y="261"/>
                      <a:pt x="3589" y="261"/>
                    </a:cubicBezTo>
                    <a:cubicBezTo>
                      <a:pt x="3598" y="262"/>
                      <a:pt x="3598" y="262"/>
                      <a:pt x="3598" y="262"/>
                    </a:cubicBezTo>
                    <a:cubicBezTo>
                      <a:pt x="3606" y="262"/>
                      <a:pt x="3606" y="262"/>
                      <a:pt x="3606" y="262"/>
                    </a:cubicBezTo>
                    <a:cubicBezTo>
                      <a:pt x="3615" y="262"/>
                      <a:pt x="3615" y="262"/>
                      <a:pt x="3615" y="262"/>
                    </a:cubicBezTo>
                    <a:cubicBezTo>
                      <a:pt x="3623" y="262"/>
                      <a:pt x="3623" y="262"/>
                      <a:pt x="3623" y="262"/>
                    </a:cubicBezTo>
                    <a:cubicBezTo>
                      <a:pt x="3632" y="262"/>
                      <a:pt x="3632" y="262"/>
                      <a:pt x="3632" y="262"/>
                    </a:cubicBezTo>
                    <a:cubicBezTo>
                      <a:pt x="3640" y="262"/>
                      <a:pt x="3640" y="262"/>
                      <a:pt x="3640" y="262"/>
                    </a:cubicBezTo>
                    <a:cubicBezTo>
                      <a:pt x="3649" y="262"/>
                      <a:pt x="3649" y="262"/>
                      <a:pt x="3649" y="262"/>
                    </a:cubicBezTo>
                    <a:cubicBezTo>
                      <a:pt x="3657" y="263"/>
                      <a:pt x="3657" y="263"/>
                      <a:pt x="3657" y="263"/>
                    </a:cubicBezTo>
                    <a:cubicBezTo>
                      <a:pt x="3666" y="263"/>
                      <a:pt x="3666" y="263"/>
                      <a:pt x="3666" y="263"/>
                    </a:cubicBezTo>
                    <a:cubicBezTo>
                      <a:pt x="3674" y="263"/>
                      <a:pt x="3674" y="263"/>
                      <a:pt x="3674" y="263"/>
                    </a:cubicBezTo>
                    <a:cubicBezTo>
                      <a:pt x="3683" y="263"/>
                      <a:pt x="3683" y="263"/>
                      <a:pt x="3683" y="263"/>
                    </a:cubicBezTo>
                    <a:cubicBezTo>
                      <a:pt x="3691" y="263"/>
                      <a:pt x="3691" y="263"/>
                      <a:pt x="3691" y="263"/>
                    </a:cubicBezTo>
                    <a:cubicBezTo>
                      <a:pt x="3700" y="263"/>
                      <a:pt x="3700" y="263"/>
                      <a:pt x="3700" y="263"/>
                    </a:cubicBezTo>
                    <a:cubicBezTo>
                      <a:pt x="3708" y="263"/>
                      <a:pt x="3708" y="263"/>
                      <a:pt x="3708" y="263"/>
                    </a:cubicBezTo>
                    <a:cubicBezTo>
                      <a:pt x="3717" y="263"/>
                      <a:pt x="3717" y="263"/>
                      <a:pt x="3717" y="263"/>
                    </a:cubicBezTo>
                    <a:cubicBezTo>
                      <a:pt x="3725" y="264"/>
                      <a:pt x="3725" y="264"/>
                      <a:pt x="3725" y="264"/>
                    </a:cubicBezTo>
                    <a:cubicBezTo>
                      <a:pt x="3734" y="264"/>
                      <a:pt x="3734" y="264"/>
                      <a:pt x="3734" y="264"/>
                    </a:cubicBezTo>
                    <a:cubicBezTo>
                      <a:pt x="3742" y="264"/>
                      <a:pt x="3742" y="264"/>
                      <a:pt x="3742" y="264"/>
                    </a:cubicBezTo>
                    <a:cubicBezTo>
                      <a:pt x="3751" y="264"/>
                      <a:pt x="3751" y="264"/>
                      <a:pt x="3751" y="264"/>
                    </a:cubicBezTo>
                    <a:cubicBezTo>
                      <a:pt x="3759" y="264"/>
                      <a:pt x="3759" y="264"/>
                      <a:pt x="3759" y="264"/>
                    </a:cubicBezTo>
                    <a:cubicBezTo>
                      <a:pt x="3768" y="264"/>
                      <a:pt x="3768" y="264"/>
                      <a:pt x="3768" y="264"/>
                    </a:cubicBezTo>
                    <a:cubicBezTo>
                      <a:pt x="3776" y="264"/>
                      <a:pt x="3776" y="264"/>
                      <a:pt x="3776" y="264"/>
                    </a:cubicBezTo>
                    <a:cubicBezTo>
                      <a:pt x="3785" y="264"/>
                      <a:pt x="3785" y="264"/>
                      <a:pt x="3785" y="264"/>
                    </a:cubicBezTo>
                    <a:cubicBezTo>
                      <a:pt x="3793" y="264"/>
                      <a:pt x="3793" y="264"/>
                      <a:pt x="3793" y="264"/>
                    </a:cubicBezTo>
                    <a:cubicBezTo>
                      <a:pt x="3802" y="265"/>
                      <a:pt x="3802" y="265"/>
                      <a:pt x="3802" y="265"/>
                    </a:cubicBezTo>
                    <a:cubicBezTo>
                      <a:pt x="3810" y="265"/>
                      <a:pt x="3810" y="265"/>
                      <a:pt x="3810" y="265"/>
                    </a:cubicBezTo>
                    <a:cubicBezTo>
                      <a:pt x="3819" y="265"/>
                      <a:pt x="3819" y="265"/>
                      <a:pt x="3819" y="265"/>
                    </a:cubicBezTo>
                    <a:cubicBezTo>
                      <a:pt x="3827" y="265"/>
                      <a:pt x="3827" y="265"/>
                      <a:pt x="3827" y="265"/>
                    </a:cubicBezTo>
                    <a:cubicBezTo>
                      <a:pt x="3836" y="265"/>
                      <a:pt x="3836" y="265"/>
                      <a:pt x="3836" y="265"/>
                    </a:cubicBezTo>
                    <a:cubicBezTo>
                      <a:pt x="3844" y="265"/>
                      <a:pt x="3844" y="265"/>
                      <a:pt x="3844" y="265"/>
                    </a:cubicBezTo>
                    <a:cubicBezTo>
                      <a:pt x="3853" y="265"/>
                      <a:pt x="3853" y="265"/>
                      <a:pt x="3853" y="265"/>
                    </a:cubicBezTo>
                    <a:cubicBezTo>
                      <a:pt x="3861" y="265"/>
                      <a:pt x="3861" y="265"/>
                      <a:pt x="3861" y="265"/>
                    </a:cubicBezTo>
                    <a:cubicBezTo>
                      <a:pt x="3870" y="266"/>
                      <a:pt x="3870" y="266"/>
                      <a:pt x="3870" y="266"/>
                    </a:cubicBezTo>
                    <a:cubicBezTo>
                      <a:pt x="3878" y="266"/>
                      <a:pt x="3878" y="266"/>
                      <a:pt x="3878" y="266"/>
                    </a:cubicBezTo>
                    <a:cubicBezTo>
                      <a:pt x="3887" y="266"/>
                      <a:pt x="3887" y="266"/>
                      <a:pt x="3887" y="266"/>
                    </a:cubicBezTo>
                    <a:cubicBezTo>
                      <a:pt x="3895" y="266"/>
                      <a:pt x="3895" y="266"/>
                      <a:pt x="3895" y="266"/>
                    </a:cubicBezTo>
                    <a:cubicBezTo>
                      <a:pt x="3904" y="266"/>
                      <a:pt x="3904" y="266"/>
                      <a:pt x="3904" y="266"/>
                    </a:cubicBezTo>
                    <a:cubicBezTo>
                      <a:pt x="3912" y="266"/>
                      <a:pt x="3912" y="266"/>
                      <a:pt x="3912" y="266"/>
                    </a:cubicBezTo>
                    <a:cubicBezTo>
                      <a:pt x="3921" y="266"/>
                      <a:pt x="3921" y="266"/>
                      <a:pt x="3921" y="266"/>
                    </a:cubicBezTo>
                    <a:cubicBezTo>
                      <a:pt x="3929" y="266"/>
                      <a:pt x="3929" y="266"/>
                      <a:pt x="3929" y="266"/>
                    </a:cubicBezTo>
                    <a:cubicBezTo>
                      <a:pt x="3938" y="266"/>
                      <a:pt x="3938" y="266"/>
                      <a:pt x="3938" y="266"/>
                    </a:cubicBezTo>
                    <a:cubicBezTo>
                      <a:pt x="3946" y="266"/>
                      <a:pt x="3946" y="266"/>
                      <a:pt x="3946" y="266"/>
                    </a:cubicBezTo>
                    <a:cubicBezTo>
                      <a:pt x="3955" y="267"/>
                      <a:pt x="3955" y="267"/>
                      <a:pt x="3955" y="267"/>
                    </a:cubicBezTo>
                    <a:cubicBezTo>
                      <a:pt x="3963" y="267"/>
                      <a:pt x="3963" y="267"/>
                      <a:pt x="3963" y="267"/>
                    </a:cubicBezTo>
                    <a:cubicBezTo>
                      <a:pt x="3972" y="267"/>
                      <a:pt x="3972" y="267"/>
                      <a:pt x="3972" y="267"/>
                    </a:cubicBezTo>
                    <a:cubicBezTo>
                      <a:pt x="3980" y="267"/>
                      <a:pt x="3980" y="267"/>
                      <a:pt x="3980" y="267"/>
                    </a:cubicBezTo>
                    <a:cubicBezTo>
                      <a:pt x="3989" y="267"/>
                      <a:pt x="3989" y="267"/>
                      <a:pt x="3989" y="267"/>
                    </a:cubicBezTo>
                    <a:cubicBezTo>
                      <a:pt x="3997" y="267"/>
                      <a:pt x="3997" y="267"/>
                      <a:pt x="3997" y="267"/>
                    </a:cubicBezTo>
                    <a:cubicBezTo>
                      <a:pt x="4006" y="267"/>
                      <a:pt x="4006" y="267"/>
                      <a:pt x="4006" y="267"/>
                    </a:cubicBezTo>
                    <a:cubicBezTo>
                      <a:pt x="4014" y="267"/>
                      <a:pt x="4014" y="267"/>
                      <a:pt x="4014" y="267"/>
                    </a:cubicBezTo>
                    <a:cubicBezTo>
                      <a:pt x="4023" y="267"/>
                      <a:pt x="4023" y="267"/>
                      <a:pt x="4023" y="267"/>
                    </a:cubicBezTo>
                    <a:cubicBezTo>
                      <a:pt x="4031" y="268"/>
                      <a:pt x="4031" y="268"/>
                      <a:pt x="4031" y="268"/>
                    </a:cubicBezTo>
                    <a:cubicBezTo>
                      <a:pt x="4040" y="268"/>
                      <a:pt x="4040" y="268"/>
                      <a:pt x="4040" y="268"/>
                    </a:cubicBezTo>
                    <a:cubicBezTo>
                      <a:pt x="4048" y="268"/>
                      <a:pt x="4048" y="268"/>
                      <a:pt x="4048" y="268"/>
                    </a:cubicBezTo>
                    <a:cubicBezTo>
                      <a:pt x="4057" y="268"/>
                      <a:pt x="4057" y="268"/>
                      <a:pt x="4057" y="268"/>
                    </a:cubicBezTo>
                    <a:cubicBezTo>
                      <a:pt x="4065" y="268"/>
                      <a:pt x="4065" y="268"/>
                      <a:pt x="4065" y="268"/>
                    </a:cubicBezTo>
                    <a:cubicBezTo>
                      <a:pt x="4074" y="268"/>
                      <a:pt x="4074" y="268"/>
                      <a:pt x="4074" y="268"/>
                    </a:cubicBezTo>
                    <a:cubicBezTo>
                      <a:pt x="4082" y="268"/>
                      <a:pt x="4082" y="268"/>
                      <a:pt x="4082" y="268"/>
                    </a:cubicBezTo>
                    <a:cubicBezTo>
                      <a:pt x="4091" y="268"/>
                      <a:pt x="4091" y="268"/>
                      <a:pt x="4091" y="268"/>
                    </a:cubicBezTo>
                    <a:cubicBezTo>
                      <a:pt x="4099" y="268"/>
                      <a:pt x="4099" y="268"/>
                      <a:pt x="4099" y="268"/>
                    </a:cubicBezTo>
                    <a:cubicBezTo>
                      <a:pt x="4108" y="268"/>
                      <a:pt x="4108" y="268"/>
                      <a:pt x="4108" y="268"/>
                    </a:cubicBezTo>
                    <a:cubicBezTo>
                      <a:pt x="4116" y="268"/>
                      <a:pt x="4116" y="268"/>
                      <a:pt x="4116" y="268"/>
                    </a:cubicBezTo>
                    <a:cubicBezTo>
                      <a:pt x="4125" y="269"/>
                      <a:pt x="4125" y="269"/>
                      <a:pt x="4125" y="269"/>
                    </a:cubicBezTo>
                    <a:cubicBezTo>
                      <a:pt x="4133" y="269"/>
                      <a:pt x="4133" y="269"/>
                      <a:pt x="4133" y="269"/>
                    </a:cubicBezTo>
                    <a:cubicBezTo>
                      <a:pt x="4142" y="269"/>
                      <a:pt x="4142" y="269"/>
                      <a:pt x="4142" y="269"/>
                    </a:cubicBezTo>
                    <a:cubicBezTo>
                      <a:pt x="4150" y="269"/>
                      <a:pt x="4150" y="269"/>
                      <a:pt x="4150" y="269"/>
                    </a:cubicBezTo>
                    <a:cubicBezTo>
                      <a:pt x="4159" y="269"/>
                      <a:pt x="4159" y="269"/>
                      <a:pt x="4159" y="269"/>
                    </a:cubicBezTo>
                    <a:cubicBezTo>
                      <a:pt x="4167" y="269"/>
                      <a:pt x="4167" y="269"/>
                      <a:pt x="4167" y="269"/>
                    </a:cubicBezTo>
                    <a:cubicBezTo>
                      <a:pt x="4176" y="269"/>
                      <a:pt x="4176" y="269"/>
                      <a:pt x="4176" y="269"/>
                    </a:cubicBezTo>
                    <a:cubicBezTo>
                      <a:pt x="4184" y="269"/>
                      <a:pt x="4184" y="269"/>
                      <a:pt x="4184" y="269"/>
                    </a:cubicBezTo>
                    <a:cubicBezTo>
                      <a:pt x="4193" y="269"/>
                      <a:pt x="4193" y="269"/>
                      <a:pt x="4193" y="269"/>
                    </a:cubicBezTo>
                    <a:cubicBezTo>
                      <a:pt x="4201" y="269"/>
                      <a:pt x="4201" y="269"/>
                      <a:pt x="4201" y="269"/>
                    </a:cubicBezTo>
                    <a:cubicBezTo>
                      <a:pt x="4210" y="269"/>
                      <a:pt x="4210" y="269"/>
                      <a:pt x="4210" y="269"/>
                    </a:cubicBezTo>
                    <a:cubicBezTo>
                      <a:pt x="4218" y="270"/>
                      <a:pt x="4218" y="270"/>
                      <a:pt x="4218" y="270"/>
                    </a:cubicBezTo>
                    <a:cubicBezTo>
                      <a:pt x="4227" y="270"/>
                      <a:pt x="4227" y="270"/>
                      <a:pt x="4227" y="270"/>
                    </a:cubicBezTo>
                    <a:cubicBezTo>
                      <a:pt x="4235" y="270"/>
                      <a:pt x="4235" y="270"/>
                      <a:pt x="4235" y="270"/>
                    </a:cubicBezTo>
                    <a:cubicBezTo>
                      <a:pt x="4244" y="270"/>
                      <a:pt x="4244" y="270"/>
                      <a:pt x="4244" y="27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62040" y="1214640"/>
                <a:ext cx="2693160" cy="1854720"/>
              </a:xfrm>
              <a:custGeom>
                <a:avLst/>
                <a:gdLst/>
                <a:ahLst/>
                <a:rect l="l" t="t" r="r" b="b"/>
                <a:pathLst>
                  <a:path w="4240" h="357">
                    <a:moveTo>
                      <a:pt x="0" y="92"/>
                    </a:moveTo>
                    <a:cubicBezTo>
                      <a:pt x="4" y="89"/>
                      <a:pt x="4" y="89"/>
                      <a:pt x="4" y="89"/>
                    </a:cubicBezTo>
                    <a:cubicBezTo>
                      <a:pt x="9" y="86"/>
                      <a:pt x="9" y="86"/>
                      <a:pt x="9" y="86"/>
                    </a:cubicBezTo>
                    <a:cubicBezTo>
                      <a:pt x="13" y="83"/>
                      <a:pt x="13" y="83"/>
                      <a:pt x="13" y="83"/>
                    </a:cubicBezTo>
                    <a:cubicBezTo>
                      <a:pt x="17" y="80"/>
                      <a:pt x="17" y="80"/>
                      <a:pt x="17" y="80"/>
                    </a:cubicBezTo>
                    <a:cubicBezTo>
                      <a:pt x="21" y="77"/>
                      <a:pt x="21" y="77"/>
                      <a:pt x="21" y="77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30" y="71"/>
                      <a:pt x="30" y="71"/>
                      <a:pt x="30" y="71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51" y="58"/>
                      <a:pt x="51" y="58"/>
                      <a:pt x="51" y="58"/>
                    </a:cubicBezTo>
                    <a:cubicBezTo>
                      <a:pt x="60" y="53"/>
                      <a:pt x="60" y="53"/>
                      <a:pt x="60" y="53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85" y="39"/>
                      <a:pt x="85" y="39"/>
                      <a:pt x="85" y="39"/>
                    </a:cubicBezTo>
                    <a:cubicBezTo>
                      <a:pt x="94" y="35"/>
                      <a:pt x="94" y="35"/>
                      <a:pt x="94" y="35"/>
                    </a:cubicBezTo>
                    <a:cubicBezTo>
                      <a:pt x="102" y="31"/>
                      <a:pt x="102" y="31"/>
                      <a:pt x="102" y="31"/>
                    </a:cubicBezTo>
                    <a:cubicBezTo>
                      <a:pt x="111" y="28"/>
                      <a:pt x="111" y="28"/>
                      <a:pt x="111" y="28"/>
                    </a:cubicBezTo>
                    <a:cubicBezTo>
                      <a:pt x="119" y="24"/>
                      <a:pt x="119" y="24"/>
                      <a:pt x="119" y="24"/>
                    </a:cubicBezTo>
                    <a:cubicBezTo>
                      <a:pt x="128" y="21"/>
                      <a:pt x="128" y="21"/>
                      <a:pt x="128" y="21"/>
                    </a:cubicBezTo>
                    <a:cubicBezTo>
                      <a:pt x="136" y="18"/>
                      <a:pt x="136" y="18"/>
                      <a:pt x="136" y="18"/>
                    </a:cubicBezTo>
                    <a:cubicBezTo>
                      <a:pt x="145" y="15"/>
                      <a:pt x="145" y="15"/>
                      <a:pt x="145" y="15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62" y="11"/>
                      <a:pt x="162" y="11"/>
                      <a:pt x="162" y="11"/>
                    </a:cubicBezTo>
                    <a:cubicBezTo>
                      <a:pt x="170" y="9"/>
                      <a:pt x="170" y="9"/>
                      <a:pt x="170" y="9"/>
                    </a:cubicBezTo>
                    <a:cubicBezTo>
                      <a:pt x="179" y="7"/>
                      <a:pt x="179" y="7"/>
                      <a:pt x="179" y="7"/>
                    </a:cubicBezTo>
                    <a:cubicBezTo>
                      <a:pt x="187" y="5"/>
                      <a:pt x="187" y="5"/>
                      <a:pt x="187" y="5"/>
                    </a:cubicBezTo>
                    <a:cubicBezTo>
                      <a:pt x="196" y="4"/>
                      <a:pt x="196" y="4"/>
                      <a:pt x="196" y="4"/>
                    </a:cubicBezTo>
                    <a:cubicBezTo>
                      <a:pt x="204" y="3"/>
                      <a:pt x="204" y="3"/>
                      <a:pt x="204" y="3"/>
                    </a:cubicBezTo>
                    <a:cubicBezTo>
                      <a:pt x="213" y="2"/>
                      <a:pt x="213" y="2"/>
                      <a:pt x="213" y="2"/>
                    </a:cubicBezTo>
                    <a:cubicBezTo>
                      <a:pt x="221" y="1"/>
                      <a:pt x="221" y="1"/>
                      <a:pt x="221" y="1"/>
                    </a:cubicBezTo>
                    <a:cubicBezTo>
                      <a:pt x="230" y="1"/>
                      <a:pt x="230" y="1"/>
                      <a:pt x="230" y="1"/>
                    </a:cubicBezTo>
                    <a:cubicBezTo>
                      <a:pt x="238" y="0"/>
                      <a:pt x="238" y="0"/>
                      <a:pt x="238" y="0"/>
                    </a:cubicBezTo>
                    <a:cubicBezTo>
                      <a:pt x="247" y="0"/>
                      <a:pt x="247" y="0"/>
                      <a:pt x="247" y="0"/>
                    </a:cubicBezTo>
                    <a:cubicBezTo>
                      <a:pt x="255" y="0"/>
                      <a:pt x="255" y="0"/>
                      <a:pt x="255" y="0"/>
                    </a:cubicBezTo>
                    <a:cubicBezTo>
                      <a:pt x="264" y="1"/>
                      <a:pt x="264" y="1"/>
                      <a:pt x="264" y="1"/>
                    </a:cubicBezTo>
                    <a:cubicBezTo>
                      <a:pt x="272" y="1"/>
                      <a:pt x="272" y="1"/>
                      <a:pt x="272" y="1"/>
                    </a:cubicBezTo>
                    <a:cubicBezTo>
                      <a:pt x="281" y="2"/>
                      <a:pt x="281" y="2"/>
                      <a:pt x="281" y="2"/>
                    </a:cubicBezTo>
                    <a:cubicBezTo>
                      <a:pt x="289" y="3"/>
                      <a:pt x="289" y="3"/>
                      <a:pt x="289" y="3"/>
                    </a:cubicBezTo>
                    <a:cubicBezTo>
                      <a:pt x="298" y="4"/>
                      <a:pt x="298" y="4"/>
                      <a:pt x="298" y="4"/>
                    </a:cubicBezTo>
                    <a:cubicBezTo>
                      <a:pt x="306" y="6"/>
                      <a:pt x="306" y="6"/>
                      <a:pt x="306" y="6"/>
                    </a:cubicBezTo>
                    <a:cubicBezTo>
                      <a:pt x="315" y="7"/>
                      <a:pt x="315" y="7"/>
                      <a:pt x="315" y="7"/>
                    </a:cubicBezTo>
                    <a:cubicBezTo>
                      <a:pt x="323" y="9"/>
                      <a:pt x="323" y="9"/>
                      <a:pt x="323" y="9"/>
                    </a:cubicBezTo>
                    <a:cubicBezTo>
                      <a:pt x="332" y="11"/>
                      <a:pt x="332" y="11"/>
                      <a:pt x="332" y="11"/>
                    </a:cubicBezTo>
                    <a:cubicBezTo>
                      <a:pt x="340" y="13"/>
                      <a:pt x="340" y="13"/>
                      <a:pt x="340" y="13"/>
                    </a:cubicBezTo>
                    <a:cubicBezTo>
                      <a:pt x="349" y="15"/>
                      <a:pt x="349" y="15"/>
                      <a:pt x="349" y="15"/>
                    </a:cubicBezTo>
                    <a:cubicBezTo>
                      <a:pt x="357" y="18"/>
                      <a:pt x="357" y="18"/>
                      <a:pt x="357" y="18"/>
                    </a:cubicBezTo>
                    <a:cubicBezTo>
                      <a:pt x="366" y="20"/>
                      <a:pt x="366" y="20"/>
                      <a:pt x="366" y="20"/>
                    </a:cubicBezTo>
                    <a:cubicBezTo>
                      <a:pt x="374" y="23"/>
                      <a:pt x="374" y="23"/>
                      <a:pt x="374" y="23"/>
                    </a:cubicBezTo>
                    <a:cubicBezTo>
                      <a:pt x="383" y="26"/>
                      <a:pt x="383" y="26"/>
                      <a:pt x="383" y="26"/>
                    </a:cubicBezTo>
                    <a:cubicBezTo>
                      <a:pt x="391" y="29"/>
                      <a:pt x="391" y="29"/>
                      <a:pt x="391" y="29"/>
                    </a:cubicBezTo>
                    <a:cubicBezTo>
                      <a:pt x="400" y="32"/>
                      <a:pt x="400" y="32"/>
                      <a:pt x="400" y="32"/>
                    </a:cubicBezTo>
                    <a:cubicBezTo>
                      <a:pt x="408" y="35"/>
                      <a:pt x="408" y="35"/>
                      <a:pt x="408" y="35"/>
                    </a:cubicBezTo>
                    <a:cubicBezTo>
                      <a:pt x="417" y="39"/>
                      <a:pt x="417" y="39"/>
                      <a:pt x="417" y="39"/>
                    </a:cubicBezTo>
                    <a:cubicBezTo>
                      <a:pt x="425" y="42"/>
                      <a:pt x="425" y="42"/>
                      <a:pt x="425" y="42"/>
                    </a:cubicBezTo>
                    <a:cubicBezTo>
                      <a:pt x="434" y="46"/>
                      <a:pt x="434" y="46"/>
                      <a:pt x="434" y="46"/>
                    </a:cubicBezTo>
                    <a:cubicBezTo>
                      <a:pt x="442" y="50"/>
                      <a:pt x="442" y="50"/>
                      <a:pt x="442" y="50"/>
                    </a:cubicBezTo>
                    <a:cubicBezTo>
                      <a:pt x="451" y="54"/>
                      <a:pt x="451" y="54"/>
                      <a:pt x="451" y="54"/>
                    </a:cubicBezTo>
                    <a:cubicBezTo>
                      <a:pt x="459" y="58"/>
                      <a:pt x="459" y="58"/>
                      <a:pt x="459" y="58"/>
                    </a:cubicBezTo>
                    <a:cubicBezTo>
                      <a:pt x="468" y="62"/>
                      <a:pt x="468" y="62"/>
                      <a:pt x="468" y="62"/>
                    </a:cubicBezTo>
                    <a:cubicBezTo>
                      <a:pt x="476" y="67"/>
                      <a:pt x="476" y="67"/>
                      <a:pt x="476" y="67"/>
                    </a:cubicBezTo>
                    <a:cubicBezTo>
                      <a:pt x="485" y="71"/>
                      <a:pt x="485" y="71"/>
                      <a:pt x="485" y="71"/>
                    </a:cubicBezTo>
                    <a:cubicBezTo>
                      <a:pt x="493" y="76"/>
                      <a:pt x="493" y="76"/>
                      <a:pt x="493" y="76"/>
                    </a:cubicBezTo>
                    <a:cubicBezTo>
                      <a:pt x="502" y="80"/>
                      <a:pt x="502" y="80"/>
                      <a:pt x="502" y="80"/>
                    </a:cubicBezTo>
                    <a:cubicBezTo>
                      <a:pt x="510" y="85"/>
                      <a:pt x="510" y="85"/>
                      <a:pt x="510" y="85"/>
                    </a:cubicBezTo>
                    <a:cubicBezTo>
                      <a:pt x="519" y="90"/>
                      <a:pt x="519" y="90"/>
                      <a:pt x="519" y="90"/>
                    </a:cubicBezTo>
                    <a:cubicBezTo>
                      <a:pt x="527" y="94"/>
                      <a:pt x="527" y="94"/>
                      <a:pt x="527" y="94"/>
                    </a:cubicBezTo>
                    <a:cubicBezTo>
                      <a:pt x="536" y="99"/>
                      <a:pt x="536" y="99"/>
                      <a:pt x="536" y="99"/>
                    </a:cubicBezTo>
                    <a:cubicBezTo>
                      <a:pt x="544" y="104"/>
                      <a:pt x="544" y="104"/>
                      <a:pt x="544" y="104"/>
                    </a:cubicBezTo>
                    <a:cubicBezTo>
                      <a:pt x="553" y="109"/>
                      <a:pt x="553" y="109"/>
                      <a:pt x="553" y="109"/>
                    </a:cubicBezTo>
                    <a:cubicBezTo>
                      <a:pt x="561" y="114"/>
                      <a:pt x="561" y="114"/>
                      <a:pt x="561" y="114"/>
                    </a:cubicBezTo>
                    <a:cubicBezTo>
                      <a:pt x="570" y="120"/>
                      <a:pt x="570" y="120"/>
                      <a:pt x="570" y="120"/>
                    </a:cubicBezTo>
                    <a:cubicBezTo>
                      <a:pt x="578" y="125"/>
                      <a:pt x="578" y="125"/>
                      <a:pt x="578" y="125"/>
                    </a:cubicBezTo>
                    <a:cubicBezTo>
                      <a:pt x="587" y="130"/>
                      <a:pt x="587" y="130"/>
                      <a:pt x="587" y="130"/>
                    </a:cubicBezTo>
                    <a:cubicBezTo>
                      <a:pt x="595" y="135"/>
                      <a:pt x="595" y="135"/>
                      <a:pt x="595" y="135"/>
                    </a:cubicBezTo>
                    <a:cubicBezTo>
                      <a:pt x="604" y="140"/>
                      <a:pt x="604" y="140"/>
                      <a:pt x="604" y="140"/>
                    </a:cubicBezTo>
                    <a:cubicBezTo>
                      <a:pt x="612" y="146"/>
                      <a:pt x="612" y="146"/>
                      <a:pt x="612" y="146"/>
                    </a:cubicBezTo>
                    <a:cubicBezTo>
                      <a:pt x="617" y="148"/>
                      <a:pt x="617" y="148"/>
                      <a:pt x="617" y="148"/>
                    </a:cubicBezTo>
                    <a:cubicBezTo>
                      <a:pt x="621" y="151"/>
                      <a:pt x="621" y="151"/>
                      <a:pt x="621" y="151"/>
                    </a:cubicBezTo>
                    <a:cubicBezTo>
                      <a:pt x="625" y="154"/>
                      <a:pt x="625" y="154"/>
                      <a:pt x="625" y="154"/>
                    </a:cubicBezTo>
                    <a:cubicBezTo>
                      <a:pt x="629" y="156"/>
                      <a:pt x="629" y="156"/>
                      <a:pt x="629" y="156"/>
                    </a:cubicBezTo>
                    <a:cubicBezTo>
                      <a:pt x="634" y="159"/>
                      <a:pt x="634" y="159"/>
                      <a:pt x="634" y="159"/>
                    </a:cubicBezTo>
                    <a:cubicBezTo>
                      <a:pt x="638" y="161"/>
                      <a:pt x="638" y="161"/>
                      <a:pt x="638" y="161"/>
                    </a:cubicBezTo>
                    <a:cubicBezTo>
                      <a:pt x="642" y="164"/>
                      <a:pt x="642" y="164"/>
                      <a:pt x="642" y="164"/>
                    </a:cubicBezTo>
                    <a:cubicBezTo>
                      <a:pt x="646" y="167"/>
                      <a:pt x="646" y="167"/>
                      <a:pt x="646" y="167"/>
                    </a:cubicBezTo>
                    <a:cubicBezTo>
                      <a:pt x="651" y="169"/>
                      <a:pt x="651" y="169"/>
                      <a:pt x="651" y="169"/>
                    </a:cubicBezTo>
                    <a:cubicBezTo>
                      <a:pt x="655" y="172"/>
                      <a:pt x="655" y="172"/>
                      <a:pt x="655" y="172"/>
                    </a:cubicBezTo>
                    <a:cubicBezTo>
                      <a:pt x="659" y="175"/>
                      <a:pt x="659" y="175"/>
                      <a:pt x="659" y="175"/>
                    </a:cubicBezTo>
                    <a:cubicBezTo>
                      <a:pt x="663" y="177"/>
                      <a:pt x="663" y="177"/>
                      <a:pt x="663" y="177"/>
                    </a:cubicBezTo>
                    <a:cubicBezTo>
                      <a:pt x="668" y="180"/>
                      <a:pt x="668" y="180"/>
                      <a:pt x="668" y="180"/>
                    </a:cubicBezTo>
                    <a:cubicBezTo>
                      <a:pt x="672" y="183"/>
                      <a:pt x="672" y="183"/>
                      <a:pt x="672" y="183"/>
                    </a:cubicBezTo>
                    <a:cubicBezTo>
                      <a:pt x="685" y="191"/>
                      <a:pt x="685" y="191"/>
                      <a:pt x="685" y="191"/>
                    </a:cubicBezTo>
                    <a:cubicBezTo>
                      <a:pt x="693" y="196"/>
                      <a:pt x="693" y="196"/>
                      <a:pt x="693" y="196"/>
                    </a:cubicBezTo>
                    <a:cubicBezTo>
                      <a:pt x="702" y="201"/>
                      <a:pt x="702" y="201"/>
                      <a:pt x="702" y="201"/>
                    </a:cubicBezTo>
                    <a:cubicBezTo>
                      <a:pt x="710" y="206"/>
                      <a:pt x="710" y="206"/>
                      <a:pt x="710" y="206"/>
                    </a:cubicBezTo>
                    <a:cubicBezTo>
                      <a:pt x="719" y="211"/>
                      <a:pt x="719" y="211"/>
                      <a:pt x="719" y="211"/>
                    </a:cubicBezTo>
                    <a:cubicBezTo>
                      <a:pt x="727" y="216"/>
                      <a:pt x="727" y="216"/>
                      <a:pt x="727" y="216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44" y="226"/>
                      <a:pt x="744" y="226"/>
                      <a:pt x="744" y="226"/>
                    </a:cubicBezTo>
                    <a:cubicBezTo>
                      <a:pt x="753" y="231"/>
                      <a:pt x="753" y="231"/>
                      <a:pt x="753" y="231"/>
                    </a:cubicBezTo>
                    <a:cubicBezTo>
                      <a:pt x="761" y="236"/>
                      <a:pt x="761" y="236"/>
                      <a:pt x="761" y="236"/>
                    </a:cubicBezTo>
                    <a:cubicBezTo>
                      <a:pt x="770" y="241"/>
                      <a:pt x="770" y="241"/>
                      <a:pt x="770" y="241"/>
                    </a:cubicBezTo>
                    <a:cubicBezTo>
                      <a:pt x="778" y="246"/>
                      <a:pt x="778" y="246"/>
                      <a:pt x="778" y="246"/>
                    </a:cubicBezTo>
                    <a:cubicBezTo>
                      <a:pt x="787" y="250"/>
                      <a:pt x="787" y="250"/>
                      <a:pt x="787" y="250"/>
                    </a:cubicBezTo>
                    <a:cubicBezTo>
                      <a:pt x="795" y="255"/>
                      <a:pt x="795" y="255"/>
                      <a:pt x="795" y="255"/>
                    </a:cubicBezTo>
                    <a:cubicBezTo>
                      <a:pt x="804" y="260"/>
                      <a:pt x="804" y="260"/>
                      <a:pt x="804" y="260"/>
                    </a:cubicBezTo>
                    <a:cubicBezTo>
                      <a:pt x="812" y="264"/>
                      <a:pt x="812" y="264"/>
                      <a:pt x="812" y="264"/>
                    </a:cubicBezTo>
                    <a:cubicBezTo>
                      <a:pt x="821" y="269"/>
                      <a:pt x="821" y="269"/>
                      <a:pt x="821" y="269"/>
                    </a:cubicBezTo>
                    <a:cubicBezTo>
                      <a:pt x="829" y="273"/>
                      <a:pt x="829" y="273"/>
                      <a:pt x="829" y="273"/>
                    </a:cubicBezTo>
                    <a:cubicBezTo>
                      <a:pt x="838" y="277"/>
                      <a:pt x="838" y="277"/>
                      <a:pt x="838" y="277"/>
                    </a:cubicBezTo>
                    <a:cubicBezTo>
                      <a:pt x="846" y="281"/>
                      <a:pt x="846" y="281"/>
                      <a:pt x="846" y="281"/>
                    </a:cubicBezTo>
                    <a:cubicBezTo>
                      <a:pt x="855" y="285"/>
                      <a:pt x="855" y="285"/>
                      <a:pt x="855" y="285"/>
                    </a:cubicBezTo>
                    <a:cubicBezTo>
                      <a:pt x="863" y="289"/>
                      <a:pt x="863" y="289"/>
                      <a:pt x="863" y="289"/>
                    </a:cubicBezTo>
                    <a:cubicBezTo>
                      <a:pt x="872" y="293"/>
                      <a:pt x="872" y="293"/>
                      <a:pt x="872" y="293"/>
                    </a:cubicBezTo>
                    <a:cubicBezTo>
                      <a:pt x="880" y="297"/>
                      <a:pt x="880" y="297"/>
                      <a:pt x="880" y="297"/>
                    </a:cubicBezTo>
                    <a:cubicBezTo>
                      <a:pt x="889" y="300"/>
                      <a:pt x="889" y="300"/>
                      <a:pt x="889" y="300"/>
                    </a:cubicBezTo>
                    <a:cubicBezTo>
                      <a:pt x="897" y="304"/>
                      <a:pt x="897" y="304"/>
                      <a:pt x="897" y="304"/>
                    </a:cubicBezTo>
                    <a:cubicBezTo>
                      <a:pt x="906" y="307"/>
                      <a:pt x="906" y="307"/>
                      <a:pt x="906" y="307"/>
                    </a:cubicBezTo>
                    <a:cubicBezTo>
                      <a:pt x="914" y="311"/>
                      <a:pt x="914" y="311"/>
                      <a:pt x="914" y="311"/>
                    </a:cubicBezTo>
                    <a:cubicBezTo>
                      <a:pt x="923" y="314"/>
                      <a:pt x="923" y="314"/>
                      <a:pt x="923" y="314"/>
                    </a:cubicBezTo>
                    <a:cubicBezTo>
                      <a:pt x="931" y="317"/>
                      <a:pt x="931" y="317"/>
                      <a:pt x="931" y="317"/>
                    </a:cubicBezTo>
                    <a:cubicBezTo>
                      <a:pt x="940" y="320"/>
                      <a:pt x="940" y="320"/>
                      <a:pt x="940" y="320"/>
                    </a:cubicBezTo>
                    <a:cubicBezTo>
                      <a:pt x="948" y="323"/>
                      <a:pt x="948" y="323"/>
                      <a:pt x="948" y="323"/>
                    </a:cubicBezTo>
                    <a:cubicBezTo>
                      <a:pt x="957" y="326"/>
                      <a:pt x="957" y="326"/>
                      <a:pt x="957" y="326"/>
                    </a:cubicBezTo>
                    <a:cubicBezTo>
                      <a:pt x="965" y="328"/>
                      <a:pt x="965" y="328"/>
                      <a:pt x="965" y="328"/>
                    </a:cubicBezTo>
                    <a:cubicBezTo>
                      <a:pt x="974" y="331"/>
                      <a:pt x="974" y="331"/>
                      <a:pt x="974" y="331"/>
                    </a:cubicBezTo>
                    <a:cubicBezTo>
                      <a:pt x="982" y="333"/>
                      <a:pt x="982" y="333"/>
                      <a:pt x="982" y="333"/>
                    </a:cubicBezTo>
                    <a:cubicBezTo>
                      <a:pt x="991" y="336"/>
                      <a:pt x="991" y="336"/>
                      <a:pt x="991" y="336"/>
                    </a:cubicBezTo>
                    <a:cubicBezTo>
                      <a:pt x="999" y="338"/>
                      <a:pt x="999" y="338"/>
                      <a:pt x="999" y="338"/>
                    </a:cubicBezTo>
                    <a:cubicBezTo>
                      <a:pt x="1008" y="340"/>
                      <a:pt x="1008" y="340"/>
                      <a:pt x="1008" y="340"/>
                    </a:cubicBezTo>
                    <a:cubicBezTo>
                      <a:pt x="1016" y="342"/>
                      <a:pt x="1016" y="342"/>
                      <a:pt x="1016" y="342"/>
                    </a:cubicBezTo>
                    <a:cubicBezTo>
                      <a:pt x="1025" y="344"/>
                      <a:pt x="1025" y="344"/>
                      <a:pt x="1025" y="344"/>
                    </a:cubicBezTo>
                    <a:cubicBezTo>
                      <a:pt x="1033" y="346"/>
                      <a:pt x="1033" y="346"/>
                      <a:pt x="1033" y="346"/>
                    </a:cubicBezTo>
                    <a:cubicBezTo>
                      <a:pt x="1042" y="347"/>
                      <a:pt x="1042" y="347"/>
                      <a:pt x="1042" y="347"/>
                    </a:cubicBezTo>
                    <a:cubicBezTo>
                      <a:pt x="1050" y="349"/>
                      <a:pt x="1050" y="349"/>
                      <a:pt x="1050" y="349"/>
                    </a:cubicBezTo>
                    <a:cubicBezTo>
                      <a:pt x="1059" y="350"/>
                      <a:pt x="1059" y="350"/>
                      <a:pt x="1059" y="350"/>
                    </a:cubicBezTo>
                    <a:cubicBezTo>
                      <a:pt x="1067" y="351"/>
                      <a:pt x="1067" y="351"/>
                      <a:pt x="1067" y="351"/>
                    </a:cubicBezTo>
                    <a:cubicBezTo>
                      <a:pt x="1076" y="352"/>
                      <a:pt x="1076" y="352"/>
                      <a:pt x="1076" y="352"/>
                    </a:cubicBezTo>
                    <a:cubicBezTo>
                      <a:pt x="1084" y="353"/>
                      <a:pt x="1084" y="353"/>
                      <a:pt x="1084" y="353"/>
                    </a:cubicBezTo>
                    <a:cubicBezTo>
                      <a:pt x="1093" y="354"/>
                      <a:pt x="1093" y="354"/>
                      <a:pt x="1093" y="354"/>
                    </a:cubicBezTo>
                    <a:cubicBezTo>
                      <a:pt x="1101" y="355"/>
                      <a:pt x="1101" y="355"/>
                      <a:pt x="1101" y="355"/>
                    </a:cubicBezTo>
                    <a:cubicBezTo>
                      <a:pt x="1110" y="356"/>
                      <a:pt x="1110" y="356"/>
                      <a:pt x="1110" y="356"/>
                    </a:cubicBezTo>
                    <a:cubicBezTo>
                      <a:pt x="1118" y="356"/>
                      <a:pt x="1118" y="356"/>
                      <a:pt x="1118" y="356"/>
                    </a:cubicBezTo>
                    <a:cubicBezTo>
                      <a:pt x="1127" y="357"/>
                      <a:pt x="1127" y="357"/>
                      <a:pt x="1127" y="357"/>
                    </a:cubicBezTo>
                    <a:cubicBezTo>
                      <a:pt x="1135" y="357"/>
                      <a:pt x="1135" y="357"/>
                      <a:pt x="1135" y="357"/>
                    </a:cubicBezTo>
                    <a:cubicBezTo>
                      <a:pt x="1144" y="357"/>
                      <a:pt x="1144" y="357"/>
                      <a:pt x="1144" y="357"/>
                    </a:cubicBezTo>
                    <a:cubicBezTo>
                      <a:pt x="1152" y="357"/>
                      <a:pt x="1152" y="357"/>
                      <a:pt x="1152" y="357"/>
                    </a:cubicBezTo>
                    <a:cubicBezTo>
                      <a:pt x="1161" y="357"/>
                      <a:pt x="1161" y="357"/>
                      <a:pt x="1161" y="357"/>
                    </a:cubicBezTo>
                    <a:cubicBezTo>
                      <a:pt x="1169" y="357"/>
                      <a:pt x="1169" y="357"/>
                      <a:pt x="1169" y="357"/>
                    </a:cubicBezTo>
                    <a:cubicBezTo>
                      <a:pt x="1178" y="357"/>
                      <a:pt x="1178" y="357"/>
                      <a:pt x="1178" y="357"/>
                    </a:cubicBezTo>
                    <a:cubicBezTo>
                      <a:pt x="1186" y="356"/>
                      <a:pt x="1186" y="356"/>
                      <a:pt x="1186" y="356"/>
                    </a:cubicBezTo>
                    <a:cubicBezTo>
                      <a:pt x="1195" y="356"/>
                      <a:pt x="1195" y="356"/>
                      <a:pt x="1195" y="356"/>
                    </a:cubicBezTo>
                    <a:cubicBezTo>
                      <a:pt x="1203" y="355"/>
                      <a:pt x="1203" y="355"/>
                      <a:pt x="1203" y="355"/>
                    </a:cubicBezTo>
                    <a:cubicBezTo>
                      <a:pt x="1212" y="355"/>
                      <a:pt x="1212" y="355"/>
                      <a:pt x="1212" y="355"/>
                    </a:cubicBezTo>
                    <a:cubicBezTo>
                      <a:pt x="1220" y="354"/>
                      <a:pt x="1220" y="354"/>
                      <a:pt x="1220" y="354"/>
                    </a:cubicBezTo>
                    <a:cubicBezTo>
                      <a:pt x="1229" y="353"/>
                      <a:pt x="1229" y="353"/>
                      <a:pt x="1229" y="353"/>
                    </a:cubicBezTo>
                    <a:cubicBezTo>
                      <a:pt x="1237" y="352"/>
                      <a:pt x="1237" y="352"/>
                      <a:pt x="1237" y="352"/>
                    </a:cubicBezTo>
                    <a:cubicBezTo>
                      <a:pt x="1246" y="351"/>
                      <a:pt x="1246" y="351"/>
                      <a:pt x="1246" y="351"/>
                    </a:cubicBezTo>
                    <a:cubicBezTo>
                      <a:pt x="1254" y="350"/>
                      <a:pt x="1254" y="350"/>
                      <a:pt x="1254" y="350"/>
                    </a:cubicBezTo>
                    <a:cubicBezTo>
                      <a:pt x="1263" y="348"/>
                      <a:pt x="1263" y="348"/>
                      <a:pt x="1263" y="348"/>
                    </a:cubicBezTo>
                    <a:cubicBezTo>
                      <a:pt x="1271" y="347"/>
                      <a:pt x="1271" y="347"/>
                      <a:pt x="1271" y="347"/>
                    </a:cubicBezTo>
                    <a:cubicBezTo>
                      <a:pt x="1280" y="346"/>
                      <a:pt x="1280" y="346"/>
                      <a:pt x="1280" y="346"/>
                    </a:cubicBezTo>
                    <a:cubicBezTo>
                      <a:pt x="1289" y="344"/>
                      <a:pt x="1289" y="344"/>
                      <a:pt x="1289" y="344"/>
                    </a:cubicBezTo>
                    <a:cubicBezTo>
                      <a:pt x="1297" y="343"/>
                      <a:pt x="1297" y="343"/>
                      <a:pt x="1297" y="343"/>
                    </a:cubicBezTo>
                    <a:cubicBezTo>
                      <a:pt x="1306" y="341"/>
                      <a:pt x="1306" y="341"/>
                      <a:pt x="1306" y="341"/>
                    </a:cubicBezTo>
                    <a:cubicBezTo>
                      <a:pt x="1314" y="339"/>
                      <a:pt x="1314" y="339"/>
                      <a:pt x="1314" y="339"/>
                    </a:cubicBezTo>
                    <a:cubicBezTo>
                      <a:pt x="1323" y="337"/>
                      <a:pt x="1323" y="337"/>
                      <a:pt x="1323" y="337"/>
                    </a:cubicBezTo>
                    <a:cubicBezTo>
                      <a:pt x="1331" y="336"/>
                      <a:pt x="1331" y="336"/>
                      <a:pt x="1331" y="336"/>
                    </a:cubicBezTo>
                    <a:cubicBezTo>
                      <a:pt x="1340" y="334"/>
                      <a:pt x="1340" y="334"/>
                      <a:pt x="1340" y="334"/>
                    </a:cubicBezTo>
                    <a:cubicBezTo>
                      <a:pt x="1348" y="332"/>
                      <a:pt x="1348" y="332"/>
                      <a:pt x="1348" y="332"/>
                    </a:cubicBezTo>
                    <a:cubicBezTo>
                      <a:pt x="1357" y="330"/>
                      <a:pt x="1357" y="330"/>
                      <a:pt x="1357" y="330"/>
                    </a:cubicBezTo>
                    <a:cubicBezTo>
                      <a:pt x="1365" y="327"/>
                      <a:pt x="1365" y="327"/>
                      <a:pt x="1365" y="327"/>
                    </a:cubicBezTo>
                    <a:cubicBezTo>
                      <a:pt x="1374" y="325"/>
                      <a:pt x="1374" y="325"/>
                      <a:pt x="1374" y="325"/>
                    </a:cubicBezTo>
                    <a:cubicBezTo>
                      <a:pt x="1382" y="323"/>
                      <a:pt x="1382" y="323"/>
                      <a:pt x="1382" y="323"/>
                    </a:cubicBezTo>
                    <a:cubicBezTo>
                      <a:pt x="1391" y="321"/>
                      <a:pt x="1391" y="321"/>
                      <a:pt x="1391" y="321"/>
                    </a:cubicBezTo>
                    <a:cubicBezTo>
                      <a:pt x="1399" y="318"/>
                      <a:pt x="1399" y="318"/>
                      <a:pt x="1399" y="318"/>
                    </a:cubicBezTo>
                    <a:cubicBezTo>
                      <a:pt x="1408" y="316"/>
                      <a:pt x="1408" y="316"/>
                      <a:pt x="1408" y="316"/>
                    </a:cubicBezTo>
                    <a:cubicBezTo>
                      <a:pt x="1416" y="313"/>
                      <a:pt x="1416" y="313"/>
                      <a:pt x="1416" y="313"/>
                    </a:cubicBezTo>
                    <a:cubicBezTo>
                      <a:pt x="1425" y="311"/>
                      <a:pt x="1425" y="311"/>
                      <a:pt x="1425" y="311"/>
                    </a:cubicBezTo>
                    <a:cubicBezTo>
                      <a:pt x="1433" y="308"/>
                      <a:pt x="1433" y="308"/>
                      <a:pt x="1433" y="308"/>
                    </a:cubicBezTo>
                    <a:cubicBezTo>
                      <a:pt x="1442" y="306"/>
                      <a:pt x="1442" y="306"/>
                      <a:pt x="1442" y="306"/>
                    </a:cubicBezTo>
                    <a:cubicBezTo>
                      <a:pt x="1450" y="303"/>
                      <a:pt x="1450" y="303"/>
                      <a:pt x="1450" y="303"/>
                    </a:cubicBezTo>
                    <a:cubicBezTo>
                      <a:pt x="1459" y="301"/>
                      <a:pt x="1459" y="301"/>
                      <a:pt x="1459" y="301"/>
                    </a:cubicBezTo>
                    <a:cubicBezTo>
                      <a:pt x="1467" y="298"/>
                      <a:pt x="1467" y="298"/>
                      <a:pt x="1467" y="298"/>
                    </a:cubicBezTo>
                    <a:cubicBezTo>
                      <a:pt x="1476" y="295"/>
                      <a:pt x="1476" y="295"/>
                      <a:pt x="1476" y="295"/>
                    </a:cubicBezTo>
                    <a:cubicBezTo>
                      <a:pt x="1484" y="293"/>
                      <a:pt x="1484" y="293"/>
                      <a:pt x="1484" y="293"/>
                    </a:cubicBezTo>
                    <a:cubicBezTo>
                      <a:pt x="1493" y="290"/>
                      <a:pt x="1493" y="290"/>
                      <a:pt x="1493" y="290"/>
                    </a:cubicBezTo>
                    <a:cubicBezTo>
                      <a:pt x="1501" y="287"/>
                      <a:pt x="1501" y="287"/>
                      <a:pt x="1501" y="287"/>
                    </a:cubicBezTo>
                    <a:cubicBezTo>
                      <a:pt x="1510" y="284"/>
                      <a:pt x="1510" y="284"/>
                      <a:pt x="1510" y="284"/>
                    </a:cubicBezTo>
                    <a:cubicBezTo>
                      <a:pt x="1518" y="282"/>
                      <a:pt x="1518" y="282"/>
                      <a:pt x="1518" y="282"/>
                    </a:cubicBezTo>
                    <a:cubicBezTo>
                      <a:pt x="1527" y="279"/>
                      <a:pt x="1527" y="279"/>
                      <a:pt x="1527" y="279"/>
                    </a:cubicBezTo>
                    <a:cubicBezTo>
                      <a:pt x="1535" y="276"/>
                      <a:pt x="1535" y="276"/>
                      <a:pt x="1535" y="276"/>
                    </a:cubicBezTo>
                    <a:cubicBezTo>
                      <a:pt x="1544" y="273"/>
                      <a:pt x="1544" y="273"/>
                      <a:pt x="1544" y="273"/>
                    </a:cubicBezTo>
                    <a:cubicBezTo>
                      <a:pt x="1552" y="270"/>
                      <a:pt x="1552" y="270"/>
                      <a:pt x="1552" y="270"/>
                    </a:cubicBezTo>
                    <a:cubicBezTo>
                      <a:pt x="1561" y="268"/>
                      <a:pt x="1561" y="268"/>
                      <a:pt x="1561" y="268"/>
                    </a:cubicBezTo>
                    <a:cubicBezTo>
                      <a:pt x="1569" y="265"/>
                      <a:pt x="1569" y="265"/>
                      <a:pt x="1569" y="265"/>
                    </a:cubicBezTo>
                    <a:cubicBezTo>
                      <a:pt x="1578" y="262"/>
                      <a:pt x="1578" y="262"/>
                      <a:pt x="1578" y="262"/>
                    </a:cubicBezTo>
                    <a:cubicBezTo>
                      <a:pt x="1586" y="259"/>
                      <a:pt x="1586" y="259"/>
                      <a:pt x="1586" y="259"/>
                    </a:cubicBezTo>
                    <a:cubicBezTo>
                      <a:pt x="1595" y="257"/>
                      <a:pt x="1595" y="257"/>
                      <a:pt x="1595" y="257"/>
                    </a:cubicBezTo>
                    <a:cubicBezTo>
                      <a:pt x="1603" y="254"/>
                      <a:pt x="1603" y="254"/>
                      <a:pt x="1603" y="254"/>
                    </a:cubicBezTo>
                    <a:cubicBezTo>
                      <a:pt x="1612" y="251"/>
                      <a:pt x="1612" y="251"/>
                      <a:pt x="1612" y="251"/>
                    </a:cubicBezTo>
                    <a:cubicBezTo>
                      <a:pt x="1620" y="248"/>
                      <a:pt x="1620" y="248"/>
                      <a:pt x="1620" y="248"/>
                    </a:cubicBezTo>
                    <a:cubicBezTo>
                      <a:pt x="1629" y="246"/>
                      <a:pt x="1629" y="246"/>
                      <a:pt x="1629" y="246"/>
                    </a:cubicBezTo>
                    <a:cubicBezTo>
                      <a:pt x="1637" y="243"/>
                      <a:pt x="1637" y="243"/>
                      <a:pt x="1637" y="243"/>
                    </a:cubicBezTo>
                    <a:cubicBezTo>
                      <a:pt x="1646" y="240"/>
                      <a:pt x="1646" y="240"/>
                      <a:pt x="1646" y="240"/>
                    </a:cubicBezTo>
                    <a:cubicBezTo>
                      <a:pt x="1654" y="238"/>
                      <a:pt x="1654" y="238"/>
                      <a:pt x="1654" y="238"/>
                    </a:cubicBezTo>
                    <a:cubicBezTo>
                      <a:pt x="1663" y="235"/>
                      <a:pt x="1663" y="235"/>
                      <a:pt x="1663" y="235"/>
                    </a:cubicBezTo>
                    <a:cubicBezTo>
                      <a:pt x="1671" y="233"/>
                      <a:pt x="1671" y="233"/>
                      <a:pt x="1671" y="233"/>
                    </a:cubicBezTo>
                    <a:cubicBezTo>
                      <a:pt x="1680" y="230"/>
                      <a:pt x="1680" y="230"/>
                      <a:pt x="1680" y="230"/>
                    </a:cubicBezTo>
                    <a:cubicBezTo>
                      <a:pt x="1688" y="227"/>
                      <a:pt x="1688" y="227"/>
                      <a:pt x="1688" y="227"/>
                    </a:cubicBezTo>
                    <a:cubicBezTo>
                      <a:pt x="1697" y="225"/>
                      <a:pt x="1697" y="225"/>
                      <a:pt x="1697" y="225"/>
                    </a:cubicBezTo>
                    <a:cubicBezTo>
                      <a:pt x="1705" y="223"/>
                      <a:pt x="1705" y="223"/>
                      <a:pt x="1705" y="223"/>
                    </a:cubicBezTo>
                    <a:cubicBezTo>
                      <a:pt x="1714" y="220"/>
                      <a:pt x="1714" y="220"/>
                      <a:pt x="1714" y="220"/>
                    </a:cubicBezTo>
                    <a:cubicBezTo>
                      <a:pt x="1722" y="218"/>
                      <a:pt x="1722" y="218"/>
                      <a:pt x="1722" y="218"/>
                    </a:cubicBezTo>
                    <a:cubicBezTo>
                      <a:pt x="1731" y="216"/>
                      <a:pt x="1731" y="216"/>
                      <a:pt x="1731" y="216"/>
                    </a:cubicBezTo>
                    <a:cubicBezTo>
                      <a:pt x="1739" y="213"/>
                      <a:pt x="1739" y="213"/>
                      <a:pt x="1739" y="213"/>
                    </a:cubicBezTo>
                    <a:cubicBezTo>
                      <a:pt x="1748" y="211"/>
                      <a:pt x="1748" y="211"/>
                      <a:pt x="1748" y="211"/>
                    </a:cubicBezTo>
                    <a:cubicBezTo>
                      <a:pt x="1756" y="209"/>
                      <a:pt x="1756" y="209"/>
                      <a:pt x="1756" y="209"/>
                    </a:cubicBezTo>
                    <a:cubicBezTo>
                      <a:pt x="1765" y="207"/>
                      <a:pt x="1765" y="207"/>
                      <a:pt x="1765" y="207"/>
                    </a:cubicBezTo>
                    <a:cubicBezTo>
                      <a:pt x="1773" y="205"/>
                      <a:pt x="1773" y="205"/>
                      <a:pt x="1773" y="205"/>
                    </a:cubicBezTo>
                    <a:cubicBezTo>
                      <a:pt x="1782" y="203"/>
                      <a:pt x="1782" y="203"/>
                      <a:pt x="1782" y="203"/>
                    </a:cubicBezTo>
                    <a:cubicBezTo>
                      <a:pt x="1790" y="201"/>
                      <a:pt x="1790" y="201"/>
                      <a:pt x="1790" y="201"/>
                    </a:cubicBezTo>
                    <a:cubicBezTo>
                      <a:pt x="1799" y="199"/>
                      <a:pt x="1799" y="199"/>
                      <a:pt x="1799" y="199"/>
                    </a:cubicBezTo>
                    <a:cubicBezTo>
                      <a:pt x="1807" y="197"/>
                      <a:pt x="1807" y="197"/>
                      <a:pt x="1807" y="197"/>
                    </a:cubicBezTo>
                    <a:cubicBezTo>
                      <a:pt x="1816" y="195"/>
                      <a:pt x="1816" y="195"/>
                      <a:pt x="1816" y="195"/>
                    </a:cubicBezTo>
                    <a:cubicBezTo>
                      <a:pt x="1824" y="193"/>
                      <a:pt x="1824" y="193"/>
                      <a:pt x="1824" y="193"/>
                    </a:cubicBezTo>
                    <a:cubicBezTo>
                      <a:pt x="1833" y="192"/>
                      <a:pt x="1833" y="192"/>
                      <a:pt x="1833" y="192"/>
                    </a:cubicBezTo>
                    <a:cubicBezTo>
                      <a:pt x="1841" y="190"/>
                      <a:pt x="1841" y="190"/>
                      <a:pt x="1841" y="190"/>
                    </a:cubicBezTo>
                    <a:cubicBezTo>
                      <a:pt x="1850" y="188"/>
                      <a:pt x="1850" y="188"/>
                      <a:pt x="1850" y="188"/>
                    </a:cubicBezTo>
                    <a:cubicBezTo>
                      <a:pt x="1858" y="187"/>
                      <a:pt x="1858" y="187"/>
                      <a:pt x="1858" y="187"/>
                    </a:cubicBezTo>
                    <a:cubicBezTo>
                      <a:pt x="1867" y="185"/>
                      <a:pt x="1867" y="185"/>
                      <a:pt x="1867" y="185"/>
                    </a:cubicBezTo>
                    <a:cubicBezTo>
                      <a:pt x="1875" y="184"/>
                      <a:pt x="1875" y="184"/>
                      <a:pt x="1875" y="184"/>
                    </a:cubicBezTo>
                    <a:cubicBezTo>
                      <a:pt x="1884" y="183"/>
                      <a:pt x="1884" y="183"/>
                      <a:pt x="1884" y="183"/>
                    </a:cubicBezTo>
                    <a:cubicBezTo>
                      <a:pt x="1892" y="181"/>
                      <a:pt x="1892" y="181"/>
                      <a:pt x="1892" y="181"/>
                    </a:cubicBezTo>
                    <a:cubicBezTo>
                      <a:pt x="1901" y="180"/>
                      <a:pt x="1901" y="180"/>
                      <a:pt x="1901" y="180"/>
                    </a:cubicBezTo>
                    <a:cubicBezTo>
                      <a:pt x="1909" y="179"/>
                      <a:pt x="1909" y="179"/>
                      <a:pt x="1909" y="179"/>
                    </a:cubicBezTo>
                    <a:cubicBezTo>
                      <a:pt x="1918" y="178"/>
                      <a:pt x="1918" y="178"/>
                      <a:pt x="1918" y="178"/>
                    </a:cubicBezTo>
                    <a:cubicBezTo>
                      <a:pt x="1926" y="177"/>
                      <a:pt x="1926" y="177"/>
                      <a:pt x="1926" y="177"/>
                    </a:cubicBezTo>
                    <a:cubicBezTo>
                      <a:pt x="1935" y="176"/>
                      <a:pt x="1935" y="176"/>
                      <a:pt x="1935" y="176"/>
                    </a:cubicBezTo>
                    <a:cubicBezTo>
                      <a:pt x="1943" y="175"/>
                      <a:pt x="1943" y="175"/>
                      <a:pt x="1943" y="175"/>
                    </a:cubicBezTo>
                    <a:cubicBezTo>
                      <a:pt x="1952" y="174"/>
                      <a:pt x="1952" y="174"/>
                      <a:pt x="1952" y="174"/>
                    </a:cubicBezTo>
                    <a:cubicBezTo>
                      <a:pt x="1960" y="174"/>
                      <a:pt x="1960" y="174"/>
                      <a:pt x="1960" y="174"/>
                    </a:cubicBezTo>
                    <a:cubicBezTo>
                      <a:pt x="1969" y="173"/>
                      <a:pt x="1969" y="173"/>
                      <a:pt x="1969" y="173"/>
                    </a:cubicBezTo>
                    <a:cubicBezTo>
                      <a:pt x="1977" y="172"/>
                      <a:pt x="1977" y="172"/>
                      <a:pt x="1977" y="172"/>
                    </a:cubicBezTo>
                    <a:cubicBezTo>
                      <a:pt x="1986" y="172"/>
                      <a:pt x="1986" y="172"/>
                      <a:pt x="1986" y="172"/>
                    </a:cubicBezTo>
                    <a:cubicBezTo>
                      <a:pt x="1994" y="171"/>
                      <a:pt x="1994" y="171"/>
                      <a:pt x="1994" y="171"/>
                    </a:cubicBezTo>
                    <a:cubicBezTo>
                      <a:pt x="2003" y="171"/>
                      <a:pt x="2003" y="171"/>
                      <a:pt x="2003" y="171"/>
                    </a:cubicBezTo>
                    <a:cubicBezTo>
                      <a:pt x="2011" y="170"/>
                      <a:pt x="2011" y="170"/>
                      <a:pt x="2011" y="170"/>
                    </a:cubicBezTo>
                    <a:cubicBezTo>
                      <a:pt x="2020" y="170"/>
                      <a:pt x="2020" y="170"/>
                      <a:pt x="2020" y="170"/>
                    </a:cubicBezTo>
                    <a:cubicBezTo>
                      <a:pt x="2028" y="170"/>
                      <a:pt x="2028" y="170"/>
                      <a:pt x="2028" y="170"/>
                    </a:cubicBezTo>
                    <a:cubicBezTo>
                      <a:pt x="2037" y="169"/>
                      <a:pt x="2037" y="169"/>
                      <a:pt x="2037" y="169"/>
                    </a:cubicBezTo>
                    <a:cubicBezTo>
                      <a:pt x="2045" y="169"/>
                      <a:pt x="2045" y="169"/>
                      <a:pt x="2045" y="169"/>
                    </a:cubicBezTo>
                    <a:cubicBezTo>
                      <a:pt x="2054" y="169"/>
                      <a:pt x="2054" y="169"/>
                      <a:pt x="2054" y="169"/>
                    </a:cubicBezTo>
                    <a:cubicBezTo>
                      <a:pt x="2062" y="169"/>
                      <a:pt x="2062" y="169"/>
                      <a:pt x="2062" y="169"/>
                    </a:cubicBezTo>
                    <a:cubicBezTo>
                      <a:pt x="2071" y="169"/>
                      <a:pt x="2071" y="169"/>
                      <a:pt x="2071" y="169"/>
                    </a:cubicBezTo>
                    <a:cubicBezTo>
                      <a:pt x="2079" y="169"/>
                      <a:pt x="2079" y="169"/>
                      <a:pt x="2079" y="169"/>
                    </a:cubicBezTo>
                    <a:cubicBezTo>
                      <a:pt x="2088" y="169"/>
                      <a:pt x="2088" y="169"/>
                      <a:pt x="2088" y="169"/>
                    </a:cubicBezTo>
                    <a:cubicBezTo>
                      <a:pt x="2096" y="170"/>
                      <a:pt x="2096" y="170"/>
                      <a:pt x="2096" y="170"/>
                    </a:cubicBezTo>
                    <a:cubicBezTo>
                      <a:pt x="2105" y="170"/>
                      <a:pt x="2105" y="170"/>
                      <a:pt x="2105" y="170"/>
                    </a:cubicBezTo>
                    <a:cubicBezTo>
                      <a:pt x="2113" y="170"/>
                      <a:pt x="2113" y="170"/>
                      <a:pt x="2113" y="170"/>
                    </a:cubicBezTo>
                    <a:cubicBezTo>
                      <a:pt x="2122" y="171"/>
                      <a:pt x="2122" y="171"/>
                      <a:pt x="2122" y="171"/>
                    </a:cubicBezTo>
                    <a:cubicBezTo>
                      <a:pt x="2131" y="171"/>
                      <a:pt x="2131" y="171"/>
                      <a:pt x="2131" y="171"/>
                    </a:cubicBezTo>
                    <a:cubicBezTo>
                      <a:pt x="2139" y="171"/>
                      <a:pt x="2139" y="171"/>
                      <a:pt x="2139" y="171"/>
                    </a:cubicBezTo>
                    <a:cubicBezTo>
                      <a:pt x="2148" y="172"/>
                      <a:pt x="2148" y="172"/>
                      <a:pt x="2148" y="172"/>
                    </a:cubicBezTo>
                    <a:cubicBezTo>
                      <a:pt x="2156" y="173"/>
                      <a:pt x="2156" y="173"/>
                      <a:pt x="2156" y="173"/>
                    </a:cubicBezTo>
                    <a:cubicBezTo>
                      <a:pt x="2165" y="173"/>
                      <a:pt x="2165" y="173"/>
                      <a:pt x="2165" y="173"/>
                    </a:cubicBezTo>
                    <a:cubicBezTo>
                      <a:pt x="2173" y="174"/>
                      <a:pt x="2173" y="174"/>
                      <a:pt x="2173" y="174"/>
                    </a:cubicBezTo>
                    <a:cubicBezTo>
                      <a:pt x="2182" y="174"/>
                      <a:pt x="2182" y="174"/>
                      <a:pt x="2182" y="174"/>
                    </a:cubicBezTo>
                    <a:cubicBezTo>
                      <a:pt x="2190" y="175"/>
                      <a:pt x="2190" y="175"/>
                      <a:pt x="2190" y="175"/>
                    </a:cubicBezTo>
                    <a:cubicBezTo>
                      <a:pt x="2199" y="176"/>
                      <a:pt x="2199" y="176"/>
                      <a:pt x="2199" y="176"/>
                    </a:cubicBezTo>
                    <a:cubicBezTo>
                      <a:pt x="2207" y="177"/>
                      <a:pt x="2207" y="177"/>
                      <a:pt x="2207" y="177"/>
                    </a:cubicBezTo>
                    <a:cubicBezTo>
                      <a:pt x="2216" y="178"/>
                      <a:pt x="2216" y="178"/>
                      <a:pt x="2216" y="178"/>
                    </a:cubicBezTo>
                    <a:cubicBezTo>
                      <a:pt x="2224" y="179"/>
                      <a:pt x="2224" y="179"/>
                      <a:pt x="2224" y="179"/>
                    </a:cubicBezTo>
                    <a:cubicBezTo>
                      <a:pt x="2233" y="180"/>
                      <a:pt x="2233" y="180"/>
                      <a:pt x="2233" y="180"/>
                    </a:cubicBezTo>
                    <a:cubicBezTo>
                      <a:pt x="2241" y="181"/>
                      <a:pt x="2241" y="181"/>
                      <a:pt x="2241" y="181"/>
                    </a:cubicBezTo>
                    <a:cubicBezTo>
                      <a:pt x="2250" y="182"/>
                      <a:pt x="2250" y="182"/>
                      <a:pt x="2250" y="182"/>
                    </a:cubicBezTo>
                    <a:cubicBezTo>
                      <a:pt x="2258" y="183"/>
                      <a:pt x="2258" y="183"/>
                      <a:pt x="2258" y="183"/>
                    </a:cubicBezTo>
                    <a:cubicBezTo>
                      <a:pt x="2267" y="184"/>
                      <a:pt x="2267" y="184"/>
                      <a:pt x="2267" y="184"/>
                    </a:cubicBezTo>
                    <a:cubicBezTo>
                      <a:pt x="2275" y="185"/>
                      <a:pt x="2275" y="185"/>
                      <a:pt x="2275" y="185"/>
                    </a:cubicBezTo>
                    <a:cubicBezTo>
                      <a:pt x="2284" y="186"/>
                      <a:pt x="2284" y="186"/>
                      <a:pt x="2284" y="186"/>
                    </a:cubicBezTo>
                    <a:cubicBezTo>
                      <a:pt x="2292" y="187"/>
                      <a:pt x="2292" y="187"/>
                      <a:pt x="2292" y="187"/>
                    </a:cubicBezTo>
                    <a:cubicBezTo>
                      <a:pt x="2301" y="189"/>
                      <a:pt x="2301" y="189"/>
                      <a:pt x="2301" y="189"/>
                    </a:cubicBezTo>
                    <a:cubicBezTo>
                      <a:pt x="2309" y="190"/>
                      <a:pt x="2309" y="190"/>
                      <a:pt x="2309" y="190"/>
                    </a:cubicBezTo>
                    <a:cubicBezTo>
                      <a:pt x="2318" y="191"/>
                      <a:pt x="2318" y="191"/>
                      <a:pt x="2318" y="191"/>
                    </a:cubicBezTo>
                    <a:cubicBezTo>
                      <a:pt x="2326" y="192"/>
                      <a:pt x="2326" y="192"/>
                      <a:pt x="2326" y="192"/>
                    </a:cubicBezTo>
                    <a:cubicBezTo>
                      <a:pt x="2335" y="194"/>
                      <a:pt x="2335" y="194"/>
                      <a:pt x="2335" y="194"/>
                    </a:cubicBezTo>
                    <a:cubicBezTo>
                      <a:pt x="2343" y="195"/>
                      <a:pt x="2343" y="195"/>
                      <a:pt x="2343" y="195"/>
                    </a:cubicBezTo>
                    <a:cubicBezTo>
                      <a:pt x="2352" y="196"/>
                      <a:pt x="2352" y="196"/>
                      <a:pt x="2352" y="196"/>
                    </a:cubicBezTo>
                    <a:cubicBezTo>
                      <a:pt x="2360" y="198"/>
                      <a:pt x="2360" y="198"/>
                      <a:pt x="2360" y="198"/>
                    </a:cubicBezTo>
                    <a:cubicBezTo>
                      <a:pt x="2369" y="199"/>
                      <a:pt x="2369" y="199"/>
                      <a:pt x="2369" y="199"/>
                    </a:cubicBezTo>
                    <a:cubicBezTo>
                      <a:pt x="2377" y="200"/>
                      <a:pt x="2377" y="200"/>
                      <a:pt x="2377" y="200"/>
                    </a:cubicBezTo>
                    <a:cubicBezTo>
                      <a:pt x="2386" y="202"/>
                      <a:pt x="2386" y="202"/>
                      <a:pt x="2386" y="202"/>
                    </a:cubicBezTo>
                    <a:cubicBezTo>
                      <a:pt x="2394" y="203"/>
                      <a:pt x="2394" y="203"/>
                      <a:pt x="2394" y="203"/>
                    </a:cubicBezTo>
                    <a:cubicBezTo>
                      <a:pt x="2403" y="205"/>
                      <a:pt x="2403" y="205"/>
                      <a:pt x="2403" y="205"/>
                    </a:cubicBezTo>
                    <a:cubicBezTo>
                      <a:pt x="2411" y="206"/>
                      <a:pt x="2411" y="206"/>
                      <a:pt x="2411" y="206"/>
                    </a:cubicBezTo>
                    <a:cubicBezTo>
                      <a:pt x="2420" y="208"/>
                      <a:pt x="2420" y="208"/>
                      <a:pt x="2420" y="208"/>
                    </a:cubicBezTo>
                    <a:cubicBezTo>
                      <a:pt x="2428" y="209"/>
                      <a:pt x="2428" y="209"/>
                      <a:pt x="2428" y="209"/>
                    </a:cubicBezTo>
                    <a:cubicBezTo>
                      <a:pt x="2437" y="211"/>
                      <a:pt x="2437" y="211"/>
                      <a:pt x="2437" y="211"/>
                    </a:cubicBezTo>
                    <a:cubicBezTo>
                      <a:pt x="2445" y="212"/>
                      <a:pt x="2445" y="212"/>
                      <a:pt x="2445" y="212"/>
                    </a:cubicBezTo>
                    <a:cubicBezTo>
                      <a:pt x="2454" y="214"/>
                      <a:pt x="2454" y="214"/>
                      <a:pt x="2454" y="214"/>
                    </a:cubicBezTo>
                    <a:cubicBezTo>
                      <a:pt x="2462" y="215"/>
                      <a:pt x="2462" y="215"/>
                      <a:pt x="2462" y="215"/>
                    </a:cubicBezTo>
                    <a:cubicBezTo>
                      <a:pt x="2471" y="216"/>
                      <a:pt x="2471" y="216"/>
                      <a:pt x="2471" y="216"/>
                    </a:cubicBezTo>
                    <a:cubicBezTo>
                      <a:pt x="2479" y="218"/>
                      <a:pt x="2479" y="218"/>
                      <a:pt x="2479" y="218"/>
                    </a:cubicBezTo>
                    <a:cubicBezTo>
                      <a:pt x="2488" y="219"/>
                      <a:pt x="2488" y="219"/>
                      <a:pt x="2488" y="219"/>
                    </a:cubicBezTo>
                    <a:cubicBezTo>
                      <a:pt x="2496" y="221"/>
                      <a:pt x="2496" y="221"/>
                      <a:pt x="2496" y="221"/>
                    </a:cubicBezTo>
                    <a:cubicBezTo>
                      <a:pt x="2505" y="222"/>
                      <a:pt x="2505" y="222"/>
                      <a:pt x="2505" y="222"/>
                    </a:cubicBezTo>
                    <a:cubicBezTo>
                      <a:pt x="2513" y="224"/>
                      <a:pt x="2513" y="224"/>
                      <a:pt x="2513" y="224"/>
                    </a:cubicBezTo>
                    <a:cubicBezTo>
                      <a:pt x="2522" y="225"/>
                      <a:pt x="2522" y="225"/>
                      <a:pt x="2522" y="225"/>
                    </a:cubicBezTo>
                    <a:cubicBezTo>
                      <a:pt x="2530" y="227"/>
                      <a:pt x="2530" y="227"/>
                      <a:pt x="2530" y="227"/>
                    </a:cubicBezTo>
                    <a:cubicBezTo>
                      <a:pt x="2539" y="228"/>
                      <a:pt x="2539" y="228"/>
                      <a:pt x="2539" y="228"/>
                    </a:cubicBezTo>
                    <a:cubicBezTo>
                      <a:pt x="2547" y="229"/>
                      <a:pt x="2547" y="229"/>
                      <a:pt x="2547" y="229"/>
                    </a:cubicBezTo>
                    <a:cubicBezTo>
                      <a:pt x="2556" y="231"/>
                      <a:pt x="2556" y="231"/>
                      <a:pt x="2556" y="231"/>
                    </a:cubicBezTo>
                    <a:cubicBezTo>
                      <a:pt x="2564" y="232"/>
                      <a:pt x="2564" y="232"/>
                      <a:pt x="2564" y="232"/>
                    </a:cubicBezTo>
                    <a:cubicBezTo>
                      <a:pt x="2573" y="234"/>
                      <a:pt x="2573" y="234"/>
                      <a:pt x="2573" y="234"/>
                    </a:cubicBezTo>
                    <a:cubicBezTo>
                      <a:pt x="2581" y="235"/>
                      <a:pt x="2581" y="235"/>
                      <a:pt x="2581" y="235"/>
                    </a:cubicBezTo>
                    <a:cubicBezTo>
                      <a:pt x="2590" y="236"/>
                      <a:pt x="2590" y="236"/>
                      <a:pt x="2590" y="236"/>
                    </a:cubicBezTo>
                    <a:cubicBezTo>
                      <a:pt x="2598" y="238"/>
                      <a:pt x="2598" y="238"/>
                      <a:pt x="2598" y="238"/>
                    </a:cubicBezTo>
                    <a:cubicBezTo>
                      <a:pt x="2607" y="239"/>
                      <a:pt x="2607" y="239"/>
                      <a:pt x="2607" y="239"/>
                    </a:cubicBezTo>
                    <a:cubicBezTo>
                      <a:pt x="2615" y="240"/>
                      <a:pt x="2615" y="240"/>
                      <a:pt x="2615" y="240"/>
                    </a:cubicBezTo>
                    <a:cubicBezTo>
                      <a:pt x="2624" y="241"/>
                      <a:pt x="2624" y="241"/>
                      <a:pt x="2624" y="241"/>
                    </a:cubicBezTo>
                    <a:cubicBezTo>
                      <a:pt x="2632" y="243"/>
                      <a:pt x="2632" y="243"/>
                      <a:pt x="2632" y="243"/>
                    </a:cubicBezTo>
                    <a:cubicBezTo>
                      <a:pt x="2641" y="244"/>
                      <a:pt x="2641" y="244"/>
                      <a:pt x="2641" y="244"/>
                    </a:cubicBezTo>
                    <a:cubicBezTo>
                      <a:pt x="2649" y="245"/>
                      <a:pt x="2649" y="245"/>
                      <a:pt x="2649" y="245"/>
                    </a:cubicBezTo>
                    <a:cubicBezTo>
                      <a:pt x="2658" y="246"/>
                      <a:pt x="2658" y="246"/>
                      <a:pt x="2658" y="246"/>
                    </a:cubicBezTo>
                    <a:cubicBezTo>
                      <a:pt x="2666" y="247"/>
                      <a:pt x="2666" y="247"/>
                      <a:pt x="2666" y="247"/>
                    </a:cubicBezTo>
                    <a:cubicBezTo>
                      <a:pt x="2675" y="248"/>
                      <a:pt x="2675" y="248"/>
                      <a:pt x="2675" y="248"/>
                    </a:cubicBezTo>
                    <a:cubicBezTo>
                      <a:pt x="2683" y="250"/>
                      <a:pt x="2683" y="250"/>
                      <a:pt x="2683" y="250"/>
                    </a:cubicBezTo>
                    <a:cubicBezTo>
                      <a:pt x="2692" y="251"/>
                      <a:pt x="2692" y="251"/>
                      <a:pt x="2692" y="251"/>
                    </a:cubicBezTo>
                    <a:cubicBezTo>
                      <a:pt x="2700" y="252"/>
                      <a:pt x="2700" y="252"/>
                      <a:pt x="2700" y="252"/>
                    </a:cubicBezTo>
                    <a:cubicBezTo>
                      <a:pt x="2709" y="253"/>
                      <a:pt x="2709" y="253"/>
                      <a:pt x="2709" y="253"/>
                    </a:cubicBezTo>
                    <a:cubicBezTo>
                      <a:pt x="2717" y="254"/>
                      <a:pt x="2717" y="254"/>
                      <a:pt x="2717" y="254"/>
                    </a:cubicBezTo>
                    <a:cubicBezTo>
                      <a:pt x="2726" y="255"/>
                      <a:pt x="2726" y="255"/>
                      <a:pt x="2726" y="255"/>
                    </a:cubicBezTo>
                    <a:cubicBezTo>
                      <a:pt x="2734" y="256"/>
                      <a:pt x="2734" y="256"/>
                      <a:pt x="2734" y="256"/>
                    </a:cubicBezTo>
                    <a:cubicBezTo>
                      <a:pt x="2743" y="256"/>
                      <a:pt x="2743" y="256"/>
                      <a:pt x="2743" y="256"/>
                    </a:cubicBezTo>
                    <a:cubicBezTo>
                      <a:pt x="2751" y="257"/>
                      <a:pt x="2751" y="257"/>
                      <a:pt x="2751" y="257"/>
                    </a:cubicBezTo>
                    <a:cubicBezTo>
                      <a:pt x="2760" y="258"/>
                      <a:pt x="2760" y="258"/>
                      <a:pt x="2760" y="258"/>
                    </a:cubicBezTo>
                    <a:cubicBezTo>
                      <a:pt x="2768" y="259"/>
                      <a:pt x="2768" y="259"/>
                      <a:pt x="2768" y="259"/>
                    </a:cubicBezTo>
                    <a:cubicBezTo>
                      <a:pt x="2777" y="260"/>
                      <a:pt x="2777" y="260"/>
                      <a:pt x="2777" y="260"/>
                    </a:cubicBezTo>
                    <a:cubicBezTo>
                      <a:pt x="2785" y="260"/>
                      <a:pt x="2785" y="260"/>
                      <a:pt x="2785" y="260"/>
                    </a:cubicBezTo>
                    <a:cubicBezTo>
                      <a:pt x="2794" y="261"/>
                      <a:pt x="2794" y="261"/>
                      <a:pt x="2794" y="261"/>
                    </a:cubicBezTo>
                    <a:cubicBezTo>
                      <a:pt x="2802" y="262"/>
                      <a:pt x="2802" y="262"/>
                      <a:pt x="2802" y="262"/>
                    </a:cubicBezTo>
                    <a:cubicBezTo>
                      <a:pt x="2811" y="262"/>
                      <a:pt x="2811" y="262"/>
                      <a:pt x="2811" y="262"/>
                    </a:cubicBezTo>
                    <a:cubicBezTo>
                      <a:pt x="2819" y="263"/>
                      <a:pt x="2819" y="263"/>
                      <a:pt x="2819" y="263"/>
                    </a:cubicBezTo>
                    <a:cubicBezTo>
                      <a:pt x="2828" y="264"/>
                      <a:pt x="2828" y="264"/>
                      <a:pt x="2828" y="264"/>
                    </a:cubicBezTo>
                    <a:cubicBezTo>
                      <a:pt x="2836" y="264"/>
                      <a:pt x="2836" y="264"/>
                      <a:pt x="2836" y="264"/>
                    </a:cubicBezTo>
                    <a:cubicBezTo>
                      <a:pt x="2845" y="265"/>
                      <a:pt x="2845" y="265"/>
                      <a:pt x="2845" y="265"/>
                    </a:cubicBezTo>
                    <a:cubicBezTo>
                      <a:pt x="2853" y="265"/>
                      <a:pt x="2853" y="265"/>
                      <a:pt x="2853" y="265"/>
                    </a:cubicBezTo>
                    <a:cubicBezTo>
                      <a:pt x="2862" y="265"/>
                      <a:pt x="2862" y="265"/>
                      <a:pt x="2862" y="265"/>
                    </a:cubicBezTo>
                    <a:cubicBezTo>
                      <a:pt x="2870" y="266"/>
                      <a:pt x="2870" y="266"/>
                      <a:pt x="2870" y="266"/>
                    </a:cubicBezTo>
                    <a:cubicBezTo>
                      <a:pt x="2879" y="266"/>
                      <a:pt x="2879" y="266"/>
                      <a:pt x="2879" y="266"/>
                    </a:cubicBezTo>
                    <a:cubicBezTo>
                      <a:pt x="2887" y="267"/>
                      <a:pt x="2887" y="267"/>
                      <a:pt x="2887" y="267"/>
                    </a:cubicBezTo>
                    <a:cubicBezTo>
                      <a:pt x="2896" y="267"/>
                      <a:pt x="2896" y="267"/>
                      <a:pt x="2896" y="267"/>
                    </a:cubicBezTo>
                    <a:cubicBezTo>
                      <a:pt x="2904" y="267"/>
                      <a:pt x="2904" y="267"/>
                      <a:pt x="2904" y="267"/>
                    </a:cubicBezTo>
                    <a:cubicBezTo>
                      <a:pt x="2913" y="267"/>
                      <a:pt x="2913" y="267"/>
                      <a:pt x="2913" y="267"/>
                    </a:cubicBezTo>
                    <a:cubicBezTo>
                      <a:pt x="2921" y="268"/>
                      <a:pt x="2921" y="268"/>
                      <a:pt x="2921" y="268"/>
                    </a:cubicBezTo>
                    <a:cubicBezTo>
                      <a:pt x="2930" y="268"/>
                      <a:pt x="2930" y="268"/>
                      <a:pt x="2930" y="268"/>
                    </a:cubicBezTo>
                    <a:cubicBezTo>
                      <a:pt x="2938" y="268"/>
                      <a:pt x="2938" y="268"/>
                      <a:pt x="2938" y="268"/>
                    </a:cubicBezTo>
                    <a:cubicBezTo>
                      <a:pt x="2947" y="268"/>
                      <a:pt x="2947" y="268"/>
                      <a:pt x="2947" y="268"/>
                    </a:cubicBezTo>
                    <a:cubicBezTo>
                      <a:pt x="2955" y="268"/>
                      <a:pt x="2955" y="268"/>
                      <a:pt x="2955" y="268"/>
                    </a:cubicBezTo>
                    <a:cubicBezTo>
                      <a:pt x="2964" y="268"/>
                      <a:pt x="2964" y="268"/>
                      <a:pt x="2964" y="268"/>
                    </a:cubicBezTo>
                    <a:cubicBezTo>
                      <a:pt x="2972" y="268"/>
                      <a:pt x="2972" y="268"/>
                      <a:pt x="2972" y="268"/>
                    </a:cubicBezTo>
                    <a:cubicBezTo>
                      <a:pt x="2981" y="268"/>
                      <a:pt x="2981" y="268"/>
                      <a:pt x="2981" y="268"/>
                    </a:cubicBezTo>
                    <a:cubicBezTo>
                      <a:pt x="2990" y="268"/>
                      <a:pt x="2990" y="268"/>
                      <a:pt x="2990" y="268"/>
                    </a:cubicBezTo>
                    <a:cubicBezTo>
                      <a:pt x="2998" y="268"/>
                      <a:pt x="2998" y="268"/>
                      <a:pt x="2998" y="268"/>
                    </a:cubicBezTo>
                    <a:cubicBezTo>
                      <a:pt x="3007" y="268"/>
                      <a:pt x="3007" y="268"/>
                      <a:pt x="3007" y="268"/>
                    </a:cubicBezTo>
                    <a:cubicBezTo>
                      <a:pt x="3015" y="268"/>
                      <a:pt x="3015" y="268"/>
                      <a:pt x="3015" y="268"/>
                    </a:cubicBezTo>
                    <a:cubicBezTo>
                      <a:pt x="3024" y="268"/>
                      <a:pt x="3024" y="268"/>
                      <a:pt x="3024" y="268"/>
                    </a:cubicBezTo>
                    <a:cubicBezTo>
                      <a:pt x="3032" y="267"/>
                      <a:pt x="3032" y="267"/>
                      <a:pt x="3032" y="267"/>
                    </a:cubicBezTo>
                    <a:cubicBezTo>
                      <a:pt x="3041" y="267"/>
                      <a:pt x="3041" y="267"/>
                      <a:pt x="3041" y="267"/>
                    </a:cubicBezTo>
                    <a:cubicBezTo>
                      <a:pt x="3049" y="267"/>
                      <a:pt x="3049" y="267"/>
                      <a:pt x="3049" y="267"/>
                    </a:cubicBezTo>
                    <a:cubicBezTo>
                      <a:pt x="3058" y="267"/>
                      <a:pt x="3058" y="267"/>
                      <a:pt x="3058" y="267"/>
                    </a:cubicBezTo>
                    <a:cubicBezTo>
                      <a:pt x="3066" y="266"/>
                      <a:pt x="3066" y="266"/>
                      <a:pt x="3066" y="266"/>
                    </a:cubicBezTo>
                    <a:cubicBezTo>
                      <a:pt x="3075" y="266"/>
                      <a:pt x="3075" y="266"/>
                      <a:pt x="3075" y="266"/>
                    </a:cubicBezTo>
                    <a:cubicBezTo>
                      <a:pt x="3083" y="266"/>
                      <a:pt x="3083" y="266"/>
                      <a:pt x="3083" y="266"/>
                    </a:cubicBezTo>
                    <a:cubicBezTo>
                      <a:pt x="3092" y="265"/>
                      <a:pt x="3092" y="265"/>
                      <a:pt x="3092" y="265"/>
                    </a:cubicBezTo>
                    <a:cubicBezTo>
                      <a:pt x="3100" y="265"/>
                      <a:pt x="3100" y="265"/>
                      <a:pt x="3100" y="265"/>
                    </a:cubicBezTo>
                    <a:cubicBezTo>
                      <a:pt x="3109" y="264"/>
                      <a:pt x="3109" y="264"/>
                      <a:pt x="3109" y="264"/>
                    </a:cubicBezTo>
                    <a:cubicBezTo>
                      <a:pt x="3117" y="264"/>
                      <a:pt x="3117" y="264"/>
                      <a:pt x="3117" y="264"/>
                    </a:cubicBezTo>
                    <a:cubicBezTo>
                      <a:pt x="3126" y="264"/>
                      <a:pt x="3126" y="264"/>
                      <a:pt x="3126" y="264"/>
                    </a:cubicBezTo>
                    <a:cubicBezTo>
                      <a:pt x="3134" y="263"/>
                      <a:pt x="3134" y="263"/>
                      <a:pt x="3134" y="263"/>
                    </a:cubicBezTo>
                    <a:cubicBezTo>
                      <a:pt x="3143" y="263"/>
                      <a:pt x="3143" y="263"/>
                      <a:pt x="3143" y="263"/>
                    </a:cubicBezTo>
                    <a:cubicBezTo>
                      <a:pt x="3151" y="262"/>
                      <a:pt x="3151" y="262"/>
                      <a:pt x="3151" y="262"/>
                    </a:cubicBezTo>
                    <a:cubicBezTo>
                      <a:pt x="3160" y="261"/>
                      <a:pt x="3160" y="261"/>
                      <a:pt x="3160" y="261"/>
                    </a:cubicBezTo>
                    <a:cubicBezTo>
                      <a:pt x="3168" y="261"/>
                      <a:pt x="3168" y="261"/>
                      <a:pt x="3168" y="261"/>
                    </a:cubicBezTo>
                    <a:cubicBezTo>
                      <a:pt x="3177" y="260"/>
                      <a:pt x="3177" y="260"/>
                      <a:pt x="3177" y="260"/>
                    </a:cubicBezTo>
                    <a:cubicBezTo>
                      <a:pt x="3185" y="260"/>
                      <a:pt x="3185" y="260"/>
                      <a:pt x="3185" y="260"/>
                    </a:cubicBezTo>
                    <a:cubicBezTo>
                      <a:pt x="3194" y="259"/>
                      <a:pt x="3194" y="259"/>
                      <a:pt x="3194" y="259"/>
                    </a:cubicBezTo>
                    <a:cubicBezTo>
                      <a:pt x="3202" y="259"/>
                      <a:pt x="3202" y="259"/>
                      <a:pt x="3202" y="259"/>
                    </a:cubicBezTo>
                    <a:cubicBezTo>
                      <a:pt x="3211" y="258"/>
                      <a:pt x="3211" y="258"/>
                      <a:pt x="3211" y="258"/>
                    </a:cubicBezTo>
                    <a:cubicBezTo>
                      <a:pt x="3219" y="257"/>
                      <a:pt x="3219" y="257"/>
                      <a:pt x="3219" y="257"/>
                    </a:cubicBezTo>
                    <a:cubicBezTo>
                      <a:pt x="3228" y="257"/>
                      <a:pt x="3228" y="257"/>
                      <a:pt x="3228" y="257"/>
                    </a:cubicBezTo>
                    <a:cubicBezTo>
                      <a:pt x="3236" y="256"/>
                      <a:pt x="3236" y="256"/>
                      <a:pt x="3236" y="256"/>
                    </a:cubicBezTo>
                    <a:cubicBezTo>
                      <a:pt x="3245" y="255"/>
                      <a:pt x="3245" y="255"/>
                      <a:pt x="3245" y="255"/>
                    </a:cubicBezTo>
                    <a:cubicBezTo>
                      <a:pt x="3253" y="254"/>
                      <a:pt x="3253" y="254"/>
                      <a:pt x="3253" y="254"/>
                    </a:cubicBezTo>
                    <a:cubicBezTo>
                      <a:pt x="3262" y="254"/>
                      <a:pt x="3262" y="254"/>
                      <a:pt x="3262" y="254"/>
                    </a:cubicBezTo>
                    <a:cubicBezTo>
                      <a:pt x="3270" y="253"/>
                      <a:pt x="3270" y="253"/>
                      <a:pt x="3270" y="253"/>
                    </a:cubicBezTo>
                    <a:cubicBezTo>
                      <a:pt x="3279" y="252"/>
                      <a:pt x="3279" y="252"/>
                      <a:pt x="3279" y="252"/>
                    </a:cubicBezTo>
                    <a:cubicBezTo>
                      <a:pt x="3287" y="252"/>
                      <a:pt x="3287" y="252"/>
                      <a:pt x="3287" y="252"/>
                    </a:cubicBezTo>
                    <a:cubicBezTo>
                      <a:pt x="3296" y="251"/>
                      <a:pt x="3296" y="251"/>
                      <a:pt x="3296" y="251"/>
                    </a:cubicBezTo>
                    <a:cubicBezTo>
                      <a:pt x="3304" y="250"/>
                      <a:pt x="3304" y="250"/>
                      <a:pt x="3304" y="250"/>
                    </a:cubicBezTo>
                    <a:cubicBezTo>
                      <a:pt x="3313" y="249"/>
                      <a:pt x="3313" y="249"/>
                      <a:pt x="3313" y="249"/>
                    </a:cubicBezTo>
                    <a:cubicBezTo>
                      <a:pt x="3321" y="249"/>
                      <a:pt x="3321" y="249"/>
                      <a:pt x="3321" y="249"/>
                    </a:cubicBezTo>
                    <a:cubicBezTo>
                      <a:pt x="3330" y="248"/>
                      <a:pt x="3330" y="248"/>
                      <a:pt x="3330" y="248"/>
                    </a:cubicBezTo>
                    <a:cubicBezTo>
                      <a:pt x="3338" y="247"/>
                      <a:pt x="3338" y="247"/>
                      <a:pt x="3338" y="247"/>
                    </a:cubicBezTo>
                    <a:cubicBezTo>
                      <a:pt x="3347" y="246"/>
                      <a:pt x="3347" y="246"/>
                      <a:pt x="3347" y="246"/>
                    </a:cubicBezTo>
                    <a:cubicBezTo>
                      <a:pt x="3355" y="245"/>
                      <a:pt x="3355" y="245"/>
                      <a:pt x="3355" y="245"/>
                    </a:cubicBezTo>
                    <a:cubicBezTo>
                      <a:pt x="3364" y="245"/>
                      <a:pt x="3364" y="245"/>
                      <a:pt x="3364" y="245"/>
                    </a:cubicBezTo>
                    <a:cubicBezTo>
                      <a:pt x="3372" y="244"/>
                      <a:pt x="3372" y="244"/>
                      <a:pt x="3372" y="244"/>
                    </a:cubicBezTo>
                    <a:cubicBezTo>
                      <a:pt x="3381" y="243"/>
                      <a:pt x="3381" y="243"/>
                      <a:pt x="3381" y="243"/>
                    </a:cubicBezTo>
                    <a:cubicBezTo>
                      <a:pt x="3389" y="242"/>
                      <a:pt x="3389" y="242"/>
                      <a:pt x="3389" y="242"/>
                    </a:cubicBezTo>
                    <a:cubicBezTo>
                      <a:pt x="3398" y="242"/>
                      <a:pt x="3398" y="242"/>
                      <a:pt x="3398" y="242"/>
                    </a:cubicBezTo>
                    <a:cubicBezTo>
                      <a:pt x="3406" y="241"/>
                      <a:pt x="3406" y="241"/>
                      <a:pt x="3406" y="241"/>
                    </a:cubicBezTo>
                    <a:cubicBezTo>
                      <a:pt x="3415" y="240"/>
                      <a:pt x="3415" y="240"/>
                      <a:pt x="3415" y="240"/>
                    </a:cubicBezTo>
                    <a:cubicBezTo>
                      <a:pt x="3423" y="239"/>
                      <a:pt x="3423" y="239"/>
                      <a:pt x="3423" y="239"/>
                    </a:cubicBezTo>
                    <a:cubicBezTo>
                      <a:pt x="3432" y="239"/>
                      <a:pt x="3432" y="239"/>
                      <a:pt x="3432" y="239"/>
                    </a:cubicBezTo>
                    <a:cubicBezTo>
                      <a:pt x="3440" y="238"/>
                      <a:pt x="3440" y="238"/>
                      <a:pt x="3440" y="238"/>
                    </a:cubicBezTo>
                    <a:cubicBezTo>
                      <a:pt x="3449" y="237"/>
                      <a:pt x="3449" y="237"/>
                      <a:pt x="3449" y="237"/>
                    </a:cubicBezTo>
                    <a:cubicBezTo>
                      <a:pt x="3457" y="236"/>
                      <a:pt x="3457" y="236"/>
                      <a:pt x="3457" y="236"/>
                    </a:cubicBezTo>
                    <a:cubicBezTo>
                      <a:pt x="3466" y="236"/>
                      <a:pt x="3466" y="236"/>
                      <a:pt x="3466" y="236"/>
                    </a:cubicBezTo>
                    <a:cubicBezTo>
                      <a:pt x="3474" y="235"/>
                      <a:pt x="3474" y="235"/>
                      <a:pt x="3474" y="235"/>
                    </a:cubicBezTo>
                    <a:cubicBezTo>
                      <a:pt x="3483" y="234"/>
                      <a:pt x="3483" y="234"/>
                      <a:pt x="3483" y="234"/>
                    </a:cubicBezTo>
                    <a:cubicBezTo>
                      <a:pt x="3491" y="233"/>
                      <a:pt x="3491" y="233"/>
                      <a:pt x="3491" y="233"/>
                    </a:cubicBezTo>
                    <a:cubicBezTo>
                      <a:pt x="3500" y="233"/>
                      <a:pt x="3500" y="233"/>
                      <a:pt x="3500" y="233"/>
                    </a:cubicBezTo>
                    <a:cubicBezTo>
                      <a:pt x="3508" y="232"/>
                      <a:pt x="3508" y="232"/>
                      <a:pt x="3508" y="232"/>
                    </a:cubicBezTo>
                    <a:cubicBezTo>
                      <a:pt x="3517" y="231"/>
                      <a:pt x="3517" y="231"/>
                      <a:pt x="3517" y="231"/>
                    </a:cubicBezTo>
                    <a:cubicBezTo>
                      <a:pt x="3525" y="231"/>
                      <a:pt x="3525" y="231"/>
                      <a:pt x="3525" y="231"/>
                    </a:cubicBezTo>
                    <a:cubicBezTo>
                      <a:pt x="3534" y="230"/>
                      <a:pt x="3534" y="230"/>
                      <a:pt x="3534" y="230"/>
                    </a:cubicBezTo>
                    <a:cubicBezTo>
                      <a:pt x="3542" y="229"/>
                      <a:pt x="3542" y="229"/>
                      <a:pt x="3542" y="229"/>
                    </a:cubicBezTo>
                    <a:cubicBezTo>
                      <a:pt x="3551" y="229"/>
                      <a:pt x="3551" y="229"/>
                      <a:pt x="3551" y="229"/>
                    </a:cubicBezTo>
                    <a:cubicBezTo>
                      <a:pt x="3559" y="228"/>
                      <a:pt x="3559" y="228"/>
                      <a:pt x="3559" y="228"/>
                    </a:cubicBezTo>
                    <a:cubicBezTo>
                      <a:pt x="3568" y="227"/>
                      <a:pt x="3568" y="227"/>
                      <a:pt x="3568" y="227"/>
                    </a:cubicBezTo>
                    <a:cubicBezTo>
                      <a:pt x="3576" y="227"/>
                      <a:pt x="3576" y="227"/>
                      <a:pt x="3576" y="227"/>
                    </a:cubicBezTo>
                    <a:cubicBezTo>
                      <a:pt x="3585" y="226"/>
                      <a:pt x="3585" y="226"/>
                      <a:pt x="3585" y="226"/>
                    </a:cubicBezTo>
                    <a:cubicBezTo>
                      <a:pt x="3593" y="226"/>
                      <a:pt x="3593" y="226"/>
                      <a:pt x="3593" y="226"/>
                    </a:cubicBezTo>
                    <a:cubicBezTo>
                      <a:pt x="3602" y="225"/>
                      <a:pt x="3602" y="225"/>
                      <a:pt x="3602" y="225"/>
                    </a:cubicBezTo>
                    <a:cubicBezTo>
                      <a:pt x="3610" y="225"/>
                      <a:pt x="3610" y="225"/>
                      <a:pt x="3610" y="225"/>
                    </a:cubicBezTo>
                    <a:cubicBezTo>
                      <a:pt x="3619" y="224"/>
                      <a:pt x="3619" y="224"/>
                      <a:pt x="3619" y="224"/>
                    </a:cubicBezTo>
                    <a:cubicBezTo>
                      <a:pt x="3627" y="224"/>
                      <a:pt x="3627" y="224"/>
                      <a:pt x="3627" y="224"/>
                    </a:cubicBezTo>
                    <a:cubicBezTo>
                      <a:pt x="3636" y="223"/>
                      <a:pt x="3636" y="223"/>
                      <a:pt x="3636" y="223"/>
                    </a:cubicBezTo>
                    <a:cubicBezTo>
                      <a:pt x="3644" y="223"/>
                      <a:pt x="3644" y="223"/>
                      <a:pt x="3644" y="223"/>
                    </a:cubicBezTo>
                    <a:cubicBezTo>
                      <a:pt x="3653" y="222"/>
                      <a:pt x="3653" y="222"/>
                      <a:pt x="3653" y="222"/>
                    </a:cubicBezTo>
                    <a:cubicBezTo>
                      <a:pt x="3661" y="222"/>
                      <a:pt x="3661" y="222"/>
                      <a:pt x="3661" y="222"/>
                    </a:cubicBezTo>
                    <a:cubicBezTo>
                      <a:pt x="3670" y="221"/>
                      <a:pt x="3670" y="221"/>
                      <a:pt x="3670" y="221"/>
                    </a:cubicBezTo>
                    <a:cubicBezTo>
                      <a:pt x="3678" y="221"/>
                      <a:pt x="3678" y="221"/>
                      <a:pt x="3678" y="221"/>
                    </a:cubicBezTo>
                    <a:cubicBezTo>
                      <a:pt x="3687" y="220"/>
                      <a:pt x="3687" y="220"/>
                      <a:pt x="3687" y="220"/>
                    </a:cubicBezTo>
                    <a:cubicBezTo>
                      <a:pt x="3695" y="220"/>
                      <a:pt x="3695" y="220"/>
                      <a:pt x="3695" y="220"/>
                    </a:cubicBezTo>
                    <a:cubicBezTo>
                      <a:pt x="3704" y="220"/>
                      <a:pt x="3704" y="220"/>
                      <a:pt x="3704" y="220"/>
                    </a:cubicBezTo>
                    <a:cubicBezTo>
                      <a:pt x="3712" y="219"/>
                      <a:pt x="3712" y="219"/>
                      <a:pt x="3712" y="219"/>
                    </a:cubicBezTo>
                    <a:cubicBezTo>
                      <a:pt x="3721" y="219"/>
                      <a:pt x="3721" y="219"/>
                      <a:pt x="3721" y="219"/>
                    </a:cubicBezTo>
                    <a:cubicBezTo>
                      <a:pt x="3729" y="219"/>
                      <a:pt x="3729" y="219"/>
                      <a:pt x="3729" y="219"/>
                    </a:cubicBezTo>
                    <a:cubicBezTo>
                      <a:pt x="3738" y="218"/>
                      <a:pt x="3738" y="218"/>
                      <a:pt x="3738" y="218"/>
                    </a:cubicBezTo>
                    <a:cubicBezTo>
                      <a:pt x="3746" y="218"/>
                      <a:pt x="3746" y="218"/>
                      <a:pt x="3746" y="218"/>
                    </a:cubicBezTo>
                    <a:cubicBezTo>
                      <a:pt x="3755" y="218"/>
                      <a:pt x="3755" y="218"/>
                      <a:pt x="3755" y="218"/>
                    </a:cubicBezTo>
                    <a:cubicBezTo>
                      <a:pt x="3763" y="218"/>
                      <a:pt x="3763" y="218"/>
                      <a:pt x="3763" y="218"/>
                    </a:cubicBezTo>
                    <a:cubicBezTo>
                      <a:pt x="3772" y="217"/>
                      <a:pt x="3772" y="217"/>
                      <a:pt x="3772" y="217"/>
                    </a:cubicBezTo>
                    <a:cubicBezTo>
                      <a:pt x="3780" y="217"/>
                      <a:pt x="3780" y="217"/>
                      <a:pt x="3780" y="217"/>
                    </a:cubicBezTo>
                    <a:cubicBezTo>
                      <a:pt x="3789" y="217"/>
                      <a:pt x="3789" y="217"/>
                      <a:pt x="3789" y="217"/>
                    </a:cubicBezTo>
                    <a:cubicBezTo>
                      <a:pt x="3797" y="217"/>
                      <a:pt x="3797" y="217"/>
                      <a:pt x="3797" y="217"/>
                    </a:cubicBezTo>
                    <a:cubicBezTo>
                      <a:pt x="3806" y="217"/>
                      <a:pt x="3806" y="217"/>
                      <a:pt x="3806" y="217"/>
                    </a:cubicBezTo>
                    <a:cubicBezTo>
                      <a:pt x="3814" y="217"/>
                      <a:pt x="3814" y="217"/>
                      <a:pt x="3814" y="217"/>
                    </a:cubicBezTo>
                    <a:cubicBezTo>
                      <a:pt x="3823" y="216"/>
                      <a:pt x="3823" y="216"/>
                      <a:pt x="3823" y="216"/>
                    </a:cubicBezTo>
                    <a:cubicBezTo>
                      <a:pt x="3832" y="216"/>
                      <a:pt x="3832" y="216"/>
                      <a:pt x="3832" y="216"/>
                    </a:cubicBezTo>
                    <a:cubicBezTo>
                      <a:pt x="3840" y="216"/>
                      <a:pt x="3840" y="216"/>
                      <a:pt x="3840" y="216"/>
                    </a:cubicBezTo>
                    <a:cubicBezTo>
                      <a:pt x="3849" y="216"/>
                      <a:pt x="3849" y="216"/>
                      <a:pt x="3849" y="216"/>
                    </a:cubicBezTo>
                    <a:cubicBezTo>
                      <a:pt x="3857" y="216"/>
                      <a:pt x="3857" y="216"/>
                      <a:pt x="3857" y="216"/>
                    </a:cubicBezTo>
                    <a:cubicBezTo>
                      <a:pt x="3866" y="216"/>
                      <a:pt x="3866" y="216"/>
                      <a:pt x="3866" y="216"/>
                    </a:cubicBezTo>
                    <a:cubicBezTo>
                      <a:pt x="3874" y="216"/>
                      <a:pt x="3874" y="216"/>
                      <a:pt x="3874" y="216"/>
                    </a:cubicBezTo>
                    <a:cubicBezTo>
                      <a:pt x="3883" y="216"/>
                      <a:pt x="3883" y="216"/>
                      <a:pt x="3883" y="216"/>
                    </a:cubicBezTo>
                    <a:cubicBezTo>
                      <a:pt x="3891" y="216"/>
                      <a:pt x="3891" y="216"/>
                      <a:pt x="3891" y="216"/>
                    </a:cubicBezTo>
                    <a:cubicBezTo>
                      <a:pt x="3900" y="216"/>
                      <a:pt x="3900" y="216"/>
                      <a:pt x="3900" y="216"/>
                    </a:cubicBezTo>
                    <a:cubicBezTo>
                      <a:pt x="3908" y="216"/>
                      <a:pt x="3908" y="216"/>
                      <a:pt x="3908" y="216"/>
                    </a:cubicBezTo>
                    <a:cubicBezTo>
                      <a:pt x="3917" y="216"/>
                      <a:pt x="3917" y="216"/>
                      <a:pt x="3917" y="216"/>
                    </a:cubicBezTo>
                    <a:cubicBezTo>
                      <a:pt x="3925" y="216"/>
                      <a:pt x="3925" y="216"/>
                      <a:pt x="3925" y="216"/>
                    </a:cubicBezTo>
                    <a:cubicBezTo>
                      <a:pt x="3934" y="216"/>
                      <a:pt x="3934" y="216"/>
                      <a:pt x="3934" y="216"/>
                    </a:cubicBezTo>
                    <a:cubicBezTo>
                      <a:pt x="3942" y="216"/>
                      <a:pt x="3942" y="216"/>
                      <a:pt x="3942" y="216"/>
                    </a:cubicBezTo>
                    <a:cubicBezTo>
                      <a:pt x="3951" y="217"/>
                      <a:pt x="3951" y="217"/>
                      <a:pt x="3951" y="217"/>
                    </a:cubicBezTo>
                    <a:cubicBezTo>
                      <a:pt x="3959" y="217"/>
                      <a:pt x="3959" y="217"/>
                      <a:pt x="3959" y="217"/>
                    </a:cubicBezTo>
                    <a:cubicBezTo>
                      <a:pt x="3968" y="217"/>
                      <a:pt x="3968" y="217"/>
                      <a:pt x="3968" y="217"/>
                    </a:cubicBezTo>
                    <a:cubicBezTo>
                      <a:pt x="3976" y="217"/>
                      <a:pt x="3976" y="217"/>
                      <a:pt x="3976" y="217"/>
                    </a:cubicBezTo>
                    <a:cubicBezTo>
                      <a:pt x="3985" y="217"/>
                      <a:pt x="3985" y="217"/>
                      <a:pt x="3985" y="217"/>
                    </a:cubicBezTo>
                    <a:cubicBezTo>
                      <a:pt x="3993" y="217"/>
                      <a:pt x="3993" y="217"/>
                      <a:pt x="3993" y="217"/>
                    </a:cubicBezTo>
                    <a:cubicBezTo>
                      <a:pt x="4002" y="218"/>
                      <a:pt x="4002" y="218"/>
                      <a:pt x="4002" y="218"/>
                    </a:cubicBezTo>
                    <a:cubicBezTo>
                      <a:pt x="4010" y="218"/>
                      <a:pt x="4010" y="218"/>
                      <a:pt x="4010" y="218"/>
                    </a:cubicBezTo>
                    <a:cubicBezTo>
                      <a:pt x="4019" y="218"/>
                      <a:pt x="4019" y="218"/>
                      <a:pt x="4019" y="218"/>
                    </a:cubicBezTo>
                    <a:cubicBezTo>
                      <a:pt x="4027" y="218"/>
                      <a:pt x="4027" y="218"/>
                      <a:pt x="4027" y="218"/>
                    </a:cubicBezTo>
                    <a:cubicBezTo>
                      <a:pt x="4036" y="218"/>
                      <a:pt x="4036" y="218"/>
                      <a:pt x="4036" y="218"/>
                    </a:cubicBezTo>
                    <a:cubicBezTo>
                      <a:pt x="4044" y="219"/>
                      <a:pt x="4044" y="219"/>
                      <a:pt x="4044" y="219"/>
                    </a:cubicBezTo>
                    <a:cubicBezTo>
                      <a:pt x="4053" y="219"/>
                      <a:pt x="4053" y="219"/>
                      <a:pt x="4053" y="219"/>
                    </a:cubicBezTo>
                    <a:cubicBezTo>
                      <a:pt x="4061" y="219"/>
                      <a:pt x="4061" y="219"/>
                      <a:pt x="4061" y="219"/>
                    </a:cubicBezTo>
                    <a:cubicBezTo>
                      <a:pt x="4070" y="220"/>
                      <a:pt x="4070" y="220"/>
                      <a:pt x="4070" y="220"/>
                    </a:cubicBezTo>
                    <a:cubicBezTo>
                      <a:pt x="4078" y="220"/>
                      <a:pt x="4078" y="220"/>
                      <a:pt x="4078" y="220"/>
                    </a:cubicBezTo>
                    <a:cubicBezTo>
                      <a:pt x="4087" y="220"/>
                      <a:pt x="4087" y="220"/>
                      <a:pt x="4087" y="220"/>
                    </a:cubicBezTo>
                    <a:cubicBezTo>
                      <a:pt x="4095" y="220"/>
                      <a:pt x="4095" y="220"/>
                      <a:pt x="4095" y="220"/>
                    </a:cubicBezTo>
                    <a:cubicBezTo>
                      <a:pt x="4104" y="221"/>
                      <a:pt x="4104" y="221"/>
                      <a:pt x="4104" y="221"/>
                    </a:cubicBezTo>
                    <a:cubicBezTo>
                      <a:pt x="4112" y="221"/>
                      <a:pt x="4112" y="221"/>
                      <a:pt x="4112" y="221"/>
                    </a:cubicBezTo>
                    <a:cubicBezTo>
                      <a:pt x="4121" y="221"/>
                      <a:pt x="4121" y="221"/>
                      <a:pt x="4121" y="221"/>
                    </a:cubicBezTo>
                    <a:cubicBezTo>
                      <a:pt x="4129" y="222"/>
                      <a:pt x="4129" y="222"/>
                      <a:pt x="4129" y="222"/>
                    </a:cubicBezTo>
                    <a:cubicBezTo>
                      <a:pt x="4138" y="222"/>
                      <a:pt x="4138" y="222"/>
                      <a:pt x="4138" y="222"/>
                    </a:cubicBezTo>
                    <a:cubicBezTo>
                      <a:pt x="4146" y="223"/>
                      <a:pt x="4146" y="223"/>
                      <a:pt x="4146" y="223"/>
                    </a:cubicBezTo>
                    <a:cubicBezTo>
                      <a:pt x="4155" y="223"/>
                      <a:pt x="4155" y="223"/>
                      <a:pt x="4155" y="223"/>
                    </a:cubicBezTo>
                    <a:cubicBezTo>
                      <a:pt x="4163" y="223"/>
                      <a:pt x="4163" y="223"/>
                      <a:pt x="4163" y="223"/>
                    </a:cubicBezTo>
                    <a:cubicBezTo>
                      <a:pt x="4172" y="224"/>
                      <a:pt x="4172" y="224"/>
                      <a:pt x="4172" y="224"/>
                    </a:cubicBezTo>
                    <a:cubicBezTo>
                      <a:pt x="4180" y="224"/>
                      <a:pt x="4180" y="224"/>
                      <a:pt x="4180" y="224"/>
                    </a:cubicBezTo>
                    <a:cubicBezTo>
                      <a:pt x="4189" y="224"/>
                      <a:pt x="4189" y="224"/>
                      <a:pt x="4189" y="224"/>
                    </a:cubicBezTo>
                    <a:cubicBezTo>
                      <a:pt x="4197" y="225"/>
                      <a:pt x="4197" y="225"/>
                      <a:pt x="4197" y="225"/>
                    </a:cubicBezTo>
                    <a:cubicBezTo>
                      <a:pt x="4206" y="225"/>
                      <a:pt x="4206" y="225"/>
                      <a:pt x="4206" y="225"/>
                    </a:cubicBezTo>
                    <a:cubicBezTo>
                      <a:pt x="4214" y="226"/>
                      <a:pt x="4214" y="226"/>
                      <a:pt x="4214" y="226"/>
                    </a:cubicBezTo>
                    <a:cubicBezTo>
                      <a:pt x="4223" y="226"/>
                      <a:pt x="4223" y="226"/>
                      <a:pt x="4223" y="226"/>
                    </a:cubicBezTo>
                    <a:cubicBezTo>
                      <a:pt x="4231" y="226"/>
                      <a:pt x="4231" y="226"/>
                      <a:pt x="4231" y="226"/>
                    </a:cubicBezTo>
                    <a:cubicBezTo>
                      <a:pt x="4240" y="227"/>
                      <a:pt x="4240" y="227"/>
                      <a:pt x="4240" y="227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7" name=""/>
            <p:cNvGraphicFramePr/>
            <p:nvPr/>
          </p:nvGraphicFramePr>
          <p:xfrm>
            <a:off x="4476600" y="2443320"/>
            <a:ext cx="130320" cy="218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76600" y="2443320"/>
                      <a:ext cx="13032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1374840" y="2398680"/>
            <a:ext cx="150840" cy="236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374840" y="2398680"/>
                      <a:ext cx="15084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1" name=""/>
          <p:cNvSpPr/>
          <p:nvPr/>
        </p:nvSpPr>
        <p:spPr>
          <a:xfrm>
            <a:off x="1733400" y="3297240"/>
            <a:ext cx="279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еріод згасаючих колива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12" action="ppaction://hlinksldjump"/>
          </p:cNvPr>
          <p:cNvSpPr/>
          <p:nvPr/>
        </p:nvSpPr>
        <p:spPr>
          <a:xfrm>
            <a:off x="3656160" y="36450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1349280" y="3537000"/>
          <a:ext cx="709560" cy="622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49280" y="3537000"/>
                    <a:ext cx="7095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502000" y="3703680"/>
          <a:ext cx="1128600" cy="36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02000" y="3703680"/>
                    <a:ext cx="1128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 flipV="1">
            <a:off x="1914480" y="1275840"/>
            <a:ext cx="60012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494800" y="12477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902680" y="16747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638440" y="242892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798720" y="24368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629080" y="2685960"/>
            <a:ext cx="11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400480" y="2894040"/>
            <a:ext cx="7268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608200" y="888840"/>
          <a:ext cx="2441520" cy="36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08200" y="888840"/>
                    <a:ext cx="244152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2927520" y="1477800"/>
          <a:ext cx="1236600" cy="36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27520" y="1477800"/>
                    <a:ext cx="123660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"/>
          <p:cNvSpPr/>
          <p:nvPr/>
        </p:nvSpPr>
        <p:spPr>
          <a:xfrm flipV="1">
            <a:off x="2550960" y="1693800"/>
            <a:ext cx="38124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3110040" y="2685960"/>
          <a:ext cx="199800" cy="235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10040" y="2685960"/>
                    <a:ext cx="19980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"/>
          <p:cNvSpPr/>
          <p:nvPr/>
        </p:nvSpPr>
        <p:spPr>
          <a:xfrm>
            <a:off x="3105000" y="2685960"/>
            <a:ext cx="190800" cy="238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2399760" y="32767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55960" y="2198520"/>
            <a:ext cx="343080" cy="276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rot="20626200">
            <a:off x="4259160" y="2058480"/>
            <a:ext cx="685800" cy="181080"/>
          </a:xfrm>
          <a:custGeom>
            <a:avLst/>
            <a:gdLst>
              <a:gd name="textAreaLeft" fmla="*/ 85680 w 685800"/>
              <a:gd name="textAreaRight" fmla="*/ 600120 w 685800"/>
              <a:gd name="textAreaTop" fmla="*/ 45360 h 181080"/>
              <a:gd name="textAreaBottom" fmla="*/ 136080 h 18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3"/>
          <a:stretch/>
        </p:blipFill>
        <p:spPr>
          <a:xfrm>
            <a:off x="5452920" y="1467000"/>
            <a:ext cx="1524240" cy="1047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43480" y="2514600"/>
            <a:ext cx="16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095880" y="19144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5608440" y="2200320"/>
            <a:ext cx="495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5569920" y="28083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5120" y="2809800"/>
            <a:ext cx="357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Значення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у черговому максимумі не співпадає з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2630520" y="5735520"/>
          <a:ext cx="1154160" cy="4190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630520" y="5735520"/>
                    <a:ext cx="115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"/>
          <p:cNvGraphicFramePr/>
          <p:nvPr/>
        </p:nvGraphicFramePr>
        <p:xfrm>
          <a:off x="5024520" y="5767560"/>
          <a:ext cx="855720" cy="4190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24520" y="5767560"/>
                    <a:ext cx="855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">
            <a:hlinkClick r:id="rId28" action="ppaction://hlinksldjump"/>
          </p:cNvPr>
          <p:cNvSpPr/>
          <p:nvPr/>
        </p:nvSpPr>
        <p:spPr>
          <a:xfrm>
            <a:off x="3814920" y="56847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807160" y="627120"/>
            <a:ext cx="29019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mic Sans MS"/>
              </a:rPr>
              <a:t>Уваг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Амплітуда згасаючих колив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є функцією часу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79880" y="1320840"/>
            <a:ext cx="2352960" cy="143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7237440" y="1359000"/>
          <a:ext cx="1473120" cy="439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37440" y="1359000"/>
                    <a:ext cx="14731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"/>
          <p:cNvSpPr/>
          <p:nvPr/>
        </p:nvSpPr>
        <p:spPr>
          <a:xfrm>
            <a:off x="723960" y="19684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0200" y="115740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111720" y="5629320"/>
            <a:ext cx="25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30560" y="56307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879720" y="3575160"/>
            <a:ext cx="2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Управляющая кнопка: домой 85">
            <a:hlinkClick r:id="rId3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703440" y="24300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МУШЕНІ КОЛ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8372520" y="200160"/>
            <a:ext cx="600120" cy="495000"/>
            <a:chOff x="8372520" y="200160"/>
            <a:chExt cx="600120" cy="495000"/>
          </a:xfrm>
        </p:grpSpPr>
        <p:sp>
          <p:nvSpPr>
            <p:cNvPr id="730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372520" y="257040"/>
              <a:ext cx="6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2" name=""/>
          <p:cNvGraphicFramePr/>
          <p:nvPr/>
        </p:nvGraphicFramePr>
        <p:xfrm>
          <a:off x="803160" y="833400"/>
          <a:ext cx="674712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833400"/>
                    <a:ext cx="674712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7661160" y="159228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4941720" y="2276640"/>
          <a:ext cx="498600" cy="35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41720" y="2276640"/>
                    <a:ext cx="49860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6432480" y="2217600"/>
          <a:ext cx="57780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32480" y="2217600"/>
                    <a:ext cx="5778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2697120" y="4100400"/>
          <a:ext cx="244944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97120" y="4100400"/>
                    <a:ext cx="2449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5114880" y="4149720"/>
            <a:ext cx="4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54120" y="5303880"/>
            <a:ext cx="71006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Зверніть увагу на те, що вираз для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не залежить від початкових умов! Його можна використовувати лише для великих значень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коли вимушені коливання дійсно можна буде вважати усталеними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30360" y="2874960"/>
            <a:ext cx="7854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Загальний розв'язок цього неоднорідного диференціального рівняння являє собою суму окремого розв'язку цього неоднорідного рівняння та загального розв'язку відповідного однорідного рівняння (                             ). Роль розв'язку однорідного рівняння зменшується з плином часу (див. згасаючі коливання). Отже, усталені вимушені коливання будуть описуватися окремим розв'язком неоднорідного рівняння, який має вигля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3824280" y="3328920"/>
                <a:ext cx="15066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β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4175280" y="4624560"/>
                <a:ext cx="2247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,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1622520" y="4624560"/>
                <a:ext cx="1832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,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47" name=""/>
          <p:cNvGraphicFramePr/>
          <p:nvPr/>
        </p:nvGraphicFramePr>
        <p:xfrm>
          <a:off x="2644920" y="750960"/>
          <a:ext cx="1063440" cy="67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4920" y="750960"/>
                    <a:ext cx="106344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9" name=""/>
          <p:cNvGrpSpPr/>
          <p:nvPr/>
        </p:nvGrpSpPr>
        <p:grpSpPr>
          <a:xfrm>
            <a:off x="5413320" y="2090880"/>
            <a:ext cx="620280" cy="550800"/>
            <a:chOff x="5413320" y="2090880"/>
            <a:chExt cx="620280" cy="550800"/>
          </a:xfrm>
        </p:grpSpPr>
        <p:sp>
          <p:nvSpPr>
            <p:cNvPr id="750" name="">
              <a:hlinkClick r:id="rId11" action="ppaction://hlinksldjump"/>
            </p:cNvPr>
            <p:cNvSpPr/>
            <p:nvPr/>
          </p:nvSpPr>
          <p:spPr>
            <a:xfrm>
              <a:off x="5413320" y="215280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555880" y="2090880"/>
              <a:ext cx="47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6997680" y="2100240"/>
            <a:ext cx="539280" cy="549000"/>
            <a:chOff x="6997680" y="2100240"/>
            <a:chExt cx="539280" cy="549000"/>
          </a:xfrm>
        </p:grpSpPr>
        <p:sp>
          <p:nvSpPr>
            <p:cNvPr id="753" name="">
              <a:hlinkClick r:id="rId12" action="ppaction://hlinksldjump"/>
            </p:cNvPr>
            <p:cNvSpPr/>
            <p:nvPr/>
          </p:nvSpPr>
          <p:spPr>
            <a:xfrm>
              <a:off x="6997680" y="2160360"/>
              <a:ext cx="461880" cy="488880"/>
            </a:xfrm>
            <a:custGeom>
              <a:avLst/>
              <a:gdLst>
                <a:gd name="textAreaLeft" fmla="*/ 29880 w 461880"/>
                <a:gd name="textAreaRight" fmla="*/ 432000 w 461880"/>
                <a:gd name="textAreaTop" fmla="*/ 29880 h 488880"/>
                <a:gd name="textAreaBottom" fmla="*/ 459000 h 488880"/>
              </a:gdLst>
              <a:ahLst/>
              <a:rect l="textAreaLeft" t="textAreaTop" r="textAreaRight" b="textAreaBottom"/>
              <a:pathLst>
                <a:path w="21600" h="22862">
                  <a:moveTo>
                    <a:pt x="0" y="0"/>
                  </a:moveTo>
                  <a:lnTo>
                    <a:pt x="21600" y="0"/>
                  </a:lnTo>
                  <a:lnTo>
                    <a:pt x="21600" y="22862"/>
                  </a:lnTo>
                  <a:lnTo>
                    <a:pt x="0" y="22862"/>
                  </a:lnTo>
                  <a:close/>
                </a:path>
                <a:path fill="lightenLess" w="21600" h="2286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862">
                  <a:moveTo>
                    <a:pt x="21600" y="0"/>
                  </a:moveTo>
                  <a:lnTo>
                    <a:pt x="21600" y="22862"/>
                  </a:lnTo>
                  <a:lnTo>
                    <a:pt x="20200" y="21462"/>
                  </a:lnTo>
                  <a:lnTo>
                    <a:pt x="20200" y="1400"/>
                  </a:lnTo>
                  <a:close/>
                </a:path>
                <a:path fill="darkenLess" w="21600" h="22862">
                  <a:moveTo>
                    <a:pt x="21600" y="22862"/>
                  </a:moveTo>
                  <a:lnTo>
                    <a:pt x="0" y="22862"/>
                  </a:lnTo>
                  <a:lnTo>
                    <a:pt x="1400" y="21462"/>
                  </a:lnTo>
                  <a:lnTo>
                    <a:pt x="20200" y="21462"/>
                  </a:lnTo>
                  <a:close/>
                </a:path>
                <a:path fill="lighten" w="21600" h="22862">
                  <a:moveTo>
                    <a:pt x="0" y="2286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462"/>
                  </a:lnTo>
                  <a:close/>
                </a:path>
                <a:path fill="darken" w="21600" h="22862">
                  <a:moveTo>
                    <a:pt x="10800" y="1543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862">
                  <a:moveTo>
                    <a:pt x="11905" y="14912"/>
                  </a:moveTo>
                  <a:lnTo>
                    <a:pt x="11905" y="12954"/>
                  </a:lnTo>
                  <a:cubicBezTo>
                    <a:pt x="11905" y="12127"/>
                    <a:pt x="12236" y="11431"/>
                    <a:pt x="12837" y="11431"/>
                  </a:cubicBezTo>
                  <a:cubicBezTo>
                    <a:pt x="13968" y="11431"/>
                    <a:pt x="14865" y="10064"/>
                    <a:pt x="14865" y="8480"/>
                  </a:cubicBezTo>
                  <a:cubicBezTo>
                    <a:pt x="14865" y="6165"/>
                    <a:pt x="13011" y="4424"/>
                    <a:pt x="10800" y="4424"/>
                  </a:cubicBezTo>
                  <a:cubicBezTo>
                    <a:pt x="8589" y="4424"/>
                    <a:pt x="6918" y="6165"/>
                    <a:pt x="6918" y="8480"/>
                  </a:cubicBezTo>
                  <a:lnTo>
                    <a:pt x="8772" y="8480"/>
                  </a:lnTo>
                  <a:cubicBezTo>
                    <a:pt x="8772" y="7340"/>
                    <a:pt x="9695" y="6452"/>
                    <a:pt x="10800" y="6452"/>
                  </a:cubicBezTo>
                  <a:cubicBezTo>
                    <a:pt x="11905" y="6452"/>
                    <a:pt x="12837" y="7340"/>
                    <a:pt x="12837" y="8480"/>
                  </a:cubicBezTo>
                  <a:cubicBezTo>
                    <a:pt x="12837" y="9220"/>
                    <a:pt x="12367" y="9951"/>
                    <a:pt x="11905" y="9951"/>
                  </a:cubicBezTo>
                  <a:cubicBezTo>
                    <a:pt x="10800" y="9951"/>
                    <a:pt x="9695" y="11431"/>
                    <a:pt x="9695" y="12954"/>
                  </a:cubicBezTo>
                  <a:lnTo>
                    <a:pt x="9695" y="1491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9560" y="2100240"/>
              <a:ext cx="34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510000" y="4529160"/>
            <a:ext cx="498600" cy="552240"/>
            <a:chOff x="3510000" y="4529160"/>
            <a:chExt cx="498600" cy="552240"/>
          </a:xfrm>
        </p:grpSpPr>
        <p:sp>
          <p:nvSpPr>
            <p:cNvPr id="756" name="">
              <a:hlinkClick r:id="rId13" action="ppaction://hlinksldjump"/>
            </p:cNvPr>
            <p:cNvSpPr/>
            <p:nvPr/>
          </p:nvSpPr>
          <p:spPr>
            <a:xfrm>
              <a:off x="3510000" y="459252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718080" y="4529160"/>
              <a:ext cx="29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448320" y="4516560"/>
            <a:ext cx="587520" cy="560160"/>
            <a:chOff x="6448320" y="4516560"/>
            <a:chExt cx="587520" cy="560160"/>
          </a:xfrm>
        </p:grpSpPr>
        <p:sp>
          <p:nvSpPr>
            <p:cNvPr id="759" name="">
              <a:hlinkClick r:id="rId14" action="ppaction://hlinksldjump"/>
            </p:cNvPr>
            <p:cNvSpPr/>
            <p:nvPr/>
          </p:nvSpPr>
          <p:spPr>
            <a:xfrm>
              <a:off x="6448320" y="4587840"/>
              <a:ext cx="476280" cy="48888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71">
                  <a:moveTo>
                    <a:pt x="0" y="0"/>
                  </a:moveTo>
                  <a:lnTo>
                    <a:pt x="21600" y="0"/>
                  </a:lnTo>
                  <a:lnTo>
                    <a:pt x="21600" y="22171"/>
                  </a:lnTo>
                  <a:lnTo>
                    <a:pt x="0" y="22171"/>
                  </a:lnTo>
                  <a:close/>
                </a:path>
                <a:path fill="lightenLess" w="21600" h="2217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71">
                  <a:moveTo>
                    <a:pt x="21600" y="0"/>
                  </a:moveTo>
                  <a:lnTo>
                    <a:pt x="21600" y="22171"/>
                  </a:lnTo>
                  <a:lnTo>
                    <a:pt x="20200" y="20771"/>
                  </a:lnTo>
                  <a:lnTo>
                    <a:pt x="20200" y="1400"/>
                  </a:lnTo>
                  <a:close/>
                </a:path>
                <a:path fill="darkenLess" w="21600" h="22171">
                  <a:moveTo>
                    <a:pt x="21600" y="22171"/>
                  </a:moveTo>
                  <a:lnTo>
                    <a:pt x="0" y="22171"/>
                  </a:lnTo>
                  <a:lnTo>
                    <a:pt x="1400" y="20771"/>
                  </a:lnTo>
                  <a:lnTo>
                    <a:pt x="20200" y="20771"/>
                  </a:lnTo>
                  <a:close/>
                </a:path>
                <a:path fill="lighten" w="21600" h="22171">
                  <a:moveTo>
                    <a:pt x="0" y="2217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71"/>
                  </a:lnTo>
                  <a:close/>
                </a:path>
                <a:path fill="darken" w="21600" h="22171">
                  <a:moveTo>
                    <a:pt x="10800" y="15089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71">
                  <a:moveTo>
                    <a:pt x="11905" y="14567"/>
                  </a:moveTo>
                  <a:lnTo>
                    <a:pt x="11905" y="12609"/>
                  </a:lnTo>
                  <a:cubicBezTo>
                    <a:pt x="11905" y="11782"/>
                    <a:pt x="12236" y="11085"/>
                    <a:pt x="12837" y="11085"/>
                  </a:cubicBezTo>
                  <a:cubicBezTo>
                    <a:pt x="13968" y="11085"/>
                    <a:pt x="14865" y="9719"/>
                    <a:pt x="14865" y="8135"/>
                  </a:cubicBezTo>
                  <a:cubicBezTo>
                    <a:pt x="14865" y="5820"/>
                    <a:pt x="13011" y="4079"/>
                    <a:pt x="10800" y="4079"/>
                  </a:cubicBezTo>
                  <a:cubicBezTo>
                    <a:pt x="8589" y="4079"/>
                    <a:pt x="6918" y="5820"/>
                    <a:pt x="6918" y="8135"/>
                  </a:cubicBezTo>
                  <a:lnTo>
                    <a:pt x="8772" y="8135"/>
                  </a:lnTo>
                  <a:cubicBezTo>
                    <a:pt x="8772" y="6995"/>
                    <a:pt x="9695" y="6107"/>
                    <a:pt x="10800" y="6107"/>
                  </a:cubicBezTo>
                  <a:cubicBezTo>
                    <a:pt x="11905" y="6107"/>
                    <a:pt x="12837" y="6995"/>
                    <a:pt x="12837" y="8135"/>
                  </a:cubicBezTo>
                  <a:cubicBezTo>
                    <a:pt x="12837" y="8875"/>
                    <a:pt x="12367" y="9606"/>
                    <a:pt x="11905" y="9606"/>
                  </a:cubicBezTo>
                  <a:cubicBezTo>
                    <a:pt x="10800" y="9606"/>
                    <a:pt x="9695" y="11085"/>
                    <a:pt x="9695" y="12609"/>
                  </a:cubicBezTo>
                  <a:lnTo>
                    <a:pt x="9695" y="145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38760" y="451656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Управляющая кнопка: домой 85">
            <a:hlinkClick r:id="rId1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03440" y="24300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ЗОНАНС КООРДИН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8372520" y="200160"/>
            <a:ext cx="600120" cy="495000"/>
            <a:chOff x="8372520" y="200160"/>
            <a:chExt cx="600120" cy="495000"/>
          </a:xfrm>
        </p:grpSpPr>
        <p:sp>
          <p:nvSpPr>
            <p:cNvPr id="766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72520" y="257040"/>
              <a:ext cx="6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549360" y="752400"/>
            <a:ext cx="775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Амплітуда усталених вимушених коливань залежить від циклічної частоти зовнішньої си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2832120" y="1150920"/>
          <a:ext cx="295128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2120" y="1150920"/>
                    <a:ext cx="2951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"/>
          <p:cNvSpPr/>
          <p:nvPr/>
        </p:nvSpPr>
        <p:spPr>
          <a:xfrm>
            <a:off x="455760" y="2016000"/>
            <a:ext cx="81784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и певному значенні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амплітуда коливань досягає максимального значення. Явище різкого зростання амплітуди вимушених коливань при поступовій зміні частоти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зовнішньої сили (              ) називають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резонансом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а відповідну циклічну частоту – резонансно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4402080" y="3043080"/>
          <a:ext cx="12398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2080" y="3043080"/>
                    <a:ext cx="12398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4390920" y="3695760"/>
          <a:ext cx="1773360" cy="3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0920" y="3695760"/>
                    <a:ext cx="17733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2149560" y="2565360"/>
          <a:ext cx="1152360" cy="26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9560" y="2565360"/>
                    <a:ext cx="11523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"/>
          <p:cNvSpPr/>
          <p:nvPr/>
        </p:nvSpPr>
        <p:spPr>
          <a:xfrm>
            <a:off x="762120" y="6093000"/>
            <a:ext cx="62625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Яка з нерівностей відповідає наведеним графікам: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чи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rId9" action="ppaction://hlinksldjump"/>
          </p:cNvPr>
          <p:cNvSpPr/>
          <p:nvPr/>
        </p:nvSpPr>
        <p:spPr>
          <a:xfrm>
            <a:off x="5651640" y="29145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94200" y="285264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rId10" action="ppaction://hlinksldjump"/>
          </p:cNvPr>
          <p:cNvSpPr/>
          <p:nvPr/>
        </p:nvSpPr>
        <p:spPr>
          <a:xfrm>
            <a:off x="6168960" y="3598920"/>
            <a:ext cx="446040" cy="488880"/>
          </a:xfrm>
          <a:custGeom>
            <a:avLst/>
            <a:gdLst>
              <a:gd name="textAreaLeft" fmla="*/ 28800 w 446040"/>
              <a:gd name="textAreaRight" fmla="*/ 417240 w 44604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673">
                <a:moveTo>
                  <a:pt x="0" y="0"/>
                </a:moveTo>
                <a:lnTo>
                  <a:pt x="21600" y="0"/>
                </a:lnTo>
                <a:lnTo>
                  <a:pt x="21600" y="23673"/>
                </a:lnTo>
                <a:lnTo>
                  <a:pt x="0" y="23673"/>
                </a:lnTo>
                <a:close/>
              </a:path>
              <a:path fill="lightenLess" w="21600" h="23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73">
                <a:moveTo>
                  <a:pt x="21600" y="0"/>
                </a:moveTo>
                <a:lnTo>
                  <a:pt x="21600" y="23673"/>
                </a:lnTo>
                <a:lnTo>
                  <a:pt x="20200" y="22273"/>
                </a:lnTo>
                <a:lnTo>
                  <a:pt x="20200" y="1400"/>
                </a:lnTo>
                <a:close/>
              </a:path>
              <a:path fill="darkenLess" w="21600" h="23673">
                <a:moveTo>
                  <a:pt x="21600" y="23673"/>
                </a:moveTo>
                <a:lnTo>
                  <a:pt x="0" y="23673"/>
                </a:lnTo>
                <a:lnTo>
                  <a:pt x="1400" y="22273"/>
                </a:lnTo>
                <a:lnTo>
                  <a:pt x="20200" y="22273"/>
                </a:lnTo>
                <a:close/>
              </a:path>
              <a:path fill="lighten" w="21600" h="23673">
                <a:moveTo>
                  <a:pt x="0" y="23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73"/>
                </a:lnTo>
                <a:close/>
              </a:path>
              <a:path fill="darken" w="21600" h="23673">
                <a:moveTo>
                  <a:pt x="10800" y="1584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673">
                <a:moveTo>
                  <a:pt x="11905" y="15318"/>
                </a:moveTo>
                <a:lnTo>
                  <a:pt x="11905" y="13360"/>
                </a:lnTo>
                <a:cubicBezTo>
                  <a:pt x="11905" y="12533"/>
                  <a:pt x="12236" y="11836"/>
                  <a:pt x="12837" y="11836"/>
                </a:cubicBezTo>
                <a:cubicBezTo>
                  <a:pt x="13968" y="11836"/>
                  <a:pt x="14865" y="10470"/>
                  <a:pt x="14865" y="8886"/>
                </a:cubicBezTo>
                <a:cubicBezTo>
                  <a:pt x="14865" y="6571"/>
                  <a:pt x="13011" y="4830"/>
                  <a:pt x="10800" y="4830"/>
                </a:cubicBezTo>
                <a:cubicBezTo>
                  <a:pt x="8589" y="4830"/>
                  <a:pt x="6918" y="6571"/>
                  <a:pt x="6918" y="8886"/>
                </a:cubicBezTo>
                <a:lnTo>
                  <a:pt x="8772" y="8886"/>
                </a:lnTo>
                <a:cubicBezTo>
                  <a:pt x="8772" y="7746"/>
                  <a:pt x="9695" y="6858"/>
                  <a:pt x="10800" y="6858"/>
                </a:cubicBezTo>
                <a:cubicBezTo>
                  <a:pt x="11905" y="6858"/>
                  <a:pt x="12837" y="7746"/>
                  <a:pt x="12837" y="8886"/>
                </a:cubicBezTo>
                <a:cubicBezTo>
                  <a:pt x="12837" y="9626"/>
                  <a:pt x="12367" y="10357"/>
                  <a:pt x="11905" y="10357"/>
                </a:cubicBezTo>
                <a:cubicBezTo>
                  <a:pt x="10800" y="10357"/>
                  <a:pt x="9695" y="11836"/>
                  <a:pt x="9695" y="13360"/>
                </a:cubicBezTo>
                <a:lnTo>
                  <a:pt x="9695" y="153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354720" y="3538440"/>
            <a:ext cx="3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>
            <a:hlinkClick r:id="rId11" action="ppaction://hlinksldjump"/>
          </p:cNvPr>
          <p:cNvSpPr/>
          <p:nvPr/>
        </p:nvSpPr>
        <p:spPr>
          <a:xfrm>
            <a:off x="291960" y="602280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34880" y="5952960"/>
            <a:ext cx="4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>
            <a:hlinkClick r:id="rId12" action="ppaction://hlinksldjump"/>
          </p:cNvPr>
          <p:cNvSpPr/>
          <p:nvPr/>
        </p:nvSpPr>
        <p:spPr>
          <a:xfrm>
            <a:off x="291960" y="39132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44600" y="3871800"/>
            <a:ext cx="43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66800" y="4343400"/>
            <a:ext cx="26496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801720" y="2989440"/>
            <a:ext cx="4835520" cy="3298320"/>
            <a:chOff x="801720" y="2989440"/>
            <a:chExt cx="4835520" cy="3298320"/>
          </a:xfrm>
        </p:grpSpPr>
        <p:pic>
          <p:nvPicPr>
            <p:cNvPr id="789" name="" descr=""/>
            <p:cNvPicPr/>
            <p:nvPr/>
          </p:nvPicPr>
          <p:blipFill>
            <a:blip r:embed="rId13"/>
            <a:stretch/>
          </p:blipFill>
          <p:spPr>
            <a:xfrm>
              <a:off x="1055880" y="3400200"/>
              <a:ext cx="2867040" cy="1609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90" name=""/>
            <p:cNvGraphicFramePr/>
            <p:nvPr/>
          </p:nvGraphicFramePr>
          <p:xfrm>
            <a:off x="1193760" y="5972040"/>
            <a:ext cx="114480" cy="215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9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193760" y="5972040"/>
                      <a:ext cx="11448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2" name=""/>
            <p:cNvSpPr/>
            <p:nvPr/>
          </p:nvSpPr>
          <p:spPr>
            <a:xfrm>
              <a:off x="949320" y="5226120"/>
              <a:ext cx="301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3" name=""/>
            <p:cNvGraphicFramePr/>
            <p:nvPr/>
          </p:nvGraphicFramePr>
          <p:xfrm>
            <a:off x="801720" y="2989440"/>
            <a:ext cx="165240" cy="1774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79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01720" y="2989440"/>
                      <a:ext cx="165240" cy="17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5" name=""/>
            <p:cNvGraphicFramePr/>
            <p:nvPr/>
          </p:nvGraphicFramePr>
          <p:xfrm>
            <a:off x="3741840" y="5257800"/>
            <a:ext cx="165240" cy="1519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796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3741840" y="5257800"/>
                      <a:ext cx="165240" cy="15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7" name=""/>
            <p:cNvGraphicFramePr/>
            <p:nvPr/>
          </p:nvGraphicFramePr>
          <p:xfrm>
            <a:off x="884160" y="5235480"/>
            <a:ext cx="127080" cy="1900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798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884160" y="5235480"/>
                      <a:ext cx="127080" cy="19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9" name=""/>
            <p:cNvSpPr/>
            <p:nvPr/>
          </p:nvSpPr>
          <p:spPr>
            <a:xfrm flipH="1">
              <a:off x="2238120" y="3541680"/>
              <a:ext cx="663480" cy="42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2287440" y="4194000"/>
              <a:ext cx="66348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1" name=""/>
            <p:cNvGraphicFramePr/>
            <p:nvPr/>
          </p:nvGraphicFramePr>
          <p:xfrm>
            <a:off x="2879640" y="3348000"/>
            <a:ext cx="190800" cy="24084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879640" y="3348000"/>
                      <a:ext cx="190800" cy="24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3" name=""/>
            <p:cNvGraphicFramePr/>
            <p:nvPr/>
          </p:nvGraphicFramePr>
          <p:xfrm>
            <a:off x="2919600" y="3992400"/>
            <a:ext cx="215640" cy="24084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804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2919600" y="3992400"/>
                      <a:ext cx="215640" cy="24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5" name=""/>
            <p:cNvSpPr/>
            <p:nvPr/>
          </p:nvSpPr>
          <p:spPr>
            <a:xfrm flipV="1">
              <a:off x="1074960" y="3065400"/>
              <a:ext cx="0" cy="22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73440" y="4265640"/>
              <a:ext cx="0" cy="95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62080" y="3436920"/>
              <a:ext cx="0" cy="177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74960" y="4265640"/>
              <a:ext cx="4481280" cy="779040"/>
            </a:xfrm>
            <a:custGeom>
              <a:avLst/>
              <a:gdLst/>
              <a:ahLst/>
              <a:rect l="l" t="t" r="r" b="b"/>
              <a:pathLst>
                <a:path w="1412" h="417">
                  <a:moveTo>
                    <a:pt x="0" y="145"/>
                  </a:moveTo>
                  <a:cubicBezTo>
                    <a:pt x="6" y="145"/>
                    <a:pt x="6" y="145"/>
                    <a:pt x="6" y="145"/>
                  </a:cubicBezTo>
                  <a:cubicBezTo>
                    <a:pt x="11" y="145"/>
                    <a:pt x="11" y="145"/>
                    <a:pt x="11" y="145"/>
                  </a:cubicBezTo>
                  <a:cubicBezTo>
                    <a:pt x="17" y="144"/>
                    <a:pt x="17" y="144"/>
                    <a:pt x="17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8" y="143"/>
                    <a:pt x="28" y="143"/>
                    <a:pt x="28" y="143"/>
                  </a:cubicBezTo>
                  <a:cubicBezTo>
                    <a:pt x="34" y="142"/>
                    <a:pt x="34" y="142"/>
                    <a:pt x="34" y="142"/>
                  </a:cubicBezTo>
                  <a:cubicBezTo>
                    <a:pt x="40" y="141"/>
                    <a:pt x="40" y="141"/>
                    <a:pt x="40" y="141"/>
                  </a:cubicBezTo>
                  <a:cubicBezTo>
                    <a:pt x="45" y="139"/>
                    <a:pt x="45" y="139"/>
                    <a:pt x="45" y="139"/>
                  </a:cubicBezTo>
                  <a:cubicBezTo>
                    <a:pt x="51" y="138"/>
                    <a:pt x="51" y="138"/>
                    <a:pt x="51" y="138"/>
                  </a:cubicBezTo>
                  <a:cubicBezTo>
                    <a:pt x="57" y="136"/>
                    <a:pt x="57" y="136"/>
                    <a:pt x="57" y="136"/>
                  </a:cubicBezTo>
                  <a:cubicBezTo>
                    <a:pt x="62" y="134"/>
                    <a:pt x="62" y="134"/>
                    <a:pt x="62" y="134"/>
                  </a:cubicBezTo>
                  <a:cubicBezTo>
                    <a:pt x="68" y="132"/>
                    <a:pt x="68" y="132"/>
                    <a:pt x="68" y="132"/>
                  </a:cubicBezTo>
                  <a:cubicBezTo>
                    <a:pt x="74" y="130"/>
                    <a:pt x="74" y="130"/>
                    <a:pt x="74" y="130"/>
                  </a:cubicBezTo>
                  <a:cubicBezTo>
                    <a:pt x="79" y="128"/>
                    <a:pt x="79" y="128"/>
                    <a:pt x="79" y="128"/>
                  </a:cubicBezTo>
                  <a:cubicBezTo>
                    <a:pt x="85" y="125"/>
                    <a:pt x="85" y="125"/>
                    <a:pt x="85" y="125"/>
                  </a:cubicBezTo>
                  <a:cubicBezTo>
                    <a:pt x="91" y="122"/>
                    <a:pt x="91" y="122"/>
                    <a:pt x="91" y="122"/>
                  </a:cubicBezTo>
                  <a:cubicBezTo>
                    <a:pt x="96" y="119"/>
                    <a:pt x="96" y="119"/>
                    <a:pt x="96" y="119"/>
                  </a:cubicBezTo>
                  <a:cubicBezTo>
                    <a:pt x="102" y="116"/>
                    <a:pt x="102" y="116"/>
                    <a:pt x="102" y="116"/>
                  </a:cubicBezTo>
                  <a:cubicBezTo>
                    <a:pt x="108" y="112"/>
                    <a:pt x="108" y="112"/>
                    <a:pt x="108" y="112"/>
                  </a:cubicBezTo>
                  <a:cubicBezTo>
                    <a:pt x="113" y="109"/>
                    <a:pt x="113" y="109"/>
                    <a:pt x="113" y="109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25" y="101"/>
                    <a:pt x="125" y="101"/>
                    <a:pt x="125" y="101"/>
                  </a:cubicBezTo>
                  <a:cubicBezTo>
                    <a:pt x="130" y="96"/>
                    <a:pt x="130" y="96"/>
                    <a:pt x="130" y="96"/>
                  </a:cubicBezTo>
                  <a:cubicBezTo>
                    <a:pt x="136" y="91"/>
                    <a:pt x="136" y="91"/>
                    <a:pt x="136" y="91"/>
                  </a:cubicBezTo>
                  <a:cubicBezTo>
                    <a:pt x="142" y="87"/>
                    <a:pt x="142" y="87"/>
                    <a:pt x="142" y="87"/>
                  </a:cubicBezTo>
                  <a:cubicBezTo>
                    <a:pt x="147" y="82"/>
                    <a:pt x="147" y="82"/>
                    <a:pt x="147" y="82"/>
                  </a:cubicBezTo>
                  <a:cubicBezTo>
                    <a:pt x="153" y="76"/>
                    <a:pt x="153" y="76"/>
                    <a:pt x="153" y="76"/>
                  </a:cubicBezTo>
                  <a:cubicBezTo>
                    <a:pt x="159" y="71"/>
                    <a:pt x="159" y="71"/>
                    <a:pt x="159" y="71"/>
                  </a:cubicBezTo>
                  <a:cubicBezTo>
                    <a:pt x="164" y="65"/>
                    <a:pt x="164" y="65"/>
                    <a:pt x="164" y="65"/>
                  </a:cubicBezTo>
                  <a:cubicBezTo>
                    <a:pt x="170" y="59"/>
                    <a:pt x="170" y="59"/>
                    <a:pt x="170" y="59"/>
                  </a:cubicBezTo>
                  <a:cubicBezTo>
                    <a:pt x="176" y="53"/>
                    <a:pt x="176" y="53"/>
                    <a:pt x="176" y="53"/>
                  </a:cubicBezTo>
                  <a:cubicBezTo>
                    <a:pt x="181" y="47"/>
                    <a:pt x="181" y="47"/>
                    <a:pt x="181" y="47"/>
                  </a:cubicBezTo>
                  <a:cubicBezTo>
                    <a:pt x="187" y="41"/>
                    <a:pt x="187" y="41"/>
                    <a:pt x="187" y="41"/>
                  </a:cubicBezTo>
                  <a:cubicBezTo>
                    <a:pt x="193" y="35"/>
                    <a:pt x="193" y="35"/>
                    <a:pt x="193" y="35"/>
                  </a:cubicBezTo>
                  <a:cubicBezTo>
                    <a:pt x="198" y="30"/>
                    <a:pt x="198" y="30"/>
                    <a:pt x="198" y="30"/>
                  </a:cubicBezTo>
                  <a:cubicBezTo>
                    <a:pt x="204" y="24"/>
                    <a:pt x="204" y="24"/>
                    <a:pt x="204" y="24"/>
                  </a:cubicBezTo>
                  <a:cubicBezTo>
                    <a:pt x="210" y="19"/>
                    <a:pt x="210" y="19"/>
                    <a:pt x="210" y="19"/>
                  </a:cubicBezTo>
                  <a:cubicBezTo>
                    <a:pt x="215" y="14"/>
                    <a:pt x="215" y="14"/>
                    <a:pt x="215" y="14"/>
                  </a:cubicBezTo>
                  <a:cubicBezTo>
                    <a:pt x="221" y="9"/>
                    <a:pt x="221" y="9"/>
                    <a:pt x="221" y="9"/>
                  </a:cubicBezTo>
                  <a:cubicBezTo>
                    <a:pt x="227" y="6"/>
                    <a:pt x="227" y="6"/>
                    <a:pt x="227" y="6"/>
                  </a:cubicBezTo>
                  <a:cubicBezTo>
                    <a:pt x="232" y="3"/>
                    <a:pt x="232" y="3"/>
                    <a:pt x="232" y="3"/>
                  </a:cubicBezTo>
                  <a:cubicBezTo>
                    <a:pt x="238" y="1"/>
                    <a:pt x="238" y="1"/>
                    <a:pt x="238" y="1"/>
                  </a:cubicBezTo>
                  <a:cubicBezTo>
                    <a:pt x="244" y="0"/>
                    <a:pt x="244" y="0"/>
                    <a:pt x="244" y="0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255" y="2"/>
                    <a:pt x="255" y="2"/>
                    <a:pt x="255" y="2"/>
                  </a:cubicBezTo>
                  <a:cubicBezTo>
                    <a:pt x="261" y="4"/>
                    <a:pt x="261" y="4"/>
                    <a:pt x="261" y="4"/>
                  </a:cubicBezTo>
                  <a:cubicBezTo>
                    <a:pt x="266" y="8"/>
                    <a:pt x="266" y="8"/>
                    <a:pt x="266" y="8"/>
                  </a:cubicBezTo>
                  <a:cubicBezTo>
                    <a:pt x="272" y="14"/>
                    <a:pt x="272" y="14"/>
                    <a:pt x="272" y="14"/>
                  </a:cubicBezTo>
                  <a:cubicBezTo>
                    <a:pt x="278" y="20"/>
                    <a:pt x="278" y="20"/>
                    <a:pt x="278" y="20"/>
                  </a:cubicBezTo>
                  <a:cubicBezTo>
                    <a:pt x="283" y="28"/>
                    <a:pt x="283" y="28"/>
                    <a:pt x="283" y="28"/>
                  </a:cubicBezTo>
                  <a:cubicBezTo>
                    <a:pt x="286" y="32"/>
                    <a:pt x="286" y="32"/>
                    <a:pt x="286" y="32"/>
                  </a:cubicBezTo>
                  <a:cubicBezTo>
                    <a:pt x="289" y="36"/>
                    <a:pt x="289" y="36"/>
                    <a:pt x="289" y="36"/>
                  </a:cubicBezTo>
                  <a:cubicBezTo>
                    <a:pt x="292" y="41"/>
                    <a:pt x="292" y="41"/>
                    <a:pt x="292" y="41"/>
                  </a:cubicBezTo>
                  <a:cubicBezTo>
                    <a:pt x="295" y="45"/>
                    <a:pt x="295" y="45"/>
                    <a:pt x="295" y="45"/>
                  </a:cubicBezTo>
                  <a:cubicBezTo>
                    <a:pt x="298" y="50"/>
                    <a:pt x="298" y="50"/>
                    <a:pt x="298" y="50"/>
                  </a:cubicBezTo>
                  <a:cubicBezTo>
                    <a:pt x="301" y="55"/>
                    <a:pt x="301" y="55"/>
                    <a:pt x="301" y="55"/>
                  </a:cubicBezTo>
                  <a:cubicBezTo>
                    <a:pt x="303" y="60"/>
                    <a:pt x="303" y="60"/>
                    <a:pt x="303" y="60"/>
                  </a:cubicBezTo>
                  <a:cubicBezTo>
                    <a:pt x="306" y="66"/>
                    <a:pt x="306" y="66"/>
                    <a:pt x="306" y="66"/>
                  </a:cubicBezTo>
                  <a:cubicBezTo>
                    <a:pt x="309" y="71"/>
                    <a:pt x="309" y="71"/>
                    <a:pt x="309" y="71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315" y="82"/>
                    <a:pt x="315" y="82"/>
                    <a:pt x="315" y="82"/>
                  </a:cubicBezTo>
                  <a:cubicBezTo>
                    <a:pt x="318" y="88"/>
                    <a:pt x="318" y="88"/>
                    <a:pt x="318" y="88"/>
                  </a:cubicBezTo>
                  <a:cubicBezTo>
                    <a:pt x="320" y="93"/>
                    <a:pt x="320" y="93"/>
                    <a:pt x="320" y="93"/>
                  </a:cubicBezTo>
                  <a:cubicBezTo>
                    <a:pt x="323" y="99"/>
                    <a:pt x="323" y="99"/>
                    <a:pt x="323" y="99"/>
                  </a:cubicBezTo>
                  <a:cubicBezTo>
                    <a:pt x="326" y="104"/>
                    <a:pt x="326" y="104"/>
                    <a:pt x="326" y="104"/>
                  </a:cubicBezTo>
                  <a:cubicBezTo>
                    <a:pt x="329" y="110"/>
                    <a:pt x="329" y="110"/>
                    <a:pt x="329" y="110"/>
                  </a:cubicBezTo>
                  <a:cubicBezTo>
                    <a:pt x="332" y="116"/>
                    <a:pt x="332" y="116"/>
                    <a:pt x="332" y="116"/>
                  </a:cubicBezTo>
                  <a:cubicBezTo>
                    <a:pt x="335" y="121"/>
                    <a:pt x="335" y="121"/>
                    <a:pt x="335" y="121"/>
                  </a:cubicBezTo>
                  <a:cubicBezTo>
                    <a:pt x="337" y="126"/>
                    <a:pt x="337" y="126"/>
                    <a:pt x="337" y="126"/>
                  </a:cubicBezTo>
                  <a:cubicBezTo>
                    <a:pt x="340" y="132"/>
                    <a:pt x="340" y="132"/>
                    <a:pt x="340" y="132"/>
                  </a:cubicBezTo>
                  <a:cubicBezTo>
                    <a:pt x="343" y="137"/>
                    <a:pt x="343" y="137"/>
                    <a:pt x="343" y="137"/>
                  </a:cubicBezTo>
                  <a:cubicBezTo>
                    <a:pt x="346" y="143"/>
                    <a:pt x="346" y="143"/>
                    <a:pt x="346" y="143"/>
                  </a:cubicBezTo>
                  <a:cubicBezTo>
                    <a:pt x="349" y="148"/>
                    <a:pt x="349" y="148"/>
                    <a:pt x="349" y="148"/>
                  </a:cubicBezTo>
                  <a:cubicBezTo>
                    <a:pt x="354" y="158"/>
                    <a:pt x="354" y="158"/>
                    <a:pt x="354" y="158"/>
                  </a:cubicBezTo>
                  <a:cubicBezTo>
                    <a:pt x="357" y="163"/>
                    <a:pt x="357" y="163"/>
                    <a:pt x="357" y="163"/>
                  </a:cubicBezTo>
                  <a:cubicBezTo>
                    <a:pt x="360" y="168"/>
                    <a:pt x="360" y="168"/>
                    <a:pt x="360" y="168"/>
                  </a:cubicBezTo>
                  <a:cubicBezTo>
                    <a:pt x="363" y="173"/>
                    <a:pt x="363" y="173"/>
                    <a:pt x="363" y="173"/>
                  </a:cubicBezTo>
                  <a:cubicBezTo>
                    <a:pt x="366" y="177"/>
                    <a:pt x="366" y="177"/>
                    <a:pt x="366" y="177"/>
                  </a:cubicBezTo>
                  <a:cubicBezTo>
                    <a:pt x="369" y="182"/>
                    <a:pt x="369" y="182"/>
                    <a:pt x="369" y="182"/>
                  </a:cubicBezTo>
                  <a:cubicBezTo>
                    <a:pt x="371" y="186"/>
                    <a:pt x="371" y="186"/>
                    <a:pt x="371" y="186"/>
                  </a:cubicBezTo>
                  <a:cubicBezTo>
                    <a:pt x="374" y="191"/>
                    <a:pt x="374" y="191"/>
                    <a:pt x="374" y="191"/>
                  </a:cubicBezTo>
                  <a:cubicBezTo>
                    <a:pt x="377" y="195"/>
                    <a:pt x="377" y="195"/>
                    <a:pt x="377" y="195"/>
                  </a:cubicBezTo>
                  <a:cubicBezTo>
                    <a:pt x="380" y="199"/>
                    <a:pt x="380" y="199"/>
                    <a:pt x="380" y="199"/>
                  </a:cubicBezTo>
                  <a:cubicBezTo>
                    <a:pt x="386" y="208"/>
                    <a:pt x="386" y="208"/>
                    <a:pt x="386" y="208"/>
                  </a:cubicBezTo>
                  <a:cubicBezTo>
                    <a:pt x="391" y="215"/>
                    <a:pt x="391" y="215"/>
                    <a:pt x="391" y="215"/>
                  </a:cubicBezTo>
                  <a:cubicBezTo>
                    <a:pt x="397" y="223"/>
                    <a:pt x="397" y="223"/>
                    <a:pt x="397" y="223"/>
                  </a:cubicBezTo>
                  <a:cubicBezTo>
                    <a:pt x="403" y="230"/>
                    <a:pt x="403" y="230"/>
                    <a:pt x="403" y="230"/>
                  </a:cubicBezTo>
                  <a:cubicBezTo>
                    <a:pt x="408" y="237"/>
                    <a:pt x="408" y="237"/>
                    <a:pt x="408" y="237"/>
                  </a:cubicBezTo>
                  <a:cubicBezTo>
                    <a:pt x="414" y="243"/>
                    <a:pt x="414" y="243"/>
                    <a:pt x="414" y="243"/>
                  </a:cubicBezTo>
                  <a:cubicBezTo>
                    <a:pt x="420" y="250"/>
                    <a:pt x="420" y="250"/>
                    <a:pt x="420" y="250"/>
                  </a:cubicBezTo>
                  <a:cubicBezTo>
                    <a:pt x="425" y="256"/>
                    <a:pt x="425" y="256"/>
                    <a:pt x="425" y="256"/>
                  </a:cubicBezTo>
                  <a:cubicBezTo>
                    <a:pt x="431" y="261"/>
                    <a:pt x="431" y="261"/>
                    <a:pt x="431" y="261"/>
                  </a:cubicBezTo>
                  <a:cubicBezTo>
                    <a:pt x="437" y="267"/>
                    <a:pt x="437" y="267"/>
                    <a:pt x="437" y="267"/>
                  </a:cubicBezTo>
                  <a:cubicBezTo>
                    <a:pt x="442" y="272"/>
                    <a:pt x="442" y="272"/>
                    <a:pt x="442" y="272"/>
                  </a:cubicBezTo>
                  <a:cubicBezTo>
                    <a:pt x="448" y="277"/>
                    <a:pt x="448" y="277"/>
                    <a:pt x="448" y="277"/>
                  </a:cubicBezTo>
                  <a:cubicBezTo>
                    <a:pt x="454" y="281"/>
                    <a:pt x="454" y="281"/>
                    <a:pt x="454" y="281"/>
                  </a:cubicBezTo>
                  <a:cubicBezTo>
                    <a:pt x="459" y="286"/>
                    <a:pt x="459" y="286"/>
                    <a:pt x="459" y="286"/>
                  </a:cubicBezTo>
                  <a:cubicBezTo>
                    <a:pt x="465" y="290"/>
                    <a:pt x="465" y="290"/>
                    <a:pt x="465" y="290"/>
                  </a:cubicBezTo>
                  <a:cubicBezTo>
                    <a:pt x="471" y="294"/>
                    <a:pt x="471" y="294"/>
                    <a:pt x="471" y="294"/>
                  </a:cubicBezTo>
                  <a:cubicBezTo>
                    <a:pt x="476" y="298"/>
                    <a:pt x="476" y="298"/>
                    <a:pt x="476" y="298"/>
                  </a:cubicBezTo>
                  <a:cubicBezTo>
                    <a:pt x="482" y="302"/>
                    <a:pt x="482" y="302"/>
                    <a:pt x="482" y="302"/>
                  </a:cubicBezTo>
                  <a:cubicBezTo>
                    <a:pt x="488" y="306"/>
                    <a:pt x="488" y="306"/>
                    <a:pt x="488" y="306"/>
                  </a:cubicBezTo>
                  <a:cubicBezTo>
                    <a:pt x="493" y="309"/>
                    <a:pt x="493" y="309"/>
                    <a:pt x="493" y="309"/>
                  </a:cubicBezTo>
                  <a:cubicBezTo>
                    <a:pt x="499" y="312"/>
                    <a:pt x="499" y="312"/>
                    <a:pt x="499" y="312"/>
                  </a:cubicBezTo>
                  <a:cubicBezTo>
                    <a:pt x="505" y="315"/>
                    <a:pt x="505" y="315"/>
                    <a:pt x="505" y="315"/>
                  </a:cubicBezTo>
                  <a:cubicBezTo>
                    <a:pt x="510" y="318"/>
                    <a:pt x="510" y="318"/>
                    <a:pt x="510" y="318"/>
                  </a:cubicBezTo>
                  <a:cubicBezTo>
                    <a:pt x="516" y="321"/>
                    <a:pt x="516" y="321"/>
                    <a:pt x="516" y="321"/>
                  </a:cubicBezTo>
                  <a:cubicBezTo>
                    <a:pt x="522" y="324"/>
                    <a:pt x="522" y="324"/>
                    <a:pt x="522" y="324"/>
                  </a:cubicBezTo>
                  <a:cubicBezTo>
                    <a:pt x="527" y="327"/>
                    <a:pt x="527" y="327"/>
                    <a:pt x="527" y="327"/>
                  </a:cubicBezTo>
                  <a:cubicBezTo>
                    <a:pt x="533" y="329"/>
                    <a:pt x="533" y="329"/>
                    <a:pt x="533" y="329"/>
                  </a:cubicBezTo>
                  <a:cubicBezTo>
                    <a:pt x="539" y="332"/>
                    <a:pt x="539" y="332"/>
                    <a:pt x="539" y="332"/>
                  </a:cubicBezTo>
                  <a:cubicBezTo>
                    <a:pt x="544" y="334"/>
                    <a:pt x="544" y="334"/>
                    <a:pt x="544" y="334"/>
                  </a:cubicBezTo>
                  <a:cubicBezTo>
                    <a:pt x="550" y="337"/>
                    <a:pt x="550" y="337"/>
                    <a:pt x="550" y="337"/>
                  </a:cubicBezTo>
                  <a:cubicBezTo>
                    <a:pt x="556" y="339"/>
                    <a:pt x="556" y="339"/>
                    <a:pt x="556" y="339"/>
                  </a:cubicBezTo>
                  <a:cubicBezTo>
                    <a:pt x="561" y="341"/>
                    <a:pt x="561" y="341"/>
                    <a:pt x="561" y="341"/>
                  </a:cubicBezTo>
                  <a:cubicBezTo>
                    <a:pt x="567" y="343"/>
                    <a:pt x="567" y="343"/>
                    <a:pt x="567" y="343"/>
                  </a:cubicBezTo>
                  <a:cubicBezTo>
                    <a:pt x="573" y="345"/>
                    <a:pt x="573" y="345"/>
                    <a:pt x="573" y="345"/>
                  </a:cubicBezTo>
                  <a:cubicBezTo>
                    <a:pt x="578" y="347"/>
                    <a:pt x="578" y="347"/>
                    <a:pt x="578" y="347"/>
                  </a:cubicBezTo>
                  <a:cubicBezTo>
                    <a:pt x="584" y="349"/>
                    <a:pt x="584" y="349"/>
                    <a:pt x="584" y="349"/>
                  </a:cubicBezTo>
                  <a:cubicBezTo>
                    <a:pt x="590" y="351"/>
                    <a:pt x="590" y="351"/>
                    <a:pt x="590" y="351"/>
                  </a:cubicBezTo>
                  <a:cubicBezTo>
                    <a:pt x="595" y="352"/>
                    <a:pt x="595" y="352"/>
                    <a:pt x="595" y="352"/>
                  </a:cubicBezTo>
                  <a:cubicBezTo>
                    <a:pt x="601" y="354"/>
                    <a:pt x="601" y="354"/>
                    <a:pt x="601" y="354"/>
                  </a:cubicBezTo>
                  <a:cubicBezTo>
                    <a:pt x="607" y="356"/>
                    <a:pt x="607" y="356"/>
                    <a:pt x="607" y="356"/>
                  </a:cubicBezTo>
                  <a:cubicBezTo>
                    <a:pt x="612" y="357"/>
                    <a:pt x="612" y="357"/>
                    <a:pt x="612" y="357"/>
                  </a:cubicBezTo>
                  <a:cubicBezTo>
                    <a:pt x="618" y="359"/>
                    <a:pt x="618" y="359"/>
                    <a:pt x="618" y="359"/>
                  </a:cubicBezTo>
                  <a:cubicBezTo>
                    <a:pt x="624" y="360"/>
                    <a:pt x="624" y="360"/>
                    <a:pt x="624" y="360"/>
                  </a:cubicBezTo>
                  <a:cubicBezTo>
                    <a:pt x="629" y="361"/>
                    <a:pt x="629" y="361"/>
                    <a:pt x="629" y="361"/>
                  </a:cubicBezTo>
                  <a:cubicBezTo>
                    <a:pt x="635" y="363"/>
                    <a:pt x="635" y="363"/>
                    <a:pt x="635" y="363"/>
                  </a:cubicBezTo>
                  <a:cubicBezTo>
                    <a:pt x="641" y="364"/>
                    <a:pt x="641" y="364"/>
                    <a:pt x="641" y="364"/>
                  </a:cubicBezTo>
                  <a:cubicBezTo>
                    <a:pt x="646" y="365"/>
                    <a:pt x="646" y="365"/>
                    <a:pt x="646" y="365"/>
                  </a:cubicBezTo>
                  <a:cubicBezTo>
                    <a:pt x="652" y="367"/>
                    <a:pt x="652" y="367"/>
                    <a:pt x="652" y="367"/>
                  </a:cubicBezTo>
                  <a:cubicBezTo>
                    <a:pt x="658" y="368"/>
                    <a:pt x="658" y="368"/>
                    <a:pt x="658" y="368"/>
                  </a:cubicBezTo>
                  <a:cubicBezTo>
                    <a:pt x="663" y="369"/>
                    <a:pt x="663" y="369"/>
                    <a:pt x="663" y="369"/>
                  </a:cubicBezTo>
                  <a:cubicBezTo>
                    <a:pt x="669" y="370"/>
                    <a:pt x="669" y="370"/>
                    <a:pt x="669" y="370"/>
                  </a:cubicBezTo>
                  <a:cubicBezTo>
                    <a:pt x="675" y="371"/>
                    <a:pt x="675" y="371"/>
                    <a:pt x="675" y="371"/>
                  </a:cubicBezTo>
                  <a:cubicBezTo>
                    <a:pt x="680" y="372"/>
                    <a:pt x="680" y="372"/>
                    <a:pt x="680" y="372"/>
                  </a:cubicBezTo>
                  <a:cubicBezTo>
                    <a:pt x="686" y="373"/>
                    <a:pt x="686" y="373"/>
                    <a:pt x="686" y="373"/>
                  </a:cubicBezTo>
                  <a:cubicBezTo>
                    <a:pt x="692" y="374"/>
                    <a:pt x="692" y="374"/>
                    <a:pt x="692" y="374"/>
                  </a:cubicBezTo>
                  <a:cubicBezTo>
                    <a:pt x="697" y="375"/>
                    <a:pt x="697" y="375"/>
                    <a:pt x="697" y="375"/>
                  </a:cubicBezTo>
                  <a:cubicBezTo>
                    <a:pt x="703" y="376"/>
                    <a:pt x="703" y="376"/>
                    <a:pt x="703" y="376"/>
                  </a:cubicBezTo>
                  <a:cubicBezTo>
                    <a:pt x="709" y="377"/>
                    <a:pt x="709" y="377"/>
                    <a:pt x="709" y="377"/>
                  </a:cubicBezTo>
                  <a:cubicBezTo>
                    <a:pt x="714" y="378"/>
                    <a:pt x="714" y="378"/>
                    <a:pt x="714" y="378"/>
                  </a:cubicBezTo>
                  <a:cubicBezTo>
                    <a:pt x="720" y="379"/>
                    <a:pt x="720" y="379"/>
                    <a:pt x="720" y="379"/>
                  </a:cubicBezTo>
                  <a:cubicBezTo>
                    <a:pt x="726" y="380"/>
                    <a:pt x="726" y="380"/>
                    <a:pt x="726" y="380"/>
                  </a:cubicBezTo>
                  <a:cubicBezTo>
                    <a:pt x="731" y="381"/>
                    <a:pt x="731" y="381"/>
                    <a:pt x="731" y="381"/>
                  </a:cubicBezTo>
                  <a:cubicBezTo>
                    <a:pt x="737" y="382"/>
                    <a:pt x="737" y="382"/>
                    <a:pt x="737" y="382"/>
                  </a:cubicBezTo>
                  <a:cubicBezTo>
                    <a:pt x="743" y="382"/>
                    <a:pt x="743" y="382"/>
                    <a:pt x="743" y="382"/>
                  </a:cubicBezTo>
                  <a:cubicBezTo>
                    <a:pt x="748" y="383"/>
                    <a:pt x="748" y="383"/>
                    <a:pt x="748" y="383"/>
                  </a:cubicBezTo>
                  <a:cubicBezTo>
                    <a:pt x="754" y="384"/>
                    <a:pt x="754" y="384"/>
                    <a:pt x="754" y="384"/>
                  </a:cubicBezTo>
                  <a:cubicBezTo>
                    <a:pt x="760" y="385"/>
                    <a:pt x="760" y="385"/>
                    <a:pt x="760" y="385"/>
                  </a:cubicBezTo>
                  <a:cubicBezTo>
                    <a:pt x="765" y="385"/>
                    <a:pt x="765" y="385"/>
                    <a:pt x="765" y="385"/>
                  </a:cubicBezTo>
                  <a:cubicBezTo>
                    <a:pt x="771" y="386"/>
                    <a:pt x="771" y="386"/>
                    <a:pt x="771" y="386"/>
                  </a:cubicBezTo>
                  <a:cubicBezTo>
                    <a:pt x="777" y="387"/>
                    <a:pt x="777" y="387"/>
                    <a:pt x="777" y="387"/>
                  </a:cubicBezTo>
                  <a:cubicBezTo>
                    <a:pt x="782" y="387"/>
                    <a:pt x="782" y="387"/>
                    <a:pt x="782" y="387"/>
                  </a:cubicBezTo>
                  <a:cubicBezTo>
                    <a:pt x="788" y="388"/>
                    <a:pt x="788" y="388"/>
                    <a:pt x="788" y="388"/>
                  </a:cubicBezTo>
                  <a:cubicBezTo>
                    <a:pt x="794" y="389"/>
                    <a:pt x="794" y="389"/>
                    <a:pt x="794" y="389"/>
                  </a:cubicBezTo>
                  <a:cubicBezTo>
                    <a:pt x="799" y="389"/>
                    <a:pt x="799" y="389"/>
                    <a:pt x="799" y="389"/>
                  </a:cubicBezTo>
                  <a:cubicBezTo>
                    <a:pt x="805" y="390"/>
                    <a:pt x="805" y="390"/>
                    <a:pt x="805" y="390"/>
                  </a:cubicBezTo>
                  <a:cubicBezTo>
                    <a:pt x="811" y="390"/>
                    <a:pt x="811" y="390"/>
                    <a:pt x="811" y="390"/>
                  </a:cubicBezTo>
                  <a:cubicBezTo>
                    <a:pt x="816" y="391"/>
                    <a:pt x="816" y="391"/>
                    <a:pt x="816" y="391"/>
                  </a:cubicBezTo>
                  <a:cubicBezTo>
                    <a:pt x="822" y="392"/>
                    <a:pt x="822" y="392"/>
                    <a:pt x="822" y="392"/>
                  </a:cubicBezTo>
                  <a:cubicBezTo>
                    <a:pt x="828" y="392"/>
                    <a:pt x="828" y="392"/>
                    <a:pt x="828" y="392"/>
                  </a:cubicBezTo>
                  <a:cubicBezTo>
                    <a:pt x="833" y="393"/>
                    <a:pt x="833" y="393"/>
                    <a:pt x="833" y="393"/>
                  </a:cubicBezTo>
                  <a:cubicBezTo>
                    <a:pt x="839" y="393"/>
                    <a:pt x="839" y="393"/>
                    <a:pt x="839" y="393"/>
                  </a:cubicBezTo>
                  <a:cubicBezTo>
                    <a:pt x="845" y="394"/>
                    <a:pt x="845" y="394"/>
                    <a:pt x="845" y="394"/>
                  </a:cubicBezTo>
                  <a:cubicBezTo>
                    <a:pt x="850" y="394"/>
                    <a:pt x="850" y="394"/>
                    <a:pt x="850" y="394"/>
                  </a:cubicBezTo>
                  <a:cubicBezTo>
                    <a:pt x="856" y="395"/>
                    <a:pt x="856" y="395"/>
                    <a:pt x="856" y="395"/>
                  </a:cubicBezTo>
                  <a:cubicBezTo>
                    <a:pt x="862" y="395"/>
                    <a:pt x="862" y="395"/>
                    <a:pt x="862" y="395"/>
                  </a:cubicBezTo>
                  <a:cubicBezTo>
                    <a:pt x="868" y="396"/>
                    <a:pt x="868" y="396"/>
                    <a:pt x="868" y="396"/>
                  </a:cubicBezTo>
                  <a:cubicBezTo>
                    <a:pt x="873" y="396"/>
                    <a:pt x="873" y="396"/>
                    <a:pt x="873" y="396"/>
                  </a:cubicBezTo>
                  <a:cubicBezTo>
                    <a:pt x="879" y="397"/>
                    <a:pt x="879" y="397"/>
                    <a:pt x="879" y="397"/>
                  </a:cubicBezTo>
                  <a:cubicBezTo>
                    <a:pt x="885" y="397"/>
                    <a:pt x="885" y="397"/>
                    <a:pt x="885" y="397"/>
                  </a:cubicBezTo>
                  <a:cubicBezTo>
                    <a:pt x="890" y="397"/>
                    <a:pt x="890" y="397"/>
                    <a:pt x="890" y="397"/>
                  </a:cubicBezTo>
                  <a:cubicBezTo>
                    <a:pt x="896" y="398"/>
                    <a:pt x="896" y="398"/>
                    <a:pt x="896" y="398"/>
                  </a:cubicBezTo>
                  <a:cubicBezTo>
                    <a:pt x="902" y="398"/>
                    <a:pt x="902" y="398"/>
                    <a:pt x="902" y="398"/>
                  </a:cubicBezTo>
                  <a:cubicBezTo>
                    <a:pt x="907" y="399"/>
                    <a:pt x="907" y="399"/>
                    <a:pt x="907" y="399"/>
                  </a:cubicBezTo>
                  <a:cubicBezTo>
                    <a:pt x="913" y="399"/>
                    <a:pt x="913" y="399"/>
                    <a:pt x="913" y="399"/>
                  </a:cubicBezTo>
                  <a:cubicBezTo>
                    <a:pt x="919" y="399"/>
                    <a:pt x="919" y="399"/>
                    <a:pt x="919" y="399"/>
                  </a:cubicBezTo>
                  <a:cubicBezTo>
                    <a:pt x="924" y="400"/>
                    <a:pt x="924" y="400"/>
                    <a:pt x="924" y="400"/>
                  </a:cubicBezTo>
                  <a:cubicBezTo>
                    <a:pt x="930" y="400"/>
                    <a:pt x="930" y="400"/>
                    <a:pt x="930" y="400"/>
                  </a:cubicBezTo>
                  <a:cubicBezTo>
                    <a:pt x="936" y="401"/>
                    <a:pt x="936" y="401"/>
                    <a:pt x="936" y="401"/>
                  </a:cubicBezTo>
                  <a:cubicBezTo>
                    <a:pt x="941" y="401"/>
                    <a:pt x="941" y="401"/>
                    <a:pt x="941" y="401"/>
                  </a:cubicBezTo>
                  <a:cubicBezTo>
                    <a:pt x="947" y="401"/>
                    <a:pt x="947" y="401"/>
                    <a:pt x="947" y="401"/>
                  </a:cubicBezTo>
                  <a:cubicBezTo>
                    <a:pt x="953" y="402"/>
                    <a:pt x="953" y="402"/>
                    <a:pt x="953" y="402"/>
                  </a:cubicBezTo>
                  <a:cubicBezTo>
                    <a:pt x="958" y="402"/>
                    <a:pt x="958" y="402"/>
                    <a:pt x="958" y="402"/>
                  </a:cubicBezTo>
                  <a:cubicBezTo>
                    <a:pt x="964" y="402"/>
                    <a:pt x="964" y="402"/>
                    <a:pt x="964" y="402"/>
                  </a:cubicBezTo>
                  <a:cubicBezTo>
                    <a:pt x="970" y="403"/>
                    <a:pt x="970" y="403"/>
                    <a:pt x="970" y="403"/>
                  </a:cubicBezTo>
                  <a:cubicBezTo>
                    <a:pt x="975" y="403"/>
                    <a:pt x="975" y="403"/>
                    <a:pt x="975" y="403"/>
                  </a:cubicBezTo>
                  <a:cubicBezTo>
                    <a:pt x="981" y="403"/>
                    <a:pt x="981" y="403"/>
                    <a:pt x="981" y="403"/>
                  </a:cubicBezTo>
                  <a:cubicBezTo>
                    <a:pt x="987" y="404"/>
                    <a:pt x="987" y="404"/>
                    <a:pt x="987" y="404"/>
                  </a:cubicBezTo>
                  <a:cubicBezTo>
                    <a:pt x="992" y="404"/>
                    <a:pt x="992" y="404"/>
                    <a:pt x="992" y="404"/>
                  </a:cubicBezTo>
                  <a:cubicBezTo>
                    <a:pt x="998" y="404"/>
                    <a:pt x="998" y="404"/>
                    <a:pt x="998" y="404"/>
                  </a:cubicBezTo>
                  <a:cubicBezTo>
                    <a:pt x="1004" y="404"/>
                    <a:pt x="1004" y="404"/>
                    <a:pt x="1004" y="404"/>
                  </a:cubicBezTo>
                  <a:cubicBezTo>
                    <a:pt x="1009" y="405"/>
                    <a:pt x="1009" y="405"/>
                    <a:pt x="1009" y="405"/>
                  </a:cubicBezTo>
                  <a:cubicBezTo>
                    <a:pt x="1015" y="405"/>
                    <a:pt x="1015" y="405"/>
                    <a:pt x="1015" y="405"/>
                  </a:cubicBezTo>
                  <a:cubicBezTo>
                    <a:pt x="1021" y="405"/>
                    <a:pt x="1021" y="405"/>
                    <a:pt x="1021" y="405"/>
                  </a:cubicBezTo>
                  <a:cubicBezTo>
                    <a:pt x="1026" y="406"/>
                    <a:pt x="1026" y="406"/>
                    <a:pt x="1026" y="406"/>
                  </a:cubicBezTo>
                  <a:cubicBezTo>
                    <a:pt x="1032" y="406"/>
                    <a:pt x="1032" y="406"/>
                    <a:pt x="1032" y="406"/>
                  </a:cubicBezTo>
                  <a:cubicBezTo>
                    <a:pt x="1038" y="406"/>
                    <a:pt x="1038" y="406"/>
                    <a:pt x="1038" y="406"/>
                  </a:cubicBezTo>
                  <a:cubicBezTo>
                    <a:pt x="1043" y="406"/>
                    <a:pt x="1043" y="406"/>
                    <a:pt x="1043" y="406"/>
                  </a:cubicBezTo>
                  <a:cubicBezTo>
                    <a:pt x="1049" y="407"/>
                    <a:pt x="1049" y="407"/>
                    <a:pt x="1049" y="407"/>
                  </a:cubicBezTo>
                  <a:cubicBezTo>
                    <a:pt x="1055" y="407"/>
                    <a:pt x="1055" y="407"/>
                    <a:pt x="1055" y="407"/>
                  </a:cubicBezTo>
                  <a:cubicBezTo>
                    <a:pt x="1060" y="407"/>
                    <a:pt x="1060" y="407"/>
                    <a:pt x="1060" y="407"/>
                  </a:cubicBezTo>
                  <a:cubicBezTo>
                    <a:pt x="1066" y="407"/>
                    <a:pt x="1066" y="407"/>
                    <a:pt x="1066" y="407"/>
                  </a:cubicBezTo>
                  <a:cubicBezTo>
                    <a:pt x="1072" y="408"/>
                    <a:pt x="1072" y="408"/>
                    <a:pt x="1072" y="408"/>
                  </a:cubicBezTo>
                  <a:cubicBezTo>
                    <a:pt x="1077" y="408"/>
                    <a:pt x="1077" y="408"/>
                    <a:pt x="1077" y="408"/>
                  </a:cubicBezTo>
                  <a:cubicBezTo>
                    <a:pt x="1083" y="408"/>
                    <a:pt x="1083" y="408"/>
                    <a:pt x="1083" y="408"/>
                  </a:cubicBezTo>
                  <a:cubicBezTo>
                    <a:pt x="1089" y="408"/>
                    <a:pt x="1089" y="408"/>
                    <a:pt x="1089" y="408"/>
                  </a:cubicBezTo>
                  <a:cubicBezTo>
                    <a:pt x="1094" y="408"/>
                    <a:pt x="1094" y="408"/>
                    <a:pt x="1094" y="408"/>
                  </a:cubicBezTo>
                  <a:cubicBezTo>
                    <a:pt x="1100" y="409"/>
                    <a:pt x="1100" y="409"/>
                    <a:pt x="1100" y="409"/>
                  </a:cubicBezTo>
                  <a:cubicBezTo>
                    <a:pt x="1106" y="409"/>
                    <a:pt x="1106" y="409"/>
                    <a:pt x="1106" y="409"/>
                  </a:cubicBezTo>
                  <a:cubicBezTo>
                    <a:pt x="1111" y="409"/>
                    <a:pt x="1111" y="409"/>
                    <a:pt x="1111" y="409"/>
                  </a:cubicBezTo>
                  <a:cubicBezTo>
                    <a:pt x="1117" y="409"/>
                    <a:pt x="1117" y="409"/>
                    <a:pt x="1117" y="409"/>
                  </a:cubicBezTo>
                  <a:cubicBezTo>
                    <a:pt x="1123" y="410"/>
                    <a:pt x="1123" y="410"/>
                    <a:pt x="1123" y="410"/>
                  </a:cubicBezTo>
                  <a:cubicBezTo>
                    <a:pt x="1128" y="410"/>
                    <a:pt x="1128" y="410"/>
                    <a:pt x="1128" y="410"/>
                  </a:cubicBezTo>
                  <a:cubicBezTo>
                    <a:pt x="1134" y="410"/>
                    <a:pt x="1134" y="410"/>
                    <a:pt x="1134" y="410"/>
                  </a:cubicBezTo>
                  <a:cubicBezTo>
                    <a:pt x="1140" y="410"/>
                    <a:pt x="1140" y="410"/>
                    <a:pt x="1140" y="410"/>
                  </a:cubicBezTo>
                  <a:cubicBezTo>
                    <a:pt x="1145" y="410"/>
                    <a:pt x="1145" y="410"/>
                    <a:pt x="1145" y="410"/>
                  </a:cubicBezTo>
                  <a:cubicBezTo>
                    <a:pt x="1151" y="410"/>
                    <a:pt x="1151" y="410"/>
                    <a:pt x="1151" y="410"/>
                  </a:cubicBezTo>
                  <a:cubicBezTo>
                    <a:pt x="1157" y="411"/>
                    <a:pt x="1157" y="411"/>
                    <a:pt x="1157" y="411"/>
                  </a:cubicBezTo>
                  <a:cubicBezTo>
                    <a:pt x="1162" y="411"/>
                    <a:pt x="1162" y="411"/>
                    <a:pt x="1162" y="411"/>
                  </a:cubicBezTo>
                  <a:cubicBezTo>
                    <a:pt x="1168" y="411"/>
                    <a:pt x="1168" y="411"/>
                    <a:pt x="1168" y="411"/>
                  </a:cubicBezTo>
                  <a:cubicBezTo>
                    <a:pt x="1174" y="411"/>
                    <a:pt x="1174" y="411"/>
                    <a:pt x="1174" y="411"/>
                  </a:cubicBezTo>
                  <a:cubicBezTo>
                    <a:pt x="1179" y="411"/>
                    <a:pt x="1179" y="411"/>
                    <a:pt x="1179" y="411"/>
                  </a:cubicBezTo>
                  <a:cubicBezTo>
                    <a:pt x="1185" y="412"/>
                    <a:pt x="1185" y="412"/>
                    <a:pt x="1185" y="412"/>
                  </a:cubicBezTo>
                  <a:cubicBezTo>
                    <a:pt x="1191" y="412"/>
                    <a:pt x="1191" y="412"/>
                    <a:pt x="1191" y="412"/>
                  </a:cubicBezTo>
                  <a:cubicBezTo>
                    <a:pt x="1196" y="412"/>
                    <a:pt x="1196" y="412"/>
                    <a:pt x="1196" y="412"/>
                  </a:cubicBezTo>
                  <a:cubicBezTo>
                    <a:pt x="1202" y="412"/>
                    <a:pt x="1202" y="412"/>
                    <a:pt x="1202" y="412"/>
                  </a:cubicBezTo>
                  <a:cubicBezTo>
                    <a:pt x="1208" y="412"/>
                    <a:pt x="1208" y="412"/>
                    <a:pt x="1208" y="412"/>
                  </a:cubicBezTo>
                  <a:cubicBezTo>
                    <a:pt x="1213" y="412"/>
                    <a:pt x="1213" y="412"/>
                    <a:pt x="1213" y="412"/>
                  </a:cubicBezTo>
                  <a:cubicBezTo>
                    <a:pt x="1219" y="413"/>
                    <a:pt x="1219" y="413"/>
                    <a:pt x="1219" y="413"/>
                  </a:cubicBezTo>
                  <a:cubicBezTo>
                    <a:pt x="1225" y="413"/>
                    <a:pt x="1225" y="413"/>
                    <a:pt x="1225" y="413"/>
                  </a:cubicBezTo>
                  <a:cubicBezTo>
                    <a:pt x="1230" y="413"/>
                    <a:pt x="1230" y="413"/>
                    <a:pt x="1230" y="413"/>
                  </a:cubicBezTo>
                  <a:cubicBezTo>
                    <a:pt x="1236" y="413"/>
                    <a:pt x="1236" y="413"/>
                    <a:pt x="1236" y="413"/>
                  </a:cubicBezTo>
                  <a:cubicBezTo>
                    <a:pt x="1242" y="413"/>
                    <a:pt x="1242" y="413"/>
                    <a:pt x="1242" y="413"/>
                  </a:cubicBezTo>
                  <a:cubicBezTo>
                    <a:pt x="1247" y="413"/>
                    <a:pt x="1247" y="413"/>
                    <a:pt x="1247" y="413"/>
                  </a:cubicBezTo>
                  <a:cubicBezTo>
                    <a:pt x="1253" y="413"/>
                    <a:pt x="1253" y="413"/>
                    <a:pt x="1253" y="413"/>
                  </a:cubicBezTo>
                  <a:cubicBezTo>
                    <a:pt x="1259" y="414"/>
                    <a:pt x="1259" y="414"/>
                    <a:pt x="1259" y="414"/>
                  </a:cubicBezTo>
                  <a:cubicBezTo>
                    <a:pt x="1264" y="414"/>
                    <a:pt x="1264" y="414"/>
                    <a:pt x="1264" y="414"/>
                  </a:cubicBezTo>
                  <a:cubicBezTo>
                    <a:pt x="1270" y="414"/>
                    <a:pt x="1270" y="414"/>
                    <a:pt x="1270" y="414"/>
                  </a:cubicBezTo>
                  <a:cubicBezTo>
                    <a:pt x="1276" y="414"/>
                    <a:pt x="1276" y="414"/>
                    <a:pt x="1276" y="414"/>
                  </a:cubicBezTo>
                  <a:cubicBezTo>
                    <a:pt x="1281" y="414"/>
                    <a:pt x="1281" y="414"/>
                    <a:pt x="1281" y="414"/>
                  </a:cubicBezTo>
                  <a:cubicBezTo>
                    <a:pt x="1287" y="414"/>
                    <a:pt x="1287" y="414"/>
                    <a:pt x="1287" y="414"/>
                  </a:cubicBezTo>
                  <a:cubicBezTo>
                    <a:pt x="1293" y="414"/>
                    <a:pt x="1293" y="414"/>
                    <a:pt x="1293" y="414"/>
                  </a:cubicBezTo>
                  <a:cubicBezTo>
                    <a:pt x="1298" y="414"/>
                    <a:pt x="1298" y="414"/>
                    <a:pt x="1298" y="414"/>
                  </a:cubicBezTo>
                  <a:cubicBezTo>
                    <a:pt x="1304" y="415"/>
                    <a:pt x="1304" y="415"/>
                    <a:pt x="1304" y="415"/>
                  </a:cubicBezTo>
                  <a:cubicBezTo>
                    <a:pt x="1310" y="415"/>
                    <a:pt x="1310" y="415"/>
                    <a:pt x="1310" y="415"/>
                  </a:cubicBezTo>
                  <a:cubicBezTo>
                    <a:pt x="1315" y="415"/>
                    <a:pt x="1315" y="415"/>
                    <a:pt x="1315" y="415"/>
                  </a:cubicBezTo>
                  <a:cubicBezTo>
                    <a:pt x="1321" y="415"/>
                    <a:pt x="1321" y="415"/>
                    <a:pt x="1321" y="415"/>
                  </a:cubicBezTo>
                  <a:cubicBezTo>
                    <a:pt x="1327" y="415"/>
                    <a:pt x="1327" y="415"/>
                    <a:pt x="1327" y="415"/>
                  </a:cubicBezTo>
                  <a:cubicBezTo>
                    <a:pt x="1332" y="415"/>
                    <a:pt x="1332" y="415"/>
                    <a:pt x="1332" y="415"/>
                  </a:cubicBezTo>
                  <a:cubicBezTo>
                    <a:pt x="1338" y="415"/>
                    <a:pt x="1338" y="415"/>
                    <a:pt x="1338" y="415"/>
                  </a:cubicBezTo>
                  <a:cubicBezTo>
                    <a:pt x="1344" y="415"/>
                    <a:pt x="1344" y="415"/>
                    <a:pt x="1344" y="415"/>
                  </a:cubicBezTo>
                  <a:cubicBezTo>
                    <a:pt x="1349" y="416"/>
                    <a:pt x="1349" y="416"/>
                    <a:pt x="1349" y="416"/>
                  </a:cubicBezTo>
                  <a:cubicBezTo>
                    <a:pt x="1355" y="416"/>
                    <a:pt x="1355" y="416"/>
                    <a:pt x="1355" y="416"/>
                  </a:cubicBezTo>
                  <a:cubicBezTo>
                    <a:pt x="1361" y="416"/>
                    <a:pt x="1361" y="416"/>
                    <a:pt x="1361" y="416"/>
                  </a:cubicBezTo>
                  <a:cubicBezTo>
                    <a:pt x="1366" y="416"/>
                    <a:pt x="1366" y="416"/>
                    <a:pt x="1366" y="416"/>
                  </a:cubicBezTo>
                  <a:cubicBezTo>
                    <a:pt x="1372" y="416"/>
                    <a:pt x="1372" y="416"/>
                    <a:pt x="1372" y="416"/>
                  </a:cubicBezTo>
                  <a:cubicBezTo>
                    <a:pt x="1378" y="416"/>
                    <a:pt x="1378" y="416"/>
                    <a:pt x="1378" y="416"/>
                  </a:cubicBezTo>
                  <a:cubicBezTo>
                    <a:pt x="1383" y="416"/>
                    <a:pt x="1383" y="416"/>
                    <a:pt x="1383" y="416"/>
                  </a:cubicBezTo>
                  <a:cubicBezTo>
                    <a:pt x="1389" y="416"/>
                    <a:pt x="1389" y="416"/>
                    <a:pt x="1389" y="416"/>
                  </a:cubicBezTo>
                  <a:cubicBezTo>
                    <a:pt x="1395" y="416"/>
                    <a:pt x="1395" y="416"/>
                    <a:pt x="1395" y="416"/>
                  </a:cubicBezTo>
                  <a:cubicBezTo>
                    <a:pt x="1400" y="417"/>
                    <a:pt x="1400" y="417"/>
                    <a:pt x="1400" y="417"/>
                  </a:cubicBezTo>
                  <a:cubicBezTo>
                    <a:pt x="1406" y="417"/>
                    <a:pt x="1406" y="417"/>
                    <a:pt x="1406" y="417"/>
                  </a:cubicBezTo>
                  <a:cubicBezTo>
                    <a:pt x="1412" y="417"/>
                    <a:pt x="1412" y="417"/>
                    <a:pt x="1412" y="417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49320" y="5226120"/>
              <a:ext cx="301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873440" y="4265640"/>
              <a:ext cx="0" cy="95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287440" y="4194000"/>
              <a:ext cx="66348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84600" y="4743360"/>
              <a:ext cx="1952640" cy="36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1438200" y="5235120"/>
              <a:ext cx="43812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2063520" y="5246280"/>
              <a:ext cx="52524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5" name=""/>
            <p:cNvGraphicFramePr/>
            <p:nvPr/>
          </p:nvGraphicFramePr>
          <p:xfrm>
            <a:off x="2490840" y="5648400"/>
            <a:ext cx="539640" cy="37728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2490840" y="5648400"/>
                      <a:ext cx="539640" cy="37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"/>
            <p:cNvGraphicFramePr/>
            <p:nvPr/>
          </p:nvGraphicFramePr>
          <p:xfrm>
            <a:off x="2316240" y="6072120"/>
            <a:ext cx="114120" cy="21564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818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2316240" y="6072120"/>
                      <a:ext cx="11412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9" name=""/>
            <p:cNvGraphicFramePr/>
            <p:nvPr/>
          </p:nvGraphicFramePr>
          <p:xfrm>
            <a:off x="1300320" y="5629320"/>
            <a:ext cx="539640" cy="37584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820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1300320" y="5629320"/>
                      <a:ext cx="539640" cy="37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1" name="">
            <a:hlinkClick r:id="rId32" action="ppaction://hlinksldjump"/>
          </p:cNvPr>
          <p:cNvSpPr/>
          <p:nvPr/>
        </p:nvSpPr>
        <p:spPr>
          <a:xfrm>
            <a:off x="4176720" y="43560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660920" y="4317840"/>
            <a:ext cx="3741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графіки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побудовані для різних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мають одну спільну точку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384800" y="4292640"/>
            <a:ext cx="29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5135400" y="4838760"/>
          <a:ext cx="567000" cy="2206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35400" y="4838760"/>
                    <a:ext cx="567000" cy="2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Управляющая кнопка: домой 85">
            <a:hlinkClick r:id="rId3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703440" y="24300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ЗОНАНС ШВИДК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8372520" y="200160"/>
            <a:ext cx="600120" cy="495000"/>
            <a:chOff x="8372520" y="200160"/>
            <a:chExt cx="600120" cy="495000"/>
          </a:xfrm>
        </p:grpSpPr>
        <p:sp>
          <p:nvSpPr>
            <p:cNvPr id="831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372520" y="257040"/>
              <a:ext cx="6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33" name=""/>
          <p:cNvGraphicFramePr/>
          <p:nvPr/>
        </p:nvGraphicFramePr>
        <p:xfrm>
          <a:off x="4522680" y="1687680"/>
          <a:ext cx="221472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2680" y="1687680"/>
                    <a:ext cx="22147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"/>
          <p:cNvSpPr/>
          <p:nvPr/>
        </p:nvSpPr>
        <p:spPr>
          <a:xfrm>
            <a:off x="5103720" y="1736640"/>
            <a:ext cx="3794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357880" y="2098800"/>
            <a:ext cx="4032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759280" y="2397240"/>
            <a:ext cx="4320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495760" y="225756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амплітуда швидкості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597560" y="2720880"/>
          <a:ext cx="3031920" cy="8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2720880"/>
                    <a:ext cx="30319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"/>
          <p:cNvSpPr/>
          <p:nvPr/>
        </p:nvSpPr>
        <p:spPr>
          <a:xfrm>
            <a:off x="146160" y="938160"/>
            <a:ext cx="30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ля усталених колив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22160" y="4611600"/>
            <a:ext cx="6735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, що для різних значень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амплітуда швидкост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набуває максимального значення, коли             Як співвідносяться між собою різні значення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що наведен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на рисунк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4732200" y="4897440"/>
          <a:ext cx="78768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2200" y="4897440"/>
                    <a:ext cx="7876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"/>
          <p:cNvGraphicFramePr/>
          <p:nvPr/>
        </p:nvGraphicFramePr>
        <p:xfrm>
          <a:off x="3019320" y="922320"/>
          <a:ext cx="2163960" cy="3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9320" y="922320"/>
                    <a:ext cx="2163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">
            <a:hlinkClick r:id="rId9" action="ppaction://hlinksldjump"/>
          </p:cNvPr>
          <p:cNvSpPr/>
          <p:nvPr/>
        </p:nvSpPr>
        <p:spPr>
          <a:xfrm>
            <a:off x="369720" y="4694400"/>
            <a:ext cx="365400" cy="438120"/>
          </a:xfrm>
          <a:custGeom>
            <a:avLst/>
            <a:gdLst>
              <a:gd name="textAreaLeft" fmla="*/ 23400 w 365400"/>
              <a:gd name="textAreaRight" fmla="*/ 342000 w 365400"/>
              <a:gd name="textAreaTop" fmla="*/ 23400 h 438120"/>
              <a:gd name="textAreaBottom" fmla="*/ 414720 h 438120"/>
            </a:gdLst>
            <a:ahLst/>
            <a:rect l="textAreaLeft" t="textAreaTop" r="textAreaRight" b="textAreaBottom"/>
            <a:pathLst>
              <a:path w="21600" h="25894">
                <a:moveTo>
                  <a:pt x="0" y="0"/>
                </a:moveTo>
                <a:lnTo>
                  <a:pt x="21600" y="0"/>
                </a:lnTo>
                <a:lnTo>
                  <a:pt x="21600" y="25894"/>
                </a:lnTo>
                <a:lnTo>
                  <a:pt x="0" y="25894"/>
                </a:lnTo>
                <a:close/>
              </a:path>
              <a:path fill="lightenLess" w="21600" h="258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4">
                <a:moveTo>
                  <a:pt x="21600" y="0"/>
                </a:moveTo>
                <a:lnTo>
                  <a:pt x="21600" y="25894"/>
                </a:lnTo>
                <a:lnTo>
                  <a:pt x="20200" y="24494"/>
                </a:lnTo>
                <a:lnTo>
                  <a:pt x="20200" y="1400"/>
                </a:lnTo>
                <a:close/>
              </a:path>
              <a:path fill="darkenLess" w="21600" h="25894">
                <a:moveTo>
                  <a:pt x="21600" y="25894"/>
                </a:moveTo>
                <a:lnTo>
                  <a:pt x="0" y="25894"/>
                </a:lnTo>
                <a:lnTo>
                  <a:pt x="1400" y="24494"/>
                </a:lnTo>
                <a:lnTo>
                  <a:pt x="20200" y="24494"/>
                </a:lnTo>
                <a:close/>
              </a:path>
              <a:path fill="lighten" w="21600" h="25894">
                <a:moveTo>
                  <a:pt x="0" y="258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4"/>
                </a:lnTo>
                <a:close/>
              </a:path>
              <a:path fill="darken" w="21600" h="25894">
                <a:moveTo>
                  <a:pt x="10800" y="1695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894">
                <a:moveTo>
                  <a:pt x="11905" y="16429"/>
                </a:moveTo>
                <a:lnTo>
                  <a:pt x="11905" y="14470"/>
                </a:lnTo>
                <a:cubicBezTo>
                  <a:pt x="11905" y="13644"/>
                  <a:pt x="12236" y="12947"/>
                  <a:pt x="12837" y="12947"/>
                </a:cubicBezTo>
                <a:cubicBezTo>
                  <a:pt x="13968" y="12947"/>
                  <a:pt x="14865" y="11581"/>
                  <a:pt x="14865" y="9997"/>
                </a:cubicBezTo>
                <a:cubicBezTo>
                  <a:pt x="14865" y="7682"/>
                  <a:pt x="13011" y="5941"/>
                  <a:pt x="10800" y="5941"/>
                </a:cubicBezTo>
                <a:cubicBezTo>
                  <a:pt x="8589" y="5941"/>
                  <a:pt x="6918" y="7682"/>
                  <a:pt x="6918" y="9997"/>
                </a:cubicBezTo>
                <a:lnTo>
                  <a:pt x="8772" y="9997"/>
                </a:lnTo>
                <a:cubicBezTo>
                  <a:pt x="8772" y="8857"/>
                  <a:pt x="9695" y="7969"/>
                  <a:pt x="10800" y="7969"/>
                </a:cubicBezTo>
                <a:cubicBezTo>
                  <a:pt x="11905" y="7969"/>
                  <a:pt x="12837" y="8857"/>
                  <a:pt x="12837" y="9997"/>
                </a:cubicBezTo>
                <a:cubicBezTo>
                  <a:pt x="12837" y="10737"/>
                  <a:pt x="12367" y="11468"/>
                  <a:pt x="11905" y="11468"/>
                </a:cubicBezTo>
                <a:cubicBezTo>
                  <a:pt x="10800" y="11468"/>
                  <a:pt x="9695" y="12947"/>
                  <a:pt x="9695" y="14470"/>
                </a:cubicBezTo>
                <a:lnTo>
                  <a:pt x="9695" y="164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12640" y="4630680"/>
            <a:ext cx="2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02160" y="2849400"/>
            <a:ext cx="368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789120" y="1482840"/>
            <a:ext cx="3249000" cy="2557440"/>
            <a:chOff x="789120" y="1482840"/>
            <a:chExt cx="3249000" cy="2557440"/>
          </a:xfrm>
        </p:grpSpPr>
        <p:sp>
          <p:nvSpPr>
            <p:cNvPr id="851" name=""/>
            <p:cNvSpPr/>
            <p:nvPr/>
          </p:nvSpPr>
          <p:spPr>
            <a:xfrm flipV="1">
              <a:off x="1118880" y="1522440"/>
              <a:ext cx="0" cy="226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993600" y="3683160"/>
              <a:ext cx="30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3" name=""/>
            <p:cNvGraphicFramePr/>
            <p:nvPr/>
          </p:nvGraphicFramePr>
          <p:xfrm>
            <a:off x="3786120" y="3714840"/>
            <a:ext cx="252000" cy="254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786120" y="3714840"/>
                      <a:ext cx="25200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5" name=""/>
            <p:cNvGraphicFramePr/>
            <p:nvPr/>
          </p:nvGraphicFramePr>
          <p:xfrm>
            <a:off x="928440" y="3692520"/>
            <a:ext cx="166320" cy="2732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928440" y="3692520"/>
                      <a:ext cx="166320" cy="27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7" name=""/>
            <p:cNvSpPr/>
            <p:nvPr/>
          </p:nvSpPr>
          <p:spPr>
            <a:xfrm>
              <a:off x="1663560" y="2176560"/>
              <a:ext cx="0" cy="1522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123560" y="2146320"/>
              <a:ext cx="2685960" cy="1530360"/>
            </a:xfrm>
            <a:custGeom>
              <a:avLst/>
              <a:gdLst/>
              <a:ahLst/>
              <a:rect l="l" t="t" r="r" b="b"/>
              <a:pathLst>
                <a:path w="1409" h="401">
                  <a:moveTo>
                    <a:pt x="0" y="401"/>
                  </a:moveTo>
                  <a:cubicBezTo>
                    <a:pt x="6" y="395"/>
                    <a:pt x="6" y="395"/>
                    <a:pt x="6" y="395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7" y="384"/>
                    <a:pt x="17" y="384"/>
                    <a:pt x="17" y="384"/>
                  </a:cubicBezTo>
                  <a:cubicBezTo>
                    <a:pt x="23" y="378"/>
                    <a:pt x="23" y="378"/>
                    <a:pt x="23" y="378"/>
                  </a:cubicBezTo>
                  <a:cubicBezTo>
                    <a:pt x="28" y="372"/>
                    <a:pt x="28" y="372"/>
                    <a:pt x="28" y="372"/>
                  </a:cubicBezTo>
                  <a:cubicBezTo>
                    <a:pt x="34" y="367"/>
                    <a:pt x="34" y="367"/>
                    <a:pt x="34" y="367"/>
                  </a:cubicBezTo>
                  <a:cubicBezTo>
                    <a:pt x="40" y="361"/>
                    <a:pt x="40" y="361"/>
                    <a:pt x="40" y="361"/>
                  </a:cubicBezTo>
                  <a:cubicBezTo>
                    <a:pt x="45" y="355"/>
                    <a:pt x="45" y="355"/>
                    <a:pt x="45" y="355"/>
                  </a:cubicBezTo>
                  <a:cubicBezTo>
                    <a:pt x="51" y="349"/>
                    <a:pt x="51" y="349"/>
                    <a:pt x="51" y="349"/>
                  </a:cubicBezTo>
                  <a:cubicBezTo>
                    <a:pt x="57" y="343"/>
                    <a:pt x="57" y="343"/>
                    <a:pt x="57" y="343"/>
                  </a:cubicBezTo>
                  <a:cubicBezTo>
                    <a:pt x="62" y="336"/>
                    <a:pt x="62" y="336"/>
                    <a:pt x="62" y="336"/>
                  </a:cubicBezTo>
                  <a:cubicBezTo>
                    <a:pt x="68" y="330"/>
                    <a:pt x="68" y="330"/>
                    <a:pt x="68" y="330"/>
                  </a:cubicBezTo>
                  <a:cubicBezTo>
                    <a:pt x="74" y="323"/>
                    <a:pt x="74" y="323"/>
                    <a:pt x="74" y="323"/>
                  </a:cubicBezTo>
                  <a:cubicBezTo>
                    <a:pt x="79" y="317"/>
                    <a:pt x="79" y="317"/>
                    <a:pt x="79" y="317"/>
                  </a:cubicBezTo>
                  <a:cubicBezTo>
                    <a:pt x="85" y="310"/>
                    <a:pt x="85" y="310"/>
                    <a:pt x="85" y="310"/>
                  </a:cubicBezTo>
                  <a:cubicBezTo>
                    <a:pt x="91" y="303"/>
                    <a:pt x="91" y="303"/>
                    <a:pt x="91" y="303"/>
                  </a:cubicBezTo>
                  <a:cubicBezTo>
                    <a:pt x="96" y="296"/>
                    <a:pt x="96" y="296"/>
                    <a:pt x="96" y="296"/>
                  </a:cubicBezTo>
                  <a:cubicBezTo>
                    <a:pt x="102" y="288"/>
                    <a:pt x="102" y="288"/>
                    <a:pt x="102" y="288"/>
                  </a:cubicBezTo>
                  <a:cubicBezTo>
                    <a:pt x="108" y="281"/>
                    <a:pt x="108" y="281"/>
                    <a:pt x="108" y="281"/>
                  </a:cubicBezTo>
                  <a:cubicBezTo>
                    <a:pt x="113" y="273"/>
                    <a:pt x="113" y="273"/>
                    <a:pt x="113" y="273"/>
                  </a:cubicBezTo>
                  <a:cubicBezTo>
                    <a:pt x="119" y="265"/>
                    <a:pt x="119" y="265"/>
                    <a:pt x="119" y="265"/>
                  </a:cubicBezTo>
                  <a:cubicBezTo>
                    <a:pt x="122" y="261"/>
                    <a:pt x="122" y="261"/>
                    <a:pt x="122" y="261"/>
                  </a:cubicBezTo>
                  <a:cubicBezTo>
                    <a:pt x="128" y="252"/>
                    <a:pt x="128" y="252"/>
                    <a:pt x="128" y="252"/>
                  </a:cubicBezTo>
                  <a:cubicBezTo>
                    <a:pt x="130" y="248"/>
                    <a:pt x="130" y="248"/>
                    <a:pt x="130" y="248"/>
                  </a:cubicBezTo>
                  <a:cubicBezTo>
                    <a:pt x="133" y="244"/>
                    <a:pt x="133" y="244"/>
                    <a:pt x="133" y="244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42" y="230"/>
                    <a:pt x="142" y="230"/>
                    <a:pt x="142" y="230"/>
                  </a:cubicBezTo>
                  <a:cubicBezTo>
                    <a:pt x="145" y="225"/>
                    <a:pt x="145" y="225"/>
                    <a:pt x="145" y="225"/>
                  </a:cubicBezTo>
                  <a:cubicBezTo>
                    <a:pt x="147" y="221"/>
                    <a:pt x="147" y="221"/>
                    <a:pt x="147" y="221"/>
                  </a:cubicBezTo>
                  <a:cubicBezTo>
                    <a:pt x="150" y="216"/>
                    <a:pt x="150" y="216"/>
                    <a:pt x="150" y="216"/>
                  </a:cubicBezTo>
                  <a:cubicBezTo>
                    <a:pt x="156" y="206"/>
                    <a:pt x="156" y="206"/>
                    <a:pt x="156" y="206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4" y="190"/>
                    <a:pt x="164" y="190"/>
                    <a:pt x="164" y="190"/>
                  </a:cubicBezTo>
                  <a:cubicBezTo>
                    <a:pt x="167" y="185"/>
                    <a:pt x="167" y="185"/>
                    <a:pt x="167" y="185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173" y="174"/>
                    <a:pt x="173" y="174"/>
                    <a:pt x="173" y="174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9" y="163"/>
                    <a:pt x="179" y="163"/>
                    <a:pt x="179" y="163"/>
                  </a:cubicBezTo>
                  <a:cubicBezTo>
                    <a:pt x="181" y="157"/>
                    <a:pt x="181" y="157"/>
                    <a:pt x="181" y="157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7" y="146"/>
                    <a:pt x="187" y="146"/>
                    <a:pt x="187" y="146"/>
                  </a:cubicBezTo>
                  <a:cubicBezTo>
                    <a:pt x="190" y="140"/>
                    <a:pt x="190" y="140"/>
                    <a:pt x="190" y="140"/>
                  </a:cubicBezTo>
                  <a:cubicBezTo>
                    <a:pt x="193" y="134"/>
                    <a:pt x="193" y="134"/>
                    <a:pt x="193" y="134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4" y="110"/>
                    <a:pt x="204" y="110"/>
                    <a:pt x="204" y="110"/>
                  </a:cubicBezTo>
                  <a:cubicBezTo>
                    <a:pt x="207" y="104"/>
                    <a:pt x="207" y="104"/>
                    <a:pt x="207" y="104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13" y="92"/>
                    <a:pt x="213" y="92"/>
                    <a:pt x="213" y="92"/>
                  </a:cubicBezTo>
                  <a:cubicBezTo>
                    <a:pt x="215" y="86"/>
                    <a:pt x="215" y="86"/>
                    <a:pt x="215" y="86"/>
                  </a:cubicBezTo>
                  <a:cubicBezTo>
                    <a:pt x="218" y="80"/>
                    <a:pt x="218" y="80"/>
                    <a:pt x="218" y="80"/>
                  </a:cubicBezTo>
                  <a:cubicBezTo>
                    <a:pt x="221" y="74"/>
                    <a:pt x="221" y="74"/>
                    <a:pt x="221" y="74"/>
                  </a:cubicBezTo>
                  <a:cubicBezTo>
                    <a:pt x="224" y="68"/>
                    <a:pt x="224" y="68"/>
                    <a:pt x="224" y="68"/>
                  </a:cubicBezTo>
                  <a:cubicBezTo>
                    <a:pt x="227" y="63"/>
                    <a:pt x="227" y="63"/>
                    <a:pt x="227" y="63"/>
                  </a:cubicBezTo>
                  <a:cubicBezTo>
                    <a:pt x="230" y="57"/>
                    <a:pt x="230" y="57"/>
                    <a:pt x="230" y="57"/>
                  </a:cubicBezTo>
                  <a:cubicBezTo>
                    <a:pt x="232" y="52"/>
                    <a:pt x="232" y="52"/>
                    <a:pt x="232" y="52"/>
                  </a:cubicBezTo>
                  <a:cubicBezTo>
                    <a:pt x="235" y="47"/>
                    <a:pt x="235" y="47"/>
                    <a:pt x="235" y="47"/>
                  </a:cubicBezTo>
                  <a:cubicBezTo>
                    <a:pt x="238" y="42"/>
                    <a:pt x="238" y="42"/>
                    <a:pt x="238" y="42"/>
                  </a:cubicBezTo>
                  <a:cubicBezTo>
                    <a:pt x="241" y="37"/>
                    <a:pt x="241" y="37"/>
                    <a:pt x="241" y="37"/>
                  </a:cubicBezTo>
                  <a:cubicBezTo>
                    <a:pt x="244" y="32"/>
                    <a:pt x="244" y="32"/>
                    <a:pt x="244" y="32"/>
                  </a:cubicBezTo>
                  <a:cubicBezTo>
                    <a:pt x="247" y="28"/>
                    <a:pt x="247" y="28"/>
                    <a:pt x="247" y="28"/>
                  </a:cubicBezTo>
                  <a:cubicBezTo>
                    <a:pt x="252" y="20"/>
                    <a:pt x="252" y="20"/>
                    <a:pt x="252" y="20"/>
                  </a:cubicBezTo>
                  <a:cubicBezTo>
                    <a:pt x="258" y="14"/>
                    <a:pt x="258" y="14"/>
                    <a:pt x="258" y="14"/>
                  </a:cubicBezTo>
                  <a:cubicBezTo>
                    <a:pt x="264" y="8"/>
                    <a:pt x="264" y="8"/>
                    <a:pt x="264" y="8"/>
                  </a:cubicBezTo>
                  <a:cubicBezTo>
                    <a:pt x="269" y="4"/>
                    <a:pt x="269" y="4"/>
                    <a:pt x="269" y="4"/>
                  </a:cubicBezTo>
                  <a:cubicBezTo>
                    <a:pt x="275" y="2"/>
                    <a:pt x="275" y="2"/>
                    <a:pt x="275" y="2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92" y="1"/>
                    <a:pt x="292" y="1"/>
                    <a:pt x="292" y="1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303" y="7"/>
                    <a:pt x="303" y="7"/>
                    <a:pt x="303" y="7"/>
                  </a:cubicBezTo>
                  <a:cubicBezTo>
                    <a:pt x="309" y="12"/>
                    <a:pt x="309" y="12"/>
                    <a:pt x="309" y="12"/>
                  </a:cubicBezTo>
                  <a:cubicBezTo>
                    <a:pt x="315" y="17"/>
                    <a:pt x="315" y="17"/>
                    <a:pt x="315" y="17"/>
                  </a:cubicBezTo>
                  <a:cubicBezTo>
                    <a:pt x="320" y="22"/>
                    <a:pt x="320" y="22"/>
                    <a:pt x="320" y="22"/>
                  </a:cubicBezTo>
                  <a:cubicBezTo>
                    <a:pt x="326" y="28"/>
                    <a:pt x="326" y="28"/>
                    <a:pt x="326" y="28"/>
                  </a:cubicBezTo>
                  <a:cubicBezTo>
                    <a:pt x="332" y="35"/>
                    <a:pt x="332" y="35"/>
                    <a:pt x="332" y="35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43" y="49"/>
                    <a:pt x="343" y="49"/>
                    <a:pt x="343" y="49"/>
                  </a:cubicBezTo>
                  <a:cubicBezTo>
                    <a:pt x="349" y="56"/>
                    <a:pt x="349" y="56"/>
                    <a:pt x="349" y="56"/>
                  </a:cubicBezTo>
                  <a:cubicBezTo>
                    <a:pt x="354" y="63"/>
                    <a:pt x="354" y="63"/>
                    <a:pt x="354" y="63"/>
                  </a:cubicBezTo>
                  <a:cubicBezTo>
                    <a:pt x="360" y="70"/>
                    <a:pt x="360" y="70"/>
                    <a:pt x="360" y="70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71" y="84"/>
                    <a:pt x="371" y="84"/>
                    <a:pt x="371" y="84"/>
                  </a:cubicBezTo>
                  <a:cubicBezTo>
                    <a:pt x="377" y="91"/>
                    <a:pt x="377" y="91"/>
                    <a:pt x="377" y="91"/>
                  </a:cubicBezTo>
                  <a:cubicBezTo>
                    <a:pt x="383" y="97"/>
                    <a:pt x="383" y="97"/>
                    <a:pt x="383" y="97"/>
                  </a:cubicBezTo>
                  <a:cubicBezTo>
                    <a:pt x="388" y="104"/>
                    <a:pt x="388" y="104"/>
                    <a:pt x="388" y="104"/>
                  </a:cubicBezTo>
                  <a:cubicBezTo>
                    <a:pt x="394" y="110"/>
                    <a:pt x="394" y="110"/>
                    <a:pt x="394" y="110"/>
                  </a:cubicBezTo>
                  <a:cubicBezTo>
                    <a:pt x="400" y="116"/>
                    <a:pt x="400" y="116"/>
                    <a:pt x="400" y="116"/>
                  </a:cubicBezTo>
                  <a:cubicBezTo>
                    <a:pt x="405" y="122"/>
                    <a:pt x="405" y="122"/>
                    <a:pt x="405" y="122"/>
                  </a:cubicBezTo>
                  <a:cubicBezTo>
                    <a:pt x="411" y="128"/>
                    <a:pt x="411" y="128"/>
                    <a:pt x="411" y="128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22" y="139"/>
                    <a:pt x="422" y="139"/>
                    <a:pt x="422" y="139"/>
                  </a:cubicBezTo>
                  <a:cubicBezTo>
                    <a:pt x="428" y="144"/>
                    <a:pt x="428" y="144"/>
                    <a:pt x="428" y="144"/>
                  </a:cubicBezTo>
                  <a:cubicBezTo>
                    <a:pt x="434" y="149"/>
                    <a:pt x="434" y="149"/>
                    <a:pt x="434" y="149"/>
                  </a:cubicBezTo>
                  <a:cubicBezTo>
                    <a:pt x="439" y="154"/>
                    <a:pt x="439" y="154"/>
                    <a:pt x="439" y="154"/>
                  </a:cubicBezTo>
                  <a:cubicBezTo>
                    <a:pt x="445" y="159"/>
                    <a:pt x="445" y="159"/>
                    <a:pt x="445" y="159"/>
                  </a:cubicBezTo>
                  <a:cubicBezTo>
                    <a:pt x="451" y="163"/>
                    <a:pt x="451" y="163"/>
                    <a:pt x="451" y="163"/>
                  </a:cubicBezTo>
                  <a:cubicBezTo>
                    <a:pt x="456" y="168"/>
                    <a:pt x="456" y="168"/>
                    <a:pt x="456" y="168"/>
                  </a:cubicBezTo>
                  <a:cubicBezTo>
                    <a:pt x="462" y="172"/>
                    <a:pt x="462" y="172"/>
                    <a:pt x="462" y="172"/>
                  </a:cubicBezTo>
                  <a:cubicBezTo>
                    <a:pt x="468" y="176"/>
                    <a:pt x="468" y="176"/>
                    <a:pt x="468" y="176"/>
                  </a:cubicBezTo>
                  <a:cubicBezTo>
                    <a:pt x="473" y="180"/>
                    <a:pt x="473" y="180"/>
                    <a:pt x="473" y="180"/>
                  </a:cubicBezTo>
                  <a:cubicBezTo>
                    <a:pt x="479" y="184"/>
                    <a:pt x="479" y="184"/>
                    <a:pt x="479" y="184"/>
                  </a:cubicBezTo>
                  <a:cubicBezTo>
                    <a:pt x="485" y="188"/>
                    <a:pt x="485" y="188"/>
                    <a:pt x="485" y="188"/>
                  </a:cubicBezTo>
                  <a:cubicBezTo>
                    <a:pt x="490" y="191"/>
                    <a:pt x="490" y="191"/>
                    <a:pt x="490" y="191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502" y="198"/>
                    <a:pt x="502" y="198"/>
                    <a:pt x="502" y="198"/>
                  </a:cubicBezTo>
                  <a:cubicBezTo>
                    <a:pt x="507" y="201"/>
                    <a:pt x="507" y="201"/>
                    <a:pt x="507" y="201"/>
                  </a:cubicBezTo>
                  <a:cubicBezTo>
                    <a:pt x="513" y="204"/>
                    <a:pt x="513" y="204"/>
                    <a:pt x="513" y="204"/>
                  </a:cubicBezTo>
                  <a:cubicBezTo>
                    <a:pt x="519" y="208"/>
                    <a:pt x="519" y="208"/>
                    <a:pt x="519" y="208"/>
                  </a:cubicBezTo>
                  <a:cubicBezTo>
                    <a:pt x="524" y="210"/>
                    <a:pt x="524" y="210"/>
                    <a:pt x="524" y="210"/>
                  </a:cubicBezTo>
                  <a:cubicBezTo>
                    <a:pt x="530" y="213"/>
                    <a:pt x="530" y="213"/>
                    <a:pt x="530" y="213"/>
                  </a:cubicBezTo>
                  <a:cubicBezTo>
                    <a:pt x="536" y="216"/>
                    <a:pt x="536" y="216"/>
                    <a:pt x="536" y="216"/>
                  </a:cubicBezTo>
                  <a:cubicBezTo>
                    <a:pt x="541" y="219"/>
                    <a:pt x="541" y="219"/>
                    <a:pt x="541" y="219"/>
                  </a:cubicBezTo>
                  <a:cubicBezTo>
                    <a:pt x="547" y="221"/>
                    <a:pt x="547" y="221"/>
                    <a:pt x="547" y="221"/>
                  </a:cubicBezTo>
                  <a:cubicBezTo>
                    <a:pt x="553" y="224"/>
                    <a:pt x="553" y="224"/>
                    <a:pt x="553" y="224"/>
                  </a:cubicBezTo>
                  <a:cubicBezTo>
                    <a:pt x="558" y="226"/>
                    <a:pt x="558" y="226"/>
                    <a:pt x="558" y="226"/>
                  </a:cubicBezTo>
                  <a:cubicBezTo>
                    <a:pt x="564" y="229"/>
                    <a:pt x="564" y="229"/>
                    <a:pt x="564" y="229"/>
                  </a:cubicBezTo>
                  <a:cubicBezTo>
                    <a:pt x="570" y="231"/>
                    <a:pt x="570" y="231"/>
                    <a:pt x="570" y="231"/>
                  </a:cubicBezTo>
                  <a:cubicBezTo>
                    <a:pt x="576" y="233"/>
                    <a:pt x="576" y="233"/>
                    <a:pt x="576" y="233"/>
                  </a:cubicBezTo>
                  <a:cubicBezTo>
                    <a:pt x="581" y="236"/>
                    <a:pt x="581" y="236"/>
                    <a:pt x="581" y="236"/>
                  </a:cubicBezTo>
                  <a:cubicBezTo>
                    <a:pt x="587" y="238"/>
                    <a:pt x="587" y="238"/>
                    <a:pt x="587" y="238"/>
                  </a:cubicBezTo>
                  <a:cubicBezTo>
                    <a:pt x="593" y="240"/>
                    <a:pt x="593" y="240"/>
                    <a:pt x="593" y="240"/>
                  </a:cubicBezTo>
                  <a:cubicBezTo>
                    <a:pt x="598" y="242"/>
                    <a:pt x="598" y="242"/>
                    <a:pt x="598" y="242"/>
                  </a:cubicBezTo>
                  <a:cubicBezTo>
                    <a:pt x="604" y="244"/>
                    <a:pt x="604" y="244"/>
                    <a:pt x="604" y="244"/>
                  </a:cubicBezTo>
                  <a:cubicBezTo>
                    <a:pt x="610" y="246"/>
                    <a:pt x="610" y="246"/>
                    <a:pt x="610" y="246"/>
                  </a:cubicBezTo>
                  <a:cubicBezTo>
                    <a:pt x="615" y="248"/>
                    <a:pt x="615" y="248"/>
                    <a:pt x="615" y="248"/>
                  </a:cubicBezTo>
                  <a:cubicBezTo>
                    <a:pt x="621" y="250"/>
                    <a:pt x="621" y="250"/>
                    <a:pt x="621" y="250"/>
                  </a:cubicBezTo>
                  <a:cubicBezTo>
                    <a:pt x="627" y="251"/>
                    <a:pt x="627" y="251"/>
                    <a:pt x="627" y="251"/>
                  </a:cubicBezTo>
                  <a:cubicBezTo>
                    <a:pt x="632" y="253"/>
                    <a:pt x="632" y="253"/>
                    <a:pt x="632" y="253"/>
                  </a:cubicBezTo>
                  <a:cubicBezTo>
                    <a:pt x="638" y="255"/>
                    <a:pt x="638" y="255"/>
                    <a:pt x="638" y="255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9" y="258"/>
                    <a:pt x="649" y="258"/>
                    <a:pt x="649" y="258"/>
                  </a:cubicBezTo>
                  <a:cubicBezTo>
                    <a:pt x="655" y="260"/>
                    <a:pt x="655" y="260"/>
                    <a:pt x="655" y="260"/>
                  </a:cubicBezTo>
                  <a:cubicBezTo>
                    <a:pt x="661" y="261"/>
                    <a:pt x="661" y="261"/>
                    <a:pt x="661" y="261"/>
                  </a:cubicBezTo>
                  <a:cubicBezTo>
                    <a:pt x="666" y="263"/>
                    <a:pt x="666" y="263"/>
                    <a:pt x="666" y="263"/>
                  </a:cubicBezTo>
                  <a:cubicBezTo>
                    <a:pt x="672" y="264"/>
                    <a:pt x="672" y="264"/>
                    <a:pt x="672" y="264"/>
                  </a:cubicBezTo>
                  <a:cubicBezTo>
                    <a:pt x="678" y="266"/>
                    <a:pt x="678" y="266"/>
                    <a:pt x="678" y="266"/>
                  </a:cubicBezTo>
                  <a:cubicBezTo>
                    <a:pt x="683" y="267"/>
                    <a:pt x="683" y="267"/>
                    <a:pt x="683" y="267"/>
                  </a:cubicBezTo>
                  <a:cubicBezTo>
                    <a:pt x="689" y="268"/>
                    <a:pt x="689" y="268"/>
                    <a:pt x="689" y="268"/>
                  </a:cubicBezTo>
                  <a:cubicBezTo>
                    <a:pt x="695" y="270"/>
                    <a:pt x="695" y="270"/>
                    <a:pt x="695" y="270"/>
                  </a:cubicBezTo>
                  <a:cubicBezTo>
                    <a:pt x="700" y="271"/>
                    <a:pt x="700" y="271"/>
                    <a:pt x="700" y="271"/>
                  </a:cubicBezTo>
                  <a:cubicBezTo>
                    <a:pt x="706" y="272"/>
                    <a:pt x="706" y="272"/>
                    <a:pt x="706" y="272"/>
                  </a:cubicBezTo>
                  <a:cubicBezTo>
                    <a:pt x="712" y="274"/>
                    <a:pt x="712" y="274"/>
                    <a:pt x="712" y="274"/>
                  </a:cubicBezTo>
                  <a:cubicBezTo>
                    <a:pt x="717" y="275"/>
                    <a:pt x="717" y="275"/>
                    <a:pt x="717" y="275"/>
                  </a:cubicBezTo>
                  <a:cubicBezTo>
                    <a:pt x="723" y="276"/>
                    <a:pt x="723" y="276"/>
                    <a:pt x="723" y="276"/>
                  </a:cubicBezTo>
                  <a:cubicBezTo>
                    <a:pt x="729" y="277"/>
                    <a:pt x="729" y="277"/>
                    <a:pt x="729" y="277"/>
                  </a:cubicBezTo>
                  <a:cubicBezTo>
                    <a:pt x="734" y="279"/>
                    <a:pt x="734" y="279"/>
                    <a:pt x="734" y="279"/>
                  </a:cubicBezTo>
                  <a:cubicBezTo>
                    <a:pt x="740" y="280"/>
                    <a:pt x="740" y="280"/>
                    <a:pt x="740" y="280"/>
                  </a:cubicBezTo>
                  <a:cubicBezTo>
                    <a:pt x="746" y="281"/>
                    <a:pt x="746" y="281"/>
                    <a:pt x="746" y="281"/>
                  </a:cubicBezTo>
                  <a:cubicBezTo>
                    <a:pt x="751" y="282"/>
                    <a:pt x="751" y="282"/>
                    <a:pt x="751" y="282"/>
                  </a:cubicBezTo>
                  <a:cubicBezTo>
                    <a:pt x="757" y="283"/>
                    <a:pt x="757" y="283"/>
                    <a:pt x="757" y="283"/>
                  </a:cubicBezTo>
                  <a:cubicBezTo>
                    <a:pt x="763" y="284"/>
                    <a:pt x="763" y="284"/>
                    <a:pt x="763" y="284"/>
                  </a:cubicBezTo>
                  <a:cubicBezTo>
                    <a:pt x="768" y="285"/>
                    <a:pt x="768" y="285"/>
                    <a:pt x="768" y="285"/>
                  </a:cubicBezTo>
                  <a:cubicBezTo>
                    <a:pt x="774" y="286"/>
                    <a:pt x="774" y="286"/>
                    <a:pt x="774" y="286"/>
                  </a:cubicBezTo>
                  <a:cubicBezTo>
                    <a:pt x="780" y="287"/>
                    <a:pt x="780" y="287"/>
                    <a:pt x="780" y="287"/>
                  </a:cubicBezTo>
                  <a:cubicBezTo>
                    <a:pt x="785" y="288"/>
                    <a:pt x="785" y="288"/>
                    <a:pt x="785" y="288"/>
                  </a:cubicBezTo>
                  <a:cubicBezTo>
                    <a:pt x="791" y="289"/>
                    <a:pt x="791" y="289"/>
                    <a:pt x="791" y="289"/>
                  </a:cubicBezTo>
                  <a:cubicBezTo>
                    <a:pt x="797" y="290"/>
                    <a:pt x="797" y="290"/>
                    <a:pt x="797" y="290"/>
                  </a:cubicBezTo>
                  <a:cubicBezTo>
                    <a:pt x="802" y="291"/>
                    <a:pt x="802" y="291"/>
                    <a:pt x="802" y="291"/>
                  </a:cubicBezTo>
                  <a:cubicBezTo>
                    <a:pt x="808" y="292"/>
                    <a:pt x="808" y="292"/>
                    <a:pt x="808" y="292"/>
                  </a:cubicBezTo>
                  <a:cubicBezTo>
                    <a:pt x="814" y="293"/>
                    <a:pt x="814" y="293"/>
                    <a:pt x="814" y="293"/>
                  </a:cubicBezTo>
                  <a:cubicBezTo>
                    <a:pt x="819" y="294"/>
                    <a:pt x="819" y="294"/>
                    <a:pt x="819" y="294"/>
                  </a:cubicBezTo>
                  <a:cubicBezTo>
                    <a:pt x="825" y="295"/>
                    <a:pt x="825" y="295"/>
                    <a:pt x="825" y="295"/>
                  </a:cubicBezTo>
                  <a:cubicBezTo>
                    <a:pt x="831" y="295"/>
                    <a:pt x="831" y="295"/>
                    <a:pt x="831" y="295"/>
                  </a:cubicBezTo>
                  <a:cubicBezTo>
                    <a:pt x="836" y="296"/>
                    <a:pt x="836" y="296"/>
                    <a:pt x="836" y="296"/>
                  </a:cubicBezTo>
                  <a:cubicBezTo>
                    <a:pt x="842" y="297"/>
                    <a:pt x="842" y="297"/>
                    <a:pt x="842" y="297"/>
                  </a:cubicBezTo>
                  <a:cubicBezTo>
                    <a:pt x="848" y="298"/>
                    <a:pt x="848" y="298"/>
                    <a:pt x="848" y="298"/>
                  </a:cubicBezTo>
                  <a:cubicBezTo>
                    <a:pt x="853" y="299"/>
                    <a:pt x="853" y="299"/>
                    <a:pt x="853" y="299"/>
                  </a:cubicBezTo>
                  <a:cubicBezTo>
                    <a:pt x="859" y="299"/>
                    <a:pt x="859" y="299"/>
                    <a:pt x="859" y="299"/>
                  </a:cubicBezTo>
                  <a:cubicBezTo>
                    <a:pt x="865" y="300"/>
                    <a:pt x="865" y="300"/>
                    <a:pt x="865" y="300"/>
                  </a:cubicBezTo>
                  <a:cubicBezTo>
                    <a:pt x="870" y="301"/>
                    <a:pt x="870" y="301"/>
                    <a:pt x="870" y="301"/>
                  </a:cubicBezTo>
                  <a:cubicBezTo>
                    <a:pt x="876" y="302"/>
                    <a:pt x="876" y="302"/>
                    <a:pt x="876" y="302"/>
                  </a:cubicBezTo>
                  <a:cubicBezTo>
                    <a:pt x="882" y="302"/>
                    <a:pt x="882" y="302"/>
                    <a:pt x="882" y="302"/>
                  </a:cubicBezTo>
                  <a:cubicBezTo>
                    <a:pt x="887" y="303"/>
                    <a:pt x="887" y="303"/>
                    <a:pt x="887" y="303"/>
                  </a:cubicBezTo>
                  <a:cubicBezTo>
                    <a:pt x="893" y="304"/>
                    <a:pt x="893" y="304"/>
                    <a:pt x="893" y="304"/>
                  </a:cubicBezTo>
                  <a:cubicBezTo>
                    <a:pt x="899" y="305"/>
                    <a:pt x="899" y="305"/>
                    <a:pt x="899" y="305"/>
                  </a:cubicBezTo>
                  <a:cubicBezTo>
                    <a:pt x="904" y="305"/>
                    <a:pt x="904" y="305"/>
                    <a:pt x="904" y="305"/>
                  </a:cubicBezTo>
                  <a:cubicBezTo>
                    <a:pt x="910" y="306"/>
                    <a:pt x="910" y="306"/>
                    <a:pt x="910" y="306"/>
                  </a:cubicBezTo>
                  <a:cubicBezTo>
                    <a:pt x="916" y="307"/>
                    <a:pt x="916" y="307"/>
                    <a:pt x="916" y="307"/>
                  </a:cubicBezTo>
                  <a:cubicBezTo>
                    <a:pt x="921" y="307"/>
                    <a:pt x="921" y="307"/>
                    <a:pt x="921" y="307"/>
                  </a:cubicBezTo>
                  <a:cubicBezTo>
                    <a:pt x="927" y="308"/>
                    <a:pt x="927" y="308"/>
                    <a:pt x="927" y="308"/>
                  </a:cubicBezTo>
                  <a:cubicBezTo>
                    <a:pt x="933" y="309"/>
                    <a:pt x="933" y="309"/>
                    <a:pt x="933" y="309"/>
                  </a:cubicBezTo>
                  <a:cubicBezTo>
                    <a:pt x="938" y="309"/>
                    <a:pt x="938" y="309"/>
                    <a:pt x="938" y="309"/>
                  </a:cubicBezTo>
                  <a:cubicBezTo>
                    <a:pt x="944" y="310"/>
                    <a:pt x="944" y="310"/>
                    <a:pt x="944" y="310"/>
                  </a:cubicBezTo>
                  <a:cubicBezTo>
                    <a:pt x="950" y="310"/>
                    <a:pt x="950" y="310"/>
                    <a:pt x="950" y="310"/>
                  </a:cubicBezTo>
                  <a:cubicBezTo>
                    <a:pt x="955" y="311"/>
                    <a:pt x="955" y="311"/>
                    <a:pt x="955" y="311"/>
                  </a:cubicBezTo>
                  <a:cubicBezTo>
                    <a:pt x="961" y="312"/>
                    <a:pt x="961" y="312"/>
                    <a:pt x="961" y="312"/>
                  </a:cubicBezTo>
                  <a:cubicBezTo>
                    <a:pt x="967" y="312"/>
                    <a:pt x="967" y="312"/>
                    <a:pt x="967" y="312"/>
                  </a:cubicBezTo>
                  <a:cubicBezTo>
                    <a:pt x="972" y="313"/>
                    <a:pt x="972" y="313"/>
                    <a:pt x="972" y="313"/>
                  </a:cubicBezTo>
                  <a:cubicBezTo>
                    <a:pt x="978" y="313"/>
                    <a:pt x="978" y="313"/>
                    <a:pt x="978" y="313"/>
                  </a:cubicBezTo>
                  <a:cubicBezTo>
                    <a:pt x="984" y="314"/>
                    <a:pt x="984" y="314"/>
                    <a:pt x="984" y="314"/>
                  </a:cubicBezTo>
                  <a:cubicBezTo>
                    <a:pt x="989" y="315"/>
                    <a:pt x="989" y="315"/>
                    <a:pt x="989" y="315"/>
                  </a:cubicBezTo>
                  <a:cubicBezTo>
                    <a:pt x="995" y="315"/>
                    <a:pt x="995" y="315"/>
                    <a:pt x="995" y="315"/>
                  </a:cubicBezTo>
                  <a:cubicBezTo>
                    <a:pt x="1001" y="316"/>
                    <a:pt x="1001" y="316"/>
                    <a:pt x="1001" y="316"/>
                  </a:cubicBezTo>
                  <a:cubicBezTo>
                    <a:pt x="1006" y="316"/>
                    <a:pt x="1006" y="316"/>
                    <a:pt x="1006" y="316"/>
                  </a:cubicBezTo>
                  <a:cubicBezTo>
                    <a:pt x="1012" y="317"/>
                    <a:pt x="1012" y="317"/>
                    <a:pt x="1012" y="317"/>
                  </a:cubicBezTo>
                  <a:cubicBezTo>
                    <a:pt x="1018" y="317"/>
                    <a:pt x="1018" y="317"/>
                    <a:pt x="1018" y="317"/>
                  </a:cubicBezTo>
                  <a:cubicBezTo>
                    <a:pt x="1023" y="318"/>
                    <a:pt x="1023" y="318"/>
                    <a:pt x="1023" y="318"/>
                  </a:cubicBezTo>
                  <a:cubicBezTo>
                    <a:pt x="1029" y="318"/>
                    <a:pt x="1029" y="318"/>
                    <a:pt x="1029" y="318"/>
                  </a:cubicBezTo>
                  <a:cubicBezTo>
                    <a:pt x="1035" y="319"/>
                    <a:pt x="1035" y="319"/>
                    <a:pt x="1035" y="319"/>
                  </a:cubicBezTo>
                  <a:cubicBezTo>
                    <a:pt x="1040" y="319"/>
                    <a:pt x="1040" y="319"/>
                    <a:pt x="1040" y="319"/>
                  </a:cubicBezTo>
                  <a:cubicBezTo>
                    <a:pt x="1046" y="320"/>
                    <a:pt x="1046" y="320"/>
                    <a:pt x="1046" y="320"/>
                  </a:cubicBezTo>
                  <a:cubicBezTo>
                    <a:pt x="1052" y="320"/>
                    <a:pt x="1052" y="320"/>
                    <a:pt x="1052" y="320"/>
                  </a:cubicBezTo>
                  <a:cubicBezTo>
                    <a:pt x="1057" y="321"/>
                    <a:pt x="1057" y="321"/>
                    <a:pt x="1057" y="321"/>
                  </a:cubicBezTo>
                  <a:cubicBezTo>
                    <a:pt x="1063" y="321"/>
                    <a:pt x="1063" y="321"/>
                    <a:pt x="1063" y="321"/>
                  </a:cubicBezTo>
                  <a:cubicBezTo>
                    <a:pt x="1069" y="322"/>
                    <a:pt x="1069" y="322"/>
                    <a:pt x="1069" y="322"/>
                  </a:cubicBezTo>
                  <a:cubicBezTo>
                    <a:pt x="1074" y="322"/>
                    <a:pt x="1074" y="322"/>
                    <a:pt x="1074" y="322"/>
                  </a:cubicBezTo>
                  <a:cubicBezTo>
                    <a:pt x="1080" y="323"/>
                    <a:pt x="1080" y="323"/>
                    <a:pt x="1080" y="323"/>
                  </a:cubicBezTo>
                  <a:cubicBezTo>
                    <a:pt x="1086" y="323"/>
                    <a:pt x="1086" y="323"/>
                    <a:pt x="1086" y="323"/>
                  </a:cubicBezTo>
                  <a:cubicBezTo>
                    <a:pt x="1091" y="324"/>
                    <a:pt x="1091" y="324"/>
                    <a:pt x="1091" y="324"/>
                  </a:cubicBezTo>
                  <a:cubicBezTo>
                    <a:pt x="1097" y="324"/>
                    <a:pt x="1097" y="324"/>
                    <a:pt x="1097" y="324"/>
                  </a:cubicBezTo>
                  <a:cubicBezTo>
                    <a:pt x="1103" y="324"/>
                    <a:pt x="1103" y="324"/>
                    <a:pt x="1103" y="324"/>
                  </a:cubicBezTo>
                  <a:cubicBezTo>
                    <a:pt x="1108" y="325"/>
                    <a:pt x="1108" y="325"/>
                    <a:pt x="1108" y="325"/>
                  </a:cubicBezTo>
                  <a:cubicBezTo>
                    <a:pt x="1114" y="325"/>
                    <a:pt x="1114" y="325"/>
                    <a:pt x="1114" y="325"/>
                  </a:cubicBezTo>
                  <a:cubicBezTo>
                    <a:pt x="1120" y="326"/>
                    <a:pt x="1120" y="326"/>
                    <a:pt x="1120" y="326"/>
                  </a:cubicBezTo>
                  <a:cubicBezTo>
                    <a:pt x="1125" y="326"/>
                    <a:pt x="1125" y="326"/>
                    <a:pt x="1125" y="326"/>
                  </a:cubicBezTo>
                  <a:cubicBezTo>
                    <a:pt x="1131" y="327"/>
                    <a:pt x="1131" y="327"/>
                    <a:pt x="1131" y="327"/>
                  </a:cubicBezTo>
                  <a:cubicBezTo>
                    <a:pt x="1137" y="327"/>
                    <a:pt x="1137" y="327"/>
                    <a:pt x="1137" y="327"/>
                  </a:cubicBezTo>
                  <a:cubicBezTo>
                    <a:pt x="1143" y="327"/>
                    <a:pt x="1143" y="327"/>
                    <a:pt x="1143" y="327"/>
                  </a:cubicBezTo>
                  <a:cubicBezTo>
                    <a:pt x="1148" y="328"/>
                    <a:pt x="1148" y="328"/>
                    <a:pt x="1148" y="328"/>
                  </a:cubicBezTo>
                  <a:cubicBezTo>
                    <a:pt x="1154" y="328"/>
                    <a:pt x="1154" y="328"/>
                    <a:pt x="1154" y="328"/>
                  </a:cubicBezTo>
                  <a:cubicBezTo>
                    <a:pt x="1160" y="328"/>
                    <a:pt x="1160" y="328"/>
                    <a:pt x="1160" y="328"/>
                  </a:cubicBezTo>
                  <a:cubicBezTo>
                    <a:pt x="1165" y="329"/>
                    <a:pt x="1165" y="329"/>
                    <a:pt x="1165" y="329"/>
                  </a:cubicBezTo>
                  <a:cubicBezTo>
                    <a:pt x="1171" y="329"/>
                    <a:pt x="1171" y="329"/>
                    <a:pt x="1171" y="329"/>
                  </a:cubicBezTo>
                  <a:cubicBezTo>
                    <a:pt x="1177" y="330"/>
                    <a:pt x="1177" y="330"/>
                    <a:pt x="1177" y="330"/>
                  </a:cubicBezTo>
                  <a:cubicBezTo>
                    <a:pt x="1182" y="330"/>
                    <a:pt x="1182" y="330"/>
                    <a:pt x="1182" y="330"/>
                  </a:cubicBezTo>
                  <a:cubicBezTo>
                    <a:pt x="1188" y="330"/>
                    <a:pt x="1188" y="330"/>
                    <a:pt x="1188" y="330"/>
                  </a:cubicBezTo>
                  <a:cubicBezTo>
                    <a:pt x="1194" y="331"/>
                    <a:pt x="1194" y="331"/>
                    <a:pt x="1194" y="331"/>
                  </a:cubicBezTo>
                  <a:cubicBezTo>
                    <a:pt x="1199" y="331"/>
                    <a:pt x="1199" y="331"/>
                    <a:pt x="1199" y="331"/>
                  </a:cubicBezTo>
                  <a:cubicBezTo>
                    <a:pt x="1205" y="331"/>
                    <a:pt x="1205" y="331"/>
                    <a:pt x="1205" y="331"/>
                  </a:cubicBezTo>
                  <a:cubicBezTo>
                    <a:pt x="1211" y="332"/>
                    <a:pt x="1211" y="332"/>
                    <a:pt x="1211" y="332"/>
                  </a:cubicBezTo>
                  <a:cubicBezTo>
                    <a:pt x="1216" y="332"/>
                    <a:pt x="1216" y="332"/>
                    <a:pt x="1216" y="332"/>
                  </a:cubicBezTo>
                  <a:cubicBezTo>
                    <a:pt x="1222" y="333"/>
                    <a:pt x="1222" y="333"/>
                    <a:pt x="1222" y="333"/>
                  </a:cubicBezTo>
                  <a:cubicBezTo>
                    <a:pt x="1228" y="333"/>
                    <a:pt x="1228" y="333"/>
                    <a:pt x="1228" y="333"/>
                  </a:cubicBezTo>
                  <a:cubicBezTo>
                    <a:pt x="1233" y="333"/>
                    <a:pt x="1233" y="333"/>
                    <a:pt x="1233" y="333"/>
                  </a:cubicBezTo>
                  <a:cubicBezTo>
                    <a:pt x="1239" y="334"/>
                    <a:pt x="1239" y="334"/>
                    <a:pt x="1239" y="334"/>
                  </a:cubicBezTo>
                  <a:cubicBezTo>
                    <a:pt x="1245" y="334"/>
                    <a:pt x="1245" y="334"/>
                    <a:pt x="1245" y="334"/>
                  </a:cubicBezTo>
                  <a:cubicBezTo>
                    <a:pt x="1250" y="334"/>
                    <a:pt x="1250" y="334"/>
                    <a:pt x="1250" y="334"/>
                  </a:cubicBezTo>
                  <a:cubicBezTo>
                    <a:pt x="1256" y="335"/>
                    <a:pt x="1256" y="335"/>
                    <a:pt x="1256" y="335"/>
                  </a:cubicBezTo>
                  <a:cubicBezTo>
                    <a:pt x="1262" y="335"/>
                    <a:pt x="1262" y="335"/>
                    <a:pt x="1262" y="335"/>
                  </a:cubicBezTo>
                  <a:cubicBezTo>
                    <a:pt x="1267" y="335"/>
                    <a:pt x="1267" y="335"/>
                    <a:pt x="1267" y="335"/>
                  </a:cubicBezTo>
                  <a:cubicBezTo>
                    <a:pt x="1273" y="335"/>
                    <a:pt x="1273" y="335"/>
                    <a:pt x="1273" y="335"/>
                  </a:cubicBezTo>
                  <a:cubicBezTo>
                    <a:pt x="1279" y="336"/>
                    <a:pt x="1279" y="336"/>
                    <a:pt x="1279" y="336"/>
                  </a:cubicBezTo>
                  <a:cubicBezTo>
                    <a:pt x="1284" y="336"/>
                    <a:pt x="1284" y="336"/>
                    <a:pt x="1284" y="336"/>
                  </a:cubicBezTo>
                  <a:cubicBezTo>
                    <a:pt x="1290" y="336"/>
                    <a:pt x="1290" y="336"/>
                    <a:pt x="1290" y="336"/>
                  </a:cubicBezTo>
                  <a:cubicBezTo>
                    <a:pt x="1296" y="337"/>
                    <a:pt x="1296" y="337"/>
                    <a:pt x="1296" y="337"/>
                  </a:cubicBezTo>
                  <a:cubicBezTo>
                    <a:pt x="1301" y="337"/>
                    <a:pt x="1301" y="337"/>
                    <a:pt x="1301" y="337"/>
                  </a:cubicBezTo>
                  <a:cubicBezTo>
                    <a:pt x="1307" y="337"/>
                    <a:pt x="1307" y="337"/>
                    <a:pt x="1307" y="337"/>
                  </a:cubicBezTo>
                  <a:cubicBezTo>
                    <a:pt x="1313" y="338"/>
                    <a:pt x="1313" y="338"/>
                    <a:pt x="1313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4" y="338"/>
                    <a:pt x="1324" y="338"/>
                    <a:pt x="1324" y="338"/>
                  </a:cubicBezTo>
                  <a:cubicBezTo>
                    <a:pt x="1330" y="338"/>
                    <a:pt x="1330" y="338"/>
                    <a:pt x="1330" y="338"/>
                  </a:cubicBezTo>
                  <a:cubicBezTo>
                    <a:pt x="1335" y="339"/>
                    <a:pt x="1335" y="339"/>
                    <a:pt x="1335" y="339"/>
                  </a:cubicBezTo>
                  <a:cubicBezTo>
                    <a:pt x="1341" y="339"/>
                    <a:pt x="1341" y="339"/>
                    <a:pt x="1341" y="339"/>
                  </a:cubicBezTo>
                  <a:cubicBezTo>
                    <a:pt x="1347" y="339"/>
                    <a:pt x="1347" y="339"/>
                    <a:pt x="1347" y="339"/>
                  </a:cubicBezTo>
                  <a:cubicBezTo>
                    <a:pt x="1352" y="340"/>
                    <a:pt x="1352" y="340"/>
                    <a:pt x="1352" y="340"/>
                  </a:cubicBezTo>
                  <a:cubicBezTo>
                    <a:pt x="1358" y="340"/>
                    <a:pt x="1358" y="340"/>
                    <a:pt x="1358" y="340"/>
                  </a:cubicBezTo>
                  <a:cubicBezTo>
                    <a:pt x="1364" y="340"/>
                    <a:pt x="1364" y="340"/>
                    <a:pt x="1364" y="340"/>
                  </a:cubicBezTo>
                  <a:cubicBezTo>
                    <a:pt x="1369" y="340"/>
                    <a:pt x="1369" y="340"/>
                    <a:pt x="1369" y="340"/>
                  </a:cubicBezTo>
                  <a:cubicBezTo>
                    <a:pt x="1375" y="341"/>
                    <a:pt x="1375" y="341"/>
                    <a:pt x="1375" y="341"/>
                  </a:cubicBezTo>
                  <a:cubicBezTo>
                    <a:pt x="1381" y="341"/>
                    <a:pt x="1381" y="341"/>
                    <a:pt x="1381" y="341"/>
                  </a:cubicBezTo>
                  <a:cubicBezTo>
                    <a:pt x="1386" y="341"/>
                    <a:pt x="1386" y="341"/>
                    <a:pt x="1386" y="341"/>
                  </a:cubicBezTo>
                  <a:cubicBezTo>
                    <a:pt x="1392" y="341"/>
                    <a:pt x="1392" y="341"/>
                    <a:pt x="1392" y="341"/>
                  </a:cubicBezTo>
                  <a:cubicBezTo>
                    <a:pt x="1398" y="342"/>
                    <a:pt x="1398" y="342"/>
                    <a:pt x="1398" y="342"/>
                  </a:cubicBezTo>
                  <a:cubicBezTo>
                    <a:pt x="1403" y="342"/>
                    <a:pt x="1403" y="342"/>
                    <a:pt x="1403" y="342"/>
                  </a:cubicBezTo>
                  <a:cubicBezTo>
                    <a:pt x="1409" y="342"/>
                    <a:pt x="1409" y="342"/>
                    <a:pt x="1409" y="342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34720" y="2660760"/>
              <a:ext cx="2685960" cy="1027080"/>
            </a:xfrm>
            <a:custGeom>
              <a:avLst/>
              <a:gdLst/>
              <a:ahLst/>
              <a:rect l="l" t="t" r="r" b="b"/>
              <a:pathLst>
                <a:path w="1409" h="401">
                  <a:moveTo>
                    <a:pt x="0" y="401"/>
                  </a:moveTo>
                  <a:cubicBezTo>
                    <a:pt x="6" y="395"/>
                    <a:pt x="6" y="395"/>
                    <a:pt x="6" y="395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7" y="384"/>
                    <a:pt x="17" y="384"/>
                    <a:pt x="17" y="384"/>
                  </a:cubicBezTo>
                  <a:cubicBezTo>
                    <a:pt x="23" y="378"/>
                    <a:pt x="23" y="378"/>
                    <a:pt x="23" y="378"/>
                  </a:cubicBezTo>
                  <a:cubicBezTo>
                    <a:pt x="28" y="372"/>
                    <a:pt x="28" y="372"/>
                    <a:pt x="28" y="372"/>
                  </a:cubicBezTo>
                  <a:cubicBezTo>
                    <a:pt x="34" y="367"/>
                    <a:pt x="34" y="367"/>
                    <a:pt x="34" y="367"/>
                  </a:cubicBezTo>
                  <a:cubicBezTo>
                    <a:pt x="40" y="361"/>
                    <a:pt x="40" y="361"/>
                    <a:pt x="40" y="361"/>
                  </a:cubicBezTo>
                  <a:cubicBezTo>
                    <a:pt x="45" y="355"/>
                    <a:pt x="45" y="355"/>
                    <a:pt x="45" y="355"/>
                  </a:cubicBezTo>
                  <a:cubicBezTo>
                    <a:pt x="51" y="349"/>
                    <a:pt x="51" y="349"/>
                    <a:pt x="51" y="349"/>
                  </a:cubicBezTo>
                  <a:cubicBezTo>
                    <a:pt x="57" y="343"/>
                    <a:pt x="57" y="343"/>
                    <a:pt x="57" y="343"/>
                  </a:cubicBezTo>
                  <a:cubicBezTo>
                    <a:pt x="62" y="336"/>
                    <a:pt x="62" y="336"/>
                    <a:pt x="62" y="336"/>
                  </a:cubicBezTo>
                  <a:cubicBezTo>
                    <a:pt x="68" y="330"/>
                    <a:pt x="68" y="330"/>
                    <a:pt x="68" y="330"/>
                  </a:cubicBezTo>
                  <a:cubicBezTo>
                    <a:pt x="74" y="323"/>
                    <a:pt x="74" y="323"/>
                    <a:pt x="74" y="323"/>
                  </a:cubicBezTo>
                  <a:cubicBezTo>
                    <a:pt x="79" y="317"/>
                    <a:pt x="79" y="317"/>
                    <a:pt x="79" y="317"/>
                  </a:cubicBezTo>
                  <a:cubicBezTo>
                    <a:pt x="85" y="310"/>
                    <a:pt x="85" y="310"/>
                    <a:pt x="85" y="310"/>
                  </a:cubicBezTo>
                  <a:cubicBezTo>
                    <a:pt x="91" y="303"/>
                    <a:pt x="91" y="303"/>
                    <a:pt x="91" y="303"/>
                  </a:cubicBezTo>
                  <a:cubicBezTo>
                    <a:pt x="96" y="296"/>
                    <a:pt x="96" y="296"/>
                    <a:pt x="96" y="296"/>
                  </a:cubicBezTo>
                  <a:cubicBezTo>
                    <a:pt x="102" y="288"/>
                    <a:pt x="102" y="288"/>
                    <a:pt x="102" y="288"/>
                  </a:cubicBezTo>
                  <a:cubicBezTo>
                    <a:pt x="108" y="281"/>
                    <a:pt x="108" y="281"/>
                    <a:pt x="108" y="281"/>
                  </a:cubicBezTo>
                  <a:cubicBezTo>
                    <a:pt x="113" y="273"/>
                    <a:pt x="113" y="273"/>
                    <a:pt x="113" y="273"/>
                  </a:cubicBezTo>
                  <a:cubicBezTo>
                    <a:pt x="119" y="265"/>
                    <a:pt x="119" y="265"/>
                    <a:pt x="119" y="265"/>
                  </a:cubicBezTo>
                  <a:cubicBezTo>
                    <a:pt x="122" y="261"/>
                    <a:pt x="122" y="261"/>
                    <a:pt x="122" y="261"/>
                  </a:cubicBezTo>
                  <a:cubicBezTo>
                    <a:pt x="128" y="252"/>
                    <a:pt x="128" y="252"/>
                    <a:pt x="128" y="252"/>
                  </a:cubicBezTo>
                  <a:cubicBezTo>
                    <a:pt x="130" y="248"/>
                    <a:pt x="130" y="248"/>
                    <a:pt x="130" y="248"/>
                  </a:cubicBezTo>
                  <a:cubicBezTo>
                    <a:pt x="133" y="244"/>
                    <a:pt x="133" y="244"/>
                    <a:pt x="133" y="244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42" y="230"/>
                    <a:pt x="142" y="230"/>
                    <a:pt x="142" y="230"/>
                  </a:cubicBezTo>
                  <a:cubicBezTo>
                    <a:pt x="145" y="225"/>
                    <a:pt x="145" y="225"/>
                    <a:pt x="145" y="225"/>
                  </a:cubicBezTo>
                  <a:cubicBezTo>
                    <a:pt x="147" y="221"/>
                    <a:pt x="147" y="221"/>
                    <a:pt x="147" y="221"/>
                  </a:cubicBezTo>
                  <a:cubicBezTo>
                    <a:pt x="150" y="216"/>
                    <a:pt x="150" y="216"/>
                    <a:pt x="150" y="216"/>
                  </a:cubicBezTo>
                  <a:cubicBezTo>
                    <a:pt x="156" y="206"/>
                    <a:pt x="156" y="206"/>
                    <a:pt x="156" y="206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4" y="190"/>
                    <a:pt x="164" y="190"/>
                    <a:pt x="164" y="190"/>
                  </a:cubicBezTo>
                  <a:cubicBezTo>
                    <a:pt x="167" y="185"/>
                    <a:pt x="167" y="185"/>
                    <a:pt x="167" y="185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173" y="174"/>
                    <a:pt x="173" y="174"/>
                    <a:pt x="173" y="174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9" y="163"/>
                    <a:pt x="179" y="163"/>
                    <a:pt x="179" y="163"/>
                  </a:cubicBezTo>
                  <a:cubicBezTo>
                    <a:pt x="181" y="157"/>
                    <a:pt x="181" y="157"/>
                    <a:pt x="181" y="157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7" y="146"/>
                    <a:pt x="187" y="146"/>
                    <a:pt x="187" y="146"/>
                  </a:cubicBezTo>
                  <a:cubicBezTo>
                    <a:pt x="190" y="140"/>
                    <a:pt x="190" y="140"/>
                    <a:pt x="190" y="140"/>
                  </a:cubicBezTo>
                  <a:cubicBezTo>
                    <a:pt x="193" y="134"/>
                    <a:pt x="193" y="134"/>
                    <a:pt x="193" y="134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4" y="110"/>
                    <a:pt x="204" y="110"/>
                    <a:pt x="204" y="110"/>
                  </a:cubicBezTo>
                  <a:cubicBezTo>
                    <a:pt x="207" y="104"/>
                    <a:pt x="207" y="104"/>
                    <a:pt x="207" y="104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13" y="92"/>
                    <a:pt x="213" y="92"/>
                    <a:pt x="213" y="92"/>
                  </a:cubicBezTo>
                  <a:cubicBezTo>
                    <a:pt x="215" y="86"/>
                    <a:pt x="215" y="86"/>
                    <a:pt x="215" y="86"/>
                  </a:cubicBezTo>
                  <a:cubicBezTo>
                    <a:pt x="218" y="80"/>
                    <a:pt x="218" y="80"/>
                    <a:pt x="218" y="80"/>
                  </a:cubicBezTo>
                  <a:cubicBezTo>
                    <a:pt x="221" y="74"/>
                    <a:pt x="221" y="74"/>
                    <a:pt x="221" y="74"/>
                  </a:cubicBezTo>
                  <a:cubicBezTo>
                    <a:pt x="224" y="68"/>
                    <a:pt x="224" y="68"/>
                    <a:pt x="224" y="68"/>
                  </a:cubicBezTo>
                  <a:cubicBezTo>
                    <a:pt x="227" y="63"/>
                    <a:pt x="227" y="63"/>
                    <a:pt x="227" y="63"/>
                  </a:cubicBezTo>
                  <a:cubicBezTo>
                    <a:pt x="230" y="57"/>
                    <a:pt x="230" y="57"/>
                    <a:pt x="230" y="57"/>
                  </a:cubicBezTo>
                  <a:cubicBezTo>
                    <a:pt x="232" y="52"/>
                    <a:pt x="232" y="52"/>
                    <a:pt x="232" y="52"/>
                  </a:cubicBezTo>
                  <a:cubicBezTo>
                    <a:pt x="235" y="47"/>
                    <a:pt x="235" y="47"/>
                    <a:pt x="235" y="47"/>
                  </a:cubicBezTo>
                  <a:cubicBezTo>
                    <a:pt x="238" y="42"/>
                    <a:pt x="238" y="42"/>
                    <a:pt x="238" y="42"/>
                  </a:cubicBezTo>
                  <a:cubicBezTo>
                    <a:pt x="241" y="37"/>
                    <a:pt x="241" y="37"/>
                    <a:pt x="241" y="37"/>
                  </a:cubicBezTo>
                  <a:cubicBezTo>
                    <a:pt x="244" y="32"/>
                    <a:pt x="244" y="32"/>
                    <a:pt x="244" y="32"/>
                  </a:cubicBezTo>
                  <a:cubicBezTo>
                    <a:pt x="247" y="28"/>
                    <a:pt x="247" y="28"/>
                    <a:pt x="247" y="28"/>
                  </a:cubicBezTo>
                  <a:cubicBezTo>
                    <a:pt x="252" y="20"/>
                    <a:pt x="252" y="20"/>
                    <a:pt x="252" y="20"/>
                  </a:cubicBezTo>
                  <a:cubicBezTo>
                    <a:pt x="258" y="14"/>
                    <a:pt x="258" y="14"/>
                    <a:pt x="258" y="14"/>
                  </a:cubicBezTo>
                  <a:cubicBezTo>
                    <a:pt x="264" y="8"/>
                    <a:pt x="264" y="8"/>
                    <a:pt x="264" y="8"/>
                  </a:cubicBezTo>
                  <a:cubicBezTo>
                    <a:pt x="269" y="4"/>
                    <a:pt x="269" y="4"/>
                    <a:pt x="269" y="4"/>
                  </a:cubicBezTo>
                  <a:cubicBezTo>
                    <a:pt x="275" y="2"/>
                    <a:pt x="275" y="2"/>
                    <a:pt x="275" y="2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92" y="1"/>
                    <a:pt x="292" y="1"/>
                    <a:pt x="292" y="1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303" y="7"/>
                    <a:pt x="303" y="7"/>
                    <a:pt x="303" y="7"/>
                  </a:cubicBezTo>
                  <a:cubicBezTo>
                    <a:pt x="309" y="12"/>
                    <a:pt x="309" y="12"/>
                    <a:pt x="309" y="12"/>
                  </a:cubicBezTo>
                  <a:cubicBezTo>
                    <a:pt x="315" y="17"/>
                    <a:pt x="315" y="17"/>
                    <a:pt x="315" y="17"/>
                  </a:cubicBezTo>
                  <a:cubicBezTo>
                    <a:pt x="320" y="22"/>
                    <a:pt x="320" y="22"/>
                    <a:pt x="320" y="22"/>
                  </a:cubicBezTo>
                  <a:cubicBezTo>
                    <a:pt x="326" y="28"/>
                    <a:pt x="326" y="28"/>
                    <a:pt x="326" y="28"/>
                  </a:cubicBezTo>
                  <a:cubicBezTo>
                    <a:pt x="332" y="35"/>
                    <a:pt x="332" y="35"/>
                    <a:pt x="332" y="35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43" y="49"/>
                    <a:pt x="343" y="49"/>
                    <a:pt x="343" y="49"/>
                  </a:cubicBezTo>
                  <a:cubicBezTo>
                    <a:pt x="349" y="56"/>
                    <a:pt x="349" y="56"/>
                    <a:pt x="349" y="56"/>
                  </a:cubicBezTo>
                  <a:cubicBezTo>
                    <a:pt x="354" y="63"/>
                    <a:pt x="354" y="63"/>
                    <a:pt x="354" y="63"/>
                  </a:cubicBezTo>
                  <a:cubicBezTo>
                    <a:pt x="360" y="70"/>
                    <a:pt x="360" y="70"/>
                    <a:pt x="360" y="70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71" y="84"/>
                    <a:pt x="371" y="84"/>
                    <a:pt x="371" y="84"/>
                  </a:cubicBezTo>
                  <a:cubicBezTo>
                    <a:pt x="377" y="91"/>
                    <a:pt x="377" y="91"/>
                    <a:pt x="377" y="91"/>
                  </a:cubicBezTo>
                  <a:cubicBezTo>
                    <a:pt x="383" y="97"/>
                    <a:pt x="383" y="97"/>
                    <a:pt x="383" y="97"/>
                  </a:cubicBezTo>
                  <a:cubicBezTo>
                    <a:pt x="388" y="104"/>
                    <a:pt x="388" y="104"/>
                    <a:pt x="388" y="104"/>
                  </a:cubicBezTo>
                  <a:cubicBezTo>
                    <a:pt x="394" y="110"/>
                    <a:pt x="394" y="110"/>
                    <a:pt x="394" y="110"/>
                  </a:cubicBezTo>
                  <a:cubicBezTo>
                    <a:pt x="400" y="116"/>
                    <a:pt x="400" y="116"/>
                    <a:pt x="400" y="116"/>
                  </a:cubicBezTo>
                  <a:cubicBezTo>
                    <a:pt x="405" y="122"/>
                    <a:pt x="405" y="122"/>
                    <a:pt x="405" y="122"/>
                  </a:cubicBezTo>
                  <a:cubicBezTo>
                    <a:pt x="411" y="128"/>
                    <a:pt x="411" y="128"/>
                    <a:pt x="411" y="128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22" y="139"/>
                    <a:pt x="422" y="139"/>
                    <a:pt x="422" y="139"/>
                  </a:cubicBezTo>
                  <a:cubicBezTo>
                    <a:pt x="428" y="144"/>
                    <a:pt x="428" y="144"/>
                    <a:pt x="428" y="144"/>
                  </a:cubicBezTo>
                  <a:cubicBezTo>
                    <a:pt x="434" y="149"/>
                    <a:pt x="434" y="149"/>
                    <a:pt x="434" y="149"/>
                  </a:cubicBezTo>
                  <a:cubicBezTo>
                    <a:pt x="439" y="154"/>
                    <a:pt x="439" y="154"/>
                    <a:pt x="439" y="154"/>
                  </a:cubicBezTo>
                  <a:cubicBezTo>
                    <a:pt x="445" y="159"/>
                    <a:pt x="445" y="159"/>
                    <a:pt x="445" y="159"/>
                  </a:cubicBezTo>
                  <a:cubicBezTo>
                    <a:pt x="451" y="163"/>
                    <a:pt x="451" y="163"/>
                    <a:pt x="451" y="163"/>
                  </a:cubicBezTo>
                  <a:cubicBezTo>
                    <a:pt x="456" y="168"/>
                    <a:pt x="456" y="168"/>
                    <a:pt x="456" y="168"/>
                  </a:cubicBezTo>
                  <a:cubicBezTo>
                    <a:pt x="462" y="172"/>
                    <a:pt x="462" y="172"/>
                    <a:pt x="462" y="172"/>
                  </a:cubicBezTo>
                  <a:cubicBezTo>
                    <a:pt x="468" y="176"/>
                    <a:pt x="468" y="176"/>
                    <a:pt x="468" y="176"/>
                  </a:cubicBezTo>
                  <a:cubicBezTo>
                    <a:pt x="473" y="180"/>
                    <a:pt x="473" y="180"/>
                    <a:pt x="473" y="180"/>
                  </a:cubicBezTo>
                  <a:cubicBezTo>
                    <a:pt x="479" y="184"/>
                    <a:pt x="479" y="184"/>
                    <a:pt x="479" y="184"/>
                  </a:cubicBezTo>
                  <a:cubicBezTo>
                    <a:pt x="485" y="188"/>
                    <a:pt x="485" y="188"/>
                    <a:pt x="485" y="188"/>
                  </a:cubicBezTo>
                  <a:cubicBezTo>
                    <a:pt x="490" y="191"/>
                    <a:pt x="490" y="191"/>
                    <a:pt x="490" y="191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502" y="198"/>
                    <a:pt x="502" y="198"/>
                    <a:pt x="502" y="198"/>
                  </a:cubicBezTo>
                  <a:cubicBezTo>
                    <a:pt x="507" y="201"/>
                    <a:pt x="507" y="201"/>
                    <a:pt x="507" y="201"/>
                  </a:cubicBezTo>
                  <a:cubicBezTo>
                    <a:pt x="513" y="204"/>
                    <a:pt x="513" y="204"/>
                    <a:pt x="513" y="204"/>
                  </a:cubicBezTo>
                  <a:cubicBezTo>
                    <a:pt x="519" y="208"/>
                    <a:pt x="519" y="208"/>
                    <a:pt x="519" y="208"/>
                  </a:cubicBezTo>
                  <a:cubicBezTo>
                    <a:pt x="524" y="210"/>
                    <a:pt x="524" y="210"/>
                    <a:pt x="524" y="210"/>
                  </a:cubicBezTo>
                  <a:cubicBezTo>
                    <a:pt x="530" y="213"/>
                    <a:pt x="530" y="213"/>
                    <a:pt x="530" y="213"/>
                  </a:cubicBezTo>
                  <a:cubicBezTo>
                    <a:pt x="536" y="216"/>
                    <a:pt x="536" y="216"/>
                    <a:pt x="536" y="216"/>
                  </a:cubicBezTo>
                  <a:cubicBezTo>
                    <a:pt x="541" y="219"/>
                    <a:pt x="541" y="219"/>
                    <a:pt x="541" y="219"/>
                  </a:cubicBezTo>
                  <a:cubicBezTo>
                    <a:pt x="547" y="221"/>
                    <a:pt x="547" y="221"/>
                    <a:pt x="547" y="221"/>
                  </a:cubicBezTo>
                  <a:cubicBezTo>
                    <a:pt x="553" y="224"/>
                    <a:pt x="553" y="224"/>
                    <a:pt x="553" y="224"/>
                  </a:cubicBezTo>
                  <a:cubicBezTo>
                    <a:pt x="558" y="226"/>
                    <a:pt x="558" y="226"/>
                    <a:pt x="558" y="226"/>
                  </a:cubicBezTo>
                  <a:cubicBezTo>
                    <a:pt x="564" y="229"/>
                    <a:pt x="564" y="229"/>
                    <a:pt x="564" y="229"/>
                  </a:cubicBezTo>
                  <a:cubicBezTo>
                    <a:pt x="570" y="231"/>
                    <a:pt x="570" y="231"/>
                    <a:pt x="570" y="231"/>
                  </a:cubicBezTo>
                  <a:cubicBezTo>
                    <a:pt x="576" y="233"/>
                    <a:pt x="576" y="233"/>
                    <a:pt x="576" y="233"/>
                  </a:cubicBezTo>
                  <a:cubicBezTo>
                    <a:pt x="581" y="236"/>
                    <a:pt x="581" y="236"/>
                    <a:pt x="581" y="236"/>
                  </a:cubicBezTo>
                  <a:cubicBezTo>
                    <a:pt x="587" y="238"/>
                    <a:pt x="587" y="238"/>
                    <a:pt x="587" y="238"/>
                  </a:cubicBezTo>
                  <a:cubicBezTo>
                    <a:pt x="593" y="240"/>
                    <a:pt x="593" y="240"/>
                    <a:pt x="593" y="240"/>
                  </a:cubicBezTo>
                  <a:cubicBezTo>
                    <a:pt x="598" y="242"/>
                    <a:pt x="598" y="242"/>
                    <a:pt x="598" y="242"/>
                  </a:cubicBezTo>
                  <a:cubicBezTo>
                    <a:pt x="604" y="244"/>
                    <a:pt x="604" y="244"/>
                    <a:pt x="604" y="244"/>
                  </a:cubicBezTo>
                  <a:cubicBezTo>
                    <a:pt x="610" y="246"/>
                    <a:pt x="610" y="246"/>
                    <a:pt x="610" y="246"/>
                  </a:cubicBezTo>
                  <a:cubicBezTo>
                    <a:pt x="615" y="248"/>
                    <a:pt x="615" y="248"/>
                    <a:pt x="615" y="248"/>
                  </a:cubicBezTo>
                  <a:cubicBezTo>
                    <a:pt x="621" y="250"/>
                    <a:pt x="621" y="250"/>
                    <a:pt x="621" y="250"/>
                  </a:cubicBezTo>
                  <a:cubicBezTo>
                    <a:pt x="627" y="251"/>
                    <a:pt x="627" y="251"/>
                    <a:pt x="627" y="251"/>
                  </a:cubicBezTo>
                  <a:cubicBezTo>
                    <a:pt x="632" y="253"/>
                    <a:pt x="632" y="253"/>
                    <a:pt x="632" y="253"/>
                  </a:cubicBezTo>
                  <a:cubicBezTo>
                    <a:pt x="638" y="255"/>
                    <a:pt x="638" y="255"/>
                    <a:pt x="638" y="255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9" y="258"/>
                    <a:pt x="649" y="258"/>
                    <a:pt x="649" y="258"/>
                  </a:cubicBezTo>
                  <a:cubicBezTo>
                    <a:pt x="655" y="260"/>
                    <a:pt x="655" y="260"/>
                    <a:pt x="655" y="260"/>
                  </a:cubicBezTo>
                  <a:cubicBezTo>
                    <a:pt x="661" y="261"/>
                    <a:pt x="661" y="261"/>
                    <a:pt x="661" y="261"/>
                  </a:cubicBezTo>
                  <a:cubicBezTo>
                    <a:pt x="666" y="263"/>
                    <a:pt x="666" y="263"/>
                    <a:pt x="666" y="263"/>
                  </a:cubicBezTo>
                  <a:cubicBezTo>
                    <a:pt x="672" y="264"/>
                    <a:pt x="672" y="264"/>
                    <a:pt x="672" y="264"/>
                  </a:cubicBezTo>
                  <a:cubicBezTo>
                    <a:pt x="678" y="266"/>
                    <a:pt x="678" y="266"/>
                    <a:pt x="678" y="266"/>
                  </a:cubicBezTo>
                  <a:cubicBezTo>
                    <a:pt x="683" y="267"/>
                    <a:pt x="683" y="267"/>
                    <a:pt x="683" y="267"/>
                  </a:cubicBezTo>
                  <a:cubicBezTo>
                    <a:pt x="689" y="268"/>
                    <a:pt x="689" y="268"/>
                    <a:pt x="689" y="268"/>
                  </a:cubicBezTo>
                  <a:cubicBezTo>
                    <a:pt x="695" y="270"/>
                    <a:pt x="695" y="270"/>
                    <a:pt x="695" y="270"/>
                  </a:cubicBezTo>
                  <a:cubicBezTo>
                    <a:pt x="700" y="271"/>
                    <a:pt x="700" y="271"/>
                    <a:pt x="700" y="271"/>
                  </a:cubicBezTo>
                  <a:cubicBezTo>
                    <a:pt x="706" y="272"/>
                    <a:pt x="706" y="272"/>
                    <a:pt x="706" y="272"/>
                  </a:cubicBezTo>
                  <a:cubicBezTo>
                    <a:pt x="712" y="274"/>
                    <a:pt x="712" y="274"/>
                    <a:pt x="712" y="274"/>
                  </a:cubicBezTo>
                  <a:cubicBezTo>
                    <a:pt x="717" y="275"/>
                    <a:pt x="717" y="275"/>
                    <a:pt x="717" y="275"/>
                  </a:cubicBezTo>
                  <a:cubicBezTo>
                    <a:pt x="723" y="276"/>
                    <a:pt x="723" y="276"/>
                    <a:pt x="723" y="276"/>
                  </a:cubicBezTo>
                  <a:cubicBezTo>
                    <a:pt x="729" y="277"/>
                    <a:pt x="729" y="277"/>
                    <a:pt x="729" y="277"/>
                  </a:cubicBezTo>
                  <a:cubicBezTo>
                    <a:pt x="734" y="279"/>
                    <a:pt x="734" y="279"/>
                    <a:pt x="734" y="279"/>
                  </a:cubicBezTo>
                  <a:cubicBezTo>
                    <a:pt x="740" y="280"/>
                    <a:pt x="740" y="280"/>
                    <a:pt x="740" y="280"/>
                  </a:cubicBezTo>
                  <a:cubicBezTo>
                    <a:pt x="746" y="281"/>
                    <a:pt x="746" y="281"/>
                    <a:pt x="746" y="281"/>
                  </a:cubicBezTo>
                  <a:cubicBezTo>
                    <a:pt x="751" y="282"/>
                    <a:pt x="751" y="282"/>
                    <a:pt x="751" y="282"/>
                  </a:cubicBezTo>
                  <a:cubicBezTo>
                    <a:pt x="757" y="283"/>
                    <a:pt x="757" y="283"/>
                    <a:pt x="757" y="283"/>
                  </a:cubicBezTo>
                  <a:cubicBezTo>
                    <a:pt x="763" y="284"/>
                    <a:pt x="763" y="284"/>
                    <a:pt x="763" y="284"/>
                  </a:cubicBezTo>
                  <a:cubicBezTo>
                    <a:pt x="768" y="285"/>
                    <a:pt x="768" y="285"/>
                    <a:pt x="768" y="285"/>
                  </a:cubicBezTo>
                  <a:cubicBezTo>
                    <a:pt x="774" y="286"/>
                    <a:pt x="774" y="286"/>
                    <a:pt x="774" y="286"/>
                  </a:cubicBezTo>
                  <a:cubicBezTo>
                    <a:pt x="780" y="287"/>
                    <a:pt x="780" y="287"/>
                    <a:pt x="780" y="287"/>
                  </a:cubicBezTo>
                  <a:cubicBezTo>
                    <a:pt x="785" y="288"/>
                    <a:pt x="785" y="288"/>
                    <a:pt x="785" y="288"/>
                  </a:cubicBezTo>
                  <a:cubicBezTo>
                    <a:pt x="791" y="289"/>
                    <a:pt x="791" y="289"/>
                    <a:pt x="791" y="289"/>
                  </a:cubicBezTo>
                  <a:cubicBezTo>
                    <a:pt x="797" y="290"/>
                    <a:pt x="797" y="290"/>
                    <a:pt x="797" y="290"/>
                  </a:cubicBezTo>
                  <a:cubicBezTo>
                    <a:pt x="802" y="291"/>
                    <a:pt x="802" y="291"/>
                    <a:pt x="802" y="291"/>
                  </a:cubicBezTo>
                  <a:cubicBezTo>
                    <a:pt x="808" y="292"/>
                    <a:pt x="808" y="292"/>
                    <a:pt x="808" y="292"/>
                  </a:cubicBezTo>
                  <a:cubicBezTo>
                    <a:pt x="814" y="293"/>
                    <a:pt x="814" y="293"/>
                    <a:pt x="814" y="293"/>
                  </a:cubicBezTo>
                  <a:cubicBezTo>
                    <a:pt x="819" y="294"/>
                    <a:pt x="819" y="294"/>
                    <a:pt x="819" y="294"/>
                  </a:cubicBezTo>
                  <a:cubicBezTo>
                    <a:pt x="825" y="295"/>
                    <a:pt x="825" y="295"/>
                    <a:pt x="825" y="295"/>
                  </a:cubicBezTo>
                  <a:cubicBezTo>
                    <a:pt x="831" y="295"/>
                    <a:pt x="831" y="295"/>
                    <a:pt x="831" y="295"/>
                  </a:cubicBezTo>
                  <a:cubicBezTo>
                    <a:pt x="836" y="296"/>
                    <a:pt x="836" y="296"/>
                    <a:pt x="836" y="296"/>
                  </a:cubicBezTo>
                  <a:cubicBezTo>
                    <a:pt x="842" y="297"/>
                    <a:pt x="842" y="297"/>
                    <a:pt x="842" y="297"/>
                  </a:cubicBezTo>
                  <a:cubicBezTo>
                    <a:pt x="848" y="298"/>
                    <a:pt x="848" y="298"/>
                    <a:pt x="848" y="298"/>
                  </a:cubicBezTo>
                  <a:cubicBezTo>
                    <a:pt x="853" y="299"/>
                    <a:pt x="853" y="299"/>
                    <a:pt x="853" y="299"/>
                  </a:cubicBezTo>
                  <a:cubicBezTo>
                    <a:pt x="859" y="299"/>
                    <a:pt x="859" y="299"/>
                    <a:pt x="859" y="299"/>
                  </a:cubicBezTo>
                  <a:cubicBezTo>
                    <a:pt x="865" y="300"/>
                    <a:pt x="865" y="300"/>
                    <a:pt x="865" y="300"/>
                  </a:cubicBezTo>
                  <a:cubicBezTo>
                    <a:pt x="870" y="301"/>
                    <a:pt x="870" y="301"/>
                    <a:pt x="870" y="301"/>
                  </a:cubicBezTo>
                  <a:cubicBezTo>
                    <a:pt x="876" y="302"/>
                    <a:pt x="876" y="302"/>
                    <a:pt x="876" y="302"/>
                  </a:cubicBezTo>
                  <a:cubicBezTo>
                    <a:pt x="882" y="302"/>
                    <a:pt x="882" y="302"/>
                    <a:pt x="882" y="302"/>
                  </a:cubicBezTo>
                  <a:cubicBezTo>
                    <a:pt x="887" y="303"/>
                    <a:pt x="887" y="303"/>
                    <a:pt x="887" y="303"/>
                  </a:cubicBezTo>
                  <a:cubicBezTo>
                    <a:pt x="893" y="304"/>
                    <a:pt x="893" y="304"/>
                    <a:pt x="893" y="304"/>
                  </a:cubicBezTo>
                  <a:cubicBezTo>
                    <a:pt x="899" y="305"/>
                    <a:pt x="899" y="305"/>
                    <a:pt x="899" y="305"/>
                  </a:cubicBezTo>
                  <a:cubicBezTo>
                    <a:pt x="904" y="305"/>
                    <a:pt x="904" y="305"/>
                    <a:pt x="904" y="305"/>
                  </a:cubicBezTo>
                  <a:cubicBezTo>
                    <a:pt x="910" y="306"/>
                    <a:pt x="910" y="306"/>
                    <a:pt x="910" y="306"/>
                  </a:cubicBezTo>
                  <a:cubicBezTo>
                    <a:pt x="916" y="307"/>
                    <a:pt x="916" y="307"/>
                    <a:pt x="916" y="307"/>
                  </a:cubicBezTo>
                  <a:cubicBezTo>
                    <a:pt x="921" y="307"/>
                    <a:pt x="921" y="307"/>
                    <a:pt x="921" y="307"/>
                  </a:cubicBezTo>
                  <a:cubicBezTo>
                    <a:pt x="927" y="308"/>
                    <a:pt x="927" y="308"/>
                    <a:pt x="927" y="308"/>
                  </a:cubicBezTo>
                  <a:cubicBezTo>
                    <a:pt x="933" y="309"/>
                    <a:pt x="933" y="309"/>
                    <a:pt x="933" y="309"/>
                  </a:cubicBezTo>
                  <a:cubicBezTo>
                    <a:pt x="938" y="309"/>
                    <a:pt x="938" y="309"/>
                    <a:pt x="938" y="309"/>
                  </a:cubicBezTo>
                  <a:cubicBezTo>
                    <a:pt x="944" y="310"/>
                    <a:pt x="944" y="310"/>
                    <a:pt x="944" y="310"/>
                  </a:cubicBezTo>
                  <a:cubicBezTo>
                    <a:pt x="950" y="310"/>
                    <a:pt x="950" y="310"/>
                    <a:pt x="950" y="310"/>
                  </a:cubicBezTo>
                  <a:cubicBezTo>
                    <a:pt x="955" y="311"/>
                    <a:pt x="955" y="311"/>
                    <a:pt x="955" y="311"/>
                  </a:cubicBezTo>
                  <a:cubicBezTo>
                    <a:pt x="961" y="312"/>
                    <a:pt x="961" y="312"/>
                    <a:pt x="961" y="312"/>
                  </a:cubicBezTo>
                  <a:cubicBezTo>
                    <a:pt x="967" y="312"/>
                    <a:pt x="967" y="312"/>
                    <a:pt x="967" y="312"/>
                  </a:cubicBezTo>
                  <a:cubicBezTo>
                    <a:pt x="972" y="313"/>
                    <a:pt x="972" y="313"/>
                    <a:pt x="972" y="313"/>
                  </a:cubicBezTo>
                  <a:cubicBezTo>
                    <a:pt x="978" y="313"/>
                    <a:pt x="978" y="313"/>
                    <a:pt x="978" y="313"/>
                  </a:cubicBezTo>
                  <a:cubicBezTo>
                    <a:pt x="984" y="314"/>
                    <a:pt x="984" y="314"/>
                    <a:pt x="984" y="314"/>
                  </a:cubicBezTo>
                  <a:cubicBezTo>
                    <a:pt x="989" y="315"/>
                    <a:pt x="989" y="315"/>
                    <a:pt x="989" y="315"/>
                  </a:cubicBezTo>
                  <a:cubicBezTo>
                    <a:pt x="995" y="315"/>
                    <a:pt x="995" y="315"/>
                    <a:pt x="995" y="315"/>
                  </a:cubicBezTo>
                  <a:cubicBezTo>
                    <a:pt x="1001" y="316"/>
                    <a:pt x="1001" y="316"/>
                    <a:pt x="1001" y="316"/>
                  </a:cubicBezTo>
                  <a:cubicBezTo>
                    <a:pt x="1006" y="316"/>
                    <a:pt x="1006" y="316"/>
                    <a:pt x="1006" y="316"/>
                  </a:cubicBezTo>
                  <a:cubicBezTo>
                    <a:pt x="1012" y="317"/>
                    <a:pt x="1012" y="317"/>
                    <a:pt x="1012" y="317"/>
                  </a:cubicBezTo>
                  <a:cubicBezTo>
                    <a:pt x="1018" y="317"/>
                    <a:pt x="1018" y="317"/>
                    <a:pt x="1018" y="317"/>
                  </a:cubicBezTo>
                  <a:cubicBezTo>
                    <a:pt x="1023" y="318"/>
                    <a:pt x="1023" y="318"/>
                    <a:pt x="1023" y="318"/>
                  </a:cubicBezTo>
                  <a:cubicBezTo>
                    <a:pt x="1029" y="318"/>
                    <a:pt x="1029" y="318"/>
                    <a:pt x="1029" y="318"/>
                  </a:cubicBezTo>
                  <a:cubicBezTo>
                    <a:pt x="1035" y="319"/>
                    <a:pt x="1035" y="319"/>
                    <a:pt x="1035" y="319"/>
                  </a:cubicBezTo>
                  <a:cubicBezTo>
                    <a:pt x="1040" y="319"/>
                    <a:pt x="1040" y="319"/>
                    <a:pt x="1040" y="319"/>
                  </a:cubicBezTo>
                  <a:cubicBezTo>
                    <a:pt x="1046" y="320"/>
                    <a:pt x="1046" y="320"/>
                    <a:pt x="1046" y="320"/>
                  </a:cubicBezTo>
                  <a:cubicBezTo>
                    <a:pt x="1052" y="320"/>
                    <a:pt x="1052" y="320"/>
                    <a:pt x="1052" y="320"/>
                  </a:cubicBezTo>
                  <a:cubicBezTo>
                    <a:pt x="1057" y="321"/>
                    <a:pt x="1057" y="321"/>
                    <a:pt x="1057" y="321"/>
                  </a:cubicBezTo>
                  <a:cubicBezTo>
                    <a:pt x="1063" y="321"/>
                    <a:pt x="1063" y="321"/>
                    <a:pt x="1063" y="321"/>
                  </a:cubicBezTo>
                  <a:cubicBezTo>
                    <a:pt x="1069" y="322"/>
                    <a:pt x="1069" y="322"/>
                    <a:pt x="1069" y="322"/>
                  </a:cubicBezTo>
                  <a:cubicBezTo>
                    <a:pt x="1074" y="322"/>
                    <a:pt x="1074" y="322"/>
                    <a:pt x="1074" y="322"/>
                  </a:cubicBezTo>
                  <a:cubicBezTo>
                    <a:pt x="1080" y="323"/>
                    <a:pt x="1080" y="323"/>
                    <a:pt x="1080" y="323"/>
                  </a:cubicBezTo>
                  <a:cubicBezTo>
                    <a:pt x="1086" y="323"/>
                    <a:pt x="1086" y="323"/>
                    <a:pt x="1086" y="323"/>
                  </a:cubicBezTo>
                  <a:cubicBezTo>
                    <a:pt x="1091" y="324"/>
                    <a:pt x="1091" y="324"/>
                    <a:pt x="1091" y="324"/>
                  </a:cubicBezTo>
                  <a:cubicBezTo>
                    <a:pt x="1097" y="324"/>
                    <a:pt x="1097" y="324"/>
                    <a:pt x="1097" y="324"/>
                  </a:cubicBezTo>
                  <a:cubicBezTo>
                    <a:pt x="1103" y="324"/>
                    <a:pt x="1103" y="324"/>
                    <a:pt x="1103" y="324"/>
                  </a:cubicBezTo>
                  <a:cubicBezTo>
                    <a:pt x="1108" y="325"/>
                    <a:pt x="1108" y="325"/>
                    <a:pt x="1108" y="325"/>
                  </a:cubicBezTo>
                  <a:cubicBezTo>
                    <a:pt x="1114" y="325"/>
                    <a:pt x="1114" y="325"/>
                    <a:pt x="1114" y="325"/>
                  </a:cubicBezTo>
                  <a:cubicBezTo>
                    <a:pt x="1120" y="326"/>
                    <a:pt x="1120" y="326"/>
                    <a:pt x="1120" y="326"/>
                  </a:cubicBezTo>
                  <a:cubicBezTo>
                    <a:pt x="1125" y="326"/>
                    <a:pt x="1125" y="326"/>
                    <a:pt x="1125" y="326"/>
                  </a:cubicBezTo>
                  <a:cubicBezTo>
                    <a:pt x="1131" y="327"/>
                    <a:pt x="1131" y="327"/>
                    <a:pt x="1131" y="327"/>
                  </a:cubicBezTo>
                  <a:cubicBezTo>
                    <a:pt x="1137" y="327"/>
                    <a:pt x="1137" y="327"/>
                    <a:pt x="1137" y="327"/>
                  </a:cubicBezTo>
                  <a:cubicBezTo>
                    <a:pt x="1143" y="327"/>
                    <a:pt x="1143" y="327"/>
                    <a:pt x="1143" y="327"/>
                  </a:cubicBezTo>
                  <a:cubicBezTo>
                    <a:pt x="1148" y="328"/>
                    <a:pt x="1148" y="328"/>
                    <a:pt x="1148" y="328"/>
                  </a:cubicBezTo>
                  <a:cubicBezTo>
                    <a:pt x="1154" y="328"/>
                    <a:pt x="1154" y="328"/>
                    <a:pt x="1154" y="328"/>
                  </a:cubicBezTo>
                  <a:cubicBezTo>
                    <a:pt x="1160" y="328"/>
                    <a:pt x="1160" y="328"/>
                    <a:pt x="1160" y="328"/>
                  </a:cubicBezTo>
                  <a:cubicBezTo>
                    <a:pt x="1165" y="329"/>
                    <a:pt x="1165" y="329"/>
                    <a:pt x="1165" y="329"/>
                  </a:cubicBezTo>
                  <a:cubicBezTo>
                    <a:pt x="1171" y="329"/>
                    <a:pt x="1171" y="329"/>
                    <a:pt x="1171" y="329"/>
                  </a:cubicBezTo>
                  <a:cubicBezTo>
                    <a:pt x="1177" y="330"/>
                    <a:pt x="1177" y="330"/>
                    <a:pt x="1177" y="330"/>
                  </a:cubicBezTo>
                  <a:cubicBezTo>
                    <a:pt x="1182" y="330"/>
                    <a:pt x="1182" y="330"/>
                    <a:pt x="1182" y="330"/>
                  </a:cubicBezTo>
                  <a:cubicBezTo>
                    <a:pt x="1188" y="330"/>
                    <a:pt x="1188" y="330"/>
                    <a:pt x="1188" y="330"/>
                  </a:cubicBezTo>
                  <a:cubicBezTo>
                    <a:pt x="1194" y="331"/>
                    <a:pt x="1194" y="331"/>
                    <a:pt x="1194" y="331"/>
                  </a:cubicBezTo>
                  <a:cubicBezTo>
                    <a:pt x="1199" y="331"/>
                    <a:pt x="1199" y="331"/>
                    <a:pt x="1199" y="331"/>
                  </a:cubicBezTo>
                  <a:cubicBezTo>
                    <a:pt x="1205" y="331"/>
                    <a:pt x="1205" y="331"/>
                    <a:pt x="1205" y="331"/>
                  </a:cubicBezTo>
                  <a:cubicBezTo>
                    <a:pt x="1211" y="332"/>
                    <a:pt x="1211" y="332"/>
                    <a:pt x="1211" y="332"/>
                  </a:cubicBezTo>
                  <a:cubicBezTo>
                    <a:pt x="1216" y="332"/>
                    <a:pt x="1216" y="332"/>
                    <a:pt x="1216" y="332"/>
                  </a:cubicBezTo>
                  <a:cubicBezTo>
                    <a:pt x="1222" y="333"/>
                    <a:pt x="1222" y="333"/>
                    <a:pt x="1222" y="333"/>
                  </a:cubicBezTo>
                  <a:cubicBezTo>
                    <a:pt x="1228" y="333"/>
                    <a:pt x="1228" y="333"/>
                    <a:pt x="1228" y="333"/>
                  </a:cubicBezTo>
                  <a:cubicBezTo>
                    <a:pt x="1233" y="333"/>
                    <a:pt x="1233" y="333"/>
                    <a:pt x="1233" y="333"/>
                  </a:cubicBezTo>
                  <a:cubicBezTo>
                    <a:pt x="1239" y="334"/>
                    <a:pt x="1239" y="334"/>
                    <a:pt x="1239" y="334"/>
                  </a:cubicBezTo>
                  <a:cubicBezTo>
                    <a:pt x="1245" y="334"/>
                    <a:pt x="1245" y="334"/>
                    <a:pt x="1245" y="334"/>
                  </a:cubicBezTo>
                  <a:cubicBezTo>
                    <a:pt x="1250" y="334"/>
                    <a:pt x="1250" y="334"/>
                    <a:pt x="1250" y="334"/>
                  </a:cubicBezTo>
                  <a:cubicBezTo>
                    <a:pt x="1256" y="335"/>
                    <a:pt x="1256" y="335"/>
                    <a:pt x="1256" y="335"/>
                  </a:cubicBezTo>
                  <a:cubicBezTo>
                    <a:pt x="1262" y="335"/>
                    <a:pt x="1262" y="335"/>
                    <a:pt x="1262" y="335"/>
                  </a:cubicBezTo>
                  <a:cubicBezTo>
                    <a:pt x="1267" y="335"/>
                    <a:pt x="1267" y="335"/>
                    <a:pt x="1267" y="335"/>
                  </a:cubicBezTo>
                  <a:cubicBezTo>
                    <a:pt x="1273" y="335"/>
                    <a:pt x="1273" y="335"/>
                    <a:pt x="1273" y="335"/>
                  </a:cubicBezTo>
                  <a:cubicBezTo>
                    <a:pt x="1279" y="336"/>
                    <a:pt x="1279" y="336"/>
                    <a:pt x="1279" y="336"/>
                  </a:cubicBezTo>
                  <a:cubicBezTo>
                    <a:pt x="1284" y="336"/>
                    <a:pt x="1284" y="336"/>
                    <a:pt x="1284" y="336"/>
                  </a:cubicBezTo>
                  <a:cubicBezTo>
                    <a:pt x="1290" y="336"/>
                    <a:pt x="1290" y="336"/>
                    <a:pt x="1290" y="336"/>
                  </a:cubicBezTo>
                  <a:cubicBezTo>
                    <a:pt x="1296" y="337"/>
                    <a:pt x="1296" y="337"/>
                    <a:pt x="1296" y="337"/>
                  </a:cubicBezTo>
                  <a:cubicBezTo>
                    <a:pt x="1301" y="337"/>
                    <a:pt x="1301" y="337"/>
                    <a:pt x="1301" y="337"/>
                  </a:cubicBezTo>
                  <a:cubicBezTo>
                    <a:pt x="1307" y="337"/>
                    <a:pt x="1307" y="337"/>
                    <a:pt x="1307" y="337"/>
                  </a:cubicBezTo>
                  <a:cubicBezTo>
                    <a:pt x="1313" y="338"/>
                    <a:pt x="1313" y="338"/>
                    <a:pt x="1313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4" y="338"/>
                    <a:pt x="1324" y="338"/>
                    <a:pt x="1324" y="338"/>
                  </a:cubicBezTo>
                  <a:cubicBezTo>
                    <a:pt x="1330" y="338"/>
                    <a:pt x="1330" y="338"/>
                    <a:pt x="1330" y="338"/>
                  </a:cubicBezTo>
                  <a:cubicBezTo>
                    <a:pt x="1335" y="339"/>
                    <a:pt x="1335" y="339"/>
                    <a:pt x="1335" y="339"/>
                  </a:cubicBezTo>
                  <a:cubicBezTo>
                    <a:pt x="1341" y="339"/>
                    <a:pt x="1341" y="339"/>
                    <a:pt x="1341" y="339"/>
                  </a:cubicBezTo>
                  <a:cubicBezTo>
                    <a:pt x="1347" y="339"/>
                    <a:pt x="1347" y="339"/>
                    <a:pt x="1347" y="339"/>
                  </a:cubicBezTo>
                  <a:cubicBezTo>
                    <a:pt x="1352" y="340"/>
                    <a:pt x="1352" y="340"/>
                    <a:pt x="1352" y="340"/>
                  </a:cubicBezTo>
                  <a:cubicBezTo>
                    <a:pt x="1358" y="340"/>
                    <a:pt x="1358" y="340"/>
                    <a:pt x="1358" y="340"/>
                  </a:cubicBezTo>
                  <a:cubicBezTo>
                    <a:pt x="1364" y="340"/>
                    <a:pt x="1364" y="340"/>
                    <a:pt x="1364" y="340"/>
                  </a:cubicBezTo>
                  <a:cubicBezTo>
                    <a:pt x="1369" y="340"/>
                    <a:pt x="1369" y="340"/>
                    <a:pt x="1369" y="340"/>
                  </a:cubicBezTo>
                  <a:cubicBezTo>
                    <a:pt x="1375" y="341"/>
                    <a:pt x="1375" y="341"/>
                    <a:pt x="1375" y="341"/>
                  </a:cubicBezTo>
                  <a:cubicBezTo>
                    <a:pt x="1381" y="341"/>
                    <a:pt x="1381" y="341"/>
                    <a:pt x="1381" y="341"/>
                  </a:cubicBezTo>
                  <a:cubicBezTo>
                    <a:pt x="1386" y="341"/>
                    <a:pt x="1386" y="341"/>
                    <a:pt x="1386" y="341"/>
                  </a:cubicBezTo>
                  <a:cubicBezTo>
                    <a:pt x="1392" y="341"/>
                    <a:pt x="1392" y="341"/>
                    <a:pt x="1392" y="341"/>
                  </a:cubicBezTo>
                  <a:cubicBezTo>
                    <a:pt x="1398" y="342"/>
                    <a:pt x="1398" y="342"/>
                    <a:pt x="1398" y="342"/>
                  </a:cubicBezTo>
                  <a:cubicBezTo>
                    <a:pt x="1403" y="342"/>
                    <a:pt x="1403" y="342"/>
                    <a:pt x="1403" y="342"/>
                  </a:cubicBezTo>
                  <a:cubicBezTo>
                    <a:pt x="1409" y="342"/>
                    <a:pt x="1409" y="342"/>
                    <a:pt x="1409" y="342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125360" y="3087720"/>
              <a:ext cx="2685600" cy="590760"/>
            </a:xfrm>
            <a:custGeom>
              <a:avLst/>
              <a:gdLst/>
              <a:ahLst/>
              <a:rect l="l" t="t" r="r" b="b"/>
              <a:pathLst>
                <a:path w="1409" h="401">
                  <a:moveTo>
                    <a:pt x="0" y="401"/>
                  </a:moveTo>
                  <a:cubicBezTo>
                    <a:pt x="6" y="395"/>
                    <a:pt x="6" y="395"/>
                    <a:pt x="6" y="395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7" y="384"/>
                    <a:pt x="17" y="384"/>
                    <a:pt x="17" y="384"/>
                  </a:cubicBezTo>
                  <a:cubicBezTo>
                    <a:pt x="23" y="378"/>
                    <a:pt x="23" y="378"/>
                    <a:pt x="23" y="378"/>
                  </a:cubicBezTo>
                  <a:cubicBezTo>
                    <a:pt x="28" y="372"/>
                    <a:pt x="28" y="372"/>
                    <a:pt x="28" y="372"/>
                  </a:cubicBezTo>
                  <a:cubicBezTo>
                    <a:pt x="34" y="367"/>
                    <a:pt x="34" y="367"/>
                    <a:pt x="34" y="367"/>
                  </a:cubicBezTo>
                  <a:cubicBezTo>
                    <a:pt x="40" y="361"/>
                    <a:pt x="40" y="361"/>
                    <a:pt x="40" y="361"/>
                  </a:cubicBezTo>
                  <a:cubicBezTo>
                    <a:pt x="45" y="355"/>
                    <a:pt x="45" y="355"/>
                    <a:pt x="45" y="355"/>
                  </a:cubicBezTo>
                  <a:cubicBezTo>
                    <a:pt x="51" y="349"/>
                    <a:pt x="51" y="349"/>
                    <a:pt x="51" y="349"/>
                  </a:cubicBezTo>
                  <a:cubicBezTo>
                    <a:pt x="57" y="343"/>
                    <a:pt x="57" y="343"/>
                    <a:pt x="57" y="343"/>
                  </a:cubicBezTo>
                  <a:cubicBezTo>
                    <a:pt x="62" y="336"/>
                    <a:pt x="62" y="336"/>
                    <a:pt x="62" y="336"/>
                  </a:cubicBezTo>
                  <a:cubicBezTo>
                    <a:pt x="68" y="330"/>
                    <a:pt x="68" y="330"/>
                    <a:pt x="68" y="330"/>
                  </a:cubicBezTo>
                  <a:cubicBezTo>
                    <a:pt x="74" y="323"/>
                    <a:pt x="74" y="323"/>
                    <a:pt x="74" y="323"/>
                  </a:cubicBezTo>
                  <a:cubicBezTo>
                    <a:pt x="79" y="317"/>
                    <a:pt x="79" y="317"/>
                    <a:pt x="79" y="317"/>
                  </a:cubicBezTo>
                  <a:cubicBezTo>
                    <a:pt x="85" y="310"/>
                    <a:pt x="85" y="310"/>
                    <a:pt x="85" y="310"/>
                  </a:cubicBezTo>
                  <a:cubicBezTo>
                    <a:pt x="91" y="303"/>
                    <a:pt x="91" y="303"/>
                    <a:pt x="91" y="303"/>
                  </a:cubicBezTo>
                  <a:cubicBezTo>
                    <a:pt x="96" y="296"/>
                    <a:pt x="96" y="296"/>
                    <a:pt x="96" y="296"/>
                  </a:cubicBezTo>
                  <a:cubicBezTo>
                    <a:pt x="102" y="288"/>
                    <a:pt x="102" y="288"/>
                    <a:pt x="102" y="288"/>
                  </a:cubicBezTo>
                  <a:cubicBezTo>
                    <a:pt x="108" y="281"/>
                    <a:pt x="108" y="281"/>
                    <a:pt x="108" y="281"/>
                  </a:cubicBezTo>
                  <a:cubicBezTo>
                    <a:pt x="113" y="273"/>
                    <a:pt x="113" y="273"/>
                    <a:pt x="113" y="273"/>
                  </a:cubicBezTo>
                  <a:cubicBezTo>
                    <a:pt x="119" y="265"/>
                    <a:pt x="119" y="265"/>
                    <a:pt x="119" y="265"/>
                  </a:cubicBezTo>
                  <a:cubicBezTo>
                    <a:pt x="122" y="261"/>
                    <a:pt x="122" y="261"/>
                    <a:pt x="122" y="261"/>
                  </a:cubicBezTo>
                  <a:cubicBezTo>
                    <a:pt x="128" y="252"/>
                    <a:pt x="128" y="252"/>
                    <a:pt x="128" y="252"/>
                  </a:cubicBezTo>
                  <a:cubicBezTo>
                    <a:pt x="130" y="248"/>
                    <a:pt x="130" y="248"/>
                    <a:pt x="130" y="248"/>
                  </a:cubicBezTo>
                  <a:cubicBezTo>
                    <a:pt x="133" y="244"/>
                    <a:pt x="133" y="244"/>
                    <a:pt x="133" y="244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42" y="230"/>
                    <a:pt x="142" y="230"/>
                    <a:pt x="142" y="230"/>
                  </a:cubicBezTo>
                  <a:cubicBezTo>
                    <a:pt x="145" y="225"/>
                    <a:pt x="145" y="225"/>
                    <a:pt x="145" y="225"/>
                  </a:cubicBezTo>
                  <a:cubicBezTo>
                    <a:pt x="147" y="221"/>
                    <a:pt x="147" y="221"/>
                    <a:pt x="147" y="221"/>
                  </a:cubicBezTo>
                  <a:cubicBezTo>
                    <a:pt x="150" y="216"/>
                    <a:pt x="150" y="216"/>
                    <a:pt x="150" y="216"/>
                  </a:cubicBezTo>
                  <a:cubicBezTo>
                    <a:pt x="156" y="206"/>
                    <a:pt x="156" y="206"/>
                    <a:pt x="156" y="206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4" y="190"/>
                    <a:pt x="164" y="190"/>
                    <a:pt x="164" y="190"/>
                  </a:cubicBezTo>
                  <a:cubicBezTo>
                    <a:pt x="167" y="185"/>
                    <a:pt x="167" y="185"/>
                    <a:pt x="167" y="185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173" y="174"/>
                    <a:pt x="173" y="174"/>
                    <a:pt x="173" y="174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9" y="163"/>
                    <a:pt x="179" y="163"/>
                    <a:pt x="179" y="163"/>
                  </a:cubicBezTo>
                  <a:cubicBezTo>
                    <a:pt x="181" y="157"/>
                    <a:pt x="181" y="157"/>
                    <a:pt x="181" y="157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7" y="146"/>
                    <a:pt x="187" y="146"/>
                    <a:pt x="187" y="146"/>
                  </a:cubicBezTo>
                  <a:cubicBezTo>
                    <a:pt x="190" y="140"/>
                    <a:pt x="190" y="140"/>
                    <a:pt x="190" y="140"/>
                  </a:cubicBezTo>
                  <a:cubicBezTo>
                    <a:pt x="193" y="134"/>
                    <a:pt x="193" y="134"/>
                    <a:pt x="193" y="134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4" y="110"/>
                    <a:pt x="204" y="110"/>
                    <a:pt x="204" y="110"/>
                  </a:cubicBezTo>
                  <a:cubicBezTo>
                    <a:pt x="207" y="104"/>
                    <a:pt x="207" y="104"/>
                    <a:pt x="207" y="104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13" y="92"/>
                    <a:pt x="213" y="92"/>
                    <a:pt x="213" y="92"/>
                  </a:cubicBezTo>
                  <a:cubicBezTo>
                    <a:pt x="215" y="86"/>
                    <a:pt x="215" y="86"/>
                    <a:pt x="215" y="86"/>
                  </a:cubicBezTo>
                  <a:cubicBezTo>
                    <a:pt x="218" y="80"/>
                    <a:pt x="218" y="80"/>
                    <a:pt x="218" y="80"/>
                  </a:cubicBezTo>
                  <a:cubicBezTo>
                    <a:pt x="221" y="74"/>
                    <a:pt x="221" y="74"/>
                    <a:pt x="221" y="74"/>
                  </a:cubicBezTo>
                  <a:cubicBezTo>
                    <a:pt x="224" y="68"/>
                    <a:pt x="224" y="68"/>
                    <a:pt x="224" y="68"/>
                  </a:cubicBezTo>
                  <a:cubicBezTo>
                    <a:pt x="227" y="63"/>
                    <a:pt x="227" y="63"/>
                    <a:pt x="227" y="63"/>
                  </a:cubicBezTo>
                  <a:cubicBezTo>
                    <a:pt x="230" y="57"/>
                    <a:pt x="230" y="57"/>
                    <a:pt x="230" y="57"/>
                  </a:cubicBezTo>
                  <a:cubicBezTo>
                    <a:pt x="232" y="52"/>
                    <a:pt x="232" y="52"/>
                    <a:pt x="232" y="52"/>
                  </a:cubicBezTo>
                  <a:cubicBezTo>
                    <a:pt x="235" y="47"/>
                    <a:pt x="235" y="47"/>
                    <a:pt x="235" y="47"/>
                  </a:cubicBezTo>
                  <a:cubicBezTo>
                    <a:pt x="238" y="42"/>
                    <a:pt x="238" y="42"/>
                    <a:pt x="238" y="42"/>
                  </a:cubicBezTo>
                  <a:cubicBezTo>
                    <a:pt x="241" y="37"/>
                    <a:pt x="241" y="37"/>
                    <a:pt x="241" y="37"/>
                  </a:cubicBezTo>
                  <a:cubicBezTo>
                    <a:pt x="244" y="32"/>
                    <a:pt x="244" y="32"/>
                    <a:pt x="244" y="32"/>
                  </a:cubicBezTo>
                  <a:cubicBezTo>
                    <a:pt x="247" y="28"/>
                    <a:pt x="247" y="28"/>
                    <a:pt x="247" y="28"/>
                  </a:cubicBezTo>
                  <a:cubicBezTo>
                    <a:pt x="252" y="20"/>
                    <a:pt x="252" y="20"/>
                    <a:pt x="252" y="20"/>
                  </a:cubicBezTo>
                  <a:cubicBezTo>
                    <a:pt x="258" y="14"/>
                    <a:pt x="258" y="14"/>
                    <a:pt x="258" y="14"/>
                  </a:cubicBezTo>
                  <a:cubicBezTo>
                    <a:pt x="264" y="8"/>
                    <a:pt x="264" y="8"/>
                    <a:pt x="264" y="8"/>
                  </a:cubicBezTo>
                  <a:cubicBezTo>
                    <a:pt x="269" y="4"/>
                    <a:pt x="269" y="4"/>
                    <a:pt x="269" y="4"/>
                  </a:cubicBezTo>
                  <a:cubicBezTo>
                    <a:pt x="275" y="2"/>
                    <a:pt x="275" y="2"/>
                    <a:pt x="275" y="2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92" y="1"/>
                    <a:pt x="292" y="1"/>
                    <a:pt x="292" y="1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303" y="7"/>
                    <a:pt x="303" y="7"/>
                    <a:pt x="303" y="7"/>
                  </a:cubicBezTo>
                  <a:cubicBezTo>
                    <a:pt x="309" y="12"/>
                    <a:pt x="309" y="12"/>
                    <a:pt x="309" y="12"/>
                  </a:cubicBezTo>
                  <a:cubicBezTo>
                    <a:pt x="315" y="17"/>
                    <a:pt x="315" y="17"/>
                    <a:pt x="315" y="17"/>
                  </a:cubicBezTo>
                  <a:cubicBezTo>
                    <a:pt x="320" y="22"/>
                    <a:pt x="320" y="22"/>
                    <a:pt x="320" y="22"/>
                  </a:cubicBezTo>
                  <a:cubicBezTo>
                    <a:pt x="326" y="28"/>
                    <a:pt x="326" y="28"/>
                    <a:pt x="326" y="28"/>
                  </a:cubicBezTo>
                  <a:cubicBezTo>
                    <a:pt x="332" y="35"/>
                    <a:pt x="332" y="35"/>
                    <a:pt x="332" y="35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43" y="49"/>
                    <a:pt x="343" y="49"/>
                    <a:pt x="343" y="49"/>
                  </a:cubicBezTo>
                  <a:cubicBezTo>
                    <a:pt x="349" y="56"/>
                    <a:pt x="349" y="56"/>
                    <a:pt x="349" y="56"/>
                  </a:cubicBezTo>
                  <a:cubicBezTo>
                    <a:pt x="354" y="63"/>
                    <a:pt x="354" y="63"/>
                    <a:pt x="354" y="63"/>
                  </a:cubicBezTo>
                  <a:cubicBezTo>
                    <a:pt x="360" y="70"/>
                    <a:pt x="360" y="70"/>
                    <a:pt x="360" y="70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71" y="84"/>
                    <a:pt x="371" y="84"/>
                    <a:pt x="371" y="84"/>
                  </a:cubicBezTo>
                  <a:cubicBezTo>
                    <a:pt x="377" y="91"/>
                    <a:pt x="377" y="91"/>
                    <a:pt x="377" y="91"/>
                  </a:cubicBezTo>
                  <a:cubicBezTo>
                    <a:pt x="383" y="97"/>
                    <a:pt x="383" y="97"/>
                    <a:pt x="383" y="97"/>
                  </a:cubicBezTo>
                  <a:cubicBezTo>
                    <a:pt x="388" y="104"/>
                    <a:pt x="388" y="104"/>
                    <a:pt x="388" y="104"/>
                  </a:cubicBezTo>
                  <a:cubicBezTo>
                    <a:pt x="394" y="110"/>
                    <a:pt x="394" y="110"/>
                    <a:pt x="394" y="110"/>
                  </a:cubicBezTo>
                  <a:cubicBezTo>
                    <a:pt x="400" y="116"/>
                    <a:pt x="400" y="116"/>
                    <a:pt x="400" y="116"/>
                  </a:cubicBezTo>
                  <a:cubicBezTo>
                    <a:pt x="405" y="122"/>
                    <a:pt x="405" y="122"/>
                    <a:pt x="405" y="122"/>
                  </a:cubicBezTo>
                  <a:cubicBezTo>
                    <a:pt x="411" y="128"/>
                    <a:pt x="411" y="128"/>
                    <a:pt x="411" y="128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22" y="139"/>
                    <a:pt x="422" y="139"/>
                    <a:pt x="422" y="139"/>
                  </a:cubicBezTo>
                  <a:cubicBezTo>
                    <a:pt x="428" y="144"/>
                    <a:pt x="428" y="144"/>
                    <a:pt x="428" y="144"/>
                  </a:cubicBezTo>
                  <a:cubicBezTo>
                    <a:pt x="434" y="149"/>
                    <a:pt x="434" y="149"/>
                    <a:pt x="434" y="149"/>
                  </a:cubicBezTo>
                  <a:cubicBezTo>
                    <a:pt x="439" y="154"/>
                    <a:pt x="439" y="154"/>
                    <a:pt x="439" y="154"/>
                  </a:cubicBezTo>
                  <a:cubicBezTo>
                    <a:pt x="445" y="159"/>
                    <a:pt x="445" y="159"/>
                    <a:pt x="445" y="159"/>
                  </a:cubicBezTo>
                  <a:cubicBezTo>
                    <a:pt x="451" y="163"/>
                    <a:pt x="451" y="163"/>
                    <a:pt x="451" y="163"/>
                  </a:cubicBezTo>
                  <a:cubicBezTo>
                    <a:pt x="456" y="168"/>
                    <a:pt x="456" y="168"/>
                    <a:pt x="456" y="168"/>
                  </a:cubicBezTo>
                  <a:cubicBezTo>
                    <a:pt x="462" y="172"/>
                    <a:pt x="462" y="172"/>
                    <a:pt x="462" y="172"/>
                  </a:cubicBezTo>
                  <a:cubicBezTo>
                    <a:pt x="468" y="176"/>
                    <a:pt x="468" y="176"/>
                    <a:pt x="468" y="176"/>
                  </a:cubicBezTo>
                  <a:cubicBezTo>
                    <a:pt x="473" y="180"/>
                    <a:pt x="473" y="180"/>
                    <a:pt x="473" y="180"/>
                  </a:cubicBezTo>
                  <a:cubicBezTo>
                    <a:pt x="479" y="184"/>
                    <a:pt x="479" y="184"/>
                    <a:pt x="479" y="184"/>
                  </a:cubicBezTo>
                  <a:cubicBezTo>
                    <a:pt x="485" y="188"/>
                    <a:pt x="485" y="188"/>
                    <a:pt x="485" y="188"/>
                  </a:cubicBezTo>
                  <a:cubicBezTo>
                    <a:pt x="490" y="191"/>
                    <a:pt x="490" y="191"/>
                    <a:pt x="490" y="191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502" y="198"/>
                    <a:pt x="502" y="198"/>
                    <a:pt x="502" y="198"/>
                  </a:cubicBezTo>
                  <a:cubicBezTo>
                    <a:pt x="507" y="201"/>
                    <a:pt x="507" y="201"/>
                    <a:pt x="507" y="201"/>
                  </a:cubicBezTo>
                  <a:cubicBezTo>
                    <a:pt x="513" y="204"/>
                    <a:pt x="513" y="204"/>
                    <a:pt x="513" y="204"/>
                  </a:cubicBezTo>
                  <a:cubicBezTo>
                    <a:pt x="519" y="208"/>
                    <a:pt x="519" y="208"/>
                    <a:pt x="519" y="208"/>
                  </a:cubicBezTo>
                  <a:cubicBezTo>
                    <a:pt x="524" y="210"/>
                    <a:pt x="524" y="210"/>
                    <a:pt x="524" y="210"/>
                  </a:cubicBezTo>
                  <a:cubicBezTo>
                    <a:pt x="530" y="213"/>
                    <a:pt x="530" y="213"/>
                    <a:pt x="530" y="213"/>
                  </a:cubicBezTo>
                  <a:cubicBezTo>
                    <a:pt x="536" y="216"/>
                    <a:pt x="536" y="216"/>
                    <a:pt x="536" y="216"/>
                  </a:cubicBezTo>
                  <a:cubicBezTo>
                    <a:pt x="541" y="219"/>
                    <a:pt x="541" y="219"/>
                    <a:pt x="541" y="219"/>
                  </a:cubicBezTo>
                  <a:cubicBezTo>
                    <a:pt x="547" y="221"/>
                    <a:pt x="547" y="221"/>
                    <a:pt x="547" y="221"/>
                  </a:cubicBezTo>
                  <a:cubicBezTo>
                    <a:pt x="553" y="224"/>
                    <a:pt x="553" y="224"/>
                    <a:pt x="553" y="224"/>
                  </a:cubicBezTo>
                  <a:cubicBezTo>
                    <a:pt x="558" y="226"/>
                    <a:pt x="558" y="226"/>
                    <a:pt x="558" y="226"/>
                  </a:cubicBezTo>
                  <a:cubicBezTo>
                    <a:pt x="564" y="229"/>
                    <a:pt x="564" y="229"/>
                    <a:pt x="564" y="229"/>
                  </a:cubicBezTo>
                  <a:cubicBezTo>
                    <a:pt x="570" y="231"/>
                    <a:pt x="570" y="231"/>
                    <a:pt x="570" y="231"/>
                  </a:cubicBezTo>
                  <a:cubicBezTo>
                    <a:pt x="576" y="233"/>
                    <a:pt x="576" y="233"/>
                    <a:pt x="576" y="233"/>
                  </a:cubicBezTo>
                  <a:cubicBezTo>
                    <a:pt x="581" y="236"/>
                    <a:pt x="581" y="236"/>
                    <a:pt x="581" y="236"/>
                  </a:cubicBezTo>
                  <a:cubicBezTo>
                    <a:pt x="587" y="238"/>
                    <a:pt x="587" y="238"/>
                    <a:pt x="587" y="238"/>
                  </a:cubicBezTo>
                  <a:cubicBezTo>
                    <a:pt x="593" y="240"/>
                    <a:pt x="593" y="240"/>
                    <a:pt x="593" y="240"/>
                  </a:cubicBezTo>
                  <a:cubicBezTo>
                    <a:pt x="598" y="242"/>
                    <a:pt x="598" y="242"/>
                    <a:pt x="598" y="242"/>
                  </a:cubicBezTo>
                  <a:cubicBezTo>
                    <a:pt x="604" y="244"/>
                    <a:pt x="604" y="244"/>
                    <a:pt x="604" y="244"/>
                  </a:cubicBezTo>
                  <a:cubicBezTo>
                    <a:pt x="610" y="246"/>
                    <a:pt x="610" y="246"/>
                    <a:pt x="610" y="246"/>
                  </a:cubicBezTo>
                  <a:cubicBezTo>
                    <a:pt x="615" y="248"/>
                    <a:pt x="615" y="248"/>
                    <a:pt x="615" y="248"/>
                  </a:cubicBezTo>
                  <a:cubicBezTo>
                    <a:pt x="621" y="250"/>
                    <a:pt x="621" y="250"/>
                    <a:pt x="621" y="250"/>
                  </a:cubicBezTo>
                  <a:cubicBezTo>
                    <a:pt x="627" y="251"/>
                    <a:pt x="627" y="251"/>
                    <a:pt x="627" y="251"/>
                  </a:cubicBezTo>
                  <a:cubicBezTo>
                    <a:pt x="632" y="253"/>
                    <a:pt x="632" y="253"/>
                    <a:pt x="632" y="253"/>
                  </a:cubicBezTo>
                  <a:cubicBezTo>
                    <a:pt x="638" y="255"/>
                    <a:pt x="638" y="255"/>
                    <a:pt x="638" y="255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9" y="258"/>
                    <a:pt x="649" y="258"/>
                    <a:pt x="649" y="258"/>
                  </a:cubicBezTo>
                  <a:cubicBezTo>
                    <a:pt x="655" y="260"/>
                    <a:pt x="655" y="260"/>
                    <a:pt x="655" y="260"/>
                  </a:cubicBezTo>
                  <a:cubicBezTo>
                    <a:pt x="661" y="261"/>
                    <a:pt x="661" y="261"/>
                    <a:pt x="661" y="261"/>
                  </a:cubicBezTo>
                  <a:cubicBezTo>
                    <a:pt x="666" y="263"/>
                    <a:pt x="666" y="263"/>
                    <a:pt x="666" y="263"/>
                  </a:cubicBezTo>
                  <a:cubicBezTo>
                    <a:pt x="672" y="264"/>
                    <a:pt x="672" y="264"/>
                    <a:pt x="672" y="264"/>
                  </a:cubicBezTo>
                  <a:cubicBezTo>
                    <a:pt x="678" y="266"/>
                    <a:pt x="678" y="266"/>
                    <a:pt x="678" y="266"/>
                  </a:cubicBezTo>
                  <a:cubicBezTo>
                    <a:pt x="683" y="267"/>
                    <a:pt x="683" y="267"/>
                    <a:pt x="683" y="267"/>
                  </a:cubicBezTo>
                  <a:cubicBezTo>
                    <a:pt x="689" y="268"/>
                    <a:pt x="689" y="268"/>
                    <a:pt x="689" y="268"/>
                  </a:cubicBezTo>
                  <a:cubicBezTo>
                    <a:pt x="695" y="270"/>
                    <a:pt x="695" y="270"/>
                    <a:pt x="695" y="270"/>
                  </a:cubicBezTo>
                  <a:cubicBezTo>
                    <a:pt x="700" y="271"/>
                    <a:pt x="700" y="271"/>
                    <a:pt x="700" y="271"/>
                  </a:cubicBezTo>
                  <a:cubicBezTo>
                    <a:pt x="706" y="272"/>
                    <a:pt x="706" y="272"/>
                    <a:pt x="706" y="272"/>
                  </a:cubicBezTo>
                  <a:cubicBezTo>
                    <a:pt x="712" y="274"/>
                    <a:pt x="712" y="274"/>
                    <a:pt x="712" y="274"/>
                  </a:cubicBezTo>
                  <a:cubicBezTo>
                    <a:pt x="717" y="275"/>
                    <a:pt x="717" y="275"/>
                    <a:pt x="717" y="275"/>
                  </a:cubicBezTo>
                  <a:cubicBezTo>
                    <a:pt x="723" y="276"/>
                    <a:pt x="723" y="276"/>
                    <a:pt x="723" y="276"/>
                  </a:cubicBezTo>
                  <a:cubicBezTo>
                    <a:pt x="729" y="277"/>
                    <a:pt x="729" y="277"/>
                    <a:pt x="729" y="277"/>
                  </a:cubicBezTo>
                  <a:cubicBezTo>
                    <a:pt x="734" y="279"/>
                    <a:pt x="734" y="279"/>
                    <a:pt x="734" y="279"/>
                  </a:cubicBezTo>
                  <a:cubicBezTo>
                    <a:pt x="740" y="280"/>
                    <a:pt x="740" y="280"/>
                    <a:pt x="740" y="280"/>
                  </a:cubicBezTo>
                  <a:cubicBezTo>
                    <a:pt x="746" y="281"/>
                    <a:pt x="746" y="281"/>
                    <a:pt x="746" y="281"/>
                  </a:cubicBezTo>
                  <a:cubicBezTo>
                    <a:pt x="751" y="282"/>
                    <a:pt x="751" y="282"/>
                    <a:pt x="751" y="282"/>
                  </a:cubicBezTo>
                  <a:cubicBezTo>
                    <a:pt x="757" y="283"/>
                    <a:pt x="757" y="283"/>
                    <a:pt x="757" y="283"/>
                  </a:cubicBezTo>
                  <a:cubicBezTo>
                    <a:pt x="763" y="284"/>
                    <a:pt x="763" y="284"/>
                    <a:pt x="763" y="284"/>
                  </a:cubicBezTo>
                  <a:cubicBezTo>
                    <a:pt x="768" y="285"/>
                    <a:pt x="768" y="285"/>
                    <a:pt x="768" y="285"/>
                  </a:cubicBezTo>
                  <a:cubicBezTo>
                    <a:pt x="774" y="286"/>
                    <a:pt x="774" y="286"/>
                    <a:pt x="774" y="286"/>
                  </a:cubicBezTo>
                  <a:cubicBezTo>
                    <a:pt x="780" y="287"/>
                    <a:pt x="780" y="287"/>
                    <a:pt x="780" y="287"/>
                  </a:cubicBezTo>
                  <a:cubicBezTo>
                    <a:pt x="785" y="288"/>
                    <a:pt x="785" y="288"/>
                    <a:pt x="785" y="288"/>
                  </a:cubicBezTo>
                  <a:cubicBezTo>
                    <a:pt x="791" y="289"/>
                    <a:pt x="791" y="289"/>
                    <a:pt x="791" y="289"/>
                  </a:cubicBezTo>
                  <a:cubicBezTo>
                    <a:pt x="797" y="290"/>
                    <a:pt x="797" y="290"/>
                    <a:pt x="797" y="290"/>
                  </a:cubicBezTo>
                  <a:cubicBezTo>
                    <a:pt x="802" y="291"/>
                    <a:pt x="802" y="291"/>
                    <a:pt x="802" y="291"/>
                  </a:cubicBezTo>
                  <a:cubicBezTo>
                    <a:pt x="808" y="292"/>
                    <a:pt x="808" y="292"/>
                    <a:pt x="808" y="292"/>
                  </a:cubicBezTo>
                  <a:cubicBezTo>
                    <a:pt x="814" y="293"/>
                    <a:pt x="814" y="293"/>
                    <a:pt x="814" y="293"/>
                  </a:cubicBezTo>
                  <a:cubicBezTo>
                    <a:pt x="819" y="294"/>
                    <a:pt x="819" y="294"/>
                    <a:pt x="819" y="294"/>
                  </a:cubicBezTo>
                  <a:cubicBezTo>
                    <a:pt x="825" y="295"/>
                    <a:pt x="825" y="295"/>
                    <a:pt x="825" y="295"/>
                  </a:cubicBezTo>
                  <a:cubicBezTo>
                    <a:pt x="831" y="295"/>
                    <a:pt x="831" y="295"/>
                    <a:pt x="831" y="295"/>
                  </a:cubicBezTo>
                  <a:cubicBezTo>
                    <a:pt x="836" y="296"/>
                    <a:pt x="836" y="296"/>
                    <a:pt x="836" y="296"/>
                  </a:cubicBezTo>
                  <a:cubicBezTo>
                    <a:pt x="842" y="297"/>
                    <a:pt x="842" y="297"/>
                    <a:pt x="842" y="297"/>
                  </a:cubicBezTo>
                  <a:cubicBezTo>
                    <a:pt x="848" y="298"/>
                    <a:pt x="848" y="298"/>
                    <a:pt x="848" y="298"/>
                  </a:cubicBezTo>
                  <a:cubicBezTo>
                    <a:pt x="853" y="299"/>
                    <a:pt x="853" y="299"/>
                    <a:pt x="853" y="299"/>
                  </a:cubicBezTo>
                  <a:cubicBezTo>
                    <a:pt x="859" y="299"/>
                    <a:pt x="859" y="299"/>
                    <a:pt x="859" y="299"/>
                  </a:cubicBezTo>
                  <a:cubicBezTo>
                    <a:pt x="865" y="300"/>
                    <a:pt x="865" y="300"/>
                    <a:pt x="865" y="300"/>
                  </a:cubicBezTo>
                  <a:cubicBezTo>
                    <a:pt x="870" y="301"/>
                    <a:pt x="870" y="301"/>
                    <a:pt x="870" y="301"/>
                  </a:cubicBezTo>
                  <a:cubicBezTo>
                    <a:pt x="876" y="302"/>
                    <a:pt x="876" y="302"/>
                    <a:pt x="876" y="302"/>
                  </a:cubicBezTo>
                  <a:cubicBezTo>
                    <a:pt x="882" y="302"/>
                    <a:pt x="882" y="302"/>
                    <a:pt x="882" y="302"/>
                  </a:cubicBezTo>
                  <a:cubicBezTo>
                    <a:pt x="887" y="303"/>
                    <a:pt x="887" y="303"/>
                    <a:pt x="887" y="303"/>
                  </a:cubicBezTo>
                  <a:cubicBezTo>
                    <a:pt x="893" y="304"/>
                    <a:pt x="893" y="304"/>
                    <a:pt x="893" y="304"/>
                  </a:cubicBezTo>
                  <a:cubicBezTo>
                    <a:pt x="899" y="305"/>
                    <a:pt x="899" y="305"/>
                    <a:pt x="899" y="305"/>
                  </a:cubicBezTo>
                  <a:cubicBezTo>
                    <a:pt x="904" y="305"/>
                    <a:pt x="904" y="305"/>
                    <a:pt x="904" y="305"/>
                  </a:cubicBezTo>
                  <a:cubicBezTo>
                    <a:pt x="910" y="306"/>
                    <a:pt x="910" y="306"/>
                    <a:pt x="910" y="306"/>
                  </a:cubicBezTo>
                  <a:cubicBezTo>
                    <a:pt x="916" y="307"/>
                    <a:pt x="916" y="307"/>
                    <a:pt x="916" y="307"/>
                  </a:cubicBezTo>
                  <a:cubicBezTo>
                    <a:pt x="921" y="307"/>
                    <a:pt x="921" y="307"/>
                    <a:pt x="921" y="307"/>
                  </a:cubicBezTo>
                  <a:cubicBezTo>
                    <a:pt x="927" y="308"/>
                    <a:pt x="927" y="308"/>
                    <a:pt x="927" y="308"/>
                  </a:cubicBezTo>
                  <a:cubicBezTo>
                    <a:pt x="933" y="309"/>
                    <a:pt x="933" y="309"/>
                    <a:pt x="933" y="309"/>
                  </a:cubicBezTo>
                  <a:cubicBezTo>
                    <a:pt x="938" y="309"/>
                    <a:pt x="938" y="309"/>
                    <a:pt x="938" y="309"/>
                  </a:cubicBezTo>
                  <a:cubicBezTo>
                    <a:pt x="944" y="310"/>
                    <a:pt x="944" y="310"/>
                    <a:pt x="944" y="310"/>
                  </a:cubicBezTo>
                  <a:cubicBezTo>
                    <a:pt x="950" y="310"/>
                    <a:pt x="950" y="310"/>
                    <a:pt x="950" y="310"/>
                  </a:cubicBezTo>
                  <a:cubicBezTo>
                    <a:pt x="955" y="311"/>
                    <a:pt x="955" y="311"/>
                    <a:pt x="955" y="311"/>
                  </a:cubicBezTo>
                  <a:cubicBezTo>
                    <a:pt x="961" y="312"/>
                    <a:pt x="961" y="312"/>
                    <a:pt x="961" y="312"/>
                  </a:cubicBezTo>
                  <a:cubicBezTo>
                    <a:pt x="967" y="312"/>
                    <a:pt x="967" y="312"/>
                    <a:pt x="967" y="312"/>
                  </a:cubicBezTo>
                  <a:cubicBezTo>
                    <a:pt x="972" y="313"/>
                    <a:pt x="972" y="313"/>
                    <a:pt x="972" y="313"/>
                  </a:cubicBezTo>
                  <a:cubicBezTo>
                    <a:pt x="978" y="313"/>
                    <a:pt x="978" y="313"/>
                    <a:pt x="978" y="313"/>
                  </a:cubicBezTo>
                  <a:cubicBezTo>
                    <a:pt x="984" y="314"/>
                    <a:pt x="984" y="314"/>
                    <a:pt x="984" y="314"/>
                  </a:cubicBezTo>
                  <a:cubicBezTo>
                    <a:pt x="989" y="315"/>
                    <a:pt x="989" y="315"/>
                    <a:pt x="989" y="315"/>
                  </a:cubicBezTo>
                  <a:cubicBezTo>
                    <a:pt x="995" y="315"/>
                    <a:pt x="995" y="315"/>
                    <a:pt x="995" y="315"/>
                  </a:cubicBezTo>
                  <a:cubicBezTo>
                    <a:pt x="1001" y="316"/>
                    <a:pt x="1001" y="316"/>
                    <a:pt x="1001" y="316"/>
                  </a:cubicBezTo>
                  <a:cubicBezTo>
                    <a:pt x="1006" y="316"/>
                    <a:pt x="1006" y="316"/>
                    <a:pt x="1006" y="316"/>
                  </a:cubicBezTo>
                  <a:cubicBezTo>
                    <a:pt x="1012" y="317"/>
                    <a:pt x="1012" y="317"/>
                    <a:pt x="1012" y="317"/>
                  </a:cubicBezTo>
                  <a:cubicBezTo>
                    <a:pt x="1018" y="317"/>
                    <a:pt x="1018" y="317"/>
                    <a:pt x="1018" y="317"/>
                  </a:cubicBezTo>
                  <a:cubicBezTo>
                    <a:pt x="1023" y="318"/>
                    <a:pt x="1023" y="318"/>
                    <a:pt x="1023" y="318"/>
                  </a:cubicBezTo>
                  <a:cubicBezTo>
                    <a:pt x="1029" y="318"/>
                    <a:pt x="1029" y="318"/>
                    <a:pt x="1029" y="318"/>
                  </a:cubicBezTo>
                  <a:cubicBezTo>
                    <a:pt x="1035" y="319"/>
                    <a:pt x="1035" y="319"/>
                    <a:pt x="1035" y="319"/>
                  </a:cubicBezTo>
                  <a:cubicBezTo>
                    <a:pt x="1040" y="319"/>
                    <a:pt x="1040" y="319"/>
                    <a:pt x="1040" y="319"/>
                  </a:cubicBezTo>
                  <a:cubicBezTo>
                    <a:pt x="1046" y="320"/>
                    <a:pt x="1046" y="320"/>
                    <a:pt x="1046" y="320"/>
                  </a:cubicBezTo>
                  <a:cubicBezTo>
                    <a:pt x="1052" y="320"/>
                    <a:pt x="1052" y="320"/>
                    <a:pt x="1052" y="320"/>
                  </a:cubicBezTo>
                  <a:cubicBezTo>
                    <a:pt x="1057" y="321"/>
                    <a:pt x="1057" y="321"/>
                    <a:pt x="1057" y="321"/>
                  </a:cubicBezTo>
                  <a:cubicBezTo>
                    <a:pt x="1063" y="321"/>
                    <a:pt x="1063" y="321"/>
                    <a:pt x="1063" y="321"/>
                  </a:cubicBezTo>
                  <a:cubicBezTo>
                    <a:pt x="1069" y="322"/>
                    <a:pt x="1069" y="322"/>
                    <a:pt x="1069" y="322"/>
                  </a:cubicBezTo>
                  <a:cubicBezTo>
                    <a:pt x="1074" y="322"/>
                    <a:pt x="1074" y="322"/>
                    <a:pt x="1074" y="322"/>
                  </a:cubicBezTo>
                  <a:cubicBezTo>
                    <a:pt x="1080" y="323"/>
                    <a:pt x="1080" y="323"/>
                    <a:pt x="1080" y="323"/>
                  </a:cubicBezTo>
                  <a:cubicBezTo>
                    <a:pt x="1086" y="323"/>
                    <a:pt x="1086" y="323"/>
                    <a:pt x="1086" y="323"/>
                  </a:cubicBezTo>
                  <a:cubicBezTo>
                    <a:pt x="1091" y="324"/>
                    <a:pt x="1091" y="324"/>
                    <a:pt x="1091" y="324"/>
                  </a:cubicBezTo>
                  <a:cubicBezTo>
                    <a:pt x="1097" y="324"/>
                    <a:pt x="1097" y="324"/>
                    <a:pt x="1097" y="324"/>
                  </a:cubicBezTo>
                  <a:cubicBezTo>
                    <a:pt x="1103" y="324"/>
                    <a:pt x="1103" y="324"/>
                    <a:pt x="1103" y="324"/>
                  </a:cubicBezTo>
                  <a:cubicBezTo>
                    <a:pt x="1108" y="325"/>
                    <a:pt x="1108" y="325"/>
                    <a:pt x="1108" y="325"/>
                  </a:cubicBezTo>
                  <a:cubicBezTo>
                    <a:pt x="1114" y="325"/>
                    <a:pt x="1114" y="325"/>
                    <a:pt x="1114" y="325"/>
                  </a:cubicBezTo>
                  <a:cubicBezTo>
                    <a:pt x="1120" y="326"/>
                    <a:pt x="1120" y="326"/>
                    <a:pt x="1120" y="326"/>
                  </a:cubicBezTo>
                  <a:cubicBezTo>
                    <a:pt x="1125" y="326"/>
                    <a:pt x="1125" y="326"/>
                    <a:pt x="1125" y="326"/>
                  </a:cubicBezTo>
                  <a:cubicBezTo>
                    <a:pt x="1131" y="327"/>
                    <a:pt x="1131" y="327"/>
                    <a:pt x="1131" y="327"/>
                  </a:cubicBezTo>
                  <a:cubicBezTo>
                    <a:pt x="1137" y="327"/>
                    <a:pt x="1137" y="327"/>
                    <a:pt x="1137" y="327"/>
                  </a:cubicBezTo>
                  <a:cubicBezTo>
                    <a:pt x="1143" y="327"/>
                    <a:pt x="1143" y="327"/>
                    <a:pt x="1143" y="327"/>
                  </a:cubicBezTo>
                  <a:cubicBezTo>
                    <a:pt x="1148" y="328"/>
                    <a:pt x="1148" y="328"/>
                    <a:pt x="1148" y="328"/>
                  </a:cubicBezTo>
                  <a:cubicBezTo>
                    <a:pt x="1154" y="328"/>
                    <a:pt x="1154" y="328"/>
                    <a:pt x="1154" y="328"/>
                  </a:cubicBezTo>
                  <a:cubicBezTo>
                    <a:pt x="1160" y="328"/>
                    <a:pt x="1160" y="328"/>
                    <a:pt x="1160" y="328"/>
                  </a:cubicBezTo>
                  <a:cubicBezTo>
                    <a:pt x="1165" y="329"/>
                    <a:pt x="1165" y="329"/>
                    <a:pt x="1165" y="329"/>
                  </a:cubicBezTo>
                  <a:cubicBezTo>
                    <a:pt x="1171" y="329"/>
                    <a:pt x="1171" y="329"/>
                    <a:pt x="1171" y="329"/>
                  </a:cubicBezTo>
                  <a:cubicBezTo>
                    <a:pt x="1177" y="330"/>
                    <a:pt x="1177" y="330"/>
                    <a:pt x="1177" y="330"/>
                  </a:cubicBezTo>
                  <a:cubicBezTo>
                    <a:pt x="1182" y="330"/>
                    <a:pt x="1182" y="330"/>
                    <a:pt x="1182" y="330"/>
                  </a:cubicBezTo>
                  <a:cubicBezTo>
                    <a:pt x="1188" y="330"/>
                    <a:pt x="1188" y="330"/>
                    <a:pt x="1188" y="330"/>
                  </a:cubicBezTo>
                  <a:cubicBezTo>
                    <a:pt x="1194" y="331"/>
                    <a:pt x="1194" y="331"/>
                    <a:pt x="1194" y="331"/>
                  </a:cubicBezTo>
                  <a:cubicBezTo>
                    <a:pt x="1199" y="331"/>
                    <a:pt x="1199" y="331"/>
                    <a:pt x="1199" y="331"/>
                  </a:cubicBezTo>
                  <a:cubicBezTo>
                    <a:pt x="1205" y="331"/>
                    <a:pt x="1205" y="331"/>
                    <a:pt x="1205" y="331"/>
                  </a:cubicBezTo>
                  <a:cubicBezTo>
                    <a:pt x="1211" y="332"/>
                    <a:pt x="1211" y="332"/>
                    <a:pt x="1211" y="332"/>
                  </a:cubicBezTo>
                  <a:cubicBezTo>
                    <a:pt x="1216" y="332"/>
                    <a:pt x="1216" y="332"/>
                    <a:pt x="1216" y="332"/>
                  </a:cubicBezTo>
                  <a:cubicBezTo>
                    <a:pt x="1222" y="333"/>
                    <a:pt x="1222" y="333"/>
                    <a:pt x="1222" y="333"/>
                  </a:cubicBezTo>
                  <a:cubicBezTo>
                    <a:pt x="1228" y="333"/>
                    <a:pt x="1228" y="333"/>
                    <a:pt x="1228" y="333"/>
                  </a:cubicBezTo>
                  <a:cubicBezTo>
                    <a:pt x="1233" y="333"/>
                    <a:pt x="1233" y="333"/>
                    <a:pt x="1233" y="333"/>
                  </a:cubicBezTo>
                  <a:cubicBezTo>
                    <a:pt x="1239" y="334"/>
                    <a:pt x="1239" y="334"/>
                    <a:pt x="1239" y="334"/>
                  </a:cubicBezTo>
                  <a:cubicBezTo>
                    <a:pt x="1245" y="334"/>
                    <a:pt x="1245" y="334"/>
                    <a:pt x="1245" y="334"/>
                  </a:cubicBezTo>
                  <a:cubicBezTo>
                    <a:pt x="1250" y="334"/>
                    <a:pt x="1250" y="334"/>
                    <a:pt x="1250" y="334"/>
                  </a:cubicBezTo>
                  <a:cubicBezTo>
                    <a:pt x="1256" y="335"/>
                    <a:pt x="1256" y="335"/>
                    <a:pt x="1256" y="335"/>
                  </a:cubicBezTo>
                  <a:cubicBezTo>
                    <a:pt x="1262" y="335"/>
                    <a:pt x="1262" y="335"/>
                    <a:pt x="1262" y="335"/>
                  </a:cubicBezTo>
                  <a:cubicBezTo>
                    <a:pt x="1267" y="335"/>
                    <a:pt x="1267" y="335"/>
                    <a:pt x="1267" y="335"/>
                  </a:cubicBezTo>
                  <a:cubicBezTo>
                    <a:pt x="1273" y="335"/>
                    <a:pt x="1273" y="335"/>
                    <a:pt x="1273" y="335"/>
                  </a:cubicBezTo>
                  <a:cubicBezTo>
                    <a:pt x="1279" y="336"/>
                    <a:pt x="1279" y="336"/>
                    <a:pt x="1279" y="336"/>
                  </a:cubicBezTo>
                  <a:cubicBezTo>
                    <a:pt x="1284" y="336"/>
                    <a:pt x="1284" y="336"/>
                    <a:pt x="1284" y="336"/>
                  </a:cubicBezTo>
                  <a:cubicBezTo>
                    <a:pt x="1290" y="336"/>
                    <a:pt x="1290" y="336"/>
                    <a:pt x="1290" y="336"/>
                  </a:cubicBezTo>
                  <a:cubicBezTo>
                    <a:pt x="1296" y="337"/>
                    <a:pt x="1296" y="337"/>
                    <a:pt x="1296" y="337"/>
                  </a:cubicBezTo>
                  <a:cubicBezTo>
                    <a:pt x="1301" y="337"/>
                    <a:pt x="1301" y="337"/>
                    <a:pt x="1301" y="337"/>
                  </a:cubicBezTo>
                  <a:cubicBezTo>
                    <a:pt x="1307" y="337"/>
                    <a:pt x="1307" y="337"/>
                    <a:pt x="1307" y="337"/>
                  </a:cubicBezTo>
                  <a:cubicBezTo>
                    <a:pt x="1313" y="338"/>
                    <a:pt x="1313" y="338"/>
                    <a:pt x="1313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4" y="338"/>
                    <a:pt x="1324" y="338"/>
                    <a:pt x="1324" y="338"/>
                  </a:cubicBezTo>
                  <a:cubicBezTo>
                    <a:pt x="1330" y="338"/>
                    <a:pt x="1330" y="338"/>
                    <a:pt x="1330" y="338"/>
                  </a:cubicBezTo>
                  <a:cubicBezTo>
                    <a:pt x="1335" y="339"/>
                    <a:pt x="1335" y="339"/>
                    <a:pt x="1335" y="339"/>
                  </a:cubicBezTo>
                  <a:cubicBezTo>
                    <a:pt x="1341" y="339"/>
                    <a:pt x="1341" y="339"/>
                    <a:pt x="1341" y="339"/>
                  </a:cubicBezTo>
                  <a:cubicBezTo>
                    <a:pt x="1347" y="339"/>
                    <a:pt x="1347" y="339"/>
                    <a:pt x="1347" y="339"/>
                  </a:cubicBezTo>
                  <a:cubicBezTo>
                    <a:pt x="1352" y="340"/>
                    <a:pt x="1352" y="340"/>
                    <a:pt x="1352" y="340"/>
                  </a:cubicBezTo>
                  <a:cubicBezTo>
                    <a:pt x="1358" y="340"/>
                    <a:pt x="1358" y="340"/>
                    <a:pt x="1358" y="340"/>
                  </a:cubicBezTo>
                  <a:cubicBezTo>
                    <a:pt x="1364" y="340"/>
                    <a:pt x="1364" y="340"/>
                    <a:pt x="1364" y="340"/>
                  </a:cubicBezTo>
                  <a:cubicBezTo>
                    <a:pt x="1369" y="340"/>
                    <a:pt x="1369" y="340"/>
                    <a:pt x="1369" y="340"/>
                  </a:cubicBezTo>
                  <a:cubicBezTo>
                    <a:pt x="1375" y="341"/>
                    <a:pt x="1375" y="341"/>
                    <a:pt x="1375" y="341"/>
                  </a:cubicBezTo>
                  <a:cubicBezTo>
                    <a:pt x="1381" y="341"/>
                    <a:pt x="1381" y="341"/>
                    <a:pt x="1381" y="341"/>
                  </a:cubicBezTo>
                  <a:cubicBezTo>
                    <a:pt x="1386" y="341"/>
                    <a:pt x="1386" y="341"/>
                    <a:pt x="1386" y="341"/>
                  </a:cubicBezTo>
                  <a:cubicBezTo>
                    <a:pt x="1392" y="341"/>
                    <a:pt x="1392" y="341"/>
                    <a:pt x="1392" y="341"/>
                  </a:cubicBezTo>
                  <a:cubicBezTo>
                    <a:pt x="1398" y="342"/>
                    <a:pt x="1398" y="342"/>
                    <a:pt x="1398" y="342"/>
                  </a:cubicBezTo>
                  <a:cubicBezTo>
                    <a:pt x="1403" y="342"/>
                    <a:pt x="1403" y="342"/>
                    <a:pt x="1403" y="342"/>
                  </a:cubicBezTo>
                  <a:cubicBezTo>
                    <a:pt x="1409" y="342"/>
                    <a:pt x="1409" y="342"/>
                    <a:pt x="1409" y="342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89120" y="1482840"/>
              <a:ext cx="3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1892160" y="2171880"/>
              <a:ext cx="66312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1884240" y="2843280"/>
              <a:ext cx="6631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64" name=""/>
            <p:cNvGraphicFramePr/>
            <p:nvPr/>
          </p:nvGraphicFramePr>
          <p:xfrm>
            <a:off x="2533320" y="1959120"/>
            <a:ext cx="241200" cy="331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533320" y="1959120"/>
                      <a:ext cx="2412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6" name=""/>
            <p:cNvGraphicFramePr/>
            <p:nvPr/>
          </p:nvGraphicFramePr>
          <p:xfrm>
            <a:off x="2523960" y="2641680"/>
            <a:ext cx="255240" cy="3319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86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523960" y="2641680"/>
                      <a:ext cx="25524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8" name=""/>
            <p:cNvSpPr/>
            <p:nvPr/>
          </p:nvSpPr>
          <p:spPr>
            <a:xfrm flipH="1">
              <a:off x="1882080" y="2489400"/>
              <a:ext cx="66348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69" name=""/>
            <p:cNvGraphicFramePr/>
            <p:nvPr/>
          </p:nvGraphicFramePr>
          <p:xfrm>
            <a:off x="2552400" y="2297160"/>
            <a:ext cx="272880" cy="3319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2552400" y="2297160"/>
                      <a:ext cx="27288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1" name=""/>
            <p:cNvGraphicFramePr/>
            <p:nvPr/>
          </p:nvGraphicFramePr>
          <p:xfrm>
            <a:off x="1557000" y="3678480"/>
            <a:ext cx="323640" cy="3618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872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557000" y="3678480"/>
                      <a:ext cx="32364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3" name=""/>
          <p:cNvSpPr/>
          <p:nvPr/>
        </p:nvSpPr>
        <p:spPr>
          <a:xfrm>
            <a:off x="4888080" y="915840"/>
            <a:ext cx="7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553000" y="770040"/>
          <a:ext cx="2951280" cy="852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553000" y="770040"/>
                    <a:ext cx="2951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>
            <a:hlinkClick r:id="" action="ppaction://hlinkshowjump?jump=previousslide"/>
          </p:cNvPr>
          <p:cNvSpPr/>
          <p:nvPr/>
        </p:nvSpPr>
        <p:spPr>
          <a:xfrm>
            <a:off x="8126280" y="6477120"/>
            <a:ext cx="946440" cy="353880"/>
          </a:xfrm>
          <a:custGeom>
            <a:avLst/>
            <a:gdLst>
              <a:gd name="textAreaLeft" fmla="*/ 22680 w 946440"/>
              <a:gd name="textAreaRight" fmla="*/ 923760 w 94644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32" h="21600">
                <a:moveTo>
                  <a:pt x="0" y="0"/>
                </a:moveTo>
                <a:lnTo>
                  <a:pt x="57732" y="0"/>
                </a:lnTo>
                <a:lnTo>
                  <a:pt x="57732" y="21600"/>
                </a:lnTo>
                <a:lnTo>
                  <a:pt x="0" y="21600"/>
                </a:lnTo>
                <a:close/>
              </a:path>
              <a:path fill="lightenLess" w="57732" h="21600">
                <a:moveTo>
                  <a:pt x="0" y="0"/>
                </a:moveTo>
                <a:lnTo>
                  <a:pt x="57732" y="0"/>
                </a:lnTo>
                <a:lnTo>
                  <a:pt x="56332" y="1400"/>
                </a:lnTo>
                <a:lnTo>
                  <a:pt x="1400" y="1400"/>
                </a:lnTo>
                <a:close/>
              </a:path>
              <a:path fill="darken" w="57732" h="21600">
                <a:moveTo>
                  <a:pt x="57732" y="0"/>
                </a:moveTo>
                <a:lnTo>
                  <a:pt x="57732" y="21600"/>
                </a:lnTo>
                <a:lnTo>
                  <a:pt x="56332" y="20200"/>
                </a:lnTo>
                <a:lnTo>
                  <a:pt x="56332" y="1400"/>
                </a:lnTo>
                <a:close/>
              </a:path>
              <a:path fill="darkenLess" w="57732" h="21600">
                <a:moveTo>
                  <a:pt x="57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32" y="20200"/>
                </a:lnTo>
                <a:close/>
              </a:path>
              <a:path fill="lighten" w="57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32" h="21600">
                <a:moveTo>
                  <a:pt x="21859" y="10800"/>
                </a:moveTo>
                <a:lnTo>
                  <a:pt x="35872" y="3794"/>
                </a:lnTo>
                <a:lnTo>
                  <a:pt x="358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Управляющая кнопка: домой 85">
            <a:hlinkClick r:id="rId2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919080" y="3529080"/>
            <a:ext cx="7918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е запис</a:t>
            </a:r>
            <a:r>
              <a:rPr b="1" i="1" lang="uk-UA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кону Гука. Знак “—”пов’язаний з тим, що сила пружності спрямована до положення рівноваги:  якщо          , то             (на рисунку це відповідатиме напрямку сили пружності ліворуч), а якщо          , то             (на рисунку — праворуч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49160" y="1479600"/>
            <a:ext cx="2664000" cy="1229400"/>
            <a:chOff x="749160" y="1479600"/>
            <a:chExt cx="2664000" cy="1229400"/>
          </a:xfrm>
        </p:grpSpPr>
        <p:grpSp>
          <p:nvGrpSpPr>
            <p:cNvPr id="887" name=""/>
            <p:cNvGrpSpPr/>
            <p:nvPr/>
          </p:nvGrpSpPr>
          <p:grpSpPr>
            <a:xfrm>
              <a:off x="749160" y="1552680"/>
              <a:ext cx="2664000" cy="1156320"/>
              <a:chOff x="749160" y="1552680"/>
              <a:chExt cx="2664000" cy="1156320"/>
            </a:xfrm>
          </p:grpSpPr>
          <p:pic>
            <p:nvPicPr>
              <p:cNvPr id="8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49160" y="1552680"/>
                <a:ext cx="2162160" cy="62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/>
              <p:cNvPicPr/>
              <p:nvPr/>
            </p:nvPicPr>
            <p:blipFill>
              <a:blip r:embed="rId2">
                <a:lum contrast="6000"/>
              </a:blip>
              <a:stretch/>
            </p:blipFill>
            <p:spPr>
              <a:xfrm>
                <a:off x="855360" y="1843200"/>
                <a:ext cx="1148040" cy="1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"/>
              <p:cNvSpPr/>
              <p:nvPr/>
            </p:nvSpPr>
            <p:spPr>
              <a:xfrm>
                <a:off x="2006640" y="1795320"/>
                <a:ext cx="365040" cy="235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1811160" y="2046240"/>
                <a:ext cx="40320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554120" y="202716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30160" y="2371680"/>
                <a:ext cx="172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Comic Sans MS"/>
                  </a:rPr>
                  <a:t>тертя відсутн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419120" y="2055960"/>
                <a:ext cx="3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851200" y="20350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70000" y="1949400"/>
                <a:ext cx="44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7" name=""/>
                <p:cNvSpPr txBox="1"/>
                <p:nvPr/>
              </p:nvSpPr>
              <p:spPr>
                <a:xfrm>
                  <a:off x="1311120" y="1479600"/>
                  <a:ext cx="270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8" name=""/>
                <p:cNvSpPr txBox="1"/>
                <p:nvPr/>
              </p:nvSpPr>
              <p:spPr>
                <a:xfrm>
                  <a:off x="2011320" y="1501920"/>
                  <a:ext cx="3459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9" name=""/>
          <p:cNvSpPr/>
          <p:nvPr/>
        </p:nvSpPr>
        <p:spPr>
          <a:xfrm>
            <a:off x="6759720" y="2673360"/>
            <a:ext cx="371160" cy="198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925800" y="1812960"/>
                <a:ext cx="3048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3875040" y="1808280"/>
            <a:ext cx="1168560" cy="44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4649760" y="1445760"/>
            <a:ext cx="113976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787360" y="141588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6238800" y="3898800"/>
          <a:ext cx="652680" cy="3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38800" y="3898800"/>
                    <a:ext cx="6526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"/>
          <p:cNvGraphicFramePr/>
          <p:nvPr/>
        </p:nvGraphicFramePr>
        <p:xfrm>
          <a:off x="7601040" y="4138560"/>
          <a:ext cx="671400" cy="36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01040" y="4138560"/>
                    <a:ext cx="6714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"/>
          <p:cNvGraphicFramePr/>
          <p:nvPr/>
        </p:nvGraphicFramePr>
        <p:xfrm>
          <a:off x="6694560" y="4154400"/>
          <a:ext cx="539640" cy="279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94560" y="4154400"/>
                    <a:ext cx="539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"/>
          <p:cNvGraphicFramePr/>
          <p:nvPr/>
        </p:nvGraphicFramePr>
        <p:xfrm>
          <a:off x="5359320" y="3925800"/>
          <a:ext cx="554040" cy="277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59320" y="3925800"/>
                    <a:ext cx="554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2" name=""/>
          <p:cNvSpPr/>
          <p:nvPr/>
        </p:nvSpPr>
        <p:spPr>
          <a:xfrm>
            <a:off x="5904000" y="117936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42960" y="4076640"/>
            <a:ext cx="42840" cy="827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46040" y="35352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216480" y="2719440"/>
            <a:ext cx="179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иференціальне рівняння гармонічних колив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530680" y="2000160"/>
            <a:ext cx="1581480" cy="55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286680" y="2556000"/>
            <a:ext cx="35208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603840" y="270684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>
            <a:hlinkClick r:id="rId13" action="ppaction://hlinksldjump"/>
          </p:cNvPr>
          <p:cNvSpPr/>
          <p:nvPr/>
        </p:nvSpPr>
        <p:spPr>
          <a:xfrm>
            <a:off x="812484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474920" y="3840120"/>
            <a:ext cx="54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е</a:t>
            </a:r>
            <a:r>
              <a:rPr b="0" lang="uk-UA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ругий закон Ньютона в проекціях на віс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736560" y="1560600"/>
            <a:ext cx="2664000" cy="1229400"/>
            <a:chOff x="736560" y="1560600"/>
            <a:chExt cx="2664000" cy="1229400"/>
          </a:xfrm>
        </p:grpSpPr>
        <p:grpSp>
          <p:nvGrpSpPr>
            <p:cNvPr id="928" name=""/>
            <p:cNvGrpSpPr/>
            <p:nvPr/>
          </p:nvGrpSpPr>
          <p:grpSpPr>
            <a:xfrm>
              <a:off x="736560" y="1633680"/>
              <a:ext cx="2664000" cy="1156320"/>
              <a:chOff x="736560" y="1633680"/>
              <a:chExt cx="2664000" cy="1156320"/>
            </a:xfrm>
          </p:grpSpPr>
          <p:pic>
            <p:nvPicPr>
              <p:cNvPr id="9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36560" y="1633680"/>
                <a:ext cx="2162160" cy="62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0" name="" descr=""/>
              <p:cNvPicPr/>
              <p:nvPr/>
            </p:nvPicPr>
            <p:blipFill>
              <a:blip r:embed="rId2">
                <a:lum contrast="6000"/>
              </a:blip>
              <a:stretch/>
            </p:blipFill>
            <p:spPr>
              <a:xfrm>
                <a:off x="842760" y="1924200"/>
                <a:ext cx="1148040" cy="1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1" name=""/>
              <p:cNvSpPr/>
              <p:nvPr/>
            </p:nvSpPr>
            <p:spPr>
              <a:xfrm>
                <a:off x="1994040" y="1876320"/>
                <a:ext cx="365040" cy="235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1798560" y="2127240"/>
                <a:ext cx="40320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541520" y="210816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17560" y="2452680"/>
                <a:ext cx="172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Comic Sans MS"/>
                  </a:rPr>
                  <a:t>тертя відсутн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406520" y="2136960"/>
                <a:ext cx="3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838600" y="21160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957400" y="2030400"/>
                <a:ext cx="44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8" name=""/>
                <p:cNvSpPr txBox="1"/>
                <p:nvPr/>
              </p:nvSpPr>
              <p:spPr>
                <a:xfrm>
                  <a:off x="1298520" y="1560600"/>
                  <a:ext cx="270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9" name=""/>
                <p:cNvSpPr txBox="1"/>
                <p:nvPr/>
              </p:nvSpPr>
              <p:spPr>
                <a:xfrm>
                  <a:off x="1998720" y="1582920"/>
                  <a:ext cx="3459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40" name=""/>
          <p:cNvSpPr/>
          <p:nvPr/>
        </p:nvSpPr>
        <p:spPr>
          <a:xfrm>
            <a:off x="1108080" y="4195800"/>
            <a:ext cx="72169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значимо, що тут ми скористалися такою домовленістю: похідну за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часом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значають, ставлячи крапку над відповідною літерою. Якщо ж над літерою стоять дві крапки, то йдеться про другу похідну, тобто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—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роекція прискорення на віс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4546440" y="1566720"/>
                <a:ext cx="3048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4495680" y="2031840"/>
            <a:ext cx="115596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3905280" y="2438280"/>
            <a:ext cx="704880" cy="4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3896640" y="29098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1800360" y="4965840"/>
          <a:ext cx="1203120" cy="36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00360" y="4965840"/>
                    <a:ext cx="12031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7" name=""/>
          <p:cNvSpPr/>
          <p:nvPr/>
        </p:nvSpPr>
        <p:spPr>
          <a:xfrm>
            <a:off x="3425760" y="276372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85880" y="4264200"/>
            <a:ext cx="36360" cy="1054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98320" y="372600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811920" y="2459160"/>
            <a:ext cx="179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иференціальне рівняння гармонічних колив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126120" y="1739880"/>
            <a:ext cx="1581120" cy="55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881760" y="2295360"/>
            <a:ext cx="352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199280" y="244620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Управляющая кнопка: домой 85">
            <a:hlinkClick r:id="rId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>
            <a:hlinkClick r:id="rId7" action="ppaction://hlinksldjump"/>
          </p:cNvPr>
          <p:cNvSpPr/>
          <p:nvPr/>
        </p:nvSpPr>
        <p:spPr>
          <a:xfrm>
            <a:off x="814392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463840" y="1224000"/>
                <a:ext cx="3083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00280" y="3541680"/>
            <a:ext cx="810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яймо отримане рівняння з диференціальним рівнянням гармонічних коливань (                       ). Зрозуміло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806400" y="5078520"/>
            <a:ext cx="769464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иклічна (кругова) частота за своїм фізичним змістом додатна велич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ому варіант                     відкидає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5986440" y="1542960"/>
          <a:ext cx="622440" cy="2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6440" y="1542960"/>
                    <a:ext cx="62244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619520" y="25686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68" name=""/>
          <p:cNvGraphicFramePr/>
          <p:nvPr/>
        </p:nvGraphicFramePr>
        <p:xfrm>
          <a:off x="1576440" y="2530440"/>
          <a:ext cx="615780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6440" y="2530440"/>
                    <a:ext cx="61578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1928880" y="3711600"/>
          <a:ext cx="142704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28880" y="3711600"/>
                    <a:ext cx="14270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3247920" y="4152960"/>
          <a:ext cx="255132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7920" y="4152960"/>
                    <a:ext cx="25513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6588000" y="14065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06600" y="3035160"/>
            <a:ext cx="42840" cy="303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07880" y="25066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078520" y="4081320"/>
            <a:ext cx="560160" cy="925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8" name=""/>
          <p:cNvGraphicFramePr/>
          <p:nvPr/>
        </p:nvGraphicFramePr>
        <p:xfrm>
          <a:off x="2255760" y="5373720"/>
          <a:ext cx="1000080" cy="68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55760" y="5373720"/>
                    <a:ext cx="100008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0" name=""/>
          <p:cNvSpPr/>
          <p:nvPr/>
        </p:nvSpPr>
        <p:spPr>
          <a:xfrm>
            <a:off x="5430960" y="15033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986520" y="1498680"/>
            <a:ext cx="3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>
            <a:hlinkClick r:id="rId12" action="ppaction://hlinksldjump"/>
          </p:cNvPr>
          <p:cNvSpPr/>
          <p:nvPr/>
        </p:nvSpPr>
        <p:spPr>
          <a:xfrm>
            <a:off x="813420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650880" y="5202360"/>
            <a:ext cx="8464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дставивши до лівої частини диференціального рівняння гармонічних коливань вирази для </a:t>
            </a:r>
            <a:r>
              <a:rPr b="0" i="1" lang="uk-UA" sz="20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і    (                                                ),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46200" y="3430440"/>
            <a:ext cx="8555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дставлення до лівої частини диференціального рівняння гармонічних коливань виразів для </a:t>
            </a:r>
            <a:r>
              <a:rPr b="0" i="1" lang="uk-UA" sz="20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і     дає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2208240" y="3746520"/>
          <a:ext cx="20304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3746520"/>
                    <a:ext cx="203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9" name=""/>
          <p:cNvGraphicFramePr/>
          <p:nvPr/>
        </p:nvGraphicFramePr>
        <p:xfrm>
          <a:off x="2441520" y="5481720"/>
          <a:ext cx="285768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1520" y="5481720"/>
                    <a:ext cx="28576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1" name=""/>
          <p:cNvGraphicFramePr/>
          <p:nvPr/>
        </p:nvGraphicFramePr>
        <p:xfrm>
          <a:off x="4181400" y="4976640"/>
          <a:ext cx="2190960" cy="2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81400" y="4976640"/>
                    <a:ext cx="2190960" cy="2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041480" y="2722680"/>
            <a:ext cx="14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ля функц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548240" y="2719440"/>
            <a:ext cx="37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найдемо другу похідну за час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28560" y="4376880"/>
            <a:ext cx="787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що співпадає з правою частиною згаданого рівняння (                        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89040" y="1433520"/>
            <a:ext cx="771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евірте, чи дійсно наведені функції задовольняють отриманому диференціальному рівнянн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87680" y="1144440"/>
          <a:ext cx="2736720" cy="27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87680" y="1144440"/>
                    <a:ext cx="273672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"/>
          <p:cNvGraphicFramePr/>
          <p:nvPr/>
        </p:nvGraphicFramePr>
        <p:xfrm>
          <a:off x="4853160" y="1081080"/>
          <a:ext cx="249372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3160" y="1081080"/>
                    <a:ext cx="24937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9" name=""/>
          <p:cNvSpPr/>
          <p:nvPr/>
        </p:nvSpPr>
        <p:spPr>
          <a:xfrm>
            <a:off x="4357800" y="110952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095480" y="787320"/>
            <a:ext cx="654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в'язок диференціального рівняння                       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2444760" y="2689200"/>
          <a:ext cx="2149560" cy="398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44760" y="2689200"/>
                    <a:ext cx="21495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"/>
          <p:cNvGraphicFramePr/>
          <p:nvPr/>
        </p:nvGraphicFramePr>
        <p:xfrm>
          <a:off x="4910040" y="755640"/>
          <a:ext cx="1306440" cy="34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10040" y="755640"/>
                    <a:ext cx="13064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"/>
          <p:cNvGraphicFramePr/>
          <p:nvPr/>
        </p:nvGraphicFramePr>
        <p:xfrm>
          <a:off x="3079800" y="3051000"/>
          <a:ext cx="2476440" cy="40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79800" y="3051000"/>
                    <a:ext cx="24764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"/>
          <p:cNvGraphicFramePr/>
          <p:nvPr/>
        </p:nvGraphicFramePr>
        <p:xfrm>
          <a:off x="6058080" y="4346640"/>
          <a:ext cx="1503360" cy="344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58080" y="4346640"/>
                    <a:ext cx="150336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"/>
          <p:cNvGraphicFramePr/>
          <p:nvPr/>
        </p:nvGraphicFramePr>
        <p:xfrm>
          <a:off x="1757520" y="3951360"/>
          <a:ext cx="4944960" cy="407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2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57520" y="3951360"/>
                    <a:ext cx="49449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1" name=""/>
          <p:cNvSpPr/>
          <p:nvPr/>
        </p:nvSpPr>
        <p:spPr>
          <a:xfrm>
            <a:off x="804960" y="4951440"/>
            <a:ext cx="36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е саме зробимо і для функц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534960" y="5732640"/>
          <a:ext cx="6702480" cy="326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4960" y="5732640"/>
                    <a:ext cx="670248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"/>
          <p:cNvSpPr/>
          <p:nvPr/>
        </p:nvSpPr>
        <p:spPr>
          <a:xfrm>
            <a:off x="453960" y="3216240"/>
            <a:ext cx="42840" cy="2917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55600" y="268776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165800" y="5764320"/>
            <a:ext cx="19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Що і очікувало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8840" y="14572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"/>
          <p:cNvGraphicFramePr/>
          <p:nvPr/>
        </p:nvGraphicFramePr>
        <p:xfrm>
          <a:off x="2151000" y="5538960"/>
          <a:ext cx="200160" cy="272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151000" y="5538960"/>
                    <a:ext cx="20016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Управляющая кнопка: домой 85">
            <a:hlinkClick r:id="rId2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>
            <a:hlinkClick r:id="rId26" action="ppaction://hlinksldjump"/>
          </p:cNvPr>
          <p:cNvSpPr/>
          <p:nvPr/>
        </p:nvSpPr>
        <p:spPr>
          <a:xfrm>
            <a:off x="8153280" y="62676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000080" y="3568680"/>
            <a:ext cx="7947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 допомогою тригонометричної формули для косинуса суми перепишемо другий варіант запису розв'язку диференціального рівняння у вигляд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030320" y="4621320"/>
            <a:ext cx="775188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а порівняймо його з першим варіант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 вираз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ають співпадати для будь-яких значен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зробимо висновок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3976560" y="5527800"/>
          <a:ext cx="152568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6560" y="5527800"/>
                    <a:ext cx="152568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1" name=""/>
          <p:cNvSpPr/>
          <p:nvPr/>
        </p:nvSpPr>
        <p:spPr>
          <a:xfrm>
            <a:off x="496800" y="1173240"/>
            <a:ext cx="54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в'язок диференціального рівняння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3505320" y="1512720"/>
          <a:ext cx="2877840" cy="2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512720"/>
                    <a:ext cx="287784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3676680" y="2021040"/>
          <a:ext cx="2625840" cy="40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6680" y="2021040"/>
                    <a:ext cx="262584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6" name=""/>
          <p:cNvSpPr/>
          <p:nvPr/>
        </p:nvSpPr>
        <p:spPr>
          <a:xfrm>
            <a:off x="4735440" y="175428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893880" y="2532240"/>
            <a:ext cx="213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8" name=""/>
          <p:cNvGraphicFramePr/>
          <p:nvPr/>
        </p:nvGraphicFramePr>
        <p:xfrm>
          <a:off x="2970360" y="4189320"/>
          <a:ext cx="400500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0360" y="4189320"/>
                    <a:ext cx="4005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"/>
          <p:cNvSpPr/>
          <p:nvPr/>
        </p:nvSpPr>
        <p:spPr>
          <a:xfrm>
            <a:off x="3981600" y="5524560"/>
            <a:ext cx="1404720" cy="395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39640" y="4168800"/>
            <a:ext cx="42840" cy="1703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60360" y="36399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25520" y="24796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rId10" action="ppaction://hlinksldjump"/>
          </p:cNvPr>
          <p:cNvSpPr/>
          <p:nvPr/>
        </p:nvSpPr>
        <p:spPr>
          <a:xfrm>
            <a:off x="812484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3440" y="-144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МОНІЧНІ КОЛ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801800"/>
            <a:ext cx="17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иференціальне рівняння гармонічних колив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7840" y="2801880"/>
            <a:ext cx="54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в'язок диференціального рівняння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76240" y="3246480"/>
          <a:ext cx="2878200" cy="2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3246480"/>
                    <a:ext cx="28782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973160" y="3897360"/>
          <a:ext cx="255600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3160" y="3897360"/>
                    <a:ext cx="2556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882880" y="357336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8000" y="3933720"/>
            <a:ext cx="371520" cy="41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79800" y="3941640"/>
            <a:ext cx="371520" cy="419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79680" y="3884760"/>
            <a:ext cx="10382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114800" y="36763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757680" y="4335480"/>
            <a:ext cx="30168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03400" y="466560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16480" y="365436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8600" y="460044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3514680"/>
            <a:ext cx="976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ф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19520" y="4514760"/>
            <a:ext cx="17953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ф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17440" y="4294080"/>
            <a:ext cx="48564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1000" y="4599000"/>
            <a:ext cx="26715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мпліт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додатна велич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247680" y="5187960"/>
            <a:ext cx="476280" cy="488880"/>
          </a:xfrm>
          <a:custGeom>
            <a:avLst/>
            <a:gdLst>
              <a:gd name="textAreaLeft" fmla="*/ 30600 w 476280"/>
              <a:gd name="textAreaRight" fmla="*/ 445680 w 476280"/>
              <a:gd name="textAreaTop" fmla="*/ 30600 h 488880"/>
              <a:gd name="textAreaBottom" fmla="*/ 458280 h 488880"/>
            </a:gdLst>
            <a:ahLst/>
            <a:rect l="textAreaLeft" t="textAreaTop" r="textAreaRight" b="textAreaBottom"/>
            <a:pathLst>
              <a:path w="21600" h="22171">
                <a:moveTo>
                  <a:pt x="0" y="0"/>
                </a:moveTo>
                <a:lnTo>
                  <a:pt x="21600" y="0"/>
                </a:lnTo>
                <a:lnTo>
                  <a:pt x="21600" y="22171"/>
                </a:lnTo>
                <a:lnTo>
                  <a:pt x="0" y="22171"/>
                </a:lnTo>
                <a:close/>
              </a:path>
              <a:path fill="lightenLess" w="21600" h="221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71">
                <a:moveTo>
                  <a:pt x="21600" y="0"/>
                </a:moveTo>
                <a:lnTo>
                  <a:pt x="21600" y="22171"/>
                </a:lnTo>
                <a:lnTo>
                  <a:pt x="20200" y="20771"/>
                </a:lnTo>
                <a:lnTo>
                  <a:pt x="20200" y="1400"/>
                </a:lnTo>
                <a:close/>
              </a:path>
              <a:path fill="darkenLess" w="21600" h="22171">
                <a:moveTo>
                  <a:pt x="21600" y="22171"/>
                </a:moveTo>
                <a:lnTo>
                  <a:pt x="0" y="22171"/>
                </a:lnTo>
                <a:lnTo>
                  <a:pt x="1400" y="20771"/>
                </a:lnTo>
                <a:lnTo>
                  <a:pt x="20200" y="20771"/>
                </a:lnTo>
                <a:close/>
              </a:path>
              <a:path fill="lighten" w="21600" h="22171">
                <a:moveTo>
                  <a:pt x="0" y="221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71"/>
                </a:lnTo>
                <a:close/>
              </a:path>
              <a:path fill="darken" w="21600" h="22171">
                <a:moveTo>
                  <a:pt x="10800" y="1508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171">
                <a:moveTo>
                  <a:pt x="11905" y="14567"/>
                </a:moveTo>
                <a:lnTo>
                  <a:pt x="11905" y="12609"/>
                </a:lnTo>
                <a:cubicBezTo>
                  <a:pt x="11905" y="11782"/>
                  <a:pt x="12236" y="11085"/>
                  <a:pt x="12837" y="11085"/>
                </a:cubicBezTo>
                <a:cubicBezTo>
                  <a:pt x="13968" y="11085"/>
                  <a:pt x="14865" y="9719"/>
                  <a:pt x="14865" y="8135"/>
                </a:cubicBezTo>
                <a:cubicBezTo>
                  <a:pt x="14865" y="5820"/>
                  <a:pt x="13011" y="4079"/>
                  <a:pt x="10800" y="4079"/>
                </a:cubicBezTo>
                <a:cubicBezTo>
                  <a:pt x="8589" y="4079"/>
                  <a:pt x="6918" y="5820"/>
                  <a:pt x="6918" y="8135"/>
                </a:cubicBezTo>
                <a:lnTo>
                  <a:pt x="8772" y="8135"/>
                </a:lnTo>
                <a:cubicBezTo>
                  <a:pt x="8772" y="6995"/>
                  <a:pt x="9695" y="6107"/>
                  <a:pt x="10800" y="6107"/>
                </a:cubicBezTo>
                <a:cubicBezTo>
                  <a:pt x="11905" y="6107"/>
                  <a:pt x="12837" y="6995"/>
                  <a:pt x="12837" y="8135"/>
                </a:cubicBezTo>
                <a:cubicBezTo>
                  <a:pt x="12837" y="8875"/>
                  <a:pt x="12367" y="9606"/>
                  <a:pt x="11905" y="9606"/>
                </a:cubicBezTo>
                <a:cubicBezTo>
                  <a:pt x="10800" y="9606"/>
                  <a:pt x="9695" y="11085"/>
                  <a:pt x="9695" y="12609"/>
                </a:cubicBezTo>
                <a:lnTo>
                  <a:pt x="9695" y="145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7080" y="5153040"/>
            <a:ext cx="838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евірте, чи дійсно наведені функції задовольняють отриманому диференціаль-ному рівнянн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4160" y="5892840"/>
            <a:ext cx="888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97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990960" y="4748040"/>
                <a:ext cx="12333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;</m:t>
                    </m:r>
                    <m:r>
                      <m:t xml:space="preserve">π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749160" y="963720"/>
            <a:ext cx="2664000" cy="1229400"/>
            <a:chOff x="749160" y="963720"/>
            <a:chExt cx="2664000" cy="1229400"/>
          </a:xfrm>
        </p:grpSpPr>
        <p:grpSp>
          <p:nvGrpSpPr>
            <p:cNvPr id="101" name=""/>
            <p:cNvGrpSpPr/>
            <p:nvPr/>
          </p:nvGrpSpPr>
          <p:grpSpPr>
            <a:xfrm>
              <a:off x="749160" y="1036800"/>
              <a:ext cx="2664000" cy="1156320"/>
              <a:chOff x="749160" y="1036800"/>
              <a:chExt cx="2664000" cy="1156320"/>
            </a:xfrm>
          </p:grpSpPr>
          <p:pic>
            <p:nvPicPr>
              <p:cNvPr id="10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49160" y="1036800"/>
                <a:ext cx="2162160" cy="62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7">
                <a:lum contrast="6000"/>
              </a:blip>
              <a:stretch/>
            </p:blipFill>
            <p:spPr>
              <a:xfrm>
                <a:off x="855360" y="1327320"/>
                <a:ext cx="1148040" cy="1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2006640" y="1279440"/>
                <a:ext cx="365040" cy="2350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1811160" y="1530360"/>
                <a:ext cx="40320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54120" y="151128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0160" y="1855800"/>
                <a:ext cx="172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Comic Sans MS"/>
                  </a:rPr>
                  <a:t>тертя відсутн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19120" y="1540080"/>
                <a:ext cx="3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851200" y="151920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70000" y="1433520"/>
                <a:ext cx="44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1311120" y="963720"/>
                  <a:ext cx="270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2011320" y="986040"/>
                  <a:ext cx="3459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"/>
          <p:cNvSpPr/>
          <p:nvPr/>
        </p:nvSpPr>
        <p:spPr>
          <a:xfrm>
            <a:off x="492120" y="513072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9" action="ppaction://hlinksldjump"/>
          </p:cNvPr>
          <p:cNvSpPr/>
          <p:nvPr/>
        </p:nvSpPr>
        <p:spPr>
          <a:xfrm>
            <a:off x="5330880" y="58611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84960" y="5791320"/>
            <a:ext cx="43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0" action="ppaction://hlinksldjump"/>
          </p:cNvPr>
          <p:cNvSpPr/>
          <p:nvPr/>
        </p:nvSpPr>
        <p:spPr>
          <a:xfrm>
            <a:off x="3502080" y="585144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45000" y="5781600"/>
            <a:ext cx="43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1" action="ppaction://hlinksldjump"/>
          </p:cNvPr>
          <p:cNvSpPr/>
          <p:nvPr/>
        </p:nvSpPr>
        <p:spPr>
          <a:xfrm>
            <a:off x="7178760" y="58705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3760" y="5799240"/>
            <a:ext cx="43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2" action="ppaction://hlinksldjump"/>
          </p:cNvPr>
          <p:cNvSpPr/>
          <p:nvPr/>
        </p:nvSpPr>
        <p:spPr>
          <a:xfrm>
            <a:off x="1574640" y="585612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1440" y="57960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00560" y="1960560"/>
            <a:ext cx="4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653080" y="2019240"/>
          <a:ext cx="552600" cy="24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3080" y="2019240"/>
                    <a:ext cx="5526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4267080" y="1676520"/>
            <a:ext cx="48600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27520" y="1932120"/>
            <a:ext cx="343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248440" y="2266920"/>
            <a:ext cx="42840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30800" y="246384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41920" y="2455920"/>
            <a:ext cx="307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циклічна або кругова част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7280" y="1082520"/>
            <a:ext cx="1581120" cy="55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914400"/>
            <a:ext cx="120024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2840" y="1370160"/>
            <a:ext cx="1200240" cy="43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13600" y="63648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57960" y="657360"/>
            <a:ext cx="790560" cy="25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1638360"/>
            <a:ext cx="352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80440" y="1789200"/>
            <a:ext cx="4104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15" action="ppaction://hlinksldjump"/>
          </p:cNvPr>
          <p:cNvSpPr/>
          <p:nvPr/>
        </p:nvSpPr>
        <p:spPr>
          <a:xfrm>
            <a:off x="6270480" y="35244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13400" y="29052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24240" y="190512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6" action="ppaction://hlinksldjump"/>
          </p:cNvPr>
          <p:cNvSpPr/>
          <p:nvPr/>
        </p:nvSpPr>
        <p:spPr>
          <a:xfrm>
            <a:off x="3692520" y="1731960"/>
            <a:ext cx="511200" cy="488880"/>
          </a:xfrm>
          <a:custGeom>
            <a:avLst/>
            <a:gdLst>
              <a:gd name="textAreaLeft" fmla="*/ 31680 w 511200"/>
              <a:gd name="textAreaRight" fmla="*/ 479520 w 511200"/>
              <a:gd name="textAreaTop" fmla="*/ 31680 h 488880"/>
              <a:gd name="textAreaBottom" fmla="*/ 457200 h 488880"/>
            </a:gdLst>
            <a:ahLst/>
            <a:rect l="textAreaLeft" t="textAreaTop" r="textAreaRight" b="textAreaBottom"/>
            <a:pathLst>
              <a:path w="22585" h="21600">
                <a:moveTo>
                  <a:pt x="0" y="0"/>
                </a:moveTo>
                <a:lnTo>
                  <a:pt x="22585" y="0"/>
                </a:lnTo>
                <a:lnTo>
                  <a:pt x="22585" y="21600"/>
                </a:lnTo>
                <a:lnTo>
                  <a:pt x="0" y="21600"/>
                </a:lnTo>
                <a:close/>
              </a:path>
              <a:path fill="lightenLess" w="22585" h="21600">
                <a:moveTo>
                  <a:pt x="0" y="0"/>
                </a:moveTo>
                <a:lnTo>
                  <a:pt x="22585" y="0"/>
                </a:lnTo>
                <a:lnTo>
                  <a:pt x="21185" y="1400"/>
                </a:lnTo>
                <a:lnTo>
                  <a:pt x="1400" y="1400"/>
                </a:lnTo>
                <a:close/>
              </a:path>
              <a:path fill="darken" w="22585" h="21600">
                <a:moveTo>
                  <a:pt x="22585" y="0"/>
                </a:moveTo>
                <a:lnTo>
                  <a:pt x="22585" y="21600"/>
                </a:lnTo>
                <a:lnTo>
                  <a:pt x="21185" y="20200"/>
                </a:lnTo>
                <a:lnTo>
                  <a:pt x="21185" y="1400"/>
                </a:lnTo>
                <a:close/>
              </a:path>
              <a:path fill="darkenLess" w="22585" h="21600">
                <a:moveTo>
                  <a:pt x="22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5" y="20200"/>
                </a:lnTo>
                <a:close/>
              </a:path>
              <a:path fill="lighten" w="22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5" h="21600">
                <a:moveTo>
                  <a:pt x="112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5" h="21600">
                <a:moveTo>
                  <a:pt x="12398" y="14281"/>
                </a:moveTo>
                <a:lnTo>
                  <a:pt x="12398" y="12323"/>
                </a:lnTo>
                <a:cubicBezTo>
                  <a:pt x="12398" y="11496"/>
                  <a:pt x="12729" y="10800"/>
                  <a:pt x="13329" y="10800"/>
                </a:cubicBezTo>
                <a:cubicBezTo>
                  <a:pt x="14461" y="10800"/>
                  <a:pt x="15357" y="9434"/>
                  <a:pt x="15357" y="7849"/>
                </a:cubicBezTo>
                <a:cubicBezTo>
                  <a:pt x="15357" y="5534"/>
                  <a:pt x="13503" y="3794"/>
                  <a:pt x="11293" y="3794"/>
                </a:cubicBezTo>
                <a:cubicBezTo>
                  <a:pt x="9082" y="3794"/>
                  <a:pt x="7411" y="5534"/>
                  <a:pt x="7411" y="7849"/>
                </a:cubicBezTo>
                <a:lnTo>
                  <a:pt x="9265" y="7849"/>
                </a:lnTo>
                <a:cubicBezTo>
                  <a:pt x="9265" y="6709"/>
                  <a:pt x="10187" y="5821"/>
                  <a:pt x="11293" y="5821"/>
                </a:cubicBezTo>
                <a:cubicBezTo>
                  <a:pt x="12398" y="5821"/>
                  <a:pt x="13329" y="6709"/>
                  <a:pt x="13329" y="7849"/>
                </a:cubicBezTo>
                <a:cubicBezTo>
                  <a:pt x="13329" y="8589"/>
                  <a:pt x="12859" y="9320"/>
                  <a:pt x="12398" y="9320"/>
                </a:cubicBezTo>
                <a:cubicBezTo>
                  <a:pt x="11293" y="9320"/>
                  <a:pt x="10187" y="10800"/>
                  <a:pt x="10187" y="12323"/>
                </a:cubicBezTo>
                <a:lnTo>
                  <a:pt x="1018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95560" y="1671480"/>
            <a:ext cx="3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7" action="ppaction://hlinksldjump"/>
          </p:cNvPr>
          <p:cNvSpPr/>
          <p:nvPr/>
        </p:nvSpPr>
        <p:spPr>
          <a:xfrm>
            <a:off x="6243480" y="184932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51560" y="1785960"/>
            <a:ext cx="29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737240" y="906480"/>
                <a:ext cx="32223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683400" y="3322800"/>
            <a:ext cx="2336760" cy="1371600"/>
            <a:chOff x="6683400" y="3322800"/>
            <a:chExt cx="2336760" cy="1371600"/>
          </a:xfrm>
        </p:grpSpPr>
        <p:sp>
          <p:nvSpPr>
            <p:cNvPr id="148" name=""/>
            <p:cNvSpPr/>
            <p:nvPr/>
          </p:nvSpPr>
          <p:spPr>
            <a:xfrm>
              <a:off x="6683400" y="3322800"/>
              <a:ext cx="233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Період гармонічних коливань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7400880" y="3907080"/>
                  <a:ext cx="96840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" name=""/>
          <p:cNvSpPr/>
          <p:nvPr/>
        </p:nvSpPr>
        <p:spPr>
          <a:xfrm>
            <a:off x="7921800" y="1157400"/>
            <a:ext cx="2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домой 85">
            <a:hlinkClick r:id="rId1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3357720" y="4100400"/>
          <a:ext cx="163980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4100400"/>
                    <a:ext cx="16398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4" name=""/>
          <p:cNvSpPr/>
          <p:nvPr/>
        </p:nvSpPr>
        <p:spPr>
          <a:xfrm>
            <a:off x="484200" y="1225440"/>
            <a:ext cx="54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в'язок диференціального рівняння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5" name=""/>
          <p:cNvGraphicFramePr/>
          <p:nvPr/>
        </p:nvGraphicFramePr>
        <p:xfrm>
          <a:off x="3492360" y="1565280"/>
          <a:ext cx="2878200" cy="2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1565280"/>
                    <a:ext cx="28782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7" name=""/>
          <p:cNvGraphicFramePr/>
          <p:nvPr/>
        </p:nvGraphicFramePr>
        <p:xfrm>
          <a:off x="3665520" y="2073240"/>
          <a:ext cx="26240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65520" y="2073240"/>
                    <a:ext cx="2624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9" name=""/>
          <p:cNvSpPr/>
          <p:nvPr/>
        </p:nvSpPr>
        <p:spPr>
          <a:xfrm>
            <a:off x="4722840" y="180648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958680" y="2430360"/>
            <a:ext cx="215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117440" y="3652920"/>
            <a:ext cx="599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сля відповіді на запитання 1.5 має бути очевидним, щ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346560" y="4103640"/>
            <a:ext cx="1512720" cy="395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38360" y="4054320"/>
            <a:ext cx="4284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58720" y="35258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25600" y="23623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079720" y="4648320"/>
            <a:ext cx="38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ерніть увагу на знак “ —“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Управляющая кнопка: домой 85">
            <a:hlinkClick r:id="rId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>
            <a:hlinkClick r:id="rId8" action="ppaction://hlinksldjump"/>
          </p:cNvPr>
          <p:cNvSpPr/>
          <p:nvPr/>
        </p:nvSpPr>
        <p:spPr>
          <a:xfrm>
            <a:off x="813420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4486320" y="3394080"/>
          <a:ext cx="15732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6320" y="3394080"/>
                    <a:ext cx="15732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"/>
          <p:cNvGraphicFramePr/>
          <p:nvPr/>
        </p:nvGraphicFramePr>
        <p:xfrm>
          <a:off x="2857680" y="3405240"/>
          <a:ext cx="1400040" cy="3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7680" y="3405240"/>
                    <a:ext cx="14000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4" name=""/>
          <p:cNvSpPr/>
          <p:nvPr/>
        </p:nvSpPr>
        <p:spPr>
          <a:xfrm>
            <a:off x="1127160" y="3057480"/>
            <a:ext cx="53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Скористаймося попередніми результатами, а сам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1130400" y="3890880"/>
          <a:ext cx="6813360" cy="84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30400" y="3890880"/>
                    <a:ext cx="681336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8" name=""/>
          <p:cNvSpPr/>
          <p:nvPr/>
        </p:nvSpPr>
        <p:spPr>
          <a:xfrm rot="16200000">
            <a:off x="6885000" y="3789000"/>
            <a:ext cx="392040" cy="1722600"/>
          </a:xfrm>
          <a:custGeom>
            <a:avLst/>
            <a:gdLst>
              <a:gd name="textAreaLeft" fmla="*/ 250560 w 392040"/>
              <a:gd name="textAreaRight" fmla="*/ 392400 w 392040"/>
              <a:gd name="textAreaTop" fmla="*/ 44640 h 1722600"/>
              <a:gd name="textAreaBottom" fmla="*/ 1677960 h 172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122960" y="4869000"/>
            <a:ext cx="0" cy="2314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050240" y="4873680"/>
            <a:ext cx="0" cy="2318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783480" y="513864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cc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058760" y="520848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4" name=""/>
          <p:cNvGraphicFramePr/>
          <p:nvPr/>
        </p:nvGraphicFramePr>
        <p:xfrm>
          <a:off x="1954080" y="5141880"/>
          <a:ext cx="143352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4080" y="5141880"/>
                    <a:ext cx="14335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7" name=""/>
          <p:cNvGraphicFramePr/>
          <p:nvPr/>
        </p:nvGraphicFramePr>
        <p:xfrm>
          <a:off x="4889520" y="5081760"/>
          <a:ext cx="1816200" cy="49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89520" y="5081760"/>
                    <a:ext cx="18162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9" name=""/>
          <p:cNvSpPr/>
          <p:nvPr/>
        </p:nvSpPr>
        <p:spPr>
          <a:xfrm>
            <a:off x="741240" y="2217600"/>
            <a:ext cx="13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43040" y="905040"/>
            <a:ext cx="54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в'язок диференціального рівняння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2808360" y="1349280"/>
          <a:ext cx="2878200" cy="28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08360" y="1349280"/>
                    <a:ext cx="28782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3" name=""/>
          <p:cNvGraphicFramePr/>
          <p:nvPr/>
        </p:nvGraphicFramePr>
        <p:xfrm>
          <a:off x="2979720" y="1828800"/>
          <a:ext cx="262584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9720" y="1828800"/>
                    <a:ext cx="2625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5" name=""/>
          <p:cNvSpPr/>
          <p:nvPr/>
        </p:nvSpPr>
        <p:spPr>
          <a:xfrm>
            <a:off x="4038480" y="159084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1725480" y="2262240"/>
          <a:ext cx="1016280" cy="36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25480" y="2262240"/>
                    <a:ext cx="1016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8" name=""/>
          <p:cNvSpPr/>
          <p:nvPr/>
        </p:nvSpPr>
        <p:spPr>
          <a:xfrm>
            <a:off x="3403440" y="5019840"/>
            <a:ext cx="144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таточно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176960" y="4884840"/>
            <a:ext cx="197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cc"/>
                </a:solidFill>
                <a:latin typeface="Comic Sans MS"/>
              </a:rPr>
              <a:t>за основною тригонометричною тотожніст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871880" y="5079960"/>
            <a:ext cx="1710000" cy="522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39640" y="3645000"/>
            <a:ext cx="42840" cy="2709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60360" y="31161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973080" y="5827680"/>
            <a:ext cx="74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аріант                             відкидається, оскільки амплітуда є додатною величиною за означенн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2079720" y="5735520"/>
          <a:ext cx="1611360" cy="438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79720" y="5735520"/>
                    <a:ext cx="16113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6" name=""/>
          <p:cNvSpPr/>
          <p:nvPr/>
        </p:nvSpPr>
        <p:spPr>
          <a:xfrm>
            <a:off x="298440" y="21877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Управляющая кнопка: домой 85">
            <a:hlinkClick r:id="rId1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>
            <a:hlinkClick r:id="rId20" action="ppaction://hlinksldjump"/>
          </p:cNvPr>
          <p:cNvSpPr/>
          <p:nvPr/>
        </p:nvSpPr>
        <p:spPr>
          <a:xfrm>
            <a:off x="8134200" y="62676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5149800" y="3692520"/>
          <a:ext cx="27226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9800" y="3692520"/>
                    <a:ext cx="27226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844560" y="3735360"/>
            <a:ext cx="75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Користуючись попередніми результат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1652760" y="4478400"/>
                <a:ext cx="41558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5888160" y="4448160"/>
          <a:ext cx="151452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8160" y="4448160"/>
                    <a:ext cx="15145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262080" y="1208160"/>
            <a:ext cx="54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в'язок диференціального рівняння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0" name=""/>
          <p:cNvGraphicFramePr/>
          <p:nvPr/>
        </p:nvGraphicFramePr>
        <p:xfrm>
          <a:off x="2955960" y="1690560"/>
          <a:ext cx="287820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55960" y="1690560"/>
                    <a:ext cx="28782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2" name=""/>
          <p:cNvGraphicFramePr/>
          <p:nvPr/>
        </p:nvGraphicFramePr>
        <p:xfrm>
          <a:off x="3129120" y="2198520"/>
          <a:ext cx="262404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9120" y="2198520"/>
                    <a:ext cx="2624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4" name=""/>
          <p:cNvSpPr/>
          <p:nvPr/>
        </p:nvSpPr>
        <p:spPr>
          <a:xfrm>
            <a:off x="4186080" y="1932120"/>
            <a:ext cx="6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84080" y="2678040"/>
            <a:ext cx="12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664080" y="4060800"/>
            <a:ext cx="17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7" name=""/>
          <p:cNvGraphicFramePr/>
          <p:nvPr/>
        </p:nvGraphicFramePr>
        <p:xfrm>
          <a:off x="1770120" y="2651040"/>
          <a:ext cx="150480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70120" y="2651040"/>
                    <a:ext cx="15048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9" name=""/>
          <p:cNvSpPr/>
          <p:nvPr/>
        </p:nvSpPr>
        <p:spPr>
          <a:xfrm>
            <a:off x="5859360" y="4478400"/>
            <a:ext cx="1405080" cy="779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39640" y="4206960"/>
            <a:ext cx="42840" cy="1092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60360" y="36781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57120" y="25653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>
            <a:hlinkClick r:id="rId12" action="ppaction://hlinksldjump"/>
          </p:cNvPr>
          <p:cNvSpPr/>
          <p:nvPr/>
        </p:nvSpPr>
        <p:spPr>
          <a:xfrm>
            <a:off x="811548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1270080" y="4019400"/>
            <a:ext cx="695484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дставивши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uk-UA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у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вираз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атиме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6" name=""/>
          <p:cNvGraphicFramePr/>
          <p:nvPr/>
        </p:nvGraphicFramePr>
        <p:xfrm>
          <a:off x="4025880" y="4000680"/>
          <a:ext cx="31892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5880" y="4000680"/>
                    <a:ext cx="31892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3705120" y="4619520"/>
          <a:ext cx="1525680" cy="4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5120" y="4619520"/>
                    <a:ext cx="1525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0" name=""/>
          <p:cNvGrpSpPr/>
          <p:nvPr/>
        </p:nvGrpSpPr>
        <p:grpSpPr>
          <a:xfrm>
            <a:off x="725400" y="1542960"/>
            <a:ext cx="6645240" cy="1184760"/>
            <a:chOff x="725400" y="1542960"/>
            <a:chExt cx="6645240" cy="1184760"/>
          </a:xfrm>
        </p:grpSpPr>
        <p:pic>
          <p:nvPicPr>
            <p:cNvPr id="1151" name="" descr=""/>
            <p:cNvPicPr/>
            <p:nvPr/>
          </p:nvPicPr>
          <p:blipFill>
            <a:blip r:embed="rId5"/>
            <a:stretch/>
          </p:blipFill>
          <p:spPr>
            <a:xfrm>
              <a:off x="725400" y="1704600"/>
              <a:ext cx="216216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6">
              <a:lum contrast="6000"/>
            </a:blip>
            <a:stretch/>
          </p:blipFill>
          <p:spPr>
            <a:xfrm>
              <a:off x="831960" y="1995120"/>
              <a:ext cx="114768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3" name=""/>
            <p:cNvSpPr/>
            <p:nvPr/>
          </p:nvSpPr>
          <p:spPr>
            <a:xfrm>
              <a:off x="1982880" y="1947600"/>
              <a:ext cx="365040" cy="235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190600" y="2198520"/>
              <a:ext cx="23508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530360" y="2179440"/>
              <a:ext cx="0" cy="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359080" y="239040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ертя відсутн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395360" y="2207880"/>
              <a:ext cx="3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827440" y="21873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946240" y="2101680"/>
              <a:ext cx="44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0" name=""/>
            <p:cNvGraphicFramePr/>
            <p:nvPr/>
          </p:nvGraphicFramePr>
          <p:xfrm>
            <a:off x="4676760" y="1725480"/>
            <a:ext cx="2693880" cy="414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676760" y="1725480"/>
                      <a:ext cx="26938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2" name=""/>
            <p:cNvGraphicFramePr/>
            <p:nvPr/>
          </p:nvGraphicFramePr>
          <p:xfrm>
            <a:off x="2236680" y="1542960"/>
            <a:ext cx="873360" cy="288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6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36680" y="1542960"/>
                      <a:ext cx="87336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4" name=""/>
          <p:cNvSpPr/>
          <p:nvPr/>
        </p:nvSpPr>
        <p:spPr>
          <a:xfrm>
            <a:off x="1992240" y="5968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177920" y="3105000"/>
            <a:ext cx="32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координата тіла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300560" y="29973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530600" y="4640400"/>
            <a:ext cx="54144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844560" y="4416480"/>
            <a:ext cx="42840" cy="7002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65280" y="388764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118040" y="218448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>
            <a:hlinkClick r:id="rId13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1044720" y="4000680"/>
            <a:ext cx="778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гадуючи відповідь на запитання 1.7                               легко збагнут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879480" y="1595520"/>
            <a:ext cx="2162160" cy="62856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85680" y="1886040"/>
            <a:ext cx="1148040" cy="18576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2136600" y="1838160"/>
            <a:ext cx="365400" cy="23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344680" y="2089080"/>
            <a:ext cx="235080" cy="3492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684440" y="2070000"/>
            <a:ext cx="0" cy="7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513160" y="22813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ертя відсутн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549440" y="2098800"/>
            <a:ext cx="3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81160" y="2077920"/>
            <a:ext cx="4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100320" y="1992240"/>
            <a:ext cx="4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3" name=""/>
          <p:cNvGraphicFramePr/>
          <p:nvPr/>
        </p:nvGraphicFramePr>
        <p:xfrm>
          <a:off x="4830840" y="1616040"/>
          <a:ext cx="2693880" cy="41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30840" y="1616040"/>
                    <a:ext cx="2693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5" name=""/>
          <p:cNvGraphicFramePr/>
          <p:nvPr/>
        </p:nvGraphicFramePr>
        <p:xfrm>
          <a:off x="2390760" y="1433520"/>
          <a:ext cx="873000" cy="289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90760" y="1433520"/>
                    <a:ext cx="8730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7" name=""/>
          <p:cNvSpPr/>
          <p:nvPr/>
        </p:nvSpPr>
        <p:spPr>
          <a:xfrm>
            <a:off x="2398680" y="520560"/>
            <a:ext cx="474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8" name=""/>
          <p:cNvGraphicFramePr/>
          <p:nvPr/>
        </p:nvGraphicFramePr>
        <p:xfrm>
          <a:off x="6980400" y="4408560"/>
          <a:ext cx="1849320" cy="415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980400" y="4408560"/>
                    <a:ext cx="18493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0" name=""/>
          <p:cNvSpPr/>
          <p:nvPr/>
        </p:nvSpPr>
        <p:spPr>
          <a:xfrm>
            <a:off x="2882880" y="300204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1" name=""/>
          <p:cNvGraphicFramePr/>
          <p:nvPr/>
        </p:nvGraphicFramePr>
        <p:xfrm>
          <a:off x="4829040" y="3941640"/>
          <a:ext cx="172116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29040" y="3941640"/>
                    <a:ext cx="1721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3" name=""/>
          <p:cNvSpPr/>
          <p:nvPr/>
        </p:nvSpPr>
        <p:spPr>
          <a:xfrm>
            <a:off x="1504800" y="299736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мплітуда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898560" y="442260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що амплітуда коливань дорівнює  2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м ,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бо у даному випад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15960" y="4349880"/>
            <a:ext cx="42840" cy="690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36680" y="382104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265640" y="2017800"/>
            <a:ext cx="41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389480" y="4414680"/>
            <a:ext cx="37476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>
            <a:hlinkClick r:id="rId13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1" name=""/>
          <p:cNvGraphicFramePr/>
          <p:nvPr/>
        </p:nvGraphicFramePr>
        <p:xfrm>
          <a:off x="2290680" y="3135240"/>
          <a:ext cx="1371600" cy="4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3135240"/>
                    <a:ext cx="13716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3" name=""/>
          <p:cNvGraphicFramePr/>
          <p:nvPr/>
        </p:nvGraphicFramePr>
        <p:xfrm>
          <a:off x="3882960" y="3040200"/>
          <a:ext cx="1697040" cy="59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2960" y="3040200"/>
                    <a:ext cx="169704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5" name=""/>
          <p:cNvGraphicFramePr/>
          <p:nvPr/>
        </p:nvGraphicFramePr>
        <p:xfrm>
          <a:off x="3489480" y="3427560"/>
          <a:ext cx="1052280" cy="63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89480" y="3427560"/>
                    <a:ext cx="105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7" name="" descr=""/>
          <p:cNvPicPr/>
          <p:nvPr/>
        </p:nvPicPr>
        <p:blipFill>
          <a:blip r:embed="rId7"/>
          <a:stretch/>
        </p:blipFill>
        <p:spPr>
          <a:xfrm>
            <a:off x="749160" y="1150920"/>
            <a:ext cx="2162160" cy="62856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8">
            <a:lum contrast="6000"/>
          </a:blip>
          <a:stretch/>
        </p:blipFill>
        <p:spPr>
          <a:xfrm>
            <a:off x="855720" y="1441440"/>
            <a:ext cx="1147680" cy="185760"/>
          </a:xfrm>
          <a:prstGeom prst="rect">
            <a:avLst/>
          </a:prstGeom>
          <a:ln w="0">
            <a:noFill/>
          </a:ln>
        </p:spPr>
      </p:pic>
      <p:sp>
        <p:nvSpPr>
          <p:cNvPr id="1209" name=""/>
          <p:cNvSpPr/>
          <p:nvPr/>
        </p:nvSpPr>
        <p:spPr>
          <a:xfrm>
            <a:off x="2006640" y="1393920"/>
            <a:ext cx="365040" cy="234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214720" y="1644480"/>
            <a:ext cx="234720" cy="34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554120" y="1625760"/>
            <a:ext cx="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382840" y="1836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ертя відсутн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419120" y="1654200"/>
            <a:ext cx="3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851200" y="163368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970360" y="154764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6" name=""/>
          <p:cNvGraphicFramePr/>
          <p:nvPr/>
        </p:nvGraphicFramePr>
        <p:xfrm>
          <a:off x="4700520" y="1171440"/>
          <a:ext cx="2693880" cy="414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00520" y="1171440"/>
                    <a:ext cx="2693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8" name=""/>
          <p:cNvGraphicFramePr/>
          <p:nvPr/>
        </p:nvGraphicFramePr>
        <p:xfrm>
          <a:off x="2260440" y="988920"/>
          <a:ext cx="873360" cy="289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1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60440" y="988920"/>
                    <a:ext cx="87336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0" name=""/>
          <p:cNvSpPr/>
          <p:nvPr/>
        </p:nvSpPr>
        <p:spPr>
          <a:xfrm>
            <a:off x="1123920" y="247824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фаза коливань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627280" y="304920"/>
            <a:ext cx="44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78360" y="24084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92400" y="3181320"/>
            <a:ext cx="108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Оскіль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598920" y="316692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524560" y="3176640"/>
            <a:ext cx="344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(див. відповідь на запитання 1.8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98560" y="3576600"/>
            <a:ext cx="31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чаткова фаза колива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87520" y="4336920"/>
            <a:ext cx="719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Можна і безпосередньо зробити відповідні перетворення виразу для </a:t>
            </a:r>
            <a:r>
              <a:rPr b="0" i="1" lang="uk-UA" sz="1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1432080" y="4762440"/>
          <a:ext cx="7108560" cy="830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32080" y="4762440"/>
                    <a:ext cx="71085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0" name=""/>
          <p:cNvSpPr/>
          <p:nvPr/>
        </p:nvSpPr>
        <p:spPr>
          <a:xfrm>
            <a:off x="4265640" y="4808520"/>
            <a:ext cx="2905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435640" y="4737240"/>
            <a:ext cx="414360" cy="82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4129200" y="5808600"/>
          <a:ext cx="622080" cy="622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3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29200" y="5808600"/>
                    <a:ext cx="6220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6" name=""/>
          <p:cNvGraphicFramePr/>
          <p:nvPr/>
        </p:nvGraphicFramePr>
        <p:xfrm>
          <a:off x="5442120" y="5781600"/>
          <a:ext cx="583920" cy="614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3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442120" y="5781600"/>
                    <a:ext cx="5839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8" name="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4390920" y="5665320"/>
            <a:ext cx="63360" cy="195480"/>
            <a:chOff x="4390920" y="5665320"/>
            <a:chExt cx="63360" cy="195480"/>
          </a:xfrm>
        </p:grpSpPr>
        <p:sp>
          <p:nvSpPr>
            <p:cNvPr id="1240" name=""/>
            <p:cNvSpPr/>
            <p:nvPr/>
          </p:nvSpPr>
          <p:spPr>
            <a:xfrm flipV="1">
              <a:off x="4390920" y="5668560"/>
              <a:ext cx="0" cy="192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4454280" y="5665320"/>
              <a:ext cx="0" cy="192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610240" y="5614560"/>
            <a:ext cx="63360" cy="195480"/>
            <a:chOff x="5610240" y="5614560"/>
            <a:chExt cx="63360" cy="195480"/>
          </a:xfrm>
        </p:grpSpPr>
        <p:sp>
          <p:nvSpPr>
            <p:cNvPr id="1243" name=""/>
            <p:cNvSpPr/>
            <p:nvPr/>
          </p:nvSpPr>
          <p:spPr>
            <a:xfrm flipV="1">
              <a:off x="5610240" y="5617800"/>
              <a:ext cx="0" cy="192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673600" y="5614560"/>
              <a:ext cx="0" cy="192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539640" y="3692520"/>
            <a:ext cx="42840" cy="2647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60360" y="316404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135320" y="165420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960720" y="3502080"/>
            <a:ext cx="463680" cy="541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Управляющая кнопка: домой 85">
            <a:hlinkClick r:id="rId20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rId21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1003320" y="3363840"/>
            <a:ext cx="74167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ідомо, що швидкість — це перша похідна від координати за часом. Тож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чаткова швидкість ті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2587680" y="4056120"/>
            <a:ext cx="4228560" cy="426600"/>
            <a:chOff x="2587680" y="4056120"/>
            <a:chExt cx="4228560" cy="426600"/>
          </a:xfrm>
        </p:grpSpPr>
        <mc:AlternateContent>
          <mc:Choice xmlns:a14="http://schemas.microsoft.com/office/drawing/2010/main" Requires="a14">
            <p:sp>
              <p:nvSpPr>
                <p:cNvPr id="1253" name=""/>
                <p:cNvSpPr txBox="1"/>
                <p:nvPr/>
              </p:nvSpPr>
              <p:spPr>
                <a:xfrm>
                  <a:off x="2587680" y="4147920"/>
                  <a:ext cx="6699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υ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4" name=""/>
                <p:cNvSpPr txBox="1"/>
                <p:nvPr/>
              </p:nvSpPr>
              <p:spPr>
                <a:xfrm>
                  <a:off x="3264480" y="4056120"/>
                  <a:ext cx="3551760" cy="41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55" name=""/>
          <p:cNvGraphicFramePr/>
          <p:nvPr/>
        </p:nvGraphicFramePr>
        <p:xfrm>
          <a:off x="3743280" y="4540320"/>
          <a:ext cx="37213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4540320"/>
                    <a:ext cx="37213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7" name=""/>
          <p:cNvGrpSpPr/>
          <p:nvPr/>
        </p:nvGrpSpPr>
        <p:grpSpPr>
          <a:xfrm>
            <a:off x="771480" y="1204920"/>
            <a:ext cx="6645240" cy="1184760"/>
            <a:chOff x="771480" y="1204920"/>
            <a:chExt cx="6645240" cy="1184760"/>
          </a:xfrm>
        </p:grpSpPr>
        <p:pic>
          <p:nvPicPr>
            <p:cNvPr id="1258" name="" descr=""/>
            <p:cNvPicPr/>
            <p:nvPr/>
          </p:nvPicPr>
          <p:blipFill>
            <a:blip r:embed="rId3"/>
            <a:stretch/>
          </p:blipFill>
          <p:spPr>
            <a:xfrm>
              <a:off x="771480" y="1366560"/>
              <a:ext cx="216216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" descr=""/>
            <p:cNvPicPr/>
            <p:nvPr/>
          </p:nvPicPr>
          <p:blipFill>
            <a:blip r:embed="rId4">
              <a:lum contrast="6000"/>
            </a:blip>
            <a:stretch/>
          </p:blipFill>
          <p:spPr>
            <a:xfrm>
              <a:off x="878040" y="1657080"/>
              <a:ext cx="114768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"/>
            <p:cNvSpPr/>
            <p:nvPr/>
          </p:nvSpPr>
          <p:spPr>
            <a:xfrm>
              <a:off x="2028960" y="1609560"/>
              <a:ext cx="365040" cy="235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236680" y="1860480"/>
              <a:ext cx="23508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576440" y="1841400"/>
              <a:ext cx="0" cy="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405160" y="205236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ертя відсутн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41440" y="1869840"/>
              <a:ext cx="3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873520" y="184932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992320" y="1763640"/>
              <a:ext cx="44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7" name=""/>
            <p:cNvGraphicFramePr/>
            <p:nvPr/>
          </p:nvGraphicFramePr>
          <p:xfrm>
            <a:off x="4722840" y="1387440"/>
            <a:ext cx="2693880" cy="414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722840" y="1387440"/>
                      <a:ext cx="26938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9" name=""/>
            <p:cNvGraphicFramePr/>
            <p:nvPr/>
          </p:nvGraphicFramePr>
          <p:xfrm>
            <a:off x="2282760" y="1204920"/>
            <a:ext cx="873360" cy="28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282760" y="1204920"/>
                      <a:ext cx="87336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71" name=""/>
          <p:cNvSpPr/>
          <p:nvPr/>
        </p:nvSpPr>
        <p:spPr>
          <a:xfrm>
            <a:off x="1300320" y="2755800"/>
            <a:ext cx="29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швидкість тіла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297160" y="546120"/>
            <a:ext cx="50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141800" y="26812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699080" y="4551480"/>
            <a:ext cx="2585880" cy="650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73200" y="4178160"/>
            <a:ext cx="4284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93560" y="36496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229280" y="184140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Управляющая кнопка: домой 85">
            <a:hlinkClick r:id="rId10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>
            <a:hlinkClick r:id="rId11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1782720" y="2833560"/>
            <a:ext cx="28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іод коливань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1515960" y="3735360"/>
            <a:ext cx="5978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еріод гармонічних коливань дорівнює: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У даному випадку                      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5697360" y="3598920"/>
            <a:ext cx="895320" cy="628560"/>
            <a:chOff x="5697360" y="3598920"/>
            <a:chExt cx="895320" cy="628560"/>
          </a:xfrm>
        </p:grpSpPr>
        <mc:AlternateContent>
          <mc:Choice xmlns:a14="http://schemas.microsoft.com/office/drawing/2010/main" Requires="a14">
            <p:sp>
              <p:nvSpPr>
                <p:cNvPr id="1283" name=""/>
                <p:cNvSpPr txBox="1"/>
                <p:nvPr/>
              </p:nvSpPr>
              <p:spPr>
                <a:xfrm>
                  <a:off x="5697360" y="3739680"/>
                  <a:ext cx="199800" cy="27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4" name=""/>
                <p:cNvSpPr txBox="1"/>
                <p:nvPr/>
              </p:nvSpPr>
              <p:spPr>
                <a:xfrm>
                  <a:off x="5893920" y="3598920"/>
                  <a:ext cx="69876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ω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85" name=""/>
          <p:cNvGraphicFramePr/>
          <p:nvPr/>
        </p:nvGraphicFramePr>
        <p:xfrm>
          <a:off x="1967040" y="5246640"/>
          <a:ext cx="439092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5246640"/>
                    <a:ext cx="43909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7" name=""/>
          <p:cNvGraphicFramePr/>
          <p:nvPr/>
        </p:nvGraphicFramePr>
        <p:xfrm>
          <a:off x="3664080" y="4440240"/>
          <a:ext cx="112392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4080" y="4440240"/>
                    <a:ext cx="11239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9" name=""/>
          <p:cNvSpPr/>
          <p:nvPr/>
        </p:nvSpPr>
        <p:spPr>
          <a:xfrm>
            <a:off x="2224440" y="61920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858960" y="1325520"/>
            <a:ext cx="6645240" cy="1184760"/>
            <a:chOff x="858960" y="1325520"/>
            <a:chExt cx="6645240" cy="1184760"/>
          </a:xfrm>
        </p:grpSpPr>
        <p:pic>
          <p:nvPicPr>
            <p:cNvPr id="1291" name="" descr=""/>
            <p:cNvPicPr/>
            <p:nvPr/>
          </p:nvPicPr>
          <p:blipFill>
            <a:blip r:embed="rId5"/>
            <a:stretch/>
          </p:blipFill>
          <p:spPr>
            <a:xfrm>
              <a:off x="858960" y="1487160"/>
              <a:ext cx="216216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6">
              <a:lum contrast="6000"/>
            </a:blip>
            <a:stretch/>
          </p:blipFill>
          <p:spPr>
            <a:xfrm>
              <a:off x="965520" y="1777680"/>
              <a:ext cx="114768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116440" y="1730160"/>
              <a:ext cx="365040" cy="235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24160" y="1981080"/>
              <a:ext cx="23508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663920" y="1962000"/>
              <a:ext cx="0" cy="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92640" y="217296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ертя відсутн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528920" y="1990440"/>
              <a:ext cx="3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961000" y="196992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079800" y="1884240"/>
              <a:ext cx="44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00" name=""/>
            <p:cNvGraphicFramePr/>
            <p:nvPr/>
          </p:nvGraphicFramePr>
          <p:xfrm>
            <a:off x="4810320" y="1508040"/>
            <a:ext cx="2693880" cy="414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0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810320" y="1508040"/>
                      <a:ext cx="26938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2" name=""/>
            <p:cNvGraphicFramePr/>
            <p:nvPr/>
          </p:nvGraphicFramePr>
          <p:xfrm>
            <a:off x="2370240" y="1325520"/>
            <a:ext cx="873360" cy="288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30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370240" y="1325520"/>
                      <a:ext cx="87336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04" name=""/>
          <p:cNvSpPr/>
          <p:nvPr/>
        </p:nvSpPr>
        <p:spPr>
          <a:xfrm>
            <a:off x="3786120" y="277956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938760" y="5345280"/>
            <a:ext cx="2201760" cy="512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149480" y="4197240"/>
            <a:ext cx="42840" cy="18525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969840" y="36687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289400" y="195912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>
            <a:hlinkClick r:id="rId13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/>
          <p:nvPr/>
        </p:nvSpPr>
        <p:spPr>
          <a:xfrm>
            <a:off x="755640" y="127944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428840" y="2930400"/>
            <a:ext cx="24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Жорсткість пружини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4962600" y="3679920"/>
          <a:ext cx="105408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2600" y="3679920"/>
                    <a:ext cx="1054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5" name=""/>
          <p:cNvGraphicFramePr/>
          <p:nvPr/>
        </p:nvGraphicFramePr>
        <p:xfrm>
          <a:off x="1033560" y="4545000"/>
          <a:ext cx="99684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560" y="4545000"/>
                    <a:ext cx="996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7" name=""/>
          <p:cNvSpPr/>
          <p:nvPr/>
        </p:nvSpPr>
        <p:spPr>
          <a:xfrm>
            <a:off x="2198880" y="5554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3681360" y="5149800"/>
          <a:ext cx="1231920" cy="72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81360" y="5149800"/>
                    <a:ext cx="12319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0" name=""/>
          <p:cNvGrpSpPr/>
          <p:nvPr/>
        </p:nvGrpSpPr>
        <p:grpSpPr>
          <a:xfrm>
            <a:off x="858960" y="1325520"/>
            <a:ext cx="6645240" cy="1184760"/>
            <a:chOff x="858960" y="1325520"/>
            <a:chExt cx="6645240" cy="1184760"/>
          </a:xfrm>
        </p:grpSpPr>
        <p:pic>
          <p:nvPicPr>
            <p:cNvPr id="1321" name="" descr=""/>
            <p:cNvPicPr/>
            <p:nvPr/>
          </p:nvPicPr>
          <p:blipFill>
            <a:blip r:embed="rId7"/>
            <a:stretch/>
          </p:blipFill>
          <p:spPr>
            <a:xfrm>
              <a:off x="858960" y="1487160"/>
              <a:ext cx="216216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2" name="" descr=""/>
            <p:cNvPicPr/>
            <p:nvPr/>
          </p:nvPicPr>
          <p:blipFill>
            <a:blip r:embed="rId8">
              <a:lum contrast="6000"/>
            </a:blip>
            <a:stretch/>
          </p:blipFill>
          <p:spPr>
            <a:xfrm>
              <a:off x="965520" y="1777680"/>
              <a:ext cx="114768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3" name=""/>
            <p:cNvSpPr/>
            <p:nvPr/>
          </p:nvSpPr>
          <p:spPr>
            <a:xfrm>
              <a:off x="2116440" y="1730160"/>
              <a:ext cx="365040" cy="2350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324160" y="1981080"/>
              <a:ext cx="23508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63920" y="1962000"/>
              <a:ext cx="0" cy="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492640" y="217296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ертя відсутн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528920" y="1990440"/>
              <a:ext cx="3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1000" y="196992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079800" y="1884240"/>
              <a:ext cx="44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30" name=""/>
            <p:cNvGraphicFramePr/>
            <p:nvPr/>
          </p:nvGraphicFramePr>
          <p:xfrm>
            <a:off x="4810320" y="1508040"/>
            <a:ext cx="2693880" cy="414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33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810320" y="1508040"/>
                      <a:ext cx="26938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2" name=""/>
            <p:cNvGraphicFramePr/>
            <p:nvPr/>
          </p:nvGraphicFramePr>
          <p:xfrm>
            <a:off x="2370240" y="1325520"/>
            <a:ext cx="873360" cy="288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33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370240" y="1325520"/>
                      <a:ext cx="87336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34" name=""/>
          <p:cNvSpPr/>
          <p:nvPr/>
        </p:nvSpPr>
        <p:spPr>
          <a:xfrm>
            <a:off x="3732120" y="28353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187280" y="3900600"/>
            <a:ext cx="401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Згадавши відповідь на запитання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938920" y="389556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, легко отримати вираз для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976400" y="457992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Оскіл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9" name=""/>
          <p:cNvGraphicFramePr/>
          <p:nvPr/>
        </p:nvGraphicFramePr>
        <p:xfrm>
          <a:off x="3006720" y="4575240"/>
          <a:ext cx="965160" cy="352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4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06720" y="4575240"/>
                    <a:ext cx="965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1" name=""/>
          <p:cNvSpPr/>
          <p:nvPr/>
        </p:nvSpPr>
        <p:spPr>
          <a:xfrm>
            <a:off x="3848040" y="4579920"/>
            <a:ext cx="4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,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3" name=""/>
          <p:cNvGraphicFramePr/>
          <p:nvPr/>
        </p:nvGraphicFramePr>
        <p:xfrm>
          <a:off x="4248000" y="4562640"/>
          <a:ext cx="863640" cy="380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4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48000" y="4562640"/>
                    <a:ext cx="863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5" name=""/>
          <p:cNvSpPr/>
          <p:nvPr/>
        </p:nvSpPr>
        <p:spPr>
          <a:xfrm>
            <a:off x="5019840" y="4578480"/>
            <a:ext cx="11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,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170240" y="5141880"/>
            <a:ext cx="588960" cy="760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92280" y="4359240"/>
            <a:ext cx="42840" cy="1633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12640" y="383076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365720" y="1949400"/>
            <a:ext cx="41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Управляющая кнопка: домой 85">
            <a:hlinkClick r:id="rId1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>
            <a:hlinkClick r:id="rId19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1482840" y="961920"/>
            <a:ext cx="68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будуйте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ескіз графіка залежності координати тіла від ч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3416400" y="1320840"/>
                <a:ext cx="22604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54" name=""/>
          <p:cNvGraphicFramePr/>
          <p:nvPr/>
        </p:nvGraphicFramePr>
        <p:xfrm>
          <a:off x="5653080" y="1722600"/>
          <a:ext cx="1662120" cy="63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3080" y="1722600"/>
                    <a:ext cx="166212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6" name=""/>
          <p:cNvGraphicFramePr/>
          <p:nvPr/>
        </p:nvGraphicFramePr>
        <p:xfrm>
          <a:off x="7635960" y="2508120"/>
          <a:ext cx="12240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5960" y="2508120"/>
                    <a:ext cx="12240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8" name=""/>
          <p:cNvSpPr/>
          <p:nvPr/>
        </p:nvSpPr>
        <p:spPr>
          <a:xfrm>
            <a:off x="2262600" y="49212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200240" y="2503440"/>
            <a:ext cx="65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 графіком буде косинусоїда з амплітудою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2 (м)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і період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879480" y="2805120"/>
            <a:ext cx="809316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ричому найменшим додатним значенням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за якого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набуває максимального значення є                Це легко отримати з умови                      А початкове значення координа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066760" y="3170160"/>
          <a:ext cx="86868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66760" y="3170160"/>
                    <a:ext cx="8686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"/>
          <p:cNvSpPr/>
          <p:nvPr/>
        </p:nvSpPr>
        <p:spPr>
          <a:xfrm>
            <a:off x="1202040" y="1874880"/>
            <a:ext cx="44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пишемо цю залежність у такому вигляді</a:t>
            </a:r>
            <a:r>
              <a:rPr b="0" lang="ru-RU" sz="16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6" name=""/>
          <p:cNvGraphicFramePr/>
          <p:nvPr/>
        </p:nvGraphicFramePr>
        <p:xfrm>
          <a:off x="5730840" y="3044880"/>
          <a:ext cx="1200240" cy="64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30840" y="3044880"/>
                    <a:ext cx="12002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1671480" y="3849840"/>
            <a:ext cx="6064200" cy="2425320"/>
            <a:chOff x="1671480" y="3849840"/>
            <a:chExt cx="6064200" cy="2425320"/>
          </a:xfrm>
        </p:grpSpPr>
        <p:sp>
          <p:nvSpPr>
            <p:cNvPr id="1370" name=""/>
            <p:cNvSpPr/>
            <p:nvPr/>
          </p:nvSpPr>
          <p:spPr>
            <a:xfrm flipV="1">
              <a:off x="2970000" y="3948120"/>
              <a:ext cx="0" cy="23270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27080" y="4416480"/>
              <a:ext cx="5003640" cy="1632960"/>
            </a:xfrm>
            <a:custGeom>
              <a:avLst/>
              <a:gdLst/>
              <a:ahLst/>
              <a:rect l="l" t="t" r="r" b="b"/>
              <a:pathLst>
                <a:path w="2831" h="1134">
                  <a:moveTo>
                    <a:pt x="0" y="283"/>
                  </a:moveTo>
                  <a:cubicBezTo>
                    <a:pt x="1" y="288"/>
                    <a:pt x="1" y="288"/>
                    <a:pt x="1" y="288"/>
                  </a:cubicBezTo>
                  <a:cubicBezTo>
                    <a:pt x="3" y="293"/>
                    <a:pt x="3" y="293"/>
                    <a:pt x="3" y="293"/>
                  </a:cubicBezTo>
                  <a:cubicBezTo>
                    <a:pt x="4" y="298"/>
                    <a:pt x="4" y="298"/>
                    <a:pt x="4" y="298"/>
                  </a:cubicBezTo>
                  <a:cubicBezTo>
                    <a:pt x="6" y="303"/>
                    <a:pt x="6" y="303"/>
                    <a:pt x="6" y="303"/>
                  </a:cubicBezTo>
                  <a:cubicBezTo>
                    <a:pt x="9" y="313"/>
                    <a:pt x="9" y="313"/>
                    <a:pt x="9" y="313"/>
                  </a:cubicBezTo>
                  <a:cubicBezTo>
                    <a:pt x="10" y="318"/>
                    <a:pt x="10" y="318"/>
                    <a:pt x="10" y="318"/>
                  </a:cubicBezTo>
                  <a:cubicBezTo>
                    <a:pt x="11" y="323"/>
                    <a:pt x="11" y="323"/>
                    <a:pt x="11" y="323"/>
                  </a:cubicBezTo>
                  <a:cubicBezTo>
                    <a:pt x="13" y="329"/>
                    <a:pt x="13" y="329"/>
                    <a:pt x="13" y="329"/>
                  </a:cubicBezTo>
                  <a:cubicBezTo>
                    <a:pt x="14" y="334"/>
                    <a:pt x="14" y="334"/>
                    <a:pt x="14" y="334"/>
                  </a:cubicBezTo>
                  <a:cubicBezTo>
                    <a:pt x="16" y="339"/>
                    <a:pt x="16" y="339"/>
                    <a:pt x="16" y="339"/>
                  </a:cubicBezTo>
                  <a:cubicBezTo>
                    <a:pt x="17" y="344"/>
                    <a:pt x="17" y="344"/>
                    <a:pt x="17" y="344"/>
                  </a:cubicBezTo>
                  <a:cubicBezTo>
                    <a:pt x="18" y="349"/>
                    <a:pt x="18" y="349"/>
                    <a:pt x="18" y="349"/>
                  </a:cubicBezTo>
                  <a:cubicBezTo>
                    <a:pt x="20" y="355"/>
                    <a:pt x="20" y="355"/>
                    <a:pt x="20" y="355"/>
                  </a:cubicBezTo>
                  <a:cubicBezTo>
                    <a:pt x="21" y="360"/>
                    <a:pt x="21" y="360"/>
                    <a:pt x="21" y="360"/>
                  </a:cubicBezTo>
                  <a:cubicBezTo>
                    <a:pt x="24" y="370"/>
                    <a:pt x="24" y="370"/>
                    <a:pt x="24" y="370"/>
                  </a:cubicBezTo>
                  <a:cubicBezTo>
                    <a:pt x="26" y="376"/>
                    <a:pt x="26" y="376"/>
                    <a:pt x="26" y="376"/>
                  </a:cubicBezTo>
                  <a:cubicBezTo>
                    <a:pt x="27" y="381"/>
                    <a:pt x="27" y="381"/>
                    <a:pt x="27" y="381"/>
                  </a:cubicBezTo>
                  <a:cubicBezTo>
                    <a:pt x="28" y="386"/>
                    <a:pt x="28" y="386"/>
                    <a:pt x="28" y="386"/>
                  </a:cubicBezTo>
                  <a:cubicBezTo>
                    <a:pt x="30" y="392"/>
                    <a:pt x="30" y="392"/>
                    <a:pt x="30" y="392"/>
                  </a:cubicBezTo>
                  <a:cubicBezTo>
                    <a:pt x="31" y="397"/>
                    <a:pt x="31" y="397"/>
                    <a:pt x="31" y="397"/>
                  </a:cubicBezTo>
                  <a:cubicBezTo>
                    <a:pt x="33" y="403"/>
                    <a:pt x="33" y="403"/>
                    <a:pt x="33" y="403"/>
                  </a:cubicBezTo>
                  <a:cubicBezTo>
                    <a:pt x="34" y="408"/>
                    <a:pt x="34" y="408"/>
                    <a:pt x="34" y="408"/>
                  </a:cubicBezTo>
                  <a:cubicBezTo>
                    <a:pt x="35" y="414"/>
                    <a:pt x="35" y="414"/>
                    <a:pt x="35" y="414"/>
                  </a:cubicBezTo>
                  <a:cubicBezTo>
                    <a:pt x="37" y="419"/>
                    <a:pt x="37" y="419"/>
                    <a:pt x="37" y="419"/>
                  </a:cubicBezTo>
                  <a:cubicBezTo>
                    <a:pt x="38" y="424"/>
                    <a:pt x="38" y="424"/>
                    <a:pt x="38" y="424"/>
                  </a:cubicBezTo>
                  <a:cubicBezTo>
                    <a:pt x="40" y="430"/>
                    <a:pt x="40" y="430"/>
                    <a:pt x="40" y="430"/>
                  </a:cubicBezTo>
                  <a:cubicBezTo>
                    <a:pt x="41" y="435"/>
                    <a:pt x="41" y="435"/>
                    <a:pt x="41" y="435"/>
                  </a:cubicBezTo>
                  <a:cubicBezTo>
                    <a:pt x="43" y="441"/>
                    <a:pt x="43" y="441"/>
                    <a:pt x="43" y="441"/>
                  </a:cubicBezTo>
                  <a:cubicBezTo>
                    <a:pt x="44" y="447"/>
                    <a:pt x="44" y="447"/>
                    <a:pt x="44" y="447"/>
                  </a:cubicBezTo>
                  <a:cubicBezTo>
                    <a:pt x="45" y="452"/>
                    <a:pt x="45" y="452"/>
                    <a:pt x="45" y="452"/>
                  </a:cubicBezTo>
                  <a:cubicBezTo>
                    <a:pt x="47" y="458"/>
                    <a:pt x="47" y="458"/>
                    <a:pt x="47" y="458"/>
                  </a:cubicBezTo>
                  <a:cubicBezTo>
                    <a:pt x="48" y="463"/>
                    <a:pt x="48" y="463"/>
                    <a:pt x="48" y="463"/>
                  </a:cubicBezTo>
                  <a:cubicBezTo>
                    <a:pt x="50" y="469"/>
                    <a:pt x="50" y="469"/>
                    <a:pt x="50" y="469"/>
                  </a:cubicBezTo>
                  <a:cubicBezTo>
                    <a:pt x="51" y="474"/>
                    <a:pt x="51" y="474"/>
                    <a:pt x="51" y="474"/>
                  </a:cubicBezTo>
                  <a:cubicBezTo>
                    <a:pt x="52" y="480"/>
                    <a:pt x="52" y="480"/>
                    <a:pt x="52" y="480"/>
                  </a:cubicBezTo>
                  <a:cubicBezTo>
                    <a:pt x="54" y="486"/>
                    <a:pt x="54" y="486"/>
                    <a:pt x="54" y="486"/>
                  </a:cubicBezTo>
                  <a:cubicBezTo>
                    <a:pt x="55" y="491"/>
                    <a:pt x="55" y="491"/>
                    <a:pt x="55" y="491"/>
                  </a:cubicBezTo>
                  <a:cubicBezTo>
                    <a:pt x="57" y="497"/>
                    <a:pt x="57" y="497"/>
                    <a:pt x="57" y="497"/>
                  </a:cubicBezTo>
                  <a:cubicBezTo>
                    <a:pt x="58" y="502"/>
                    <a:pt x="58" y="502"/>
                    <a:pt x="58" y="502"/>
                  </a:cubicBezTo>
                  <a:cubicBezTo>
                    <a:pt x="60" y="508"/>
                    <a:pt x="60" y="508"/>
                    <a:pt x="60" y="508"/>
                  </a:cubicBezTo>
                  <a:cubicBezTo>
                    <a:pt x="61" y="514"/>
                    <a:pt x="61" y="514"/>
                    <a:pt x="61" y="514"/>
                  </a:cubicBezTo>
                  <a:cubicBezTo>
                    <a:pt x="62" y="519"/>
                    <a:pt x="62" y="519"/>
                    <a:pt x="62" y="519"/>
                  </a:cubicBezTo>
                  <a:cubicBezTo>
                    <a:pt x="64" y="525"/>
                    <a:pt x="64" y="525"/>
                    <a:pt x="64" y="525"/>
                  </a:cubicBezTo>
                  <a:cubicBezTo>
                    <a:pt x="65" y="531"/>
                    <a:pt x="65" y="531"/>
                    <a:pt x="65" y="531"/>
                  </a:cubicBezTo>
                  <a:cubicBezTo>
                    <a:pt x="67" y="536"/>
                    <a:pt x="67" y="536"/>
                    <a:pt x="67" y="536"/>
                  </a:cubicBezTo>
                  <a:cubicBezTo>
                    <a:pt x="68" y="542"/>
                    <a:pt x="68" y="542"/>
                    <a:pt x="68" y="542"/>
                  </a:cubicBezTo>
                  <a:cubicBezTo>
                    <a:pt x="69" y="548"/>
                    <a:pt x="69" y="548"/>
                    <a:pt x="69" y="548"/>
                  </a:cubicBezTo>
                  <a:cubicBezTo>
                    <a:pt x="71" y="553"/>
                    <a:pt x="71" y="553"/>
                    <a:pt x="71" y="553"/>
                  </a:cubicBezTo>
                  <a:cubicBezTo>
                    <a:pt x="72" y="559"/>
                    <a:pt x="72" y="559"/>
                    <a:pt x="72" y="559"/>
                  </a:cubicBezTo>
                  <a:cubicBezTo>
                    <a:pt x="74" y="565"/>
                    <a:pt x="74" y="565"/>
                    <a:pt x="74" y="565"/>
                  </a:cubicBezTo>
                  <a:cubicBezTo>
                    <a:pt x="75" y="570"/>
                    <a:pt x="75" y="570"/>
                    <a:pt x="75" y="570"/>
                  </a:cubicBezTo>
                  <a:cubicBezTo>
                    <a:pt x="77" y="576"/>
                    <a:pt x="77" y="576"/>
                    <a:pt x="77" y="576"/>
                  </a:cubicBezTo>
                  <a:cubicBezTo>
                    <a:pt x="78" y="582"/>
                    <a:pt x="78" y="582"/>
                    <a:pt x="78" y="582"/>
                  </a:cubicBezTo>
                  <a:cubicBezTo>
                    <a:pt x="79" y="587"/>
                    <a:pt x="79" y="587"/>
                    <a:pt x="79" y="587"/>
                  </a:cubicBezTo>
                  <a:cubicBezTo>
                    <a:pt x="81" y="593"/>
                    <a:pt x="81" y="593"/>
                    <a:pt x="81" y="593"/>
                  </a:cubicBezTo>
                  <a:cubicBezTo>
                    <a:pt x="82" y="599"/>
                    <a:pt x="82" y="599"/>
                    <a:pt x="82" y="599"/>
                  </a:cubicBezTo>
                  <a:cubicBezTo>
                    <a:pt x="84" y="604"/>
                    <a:pt x="84" y="604"/>
                    <a:pt x="84" y="604"/>
                  </a:cubicBezTo>
                  <a:cubicBezTo>
                    <a:pt x="85" y="610"/>
                    <a:pt x="85" y="610"/>
                    <a:pt x="85" y="610"/>
                  </a:cubicBezTo>
                  <a:cubicBezTo>
                    <a:pt x="86" y="616"/>
                    <a:pt x="86" y="616"/>
                    <a:pt x="86" y="616"/>
                  </a:cubicBezTo>
                  <a:cubicBezTo>
                    <a:pt x="88" y="621"/>
                    <a:pt x="88" y="621"/>
                    <a:pt x="88" y="621"/>
                  </a:cubicBezTo>
                  <a:cubicBezTo>
                    <a:pt x="89" y="627"/>
                    <a:pt x="89" y="627"/>
                    <a:pt x="89" y="627"/>
                  </a:cubicBezTo>
                  <a:cubicBezTo>
                    <a:pt x="91" y="633"/>
                    <a:pt x="91" y="633"/>
                    <a:pt x="91" y="633"/>
                  </a:cubicBezTo>
                  <a:cubicBezTo>
                    <a:pt x="92" y="638"/>
                    <a:pt x="92" y="638"/>
                    <a:pt x="92" y="638"/>
                  </a:cubicBezTo>
                  <a:cubicBezTo>
                    <a:pt x="94" y="644"/>
                    <a:pt x="94" y="644"/>
                    <a:pt x="94" y="644"/>
                  </a:cubicBezTo>
                  <a:cubicBezTo>
                    <a:pt x="95" y="649"/>
                    <a:pt x="95" y="649"/>
                    <a:pt x="95" y="649"/>
                  </a:cubicBezTo>
                  <a:cubicBezTo>
                    <a:pt x="96" y="655"/>
                    <a:pt x="96" y="655"/>
                    <a:pt x="96" y="655"/>
                  </a:cubicBezTo>
                  <a:cubicBezTo>
                    <a:pt x="98" y="661"/>
                    <a:pt x="98" y="661"/>
                    <a:pt x="98" y="661"/>
                  </a:cubicBezTo>
                  <a:cubicBezTo>
                    <a:pt x="99" y="666"/>
                    <a:pt x="99" y="666"/>
                    <a:pt x="99" y="666"/>
                  </a:cubicBezTo>
                  <a:cubicBezTo>
                    <a:pt x="101" y="672"/>
                    <a:pt x="101" y="672"/>
                    <a:pt x="101" y="672"/>
                  </a:cubicBezTo>
                  <a:cubicBezTo>
                    <a:pt x="102" y="677"/>
                    <a:pt x="102" y="677"/>
                    <a:pt x="102" y="677"/>
                  </a:cubicBezTo>
                  <a:cubicBezTo>
                    <a:pt x="103" y="683"/>
                    <a:pt x="103" y="683"/>
                    <a:pt x="103" y="683"/>
                  </a:cubicBezTo>
                  <a:cubicBezTo>
                    <a:pt x="105" y="688"/>
                    <a:pt x="105" y="688"/>
                    <a:pt x="105" y="688"/>
                  </a:cubicBezTo>
                  <a:cubicBezTo>
                    <a:pt x="106" y="694"/>
                    <a:pt x="106" y="694"/>
                    <a:pt x="106" y="694"/>
                  </a:cubicBezTo>
                  <a:cubicBezTo>
                    <a:pt x="109" y="705"/>
                    <a:pt x="109" y="705"/>
                    <a:pt x="109" y="705"/>
                  </a:cubicBezTo>
                  <a:cubicBezTo>
                    <a:pt x="111" y="711"/>
                    <a:pt x="111" y="711"/>
                    <a:pt x="111" y="711"/>
                  </a:cubicBezTo>
                  <a:cubicBezTo>
                    <a:pt x="112" y="716"/>
                    <a:pt x="112" y="716"/>
                    <a:pt x="112" y="716"/>
                  </a:cubicBezTo>
                  <a:cubicBezTo>
                    <a:pt x="113" y="721"/>
                    <a:pt x="113" y="721"/>
                    <a:pt x="113" y="721"/>
                  </a:cubicBezTo>
                  <a:cubicBezTo>
                    <a:pt x="115" y="727"/>
                    <a:pt x="115" y="727"/>
                    <a:pt x="115" y="727"/>
                  </a:cubicBezTo>
                  <a:cubicBezTo>
                    <a:pt x="116" y="732"/>
                    <a:pt x="116" y="732"/>
                    <a:pt x="116" y="732"/>
                  </a:cubicBezTo>
                  <a:cubicBezTo>
                    <a:pt x="118" y="738"/>
                    <a:pt x="118" y="738"/>
                    <a:pt x="118" y="738"/>
                  </a:cubicBezTo>
                  <a:cubicBezTo>
                    <a:pt x="119" y="743"/>
                    <a:pt x="119" y="743"/>
                    <a:pt x="119" y="743"/>
                  </a:cubicBezTo>
                  <a:cubicBezTo>
                    <a:pt x="120" y="749"/>
                    <a:pt x="120" y="749"/>
                    <a:pt x="120" y="749"/>
                  </a:cubicBezTo>
                  <a:cubicBezTo>
                    <a:pt x="122" y="754"/>
                    <a:pt x="122" y="754"/>
                    <a:pt x="122" y="754"/>
                  </a:cubicBezTo>
                  <a:cubicBezTo>
                    <a:pt x="123" y="759"/>
                    <a:pt x="123" y="759"/>
                    <a:pt x="123" y="759"/>
                  </a:cubicBezTo>
                  <a:cubicBezTo>
                    <a:pt x="125" y="765"/>
                    <a:pt x="125" y="765"/>
                    <a:pt x="125" y="765"/>
                  </a:cubicBezTo>
                  <a:cubicBezTo>
                    <a:pt x="126" y="770"/>
                    <a:pt x="126" y="770"/>
                    <a:pt x="126" y="770"/>
                  </a:cubicBezTo>
                  <a:cubicBezTo>
                    <a:pt x="128" y="775"/>
                    <a:pt x="128" y="775"/>
                    <a:pt x="128" y="775"/>
                  </a:cubicBezTo>
                  <a:cubicBezTo>
                    <a:pt x="129" y="780"/>
                    <a:pt x="129" y="780"/>
                    <a:pt x="129" y="780"/>
                  </a:cubicBezTo>
                  <a:cubicBezTo>
                    <a:pt x="130" y="786"/>
                    <a:pt x="130" y="786"/>
                    <a:pt x="130" y="786"/>
                  </a:cubicBezTo>
                  <a:cubicBezTo>
                    <a:pt x="132" y="791"/>
                    <a:pt x="132" y="791"/>
                    <a:pt x="132" y="791"/>
                  </a:cubicBezTo>
                  <a:cubicBezTo>
                    <a:pt x="133" y="796"/>
                    <a:pt x="133" y="796"/>
                    <a:pt x="133" y="796"/>
                  </a:cubicBezTo>
                  <a:cubicBezTo>
                    <a:pt x="136" y="806"/>
                    <a:pt x="136" y="806"/>
                    <a:pt x="136" y="806"/>
                  </a:cubicBezTo>
                  <a:cubicBezTo>
                    <a:pt x="137" y="812"/>
                    <a:pt x="137" y="812"/>
                    <a:pt x="137" y="812"/>
                  </a:cubicBezTo>
                  <a:cubicBezTo>
                    <a:pt x="139" y="817"/>
                    <a:pt x="139" y="817"/>
                    <a:pt x="139" y="817"/>
                  </a:cubicBezTo>
                  <a:cubicBezTo>
                    <a:pt x="140" y="822"/>
                    <a:pt x="140" y="822"/>
                    <a:pt x="140" y="822"/>
                  </a:cubicBezTo>
                  <a:cubicBezTo>
                    <a:pt x="142" y="827"/>
                    <a:pt x="142" y="827"/>
                    <a:pt x="142" y="827"/>
                  </a:cubicBezTo>
                  <a:cubicBezTo>
                    <a:pt x="143" y="832"/>
                    <a:pt x="143" y="832"/>
                    <a:pt x="143" y="832"/>
                  </a:cubicBezTo>
                  <a:cubicBezTo>
                    <a:pt x="145" y="837"/>
                    <a:pt x="145" y="837"/>
                    <a:pt x="145" y="837"/>
                  </a:cubicBezTo>
                  <a:cubicBezTo>
                    <a:pt x="146" y="842"/>
                    <a:pt x="146" y="842"/>
                    <a:pt x="146" y="842"/>
                  </a:cubicBezTo>
                  <a:cubicBezTo>
                    <a:pt x="149" y="852"/>
                    <a:pt x="149" y="852"/>
                    <a:pt x="149" y="852"/>
                  </a:cubicBezTo>
                  <a:cubicBezTo>
                    <a:pt x="150" y="857"/>
                    <a:pt x="150" y="857"/>
                    <a:pt x="150" y="857"/>
                  </a:cubicBezTo>
                  <a:cubicBezTo>
                    <a:pt x="152" y="861"/>
                    <a:pt x="152" y="861"/>
                    <a:pt x="152" y="861"/>
                  </a:cubicBezTo>
                  <a:cubicBezTo>
                    <a:pt x="153" y="866"/>
                    <a:pt x="153" y="866"/>
                    <a:pt x="153" y="866"/>
                  </a:cubicBezTo>
                  <a:cubicBezTo>
                    <a:pt x="156" y="876"/>
                    <a:pt x="156" y="876"/>
                    <a:pt x="156" y="876"/>
                  </a:cubicBezTo>
                  <a:cubicBezTo>
                    <a:pt x="159" y="885"/>
                    <a:pt x="159" y="885"/>
                    <a:pt x="159" y="885"/>
                  </a:cubicBezTo>
                  <a:cubicBezTo>
                    <a:pt x="162" y="895"/>
                    <a:pt x="162" y="895"/>
                    <a:pt x="162" y="895"/>
                  </a:cubicBezTo>
                  <a:cubicBezTo>
                    <a:pt x="164" y="904"/>
                    <a:pt x="164" y="904"/>
                    <a:pt x="164" y="904"/>
                  </a:cubicBezTo>
                  <a:cubicBezTo>
                    <a:pt x="167" y="913"/>
                    <a:pt x="167" y="913"/>
                    <a:pt x="167" y="913"/>
                  </a:cubicBezTo>
                  <a:cubicBezTo>
                    <a:pt x="170" y="922"/>
                    <a:pt x="170" y="922"/>
                    <a:pt x="170" y="922"/>
                  </a:cubicBezTo>
                  <a:cubicBezTo>
                    <a:pt x="173" y="930"/>
                    <a:pt x="173" y="930"/>
                    <a:pt x="173" y="930"/>
                  </a:cubicBezTo>
                  <a:cubicBezTo>
                    <a:pt x="176" y="939"/>
                    <a:pt x="176" y="939"/>
                    <a:pt x="176" y="939"/>
                  </a:cubicBezTo>
                  <a:cubicBezTo>
                    <a:pt x="179" y="948"/>
                    <a:pt x="179" y="948"/>
                    <a:pt x="179" y="948"/>
                  </a:cubicBezTo>
                  <a:cubicBezTo>
                    <a:pt x="181" y="956"/>
                    <a:pt x="181" y="956"/>
                    <a:pt x="181" y="956"/>
                  </a:cubicBezTo>
                  <a:cubicBezTo>
                    <a:pt x="184" y="964"/>
                    <a:pt x="184" y="964"/>
                    <a:pt x="184" y="964"/>
                  </a:cubicBezTo>
                  <a:cubicBezTo>
                    <a:pt x="187" y="972"/>
                    <a:pt x="187" y="972"/>
                    <a:pt x="187" y="972"/>
                  </a:cubicBezTo>
                  <a:cubicBezTo>
                    <a:pt x="190" y="980"/>
                    <a:pt x="190" y="980"/>
                    <a:pt x="190" y="980"/>
                  </a:cubicBezTo>
                  <a:cubicBezTo>
                    <a:pt x="193" y="988"/>
                    <a:pt x="193" y="988"/>
                    <a:pt x="193" y="988"/>
                  </a:cubicBezTo>
                  <a:cubicBezTo>
                    <a:pt x="196" y="995"/>
                    <a:pt x="196" y="995"/>
                    <a:pt x="196" y="995"/>
                  </a:cubicBezTo>
                  <a:cubicBezTo>
                    <a:pt x="198" y="1003"/>
                    <a:pt x="198" y="1003"/>
                    <a:pt x="198" y="1003"/>
                  </a:cubicBezTo>
                  <a:cubicBezTo>
                    <a:pt x="201" y="1010"/>
                    <a:pt x="201" y="1010"/>
                    <a:pt x="201" y="1010"/>
                  </a:cubicBezTo>
                  <a:cubicBezTo>
                    <a:pt x="204" y="1017"/>
                    <a:pt x="204" y="1017"/>
                    <a:pt x="204" y="1017"/>
                  </a:cubicBezTo>
                  <a:cubicBezTo>
                    <a:pt x="207" y="1024"/>
                    <a:pt x="207" y="1024"/>
                    <a:pt x="207" y="1024"/>
                  </a:cubicBezTo>
                  <a:cubicBezTo>
                    <a:pt x="210" y="1030"/>
                    <a:pt x="210" y="1030"/>
                    <a:pt x="210" y="1030"/>
                  </a:cubicBezTo>
                  <a:cubicBezTo>
                    <a:pt x="213" y="1037"/>
                    <a:pt x="213" y="1037"/>
                    <a:pt x="213" y="1037"/>
                  </a:cubicBezTo>
                  <a:cubicBezTo>
                    <a:pt x="215" y="1043"/>
                    <a:pt x="215" y="1043"/>
                    <a:pt x="215" y="1043"/>
                  </a:cubicBezTo>
                  <a:cubicBezTo>
                    <a:pt x="218" y="1049"/>
                    <a:pt x="218" y="1049"/>
                    <a:pt x="218" y="1049"/>
                  </a:cubicBezTo>
                  <a:cubicBezTo>
                    <a:pt x="221" y="1055"/>
                    <a:pt x="221" y="1055"/>
                    <a:pt x="221" y="1055"/>
                  </a:cubicBezTo>
                  <a:cubicBezTo>
                    <a:pt x="224" y="1060"/>
                    <a:pt x="224" y="1060"/>
                    <a:pt x="224" y="1060"/>
                  </a:cubicBezTo>
                  <a:cubicBezTo>
                    <a:pt x="227" y="1066"/>
                    <a:pt x="227" y="1066"/>
                    <a:pt x="227" y="1066"/>
                  </a:cubicBezTo>
                  <a:cubicBezTo>
                    <a:pt x="230" y="1071"/>
                    <a:pt x="230" y="1071"/>
                    <a:pt x="230" y="1071"/>
                  </a:cubicBezTo>
                  <a:cubicBezTo>
                    <a:pt x="232" y="1076"/>
                    <a:pt x="232" y="1076"/>
                    <a:pt x="232" y="1076"/>
                  </a:cubicBezTo>
                  <a:cubicBezTo>
                    <a:pt x="235" y="1081"/>
                    <a:pt x="235" y="1081"/>
                    <a:pt x="235" y="1081"/>
                  </a:cubicBezTo>
                  <a:cubicBezTo>
                    <a:pt x="238" y="1086"/>
                    <a:pt x="238" y="1086"/>
                    <a:pt x="238" y="1086"/>
                  </a:cubicBezTo>
                  <a:cubicBezTo>
                    <a:pt x="241" y="1090"/>
                    <a:pt x="241" y="1090"/>
                    <a:pt x="241" y="1090"/>
                  </a:cubicBezTo>
                  <a:cubicBezTo>
                    <a:pt x="244" y="1095"/>
                    <a:pt x="244" y="1095"/>
                    <a:pt x="244" y="1095"/>
                  </a:cubicBezTo>
                  <a:cubicBezTo>
                    <a:pt x="249" y="1102"/>
                    <a:pt x="249" y="1102"/>
                    <a:pt x="249" y="1102"/>
                  </a:cubicBezTo>
                  <a:cubicBezTo>
                    <a:pt x="255" y="1110"/>
                    <a:pt x="255" y="1110"/>
                    <a:pt x="255" y="1110"/>
                  </a:cubicBezTo>
                  <a:cubicBezTo>
                    <a:pt x="261" y="1116"/>
                    <a:pt x="261" y="1116"/>
                    <a:pt x="261" y="1116"/>
                  </a:cubicBezTo>
                  <a:cubicBezTo>
                    <a:pt x="266" y="1121"/>
                    <a:pt x="266" y="1121"/>
                    <a:pt x="266" y="1121"/>
                  </a:cubicBezTo>
                  <a:cubicBezTo>
                    <a:pt x="272" y="1125"/>
                    <a:pt x="272" y="1125"/>
                    <a:pt x="272" y="1125"/>
                  </a:cubicBezTo>
                  <a:cubicBezTo>
                    <a:pt x="278" y="1129"/>
                    <a:pt x="278" y="1129"/>
                    <a:pt x="278" y="1129"/>
                  </a:cubicBezTo>
                  <a:cubicBezTo>
                    <a:pt x="283" y="1131"/>
                    <a:pt x="283" y="1131"/>
                    <a:pt x="283" y="1131"/>
                  </a:cubicBezTo>
                  <a:cubicBezTo>
                    <a:pt x="289" y="1133"/>
                    <a:pt x="289" y="1133"/>
                    <a:pt x="289" y="1133"/>
                  </a:cubicBezTo>
                  <a:cubicBezTo>
                    <a:pt x="295" y="1134"/>
                    <a:pt x="295" y="1134"/>
                    <a:pt x="295" y="1134"/>
                  </a:cubicBezTo>
                  <a:cubicBezTo>
                    <a:pt x="301" y="1134"/>
                    <a:pt x="301" y="1134"/>
                    <a:pt x="301" y="1134"/>
                  </a:cubicBezTo>
                  <a:cubicBezTo>
                    <a:pt x="306" y="1133"/>
                    <a:pt x="306" y="1133"/>
                    <a:pt x="306" y="1133"/>
                  </a:cubicBezTo>
                  <a:cubicBezTo>
                    <a:pt x="312" y="1131"/>
                    <a:pt x="312" y="1131"/>
                    <a:pt x="312" y="1131"/>
                  </a:cubicBezTo>
                  <a:cubicBezTo>
                    <a:pt x="318" y="1128"/>
                    <a:pt x="318" y="1128"/>
                    <a:pt x="318" y="1128"/>
                  </a:cubicBezTo>
                  <a:cubicBezTo>
                    <a:pt x="323" y="1124"/>
                    <a:pt x="323" y="1124"/>
                    <a:pt x="323" y="1124"/>
                  </a:cubicBezTo>
                  <a:cubicBezTo>
                    <a:pt x="329" y="1120"/>
                    <a:pt x="329" y="1120"/>
                    <a:pt x="329" y="1120"/>
                  </a:cubicBezTo>
                  <a:cubicBezTo>
                    <a:pt x="335" y="1114"/>
                    <a:pt x="335" y="1114"/>
                    <a:pt x="335" y="1114"/>
                  </a:cubicBezTo>
                  <a:cubicBezTo>
                    <a:pt x="340" y="1108"/>
                    <a:pt x="340" y="1108"/>
                    <a:pt x="340" y="1108"/>
                  </a:cubicBezTo>
                  <a:cubicBezTo>
                    <a:pt x="346" y="1101"/>
                    <a:pt x="346" y="1101"/>
                    <a:pt x="346" y="1101"/>
                  </a:cubicBezTo>
                  <a:cubicBezTo>
                    <a:pt x="352" y="1092"/>
                    <a:pt x="352" y="1092"/>
                    <a:pt x="352" y="1092"/>
                  </a:cubicBezTo>
                  <a:cubicBezTo>
                    <a:pt x="354" y="1088"/>
                    <a:pt x="354" y="1088"/>
                    <a:pt x="354" y="1088"/>
                  </a:cubicBezTo>
                  <a:cubicBezTo>
                    <a:pt x="357" y="1084"/>
                    <a:pt x="357" y="1084"/>
                    <a:pt x="357" y="1084"/>
                  </a:cubicBezTo>
                  <a:cubicBezTo>
                    <a:pt x="360" y="1079"/>
                    <a:pt x="360" y="1079"/>
                    <a:pt x="360" y="1079"/>
                  </a:cubicBezTo>
                  <a:cubicBezTo>
                    <a:pt x="366" y="1069"/>
                    <a:pt x="366" y="1069"/>
                    <a:pt x="366" y="1069"/>
                  </a:cubicBezTo>
                  <a:cubicBezTo>
                    <a:pt x="369" y="1063"/>
                    <a:pt x="369" y="1063"/>
                    <a:pt x="369" y="1063"/>
                  </a:cubicBezTo>
                  <a:cubicBezTo>
                    <a:pt x="371" y="1058"/>
                    <a:pt x="371" y="1058"/>
                    <a:pt x="371" y="1058"/>
                  </a:cubicBezTo>
                  <a:cubicBezTo>
                    <a:pt x="374" y="1052"/>
                    <a:pt x="374" y="1052"/>
                    <a:pt x="374" y="1052"/>
                  </a:cubicBezTo>
                  <a:cubicBezTo>
                    <a:pt x="377" y="1046"/>
                    <a:pt x="377" y="1046"/>
                    <a:pt x="377" y="1046"/>
                  </a:cubicBezTo>
                  <a:cubicBezTo>
                    <a:pt x="380" y="1040"/>
                    <a:pt x="380" y="1040"/>
                    <a:pt x="380" y="1040"/>
                  </a:cubicBezTo>
                  <a:cubicBezTo>
                    <a:pt x="383" y="1033"/>
                    <a:pt x="383" y="1033"/>
                    <a:pt x="383" y="1033"/>
                  </a:cubicBezTo>
                  <a:cubicBezTo>
                    <a:pt x="386" y="1027"/>
                    <a:pt x="386" y="1027"/>
                    <a:pt x="386" y="1027"/>
                  </a:cubicBezTo>
                  <a:cubicBezTo>
                    <a:pt x="388" y="1020"/>
                    <a:pt x="388" y="1020"/>
                    <a:pt x="388" y="1020"/>
                  </a:cubicBezTo>
                  <a:cubicBezTo>
                    <a:pt x="391" y="1013"/>
                    <a:pt x="391" y="1013"/>
                    <a:pt x="391" y="1013"/>
                  </a:cubicBezTo>
                  <a:cubicBezTo>
                    <a:pt x="394" y="1006"/>
                    <a:pt x="394" y="1006"/>
                    <a:pt x="394" y="1006"/>
                  </a:cubicBezTo>
                  <a:cubicBezTo>
                    <a:pt x="397" y="999"/>
                    <a:pt x="397" y="999"/>
                    <a:pt x="397" y="999"/>
                  </a:cubicBezTo>
                  <a:cubicBezTo>
                    <a:pt x="400" y="991"/>
                    <a:pt x="400" y="991"/>
                    <a:pt x="400" y="991"/>
                  </a:cubicBezTo>
                  <a:cubicBezTo>
                    <a:pt x="403" y="984"/>
                    <a:pt x="403" y="984"/>
                    <a:pt x="403" y="984"/>
                  </a:cubicBezTo>
                  <a:cubicBezTo>
                    <a:pt x="405" y="976"/>
                    <a:pt x="405" y="976"/>
                    <a:pt x="405" y="976"/>
                  </a:cubicBezTo>
                  <a:cubicBezTo>
                    <a:pt x="408" y="968"/>
                    <a:pt x="408" y="968"/>
                    <a:pt x="408" y="968"/>
                  </a:cubicBezTo>
                  <a:cubicBezTo>
                    <a:pt x="411" y="960"/>
                    <a:pt x="411" y="960"/>
                    <a:pt x="411" y="960"/>
                  </a:cubicBezTo>
                  <a:cubicBezTo>
                    <a:pt x="414" y="952"/>
                    <a:pt x="414" y="952"/>
                    <a:pt x="414" y="952"/>
                  </a:cubicBezTo>
                  <a:cubicBezTo>
                    <a:pt x="417" y="943"/>
                    <a:pt x="417" y="943"/>
                    <a:pt x="417" y="943"/>
                  </a:cubicBezTo>
                  <a:cubicBezTo>
                    <a:pt x="420" y="935"/>
                    <a:pt x="420" y="935"/>
                    <a:pt x="420" y="935"/>
                  </a:cubicBezTo>
                  <a:cubicBezTo>
                    <a:pt x="422" y="926"/>
                    <a:pt x="422" y="926"/>
                    <a:pt x="422" y="926"/>
                  </a:cubicBezTo>
                  <a:cubicBezTo>
                    <a:pt x="425" y="917"/>
                    <a:pt x="425" y="917"/>
                    <a:pt x="425" y="917"/>
                  </a:cubicBezTo>
                  <a:cubicBezTo>
                    <a:pt x="428" y="908"/>
                    <a:pt x="428" y="908"/>
                    <a:pt x="428" y="908"/>
                  </a:cubicBezTo>
                  <a:cubicBezTo>
                    <a:pt x="431" y="899"/>
                    <a:pt x="431" y="899"/>
                    <a:pt x="431" y="899"/>
                  </a:cubicBezTo>
                  <a:cubicBezTo>
                    <a:pt x="434" y="890"/>
                    <a:pt x="434" y="890"/>
                    <a:pt x="434" y="890"/>
                  </a:cubicBezTo>
                  <a:cubicBezTo>
                    <a:pt x="437" y="880"/>
                    <a:pt x="437" y="880"/>
                    <a:pt x="437" y="880"/>
                  </a:cubicBezTo>
                  <a:cubicBezTo>
                    <a:pt x="439" y="871"/>
                    <a:pt x="439" y="871"/>
                    <a:pt x="439" y="871"/>
                  </a:cubicBezTo>
                  <a:cubicBezTo>
                    <a:pt x="441" y="866"/>
                    <a:pt x="441" y="866"/>
                    <a:pt x="441" y="866"/>
                  </a:cubicBezTo>
                  <a:cubicBezTo>
                    <a:pt x="442" y="861"/>
                    <a:pt x="442" y="861"/>
                    <a:pt x="442" y="861"/>
                  </a:cubicBezTo>
                  <a:cubicBezTo>
                    <a:pt x="444" y="856"/>
                    <a:pt x="444" y="856"/>
                    <a:pt x="444" y="856"/>
                  </a:cubicBezTo>
                  <a:cubicBezTo>
                    <a:pt x="445" y="852"/>
                    <a:pt x="445" y="852"/>
                    <a:pt x="445" y="852"/>
                  </a:cubicBezTo>
                  <a:cubicBezTo>
                    <a:pt x="447" y="847"/>
                    <a:pt x="447" y="847"/>
                    <a:pt x="447" y="847"/>
                  </a:cubicBezTo>
                  <a:cubicBezTo>
                    <a:pt x="449" y="837"/>
                    <a:pt x="449" y="837"/>
                    <a:pt x="449" y="837"/>
                  </a:cubicBezTo>
                  <a:cubicBezTo>
                    <a:pt x="451" y="832"/>
                    <a:pt x="451" y="832"/>
                    <a:pt x="451" y="832"/>
                  </a:cubicBezTo>
                  <a:cubicBezTo>
                    <a:pt x="452" y="827"/>
                    <a:pt x="452" y="827"/>
                    <a:pt x="452" y="827"/>
                  </a:cubicBezTo>
                  <a:cubicBezTo>
                    <a:pt x="454" y="822"/>
                    <a:pt x="454" y="822"/>
                    <a:pt x="454" y="822"/>
                  </a:cubicBezTo>
                  <a:cubicBezTo>
                    <a:pt x="455" y="817"/>
                    <a:pt x="455" y="817"/>
                    <a:pt x="455" y="817"/>
                  </a:cubicBezTo>
                  <a:cubicBezTo>
                    <a:pt x="456" y="811"/>
                    <a:pt x="456" y="811"/>
                    <a:pt x="456" y="811"/>
                  </a:cubicBezTo>
                  <a:cubicBezTo>
                    <a:pt x="458" y="806"/>
                    <a:pt x="458" y="806"/>
                    <a:pt x="458" y="806"/>
                  </a:cubicBezTo>
                  <a:cubicBezTo>
                    <a:pt x="459" y="801"/>
                    <a:pt x="459" y="801"/>
                    <a:pt x="459" y="801"/>
                  </a:cubicBezTo>
                  <a:cubicBezTo>
                    <a:pt x="462" y="791"/>
                    <a:pt x="462" y="791"/>
                    <a:pt x="462" y="791"/>
                  </a:cubicBezTo>
                  <a:cubicBezTo>
                    <a:pt x="464" y="786"/>
                    <a:pt x="464" y="786"/>
                    <a:pt x="464" y="786"/>
                  </a:cubicBezTo>
                  <a:cubicBezTo>
                    <a:pt x="465" y="780"/>
                    <a:pt x="465" y="780"/>
                    <a:pt x="465" y="780"/>
                  </a:cubicBezTo>
                  <a:cubicBezTo>
                    <a:pt x="466" y="775"/>
                    <a:pt x="466" y="775"/>
                    <a:pt x="466" y="775"/>
                  </a:cubicBezTo>
                  <a:cubicBezTo>
                    <a:pt x="468" y="770"/>
                    <a:pt x="468" y="770"/>
                    <a:pt x="468" y="770"/>
                  </a:cubicBezTo>
                  <a:cubicBezTo>
                    <a:pt x="469" y="764"/>
                    <a:pt x="469" y="764"/>
                    <a:pt x="469" y="764"/>
                  </a:cubicBezTo>
                  <a:cubicBezTo>
                    <a:pt x="471" y="759"/>
                    <a:pt x="471" y="759"/>
                    <a:pt x="471" y="759"/>
                  </a:cubicBezTo>
                  <a:cubicBezTo>
                    <a:pt x="472" y="754"/>
                    <a:pt x="472" y="754"/>
                    <a:pt x="472" y="754"/>
                  </a:cubicBezTo>
                  <a:cubicBezTo>
                    <a:pt x="473" y="748"/>
                    <a:pt x="473" y="748"/>
                    <a:pt x="473" y="748"/>
                  </a:cubicBezTo>
                  <a:cubicBezTo>
                    <a:pt x="475" y="743"/>
                    <a:pt x="475" y="743"/>
                    <a:pt x="475" y="743"/>
                  </a:cubicBezTo>
                  <a:cubicBezTo>
                    <a:pt x="476" y="738"/>
                    <a:pt x="476" y="738"/>
                    <a:pt x="476" y="738"/>
                  </a:cubicBezTo>
                  <a:cubicBezTo>
                    <a:pt x="478" y="732"/>
                    <a:pt x="478" y="732"/>
                    <a:pt x="478" y="732"/>
                  </a:cubicBezTo>
                  <a:cubicBezTo>
                    <a:pt x="479" y="727"/>
                    <a:pt x="479" y="727"/>
                    <a:pt x="479" y="727"/>
                  </a:cubicBezTo>
                  <a:cubicBezTo>
                    <a:pt x="481" y="721"/>
                    <a:pt x="481" y="721"/>
                    <a:pt x="481" y="721"/>
                  </a:cubicBezTo>
                  <a:cubicBezTo>
                    <a:pt x="482" y="716"/>
                    <a:pt x="482" y="716"/>
                    <a:pt x="482" y="716"/>
                  </a:cubicBezTo>
                  <a:cubicBezTo>
                    <a:pt x="483" y="710"/>
                    <a:pt x="483" y="710"/>
                    <a:pt x="483" y="710"/>
                  </a:cubicBezTo>
                  <a:cubicBezTo>
                    <a:pt x="485" y="705"/>
                    <a:pt x="485" y="705"/>
                    <a:pt x="485" y="705"/>
                  </a:cubicBezTo>
                  <a:cubicBezTo>
                    <a:pt x="486" y="699"/>
                    <a:pt x="486" y="699"/>
                    <a:pt x="486" y="699"/>
                  </a:cubicBezTo>
                  <a:cubicBezTo>
                    <a:pt x="488" y="694"/>
                    <a:pt x="488" y="694"/>
                    <a:pt x="488" y="694"/>
                  </a:cubicBezTo>
                  <a:cubicBezTo>
                    <a:pt x="490" y="683"/>
                    <a:pt x="490" y="683"/>
                    <a:pt x="490" y="683"/>
                  </a:cubicBezTo>
                  <a:cubicBezTo>
                    <a:pt x="492" y="677"/>
                    <a:pt x="492" y="677"/>
                    <a:pt x="492" y="677"/>
                  </a:cubicBezTo>
                  <a:cubicBezTo>
                    <a:pt x="493" y="672"/>
                    <a:pt x="493" y="672"/>
                    <a:pt x="493" y="672"/>
                  </a:cubicBezTo>
                  <a:cubicBezTo>
                    <a:pt x="495" y="666"/>
                    <a:pt x="495" y="666"/>
                    <a:pt x="495" y="666"/>
                  </a:cubicBezTo>
                  <a:cubicBezTo>
                    <a:pt x="496" y="661"/>
                    <a:pt x="496" y="661"/>
                    <a:pt x="496" y="661"/>
                  </a:cubicBezTo>
                  <a:cubicBezTo>
                    <a:pt x="498" y="655"/>
                    <a:pt x="498" y="655"/>
                    <a:pt x="498" y="655"/>
                  </a:cubicBezTo>
                  <a:cubicBezTo>
                    <a:pt x="499" y="649"/>
                    <a:pt x="499" y="649"/>
                    <a:pt x="499" y="649"/>
                  </a:cubicBezTo>
                  <a:cubicBezTo>
                    <a:pt x="500" y="644"/>
                    <a:pt x="500" y="644"/>
                    <a:pt x="500" y="644"/>
                  </a:cubicBezTo>
                  <a:cubicBezTo>
                    <a:pt x="502" y="638"/>
                    <a:pt x="502" y="638"/>
                    <a:pt x="502" y="638"/>
                  </a:cubicBezTo>
                  <a:cubicBezTo>
                    <a:pt x="503" y="632"/>
                    <a:pt x="503" y="632"/>
                    <a:pt x="503" y="632"/>
                  </a:cubicBezTo>
                  <a:cubicBezTo>
                    <a:pt x="505" y="627"/>
                    <a:pt x="505" y="627"/>
                    <a:pt x="505" y="627"/>
                  </a:cubicBezTo>
                  <a:cubicBezTo>
                    <a:pt x="506" y="621"/>
                    <a:pt x="506" y="621"/>
                    <a:pt x="506" y="621"/>
                  </a:cubicBezTo>
                  <a:cubicBezTo>
                    <a:pt x="507" y="616"/>
                    <a:pt x="507" y="616"/>
                    <a:pt x="507" y="616"/>
                  </a:cubicBezTo>
                  <a:cubicBezTo>
                    <a:pt x="509" y="610"/>
                    <a:pt x="509" y="610"/>
                    <a:pt x="509" y="610"/>
                  </a:cubicBezTo>
                  <a:cubicBezTo>
                    <a:pt x="510" y="604"/>
                    <a:pt x="510" y="604"/>
                    <a:pt x="510" y="604"/>
                  </a:cubicBezTo>
                  <a:cubicBezTo>
                    <a:pt x="512" y="599"/>
                    <a:pt x="512" y="599"/>
                    <a:pt x="512" y="599"/>
                  </a:cubicBezTo>
                  <a:cubicBezTo>
                    <a:pt x="513" y="593"/>
                    <a:pt x="513" y="593"/>
                    <a:pt x="513" y="593"/>
                  </a:cubicBezTo>
                  <a:cubicBezTo>
                    <a:pt x="515" y="587"/>
                    <a:pt x="515" y="587"/>
                    <a:pt x="515" y="587"/>
                  </a:cubicBezTo>
                  <a:cubicBezTo>
                    <a:pt x="516" y="582"/>
                    <a:pt x="516" y="582"/>
                    <a:pt x="516" y="582"/>
                  </a:cubicBezTo>
                  <a:cubicBezTo>
                    <a:pt x="517" y="576"/>
                    <a:pt x="517" y="576"/>
                    <a:pt x="517" y="576"/>
                  </a:cubicBezTo>
                  <a:cubicBezTo>
                    <a:pt x="519" y="570"/>
                    <a:pt x="519" y="570"/>
                    <a:pt x="519" y="570"/>
                  </a:cubicBezTo>
                  <a:cubicBezTo>
                    <a:pt x="520" y="565"/>
                    <a:pt x="520" y="565"/>
                    <a:pt x="520" y="565"/>
                  </a:cubicBezTo>
                  <a:cubicBezTo>
                    <a:pt x="522" y="559"/>
                    <a:pt x="522" y="559"/>
                    <a:pt x="522" y="559"/>
                  </a:cubicBezTo>
                  <a:cubicBezTo>
                    <a:pt x="523" y="553"/>
                    <a:pt x="523" y="553"/>
                    <a:pt x="523" y="553"/>
                  </a:cubicBezTo>
                  <a:cubicBezTo>
                    <a:pt x="524" y="548"/>
                    <a:pt x="524" y="548"/>
                    <a:pt x="524" y="548"/>
                  </a:cubicBezTo>
                  <a:cubicBezTo>
                    <a:pt x="526" y="542"/>
                    <a:pt x="526" y="542"/>
                    <a:pt x="526" y="542"/>
                  </a:cubicBezTo>
                  <a:cubicBezTo>
                    <a:pt x="527" y="536"/>
                    <a:pt x="527" y="536"/>
                    <a:pt x="527" y="536"/>
                  </a:cubicBezTo>
                  <a:cubicBezTo>
                    <a:pt x="529" y="531"/>
                    <a:pt x="529" y="531"/>
                    <a:pt x="529" y="531"/>
                  </a:cubicBezTo>
                  <a:cubicBezTo>
                    <a:pt x="530" y="525"/>
                    <a:pt x="530" y="525"/>
                    <a:pt x="530" y="525"/>
                  </a:cubicBezTo>
                  <a:cubicBezTo>
                    <a:pt x="532" y="519"/>
                    <a:pt x="532" y="519"/>
                    <a:pt x="532" y="519"/>
                  </a:cubicBezTo>
                  <a:cubicBezTo>
                    <a:pt x="533" y="514"/>
                    <a:pt x="533" y="514"/>
                    <a:pt x="533" y="514"/>
                  </a:cubicBezTo>
                  <a:cubicBezTo>
                    <a:pt x="534" y="508"/>
                    <a:pt x="534" y="508"/>
                    <a:pt x="534" y="508"/>
                  </a:cubicBezTo>
                  <a:cubicBezTo>
                    <a:pt x="536" y="502"/>
                    <a:pt x="536" y="502"/>
                    <a:pt x="536" y="502"/>
                  </a:cubicBezTo>
                  <a:cubicBezTo>
                    <a:pt x="537" y="497"/>
                    <a:pt x="537" y="497"/>
                    <a:pt x="537" y="497"/>
                  </a:cubicBezTo>
                  <a:cubicBezTo>
                    <a:pt x="539" y="491"/>
                    <a:pt x="539" y="491"/>
                    <a:pt x="539" y="491"/>
                  </a:cubicBezTo>
                  <a:cubicBezTo>
                    <a:pt x="540" y="485"/>
                    <a:pt x="540" y="485"/>
                    <a:pt x="540" y="485"/>
                  </a:cubicBezTo>
                  <a:cubicBezTo>
                    <a:pt x="541" y="480"/>
                    <a:pt x="541" y="480"/>
                    <a:pt x="541" y="480"/>
                  </a:cubicBezTo>
                  <a:cubicBezTo>
                    <a:pt x="543" y="474"/>
                    <a:pt x="543" y="474"/>
                    <a:pt x="543" y="474"/>
                  </a:cubicBezTo>
                  <a:cubicBezTo>
                    <a:pt x="544" y="469"/>
                    <a:pt x="544" y="469"/>
                    <a:pt x="544" y="469"/>
                  </a:cubicBezTo>
                  <a:cubicBezTo>
                    <a:pt x="546" y="463"/>
                    <a:pt x="546" y="463"/>
                    <a:pt x="546" y="463"/>
                  </a:cubicBezTo>
                  <a:cubicBezTo>
                    <a:pt x="547" y="458"/>
                    <a:pt x="547" y="458"/>
                    <a:pt x="547" y="458"/>
                  </a:cubicBezTo>
                  <a:cubicBezTo>
                    <a:pt x="549" y="452"/>
                    <a:pt x="549" y="452"/>
                    <a:pt x="549" y="452"/>
                  </a:cubicBezTo>
                  <a:cubicBezTo>
                    <a:pt x="550" y="446"/>
                    <a:pt x="550" y="446"/>
                    <a:pt x="550" y="446"/>
                  </a:cubicBezTo>
                  <a:cubicBezTo>
                    <a:pt x="551" y="441"/>
                    <a:pt x="551" y="441"/>
                    <a:pt x="551" y="441"/>
                  </a:cubicBezTo>
                  <a:cubicBezTo>
                    <a:pt x="553" y="435"/>
                    <a:pt x="553" y="435"/>
                    <a:pt x="553" y="435"/>
                  </a:cubicBezTo>
                  <a:cubicBezTo>
                    <a:pt x="554" y="430"/>
                    <a:pt x="554" y="430"/>
                    <a:pt x="554" y="430"/>
                  </a:cubicBezTo>
                  <a:cubicBezTo>
                    <a:pt x="556" y="424"/>
                    <a:pt x="556" y="424"/>
                    <a:pt x="556" y="424"/>
                  </a:cubicBezTo>
                  <a:cubicBezTo>
                    <a:pt x="557" y="419"/>
                    <a:pt x="557" y="419"/>
                    <a:pt x="557" y="419"/>
                  </a:cubicBezTo>
                  <a:cubicBezTo>
                    <a:pt x="558" y="413"/>
                    <a:pt x="558" y="413"/>
                    <a:pt x="558" y="413"/>
                  </a:cubicBezTo>
                  <a:cubicBezTo>
                    <a:pt x="560" y="408"/>
                    <a:pt x="560" y="408"/>
                    <a:pt x="560" y="408"/>
                  </a:cubicBezTo>
                  <a:cubicBezTo>
                    <a:pt x="561" y="403"/>
                    <a:pt x="561" y="403"/>
                    <a:pt x="561" y="403"/>
                  </a:cubicBezTo>
                  <a:cubicBezTo>
                    <a:pt x="563" y="397"/>
                    <a:pt x="563" y="397"/>
                    <a:pt x="563" y="397"/>
                  </a:cubicBezTo>
                  <a:cubicBezTo>
                    <a:pt x="564" y="392"/>
                    <a:pt x="564" y="392"/>
                    <a:pt x="564" y="392"/>
                  </a:cubicBezTo>
                  <a:cubicBezTo>
                    <a:pt x="566" y="386"/>
                    <a:pt x="566" y="386"/>
                    <a:pt x="566" y="386"/>
                  </a:cubicBezTo>
                  <a:cubicBezTo>
                    <a:pt x="567" y="381"/>
                    <a:pt x="567" y="381"/>
                    <a:pt x="567" y="381"/>
                  </a:cubicBezTo>
                  <a:cubicBezTo>
                    <a:pt x="568" y="376"/>
                    <a:pt x="568" y="376"/>
                    <a:pt x="568" y="376"/>
                  </a:cubicBezTo>
                  <a:cubicBezTo>
                    <a:pt x="570" y="370"/>
                    <a:pt x="570" y="370"/>
                    <a:pt x="570" y="370"/>
                  </a:cubicBezTo>
                  <a:cubicBezTo>
                    <a:pt x="571" y="365"/>
                    <a:pt x="571" y="365"/>
                    <a:pt x="571" y="365"/>
                  </a:cubicBezTo>
                  <a:cubicBezTo>
                    <a:pt x="574" y="354"/>
                    <a:pt x="574" y="354"/>
                    <a:pt x="574" y="354"/>
                  </a:cubicBezTo>
                  <a:cubicBezTo>
                    <a:pt x="576" y="349"/>
                    <a:pt x="576" y="349"/>
                    <a:pt x="576" y="349"/>
                  </a:cubicBezTo>
                  <a:cubicBezTo>
                    <a:pt x="577" y="344"/>
                    <a:pt x="577" y="344"/>
                    <a:pt x="577" y="344"/>
                  </a:cubicBezTo>
                  <a:cubicBezTo>
                    <a:pt x="578" y="339"/>
                    <a:pt x="578" y="339"/>
                    <a:pt x="578" y="339"/>
                  </a:cubicBezTo>
                  <a:cubicBezTo>
                    <a:pt x="580" y="334"/>
                    <a:pt x="580" y="334"/>
                    <a:pt x="580" y="334"/>
                  </a:cubicBezTo>
                  <a:cubicBezTo>
                    <a:pt x="581" y="328"/>
                    <a:pt x="581" y="328"/>
                    <a:pt x="581" y="328"/>
                  </a:cubicBezTo>
                  <a:cubicBezTo>
                    <a:pt x="583" y="323"/>
                    <a:pt x="583" y="323"/>
                    <a:pt x="583" y="323"/>
                  </a:cubicBezTo>
                  <a:cubicBezTo>
                    <a:pt x="584" y="318"/>
                    <a:pt x="584" y="318"/>
                    <a:pt x="584" y="318"/>
                  </a:cubicBezTo>
                  <a:cubicBezTo>
                    <a:pt x="585" y="313"/>
                    <a:pt x="585" y="313"/>
                    <a:pt x="585" y="313"/>
                  </a:cubicBezTo>
                  <a:cubicBezTo>
                    <a:pt x="587" y="308"/>
                    <a:pt x="587" y="308"/>
                    <a:pt x="587" y="308"/>
                  </a:cubicBezTo>
                  <a:cubicBezTo>
                    <a:pt x="590" y="298"/>
                    <a:pt x="590" y="298"/>
                    <a:pt x="590" y="298"/>
                  </a:cubicBezTo>
                  <a:cubicBezTo>
                    <a:pt x="591" y="293"/>
                    <a:pt x="591" y="293"/>
                    <a:pt x="591" y="293"/>
                  </a:cubicBezTo>
                  <a:cubicBezTo>
                    <a:pt x="593" y="288"/>
                    <a:pt x="593" y="288"/>
                    <a:pt x="593" y="288"/>
                  </a:cubicBezTo>
                  <a:cubicBezTo>
                    <a:pt x="594" y="283"/>
                    <a:pt x="594" y="283"/>
                    <a:pt x="594" y="283"/>
                  </a:cubicBezTo>
                  <a:cubicBezTo>
                    <a:pt x="595" y="278"/>
                    <a:pt x="595" y="278"/>
                    <a:pt x="595" y="278"/>
                  </a:cubicBezTo>
                  <a:cubicBezTo>
                    <a:pt x="597" y="273"/>
                    <a:pt x="597" y="273"/>
                    <a:pt x="597" y="273"/>
                  </a:cubicBezTo>
                  <a:cubicBezTo>
                    <a:pt x="598" y="269"/>
                    <a:pt x="598" y="269"/>
                    <a:pt x="598" y="269"/>
                  </a:cubicBezTo>
                  <a:cubicBezTo>
                    <a:pt x="601" y="259"/>
                    <a:pt x="601" y="259"/>
                    <a:pt x="601" y="259"/>
                  </a:cubicBezTo>
                  <a:cubicBezTo>
                    <a:pt x="604" y="250"/>
                    <a:pt x="604" y="250"/>
                    <a:pt x="604" y="250"/>
                  </a:cubicBezTo>
                  <a:cubicBezTo>
                    <a:pt x="607" y="240"/>
                    <a:pt x="607" y="240"/>
                    <a:pt x="607" y="240"/>
                  </a:cubicBezTo>
                  <a:cubicBezTo>
                    <a:pt x="610" y="231"/>
                    <a:pt x="610" y="231"/>
                    <a:pt x="610" y="231"/>
                  </a:cubicBezTo>
                  <a:cubicBezTo>
                    <a:pt x="612" y="222"/>
                    <a:pt x="612" y="222"/>
                    <a:pt x="612" y="222"/>
                  </a:cubicBezTo>
                  <a:cubicBezTo>
                    <a:pt x="615" y="213"/>
                    <a:pt x="615" y="213"/>
                    <a:pt x="615" y="213"/>
                  </a:cubicBezTo>
                  <a:cubicBezTo>
                    <a:pt x="618" y="204"/>
                    <a:pt x="618" y="204"/>
                    <a:pt x="618" y="204"/>
                  </a:cubicBezTo>
                  <a:cubicBezTo>
                    <a:pt x="621" y="196"/>
                    <a:pt x="621" y="196"/>
                    <a:pt x="621" y="196"/>
                  </a:cubicBezTo>
                  <a:cubicBezTo>
                    <a:pt x="624" y="187"/>
                    <a:pt x="624" y="187"/>
                    <a:pt x="624" y="187"/>
                  </a:cubicBezTo>
                  <a:cubicBezTo>
                    <a:pt x="627" y="179"/>
                    <a:pt x="627" y="179"/>
                    <a:pt x="627" y="179"/>
                  </a:cubicBezTo>
                  <a:cubicBezTo>
                    <a:pt x="629" y="171"/>
                    <a:pt x="629" y="171"/>
                    <a:pt x="629" y="171"/>
                  </a:cubicBezTo>
                  <a:cubicBezTo>
                    <a:pt x="632" y="163"/>
                    <a:pt x="632" y="163"/>
                    <a:pt x="632" y="163"/>
                  </a:cubicBezTo>
                  <a:cubicBezTo>
                    <a:pt x="635" y="155"/>
                    <a:pt x="635" y="155"/>
                    <a:pt x="635" y="155"/>
                  </a:cubicBezTo>
                  <a:cubicBezTo>
                    <a:pt x="638" y="147"/>
                    <a:pt x="638" y="147"/>
                    <a:pt x="638" y="147"/>
                  </a:cubicBezTo>
                  <a:cubicBezTo>
                    <a:pt x="641" y="139"/>
                    <a:pt x="641" y="139"/>
                    <a:pt x="641" y="139"/>
                  </a:cubicBezTo>
                  <a:cubicBezTo>
                    <a:pt x="644" y="132"/>
                    <a:pt x="644" y="132"/>
                    <a:pt x="644" y="132"/>
                  </a:cubicBezTo>
                  <a:cubicBezTo>
                    <a:pt x="646" y="125"/>
                    <a:pt x="646" y="125"/>
                    <a:pt x="646" y="125"/>
                  </a:cubicBezTo>
                  <a:cubicBezTo>
                    <a:pt x="649" y="118"/>
                    <a:pt x="649" y="118"/>
                    <a:pt x="649" y="118"/>
                  </a:cubicBezTo>
                  <a:cubicBezTo>
                    <a:pt x="652" y="111"/>
                    <a:pt x="652" y="111"/>
                    <a:pt x="652" y="111"/>
                  </a:cubicBezTo>
                  <a:cubicBezTo>
                    <a:pt x="655" y="104"/>
                    <a:pt x="655" y="104"/>
                    <a:pt x="655" y="104"/>
                  </a:cubicBezTo>
                  <a:cubicBezTo>
                    <a:pt x="658" y="98"/>
                    <a:pt x="658" y="98"/>
                    <a:pt x="658" y="98"/>
                  </a:cubicBezTo>
                  <a:cubicBezTo>
                    <a:pt x="661" y="92"/>
                    <a:pt x="661" y="92"/>
                    <a:pt x="661" y="92"/>
                  </a:cubicBezTo>
                  <a:cubicBezTo>
                    <a:pt x="663" y="86"/>
                    <a:pt x="663" y="86"/>
                    <a:pt x="663" y="86"/>
                  </a:cubicBezTo>
                  <a:cubicBezTo>
                    <a:pt x="666" y="80"/>
                    <a:pt x="666" y="80"/>
                    <a:pt x="666" y="80"/>
                  </a:cubicBezTo>
                  <a:cubicBezTo>
                    <a:pt x="669" y="74"/>
                    <a:pt x="669" y="74"/>
                    <a:pt x="669" y="74"/>
                  </a:cubicBezTo>
                  <a:cubicBezTo>
                    <a:pt x="672" y="68"/>
                    <a:pt x="672" y="68"/>
                    <a:pt x="672" y="68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8" y="58"/>
                    <a:pt x="678" y="58"/>
                    <a:pt x="678" y="58"/>
                  </a:cubicBezTo>
                  <a:cubicBezTo>
                    <a:pt x="680" y="53"/>
                    <a:pt x="680" y="53"/>
                    <a:pt x="680" y="53"/>
                  </a:cubicBezTo>
                  <a:cubicBezTo>
                    <a:pt x="683" y="48"/>
                    <a:pt x="683" y="48"/>
                    <a:pt x="683" y="48"/>
                  </a:cubicBezTo>
                  <a:cubicBezTo>
                    <a:pt x="686" y="44"/>
                    <a:pt x="686" y="44"/>
                    <a:pt x="686" y="44"/>
                  </a:cubicBezTo>
                  <a:cubicBezTo>
                    <a:pt x="689" y="40"/>
                    <a:pt x="689" y="40"/>
                    <a:pt x="689" y="40"/>
                  </a:cubicBezTo>
                  <a:cubicBezTo>
                    <a:pt x="695" y="32"/>
                    <a:pt x="695" y="32"/>
                    <a:pt x="695" y="32"/>
                  </a:cubicBezTo>
                  <a:cubicBezTo>
                    <a:pt x="700" y="25"/>
                    <a:pt x="700" y="25"/>
                    <a:pt x="700" y="25"/>
                  </a:cubicBezTo>
                  <a:cubicBezTo>
                    <a:pt x="706" y="19"/>
                    <a:pt x="706" y="19"/>
                    <a:pt x="706" y="19"/>
                  </a:cubicBezTo>
                  <a:cubicBezTo>
                    <a:pt x="712" y="13"/>
                    <a:pt x="712" y="13"/>
                    <a:pt x="712" y="13"/>
                  </a:cubicBezTo>
                  <a:cubicBezTo>
                    <a:pt x="717" y="9"/>
                    <a:pt x="717" y="9"/>
                    <a:pt x="717" y="9"/>
                  </a:cubicBezTo>
                  <a:cubicBezTo>
                    <a:pt x="723" y="5"/>
                    <a:pt x="723" y="5"/>
                    <a:pt x="723" y="5"/>
                  </a:cubicBezTo>
                  <a:cubicBezTo>
                    <a:pt x="729" y="3"/>
                    <a:pt x="729" y="3"/>
                    <a:pt x="729" y="3"/>
                  </a:cubicBezTo>
                  <a:cubicBezTo>
                    <a:pt x="734" y="1"/>
                    <a:pt x="734" y="1"/>
                    <a:pt x="734" y="1"/>
                  </a:cubicBezTo>
                  <a:cubicBezTo>
                    <a:pt x="740" y="0"/>
                    <a:pt x="740" y="0"/>
                    <a:pt x="740" y="0"/>
                  </a:cubicBezTo>
                  <a:cubicBezTo>
                    <a:pt x="746" y="0"/>
                    <a:pt x="746" y="0"/>
                    <a:pt x="746" y="0"/>
                  </a:cubicBezTo>
                  <a:cubicBezTo>
                    <a:pt x="751" y="1"/>
                    <a:pt x="751" y="1"/>
                    <a:pt x="751" y="1"/>
                  </a:cubicBezTo>
                  <a:cubicBezTo>
                    <a:pt x="757" y="3"/>
                    <a:pt x="757" y="3"/>
                    <a:pt x="757" y="3"/>
                  </a:cubicBezTo>
                  <a:cubicBezTo>
                    <a:pt x="763" y="6"/>
                    <a:pt x="763" y="6"/>
                    <a:pt x="763" y="6"/>
                  </a:cubicBezTo>
                  <a:cubicBezTo>
                    <a:pt x="768" y="10"/>
                    <a:pt x="768" y="10"/>
                    <a:pt x="768" y="10"/>
                  </a:cubicBezTo>
                  <a:cubicBezTo>
                    <a:pt x="774" y="14"/>
                    <a:pt x="774" y="14"/>
                    <a:pt x="774" y="14"/>
                  </a:cubicBezTo>
                  <a:cubicBezTo>
                    <a:pt x="780" y="20"/>
                    <a:pt x="780" y="20"/>
                    <a:pt x="780" y="20"/>
                  </a:cubicBezTo>
                  <a:cubicBezTo>
                    <a:pt x="785" y="26"/>
                    <a:pt x="785" y="26"/>
                    <a:pt x="785" y="26"/>
                  </a:cubicBezTo>
                  <a:cubicBezTo>
                    <a:pt x="791" y="33"/>
                    <a:pt x="791" y="33"/>
                    <a:pt x="791" y="33"/>
                  </a:cubicBezTo>
                  <a:cubicBezTo>
                    <a:pt x="797" y="41"/>
                    <a:pt x="797" y="41"/>
                    <a:pt x="797" y="41"/>
                  </a:cubicBezTo>
                  <a:cubicBezTo>
                    <a:pt x="799" y="46"/>
                    <a:pt x="799" y="46"/>
                    <a:pt x="799" y="46"/>
                  </a:cubicBezTo>
                  <a:cubicBezTo>
                    <a:pt x="802" y="50"/>
                    <a:pt x="802" y="50"/>
                    <a:pt x="802" y="50"/>
                  </a:cubicBezTo>
                  <a:cubicBezTo>
                    <a:pt x="805" y="55"/>
                    <a:pt x="805" y="55"/>
                    <a:pt x="805" y="55"/>
                  </a:cubicBezTo>
                  <a:cubicBezTo>
                    <a:pt x="808" y="60"/>
                    <a:pt x="808" y="60"/>
                    <a:pt x="808" y="60"/>
                  </a:cubicBezTo>
                  <a:cubicBezTo>
                    <a:pt x="811" y="65"/>
                    <a:pt x="811" y="65"/>
                    <a:pt x="811" y="65"/>
                  </a:cubicBezTo>
                  <a:cubicBezTo>
                    <a:pt x="814" y="70"/>
                    <a:pt x="814" y="70"/>
                    <a:pt x="814" y="70"/>
                  </a:cubicBezTo>
                  <a:cubicBezTo>
                    <a:pt x="819" y="82"/>
                    <a:pt x="819" y="82"/>
                    <a:pt x="819" y="82"/>
                  </a:cubicBezTo>
                  <a:cubicBezTo>
                    <a:pt x="822" y="88"/>
                    <a:pt x="822" y="88"/>
                    <a:pt x="822" y="88"/>
                  </a:cubicBezTo>
                  <a:cubicBezTo>
                    <a:pt x="825" y="94"/>
                    <a:pt x="825" y="94"/>
                    <a:pt x="825" y="94"/>
                  </a:cubicBezTo>
                  <a:cubicBezTo>
                    <a:pt x="828" y="100"/>
                    <a:pt x="828" y="100"/>
                    <a:pt x="828" y="100"/>
                  </a:cubicBezTo>
                  <a:cubicBezTo>
                    <a:pt x="831" y="107"/>
                    <a:pt x="831" y="107"/>
                    <a:pt x="831" y="107"/>
                  </a:cubicBezTo>
                  <a:cubicBezTo>
                    <a:pt x="833" y="113"/>
                    <a:pt x="833" y="113"/>
                    <a:pt x="833" y="113"/>
                  </a:cubicBezTo>
                  <a:cubicBezTo>
                    <a:pt x="836" y="120"/>
                    <a:pt x="836" y="120"/>
                    <a:pt x="836" y="120"/>
                  </a:cubicBezTo>
                  <a:cubicBezTo>
                    <a:pt x="839" y="127"/>
                    <a:pt x="839" y="127"/>
                    <a:pt x="839" y="127"/>
                  </a:cubicBezTo>
                  <a:cubicBezTo>
                    <a:pt x="842" y="135"/>
                    <a:pt x="842" y="135"/>
                    <a:pt x="842" y="135"/>
                  </a:cubicBezTo>
                  <a:cubicBezTo>
                    <a:pt x="845" y="142"/>
                    <a:pt x="845" y="142"/>
                    <a:pt x="845" y="142"/>
                  </a:cubicBezTo>
                  <a:cubicBezTo>
                    <a:pt x="848" y="150"/>
                    <a:pt x="848" y="150"/>
                    <a:pt x="848" y="150"/>
                  </a:cubicBezTo>
                  <a:cubicBezTo>
                    <a:pt x="850" y="157"/>
                    <a:pt x="850" y="157"/>
                    <a:pt x="850" y="157"/>
                  </a:cubicBezTo>
                  <a:cubicBezTo>
                    <a:pt x="853" y="165"/>
                    <a:pt x="853" y="165"/>
                    <a:pt x="853" y="165"/>
                  </a:cubicBezTo>
                  <a:cubicBezTo>
                    <a:pt x="856" y="173"/>
                    <a:pt x="856" y="173"/>
                    <a:pt x="856" y="173"/>
                  </a:cubicBezTo>
                  <a:cubicBezTo>
                    <a:pt x="859" y="182"/>
                    <a:pt x="859" y="182"/>
                    <a:pt x="859" y="182"/>
                  </a:cubicBezTo>
                  <a:cubicBezTo>
                    <a:pt x="862" y="190"/>
                    <a:pt x="862" y="190"/>
                    <a:pt x="862" y="190"/>
                  </a:cubicBezTo>
                  <a:cubicBezTo>
                    <a:pt x="865" y="199"/>
                    <a:pt x="865" y="199"/>
                    <a:pt x="865" y="199"/>
                  </a:cubicBezTo>
                  <a:cubicBezTo>
                    <a:pt x="868" y="207"/>
                    <a:pt x="868" y="207"/>
                    <a:pt x="868" y="207"/>
                  </a:cubicBezTo>
                  <a:cubicBezTo>
                    <a:pt x="870" y="216"/>
                    <a:pt x="870" y="216"/>
                    <a:pt x="870" y="216"/>
                  </a:cubicBezTo>
                  <a:cubicBezTo>
                    <a:pt x="873" y="225"/>
                    <a:pt x="873" y="225"/>
                    <a:pt x="873" y="225"/>
                  </a:cubicBezTo>
                  <a:cubicBezTo>
                    <a:pt x="876" y="234"/>
                    <a:pt x="876" y="234"/>
                    <a:pt x="876" y="234"/>
                  </a:cubicBezTo>
                  <a:cubicBezTo>
                    <a:pt x="879" y="243"/>
                    <a:pt x="879" y="243"/>
                    <a:pt x="879" y="243"/>
                  </a:cubicBezTo>
                  <a:cubicBezTo>
                    <a:pt x="882" y="253"/>
                    <a:pt x="882" y="253"/>
                    <a:pt x="882" y="253"/>
                  </a:cubicBezTo>
                  <a:cubicBezTo>
                    <a:pt x="885" y="262"/>
                    <a:pt x="885" y="262"/>
                    <a:pt x="885" y="262"/>
                  </a:cubicBezTo>
                  <a:cubicBezTo>
                    <a:pt x="886" y="267"/>
                    <a:pt x="886" y="267"/>
                    <a:pt x="886" y="267"/>
                  </a:cubicBezTo>
                  <a:cubicBezTo>
                    <a:pt x="887" y="272"/>
                    <a:pt x="887" y="272"/>
                    <a:pt x="887" y="272"/>
                  </a:cubicBezTo>
                  <a:cubicBezTo>
                    <a:pt x="889" y="277"/>
                    <a:pt x="889" y="277"/>
                    <a:pt x="889" y="277"/>
                  </a:cubicBezTo>
                  <a:cubicBezTo>
                    <a:pt x="890" y="282"/>
                    <a:pt x="890" y="282"/>
                    <a:pt x="890" y="282"/>
                  </a:cubicBezTo>
                  <a:cubicBezTo>
                    <a:pt x="892" y="287"/>
                    <a:pt x="892" y="287"/>
                    <a:pt x="892" y="287"/>
                  </a:cubicBezTo>
                  <a:cubicBezTo>
                    <a:pt x="893" y="292"/>
                    <a:pt x="893" y="292"/>
                    <a:pt x="893" y="292"/>
                  </a:cubicBezTo>
                  <a:cubicBezTo>
                    <a:pt x="896" y="301"/>
                    <a:pt x="896" y="301"/>
                    <a:pt x="896" y="301"/>
                  </a:cubicBezTo>
                  <a:cubicBezTo>
                    <a:pt x="897" y="307"/>
                    <a:pt x="897" y="307"/>
                    <a:pt x="897" y="307"/>
                  </a:cubicBezTo>
                  <a:cubicBezTo>
                    <a:pt x="899" y="312"/>
                    <a:pt x="899" y="312"/>
                    <a:pt x="899" y="312"/>
                  </a:cubicBezTo>
                  <a:cubicBezTo>
                    <a:pt x="900" y="317"/>
                    <a:pt x="900" y="317"/>
                    <a:pt x="900" y="317"/>
                  </a:cubicBezTo>
                  <a:cubicBezTo>
                    <a:pt x="902" y="322"/>
                    <a:pt x="902" y="322"/>
                    <a:pt x="902" y="322"/>
                  </a:cubicBezTo>
                  <a:cubicBezTo>
                    <a:pt x="903" y="327"/>
                    <a:pt x="903" y="327"/>
                    <a:pt x="903" y="327"/>
                  </a:cubicBezTo>
                  <a:cubicBezTo>
                    <a:pt x="904" y="332"/>
                    <a:pt x="904" y="332"/>
                    <a:pt x="904" y="332"/>
                  </a:cubicBezTo>
                  <a:cubicBezTo>
                    <a:pt x="906" y="337"/>
                    <a:pt x="906" y="337"/>
                    <a:pt x="906" y="337"/>
                  </a:cubicBezTo>
                  <a:cubicBezTo>
                    <a:pt x="909" y="348"/>
                    <a:pt x="909" y="348"/>
                    <a:pt x="909" y="348"/>
                  </a:cubicBezTo>
                  <a:cubicBezTo>
                    <a:pt x="910" y="353"/>
                    <a:pt x="910" y="353"/>
                    <a:pt x="910" y="353"/>
                  </a:cubicBezTo>
                  <a:cubicBezTo>
                    <a:pt x="911" y="358"/>
                    <a:pt x="911" y="358"/>
                    <a:pt x="911" y="358"/>
                  </a:cubicBezTo>
                  <a:cubicBezTo>
                    <a:pt x="913" y="363"/>
                    <a:pt x="913" y="363"/>
                    <a:pt x="913" y="363"/>
                  </a:cubicBezTo>
                  <a:cubicBezTo>
                    <a:pt x="914" y="369"/>
                    <a:pt x="914" y="369"/>
                    <a:pt x="914" y="369"/>
                  </a:cubicBezTo>
                  <a:cubicBezTo>
                    <a:pt x="916" y="374"/>
                    <a:pt x="916" y="374"/>
                    <a:pt x="916" y="374"/>
                  </a:cubicBezTo>
                  <a:cubicBezTo>
                    <a:pt x="917" y="379"/>
                    <a:pt x="917" y="379"/>
                    <a:pt x="917" y="379"/>
                  </a:cubicBezTo>
                  <a:cubicBezTo>
                    <a:pt x="919" y="385"/>
                    <a:pt x="919" y="385"/>
                    <a:pt x="919" y="385"/>
                  </a:cubicBezTo>
                  <a:cubicBezTo>
                    <a:pt x="920" y="390"/>
                    <a:pt x="920" y="390"/>
                    <a:pt x="920" y="390"/>
                  </a:cubicBezTo>
                  <a:cubicBezTo>
                    <a:pt x="921" y="395"/>
                    <a:pt x="921" y="395"/>
                    <a:pt x="921" y="395"/>
                  </a:cubicBezTo>
                  <a:cubicBezTo>
                    <a:pt x="923" y="401"/>
                    <a:pt x="923" y="401"/>
                    <a:pt x="923" y="401"/>
                  </a:cubicBezTo>
                  <a:cubicBezTo>
                    <a:pt x="924" y="406"/>
                    <a:pt x="924" y="406"/>
                    <a:pt x="924" y="406"/>
                  </a:cubicBezTo>
                  <a:cubicBezTo>
                    <a:pt x="926" y="412"/>
                    <a:pt x="926" y="412"/>
                    <a:pt x="926" y="412"/>
                  </a:cubicBezTo>
                  <a:cubicBezTo>
                    <a:pt x="927" y="417"/>
                    <a:pt x="927" y="417"/>
                    <a:pt x="927" y="417"/>
                  </a:cubicBezTo>
                  <a:cubicBezTo>
                    <a:pt x="928" y="423"/>
                    <a:pt x="928" y="423"/>
                    <a:pt x="928" y="423"/>
                  </a:cubicBezTo>
                  <a:cubicBezTo>
                    <a:pt x="930" y="428"/>
                    <a:pt x="930" y="428"/>
                    <a:pt x="930" y="428"/>
                  </a:cubicBezTo>
                  <a:cubicBezTo>
                    <a:pt x="931" y="434"/>
                    <a:pt x="931" y="434"/>
                    <a:pt x="931" y="434"/>
                  </a:cubicBezTo>
                  <a:cubicBezTo>
                    <a:pt x="933" y="439"/>
                    <a:pt x="933" y="439"/>
                    <a:pt x="933" y="439"/>
                  </a:cubicBezTo>
                  <a:cubicBezTo>
                    <a:pt x="934" y="445"/>
                    <a:pt x="934" y="445"/>
                    <a:pt x="934" y="445"/>
                  </a:cubicBezTo>
                  <a:cubicBezTo>
                    <a:pt x="936" y="450"/>
                    <a:pt x="936" y="450"/>
                    <a:pt x="936" y="450"/>
                  </a:cubicBezTo>
                  <a:cubicBezTo>
                    <a:pt x="937" y="456"/>
                    <a:pt x="937" y="456"/>
                    <a:pt x="937" y="456"/>
                  </a:cubicBezTo>
                  <a:cubicBezTo>
                    <a:pt x="938" y="461"/>
                    <a:pt x="938" y="461"/>
                    <a:pt x="938" y="461"/>
                  </a:cubicBezTo>
                  <a:cubicBezTo>
                    <a:pt x="940" y="467"/>
                    <a:pt x="940" y="467"/>
                    <a:pt x="940" y="467"/>
                  </a:cubicBezTo>
                  <a:cubicBezTo>
                    <a:pt x="941" y="473"/>
                    <a:pt x="941" y="473"/>
                    <a:pt x="941" y="473"/>
                  </a:cubicBezTo>
                  <a:cubicBezTo>
                    <a:pt x="943" y="478"/>
                    <a:pt x="943" y="478"/>
                    <a:pt x="943" y="478"/>
                  </a:cubicBezTo>
                  <a:cubicBezTo>
                    <a:pt x="944" y="484"/>
                    <a:pt x="944" y="484"/>
                    <a:pt x="944" y="484"/>
                  </a:cubicBezTo>
                  <a:cubicBezTo>
                    <a:pt x="945" y="489"/>
                    <a:pt x="945" y="489"/>
                    <a:pt x="945" y="489"/>
                  </a:cubicBezTo>
                  <a:cubicBezTo>
                    <a:pt x="947" y="495"/>
                    <a:pt x="947" y="495"/>
                    <a:pt x="947" y="495"/>
                  </a:cubicBezTo>
                  <a:cubicBezTo>
                    <a:pt x="948" y="501"/>
                    <a:pt x="948" y="501"/>
                    <a:pt x="948" y="501"/>
                  </a:cubicBezTo>
                  <a:cubicBezTo>
                    <a:pt x="950" y="506"/>
                    <a:pt x="950" y="506"/>
                    <a:pt x="950" y="506"/>
                  </a:cubicBezTo>
                  <a:cubicBezTo>
                    <a:pt x="951" y="512"/>
                    <a:pt x="951" y="512"/>
                    <a:pt x="951" y="512"/>
                  </a:cubicBezTo>
                  <a:cubicBezTo>
                    <a:pt x="953" y="518"/>
                    <a:pt x="953" y="518"/>
                    <a:pt x="953" y="518"/>
                  </a:cubicBezTo>
                  <a:cubicBezTo>
                    <a:pt x="954" y="523"/>
                    <a:pt x="954" y="523"/>
                    <a:pt x="954" y="523"/>
                  </a:cubicBezTo>
                  <a:cubicBezTo>
                    <a:pt x="955" y="529"/>
                    <a:pt x="955" y="529"/>
                    <a:pt x="955" y="529"/>
                  </a:cubicBezTo>
                  <a:cubicBezTo>
                    <a:pt x="957" y="535"/>
                    <a:pt x="957" y="535"/>
                    <a:pt x="957" y="535"/>
                  </a:cubicBezTo>
                  <a:cubicBezTo>
                    <a:pt x="958" y="540"/>
                    <a:pt x="958" y="540"/>
                    <a:pt x="958" y="540"/>
                  </a:cubicBezTo>
                  <a:cubicBezTo>
                    <a:pt x="960" y="546"/>
                    <a:pt x="960" y="546"/>
                    <a:pt x="960" y="546"/>
                  </a:cubicBezTo>
                  <a:cubicBezTo>
                    <a:pt x="961" y="552"/>
                    <a:pt x="961" y="552"/>
                    <a:pt x="961" y="552"/>
                  </a:cubicBezTo>
                  <a:cubicBezTo>
                    <a:pt x="962" y="557"/>
                    <a:pt x="962" y="557"/>
                    <a:pt x="962" y="557"/>
                  </a:cubicBezTo>
                  <a:cubicBezTo>
                    <a:pt x="964" y="563"/>
                    <a:pt x="964" y="563"/>
                    <a:pt x="964" y="563"/>
                  </a:cubicBezTo>
                  <a:cubicBezTo>
                    <a:pt x="965" y="569"/>
                    <a:pt x="965" y="569"/>
                    <a:pt x="965" y="569"/>
                  </a:cubicBezTo>
                  <a:cubicBezTo>
                    <a:pt x="967" y="574"/>
                    <a:pt x="967" y="574"/>
                    <a:pt x="967" y="574"/>
                  </a:cubicBezTo>
                  <a:cubicBezTo>
                    <a:pt x="968" y="580"/>
                    <a:pt x="968" y="580"/>
                    <a:pt x="968" y="580"/>
                  </a:cubicBezTo>
                  <a:cubicBezTo>
                    <a:pt x="970" y="586"/>
                    <a:pt x="970" y="586"/>
                    <a:pt x="970" y="586"/>
                  </a:cubicBezTo>
                  <a:cubicBezTo>
                    <a:pt x="971" y="591"/>
                    <a:pt x="971" y="591"/>
                    <a:pt x="971" y="591"/>
                  </a:cubicBezTo>
                  <a:cubicBezTo>
                    <a:pt x="972" y="597"/>
                    <a:pt x="972" y="597"/>
                    <a:pt x="972" y="597"/>
                  </a:cubicBezTo>
                  <a:cubicBezTo>
                    <a:pt x="974" y="603"/>
                    <a:pt x="974" y="603"/>
                    <a:pt x="974" y="603"/>
                  </a:cubicBezTo>
                  <a:cubicBezTo>
                    <a:pt x="975" y="608"/>
                    <a:pt x="975" y="608"/>
                    <a:pt x="975" y="608"/>
                  </a:cubicBezTo>
                  <a:cubicBezTo>
                    <a:pt x="977" y="614"/>
                    <a:pt x="977" y="614"/>
                    <a:pt x="977" y="614"/>
                  </a:cubicBezTo>
                  <a:cubicBezTo>
                    <a:pt x="978" y="619"/>
                    <a:pt x="978" y="619"/>
                    <a:pt x="978" y="619"/>
                  </a:cubicBezTo>
                  <a:cubicBezTo>
                    <a:pt x="979" y="625"/>
                    <a:pt x="979" y="625"/>
                    <a:pt x="979" y="625"/>
                  </a:cubicBezTo>
                  <a:cubicBezTo>
                    <a:pt x="981" y="631"/>
                    <a:pt x="981" y="631"/>
                    <a:pt x="981" y="631"/>
                  </a:cubicBezTo>
                  <a:cubicBezTo>
                    <a:pt x="982" y="636"/>
                    <a:pt x="982" y="636"/>
                    <a:pt x="982" y="636"/>
                  </a:cubicBezTo>
                  <a:cubicBezTo>
                    <a:pt x="984" y="642"/>
                    <a:pt x="984" y="642"/>
                    <a:pt x="984" y="642"/>
                  </a:cubicBezTo>
                  <a:cubicBezTo>
                    <a:pt x="985" y="648"/>
                    <a:pt x="985" y="648"/>
                    <a:pt x="985" y="648"/>
                  </a:cubicBezTo>
                  <a:cubicBezTo>
                    <a:pt x="987" y="653"/>
                    <a:pt x="987" y="653"/>
                    <a:pt x="987" y="653"/>
                  </a:cubicBezTo>
                  <a:cubicBezTo>
                    <a:pt x="988" y="659"/>
                    <a:pt x="988" y="659"/>
                    <a:pt x="988" y="659"/>
                  </a:cubicBezTo>
                  <a:cubicBezTo>
                    <a:pt x="989" y="664"/>
                    <a:pt x="989" y="664"/>
                    <a:pt x="989" y="664"/>
                  </a:cubicBezTo>
                  <a:cubicBezTo>
                    <a:pt x="991" y="670"/>
                    <a:pt x="991" y="670"/>
                    <a:pt x="991" y="670"/>
                  </a:cubicBezTo>
                  <a:cubicBezTo>
                    <a:pt x="992" y="676"/>
                    <a:pt x="992" y="676"/>
                    <a:pt x="992" y="676"/>
                  </a:cubicBezTo>
                  <a:cubicBezTo>
                    <a:pt x="994" y="681"/>
                    <a:pt x="994" y="681"/>
                    <a:pt x="994" y="681"/>
                  </a:cubicBezTo>
                  <a:cubicBezTo>
                    <a:pt x="995" y="687"/>
                    <a:pt x="995" y="687"/>
                    <a:pt x="995" y="687"/>
                  </a:cubicBezTo>
                  <a:cubicBezTo>
                    <a:pt x="997" y="692"/>
                    <a:pt x="997" y="692"/>
                    <a:pt x="997" y="692"/>
                  </a:cubicBezTo>
                  <a:cubicBezTo>
                    <a:pt x="998" y="698"/>
                    <a:pt x="998" y="698"/>
                    <a:pt x="998" y="698"/>
                  </a:cubicBezTo>
                  <a:cubicBezTo>
                    <a:pt x="999" y="703"/>
                    <a:pt x="999" y="703"/>
                    <a:pt x="999" y="703"/>
                  </a:cubicBezTo>
                  <a:cubicBezTo>
                    <a:pt x="1001" y="709"/>
                    <a:pt x="1001" y="709"/>
                    <a:pt x="1001" y="709"/>
                  </a:cubicBezTo>
                  <a:cubicBezTo>
                    <a:pt x="1002" y="714"/>
                    <a:pt x="1002" y="714"/>
                    <a:pt x="1002" y="714"/>
                  </a:cubicBezTo>
                  <a:cubicBezTo>
                    <a:pt x="1004" y="720"/>
                    <a:pt x="1004" y="720"/>
                    <a:pt x="1004" y="720"/>
                  </a:cubicBezTo>
                  <a:cubicBezTo>
                    <a:pt x="1005" y="725"/>
                    <a:pt x="1005" y="725"/>
                    <a:pt x="1005" y="725"/>
                  </a:cubicBezTo>
                  <a:cubicBezTo>
                    <a:pt x="1006" y="731"/>
                    <a:pt x="1006" y="731"/>
                    <a:pt x="1006" y="731"/>
                  </a:cubicBezTo>
                  <a:cubicBezTo>
                    <a:pt x="1008" y="736"/>
                    <a:pt x="1008" y="736"/>
                    <a:pt x="1008" y="736"/>
                  </a:cubicBezTo>
                  <a:cubicBezTo>
                    <a:pt x="1009" y="741"/>
                    <a:pt x="1009" y="741"/>
                    <a:pt x="1009" y="741"/>
                  </a:cubicBezTo>
                  <a:cubicBezTo>
                    <a:pt x="1011" y="747"/>
                    <a:pt x="1011" y="747"/>
                    <a:pt x="1011" y="747"/>
                  </a:cubicBezTo>
                  <a:cubicBezTo>
                    <a:pt x="1012" y="752"/>
                    <a:pt x="1012" y="752"/>
                    <a:pt x="1012" y="752"/>
                  </a:cubicBezTo>
                  <a:cubicBezTo>
                    <a:pt x="1014" y="758"/>
                    <a:pt x="1014" y="758"/>
                    <a:pt x="1014" y="758"/>
                  </a:cubicBezTo>
                  <a:cubicBezTo>
                    <a:pt x="1015" y="763"/>
                    <a:pt x="1015" y="763"/>
                    <a:pt x="1015" y="763"/>
                  </a:cubicBezTo>
                  <a:cubicBezTo>
                    <a:pt x="1016" y="768"/>
                    <a:pt x="1016" y="768"/>
                    <a:pt x="1016" y="768"/>
                  </a:cubicBezTo>
                  <a:cubicBezTo>
                    <a:pt x="1018" y="773"/>
                    <a:pt x="1018" y="773"/>
                    <a:pt x="1018" y="773"/>
                  </a:cubicBezTo>
                  <a:cubicBezTo>
                    <a:pt x="1021" y="784"/>
                    <a:pt x="1021" y="784"/>
                    <a:pt x="1021" y="784"/>
                  </a:cubicBezTo>
                  <a:cubicBezTo>
                    <a:pt x="1022" y="789"/>
                    <a:pt x="1022" y="789"/>
                    <a:pt x="1022" y="789"/>
                  </a:cubicBezTo>
                  <a:cubicBezTo>
                    <a:pt x="1023" y="794"/>
                    <a:pt x="1023" y="794"/>
                    <a:pt x="1023" y="794"/>
                  </a:cubicBezTo>
                  <a:cubicBezTo>
                    <a:pt x="1025" y="800"/>
                    <a:pt x="1025" y="800"/>
                    <a:pt x="1025" y="800"/>
                  </a:cubicBezTo>
                  <a:cubicBezTo>
                    <a:pt x="1026" y="805"/>
                    <a:pt x="1026" y="805"/>
                    <a:pt x="1026" y="805"/>
                  </a:cubicBezTo>
                  <a:cubicBezTo>
                    <a:pt x="1028" y="810"/>
                    <a:pt x="1028" y="810"/>
                    <a:pt x="1028" y="810"/>
                  </a:cubicBezTo>
                  <a:cubicBezTo>
                    <a:pt x="1029" y="815"/>
                    <a:pt x="1029" y="815"/>
                    <a:pt x="1029" y="815"/>
                  </a:cubicBezTo>
                  <a:cubicBezTo>
                    <a:pt x="1031" y="820"/>
                    <a:pt x="1031" y="820"/>
                    <a:pt x="1031" y="820"/>
                  </a:cubicBezTo>
                  <a:cubicBezTo>
                    <a:pt x="1032" y="825"/>
                    <a:pt x="1032" y="825"/>
                    <a:pt x="1032" y="825"/>
                  </a:cubicBezTo>
                  <a:cubicBezTo>
                    <a:pt x="1033" y="830"/>
                    <a:pt x="1033" y="830"/>
                    <a:pt x="1033" y="830"/>
                  </a:cubicBezTo>
                  <a:cubicBezTo>
                    <a:pt x="1035" y="835"/>
                    <a:pt x="1035" y="835"/>
                    <a:pt x="1035" y="835"/>
                  </a:cubicBezTo>
                  <a:cubicBezTo>
                    <a:pt x="1036" y="840"/>
                    <a:pt x="1036" y="840"/>
                    <a:pt x="1036" y="840"/>
                  </a:cubicBezTo>
                  <a:cubicBezTo>
                    <a:pt x="1038" y="845"/>
                    <a:pt x="1038" y="845"/>
                    <a:pt x="1038" y="845"/>
                  </a:cubicBezTo>
                  <a:cubicBezTo>
                    <a:pt x="1039" y="850"/>
                    <a:pt x="1039" y="850"/>
                    <a:pt x="1039" y="850"/>
                  </a:cubicBezTo>
                  <a:cubicBezTo>
                    <a:pt x="1040" y="855"/>
                    <a:pt x="1040" y="855"/>
                    <a:pt x="1040" y="855"/>
                  </a:cubicBezTo>
                  <a:cubicBezTo>
                    <a:pt x="1042" y="860"/>
                    <a:pt x="1042" y="860"/>
                    <a:pt x="1042" y="860"/>
                  </a:cubicBezTo>
                  <a:cubicBezTo>
                    <a:pt x="1043" y="865"/>
                    <a:pt x="1043" y="865"/>
                    <a:pt x="1043" y="865"/>
                  </a:cubicBezTo>
                  <a:cubicBezTo>
                    <a:pt x="1048" y="879"/>
                    <a:pt x="1048" y="879"/>
                    <a:pt x="1048" y="879"/>
                  </a:cubicBezTo>
                  <a:cubicBezTo>
                    <a:pt x="1050" y="888"/>
                    <a:pt x="1050" y="888"/>
                    <a:pt x="1050" y="888"/>
                  </a:cubicBezTo>
                  <a:cubicBezTo>
                    <a:pt x="1053" y="898"/>
                    <a:pt x="1053" y="898"/>
                    <a:pt x="1053" y="898"/>
                  </a:cubicBezTo>
                  <a:cubicBezTo>
                    <a:pt x="1056" y="907"/>
                    <a:pt x="1056" y="907"/>
                    <a:pt x="1056" y="907"/>
                  </a:cubicBezTo>
                  <a:cubicBezTo>
                    <a:pt x="1059" y="916"/>
                    <a:pt x="1059" y="916"/>
                    <a:pt x="1059" y="916"/>
                  </a:cubicBezTo>
                  <a:cubicBezTo>
                    <a:pt x="1062" y="925"/>
                    <a:pt x="1062" y="925"/>
                    <a:pt x="1062" y="925"/>
                  </a:cubicBezTo>
                  <a:cubicBezTo>
                    <a:pt x="1065" y="933"/>
                    <a:pt x="1065" y="933"/>
                    <a:pt x="1065" y="933"/>
                  </a:cubicBezTo>
                  <a:cubicBezTo>
                    <a:pt x="1067" y="942"/>
                    <a:pt x="1067" y="942"/>
                    <a:pt x="1067" y="942"/>
                  </a:cubicBezTo>
                  <a:cubicBezTo>
                    <a:pt x="1070" y="950"/>
                    <a:pt x="1070" y="950"/>
                    <a:pt x="1070" y="950"/>
                  </a:cubicBezTo>
                  <a:cubicBezTo>
                    <a:pt x="1073" y="959"/>
                    <a:pt x="1073" y="959"/>
                    <a:pt x="1073" y="959"/>
                  </a:cubicBezTo>
                  <a:cubicBezTo>
                    <a:pt x="1076" y="967"/>
                    <a:pt x="1076" y="967"/>
                    <a:pt x="1076" y="967"/>
                  </a:cubicBezTo>
                  <a:cubicBezTo>
                    <a:pt x="1079" y="975"/>
                    <a:pt x="1079" y="975"/>
                    <a:pt x="1079" y="975"/>
                  </a:cubicBezTo>
                  <a:cubicBezTo>
                    <a:pt x="1082" y="983"/>
                    <a:pt x="1082" y="983"/>
                    <a:pt x="1082" y="983"/>
                  </a:cubicBezTo>
                  <a:cubicBezTo>
                    <a:pt x="1084" y="990"/>
                    <a:pt x="1084" y="990"/>
                    <a:pt x="1084" y="990"/>
                  </a:cubicBezTo>
                  <a:cubicBezTo>
                    <a:pt x="1087" y="998"/>
                    <a:pt x="1087" y="998"/>
                    <a:pt x="1087" y="998"/>
                  </a:cubicBezTo>
                  <a:cubicBezTo>
                    <a:pt x="1090" y="1005"/>
                    <a:pt x="1090" y="1005"/>
                    <a:pt x="1090" y="1005"/>
                  </a:cubicBezTo>
                  <a:cubicBezTo>
                    <a:pt x="1093" y="1012"/>
                    <a:pt x="1093" y="1012"/>
                    <a:pt x="1093" y="1012"/>
                  </a:cubicBezTo>
                  <a:cubicBezTo>
                    <a:pt x="1096" y="1019"/>
                    <a:pt x="1096" y="1019"/>
                    <a:pt x="1096" y="1019"/>
                  </a:cubicBezTo>
                  <a:cubicBezTo>
                    <a:pt x="1099" y="1026"/>
                    <a:pt x="1099" y="1026"/>
                    <a:pt x="1099" y="1026"/>
                  </a:cubicBezTo>
                  <a:cubicBezTo>
                    <a:pt x="1101" y="1032"/>
                    <a:pt x="1101" y="1032"/>
                    <a:pt x="1101" y="1032"/>
                  </a:cubicBezTo>
                  <a:cubicBezTo>
                    <a:pt x="1104" y="1039"/>
                    <a:pt x="1104" y="1039"/>
                    <a:pt x="1104" y="1039"/>
                  </a:cubicBezTo>
                  <a:cubicBezTo>
                    <a:pt x="1107" y="1045"/>
                    <a:pt x="1107" y="1045"/>
                    <a:pt x="1107" y="1045"/>
                  </a:cubicBezTo>
                  <a:cubicBezTo>
                    <a:pt x="1110" y="1051"/>
                    <a:pt x="1110" y="1051"/>
                    <a:pt x="1110" y="1051"/>
                  </a:cubicBezTo>
                  <a:cubicBezTo>
                    <a:pt x="1113" y="1057"/>
                    <a:pt x="1113" y="1057"/>
                    <a:pt x="1113" y="1057"/>
                  </a:cubicBezTo>
                  <a:cubicBezTo>
                    <a:pt x="1116" y="1062"/>
                    <a:pt x="1116" y="1062"/>
                    <a:pt x="1116" y="1062"/>
                  </a:cubicBezTo>
                  <a:cubicBezTo>
                    <a:pt x="1118" y="1068"/>
                    <a:pt x="1118" y="1068"/>
                    <a:pt x="1118" y="1068"/>
                  </a:cubicBezTo>
                  <a:cubicBezTo>
                    <a:pt x="1121" y="1073"/>
                    <a:pt x="1121" y="1073"/>
                    <a:pt x="1121" y="1073"/>
                  </a:cubicBezTo>
                  <a:cubicBezTo>
                    <a:pt x="1124" y="1078"/>
                    <a:pt x="1124" y="1078"/>
                    <a:pt x="1124" y="1078"/>
                  </a:cubicBezTo>
                  <a:cubicBezTo>
                    <a:pt x="1127" y="1083"/>
                    <a:pt x="1127" y="1083"/>
                    <a:pt x="1127" y="1083"/>
                  </a:cubicBezTo>
                  <a:cubicBezTo>
                    <a:pt x="1130" y="1087"/>
                    <a:pt x="1130" y="1087"/>
                    <a:pt x="1130" y="1087"/>
                  </a:cubicBezTo>
                  <a:cubicBezTo>
                    <a:pt x="1133" y="1092"/>
                    <a:pt x="1133" y="1092"/>
                    <a:pt x="1133" y="1092"/>
                  </a:cubicBezTo>
                  <a:cubicBezTo>
                    <a:pt x="1138" y="1100"/>
                    <a:pt x="1138" y="1100"/>
                    <a:pt x="1138" y="1100"/>
                  </a:cubicBezTo>
                  <a:cubicBezTo>
                    <a:pt x="1144" y="1107"/>
                    <a:pt x="1144" y="1107"/>
                    <a:pt x="1144" y="1107"/>
                  </a:cubicBezTo>
                  <a:cubicBezTo>
                    <a:pt x="1150" y="1114"/>
                    <a:pt x="1150" y="1114"/>
                    <a:pt x="1150" y="1114"/>
                  </a:cubicBezTo>
                  <a:cubicBezTo>
                    <a:pt x="1155" y="1119"/>
                    <a:pt x="1155" y="1119"/>
                    <a:pt x="1155" y="1119"/>
                  </a:cubicBezTo>
                  <a:cubicBezTo>
                    <a:pt x="1161" y="1124"/>
                    <a:pt x="1161" y="1124"/>
                    <a:pt x="1161" y="1124"/>
                  </a:cubicBezTo>
                  <a:cubicBezTo>
                    <a:pt x="1167" y="1128"/>
                    <a:pt x="1167" y="1128"/>
                    <a:pt x="1167" y="1128"/>
                  </a:cubicBezTo>
                  <a:cubicBezTo>
                    <a:pt x="1172" y="1131"/>
                    <a:pt x="1172" y="1131"/>
                    <a:pt x="1172" y="1131"/>
                  </a:cubicBezTo>
                  <a:cubicBezTo>
                    <a:pt x="1178" y="1133"/>
                    <a:pt x="1178" y="1133"/>
                    <a:pt x="1178" y="1133"/>
                  </a:cubicBezTo>
                  <a:cubicBezTo>
                    <a:pt x="1184" y="1134"/>
                    <a:pt x="1184" y="1134"/>
                    <a:pt x="1184" y="1134"/>
                  </a:cubicBezTo>
                  <a:cubicBezTo>
                    <a:pt x="1189" y="1134"/>
                    <a:pt x="1189" y="1134"/>
                    <a:pt x="1189" y="1134"/>
                  </a:cubicBezTo>
                  <a:cubicBezTo>
                    <a:pt x="1195" y="1133"/>
                    <a:pt x="1195" y="1133"/>
                    <a:pt x="1195" y="1133"/>
                  </a:cubicBezTo>
                  <a:cubicBezTo>
                    <a:pt x="1201" y="1132"/>
                    <a:pt x="1201" y="1132"/>
                    <a:pt x="1201" y="1132"/>
                  </a:cubicBezTo>
                  <a:cubicBezTo>
                    <a:pt x="1206" y="1129"/>
                    <a:pt x="1206" y="1129"/>
                    <a:pt x="1206" y="1129"/>
                  </a:cubicBezTo>
                  <a:cubicBezTo>
                    <a:pt x="1212" y="1126"/>
                    <a:pt x="1212" y="1126"/>
                    <a:pt x="1212" y="1126"/>
                  </a:cubicBezTo>
                  <a:cubicBezTo>
                    <a:pt x="1218" y="1121"/>
                    <a:pt x="1218" y="1121"/>
                    <a:pt x="1218" y="1121"/>
                  </a:cubicBezTo>
                  <a:cubicBezTo>
                    <a:pt x="1223" y="1116"/>
                    <a:pt x="1223" y="1116"/>
                    <a:pt x="1223" y="1116"/>
                  </a:cubicBezTo>
                  <a:cubicBezTo>
                    <a:pt x="1229" y="1110"/>
                    <a:pt x="1229" y="1110"/>
                    <a:pt x="1229" y="1110"/>
                  </a:cubicBezTo>
                  <a:cubicBezTo>
                    <a:pt x="1235" y="1103"/>
                    <a:pt x="1235" y="1103"/>
                    <a:pt x="1235" y="1103"/>
                  </a:cubicBezTo>
                  <a:cubicBezTo>
                    <a:pt x="1240" y="1095"/>
                    <a:pt x="1240" y="1095"/>
                    <a:pt x="1240" y="1095"/>
                  </a:cubicBezTo>
                  <a:cubicBezTo>
                    <a:pt x="1246" y="1087"/>
                    <a:pt x="1246" y="1087"/>
                    <a:pt x="1246" y="1087"/>
                  </a:cubicBezTo>
                  <a:cubicBezTo>
                    <a:pt x="1249" y="1082"/>
                    <a:pt x="1249" y="1082"/>
                    <a:pt x="1249" y="1082"/>
                  </a:cubicBezTo>
                  <a:cubicBezTo>
                    <a:pt x="1252" y="1077"/>
                    <a:pt x="1252" y="1077"/>
                    <a:pt x="1252" y="1077"/>
                  </a:cubicBezTo>
                  <a:cubicBezTo>
                    <a:pt x="1254" y="1072"/>
                    <a:pt x="1254" y="1072"/>
                    <a:pt x="1254" y="1072"/>
                  </a:cubicBezTo>
                  <a:cubicBezTo>
                    <a:pt x="1257" y="1067"/>
                    <a:pt x="1257" y="1067"/>
                    <a:pt x="1257" y="1067"/>
                  </a:cubicBezTo>
                  <a:cubicBezTo>
                    <a:pt x="1260" y="1061"/>
                    <a:pt x="1260" y="1061"/>
                    <a:pt x="1260" y="1061"/>
                  </a:cubicBezTo>
                  <a:cubicBezTo>
                    <a:pt x="1263" y="1056"/>
                    <a:pt x="1263" y="1056"/>
                    <a:pt x="1263" y="1056"/>
                  </a:cubicBezTo>
                  <a:cubicBezTo>
                    <a:pt x="1266" y="1050"/>
                    <a:pt x="1266" y="1050"/>
                    <a:pt x="1266" y="1050"/>
                  </a:cubicBezTo>
                  <a:cubicBezTo>
                    <a:pt x="1269" y="1044"/>
                    <a:pt x="1269" y="1044"/>
                    <a:pt x="1269" y="1044"/>
                  </a:cubicBezTo>
                  <a:cubicBezTo>
                    <a:pt x="1271" y="1038"/>
                    <a:pt x="1271" y="1038"/>
                    <a:pt x="1271" y="1038"/>
                  </a:cubicBezTo>
                  <a:cubicBezTo>
                    <a:pt x="1274" y="1031"/>
                    <a:pt x="1274" y="1031"/>
                    <a:pt x="1274" y="1031"/>
                  </a:cubicBezTo>
                  <a:cubicBezTo>
                    <a:pt x="1277" y="1025"/>
                    <a:pt x="1277" y="1025"/>
                    <a:pt x="1277" y="1025"/>
                  </a:cubicBezTo>
                  <a:cubicBezTo>
                    <a:pt x="1280" y="1018"/>
                    <a:pt x="1280" y="1018"/>
                    <a:pt x="1280" y="1018"/>
                  </a:cubicBezTo>
                  <a:cubicBezTo>
                    <a:pt x="1283" y="1011"/>
                    <a:pt x="1283" y="1011"/>
                    <a:pt x="1283" y="1011"/>
                  </a:cubicBezTo>
                  <a:cubicBezTo>
                    <a:pt x="1286" y="1004"/>
                    <a:pt x="1286" y="1004"/>
                    <a:pt x="1286" y="1004"/>
                  </a:cubicBezTo>
                  <a:cubicBezTo>
                    <a:pt x="1289" y="996"/>
                    <a:pt x="1289" y="996"/>
                    <a:pt x="1289" y="996"/>
                  </a:cubicBezTo>
                  <a:cubicBezTo>
                    <a:pt x="1291" y="989"/>
                    <a:pt x="1291" y="989"/>
                    <a:pt x="1291" y="989"/>
                  </a:cubicBezTo>
                  <a:cubicBezTo>
                    <a:pt x="1294" y="981"/>
                    <a:pt x="1294" y="981"/>
                    <a:pt x="1294" y="981"/>
                  </a:cubicBezTo>
                  <a:cubicBezTo>
                    <a:pt x="1297" y="973"/>
                    <a:pt x="1297" y="973"/>
                    <a:pt x="1297" y="973"/>
                  </a:cubicBezTo>
                  <a:cubicBezTo>
                    <a:pt x="1300" y="965"/>
                    <a:pt x="1300" y="965"/>
                    <a:pt x="1300" y="965"/>
                  </a:cubicBezTo>
                  <a:cubicBezTo>
                    <a:pt x="1303" y="957"/>
                    <a:pt x="1303" y="957"/>
                    <a:pt x="1303" y="957"/>
                  </a:cubicBezTo>
                  <a:cubicBezTo>
                    <a:pt x="1306" y="949"/>
                    <a:pt x="1306" y="949"/>
                    <a:pt x="1306" y="949"/>
                  </a:cubicBezTo>
                  <a:cubicBezTo>
                    <a:pt x="1308" y="940"/>
                    <a:pt x="1308" y="940"/>
                    <a:pt x="1308" y="940"/>
                  </a:cubicBezTo>
                  <a:cubicBezTo>
                    <a:pt x="1311" y="932"/>
                    <a:pt x="1311" y="932"/>
                    <a:pt x="1311" y="932"/>
                  </a:cubicBezTo>
                  <a:cubicBezTo>
                    <a:pt x="1314" y="923"/>
                    <a:pt x="1314" y="923"/>
                    <a:pt x="1314" y="923"/>
                  </a:cubicBezTo>
                  <a:cubicBezTo>
                    <a:pt x="1317" y="914"/>
                    <a:pt x="1317" y="914"/>
                    <a:pt x="1317" y="914"/>
                  </a:cubicBezTo>
                  <a:cubicBezTo>
                    <a:pt x="1320" y="905"/>
                    <a:pt x="1320" y="905"/>
                    <a:pt x="1320" y="905"/>
                  </a:cubicBezTo>
                  <a:cubicBezTo>
                    <a:pt x="1323" y="896"/>
                    <a:pt x="1323" y="896"/>
                    <a:pt x="1323" y="896"/>
                  </a:cubicBezTo>
                  <a:cubicBezTo>
                    <a:pt x="1325" y="887"/>
                    <a:pt x="1325" y="887"/>
                    <a:pt x="1325" y="887"/>
                  </a:cubicBezTo>
                  <a:cubicBezTo>
                    <a:pt x="1328" y="877"/>
                    <a:pt x="1328" y="877"/>
                    <a:pt x="1328" y="877"/>
                  </a:cubicBezTo>
                  <a:cubicBezTo>
                    <a:pt x="1331" y="868"/>
                    <a:pt x="1331" y="868"/>
                    <a:pt x="1331" y="868"/>
                  </a:cubicBezTo>
                  <a:cubicBezTo>
                    <a:pt x="1332" y="863"/>
                    <a:pt x="1332" y="863"/>
                    <a:pt x="1332" y="863"/>
                  </a:cubicBezTo>
                  <a:cubicBezTo>
                    <a:pt x="1334" y="858"/>
                    <a:pt x="1334" y="858"/>
                    <a:pt x="1334" y="858"/>
                  </a:cubicBezTo>
                  <a:cubicBezTo>
                    <a:pt x="1335" y="853"/>
                    <a:pt x="1335" y="853"/>
                    <a:pt x="1335" y="853"/>
                  </a:cubicBezTo>
                  <a:cubicBezTo>
                    <a:pt x="1337" y="848"/>
                    <a:pt x="1337" y="848"/>
                    <a:pt x="1337" y="848"/>
                  </a:cubicBezTo>
                  <a:cubicBezTo>
                    <a:pt x="1338" y="843"/>
                    <a:pt x="1338" y="843"/>
                    <a:pt x="1338" y="843"/>
                  </a:cubicBezTo>
                  <a:cubicBezTo>
                    <a:pt x="1340" y="838"/>
                    <a:pt x="1340" y="838"/>
                    <a:pt x="1340" y="838"/>
                  </a:cubicBezTo>
                  <a:cubicBezTo>
                    <a:pt x="1341" y="833"/>
                    <a:pt x="1341" y="833"/>
                    <a:pt x="1341" y="833"/>
                  </a:cubicBezTo>
                  <a:cubicBezTo>
                    <a:pt x="1342" y="828"/>
                    <a:pt x="1342" y="828"/>
                    <a:pt x="1342" y="828"/>
                  </a:cubicBezTo>
                  <a:cubicBezTo>
                    <a:pt x="1344" y="823"/>
                    <a:pt x="1344" y="823"/>
                    <a:pt x="1344" y="823"/>
                  </a:cubicBezTo>
                  <a:cubicBezTo>
                    <a:pt x="1345" y="818"/>
                    <a:pt x="1345" y="818"/>
                    <a:pt x="1345" y="818"/>
                  </a:cubicBezTo>
                  <a:cubicBezTo>
                    <a:pt x="1347" y="813"/>
                    <a:pt x="1347" y="813"/>
                    <a:pt x="1347" y="813"/>
                  </a:cubicBezTo>
                  <a:cubicBezTo>
                    <a:pt x="1348" y="808"/>
                    <a:pt x="1348" y="808"/>
                    <a:pt x="1348" y="808"/>
                  </a:cubicBezTo>
                  <a:cubicBezTo>
                    <a:pt x="1349" y="803"/>
                    <a:pt x="1349" y="803"/>
                    <a:pt x="1349" y="803"/>
                  </a:cubicBezTo>
                  <a:cubicBezTo>
                    <a:pt x="1351" y="798"/>
                    <a:pt x="1351" y="798"/>
                    <a:pt x="1351" y="798"/>
                  </a:cubicBezTo>
                  <a:cubicBezTo>
                    <a:pt x="1352" y="792"/>
                    <a:pt x="1352" y="792"/>
                    <a:pt x="1352" y="792"/>
                  </a:cubicBezTo>
                  <a:cubicBezTo>
                    <a:pt x="1354" y="787"/>
                    <a:pt x="1354" y="787"/>
                    <a:pt x="1354" y="787"/>
                  </a:cubicBezTo>
                  <a:cubicBezTo>
                    <a:pt x="1355" y="782"/>
                    <a:pt x="1355" y="782"/>
                    <a:pt x="1355" y="782"/>
                  </a:cubicBezTo>
                  <a:cubicBezTo>
                    <a:pt x="1357" y="777"/>
                    <a:pt x="1357" y="777"/>
                    <a:pt x="1357" y="777"/>
                  </a:cubicBezTo>
                  <a:cubicBezTo>
                    <a:pt x="1358" y="771"/>
                    <a:pt x="1358" y="771"/>
                    <a:pt x="1358" y="771"/>
                  </a:cubicBezTo>
                  <a:cubicBezTo>
                    <a:pt x="1359" y="766"/>
                    <a:pt x="1359" y="766"/>
                    <a:pt x="1359" y="766"/>
                  </a:cubicBezTo>
                  <a:cubicBezTo>
                    <a:pt x="1361" y="761"/>
                    <a:pt x="1361" y="761"/>
                    <a:pt x="1361" y="761"/>
                  </a:cubicBezTo>
                  <a:cubicBezTo>
                    <a:pt x="1362" y="756"/>
                    <a:pt x="1362" y="756"/>
                    <a:pt x="1362" y="756"/>
                  </a:cubicBezTo>
                  <a:cubicBezTo>
                    <a:pt x="1364" y="750"/>
                    <a:pt x="1364" y="750"/>
                    <a:pt x="1364" y="750"/>
                  </a:cubicBezTo>
                  <a:cubicBezTo>
                    <a:pt x="1365" y="745"/>
                    <a:pt x="1365" y="745"/>
                    <a:pt x="1365" y="745"/>
                  </a:cubicBezTo>
                  <a:cubicBezTo>
                    <a:pt x="1368" y="734"/>
                    <a:pt x="1368" y="734"/>
                    <a:pt x="1368" y="734"/>
                  </a:cubicBezTo>
                  <a:cubicBezTo>
                    <a:pt x="1369" y="729"/>
                    <a:pt x="1369" y="729"/>
                    <a:pt x="1369" y="729"/>
                  </a:cubicBezTo>
                  <a:cubicBezTo>
                    <a:pt x="1371" y="723"/>
                    <a:pt x="1371" y="723"/>
                    <a:pt x="1371" y="723"/>
                  </a:cubicBezTo>
                  <a:cubicBezTo>
                    <a:pt x="1372" y="718"/>
                    <a:pt x="1372" y="718"/>
                    <a:pt x="1372" y="718"/>
                  </a:cubicBezTo>
                  <a:cubicBezTo>
                    <a:pt x="1374" y="712"/>
                    <a:pt x="1374" y="712"/>
                    <a:pt x="1374" y="712"/>
                  </a:cubicBezTo>
                  <a:cubicBezTo>
                    <a:pt x="1375" y="707"/>
                    <a:pt x="1375" y="707"/>
                    <a:pt x="1375" y="707"/>
                  </a:cubicBezTo>
                  <a:cubicBezTo>
                    <a:pt x="1376" y="701"/>
                    <a:pt x="1376" y="701"/>
                    <a:pt x="1376" y="701"/>
                  </a:cubicBezTo>
                  <a:cubicBezTo>
                    <a:pt x="1378" y="696"/>
                    <a:pt x="1378" y="696"/>
                    <a:pt x="1378" y="696"/>
                  </a:cubicBezTo>
                  <a:cubicBezTo>
                    <a:pt x="1379" y="690"/>
                    <a:pt x="1379" y="690"/>
                    <a:pt x="1379" y="690"/>
                  </a:cubicBezTo>
                  <a:cubicBezTo>
                    <a:pt x="1381" y="685"/>
                    <a:pt x="1381" y="685"/>
                    <a:pt x="1381" y="685"/>
                  </a:cubicBezTo>
                  <a:cubicBezTo>
                    <a:pt x="1382" y="679"/>
                    <a:pt x="1382" y="679"/>
                    <a:pt x="1382" y="679"/>
                  </a:cubicBezTo>
                  <a:cubicBezTo>
                    <a:pt x="1383" y="673"/>
                    <a:pt x="1383" y="673"/>
                    <a:pt x="1383" y="673"/>
                  </a:cubicBezTo>
                  <a:cubicBezTo>
                    <a:pt x="1385" y="668"/>
                    <a:pt x="1385" y="668"/>
                    <a:pt x="1385" y="668"/>
                  </a:cubicBezTo>
                  <a:cubicBezTo>
                    <a:pt x="1386" y="662"/>
                    <a:pt x="1386" y="662"/>
                    <a:pt x="1386" y="662"/>
                  </a:cubicBezTo>
                  <a:cubicBezTo>
                    <a:pt x="1388" y="657"/>
                    <a:pt x="1388" y="657"/>
                    <a:pt x="1388" y="657"/>
                  </a:cubicBezTo>
                  <a:cubicBezTo>
                    <a:pt x="1389" y="651"/>
                    <a:pt x="1389" y="651"/>
                    <a:pt x="1389" y="651"/>
                  </a:cubicBezTo>
                  <a:cubicBezTo>
                    <a:pt x="1391" y="646"/>
                    <a:pt x="1391" y="646"/>
                    <a:pt x="1391" y="646"/>
                  </a:cubicBezTo>
                  <a:cubicBezTo>
                    <a:pt x="1392" y="640"/>
                    <a:pt x="1392" y="640"/>
                    <a:pt x="1392" y="640"/>
                  </a:cubicBezTo>
                  <a:cubicBezTo>
                    <a:pt x="1393" y="634"/>
                    <a:pt x="1393" y="634"/>
                    <a:pt x="1393" y="634"/>
                  </a:cubicBezTo>
                  <a:cubicBezTo>
                    <a:pt x="1395" y="629"/>
                    <a:pt x="1395" y="629"/>
                    <a:pt x="1395" y="629"/>
                  </a:cubicBezTo>
                  <a:cubicBezTo>
                    <a:pt x="1396" y="623"/>
                    <a:pt x="1396" y="623"/>
                    <a:pt x="1396" y="623"/>
                  </a:cubicBezTo>
                  <a:cubicBezTo>
                    <a:pt x="1398" y="617"/>
                    <a:pt x="1398" y="617"/>
                    <a:pt x="1398" y="617"/>
                  </a:cubicBezTo>
                  <a:cubicBezTo>
                    <a:pt x="1399" y="612"/>
                    <a:pt x="1399" y="612"/>
                    <a:pt x="1399" y="612"/>
                  </a:cubicBezTo>
                  <a:cubicBezTo>
                    <a:pt x="1400" y="606"/>
                    <a:pt x="1400" y="606"/>
                    <a:pt x="1400" y="606"/>
                  </a:cubicBezTo>
                  <a:cubicBezTo>
                    <a:pt x="1402" y="600"/>
                    <a:pt x="1402" y="600"/>
                    <a:pt x="1402" y="600"/>
                  </a:cubicBezTo>
                  <a:cubicBezTo>
                    <a:pt x="1403" y="595"/>
                    <a:pt x="1403" y="595"/>
                    <a:pt x="1403" y="595"/>
                  </a:cubicBezTo>
                  <a:cubicBezTo>
                    <a:pt x="1405" y="589"/>
                    <a:pt x="1405" y="589"/>
                    <a:pt x="1405" y="589"/>
                  </a:cubicBezTo>
                  <a:cubicBezTo>
                    <a:pt x="1406" y="583"/>
                    <a:pt x="1406" y="583"/>
                    <a:pt x="1406" y="583"/>
                  </a:cubicBezTo>
                  <a:cubicBezTo>
                    <a:pt x="1408" y="578"/>
                    <a:pt x="1408" y="578"/>
                    <a:pt x="1408" y="578"/>
                  </a:cubicBezTo>
                  <a:cubicBezTo>
                    <a:pt x="1409" y="572"/>
                    <a:pt x="1409" y="572"/>
                    <a:pt x="1409" y="572"/>
                  </a:cubicBezTo>
                  <a:cubicBezTo>
                    <a:pt x="1410" y="566"/>
                    <a:pt x="1410" y="566"/>
                    <a:pt x="1410" y="566"/>
                  </a:cubicBezTo>
                  <a:cubicBezTo>
                    <a:pt x="1412" y="561"/>
                    <a:pt x="1412" y="561"/>
                    <a:pt x="1412" y="561"/>
                  </a:cubicBezTo>
                  <a:cubicBezTo>
                    <a:pt x="1413" y="555"/>
                    <a:pt x="1413" y="555"/>
                    <a:pt x="1413" y="555"/>
                  </a:cubicBezTo>
                  <a:cubicBezTo>
                    <a:pt x="1415" y="549"/>
                    <a:pt x="1415" y="549"/>
                    <a:pt x="1415" y="549"/>
                  </a:cubicBezTo>
                  <a:cubicBezTo>
                    <a:pt x="1416" y="544"/>
                    <a:pt x="1416" y="544"/>
                    <a:pt x="1416" y="544"/>
                  </a:cubicBezTo>
                  <a:cubicBezTo>
                    <a:pt x="1418" y="538"/>
                    <a:pt x="1418" y="538"/>
                    <a:pt x="1418" y="538"/>
                  </a:cubicBezTo>
                  <a:cubicBezTo>
                    <a:pt x="1419" y="532"/>
                    <a:pt x="1419" y="532"/>
                    <a:pt x="1419" y="532"/>
                  </a:cubicBezTo>
                  <a:cubicBezTo>
                    <a:pt x="1420" y="527"/>
                    <a:pt x="1420" y="527"/>
                    <a:pt x="1420" y="527"/>
                  </a:cubicBezTo>
                  <a:cubicBezTo>
                    <a:pt x="1422" y="521"/>
                    <a:pt x="1422" y="521"/>
                    <a:pt x="1422" y="521"/>
                  </a:cubicBezTo>
                  <a:cubicBezTo>
                    <a:pt x="1423" y="515"/>
                    <a:pt x="1423" y="515"/>
                    <a:pt x="1423" y="515"/>
                  </a:cubicBezTo>
                  <a:cubicBezTo>
                    <a:pt x="1425" y="510"/>
                    <a:pt x="1425" y="510"/>
                    <a:pt x="1425" y="510"/>
                  </a:cubicBezTo>
                  <a:cubicBezTo>
                    <a:pt x="1426" y="504"/>
                    <a:pt x="1426" y="504"/>
                    <a:pt x="1426" y="504"/>
                  </a:cubicBezTo>
                  <a:cubicBezTo>
                    <a:pt x="1427" y="499"/>
                    <a:pt x="1427" y="499"/>
                    <a:pt x="1427" y="499"/>
                  </a:cubicBezTo>
                  <a:cubicBezTo>
                    <a:pt x="1429" y="493"/>
                    <a:pt x="1429" y="493"/>
                    <a:pt x="1429" y="493"/>
                  </a:cubicBezTo>
                  <a:cubicBezTo>
                    <a:pt x="1430" y="487"/>
                    <a:pt x="1430" y="487"/>
                    <a:pt x="1430" y="487"/>
                  </a:cubicBezTo>
                  <a:cubicBezTo>
                    <a:pt x="1432" y="482"/>
                    <a:pt x="1432" y="482"/>
                    <a:pt x="1432" y="482"/>
                  </a:cubicBezTo>
                  <a:cubicBezTo>
                    <a:pt x="1433" y="476"/>
                    <a:pt x="1433" y="476"/>
                    <a:pt x="1433" y="476"/>
                  </a:cubicBezTo>
                  <a:cubicBezTo>
                    <a:pt x="1435" y="470"/>
                    <a:pt x="1435" y="470"/>
                    <a:pt x="1435" y="470"/>
                  </a:cubicBezTo>
                  <a:cubicBezTo>
                    <a:pt x="1436" y="465"/>
                    <a:pt x="1436" y="465"/>
                    <a:pt x="1436" y="465"/>
                  </a:cubicBezTo>
                  <a:cubicBezTo>
                    <a:pt x="1437" y="459"/>
                    <a:pt x="1437" y="459"/>
                    <a:pt x="1437" y="459"/>
                  </a:cubicBezTo>
                  <a:cubicBezTo>
                    <a:pt x="1439" y="454"/>
                    <a:pt x="1439" y="454"/>
                    <a:pt x="1439" y="454"/>
                  </a:cubicBezTo>
                  <a:cubicBezTo>
                    <a:pt x="1440" y="448"/>
                    <a:pt x="1440" y="448"/>
                    <a:pt x="1440" y="448"/>
                  </a:cubicBezTo>
                  <a:cubicBezTo>
                    <a:pt x="1442" y="443"/>
                    <a:pt x="1442" y="443"/>
                    <a:pt x="1442" y="443"/>
                  </a:cubicBezTo>
                  <a:cubicBezTo>
                    <a:pt x="1443" y="437"/>
                    <a:pt x="1443" y="437"/>
                    <a:pt x="1443" y="437"/>
                  </a:cubicBezTo>
                  <a:cubicBezTo>
                    <a:pt x="1444" y="432"/>
                    <a:pt x="1444" y="432"/>
                    <a:pt x="1444" y="432"/>
                  </a:cubicBezTo>
                  <a:cubicBezTo>
                    <a:pt x="1446" y="426"/>
                    <a:pt x="1446" y="426"/>
                    <a:pt x="1446" y="426"/>
                  </a:cubicBezTo>
                  <a:cubicBezTo>
                    <a:pt x="1447" y="421"/>
                    <a:pt x="1447" y="421"/>
                    <a:pt x="1447" y="421"/>
                  </a:cubicBezTo>
                  <a:cubicBezTo>
                    <a:pt x="1449" y="415"/>
                    <a:pt x="1449" y="415"/>
                    <a:pt x="1449" y="415"/>
                  </a:cubicBezTo>
                  <a:cubicBezTo>
                    <a:pt x="1450" y="410"/>
                    <a:pt x="1450" y="410"/>
                    <a:pt x="1450" y="410"/>
                  </a:cubicBezTo>
                  <a:cubicBezTo>
                    <a:pt x="1452" y="404"/>
                    <a:pt x="1452" y="404"/>
                    <a:pt x="1452" y="404"/>
                  </a:cubicBezTo>
                  <a:cubicBezTo>
                    <a:pt x="1453" y="399"/>
                    <a:pt x="1453" y="399"/>
                    <a:pt x="1453" y="399"/>
                  </a:cubicBezTo>
                  <a:cubicBezTo>
                    <a:pt x="1454" y="393"/>
                    <a:pt x="1454" y="393"/>
                    <a:pt x="1454" y="393"/>
                  </a:cubicBezTo>
                  <a:cubicBezTo>
                    <a:pt x="1457" y="383"/>
                    <a:pt x="1457" y="383"/>
                    <a:pt x="1457" y="383"/>
                  </a:cubicBezTo>
                  <a:cubicBezTo>
                    <a:pt x="1459" y="377"/>
                    <a:pt x="1459" y="377"/>
                    <a:pt x="1459" y="377"/>
                  </a:cubicBezTo>
                  <a:cubicBezTo>
                    <a:pt x="1460" y="372"/>
                    <a:pt x="1460" y="372"/>
                    <a:pt x="1460" y="372"/>
                  </a:cubicBezTo>
                  <a:cubicBezTo>
                    <a:pt x="1461" y="367"/>
                    <a:pt x="1461" y="367"/>
                    <a:pt x="1461" y="367"/>
                  </a:cubicBezTo>
                  <a:cubicBezTo>
                    <a:pt x="1463" y="361"/>
                    <a:pt x="1463" y="361"/>
                    <a:pt x="1463" y="361"/>
                  </a:cubicBezTo>
                  <a:cubicBezTo>
                    <a:pt x="1464" y="356"/>
                    <a:pt x="1464" y="356"/>
                    <a:pt x="1464" y="356"/>
                  </a:cubicBezTo>
                  <a:cubicBezTo>
                    <a:pt x="1466" y="351"/>
                    <a:pt x="1466" y="351"/>
                    <a:pt x="1466" y="351"/>
                  </a:cubicBezTo>
                  <a:cubicBezTo>
                    <a:pt x="1467" y="346"/>
                    <a:pt x="1467" y="346"/>
                    <a:pt x="1467" y="346"/>
                  </a:cubicBezTo>
                  <a:cubicBezTo>
                    <a:pt x="1469" y="340"/>
                    <a:pt x="1469" y="340"/>
                    <a:pt x="1469" y="340"/>
                  </a:cubicBezTo>
                  <a:cubicBezTo>
                    <a:pt x="1470" y="335"/>
                    <a:pt x="1470" y="335"/>
                    <a:pt x="1470" y="335"/>
                  </a:cubicBezTo>
                  <a:cubicBezTo>
                    <a:pt x="1471" y="330"/>
                    <a:pt x="1471" y="330"/>
                    <a:pt x="1471" y="330"/>
                  </a:cubicBezTo>
                  <a:cubicBezTo>
                    <a:pt x="1473" y="325"/>
                    <a:pt x="1473" y="325"/>
                    <a:pt x="1473" y="325"/>
                  </a:cubicBezTo>
                  <a:cubicBezTo>
                    <a:pt x="1476" y="315"/>
                    <a:pt x="1476" y="315"/>
                    <a:pt x="1476" y="315"/>
                  </a:cubicBezTo>
                  <a:cubicBezTo>
                    <a:pt x="1477" y="310"/>
                    <a:pt x="1477" y="310"/>
                    <a:pt x="1477" y="310"/>
                  </a:cubicBezTo>
                  <a:cubicBezTo>
                    <a:pt x="1478" y="305"/>
                    <a:pt x="1478" y="305"/>
                    <a:pt x="1478" y="305"/>
                  </a:cubicBezTo>
                  <a:cubicBezTo>
                    <a:pt x="1480" y="300"/>
                    <a:pt x="1480" y="300"/>
                    <a:pt x="1480" y="300"/>
                  </a:cubicBezTo>
                  <a:cubicBezTo>
                    <a:pt x="1481" y="295"/>
                    <a:pt x="1481" y="295"/>
                    <a:pt x="1481" y="295"/>
                  </a:cubicBezTo>
                  <a:cubicBezTo>
                    <a:pt x="1483" y="290"/>
                    <a:pt x="1483" y="290"/>
                    <a:pt x="1483" y="290"/>
                  </a:cubicBezTo>
                  <a:cubicBezTo>
                    <a:pt x="1484" y="285"/>
                    <a:pt x="1484" y="285"/>
                    <a:pt x="1484" y="285"/>
                  </a:cubicBezTo>
                  <a:cubicBezTo>
                    <a:pt x="1486" y="280"/>
                    <a:pt x="1486" y="280"/>
                    <a:pt x="1486" y="280"/>
                  </a:cubicBezTo>
                  <a:cubicBezTo>
                    <a:pt x="1488" y="270"/>
                    <a:pt x="1488" y="270"/>
                    <a:pt x="1488" y="270"/>
                  </a:cubicBezTo>
                  <a:cubicBezTo>
                    <a:pt x="1490" y="265"/>
                    <a:pt x="1490" y="265"/>
                    <a:pt x="1490" y="265"/>
                  </a:cubicBezTo>
                  <a:cubicBezTo>
                    <a:pt x="1493" y="256"/>
                    <a:pt x="1493" y="256"/>
                    <a:pt x="1493" y="256"/>
                  </a:cubicBezTo>
                  <a:cubicBezTo>
                    <a:pt x="1495" y="246"/>
                    <a:pt x="1495" y="246"/>
                    <a:pt x="1495" y="246"/>
                  </a:cubicBezTo>
                  <a:cubicBezTo>
                    <a:pt x="1498" y="237"/>
                    <a:pt x="1498" y="237"/>
                    <a:pt x="1498" y="237"/>
                  </a:cubicBezTo>
                  <a:cubicBezTo>
                    <a:pt x="1501" y="228"/>
                    <a:pt x="1501" y="228"/>
                    <a:pt x="1501" y="228"/>
                  </a:cubicBezTo>
                  <a:cubicBezTo>
                    <a:pt x="1504" y="219"/>
                    <a:pt x="1504" y="219"/>
                    <a:pt x="1504" y="219"/>
                  </a:cubicBezTo>
                  <a:cubicBezTo>
                    <a:pt x="1507" y="210"/>
                    <a:pt x="1507" y="210"/>
                    <a:pt x="1507" y="210"/>
                  </a:cubicBezTo>
                  <a:cubicBezTo>
                    <a:pt x="1510" y="201"/>
                    <a:pt x="1510" y="201"/>
                    <a:pt x="1510" y="201"/>
                  </a:cubicBezTo>
                  <a:cubicBezTo>
                    <a:pt x="1512" y="193"/>
                    <a:pt x="1512" y="193"/>
                    <a:pt x="1512" y="193"/>
                  </a:cubicBezTo>
                  <a:cubicBezTo>
                    <a:pt x="1515" y="184"/>
                    <a:pt x="1515" y="184"/>
                    <a:pt x="1515" y="184"/>
                  </a:cubicBezTo>
                  <a:cubicBezTo>
                    <a:pt x="1518" y="176"/>
                    <a:pt x="1518" y="176"/>
                    <a:pt x="1518" y="176"/>
                  </a:cubicBezTo>
                  <a:cubicBezTo>
                    <a:pt x="1521" y="168"/>
                    <a:pt x="1521" y="168"/>
                    <a:pt x="1521" y="168"/>
                  </a:cubicBezTo>
                  <a:cubicBezTo>
                    <a:pt x="1524" y="160"/>
                    <a:pt x="1524" y="160"/>
                    <a:pt x="1524" y="160"/>
                  </a:cubicBezTo>
                  <a:cubicBezTo>
                    <a:pt x="1527" y="152"/>
                    <a:pt x="1527" y="152"/>
                    <a:pt x="1527" y="152"/>
                  </a:cubicBezTo>
                  <a:cubicBezTo>
                    <a:pt x="1529" y="144"/>
                    <a:pt x="1529" y="144"/>
                    <a:pt x="1529" y="144"/>
                  </a:cubicBezTo>
                  <a:cubicBezTo>
                    <a:pt x="1532" y="137"/>
                    <a:pt x="1532" y="137"/>
                    <a:pt x="1532" y="137"/>
                  </a:cubicBezTo>
                  <a:cubicBezTo>
                    <a:pt x="1535" y="130"/>
                    <a:pt x="1535" y="130"/>
                    <a:pt x="1535" y="130"/>
                  </a:cubicBezTo>
                  <a:cubicBezTo>
                    <a:pt x="1538" y="122"/>
                    <a:pt x="1538" y="122"/>
                    <a:pt x="1538" y="122"/>
                  </a:cubicBezTo>
                  <a:cubicBezTo>
                    <a:pt x="1541" y="116"/>
                    <a:pt x="1541" y="116"/>
                    <a:pt x="1541" y="116"/>
                  </a:cubicBezTo>
                  <a:cubicBezTo>
                    <a:pt x="1544" y="109"/>
                    <a:pt x="1544" y="109"/>
                    <a:pt x="1544" y="109"/>
                  </a:cubicBezTo>
                  <a:cubicBezTo>
                    <a:pt x="1546" y="102"/>
                    <a:pt x="1546" y="102"/>
                    <a:pt x="1546" y="102"/>
                  </a:cubicBezTo>
                  <a:cubicBezTo>
                    <a:pt x="1549" y="96"/>
                    <a:pt x="1549" y="96"/>
                    <a:pt x="1549" y="96"/>
                  </a:cubicBezTo>
                  <a:cubicBezTo>
                    <a:pt x="1552" y="90"/>
                    <a:pt x="1552" y="90"/>
                    <a:pt x="1552" y="90"/>
                  </a:cubicBezTo>
                  <a:cubicBezTo>
                    <a:pt x="1555" y="84"/>
                    <a:pt x="1555" y="84"/>
                    <a:pt x="1555" y="84"/>
                  </a:cubicBezTo>
                  <a:cubicBezTo>
                    <a:pt x="1558" y="78"/>
                    <a:pt x="1558" y="78"/>
                    <a:pt x="1558" y="78"/>
                  </a:cubicBezTo>
                  <a:cubicBezTo>
                    <a:pt x="1561" y="72"/>
                    <a:pt x="1561" y="72"/>
                    <a:pt x="1561" y="72"/>
                  </a:cubicBezTo>
                  <a:cubicBezTo>
                    <a:pt x="1564" y="67"/>
                    <a:pt x="1564" y="67"/>
                    <a:pt x="1564" y="67"/>
                  </a:cubicBezTo>
                  <a:cubicBezTo>
                    <a:pt x="1566" y="61"/>
                    <a:pt x="1566" y="61"/>
                    <a:pt x="1566" y="61"/>
                  </a:cubicBezTo>
                  <a:cubicBezTo>
                    <a:pt x="1569" y="56"/>
                    <a:pt x="1569" y="56"/>
                    <a:pt x="1569" y="56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5" y="47"/>
                    <a:pt x="1575" y="47"/>
                    <a:pt x="1575" y="47"/>
                  </a:cubicBezTo>
                  <a:cubicBezTo>
                    <a:pt x="1583" y="34"/>
                    <a:pt x="1583" y="34"/>
                    <a:pt x="1583" y="34"/>
                  </a:cubicBezTo>
                  <a:cubicBezTo>
                    <a:pt x="1589" y="27"/>
                    <a:pt x="1589" y="27"/>
                    <a:pt x="1589" y="27"/>
                  </a:cubicBezTo>
                  <a:cubicBezTo>
                    <a:pt x="1595" y="20"/>
                    <a:pt x="1595" y="20"/>
                    <a:pt x="1595" y="20"/>
                  </a:cubicBezTo>
                  <a:cubicBezTo>
                    <a:pt x="1600" y="15"/>
                    <a:pt x="1600" y="15"/>
                    <a:pt x="1600" y="15"/>
                  </a:cubicBezTo>
                  <a:cubicBezTo>
                    <a:pt x="1606" y="10"/>
                    <a:pt x="1606" y="10"/>
                    <a:pt x="1606" y="10"/>
                  </a:cubicBezTo>
                  <a:cubicBezTo>
                    <a:pt x="1612" y="6"/>
                    <a:pt x="1612" y="6"/>
                    <a:pt x="1612" y="6"/>
                  </a:cubicBezTo>
                  <a:cubicBezTo>
                    <a:pt x="1617" y="3"/>
                    <a:pt x="1617" y="3"/>
                    <a:pt x="1617" y="3"/>
                  </a:cubicBezTo>
                  <a:cubicBezTo>
                    <a:pt x="1623" y="1"/>
                    <a:pt x="1623" y="1"/>
                    <a:pt x="1623" y="1"/>
                  </a:cubicBezTo>
                  <a:cubicBezTo>
                    <a:pt x="1629" y="0"/>
                    <a:pt x="1629" y="0"/>
                    <a:pt x="1629" y="0"/>
                  </a:cubicBezTo>
                  <a:cubicBezTo>
                    <a:pt x="1634" y="0"/>
                    <a:pt x="1634" y="0"/>
                    <a:pt x="1634" y="0"/>
                  </a:cubicBezTo>
                  <a:cubicBezTo>
                    <a:pt x="1640" y="1"/>
                    <a:pt x="1640" y="1"/>
                    <a:pt x="1640" y="1"/>
                  </a:cubicBezTo>
                  <a:cubicBezTo>
                    <a:pt x="1646" y="2"/>
                    <a:pt x="1646" y="2"/>
                    <a:pt x="1646" y="2"/>
                  </a:cubicBezTo>
                  <a:cubicBezTo>
                    <a:pt x="1651" y="5"/>
                    <a:pt x="1651" y="5"/>
                    <a:pt x="1651" y="5"/>
                  </a:cubicBezTo>
                  <a:cubicBezTo>
                    <a:pt x="1657" y="8"/>
                    <a:pt x="1657" y="8"/>
                    <a:pt x="1657" y="8"/>
                  </a:cubicBezTo>
                  <a:cubicBezTo>
                    <a:pt x="1663" y="12"/>
                    <a:pt x="1663" y="12"/>
                    <a:pt x="1663" y="12"/>
                  </a:cubicBezTo>
                  <a:cubicBezTo>
                    <a:pt x="1668" y="18"/>
                    <a:pt x="1668" y="18"/>
                    <a:pt x="1668" y="18"/>
                  </a:cubicBezTo>
                  <a:cubicBezTo>
                    <a:pt x="1674" y="24"/>
                    <a:pt x="1674" y="24"/>
                    <a:pt x="1674" y="24"/>
                  </a:cubicBezTo>
                  <a:cubicBezTo>
                    <a:pt x="1680" y="31"/>
                    <a:pt x="1680" y="31"/>
                    <a:pt x="1680" y="31"/>
                  </a:cubicBezTo>
                  <a:cubicBezTo>
                    <a:pt x="1685" y="38"/>
                    <a:pt x="1685" y="38"/>
                    <a:pt x="1685" y="38"/>
                  </a:cubicBezTo>
                  <a:cubicBezTo>
                    <a:pt x="1688" y="43"/>
                    <a:pt x="1688" y="43"/>
                    <a:pt x="1688" y="43"/>
                  </a:cubicBezTo>
                  <a:cubicBezTo>
                    <a:pt x="1694" y="52"/>
                    <a:pt x="1694" y="52"/>
                    <a:pt x="1694" y="52"/>
                  </a:cubicBezTo>
                  <a:cubicBezTo>
                    <a:pt x="1697" y="57"/>
                    <a:pt x="1697" y="57"/>
                    <a:pt x="1697" y="57"/>
                  </a:cubicBezTo>
                  <a:cubicBezTo>
                    <a:pt x="1700" y="62"/>
                    <a:pt x="1700" y="62"/>
                    <a:pt x="1700" y="62"/>
                  </a:cubicBezTo>
                  <a:cubicBezTo>
                    <a:pt x="1702" y="67"/>
                    <a:pt x="1702" y="67"/>
                    <a:pt x="1702" y="67"/>
                  </a:cubicBezTo>
                  <a:cubicBezTo>
                    <a:pt x="1705" y="72"/>
                    <a:pt x="1705" y="72"/>
                    <a:pt x="1705" y="72"/>
                  </a:cubicBezTo>
                  <a:cubicBezTo>
                    <a:pt x="1708" y="78"/>
                    <a:pt x="1708" y="78"/>
                    <a:pt x="1708" y="78"/>
                  </a:cubicBezTo>
                  <a:cubicBezTo>
                    <a:pt x="1711" y="84"/>
                    <a:pt x="1711" y="84"/>
                    <a:pt x="1711" y="84"/>
                  </a:cubicBezTo>
                  <a:cubicBezTo>
                    <a:pt x="1714" y="90"/>
                    <a:pt x="1714" y="90"/>
                    <a:pt x="1714" y="90"/>
                  </a:cubicBezTo>
                  <a:cubicBezTo>
                    <a:pt x="1717" y="96"/>
                    <a:pt x="1717" y="96"/>
                    <a:pt x="1717" y="96"/>
                  </a:cubicBezTo>
                  <a:cubicBezTo>
                    <a:pt x="1719" y="102"/>
                    <a:pt x="1719" y="102"/>
                    <a:pt x="1719" y="102"/>
                  </a:cubicBezTo>
                  <a:cubicBezTo>
                    <a:pt x="1722" y="109"/>
                    <a:pt x="1722" y="109"/>
                    <a:pt x="1722" y="109"/>
                  </a:cubicBezTo>
                  <a:cubicBezTo>
                    <a:pt x="1725" y="116"/>
                    <a:pt x="1725" y="116"/>
                    <a:pt x="1725" y="116"/>
                  </a:cubicBezTo>
                  <a:cubicBezTo>
                    <a:pt x="1728" y="123"/>
                    <a:pt x="1728" y="123"/>
                    <a:pt x="1728" y="123"/>
                  </a:cubicBezTo>
                  <a:cubicBezTo>
                    <a:pt x="1731" y="130"/>
                    <a:pt x="1731" y="130"/>
                    <a:pt x="1731" y="130"/>
                  </a:cubicBezTo>
                  <a:cubicBezTo>
                    <a:pt x="1734" y="137"/>
                    <a:pt x="1734" y="137"/>
                    <a:pt x="1734" y="137"/>
                  </a:cubicBezTo>
                  <a:cubicBezTo>
                    <a:pt x="1736" y="145"/>
                    <a:pt x="1736" y="145"/>
                    <a:pt x="1736" y="145"/>
                  </a:cubicBezTo>
                  <a:cubicBezTo>
                    <a:pt x="1739" y="152"/>
                    <a:pt x="1739" y="152"/>
                    <a:pt x="1739" y="152"/>
                  </a:cubicBezTo>
                  <a:cubicBezTo>
                    <a:pt x="1742" y="160"/>
                    <a:pt x="1742" y="160"/>
                    <a:pt x="1742" y="160"/>
                  </a:cubicBezTo>
                  <a:cubicBezTo>
                    <a:pt x="1745" y="168"/>
                    <a:pt x="1745" y="168"/>
                    <a:pt x="1745" y="168"/>
                  </a:cubicBezTo>
                  <a:cubicBezTo>
                    <a:pt x="1748" y="176"/>
                    <a:pt x="1748" y="176"/>
                    <a:pt x="1748" y="176"/>
                  </a:cubicBezTo>
                  <a:cubicBezTo>
                    <a:pt x="1751" y="184"/>
                    <a:pt x="1751" y="184"/>
                    <a:pt x="1751" y="184"/>
                  </a:cubicBezTo>
                  <a:cubicBezTo>
                    <a:pt x="1753" y="193"/>
                    <a:pt x="1753" y="193"/>
                    <a:pt x="1753" y="193"/>
                  </a:cubicBezTo>
                  <a:cubicBezTo>
                    <a:pt x="1756" y="202"/>
                    <a:pt x="1756" y="202"/>
                    <a:pt x="1756" y="202"/>
                  </a:cubicBezTo>
                  <a:cubicBezTo>
                    <a:pt x="1759" y="210"/>
                    <a:pt x="1759" y="210"/>
                    <a:pt x="1759" y="210"/>
                  </a:cubicBezTo>
                  <a:cubicBezTo>
                    <a:pt x="1762" y="219"/>
                    <a:pt x="1762" y="219"/>
                    <a:pt x="1762" y="219"/>
                  </a:cubicBezTo>
                  <a:cubicBezTo>
                    <a:pt x="1765" y="228"/>
                    <a:pt x="1765" y="228"/>
                    <a:pt x="1765" y="228"/>
                  </a:cubicBezTo>
                  <a:cubicBezTo>
                    <a:pt x="1768" y="237"/>
                    <a:pt x="1768" y="237"/>
                    <a:pt x="1768" y="237"/>
                  </a:cubicBezTo>
                  <a:cubicBezTo>
                    <a:pt x="1770" y="247"/>
                    <a:pt x="1770" y="247"/>
                    <a:pt x="1770" y="247"/>
                  </a:cubicBezTo>
                  <a:cubicBezTo>
                    <a:pt x="1773" y="256"/>
                    <a:pt x="1773" y="256"/>
                    <a:pt x="1773" y="256"/>
                  </a:cubicBezTo>
                  <a:cubicBezTo>
                    <a:pt x="1776" y="266"/>
                    <a:pt x="1776" y="266"/>
                    <a:pt x="1776" y="266"/>
                  </a:cubicBezTo>
                  <a:cubicBezTo>
                    <a:pt x="1778" y="270"/>
                    <a:pt x="1778" y="270"/>
                    <a:pt x="1778" y="270"/>
                  </a:cubicBezTo>
                  <a:cubicBezTo>
                    <a:pt x="1779" y="275"/>
                    <a:pt x="1779" y="275"/>
                    <a:pt x="1779" y="275"/>
                  </a:cubicBezTo>
                  <a:cubicBezTo>
                    <a:pt x="1780" y="280"/>
                    <a:pt x="1780" y="280"/>
                    <a:pt x="1780" y="280"/>
                  </a:cubicBezTo>
                  <a:cubicBezTo>
                    <a:pt x="1783" y="290"/>
                    <a:pt x="1783" y="290"/>
                    <a:pt x="1783" y="290"/>
                  </a:cubicBezTo>
                  <a:cubicBezTo>
                    <a:pt x="1785" y="295"/>
                    <a:pt x="1785" y="295"/>
                    <a:pt x="1785" y="295"/>
                  </a:cubicBezTo>
                  <a:cubicBezTo>
                    <a:pt x="1786" y="300"/>
                    <a:pt x="1786" y="300"/>
                    <a:pt x="1786" y="300"/>
                  </a:cubicBezTo>
                  <a:cubicBezTo>
                    <a:pt x="1787" y="305"/>
                    <a:pt x="1787" y="305"/>
                    <a:pt x="1787" y="305"/>
                  </a:cubicBezTo>
                  <a:cubicBezTo>
                    <a:pt x="1789" y="310"/>
                    <a:pt x="1789" y="310"/>
                    <a:pt x="1789" y="310"/>
                  </a:cubicBezTo>
                  <a:cubicBezTo>
                    <a:pt x="1790" y="315"/>
                    <a:pt x="1790" y="315"/>
                    <a:pt x="1790" y="315"/>
                  </a:cubicBezTo>
                  <a:cubicBezTo>
                    <a:pt x="1792" y="320"/>
                    <a:pt x="1792" y="320"/>
                    <a:pt x="1792" y="320"/>
                  </a:cubicBezTo>
                  <a:cubicBezTo>
                    <a:pt x="1795" y="330"/>
                    <a:pt x="1795" y="330"/>
                    <a:pt x="1795" y="330"/>
                  </a:cubicBezTo>
                  <a:cubicBezTo>
                    <a:pt x="1796" y="336"/>
                    <a:pt x="1796" y="336"/>
                    <a:pt x="1796" y="336"/>
                  </a:cubicBezTo>
                  <a:cubicBezTo>
                    <a:pt x="1797" y="341"/>
                    <a:pt x="1797" y="341"/>
                    <a:pt x="1797" y="341"/>
                  </a:cubicBezTo>
                  <a:cubicBezTo>
                    <a:pt x="1799" y="346"/>
                    <a:pt x="1799" y="346"/>
                    <a:pt x="1799" y="346"/>
                  </a:cubicBezTo>
                  <a:cubicBezTo>
                    <a:pt x="1800" y="351"/>
                    <a:pt x="1800" y="351"/>
                    <a:pt x="1800" y="351"/>
                  </a:cubicBezTo>
                  <a:cubicBezTo>
                    <a:pt x="1802" y="356"/>
                    <a:pt x="1802" y="356"/>
                    <a:pt x="1802" y="356"/>
                  </a:cubicBezTo>
                  <a:cubicBezTo>
                    <a:pt x="1803" y="362"/>
                    <a:pt x="1803" y="362"/>
                    <a:pt x="1803" y="362"/>
                  </a:cubicBezTo>
                  <a:cubicBezTo>
                    <a:pt x="1804" y="367"/>
                    <a:pt x="1804" y="367"/>
                    <a:pt x="1804" y="367"/>
                  </a:cubicBezTo>
                  <a:cubicBezTo>
                    <a:pt x="1806" y="372"/>
                    <a:pt x="1806" y="372"/>
                    <a:pt x="1806" y="372"/>
                  </a:cubicBezTo>
                  <a:cubicBezTo>
                    <a:pt x="1807" y="378"/>
                    <a:pt x="1807" y="378"/>
                    <a:pt x="1807" y="378"/>
                  </a:cubicBezTo>
                  <a:cubicBezTo>
                    <a:pt x="1809" y="383"/>
                    <a:pt x="1809" y="383"/>
                    <a:pt x="1809" y="383"/>
                  </a:cubicBezTo>
                  <a:cubicBezTo>
                    <a:pt x="1810" y="388"/>
                    <a:pt x="1810" y="388"/>
                    <a:pt x="1810" y="388"/>
                  </a:cubicBezTo>
                  <a:cubicBezTo>
                    <a:pt x="1812" y="394"/>
                    <a:pt x="1812" y="394"/>
                    <a:pt x="1812" y="394"/>
                  </a:cubicBezTo>
                  <a:cubicBezTo>
                    <a:pt x="1813" y="399"/>
                    <a:pt x="1813" y="399"/>
                    <a:pt x="1813" y="399"/>
                  </a:cubicBezTo>
                  <a:cubicBezTo>
                    <a:pt x="1816" y="410"/>
                    <a:pt x="1816" y="410"/>
                    <a:pt x="1816" y="410"/>
                  </a:cubicBezTo>
                  <a:cubicBezTo>
                    <a:pt x="1817" y="415"/>
                    <a:pt x="1817" y="415"/>
                    <a:pt x="1817" y="415"/>
                  </a:cubicBezTo>
                  <a:cubicBezTo>
                    <a:pt x="1819" y="421"/>
                    <a:pt x="1819" y="421"/>
                    <a:pt x="1819" y="421"/>
                  </a:cubicBezTo>
                  <a:cubicBezTo>
                    <a:pt x="1820" y="426"/>
                    <a:pt x="1820" y="426"/>
                    <a:pt x="1820" y="426"/>
                  </a:cubicBezTo>
                  <a:cubicBezTo>
                    <a:pt x="1821" y="432"/>
                    <a:pt x="1821" y="432"/>
                    <a:pt x="1821" y="432"/>
                  </a:cubicBezTo>
                  <a:cubicBezTo>
                    <a:pt x="1823" y="437"/>
                    <a:pt x="1823" y="437"/>
                    <a:pt x="1823" y="437"/>
                  </a:cubicBezTo>
                  <a:cubicBezTo>
                    <a:pt x="1824" y="443"/>
                    <a:pt x="1824" y="443"/>
                    <a:pt x="1824" y="443"/>
                  </a:cubicBezTo>
                  <a:cubicBezTo>
                    <a:pt x="1826" y="449"/>
                    <a:pt x="1826" y="449"/>
                    <a:pt x="1826" y="449"/>
                  </a:cubicBezTo>
                  <a:cubicBezTo>
                    <a:pt x="1827" y="454"/>
                    <a:pt x="1827" y="454"/>
                    <a:pt x="1827" y="454"/>
                  </a:cubicBezTo>
                  <a:cubicBezTo>
                    <a:pt x="1829" y="460"/>
                    <a:pt x="1829" y="460"/>
                    <a:pt x="1829" y="460"/>
                  </a:cubicBezTo>
                  <a:cubicBezTo>
                    <a:pt x="1830" y="465"/>
                    <a:pt x="1830" y="465"/>
                    <a:pt x="1830" y="465"/>
                  </a:cubicBezTo>
                  <a:cubicBezTo>
                    <a:pt x="1831" y="471"/>
                    <a:pt x="1831" y="471"/>
                    <a:pt x="1831" y="471"/>
                  </a:cubicBezTo>
                  <a:cubicBezTo>
                    <a:pt x="1833" y="476"/>
                    <a:pt x="1833" y="476"/>
                    <a:pt x="1833" y="476"/>
                  </a:cubicBezTo>
                  <a:cubicBezTo>
                    <a:pt x="1834" y="482"/>
                    <a:pt x="1834" y="482"/>
                    <a:pt x="1834" y="482"/>
                  </a:cubicBezTo>
                  <a:cubicBezTo>
                    <a:pt x="1836" y="488"/>
                    <a:pt x="1836" y="488"/>
                    <a:pt x="1836" y="488"/>
                  </a:cubicBezTo>
                  <a:cubicBezTo>
                    <a:pt x="1837" y="493"/>
                    <a:pt x="1837" y="493"/>
                    <a:pt x="1837" y="493"/>
                  </a:cubicBezTo>
                  <a:cubicBezTo>
                    <a:pt x="1838" y="499"/>
                    <a:pt x="1838" y="499"/>
                    <a:pt x="1838" y="499"/>
                  </a:cubicBezTo>
                  <a:cubicBezTo>
                    <a:pt x="1840" y="504"/>
                    <a:pt x="1840" y="504"/>
                    <a:pt x="1840" y="504"/>
                  </a:cubicBezTo>
                  <a:cubicBezTo>
                    <a:pt x="1841" y="510"/>
                    <a:pt x="1841" y="510"/>
                    <a:pt x="1841" y="510"/>
                  </a:cubicBezTo>
                  <a:cubicBezTo>
                    <a:pt x="1843" y="516"/>
                    <a:pt x="1843" y="516"/>
                    <a:pt x="1843" y="516"/>
                  </a:cubicBezTo>
                  <a:cubicBezTo>
                    <a:pt x="1844" y="521"/>
                    <a:pt x="1844" y="521"/>
                    <a:pt x="1844" y="521"/>
                  </a:cubicBezTo>
                  <a:cubicBezTo>
                    <a:pt x="1846" y="527"/>
                    <a:pt x="1846" y="527"/>
                    <a:pt x="1846" y="527"/>
                  </a:cubicBezTo>
                  <a:cubicBezTo>
                    <a:pt x="1847" y="533"/>
                    <a:pt x="1847" y="533"/>
                    <a:pt x="1847" y="533"/>
                  </a:cubicBezTo>
                  <a:cubicBezTo>
                    <a:pt x="1848" y="538"/>
                    <a:pt x="1848" y="538"/>
                    <a:pt x="1848" y="538"/>
                  </a:cubicBezTo>
                  <a:cubicBezTo>
                    <a:pt x="1850" y="544"/>
                    <a:pt x="1850" y="544"/>
                    <a:pt x="1850" y="544"/>
                  </a:cubicBezTo>
                  <a:cubicBezTo>
                    <a:pt x="1851" y="550"/>
                    <a:pt x="1851" y="550"/>
                    <a:pt x="1851" y="550"/>
                  </a:cubicBezTo>
                  <a:cubicBezTo>
                    <a:pt x="1853" y="555"/>
                    <a:pt x="1853" y="555"/>
                    <a:pt x="1853" y="555"/>
                  </a:cubicBezTo>
                  <a:cubicBezTo>
                    <a:pt x="1854" y="561"/>
                    <a:pt x="1854" y="561"/>
                    <a:pt x="1854" y="561"/>
                  </a:cubicBezTo>
                  <a:cubicBezTo>
                    <a:pt x="1856" y="567"/>
                    <a:pt x="1856" y="567"/>
                    <a:pt x="1856" y="567"/>
                  </a:cubicBezTo>
                  <a:cubicBezTo>
                    <a:pt x="1857" y="572"/>
                    <a:pt x="1857" y="572"/>
                    <a:pt x="1857" y="572"/>
                  </a:cubicBezTo>
                  <a:cubicBezTo>
                    <a:pt x="1858" y="578"/>
                    <a:pt x="1858" y="578"/>
                    <a:pt x="1858" y="578"/>
                  </a:cubicBezTo>
                  <a:cubicBezTo>
                    <a:pt x="1860" y="584"/>
                    <a:pt x="1860" y="584"/>
                    <a:pt x="1860" y="584"/>
                  </a:cubicBezTo>
                  <a:cubicBezTo>
                    <a:pt x="1861" y="589"/>
                    <a:pt x="1861" y="589"/>
                    <a:pt x="1861" y="589"/>
                  </a:cubicBezTo>
                  <a:cubicBezTo>
                    <a:pt x="1863" y="595"/>
                    <a:pt x="1863" y="595"/>
                    <a:pt x="1863" y="595"/>
                  </a:cubicBezTo>
                  <a:cubicBezTo>
                    <a:pt x="1864" y="601"/>
                    <a:pt x="1864" y="601"/>
                    <a:pt x="1864" y="601"/>
                  </a:cubicBezTo>
                  <a:cubicBezTo>
                    <a:pt x="1865" y="606"/>
                    <a:pt x="1865" y="606"/>
                    <a:pt x="1865" y="606"/>
                  </a:cubicBezTo>
                  <a:cubicBezTo>
                    <a:pt x="1867" y="612"/>
                    <a:pt x="1867" y="612"/>
                    <a:pt x="1867" y="612"/>
                  </a:cubicBezTo>
                  <a:cubicBezTo>
                    <a:pt x="1868" y="618"/>
                    <a:pt x="1868" y="618"/>
                    <a:pt x="1868" y="618"/>
                  </a:cubicBezTo>
                  <a:cubicBezTo>
                    <a:pt x="1870" y="623"/>
                    <a:pt x="1870" y="623"/>
                    <a:pt x="1870" y="623"/>
                  </a:cubicBezTo>
                  <a:cubicBezTo>
                    <a:pt x="1871" y="629"/>
                    <a:pt x="1871" y="629"/>
                    <a:pt x="1871" y="629"/>
                  </a:cubicBezTo>
                  <a:cubicBezTo>
                    <a:pt x="1873" y="635"/>
                    <a:pt x="1873" y="635"/>
                    <a:pt x="1873" y="635"/>
                  </a:cubicBezTo>
                  <a:cubicBezTo>
                    <a:pt x="1874" y="640"/>
                    <a:pt x="1874" y="640"/>
                    <a:pt x="1874" y="640"/>
                  </a:cubicBezTo>
                  <a:cubicBezTo>
                    <a:pt x="1875" y="646"/>
                    <a:pt x="1875" y="646"/>
                    <a:pt x="1875" y="646"/>
                  </a:cubicBezTo>
                  <a:cubicBezTo>
                    <a:pt x="1877" y="651"/>
                    <a:pt x="1877" y="651"/>
                    <a:pt x="1877" y="651"/>
                  </a:cubicBezTo>
                  <a:cubicBezTo>
                    <a:pt x="1878" y="657"/>
                    <a:pt x="1878" y="657"/>
                    <a:pt x="1878" y="657"/>
                  </a:cubicBezTo>
                  <a:cubicBezTo>
                    <a:pt x="1880" y="663"/>
                    <a:pt x="1880" y="663"/>
                    <a:pt x="1880" y="663"/>
                  </a:cubicBezTo>
                  <a:cubicBezTo>
                    <a:pt x="1881" y="668"/>
                    <a:pt x="1881" y="668"/>
                    <a:pt x="1881" y="668"/>
                  </a:cubicBezTo>
                  <a:cubicBezTo>
                    <a:pt x="1882" y="674"/>
                    <a:pt x="1882" y="674"/>
                    <a:pt x="1882" y="674"/>
                  </a:cubicBezTo>
                  <a:cubicBezTo>
                    <a:pt x="1884" y="679"/>
                    <a:pt x="1884" y="679"/>
                    <a:pt x="1884" y="679"/>
                  </a:cubicBezTo>
                  <a:cubicBezTo>
                    <a:pt x="1885" y="685"/>
                    <a:pt x="1885" y="685"/>
                    <a:pt x="1885" y="685"/>
                  </a:cubicBezTo>
                  <a:cubicBezTo>
                    <a:pt x="1887" y="690"/>
                    <a:pt x="1887" y="690"/>
                    <a:pt x="1887" y="690"/>
                  </a:cubicBezTo>
                  <a:cubicBezTo>
                    <a:pt x="1888" y="696"/>
                    <a:pt x="1888" y="696"/>
                    <a:pt x="1888" y="696"/>
                  </a:cubicBezTo>
                  <a:cubicBezTo>
                    <a:pt x="1890" y="702"/>
                    <a:pt x="1890" y="702"/>
                    <a:pt x="1890" y="702"/>
                  </a:cubicBezTo>
                  <a:cubicBezTo>
                    <a:pt x="1891" y="707"/>
                    <a:pt x="1891" y="707"/>
                    <a:pt x="1891" y="707"/>
                  </a:cubicBezTo>
                  <a:cubicBezTo>
                    <a:pt x="1892" y="712"/>
                    <a:pt x="1892" y="712"/>
                    <a:pt x="1892" y="712"/>
                  </a:cubicBezTo>
                  <a:cubicBezTo>
                    <a:pt x="1894" y="718"/>
                    <a:pt x="1894" y="718"/>
                    <a:pt x="1894" y="718"/>
                  </a:cubicBezTo>
                  <a:cubicBezTo>
                    <a:pt x="1895" y="723"/>
                    <a:pt x="1895" y="723"/>
                    <a:pt x="1895" y="723"/>
                  </a:cubicBezTo>
                  <a:cubicBezTo>
                    <a:pt x="1897" y="729"/>
                    <a:pt x="1897" y="729"/>
                    <a:pt x="1897" y="729"/>
                  </a:cubicBezTo>
                  <a:cubicBezTo>
                    <a:pt x="1898" y="734"/>
                    <a:pt x="1898" y="734"/>
                    <a:pt x="1898" y="734"/>
                  </a:cubicBezTo>
                  <a:cubicBezTo>
                    <a:pt x="1899" y="740"/>
                    <a:pt x="1899" y="740"/>
                    <a:pt x="1899" y="740"/>
                  </a:cubicBezTo>
                  <a:cubicBezTo>
                    <a:pt x="1901" y="745"/>
                    <a:pt x="1901" y="745"/>
                    <a:pt x="1901" y="745"/>
                  </a:cubicBezTo>
                  <a:cubicBezTo>
                    <a:pt x="1902" y="750"/>
                    <a:pt x="1902" y="750"/>
                    <a:pt x="1902" y="750"/>
                  </a:cubicBezTo>
                  <a:cubicBezTo>
                    <a:pt x="1904" y="756"/>
                    <a:pt x="1904" y="756"/>
                    <a:pt x="1904" y="756"/>
                  </a:cubicBezTo>
                  <a:cubicBezTo>
                    <a:pt x="1905" y="761"/>
                    <a:pt x="1905" y="761"/>
                    <a:pt x="1905" y="761"/>
                  </a:cubicBezTo>
                  <a:cubicBezTo>
                    <a:pt x="1907" y="766"/>
                    <a:pt x="1907" y="766"/>
                    <a:pt x="1907" y="766"/>
                  </a:cubicBezTo>
                  <a:cubicBezTo>
                    <a:pt x="1908" y="772"/>
                    <a:pt x="1908" y="772"/>
                    <a:pt x="1908" y="772"/>
                  </a:cubicBezTo>
                  <a:cubicBezTo>
                    <a:pt x="1909" y="777"/>
                    <a:pt x="1909" y="777"/>
                    <a:pt x="1909" y="777"/>
                  </a:cubicBezTo>
                  <a:cubicBezTo>
                    <a:pt x="1911" y="782"/>
                    <a:pt x="1911" y="782"/>
                    <a:pt x="1911" y="782"/>
                  </a:cubicBezTo>
                  <a:cubicBezTo>
                    <a:pt x="1912" y="788"/>
                    <a:pt x="1912" y="788"/>
                    <a:pt x="1912" y="788"/>
                  </a:cubicBezTo>
                  <a:cubicBezTo>
                    <a:pt x="1914" y="793"/>
                    <a:pt x="1914" y="793"/>
                    <a:pt x="1914" y="793"/>
                  </a:cubicBezTo>
                  <a:cubicBezTo>
                    <a:pt x="1915" y="798"/>
                    <a:pt x="1915" y="798"/>
                    <a:pt x="1915" y="798"/>
                  </a:cubicBezTo>
                  <a:cubicBezTo>
                    <a:pt x="1916" y="803"/>
                    <a:pt x="1916" y="803"/>
                    <a:pt x="1916" y="803"/>
                  </a:cubicBezTo>
                  <a:cubicBezTo>
                    <a:pt x="1918" y="808"/>
                    <a:pt x="1918" y="808"/>
                    <a:pt x="1918" y="808"/>
                  </a:cubicBezTo>
                  <a:cubicBezTo>
                    <a:pt x="1919" y="813"/>
                    <a:pt x="1919" y="813"/>
                    <a:pt x="1919" y="813"/>
                  </a:cubicBezTo>
                  <a:cubicBezTo>
                    <a:pt x="1922" y="824"/>
                    <a:pt x="1922" y="824"/>
                    <a:pt x="1922" y="824"/>
                  </a:cubicBezTo>
                  <a:cubicBezTo>
                    <a:pt x="1924" y="829"/>
                    <a:pt x="1924" y="829"/>
                    <a:pt x="1924" y="829"/>
                  </a:cubicBezTo>
                  <a:cubicBezTo>
                    <a:pt x="1925" y="834"/>
                    <a:pt x="1925" y="834"/>
                    <a:pt x="1925" y="834"/>
                  </a:cubicBezTo>
                  <a:cubicBezTo>
                    <a:pt x="1926" y="839"/>
                    <a:pt x="1926" y="839"/>
                    <a:pt x="1926" y="839"/>
                  </a:cubicBezTo>
                  <a:cubicBezTo>
                    <a:pt x="1928" y="844"/>
                    <a:pt x="1928" y="844"/>
                    <a:pt x="1928" y="844"/>
                  </a:cubicBezTo>
                  <a:cubicBezTo>
                    <a:pt x="1929" y="848"/>
                    <a:pt x="1929" y="848"/>
                    <a:pt x="1929" y="848"/>
                  </a:cubicBezTo>
                  <a:cubicBezTo>
                    <a:pt x="1931" y="853"/>
                    <a:pt x="1931" y="853"/>
                    <a:pt x="1931" y="853"/>
                  </a:cubicBezTo>
                  <a:cubicBezTo>
                    <a:pt x="1933" y="863"/>
                    <a:pt x="1933" y="863"/>
                    <a:pt x="1933" y="863"/>
                  </a:cubicBezTo>
                  <a:cubicBezTo>
                    <a:pt x="1935" y="868"/>
                    <a:pt x="1935" y="868"/>
                    <a:pt x="1935" y="868"/>
                  </a:cubicBezTo>
                  <a:cubicBezTo>
                    <a:pt x="1938" y="877"/>
                    <a:pt x="1938" y="877"/>
                    <a:pt x="1938" y="877"/>
                  </a:cubicBezTo>
                  <a:cubicBezTo>
                    <a:pt x="1941" y="887"/>
                    <a:pt x="1941" y="887"/>
                    <a:pt x="1941" y="887"/>
                  </a:cubicBezTo>
                  <a:cubicBezTo>
                    <a:pt x="1943" y="896"/>
                    <a:pt x="1943" y="896"/>
                    <a:pt x="1943" y="896"/>
                  </a:cubicBezTo>
                  <a:cubicBezTo>
                    <a:pt x="1946" y="905"/>
                    <a:pt x="1946" y="905"/>
                    <a:pt x="1946" y="905"/>
                  </a:cubicBezTo>
                  <a:cubicBezTo>
                    <a:pt x="1949" y="914"/>
                    <a:pt x="1949" y="914"/>
                    <a:pt x="1949" y="914"/>
                  </a:cubicBezTo>
                  <a:cubicBezTo>
                    <a:pt x="1952" y="923"/>
                    <a:pt x="1952" y="923"/>
                    <a:pt x="1952" y="923"/>
                  </a:cubicBezTo>
                  <a:cubicBezTo>
                    <a:pt x="1955" y="932"/>
                    <a:pt x="1955" y="932"/>
                    <a:pt x="1955" y="932"/>
                  </a:cubicBezTo>
                  <a:cubicBezTo>
                    <a:pt x="1958" y="941"/>
                    <a:pt x="1958" y="941"/>
                    <a:pt x="1958" y="941"/>
                  </a:cubicBezTo>
                  <a:cubicBezTo>
                    <a:pt x="1960" y="949"/>
                    <a:pt x="1960" y="949"/>
                    <a:pt x="1960" y="949"/>
                  </a:cubicBezTo>
                  <a:cubicBezTo>
                    <a:pt x="1963" y="957"/>
                    <a:pt x="1963" y="957"/>
                    <a:pt x="1963" y="957"/>
                  </a:cubicBezTo>
                  <a:cubicBezTo>
                    <a:pt x="1966" y="966"/>
                    <a:pt x="1966" y="966"/>
                    <a:pt x="1966" y="966"/>
                  </a:cubicBezTo>
                  <a:cubicBezTo>
                    <a:pt x="1969" y="974"/>
                    <a:pt x="1969" y="974"/>
                    <a:pt x="1969" y="974"/>
                  </a:cubicBezTo>
                  <a:cubicBezTo>
                    <a:pt x="1972" y="981"/>
                    <a:pt x="1972" y="981"/>
                    <a:pt x="1972" y="981"/>
                  </a:cubicBezTo>
                  <a:cubicBezTo>
                    <a:pt x="1975" y="989"/>
                    <a:pt x="1975" y="989"/>
                    <a:pt x="1975" y="989"/>
                  </a:cubicBezTo>
                  <a:cubicBezTo>
                    <a:pt x="1977" y="997"/>
                    <a:pt x="1977" y="997"/>
                    <a:pt x="1977" y="997"/>
                  </a:cubicBezTo>
                  <a:cubicBezTo>
                    <a:pt x="1980" y="1004"/>
                    <a:pt x="1980" y="1004"/>
                    <a:pt x="1980" y="1004"/>
                  </a:cubicBezTo>
                  <a:cubicBezTo>
                    <a:pt x="1983" y="1011"/>
                    <a:pt x="1983" y="1011"/>
                    <a:pt x="1983" y="1011"/>
                  </a:cubicBezTo>
                  <a:cubicBezTo>
                    <a:pt x="1986" y="1018"/>
                    <a:pt x="1986" y="1018"/>
                    <a:pt x="1986" y="1018"/>
                  </a:cubicBezTo>
                  <a:cubicBezTo>
                    <a:pt x="1989" y="1025"/>
                    <a:pt x="1989" y="1025"/>
                    <a:pt x="1989" y="1025"/>
                  </a:cubicBezTo>
                  <a:cubicBezTo>
                    <a:pt x="1992" y="1031"/>
                    <a:pt x="1992" y="1031"/>
                    <a:pt x="1992" y="1031"/>
                  </a:cubicBezTo>
                  <a:cubicBezTo>
                    <a:pt x="1994" y="1038"/>
                    <a:pt x="1994" y="1038"/>
                    <a:pt x="1994" y="1038"/>
                  </a:cubicBezTo>
                  <a:cubicBezTo>
                    <a:pt x="1997" y="1044"/>
                    <a:pt x="1997" y="1044"/>
                    <a:pt x="1997" y="1044"/>
                  </a:cubicBezTo>
                  <a:cubicBezTo>
                    <a:pt x="2000" y="1050"/>
                    <a:pt x="2000" y="1050"/>
                    <a:pt x="2000" y="1050"/>
                  </a:cubicBezTo>
                  <a:cubicBezTo>
                    <a:pt x="2003" y="1056"/>
                    <a:pt x="2003" y="1056"/>
                    <a:pt x="2003" y="1056"/>
                  </a:cubicBezTo>
                  <a:cubicBezTo>
                    <a:pt x="2006" y="1061"/>
                    <a:pt x="2006" y="1061"/>
                    <a:pt x="2006" y="1061"/>
                  </a:cubicBezTo>
                  <a:cubicBezTo>
                    <a:pt x="2009" y="1067"/>
                    <a:pt x="2009" y="1067"/>
                    <a:pt x="2009" y="1067"/>
                  </a:cubicBezTo>
                  <a:cubicBezTo>
                    <a:pt x="2011" y="1072"/>
                    <a:pt x="2011" y="1072"/>
                    <a:pt x="2011" y="1072"/>
                  </a:cubicBezTo>
                  <a:cubicBezTo>
                    <a:pt x="2014" y="1077"/>
                    <a:pt x="2014" y="1077"/>
                    <a:pt x="2014" y="1077"/>
                  </a:cubicBezTo>
                  <a:cubicBezTo>
                    <a:pt x="2017" y="1082"/>
                    <a:pt x="2017" y="1082"/>
                    <a:pt x="2017" y="1082"/>
                  </a:cubicBezTo>
                  <a:cubicBezTo>
                    <a:pt x="2020" y="1087"/>
                    <a:pt x="2020" y="1087"/>
                    <a:pt x="2020" y="1087"/>
                  </a:cubicBezTo>
                  <a:cubicBezTo>
                    <a:pt x="2023" y="1091"/>
                    <a:pt x="2023" y="1091"/>
                    <a:pt x="2023" y="1091"/>
                  </a:cubicBezTo>
                  <a:cubicBezTo>
                    <a:pt x="2028" y="1099"/>
                    <a:pt x="2028" y="1099"/>
                    <a:pt x="2028" y="1099"/>
                  </a:cubicBezTo>
                  <a:cubicBezTo>
                    <a:pt x="2034" y="1107"/>
                    <a:pt x="2034" y="1107"/>
                    <a:pt x="2034" y="1107"/>
                  </a:cubicBezTo>
                  <a:cubicBezTo>
                    <a:pt x="2040" y="1113"/>
                    <a:pt x="2040" y="1113"/>
                    <a:pt x="2040" y="1113"/>
                  </a:cubicBezTo>
                  <a:cubicBezTo>
                    <a:pt x="2045" y="1119"/>
                    <a:pt x="2045" y="1119"/>
                    <a:pt x="2045" y="1119"/>
                  </a:cubicBezTo>
                  <a:cubicBezTo>
                    <a:pt x="2051" y="1124"/>
                    <a:pt x="2051" y="1124"/>
                    <a:pt x="2051" y="1124"/>
                  </a:cubicBezTo>
                  <a:cubicBezTo>
                    <a:pt x="2057" y="1128"/>
                    <a:pt x="2057" y="1128"/>
                    <a:pt x="2057" y="1128"/>
                  </a:cubicBezTo>
                  <a:cubicBezTo>
                    <a:pt x="2062" y="1130"/>
                    <a:pt x="2062" y="1130"/>
                    <a:pt x="2062" y="1130"/>
                  </a:cubicBezTo>
                  <a:cubicBezTo>
                    <a:pt x="2068" y="1133"/>
                    <a:pt x="2068" y="1133"/>
                    <a:pt x="2068" y="1133"/>
                  </a:cubicBezTo>
                  <a:cubicBezTo>
                    <a:pt x="2074" y="1134"/>
                    <a:pt x="2074" y="1134"/>
                    <a:pt x="2074" y="1134"/>
                  </a:cubicBezTo>
                  <a:cubicBezTo>
                    <a:pt x="2079" y="1134"/>
                    <a:pt x="2079" y="1134"/>
                    <a:pt x="2079" y="1134"/>
                  </a:cubicBezTo>
                  <a:cubicBezTo>
                    <a:pt x="2085" y="1133"/>
                    <a:pt x="2085" y="1133"/>
                    <a:pt x="2085" y="1133"/>
                  </a:cubicBezTo>
                  <a:cubicBezTo>
                    <a:pt x="2091" y="1132"/>
                    <a:pt x="2091" y="1132"/>
                    <a:pt x="2091" y="1132"/>
                  </a:cubicBezTo>
                  <a:cubicBezTo>
                    <a:pt x="2096" y="1129"/>
                    <a:pt x="2096" y="1129"/>
                    <a:pt x="2096" y="1129"/>
                  </a:cubicBezTo>
                  <a:cubicBezTo>
                    <a:pt x="2102" y="1126"/>
                    <a:pt x="2102" y="1126"/>
                    <a:pt x="2102" y="1126"/>
                  </a:cubicBezTo>
                  <a:cubicBezTo>
                    <a:pt x="2108" y="1122"/>
                    <a:pt x="2108" y="1122"/>
                    <a:pt x="2108" y="1122"/>
                  </a:cubicBezTo>
                  <a:cubicBezTo>
                    <a:pt x="2113" y="1117"/>
                    <a:pt x="2113" y="1117"/>
                    <a:pt x="2113" y="1117"/>
                  </a:cubicBezTo>
                  <a:cubicBezTo>
                    <a:pt x="2119" y="1111"/>
                    <a:pt x="2119" y="1111"/>
                    <a:pt x="2119" y="1111"/>
                  </a:cubicBezTo>
                  <a:cubicBezTo>
                    <a:pt x="2125" y="1104"/>
                    <a:pt x="2125" y="1104"/>
                    <a:pt x="2125" y="1104"/>
                  </a:cubicBezTo>
                  <a:cubicBezTo>
                    <a:pt x="2131" y="1096"/>
                    <a:pt x="2131" y="1096"/>
                    <a:pt x="2131" y="1096"/>
                  </a:cubicBezTo>
                  <a:cubicBezTo>
                    <a:pt x="2136" y="1087"/>
                    <a:pt x="2136" y="1087"/>
                    <a:pt x="2136" y="1087"/>
                  </a:cubicBezTo>
                  <a:cubicBezTo>
                    <a:pt x="2139" y="1083"/>
                    <a:pt x="2139" y="1083"/>
                    <a:pt x="2139" y="1083"/>
                  </a:cubicBezTo>
                  <a:cubicBezTo>
                    <a:pt x="2142" y="1078"/>
                    <a:pt x="2142" y="1078"/>
                    <a:pt x="2142" y="1078"/>
                  </a:cubicBezTo>
                  <a:cubicBezTo>
                    <a:pt x="2145" y="1073"/>
                    <a:pt x="2145" y="1073"/>
                    <a:pt x="2145" y="1073"/>
                  </a:cubicBezTo>
                  <a:cubicBezTo>
                    <a:pt x="2148" y="1068"/>
                    <a:pt x="2148" y="1068"/>
                    <a:pt x="2148" y="1068"/>
                  </a:cubicBezTo>
                  <a:cubicBezTo>
                    <a:pt x="2150" y="1062"/>
                    <a:pt x="2150" y="1062"/>
                    <a:pt x="2150" y="1062"/>
                  </a:cubicBezTo>
                  <a:cubicBezTo>
                    <a:pt x="2153" y="1057"/>
                    <a:pt x="2153" y="1057"/>
                    <a:pt x="2153" y="1057"/>
                  </a:cubicBezTo>
                  <a:cubicBezTo>
                    <a:pt x="2156" y="1051"/>
                    <a:pt x="2156" y="1051"/>
                    <a:pt x="2156" y="1051"/>
                  </a:cubicBezTo>
                  <a:cubicBezTo>
                    <a:pt x="2159" y="1045"/>
                    <a:pt x="2159" y="1045"/>
                    <a:pt x="2159" y="1045"/>
                  </a:cubicBezTo>
                  <a:cubicBezTo>
                    <a:pt x="2162" y="1039"/>
                    <a:pt x="2162" y="1039"/>
                    <a:pt x="2162" y="1039"/>
                  </a:cubicBezTo>
                  <a:cubicBezTo>
                    <a:pt x="2165" y="1032"/>
                    <a:pt x="2165" y="1032"/>
                    <a:pt x="2165" y="1032"/>
                  </a:cubicBezTo>
                  <a:cubicBezTo>
                    <a:pt x="2167" y="1026"/>
                    <a:pt x="2167" y="1026"/>
                    <a:pt x="2167" y="1026"/>
                  </a:cubicBezTo>
                  <a:cubicBezTo>
                    <a:pt x="2170" y="1019"/>
                    <a:pt x="2170" y="1019"/>
                    <a:pt x="2170" y="1019"/>
                  </a:cubicBezTo>
                  <a:cubicBezTo>
                    <a:pt x="2173" y="1012"/>
                    <a:pt x="2173" y="1012"/>
                    <a:pt x="2173" y="1012"/>
                  </a:cubicBezTo>
                  <a:cubicBezTo>
                    <a:pt x="2176" y="1005"/>
                    <a:pt x="2176" y="1005"/>
                    <a:pt x="2176" y="1005"/>
                  </a:cubicBezTo>
                  <a:cubicBezTo>
                    <a:pt x="2179" y="997"/>
                    <a:pt x="2179" y="997"/>
                    <a:pt x="2179" y="997"/>
                  </a:cubicBezTo>
                  <a:cubicBezTo>
                    <a:pt x="2182" y="990"/>
                    <a:pt x="2182" y="990"/>
                    <a:pt x="2182" y="990"/>
                  </a:cubicBezTo>
                  <a:cubicBezTo>
                    <a:pt x="2184" y="982"/>
                    <a:pt x="2184" y="982"/>
                    <a:pt x="2184" y="982"/>
                  </a:cubicBezTo>
                  <a:cubicBezTo>
                    <a:pt x="2187" y="975"/>
                    <a:pt x="2187" y="975"/>
                    <a:pt x="2187" y="975"/>
                  </a:cubicBezTo>
                  <a:cubicBezTo>
                    <a:pt x="2190" y="967"/>
                    <a:pt x="2190" y="967"/>
                    <a:pt x="2190" y="967"/>
                  </a:cubicBezTo>
                  <a:cubicBezTo>
                    <a:pt x="2193" y="958"/>
                    <a:pt x="2193" y="958"/>
                    <a:pt x="2193" y="958"/>
                  </a:cubicBezTo>
                  <a:cubicBezTo>
                    <a:pt x="2196" y="950"/>
                    <a:pt x="2196" y="950"/>
                    <a:pt x="2196" y="950"/>
                  </a:cubicBezTo>
                  <a:cubicBezTo>
                    <a:pt x="2199" y="942"/>
                    <a:pt x="2199" y="942"/>
                    <a:pt x="2199" y="942"/>
                  </a:cubicBezTo>
                  <a:cubicBezTo>
                    <a:pt x="2201" y="933"/>
                    <a:pt x="2201" y="933"/>
                    <a:pt x="2201" y="933"/>
                  </a:cubicBezTo>
                  <a:cubicBezTo>
                    <a:pt x="2204" y="924"/>
                    <a:pt x="2204" y="924"/>
                    <a:pt x="2204" y="924"/>
                  </a:cubicBezTo>
                  <a:cubicBezTo>
                    <a:pt x="2207" y="916"/>
                    <a:pt x="2207" y="916"/>
                    <a:pt x="2207" y="916"/>
                  </a:cubicBezTo>
                  <a:cubicBezTo>
                    <a:pt x="2210" y="907"/>
                    <a:pt x="2210" y="907"/>
                    <a:pt x="2210" y="907"/>
                  </a:cubicBezTo>
                  <a:cubicBezTo>
                    <a:pt x="2213" y="897"/>
                    <a:pt x="2213" y="897"/>
                    <a:pt x="2213" y="897"/>
                  </a:cubicBezTo>
                  <a:cubicBezTo>
                    <a:pt x="2216" y="888"/>
                    <a:pt x="2216" y="888"/>
                    <a:pt x="2216" y="888"/>
                  </a:cubicBezTo>
                  <a:cubicBezTo>
                    <a:pt x="2218" y="879"/>
                    <a:pt x="2218" y="879"/>
                    <a:pt x="2218" y="879"/>
                  </a:cubicBezTo>
                  <a:cubicBezTo>
                    <a:pt x="2221" y="869"/>
                    <a:pt x="2221" y="869"/>
                    <a:pt x="2221" y="869"/>
                  </a:cubicBezTo>
                  <a:cubicBezTo>
                    <a:pt x="2224" y="860"/>
                    <a:pt x="2224" y="860"/>
                    <a:pt x="2224" y="860"/>
                  </a:cubicBezTo>
                  <a:cubicBezTo>
                    <a:pt x="2225" y="855"/>
                    <a:pt x="2225" y="855"/>
                    <a:pt x="2225" y="855"/>
                  </a:cubicBezTo>
                  <a:cubicBezTo>
                    <a:pt x="2227" y="850"/>
                    <a:pt x="2227" y="850"/>
                    <a:pt x="2227" y="850"/>
                  </a:cubicBezTo>
                  <a:cubicBezTo>
                    <a:pt x="2228" y="845"/>
                    <a:pt x="2228" y="845"/>
                    <a:pt x="2228" y="845"/>
                  </a:cubicBezTo>
                  <a:cubicBezTo>
                    <a:pt x="2230" y="840"/>
                    <a:pt x="2230" y="840"/>
                    <a:pt x="2230" y="840"/>
                  </a:cubicBezTo>
                  <a:cubicBezTo>
                    <a:pt x="2231" y="835"/>
                    <a:pt x="2231" y="835"/>
                    <a:pt x="2231" y="835"/>
                  </a:cubicBezTo>
                  <a:cubicBezTo>
                    <a:pt x="2233" y="830"/>
                    <a:pt x="2233" y="830"/>
                    <a:pt x="2233" y="830"/>
                  </a:cubicBezTo>
                  <a:cubicBezTo>
                    <a:pt x="2235" y="820"/>
                    <a:pt x="2235" y="820"/>
                    <a:pt x="2235" y="820"/>
                  </a:cubicBezTo>
                  <a:cubicBezTo>
                    <a:pt x="2237" y="815"/>
                    <a:pt x="2237" y="815"/>
                    <a:pt x="2237" y="815"/>
                  </a:cubicBezTo>
                  <a:cubicBezTo>
                    <a:pt x="2238" y="810"/>
                    <a:pt x="2238" y="810"/>
                    <a:pt x="2238" y="810"/>
                  </a:cubicBezTo>
                  <a:cubicBezTo>
                    <a:pt x="2240" y="804"/>
                    <a:pt x="2240" y="804"/>
                    <a:pt x="2240" y="804"/>
                  </a:cubicBezTo>
                  <a:cubicBezTo>
                    <a:pt x="2241" y="799"/>
                    <a:pt x="2241" y="799"/>
                    <a:pt x="2241" y="799"/>
                  </a:cubicBezTo>
                  <a:cubicBezTo>
                    <a:pt x="2242" y="794"/>
                    <a:pt x="2242" y="794"/>
                    <a:pt x="2242" y="794"/>
                  </a:cubicBezTo>
                  <a:cubicBezTo>
                    <a:pt x="2244" y="789"/>
                    <a:pt x="2244" y="789"/>
                    <a:pt x="2244" y="789"/>
                  </a:cubicBezTo>
                  <a:cubicBezTo>
                    <a:pt x="2245" y="784"/>
                    <a:pt x="2245" y="784"/>
                    <a:pt x="2245" y="784"/>
                  </a:cubicBezTo>
                  <a:cubicBezTo>
                    <a:pt x="2247" y="778"/>
                    <a:pt x="2247" y="778"/>
                    <a:pt x="2247" y="778"/>
                  </a:cubicBezTo>
                  <a:cubicBezTo>
                    <a:pt x="2248" y="773"/>
                    <a:pt x="2248" y="773"/>
                    <a:pt x="2248" y="773"/>
                  </a:cubicBezTo>
                  <a:cubicBezTo>
                    <a:pt x="2251" y="763"/>
                    <a:pt x="2251" y="763"/>
                    <a:pt x="2251" y="763"/>
                  </a:cubicBezTo>
                  <a:cubicBezTo>
                    <a:pt x="2252" y="757"/>
                    <a:pt x="2252" y="757"/>
                    <a:pt x="2252" y="757"/>
                  </a:cubicBezTo>
                  <a:cubicBezTo>
                    <a:pt x="2254" y="752"/>
                    <a:pt x="2254" y="752"/>
                    <a:pt x="2254" y="752"/>
                  </a:cubicBezTo>
                  <a:cubicBezTo>
                    <a:pt x="2255" y="746"/>
                    <a:pt x="2255" y="746"/>
                    <a:pt x="2255" y="746"/>
                  </a:cubicBezTo>
                  <a:cubicBezTo>
                    <a:pt x="2257" y="741"/>
                    <a:pt x="2257" y="741"/>
                    <a:pt x="2257" y="741"/>
                  </a:cubicBezTo>
                  <a:cubicBezTo>
                    <a:pt x="2258" y="736"/>
                    <a:pt x="2258" y="736"/>
                    <a:pt x="2258" y="736"/>
                  </a:cubicBezTo>
                  <a:cubicBezTo>
                    <a:pt x="2259" y="730"/>
                    <a:pt x="2259" y="730"/>
                    <a:pt x="2259" y="730"/>
                  </a:cubicBezTo>
                  <a:cubicBezTo>
                    <a:pt x="2261" y="725"/>
                    <a:pt x="2261" y="725"/>
                    <a:pt x="2261" y="725"/>
                  </a:cubicBezTo>
                  <a:cubicBezTo>
                    <a:pt x="2262" y="719"/>
                    <a:pt x="2262" y="719"/>
                    <a:pt x="2262" y="719"/>
                  </a:cubicBezTo>
                  <a:cubicBezTo>
                    <a:pt x="2264" y="714"/>
                    <a:pt x="2264" y="714"/>
                    <a:pt x="2264" y="714"/>
                  </a:cubicBezTo>
                  <a:cubicBezTo>
                    <a:pt x="2265" y="708"/>
                    <a:pt x="2265" y="708"/>
                    <a:pt x="2265" y="708"/>
                  </a:cubicBezTo>
                  <a:cubicBezTo>
                    <a:pt x="2267" y="703"/>
                    <a:pt x="2267" y="703"/>
                    <a:pt x="2267" y="703"/>
                  </a:cubicBezTo>
                  <a:cubicBezTo>
                    <a:pt x="2268" y="697"/>
                    <a:pt x="2268" y="697"/>
                    <a:pt x="2268" y="697"/>
                  </a:cubicBezTo>
                  <a:cubicBezTo>
                    <a:pt x="2269" y="692"/>
                    <a:pt x="2269" y="692"/>
                    <a:pt x="2269" y="692"/>
                  </a:cubicBezTo>
                  <a:cubicBezTo>
                    <a:pt x="2271" y="686"/>
                    <a:pt x="2271" y="686"/>
                    <a:pt x="2271" y="686"/>
                  </a:cubicBezTo>
                  <a:cubicBezTo>
                    <a:pt x="2272" y="681"/>
                    <a:pt x="2272" y="681"/>
                    <a:pt x="2272" y="681"/>
                  </a:cubicBezTo>
                  <a:cubicBezTo>
                    <a:pt x="2274" y="675"/>
                    <a:pt x="2274" y="675"/>
                    <a:pt x="2274" y="675"/>
                  </a:cubicBezTo>
                  <a:cubicBezTo>
                    <a:pt x="2275" y="670"/>
                    <a:pt x="2275" y="670"/>
                    <a:pt x="2275" y="670"/>
                  </a:cubicBezTo>
                  <a:cubicBezTo>
                    <a:pt x="2277" y="664"/>
                    <a:pt x="2277" y="664"/>
                    <a:pt x="2277" y="664"/>
                  </a:cubicBezTo>
                  <a:cubicBezTo>
                    <a:pt x="2278" y="659"/>
                    <a:pt x="2278" y="659"/>
                    <a:pt x="2278" y="659"/>
                  </a:cubicBezTo>
                  <a:cubicBezTo>
                    <a:pt x="2279" y="653"/>
                    <a:pt x="2279" y="653"/>
                    <a:pt x="2279" y="653"/>
                  </a:cubicBezTo>
                  <a:cubicBezTo>
                    <a:pt x="2281" y="647"/>
                    <a:pt x="2281" y="647"/>
                    <a:pt x="2281" y="647"/>
                  </a:cubicBezTo>
                  <a:cubicBezTo>
                    <a:pt x="2282" y="642"/>
                    <a:pt x="2282" y="642"/>
                    <a:pt x="2282" y="642"/>
                  </a:cubicBezTo>
                  <a:cubicBezTo>
                    <a:pt x="2284" y="636"/>
                    <a:pt x="2284" y="636"/>
                    <a:pt x="2284" y="636"/>
                  </a:cubicBezTo>
                  <a:cubicBezTo>
                    <a:pt x="2285" y="630"/>
                    <a:pt x="2285" y="630"/>
                    <a:pt x="2285" y="630"/>
                  </a:cubicBezTo>
                  <a:cubicBezTo>
                    <a:pt x="2286" y="625"/>
                    <a:pt x="2286" y="625"/>
                    <a:pt x="2286" y="625"/>
                  </a:cubicBezTo>
                  <a:cubicBezTo>
                    <a:pt x="2288" y="619"/>
                    <a:pt x="2288" y="619"/>
                    <a:pt x="2288" y="619"/>
                  </a:cubicBezTo>
                  <a:cubicBezTo>
                    <a:pt x="2289" y="613"/>
                    <a:pt x="2289" y="613"/>
                    <a:pt x="2289" y="613"/>
                  </a:cubicBezTo>
                  <a:cubicBezTo>
                    <a:pt x="2291" y="608"/>
                    <a:pt x="2291" y="608"/>
                    <a:pt x="2291" y="608"/>
                  </a:cubicBezTo>
                  <a:cubicBezTo>
                    <a:pt x="2292" y="602"/>
                    <a:pt x="2292" y="602"/>
                    <a:pt x="2292" y="602"/>
                  </a:cubicBezTo>
                  <a:cubicBezTo>
                    <a:pt x="2294" y="597"/>
                    <a:pt x="2294" y="597"/>
                    <a:pt x="2294" y="597"/>
                  </a:cubicBezTo>
                  <a:cubicBezTo>
                    <a:pt x="2295" y="591"/>
                    <a:pt x="2295" y="591"/>
                    <a:pt x="2295" y="591"/>
                  </a:cubicBezTo>
                  <a:cubicBezTo>
                    <a:pt x="2296" y="585"/>
                    <a:pt x="2296" y="585"/>
                    <a:pt x="2296" y="585"/>
                  </a:cubicBezTo>
                  <a:cubicBezTo>
                    <a:pt x="2298" y="580"/>
                    <a:pt x="2298" y="580"/>
                    <a:pt x="2298" y="580"/>
                  </a:cubicBezTo>
                  <a:cubicBezTo>
                    <a:pt x="2299" y="574"/>
                    <a:pt x="2299" y="574"/>
                    <a:pt x="2299" y="574"/>
                  </a:cubicBezTo>
                  <a:cubicBezTo>
                    <a:pt x="2301" y="568"/>
                    <a:pt x="2301" y="568"/>
                    <a:pt x="2301" y="568"/>
                  </a:cubicBezTo>
                  <a:cubicBezTo>
                    <a:pt x="2302" y="563"/>
                    <a:pt x="2302" y="563"/>
                    <a:pt x="2302" y="563"/>
                  </a:cubicBezTo>
                  <a:cubicBezTo>
                    <a:pt x="2303" y="557"/>
                    <a:pt x="2303" y="557"/>
                    <a:pt x="2303" y="557"/>
                  </a:cubicBezTo>
                  <a:cubicBezTo>
                    <a:pt x="2305" y="551"/>
                    <a:pt x="2305" y="551"/>
                    <a:pt x="2305" y="551"/>
                  </a:cubicBezTo>
                  <a:cubicBezTo>
                    <a:pt x="2306" y="546"/>
                    <a:pt x="2306" y="546"/>
                    <a:pt x="2306" y="546"/>
                  </a:cubicBezTo>
                  <a:cubicBezTo>
                    <a:pt x="2308" y="540"/>
                    <a:pt x="2308" y="540"/>
                    <a:pt x="2308" y="540"/>
                  </a:cubicBezTo>
                  <a:cubicBezTo>
                    <a:pt x="2309" y="534"/>
                    <a:pt x="2309" y="534"/>
                    <a:pt x="2309" y="534"/>
                  </a:cubicBezTo>
                  <a:cubicBezTo>
                    <a:pt x="2311" y="529"/>
                    <a:pt x="2311" y="529"/>
                    <a:pt x="2311" y="529"/>
                  </a:cubicBezTo>
                  <a:cubicBezTo>
                    <a:pt x="2312" y="523"/>
                    <a:pt x="2312" y="523"/>
                    <a:pt x="2312" y="523"/>
                  </a:cubicBezTo>
                  <a:cubicBezTo>
                    <a:pt x="2313" y="517"/>
                    <a:pt x="2313" y="517"/>
                    <a:pt x="2313" y="517"/>
                  </a:cubicBezTo>
                  <a:cubicBezTo>
                    <a:pt x="2315" y="512"/>
                    <a:pt x="2315" y="512"/>
                    <a:pt x="2315" y="512"/>
                  </a:cubicBezTo>
                  <a:cubicBezTo>
                    <a:pt x="2316" y="506"/>
                    <a:pt x="2316" y="506"/>
                    <a:pt x="2316" y="506"/>
                  </a:cubicBezTo>
                  <a:cubicBezTo>
                    <a:pt x="2318" y="500"/>
                    <a:pt x="2318" y="500"/>
                    <a:pt x="2318" y="500"/>
                  </a:cubicBezTo>
                  <a:cubicBezTo>
                    <a:pt x="2319" y="495"/>
                    <a:pt x="2319" y="495"/>
                    <a:pt x="2319" y="495"/>
                  </a:cubicBezTo>
                  <a:cubicBezTo>
                    <a:pt x="2320" y="489"/>
                    <a:pt x="2320" y="489"/>
                    <a:pt x="2320" y="489"/>
                  </a:cubicBezTo>
                  <a:cubicBezTo>
                    <a:pt x="2322" y="483"/>
                    <a:pt x="2322" y="483"/>
                    <a:pt x="2322" y="483"/>
                  </a:cubicBezTo>
                  <a:cubicBezTo>
                    <a:pt x="2323" y="478"/>
                    <a:pt x="2323" y="478"/>
                    <a:pt x="2323" y="478"/>
                  </a:cubicBezTo>
                  <a:cubicBezTo>
                    <a:pt x="2325" y="472"/>
                    <a:pt x="2325" y="472"/>
                    <a:pt x="2325" y="472"/>
                  </a:cubicBezTo>
                  <a:cubicBezTo>
                    <a:pt x="2326" y="467"/>
                    <a:pt x="2326" y="467"/>
                    <a:pt x="2326" y="467"/>
                  </a:cubicBezTo>
                  <a:cubicBezTo>
                    <a:pt x="2328" y="461"/>
                    <a:pt x="2328" y="461"/>
                    <a:pt x="2328" y="461"/>
                  </a:cubicBezTo>
                  <a:cubicBezTo>
                    <a:pt x="2329" y="456"/>
                    <a:pt x="2329" y="456"/>
                    <a:pt x="2329" y="456"/>
                  </a:cubicBezTo>
                  <a:cubicBezTo>
                    <a:pt x="2330" y="450"/>
                    <a:pt x="2330" y="450"/>
                    <a:pt x="2330" y="450"/>
                  </a:cubicBezTo>
                  <a:cubicBezTo>
                    <a:pt x="2332" y="444"/>
                    <a:pt x="2332" y="444"/>
                    <a:pt x="2332" y="444"/>
                  </a:cubicBezTo>
                  <a:cubicBezTo>
                    <a:pt x="2333" y="439"/>
                    <a:pt x="2333" y="439"/>
                    <a:pt x="2333" y="439"/>
                  </a:cubicBezTo>
                  <a:cubicBezTo>
                    <a:pt x="2335" y="433"/>
                    <a:pt x="2335" y="433"/>
                    <a:pt x="2335" y="433"/>
                  </a:cubicBezTo>
                  <a:cubicBezTo>
                    <a:pt x="2336" y="428"/>
                    <a:pt x="2336" y="428"/>
                    <a:pt x="2336" y="428"/>
                  </a:cubicBezTo>
                  <a:cubicBezTo>
                    <a:pt x="2337" y="422"/>
                    <a:pt x="2337" y="422"/>
                    <a:pt x="2337" y="422"/>
                  </a:cubicBezTo>
                  <a:cubicBezTo>
                    <a:pt x="2339" y="417"/>
                    <a:pt x="2339" y="417"/>
                    <a:pt x="2339" y="417"/>
                  </a:cubicBezTo>
                  <a:cubicBezTo>
                    <a:pt x="2340" y="411"/>
                    <a:pt x="2340" y="411"/>
                    <a:pt x="2340" y="411"/>
                  </a:cubicBezTo>
                  <a:cubicBezTo>
                    <a:pt x="2342" y="406"/>
                    <a:pt x="2342" y="406"/>
                    <a:pt x="2342" y="406"/>
                  </a:cubicBezTo>
                  <a:cubicBezTo>
                    <a:pt x="2343" y="401"/>
                    <a:pt x="2343" y="401"/>
                    <a:pt x="2343" y="401"/>
                  </a:cubicBezTo>
                  <a:cubicBezTo>
                    <a:pt x="2345" y="395"/>
                    <a:pt x="2345" y="395"/>
                    <a:pt x="2345" y="395"/>
                  </a:cubicBezTo>
                  <a:cubicBezTo>
                    <a:pt x="2346" y="390"/>
                    <a:pt x="2346" y="390"/>
                    <a:pt x="2346" y="390"/>
                  </a:cubicBezTo>
                  <a:cubicBezTo>
                    <a:pt x="2347" y="384"/>
                    <a:pt x="2347" y="384"/>
                    <a:pt x="2347" y="384"/>
                  </a:cubicBezTo>
                  <a:cubicBezTo>
                    <a:pt x="2349" y="379"/>
                    <a:pt x="2349" y="379"/>
                    <a:pt x="2349" y="379"/>
                  </a:cubicBezTo>
                  <a:cubicBezTo>
                    <a:pt x="2350" y="374"/>
                    <a:pt x="2350" y="374"/>
                    <a:pt x="2350" y="374"/>
                  </a:cubicBezTo>
                  <a:cubicBezTo>
                    <a:pt x="2352" y="368"/>
                    <a:pt x="2352" y="368"/>
                    <a:pt x="2352" y="368"/>
                  </a:cubicBezTo>
                  <a:cubicBezTo>
                    <a:pt x="2353" y="363"/>
                    <a:pt x="2353" y="363"/>
                    <a:pt x="2353" y="363"/>
                  </a:cubicBezTo>
                  <a:cubicBezTo>
                    <a:pt x="2354" y="358"/>
                    <a:pt x="2354" y="358"/>
                    <a:pt x="2354" y="358"/>
                  </a:cubicBezTo>
                  <a:cubicBezTo>
                    <a:pt x="2356" y="353"/>
                    <a:pt x="2356" y="353"/>
                    <a:pt x="2356" y="353"/>
                  </a:cubicBezTo>
                  <a:cubicBezTo>
                    <a:pt x="2357" y="347"/>
                    <a:pt x="2357" y="347"/>
                    <a:pt x="2357" y="347"/>
                  </a:cubicBezTo>
                  <a:cubicBezTo>
                    <a:pt x="2359" y="342"/>
                    <a:pt x="2359" y="342"/>
                    <a:pt x="2359" y="342"/>
                  </a:cubicBezTo>
                  <a:cubicBezTo>
                    <a:pt x="2362" y="332"/>
                    <a:pt x="2362" y="332"/>
                    <a:pt x="2362" y="332"/>
                  </a:cubicBezTo>
                  <a:cubicBezTo>
                    <a:pt x="2363" y="327"/>
                    <a:pt x="2363" y="327"/>
                    <a:pt x="2363" y="327"/>
                  </a:cubicBezTo>
                  <a:cubicBezTo>
                    <a:pt x="2364" y="321"/>
                    <a:pt x="2364" y="321"/>
                    <a:pt x="2364" y="321"/>
                  </a:cubicBezTo>
                  <a:cubicBezTo>
                    <a:pt x="2366" y="316"/>
                    <a:pt x="2366" y="316"/>
                    <a:pt x="2366" y="316"/>
                  </a:cubicBezTo>
                  <a:cubicBezTo>
                    <a:pt x="2367" y="311"/>
                    <a:pt x="2367" y="311"/>
                    <a:pt x="2367" y="311"/>
                  </a:cubicBezTo>
                  <a:cubicBezTo>
                    <a:pt x="2369" y="306"/>
                    <a:pt x="2369" y="306"/>
                    <a:pt x="2369" y="306"/>
                  </a:cubicBezTo>
                  <a:cubicBezTo>
                    <a:pt x="2370" y="301"/>
                    <a:pt x="2370" y="301"/>
                    <a:pt x="2370" y="301"/>
                  </a:cubicBezTo>
                  <a:cubicBezTo>
                    <a:pt x="2371" y="296"/>
                    <a:pt x="2371" y="296"/>
                    <a:pt x="2371" y="296"/>
                  </a:cubicBezTo>
                  <a:cubicBezTo>
                    <a:pt x="2373" y="291"/>
                    <a:pt x="2373" y="291"/>
                    <a:pt x="2373" y="291"/>
                  </a:cubicBezTo>
                  <a:cubicBezTo>
                    <a:pt x="2376" y="281"/>
                    <a:pt x="2376" y="281"/>
                    <a:pt x="2376" y="281"/>
                  </a:cubicBezTo>
                  <a:cubicBezTo>
                    <a:pt x="2377" y="277"/>
                    <a:pt x="2377" y="277"/>
                    <a:pt x="2377" y="277"/>
                  </a:cubicBezTo>
                  <a:cubicBezTo>
                    <a:pt x="2379" y="272"/>
                    <a:pt x="2379" y="272"/>
                    <a:pt x="2379" y="272"/>
                  </a:cubicBezTo>
                  <a:cubicBezTo>
                    <a:pt x="2380" y="267"/>
                    <a:pt x="2380" y="267"/>
                    <a:pt x="2380" y="267"/>
                  </a:cubicBezTo>
                  <a:cubicBezTo>
                    <a:pt x="2383" y="257"/>
                    <a:pt x="2383" y="257"/>
                    <a:pt x="2383" y="257"/>
                  </a:cubicBezTo>
                  <a:cubicBezTo>
                    <a:pt x="2386" y="248"/>
                    <a:pt x="2386" y="248"/>
                    <a:pt x="2386" y="248"/>
                  </a:cubicBezTo>
                  <a:cubicBezTo>
                    <a:pt x="2388" y="239"/>
                    <a:pt x="2388" y="239"/>
                    <a:pt x="2388" y="239"/>
                  </a:cubicBezTo>
                  <a:cubicBezTo>
                    <a:pt x="2391" y="229"/>
                    <a:pt x="2391" y="229"/>
                    <a:pt x="2391" y="229"/>
                  </a:cubicBezTo>
                  <a:cubicBezTo>
                    <a:pt x="2394" y="220"/>
                    <a:pt x="2394" y="220"/>
                    <a:pt x="2394" y="220"/>
                  </a:cubicBezTo>
                  <a:cubicBezTo>
                    <a:pt x="2397" y="211"/>
                    <a:pt x="2397" y="211"/>
                    <a:pt x="2397" y="211"/>
                  </a:cubicBezTo>
                  <a:cubicBezTo>
                    <a:pt x="2400" y="203"/>
                    <a:pt x="2400" y="203"/>
                    <a:pt x="2400" y="203"/>
                  </a:cubicBezTo>
                  <a:cubicBezTo>
                    <a:pt x="2403" y="194"/>
                    <a:pt x="2403" y="194"/>
                    <a:pt x="2403" y="194"/>
                  </a:cubicBezTo>
                  <a:cubicBezTo>
                    <a:pt x="2405" y="186"/>
                    <a:pt x="2405" y="186"/>
                    <a:pt x="2405" y="186"/>
                  </a:cubicBezTo>
                  <a:cubicBezTo>
                    <a:pt x="2408" y="177"/>
                    <a:pt x="2408" y="177"/>
                    <a:pt x="2408" y="177"/>
                  </a:cubicBezTo>
                  <a:cubicBezTo>
                    <a:pt x="2411" y="169"/>
                    <a:pt x="2411" y="169"/>
                    <a:pt x="2411" y="169"/>
                  </a:cubicBezTo>
                  <a:cubicBezTo>
                    <a:pt x="2414" y="161"/>
                    <a:pt x="2414" y="161"/>
                    <a:pt x="2414" y="161"/>
                  </a:cubicBezTo>
                  <a:cubicBezTo>
                    <a:pt x="2417" y="153"/>
                    <a:pt x="2417" y="153"/>
                    <a:pt x="2417" y="153"/>
                  </a:cubicBezTo>
                  <a:cubicBezTo>
                    <a:pt x="2420" y="146"/>
                    <a:pt x="2420" y="146"/>
                    <a:pt x="2420" y="146"/>
                  </a:cubicBezTo>
                  <a:cubicBezTo>
                    <a:pt x="2423" y="138"/>
                    <a:pt x="2423" y="138"/>
                    <a:pt x="2423" y="138"/>
                  </a:cubicBezTo>
                  <a:cubicBezTo>
                    <a:pt x="2425" y="131"/>
                    <a:pt x="2425" y="131"/>
                    <a:pt x="2425" y="131"/>
                  </a:cubicBezTo>
                  <a:cubicBezTo>
                    <a:pt x="2428" y="124"/>
                    <a:pt x="2428" y="124"/>
                    <a:pt x="2428" y="124"/>
                  </a:cubicBezTo>
                  <a:cubicBezTo>
                    <a:pt x="2431" y="117"/>
                    <a:pt x="2431" y="117"/>
                    <a:pt x="2431" y="117"/>
                  </a:cubicBezTo>
                  <a:cubicBezTo>
                    <a:pt x="2434" y="110"/>
                    <a:pt x="2434" y="110"/>
                    <a:pt x="2434" y="110"/>
                  </a:cubicBezTo>
                  <a:cubicBezTo>
                    <a:pt x="2437" y="103"/>
                    <a:pt x="2437" y="103"/>
                    <a:pt x="2437" y="103"/>
                  </a:cubicBezTo>
                  <a:cubicBezTo>
                    <a:pt x="2440" y="97"/>
                    <a:pt x="2440" y="97"/>
                    <a:pt x="2440" y="97"/>
                  </a:cubicBezTo>
                  <a:cubicBezTo>
                    <a:pt x="2442" y="91"/>
                    <a:pt x="2442" y="91"/>
                    <a:pt x="2442" y="91"/>
                  </a:cubicBezTo>
                  <a:cubicBezTo>
                    <a:pt x="2445" y="84"/>
                    <a:pt x="2445" y="84"/>
                    <a:pt x="2445" y="84"/>
                  </a:cubicBezTo>
                  <a:cubicBezTo>
                    <a:pt x="2448" y="79"/>
                    <a:pt x="2448" y="79"/>
                    <a:pt x="2448" y="79"/>
                  </a:cubicBezTo>
                  <a:cubicBezTo>
                    <a:pt x="2451" y="73"/>
                    <a:pt x="2451" y="73"/>
                    <a:pt x="2451" y="73"/>
                  </a:cubicBezTo>
                  <a:cubicBezTo>
                    <a:pt x="2454" y="67"/>
                    <a:pt x="2454" y="67"/>
                    <a:pt x="2454" y="67"/>
                  </a:cubicBezTo>
                  <a:cubicBezTo>
                    <a:pt x="2457" y="62"/>
                    <a:pt x="2457" y="62"/>
                    <a:pt x="2457" y="62"/>
                  </a:cubicBezTo>
                  <a:cubicBezTo>
                    <a:pt x="2459" y="57"/>
                    <a:pt x="2459" y="57"/>
                    <a:pt x="2459" y="57"/>
                  </a:cubicBezTo>
                  <a:cubicBezTo>
                    <a:pt x="2462" y="52"/>
                    <a:pt x="2462" y="52"/>
                    <a:pt x="2462" y="52"/>
                  </a:cubicBezTo>
                  <a:cubicBezTo>
                    <a:pt x="2465" y="48"/>
                    <a:pt x="2465" y="48"/>
                    <a:pt x="2465" y="48"/>
                  </a:cubicBezTo>
                  <a:cubicBezTo>
                    <a:pt x="2468" y="43"/>
                    <a:pt x="2468" y="43"/>
                    <a:pt x="2468" y="43"/>
                  </a:cubicBezTo>
                  <a:cubicBezTo>
                    <a:pt x="2471" y="39"/>
                    <a:pt x="2471" y="39"/>
                    <a:pt x="2471" y="39"/>
                  </a:cubicBezTo>
                  <a:cubicBezTo>
                    <a:pt x="2476" y="31"/>
                    <a:pt x="2476" y="31"/>
                    <a:pt x="2476" y="31"/>
                  </a:cubicBezTo>
                  <a:cubicBezTo>
                    <a:pt x="2482" y="24"/>
                    <a:pt x="2482" y="24"/>
                    <a:pt x="2482" y="24"/>
                  </a:cubicBezTo>
                  <a:cubicBezTo>
                    <a:pt x="2488" y="18"/>
                    <a:pt x="2488" y="18"/>
                    <a:pt x="2488" y="18"/>
                  </a:cubicBezTo>
                  <a:cubicBezTo>
                    <a:pt x="2493" y="13"/>
                    <a:pt x="2493" y="13"/>
                    <a:pt x="2493" y="13"/>
                  </a:cubicBezTo>
                  <a:cubicBezTo>
                    <a:pt x="2499" y="8"/>
                    <a:pt x="2499" y="8"/>
                    <a:pt x="2499" y="8"/>
                  </a:cubicBezTo>
                  <a:cubicBezTo>
                    <a:pt x="2505" y="5"/>
                    <a:pt x="2505" y="5"/>
                    <a:pt x="2505" y="5"/>
                  </a:cubicBezTo>
                  <a:cubicBezTo>
                    <a:pt x="2510" y="2"/>
                    <a:pt x="2510" y="2"/>
                    <a:pt x="2510" y="2"/>
                  </a:cubicBezTo>
                  <a:cubicBezTo>
                    <a:pt x="2516" y="1"/>
                    <a:pt x="2516" y="1"/>
                    <a:pt x="2516" y="1"/>
                  </a:cubicBezTo>
                  <a:cubicBezTo>
                    <a:pt x="2522" y="0"/>
                    <a:pt x="2522" y="0"/>
                    <a:pt x="2522" y="0"/>
                  </a:cubicBezTo>
                  <a:cubicBezTo>
                    <a:pt x="2527" y="0"/>
                    <a:pt x="2527" y="0"/>
                    <a:pt x="2527" y="0"/>
                  </a:cubicBezTo>
                  <a:cubicBezTo>
                    <a:pt x="2533" y="1"/>
                    <a:pt x="2533" y="1"/>
                    <a:pt x="2533" y="1"/>
                  </a:cubicBezTo>
                  <a:cubicBezTo>
                    <a:pt x="2539" y="3"/>
                    <a:pt x="2539" y="3"/>
                    <a:pt x="2539" y="3"/>
                  </a:cubicBezTo>
                  <a:cubicBezTo>
                    <a:pt x="2544" y="6"/>
                    <a:pt x="2544" y="6"/>
                    <a:pt x="2544" y="6"/>
                  </a:cubicBezTo>
                  <a:cubicBezTo>
                    <a:pt x="2550" y="10"/>
                    <a:pt x="2550" y="10"/>
                    <a:pt x="2550" y="10"/>
                  </a:cubicBezTo>
                  <a:cubicBezTo>
                    <a:pt x="2556" y="15"/>
                    <a:pt x="2556" y="15"/>
                    <a:pt x="2556" y="15"/>
                  </a:cubicBezTo>
                  <a:cubicBezTo>
                    <a:pt x="2561" y="20"/>
                    <a:pt x="2561" y="20"/>
                    <a:pt x="2561" y="20"/>
                  </a:cubicBezTo>
                  <a:cubicBezTo>
                    <a:pt x="2567" y="27"/>
                    <a:pt x="2567" y="27"/>
                    <a:pt x="2567" y="27"/>
                  </a:cubicBezTo>
                  <a:cubicBezTo>
                    <a:pt x="2573" y="34"/>
                    <a:pt x="2573" y="34"/>
                    <a:pt x="2573" y="34"/>
                  </a:cubicBezTo>
                  <a:cubicBezTo>
                    <a:pt x="2578" y="42"/>
                    <a:pt x="2578" y="42"/>
                    <a:pt x="2578" y="42"/>
                  </a:cubicBezTo>
                  <a:cubicBezTo>
                    <a:pt x="2584" y="51"/>
                    <a:pt x="2584" y="51"/>
                    <a:pt x="2584" y="51"/>
                  </a:cubicBezTo>
                  <a:cubicBezTo>
                    <a:pt x="2587" y="56"/>
                    <a:pt x="2587" y="56"/>
                    <a:pt x="2587" y="56"/>
                  </a:cubicBezTo>
                  <a:cubicBezTo>
                    <a:pt x="2590" y="61"/>
                    <a:pt x="2590" y="61"/>
                    <a:pt x="2590" y="61"/>
                  </a:cubicBezTo>
                  <a:cubicBezTo>
                    <a:pt x="2593" y="66"/>
                    <a:pt x="2593" y="66"/>
                    <a:pt x="2593" y="66"/>
                  </a:cubicBezTo>
                  <a:cubicBezTo>
                    <a:pt x="2595" y="71"/>
                    <a:pt x="2595" y="71"/>
                    <a:pt x="2595" y="71"/>
                  </a:cubicBezTo>
                  <a:cubicBezTo>
                    <a:pt x="2598" y="77"/>
                    <a:pt x="2598" y="77"/>
                    <a:pt x="2598" y="77"/>
                  </a:cubicBezTo>
                  <a:cubicBezTo>
                    <a:pt x="2601" y="83"/>
                    <a:pt x="2601" y="83"/>
                    <a:pt x="2601" y="83"/>
                  </a:cubicBezTo>
                  <a:cubicBezTo>
                    <a:pt x="2604" y="89"/>
                    <a:pt x="2604" y="89"/>
                    <a:pt x="2604" y="89"/>
                  </a:cubicBezTo>
                  <a:cubicBezTo>
                    <a:pt x="2607" y="95"/>
                    <a:pt x="2607" y="95"/>
                    <a:pt x="2607" y="95"/>
                  </a:cubicBezTo>
                  <a:cubicBezTo>
                    <a:pt x="2610" y="101"/>
                    <a:pt x="2610" y="101"/>
                    <a:pt x="2610" y="101"/>
                  </a:cubicBezTo>
                  <a:cubicBezTo>
                    <a:pt x="2612" y="108"/>
                    <a:pt x="2612" y="108"/>
                    <a:pt x="2612" y="108"/>
                  </a:cubicBezTo>
                  <a:cubicBezTo>
                    <a:pt x="2615" y="115"/>
                    <a:pt x="2615" y="115"/>
                    <a:pt x="2615" y="115"/>
                  </a:cubicBezTo>
                  <a:cubicBezTo>
                    <a:pt x="2618" y="122"/>
                    <a:pt x="2618" y="122"/>
                    <a:pt x="2618" y="122"/>
                  </a:cubicBezTo>
                  <a:cubicBezTo>
                    <a:pt x="2621" y="129"/>
                    <a:pt x="2621" y="129"/>
                    <a:pt x="2621" y="129"/>
                  </a:cubicBezTo>
                  <a:cubicBezTo>
                    <a:pt x="2624" y="136"/>
                    <a:pt x="2624" y="136"/>
                    <a:pt x="2624" y="136"/>
                  </a:cubicBezTo>
                  <a:cubicBezTo>
                    <a:pt x="2627" y="143"/>
                    <a:pt x="2627" y="143"/>
                    <a:pt x="2627" y="143"/>
                  </a:cubicBezTo>
                  <a:cubicBezTo>
                    <a:pt x="2629" y="151"/>
                    <a:pt x="2629" y="151"/>
                    <a:pt x="2629" y="151"/>
                  </a:cubicBezTo>
                  <a:cubicBezTo>
                    <a:pt x="2632" y="159"/>
                    <a:pt x="2632" y="159"/>
                    <a:pt x="2632" y="159"/>
                  </a:cubicBezTo>
                  <a:cubicBezTo>
                    <a:pt x="2635" y="167"/>
                    <a:pt x="2635" y="167"/>
                    <a:pt x="2635" y="167"/>
                  </a:cubicBezTo>
                  <a:cubicBezTo>
                    <a:pt x="2638" y="175"/>
                    <a:pt x="2638" y="175"/>
                    <a:pt x="2638" y="175"/>
                  </a:cubicBezTo>
                  <a:cubicBezTo>
                    <a:pt x="2641" y="183"/>
                    <a:pt x="2641" y="183"/>
                    <a:pt x="2641" y="183"/>
                  </a:cubicBezTo>
                  <a:cubicBezTo>
                    <a:pt x="2644" y="192"/>
                    <a:pt x="2644" y="192"/>
                    <a:pt x="2644" y="192"/>
                  </a:cubicBezTo>
                  <a:cubicBezTo>
                    <a:pt x="2646" y="200"/>
                    <a:pt x="2646" y="200"/>
                    <a:pt x="2646" y="200"/>
                  </a:cubicBezTo>
                  <a:cubicBezTo>
                    <a:pt x="2649" y="209"/>
                    <a:pt x="2649" y="209"/>
                    <a:pt x="2649" y="209"/>
                  </a:cubicBezTo>
                  <a:cubicBezTo>
                    <a:pt x="2652" y="218"/>
                    <a:pt x="2652" y="218"/>
                    <a:pt x="2652" y="218"/>
                  </a:cubicBezTo>
                  <a:cubicBezTo>
                    <a:pt x="2655" y="227"/>
                    <a:pt x="2655" y="227"/>
                    <a:pt x="2655" y="227"/>
                  </a:cubicBezTo>
                  <a:cubicBezTo>
                    <a:pt x="2658" y="236"/>
                    <a:pt x="2658" y="236"/>
                    <a:pt x="2658" y="236"/>
                  </a:cubicBezTo>
                  <a:cubicBezTo>
                    <a:pt x="2661" y="245"/>
                    <a:pt x="2661" y="245"/>
                    <a:pt x="2661" y="245"/>
                  </a:cubicBezTo>
                  <a:cubicBezTo>
                    <a:pt x="2663" y="255"/>
                    <a:pt x="2663" y="255"/>
                    <a:pt x="2663" y="255"/>
                  </a:cubicBezTo>
                  <a:cubicBezTo>
                    <a:pt x="2666" y="264"/>
                    <a:pt x="2666" y="264"/>
                    <a:pt x="2666" y="264"/>
                  </a:cubicBezTo>
                  <a:cubicBezTo>
                    <a:pt x="2668" y="269"/>
                    <a:pt x="2668" y="269"/>
                    <a:pt x="2668" y="269"/>
                  </a:cubicBezTo>
                  <a:cubicBezTo>
                    <a:pt x="2671" y="279"/>
                    <a:pt x="2671" y="279"/>
                    <a:pt x="2671" y="279"/>
                  </a:cubicBezTo>
                  <a:cubicBezTo>
                    <a:pt x="2672" y="283"/>
                    <a:pt x="2672" y="283"/>
                    <a:pt x="2672" y="283"/>
                  </a:cubicBezTo>
                  <a:cubicBezTo>
                    <a:pt x="2673" y="288"/>
                    <a:pt x="2673" y="288"/>
                    <a:pt x="2673" y="288"/>
                  </a:cubicBezTo>
                  <a:cubicBezTo>
                    <a:pt x="2675" y="293"/>
                    <a:pt x="2675" y="293"/>
                    <a:pt x="2675" y="293"/>
                  </a:cubicBezTo>
                  <a:cubicBezTo>
                    <a:pt x="2676" y="298"/>
                    <a:pt x="2676" y="298"/>
                    <a:pt x="2676" y="298"/>
                  </a:cubicBezTo>
                  <a:cubicBezTo>
                    <a:pt x="2678" y="303"/>
                    <a:pt x="2678" y="303"/>
                    <a:pt x="2678" y="303"/>
                  </a:cubicBezTo>
                  <a:cubicBezTo>
                    <a:pt x="2679" y="308"/>
                    <a:pt x="2679" y="308"/>
                    <a:pt x="2679" y="308"/>
                  </a:cubicBezTo>
                  <a:cubicBezTo>
                    <a:pt x="2680" y="313"/>
                    <a:pt x="2680" y="313"/>
                    <a:pt x="2680" y="313"/>
                  </a:cubicBezTo>
                  <a:cubicBezTo>
                    <a:pt x="2682" y="318"/>
                    <a:pt x="2682" y="318"/>
                    <a:pt x="2682" y="318"/>
                  </a:cubicBezTo>
                  <a:cubicBezTo>
                    <a:pt x="2683" y="324"/>
                    <a:pt x="2683" y="324"/>
                    <a:pt x="2683" y="324"/>
                  </a:cubicBezTo>
                  <a:cubicBezTo>
                    <a:pt x="2685" y="329"/>
                    <a:pt x="2685" y="329"/>
                    <a:pt x="2685" y="329"/>
                  </a:cubicBezTo>
                  <a:cubicBezTo>
                    <a:pt x="2686" y="334"/>
                    <a:pt x="2686" y="334"/>
                    <a:pt x="2686" y="334"/>
                  </a:cubicBezTo>
                  <a:cubicBezTo>
                    <a:pt x="2688" y="339"/>
                    <a:pt x="2688" y="339"/>
                    <a:pt x="2688" y="339"/>
                  </a:cubicBezTo>
                  <a:cubicBezTo>
                    <a:pt x="2689" y="344"/>
                    <a:pt x="2689" y="344"/>
                    <a:pt x="2689" y="344"/>
                  </a:cubicBezTo>
                  <a:cubicBezTo>
                    <a:pt x="2690" y="350"/>
                    <a:pt x="2690" y="350"/>
                    <a:pt x="2690" y="350"/>
                  </a:cubicBezTo>
                  <a:cubicBezTo>
                    <a:pt x="2692" y="355"/>
                    <a:pt x="2692" y="355"/>
                    <a:pt x="2692" y="355"/>
                  </a:cubicBezTo>
                  <a:cubicBezTo>
                    <a:pt x="2693" y="360"/>
                    <a:pt x="2693" y="360"/>
                    <a:pt x="2693" y="360"/>
                  </a:cubicBezTo>
                  <a:cubicBezTo>
                    <a:pt x="2695" y="365"/>
                    <a:pt x="2695" y="365"/>
                    <a:pt x="2695" y="365"/>
                  </a:cubicBezTo>
                  <a:cubicBezTo>
                    <a:pt x="2696" y="371"/>
                    <a:pt x="2696" y="371"/>
                    <a:pt x="2696" y="371"/>
                  </a:cubicBezTo>
                  <a:cubicBezTo>
                    <a:pt x="2698" y="376"/>
                    <a:pt x="2698" y="376"/>
                    <a:pt x="2698" y="376"/>
                  </a:cubicBezTo>
                  <a:cubicBezTo>
                    <a:pt x="2699" y="381"/>
                    <a:pt x="2699" y="381"/>
                    <a:pt x="2699" y="381"/>
                  </a:cubicBezTo>
                  <a:cubicBezTo>
                    <a:pt x="2700" y="387"/>
                    <a:pt x="2700" y="387"/>
                    <a:pt x="2700" y="387"/>
                  </a:cubicBezTo>
                  <a:cubicBezTo>
                    <a:pt x="2702" y="392"/>
                    <a:pt x="2702" y="392"/>
                    <a:pt x="2702" y="392"/>
                  </a:cubicBezTo>
                  <a:cubicBezTo>
                    <a:pt x="2703" y="397"/>
                    <a:pt x="2703" y="397"/>
                    <a:pt x="2703" y="397"/>
                  </a:cubicBezTo>
                  <a:cubicBezTo>
                    <a:pt x="2705" y="403"/>
                    <a:pt x="2705" y="403"/>
                    <a:pt x="2705" y="403"/>
                  </a:cubicBezTo>
                  <a:cubicBezTo>
                    <a:pt x="2706" y="408"/>
                    <a:pt x="2706" y="408"/>
                    <a:pt x="2706" y="408"/>
                  </a:cubicBezTo>
                  <a:cubicBezTo>
                    <a:pt x="2707" y="414"/>
                    <a:pt x="2707" y="414"/>
                    <a:pt x="2707" y="414"/>
                  </a:cubicBezTo>
                  <a:cubicBezTo>
                    <a:pt x="2709" y="419"/>
                    <a:pt x="2709" y="419"/>
                    <a:pt x="2709" y="419"/>
                  </a:cubicBezTo>
                  <a:cubicBezTo>
                    <a:pt x="2710" y="425"/>
                    <a:pt x="2710" y="425"/>
                    <a:pt x="2710" y="425"/>
                  </a:cubicBezTo>
                  <a:cubicBezTo>
                    <a:pt x="2712" y="430"/>
                    <a:pt x="2712" y="430"/>
                    <a:pt x="2712" y="430"/>
                  </a:cubicBezTo>
                  <a:cubicBezTo>
                    <a:pt x="2713" y="436"/>
                    <a:pt x="2713" y="436"/>
                    <a:pt x="2713" y="436"/>
                  </a:cubicBezTo>
                  <a:cubicBezTo>
                    <a:pt x="2715" y="441"/>
                    <a:pt x="2715" y="441"/>
                    <a:pt x="2715" y="441"/>
                  </a:cubicBezTo>
                  <a:cubicBezTo>
                    <a:pt x="2716" y="447"/>
                    <a:pt x="2716" y="447"/>
                    <a:pt x="2716" y="447"/>
                  </a:cubicBezTo>
                  <a:cubicBezTo>
                    <a:pt x="2717" y="452"/>
                    <a:pt x="2717" y="452"/>
                    <a:pt x="2717" y="452"/>
                  </a:cubicBezTo>
                  <a:cubicBezTo>
                    <a:pt x="2719" y="458"/>
                    <a:pt x="2719" y="458"/>
                    <a:pt x="2719" y="458"/>
                  </a:cubicBezTo>
                  <a:cubicBezTo>
                    <a:pt x="2720" y="463"/>
                    <a:pt x="2720" y="463"/>
                    <a:pt x="2720" y="463"/>
                  </a:cubicBezTo>
                  <a:cubicBezTo>
                    <a:pt x="2722" y="469"/>
                    <a:pt x="2722" y="469"/>
                    <a:pt x="2722" y="469"/>
                  </a:cubicBezTo>
                  <a:cubicBezTo>
                    <a:pt x="2723" y="475"/>
                    <a:pt x="2723" y="475"/>
                    <a:pt x="2723" y="475"/>
                  </a:cubicBezTo>
                  <a:cubicBezTo>
                    <a:pt x="2724" y="480"/>
                    <a:pt x="2724" y="480"/>
                    <a:pt x="2724" y="480"/>
                  </a:cubicBezTo>
                  <a:cubicBezTo>
                    <a:pt x="2726" y="486"/>
                    <a:pt x="2726" y="486"/>
                    <a:pt x="2726" y="486"/>
                  </a:cubicBezTo>
                  <a:cubicBezTo>
                    <a:pt x="2727" y="491"/>
                    <a:pt x="2727" y="491"/>
                    <a:pt x="2727" y="491"/>
                  </a:cubicBezTo>
                  <a:cubicBezTo>
                    <a:pt x="2729" y="497"/>
                    <a:pt x="2729" y="497"/>
                    <a:pt x="2729" y="497"/>
                  </a:cubicBezTo>
                  <a:cubicBezTo>
                    <a:pt x="2730" y="503"/>
                    <a:pt x="2730" y="503"/>
                    <a:pt x="2730" y="503"/>
                  </a:cubicBezTo>
                  <a:cubicBezTo>
                    <a:pt x="2732" y="508"/>
                    <a:pt x="2732" y="508"/>
                    <a:pt x="2732" y="508"/>
                  </a:cubicBezTo>
                  <a:cubicBezTo>
                    <a:pt x="2733" y="514"/>
                    <a:pt x="2733" y="514"/>
                    <a:pt x="2733" y="514"/>
                  </a:cubicBezTo>
                  <a:cubicBezTo>
                    <a:pt x="2734" y="520"/>
                    <a:pt x="2734" y="520"/>
                    <a:pt x="2734" y="520"/>
                  </a:cubicBezTo>
                  <a:cubicBezTo>
                    <a:pt x="2736" y="525"/>
                    <a:pt x="2736" y="525"/>
                    <a:pt x="2736" y="525"/>
                  </a:cubicBezTo>
                  <a:cubicBezTo>
                    <a:pt x="2737" y="531"/>
                    <a:pt x="2737" y="531"/>
                    <a:pt x="2737" y="531"/>
                  </a:cubicBezTo>
                  <a:cubicBezTo>
                    <a:pt x="2739" y="537"/>
                    <a:pt x="2739" y="537"/>
                    <a:pt x="2739" y="537"/>
                  </a:cubicBezTo>
                  <a:cubicBezTo>
                    <a:pt x="2740" y="542"/>
                    <a:pt x="2740" y="542"/>
                    <a:pt x="2740" y="542"/>
                  </a:cubicBezTo>
                  <a:cubicBezTo>
                    <a:pt x="2741" y="548"/>
                    <a:pt x="2741" y="548"/>
                    <a:pt x="2741" y="548"/>
                  </a:cubicBezTo>
                  <a:cubicBezTo>
                    <a:pt x="2743" y="554"/>
                    <a:pt x="2743" y="554"/>
                    <a:pt x="2743" y="554"/>
                  </a:cubicBezTo>
                  <a:cubicBezTo>
                    <a:pt x="2744" y="559"/>
                    <a:pt x="2744" y="559"/>
                    <a:pt x="2744" y="559"/>
                  </a:cubicBezTo>
                  <a:cubicBezTo>
                    <a:pt x="2746" y="565"/>
                    <a:pt x="2746" y="565"/>
                    <a:pt x="2746" y="565"/>
                  </a:cubicBezTo>
                  <a:cubicBezTo>
                    <a:pt x="2747" y="571"/>
                    <a:pt x="2747" y="571"/>
                    <a:pt x="2747" y="571"/>
                  </a:cubicBezTo>
                  <a:cubicBezTo>
                    <a:pt x="2749" y="576"/>
                    <a:pt x="2749" y="576"/>
                    <a:pt x="2749" y="576"/>
                  </a:cubicBezTo>
                  <a:cubicBezTo>
                    <a:pt x="2750" y="582"/>
                    <a:pt x="2750" y="582"/>
                    <a:pt x="2750" y="582"/>
                  </a:cubicBezTo>
                  <a:cubicBezTo>
                    <a:pt x="2751" y="588"/>
                    <a:pt x="2751" y="588"/>
                    <a:pt x="2751" y="588"/>
                  </a:cubicBezTo>
                  <a:cubicBezTo>
                    <a:pt x="2753" y="593"/>
                    <a:pt x="2753" y="593"/>
                    <a:pt x="2753" y="593"/>
                  </a:cubicBezTo>
                  <a:cubicBezTo>
                    <a:pt x="2754" y="599"/>
                    <a:pt x="2754" y="599"/>
                    <a:pt x="2754" y="599"/>
                  </a:cubicBezTo>
                  <a:cubicBezTo>
                    <a:pt x="2756" y="605"/>
                    <a:pt x="2756" y="605"/>
                    <a:pt x="2756" y="605"/>
                  </a:cubicBezTo>
                  <a:cubicBezTo>
                    <a:pt x="2757" y="610"/>
                    <a:pt x="2757" y="610"/>
                    <a:pt x="2757" y="610"/>
                  </a:cubicBezTo>
                  <a:cubicBezTo>
                    <a:pt x="2758" y="616"/>
                    <a:pt x="2758" y="616"/>
                    <a:pt x="2758" y="616"/>
                  </a:cubicBezTo>
                  <a:cubicBezTo>
                    <a:pt x="2760" y="622"/>
                    <a:pt x="2760" y="622"/>
                    <a:pt x="2760" y="622"/>
                  </a:cubicBezTo>
                  <a:cubicBezTo>
                    <a:pt x="2761" y="627"/>
                    <a:pt x="2761" y="627"/>
                    <a:pt x="2761" y="627"/>
                  </a:cubicBezTo>
                  <a:cubicBezTo>
                    <a:pt x="2763" y="633"/>
                    <a:pt x="2763" y="633"/>
                    <a:pt x="2763" y="633"/>
                  </a:cubicBezTo>
                  <a:cubicBezTo>
                    <a:pt x="2764" y="638"/>
                    <a:pt x="2764" y="638"/>
                    <a:pt x="2764" y="638"/>
                  </a:cubicBezTo>
                  <a:cubicBezTo>
                    <a:pt x="2766" y="644"/>
                    <a:pt x="2766" y="644"/>
                    <a:pt x="2766" y="644"/>
                  </a:cubicBezTo>
                  <a:cubicBezTo>
                    <a:pt x="2767" y="650"/>
                    <a:pt x="2767" y="650"/>
                    <a:pt x="2767" y="650"/>
                  </a:cubicBezTo>
                  <a:cubicBezTo>
                    <a:pt x="2768" y="655"/>
                    <a:pt x="2768" y="655"/>
                    <a:pt x="2768" y="655"/>
                  </a:cubicBezTo>
                  <a:cubicBezTo>
                    <a:pt x="2770" y="661"/>
                    <a:pt x="2770" y="661"/>
                    <a:pt x="2770" y="661"/>
                  </a:cubicBezTo>
                  <a:cubicBezTo>
                    <a:pt x="2771" y="666"/>
                    <a:pt x="2771" y="666"/>
                    <a:pt x="2771" y="666"/>
                  </a:cubicBezTo>
                  <a:cubicBezTo>
                    <a:pt x="2773" y="672"/>
                    <a:pt x="2773" y="672"/>
                    <a:pt x="2773" y="672"/>
                  </a:cubicBezTo>
                  <a:cubicBezTo>
                    <a:pt x="2774" y="678"/>
                    <a:pt x="2774" y="678"/>
                    <a:pt x="2774" y="678"/>
                  </a:cubicBezTo>
                  <a:cubicBezTo>
                    <a:pt x="2775" y="683"/>
                    <a:pt x="2775" y="683"/>
                    <a:pt x="2775" y="683"/>
                  </a:cubicBezTo>
                  <a:cubicBezTo>
                    <a:pt x="2777" y="689"/>
                    <a:pt x="2777" y="689"/>
                    <a:pt x="2777" y="689"/>
                  </a:cubicBezTo>
                  <a:cubicBezTo>
                    <a:pt x="2778" y="694"/>
                    <a:pt x="2778" y="694"/>
                    <a:pt x="2778" y="694"/>
                  </a:cubicBezTo>
                  <a:cubicBezTo>
                    <a:pt x="2780" y="700"/>
                    <a:pt x="2780" y="700"/>
                    <a:pt x="2780" y="700"/>
                  </a:cubicBezTo>
                  <a:cubicBezTo>
                    <a:pt x="2781" y="705"/>
                    <a:pt x="2781" y="705"/>
                    <a:pt x="2781" y="705"/>
                  </a:cubicBezTo>
                  <a:cubicBezTo>
                    <a:pt x="2783" y="711"/>
                    <a:pt x="2783" y="711"/>
                    <a:pt x="2783" y="711"/>
                  </a:cubicBezTo>
                  <a:cubicBezTo>
                    <a:pt x="2784" y="716"/>
                    <a:pt x="2784" y="716"/>
                    <a:pt x="2784" y="716"/>
                  </a:cubicBezTo>
                  <a:cubicBezTo>
                    <a:pt x="2785" y="722"/>
                    <a:pt x="2785" y="722"/>
                    <a:pt x="2785" y="722"/>
                  </a:cubicBezTo>
                  <a:cubicBezTo>
                    <a:pt x="2787" y="727"/>
                    <a:pt x="2787" y="727"/>
                    <a:pt x="2787" y="727"/>
                  </a:cubicBezTo>
                  <a:cubicBezTo>
                    <a:pt x="2788" y="733"/>
                    <a:pt x="2788" y="733"/>
                    <a:pt x="2788" y="733"/>
                  </a:cubicBezTo>
                  <a:cubicBezTo>
                    <a:pt x="2790" y="738"/>
                    <a:pt x="2790" y="738"/>
                    <a:pt x="2790" y="738"/>
                  </a:cubicBezTo>
                  <a:cubicBezTo>
                    <a:pt x="2791" y="743"/>
                    <a:pt x="2791" y="743"/>
                    <a:pt x="2791" y="743"/>
                  </a:cubicBezTo>
                  <a:cubicBezTo>
                    <a:pt x="2792" y="749"/>
                    <a:pt x="2792" y="749"/>
                    <a:pt x="2792" y="749"/>
                  </a:cubicBezTo>
                  <a:cubicBezTo>
                    <a:pt x="2794" y="754"/>
                    <a:pt x="2794" y="754"/>
                    <a:pt x="2794" y="754"/>
                  </a:cubicBezTo>
                  <a:cubicBezTo>
                    <a:pt x="2795" y="759"/>
                    <a:pt x="2795" y="759"/>
                    <a:pt x="2795" y="759"/>
                  </a:cubicBezTo>
                  <a:cubicBezTo>
                    <a:pt x="2797" y="765"/>
                    <a:pt x="2797" y="765"/>
                    <a:pt x="2797" y="765"/>
                  </a:cubicBezTo>
                  <a:cubicBezTo>
                    <a:pt x="2798" y="770"/>
                    <a:pt x="2798" y="770"/>
                    <a:pt x="2798" y="770"/>
                  </a:cubicBezTo>
                  <a:cubicBezTo>
                    <a:pt x="2800" y="775"/>
                    <a:pt x="2800" y="775"/>
                    <a:pt x="2800" y="775"/>
                  </a:cubicBezTo>
                  <a:cubicBezTo>
                    <a:pt x="2801" y="781"/>
                    <a:pt x="2801" y="781"/>
                    <a:pt x="2801" y="781"/>
                  </a:cubicBezTo>
                  <a:cubicBezTo>
                    <a:pt x="2802" y="786"/>
                    <a:pt x="2802" y="786"/>
                    <a:pt x="2802" y="786"/>
                  </a:cubicBezTo>
                  <a:cubicBezTo>
                    <a:pt x="2804" y="791"/>
                    <a:pt x="2804" y="791"/>
                    <a:pt x="2804" y="791"/>
                  </a:cubicBezTo>
                  <a:cubicBezTo>
                    <a:pt x="2805" y="796"/>
                    <a:pt x="2805" y="796"/>
                    <a:pt x="2805" y="796"/>
                  </a:cubicBezTo>
                  <a:cubicBezTo>
                    <a:pt x="2808" y="807"/>
                    <a:pt x="2808" y="807"/>
                    <a:pt x="2808" y="807"/>
                  </a:cubicBezTo>
                  <a:cubicBezTo>
                    <a:pt x="2809" y="812"/>
                    <a:pt x="2809" y="812"/>
                    <a:pt x="2809" y="812"/>
                  </a:cubicBezTo>
                  <a:cubicBezTo>
                    <a:pt x="2811" y="817"/>
                    <a:pt x="2811" y="817"/>
                    <a:pt x="2811" y="817"/>
                  </a:cubicBezTo>
                  <a:cubicBezTo>
                    <a:pt x="2812" y="822"/>
                    <a:pt x="2812" y="822"/>
                    <a:pt x="2812" y="822"/>
                  </a:cubicBezTo>
                  <a:cubicBezTo>
                    <a:pt x="2814" y="827"/>
                    <a:pt x="2814" y="827"/>
                    <a:pt x="2814" y="827"/>
                  </a:cubicBezTo>
                  <a:cubicBezTo>
                    <a:pt x="2815" y="832"/>
                    <a:pt x="2815" y="832"/>
                    <a:pt x="2815" y="832"/>
                  </a:cubicBezTo>
                  <a:cubicBezTo>
                    <a:pt x="2817" y="837"/>
                    <a:pt x="2817" y="837"/>
                    <a:pt x="2817" y="837"/>
                  </a:cubicBezTo>
                  <a:cubicBezTo>
                    <a:pt x="2818" y="842"/>
                    <a:pt x="2818" y="842"/>
                    <a:pt x="2818" y="842"/>
                  </a:cubicBezTo>
                  <a:cubicBezTo>
                    <a:pt x="2821" y="852"/>
                    <a:pt x="2821" y="852"/>
                    <a:pt x="2821" y="852"/>
                  </a:cubicBezTo>
                  <a:cubicBezTo>
                    <a:pt x="2822" y="857"/>
                    <a:pt x="2822" y="857"/>
                    <a:pt x="2822" y="857"/>
                  </a:cubicBezTo>
                  <a:cubicBezTo>
                    <a:pt x="2824" y="862"/>
                    <a:pt x="2824" y="862"/>
                    <a:pt x="2824" y="862"/>
                  </a:cubicBezTo>
                  <a:cubicBezTo>
                    <a:pt x="2825" y="866"/>
                    <a:pt x="2825" y="866"/>
                    <a:pt x="2825" y="866"/>
                  </a:cubicBezTo>
                  <a:cubicBezTo>
                    <a:pt x="2828" y="876"/>
                    <a:pt x="2828" y="876"/>
                    <a:pt x="2828" y="876"/>
                  </a:cubicBezTo>
                  <a:cubicBezTo>
                    <a:pt x="2831" y="885"/>
                    <a:pt x="2831" y="885"/>
                    <a:pt x="2831" y="885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877840" y="3849840"/>
              <a:ext cx="74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99"/>
                  </a:solidFill>
                  <a:latin typeface="Times New Roman"/>
                </a:rPr>
                <a:t>х</a:t>
              </a:r>
              <a:r>
                <a:rPr b="1" lang="uk-UA" sz="1800" spc="-1" strike="noStrike">
                  <a:solidFill>
                    <a:srgbClr val="000099"/>
                  </a:solidFill>
                  <a:latin typeface="Times New Roman"/>
                </a:rPr>
                <a:t>, 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927480" y="5181480"/>
              <a:ext cx="8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99"/>
                  </a:solidFill>
                  <a:latin typeface="Times New Roman"/>
                </a:rPr>
                <a:t>t</a:t>
              </a:r>
              <a:r>
                <a:rPr b="1" lang="uk-UA" sz="1800" spc="-1" strike="noStrike">
                  <a:solidFill>
                    <a:srgbClr val="000099"/>
                  </a:solidFill>
                  <a:latin typeface="Times New Roman"/>
                </a:rPr>
                <a:t>, 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966760" y="4411800"/>
              <a:ext cx="49392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74680" y="6067440"/>
              <a:ext cx="126684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6" name=""/>
            <p:cNvGraphicFramePr/>
            <p:nvPr/>
          </p:nvGraphicFramePr>
          <p:xfrm>
            <a:off x="3419280" y="5221080"/>
            <a:ext cx="217440" cy="426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419280" y="5221080"/>
                      <a:ext cx="21744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8" name=""/>
            <p:cNvGraphicFramePr/>
            <p:nvPr/>
          </p:nvGraphicFramePr>
          <p:xfrm>
            <a:off x="4201920" y="4782960"/>
            <a:ext cx="270000" cy="426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01920" y="4782960"/>
                      <a:ext cx="27000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0" name=""/>
            <p:cNvGraphicFramePr/>
            <p:nvPr/>
          </p:nvGraphicFramePr>
          <p:xfrm>
            <a:off x="4922640" y="5221080"/>
            <a:ext cx="290520" cy="426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8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922640" y="5221080"/>
                      <a:ext cx="29052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2" name=""/>
            <p:cNvGraphicFramePr/>
            <p:nvPr/>
          </p:nvGraphicFramePr>
          <p:xfrm>
            <a:off x="5768640" y="4751280"/>
            <a:ext cx="298440" cy="4266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8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768640" y="4751280"/>
                      <a:ext cx="298440" cy="4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4" name=""/>
            <p:cNvGraphicFramePr/>
            <p:nvPr/>
          </p:nvGraphicFramePr>
          <p:xfrm>
            <a:off x="6505560" y="5224320"/>
            <a:ext cx="299880" cy="426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8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505560" y="5224320"/>
                      <a:ext cx="2998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6" name=""/>
            <p:cNvSpPr/>
            <p:nvPr/>
          </p:nvSpPr>
          <p:spPr>
            <a:xfrm>
              <a:off x="1671480" y="4255920"/>
              <a:ext cx="1287360" cy="18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666880" y="58737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742840" y="5162400"/>
              <a:ext cx="2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651040" y="42195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523960" y="5234040"/>
              <a:ext cx="48150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44640" y="465912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243240" y="4416480"/>
              <a:ext cx="0" cy="80748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93" name=""/>
            <p:cNvGraphicFramePr/>
            <p:nvPr/>
          </p:nvGraphicFramePr>
          <p:xfrm>
            <a:off x="3146400" y="5205240"/>
            <a:ext cx="209520" cy="447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9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146400" y="5205240"/>
                      <a:ext cx="2095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95" name=""/>
          <p:cNvSpPr/>
          <p:nvPr/>
        </p:nvSpPr>
        <p:spPr>
          <a:xfrm>
            <a:off x="539640" y="2540160"/>
            <a:ext cx="44640" cy="3558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60360" y="19731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848160" y="219708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ідповідь</a:t>
            </a:r>
            <a:r>
              <a:rPr b="0" lang="ru-RU" sz="1600" spc="-1" strike="noStrike">
                <a:solidFill>
                  <a:srgbClr val="0000cc"/>
                </a:solidFill>
                <a:latin typeface="Comic Sans MS"/>
              </a:rPr>
              <a:t> на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питання</a:t>
            </a:r>
            <a:r>
              <a:rPr b="0" lang="ru-RU" sz="1600" spc="-1" strike="noStrike">
                <a:solidFill>
                  <a:srgbClr val="0000cc"/>
                </a:solidFill>
                <a:latin typeface="Comic Sans MS"/>
              </a:rPr>
              <a:t> 2.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066680" y="87804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9" name=""/>
          <p:cNvGraphicFramePr/>
          <p:nvPr/>
        </p:nvGraphicFramePr>
        <p:xfrm>
          <a:off x="3044880" y="3446640"/>
          <a:ext cx="1359000" cy="39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44880" y="3446640"/>
                    <a:ext cx="135900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1" name=""/>
          <p:cNvSpPr/>
          <p:nvPr/>
        </p:nvSpPr>
        <p:spPr>
          <a:xfrm>
            <a:off x="7306560" y="184644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(ди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Управляющая кнопка: домой 85">
            <a:hlinkClick r:id="rId2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>
            <a:hlinkClick r:id="rId24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6720" y="25704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знайдіть числові значення величин, позначених знаками запитання, якщо відома залежність координати тіла від часу: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12720" y="1327320"/>
            <a:ext cx="6645240" cy="1184760"/>
            <a:chOff x="612720" y="1327320"/>
            <a:chExt cx="6645240" cy="1184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612720" y="1488960"/>
              <a:ext cx="216216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719280" y="1779480"/>
              <a:ext cx="114768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870200" y="1731960"/>
              <a:ext cx="365040" cy="23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77920" y="1982880"/>
              <a:ext cx="23508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17680" y="1963800"/>
              <a:ext cx="0" cy="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46400" y="217476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ертя відсутн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82680" y="1992240"/>
              <a:ext cx="3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14760" y="197172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33560" y="1886040"/>
              <a:ext cx="44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4564080" y="1509840"/>
            <a:ext cx="2693880" cy="414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64080" y="1509840"/>
                      <a:ext cx="26938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2124000" y="1327320"/>
            <a:ext cx="873360" cy="288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124000" y="1327320"/>
                      <a:ext cx="87336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"/>
          <p:cNvSpPr/>
          <p:nvPr/>
        </p:nvSpPr>
        <p:spPr>
          <a:xfrm>
            <a:off x="4046400" y="2017800"/>
            <a:ext cx="465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91600" y="200160"/>
            <a:ext cx="496800" cy="495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67560" y="2570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92080" y="3063960"/>
            <a:ext cx="34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координата ті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62480" y="3081240"/>
            <a:ext cx="14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мпліт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90640" y="4043520"/>
            <a:ext cx="34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фаза колив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22880" y="4022640"/>
            <a:ext cx="34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швидкість ті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8840" y="4870440"/>
            <a:ext cx="20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іод колив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40160" y="4888080"/>
            <a:ext cx="24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Жорсткість пруж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0160" y="575460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будуйте ескіз графіка залежності координати тіла від час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727440" y="2881440"/>
            <a:ext cx="620280" cy="550800"/>
            <a:chOff x="3727440" y="2881440"/>
            <a:chExt cx="620280" cy="550800"/>
          </a:xfrm>
        </p:grpSpPr>
        <p:sp>
          <p:nvSpPr>
            <p:cNvPr id="180" name="">
              <a:hlinkClick r:id="rId8" action="ppaction://hlinksldjump"/>
            </p:cNvPr>
            <p:cNvSpPr/>
            <p:nvPr/>
          </p:nvSpPr>
          <p:spPr>
            <a:xfrm>
              <a:off x="3727440" y="294336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70000" y="2881440"/>
              <a:ext cx="47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426360" y="2881440"/>
            <a:ext cx="596880" cy="549000"/>
            <a:chOff x="6426360" y="2881440"/>
            <a:chExt cx="596880" cy="549000"/>
          </a:xfrm>
        </p:grpSpPr>
        <p:sp>
          <p:nvSpPr>
            <p:cNvPr id="183" name="">
              <a:hlinkClick r:id="rId9" action="ppaction://hlinksldjump"/>
            </p:cNvPr>
            <p:cNvSpPr/>
            <p:nvPr/>
          </p:nvSpPr>
          <p:spPr>
            <a:xfrm>
              <a:off x="6426360" y="2941560"/>
              <a:ext cx="510840" cy="488880"/>
            </a:xfrm>
            <a:custGeom>
              <a:avLst/>
              <a:gdLst>
                <a:gd name="textAreaLeft" fmla="*/ 31680 w 510840"/>
                <a:gd name="textAreaRight" fmla="*/ 479160 w 510840"/>
                <a:gd name="textAreaTop" fmla="*/ 31680 h 488880"/>
                <a:gd name="textAreaBottom" fmla="*/ 457200 h 488880"/>
              </a:gdLst>
              <a:ahLst/>
              <a:rect l="textAreaLeft" t="textAreaTop" r="textAreaRight" b="textAreaBottom"/>
              <a:pathLst>
                <a:path w="22570" h="21600">
                  <a:moveTo>
                    <a:pt x="0" y="0"/>
                  </a:moveTo>
                  <a:lnTo>
                    <a:pt x="22570" y="0"/>
                  </a:lnTo>
                  <a:lnTo>
                    <a:pt x="22570" y="21600"/>
                  </a:lnTo>
                  <a:lnTo>
                    <a:pt x="0" y="21600"/>
                  </a:lnTo>
                  <a:close/>
                </a:path>
                <a:path fill="lightenLess" w="22570" h="21600">
                  <a:moveTo>
                    <a:pt x="0" y="0"/>
                  </a:moveTo>
                  <a:lnTo>
                    <a:pt x="22570" y="0"/>
                  </a:lnTo>
                  <a:lnTo>
                    <a:pt x="21170" y="1400"/>
                  </a:lnTo>
                  <a:lnTo>
                    <a:pt x="1400" y="1400"/>
                  </a:lnTo>
                  <a:close/>
                </a:path>
                <a:path fill="darken" w="22570" h="21600">
                  <a:moveTo>
                    <a:pt x="22570" y="0"/>
                  </a:moveTo>
                  <a:lnTo>
                    <a:pt x="22570" y="21600"/>
                  </a:lnTo>
                  <a:lnTo>
                    <a:pt x="21170" y="20200"/>
                  </a:lnTo>
                  <a:lnTo>
                    <a:pt x="21170" y="1400"/>
                  </a:lnTo>
                  <a:close/>
                </a:path>
                <a:path fill="darkenLess" w="22570" h="21600">
                  <a:moveTo>
                    <a:pt x="2257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170" y="20200"/>
                  </a:lnTo>
                  <a:close/>
                </a:path>
                <a:path fill="lighten" w="2257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570" h="21600">
                  <a:moveTo>
                    <a:pt x="11285" y="1480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2570" h="21600">
                  <a:moveTo>
                    <a:pt x="12390" y="14281"/>
                  </a:moveTo>
                  <a:lnTo>
                    <a:pt x="12390" y="12323"/>
                  </a:lnTo>
                  <a:cubicBezTo>
                    <a:pt x="12390" y="11496"/>
                    <a:pt x="12721" y="10800"/>
                    <a:pt x="13321" y="10800"/>
                  </a:cubicBezTo>
                  <a:cubicBezTo>
                    <a:pt x="14453" y="10800"/>
                    <a:pt x="15349" y="9434"/>
                    <a:pt x="15349" y="7849"/>
                  </a:cubicBezTo>
                  <a:cubicBezTo>
                    <a:pt x="15349" y="5534"/>
                    <a:pt x="13496" y="3794"/>
                    <a:pt x="11285" y="3794"/>
                  </a:cubicBezTo>
                  <a:cubicBezTo>
                    <a:pt x="9074" y="3794"/>
                    <a:pt x="7403" y="5534"/>
                    <a:pt x="7403" y="7849"/>
                  </a:cubicBezTo>
                  <a:lnTo>
                    <a:pt x="9257" y="7849"/>
                  </a:lnTo>
                  <a:cubicBezTo>
                    <a:pt x="9257" y="6709"/>
                    <a:pt x="10179" y="5821"/>
                    <a:pt x="11285" y="5821"/>
                  </a:cubicBezTo>
                  <a:cubicBezTo>
                    <a:pt x="12390" y="5821"/>
                    <a:pt x="13321" y="6709"/>
                    <a:pt x="13321" y="7849"/>
                  </a:cubicBezTo>
                  <a:cubicBezTo>
                    <a:pt x="13321" y="8589"/>
                    <a:pt x="12851" y="9320"/>
                    <a:pt x="12390" y="9320"/>
                  </a:cubicBezTo>
                  <a:cubicBezTo>
                    <a:pt x="11285" y="9320"/>
                    <a:pt x="10179" y="10800"/>
                    <a:pt x="10179" y="12323"/>
                  </a:cubicBezTo>
                  <a:lnTo>
                    <a:pt x="10179" y="142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38760" y="2881440"/>
              <a:ext cx="38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567240" y="3833640"/>
            <a:ext cx="497880" cy="552240"/>
            <a:chOff x="3567240" y="3833640"/>
            <a:chExt cx="497880" cy="552240"/>
          </a:xfrm>
        </p:grpSpPr>
        <p:sp>
          <p:nvSpPr>
            <p:cNvPr id="186" name="">
              <a:hlinkClick r:id="rId10" action="ppaction://hlinksldjump"/>
            </p:cNvPr>
            <p:cNvSpPr/>
            <p:nvPr/>
          </p:nvSpPr>
          <p:spPr>
            <a:xfrm>
              <a:off x="3567240" y="389700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74960" y="3833640"/>
              <a:ext cx="29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896240" y="3849840"/>
            <a:ext cx="587520" cy="560160"/>
            <a:chOff x="7896240" y="3849840"/>
            <a:chExt cx="587520" cy="560160"/>
          </a:xfrm>
        </p:grpSpPr>
        <p:sp>
          <p:nvSpPr>
            <p:cNvPr id="189" name="">
              <a:hlinkClick r:id="rId11" action="ppaction://hlinksldjump"/>
            </p:cNvPr>
            <p:cNvSpPr/>
            <p:nvPr/>
          </p:nvSpPr>
          <p:spPr>
            <a:xfrm>
              <a:off x="7896240" y="3921120"/>
              <a:ext cx="476280" cy="48888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71">
                  <a:moveTo>
                    <a:pt x="0" y="0"/>
                  </a:moveTo>
                  <a:lnTo>
                    <a:pt x="21600" y="0"/>
                  </a:lnTo>
                  <a:lnTo>
                    <a:pt x="21600" y="22171"/>
                  </a:lnTo>
                  <a:lnTo>
                    <a:pt x="0" y="22171"/>
                  </a:lnTo>
                  <a:close/>
                </a:path>
                <a:path fill="lightenLess" w="21600" h="2217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71">
                  <a:moveTo>
                    <a:pt x="21600" y="0"/>
                  </a:moveTo>
                  <a:lnTo>
                    <a:pt x="21600" y="22171"/>
                  </a:lnTo>
                  <a:lnTo>
                    <a:pt x="20200" y="20771"/>
                  </a:lnTo>
                  <a:lnTo>
                    <a:pt x="20200" y="1400"/>
                  </a:lnTo>
                  <a:close/>
                </a:path>
                <a:path fill="darkenLess" w="21600" h="22171">
                  <a:moveTo>
                    <a:pt x="21600" y="22171"/>
                  </a:moveTo>
                  <a:lnTo>
                    <a:pt x="0" y="22171"/>
                  </a:lnTo>
                  <a:lnTo>
                    <a:pt x="1400" y="20771"/>
                  </a:lnTo>
                  <a:lnTo>
                    <a:pt x="20200" y="20771"/>
                  </a:lnTo>
                  <a:close/>
                </a:path>
                <a:path fill="lighten" w="21600" h="22171">
                  <a:moveTo>
                    <a:pt x="0" y="2217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71"/>
                  </a:lnTo>
                  <a:close/>
                </a:path>
                <a:path fill="darken" w="21600" h="22171">
                  <a:moveTo>
                    <a:pt x="10800" y="15089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71">
                  <a:moveTo>
                    <a:pt x="11905" y="14567"/>
                  </a:moveTo>
                  <a:lnTo>
                    <a:pt x="11905" y="12609"/>
                  </a:lnTo>
                  <a:cubicBezTo>
                    <a:pt x="11905" y="11782"/>
                    <a:pt x="12236" y="11085"/>
                    <a:pt x="12837" y="11085"/>
                  </a:cubicBezTo>
                  <a:cubicBezTo>
                    <a:pt x="13968" y="11085"/>
                    <a:pt x="14865" y="9719"/>
                    <a:pt x="14865" y="8135"/>
                  </a:cubicBezTo>
                  <a:cubicBezTo>
                    <a:pt x="14865" y="5820"/>
                    <a:pt x="13011" y="4079"/>
                    <a:pt x="10800" y="4079"/>
                  </a:cubicBezTo>
                  <a:cubicBezTo>
                    <a:pt x="8589" y="4079"/>
                    <a:pt x="6918" y="5820"/>
                    <a:pt x="6918" y="8135"/>
                  </a:cubicBezTo>
                  <a:lnTo>
                    <a:pt x="8772" y="8135"/>
                  </a:lnTo>
                  <a:cubicBezTo>
                    <a:pt x="8772" y="6995"/>
                    <a:pt x="9695" y="6107"/>
                    <a:pt x="10800" y="6107"/>
                  </a:cubicBezTo>
                  <a:cubicBezTo>
                    <a:pt x="11905" y="6107"/>
                    <a:pt x="12837" y="6995"/>
                    <a:pt x="12837" y="8135"/>
                  </a:cubicBezTo>
                  <a:cubicBezTo>
                    <a:pt x="12837" y="8875"/>
                    <a:pt x="12367" y="9606"/>
                    <a:pt x="11905" y="9606"/>
                  </a:cubicBezTo>
                  <a:cubicBezTo>
                    <a:pt x="10800" y="9606"/>
                    <a:pt x="9695" y="11085"/>
                    <a:pt x="9695" y="12609"/>
                  </a:cubicBezTo>
                  <a:lnTo>
                    <a:pt x="9695" y="145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86680" y="384984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689200" y="4691160"/>
            <a:ext cx="600120" cy="548640"/>
            <a:chOff x="2689200" y="4691160"/>
            <a:chExt cx="600120" cy="548640"/>
          </a:xfrm>
        </p:grpSpPr>
        <p:sp>
          <p:nvSpPr>
            <p:cNvPr id="192" name="">
              <a:hlinkClick r:id="rId12" action="ppaction://hlinksldjump"/>
            </p:cNvPr>
            <p:cNvSpPr/>
            <p:nvPr/>
          </p:nvSpPr>
          <p:spPr>
            <a:xfrm>
              <a:off x="2689200" y="4751280"/>
              <a:ext cx="449280" cy="48852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520"/>
                <a:gd name="textAreaBottom" fmla="*/ 459720 h 488520"/>
              </a:gdLst>
              <a:ahLst/>
              <a:rect l="textAreaLeft" t="textAreaTop" r="textAreaRight" b="textAreaBottom"/>
              <a:pathLst>
                <a:path w="21600" h="23485">
                  <a:moveTo>
                    <a:pt x="0" y="0"/>
                  </a:moveTo>
                  <a:lnTo>
                    <a:pt x="21600" y="0"/>
                  </a:lnTo>
                  <a:lnTo>
                    <a:pt x="21600" y="23485"/>
                  </a:lnTo>
                  <a:lnTo>
                    <a:pt x="0" y="23485"/>
                  </a:lnTo>
                  <a:close/>
                </a:path>
                <a:path fill="lightenLess" w="21600" h="2348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485">
                  <a:moveTo>
                    <a:pt x="21600" y="0"/>
                  </a:moveTo>
                  <a:lnTo>
                    <a:pt x="21600" y="23485"/>
                  </a:lnTo>
                  <a:lnTo>
                    <a:pt x="20200" y="22085"/>
                  </a:lnTo>
                  <a:lnTo>
                    <a:pt x="20200" y="1400"/>
                  </a:lnTo>
                  <a:close/>
                </a:path>
                <a:path fill="darkenLess" w="21600" h="23485">
                  <a:moveTo>
                    <a:pt x="21600" y="23485"/>
                  </a:moveTo>
                  <a:lnTo>
                    <a:pt x="0" y="23485"/>
                  </a:lnTo>
                  <a:lnTo>
                    <a:pt x="1400" y="22085"/>
                  </a:lnTo>
                  <a:lnTo>
                    <a:pt x="20200" y="22085"/>
                  </a:lnTo>
                  <a:close/>
                </a:path>
                <a:path fill="lighten" w="21600" h="23485">
                  <a:moveTo>
                    <a:pt x="0" y="2348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085"/>
                  </a:lnTo>
                  <a:close/>
                </a:path>
                <a:path fill="darken" w="21600" h="23485">
                  <a:moveTo>
                    <a:pt x="10800" y="15746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485">
                  <a:moveTo>
                    <a:pt x="11905" y="15224"/>
                  </a:moveTo>
                  <a:lnTo>
                    <a:pt x="11905" y="13266"/>
                  </a:lnTo>
                  <a:cubicBezTo>
                    <a:pt x="11905" y="12439"/>
                    <a:pt x="12236" y="11743"/>
                    <a:pt x="12837" y="11743"/>
                  </a:cubicBezTo>
                  <a:cubicBezTo>
                    <a:pt x="13968" y="11743"/>
                    <a:pt x="14865" y="10376"/>
                    <a:pt x="14865" y="8792"/>
                  </a:cubicBezTo>
                  <a:cubicBezTo>
                    <a:pt x="14865" y="6477"/>
                    <a:pt x="13011" y="4736"/>
                    <a:pt x="10800" y="4736"/>
                  </a:cubicBezTo>
                  <a:cubicBezTo>
                    <a:pt x="8589" y="4736"/>
                    <a:pt x="6918" y="6477"/>
                    <a:pt x="6918" y="8792"/>
                  </a:cubicBezTo>
                  <a:lnTo>
                    <a:pt x="8772" y="8792"/>
                  </a:lnTo>
                  <a:cubicBezTo>
                    <a:pt x="8772" y="7652"/>
                    <a:pt x="9695" y="6764"/>
                    <a:pt x="10800" y="6764"/>
                  </a:cubicBezTo>
                  <a:cubicBezTo>
                    <a:pt x="11905" y="6764"/>
                    <a:pt x="12837" y="7652"/>
                    <a:pt x="12837" y="8792"/>
                  </a:cubicBezTo>
                  <a:cubicBezTo>
                    <a:pt x="12837" y="9532"/>
                    <a:pt x="12367" y="10263"/>
                    <a:pt x="11905" y="10263"/>
                  </a:cubicBezTo>
                  <a:cubicBezTo>
                    <a:pt x="10800" y="10263"/>
                    <a:pt x="9695" y="11743"/>
                    <a:pt x="9695" y="13266"/>
                  </a:cubicBezTo>
                  <a:lnTo>
                    <a:pt x="9695" y="1522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26000" y="4691160"/>
              <a:ext cx="46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359480" y="4676760"/>
            <a:ext cx="579240" cy="558720"/>
            <a:chOff x="7359480" y="4676760"/>
            <a:chExt cx="579240" cy="558720"/>
          </a:xfrm>
        </p:grpSpPr>
        <p:sp>
          <p:nvSpPr>
            <p:cNvPr id="195" name="">
              <a:hlinkClick r:id="rId13" action="ppaction://hlinksldjump"/>
            </p:cNvPr>
            <p:cNvSpPr/>
            <p:nvPr/>
          </p:nvSpPr>
          <p:spPr>
            <a:xfrm>
              <a:off x="7359480" y="474660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02400" y="4676760"/>
              <a:ext cx="43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444600" y="56707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8320" y="5600880"/>
            <a:ext cx="4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Управляющая кнопка: домой 85">
            <a:hlinkClick r:id="rId15" action="ppaction://hlinksldjump"/>
          </p:cNvPr>
          <p:cNvSpPr/>
          <p:nvPr/>
        </p:nvSpPr>
        <p:spPr>
          <a:xfrm>
            <a:off x="146160" y="14436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2476440" y="46980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407960" y="1147680"/>
            <a:ext cx="53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 яких міркувань обрані точки відліку на осях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652760" y="4514760"/>
            <a:ext cx="49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1"/>
          <a:stretch/>
        </p:blipFill>
        <p:spPr>
          <a:xfrm>
            <a:off x="985680" y="2303640"/>
            <a:ext cx="390600" cy="145728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2"/>
          <a:stretch/>
        </p:blipFill>
        <p:spPr>
          <a:xfrm>
            <a:off x="630360" y="2039760"/>
            <a:ext cx="1133280" cy="276480"/>
          </a:xfrm>
          <a:prstGeom prst="rect">
            <a:avLst/>
          </a:prstGeom>
          <a:ln w="0">
            <a:noFill/>
          </a:ln>
        </p:spPr>
      </p:pic>
      <p:sp>
        <p:nvSpPr>
          <p:cNvPr id="1409" name=""/>
          <p:cNvSpPr/>
          <p:nvPr/>
        </p:nvSpPr>
        <p:spPr>
          <a:xfrm rot="16200000">
            <a:off x="990360" y="3823920"/>
            <a:ext cx="365040" cy="23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182600" y="2268360"/>
            <a:ext cx="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68600" y="2278080"/>
            <a:ext cx="0" cy="25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04880" y="2281320"/>
            <a:ext cx="0" cy="25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73200" y="3211560"/>
            <a:ext cx="66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633680" y="3510000"/>
            <a:ext cx="66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701640" y="350208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644480" y="33210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33440" y="303372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71400" y="451944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851040" y="2860560"/>
            <a:ext cx="3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51000" y="37656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139680" y="2340000"/>
            <a:ext cx="287280" cy="409680"/>
            <a:chOff x="139680" y="2340000"/>
            <a:chExt cx="287280" cy="409680"/>
          </a:xfrm>
        </p:grpSpPr>
        <p:sp>
          <p:nvSpPr>
            <p:cNvPr id="1422" name=""/>
            <p:cNvSpPr/>
            <p:nvPr/>
          </p:nvSpPr>
          <p:spPr>
            <a:xfrm>
              <a:off x="139680" y="234000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23" name=""/>
            <p:cNvGraphicFramePr/>
            <p:nvPr/>
          </p:nvGraphicFramePr>
          <p:xfrm>
            <a:off x="165240" y="2360880"/>
            <a:ext cx="261720" cy="37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2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65240" y="2360880"/>
                      <a:ext cx="26172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5" name=""/>
          <p:cNvSpPr/>
          <p:nvPr/>
        </p:nvSpPr>
        <p:spPr>
          <a:xfrm>
            <a:off x="2909880" y="2052720"/>
            <a:ext cx="59612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рівняння                           зрозуміло, що точка відліку на осі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відповідає такому положенню тягарця, за якого пружина недеформована, б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 рівняння                       є диференціальним рівнянням гармонічних коливань                                , для яких положення рівноваги відповідає         . Отже, гармоні</a:t>
            </a:r>
            <a:r>
              <a:rPr b="0" lang="uk-UA" sz="1600" spc="-1" strike="noStrike">
                <a:solidFill>
                  <a:srgbClr val="0033cc"/>
                </a:solidFill>
                <a:latin typeface="Comic Sans MS"/>
              </a:rPr>
              <a:t>чні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коливання тягарця будуть здійснюватися відносно положення рівноваги, у якому результуюча сила (сила пружності </a:t>
            </a:r>
            <a:r>
              <a:rPr b="1" lang="uk-UA" sz="1600" spc="-1" strike="noStrike">
                <a:solidFill>
                  <a:srgbClr val="0000cc"/>
                </a:solidFill>
                <a:latin typeface="Times New Roman"/>
              </a:rPr>
              <a:t>+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сила тяжіння) дорівнюватиме нулю. Для опису цих коливань зручно використовувати координатну віс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нуль якої співпадає з положенням рівноваги для результуючої с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7" name=""/>
          <p:cNvGraphicFramePr/>
          <p:nvPr/>
        </p:nvGraphicFramePr>
        <p:xfrm>
          <a:off x="4416480" y="2063880"/>
          <a:ext cx="1574640" cy="32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16480" y="2063880"/>
                    <a:ext cx="15746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9" name=""/>
          <p:cNvSpPr/>
          <p:nvPr/>
        </p:nvSpPr>
        <p:spPr>
          <a:xfrm>
            <a:off x="2419200" y="2414520"/>
            <a:ext cx="42840" cy="2874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239920" y="18860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947880" y="108252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2" name=""/>
          <p:cNvGraphicFramePr/>
          <p:nvPr/>
        </p:nvGraphicFramePr>
        <p:xfrm>
          <a:off x="4448160" y="2914560"/>
          <a:ext cx="1214280" cy="338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48160" y="2914560"/>
                    <a:ext cx="121428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"/>
          <p:cNvGraphicFramePr/>
          <p:nvPr/>
        </p:nvGraphicFramePr>
        <p:xfrm>
          <a:off x="5286240" y="3159000"/>
          <a:ext cx="1824120" cy="405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86240" y="3159000"/>
                    <a:ext cx="182412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6" name=""/>
          <p:cNvGraphicFramePr/>
          <p:nvPr/>
        </p:nvGraphicFramePr>
        <p:xfrm>
          <a:off x="6234120" y="3457440"/>
          <a:ext cx="490680" cy="273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34120" y="3457440"/>
                    <a:ext cx="49068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8" name=""/>
          <p:cNvGraphicFramePr/>
          <p:nvPr/>
        </p:nvGraphicFramePr>
        <p:xfrm>
          <a:off x="5799240" y="2563920"/>
          <a:ext cx="1382760" cy="388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3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9240" y="2563920"/>
                    <a:ext cx="13827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0" name=""/>
          <p:cNvGraphicFramePr/>
          <p:nvPr/>
        </p:nvGraphicFramePr>
        <p:xfrm>
          <a:off x="4884840" y="4889520"/>
          <a:ext cx="3978000" cy="449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4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884840" y="4889520"/>
                    <a:ext cx="39780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2" name="Управляющая кнопка: домой 85">
            <a:hlinkClick r:id="rId1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>
            <a:hlinkClick r:id="rId19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1538280" y="1468440"/>
            <a:ext cx="390600" cy="1457280"/>
          </a:xfrm>
          <a:prstGeom prst="rect">
            <a:avLst/>
          </a:prstGeom>
          <a:ln w="0">
            <a:noFill/>
          </a:ln>
        </p:spPr>
      </p:pic>
      <p:pic>
        <p:nvPicPr>
          <p:cNvPr id="1445" name="" descr=""/>
          <p:cNvPicPr/>
          <p:nvPr/>
        </p:nvPicPr>
        <p:blipFill>
          <a:blip r:embed="rId2"/>
          <a:stretch/>
        </p:blipFill>
        <p:spPr>
          <a:xfrm>
            <a:off x="1182600" y="1204920"/>
            <a:ext cx="1133640" cy="276120"/>
          </a:xfrm>
          <a:prstGeom prst="rect">
            <a:avLst/>
          </a:prstGeom>
          <a:ln w="0">
            <a:noFill/>
          </a:ln>
        </p:spPr>
      </p:pic>
      <p:sp>
        <p:nvSpPr>
          <p:cNvPr id="1446" name=""/>
          <p:cNvSpPr/>
          <p:nvPr/>
        </p:nvSpPr>
        <p:spPr>
          <a:xfrm rot="16200000">
            <a:off x="1542960" y="2989080"/>
            <a:ext cx="365040" cy="23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735200" y="1433520"/>
            <a:ext cx="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220840" y="1442880"/>
            <a:ext cx="0" cy="250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257480" y="1446120"/>
            <a:ext cx="0" cy="250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25440" y="2376360"/>
            <a:ext cx="66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185920" y="2674800"/>
            <a:ext cx="66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1254240" y="266688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2197080" y="248616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985680" y="219852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205000" y="369396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224000" y="36846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403280" y="2025720"/>
            <a:ext cx="3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803240" y="29304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692280" y="1504800"/>
            <a:ext cx="287280" cy="409680"/>
            <a:chOff x="692280" y="1504800"/>
            <a:chExt cx="287280" cy="409680"/>
          </a:xfrm>
        </p:grpSpPr>
        <p:sp>
          <p:nvSpPr>
            <p:cNvPr id="1460" name=""/>
            <p:cNvSpPr/>
            <p:nvPr/>
          </p:nvSpPr>
          <p:spPr>
            <a:xfrm>
              <a:off x="692280" y="150480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61" name=""/>
            <p:cNvGraphicFramePr/>
            <p:nvPr/>
          </p:nvGraphicFramePr>
          <p:xfrm>
            <a:off x="717840" y="1525680"/>
            <a:ext cx="261720" cy="37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7840" y="1525680"/>
                      <a:ext cx="26172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63" name=""/>
          <p:cNvSpPr/>
          <p:nvPr/>
        </p:nvSpPr>
        <p:spPr>
          <a:xfrm>
            <a:off x="617400" y="27748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057400" y="482760"/>
            <a:ext cx="51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876240" y="2679480"/>
            <a:ext cx="35244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913200" y="1998720"/>
            <a:ext cx="48322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Як було зазначено у відповіді на запитання 3.1,         має відповідати такому значенню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, за якого результуюча сила                дорівнює нулю. Отже, знак запитання на рисунку потрібно замінити виразо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7" name=""/>
          <p:cNvGraphicFramePr/>
          <p:nvPr/>
        </p:nvGraphicFramePr>
        <p:xfrm>
          <a:off x="5932440" y="3405240"/>
          <a:ext cx="623880" cy="62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32440" y="3405240"/>
                    <a:ext cx="6238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0" name=""/>
          <p:cNvGraphicFramePr/>
          <p:nvPr/>
        </p:nvGraphicFramePr>
        <p:xfrm>
          <a:off x="4414680" y="2287440"/>
          <a:ext cx="520920" cy="277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4680" y="2287440"/>
                    <a:ext cx="520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3" name=""/>
          <p:cNvGraphicFramePr/>
          <p:nvPr/>
        </p:nvGraphicFramePr>
        <p:xfrm>
          <a:off x="6676920" y="2538360"/>
          <a:ext cx="1041480" cy="349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676920" y="2538360"/>
                    <a:ext cx="10414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5" name=""/>
          <p:cNvSpPr/>
          <p:nvPr/>
        </p:nvSpPr>
        <p:spPr>
          <a:xfrm>
            <a:off x="5883120" y="3378240"/>
            <a:ext cx="541440" cy="709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407880" y="27385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478320" y="2482920"/>
            <a:ext cx="42840" cy="17161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298680" y="1954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>
            <a:hlinkClick r:id="rId13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/>
          <p:nvPr/>
        </p:nvSpPr>
        <p:spPr>
          <a:xfrm>
            <a:off x="3711600" y="2727360"/>
            <a:ext cx="483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ей же результат можна було б отримати формаль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495600" y="5475240"/>
            <a:ext cx="514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юючи з                    робимо висновок, щ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363600" y="2192400"/>
            <a:ext cx="2378160" cy="2829600"/>
            <a:chOff x="363600" y="2192400"/>
            <a:chExt cx="2378160" cy="2829600"/>
          </a:xfrm>
        </p:grpSpPr>
        <p:pic>
          <p:nvPicPr>
            <p:cNvPr id="1484" name="" descr=""/>
            <p:cNvPicPr/>
            <p:nvPr/>
          </p:nvPicPr>
          <p:blipFill>
            <a:blip r:embed="rId1"/>
            <a:stretch/>
          </p:blipFill>
          <p:spPr>
            <a:xfrm>
              <a:off x="1202040" y="2192400"/>
              <a:ext cx="113328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5" name=""/>
            <p:cNvSpPr/>
            <p:nvPr/>
          </p:nvSpPr>
          <p:spPr>
            <a:xfrm>
              <a:off x="363600" y="2628720"/>
              <a:ext cx="74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6" name="" descr=""/>
            <p:cNvPicPr/>
            <p:nvPr/>
          </p:nvPicPr>
          <p:blipFill>
            <a:blip r:embed="rId2"/>
            <a:stretch/>
          </p:blipFill>
          <p:spPr>
            <a:xfrm>
              <a:off x="1532160" y="2468520"/>
              <a:ext cx="3906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7" name=""/>
            <p:cNvSpPr/>
            <p:nvPr/>
          </p:nvSpPr>
          <p:spPr>
            <a:xfrm rot="16200000">
              <a:off x="1536840" y="3989160"/>
              <a:ext cx="365040" cy="23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729080" y="2433600"/>
              <a:ext cx="0" cy="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214720" y="2442960"/>
              <a:ext cx="0" cy="250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251000" y="2446200"/>
              <a:ext cx="0" cy="250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19320" y="3376440"/>
              <a:ext cx="6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179800" y="3674880"/>
              <a:ext cx="6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1248120" y="3666960"/>
              <a:ext cx="938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190960" y="348624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979560" y="319860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246400" y="467496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17880" y="46846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895680" y="3676320"/>
              <a:ext cx="352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397160" y="3025800"/>
              <a:ext cx="31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797120" y="39304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1" name=""/>
            <p:cNvGrpSpPr/>
            <p:nvPr/>
          </p:nvGrpSpPr>
          <p:grpSpPr>
            <a:xfrm>
              <a:off x="686160" y="2504880"/>
              <a:ext cx="287280" cy="409680"/>
              <a:chOff x="686160" y="2504880"/>
              <a:chExt cx="287280" cy="409680"/>
            </a:xfrm>
          </p:grpSpPr>
          <p:sp>
            <p:nvSpPr>
              <p:cNvPr id="1502" name=""/>
              <p:cNvSpPr/>
              <p:nvPr/>
            </p:nvSpPr>
            <p:spPr>
              <a:xfrm>
                <a:off x="686160" y="2504880"/>
                <a:ext cx="0" cy="4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503" name=""/>
              <p:cNvGraphicFramePr/>
              <p:nvPr/>
            </p:nvGraphicFramePr>
            <p:xfrm>
              <a:off x="711720" y="2525760"/>
              <a:ext cx="261720" cy="3744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504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11720" y="2525760"/>
                        <a:ext cx="26172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mc:AlternateContent>
          <mc:Choice xmlns:a14="http://schemas.microsoft.com/office/drawing/2010/main" Requires="a14">
            <p:sp>
              <p:nvSpPr>
                <p:cNvPr id="1505" name=""/>
                <p:cNvSpPr txBox="1"/>
                <p:nvPr/>
              </p:nvSpPr>
              <p:spPr>
                <a:xfrm>
                  <a:off x="490680" y="3671640"/>
                  <a:ext cx="384120" cy="56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g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6" name=""/>
          <p:cNvSpPr/>
          <p:nvPr/>
        </p:nvSpPr>
        <p:spPr>
          <a:xfrm>
            <a:off x="3929040" y="696960"/>
            <a:ext cx="4732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сля відповіді на запитання 3.2 стає зрозумілим, що шукана заміна змінної та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5025960" y="1380960"/>
          <a:ext cx="1598760" cy="75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5960" y="1380960"/>
                    <a:ext cx="15987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76440" y="507960"/>
            <a:ext cx="5575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019240" y="152280"/>
            <a:ext cx="52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2" name=""/>
          <p:cNvGraphicFramePr/>
          <p:nvPr/>
        </p:nvGraphicFramePr>
        <p:xfrm>
          <a:off x="506520" y="800280"/>
          <a:ext cx="1981080" cy="372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6520" y="800280"/>
                    <a:ext cx="19810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4" name=""/>
          <p:cNvGraphicFramePr/>
          <p:nvPr/>
        </p:nvGraphicFramePr>
        <p:xfrm>
          <a:off x="655560" y="1789200"/>
          <a:ext cx="1567080" cy="372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1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5560" y="1789200"/>
                    <a:ext cx="15670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6" name=""/>
          <p:cNvGraphicFramePr/>
          <p:nvPr/>
        </p:nvGraphicFramePr>
        <p:xfrm>
          <a:off x="1220760" y="1265400"/>
          <a:ext cx="333360" cy="447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1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20760" y="1265400"/>
                    <a:ext cx="3333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1573200" y="1346040"/>
                <a:ext cx="10638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9" name=""/>
          <p:cNvSpPr/>
          <p:nvPr/>
        </p:nvSpPr>
        <p:spPr>
          <a:xfrm>
            <a:off x="2620800" y="12304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463920" y="1368360"/>
            <a:ext cx="42840" cy="34146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65560" y="8208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899320" y="1407960"/>
            <a:ext cx="541080" cy="709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897360" y="2165400"/>
            <a:ext cx="25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бо при           має бу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4" name=""/>
          <p:cNvGraphicFramePr/>
          <p:nvPr/>
        </p:nvGraphicFramePr>
        <p:xfrm>
          <a:off x="4670280" y="2182680"/>
          <a:ext cx="557280" cy="289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2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70280" y="2182680"/>
                    <a:ext cx="5572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6" name=""/>
          <p:cNvGraphicFramePr/>
          <p:nvPr/>
        </p:nvGraphicFramePr>
        <p:xfrm>
          <a:off x="6202440" y="2016000"/>
          <a:ext cx="896760" cy="646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2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02440" y="2016000"/>
                    <a:ext cx="8967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3960720" y="3390840"/>
                <a:ext cx="8733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9" name=""/>
          <p:cNvGraphicFramePr/>
          <p:nvPr/>
        </p:nvGraphicFramePr>
        <p:xfrm>
          <a:off x="5681520" y="3344760"/>
          <a:ext cx="787680" cy="363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81520" y="3344760"/>
                    <a:ext cx="7876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7191360" y="3405240"/>
          <a:ext cx="490680" cy="2905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191360" y="3405240"/>
                    <a:ext cx="4906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3" name=""/>
          <p:cNvGraphicFramePr/>
          <p:nvPr/>
        </p:nvGraphicFramePr>
        <p:xfrm>
          <a:off x="5087880" y="5454720"/>
          <a:ext cx="1098720" cy="312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3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087880" y="5454720"/>
                    <a:ext cx="109872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5" name=""/>
          <p:cNvGraphicFramePr/>
          <p:nvPr/>
        </p:nvGraphicFramePr>
        <p:xfrm>
          <a:off x="5624640" y="5734080"/>
          <a:ext cx="761760" cy="695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53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624640" y="5734080"/>
                    <a:ext cx="76176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7" name="">
            <a:hlinkClick r:id="rId26" action="ppaction://hlinksldjump"/>
          </p:cNvPr>
          <p:cNvSpPr/>
          <p:nvPr/>
        </p:nvSpPr>
        <p:spPr>
          <a:xfrm>
            <a:off x="4826160" y="3303720"/>
            <a:ext cx="360360" cy="4204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20480"/>
              <a:gd name="textAreaBottom" fmla="*/ 397440 h 420480"/>
            </a:gdLst>
            <a:ahLst/>
            <a:rect l="textAreaLeft" t="textAreaTop" r="textAreaRight" b="textAreaBottom"/>
            <a:pathLst>
              <a:path w="21600" h="25200">
                <a:moveTo>
                  <a:pt x="0" y="0"/>
                </a:moveTo>
                <a:lnTo>
                  <a:pt x="21600" y="0"/>
                </a:lnTo>
                <a:lnTo>
                  <a:pt x="21600" y="25200"/>
                </a:lnTo>
                <a:lnTo>
                  <a:pt x="0" y="25200"/>
                </a:lnTo>
                <a:close/>
              </a:path>
              <a:path fill="lightenLess" w="21600" h="25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0">
                <a:moveTo>
                  <a:pt x="21600" y="0"/>
                </a:moveTo>
                <a:lnTo>
                  <a:pt x="21600" y="25200"/>
                </a:lnTo>
                <a:lnTo>
                  <a:pt x="20200" y="23800"/>
                </a:lnTo>
                <a:lnTo>
                  <a:pt x="20200" y="1400"/>
                </a:lnTo>
                <a:close/>
              </a:path>
              <a:path fill="darkenLess" w="21600" h="25200">
                <a:moveTo>
                  <a:pt x="21600" y="25200"/>
                </a:moveTo>
                <a:lnTo>
                  <a:pt x="0" y="25200"/>
                </a:lnTo>
                <a:lnTo>
                  <a:pt x="1400" y="23800"/>
                </a:lnTo>
                <a:lnTo>
                  <a:pt x="20200" y="23800"/>
                </a:lnTo>
                <a:close/>
              </a:path>
              <a:path fill="lighten" w="21600" h="25200">
                <a:moveTo>
                  <a:pt x="0" y="25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0"/>
                </a:lnTo>
                <a:close/>
              </a:path>
              <a:path fill="darken" w="21600" h="25200">
                <a:moveTo>
                  <a:pt x="10800" y="166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00">
                <a:moveTo>
                  <a:pt x="11905" y="16081"/>
                </a:moveTo>
                <a:lnTo>
                  <a:pt x="11905" y="14123"/>
                </a:lnTo>
                <a:cubicBezTo>
                  <a:pt x="11905" y="13296"/>
                  <a:pt x="12236" y="12600"/>
                  <a:pt x="12837" y="12600"/>
                </a:cubicBezTo>
                <a:cubicBezTo>
                  <a:pt x="13968" y="12600"/>
                  <a:pt x="14865" y="11234"/>
                  <a:pt x="14865" y="9649"/>
                </a:cubicBezTo>
                <a:cubicBezTo>
                  <a:pt x="14865" y="7334"/>
                  <a:pt x="13011" y="5594"/>
                  <a:pt x="10800" y="5594"/>
                </a:cubicBezTo>
                <a:cubicBezTo>
                  <a:pt x="8589" y="5594"/>
                  <a:pt x="6918" y="7334"/>
                  <a:pt x="6918" y="9649"/>
                </a:cubicBezTo>
                <a:lnTo>
                  <a:pt x="8772" y="9649"/>
                </a:lnTo>
                <a:cubicBezTo>
                  <a:pt x="8772" y="8509"/>
                  <a:pt x="9695" y="7621"/>
                  <a:pt x="10800" y="7621"/>
                </a:cubicBezTo>
                <a:cubicBezTo>
                  <a:pt x="11905" y="7621"/>
                  <a:pt x="12837" y="8509"/>
                  <a:pt x="12837" y="9649"/>
                </a:cubicBezTo>
                <a:cubicBezTo>
                  <a:pt x="12837" y="10389"/>
                  <a:pt x="12367" y="11120"/>
                  <a:pt x="11905" y="11120"/>
                </a:cubicBezTo>
                <a:cubicBezTo>
                  <a:pt x="10800" y="11120"/>
                  <a:pt x="9695" y="12600"/>
                  <a:pt x="9695" y="14123"/>
                </a:cubicBezTo>
                <a:lnTo>
                  <a:pt x="9695" y="1608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5278320" y="3360600"/>
          <a:ext cx="405000" cy="324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278320" y="3360600"/>
                    <a:ext cx="405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0" name=""/>
          <p:cNvSpPr/>
          <p:nvPr/>
        </p:nvSpPr>
        <p:spPr>
          <a:xfrm>
            <a:off x="6402240" y="33526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>
            <a:hlinkClick r:id="rId29" action="ppaction://hlinksldjump"/>
          </p:cNvPr>
          <p:cNvSpPr/>
          <p:nvPr/>
        </p:nvSpPr>
        <p:spPr>
          <a:xfrm>
            <a:off x="6824520" y="3298680"/>
            <a:ext cx="360360" cy="4208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20840"/>
              <a:gd name="textAreaBottom" fmla="*/ 397800 h 420840"/>
            </a:gdLst>
            <a:ahLst/>
            <a:rect l="textAreaLeft" t="textAreaTop" r="textAreaRight" b="textAreaBottom"/>
            <a:pathLst>
              <a:path w="21600" h="25222">
                <a:moveTo>
                  <a:pt x="0" y="0"/>
                </a:moveTo>
                <a:lnTo>
                  <a:pt x="21600" y="0"/>
                </a:lnTo>
                <a:lnTo>
                  <a:pt x="21600" y="25222"/>
                </a:lnTo>
                <a:lnTo>
                  <a:pt x="0" y="25222"/>
                </a:lnTo>
                <a:close/>
              </a:path>
              <a:path fill="lightenLess" w="21600" h="25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2">
                <a:moveTo>
                  <a:pt x="21600" y="0"/>
                </a:moveTo>
                <a:lnTo>
                  <a:pt x="21600" y="25222"/>
                </a:lnTo>
                <a:lnTo>
                  <a:pt x="20200" y="23822"/>
                </a:lnTo>
                <a:lnTo>
                  <a:pt x="20200" y="1400"/>
                </a:lnTo>
                <a:close/>
              </a:path>
              <a:path fill="darkenLess" w="21600" h="25222">
                <a:moveTo>
                  <a:pt x="21600" y="25222"/>
                </a:moveTo>
                <a:lnTo>
                  <a:pt x="0" y="25222"/>
                </a:lnTo>
                <a:lnTo>
                  <a:pt x="1400" y="23822"/>
                </a:lnTo>
                <a:lnTo>
                  <a:pt x="20200" y="23822"/>
                </a:lnTo>
                <a:close/>
              </a:path>
              <a:path fill="lighten" w="21600" h="25222">
                <a:moveTo>
                  <a:pt x="0" y="25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2"/>
                </a:lnTo>
                <a:close/>
              </a:path>
              <a:path fill="darken" w="21600" h="25222">
                <a:moveTo>
                  <a:pt x="10800" y="1661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22">
                <a:moveTo>
                  <a:pt x="11905" y="16092"/>
                </a:moveTo>
                <a:lnTo>
                  <a:pt x="11905" y="14134"/>
                </a:lnTo>
                <a:cubicBezTo>
                  <a:pt x="11905" y="13307"/>
                  <a:pt x="12236" y="12611"/>
                  <a:pt x="12837" y="12611"/>
                </a:cubicBezTo>
                <a:cubicBezTo>
                  <a:pt x="13968" y="12611"/>
                  <a:pt x="14865" y="11244"/>
                  <a:pt x="14865" y="9660"/>
                </a:cubicBezTo>
                <a:cubicBezTo>
                  <a:pt x="14865" y="7345"/>
                  <a:pt x="13011" y="5604"/>
                  <a:pt x="10800" y="5604"/>
                </a:cubicBezTo>
                <a:cubicBezTo>
                  <a:pt x="8589" y="5604"/>
                  <a:pt x="6918" y="7345"/>
                  <a:pt x="6918" y="9660"/>
                </a:cubicBezTo>
                <a:lnTo>
                  <a:pt x="8772" y="9660"/>
                </a:lnTo>
                <a:cubicBezTo>
                  <a:pt x="8772" y="8520"/>
                  <a:pt x="9695" y="7632"/>
                  <a:pt x="10800" y="7632"/>
                </a:cubicBezTo>
                <a:cubicBezTo>
                  <a:pt x="11905" y="7632"/>
                  <a:pt x="12837" y="8520"/>
                  <a:pt x="12837" y="9660"/>
                </a:cubicBezTo>
                <a:cubicBezTo>
                  <a:pt x="12837" y="10400"/>
                  <a:pt x="12367" y="11131"/>
                  <a:pt x="11905" y="11131"/>
                </a:cubicBezTo>
                <a:cubicBezTo>
                  <a:pt x="10800" y="11131"/>
                  <a:pt x="9695" y="12611"/>
                  <a:pt x="9695" y="14134"/>
                </a:cubicBezTo>
                <a:lnTo>
                  <a:pt x="9695" y="160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3846600" y="3794040"/>
            <a:ext cx="38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        — невідома </a:t>
            </a:r>
            <a:r>
              <a:rPr b="1" lang="uk-UA" sz="1600" spc="-1" strike="noStrike" u="sng">
                <a:solidFill>
                  <a:srgbClr val="0000cc"/>
                </a:solidFill>
                <a:uFillTx/>
                <a:latin typeface="Comic Sans MS"/>
              </a:rPr>
              <a:t>константа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>
            <a:hlinkClick r:id="rId30" action="ppaction://hlinksldjump"/>
          </p:cNvPr>
          <p:cNvSpPr/>
          <p:nvPr/>
        </p:nvSpPr>
        <p:spPr>
          <a:xfrm>
            <a:off x="4834080" y="3770280"/>
            <a:ext cx="360360" cy="4208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20840"/>
              <a:gd name="textAreaBottom" fmla="*/ 397800 h 420840"/>
            </a:gdLst>
            <a:ahLst/>
            <a:rect l="textAreaLeft" t="textAreaTop" r="textAreaRight" b="textAreaBottom"/>
            <a:pathLst>
              <a:path w="21600" h="25222">
                <a:moveTo>
                  <a:pt x="0" y="0"/>
                </a:moveTo>
                <a:lnTo>
                  <a:pt x="21600" y="0"/>
                </a:lnTo>
                <a:lnTo>
                  <a:pt x="21600" y="25222"/>
                </a:lnTo>
                <a:lnTo>
                  <a:pt x="0" y="25222"/>
                </a:lnTo>
                <a:close/>
              </a:path>
              <a:path fill="lightenLess" w="21600" h="25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2">
                <a:moveTo>
                  <a:pt x="21600" y="0"/>
                </a:moveTo>
                <a:lnTo>
                  <a:pt x="21600" y="25222"/>
                </a:lnTo>
                <a:lnTo>
                  <a:pt x="20200" y="23822"/>
                </a:lnTo>
                <a:lnTo>
                  <a:pt x="20200" y="1400"/>
                </a:lnTo>
                <a:close/>
              </a:path>
              <a:path fill="darkenLess" w="21600" h="25222">
                <a:moveTo>
                  <a:pt x="21600" y="25222"/>
                </a:moveTo>
                <a:lnTo>
                  <a:pt x="0" y="25222"/>
                </a:lnTo>
                <a:lnTo>
                  <a:pt x="1400" y="23822"/>
                </a:lnTo>
                <a:lnTo>
                  <a:pt x="20200" y="23822"/>
                </a:lnTo>
                <a:close/>
              </a:path>
              <a:path fill="lighten" w="21600" h="25222">
                <a:moveTo>
                  <a:pt x="0" y="25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2"/>
                </a:lnTo>
                <a:close/>
              </a:path>
              <a:path fill="darken" w="21600" h="25222">
                <a:moveTo>
                  <a:pt x="10800" y="1661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22">
                <a:moveTo>
                  <a:pt x="11905" y="16092"/>
                </a:moveTo>
                <a:lnTo>
                  <a:pt x="11905" y="14134"/>
                </a:lnTo>
                <a:cubicBezTo>
                  <a:pt x="11905" y="13307"/>
                  <a:pt x="12236" y="12611"/>
                  <a:pt x="12837" y="12611"/>
                </a:cubicBezTo>
                <a:cubicBezTo>
                  <a:pt x="13968" y="12611"/>
                  <a:pt x="14865" y="11244"/>
                  <a:pt x="14865" y="9660"/>
                </a:cubicBezTo>
                <a:cubicBezTo>
                  <a:pt x="14865" y="7345"/>
                  <a:pt x="13011" y="5604"/>
                  <a:pt x="10800" y="5604"/>
                </a:cubicBezTo>
                <a:cubicBezTo>
                  <a:pt x="8589" y="5604"/>
                  <a:pt x="6918" y="7345"/>
                  <a:pt x="6918" y="9660"/>
                </a:cubicBezTo>
                <a:lnTo>
                  <a:pt x="8772" y="9660"/>
                </a:lnTo>
                <a:cubicBezTo>
                  <a:pt x="8772" y="8520"/>
                  <a:pt x="9695" y="7632"/>
                  <a:pt x="10800" y="7632"/>
                </a:cubicBezTo>
                <a:cubicBezTo>
                  <a:pt x="11905" y="7632"/>
                  <a:pt x="12837" y="8520"/>
                  <a:pt x="12837" y="9660"/>
                </a:cubicBezTo>
                <a:cubicBezTo>
                  <a:pt x="12837" y="10400"/>
                  <a:pt x="12367" y="11131"/>
                  <a:pt x="11905" y="11131"/>
                </a:cubicBezTo>
                <a:cubicBezTo>
                  <a:pt x="10800" y="11131"/>
                  <a:pt x="9695" y="12611"/>
                  <a:pt x="9695" y="14134"/>
                </a:cubicBezTo>
                <a:lnTo>
                  <a:pt x="9695" y="160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862440" y="4255920"/>
            <a:ext cx="4921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сля підстановки у вихідне диференціальне рівняння виразів для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і     отримуємо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2863800" y="4724280"/>
            <a:ext cx="6105600" cy="746280"/>
            <a:chOff x="2863800" y="4724280"/>
            <a:chExt cx="6105600" cy="746280"/>
          </a:xfrm>
        </p:grpSpPr>
        <p:graphicFrame>
          <p:nvGraphicFramePr>
            <p:cNvPr id="1546" name=""/>
            <p:cNvGraphicFramePr/>
            <p:nvPr/>
          </p:nvGraphicFramePr>
          <p:xfrm>
            <a:off x="2863800" y="4724280"/>
            <a:ext cx="6105600" cy="746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547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863800" y="4724280"/>
                      <a:ext cx="61056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8" name="">
              <a:hlinkClick r:id="rId33" action="ppaction://hlinksldjump"/>
            </p:cNvPr>
            <p:cNvSpPr/>
            <p:nvPr/>
          </p:nvSpPr>
          <p:spPr>
            <a:xfrm>
              <a:off x="4535640" y="4895640"/>
              <a:ext cx="360360" cy="42084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420840"/>
                <a:gd name="textAreaBottom" fmla="*/ 397800 h 420840"/>
              </a:gdLst>
              <a:ahLst/>
              <a:rect l="textAreaLeft" t="textAreaTop" r="textAreaRight" b="textAreaBottom"/>
              <a:pathLst>
                <a:path w="21600" h="25222">
                  <a:moveTo>
                    <a:pt x="0" y="0"/>
                  </a:moveTo>
                  <a:lnTo>
                    <a:pt x="21600" y="0"/>
                  </a:lnTo>
                  <a:lnTo>
                    <a:pt x="21600" y="25222"/>
                  </a:lnTo>
                  <a:lnTo>
                    <a:pt x="0" y="25222"/>
                  </a:lnTo>
                  <a:close/>
                </a:path>
                <a:path fill="lightenLess" w="21600" h="2522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222">
                  <a:moveTo>
                    <a:pt x="21600" y="0"/>
                  </a:moveTo>
                  <a:lnTo>
                    <a:pt x="21600" y="25222"/>
                  </a:lnTo>
                  <a:lnTo>
                    <a:pt x="20200" y="23822"/>
                  </a:lnTo>
                  <a:lnTo>
                    <a:pt x="20200" y="1400"/>
                  </a:lnTo>
                  <a:close/>
                </a:path>
                <a:path fill="darkenLess" w="21600" h="25222">
                  <a:moveTo>
                    <a:pt x="21600" y="25222"/>
                  </a:moveTo>
                  <a:lnTo>
                    <a:pt x="0" y="25222"/>
                  </a:lnTo>
                  <a:lnTo>
                    <a:pt x="1400" y="23822"/>
                  </a:lnTo>
                  <a:lnTo>
                    <a:pt x="20200" y="23822"/>
                  </a:lnTo>
                  <a:close/>
                </a:path>
                <a:path fill="lighten" w="21600" h="25222">
                  <a:moveTo>
                    <a:pt x="0" y="2522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822"/>
                  </a:lnTo>
                  <a:close/>
                </a:path>
                <a:path fill="darken" w="21600" h="25222">
                  <a:moveTo>
                    <a:pt x="10800" y="1661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5222">
                  <a:moveTo>
                    <a:pt x="11905" y="16092"/>
                  </a:moveTo>
                  <a:lnTo>
                    <a:pt x="11905" y="14134"/>
                  </a:lnTo>
                  <a:cubicBezTo>
                    <a:pt x="11905" y="13307"/>
                    <a:pt x="12236" y="12611"/>
                    <a:pt x="12837" y="12611"/>
                  </a:cubicBezTo>
                  <a:cubicBezTo>
                    <a:pt x="13968" y="12611"/>
                    <a:pt x="14865" y="11244"/>
                    <a:pt x="14865" y="9660"/>
                  </a:cubicBezTo>
                  <a:cubicBezTo>
                    <a:pt x="14865" y="7345"/>
                    <a:pt x="13011" y="5604"/>
                    <a:pt x="10800" y="5604"/>
                  </a:cubicBezTo>
                  <a:cubicBezTo>
                    <a:pt x="8589" y="5604"/>
                    <a:pt x="6918" y="7345"/>
                    <a:pt x="6918" y="9660"/>
                  </a:cubicBezTo>
                  <a:lnTo>
                    <a:pt x="8772" y="9660"/>
                  </a:lnTo>
                  <a:cubicBezTo>
                    <a:pt x="8772" y="8520"/>
                    <a:pt x="9695" y="7632"/>
                    <a:pt x="10800" y="7632"/>
                  </a:cubicBezTo>
                  <a:cubicBezTo>
                    <a:pt x="11905" y="7632"/>
                    <a:pt x="12837" y="8520"/>
                    <a:pt x="12837" y="9660"/>
                  </a:cubicBezTo>
                  <a:cubicBezTo>
                    <a:pt x="12837" y="10400"/>
                    <a:pt x="12367" y="11131"/>
                    <a:pt x="11905" y="11131"/>
                  </a:cubicBezTo>
                  <a:cubicBezTo>
                    <a:pt x="10800" y="11131"/>
                    <a:pt x="9695" y="12611"/>
                    <a:pt x="9695" y="14134"/>
                  </a:cubicBezTo>
                  <a:lnTo>
                    <a:pt x="9695" y="1609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>
              <a:hlinkClick r:id="rId34" action="ppaction://hlinksldjump"/>
            </p:cNvPr>
            <p:cNvSpPr/>
            <p:nvPr/>
          </p:nvSpPr>
          <p:spPr>
            <a:xfrm>
              <a:off x="8018640" y="4895640"/>
              <a:ext cx="360360" cy="42084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420840"/>
                <a:gd name="textAreaBottom" fmla="*/ 397800 h 420840"/>
              </a:gdLst>
              <a:ahLst/>
              <a:rect l="textAreaLeft" t="textAreaTop" r="textAreaRight" b="textAreaBottom"/>
              <a:pathLst>
                <a:path w="21600" h="25222">
                  <a:moveTo>
                    <a:pt x="0" y="0"/>
                  </a:moveTo>
                  <a:lnTo>
                    <a:pt x="21600" y="0"/>
                  </a:lnTo>
                  <a:lnTo>
                    <a:pt x="21600" y="25222"/>
                  </a:lnTo>
                  <a:lnTo>
                    <a:pt x="0" y="25222"/>
                  </a:lnTo>
                  <a:close/>
                </a:path>
                <a:path fill="lightenLess" w="21600" h="2522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222">
                  <a:moveTo>
                    <a:pt x="21600" y="0"/>
                  </a:moveTo>
                  <a:lnTo>
                    <a:pt x="21600" y="25222"/>
                  </a:lnTo>
                  <a:lnTo>
                    <a:pt x="20200" y="23822"/>
                  </a:lnTo>
                  <a:lnTo>
                    <a:pt x="20200" y="1400"/>
                  </a:lnTo>
                  <a:close/>
                </a:path>
                <a:path fill="darkenLess" w="21600" h="25222">
                  <a:moveTo>
                    <a:pt x="21600" y="25222"/>
                  </a:moveTo>
                  <a:lnTo>
                    <a:pt x="0" y="25222"/>
                  </a:lnTo>
                  <a:lnTo>
                    <a:pt x="1400" y="23822"/>
                  </a:lnTo>
                  <a:lnTo>
                    <a:pt x="20200" y="23822"/>
                  </a:lnTo>
                  <a:close/>
                </a:path>
                <a:path fill="lighten" w="21600" h="25222">
                  <a:moveTo>
                    <a:pt x="0" y="2522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822"/>
                  </a:lnTo>
                  <a:close/>
                </a:path>
                <a:path fill="darken" w="21600" h="25222">
                  <a:moveTo>
                    <a:pt x="10800" y="1661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5222">
                  <a:moveTo>
                    <a:pt x="11905" y="16092"/>
                  </a:moveTo>
                  <a:lnTo>
                    <a:pt x="11905" y="14134"/>
                  </a:lnTo>
                  <a:cubicBezTo>
                    <a:pt x="11905" y="13307"/>
                    <a:pt x="12236" y="12611"/>
                    <a:pt x="12837" y="12611"/>
                  </a:cubicBezTo>
                  <a:cubicBezTo>
                    <a:pt x="13968" y="12611"/>
                    <a:pt x="14865" y="11244"/>
                    <a:pt x="14865" y="9660"/>
                  </a:cubicBezTo>
                  <a:cubicBezTo>
                    <a:pt x="14865" y="7345"/>
                    <a:pt x="13011" y="5604"/>
                    <a:pt x="10800" y="5604"/>
                  </a:cubicBezTo>
                  <a:cubicBezTo>
                    <a:pt x="8589" y="5604"/>
                    <a:pt x="6918" y="7345"/>
                    <a:pt x="6918" y="9660"/>
                  </a:cubicBezTo>
                  <a:lnTo>
                    <a:pt x="8772" y="9660"/>
                  </a:lnTo>
                  <a:cubicBezTo>
                    <a:pt x="8772" y="8520"/>
                    <a:pt x="9695" y="7632"/>
                    <a:pt x="10800" y="7632"/>
                  </a:cubicBezTo>
                  <a:cubicBezTo>
                    <a:pt x="11905" y="7632"/>
                    <a:pt x="12837" y="8520"/>
                    <a:pt x="12837" y="9660"/>
                  </a:cubicBezTo>
                  <a:cubicBezTo>
                    <a:pt x="12837" y="10400"/>
                    <a:pt x="12367" y="11131"/>
                    <a:pt x="11905" y="11131"/>
                  </a:cubicBezTo>
                  <a:cubicBezTo>
                    <a:pt x="10800" y="11131"/>
                    <a:pt x="9695" y="12611"/>
                    <a:pt x="9695" y="14134"/>
                  </a:cubicBezTo>
                  <a:lnTo>
                    <a:pt x="9695" y="1609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0" name="">
            <a:hlinkClick r:id="rId35" action="ppaction://hlinksldjump"/>
          </p:cNvPr>
          <p:cNvSpPr/>
          <p:nvPr/>
        </p:nvSpPr>
        <p:spPr>
          <a:xfrm>
            <a:off x="5202360" y="5899320"/>
            <a:ext cx="360360" cy="4204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20480"/>
              <a:gd name="textAreaBottom" fmla="*/ 397440 h 420480"/>
            </a:gdLst>
            <a:ahLst/>
            <a:rect l="textAreaLeft" t="textAreaTop" r="textAreaRight" b="textAreaBottom"/>
            <a:pathLst>
              <a:path w="21600" h="25200">
                <a:moveTo>
                  <a:pt x="0" y="0"/>
                </a:moveTo>
                <a:lnTo>
                  <a:pt x="21600" y="0"/>
                </a:lnTo>
                <a:lnTo>
                  <a:pt x="21600" y="25200"/>
                </a:lnTo>
                <a:lnTo>
                  <a:pt x="0" y="25200"/>
                </a:lnTo>
                <a:close/>
              </a:path>
              <a:path fill="lightenLess" w="21600" h="25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0">
                <a:moveTo>
                  <a:pt x="21600" y="0"/>
                </a:moveTo>
                <a:lnTo>
                  <a:pt x="21600" y="25200"/>
                </a:lnTo>
                <a:lnTo>
                  <a:pt x="20200" y="23800"/>
                </a:lnTo>
                <a:lnTo>
                  <a:pt x="20200" y="1400"/>
                </a:lnTo>
                <a:close/>
              </a:path>
              <a:path fill="darkenLess" w="21600" h="25200">
                <a:moveTo>
                  <a:pt x="21600" y="25200"/>
                </a:moveTo>
                <a:lnTo>
                  <a:pt x="0" y="25200"/>
                </a:lnTo>
                <a:lnTo>
                  <a:pt x="1400" y="23800"/>
                </a:lnTo>
                <a:lnTo>
                  <a:pt x="20200" y="23800"/>
                </a:lnTo>
                <a:close/>
              </a:path>
              <a:path fill="lighten" w="21600" h="25200">
                <a:moveTo>
                  <a:pt x="0" y="25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0"/>
                </a:lnTo>
                <a:close/>
              </a:path>
              <a:path fill="darken" w="21600" h="25200">
                <a:moveTo>
                  <a:pt x="10800" y="166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00">
                <a:moveTo>
                  <a:pt x="11905" y="16081"/>
                </a:moveTo>
                <a:lnTo>
                  <a:pt x="11905" y="14123"/>
                </a:lnTo>
                <a:cubicBezTo>
                  <a:pt x="11905" y="13296"/>
                  <a:pt x="12236" y="12600"/>
                  <a:pt x="12837" y="12600"/>
                </a:cubicBezTo>
                <a:cubicBezTo>
                  <a:pt x="13968" y="12600"/>
                  <a:pt x="14865" y="11234"/>
                  <a:pt x="14865" y="9649"/>
                </a:cubicBezTo>
                <a:cubicBezTo>
                  <a:pt x="14865" y="7334"/>
                  <a:pt x="13011" y="5594"/>
                  <a:pt x="10800" y="5594"/>
                </a:cubicBezTo>
                <a:cubicBezTo>
                  <a:pt x="8589" y="5594"/>
                  <a:pt x="6918" y="7334"/>
                  <a:pt x="6918" y="9649"/>
                </a:cubicBezTo>
                <a:lnTo>
                  <a:pt x="8772" y="9649"/>
                </a:lnTo>
                <a:cubicBezTo>
                  <a:pt x="8772" y="8509"/>
                  <a:pt x="9695" y="7621"/>
                  <a:pt x="10800" y="7621"/>
                </a:cubicBezTo>
                <a:cubicBezTo>
                  <a:pt x="11905" y="7621"/>
                  <a:pt x="12837" y="8509"/>
                  <a:pt x="12837" y="9649"/>
                </a:cubicBezTo>
                <a:cubicBezTo>
                  <a:pt x="12837" y="10389"/>
                  <a:pt x="12367" y="11120"/>
                  <a:pt x="11905" y="11120"/>
                </a:cubicBezTo>
                <a:cubicBezTo>
                  <a:pt x="10800" y="11120"/>
                  <a:pt x="9695" y="12600"/>
                  <a:pt x="9695" y="14123"/>
                </a:cubicBezTo>
                <a:lnTo>
                  <a:pt x="9695" y="1608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3455280" y="5329080"/>
            <a:ext cx="42840" cy="10670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013520" y="32274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6931080" y="323064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2690640" y="4759200"/>
            <a:ext cx="4320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H="1" rot="16200000">
            <a:off x="3081960" y="4378320"/>
            <a:ext cx="42840" cy="801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 rot="16200000">
            <a:off x="3074040" y="4914720"/>
            <a:ext cx="42840" cy="801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6286680" y="4545000"/>
          <a:ext cx="223560" cy="31428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6286680" y="4545000"/>
                    <a:ext cx="2235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Управляющая кнопка: домой 85">
            <a:hlinkClick r:id="rId3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>
            <a:hlinkClick r:id="rId39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/>
          <p:nvPr/>
        </p:nvSpPr>
        <p:spPr>
          <a:xfrm>
            <a:off x="971640" y="90792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2" name=""/>
          <p:cNvGraphicFramePr/>
          <p:nvPr/>
        </p:nvGraphicFramePr>
        <p:xfrm>
          <a:off x="3444840" y="1231920"/>
          <a:ext cx="216540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1231920"/>
                    <a:ext cx="216540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4" name=""/>
          <p:cNvGraphicFramePr/>
          <p:nvPr/>
        </p:nvGraphicFramePr>
        <p:xfrm>
          <a:off x="3602160" y="2344680"/>
          <a:ext cx="173808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2160" y="2344680"/>
                    <a:ext cx="17380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6" name=""/>
          <p:cNvGraphicFramePr/>
          <p:nvPr/>
        </p:nvGraphicFramePr>
        <p:xfrm>
          <a:off x="4224240" y="1724040"/>
          <a:ext cx="3654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4240" y="1724040"/>
                    <a:ext cx="3654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8" name=""/>
          <p:cNvSpPr/>
          <p:nvPr/>
        </p:nvSpPr>
        <p:spPr>
          <a:xfrm>
            <a:off x="5330880" y="243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9" name=""/>
          <p:cNvGraphicFramePr/>
          <p:nvPr/>
        </p:nvGraphicFramePr>
        <p:xfrm>
          <a:off x="5816520" y="2484360"/>
          <a:ext cx="603360" cy="29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2484360"/>
                    <a:ext cx="60336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8352000" y="5433840"/>
                <a:ext cx="40320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72" name=""/>
          <p:cNvSpPr/>
          <p:nvPr/>
        </p:nvSpPr>
        <p:spPr>
          <a:xfrm>
            <a:off x="7602480" y="4329000"/>
            <a:ext cx="360360" cy="812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840800" y="5146560"/>
            <a:ext cx="507960" cy="44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4" name=""/>
          <p:cNvGraphicFramePr/>
          <p:nvPr/>
        </p:nvGraphicFramePr>
        <p:xfrm>
          <a:off x="5140440" y="5549760"/>
          <a:ext cx="1330200" cy="95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0440" y="5549760"/>
                    <a:ext cx="13302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6" name=""/>
          <p:cNvGrpSpPr/>
          <p:nvPr/>
        </p:nvGrpSpPr>
        <p:grpSpPr>
          <a:xfrm>
            <a:off x="112680" y="617400"/>
            <a:ext cx="2322720" cy="2829960"/>
            <a:chOff x="112680" y="617400"/>
            <a:chExt cx="2322720" cy="2829960"/>
          </a:xfrm>
        </p:grpSpPr>
        <p:pic>
          <p:nvPicPr>
            <p:cNvPr id="1577" name="" descr=""/>
            <p:cNvPicPr/>
            <p:nvPr/>
          </p:nvPicPr>
          <p:blipFill>
            <a:blip r:embed="rId11"/>
            <a:stretch/>
          </p:blipFill>
          <p:spPr>
            <a:xfrm>
              <a:off x="950760" y="617400"/>
              <a:ext cx="1133640" cy="2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8" name=""/>
            <p:cNvSpPr/>
            <p:nvPr/>
          </p:nvSpPr>
          <p:spPr>
            <a:xfrm>
              <a:off x="112680" y="105408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9" name="" descr=""/>
            <p:cNvPicPr/>
            <p:nvPr/>
          </p:nvPicPr>
          <p:blipFill>
            <a:blip r:embed="rId12"/>
            <a:stretch/>
          </p:blipFill>
          <p:spPr>
            <a:xfrm>
              <a:off x="1281240" y="893880"/>
              <a:ext cx="3902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0" name=""/>
            <p:cNvSpPr/>
            <p:nvPr/>
          </p:nvSpPr>
          <p:spPr>
            <a:xfrm rot="16200000">
              <a:off x="1285560" y="2414160"/>
              <a:ext cx="365400" cy="2347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477800" y="858960"/>
              <a:ext cx="0" cy="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63800" y="868320"/>
              <a:ext cx="0" cy="25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000080" y="871560"/>
              <a:ext cx="0" cy="25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68400" y="1801800"/>
              <a:ext cx="6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928880" y="2100240"/>
              <a:ext cx="6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996840" y="2092320"/>
              <a:ext cx="938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940040" y="191124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28640" y="162396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938240" y="310032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966960" y="311004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644400" y="2101680"/>
              <a:ext cx="352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146240" y="1450800"/>
              <a:ext cx="31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546200" y="235584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434880" y="930240"/>
              <a:ext cx="287280" cy="409680"/>
              <a:chOff x="434880" y="930240"/>
              <a:chExt cx="287280" cy="409680"/>
            </a:xfrm>
          </p:grpSpPr>
          <p:sp>
            <p:nvSpPr>
              <p:cNvPr id="1595" name=""/>
              <p:cNvSpPr/>
              <p:nvPr/>
            </p:nvSpPr>
            <p:spPr>
              <a:xfrm>
                <a:off x="434880" y="930240"/>
                <a:ext cx="0" cy="4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596" name=""/>
              <p:cNvGraphicFramePr/>
              <p:nvPr/>
            </p:nvGraphicFramePr>
            <p:xfrm>
              <a:off x="460440" y="951120"/>
              <a:ext cx="261720" cy="3744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597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460440" y="951120"/>
                        <a:ext cx="26172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mc:AlternateContent>
          <mc:Choice xmlns:a14="http://schemas.microsoft.com/office/drawing/2010/main" Requires="a14">
            <p:sp>
              <p:nvSpPr>
                <p:cNvPr id="1598" name=""/>
                <p:cNvSpPr txBox="1"/>
                <p:nvPr/>
              </p:nvSpPr>
              <p:spPr>
                <a:xfrm>
                  <a:off x="150840" y="2071800"/>
                  <a:ext cx="53640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g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9" name=""/>
          <p:cNvSpPr/>
          <p:nvPr/>
        </p:nvSpPr>
        <p:spPr>
          <a:xfrm>
            <a:off x="2031840" y="336600"/>
            <a:ext cx="51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0" name=""/>
          <p:cNvGraphicFramePr/>
          <p:nvPr/>
        </p:nvGraphicFramePr>
        <p:xfrm>
          <a:off x="2470320" y="4527720"/>
          <a:ext cx="1963440" cy="417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0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70320" y="4527720"/>
                    <a:ext cx="196344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516560" y="4356000"/>
                <a:ext cx="21333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6723000" y="4356000"/>
                <a:ext cx="20480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6451560" y="23400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6" name=""/>
          <p:cNvGraphicFramePr/>
          <p:nvPr/>
        </p:nvGraphicFramePr>
        <p:xfrm>
          <a:off x="5697360" y="3514680"/>
          <a:ext cx="2246400" cy="757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0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97360" y="3514680"/>
                    <a:ext cx="22464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8" name=""/>
          <p:cNvGraphicFramePr/>
          <p:nvPr/>
        </p:nvGraphicFramePr>
        <p:xfrm>
          <a:off x="6715080" y="4272120"/>
          <a:ext cx="399960" cy="399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0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715080" y="4272120"/>
                    <a:ext cx="3999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0" name=""/>
          <p:cNvSpPr/>
          <p:nvPr/>
        </p:nvSpPr>
        <p:spPr>
          <a:xfrm>
            <a:off x="5688000" y="5532480"/>
            <a:ext cx="647640" cy="955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2281320" y="4127400"/>
            <a:ext cx="42840" cy="2116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2101680" y="35989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668920" y="3562200"/>
            <a:ext cx="2314440" cy="679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4" name=""/>
          <p:cNvGraphicFramePr/>
          <p:nvPr/>
        </p:nvGraphicFramePr>
        <p:xfrm>
          <a:off x="4599000" y="1479600"/>
          <a:ext cx="1638360" cy="907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1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599000" y="1479600"/>
                    <a:ext cx="16383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6" name="Управляющая кнопка: домой 85">
            <a:hlinkClick r:id="rId2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>
            <a:hlinkClick r:id="rId25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861840" y="4516560"/>
            <a:ext cx="831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Скориставшись формулою для косинуса суми двох доданків і отриманими значеннями               і              , матиме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9" name="" descr=""/>
          <p:cNvPicPr/>
          <p:nvPr/>
        </p:nvPicPr>
        <p:blipFill>
          <a:blip r:embed="rId1"/>
          <a:stretch/>
        </p:blipFill>
        <p:spPr>
          <a:xfrm>
            <a:off x="83664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3083040" y="2409840"/>
                <a:ext cx="30286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2" name=""/>
          <p:cNvGraphicFramePr/>
          <p:nvPr/>
        </p:nvGraphicFramePr>
        <p:xfrm>
          <a:off x="1739880" y="3076560"/>
          <a:ext cx="22986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9880" y="3076560"/>
                    <a:ext cx="22986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4" name=""/>
          <p:cNvSpPr/>
          <p:nvPr/>
        </p:nvSpPr>
        <p:spPr>
          <a:xfrm>
            <a:off x="958680" y="30924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5" name=""/>
          <p:cNvGraphicFramePr/>
          <p:nvPr/>
        </p:nvGraphicFramePr>
        <p:xfrm>
          <a:off x="2103480" y="4751280"/>
          <a:ext cx="811080" cy="3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03480" y="4751280"/>
                    <a:ext cx="811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7" name=""/>
          <p:cNvGraphicFramePr/>
          <p:nvPr/>
        </p:nvGraphicFramePr>
        <p:xfrm>
          <a:off x="679320" y="4973760"/>
          <a:ext cx="8358480" cy="79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9320" y="4973760"/>
                    <a:ext cx="835848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9" name=""/>
          <p:cNvSpPr/>
          <p:nvPr/>
        </p:nvSpPr>
        <p:spPr>
          <a:xfrm>
            <a:off x="2165400" y="1060560"/>
            <a:ext cx="31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падку, к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5235480" y="1117440"/>
                <a:ext cx="20797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1" name=""/>
          <p:cNvGraphicFramePr/>
          <p:nvPr/>
        </p:nvGraphicFramePr>
        <p:xfrm>
          <a:off x="4297320" y="2001960"/>
          <a:ext cx="2297160" cy="40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97320" y="2001960"/>
                    <a:ext cx="22971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3" name=""/>
          <p:cNvSpPr/>
          <p:nvPr/>
        </p:nvSpPr>
        <p:spPr>
          <a:xfrm>
            <a:off x="1303200" y="2036880"/>
            <a:ext cx="11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2314440" y="1844640"/>
                <a:ext cx="17161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5" name=""/>
          <p:cNvSpPr/>
          <p:nvPr/>
        </p:nvSpPr>
        <p:spPr>
          <a:xfrm>
            <a:off x="1765440" y="469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6540480" y="2000160"/>
            <a:ext cx="15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48099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8" name=""/>
          <p:cNvSpPr/>
          <p:nvPr/>
        </p:nvSpPr>
        <p:spPr>
          <a:xfrm>
            <a:off x="4006800" y="3092400"/>
            <a:ext cx="50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икористовуючи  задані початкові умови,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2139840" y="3429000"/>
                <a:ext cx="25084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40" name=""/>
          <p:cNvGraphicFramePr/>
          <p:nvPr/>
        </p:nvGraphicFramePr>
        <p:xfrm>
          <a:off x="4627440" y="3429000"/>
          <a:ext cx="2173320" cy="62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27440" y="3429000"/>
                    <a:ext cx="21733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2193840" y="4076640"/>
                <a:ext cx="23385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43" name=""/>
          <p:cNvGraphicFramePr/>
          <p:nvPr/>
        </p:nvGraphicFramePr>
        <p:xfrm>
          <a:off x="4610160" y="4098960"/>
          <a:ext cx="1549440" cy="3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10160" y="4098960"/>
                    <a:ext cx="154944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5" name=""/>
          <p:cNvGraphicFramePr/>
          <p:nvPr/>
        </p:nvGraphicFramePr>
        <p:xfrm>
          <a:off x="3095640" y="4770360"/>
          <a:ext cx="822240" cy="336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95640" y="4770360"/>
                    <a:ext cx="8222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7" name=""/>
          <p:cNvSpPr/>
          <p:nvPr/>
        </p:nvSpPr>
        <p:spPr>
          <a:xfrm>
            <a:off x="4005360" y="2027160"/>
            <a:ext cx="3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833400" y="5729400"/>
            <a:ext cx="75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ле цю відповідь можна було отримати без обчислень, замислившись над фізичним змістом початкових умов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896160" y="4992840"/>
            <a:ext cx="1984320" cy="758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69880" y="2529000"/>
            <a:ext cx="42840" cy="3865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390600" y="20001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757520" y="993600"/>
            <a:ext cx="419040" cy="479520"/>
          </a:xfrm>
          <a:custGeom>
            <a:avLst/>
            <a:gdLst>
              <a:gd name="textAreaLeft" fmla="*/ 27000 w 419040"/>
              <a:gd name="textAreaRight" fmla="*/ 392040 w 419040"/>
              <a:gd name="textAreaTop" fmla="*/ 27000 h 479520"/>
              <a:gd name="textAreaBottom" fmla="*/ 452520 h 479520"/>
            </a:gdLst>
            <a:ahLst/>
            <a:rect l="textAreaLeft" t="textAreaTop" r="textAreaRight" b="textAreaBottom"/>
            <a:pathLst>
              <a:path w="21600" h="24715">
                <a:moveTo>
                  <a:pt x="0" y="0"/>
                </a:moveTo>
                <a:lnTo>
                  <a:pt x="21600" y="0"/>
                </a:lnTo>
                <a:lnTo>
                  <a:pt x="21600" y="24715"/>
                </a:lnTo>
                <a:lnTo>
                  <a:pt x="0" y="24715"/>
                </a:lnTo>
                <a:close/>
              </a:path>
              <a:path fill="lightenLess" w="21600" h="247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5">
                <a:moveTo>
                  <a:pt x="21600" y="0"/>
                </a:moveTo>
                <a:lnTo>
                  <a:pt x="21600" y="24715"/>
                </a:lnTo>
                <a:lnTo>
                  <a:pt x="20200" y="23315"/>
                </a:lnTo>
                <a:lnTo>
                  <a:pt x="20200" y="1400"/>
                </a:lnTo>
                <a:close/>
              </a:path>
              <a:path fill="darkenLess" w="21600" h="24715">
                <a:moveTo>
                  <a:pt x="21600" y="24715"/>
                </a:moveTo>
                <a:lnTo>
                  <a:pt x="0" y="24715"/>
                </a:lnTo>
                <a:lnTo>
                  <a:pt x="1400" y="23315"/>
                </a:lnTo>
                <a:lnTo>
                  <a:pt x="20200" y="23315"/>
                </a:lnTo>
                <a:close/>
              </a:path>
              <a:path fill="lighten" w="21600" h="24715">
                <a:moveTo>
                  <a:pt x="0" y="247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5"/>
                </a:lnTo>
                <a:close/>
              </a:path>
              <a:path fill="darken" w="21600" h="24715">
                <a:moveTo>
                  <a:pt x="10800" y="163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715">
                <a:moveTo>
                  <a:pt x="11905" y="15839"/>
                </a:moveTo>
                <a:lnTo>
                  <a:pt x="11905" y="13881"/>
                </a:lnTo>
                <a:cubicBezTo>
                  <a:pt x="11905" y="13054"/>
                  <a:pt x="12236" y="12357"/>
                  <a:pt x="12837" y="12357"/>
                </a:cubicBezTo>
                <a:cubicBezTo>
                  <a:pt x="13968" y="12357"/>
                  <a:pt x="14865" y="10991"/>
                  <a:pt x="14865" y="9407"/>
                </a:cubicBezTo>
                <a:cubicBezTo>
                  <a:pt x="14865" y="7092"/>
                  <a:pt x="13011" y="5351"/>
                  <a:pt x="10800" y="5351"/>
                </a:cubicBezTo>
                <a:cubicBezTo>
                  <a:pt x="8589" y="5351"/>
                  <a:pt x="6918" y="7092"/>
                  <a:pt x="6918" y="9407"/>
                </a:cubicBezTo>
                <a:lnTo>
                  <a:pt x="8772" y="9407"/>
                </a:lnTo>
                <a:cubicBezTo>
                  <a:pt x="8772" y="8267"/>
                  <a:pt x="9695" y="7379"/>
                  <a:pt x="10800" y="7379"/>
                </a:cubicBezTo>
                <a:cubicBezTo>
                  <a:pt x="11905" y="7379"/>
                  <a:pt x="12837" y="8267"/>
                  <a:pt x="12837" y="9407"/>
                </a:cubicBezTo>
                <a:cubicBezTo>
                  <a:pt x="12837" y="10147"/>
                  <a:pt x="12367" y="10878"/>
                  <a:pt x="11905" y="10878"/>
                </a:cubicBezTo>
                <a:cubicBezTo>
                  <a:pt x="10800" y="10878"/>
                  <a:pt x="9695" y="12357"/>
                  <a:pt x="9695" y="13881"/>
                </a:cubicBezTo>
                <a:lnTo>
                  <a:pt x="9695" y="15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Управляющая кнопка: домой 85">
            <a:hlinkClick r:id="rId1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>
            <a:hlinkClick r:id="rId18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5" name="" descr=""/>
          <p:cNvPicPr/>
          <p:nvPr/>
        </p:nvPicPr>
        <p:blipFill>
          <a:blip r:embed="rId1"/>
          <a:stretch/>
        </p:blipFill>
        <p:spPr>
          <a:xfrm>
            <a:off x="4519080" y="4343400"/>
            <a:ext cx="32799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6" name=""/>
          <p:cNvGraphicFramePr/>
          <p:nvPr/>
        </p:nvGraphicFramePr>
        <p:xfrm>
          <a:off x="4141800" y="4537080"/>
          <a:ext cx="1181160" cy="64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1800" y="4537080"/>
                    <a:ext cx="11811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5067360" y="922320"/>
                <a:ext cx="24019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9" name=""/>
          <p:cNvSpPr/>
          <p:nvPr/>
        </p:nvSpPr>
        <p:spPr>
          <a:xfrm>
            <a:off x="841320" y="5175360"/>
            <a:ext cx="77407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33cc"/>
                </a:solidFill>
                <a:latin typeface="Comic Sans MS"/>
              </a:rPr>
              <a:t>Але цю відповідь можна було записати одразу, зрозумівши, що за умовою у початковий момент тягарець знаходився у положенні рівноваги у стані спокою. Отже, і у подальшому він не рухатиме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839880" y="2274840"/>
            <a:ext cx="813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298600" y="43164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835200" y="3962520"/>
            <a:ext cx="791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Безпосередня підстановка у вираз                                                                          (див. відповідь на запитання 3.5) дає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55880" y="1031760"/>
            <a:ext cx="31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падку, к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968400" y="1960560"/>
            <a:ext cx="79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ожна діяти так само, як ми робили, відповідаючи на попереднє запита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5" name=""/>
              <p:cNvSpPr txBox="1"/>
              <p:nvPr/>
            </p:nvSpPr>
            <p:spPr>
              <a:xfrm>
                <a:off x="4886280" y="36068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66" name=""/>
          <p:cNvSpPr/>
          <p:nvPr/>
        </p:nvSpPr>
        <p:spPr>
          <a:xfrm>
            <a:off x="933480" y="2403360"/>
            <a:ext cx="33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початкових умов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7" name=""/>
              <p:cNvSpPr txBox="1"/>
              <p:nvPr/>
            </p:nvSpPr>
            <p:spPr>
              <a:xfrm>
                <a:off x="1992240" y="2755800"/>
                <a:ext cx="2605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68" name=""/>
          <p:cNvGraphicFramePr/>
          <p:nvPr/>
        </p:nvGraphicFramePr>
        <p:xfrm>
          <a:off x="4622760" y="2919240"/>
          <a:ext cx="1830600" cy="3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22760" y="2919240"/>
                    <a:ext cx="18306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7560" y="3465360"/>
                <a:ext cx="242424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71" name=""/>
          <p:cNvGraphicFramePr/>
          <p:nvPr/>
        </p:nvGraphicFramePr>
        <p:xfrm>
          <a:off x="4600440" y="3483000"/>
          <a:ext cx="1597320" cy="347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00440" y="3483000"/>
                    <a:ext cx="15973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3" name=""/>
          <p:cNvSpPr/>
          <p:nvPr/>
        </p:nvSpPr>
        <p:spPr>
          <a:xfrm>
            <a:off x="4127400" y="4586400"/>
            <a:ext cx="1069920" cy="571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39640" y="2519280"/>
            <a:ext cx="42840" cy="3544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351000" y="20001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6" name=""/>
          <p:cNvGraphicFramePr/>
          <p:nvPr/>
        </p:nvGraphicFramePr>
        <p:xfrm>
          <a:off x="4492800" y="3801960"/>
          <a:ext cx="427176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92800" y="3801960"/>
                    <a:ext cx="4271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8" name=""/>
          <p:cNvSpPr/>
          <p:nvPr/>
        </p:nvSpPr>
        <p:spPr>
          <a:xfrm>
            <a:off x="1555920" y="993600"/>
            <a:ext cx="419040" cy="479520"/>
          </a:xfrm>
          <a:custGeom>
            <a:avLst/>
            <a:gdLst>
              <a:gd name="textAreaLeft" fmla="*/ 27000 w 419040"/>
              <a:gd name="textAreaRight" fmla="*/ 392040 w 419040"/>
              <a:gd name="textAreaTop" fmla="*/ 27000 h 479520"/>
              <a:gd name="textAreaBottom" fmla="*/ 452520 h 479520"/>
            </a:gdLst>
            <a:ahLst/>
            <a:rect l="textAreaLeft" t="textAreaTop" r="textAreaRight" b="textAreaBottom"/>
            <a:pathLst>
              <a:path w="21600" h="24715">
                <a:moveTo>
                  <a:pt x="0" y="0"/>
                </a:moveTo>
                <a:lnTo>
                  <a:pt x="21600" y="0"/>
                </a:lnTo>
                <a:lnTo>
                  <a:pt x="21600" y="24715"/>
                </a:lnTo>
                <a:lnTo>
                  <a:pt x="0" y="24715"/>
                </a:lnTo>
                <a:close/>
              </a:path>
              <a:path fill="lightenLess" w="21600" h="247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5">
                <a:moveTo>
                  <a:pt x="21600" y="0"/>
                </a:moveTo>
                <a:lnTo>
                  <a:pt x="21600" y="24715"/>
                </a:lnTo>
                <a:lnTo>
                  <a:pt x="20200" y="23315"/>
                </a:lnTo>
                <a:lnTo>
                  <a:pt x="20200" y="1400"/>
                </a:lnTo>
                <a:close/>
              </a:path>
              <a:path fill="darkenLess" w="21600" h="24715">
                <a:moveTo>
                  <a:pt x="21600" y="24715"/>
                </a:moveTo>
                <a:lnTo>
                  <a:pt x="0" y="24715"/>
                </a:lnTo>
                <a:lnTo>
                  <a:pt x="1400" y="23315"/>
                </a:lnTo>
                <a:lnTo>
                  <a:pt x="20200" y="23315"/>
                </a:lnTo>
                <a:close/>
              </a:path>
              <a:path fill="lighten" w="21600" h="24715">
                <a:moveTo>
                  <a:pt x="0" y="247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5"/>
                </a:lnTo>
                <a:close/>
              </a:path>
              <a:path fill="darken" w="21600" h="24715">
                <a:moveTo>
                  <a:pt x="10800" y="163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715">
                <a:moveTo>
                  <a:pt x="11905" y="15839"/>
                </a:moveTo>
                <a:lnTo>
                  <a:pt x="11905" y="13881"/>
                </a:lnTo>
                <a:cubicBezTo>
                  <a:pt x="11905" y="13054"/>
                  <a:pt x="12236" y="12357"/>
                  <a:pt x="12837" y="12357"/>
                </a:cubicBezTo>
                <a:cubicBezTo>
                  <a:pt x="13968" y="12357"/>
                  <a:pt x="14865" y="10991"/>
                  <a:pt x="14865" y="9407"/>
                </a:cubicBezTo>
                <a:cubicBezTo>
                  <a:pt x="14865" y="7092"/>
                  <a:pt x="13011" y="5351"/>
                  <a:pt x="10800" y="5351"/>
                </a:cubicBezTo>
                <a:cubicBezTo>
                  <a:pt x="8589" y="5351"/>
                  <a:pt x="6918" y="7092"/>
                  <a:pt x="6918" y="9407"/>
                </a:cubicBezTo>
                <a:lnTo>
                  <a:pt x="8772" y="9407"/>
                </a:lnTo>
                <a:cubicBezTo>
                  <a:pt x="8772" y="8267"/>
                  <a:pt x="9695" y="7379"/>
                  <a:pt x="10800" y="7379"/>
                </a:cubicBezTo>
                <a:cubicBezTo>
                  <a:pt x="11905" y="7379"/>
                  <a:pt x="12837" y="8267"/>
                  <a:pt x="12837" y="9407"/>
                </a:cubicBezTo>
                <a:cubicBezTo>
                  <a:pt x="12837" y="10147"/>
                  <a:pt x="12367" y="10878"/>
                  <a:pt x="11905" y="10878"/>
                </a:cubicBezTo>
                <a:cubicBezTo>
                  <a:pt x="10800" y="10878"/>
                  <a:pt x="9695" y="12357"/>
                  <a:pt x="9695" y="13881"/>
                </a:cubicBezTo>
                <a:lnTo>
                  <a:pt x="9695" y="15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Управляющая кнопка: домой 85">
            <a:hlinkClick r:id="rId10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>
            <a:hlinkClick r:id="rId11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530280" y="4133880"/>
            <a:ext cx="826272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яймо цей випадок початкових умов з тим, що розглядався у запитанні 3.5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                         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. В обох випадках рух розпочинається зі стану спокою                  А початкові положення знаходяться з різних боків від точки рівнов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а однакових відстанях (       ). Отже, в обох випадках рух відбуватиметься з амплітудою         у межах                      , але у протифазі. Беручи до уваги ці міркування, відповідь можна було б написати одра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2" name=""/>
          <p:cNvGraphicFramePr/>
          <p:nvPr/>
        </p:nvGraphicFramePr>
        <p:xfrm>
          <a:off x="2668680" y="3519360"/>
          <a:ext cx="238104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8680" y="3519360"/>
                    <a:ext cx="23810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5176800" y="812880"/>
                <a:ext cx="24685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5" name=""/>
          <p:cNvSpPr/>
          <p:nvPr/>
        </p:nvSpPr>
        <p:spPr>
          <a:xfrm>
            <a:off x="2095560" y="355680"/>
            <a:ext cx="50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557280" y="3014640"/>
            <a:ext cx="8169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cc"/>
                </a:solidFill>
                <a:latin typeface="Comic Sans MS"/>
              </a:rPr>
              <a:t>Отже, з урахуванням виразу                                                                        (див. 3.5) маємо відповідь: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92040" y="1579680"/>
            <a:ext cx="813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011480" y="1914480"/>
            <a:ext cx="327996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9" name=""/>
          <p:cNvGraphicFramePr/>
          <p:nvPr/>
        </p:nvGraphicFramePr>
        <p:xfrm>
          <a:off x="711360" y="4560840"/>
          <a:ext cx="18367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1360" y="4560840"/>
                    <a:ext cx="1836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1" name=""/>
          <p:cNvGraphicFramePr/>
          <p:nvPr/>
        </p:nvGraphicFramePr>
        <p:xfrm>
          <a:off x="8013600" y="4546440"/>
          <a:ext cx="97308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13600" y="4546440"/>
                    <a:ext cx="9730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3" name=""/>
          <p:cNvSpPr/>
          <p:nvPr/>
        </p:nvSpPr>
        <p:spPr>
          <a:xfrm>
            <a:off x="2136600" y="946080"/>
            <a:ext cx="31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падку, к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4438800" y="29113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5" name=""/>
          <p:cNvSpPr/>
          <p:nvPr/>
        </p:nvSpPr>
        <p:spPr>
          <a:xfrm>
            <a:off x="1974960" y="1460520"/>
            <a:ext cx="50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икористовуючи  початкові умови,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1523880" y="1803240"/>
                <a:ext cx="31435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97" name=""/>
          <p:cNvGraphicFramePr/>
          <p:nvPr/>
        </p:nvGraphicFramePr>
        <p:xfrm>
          <a:off x="4702320" y="1816200"/>
          <a:ext cx="2073240" cy="67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02320" y="1816200"/>
                    <a:ext cx="207324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9" name=""/>
              <p:cNvSpPr txBox="1"/>
              <p:nvPr/>
            </p:nvSpPr>
            <p:spPr>
              <a:xfrm>
                <a:off x="2120760" y="2587680"/>
                <a:ext cx="24624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00" name=""/>
          <p:cNvGraphicFramePr/>
          <p:nvPr/>
        </p:nvGraphicFramePr>
        <p:xfrm>
          <a:off x="4637160" y="2595600"/>
          <a:ext cx="1743120" cy="35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37160" y="2595600"/>
                    <a:ext cx="17431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2" name=""/>
          <p:cNvGraphicFramePr/>
          <p:nvPr/>
        </p:nvGraphicFramePr>
        <p:xfrm>
          <a:off x="7513560" y="4792680"/>
          <a:ext cx="1363680" cy="63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13560" y="4792680"/>
                    <a:ext cx="1363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5" name=""/>
          <p:cNvGraphicFramePr/>
          <p:nvPr/>
        </p:nvGraphicFramePr>
        <p:xfrm>
          <a:off x="3048120" y="5262480"/>
          <a:ext cx="419040" cy="61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5262480"/>
                    <a:ext cx="4190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8" name=""/>
          <p:cNvGraphicFramePr/>
          <p:nvPr/>
        </p:nvGraphicFramePr>
        <p:xfrm>
          <a:off x="1866960" y="5643720"/>
          <a:ext cx="399960" cy="585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66960" y="5643720"/>
                    <a:ext cx="399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"/>
          <p:cNvGraphicFramePr/>
          <p:nvPr/>
        </p:nvGraphicFramePr>
        <p:xfrm>
          <a:off x="3273480" y="5762520"/>
          <a:ext cx="1208160" cy="398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73480" y="5762520"/>
                    <a:ext cx="12081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"/>
          <p:cNvSpPr/>
          <p:nvPr/>
        </p:nvSpPr>
        <p:spPr>
          <a:xfrm>
            <a:off x="2660760" y="3517920"/>
            <a:ext cx="3450960" cy="66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95280" y="2030400"/>
            <a:ext cx="42840" cy="4332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16000" y="1501920"/>
            <a:ext cx="420480" cy="46008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33">
                <a:moveTo>
                  <a:pt x="0" y="0"/>
                </a:moveTo>
                <a:lnTo>
                  <a:pt x="21600" y="0"/>
                </a:lnTo>
                <a:lnTo>
                  <a:pt x="21600" y="23633"/>
                </a:lnTo>
                <a:lnTo>
                  <a:pt x="0" y="23633"/>
                </a:lnTo>
                <a:close/>
              </a:path>
              <a:path fill="lightenLess" w="21600" h="23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3">
                <a:moveTo>
                  <a:pt x="21600" y="0"/>
                </a:moveTo>
                <a:lnTo>
                  <a:pt x="21600" y="23633"/>
                </a:lnTo>
                <a:lnTo>
                  <a:pt x="20200" y="22233"/>
                </a:lnTo>
                <a:lnTo>
                  <a:pt x="20200" y="1400"/>
                </a:lnTo>
                <a:close/>
              </a:path>
              <a:path fill="darkenLess" w="21600" h="23633">
                <a:moveTo>
                  <a:pt x="21600" y="23633"/>
                </a:moveTo>
                <a:lnTo>
                  <a:pt x="0" y="23633"/>
                </a:lnTo>
                <a:lnTo>
                  <a:pt x="1400" y="22233"/>
                </a:lnTo>
                <a:lnTo>
                  <a:pt x="20200" y="22233"/>
                </a:lnTo>
                <a:close/>
              </a:path>
              <a:path fill="lighten" w="21600" h="23633">
                <a:moveTo>
                  <a:pt x="0" y="23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3"/>
                </a:lnTo>
                <a:close/>
              </a:path>
              <a:path fill="darken" w="21600" h="23633">
                <a:moveTo>
                  <a:pt x="10800" y="48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3">
                <a:moveTo>
                  <a:pt x="10800" y="51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3">
                <a:moveTo>
                  <a:pt x="8224" y="9240"/>
                </a:moveTo>
                <a:lnTo>
                  <a:pt x="12088" y="9240"/>
                </a:lnTo>
                <a:lnTo>
                  <a:pt x="12088" y="16238"/>
                </a:lnTo>
                <a:lnTo>
                  <a:pt x="13376" y="16238"/>
                </a:lnTo>
                <a:lnTo>
                  <a:pt x="13376" y="17160"/>
                </a:lnTo>
                <a:lnTo>
                  <a:pt x="8224" y="17160"/>
                </a:lnTo>
                <a:lnTo>
                  <a:pt x="8224" y="16238"/>
                </a:lnTo>
                <a:lnTo>
                  <a:pt x="9512" y="16238"/>
                </a:lnTo>
                <a:lnTo>
                  <a:pt x="9512" y="10145"/>
                </a:lnTo>
                <a:lnTo>
                  <a:pt x="8224" y="101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6" name=""/>
          <p:cNvGraphicFramePr/>
          <p:nvPr/>
        </p:nvGraphicFramePr>
        <p:xfrm>
          <a:off x="3384720" y="2849400"/>
          <a:ext cx="4271760" cy="648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84720" y="2849400"/>
                    <a:ext cx="42717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8" name=""/>
          <p:cNvSpPr/>
          <p:nvPr/>
        </p:nvSpPr>
        <p:spPr>
          <a:xfrm>
            <a:off x="1752480" y="866880"/>
            <a:ext cx="419400" cy="479160"/>
          </a:xfrm>
          <a:custGeom>
            <a:avLst/>
            <a:gdLst>
              <a:gd name="textAreaLeft" fmla="*/ 27000 w 419400"/>
              <a:gd name="textAreaRight" fmla="*/ 392400 w 419400"/>
              <a:gd name="textAreaTop" fmla="*/ 27000 h 479160"/>
              <a:gd name="textAreaBottom" fmla="*/ 452160 h 479160"/>
            </a:gdLst>
            <a:ahLst/>
            <a:rect l="textAreaLeft" t="textAreaTop" r="textAreaRight" b="textAreaBottom"/>
            <a:pathLst>
              <a:path w="21600" h="24675">
                <a:moveTo>
                  <a:pt x="0" y="0"/>
                </a:moveTo>
                <a:lnTo>
                  <a:pt x="21600" y="0"/>
                </a:lnTo>
                <a:lnTo>
                  <a:pt x="21600" y="24675"/>
                </a:lnTo>
                <a:lnTo>
                  <a:pt x="0" y="24675"/>
                </a:lnTo>
                <a:close/>
              </a:path>
              <a:path fill="lightenLess" w="21600" h="246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5">
                <a:moveTo>
                  <a:pt x="21600" y="0"/>
                </a:moveTo>
                <a:lnTo>
                  <a:pt x="21600" y="24675"/>
                </a:lnTo>
                <a:lnTo>
                  <a:pt x="20200" y="23275"/>
                </a:lnTo>
                <a:lnTo>
                  <a:pt x="20200" y="1400"/>
                </a:lnTo>
                <a:close/>
              </a:path>
              <a:path fill="darkenLess" w="21600" h="24675">
                <a:moveTo>
                  <a:pt x="21600" y="24675"/>
                </a:moveTo>
                <a:lnTo>
                  <a:pt x="0" y="24675"/>
                </a:lnTo>
                <a:lnTo>
                  <a:pt x="1400" y="23275"/>
                </a:lnTo>
                <a:lnTo>
                  <a:pt x="20200" y="23275"/>
                </a:lnTo>
                <a:close/>
              </a:path>
              <a:path fill="lighten" w="21600" h="24675">
                <a:moveTo>
                  <a:pt x="0" y="246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5"/>
                </a:lnTo>
                <a:close/>
              </a:path>
              <a:path fill="darken" w="21600" h="24675">
                <a:moveTo>
                  <a:pt x="10800" y="1634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675">
                <a:moveTo>
                  <a:pt x="11905" y="15819"/>
                </a:moveTo>
                <a:lnTo>
                  <a:pt x="11905" y="13861"/>
                </a:lnTo>
                <a:cubicBezTo>
                  <a:pt x="11905" y="13034"/>
                  <a:pt x="12236" y="12338"/>
                  <a:pt x="12837" y="12338"/>
                </a:cubicBezTo>
                <a:cubicBezTo>
                  <a:pt x="13968" y="12338"/>
                  <a:pt x="14865" y="10971"/>
                  <a:pt x="14865" y="9387"/>
                </a:cubicBezTo>
                <a:cubicBezTo>
                  <a:pt x="14865" y="7072"/>
                  <a:pt x="13011" y="5331"/>
                  <a:pt x="10800" y="5331"/>
                </a:cubicBezTo>
                <a:cubicBezTo>
                  <a:pt x="8589" y="5331"/>
                  <a:pt x="6918" y="7072"/>
                  <a:pt x="6918" y="9387"/>
                </a:cubicBezTo>
                <a:lnTo>
                  <a:pt x="8772" y="9387"/>
                </a:lnTo>
                <a:cubicBezTo>
                  <a:pt x="8772" y="8247"/>
                  <a:pt x="9695" y="7359"/>
                  <a:pt x="10800" y="7359"/>
                </a:cubicBezTo>
                <a:cubicBezTo>
                  <a:pt x="11905" y="7359"/>
                  <a:pt x="12837" y="8247"/>
                  <a:pt x="12837" y="9387"/>
                </a:cubicBezTo>
                <a:cubicBezTo>
                  <a:pt x="12837" y="10127"/>
                  <a:pt x="12367" y="10858"/>
                  <a:pt x="11905" y="10858"/>
                </a:cubicBezTo>
                <a:cubicBezTo>
                  <a:pt x="10800" y="10858"/>
                  <a:pt x="9695" y="12338"/>
                  <a:pt x="9695" y="13861"/>
                </a:cubicBezTo>
                <a:lnTo>
                  <a:pt x="9695" y="158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4916520" y="367200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5280120" y="3489480"/>
          <a:ext cx="931680" cy="671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2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80120" y="3489480"/>
                    <a:ext cx="9316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2" name="Управляющая кнопка: домой 85">
            <a:hlinkClick r:id="rId2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>
            <a:hlinkClick r:id="rId24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4" name=""/>
          <p:cNvGraphicFramePr/>
          <p:nvPr/>
        </p:nvGraphicFramePr>
        <p:xfrm>
          <a:off x="3882960" y="3449520"/>
          <a:ext cx="257184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2960" y="3449520"/>
                    <a:ext cx="257184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6" name=""/>
          <p:cNvGraphicFramePr/>
          <p:nvPr/>
        </p:nvGraphicFramePr>
        <p:xfrm>
          <a:off x="5033880" y="885960"/>
          <a:ext cx="2544840" cy="60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3880" y="885960"/>
                    <a:ext cx="254484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8" name=""/>
          <p:cNvSpPr/>
          <p:nvPr/>
        </p:nvSpPr>
        <p:spPr>
          <a:xfrm>
            <a:off x="2133720" y="393840"/>
            <a:ext cx="51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182680" y="3600360"/>
            <a:ext cx="1787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cc"/>
                </a:solidFill>
                <a:latin typeface="Comic Sans MS"/>
              </a:rPr>
              <a:t>Отже, відповідь: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468360" y="1989000"/>
            <a:ext cx="813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920880" y="4175280"/>
            <a:ext cx="81579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ю ж відповідь можна було б швидко отримати з енергетичних міркувань…</a:t>
            </a:r>
            <a:r>
              <a:rPr b="1" lang="uk-UA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Comic Sans MS"/>
              </a:rPr>
              <a:t>Зауваження.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Відповідаючи на запитання 3.5 – 3.8, можна було б записати початкові умови для змінної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для якої положенню рівноваги відповідає          Це надало б можливість швидко отримувати залежніст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. А потім було б нескладно повернутися до змінної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2022480" y="993600"/>
            <a:ext cx="31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падку, к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3" name=""/>
          <p:cNvGraphicFramePr/>
          <p:nvPr/>
        </p:nvGraphicFramePr>
        <p:xfrm>
          <a:off x="8209080" y="5011560"/>
          <a:ext cx="669960" cy="2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09080" y="5011560"/>
                    <a:ext cx="66996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5" name=""/>
          <p:cNvGraphicFramePr/>
          <p:nvPr/>
        </p:nvGraphicFramePr>
        <p:xfrm>
          <a:off x="4905360" y="5529240"/>
          <a:ext cx="156996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5360" y="5529240"/>
                    <a:ext cx="1569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5067360" y="2473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38" name=""/>
          <p:cNvSpPr/>
          <p:nvPr/>
        </p:nvSpPr>
        <p:spPr>
          <a:xfrm>
            <a:off x="2050920" y="181296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икористовуючи  початкові умови,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1746360" y="2251080"/>
                <a:ext cx="3003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740" name=""/>
          <p:cNvGraphicFramePr/>
          <p:nvPr/>
        </p:nvGraphicFramePr>
        <p:xfrm>
          <a:off x="4892760" y="2401920"/>
          <a:ext cx="1841400" cy="34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92760" y="2401920"/>
                    <a:ext cx="18414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260440" y="2968560"/>
                <a:ext cx="2416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743" name=""/>
          <p:cNvGraphicFramePr/>
          <p:nvPr/>
        </p:nvGraphicFramePr>
        <p:xfrm>
          <a:off x="4770360" y="2832120"/>
          <a:ext cx="1959120" cy="69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70360" y="2832120"/>
                    <a:ext cx="19591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5" name=""/>
          <p:cNvSpPr/>
          <p:nvPr/>
        </p:nvSpPr>
        <p:spPr>
          <a:xfrm>
            <a:off x="3887640" y="3486240"/>
            <a:ext cx="2417760" cy="61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727200" y="2352600"/>
            <a:ext cx="42840" cy="3598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47560" y="18241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614600" y="907920"/>
            <a:ext cx="419040" cy="479520"/>
          </a:xfrm>
          <a:custGeom>
            <a:avLst/>
            <a:gdLst>
              <a:gd name="textAreaLeft" fmla="*/ 27000 w 419040"/>
              <a:gd name="textAreaRight" fmla="*/ 392040 w 419040"/>
              <a:gd name="textAreaTop" fmla="*/ 27000 h 479520"/>
              <a:gd name="textAreaBottom" fmla="*/ 452520 h 479520"/>
            </a:gdLst>
            <a:ahLst/>
            <a:rect l="textAreaLeft" t="textAreaTop" r="textAreaRight" b="textAreaBottom"/>
            <a:pathLst>
              <a:path w="21600" h="24715">
                <a:moveTo>
                  <a:pt x="0" y="0"/>
                </a:moveTo>
                <a:lnTo>
                  <a:pt x="21600" y="0"/>
                </a:lnTo>
                <a:lnTo>
                  <a:pt x="21600" y="24715"/>
                </a:lnTo>
                <a:lnTo>
                  <a:pt x="0" y="24715"/>
                </a:lnTo>
                <a:close/>
              </a:path>
              <a:path fill="lightenLess" w="21600" h="247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5">
                <a:moveTo>
                  <a:pt x="21600" y="0"/>
                </a:moveTo>
                <a:lnTo>
                  <a:pt x="21600" y="24715"/>
                </a:lnTo>
                <a:lnTo>
                  <a:pt x="20200" y="23315"/>
                </a:lnTo>
                <a:lnTo>
                  <a:pt x="20200" y="1400"/>
                </a:lnTo>
                <a:close/>
              </a:path>
              <a:path fill="darkenLess" w="21600" h="24715">
                <a:moveTo>
                  <a:pt x="21600" y="24715"/>
                </a:moveTo>
                <a:lnTo>
                  <a:pt x="0" y="24715"/>
                </a:lnTo>
                <a:lnTo>
                  <a:pt x="1400" y="23315"/>
                </a:lnTo>
                <a:lnTo>
                  <a:pt x="20200" y="23315"/>
                </a:lnTo>
                <a:close/>
              </a:path>
              <a:path fill="lighten" w="21600" h="24715">
                <a:moveTo>
                  <a:pt x="0" y="247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5"/>
                </a:lnTo>
                <a:close/>
              </a:path>
              <a:path fill="darken" w="21600" h="24715">
                <a:moveTo>
                  <a:pt x="10800" y="163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715">
                <a:moveTo>
                  <a:pt x="11905" y="15839"/>
                </a:moveTo>
                <a:lnTo>
                  <a:pt x="11905" y="13881"/>
                </a:lnTo>
                <a:cubicBezTo>
                  <a:pt x="11905" y="13054"/>
                  <a:pt x="12236" y="12357"/>
                  <a:pt x="12837" y="12357"/>
                </a:cubicBezTo>
                <a:cubicBezTo>
                  <a:pt x="13968" y="12357"/>
                  <a:pt x="14865" y="10991"/>
                  <a:pt x="14865" y="9407"/>
                </a:cubicBezTo>
                <a:cubicBezTo>
                  <a:pt x="14865" y="7092"/>
                  <a:pt x="13011" y="5351"/>
                  <a:pt x="10800" y="5351"/>
                </a:cubicBezTo>
                <a:cubicBezTo>
                  <a:pt x="8589" y="5351"/>
                  <a:pt x="6918" y="7092"/>
                  <a:pt x="6918" y="9407"/>
                </a:cubicBezTo>
                <a:lnTo>
                  <a:pt x="8772" y="9407"/>
                </a:lnTo>
                <a:cubicBezTo>
                  <a:pt x="8772" y="8267"/>
                  <a:pt x="9695" y="7379"/>
                  <a:pt x="10800" y="7379"/>
                </a:cubicBezTo>
                <a:cubicBezTo>
                  <a:pt x="11905" y="7379"/>
                  <a:pt x="12837" y="8267"/>
                  <a:pt x="12837" y="9407"/>
                </a:cubicBezTo>
                <a:cubicBezTo>
                  <a:pt x="12837" y="10147"/>
                  <a:pt x="12367" y="10878"/>
                  <a:pt x="11905" y="10878"/>
                </a:cubicBezTo>
                <a:cubicBezTo>
                  <a:pt x="10800" y="10878"/>
                  <a:pt x="9695" y="12357"/>
                  <a:pt x="9695" y="13881"/>
                </a:cubicBezTo>
                <a:lnTo>
                  <a:pt x="9695" y="15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>
            <a:hlinkClick r:id="rId14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2311560" y="44460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4" name="" descr=""/>
          <p:cNvPicPr/>
          <p:nvPr/>
        </p:nvPicPr>
        <p:blipFill>
          <a:blip r:embed="rId1"/>
          <a:stretch/>
        </p:blipFill>
        <p:spPr>
          <a:xfrm>
            <a:off x="257040" y="3833640"/>
            <a:ext cx="2248200" cy="5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5" name=""/>
          <p:cNvGraphicFramePr/>
          <p:nvPr/>
        </p:nvGraphicFramePr>
        <p:xfrm>
          <a:off x="8400960" y="3130560"/>
          <a:ext cx="209520" cy="2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00960" y="3130560"/>
                    <a:ext cx="2095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7" name=""/>
          <p:cNvGrpSpPr/>
          <p:nvPr/>
        </p:nvGrpSpPr>
        <p:grpSpPr>
          <a:xfrm>
            <a:off x="2219400" y="1467000"/>
            <a:ext cx="287280" cy="409320"/>
            <a:chOff x="2219400" y="1467000"/>
            <a:chExt cx="287280" cy="409320"/>
          </a:xfrm>
        </p:grpSpPr>
        <p:sp>
          <p:nvSpPr>
            <p:cNvPr id="1758" name=""/>
            <p:cNvSpPr/>
            <p:nvPr/>
          </p:nvSpPr>
          <p:spPr>
            <a:xfrm>
              <a:off x="2219400" y="1467000"/>
              <a:ext cx="0" cy="40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59" name=""/>
            <p:cNvGraphicFramePr/>
            <p:nvPr/>
          </p:nvGraphicFramePr>
          <p:xfrm>
            <a:off x="2244960" y="1487520"/>
            <a:ext cx="261720" cy="374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44960" y="1487520"/>
                      <a:ext cx="261720" cy="37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61" name="" descr=""/>
          <p:cNvPicPr/>
          <p:nvPr/>
        </p:nvPicPr>
        <p:blipFill>
          <a:blip r:embed="rId6"/>
          <a:stretch/>
        </p:blipFill>
        <p:spPr>
          <a:xfrm>
            <a:off x="652320" y="1176480"/>
            <a:ext cx="1133640" cy="276120"/>
          </a:xfrm>
          <a:prstGeom prst="rect">
            <a:avLst/>
          </a:prstGeom>
          <a:ln w="0">
            <a:noFill/>
          </a:ln>
        </p:spPr>
      </p:pic>
      <p:sp>
        <p:nvSpPr>
          <p:cNvPr id="1762" name=""/>
          <p:cNvSpPr/>
          <p:nvPr/>
        </p:nvSpPr>
        <p:spPr>
          <a:xfrm>
            <a:off x="1181160" y="1419120"/>
            <a:ext cx="0" cy="302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1181160" y="1419120"/>
            <a:ext cx="1038240" cy="263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185920" y="402912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2190600" y="4114800"/>
            <a:ext cx="82800" cy="905040"/>
          </a:xfrm>
          <a:prstGeom prst="downArrow">
            <a:avLst>
              <a:gd name="adj1" fmla="val 50000"/>
              <a:gd name="adj2" fmla="val 27326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1704960" y="2760840"/>
            <a:ext cx="760320" cy="19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rot="9486000">
            <a:off x="1942560" y="2862000"/>
            <a:ext cx="83880" cy="1209600"/>
          </a:xfrm>
          <a:prstGeom prst="downArrow">
            <a:avLst>
              <a:gd name="adj1" fmla="val 50000"/>
              <a:gd name="adj2" fmla="val 36051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8" name=""/>
          <p:cNvGraphicFramePr/>
          <p:nvPr/>
        </p:nvGraphicFramePr>
        <p:xfrm>
          <a:off x="1986120" y="3057480"/>
          <a:ext cx="26172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6120" y="3057480"/>
                    <a:ext cx="261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0" name=""/>
          <p:cNvGraphicFramePr/>
          <p:nvPr/>
        </p:nvGraphicFramePr>
        <p:xfrm>
          <a:off x="1731960" y="4594320"/>
          <a:ext cx="422280" cy="35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31960" y="4594320"/>
                    <a:ext cx="4222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"/>
          <p:cNvSpPr/>
          <p:nvPr/>
        </p:nvSpPr>
        <p:spPr>
          <a:xfrm flipV="1">
            <a:off x="1390680" y="3768480"/>
            <a:ext cx="16336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3" name=""/>
          <p:cNvGrpSpPr/>
          <p:nvPr/>
        </p:nvGrpSpPr>
        <p:grpSpPr>
          <a:xfrm>
            <a:off x="1190520" y="1819440"/>
            <a:ext cx="228600" cy="352440"/>
            <a:chOff x="1190520" y="1819440"/>
            <a:chExt cx="228600" cy="352440"/>
          </a:xfrm>
        </p:grpSpPr>
        <p:sp>
          <p:nvSpPr>
            <p:cNvPr id="1774" name=""/>
            <p:cNvSpPr/>
            <p:nvPr/>
          </p:nvSpPr>
          <p:spPr>
            <a:xfrm>
              <a:off x="1190520" y="1819440"/>
              <a:ext cx="16200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75" name=""/>
            <p:cNvGraphicFramePr/>
            <p:nvPr/>
          </p:nvGraphicFramePr>
          <p:xfrm>
            <a:off x="1193760" y="1917720"/>
            <a:ext cx="225360" cy="254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7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93760" y="1917720"/>
                      <a:ext cx="225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77" name=""/>
          <p:cNvGraphicFramePr/>
          <p:nvPr/>
        </p:nvGraphicFramePr>
        <p:xfrm>
          <a:off x="1562040" y="2124000"/>
          <a:ext cx="173160" cy="29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62040" y="2124000"/>
                    <a:ext cx="1731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9" name=""/>
          <p:cNvSpPr/>
          <p:nvPr/>
        </p:nvSpPr>
        <p:spPr>
          <a:xfrm>
            <a:off x="3895560" y="3057480"/>
            <a:ext cx="5040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енульову проекцію на напрямок вектора </a:t>
            </a:r>
            <a:r>
              <a:rPr b="0" lang="ru-RU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має лише сила тяжіння        . Отже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0" name=""/>
          <p:cNvGraphicFramePr/>
          <p:nvPr/>
        </p:nvGraphicFramePr>
        <p:xfrm>
          <a:off x="5054760" y="4033800"/>
          <a:ext cx="2095200" cy="428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54760" y="4033800"/>
                    <a:ext cx="20952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2" name=""/>
          <p:cNvGraphicFramePr/>
          <p:nvPr/>
        </p:nvGraphicFramePr>
        <p:xfrm>
          <a:off x="6303960" y="3476520"/>
          <a:ext cx="417600" cy="35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3960" y="3476520"/>
                    <a:ext cx="4176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4" name=""/>
          <p:cNvSpPr/>
          <p:nvPr/>
        </p:nvSpPr>
        <p:spPr>
          <a:xfrm>
            <a:off x="4765680" y="12081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821200" y="4040280"/>
            <a:ext cx="120996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6" name=""/>
          <p:cNvGraphicFramePr/>
          <p:nvPr/>
        </p:nvGraphicFramePr>
        <p:xfrm>
          <a:off x="3932280" y="1292400"/>
          <a:ext cx="852480" cy="35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8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32280" y="1292400"/>
                    <a:ext cx="8524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8" name=""/>
          <p:cNvSpPr/>
          <p:nvPr/>
        </p:nvSpPr>
        <p:spPr>
          <a:xfrm>
            <a:off x="4172040" y="1244520"/>
            <a:ext cx="380880" cy="4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4459320" y="1628280"/>
            <a:ext cx="45864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902120" y="198288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4892760" y="1855800"/>
            <a:ext cx="247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тангенціальна складова прискор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621240" y="3672000"/>
            <a:ext cx="42840" cy="1014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441600" y="31431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2244600" y="4478400"/>
            <a:ext cx="228600" cy="352440"/>
            <a:chOff x="2244600" y="4478400"/>
            <a:chExt cx="228600" cy="352440"/>
          </a:xfrm>
        </p:grpSpPr>
        <p:sp>
          <p:nvSpPr>
            <p:cNvPr id="1795" name=""/>
            <p:cNvSpPr/>
            <p:nvPr/>
          </p:nvSpPr>
          <p:spPr>
            <a:xfrm>
              <a:off x="2244600" y="4478400"/>
              <a:ext cx="16200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96" name=""/>
            <p:cNvGraphicFramePr/>
            <p:nvPr/>
          </p:nvGraphicFramePr>
          <p:xfrm>
            <a:off x="2247840" y="4576680"/>
            <a:ext cx="225360" cy="254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9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247840" y="4576680"/>
                      <a:ext cx="225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98" name=""/>
          <p:cNvGraphicFramePr/>
          <p:nvPr/>
        </p:nvGraphicFramePr>
        <p:xfrm>
          <a:off x="2855880" y="3808440"/>
          <a:ext cx="209520" cy="27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9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55880" y="3808440"/>
                    <a:ext cx="2095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0" name="Управляющая кнопка: домой 85">
            <a:hlinkClick r:id="rId2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>
            <a:hlinkClick r:id="rId26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2" name=""/>
          <p:cNvGraphicFramePr/>
          <p:nvPr/>
        </p:nvGraphicFramePr>
        <p:xfrm>
          <a:off x="4276800" y="4695840"/>
          <a:ext cx="113832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76800" y="4695840"/>
                    <a:ext cx="1138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4" name=""/>
          <p:cNvGraphicFramePr/>
          <p:nvPr/>
        </p:nvGraphicFramePr>
        <p:xfrm>
          <a:off x="4492800" y="3286080"/>
          <a:ext cx="165564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2800" y="3286080"/>
                    <a:ext cx="1655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6" name=""/>
          <p:cNvGraphicFramePr/>
          <p:nvPr/>
        </p:nvGraphicFramePr>
        <p:xfrm>
          <a:off x="5716440" y="4178160"/>
          <a:ext cx="1798920" cy="41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6440" y="4178160"/>
                    <a:ext cx="179892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8" name=""/>
          <p:cNvGraphicFramePr/>
          <p:nvPr/>
        </p:nvGraphicFramePr>
        <p:xfrm>
          <a:off x="2575080" y="4768920"/>
          <a:ext cx="98568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5080" y="4768920"/>
                    <a:ext cx="98568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0" name=""/>
          <p:cNvSpPr/>
          <p:nvPr/>
        </p:nvSpPr>
        <p:spPr>
          <a:xfrm>
            <a:off x="1247760" y="4221000"/>
            <a:ext cx="6421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яймо отримане рівняння з рівнянням                       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Бачимо, що                   Отже: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841400" y="523800"/>
            <a:ext cx="54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2" name=""/>
          <p:cNvGraphicFramePr/>
          <p:nvPr/>
        </p:nvGraphicFramePr>
        <p:xfrm>
          <a:off x="2160720" y="3430440"/>
          <a:ext cx="2260440" cy="40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60720" y="3430440"/>
                    <a:ext cx="22604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4" name=""/>
          <p:cNvSpPr/>
          <p:nvPr/>
        </p:nvSpPr>
        <p:spPr>
          <a:xfrm>
            <a:off x="4243320" y="4695840"/>
            <a:ext cx="105084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 flipH="1">
            <a:off x="950040" y="3870360"/>
            <a:ext cx="42840" cy="15555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747720" y="335772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7" name=""/>
          <p:cNvGraphicFramePr/>
          <p:nvPr/>
        </p:nvGraphicFramePr>
        <p:xfrm>
          <a:off x="3371760" y="1239840"/>
          <a:ext cx="1978200" cy="35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71760" y="1239840"/>
                    <a:ext cx="1978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9" name=""/>
          <p:cNvGraphicFramePr/>
          <p:nvPr/>
        </p:nvGraphicFramePr>
        <p:xfrm>
          <a:off x="3441600" y="1847880"/>
          <a:ext cx="2073240" cy="43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2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41600" y="1847880"/>
                    <a:ext cx="20732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1" name=""/>
          <p:cNvGrpSpPr/>
          <p:nvPr/>
        </p:nvGrpSpPr>
        <p:grpSpPr>
          <a:xfrm>
            <a:off x="3197160" y="1389240"/>
            <a:ext cx="264960" cy="691920"/>
            <a:chOff x="3197160" y="1389240"/>
            <a:chExt cx="264960" cy="691920"/>
          </a:xfrm>
        </p:grpSpPr>
        <p:sp>
          <p:nvSpPr>
            <p:cNvPr id="1822" name=""/>
            <p:cNvSpPr/>
            <p:nvPr/>
          </p:nvSpPr>
          <p:spPr>
            <a:xfrm>
              <a:off x="3203280" y="1389240"/>
              <a:ext cx="13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197160" y="138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203280" y="208116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5" name=""/>
          <p:cNvSpPr/>
          <p:nvPr/>
        </p:nvSpPr>
        <p:spPr>
          <a:xfrm>
            <a:off x="3938760" y="1938240"/>
            <a:ext cx="2952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168800" y="2225520"/>
            <a:ext cx="4762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4630680" y="248292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745160" y="22734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Управляющая кнопка: домой 85">
            <a:hlinkClick r:id="rId1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>
            <a:hlinkClick r:id="rId16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203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5" name=""/>
          <p:cNvGraphicFramePr/>
          <p:nvPr/>
        </p:nvGraphicFramePr>
        <p:xfrm>
          <a:off x="3957480" y="1587600"/>
          <a:ext cx="198144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7480" y="1587600"/>
                    <a:ext cx="198144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081760" y="2124000"/>
          <a:ext cx="966600" cy="26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81760" y="2124000"/>
                    <a:ext cx="9666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103640" y="2489040"/>
          <a:ext cx="158904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03640" y="2489040"/>
                    <a:ext cx="15890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094280" y="3343320"/>
          <a:ext cx="246384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94280" y="3343320"/>
                    <a:ext cx="24638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672080" y="2052720"/>
          <a:ext cx="33336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72080" y="2052720"/>
                    <a:ext cx="3333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5734080" y="25336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200640" y="2617920"/>
          <a:ext cx="552600" cy="24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00640" y="2617920"/>
                    <a:ext cx="55260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689360" y="2898720"/>
          <a:ext cx="333360" cy="44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89360" y="2898720"/>
                    <a:ext cx="3333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3191040" y="4121280"/>
            <a:ext cx="44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наступних випадк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752560" y="4768920"/>
          <a:ext cx="2181240" cy="387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52560" y="4768920"/>
                    <a:ext cx="21812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455920" y="477684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40400" y="4640400"/>
            <a:ext cx="2716200" cy="641160"/>
            <a:chOff x="5540400" y="4640400"/>
            <a:chExt cx="2716200" cy="641160"/>
          </a:xfrm>
        </p:grpSpPr>
        <p:graphicFrame>
          <p:nvGraphicFramePr>
            <p:cNvPr id="225" name=""/>
            <p:cNvGraphicFramePr/>
            <p:nvPr/>
          </p:nvGraphicFramePr>
          <p:xfrm>
            <a:off x="5825880" y="4640400"/>
            <a:ext cx="2430720" cy="6411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5880" y="4640400"/>
                      <a:ext cx="2430720" cy="64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"/>
            <p:cNvSpPr/>
            <p:nvPr/>
          </p:nvSpPr>
          <p:spPr>
            <a:xfrm>
              <a:off x="5540400" y="4803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б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8" name=""/>
          <p:cNvGraphicFramePr/>
          <p:nvPr/>
        </p:nvGraphicFramePr>
        <p:xfrm>
          <a:off x="1454040" y="5546880"/>
          <a:ext cx="2602080" cy="677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54040" y="5546880"/>
                    <a:ext cx="2602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1171440" y="57085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400720" y="5543640"/>
          <a:ext cx="254484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00720" y="5543640"/>
                    <a:ext cx="25448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5145120" y="5700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95360" y="247680"/>
            <a:ext cx="43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Пружинний маятник у полі тяж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6720" y="77472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ивлячись на рівняння, запис яких розташований праворуч від рисунка, скажіть, з яких міркувань обрані точки відліку на осях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28600" y="762120"/>
            <a:ext cx="620280" cy="550800"/>
            <a:chOff x="228600" y="762120"/>
            <a:chExt cx="620280" cy="550800"/>
          </a:xfrm>
        </p:grpSpPr>
        <p:sp>
          <p:nvSpPr>
            <p:cNvPr id="237" name="">
              <a:hlinkClick r:id="rId23" action="ppaction://hlinksldjump"/>
            </p:cNvPr>
            <p:cNvSpPr/>
            <p:nvPr/>
          </p:nvSpPr>
          <p:spPr>
            <a:xfrm>
              <a:off x="228600" y="82404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1160" y="762120"/>
              <a:ext cx="47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98400" y="1514520"/>
            <a:ext cx="2270160" cy="2817000"/>
            <a:chOff x="698400" y="1514520"/>
            <a:chExt cx="2270160" cy="2817000"/>
          </a:xfrm>
        </p:grpSpPr>
        <p:sp>
          <p:nvSpPr>
            <p:cNvPr id="240" name=""/>
            <p:cNvSpPr/>
            <p:nvPr/>
          </p:nvSpPr>
          <p:spPr>
            <a:xfrm>
              <a:off x="2473560" y="279540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71760" y="39844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98400" y="1514520"/>
              <a:ext cx="1893960" cy="2817000"/>
              <a:chOff x="698400" y="1514520"/>
              <a:chExt cx="1893960" cy="2817000"/>
            </a:xfrm>
          </p:grpSpPr>
          <p:pic>
            <p:nvPicPr>
              <p:cNvPr id="24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814760" y="1778040"/>
                <a:ext cx="390240" cy="14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459080" y="1514520"/>
                <a:ext cx="1133280" cy="2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 rot="16200000">
                <a:off x="1819080" y="3298320"/>
                <a:ext cx="365400" cy="23472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11320" y="1743120"/>
                <a:ext cx="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97320" y="1752480"/>
                <a:ext cx="0" cy="25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33600" y="1755720"/>
                <a:ext cx="0" cy="25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01920" y="2685960"/>
                <a:ext cx="66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462400" y="2984400"/>
                <a:ext cx="66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530360" y="2976480"/>
                <a:ext cx="93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62160" y="250812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00120" y="399420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1177920" y="2985840"/>
                <a:ext cx="35244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679760" y="2335320"/>
                <a:ext cx="31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79720" y="324000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968400" y="1814400"/>
                <a:ext cx="287280" cy="409680"/>
                <a:chOff x="968400" y="1814400"/>
                <a:chExt cx="287280" cy="4096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968400" y="1814400"/>
                  <a:ext cx="0" cy="409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59" name=""/>
                <p:cNvGraphicFramePr/>
                <p:nvPr/>
              </p:nvGraphicFramePr>
              <p:xfrm>
                <a:off x="993960" y="1835280"/>
                <a:ext cx="261720" cy="37440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260" name="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993960" y="1835280"/>
                          <a:ext cx="261720" cy="37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261" name=""/>
              <p:cNvGrpSpPr/>
              <p:nvPr/>
            </p:nvGrpSpPr>
            <p:grpSpPr>
              <a:xfrm>
                <a:off x="698400" y="2905200"/>
                <a:ext cx="529920" cy="549000"/>
                <a:chOff x="698400" y="2905200"/>
                <a:chExt cx="529920" cy="549000"/>
              </a:xfrm>
            </p:grpSpPr>
            <p:sp>
              <p:nvSpPr>
                <p:cNvPr id="262" name="">
                  <a:hlinkClick r:id="rId29" action="ppaction://hlinksldjump"/>
                </p:cNvPr>
                <p:cNvSpPr/>
                <p:nvPr/>
              </p:nvSpPr>
              <p:spPr>
                <a:xfrm>
                  <a:off x="698400" y="2965320"/>
                  <a:ext cx="453600" cy="488880"/>
                </a:xfrm>
                <a:custGeom>
                  <a:avLst/>
                  <a:gdLst>
                    <a:gd name="textAreaLeft" fmla="*/ 29160 w 453600"/>
                    <a:gd name="textAreaRight" fmla="*/ 424440 w 453600"/>
                    <a:gd name="textAreaTop" fmla="*/ 29160 h 488880"/>
                    <a:gd name="textAreaBottom" fmla="*/ 459720 h 488880"/>
                  </a:gdLst>
                  <a:ahLst/>
                  <a:rect l="textAreaLeft" t="textAreaTop" r="textAreaRight" b="textAreaBottom"/>
                  <a:pathLst>
                    <a:path w="21600" h="23279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3279"/>
                      </a:lnTo>
                      <a:lnTo>
                        <a:pt x="0" y="23279"/>
                      </a:lnTo>
                      <a:close/>
                    </a:path>
                    <a:path fill="lightenLess" w="21600" h="23279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200" y="1400"/>
                      </a:lnTo>
                      <a:lnTo>
                        <a:pt x="1400" y="1400"/>
                      </a:lnTo>
                      <a:close/>
                    </a:path>
                    <a:path fill="darken" w="21600" h="23279">
                      <a:moveTo>
                        <a:pt x="21600" y="0"/>
                      </a:moveTo>
                      <a:lnTo>
                        <a:pt x="21600" y="23279"/>
                      </a:lnTo>
                      <a:lnTo>
                        <a:pt x="20200" y="21879"/>
                      </a:lnTo>
                      <a:lnTo>
                        <a:pt x="20200" y="1400"/>
                      </a:lnTo>
                      <a:close/>
                    </a:path>
                    <a:path fill="darkenLess" w="21600" h="23279">
                      <a:moveTo>
                        <a:pt x="21600" y="23279"/>
                      </a:moveTo>
                      <a:lnTo>
                        <a:pt x="0" y="23279"/>
                      </a:lnTo>
                      <a:lnTo>
                        <a:pt x="1400" y="21879"/>
                      </a:lnTo>
                      <a:lnTo>
                        <a:pt x="20200" y="21879"/>
                      </a:lnTo>
                      <a:close/>
                    </a:path>
                    <a:path fill="lighten" w="21600" h="23279">
                      <a:moveTo>
                        <a:pt x="0" y="23279"/>
                      </a:moveTo>
                      <a:lnTo>
                        <a:pt x="0" y="0"/>
                      </a:lnTo>
                      <a:lnTo>
                        <a:pt x="1400" y="1400"/>
                      </a:lnTo>
                      <a:lnTo>
                        <a:pt x="1400" y="21879"/>
                      </a:lnTo>
                      <a:close/>
                    </a:path>
                    <a:path fill="darken" w="21600" h="23279">
                      <a:moveTo>
                        <a:pt x="10800" y="15643"/>
                      </a:moveTo>
                      <a:arcTo wR="1471" hR="1471" stAng="16200000" swAng="-5400000"/>
                      <a:arcTo wR="1471" hR="1471" stAng="10800000" swAng="-5400000"/>
                      <a:arcTo wR="1471" hR="1471" stAng="5400000" swAng="-5400000"/>
                      <a:arcTo wR="1471" hR="1471" stAng="0" swAng="-5400000"/>
                      <a:close/>
                    </a:path>
                    <a:path fill="darken" w="21600" h="23279">
                      <a:moveTo>
                        <a:pt x="11905" y="15121"/>
                      </a:moveTo>
                      <a:lnTo>
                        <a:pt x="11905" y="13162"/>
                      </a:lnTo>
                      <a:cubicBezTo>
                        <a:pt x="11905" y="12336"/>
                        <a:pt x="12236" y="11639"/>
                        <a:pt x="12837" y="11639"/>
                      </a:cubicBezTo>
                      <a:cubicBezTo>
                        <a:pt x="13968" y="11639"/>
                        <a:pt x="14865" y="10273"/>
                        <a:pt x="14865" y="8689"/>
                      </a:cubicBezTo>
                      <a:cubicBezTo>
                        <a:pt x="14865" y="6374"/>
                        <a:pt x="13011" y="4633"/>
                        <a:pt x="10800" y="4633"/>
                      </a:cubicBezTo>
                      <a:cubicBezTo>
                        <a:pt x="8589" y="4633"/>
                        <a:pt x="6918" y="6374"/>
                        <a:pt x="6918" y="8689"/>
                      </a:cubicBezTo>
                      <a:lnTo>
                        <a:pt x="8772" y="8689"/>
                      </a:lnTo>
                      <a:cubicBezTo>
                        <a:pt x="8772" y="7549"/>
                        <a:pt x="9695" y="6661"/>
                        <a:pt x="10800" y="6661"/>
                      </a:cubicBezTo>
                      <a:cubicBezTo>
                        <a:pt x="11905" y="6661"/>
                        <a:pt x="12837" y="7549"/>
                        <a:pt x="12837" y="8689"/>
                      </a:cubicBezTo>
                      <a:cubicBezTo>
                        <a:pt x="12837" y="9429"/>
                        <a:pt x="12367" y="10160"/>
                        <a:pt x="11905" y="10160"/>
                      </a:cubicBezTo>
                      <a:cubicBezTo>
                        <a:pt x="10800" y="10160"/>
                        <a:pt x="9695" y="11639"/>
                        <a:pt x="9695" y="13162"/>
                      </a:cubicBezTo>
                      <a:lnTo>
                        <a:pt x="9695" y="1512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87040" y="2905200"/>
                  <a:ext cx="341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600" spc="-1" strike="noStrike">
                      <a:solidFill>
                        <a:srgbClr val="cc6600"/>
                      </a:solidFill>
                      <a:latin typeface="Comic Sans MS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5986440" y="1947960"/>
            <a:ext cx="498600" cy="552240"/>
            <a:chOff x="5986440" y="1947960"/>
            <a:chExt cx="498600" cy="552240"/>
          </a:xfrm>
        </p:grpSpPr>
        <p:sp>
          <p:nvSpPr>
            <p:cNvPr id="265" name="">
              <a:hlinkClick r:id="rId30" action="ppaction://hlinksldjump"/>
            </p:cNvPr>
            <p:cNvSpPr/>
            <p:nvPr/>
          </p:nvSpPr>
          <p:spPr>
            <a:xfrm>
              <a:off x="5986440" y="201132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94520" y="1947960"/>
              <a:ext cx="29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734160" y="2354400"/>
            <a:ext cx="587520" cy="560160"/>
            <a:chOff x="6734160" y="2354400"/>
            <a:chExt cx="587520" cy="560160"/>
          </a:xfrm>
        </p:grpSpPr>
        <p:sp>
          <p:nvSpPr>
            <p:cNvPr id="268" name="">
              <a:hlinkClick r:id="rId31" action="ppaction://hlinksldjump"/>
            </p:cNvPr>
            <p:cNvSpPr/>
            <p:nvPr/>
          </p:nvSpPr>
          <p:spPr>
            <a:xfrm>
              <a:off x="6734160" y="2425680"/>
              <a:ext cx="476280" cy="48888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71">
                  <a:moveTo>
                    <a:pt x="0" y="0"/>
                  </a:moveTo>
                  <a:lnTo>
                    <a:pt x="21600" y="0"/>
                  </a:lnTo>
                  <a:lnTo>
                    <a:pt x="21600" y="22171"/>
                  </a:lnTo>
                  <a:lnTo>
                    <a:pt x="0" y="22171"/>
                  </a:lnTo>
                  <a:close/>
                </a:path>
                <a:path fill="lightenLess" w="21600" h="2217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71">
                  <a:moveTo>
                    <a:pt x="21600" y="0"/>
                  </a:moveTo>
                  <a:lnTo>
                    <a:pt x="21600" y="22171"/>
                  </a:lnTo>
                  <a:lnTo>
                    <a:pt x="20200" y="20771"/>
                  </a:lnTo>
                  <a:lnTo>
                    <a:pt x="20200" y="1400"/>
                  </a:lnTo>
                  <a:close/>
                </a:path>
                <a:path fill="darkenLess" w="21600" h="22171">
                  <a:moveTo>
                    <a:pt x="21600" y="22171"/>
                  </a:moveTo>
                  <a:lnTo>
                    <a:pt x="0" y="22171"/>
                  </a:lnTo>
                  <a:lnTo>
                    <a:pt x="1400" y="20771"/>
                  </a:lnTo>
                  <a:lnTo>
                    <a:pt x="20200" y="20771"/>
                  </a:lnTo>
                  <a:close/>
                </a:path>
                <a:path fill="lighten" w="21600" h="22171">
                  <a:moveTo>
                    <a:pt x="0" y="2217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71"/>
                  </a:lnTo>
                  <a:close/>
                </a:path>
                <a:path fill="darken" w="21600" h="22171">
                  <a:moveTo>
                    <a:pt x="10800" y="15089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71">
                  <a:moveTo>
                    <a:pt x="11905" y="14567"/>
                  </a:moveTo>
                  <a:lnTo>
                    <a:pt x="11905" y="12609"/>
                  </a:lnTo>
                  <a:cubicBezTo>
                    <a:pt x="11905" y="11782"/>
                    <a:pt x="12236" y="11085"/>
                    <a:pt x="12837" y="11085"/>
                  </a:cubicBezTo>
                  <a:cubicBezTo>
                    <a:pt x="13968" y="11085"/>
                    <a:pt x="14865" y="9719"/>
                    <a:pt x="14865" y="8135"/>
                  </a:cubicBezTo>
                  <a:cubicBezTo>
                    <a:pt x="14865" y="5820"/>
                    <a:pt x="13011" y="4079"/>
                    <a:pt x="10800" y="4079"/>
                  </a:cubicBezTo>
                  <a:cubicBezTo>
                    <a:pt x="8589" y="4079"/>
                    <a:pt x="6918" y="5820"/>
                    <a:pt x="6918" y="8135"/>
                  </a:cubicBezTo>
                  <a:lnTo>
                    <a:pt x="8772" y="8135"/>
                  </a:lnTo>
                  <a:cubicBezTo>
                    <a:pt x="8772" y="6995"/>
                    <a:pt x="9695" y="6107"/>
                    <a:pt x="10800" y="6107"/>
                  </a:cubicBezTo>
                  <a:cubicBezTo>
                    <a:pt x="11905" y="6107"/>
                    <a:pt x="12837" y="6995"/>
                    <a:pt x="12837" y="8135"/>
                  </a:cubicBezTo>
                  <a:cubicBezTo>
                    <a:pt x="12837" y="8875"/>
                    <a:pt x="12367" y="9606"/>
                    <a:pt x="11905" y="9606"/>
                  </a:cubicBezTo>
                  <a:cubicBezTo>
                    <a:pt x="10800" y="9606"/>
                    <a:pt x="9695" y="11085"/>
                    <a:pt x="9695" y="12609"/>
                  </a:cubicBezTo>
                  <a:lnTo>
                    <a:pt x="9695" y="145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24600" y="235440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039760" y="4648320"/>
            <a:ext cx="600120" cy="548640"/>
            <a:chOff x="2039760" y="4648320"/>
            <a:chExt cx="600120" cy="548640"/>
          </a:xfrm>
        </p:grpSpPr>
        <p:sp>
          <p:nvSpPr>
            <p:cNvPr id="271" name="">
              <a:hlinkClick r:id="rId32" action="ppaction://hlinksldjump"/>
            </p:cNvPr>
            <p:cNvSpPr/>
            <p:nvPr/>
          </p:nvSpPr>
          <p:spPr>
            <a:xfrm>
              <a:off x="2039760" y="4708440"/>
              <a:ext cx="449280" cy="48852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520"/>
                <a:gd name="textAreaBottom" fmla="*/ 459720 h 488520"/>
              </a:gdLst>
              <a:ahLst/>
              <a:rect l="textAreaLeft" t="textAreaTop" r="textAreaRight" b="textAreaBottom"/>
              <a:pathLst>
                <a:path w="21600" h="23485">
                  <a:moveTo>
                    <a:pt x="0" y="0"/>
                  </a:moveTo>
                  <a:lnTo>
                    <a:pt x="21600" y="0"/>
                  </a:lnTo>
                  <a:lnTo>
                    <a:pt x="21600" y="23485"/>
                  </a:lnTo>
                  <a:lnTo>
                    <a:pt x="0" y="23485"/>
                  </a:lnTo>
                  <a:close/>
                </a:path>
                <a:path fill="lightenLess" w="21600" h="2348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485">
                  <a:moveTo>
                    <a:pt x="21600" y="0"/>
                  </a:moveTo>
                  <a:lnTo>
                    <a:pt x="21600" y="23485"/>
                  </a:lnTo>
                  <a:lnTo>
                    <a:pt x="20200" y="22085"/>
                  </a:lnTo>
                  <a:lnTo>
                    <a:pt x="20200" y="1400"/>
                  </a:lnTo>
                  <a:close/>
                </a:path>
                <a:path fill="darkenLess" w="21600" h="23485">
                  <a:moveTo>
                    <a:pt x="21600" y="23485"/>
                  </a:moveTo>
                  <a:lnTo>
                    <a:pt x="0" y="23485"/>
                  </a:lnTo>
                  <a:lnTo>
                    <a:pt x="1400" y="22085"/>
                  </a:lnTo>
                  <a:lnTo>
                    <a:pt x="20200" y="22085"/>
                  </a:lnTo>
                  <a:close/>
                </a:path>
                <a:path fill="lighten" w="21600" h="23485">
                  <a:moveTo>
                    <a:pt x="0" y="2348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085"/>
                  </a:lnTo>
                  <a:close/>
                </a:path>
                <a:path fill="darken" w="21600" h="23485">
                  <a:moveTo>
                    <a:pt x="10800" y="15746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485">
                  <a:moveTo>
                    <a:pt x="11905" y="15224"/>
                  </a:moveTo>
                  <a:lnTo>
                    <a:pt x="11905" y="13266"/>
                  </a:lnTo>
                  <a:cubicBezTo>
                    <a:pt x="11905" y="12439"/>
                    <a:pt x="12236" y="11743"/>
                    <a:pt x="12837" y="11743"/>
                  </a:cubicBezTo>
                  <a:cubicBezTo>
                    <a:pt x="13968" y="11743"/>
                    <a:pt x="14865" y="10376"/>
                    <a:pt x="14865" y="8792"/>
                  </a:cubicBezTo>
                  <a:cubicBezTo>
                    <a:pt x="14865" y="6477"/>
                    <a:pt x="13011" y="4736"/>
                    <a:pt x="10800" y="4736"/>
                  </a:cubicBezTo>
                  <a:cubicBezTo>
                    <a:pt x="8589" y="4736"/>
                    <a:pt x="6918" y="6477"/>
                    <a:pt x="6918" y="8792"/>
                  </a:cubicBezTo>
                  <a:lnTo>
                    <a:pt x="8772" y="8792"/>
                  </a:lnTo>
                  <a:cubicBezTo>
                    <a:pt x="8772" y="7652"/>
                    <a:pt x="9695" y="6764"/>
                    <a:pt x="10800" y="6764"/>
                  </a:cubicBezTo>
                  <a:cubicBezTo>
                    <a:pt x="11905" y="6764"/>
                    <a:pt x="12837" y="7652"/>
                    <a:pt x="12837" y="8792"/>
                  </a:cubicBezTo>
                  <a:cubicBezTo>
                    <a:pt x="12837" y="9532"/>
                    <a:pt x="12367" y="10263"/>
                    <a:pt x="11905" y="10263"/>
                  </a:cubicBezTo>
                  <a:cubicBezTo>
                    <a:pt x="10800" y="10263"/>
                    <a:pt x="9695" y="11743"/>
                    <a:pt x="9695" y="13266"/>
                  </a:cubicBezTo>
                  <a:lnTo>
                    <a:pt x="9695" y="1522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76560" y="4648320"/>
              <a:ext cx="46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148360" y="4643280"/>
            <a:ext cx="579240" cy="558720"/>
            <a:chOff x="5148360" y="4643280"/>
            <a:chExt cx="579240" cy="558720"/>
          </a:xfrm>
        </p:grpSpPr>
        <p:sp>
          <p:nvSpPr>
            <p:cNvPr id="274" name="">
              <a:hlinkClick r:id="rId33" action="ppaction://hlinksldjump"/>
            </p:cNvPr>
            <p:cNvSpPr/>
            <p:nvPr/>
          </p:nvSpPr>
          <p:spPr>
            <a:xfrm>
              <a:off x="5148360" y="471312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91280" y="4643280"/>
              <a:ext cx="43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70040" y="5538960"/>
            <a:ext cx="590400" cy="558720"/>
            <a:chOff x="770040" y="5538960"/>
            <a:chExt cx="590400" cy="558720"/>
          </a:xfrm>
        </p:grpSpPr>
        <p:sp>
          <p:nvSpPr>
            <p:cNvPr id="277" name="">
              <a:hlinkClick r:id="rId34" action="ppaction://hlinksldjump"/>
            </p:cNvPr>
            <p:cNvSpPr/>
            <p:nvPr/>
          </p:nvSpPr>
          <p:spPr>
            <a:xfrm>
              <a:off x="770040" y="560880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24120" y="5538960"/>
              <a:ext cx="43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741920" y="5537160"/>
            <a:ext cx="571320" cy="560520"/>
            <a:chOff x="4741920" y="5537160"/>
            <a:chExt cx="571320" cy="560520"/>
          </a:xfrm>
        </p:grpSpPr>
        <p:sp>
          <p:nvSpPr>
            <p:cNvPr id="280" name="">
              <a:hlinkClick r:id="rId35" action="ppaction://hlinksldjump"/>
            </p:cNvPr>
            <p:cNvSpPr/>
            <p:nvPr/>
          </p:nvSpPr>
          <p:spPr>
            <a:xfrm>
              <a:off x="4741920" y="560880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76920" y="5537160"/>
              <a:ext cx="43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Управляющая кнопка: домой 85">
            <a:hlinkClick r:id="rId36" action="ppaction://hlinksldjump"/>
          </p:cNvPr>
          <p:cNvSpPr/>
          <p:nvPr/>
        </p:nvSpPr>
        <p:spPr>
          <a:xfrm>
            <a:off x="146160" y="1252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"/>
          <p:cNvSpPr/>
          <p:nvPr/>
        </p:nvSpPr>
        <p:spPr>
          <a:xfrm>
            <a:off x="793800" y="2678040"/>
            <a:ext cx="82962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ане диференціальне  рівняння                         порівняймо з диферен-ціальним рівнянням гармонічних коливань пружинного мая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і рівняння мають однаковий вигляд. Отже, розв'язок можна записати за аналогією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2" name=""/>
          <p:cNvGraphicFramePr/>
          <p:nvPr/>
        </p:nvGraphicFramePr>
        <p:xfrm>
          <a:off x="4950000" y="2674800"/>
          <a:ext cx="1293480" cy="4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0000" y="2674800"/>
                    <a:ext cx="12934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7329600" y="2975040"/>
                <a:ext cx="13618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35" name=""/>
          <p:cNvGraphicFramePr/>
          <p:nvPr/>
        </p:nvGraphicFramePr>
        <p:xfrm>
          <a:off x="3370320" y="4290840"/>
          <a:ext cx="2755800" cy="5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70320" y="4290840"/>
                    <a:ext cx="27558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7" name=""/>
          <p:cNvGraphicFramePr/>
          <p:nvPr/>
        </p:nvGraphicFramePr>
        <p:xfrm>
          <a:off x="2698920" y="1230480"/>
          <a:ext cx="16398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8920" y="1230480"/>
                    <a:ext cx="1639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9" name=""/>
          <p:cNvSpPr/>
          <p:nvPr/>
        </p:nvSpPr>
        <p:spPr>
          <a:xfrm>
            <a:off x="4357800" y="1312920"/>
            <a:ext cx="23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тже, для малих куті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0" name=""/>
          <p:cNvGraphicFramePr/>
          <p:nvPr/>
        </p:nvGraphicFramePr>
        <p:xfrm>
          <a:off x="3846600" y="1774800"/>
          <a:ext cx="892080" cy="4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46600" y="1774800"/>
                    <a:ext cx="892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2" name=""/>
          <p:cNvSpPr/>
          <p:nvPr/>
        </p:nvSpPr>
        <p:spPr>
          <a:xfrm>
            <a:off x="1994040" y="419040"/>
            <a:ext cx="47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4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4718160" y="17398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3359160" y="4299120"/>
            <a:ext cx="2573280" cy="522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55480" y="3151080"/>
            <a:ext cx="42840" cy="30924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376200" y="262908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776160" y="5362560"/>
            <a:ext cx="810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ак само, як і у випадку пружинного маятника, амплітуда і початкова фаза визначаються за наявності додаткової інформації (наприклад, початкових значень            і           ). Вираз для     був наведений у відповіді на запитання 4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4162320" y="4365720"/>
            <a:ext cx="339840" cy="4190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586480" y="4341960"/>
            <a:ext cx="243000" cy="3711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397400" y="4776840"/>
            <a:ext cx="339840" cy="388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5762520" y="4702320"/>
            <a:ext cx="398520" cy="4474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4699080" y="5118120"/>
            <a:ext cx="41040" cy="41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6121440" y="5113440"/>
            <a:ext cx="41400" cy="410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4707000" y="495000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мпліт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093000" y="4951440"/>
            <a:ext cx="20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чаткова ф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6" name=""/>
          <p:cNvGraphicFramePr/>
          <p:nvPr/>
        </p:nvGraphicFramePr>
        <p:xfrm>
          <a:off x="1657440" y="5840280"/>
          <a:ext cx="61416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57440" y="5840280"/>
                    <a:ext cx="6141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8" name=""/>
          <p:cNvGraphicFramePr/>
          <p:nvPr/>
        </p:nvGraphicFramePr>
        <p:xfrm>
          <a:off x="2430360" y="5824440"/>
          <a:ext cx="614520" cy="409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0360" y="5824440"/>
                    <a:ext cx="614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0" name=""/>
          <p:cNvGraphicFramePr/>
          <p:nvPr/>
        </p:nvGraphicFramePr>
        <p:xfrm>
          <a:off x="4249800" y="6018120"/>
          <a:ext cx="222120" cy="20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49800" y="6018120"/>
                    <a:ext cx="22212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Управляющая кнопка: домой 85">
            <a:hlinkClick r:id="rId1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>
            <a:hlinkClick r:id="rId16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/>
          <p:nvPr/>
        </p:nvSpPr>
        <p:spPr>
          <a:xfrm>
            <a:off x="1160640" y="1508040"/>
            <a:ext cx="7016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еріод гармонічних коливань                де </a:t>
            </a:r>
            <a:r>
              <a:rPr b="0" i="1" lang="el-GR" sz="1800" spc="-1" strike="noStrike">
                <a:solidFill>
                  <a:srgbClr val="0000cc"/>
                </a:solidFill>
                <a:latin typeface="Times New Roman"/>
              </a:rPr>
              <a:t>ω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— циклічна частота, яка для математичного маятника дорівнює           (див. відповідь на запитання 4.2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 формула для періоду математичного маятника та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90760" y="99072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залежить період малих коливань математичного маятника від мас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7101000" y="2465280"/>
                <a:ext cx="11556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1163520" y="3059280"/>
            <a:ext cx="67899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неї видно, що період </a:t>
            </a:r>
            <a:r>
              <a:rPr b="1" lang="uk-UA" sz="1600" spc="-1" strike="noStrike" u="sng">
                <a:solidFill>
                  <a:srgbClr val="0000cc"/>
                </a:solidFill>
                <a:uFillTx/>
                <a:latin typeface="Comic Sans MS"/>
              </a:rPr>
              <a:t>гармонічни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коливань математичного маятника  не залежить від мас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916280" y="479520"/>
            <a:ext cx="47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4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9" name=""/>
          <p:cNvGraphicFramePr/>
          <p:nvPr/>
        </p:nvGraphicFramePr>
        <p:xfrm>
          <a:off x="4505400" y="1452600"/>
          <a:ext cx="83808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5400" y="1452600"/>
                    <a:ext cx="8380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2" name=""/>
          <p:cNvGraphicFramePr/>
          <p:nvPr/>
        </p:nvGraphicFramePr>
        <p:xfrm>
          <a:off x="5530680" y="1874880"/>
          <a:ext cx="57816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30680" y="1874880"/>
                    <a:ext cx="5781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4" name=""/>
          <p:cNvSpPr/>
          <p:nvPr/>
        </p:nvSpPr>
        <p:spPr>
          <a:xfrm>
            <a:off x="824040" y="3905280"/>
            <a:ext cx="8167680" cy="30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uk-UA" sz="1600" spc="-1" strike="noStrike">
                <a:solidFill>
                  <a:srgbClr val="0000cc"/>
                </a:solidFill>
                <a:latin typeface="Comic Sans MS"/>
              </a:rPr>
              <a:t>Зауваження.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Звісно, що для такого висновку не треба було виводити кінцеву формулу для періоду. Зрозуміло, що незалежність циклічної частоти від маси автоматично “тягне” за собою незалежність періоду коливань від ма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ле завжди треба пам'ятати, що цей висновок правильний лише для </a:t>
            </a:r>
            <a:r>
              <a:rPr b="1" lang="uk-UA" sz="1600" spc="-1" strike="noStrike" u="sng">
                <a:solidFill>
                  <a:srgbClr val="0000cc"/>
                </a:solidFill>
                <a:uFillTx/>
                <a:latin typeface="Comic Sans MS"/>
              </a:rPr>
              <a:t>мали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коливань, коли                      (лише у цьому наближенні коливання можна вважати </a:t>
            </a:r>
            <a:r>
              <a:rPr b="1" lang="uk-UA" sz="1600" spc="-1" strike="noStrike" u="sng">
                <a:solidFill>
                  <a:srgbClr val="0000cc"/>
                </a:solidFill>
                <a:uFillTx/>
                <a:latin typeface="Comic Sans MS"/>
              </a:rPr>
              <a:t>гармонічними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). З'ясування питання про те, до якої похибки призводить така підміна (    замість          ), є окремим не дуже простим завданням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2244600" y="3429000"/>
            <a:ext cx="2211480" cy="326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635040" y="2130480"/>
            <a:ext cx="42840" cy="4149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455760" y="160812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8" name=""/>
          <p:cNvGraphicFramePr/>
          <p:nvPr/>
        </p:nvGraphicFramePr>
        <p:xfrm>
          <a:off x="2505240" y="5329080"/>
          <a:ext cx="12268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5240" y="5329080"/>
                    <a:ext cx="12268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0" name=""/>
          <p:cNvGraphicFramePr/>
          <p:nvPr/>
        </p:nvGraphicFramePr>
        <p:xfrm>
          <a:off x="3241800" y="6004080"/>
          <a:ext cx="593640" cy="32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1800" y="6004080"/>
                    <a:ext cx="593640" cy="32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2" name=""/>
          <p:cNvGraphicFramePr/>
          <p:nvPr/>
        </p:nvGraphicFramePr>
        <p:xfrm>
          <a:off x="2233440" y="6058080"/>
          <a:ext cx="243000" cy="26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33440" y="6058080"/>
                    <a:ext cx="24300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4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>
            <a:hlinkClick r:id="rId12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"/>
          <p:cNvSpPr/>
          <p:nvPr/>
        </p:nvSpPr>
        <p:spPr>
          <a:xfrm>
            <a:off x="2908440" y="3152880"/>
            <a:ext cx="63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е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М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—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роекція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моменту сили тяжіння на вісь оберта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95160" y="3701880"/>
            <a:ext cx="82537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У положенні, зображеному на рисунку, момент сили тяжіння (                      ) намагається  повернути тіло за годинниковою стрілкою, а кут </a:t>
            </a:r>
            <a:r>
              <a:rPr b="0" i="1" lang="el-GR" sz="2000" spc="-1" strike="noStrike">
                <a:solidFill>
                  <a:srgbClr val="0000cc"/>
                </a:solidFill>
                <a:latin typeface="Times New Roman"/>
              </a:rPr>
              <a:t>φ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збільшується під час повороту проти годинникової стрілки, тому                             (зверніть увагу на знак “мінус”!). Нагадаємо, що запис               означає векторний добуток вектора     на вектор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408400" y="345960"/>
            <a:ext cx="414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-701280" y="-781200"/>
            <a:ext cx="3681720" cy="4632480"/>
            <a:chOff x="-701280" y="-781200"/>
            <a:chExt cx="3681720" cy="4632480"/>
          </a:xfrm>
        </p:grpSpPr>
        <p:pic>
          <p:nvPicPr>
            <p:cNvPr id="1890" name="" descr=""/>
            <p:cNvPicPr/>
            <p:nvPr/>
          </p:nvPicPr>
          <p:blipFill>
            <a:blip r:embed="rId1"/>
            <a:stretch/>
          </p:blipFill>
          <p:spPr>
            <a:xfrm rot="19734000">
              <a:off x="855720" y="1010880"/>
              <a:ext cx="1492200" cy="264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1" name=""/>
            <p:cNvGrpSpPr/>
            <p:nvPr/>
          </p:nvGrpSpPr>
          <p:grpSpPr>
            <a:xfrm>
              <a:off x="-701280" y="-781200"/>
              <a:ext cx="3681720" cy="4399200"/>
              <a:chOff x="-701280" y="-781200"/>
              <a:chExt cx="3681720" cy="4399200"/>
            </a:xfrm>
          </p:grpSpPr>
          <p:sp>
            <p:nvSpPr>
              <p:cNvPr id="1892" name=""/>
              <p:cNvSpPr/>
              <p:nvPr/>
            </p:nvSpPr>
            <p:spPr>
              <a:xfrm>
                <a:off x="1363680" y="998640"/>
                <a:ext cx="0" cy="244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371600" y="1563840"/>
                <a:ext cx="398520" cy="9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44600" y="1528920"/>
                <a:ext cx="36720" cy="4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749600" y="2436840"/>
                <a:ext cx="3636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V="1" rot="3128400">
                <a:off x="-389880" y="-15120"/>
                <a:ext cx="3059280" cy="228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192" y="4002"/>
                    </a:moveTo>
                    <a:arcTo wR="10800" hR="10800" stAng="-2340611" swAng="17214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192" y="4002"/>
                    </a:moveTo>
                    <a:arcTo wR="10800" hR="10800" stAng="-2340611" swAng="17214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7" name=""/>
              <p:cNvGrpSpPr/>
              <p:nvPr/>
            </p:nvGrpSpPr>
            <p:grpSpPr>
              <a:xfrm>
                <a:off x="1357560" y="1812960"/>
                <a:ext cx="183600" cy="326520"/>
                <a:chOff x="1357560" y="1812960"/>
                <a:chExt cx="183600" cy="326520"/>
              </a:xfrm>
            </p:grpSpPr>
            <p:sp>
              <p:nvSpPr>
                <p:cNvPr id="1898" name=""/>
                <p:cNvSpPr/>
                <p:nvPr/>
              </p:nvSpPr>
              <p:spPr>
                <a:xfrm>
                  <a:off x="1357560" y="1812960"/>
                  <a:ext cx="130320" cy="7920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99" name=""/>
                <p:cNvGraphicFramePr/>
                <p:nvPr/>
              </p:nvGraphicFramePr>
              <p:xfrm>
                <a:off x="1360080" y="1904040"/>
                <a:ext cx="181080" cy="23544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900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360080" y="1904040"/>
                          <a:ext cx="181080" cy="235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901" name=""/>
              <p:cNvSpPr/>
              <p:nvPr/>
            </p:nvSpPr>
            <p:spPr>
              <a:xfrm>
                <a:off x="1784520" y="2496960"/>
                <a:ext cx="0" cy="1054440"/>
              </a:xfrm>
              <a:prstGeom prst="line">
                <a:avLst/>
              </a:prstGeom>
              <a:ln w="47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787760" y="2484360"/>
                <a:ext cx="31752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3" name=""/>
              <p:cNvGrpSpPr/>
              <p:nvPr/>
            </p:nvGrpSpPr>
            <p:grpSpPr>
              <a:xfrm>
                <a:off x="1790640" y="2703600"/>
                <a:ext cx="183960" cy="326520"/>
                <a:chOff x="1790640" y="2703600"/>
                <a:chExt cx="183960" cy="326520"/>
              </a:xfrm>
            </p:grpSpPr>
            <p:sp>
              <p:nvSpPr>
                <p:cNvPr id="1904" name=""/>
                <p:cNvSpPr/>
                <p:nvPr/>
              </p:nvSpPr>
              <p:spPr>
                <a:xfrm>
                  <a:off x="1790640" y="2703600"/>
                  <a:ext cx="130320" cy="7920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905" name=""/>
                <p:cNvGraphicFramePr/>
                <p:nvPr/>
              </p:nvGraphicFramePr>
              <p:xfrm>
                <a:off x="1793160" y="2794680"/>
                <a:ext cx="181440" cy="23544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1906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1793160" y="2794680"/>
                          <a:ext cx="181440" cy="235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mc:AlternateContent>
            <mc:Choice xmlns:a14="http://schemas.microsoft.com/office/drawing/2010/main" Requires="a14">
              <p:sp>
                <p:nvSpPr>
                  <p:cNvPr id="1907" name=""/>
                  <p:cNvSpPr txBox="1"/>
                  <p:nvPr/>
                </p:nvSpPr>
                <p:spPr>
                  <a:xfrm>
                    <a:off x="1800360" y="3279600"/>
                    <a:ext cx="431640" cy="338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graphicFrame>
            <p:nvGraphicFramePr>
              <p:cNvPr id="1908" name=""/>
              <p:cNvGraphicFramePr/>
              <p:nvPr/>
            </p:nvGraphicFramePr>
            <p:xfrm>
              <a:off x="1670040" y="1849320"/>
              <a:ext cx="965160" cy="3524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90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670040" y="1849320"/>
                        <a:ext cx="965160" cy="35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910" name=""/>
          <p:cNvSpPr/>
          <p:nvPr/>
        </p:nvSpPr>
        <p:spPr>
          <a:xfrm>
            <a:off x="2936880" y="2238480"/>
            <a:ext cx="636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У даному випадку основне рівняння динаміки обертального руху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1" name=""/>
          <p:cNvGraphicFramePr/>
          <p:nvPr/>
        </p:nvGraphicFramePr>
        <p:xfrm>
          <a:off x="4419720" y="1469880"/>
          <a:ext cx="690480" cy="373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1469880"/>
                    <a:ext cx="69048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3" name=""/>
          <p:cNvSpPr/>
          <p:nvPr/>
        </p:nvSpPr>
        <p:spPr>
          <a:xfrm>
            <a:off x="2452680" y="949320"/>
            <a:ext cx="6184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сновне рівняння динаміки обертального руху у проекціях на вісь обертанн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027760" y="1411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4764240" y="2808360"/>
                <a:ext cx="1041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16" name=""/>
          <p:cNvGraphicFramePr/>
          <p:nvPr/>
        </p:nvGraphicFramePr>
        <p:xfrm>
          <a:off x="1566720" y="5129280"/>
          <a:ext cx="227160" cy="260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66720" y="5129280"/>
                    <a:ext cx="227160" cy="2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-495360" y="33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0" name=""/>
          <p:cNvGraphicFramePr/>
          <p:nvPr/>
        </p:nvGraphicFramePr>
        <p:xfrm>
          <a:off x="7083360" y="3710160"/>
          <a:ext cx="1347840" cy="455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2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3360" y="3710160"/>
                    <a:ext cx="134784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4" name=""/>
          <p:cNvGraphicFramePr/>
          <p:nvPr/>
        </p:nvGraphicFramePr>
        <p:xfrm>
          <a:off x="5524560" y="4468680"/>
          <a:ext cx="1641240" cy="346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2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24560" y="4468680"/>
                    <a:ext cx="164124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6" name=""/>
          <p:cNvSpPr/>
          <p:nvPr/>
        </p:nvSpPr>
        <p:spPr>
          <a:xfrm>
            <a:off x="739800" y="5479920"/>
            <a:ext cx="833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 остаточний вигляд основного рівняння обертального руху для нашого випадку так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7" name=""/>
          <p:cNvGraphicFramePr/>
          <p:nvPr/>
        </p:nvGraphicFramePr>
        <p:xfrm>
          <a:off x="3622680" y="5923080"/>
          <a:ext cx="1866960" cy="420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2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622680" y="5923080"/>
                    <a:ext cx="186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9" name=""/>
          <p:cNvSpPr/>
          <p:nvPr/>
        </p:nvSpPr>
        <p:spPr>
          <a:xfrm>
            <a:off x="5072040" y="1430280"/>
            <a:ext cx="344520" cy="393840"/>
          </a:xfrm>
          <a:custGeom>
            <a:avLst/>
            <a:gdLst>
              <a:gd name="textAreaLeft" fmla="*/ 22320 w 344520"/>
              <a:gd name="textAreaRight" fmla="*/ 322200 w 344520"/>
              <a:gd name="textAreaTop" fmla="*/ 22320 h 393840"/>
              <a:gd name="textAreaBottom" fmla="*/ 371520 h 393840"/>
            </a:gdLst>
            <a:ahLst/>
            <a:rect l="textAreaLeft" t="textAreaTop" r="textAreaRight" b="textAreaBottom"/>
            <a:pathLst>
              <a:path w="21600" h="24689">
                <a:moveTo>
                  <a:pt x="0" y="0"/>
                </a:moveTo>
                <a:lnTo>
                  <a:pt x="21600" y="0"/>
                </a:lnTo>
                <a:lnTo>
                  <a:pt x="21600" y="24689"/>
                </a:lnTo>
                <a:lnTo>
                  <a:pt x="0" y="24689"/>
                </a:lnTo>
                <a:close/>
              </a:path>
              <a:path fill="lightenLess" w="21600" h="246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9">
                <a:moveTo>
                  <a:pt x="21600" y="0"/>
                </a:moveTo>
                <a:lnTo>
                  <a:pt x="21600" y="24689"/>
                </a:lnTo>
                <a:lnTo>
                  <a:pt x="20200" y="23289"/>
                </a:lnTo>
                <a:lnTo>
                  <a:pt x="20200" y="1400"/>
                </a:lnTo>
                <a:close/>
              </a:path>
              <a:path fill="darkenLess" w="21600" h="24689">
                <a:moveTo>
                  <a:pt x="21600" y="24689"/>
                </a:moveTo>
                <a:lnTo>
                  <a:pt x="0" y="24689"/>
                </a:lnTo>
                <a:lnTo>
                  <a:pt x="1400" y="23289"/>
                </a:lnTo>
                <a:lnTo>
                  <a:pt x="20200" y="23289"/>
                </a:lnTo>
                <a:close/>
              </a:path>
              <a:path fill="lighten" w="21600" h="24689">
                <a:moveTo>
                  <a:pt x="0" y="246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9"/>
                </a:lnTo>
                <a:close/>
              </a:path>
              <a:path fill="darken" w="21600" h="24689">
                <a:moveTo>
                  <a:pt x="10800" y="1634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689">
                <a:moveTo>
                  <a:pt x="11905" y="15826"/>
                </a:moveTo>
                <a:lnTo>
                  <a:pt x="11905" y="13868"/>
                </a:lnTo>
                <a:cubicBezTo>
                  <a:pt x="11905" y="13041"/>
                  <a:pt x="12236" y="12344"/>
                  <a:pt x="12837" y="12344"/>
                </a:cubicBezTo>
                <a:cubicBezTo>
                  <a:pt x="13968" y="12344"/>
                  <a:pt x="14865" y="10978"/>
                  <a:pt x="14865" y="9394"/>
                </a:cubicBezTo>
                <a:cubicBezTo>
                  <a:pt x="14865" y="7079"/>
                  <a:pt x="13011" y="5338"/>
                  <a:pt x="10800" y="5338"/>
                </a:cubicBezTo>
                <a:cubicBezTo>
                  <a:pt x="8589" y="5338"/>
                  <a:pt x="6918" y="7079"/>
                  <a:pt x="6918" y="9394"/>
                </a:cubicBezTo>
                <a:lnTo>
                  <a:pt x="8772" y="9394"/>
                </a:lnTo>
                <a:cubicBezTo>
                  <a:pt x="8772" y="8254"/>
                  <a:pt x="9695" y="7366"/>
                  <a:pt x="10800" y="7366"/>
                </a:cubicBezTo>
                <a:cubicBezTo>
                  <a:pt x="11905" y="7366"/>
                  <a:pt x="12837" y="8254"/>
                  <a:pt x="12837" y="9394"/>
                </a:cubicBezTo>
                <a:cubicBezTo>
                  <a:pt x="12837" y="10134"/>
                  <a:pt x="12367" y="10865"/>
                  <a:pt x="11905" y="10865"/>
                </a:cubicBezTo>
                <a:cubicBezTo>
                  <a:pt x="10800" y="10865"/>
                  <a:pt x="9695" y="12344"/>
                  <a:pt x="9695" y="13868"/>
                </a:cubicBezTo>
                <a:lnTo>
                  <a:pt x="9695" y="1582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4164120" y="5924520"/>
            <a:ext cx="120636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430200" y="2833560"/>
            <a:ext cx="42840" cy="35607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231840" y="230652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3" name=""/>
          <p:cNvGraphicFramePr/>
          <p:nvPr/>
        </p:nvGraphicFramePr>
        <p:xfrm>
          <a:off x="4618080" y="4751280"/>
          <a:ext cx="765000" cy="412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93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618080" y="4751280"/>
                    <a:ext cx="7650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5" name=""/>
          <p:cNvGraphicFramePr/>
          <p:nvPr/>
        </p:nvGraphicFramePr>
        <p:xfrm>
          <a:off x="2774880" y="5129280"/>
          <a:ext cx="460440" cy="326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93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74880" y="5129280"/>
                    <a:ext cx="4604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7" name="Управляющая кнопка: домой 85">
            <a:hlinkClick r:id="rId2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>
            <a:hlinkClick r:id="rId23" action="ppaction://hlinksldjump"/>
          </p:cNvPr>
          <p:cNvSpPr/>
          <p:nvPr/>
        </p:nvSpPr>
        <p:spPr>
          <a:xfrm>
            <a:off x="815328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595440" y="3424320"/>
            <a:ext cx="161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мент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інерції тіла відносно осі обер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2179800" y="46656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4927680" y="2120760"/>
            <a:ext cx="363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ий вигляд матиме диференціальне рівняння у випадку малих коливан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934920" y="4470480"/>
            <a:ext cx="43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У випадку малих коливань, тобто коли</a:t>
            </a:r>
            <a:r>
              <a:rPr b="1" lang="uk-UA" sz="1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5079960" y="4510080"/>
                <a:ext cx="6955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5540400" y="4452840"/>
            <a:ext cx="26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функцію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ож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769080" y="4478400"/>
                <a:ext cx="5684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48" name=""/>
          <p:cNvGraphicFramePr/>
          <p:nvPr/>
        </p:nvGraphicFramePr>
        <p:xfrm>
          <a:off x="2106720" y="4848120"/>
          <a:ext cx="3204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4848120"/>
                    <a:ext cx="320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1" name=""/>
          <p:cNvGraphicFramePr/>
          <p:nvPr/>
        </p:nvGraphicFramePr>
        <p:xfrm>
          <a:off x="3529080" y="5029200"/>
          <a:ext cx="103356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9080" y="5029200"/>
                    <a:ext cx="103356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3" name=""/>
          <p:cNvSpPr/>
          <p:nvPr/>
        </p:nvSpPr>
        <p:spPr>
          <a:xfrm>
            <a:off x="2556000" y="5600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5" name=""/>
          <p:cNvGraphicFramePr/>
          <p:nvPr/>
        </p:nvGraphicFramePr>
        <p:xfrm>
          <a:off x="3643200" y="5580000"/>
          <a:ext cx="1495440" cy="3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3200" y="5580000"/>
                    <a:ext cx="1495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8" name=""/>
          <p:cNvGraphicFramePr/>
          <p:nvPr/>
        </p:nvGraphicFramePr>
        <p:xfrm>
          <a:off x="5808600" y="1547640"/>
          <a:ext cx="1839960" cy="3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08600" y="1547640"/>
                    <a:ext cx="183996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0" name="" descr=""/>
          <p:cNvPicPr/>
          <p:nvPr/>
        </p:nvPicPr>
        <p:blipFill>
          <a:blip r:embed="rId9"/>
          <a:stretch/>
        </p:blipFill>
        <p:spPr>
          <a:xfrm rot="18949200">
            <a:off x="1579320" y="974880"/>
            <a:ext cx="2116080" cy="3257280"/>
          </a:xfrm>
          <a:prstGeom prst="rect">
            <a:avLst/>
          </a:prstGeom>
          <a:ln w="0">
            <a:noFill/>
          </a:ln>
        </p:spPr>
      </p:pic>
      <p:sp>
        <p:nvSpPr>
          <p:cNvPr id="1961" name=""/>
          <p:cNvSpPr/>
          <p:nvPr/>
        </p:nvSpPr>
        <p:spPr>
          <a:xfrm>
            <a:off x="3711600" y="2921040"/>
            <a:ext cx="14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центр м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19080" y="1252440"/>
            <a:ext cx="180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обертання (перпендикулярна площині рису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3255840" y="1208160"/>
            <a:ext cx="287280" cy="409680"/>
            <a:chOff x="3255840" y="1208160"/>
            <a:chExt cx="287280" cy="409680"/>
          </a:xfrm>
        </p:grpSpPr>
        <p:sp>
          <p:nvSpPr>
            <p:cNvPr id="1964" name=""/>
            <p:cNvSpPr/>
            <p:nvPr/>
          </p:nvSpPr>
          <p:spPr>
            <a:xfrm>
              <a:off x="3255840" y="120816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5" name=""/>
            <p:cNvGraphicFramePr/>
            <p:nvPr/>
          </p:nvGraphicFramePr>
          <p:xfrm>
            <a:off x="3281400" y="1229040"/>
            <a:ext cx="261720" cy="374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96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281400" y="1229040"/>
                      <a:ext cx="26172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7" name=""/>
          <p:cNvSpPr/>
          <p:nvPr/>
        </p:nvSpPr>
        <p:spPr>
          <a:xfrm>
            <a:off x="2274840" y="1170000"/>
            <a:ext cx="0" cy="26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2284560" y="1779480"/>
            <a:ext cx="49500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251080" y="174132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754360" y="272088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V="1" rot="3128400">
            <a:off x="422640" y="-145440"/>
            <a:ext cx="3297240" cy="283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92" y="4002"/>
                </a:moveTo>
                <a:arcTo wR="10800" hR="10800" stAng="-2340611" swAng="1721451"/>
                <a:lnTo>
                  <a:pt x="10800" y="10800"/>
                </a:lnTo>
                <a:close/>
              </a:path>
              <a:path fill="none" w="21600" h="21600">
                <a:moveTo>
                  <a:pt x="19192" y="4002"/>
                </a:moveTo>
                <a:arcTo wR="10800" hR="10800" stAng="-2340611" swAng="1721451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2266920" y="2048040"/>
            <a:ext cx="228600" cy="352440"/>
            <a:chOff x="2266920" y="2048040"/>
            <a:chExt cx="228600" cy="352440"/>
          </a:xfrm>
        </p:grpSpPr>
        <p:sp>
          <p:nvSpPr>
            <p:cNvPr id="1973" name=""/>
            <p:cNvSpPr/>
            <p:nvPr/>
          </p:nvSpPr>
          <p:spPr>
            <a:xfrm>
              <a:off x="2266920" y="2048040"/>
              <a:ext cx="16200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74" name=""/>
            <p:cNvGraphicFramePr/>
            <p:nvPr/>
          </p:nvGraphicFramePr>
          <p:xfrm>
            <a:off x="2270160" y="2146320"/>
            <a:ext cx="225360" cy="254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97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70160" y="2146320"/>
                      <a:ext cx="225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6" name=""/>
          <p:cNvSpPr/>
          <p:nvPr/>
        </p:nvSpPr>
        <p:spPr>
          <a:xfrm>
            <a:off x="1628640" y="1419120"/>
            <a:ext cx="6289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7" name=""/>
          <p:cNvGraphicFramePr/>
          <p:nvPr/>
        </p:nvGraphicFramePr>
        <p:xfrm>
          <a:off x="2519280" y="2085840"/>
          <a:ext cx="239760" cy="238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7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19280" y="2085840"/>
                    <a:ext cx="23976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9" name=""/>
          <p:cNvSpPr/>
          <p:nvPr/>
        </p:nvSpPr>
        <p:spPr>
          <a:xfrm>
            <a:off x="1974960" y="354168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H="1" flipV="1">
            <a:off x="2781360" y="2752560"/>
            <a:ext cx="10000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1" name=""/>
          <p:cNvGraphicFramePr/>
          <p:nvPr/>
        </p:nvGraphicFramePr>
        <p:xfrm>
          <a:off x="2684520" y="3024360"/>
          <a:ext cx="561960" cy="393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8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684520" y="3024360"/>
                    <a:ext cx="5619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3" name=""/>
          <p:cNvSpPr/>
          <p:nvPr/>
        </p:nvSpPr>
        <p:spPr>
          <a:xfrm>
            <a:off x="2666880" y="3038400"/>
            <a:ext cx="200160" cy="3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H="1">
            <a:off x="2009520" y="3238560"/>
            <a:ext cx="65700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630600" y="5575320"/>
            <a:ext cx="139392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561960" y="4962600"/>
            <a:ext cx="42840" cy="11221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82680" y="444024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689040" y="47800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мінити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4875120" y="2259000"/>
            <a:ext cx="452520" cy="492120"/>
          </a:xfrm>
          <a:custGeom>
            <a:avLst/>
            <a:gdLst>
              <a:gd name="textAreaLeft" fmla="*/ 29160 w 452520"/>
              <a:gd name="textAreaRight" fmla="*/ 423360 w 452520"/>
              <a:gd name="textAreaTop" fmla="*/ 29160 h 492120"/>
              <a:gd name="textAreaBottom" fmla="*/ 462960 h 492120"/>
            </a:gdLst>
            <a:ahLst/>
            <a:rect l="textAreaLeft" t="textAreaTop" r="textAreaRight" b="textAreaBottom"/>
            <a:pathLst>
              <a:path w="21600" h="23489">
                <a:moveTo>
                  <a:pt x="0" y="0"/>
                </a:moveTo>
                <a:lnTo>
                  <a:pt x="21600" y="0"/>
                </a:lnTo>
                <a:lnTo>
                  <a:pt x="21600" y="23489"/>
                </a:lnTo>
                <a:lnTo>
                  <a:pt x="0" y="23489"/>
                </a:lnTo>
                <a:close/>
              </a:path>
              <a:path fill="lightenLess" w="21600" h="234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89">
                <a:moveTo>
                  <a:pt x="21600" y="0"/>
                </a:moveTo>
                <a:lnTo>
                  <a:pt x="21600" y="23489"/>
                </a:lnTo>
                <a:lnTo>
                  <a:pt x="20200" y="22089"/>
                </a:lnTo>
                <a:lnTo>
                  <a:pt x="20200" y="1400"/>
                </a:lnTo>
                <a:close/>
              </a:path>
              <a:path fill="darkenLess" w="21600" h="23489">
                <a:moveTo>
                  <a:pt x="21600" y="23489"/>
                </a:moveTo>
                <a:lnTo>
                  <a:pt x="0" y="23489"/>
                </a:lnTo>
                <a:lnTo>
                  <a:pt x="1400" y="22089"/>
                </a:lnTo>
                <a:lnTo>
                  <a:pt x="20200" y="22089"/>
                </a:lnTo>
                <a:close/>
              </a:path>
              <a:path fill="lighten" w="21600" h="23489">
                <a:moveTo>
                  <a:pt x="0" y="234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89"/>
                </a:lnTo>
                <a:close/>
              </a:path>
              <a:path fill="darken" w="21600" h="23489">
                <a:moveTo>
                  <a:pt x="10800" y="1574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489">
                <a:moveTo>
                  <a:pt x="11905" y="15226"/>
                </a:moveTo>
                <a:lnTo>
                  <a:pt x="11905" y="13268"/>
                </a:lnTo>
                <a:cubicBezTo>
                  <a:pt x="11905" y="12441"/>
                  <a:pt x="12236" y="11744"/>
                  <a:pt x="12837" y="11744"/>
                </a:cubicBezTo>
                <a:cubicBezTo>
                  <a:pt x="13968" y="11744"/>
                  <a:pt x="14865" y="10378"/>
                  <a:pt x="14865" y="8794"/>
                </a:cubicBezTo>
                <a:cubicBezTo>
                  <a:pt x="14865" y="6479"/>
                  <a:pt x="13011" y="4738"/>
                  <a:pt x="10800" y="4738"/>
                </a:cubicBezTo>
                <a:cubicBezTo>
                  <a:pt x="8589" y="4738"/>
                  <a:pt x="6918" y="6479"/>
                  <a:pt x="6918" y="8794"/>
                </a:cubicBezTo>
                <a:lnTo>
                  <a:pt x="8772" y="8794"/>
                </a:lnTo>
                <a:cubicBezTo>
                  <a:pt x="8772" y="7654"/>
                  <a:pt x="9695" y="6766"/>
                  <a:pt x="10800" y="6766"/>
                </a:cubicBezTo>
                <a:cubicBezTo>
                  <a:pt x="11905" y="6766"/>
                  <a:pt x="12837" y="7654"/>
                  <a:pt x="12837" y="8794"/>
                </a:cubicBezTo>
                <a:cubicBezTo>
                  <a:pt x="12837" y="9534"/>
                  <a:pt x="12367" y="10265"/>
                  <a:pt x="11905" y="10265"/>
                </a:cubicBezTo>
                <a:cubicBezTo>
                  <a:pt x="10800" y="10265"/>
                  <a:pt x="9695" y="11744"/>
                  <a:pt x="9695" y="13268"/>
                </a:cubicBezTo>
                <a:lnTo>
                  <a:pt x="9695" y="1522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Управляющая кнопка: домой 85">
            <a:hlinkClick r:id="rId1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>
            <a:hlinkClick r:id="rId19" action="ppaction://hlinksldjump"/>
          </p:cNvPr>
          <p:cNvSpPr/>
          <p:nvPr/>
        </p:nvSpPr>
        <p:spPr>
          <a:xfrm>
            <a:off x="815328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/>
          <p:nvPr/>
        </p:nvSpPr>
        <p:spPr>
          <a:xfrm>
            <a:off x="480960" y="4916520"/>
            <a:ext cx="865836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uk-UA" sz="1600" spc="-1" strike="noStrike">
                <a:solidFill>
                  <a:srgbClr val="0000cc"/>
                </a:solidFill>
                <a:latin typeface="Comic Sans MS"/>
              </a:rPr>
              <a:t>Зауваження.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Математичний маятник — окремий випадок фізичного. Можна перевірити, що після відповідних підстановок (                      ) формула для циклічної частоти (                     ) набуває знайомого вигля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256120" y="45396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184480" y="946080"/>
            <a:ext cx="44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иференціальне рівняння у випадку малих коливань має такий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6" name=""/>
          <p:cNvGraphicFramePr/>
          <p:nvPr/>
        </p:nvGraphicFramePr>
        <p:xfrm>
          <a:off x="2905200" y="1660680"/>
          <a:ext cx="188604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0" y="1660680"/>
                    <a:ext cx="18860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8" name=""/>
          <p:cNvSpPr/>
          <p:nvPr/>
        </p:nvSpPr>
        <p:spPr>
          <a:xfrm>
            <a:off x="603360" y="2216160"/>
            <a:ext cx="700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иференціальне рівняння                          можна подати у вигляд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9" name=""/>
          <p:cNvGraphicFramePr/>
          <p:nvPr/>
        </p:nvGraphicFramePr>
        <p:xfrm>
          <a:off x="3305160" y="2230560"/>
          <a:ext cx="1352520" cy="3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5160" y="2230560"/>
                    <a:ext cx="135252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1" name=""/>
          <p:cNvSpPr/>
          <p:nvPr/>
        </p:nvSpPr>
        <p:spPr>
          <a:xfrm>
            <a:off x="1397160" y="3984480"/>
            <a:ext cx="8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2" name=""/>
          <p:cNvGraphicFramePr/>
          <p:nvPr/>
        </p:nvGraphicFramePr>
        <p:xfrm>
          <a:off x="2759040" y="2647800"/>
          <a:ext cx="140328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9040" y="2647800"/>
                    <a:ext cx="14032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4" name=""/>
          <p:cNvSpPr/>
          <p:nvPr/>
        </p:nvSpPr>
        <p:spPr>
          <a:xfrm>
            <a:off x="590400" y="3184560"/>
            <a:ext cx="820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 з таким рівнянням ми вже зустрічалися, розглядаючи математичний маят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5" name=""/>
          <p:cNvGraphicFramePr/>
          <p:nvPr/>
        </p:nvGraphicFramePr>
        <p:xfrm>
          <a:off x="2147760" y="3703680"/>
          <a:ext cx="3202200" cy="88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7760" y="3703680"/>
                    <a:ext cx="32022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7" name=""/>
          <p:cNvSpPr/>
          <p:nvPr/>
        </p:nvSpPr>
        <p:spPr>
          <a:xfrm>
            <a:off x="5356080" y="3962520"/>
            <a:ext cx="367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е      — початкова фаза коливань, а      — амплітуда (максимальний кут відхилення від вертикалі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8" name=""/>
              <p:cNvSpPr txBox="1"/>
              <p:nvPr/>
            </p:nvSpPr>
            <p:spPr>
              <a:xfrm>
                <a:off x="5800680" y="4043520"/>
                <a:ext cx="228600" cy="21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0" name=""/>
          <p:cNvGraphicFramePr/>
          <p:nvPr/>
        </p:nvGraphicFramePr>
        <p:xfrm>
          <a:off x="4788000" y="1635120"/>
          <a:ext cx="84780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8000" y="1635120"/>
                    <a:ext cx="8478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2" name=""/>
          <p:cNvSpPr/>
          <p:nvPr/>
        </p:nvSpPr>
        <p:spPr>
          <a:xfrm>
            <a:off x="5634000" y="1627200"/>
            <a:ext cx="420840" cy="44136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41360"/>
              <a:gd name="textAreaBottom" fmla="*/ 414360 h 441360"/>
            </a:gdLst>
            <a:ahLst/>
            <a:rect l="textAreaLeft" t="textAreaTop" r="textAreaRight" b="textAreaBottom"/>
            <a:pathLst>
              <a:path w="21600" h="22652">
                <a:moveTo>
                  <a:pt x="0" y="0"/>
                </a:moveTo>
                <a:lnTo>
                  <a:pt x="21600" y="0"/>
                </a:lnTo>
                <a:lnTo>
                  <a:pt x="21600" y="22652"/>
                </a:lnTo>
                <a:lnTo>
                  <a:pt x="0" y="22652"/>
                </a:lnTo>
                <a:close/>
              </a:path>
              <a:path fill="lightenLess" w="21600" h="226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52">
                <a:moveTo>
                  <a:pt x="21600" y="0"/>
                </a:moveTo>
                <a:lnTo>
                  <a:pt x="21600" y="22652"/>
                </a:lnTo>
                <a:lnTo>
                  <a:pt x="20200" y="21252"/>
                </a:lnTo>
                <a:lnTo>
                  <a:pt x="20200" y="1400"/>
                </a:lnTo>
                <a:close/>
              </a:path>
              <a:path fill="darkenLess" w="21600" h="22652">
                <a:moveTo>
                  <a:pt x="21600" y="22652"/>
                </a:moveTo>
                <a:lnTo>
                  <a:pt x="0" y="22652"/>
                </a:lnTo>
                <a:lnTo>
                  <a:pt x="1400" y="21252"/>
                </a:lnTo>
                <a:lnTo>
                  <a:pt x="20200" y="21252"/>
                </a:lnTo>
                <a:close/>
              </a:path>
              <a:path fill="lighten" w="21600" h="22652">
                <a:moveTo>
                  <a:pt x="0" y="226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52"/>
                </a:lnTo>
                <a:close/>
              </a:path>
              <a:path fill="darken" w="21600" h="22652">
                <a:moveTo>
                  <a:pt x="10800" y="1533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52">
                <a:moveTo>
                  <a:pt x="11905" y="14808"/>
                </a:moveTo>
                <a:lnTo>
                  <a:pt x="11905" y="12849"/>
                </a:lnTo>
                <a:cubicBezTo>
                  <a:pt x="11905" y="12022"/>
                  <a:pt x="12236" y="11326"/>
                  <a:pt x="12837" y="11326"/>
                </a:cubicBezTo>
                <a:cubicBezTo>
                  <a:pt x="13968" y="11326"/>
                  <a:pt x="14865" y="9960"/>
                  <a:pt x="14865" y="8376"/>
                </a:cubicBezTo>
                <a:cubicBezTo>
                  <a:pt x="14865" y="6060"/>
                  <a:pt x="13011" y="4320"/>
                  <a:pt x="10800" y="4320"/>
                </a:cubicBezTo>
                <a:cubicBezTo>
                  <a:pt x="8589" y="4320"/>
                  <a:pt x="6918" y="6060"/>
                  <a:pt x="6918" y="8376"/>
                </a:cubicBezTo>
                <a:lnTo>
                  <a:pt x="8772" y="8376"/>
                </a:lnTo>
                <a:cubicBezTo>
                  <a:pt x="8772" y="7235"/>
                  <a:pt x="9695" y="6348"/>
                  <a:pt x="10800" y="6348"/>
                </a:cubicBezTo>
                <a:cubicBezTo>
                  <a:pt x="11905" y="6348"/>
                  <a:pt x="12837" y="7235"/>
                  <a:pt x="12837" y="8376"/>
                </a:cubicBezTo>
                <a:cubicBezTo>
                  <a:pt x="12837" y="9115"/>
                  <a:pt x="12367" y="9847"/>
                  <a:pt x="11905" y="9847"/>
                </a:cubicBezTo>
                <a:cubicBezTo>
                  <a:pt x="10800" y="9847"/>
                  <a:pt x="9695" y="11326"/>
                  <a:pt x="9695" y="12849"/>
                </a:cubicBezTo>
                <a:lnTo>
                  <a:pt x="9695" y="148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125960" y="2647800"/>
            <a:ext cx="4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5" name=""/>
          <p:cNvGraphicFramePr/>
          <p:nvPr/>
        </p:nvGraphicFramePr>
        <p:xfrm>
          <a:off x="4494240" y="2438280"/>
          <a:ext cx="1227240" cy="74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4240" y="2438280"/>
                    <a:ext cx="1227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8" name=""/>
          <p:cNvGraphicFramePr/>
          <p:nvPr/>
        </p:nvGraphicFramePr>
        <p:xfrm>
          <a:off x="5600880" y="4210200"/>
          <a:ext cx="314280" cy="358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00880" y="4210200"/>
                    <a:ext cx="3142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1" name=""/>
          <p:cNvGraphicFramePr/>
          <p:nvPr/>
        </p:nvGraphicFramePr>
        <p:xfrm>
          <a:off x="5238720" y="5253120"/>
          <a:ext cx="1371600" cy="411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2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38720" y="5253120"/>
                    <a:ext cx="13716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4" name=""/>
          <p:cNvGraphicFramePr/>
          <p:nvPr/>
        </p:nvGraphicFramePr>
        <p:xfrm>
          <a:off x="1415880" y="5584680"/>
          <a:ext cx="1287720" cy="40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15880" y="5584680"/>
                    <a:ext cx="12877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7" name=""/>
          <p:cNvGraphicFramePr/>
          <p:nvPr/>
        </p:nvGraphicFramePr>
        <p:xfrm>
          <a:off x="5581800" y="5576760"/>
          <a:ext cx="1038240" cy="41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2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81800" y="5576760"/>
                    <a:ext cx="103824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9" name=""/>
          <p:cNvSpPr/>
          <p:nvPr/>
        </p:nvSpPr>
        <p:spPr>
          <a:xfrm>
            <a:off x="2905200" y="3646440"/>
            <a:ext cx="2286000" cy="946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97000" y="2638440"/>
            <a:ext cx="42840" cy="34527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117360" y="2116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Управляющая кнопка: домой 85">
            <a:hlinkClick r:id="rId2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>
            <a:hlinkClick r:id="rId22" action="ppaction://hlinksldjump"/>
          </p:cNvPr>
          <p:cNvSpPr/>
          <p:nvPr/>
        </p:nvSpPr>
        <p:spPr>
          <a:xfrm>
            <a:off x="815328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77800" y="5060880"/>
            <a:ext cx="817884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uk-UA" sz="1600" spc="-1" strike="noStrike">
                <a:solidFill>
                  <a:srgbClr val="0000cc"/>
                </a:solidFill>
                <a:latin typeface="Comic Sans MS"/>
              </a:rPr>
              <a:t>Зауваження.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Ні період, ні частота коливань фізичного маятника не залежать від його маси, не дивлячись на те, що вона формально входить до відповідних формул. Треба звернути увагу на те, що до формул входить частка        , яка залежить від просторового розподілу речовини, але не від значення мас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8" name=""/>
          <p:cNvGraphicFramePr/>
          <p:nvPr/>
        </p:nvGraphicFramePr>
        <p:xfrm>
          <a:off x="7265880" y="5715000"/>
          <a:ext cx="46512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5880" y="5715000"/>
                    <a:ext cx="46512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0" name=""/>
          <p:cNvGraphicFramePr/>
          <p:nvPr/>
        </p:nvGraphicFramePr>
        <p:xfrm>
          <a:off x="4475160" y="3943440"/>
          <a:ext cx="153972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5160" y="3943440"/>
                    <a:ext cx="1539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2" name=""/>
          <p:cNvSpPr/>
          <p:nvPr/>
        </p:nvSpPr>
        <p:spPr>
          <a:xfrm>
            <a:off x="4030560" y="1446120"/>
            <a:ext cx="42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іод малих коливань фізичного мая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4857840" y="19875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,m,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4" name="" descr=""/>
          <p:cNvPicPr/>
          <p:nvPr/>
        </p:nvPicPr>
        <p:blipFill>
          <a:blip r:embed="rId5"/>
          <a:stretch/>
        </p:blipFill>
        <p:spPr>
          <a:xfrm rot="18949200">
            <a:off x="1579320" y="574560"/>
            <a:ext cx="2116080" cy="3257640"/>
          </a:xfrm>
          <a:prstGeom prst="rect">
            <a:avLst/>
          </a:prstGeom>
          <a:ln w="0">
            <a:noFill/>
          </a:ln>
        </p:spPr>
      </p:pic>
      <p:sp>
        <p:nvSpPr>
          <p:cNvPr id="2045" name=""/>
          <p:cNvSpPr/>
          <p:nvPr/>
        </p:nvSpPr>
        <p:spPr>
          <a:xfrm>
            <a:off x="3711600" y="2521080"/>
            <a:ext cx="14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центр м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3255840" y="808200"/>
            <a:ext cx="287280" cy="409320"/>
            <a:chOff x="3255840" y="808200"/>
            <a:chExt cx="287280" cy="409320"/>
          </a:xfrm>
        </p:grpSpPr>
        <p:sp>
          <p:nvSpPr>
            <p:cNvPr id="2047" name=""/>
            <p:cNvSpPr/>
            <p:nvPr/>
          </p:nvSpPr>
          <p:spPr>
            <a:xfrm>
              <a:off x="3255840" y="808200"/>
              <a:ext cx="0" cy="40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48" name=""/>
            <p:cNvGraphicFramePr/>
            <p:nvPr/>
          </p:nvGraphicFramePr>
          <p:xfrm>
            <a:off x="3281400" y="828720"/>
            <a:ext cx="261720" cy="374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4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81400" y="828720"/>
                      <a:ext cx="261720" cy="37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50" name=""/>
          <p:cNvSpPr/>
          <p:nvPr/>
        </p:nvSpPr>
        <p:spPr>
          <a:xfrm>
            <a:off x="2274840" y="770040"/>
            <a:ext cx="0" cy="26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284560" y="1379520"/>
            <a:ext cx="49500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2251080" y="134136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2754360" y="2320920"/>
            <a:ext cx="442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V="1" rot="3128400">
            <a:off x="422280" y="-545760"/>
            <a:ext cx="3297960" cy="283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92" y="4002"/>
                </a:moveTo>
                <a:arcTo wR="10800" hR="10800" stAng="-2340611" swAng="1721451"/>
                <a:lnTo>
                  <a:pt x="10800" y="10800"/>
                </a:lnTo>
                <a:close/>
              </a:path>
              <a:path fill="none" w="21600" h="21600">
                <a:moveTo>
                  <a:pt x="19192" y="4002"/>
                </a:moveTo>
                <a:arcTo wR="10800" hR="10800" stAng="-2340611" swAng="1721451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5" name=""/>
          <p:cNvGrpSpPr/>
          <p:nvPr/>
        </p:nvGrpSpPr>
        <p:grpSpPr>
          <a:xfrm>
            <a:off x="2266920" y="1647720"/>
            <a:ext cx="228600" cy="352440"/>
            <a:chOff x="2266920" y="1647720"/>
            <a:chExt cx="228600" cy="352440"/>
          </a:xfrm>
        </p:grpSpPr>
        <p:sp>
          <p:nvSpPr>
            <p:cNvPr id="2056" name=""/>
            <p:cNvSpPr/>
            <p:nvPr/>
          </p:nvSpPr>
          <p:spPr>
            <a:xfrm>
              <a:off x="2266920" y="1647720"/>
              <a:ext cx="16200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57" name=""/>
            <p:cNvGraphicFramePr/>
            <p:nvPr/>
          </p:nvGraphicFramePr>
          <p:xfrm>
            <a:off x="2270160" y="1746000"/>
            <a:ext cx="225360" cy="254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270160" y="1746000"/>
                      <a:ext cx="225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59" name=""/>
          <p:cNvSpPr/>
          <p:nvPr/>
        </p:nvSpPr>
        <p:spPr>
          <a:xfrm>
            <a:off x="1628640" y="1019160"/>
            <a:ext cx="6289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0" name=""/>
          <p:cNvGraphicFramePr/>
          <p:nvPr/>
        </p:nvGraphicFramePr>
        <p:xfrm>
          <a:off x="2519280" y="1685880"/>
          <a:ext cx="239760" cy="23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19280" y="1685880"/>
                    <a:ext cx="23976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2" name=""/>
          <p:cNvSpPr/>
          <p:nvPr/>
        </p:nvSpPr>
        <p:spPr>
          <a:xfrm>
            <a:off x="1974960" y="3141720"/>
            <a:ext cx="4104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H="1" flipV="1">
            <a:off x="2781360" y="2352600"/>
            <a:ext cx="10000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4" name=""/>
          <p:cNvGraphicFramePr/>
          <p:nvPr/>
        </p:nvGraphicFramePr>
        <p:xfrm>
          <a:off x="2684520" y="2624040"/>
          <a:ext cx="561960" cy="393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6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684520" y="2624040"/>
                    <a:ext cx="5619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6" name=""/>
          <p:cNvSpPr/>
          <p:nvPr/>
        </p:nvSpPr>
        <p:spPr>
          <a:xfrm>
            <a:off x="2666880" y="2638440"/>
            <a:ext cx="200160" cy="3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H="1">
            <a:off x="2009520" y="2838600"/>
            <a:ext cx="65700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30320" y="3011400"/>
            <a:ext cx="24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момент інерції  тіла відносно осі  обер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6523200" y="2016000"/>
            <a:ext cx="420480" cy="44136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41360"/>
              <a:gd name="textAreaBottom" fmla="*/ 414360 h 441360"/>
            </a:gdLst>
            <a:ahLst/>
            <a:rect l="textAreaLeft" t="textAreaTop" r="textAreaRight" b="textAreaBottom"/>
            <a:pathLst>
              <a:path w="21600" h="22672">
                <a:moveTo>
                  <a:pt x="0" y="0"/>
                </a:moveTo>
                <a:lnTo>
                  <a:pt x="21600" y="0"/>
                </a:lnTo>
                <a:lnTo>
                  <a:pt x="21600" y="22672"/>
                </a:lnTo>
                <a:lnTo>
                  <a:pt x="0" y="22672"/>
                </a:lnTo>
                <a:close/>
              </a:path>
              <a:path fill="lightenLess" w="21600" h="22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72">
                <a:moveTo>
                  <a:pt x="21600" y="0"/>
                </a:moveTo>
                <a:lnTo>
                  <a:pt x="21600" y="22672"/>
                </a:lnTo>
                <a:lnTo>
                  <a:pt x="20200" y="21272"/>
                </a:lnTo>
                <a:lnTo>
                  <a:pt x="20200" y="1400"/>
                </a:lnTo>
                <a:close/>
              </a:path>
              <a:path fill="darkenLess" w="21600" h="22672">
                <a:moveTo>
                  <a:pt x="21600" y="22672"/>
                </a:moveTo>
                <a:lnTo>
                  <a:pt x="0" y="22672"/>
                </a:lnTo>
                <a:lnTo>
                  <a:pt x="1400" y="21272"/>
                </a:lnTo>
                <a:lnTo>
                  <a:pt x="20200" y="21272"/>
                </a:lnTo>
                <a:close/>
              </a:path>
              <a:path fill="lighten" w="21600" h="22672">
                <a:moveTo>
                  <a:pt x="0" y="22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72"/>
                </a:lnTo>
                <a:close/>
              </a:path>
              <a:path fill="darken" w="21600" h="22672">
                <a:moveTo>
                  <a:pt x="10800" y="1534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72">
                <a:moveTo>
                  <a:pt x="11905" y="14817"/>
                </a:moveTo>
                <a:lnTo>
                  <a:pt x="11905" y="12859"/>
                </a:lnTo>
                <a:cubicBezTo>
                  <a:pt x="11905" y="12032"/>
                  <a:pt x="12236" y="11336"/>
                  <a:pt x="12837" y="11336"/>
                </a:cubicBezTo>
                <a:cubicBezTo>
                  <a:pt x="13968" y="11336"/>
                  <a:pt x="14865" y="9969"/>
                  <a:pt x="14865" y="8385"/>
                </a:cubicBezTo>
                <a:cubicBezTo>
                  <a:pt x="14865" y="6070"/>
                  <a:pt x="13011" y="4329"/>
                  <a:pt x="10800" y="4329"/>
                </a:cubicBezTo>
                <a:cubicBezTo>
                  <a:pt x="8589" y="4329"/>
                  <a:pt x="6918" y="6070"/>
                  <a:pt x="6918" y="8385"/>
                </a:cubicBezTo>
                <a:lnTo>
                  <a:pt x="8772" y="8385"/>
                </a:lnTo>
                <a:cubicBezTo>
                  <a:pt x="8772" y="7245"/>
                  <a:pt x="9695" y="6357"/>
                  <a:pt x="10800" y="6357"/>
                </a:cubicBezTo>
                <a:cubicBezTo>
                  <a:pt x="11905" y="6357"/>
                  <a:pt x="12837" y="7245"/>
                  <a:pt x="12837" y="8385"/>
                </a:cubicBezTo>
                <a:cubicBezTo>
                  <a:pt x="12837" y="9125"/>
                  <a:pt x="12367" y="9856"/>
                  <a:pt x="11905" y="9856"/>
                </a:cubicBezTo>
                <a:cubicBezTo>
                  <a:pt x="10800" y="9856"/>
                  <a:pt x="9695" y="11336"/>
                  <a:pt x="9695" y="12859"/>
                </a:cubicBezTo>
                <a:lnTo>
                  <a:pt x="9695" y="1481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452520" y="4273560"/>
            <a:ext cx="42840" cy="2224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81160" y="375912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19080" y="861840"/>
            <a:ext cx="180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обертання (перпендикулярна площині рису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3" name=""/>
          <p:cNvGraphicFramePr/>
          <p:nvPr/>
        </p:nvGraphicFramePr>
        <p:xfrm>
          <a:off x="2754360" y="3625920"/>
          <a:ext cx="1601640" cy="1433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7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54360" y="3625920"/>
                    <a:ext cx="16016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5" name=""/>
          <p:cNvSpPr/>
          <p:nvPr/>
        </p:nvSpPr>
        <p:spPr>
          <a:xfrm>
            <a:off x="2167200" y="18108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4932360" y="3900600"/>
            <a:ext cx="1135080" cy="896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Управляющая кнопка: домой 85">
            <a:hlinkClick r:id="rId1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>
            <a:hlinkClick r:id="rId17" action="ppaction://hlinksldjump"/>
          </p:cNvPr>
          <p:cNvSpPr/>
          <p:nvPr/>
        </p:nvSpPr>
        <p:spPr>
          <a:xfrm>
            <a:off x="815328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0" name=""/>
          <p:cNvGraphicFramePr/>
          <p:nvPr/>
        </p:nvGraphicFramePr>
        <p:xfrm>
          <a:off x="1206360" y="1128600"/>
          <a:ext cx="5710320" cy="21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360" y="1128600"/>
                    <a:ext cx="571032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7032600" y="2095560"/>
                <a:ext cx="3031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7" name=""/>
          <p:cNvGraphicFramePr/>
          <p:nvPr/>
        </p:nvGraphicFramePr>
        <p:xfrm>
          <a:off x="3224160" y="5616720"/>
          <a:ext cx="132408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24160" y="5616720"/>
                    <a:ext cx="13240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9" name=""/>
          <p:cNvSpPr/>
          <p:nvPr/>
        </p:nvSpPr>
        <p:spPr>
          <a:xfrm>
            <a:off x="1098720" y="3616200"/>
            <a:ext cx="60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еобхідно продиференціювати це рівняння за часом 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1031760" y="3978360"/>
            <a:ext cx="80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агадаємо на конкретних прикладах, як знаходити похідну від складеної функції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2" name=""/>
          <p:cNvGraphicFramePr/>
          <p:nvPr/>
        </p:nvGraphicFramePr>
        <p:xfrm>
          <a:off x="2736720" y="4329000"/>
          <a:ext cx="1279800" cy="7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6720" y="4329000"/>
                    <a:ext cx="12798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5" name=""/>
          <p:cNvGraphicFramePr/>
          <p:nvPr/>
        </p:nvGraphicFramePr>
        <p:xfrm>
          <a:off x="4761000" y="4344840"/>
          <a:ext cx="1218960" cy="70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1000" y="4344840"/>
                    <a:ext cx="12189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7" name=""/>
          <p:cNvSpPr/>
          <p:nvPr/>
        </p:nvSpPr>
        <p:spPr>
          <a:xfrm>
            <a:off x="1165320" y="5172120"/>
            <a:ext cx="60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діливши                             на        остаточно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961320" y="1663560"/>
            <a:ext cx="382320" cy="40320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03200"/>
              <a:gd name="textAreaBottom" fmla="*/ 378720 h 403200"/>
            </a:gdLst>
            <a:ahLst/>
            <a:rect l="textAreaLeft" t="textAreaTop" r="textAreaRight" b="textAreaBottom"/>
            <a:pathLst>
              <a:path w="21600" h="22779">
                <a:moveTo>
                  <a:pt x="0" y="0"/>
                </a:moveTo>
                <a:lnTo>
                  <a:pt x="21600" y="0"/>
                </a:lnTo>
                <a:lnTo>
                  <a:pt x="21600" y="22779"/>
                </a:lnTo>
                <a:lnTo>
                  <a:pt x="0" y="22779"/>
                </a:lnTo>
                <a:close/>
              </a:path>
              <a:path fill="lightenLess" w="21600" h="227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9">
                <a:moveTo>
                  <a:pt x="21600" y="0"/>
                </a:moveTo>
                <a:lnTo>
                  <a:pt x="21600" y="22779"/>
                </a:lnTo>
                <a:lnTo>
                  <a:pt x="20200" y="21379"/>
                </a:lnTo>
                <a:lnTo>
                  <a:pt x="20200" y="1400"/>
                </a:lnTo>
                <a:close/>
              </a:path>
              <a:path fill="darkenLess" w="21600" h="22779">
                <a:moveTo>
                  <a:pt x="21600" y="22779"/>
                </a:moveTo>
                <a:lnTo>
                  <a:pt x="0" y="22779"/>
                </a:lnTo>
                <a:lnTo>
                  <a:pt x="1400" y="21379"/>
                </a:lnTo>
                <a:lnTo>
                  <a:pt x="20200" y="21379"/>
                </a:lnTo>
                <a:close/>
              </a:path>
              <a:path fill="lighten" w="21600" h="22779">
                <a:moveTo>
                  <a:pt x="0" y="227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9"/>
                </a:lnTo>
                <a:close/>
              </a:path>
              <a:path fill="darken" w="21600" h="22779">
                <a:moveTo>
                  <a:pt x="10800" y="1539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779">
                <a:moveTo>
                  <a:pt x="11905" y="14871"/>
                </a:moveTo>
                <a:lnTo>
                  <a:pt x="11905" y="12912"/>
                </a:lnTo>
                <a:cubicBezTo>
                  <a:pt x="11905" y="12086"/>
                  <a:pt x="12236" y="11389"/>
                  <a:pt x="12837" y="11389"/>
                </a:cubicBezTo>
                <a:cubicBezTo>
                  <a:pt x="13968" y="11389"/>
                  <a:pt x="14865" y="10023"/>
                  <a:pt x="14865" y="8439"/>
                </a:cubicBezTo>
                <a:cubicBezTo>
                  <a:pt x="14865" y="6124"/>
                  <a:pt x="13011" y="4383"/>
                  <a:pt x="10800" y="4383"/>
                </a:cubicBezTo>
                <a:cubicBezTo>
                  <a:pt x="8589" y="4383"/>
                  <a:pt x="6918" y="6124"/>
                  <a:pt x="6918" y="8439"/>
                </a:cubicBezTo>
                <a:lnTo>
                  <a:pt x="8772" y="8439"/>
                </a:lnTo>
                <a:cubicBezTo>
                  <a:pt x="8772" y="7299"/>
                  <a:pt x="9695" y="6411"/>
                  <a:pt x="10800" y="6411"/>
                </a:cubicBezTo>
                <a:cubicBezTo>
                  <a:pt x="11905" y="6411"/>
                  <a:pt x="12837" y="7299"/>
                  <a:pt x="12837" y="8439"/>
                </a:cubicBezTo>
                <a:cubicBezTo>
                  <a:pt x="12837" y="9179"/>
                  <a:pt x="12367" y="9910"/>
                  <a:pt x="11905" y="9910"/>
                </a:cubicBezTo>
                <a:cubicBezTo>
                  <a:pt x="10800" y="9910"/>
                  <a:pt x="9695" y="11389"/>
                  <a:pt x="9695" y="12912"/>
                </a:cubicBezTo>
                <a:lnTo>
                  <a:pt x="9695" y="1487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0" name=""/>
          <p:cNvGraphicFramePr/>
          <p:nvPr/>
        </p:nvGraphicFramePr>
        <p:xfrm>
          <a:off x="7419960" y="1862280"/>
          <a:ext cx="1257480" cy="66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19960" y="1862280"/>
                    <a:ext cx="12574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3" name=""/>
          <p:cNvGraphicFramePr/>
          <p:nvPr/>
        </p:nvGraphicFramePr>
        <p:xfrm>
          <a:off x="2457360" y="5194440"/>
          <a:ext cx="1629000" cy="30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57360" y="5194440"/>
                    <a:ext cx="16290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6" name=""/>
          <p:cNvGraphicFramePr/>
          <p:nvPr/>
        </p:nvGraphicFramePr>
        <p:xfrm>
          <a:off x="4398840" y="5184720"/>
          <a:ext cx="433440" cy="336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98840" y="5184720"/>
                    <a:ext cx="4334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8" name=""/>
          <p:cNvSpPr/>
          <p:nvPr/>
        </p:nvSpPr>
        <p:spPr>
          <a:xfrm>
            <a:off x="638280" y="4051440"/>
            <a:ext cx="42840" cy="2125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458640" y="3529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4514760" y="5745240"/>
            <a:ext cx="27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Що і треба було дов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Управляющая кнопка: домой 85">
            <a:hlinkClick r:id="rId1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>
            <a:hlinkClick r:id="rId16" action="ppaction://hlinksldjump"/>
          </p:cNvPr>
          <p:cNvSpPr/>
          <p:nvPr/>
        </p:nvSpPr>
        <p:spPr>
          <a:xfrm>
            <a:off x="810576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241200" y="1481040"/>
            <a:ext cx="2251080" cy="2608200"/>
            <a:chOff x="241200" y="1481040"/>
            <a:chExt cx="2251080" cy="2608200"/>
          </a:xfrm>
        </p:grpSpPr>
        <p:grpSp>
          <p:nvGrpSpPr>
            <p:cNvPr id="2115" name=""/>
            <p:cNvGrpSpPr/>
            <p:nvPr/>
          </p:nvGrpSpPr>
          <p:grpSpPr>
            <a:xfrm>
              <a:off x="447480" y="1481040"/>
              <a:ext cx="1668240" cy="2509560"/>
              <a:chOff x="447480" y="1481040"/>
              <a:chExt cx="1668240" cy="2509560"/>
            </a:xfrm>
          </p:grpSpPr>
          <p:pic>
            <p:nvPicPr>
              <p:cNvPr id="21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7480" y="3519720"/>
                <a:ext cx="1667520" cy="38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7" name=""/>
              <p:cNvGrpSpPr/>
              <p:nvPr/>
            </p:nvGrpSpPr>
            <p:grpSpPr>
              <a:xfrm>
                <a:off x="1902960" y="1703880"/>
                <a:ext cx="212760" cy="314280"/>
                <a:chOff x="1902960" y="1703880"/>
                <a:chExt cx="212760" cy="31428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1902960" y="1703880"/>
                  <a:ext cx="0" cy="31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119" name=""/>
                <p:cNvGraphicFramePr/>
                <p:nvPr/>
              </p:nvGraphicFramePr>
              <p:xfrm>
                <a:off x="1921680" y="1719720"/>
                <a:ext cx="194040" cy="28728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120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921680" y="1719720"/>
                          <a:ext cx="194040" cy="287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212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40520" y="1481040"/>
                <a:ext cx="84060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2" name=""/>
              <p:cNvSpPr/>
              <p:nvPr/>
            </p:nvSpPr>
            <p:spPr>
              <a:xfrm>
                <a:off x="1132560" y="1667160"/>
                <a:ext cx="0" cy="232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1132560" y="1667160"/>
                <a:ext cx="770040" cy="20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1878120" y="3669480"/>
                <a:ext cx="6084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5" name=""/>
              <p:cNvGrpSpPr/>
              <p:nvPr/>
            </p:nvGrpSpPr>
            <p:grpSpPr>
              <a:xfrm>
                <a:off x="1139760" y="1974240"/>
                <a:ext cx="169200" cy="270000"/>
                <a:chOff x="1139760" y="1974240"/>
                <a:chExt cx="169200" cy="270000"/>
              </a:xfrm>
            </p:grpSpPr>
            <p:sp>
              <p:nvSpPr>
                <p:cNvPr id="2126" name=""/>
                <p:cNvSpPr/>
                <p:nvPr/>
              </p:nvSpPr>
              <p:spPr>
                <a:xfrm>
                  <a:off x="1139760" y="1974240"/>
                  <a:ext cx="119880" cy="655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127" name=""/>
                <p:cNvGraphicFramePr/>
                <p:nvPr/>
              </p:nvGraphicFramePr>
              <p:xfrm>
                <a:off x="1141920" y="2049480"/>
                <a:ext cx="167040" cy="1947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128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141920" y="2049480"/>
                          <a:ext cx="167040" cy="194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129" name=""/>
              <p:cNvGraphicFramePr/>
              <p:nvPr/>
            </p:nvGraphicFramePr>
            <p:xfrm>
              <a:off x="1528560" y="2383200"/>
              <a:ext cx="128160" cy="227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13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528560" y="2383200"/>
                        <a:ext cx="128160" cy="22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131" name=""/>
            <p:cNvSpPr/>
            <p:nvPr/>
          </p:nvSpPr>
          <p:spPr>
            <a:xfrm>
              <a:off x="241200" y="3873240"/>
              <a:ext cx="225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144440" y="370044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152440" y="348588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160360" y="387036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152440" y="369576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36" name=""/>
            <p:cNvGraphicFramePr/>
            <p:nvPr/>
          </p:nvGraphicFramePr>
          <p:xfrm>
            <a:off x="2189160" y="3471840"/>
            <a:ext cx="169920" cy="241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3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89160" y="3471840"/>
                      <a:ext cx="16992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3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3200400" y="2778120"/>
            <a:ext cx="528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аємо вираз для кінетичної енергії через кутову швидкість   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2" name=""/>
          <p:cNvGraphicFramePr/>
          <p:nvPr/>
        </p:nvGraphicFramePr>
        <p:xfrm>
          <a:off x="3713040" y="3468600"/>
          <a:ext cx="2266920" cy="11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13040" y="3468600"/>
                    <a:ext cx="22669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6" name=""/>
          <p:cNvGraphicFramePr/>
          <p:nvPr/>
        </p:nvGraphicFramePr>
        <p:xfrm>
          <a:off x="5961240" y="3621240"/>
          <a:ext cx="914400" cy="769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61240" y="3621240"/>
                    <a:ext cx="91440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9" name=""/>
          <p:cNvGraphicFramePr/>
          <p:nvPr/>
        </p:nvGraphicFramePr>
        <p:xfrm>
          <a:off x="3687840" y="1614600"/>
          <a:ext cx="1222200" cy="42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5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87840" y="1614600"/>
                    <a:ext cx="122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1" name=""/>
          <p:cNvSpPr/>
          <p:nvPr/>
        </p:nvSpPr>
        <p:spPr>
          <a:xfrm>
            <a:off x="4272120" y="1631880"/>
            <a:ext cx="306360" cy="403200"/>
          </a:xfrm>
          <a:custGeom>
            <a:avLst/>
            <a:gdLst>
              <a:gd name="textAreaLeft" fmla="*/ 19800 w 306360"/>
              <a:gd name="textAreaRight" fmla="*/ 286560 w 306360"/>
              <a:gd name="textAreaTop" fmla="*/ 19800 h 403200"/>
              <a:gd name="textAreaBottom" fmla="*/ 383400 h 403200"/>
            </a:gdLst>
            <a:ahLst/>
            <a:rect l="textAreaLeft" t="textAreaTop" r="textAreaRight" b="textAreaBottom"/>
            <a:pathLst>
              <a:path w="21600" h="28420">
                <a:moveTo>
                  <a:pt x="0" y="0"/>
                </a:moveTo>
                <a:lnTo>
                  <a:pt x="21600" y="0"/>
                </a:lnTo>
                <a:lnTo>
                  <a:pt x="21600" y="28420"/>
                </a:lnTo>
                <a:lnTo>
                  <a:pt x="0" y="28420"/>
                </a:lnTo>
                <a:close/>
              </a:path>
              <a:path fill="lightenLess" w="21600" h="284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20">
                <a:moveTo>
                  <a:pt x="21600" y="0"/>
                </a:moveTo>
                <a:lnTo>
                  <a:pt x="21600" y="28420"/>
                </a:lnTo>
                <a:lnTo>
                  <a:pt x="20200" y="27020"/>
                </a:lnTo>
                <a:lnTo>
                  <a:pt x="20200" y="1400"/>
                </a:lnTo>
                <a:close/>
              </a:path>
              <a:path fill="darkenLess" w="21600" h="28420">
                <a:moveTo>
                  <a:pt x="21600" y="28420"/>
                </a:moveTo>
                <a:lnTo>
                  <a:pt x="0" y="28420"/>
                </a:lnTo>
                <a:lnTo>
                  <a:pt x="1400" y="27020"/>
                </a:lnTo>
                <a:lnTo>
                  <a:pt x="20200" y="27020"/>
                </a:lnTo>
                <a:close/>
              </a:path>
              <a:path fill="lighten" w="21600" h="28420">
                <a:moveTo>
                  <a:pt x="0" y="284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20"/>
                </a:lnTo>
                <a:close/>
              </a:path>
              <a:path fill="darken" w="21600" h="28420">
                <a:moveTo>
                  <a:pt x="10800" y="1821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420">
                <a:moveTo>
                  <a:pt x="11905" y="17691"/>
                </a:moveTo>
                <a:lnTo>
                  <a:pt x="11905" y="15733"/>
                </a:lnTo>
                <a:cubicBezTo>
                  <a:pt x="11905" y="14906"/>
                  <a:pt x="12236" y="14210"/>
                  <a:pt x="12837" y="14210"/>
                </a:cubicBezTo>
                <a:cubicBezTo>
                  <a:pt x="13968" y="14210"/>
                  <a:pt x="14865" y="12843"/>
                  <a:pt x="14865" y="11259"/>
                </a:cubicBezTo>
                <a:cubicBezTo>
                  <a:pt x="14865" y="8944"/>
                  <a:pt x="13011" y="7203"/>
                  <a:pt x="10800" y="7203"/>
                </a:cubicBezTo>
                <a:cubicBezTo>
                  <a:pt x="8589" y="7203"/>
                  <a:pt x="6918" y="8944"/>
                  <a:pt x="6918" y="11259"/>
                </a:cubicBezTo>
                <a:lnTo>
                  <a:pt x="8772" y="11259"/>
                </a:lnTo>
                <a:cubicBezTo>
                  <a:pt x="8772" y="10119"/>
                  <a:pt x="9695" y="9231"/>
                  <a:pt x="10800" y="9231"/>
                </a:cubicBezTo>
                <a:cubicBezTo>
                  <a:pt x="11905" y="9231"/>
                  <a:pt x="12837" y="10119"/>
                  <a:pt x="12837" y="11259"/>
                </a:cubicBezTo>
                <a:cubicBezTo>
                  <a:pt x="12837" y="11999"/>
                  <a:pt x="12367" y="12730"/>
                  <a:pt x="11905" y="12730"/>
                </a:cubicBezTo>
                <a:cubicBezTo>
                  <a:pt x="10800" y="12730"/>
                  <a:pt x="9695" y="14210"/>
                  <a:pt x="9695" y="15733"/>
                </a:cubicBezTo>
                <a:lnTo>
                  <a:pt x="9695" y="176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983200" y="3595680"/>
            <a:ext cx="501840" cy="9050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3021120" y="3222720"/>
            <a:ext cx="42840" cy="15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2841480" y="27003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5" name=""/>
          <p:cNvGraphicFramePr/>
          <p:nvPr/>
        </p:nvGraphicFramePr>
        <p:xfrm>
          <a:off x="6529320" y="3067200"/>
          <a:ext cx="200160" cy="29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29320" y="3067200"/>
                    <a:ext cx="20016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7" name="Управляющая кнопка: домой 85">
            <a:hlinkClick r:id="rId1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>
            <a:hlinkClick r:id="rId20" action="ppaction://hlinksldjump"/>
          </p:cNvPr>
          <p:cNvSpPr/>
          <p:nvPr/>
        </p:nvSpPr>
        <p:spPr>
          <a:xfrm>
            <a:off x="810576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17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0" name=""/>
          <p:cNvGrpSpPr/>
          <p:nvPr/>
        </p:nvGrpSpPr>
        <p:grpSpPr>
          <a:xfrm>
            <a:off x="209520" y="603360"/>
            <a:ext cx="2251080" cy="2608200"/>
            <a:chOff x="209520" y="603360"/>
            <a:chExt cx="2251080" cy="2608200"/>
          </a:xfrm>
        </p:grpSpPr>
        <p:grpSp>
          <p:nvGrpSpPr>
            <p:cNvPr id="2161" name=""/>
            <p:cNvGrpSpPr/>
            <p:nvPr/>
          </p:nvGrpSpPr>
          <p:grpSpPr>
            <a:xfrm>
              <a:off x="415800" y="603360"/>
              <a:ext cx="1668240" cy="2509200"/>
              <a:chOff x="415800" y="603360"/>
              <a:chExt cx="1668240" cy="2509200"/>
            </a:xfrm>
          </p:grpSpPr>
          <p:pic>
            <p:nvPicPr>
              <p:cNvPr id="21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5800" y="2641680"/>
                <a:ext cx="1667520" cy="38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63" name=""/>
              <p:cNvGrpSpPr/>
              <p:nvPr/>
            </p:nvGrpSpPr>
            <p:grpSpPr>
              <a:xfrm>
                <a:off x="1871280" y="826200"/>
                <a:ext cx="212760" cy="313920"/>
                <a:chOff x="1871280" y="826200"/>
                <a:chExt cx="212760" cy="31392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1871280" y="826200"/>
                  <a:ext cx="0" cy="31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165" name=""/>
                <p:cNvGraphicFramePr/>
                <p:nvPr/>
              </p:nvGraphicFramePr>
              <p:xfrm>
                <a:off x="1890000" y="842040"/>
                <a:ext cx="194040" cy="2869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166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890000" y="842040"/>
                          <a:ext cx="194040" cy="286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21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8840" y="603360"/>
                <a:ext cx="84060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8" name=""/>
              <p:cNvSpPr/>
              <p:nvPr/>
            </p:nvSpPr>
            <p:spPr>
              <a:xfrm>
                <a:off x="1100880" y="789480"/>
                <a:ext cx="0" cy="232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100880" y="789480"/>
                <a:ext cx="770040" cy="20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846440" y="2791440"/>
                <a:ext cx="6084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1" name=""/>
              <p:cNvGrpSpPr/>
              <p:nvPr/>
            </p:nvGrpSpPr>
            <p:grpSpPr>
              <a:xfrm>
                <a:off x="1108080" y="1096560"/>
                <a:ext cx="169200" cy="270000"/>
                <a:chOff x="1108080" y="1096560"/>
                <a:chExt cx="169200" cy="270000"/>
              </a:xfrm>
            </p:grpSpPr>
            <p:sp>
              <p:nvSpPr>
                <p:cNvPr id="2172" name=""/>
                <p:cNvSpPr/>
                <p:nvPr/>
              </p:nvSpPr>
              <p:spPr>
                <a:xfrm>
                  <a:off x="1108080" y="1096560"/>
                  <a:ext cx="119880" cy="655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173" name=""/>
                <p:cNvGraphicFramePr/>
                <p:nvPr/>
              </p:nvGraphicFramePr>
              <p:xfrm>
                <a:off x="1110240" y="1171800"/>
                <a:ext cx="167040" cy="1947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174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110240" y="1171800"/>
                          <a:ext cx="167040" cy="194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175" name=""/>
              <p:cNvGraphicFramePr/>
              <p:nvPr/>
            </p:nvGraphicFramePr>
            <p:xfrm>
              <a:off x="1496880" y="1505520"/>
              <a:ext cx="128160" cy="227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1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496880" y="1505520"/>
                        <a:ext cx="128160" cy="22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177" name=""/>
            <p:cNvSpPr/>
            <p:nvPr/>
          </p:nvSpPr>
          <p:spPr>
            <a:xfrm>
              <a:off x="209520" y="2995560"/>
              <a:ext cx="225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112760" y="282240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120760" y="260820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128680" y="299232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120760" y="281772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82" name=""/>
            <p:cNvGraphicFramePr/>
            <p:nvPr/>
          </p:nvGraphicFramePr>
          <p:xfrm>
            <a:off x="2157480" y="2593800"/>
            <a:ext cx="169920" cy="241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57480" y="2593800"/>
                      <a:ext cx="169920" cy="24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84" name=""/>
          <p:cNvGraphicFramePr/>
          <p:nvPr/>
        </p:nvGraphicFramePr>
        <p:xfrm>
          <a:off x="3405240" y="1630440"/>
          <a:ext cx="3014640" cy="71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05240" y="1630440"/>
                    <a:ext cx="30146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6" name=""/>
          <p:cNvSpPr/>
          <p:nvPr/>
        </p:nvSpPr>
        <p:spPr>
          <a:xfrm>
            <a:off x="2943360" y="3371760"/>
            <a:ext cx="50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Скористаємося тригонометричною  рівністю: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8" name=""/>
          <p:cNvGraphicFramePr/>
          <p:nvPr/>
        </p:nvGraphicFramePr>
        <p:xfrm>
          <a:off x="4135320" y="3773520"/>
          <a:ext cx="2079720" cy="326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35320" y="3773520"/>
                    <a:ext cx="207972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0" name=""/>
          <p:cNvSpPr/>
          <p:nvPr/>
        </p:nvSpPr>
        <p:spPr>
          <a:xfrm>
            <a:off x="2187720" y="4340160"/>
            <a:ext cx="71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важаючи, що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             знаходимо вираз для          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8244000" y="4429080"/>
                <a:ext cx="6174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2" name=""/>
          <p:cNvGraphicFramePr/>
          <p:nvPr/>
        </p:nvGraphicFramePr>
        <p:xfrm>
          <a:off x="2994120" y="4809960"/>
          <a:ext cx="1865160" cy="57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94120" y="4809960"/>
                    <a:ext cx="18651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4" name=""/>
          <p:cNvGraphicFramePr/>
          <p:nvPr/>
        </p:nvGraphicFramePr>
        <p:xfrm>
          <a:off x="3736800" y="4199040"/>
          <a:ext cx="2279880" cy="682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36800" y="4199040"/>
                    <a:ext cx="22798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6" name=""/>
          <p:cNvSpPr/>
          <p:nvPr/>
        </p:nvSpPr>
        <p:spPr>
          <a:xfrm>
            <a:off x="1860480" y="5432400"/>
            <a:ext cx="42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таточно отримуємо вираз для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uk-UA" sz="16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8" name=""/>
          <p:cNvGraphicFramePr/>
          <p:nvPr/>
        </p:nvGraphicFramePr>
        <p:xfrm>
          <a:off x="3887640" y="5854680"/>
          <a:ext cx="2544840" cy="61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9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7640" y="5854680"/>
                    <a:ext cx="254484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0" name=""/>
          <p:cNvSpPr/>
          <p:nvPr/>
        </p:nvSpPr>
        <p:spPr>
          <a:xfrm>
            <a:off x="5315040" y="1797120"/>
            <a:ext cx="306360" cy="403200"/>
          </a:xfrm>
          <a:custGeom>
            <a:avLst/>
            <a:gdLst>
              <a:gd name="textAreaLeft" fmla="*/ 19800 w 306360"/>
              <a:gd name="textAreaRight" fmla="*/ 286560 w 306360"/>
              <a:gd name="textAreaTop" fmla="*/ 19800 h 403200"/>
              <a:gd name="textAreaBottom" fmla="*/ 383400 h 403200"/>
            </a:gdLst>
            <a:ahLst/>
            <a:rect l="textAreaLeft" t="textAreaTop" r="textAreaRight" b="textAreaBottom"/>
            <a:pathLst>
              <a:path w="21600" h="28420">
                <a:moveTo>
                  <a:pt x="0" y="0"/>
                </a:moveTo>
                <a:lnTo>
                  <a:pt x="21600" y="0"/>
                </a:lnTo>
                <a:lnTo>
                  <a:pt x="21600" y="28420"/>
                </a:lnTo>
                <a:lnTo>
                  <a:pt x="0" y="28420"/>
                </a:lnTo>
                <a:close/>
              </a:path>
              <a:path fill="lightenLess" w="21600" h="284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20">
                <a:moveTo>
                  <a:pt x="21600" y="0"/>
                </a:moveTo>
                <a:lnTo>
                  <a:pt x="21600" y="28420"/>
                </a:lnTo>
                <a:lnTo>
                  <a:pt x="20200" y="27020"/>
                </a:lnTo>
                <a:lnTo>
                  <a:pt x="20200" y="1400"/>
                </a:lnTo>
                <a:close/>
              </a:path>
              <a:path fill="darkenLess" w="21600" h="28420">
                <a:moveTo>
                  <a:pt x="21600" y="28420"/>
                </a:moveTo>
                <a:lnTo>
                  <a:pt x="0" y="28420"/>
                </a:lnTo>
                <a:lnTo>
                  <a:pt x="1400" y="27020"/>
                </a:lnTo>
                <a:lnTo>
                  <a:pt x="20200" y="27020"/>
                </a:lnTo>
                <a:close/>
              </a:path>
              <a:path fill="lighten" w="21600" h="28420">
                <a:moveTo>
                  <a:pt x="0" y="284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20"/>
                </a:lnTo>
                <a:close/>
              </a:path>
              <a:path fill="darken" w="21600" h="28420">
                <a:moveTo>
                  <a:pt x="10800" y="1821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420">
                <a:moveTo>
                  <a:pt x="11905" y="17691"/>
                </a:moveTo>
                <a:lnTo>
                  <a:pt x="11905" y="15733"/>
                </a:lnTo>
                <a:cubicBezTo>
                  <a:pt x="11905" y="14906"/>
                  <a:pt x="12236" y="14210"/>
                  <a:pt x="12837" y="14210"/>
                </a:cubicBezTo>
                <a:cubicBezTo>
                  <a:pt x="13968" y="14210"/>
                  <a:pt x="14865" y="12843"/>
                  <a:pt x="14865" y="11259"/>
                </a:cubicBezTo>
                <a:cubicBezTo>
                  <a:pt x="14865" y="8944"/>
                  <a:pt x="13011" y="7203"/>
                  <a:pt x="10800" y="7203"/>
                </a:cubicBezTo>
                <a:cubicBezTo>
                  <a:pt x="8589" y="7203"/>
                  <a:pt x="6918" y="8944"/>
                  <a:pt x="6918" y="11259"/>
                </a:cubicBezTo>
                <a:lnTo>
                  <a:pt x="8772" y="11259"/>
                </a:lnTo>
                <a:cubicBezTo>
                  <a:pt x="8772" y="10119"/>
                  <a:pt x="9695" y="9231"/>
                  <a:pt x="10800" y="9231"/>
                </a:cubicBezTo>
                <a:cubicBezTo>
                  <a:pt x="11905" y="9231"/>
                  <a:pt x="12837" y="10119"/>
                  <a:pt x="12837" y="11259"/>
                </a:cubicBezTo>
                <a:cubicBezTo>
                  <a:pt x="12837" y="11999"/>
                  <a:pt x="12367" y="12730"/>
                  <a:pt x="11905" y="12730"/>
                </a:cubicBezTo>
                <a:cubicBezTo>
                  <a:pt x="10800" y="12730"/>
                  <a:pt x="9695" y="14210"/>
                  <a:pt x="9695" y="15733"/>
                </a:cubicBezTo>
                <a:lnTo>
                  <a:pt x="9695" y="176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827600" y="4941720"/>
            <a:ext cx="10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2" name=""/>
          <p:cNvGraphicFramePr/>
          <p:nvPr/>
        </p:nvGraphicFramePr>
        <p:xfrm>
          <a:off x="5629320" y="4815000"/>
          <a:ext cx="1914480" cy="603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29320" y="4815000"/>
                    <a:ext cx="191448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4" name=""/>
          <p:cNvSpPr/>
          <p:nvPr/>
        </p:nvSpPr>
        <p:spPr>
          <a:xfrm>
            <a:off x="5505480" y="5943600"/>
            <a:ext cx="266760" cy="3808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1820880" y="3917880"/>
            <a:ext cx="42840" cy="2371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1660680" y="33624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Управляющая кнопка: домой 85">
            <a:hlinkClick r:id="rId2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>
            <a:hlinkClick r:id="rId24" action="ppaction://hlinksldjump"/>
          </p:cNvPr>
          <p:cNvSpPr/>
          <p:nvPr/>
        </p:nvSpPr>
        <p:spPr>
          <a:xfrm>
            <a:off x="810576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0" name=""/>
          <p:cNvGrpSpPr/>
          <p:nvPr/>
        </p:nvGrpSpPr>
        <p:grpSpPr>
          <a:xfrm>
            <a:off x="254160" y="662040"/>
            <a:ext cx="2251080" cy="2608200"/>
            <a:chOff x="254160" y="662040"/>
            <a:chExt cx="2251080" cy="2608200"/>
          </a:xfrm>
        </p:grpSpPr>
        <p:grpSp>
          <p:nvGrpSpPr>
            <p:cNvPr id="2211" name=""/>
            <p:cNvGrpSpPr/>
            <p:nvPr/>
          </p:nvGrpSpPr>
          <p:grpSpPr>
            <a:xfrm>
              <a:off x="460440" y="662040"/>
              <a:ext cx="1667520" cy="2509560"/>
              <a:chOff x="460440" y="662040"/>
              <a:chExt cx="1667520" cy="2509560"/>
            </a:xfrm>
          </p:grpSpPr>
          <p:pic>
            <p:nvPicPr>
              <p:cNvPr id="22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440" y="2700720"/>
                <a:ext cx="1667160" cy="38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13" name=""/>
              <p:cNvGrpSpPr/>
              <p:nvPr/>
            </p:nvGrpSpPr>
            <p:grpSpPr>
              <a:xfrm>
                <a:off x="1915560" y="884880"/>
                <a:ext cx="212400" cy="314280"/>
                <a:chOff x="1915560" y="884880"/>
                <a:chExt cx="212400" cy="314280"/>
              </a:xfrm>
            </p:grpSpPr>
            <p:sp>
              <p:nvSpPr>
                <p:cNvPr id="2214" name=""/>
                <p:cNvSpPr/>
                <p:nvPr/>
              </p:nvSpPr>
              <p:spPr>
                <a:xfrm>
                  <a:off x="1915560" y="884880"/>
                  <a:ext cx="0" cy="31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215" name=""/>
                <p:cNvGraphicFramePr/>
                <p:nvPr/>
              </p:nvGraphicFramePr>
              <p:xfrm>
                <a:off x="1934280" y="900720"/>
                <a:ext cx="193680" cy="28728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216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934280" y="900720"/>
                          <a:ext cx="193680" cy="287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22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3480" y="662040"/>
                <a:ext cx="84024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8" name=""/>
              <p:cNvSpPr/>
              <p:nvPr/>
            </p:nvSpPr>
            <p:spPr>
              <a:xfrm>
                <a:off x="1145520" y="848160"/>
                <a:ext cx="0" cy="232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145520" y="848160"/>
                <a:ext cx="770040" cy="20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891080" y="2850480"/>
                <a:ext cx="6084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1" name=""/>
              <p:cNvGrpSpPr/>
              <p:nvPr/>
            </p:nvGrpSpPr>
            <p:grpSpPr>
              <a:xfrm>
                <a:off x="1152720" y="1155240"/>
                <a:ext cx="168840" cy="270000"/>
                <a:chOff x="1152720" y="1155240"/>
                <a:chExt cx="168840" cy="270000"/>
              </a:xfrm>
            </p:grpSpPr>
            <p:sp>
              <p:nvSpPr>
                <p:cNvPr id="2222" name=""/>
                <p:cNvSpPr/>
                <p:nvPr/>
              </p:nvSpPr>
              <p:spPr>
                <a:xfrm>
                  <a:off x="1152720" y="1155240"/>
                  <a:ext cx="119880" cy="655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223" name=""/>
                <p:cNvGraphicFramePr/>
                <p:nvPr/>
              </p:nvGraphicFramePr>
              <p:xfrm>
                <a:off x="1154880" y="1230480"/>
                <a:ext cx="166680" cy="1947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224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154880" y="1230480"/>
                          <a:ext cx="166680" cy="194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225" name=""/>
              <p:cNvGraphicFramePr/>
              <p:nvPr/>
            </p:nvGraphicFramePr>
            <p:xfrm>
              <a:off x="1541160" y="1564200"/>
              <a:ext cx="128160" cy="227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22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541160" y="1564200"/>
                        <a:ext cx="128160" cy="22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227" name=""/>
            <p:cNvSpPr/>
            <p:nvPr/>
          </p:nvSpPr>
          <p:spPr>
            <a:xfrm>
              <a:off x="254160" y="3054240"/>
              <a:ext cx="225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157400" y="2881440"/>
              <a:ext cx="1326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165400" y="266688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173320" y="305100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165400" y="28764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32" name=""/>
            <p:cNvGraphicFramePr/>
            <p:nvPr/>
          </p:nvGraphicFramePr>
          <p:xfrm>
            <a:off x="2201760" y="2652840"/>
            <a:ext cx="169920" cy="241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3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01760" y="2652840"/>
                      <a:ext cx="16992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34" name="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5" name=""/>
          <p:cNvGraphicFramePr/>
          <p:nvPr/>
        </p:nvGraphicFramePr>
        <p:xfrm>
          <a:off x="3525840" y="839880"/>
          <a:ext cx="3392640" cy="224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25840" y="839880"/>
                    <a:ext cx="3392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7" name=""/>
          <p:cNvSpPr/>
          <p:nvPr/>
        </p:nvSpPr>
        <p:spPr>
          <a:xfrm>
            <a:off x="2171880" y="3524400"/>
            <a:ext cx="44766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Функцію              з урахуванням малості кута     можна замінити на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. 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977760" y="4384800"/>
            <a:ext cx="84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сля відповідних підстановок перше рівняння системи набуває такого вигля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6" name=""/>
          <p:cNvGraphicFramePr/>
          <p:nvPr/>
        </p:nvGraphicFramePr>
        <p:xfrm>
          <a:off x="4838760" y="3813120"/>
          <a:ext cx="353880" cy="53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38760" y="3813120"/>
                    <a:ext cx="3538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8" name=""/>
          <p:cNvGraphicFramePr/>
          <p:nvPr/>
        </p:nvGraphicFramePr>
        <p:xfrm>
          <a:off x="3317760" y="3465360"/>
          <a:ext cx="717840" cy="554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17760" y="3465360"/>
                    <a:ext cx="7178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2705040" y="3976560"/>
                <a:ext cx="20016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51" name=""/>
          <p:cNvGraphicFramePr/>
          <p:nvPr/>
        </p:nvGraphicFramePr>
        <p:xfrm>
          <a:off x="6515280" y="5302080"/>
          <a:ext cx="441000" cy="312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5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5280" y="5302080"/>
                    <a:ext cx="4410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3" name=""/>
          <p:cNvSpPr/>
          <p:nvPr/>
        </p:nvSpPr>
        <p:spPr>
          <a:xfrm>
            <a:off x="987480" y="5280120"/>
            <a:ext cx="61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тім диференціюємо за часом, після чого діли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4" name=""/>
          <p:cNvGraphicFramePr/>
          <p:nvPr/>
        </p:nvGraphicFramePr>
        <p:xfrm>
          <a:off x="5889600" y="3782880"/>
          <a:ext cx="855720" cy="592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89600" y="3782880"/>
                    <a:ext cx="8557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6" name=""/>
          <p:cNvGraphicFramePr/>
          <p:nvPr/>
        </p:nvGraphicFramePr>
        <p:xfrm>
          <a:off x="4668840" y="5708520"/>
          <a:ext cx="1224000" cy="628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68840" y="5708520"/>
                    <a:ext cx="12240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8" name=""/>
          <p:cNvSpPr/>
          <p:nvPr/>
        </p:nvSpPr>
        <p:spPr>
          <a:xfrm>
            <a:off x="5286240" y="1425600"/>
            <a:ext cx="306360" cy="403200"/>
          </a:xfrm>
          <a:custGeom>
            <a:avLst/>
            <a:gdLst>
              <a:gd name="textAreaLeft" fmla="*/ 19800 w 306360"/>
              <a:gd name="textAreaRight" fmla="*/ 286560 w 306360"/>
              <a:gd name="textAreaTop" fmla="*/ 19800 h 403200"/>
              <a:gd name="textAreaBottom" fmla="*/ 383400 h 403200"/>
            </a:gdLst>
            <a:ahLst/>
            <a:rect l="textAreaLeft" t="textAreaTop" r="textAreaRight" b="textAreaBottom"/>
            <a:pathLst>
              <a:path w="21600" h="28420">
                <a:moveTo>
                  <a:pt x="0" y="0"/>
                </a:moveTo>
                <a:lnTo>
                  <a:pt x="21600" y="0"/>
                </a:lnTo>
                <a:lnTo>
                  <a:pt x="21600" y="28420"/>
                </a:lnTo>
                <a:lnTo>
                  <a:pt x="0" y="28420"/>
                </a:lnTo>
                <a:close/>
              </a:path>
              <a:path fill="lightenLess" w="21600" h="284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20">
                <a:moveTo>
                  <a:pt x="21600" y="0"/>
                </a:moveTo>
                <a:lnTo>
                  <a:pt x="21600" y="28420"/>
                </a:lnTo>
                <a:lnTo>
                  <a:pt x="20200" y="27020"/>
                </a:lnTo>
                <a:lnTo>
                  <a:pt x="20200" y="1400"/>
                </a:lnTo>
                <a:close/>
              </a:path>
              <a:path fill="darkenLess" w="21600" h="28420">
                <a:moveTo>
                  <a:pt x="21600" y="28420"/>
                </a:moveTo>
                <a:lnTo>
                  <a:pt x="0" y="28420"/>
                </a:lnTo>
                <a:lnTo>
                  <a:pt x="1400" y="27020"/>
                </a:lnTo>
                <a:lnTo>
                  <a:pt x="20200" y="27020"/>
                </a:lnTo>
                <a:close/>
              </a:path>
              <a:path fill="lighten" w="21600" h="28420">
                <a:moveTo>
                  <a:pt x="0" y="284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20"/>
                </a:lnTo>
                <a:close/>
              </a:path>
              <a:path fill="darken" w="21600" h="28420">
                <a:moveTo>
                  <a:pt x="10800" y="1821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420">
                <a:moveTo>
                  <a:pt x="11905" y="17691"/>
                </a:moveTo>
                <a:lnTo>
                  <a:pt x="11905" y="15733"/>
                </a:lnTo>
                <a:cubicBezTo>
                  <a:pt x="11905" y="14906"/>
                  <a:pt x="12236" y="14210"/>
                  <a:pt x="12837" y="14210"/>
                </a:cubicBezTo>
                <a:cubicBezTo>
                  <a:pt x="13968" y="14210"/>
                  <a:pt x="14865" y="12843"/>
                  <a:pt x="14865" y="11259"/>
                </a:cubicBezTo>
                <a:cubicBezTo>
                  <a:pt x="14865" y="8944"/>
                  <a:pt x="13011" y="7203"/>
                  <a:pt x="10800" y="7203"/>
                </a:cubicBezTo>
                <a:cubicBezTo>
                  <a:pt x="8589" y="7203"/>
                  <a:pt x="6918" y="8944"/>
                  <a:pt x="6918" y="11259"/>
                </a:cubicBezTo>
                <a:lnTo>
                  <a:pt x="8772" y="11259"/>
                </a:lnTo>
                <a:cubicBezTo>
                  <a:pt x="8772" y="10119"/>
                  <a:pt x="9695" y="9231"/>
                  <a:pt x="10800" y="9231"/>
                </a:cubicBezTo>
                <a:cubicBezTo>
                  <a:pt x="11905" y="9231"/>
                  <a:pt x="12837" y="10119"/>
                  <a:pt x="12837" y="11259"/>
                </a:cubicBezTo>
                <a:cubicBezTo>
                  <a:pt x="12837" y="11999"/>
                  <a:pt x="12367" y="12730"/>
                  <a:pt x="11905" y="12730"/>
                </a:cubicBezTo>
                <a:cubicBezTo>
                  <a:pt x="10800" y="12730"/>
                  <a:pt x="9695" y="14210"/>
                  <a:pt x="9695" y="15733"/>
                </a:cubicBezTo>
                <a:lnTo>
                  <a:pt x="9695" y="176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9" name=""/>
          <p:cNvGraphicFramePr/>
          <p:nvPr/>
        </p:nvGraphicFramePr>
        <p:xfrm>
          <a:off x="3768840" y="4724280"/>
          <a:ext cx="2408040" cy="63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6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68840" y="4724280"/>
                    <a:ext cx="240804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2" name=""/>
          <p:cNvGraphicFramePr/>
          <p:nvPr/>
        </p:nvGraphicFramePr>
        <p:xfrm>
          <a:off x="2830680" y="5878440"/>
          <a:ext cx="1869840" cy="347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6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30680" y="5878440"/>
                    <a:ext cx="18698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"/>
          <p:cNvSpPr/>
          <p:nvPr/>
        </p:nvSpPr>
        <p:spPr>
          <a:xfrm>
            <a:off x="704880" y="4084560"/>
            <a:ext cx="42840" cy="2184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25600" y="35640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5853240" y="5832360"/>
            <a:ext cx="27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Що і треба було дов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Управляющая кнопка: домой 85">
            <a:hlinkClick r:id="rId2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>
            <a:hlinkClick r:id="rId28" action="ppaction://hlinksldjump"/>
          </p:cNvPr>
          <p:cNvSpPr/>
          <p:nvPr/>
        </p:nvSpPr>
        <p:spPr>
          <a:xfrm>
            <a:off x="810576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286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800440" y="27612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Математичний ма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7840" y="4255920"/>
            <a:ext cx="33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ді рівняння набуває вигля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97360" y="4745160"/>
          <a:ext cx="16588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7360" y="4745160"/>
                    <a:ext cx="1658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502240" y="479736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тже, для малих куті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959280" y="5362560"/>
          <a:ext cx="92052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9280" y="5362560"/>
                    <a:ext cx="9205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797040" y="59119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залежить період малих коливань математичного маятника від мас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952800" y="3733920"/>
            <a:ext cx="3562200" cy="376200"/>
            <a:chOff x="3952800" y="3733920"/>
            <a:chExt cx="3562200" cy="376200"/>
          </a:xfrm>
        </p:grpSpPr>
        <p:sp>
          <p:nvSpPr>
            <p:cNvPr id="297" name=""/>
            <p:cNvSpPr/>
            <p:nvPr/>
          </p:nvSpPr>
          <p:spPr>
            <a:xfrm>
              <a:off x="3952800" y="3733920"/>
              <a:ext cx="356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Якщо                 , т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8" name=""/>
            <p:cNvGraphicFramePr/>
            <p:nvPr/>
          </p:nvGraphicFramePr>
          <p:xfrm>
            <a:off x="4659120" y="3741840"/>
            <a:ext cx="8715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59120" y="3741840"/>
                      <a:ext cx="8715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0" name=""/>
            <p:cNvGraphicFramePr/>
            <p:nvPr/>
          </p:nvGraphicFramePr>
          <p:xfrm>
            <a:off x="5979960" y="3765600"/>
            <a:ext cx="1141560" cy="316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79960" y="3765600"/>
                      <a:ext cx="1141560" cy="3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2" name=""/>
          <p:cNvGrpSpPr/>
          <p:nvPr/>
        </p:nvGrpSpPr>
        <p:grpSpPr>
          <a:xfrm>
            <a:off x="4853160" y="5253120"/>
            <a:ext cx="497880" cy="552240"/>
            <a:chOff x="4853160" y="5253120"/>
            <a:chExt cx="497880" cy="552240"/>
          </a:xfrm>
        </p:grpSpPr>
        <p:sp>
          <p:nvSpPr>
            <p:cNvPr id="303" name="">
              <a:hlinkClick r:id="rId9" action="ppaction://hlinksldjump"/>
            </p:cNvPr>
            <p:cNvSpPr/>
            <p:nvPr/>
          </p:nvSpPr>
          <p:spPr>
            <a:xfrm>
              <a:off x="4853160" y="531648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60880" y="5253120"/>
              <a:ext cx="29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33360" y="5688000"/>
            <a:ext cx="587520" cy="560160"/>
            <a:chOff x="333360" y="5688000"/>
            <a:chExt cx="587520" cy="560160"/>
          </a:xfrm>
        </p:grpSpPr>
        <p:sp>
          <p:nvSpPr>
            <p:cNvPr id="306" name="">
              <a:hlinkClick r:id="rId10" action="ppaction://hlinksldjump"/>
            </p:cNvPr>
            <p:cNvSpPr/>
            <p:nvPr/>
          </p:nvSpPr>
          <p:spPr>
            <a:xfrm>
              <a:off x="333360" y="5759280"/>
              <a:ext cx="476280" cy="48888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71">
                  <a:moveTo>
                    <a:pt x="0" y="0"/>
                  </a:moveTo>
                  <a:lnTo>
                    <a:pt x="21600" y="0"/>
                  </a:lnTo>
                  <a:lnTo>
                    <a:pt x="21600" y="22171"/>
                  </a:lnTo>
                  <a:lnTo>
                    <a:pt x="0" y="22171"/>
                  </a:lnTo>
                  <a:close/>
                </a:path>
                <a:path fill="lightenLess" w="21600" h="2217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71">
                  <a:moveTo>
                    <a:pt x="21600" y="0"/>
                  </a:moveTo>
                  <a:lnTo>
                    <a:pt x="21600" y="22171"/>
                  </a:lnTo>
                  <a:lnTo>
                    <a:pt x="20200" y="20771"/>
                  </a:lnTo>
                  <a:lnTo>
                    <a:pt x="20200" y="1400"/>
                  </a:lnTo>
                  <a:close/>
                </a:path>
                <a:path fill="darkenLess" w="21600" h="22171">
                  <a:moveTo>
                    <a:pt x="21600" y="22171"/>
                  </a:moveTo>
                  <a:lnTo>
                    <a:pt x="0" y="22171"/>
                  </a:lnTo>
                  <a:lnTo>
                    <a:pt x="1400" y="20771"/>
                  </a:lnTo>
                  <a:lnTo>
                    <a:pt x="20200" y="20771"/>
                  </a:lnTo>
                  <a:close/>
                </a:path>
                <a:path fill="lighten" w="21600" h="22171">
                  <a:moveTo>
                    <a:pt x="0" y="2217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71"/>
                  </a:lnTo>
                  <a:close/>
                </a:path>
                <a:path fill="darken" w="21600" h="22171">
                  <a:moveTo>
                    <a:pt x="10800" y="15089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71">
                  <a:moveTo>
                    <a:pt x="11905" y="14567"/>
                  </a:moveTo>
                  <a:lnTo>
                    <a:pt x="11905" y="12609"/>
                  </a:lnTo>
                  <a:cubicBezTo>
                    <a:pt x="11905" y="11782"/>
                    <a:pt x="12236" y="11085"/>
                    <a:pt x="12837" y="11085"/>
                  </a:cubicBezTo>
                  <a:cubicBezTo>
                    <a:pt x="13968" y="11085"/>
                    <a:pt x="14865" y="9719"/>
                    <a:pt x="14865" y="8135"/>
                  </a:cubicBezTo>
                  <a:cubicBezTo>
                    <a:pt x="14865" y="5820"/>
                    <a:pt x="13011" y="4079"/>
                    <a:pt x="10800" y="4079"/>
                  </a:cubicBezTo>
                  <a:cubicBezTo>
                    <a:pt x="8589" y="4079"/>
                    <a:pt x="6918" y="5820"/>
                    <a:pt x="6918" y="8135"/>
                  </a:cubicBezTo>
                  <a:lnTo>
                    <a:pt x="8772" y="8135"/>
                  </a:lnTo>
                  <a:cubicBezTo>
                    <a:pt x="8772" y="6995"/>
                    <a:pt x="9695" y="6107"/>
                    <a:pt x="10800" y="6107"/>
                  </a:cubicBezTo>
                  <a:cubicBezTo>
                    <a:pt x="11905" y="6107"/>
                    <a:pt x="12837" y="6995"/>
                    <a:pt x="12837" y="8135"/>
                  </a:cubicBezTo>
                  <a:cubicBezTo>
                    <a:pt x="12837" y="8875"/>
                    <a:pt x="12367" y="9606"/>
                    <a:pt x="11905" y="9606"/>
                  </a:cubicBezTo>
                  <a:cubicBezTo>
                    <a:pt x="10800" y="9606"/>
                    <a:pt x="9695" y="11085"/>
                    <a:pt x="9695" y="12609"/>
                  </a:cubicBezTo>
                  <a:lnTo>
                    <a:pt x="9695" y="145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3800" y="568800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52280" y="1176480"/>
            <a:ext cx="2803680" cy="3902040"/>
            <a:chOff x="152280" y="1176480"/>
            <a:chExt cx="2803680" cy="3902040"/>
          </a:xfrm>
        </p:grpSpPr>
        <p:pic>
          <p:nvPicPr>
            <p:cNvPr id="309" name="" descr=""/>
            <p:cNvPicPr/>
            <p:nvPr/>
          </p:nvPicPr>
          <p:blipFill>
            <a:blip r:embed="rId11"/>
            <a:stretch/>
          </p:blipFill>
          <p:spPr>
            <a:xfrm>
              <a:off x="152280" y="3833640"/>
              <a:ext cx="2248200" cy="505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0" name=""/>
            <p:cNvGraphicFramePr/>
            <p:nvPr/>
          </p:nvGraphicFramePr>
          <p:xfrm>
            <a:off x="2746440" y="3790800"/>
            <a:ext cx="209520" cy="279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746440" y="3790800"/>
                      <a:ext cx="209520" cy="2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2" name=""/>
            <p:cNvGrpSpPr/>
            <p:nvPr/>
          </p:nvGrpSpPr>
          <p:grpSpPr>
            <a:xfrm>
              <a:off x="2114640" y="1467000"/>
              <a:ext cx="287280" cy="409320"/>
              <a:chOff x="2114640" y="1467000"/>
              <a:chExt cx="287280" cy="409320"/>
            </a:xfrm>
          </p:grpSpPr>
          <p:sp>
            <p:nvSpPr>
              <p:cNvPr id="313" name=""/>
              <p:cNvSpPr/>
              <p:nvPr/>
            </p:nvSpPr>
            <p:spPr>
              <a:xfrm>
                <a:off x="2114640" y="1467000"/>
                <a:ext cx="0" cy="40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14" name=""/>
              <p:cNvGraphicFramePr/>
              <p:nvPr/>
            </p:nvGraphicFramePr>
            <p:xfrm>
              <a:off x="2140200" y="1487520"/>
              <a:ext cx="261720" cy="37404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2140200" y="1487520"/>
                        <a:ext cx="261720" cy="37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316" name="" descr=""/>
            <p:cNvPicPr/>
            <p:nvPr/>
          </p:nvPicPr>
          <p:blipFill>
            <a:blip r:embed="rId16"/>
            <a:stretch/>
          </p:blipFill>
          <p:spPr>
            <a:xfrm>
              <a:off x="547560" y="1176480"/>
              <a:ext cx="11336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076400" y="1419120"/>
              <a:ext cx="0" cy="3029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76400" y="1419120"/>
              <a:ext cx="1038240" cy="26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81160" y="4029120"/>
              <a:ext cx="8244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85840" y="4114800"/>
              <a:ext cx="82800" cy="905040"/>
            </a:xfrm>
            <a:prstGeom prst="downArrow">
              <a:avLst>
                <a:gd name="adj1" fmla="val 50000"/>
                <a:gd name="adj2" fmla="val 273261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00200" y="2760840"/>
              <a:ext cx="760320" cy="19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9486000">
              <a:off x="1837800" y="2862000"/>
              <a:ext cx="84240" cy="1209600"/>
            </a:xfrm>
            <a:prstGeom prst="downArrow">
              <a:avLst>
                <a:gd name="adj1" fmla="val 50000"/>
                <a:gd name="adj2" fmla="val 35897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3" name=""/>
            <p:cNvGraphicFramePr/>
            <p:nvPr/>
          </p:nvGraphicFramePr>
          <p:xfrm>
            <a:off x="1881360" y="3057480"/>
            <a:ext cx="261720" cy="355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881360" y="3057480"/>
                      <a:ext cx="261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"/>
            <p:cNvGraphicFramePr/>
            <p:nvPr/>
          </p:nvGraphicFramePr>
          <p:xfrm>
            <a:off x="2181240" y="4719600"/>
            <a:ext cx="422280" cy="358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2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181240" y="4719600"/>
                      <a:ext cx="42228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7" name=""/>
            <p:cNvSpPr/>
            <p:nvPr/>
          </p:nvSpPr>
          <p:spPr>
            <a:xfrm flipV="1">
              <a:off x="1285920" y="3768480"/>
              <a:ext cx="163332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085760" y="1819440"/>
              <a:ext cx="228600" cy="352440"/>
              <a:chOff x="1085760" y="1819440"/>
              <a:chExt cx="228600" cy="352440"/>
            </a:xfrm>
          </p:grpSpPr>
          <p:sp>
            <p:nvSpPr>
              <p:cNvPr id="329" name=""/>
              <p:cNvSpPr/>
              <p:nvPr/>
            </p:nvSpPr>
            <p:spPr>
              <a:xfrm>
                <a:off x="1085760" y="1819440"/>
                <a:ext cx="162000" cy="85680"/>
              </a:xfrm>
              <a:custGeom>
                <a:avLst/>
                <a:gdLst/>
                <a:ahLst/>
                <a:rect l="l" t="t" r="r" b="b"/>
                <a:pathLst>
                  <a:path w="102" h="54">
                    <a:moveTo>
                      <a:pt x="0" y="54"/>
                    </a:moveTo>
                    <a:cubicBezTo>
                      <a:pt x="31" y="48"/>
                      <a:pt x="58" y="42"/>
                      <a:pt x="84" y="24"/>
                    </a:cubicBezTo>
                    <a:cubicBezTo>
                      <a:pt x="98" y="4"/>
                      <a:pt x="91" y="11"/>
                      <a:pt x="102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30" name=""/>
              <p:cNvGraphicFramePr/>
              <p:nvPr/>
            </p:nvGraphicFramePr>
            <p:xfrm>
              <a:off x="1089000" y="1917720"/>
              <a:ext cx="225360" cy="25416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33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1089000" y="1917720"/>
                        <a:ext cx="225360" cy="254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32" name=""/>
            <p:cNvGraphicFramePr/>
            <p:nvPr/>
          </p:nvGraphicFramePr>
          <p:xfrm>
            <a:off x="1457280" y="2124000"/>
            <a:ext cx="173160" cy="2970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3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457280" y="2124000"/>
                      <a:ext cx="173160" cy="2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4" name=""/>
          <p:cNvGraphicFramePr/>
          <p:nvPr/>
        </p:nvGraphicFramePr>
        <p:xfrm>
          <a:off x="4199040" y="1539720"/>
          <a:ext cx="852480" cy="351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199040" y="1539720"/>
                    <a:ext cx="85248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165560" y="2755800"/>
          <a:ext cx="2119320" cy="414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165560" y="2755800"/>
                    <a:ext cx="21193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4438800" y="1492200"/>
            <a:ext cx="380880" cy="4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4726080" y="1875960"/>
            <a:ext cx="45864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68880" y="223056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59520" y="2103480"/>
            <a:ext cx="247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тангенціальна складова прискор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56240" y="2836800"/>
            <a:ext cx="2952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86280" y="3124080"/>
            <a:ext cx="4762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48160" y="338148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072040" y="1393920"/>
            <a:ext cx="620280" cy="550800"/>
            <a:chOff x="5072040" y="1393920"/>
            <a:chExt cx="620280" cy="550800"/>
          </a:xfrm>
        </p:grpSpPr>
        <p:sp>
          <p:nvSpPr>
            <p:cNvPr id="346" name="">
              <a:hlinkClick r:id="rId29" action="ppaction://hlinksldjump"/>
            </p:cNvPr>
            <p:cNvSpPr/>
            <p:nvPr/>
          </p:nvSpPr>
          <p:spPr>
            <a:xfrm>
              <a:off x="5072040" y="145584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4600" y="1393920"/>
              <a:ext cx="47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425920" y="3129120"/>
            <a:ext cx="596880" cy="549000"/>
            <a:chOff x="5425920" y="3129120"/>
            <a:chExt cx="596880" cy="549000"/>
          </a:xfrm>
        </p:grpSpPr>
        <p:sp>
          <p:nvSpPr>
            <p:cNvPr id="349" name="">
              <a:hlinkClick r:id="rId30" action="ppaction://hlinksldjump"/>
            </p:cNvPr>
            <p:cNvSpPr/>
            <p:nvPr/>
          </p:nvSpPr>
          <p:spPr>
            <a:xfrm>
              <a:off x="5425920" y="3189240"/>
              <a:ext cx="510840" cy="488880"/>
            </a:xfrm>
            <a:custGeom>
              <a:avLst/>
              <a:gdLst>
                <a:gd name="textAreaLeft" fmla="*/ 31680 w 510840"/>
                <a:gd name="textAreaRight" fmla="*/ 479160 w 510840"/>
                <a:gd name="textAreaTop" fmla="*/ 31680 h 488880"/>
                <a:gd name="textAreaBottom" fmla="*/ 457200 h 488880"/>
              </a:gdLst>
              <a:ahLst/>
              <a:rect l="textAreaLeft" t="textAreaTop" r="textAreaRight" b="textAreaBottom"/>
              <a:pathLst>
                <a:path w="22570" h="21600">
                  <a:moveTo>
                    <a:pt x="0" y="0"/>
                  </a:moveTo>
                  <a:lnTo>
                    <a:pt x="22570" y="0"/>
                  </a:lnTo>
                  <a:lnTo>
                    <a:pt x="22570" y="21600"/>
                  </a:lnTo>
                  <a:lnTo>
                    <a:pt x="0" y="21600"/>
                  </a:lnTo>
                  <a:close/>
                </a:path>
                <a:path fill="lightenLess" w="22570" h="21600">
                  <a:moveTo>
                    <a:pt x="0" y="0"/>
                  </a:moveTo>
                  <a:lnTo>
                    <a:pt x="22570" y="0"/>
                  </a:lnTo>
                  <a:lnTo>
                    <a:pt x="21170" y="1400"/>
                  </a:lnTo>
                  <a:lnTo>
                    <a:pt x="1400" y="1400"/>
                  </a:lnTo>
                  <a:close/>
                </a:path>
                <a:path fill="darken" w="22570" h="21600">
                  <a:moveTo>
                    <a:pt x="22570" y="0"/>
                  </a:moveTo>
                  <a:lnTo>
                    <a:pt x="22570" y="21600"/>
                  </a:lnTo>
                  <a:lnTo>
                    <a:pt x="21170" y="20200"/>
                  </a:lnTo>
                  <a:lnTo>
                    <a:pt x="21170" y="1400"/>
                  </a:lnTo>
                  <a:close/>
                </a:path>
                <a:path fill="darkenLess" w="22570" h="21600">
                  <a:moveTo>
                    <a:pt x="2257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170" y="20200"/>
                  </a:lnTo>
                  <a:close/>
                </a:path>
                <a:path fill="lighten" w="2257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570" h="21600">
                  <a:moveTo>
                    <a:pt x="11285" y="1480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2570" h="21600">
                  <a:moveTo>
                    <a:pt x="12390" y="14281"/>
                  </a:moveTo>
                  <a:lnTo>
                    <a:pt x="12390" y="12323"/>
                  </a:lnTo>
                  <a:cubicBezTo>
                    <a:pt x="12390" y="11496"/>
                    <a:pt x="12721" y="10800"/>
                    <a:pt x="13321" y="10800"/>
                  </a:cubicBezTo>
                  <a:cubicBezTo>
                    <a:pt x="14453" y="10800"/>
                    <a:pt x="15349" y="9434"/>
                    <a:pt x="15349" y="7849"/>
                  </a:cubicBezTo>
                  <a:cubicBezTo>
                    <a:pt x="15349" y="5534"/>
                    <a:pt x="13496" y="3794"/>
                    <a:pt x="11285" y="3794"/>
                  </a:cubicBezTo>
                  <a:cubicBezTo>
                    <a:pt x="9074" y="3794"/>
                    <a:pt x="7403" y="5534"/>
                    <a:pt x="7403" y="7849"/>
                  </a:cubicBezTo>
                  <a:lnTo>
                    <a:pt x="9257" y="7849"/>
                  </a:lnTo>
                  <a:cubicBezTo>
                    <a:pt x="9257" y="6709"/>
                    <a:pt x="10179" y="5821"/>
                    <a:pt x="11285" y="5821"/>
                  </a:cubicBezTo>
                  <a:cubicBezTo>
                    <a:pt x="12390" y="5821"/>
                    <a:pt x="13321" y="6709"/>
                    <a:pt x="13321" y="7849"/>
                  </a:cubicBezTo>
                  <a:cubicBezTo>
                    <a:pt x="13321" y="8589"/>
                    <a:pt x="12851" y="9320"/>
                    <a:pt x="12390" y="9320"/>
                  </a:cubicBezTo>
                  <a:cubicBezTo>
                    <a:pt x="11285" y="9320"/>
                    <a:pt x="10179" y="10800"/>
                    <a:pt x="10179" y="12323"/>
                  </a:cubicBezTo>
                  <a:lnTo>
                    <a:pt x="10179" y="142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38320" y="3129120"/>
              <a:ext cx="38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641680" y="744480"/>
            <a:ext cx="593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ругий закон Ньютона для тангенціальних складових прискорення та сил запишеться у вигляд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81480" y="28130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75320" y="1751040"/>
            <a:ext cx="25560" cy="25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Управляющая кнопка: домой 85">
            <a:hlinkClick r:id="rId3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5324400" y="1603440"/>
                <a:ext cx="1424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992160" y="4397400"/>
            <a:ext cx="772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раховуючи, що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— кутова швидкість, приходимо до кінцевого вигляду формули для кінетичної енергії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4" name=""/>
          <p:cNvGraphicFramePr/>
          <p:nvPr/>
        </p:nvGraphicFramePr>
        <p:xfrm>
          <a:off x="3467160" y="5118120"/>
          <a:ext cx="103824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5118120"/>
                    <a:ext cx="10382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7" name=""/>
          <p:cNvGraphicFramePr/>
          <p:nvPr/>
        </p:nvGraphicFramePr>
        <p:xfrm>
          <a:off x="2727360" y="4406760"/>
          <a:ext cx="243000" cy="3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7360" y="4406760"/>
                    <a:ext cx="2430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9" name=""/>
          <p:cNvGrpSpPr/>
          <p:nvPr/>
        </p:nvGrpSpPr>
        <p:grpSpPr>
          <a:xfrm>
            <a:off x="-108360" y="-1307520"/>
            <a:ext cx="5181840" cy="5407200"/>
            <a:chOff x="-108360" y="-1307520"/>
            <a:chExt cx="5181840" cy="5407200"/>
          </a:xfrm>
        </p:grpSpPr>
        <p:sp>
          <p:nvSpPr>
            <p:cNvPr id="2280" name=""/>
            <p:cNvSpPr/>
            <p:nvPr/>
          </p:nvSpPr>
          <p:spPr>
            <a:xfrm>
              <a:off x="1927080" y="3113280"/>
              <a:ext cx="4140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1" name="" descr=""/>
            <p:cNvPicPr/>
            <p:nvPr/>
          </p:nvPicPr>
          <p:blipFill>
            <a:blip r:embed="rId5"/>
            <a:stretch/>
          </p:blipFill>
          <p:spPr>
            <a:xfrm rot="18949200">
              <a:off x="1531440" y="564840"/>
              <a:ext cx="2116440" cy="325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2" name=""/>
            <p:cNvGrpSpPr/>
            <p:nvPr/>
          </p:nvGrpSpPr>
          <p:grpSpPr>
            <a:xfrm>
              <a:off x="-108360" y="-1307520"/>
              <a:ext cx="4264560" cy="4706640"/>
              <a:chOff x="-108360" y="-1307520"/>
              <a:chExt cx="4264560" cy="4706640"/>
            </a:xfrm>
          </p:grpSpPr>
          <p:grpSp>
            <p:nvGrpSpPr>
              <p:cNvPr id="2283" name=""/>
              <p:cNvGrpSpPr/>
              <p:nvPr/>
            </p:nvGrpSpPr>
            <p:grpSpPr>
              <a:xfrm>
                <a:off x="3207960" y="798840"/>
                <a:ext cx="287280" cy="409680"/>
                <a:chOff x="3207960" y="798840"/>
                <a:chExt cx="287280" cy="409680"/>
              </a:xfrm>
            </p:grpSpPr>
            <p:sp>
              <p:nvSpPr>
                <p:cNvPr id="2284" name=""/>
                <p:cNvSpPr/>
                <p:nvPr/>
              </p:nvSpPr>
              <p:spPr>
                <a:xfrm>
                  <a:off x="3207960" y="798840"/>
                  <a:ext cx="0" cy="409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285" name=""/>
                <p:cNvGraphicFramePr/>
                <p:nvPr/>
              </p:nvGraphicFramePr>
              <p:xfrm>
                <a:off x="3233520" y="819720"/>
                <a:ext cx="261720" cy="37440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2286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3233520" y="819720"/>
                          <a:ext cx="261720" cy="37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287" name=""/>
              <p:cNvSpPr/>
              <p:nvPr/>
            </p:nvSpPr>
            <p:spPr>
              <a:xfrm>
                <a:off x="2226960" y="760680"/>
                <a:ext cx="0" cy="26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2236680" y="1370160"/>
                <a:ext cx="494640" cy="9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203200" y="1332000"/>
                <a:ext cx="439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706480" y="2311560"/>
                <a:ext cx="439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V="1" rot="3128400">
                <a:off x="375120" y="-554040"/>
                <a:ext cx="3297240" cy="28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192" y="4002"/>
                    </a:moveTo>
                    <a:arcTo wR="10800" hR="10800" stAng="-2340611" swAng="17214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192" y="4002"/>
                    </a:moveTo>
                    <a:arcTo wR="10800" hR="10800" stAng="-2340611" swAng="17214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2" name=""/>
              <p:cNvGrpSpPr/>
              <p:nvPr/>
            </p:nvGrpSpPr>
            <p:grpSpPr>
              <a:xfrm>
                <a:off x="2219040" y="1638720"/>
                <a:ext cx="227880" cy="352440"/>
                <a:chOff x="2219040" y="1638720"/>
                <a:chExt cx="227880" cy="352440"/>
              </a:xfrm>
            </p:grpSpPr>
            <p:sp>
              <p:nvSpPr>
                <p:cNvPr id="2293" name=""/>
                <p:cNvSpPr/>
                <p:nvPr/>
              </p:nvSpPr>
              <p:spPr>
                <a:xfrm>
                  <a:off x="2219040" y="1638720"/>
                  <a:ext cx="161640" cy="8568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294" name=""/>
                <p:cNvGraphicFramePr/>
                <p:nvPr/>
              </p:nvGraphicFramePr>
              <p:xfrm>
                <a:off x="2221920" y="1737000"/>
                <a:ext cx="225000" cy="254160"/>
              </p:xfrm>
              <a:graphic>
                <a:graphicData uri="http://schemas.openxmlformats.org/presentationml/2006/ole">
                  <p:oleObj r:id="rId8" spid="">
                    <p:embed/>
                    <p:pic>
                      <p:nvPicPr>
                        <p:cNvPr id="2295" name="" descr=""/>
                        <p:cNvPicPr/>
                        <p:nvPr/>
                      </p:nvPicPr>
                      <p:blipFill>
                        <a:blip r:embed="rId9"/>
                        <a:stretch/>
                      </p:blipFill>
                      <p:spPr>
                        <a:xfrm>
                          <a:off x="2221920" y="1737000"/>
                          <a:ext cx="225000" cy="254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296" name=""/>
              <p:cNvSpPr/>
              <p:nvPr/>
            </p:nvSpPr>
            <p:spPr>
              <a:xfrm>
                <a:off x="1581120" y="1009800"/>
                <a:ext cx="62856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97" name=""/>
              <p:cNvGraphicFramePr/>
              <p:nvPr/>
            </p:nvGraphicFramePr>
            <p:xfrm>
              <a:off x="2471400" y="1676520"/>
              <a:ext cx="239400" cy="2383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298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2471400" y="1676520"/>
                        <a:ext cx="239400" cy="23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299" name=""/>
            <p:cNvSpPr/>
            <p:nvPr/>
          </p:nvSpPr>
          <p:spPr>
            <a:xfrm flipH="1" flipV="1">
              <a:off x="2733840" y="2343240"/>
              <a:ext cx="1000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664080" y="2511720"/>
              <a:ext cx="140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центр ма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01" name=""/>
            <p:cNvGraphicFramePr/>
            <p:nvPr/>
          </p:nvGraphicFramePr>
          <p:xfrm>
            <a:off x="2637000" y="2614680"/>
            <a:ext cx="561960" cy="3938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30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637000" y="2614680"/>
                      <a:ext cx="56196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3" name=""/>
            <p:cNvSpPr/>
            <p:nvPr/>
          </p:nvSpPr>
          <p:spPr>
            <a:xfrm>
              <a:off x="2619360" y="2629080"/>
              <a:ext cx="200160" cy="32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>
              <a:off x="1962000" y="2819520"/>
              <a:ext cx="65736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42880" y="2976840"/>
              <a:ext cx="152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Comic Sans MS"/>
                </a:rPr>
                <a:t>момент інерції тіла відносно осі оберта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6" name=""/>
          <p:cNvSpPr/>
          <p:nvPr/>
        </p:nvSpPr>
        <p:spPr>
          <a:xfrm>
            <a:off x="6000840" y="1625760"/>
            <a:ext cx="353880" cy="441000"/>
          </a:xfrm>
          <a:custGeom>
            <a:avLst/>
            <a:gdLst>
              <a:gd name="textAreaLeft" fmla="*/ 22680 w 353880"/>
              <a:gd name="textAreaRight" fmla="*/ 331200 w 353880"/>
              <a:gd name="textAreaTop" fmla="*/ 22680 h 441000"/>
              <a:gd name="textAreaBottom" fmla="*/ 418320 h 441000"/>
            </a:gdLst>
            <a:ahLst/>
            <a:rect l="textAreaLeft" t="textAreaTop" r="textAreaRight" b="textAreaBottom"/>
            <a:pathLst>
              <a:path w="21600" h="26912">
                <a:moveTo>
                  <a:pt x="0" y="0"/>
                </a:moveTo>
                <a:lnTo>
                  <a:pt x="21600" y="0"/>
                </a:lnTo>
                <a:lnTo>
                  <a:pt x="21600" y="26912"/>
                </a:lnTo>
                <a:lnTo>
                  <a:pt x="0" y="26912"/>
                </a:lnTo>
                <a:close/>
              </a:path>
              <a:path fill="lightenLess" w="21600" h="269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2">
                <a:moveTo>
                  <a:pt x="21600" y="0"/>
                </a:moveTo>
                <a:lnTo>
                  <a:pt x="21600" y="26912"/>
                </a:lnTo>
                <a:lnTo>
                  <a:pt x="20200" y="25512"/>
                </a:lnTo>
                <a:lnTo>
                  <a:pt x="20200" y="1400"/>
                </a:lnTo>
                <a:close/>
              </a:path>
              <a:path fill="darkenLess" w="21600" h="26912">
                <a:moveTo>
                  <a:pt x="21600" y="26912"/>
                </a:moveTo>
                <a:lnTo>
                  <a:pt x="0" y="26912"/>
                </a:lnTo>
                <a:lnTo>
                  <a:pt x="1400" y="25512"/>
                </a:lnTo>
                <a:lnTo>
                  <a:pt x="20200" y="25512"/>
                </a:lnTo>
                <a:close/>
              </a:path>
              <a:path fill="lighten" w="21600" h="26912">
                <a:moveTo>
                  <a:pt x="0" y="269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2"/>
                </a:lnTo>
                <a:close/>
              </a:path>
              <a:path fill="darken" w="21600" h="26912">
                <a:moveTo>
                  <a:pt x="10800" y="1746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912">
                <a:moveTo>
                  <a:pt x="11905" y="16938"/>
                </a:moveTo>
                <a:lnTo>
                  <a:pt x="11905" y="14979"/>
                </a:lnTo>
                <a:cubicBezTo>
                  <a:pt x="11905" y="14152"/>
                  <a:pt x="12236" y="13456"/>
                  <a:pt x="12837" y="13456"/>
                </a:cubicBezTo>
                <a:cubicBezTo>
                  <a:pt x="13968" y="13456"/>
                  <a:pt x="14865" y="12090"/>
                  <a:pt x="14865" y="10506"/>
                </a:cubicBezTo>
                <a:cubicBezTo>
                  <a:pt x="14865" y="8190"/>
                  <a:pt x="13011" y="6450"/>
                  <a:pt x="10800" y="6450"/>
                </a:cubicBezTo>
                <a:cubicBezTo>
                  <a:pt x="8589" y="6450"/>
                  <a:pt x="6918" y="8190"/>
                  <a:pt x="6918" y="10506"/>
                </a:cubicBezTo>
                <a:lnTo>
                  <a:pt x="8772" y="10506"/>
                </a:lnTo>
                <a:cubicBezTo>
                  <a:pt x="8772" y="9365"/>
                  <a:pt x="9695" y="8478"/>
                  <a:pt x="10800" y="8478"/>
                </a:cubicBezTo>
                <a:cubicBezTo>
                  <a:pt x="11905" y="8478"/>
                  <a:pt x="12837" y="9365"/>
                  <a:pt x="12837" y="10506"/>
                </a:cubicBezTo>
                <a:cubicBezTo>
                  <a:pt x="12837" y="11245"/>
                  <a:pt x="12367" y="11976"/>
                  <a:pt x="11905" y="11976"/>
                </a:cubicBezTo>
                <a:cubicBezTo>
                  <a:pt x="10800" y="11976"/>
                  <a:pt x="9695" y="13456"/>
                  <a:pt x="9695" y="14979"/>
                </a:cubicBezTo>
                <a:lnTo>
                  <a:pt x="9695" y="169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3908520" y="4992840"/>
            <a:ext cx="276120" cy="904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-28440" y="852480"/>
            <a:ext cx="180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обертання (перпендикулярна площині рису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638280" y="4857840"/>
            <a:ext cx="42840" cy="11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449280" y="434196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Управляющая кнопка: домой 85">
            <a:hlinkClick r:id="rId1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>
            <a:hlinkClick r:id="rId15" action="ppaction://hlinksldjump"/>
          </p:cNvPr>
          <p:cNvSpPr/>
          <p:nvPr/>
        </p:nvSpPr>
        <p:spPr>
          <a:xfrm>
            <a:off x="813420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28760" y="178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3720960" y="1601640"/>
                <a:ext cx="13129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16" name=""/>
          <p:cNvSpPr/>
          <p:nvPr/>
        </p:nvSpPr>
        <p:spPr>
          <a:xfrm>
            <a:off x="831960" y="2554200"/>
            <a:ext cx="787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Формула для потенціальної енергії така сама як і у випадку математичного маятника (дивись відповідь на запитання 6.4). Треба лише замінит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2670120" y="3357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3" name=""/>
          <p:cNvGraphicFramePr/>
          <p:nvPr/>
        </p:nvGraphicFramePr>
        <p:xfrm>
          <a:off x="3586320" y="3235320"/>
          <a:ext cx="13618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6320" y="3235320"/>
                    <a:ext cx="13618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5" name=""/>
          <p:cNvGrpSpPr/>
          <p:nvPr/>
        </p:nvGrpSpPr>
        <p:grpSpPr>
          <a:xfrm>
            <a:off x="3592440" y="1128600"/>
            <a:ext cx="1436400" cy="389880"/>
            <a:chOff x="3592440" y="1128600"/>
            <a:chExt cx="1436400" cy="389880"/>
          </a:xfrm>
        </p:grpSpPr>
        <p:graphicFrame>
          <p:nvGraphicFramePr>
            <p:cNvPr id="2326" name=""/>
            <p:cNvGraphicFramePr/>
            <p:nvPr/>
          </p:nvGraphicFramePr>
          <p:xfrm>
            <a:off x="4125600" y="1128600"/>
            <a:ext cx="903240" cy="34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25600" y="1128600"/>
                      <a:ext cx="90324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8" name=""/>
            <p:cNvSpPr/>
            <p:nvPr/>
          </p:nvSpPr>
          <p:spPr>
            <a:xfrm>
              <a:off x="3592440" y="1181160"/>
              <a:ext cx="6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Д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"/>
          <p:cNvSpPr/>
          <p:nvPr/>
        </p:nvSpPr>
        <p:spPr>
          <a:xfrm>
            <a:off x="4095720" y="3265560"/>
            <a:ext cx="511200" cy="6080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334040" y="161604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461880" y="2919240"/>
            <a:ext cx="42840" cy="1098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282600" y="23972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813420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871560" y="3319560"/>
            <a:ext cx="852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дставимо вирази для кінетичної та потенціальної енергій у перше рівняння систе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9" name=""/>
          <p:cNvGraphicFramePr/>
          <p:nvPr/>
        </p:nvGraphicFramePr>
        <p:xfrm>
          <a:off x="3908520" y="3749760"/>
          <a:ext cx="250812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8520" y="3749760"/>
                    <a:ext cx="25081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1" name=""/>
          <p:cNvSpPr/>
          <p:nvPr/>
        </p:nvSpPr>
        <p:spPr>
          <a:xfrm>
            <a:off x="923760" y="4711680"/>
            <a:ext cx="45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родиференціюємо це рівняння за час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2" name=""/>
          <p:cNvGraphicFramePr/>
          <p:nvPr/>
        </p:nvGraphicFramePr>
        <p:xfrm>
          <a:off x="5275440" y="4727520"/>
          <a:ext cx="18936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75440" y="4727520"/>
                    <a:ext cx="18936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-203040" y="356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7" name=""/>
          <p:cNvGraphicFramePr/>
          <p:nvPr/>
        </p:nvGraphicFramePr>
        <p:xfrm>
          <a:off x="2717640" y="5103720"/>
          <a:ext cx="1530360" cy="6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7640" y="5103720"/>
                    <a:ext cx="1530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9" name=""/>
          <p:cNvGraphicFramePr/>
          <p:nvPr/>
        </p:nvGraphicFramePr>
        <p:xfrm>
          <a:off x="2622600" y="1062000"/>
          <a:ext cx="1533600" cy="17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2600" y="1062000"/>
                    <a:ext cx="153360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4216320" y="1627200"/>
                <a:ext cx="18129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a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4181400" y="140652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1922400" y="52531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533520" y="3778200"/>
            <a:ext cx="42840" cy="22035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353880" y="32558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4257720" y="5232240"/>
            <a:ext cx="27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Що і треба було дов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813420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7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712800" y="1311120"/>
            <a:ext cx="802944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Узагальнюючий висновок: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якщо вираз для потенціальної енергії тіла можна звести до вигляду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— узагальнена координата), а для кінетичної енергії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до вигляду                (    — узагальнена швидкість)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 це означає, що тіло здійснює гармонічні коливання з період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2" name=""/>
          <p:cNvGraphicFramePr/>
          <p:nvPr/>
        </p:nvGraphicFramePr>
        <p:xfrm>
          <a:off x="4029120" y="2039760"/>
          <a:ext cx="83808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9120" y="2039760"/>
                    <a:ext cx="8380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4" name=""/>
          <p:cNvGraphicFramePr/>
          <p:nvPr/>
        </p:nvGraphicFramePr>
        <p:xfrm>
          <a:off x="3382920" y="1682640"/>
          <a:ext cx="78732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2920" y="1682640"/>
                    <a:ext cx="7873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6" name=""/>
          <p:cNvGraphicFramePr/>
          <p:nvPr/>
        </p:nvGraphicFramePr>
        <p:xfrm>
          <a:off x="4965840" y="2062080"/>
          <a:ext cx="17280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5840" y="2062080"/>
                    <a:ext cx="1728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68" name=""/>
              <p:cNvSpPr txBox="1"/>
              <p:nvPr/>
            </p:nvSpPr>
            <p:spPr>
              <a:xfrm>
                <a:off x="3602160" y="2774880"/>
                <a:ext cx="7984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9" name=""/>
          <p:cNvSpPr/>
          <p:nvPr/>
        </p:nvSpPr>
        <p:spPr>
          <a:xfrm>
            <a:off x="882720" y="3441600"/>
            <a:ext cx="384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пишемо закон збереження енергії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0" name=""/>
              <p:cNvSpPr txBox="1"/>
              <p:nvPr/>
            </p:nvSpPr>
            <p:spPr>
              <a:xfrm>
                <a:off x="4710240" y="3430440"/>
                <a:ext cx="163008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1" name=""/>
              <p:cNvSpPr txBox="1"/>
              <p:nvPr/>
            </p:nvSpPr>
            <p:spPr>
              <a:xfrm>
                <a:off x="6467400" y="3487680"/>
                <a:ext cx="38124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72" name=""/>
          <p:cNvGraphicFramePr/>
          <p:nvPr/>
        </p:nvGraphicFramePr>
        <p:xfrm>
          <a:off x="6985080" y="3425760"/>
          <a:ext cx="1841400" cy="34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85080" y="3425760"/>
                    <a:ext cx="18414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4" name=""/>
          <p:cNvSpPr/>
          <p:nvPr/>
        </p:nvSpPr>
        <p:spPr>
          <a:xfrm>
            <a:off x="1111320" y="4013280"/>
            <a:ext cx="79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родиференціюємо це рівняння за часом, а потім поділимо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5" name=""/>
          <p:cNvGraphicFramePr/>
          <p:nvPr/>
        </p:nvGraphicFramePr>
        <p:xfrm>
          <a:off x="2247840" y="4317840"/>
          <a:ext cx="5126040" cy="6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47840" y="4317840"/>
                    <a:ext cx="51260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7" name=""/>
          <p:cNvSpPr/>
          <p:nvPr/>
        </p:nvSpPr>
        <p:spPr>
          <a:xfrm>
            <a:off x="654120" y="4917960"/>
            <a:ext cx="864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и отримали диференціальне рівняння гармонічних коливань. Циклічна частота цих коливан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8" name=""/>
          <p:cNvGraphicFramePr/>
          <p:nvPr/>
        </p:nvGraphicFramePr>
        <p:xfrm>
          <a:off x="4040280" y="5207040"/>
          <a:ext cx="749160" cy="585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40280" y="5207040"/>
                    <a:ext cx="7491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0" name=""/>
          <p:cNvSpPr/>
          <p:nvPr/>
        </p:nvSpPr>
        <p:spPr>
          <a:xfrm>
            <a:off x="473040" y="5843520"/>
            <a:ext cx="57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 тіло здійснює гармонічні коливання з період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1" name=""/>
          <p:cNvGraphicFramePr/>
          <p:nvPr/>
        </p:nvGraphicFramePr>
        <p:xfrm>
          <a:off x="6138720" y="5665680"/>
          <a:ext cx="1784520" cy="717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38720" y="5665680"/>
                    <a:ext cx="1784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3" name=""/>
          <p:cNvSpPr/>
          <p:nvPr/>
        </p:nvSpPr>
        <p:spPr>
          <a:xfrm>
            <a:off x="4160880" y="273996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5" name=""/>
          <p:cNvGraphicFramePr/>
          <p:nvPr/>
        </p:nvGraphicFramePr>
        <p:xfrm>
          <a:off x="7640640" y="4024440"/>
          <a:ext cx="577800" cy="325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8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40640" y="4024440"/>
                    <a:ext cx="5778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7" name=""/>
          <p:cNvSpPr/>
          <p:nvPr/>
        </p:nvSpPr>
        <p:spPr>
          <a:xfrm>
            <a:off x="7086600" y="5580000"/>
            <a:ext cx="701640" cy="7984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325440" y="3909960"/>
            <a:ext cx="42840" cy="23511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146160" y="33876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Управляющая кнопка: домой 85">
            <a:hlinkClick r:id="rId1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813420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"/>
          <p:cNvSpPr/>
          <p:nvPr/>
        </p:nvSpPr>
        <p:spPr>
          <a:xfrm>
            <a:off x="2084760" y="24120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8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3" name="" descr=""/>
          <p:cNvPicPr/>
          <p:nvPr/>
        </p:nvPicPr>
        <p:blipFill>
          <a:blip r:embed="rId1"/>
          <a:stretch/>
        </p:blipFill>
        <p:spPr>
          <a:xfrm>
            <a:off x="0" y="3119400"/>
            <a:ext cx="3736800" cy="736560"/>
          </a:xfrm>
          <a:prstGeom prst="rect">
            <a:avLst/>
          </a:prstGeom>
          <a:ln w="0">
            <a:noFill/>
          </a:ln>
        </p:spPr>
      </p:pic>
      <p:sp>
        <p:nvSpPr>
          <p:cNvPr id="2394" name=""/>
          <p:cNvSpPr/>
          <p:nvPr/>
        </p:nvSpPr>
        <p:spPr>
          <a:xfrm>
            <a:off x="1844640" y="1305000"/>
            <a:ext cx="0" cy="2511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 flipH="1">
            <a:off x="414000" y="1305000"/>
            <a:ext cx="1430280" cy="20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6" name=""/>
          <p:cNvGraphicFramePr/>
          <p:nvPr/>
        </p:nvGraphicFramePr>
        <p:xfrm>
          <a:off x="890640" y="2216160"/>
          <a:ext cx="177840" cy="2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0640" y="2216160"/>
                    <a:ext cx="17784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8" name=""/>
          <p:cNvSpPr/>
          <p:nvPr/>
        </p:nvSpPr>
        <p:spPr>
          <a:xfrm>
            <a:off x="2773440" y="3284640"/>
            <a:ext cx="268200" cy="264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1844640" y="1305000"/>
            <a:ext cx="984240" cy="196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0" name=""/>
          <p:cNvGrpSpPr/>
          <p:nvPr/>
        </p:nvGrpSpPr>
        <p:grpSpPr>
          <a:xfrm>
            <a:off x="1851120" y="1569960"/>
            <a:ext cx="188280" cy="288720"/>
            <a:chOff x="1851120" y="1569960"/>
            <a:chExt cx="188280" cy="288720"/>
          </a:xfrm>
        </p:grpSpPr>
        <p:sp>
          <p:nvSpPr>
            <p:cNvPr id="2401" name=""/>
            <p:cNvSpPr/>
            <p:nvPr/>
          </p:nvSpPr>
          <p:spPr>
            <a:xfrm>
              <a:off x="1851120" y="1569960"/>
              <a:ext cx="133560" cy="7020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2" name=""/>
            <p:cNvGraphicFramePr/>
            <p:nvPr/>
          </p:nvGraphicFramePr>
          <p:xfrm>
            <a:off x="1853640" y="1650240"/>
            <a:ext cx="185760" cy="208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0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53640" y="1650240"/>
                      <a:ext cx="185760" cy="20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04" name=""/>
          <p:cNvGraphicFramePr/>
          <p:nvPr/>
        </p:nvGraphicFramePr>
        <p:xfrm>
          <a:off x="2863800" y="3075120"/>
          <a:ext cx="343080" cy="19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63800" y="3075120"/>
                    <a:ext cx="34308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6" name=""/>
          <p:cNvGrpSpPr/>
          <p:nvPr/>
        </p:nvGrpSpPr>
        <p:grpSpPr>
          <a:xfrm>
            <a:off x="2489040" y="1359000"/>
            <a:ext cx="237960" cy="336600"/>
            <a:chOff x="2489040" y="1359000"/>
            <a:chExt cx="237960" cy="336600"/>
          </a:xfrm>
        </p:grpSpPr>
        <p:sp>
          <p:nvSpPr>
            <p:cNvPr id="2407" name=""/>
            <p:cNvSpPr/>
            <p:nvPr/>
          </p:nvSpPr>
          <p:spPr>
            <a:xfrm>
              <a:off x="2489040" y="1359000"/>
              <a:ext cx="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8" name=""/>
            <p:cNvGraphicFramePr/>
            <p:nvPr/>
          </p:nvGraphicFramePr>
          <p:xfrm>
            <a:off x="2509920" y="1375920"/>
            <a:ext cx="217080" cy="307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40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09920" y="1375920"/>
                      <a:ext cx="217080" cy="30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0" name=""/>
          <p:cNvSpPr/>
          <p:nvPr/>
        </p:nvSpPr>
        <p:spPr>
          <a:xfrm flipV="1">
            <a:off x="449280" y="3644640"/>
            <a:ext cx="45720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420840" y="4025880"/>
            <a:ext cx="33120" cy="3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0" y="3970440"/>
            <a:ext cx="134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циліндрична поверх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2301840" y="4305240"/>
            <a:ext cx="33480" cy="33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H="1" flipV="1">
            <a:off x="2971800" y="3549600"/>
            <a:ext cx="455760" cy="60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 flipV="1">
            <a:off x="2325600" y="3527280"/>
            <a:ext cx="511200" cy="7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2827440" y="390384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без проковз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1643040" y="426888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тонкостінний  цилін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9" name=""/>
          <p:cNvGraphicFramePr/>
          <p:nvPr/>
        </p:nvGraphicFramePr>
        <p:xfrm>
          <a:off x="4540320" y="1073160"/>
          <a:ext cx="2143080" cy="539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40320" y="1073160"/>
                    <a:ext cx="2143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1" name=""/>
          <p:cNvSpPr/>
          <p:nvPr/>
        </p:nvSpPr>
        <p:spPr>
          <a:xfrm>
            <a:off x="4619520" y="2219400"/>
            <a:ext cx="467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У системі центра мас, яка рухається поступально, кінетична енергія оберталь-ного руху циліндра виражається формуло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3" name=""/>
          <p:cNvGraphicFramePr/>
          <p:nvPr/>
        </p:nvGraphicFramePr>
        <p:xfrm>
          <a:off x="5538960" y="3025800"/>
          <a:ext cx="1703160" cy="811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2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38960" y="3025800"/>
                    <a:ext cx="1703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5" name=""/>
          <p:cNvSpPr/>
          <p:nvPr/>
        </p:nvSpPr>
        <p:spPr>
          <a:xfrm>
            <a:off x="-2076480" y="460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4648320" y="3746520"/>
            <a:ext cx="4330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ут             ,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 відстань від кожної точки циліндра до його осі однакова і дорівнює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-3781440" y="52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8" name=""/>
          <p:cNvGraphicFramePr/>
          <p:nvPr/>
        </p:nvGraphicFramePr>
        <p:xfrm>
          <a:off x="5299200" y="3805200"/>
          <a:ext cx="868320" cy="347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2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9200" y="3805200"/>
                    <a:ext cx="8683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0" name=""/>
          <p:cNvSpPr/>
          <p:nvPr/>
        </p:nvSpPr>
        <p:spPr>
          <a:xfrm>
            <a:off x="5089680" y="5154480"/>
            <a:ext cx="8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1" name=""/>
          <p:cNvGraphicFramePr/>
          <p:nvPr/>
        </p:nvGraphicFramePr>
        <p:xfrm>
          <a:off x="5821200" y="4892760"/>
          <a:ext cx="2148120" cy="780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43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21200" y="4892760"/>
                    <a:ext cx="214812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3" name=""/>
          <p:cNvSpPr/>
          <p:nvPr/>
        </p:nvSpPr>
        <p:spPr>
          <a:xfrm>
            <a:off x="5875200" y="109224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6962760" y="4876920"/>
            <a:ext cx="569880" cy="7984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4348080" y="2727360"/>
            <a:ext cx="42840" cy="2854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4149720" y="22050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Управляющая кнопка: домой 85">
            <a:hlinkClick r:id="rId1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811548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/>
          <p:nvPr/>
        </p:nvSpPr>
        <p:spPr>
          <a:xfrm>
            <a:off x="4124160" y="3672000"/>
            <a:ext cx="49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а кутова швидкість цього руху дорівню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швидкість центра мас запишеться та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2211480" y="44136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8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2700360" y="411948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без проковз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2" name="" descr=""/>
          <p:cNvPicPr/>
          <p:nvPr/>
        </p:nvPicPr>
        <p:blipFill>
          <a:blip r:embed="rId1"/>
          <a:stretch/>
        </p:blipFill>
        <p:spPr>
          <a:xfrm>
            <a:off x="0" y="3316320"/>
            <a:ext cx="3495600" cy="758880"/>
          </a:xfrm>
          <a:prstGeom prst="rect">
            <a:avLst/>
          </a:prstGeom>
          <a:ln w="0">
            <a:noFill/>
          </a:ln>
        </p:spPr>
      </p:pic>
      <p:sp>
        <p:nvSpPr>
          <p:cNvPr id="2443" name=""/>
          <p:cNvSpPr/>
          <p:nvPr/>
        </p:nvSpPr>
        <p:spPr>
          <a:xfrm>
            <a:off x="1725480" y="1444680"/>
            <a:ext cx="0" cy="258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 flipH="1">
            <a:off x="387000" y="1444680"/>
            <a:ext cx="133812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5" name=""/>
          <p:cNvGraphicFramePr/>
          <p:nvPr/>
        </p:nvGraphicFramePr>
        <p:xfrm>
          <a:off x="833400" y="2384280"/>
          <a:ext cx="166680" cy="2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3400" y="2384280"/>
                    <a:ext cx="16668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7" name=""/>
          <p:cNvSpPr/>
          <p:nvPr/>
        </p:nvSpPr>
        <p:spPr>
          <a:xfrm>
            <a:off x="2593800" y="3486240"/>
            <a:ext cx="273240" cy="27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1725480" y="1444680"/>
            <a:ext cx="920880" cy="20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9" name=""/>
          <p:cNvGrpSpPr/>
          <p:nvPr/>
        </p:nvGrpSpPr>
        <p:grpSpPr>
          <a:xfrm>
            <a:off x="1731960" y="1717560"/>
            <a:ext cx="175680" cy="298080"/>
            <a:chOff x="1731960" y="1717560"/>
            <a:chExt cx="175680" cy="298080"/>
          </a:xfrm>
        </p:grpSpPr>
        <p:sp>
          <p:nvSpPr>
            <p:cNvPr id="2450" name=""/>
            <p:cNvSpPr/>
            <p:nvPr/>
          </p:nvSpPr>
          <p:spPr>
            <a:xfrm>
              <a:off x="1731960" y="1717560"/>
              <a:ext cx="124560" cy="7236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51" name=""/>
            <p:cNvGraphicFramePr/>
            <p:nvPr/>
          </p:nvGraphicFramePr>
          <p:xfrm>
            <a:off x="1734120" y="1800720"/>
            <a:ext cx="173520" cy="214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34120" y="1800720"/>
                      <a:ext cx="173520" cy="21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53" name=""/>
          <p:cNvGraphicFramePr/>
          <p:nvPr/>
        </p:nvGraphicFramePr>
        <p:xfrm>
          <a:off x="2679840" y="3270240"/>
          <a:ext cx="320400" cy="20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79840" y="3270240"/>
                    <a:ext cx="320400" cy="2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5" name=""/>
          <p:cNvGrpSpPr/>
          <p:nvPr/>
        </p:nvGrpSpPr>
        <p:grpSpPr>
          <a:xfrm>
            <a:off x="2328840" y="1500120"/>
            <a:ext cx="221760" cy="347760"/>
            <a:chOff x="2328840" y="1500120"/>
            <a:chExt cx="221760" cy="347760"/>
          </a:xfrm>
        </p:grpSpPr>
        <p:sp>
          <p:nvSpPr>
            <p:cNvPr id="2456" name=""/>
            <p:cNvSpPr/>
            <p:nvPr/>
          </p:nvSpPr>
          <p:spPr>
            <a:xfrm>
              <a:off x="2328840" y="1500120"/>
              <a:ext cx="0" cy="3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57" name=""/>
            <p:cNvGraphicFramePr/>
            <p:nvPr/>
          </p:nvGraphicFramePr>
          <p:xfrm>
            <a:off x="2348280" y="1517760"/>
            <a:ext cx="202320" cy="317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4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348280" y="1517760"/>
                      <a:ext cx="2023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59" name=""/>
          <p:cNvSpPr/>
          <p:nvPr/>
        </p:nvSpPr>
        <p:spPr>
          <a:xfrm flipV="1">
            <a:off x="420840" y="3857760"/>
            <a:ext cx="42696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393840" y="4249800"/>
            <a:ext cx="3168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419256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циліндрична поверх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2152800" y="4538520"/>
            <a:ext cx="31680" cy="33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 flipH="1" flipV="1">
            <a:off x="2779200" y="3758760"/>
            <a:ext cx="42732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2174760" y="3736800"/>
            <a:ext cx="47952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1521000" y="4500720"/>
            <a:ext cx="135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тонкостінний  цилін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6" name=""/>
          <p:cNvGraphicFramePr/>
          <p:nvPr/>
        </p:nvGraphicFramePr>
        <p:xfrm>
          <a:off x="5041800" y="1131840"/>
          <a:ext cx="2108160" cy="565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41800" y="1131840"/>
                    <a:ext cx="21081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4178160" y="2006640"/>
            <a:ext cx="462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Кінетична енергія поступального руху виражається формуло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6451560" y="2746440"/>
            <a:ext cx="271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де    —  швидкість центра м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2" name=""/>
          <p:cNvGraphicFramePr/>
          <p:nvPr/>
        </p:nvGraphicFramePr>
        <p:xfrm>
          <a:off x="5235480" y="2546280"/>
          <a:ext cx="1641600" cy="817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7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35480" y="2546280"/>
                    <a:ext cx="16416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74" name=""/>
              <p:cNvSpPr txBox="1"/>
              <p:nvPr/>
            </p:nvSpPr>
            <p:spPr>
              <a:xfrm>
                <a:off x="7248600" y="2828880"/>
                <a:ext cx="18900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75" name=""/>
          <p:cNvGraphicFramePr/>
          <p:nvPr/>
        </p:nvGraphicFramePr>
        <p:xfrm>
          <a:off x="4199040" y="3675240"/>
          <a:ext cx="637920" cy="296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99040" y="3675240"/>
                    <a:ext cx="63792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7" name=""/>
          <p:cNvGraphicFramePr/>
          <p:nvPr/>
        </p:nvGraphicFramePr>
        <p:xfrm>
          <a:off x="4227480" y="3949560"/>
          <a:ext cx="231840" cy="328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47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27480" y="3949560"/>
                    <a:ext cx="23184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9" name=""/>
          <p:cNvSpPr/>
          <p:nvPr/>
        </p:nvSpPr>
        <p:spPr>
          <a:xfrm>
            <a:off x="4152960" y="3390840"/>
            <a:ext cx="49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 центр мас рухається по колу  раді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0" name=""/>
          <p:cNvGraphicFramePr/>
          <p:nvPr/>
        </p:nvGraphicFramePr>
        <p:xfrm>
          <a:off x="5883120" y="4257720"/>
          <a:ext cx="1298880" cy="393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48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83120" y="4257720"/>
                    <a:ext cx="12988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2" name=""/>
          <p:cNvSpPr/>
          <p:nvPr/>
        </p:nvSpPr>
        <p:spPr>
          <a:xfrm>
            <a:off x="4451400" y="503568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3" name=""/>
          <p:cNvGraphicFramePr/>
          <p:nvPr/>
        </p:nvGraphicFramePr>
        <p:xfrm>
          <a:off x="5175360" y="4702320"/>
          <a:ext cx="2725560" cy="865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8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175360" y="4702320"/>
                    <a:ext cx="27255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5" name=""/>
          <p:cNvSpPr/>
          <p:nvPr/>
        </p:nvSpPr>
        <p:spPr>
          <a:xfrm>
            <a:off x="6351480" y="115884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6219720" y="4721400"/>
            <a:ext cx="1258920" cy="8571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4157640" y="2508120"/>
            <a:ext cx="42840" cy="31798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3959280" y="1986120"/>
            <a:ext cx="420480" cy="46008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33">
                <a:moveTo>
                  <a:pt x="0" y="0"/>
                </a:moveTo>
                <a:lnTo>
                  <a:pt x="21600" y="0"/>
                </a:lnTo>
                <a:lnTo>
                  <a:pt x="21600" y="23633"/>
                </a:lnTo>
                <a:lnTo>
                  <a:pt x="0" y="23633"/>
                </a:lnTo>
                <a:close/>
              </a:path>
              <a:path fill="lightenLess" w="21600" h="23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3">
                <a:moveTo>
                  <a:pt x="21600" y="0"/>
                </a:moveTo>
                <a:lnTo>
                  <a:pt x="21600" y="23633"/>
                </a:lnTo>
                <a:lnTo>
                  <a:pt x="20200" y="22233"/>
                </a:lnTo>
                <a:lnTo>
                  <a:pt x="20200" y="1400"/>
                </a:lnTo>
                <a:close/>
              </a:path>
              <a:path fill="darkenLess" w="21600" h="23633">
                <a:moveTo>
                  <a:pt x="21600" y="23633"/>
                </a:moveTo>
                <a:lnTo>
                  <a:pt x="0" y="23633"/>
                </a:lnTo>
                <a:lnTo>
                  <a:pt x="1400" y="22233"/>
                </a:lnTo>
                <a:lnTo>
                  <a:pt x="20200" y="22233"/>
                </a:lnTo>
                <a:close/>
              </a:path>
              <a:path fill="lighten" w="21600" h="23633">
                <a:moveTo>
                  <a:pt x="0" y="23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3"/>
                </a:lnTo>
                <a:close/>
              </a:path>
              <a:path fill="darken" w="21600" h="23633">
                <a:moveTo>
                  <a:pt x="10800" y="48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3">
                <a:moveTo>
                  <a:pt x="10800" y="51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3">
                <a:moveTo>
                  <a:pt x="8224" y="9240"/>
                </a:moveTo>
                <a:lnTo>
                  <a:pt x="12088" y="9240"/>
                </a:lnTo>
                <a:lnTo>
                  <a:pt x="12088" y="16238"/>
                </a:lnTo>
                <a:lnTo>
                  <a:pt x="13376" y="16238"/>
                </a:lnTo>
                <a:lnTo>
                  <a:pt x="13376" y="17160"/>
                </a:lnTo>
                <a:lnTo>
                  <a:pt x="8224" y="17160"/>
                </a:lnTo>
                <a:lnTo>
                  <a:pt x="8224" y="16238"/>
                </a:lnTo>
                <a:lnTo>
                  <a:pt x="9512" y="16238"/>
                </a:lnTo>
                <a:lnTo>
                  <a:pt x="9512" y="10145"/>
                </a:lnTo>
                <a:lnTo>
                  <a:pt x="8224" y="101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Управляющая кнопка: домой 85">
            <a:hlinkClick r:id="rId2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811548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"/>
          <p:cNvSpPr/>
          <p:nvPr/>
        </p:nvSpPr>
        <p:spPr>
          <a:xfrm>
            <a:off x="407880" y="2162160"/>
            <a:ext cx="83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утова швидкість (а не циклічна частота коливань!), з якою тонкостінний циліндр обертається навколо власної осі у системі відліку центра мас, яка рухається поступа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2211480" y="44136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8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2940120" y="1290600"/>
                <a:ext cx="31496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4" name=""/>
          <p:cNvSpPr/>
          <p:nvPr/>
        </p:nvSpPr>
        <p:spPr>
          <a:xfrm>
            <a:off x="4044960" y="1584360"/>
            <a:ext cx="241200" cy="25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 flipH="1">
            <a:off x="3777840" y="1812960"/>
            <a:ext cx="30492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3781440" y="2181240"/>
            <a:ext cx="25560" cy="25560"/>
          </a:xfrm>
          <a:prstGeom prst="flowChartConnector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3527280" y="2927520"/>
                <a:ext cx="11527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?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9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185760" y="342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4075200" y="294012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503280" y="4386240"/>
            <a:ext cx="42840" cy="1646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04920" y="386388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647640" y="3917880"/>
            <a:ext cx="84391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того, що проковзування відсутнє, випливає рівність              , де     — швидкість, з якою рухається  вісь цилін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3371760" y="4802040"/>
            <a:ext cx="577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(див. відповідь на запитання 8.2), остаточно матиме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5" name=""/>
          <p:cNvGraphicFramePr/>
          <p:nvPr/>
        </p:nvGraphicFramePr>
        <p:xfrm>
          <a:off x="2004840" y="4803840"/>
          <a:ext cx="145260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4840" y="4803840"/>
                    <a:ext cx="145260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7" name=""/>
          <p:cNvGraphicFramePr/>
          <p:nvPr/>
        </p:nvGraphicFramePr>
        <p:xfrm>
          <a:off x="3749760" y="5481720"/>
          <a:ext cx="146196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9760" y="5481720"/>
                    <a:ext cx="14619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9" name=""/>
          <p:cNvGraphicFramePr/>
          <p:nvPr/>
        </p:nvGraphicFramePr>
        <p:xfrm>
          <a:off x="6265800" y="3859200"/>
          <a:ext cx="70812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65800" y="3859200"/>
                    <a:ext cx="708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1" name=""/>
          <p:cNvGraphicFramePr/>
          <p:nvPr/>
        </p:nvGraphicFramePr>
        <p:xfrm>
          <a:off x="7431120" y="4046400"/>
          <a:ext cx="223920" cy="2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31120" y="4046400"/>
                    <a:ext cx="223920" cy="2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3" name=""/>
          <p:cNvSpPr/>
          <p:nvPr/>
        </p:nvSpPr>
        <p:spPr>
          <a:xfrm>
            <a:off x="4218120" y="5492880"/>
            <a:ext cx="647640" cy="67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811548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"/>
          <p:cNvSpPr/>
          <p:nvPr/>
        </p:nvSpPr>
        <p:spPr>
          <a:xfrm>
            <a:off x="2001960" y="27000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8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7" name="" descr=""/>
          <p:cNvPicPr/>
          <p:nvPr/>
        </p:nvPicPr>
        <p:blipFill>
          <a:blip r:embed="rId1"/>
          <a:stretch/>
        </p:blipFill>
        <p:spPr>
          <a:xfrm>
            <a:off x="0" y="3225960"/>
            <a:ext cx="3882960" cy="836280"/>
          </a:xfrm>
          <a:prstGeom prst="rect">
            <a:avLst/>
          </a:prstGeom>
          <a:ln w="0">
            <a:noFill/>
          </a:ln>
        </p:spPr>
      </p:pic>
      <p:sp>
        <p:nvSpPr>
          <p:cNvPr id="2528" name=""/>
          <p:cNvSpPr/>
          <p:nvPr/>
        </p:nvSpPr>
        <p:spPr>
          <a:xfrm>
            <a:off x="1933560" y="1189080"/>
            <a:ext cx="0" cy="28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9" name=""/>
          <p:cNvGraphicFramePr/>
          <p:nvPr/>
        </p:nvGraphicFramePr>
        <p:xfrm>
          <a:off x="1390680" y="2401920"/>
          <a:ext cx="185760" cy="2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0680" y="2401920"/>
                    <a:ext cx="1857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1" name=""/>
          <p:cNvSpPr/>
          <p:nvPr/>
        </p:nvSpPr>
        <p:spPr>
          <a:xfrm>
            <a:off x="2900520" y="3413160"/>
            <a:ext cx="301320" cy="30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1933560" y="1165320"/>
            <a:ext cx="1023840" cy="223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3" name=""/>
          <p:cNvGrpSpPr/>
          <p:nvPr/>
        </p:nvGrpSpPr>
        <p:grpSpPr>
          <a:xfrm>
            <a:off x="1940040" y="1465200"/>
            <a:ext cx="196200" cy="328320"/>
            <a:chOff x="1940040" y="1465200"/>
            <a:chExt cx="196200" cy="328320"/>
          </a:xfrm>
        </p:grpSpPr>
        <p:sp>
          <p:nvSpPr>
            <p:cNvPr id="2534" name=""/>
            <p:cNvSpPr/>
            <p:nvPr/>
          </p:nvSpPr>
          <p:spPr>
            <a:xfrm>
              <a:off x="1940040" y="1465200"/>
              <a:ext cx="139320" cy="7956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35" name=""/>
            <p:cNvGraphicFramePr/>
            <p:nvPr/>
          </p:nvGraphicFramePr>
          <p:xfrm>
            <a:off x="1942560" y="1556640"/>
            <a:ext cx="193680" cy="236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3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42560" y="1556640"/>
                      <a:ext cx="193680" cy="23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37" name=""/>
          <p:cNvGraphicFramePr/>
          <p:nvPr/>
        </p:nvGraphicFramePr>
        <p:xfrm>
          <a:off x="2992320" y="3176640"/>
          <a:ext cx="358920" cy="22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92320" y="3176640"/>
                    <a:ext cx="3589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9" name=""/>
          <p:cNvGrpSpPr/>
          <p:nvPr/>
        </p:nvGrpSpPr>
        <p:grpSpPr>
          <a:xfrm>
            <a:off x="2603520" y="1225440"/>
            <a:ext cx="247320" cy="382680"/>
            <a:chOff x="2603520" y="1225440"/>
            <a:chExt cx="247320" cy="382680"/>
          </a:xfrm>
        </p:grpSpPr>
        <p:sp>
          <p:nvSpPr>
            <p:cNvPr id="2540" name=""/>
            <p:cNvSpPr/>
            <p:nvPr/>
          </p:nvSpPr>
          <p:spPr>
            <a:xfrm>
              <a:off x="2603520" y="1225440"/>
              <a:ext cx="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41" name=""/>
            <p:cNvGraphicFramePr/>
            <p:nvPr/>
          </p:nvGraphicFramePr>
          <p:xfrm>
            <a:off x="2625480" y="1244880"/>
            <a:ext cx="225360" cy="349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4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625480" y="1244880"/>
                      <a:ext cx="225360" cy="3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43" name=""/>
          <p:cNvSpPr/>
          <p:nvPr/>
        </p:nvSpPr>
        <p:spPr>
          <a:xfrm flipV="1">
            <a:off x="482760" y="3822840"/>
            <a:ext cx="4759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453960" y="4255920"/>
            <a:ext cx="3492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57240" y="424980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циліндрична поверх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2408400" y="4573440"/>
            <a:ext cx="3636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2433600" y="3689280"/>
            <a:ext cx="531720" cy="89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1906560" y="4575240"/>
            <a:ext cx="133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тонкостінний  цилін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flipH="1">
            <a:off x="377280" y="2124000"/>
            <a:ext cx="3092760" cy="17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56" y="14186"/>
                </a:moveTo>
                <a:arcTo wR="10800" hR="10800" stAng="1096153" swAng="8506660"/>
                <a:lnTo>
                  <a:pt x="10800" y="10800"/>
                </a:lnTo>
                <a:close/>
              </a:path>
              <a:path fill="none" w="21600" h="21600">
                <a:moveTo>
                  <a:pt x="21056" y="14186"/>
                </a:moveTo>
                <a:arcTo wR="10800" hR="10800" stAng="1096153" swAng="8506660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1922040" y="3560760"/>
            <a:ext cx="110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1833480" y="3570120"/>
            <a:ext cx="76320" cy="225720"/>
          </a:xfrm>
          <a:custGeom>
            <a:avLst/>
            <a:gdLst>
              <a:gd name="textAreaLeft" fmla="*/ 48960 w 76320"/>
              <a:gd name="textAreaRight" fmla="*/ 76320 w 76320"/>
              <a:gd name="textAreaTop" fmla="*/ 5760 h 225720"/>
              <a:gd name="textAreaBottom" fmla="*/ 219960 h 2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1477800" y="3489480"/>
            <a:ext cx="3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1627200" y="1155600"/>
            <a:ext cx="284040" cy="2832120"/>
          </a:xfrm>
          <a:custGeom>
            <a:avLst/>
            <a:gdLst>
              <a:gd name="textAreaLeft" fmla="*/ 181440 w 284040"/>
              <a:gd name="textAreaRight" fmla="*/ 284040 w 284040"/>
              <a:gd name="textAreaTop" fmla="*/ 73800 h 2832120"/>
              <a:gd name="textAreaBottom" fmla="*/ 2758320 h 283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5238720" y="1147680"/>
                <a:ext cx="1604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5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4889520" y="404172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0" name=""/>
          <p:cNvGraphicFramePr/>
          <p:nvPr/>
        </p:nvGraphicFramePr>
        <p:xfrm>
          <a:off x="5705640" y="3846600"/>
          <a:ext cx="1954080" cy="65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3846600"/>
                    <a:ext cx="19540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2" name=""/>
          <p:cNvSpPr/>
          <p:nvPr/>
        </p:nvSpPr>
        <p:spPr>
          <a:xfrm>
            <a:off x="6027840" y="117792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6248520" y="3795840"/>
            <a:ext cx="1063440" cy="7984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4024440" y="2870280"/>
            <a:ext cx="42840" cy="1747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3825720" y="23479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4324320" y="2514600"/>
            <a:ext cx="4672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Формула для потенціальної енергії така сама як і у випадку математичного маятника (дивись відповідь на запитання 6.4). Треба лише замінит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811548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/>
          <p:nvPr/>
        </p:nvSpPr>
        <p:spPr>
          <a:xfrm>
            <a:off x="4330800" y="3807000"/>
            <a:ext cx="496548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 вираз для потенціальної енергії вже бу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ілком готовий (                             , див. 8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ля підстановки у формулу для пері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(                      див. 7.4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2211480" y="27000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8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1" name="" descr=""/>
          <p:cNvPicPr/>
          <p:nvPr/>
        </p:nvPicPr>
        <p:blipFill>
          <a:blip r:embed="rId1"/>
          <a:stretch/>
        </p:blipFill>
        <p:spPr>
          <a:xfrm>
            <a:off x="209520" y="3235320"/>
            <a:ext cx="3994200" cy="895320"/>
          </a:xfrm>
          <a:prstGeom prst="rect">
            <a:avLst/>
          </a:prstGeom>
          <a:ln w="0">
            <a:noFill/>
          </a:ln>
        </p:spPr>
      </p:pic>
      <p:sp>
        <p:nvSpPr>
          <p:cNvPr id="2572" name=""/>
          <p:cNvSpPr/>
          <p:nvPr/>
        </p:nvSpPr>
        <p:spPr>
          <a:xfrm>
            <a:off x="2181240" y="1025640"/>
            <a:ext cx="0" cy="30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654120" y="1025640"/>
            <a:ext cx="1527120" cy="24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4" name=""/>
          <p:cNvGraphicFramePr/>
          <p:nvPr/>
        </p:nvGraphicFramePr>
        <p:xfrm>
          <a:off x="1162080" y="2135160"/>
          <a:ext cx="190440" cy="2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62080" y="2135160"/>
                    <a:ext cx="19044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6" name=""/>
          <p:cNvSpPr/>
          <p:nvPr/>
        </p:nvSpPr>
        <p:spPr>
          <a:xfrm>
            <a:off x="3174840" y="3435480"/>
            <a:ext cx="324000" cy="323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2181240" y="1025640"/>
            <a:ext cx="1054080" cy="2398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8" name=""/>
          <p:cNvGrpSpPr/>
          <p:nvPr/>
        </p:nvGrpSpPr>
        <p:grpSpPr>
          <a:xfrm>
            <a:off x="2187720" y="1347840"/>
            <a:ext cx="202680" cy="352440"/>
            <a:chOff x="2187720" y="1347840"/>
            <a:chExt cx="202680" cy="352440"/>
          </a:xfrm>
        </p:grpSpPr>
        <p:sp>
          <p:nvSpPr>
            <p:cNvPr id="2579" name=""/>
            <p:cNvSpPr/>
            <p:nvPr/>
          </p:nvSpPr>
          <p:spPr>
            <a:xfrm>
              <a:off x="2187720" y="1347840"/>
              <a:ext cx="14364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80" name=""/>
            <p:cNvGraphicFramePr/>
            <p:nvPr/>
          </p:nvGraphicFramePr>
          <p:xfrm>
            <a:off x="2190240" y="1446120"/>
            <a:ext cx="200160" cy="254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8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90240" y="1446120"/>
                      <a:ext cx="2001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82" name=""/>
          <p:cNvGraphicFramePr/>
          <p:nvPr/>
        </p:nvGraphicFramePr>
        <p:xfrm>
          <a:off x="3271680" y="3181320"/>
          <a:ext cx="366840" cy="241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1680" y="3181320"/>
                    <a:ext cx="3668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4" name=""/>
          <p:cNvGrpSpPr/>
          <p:nvPr/>
        </p:nvGrpSpPr>
        <p:grpSpPr>
          <a:xfrm>
            <a:off x="2870280" y="1090440"/>
            <a:ext cx="255240" cy="409680"/>
            <a:chOff x="2870280" y="1090440"/>
            <a:chExt cx="255240" cy="409680"/>
          </a:xfrm>
        </p:grpSpPr>
        <p:sp>
          <p:nvSpPr>
            <p:cNvPr id="2585" name=""/>
            <p:cNvSpPr/>
            <p:nvPr/>
          </p:nvSpPr>
          <p:spPr>
            <a:xfrm>
              <a:off x="2870280" y="109044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86" name=""/>
            <p:cNvGraphicFramePr/>
            <p:nvPr/>
          </p:nvGraphicFramePr>
          <p:xfrm>
            <a:off x="2892960" y="1111320"/>
            <a:ext cx="232560" cy="374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8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92960" y="1111320"/>
                      <a:ext cx="23256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88" name=""/>
          <p:cNvSpPr/>
          <p:nvPr/>
        </p:nvSpPr>
        <p:spPr>
          <a:xfrm flipV="1">
            <a:off x="690480" y="3873240"/>
            <a:ext cx="48744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58800" y="4338720"/>
            <a:ext cx="3636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252360" y="433224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циліндрична поверх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2682720" y="4361040"/>
            <a:ext cx="3672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2708280" y="3730680"/>
            <a:ext cx="534960" cy="64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1682640" y="4275000"/>
            <a:ext cx="13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тонкостінний  цилін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481560" y="1108080"/>
            <a:ext cx="5548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іод малих коливань тонкостінного циліндра радіус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, що рухається у полі тяжіння по цилінд-ричній поверхні радіус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без проковз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4492800" y="2479680"/>
            <a:ext cx="481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ані раніше вирази (див. 8.3) дають можливість записати у потрібному вигляді кінетичну енергі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6" name=""/>
          <p:cNvGraphicFramePr/>
          <p:nvPr/>
        </p:nvGraphicFramePr>
        <p:xfrm>
          <a:off x="5867280" y="3276720"/>
          <a:ext cx="1832040" cy="47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67280" y="3276720"/>
                    <a:ext cx="1832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9" name=""/>
          <p:cNvGraphicFramePr/>
          <p:nvPr/>
        </p:nvGraphicFramePr>
        <p:xfrm>
          <a:off x="6081840" y="4160880"/>
          <a:ext cx="1871640" cy="63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0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81840" y="4160880"/>
                    <a:ext cx="187164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4903920" y="5954760"/>
            <a:ext cx="838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r>
              <a:rPr b="1" lang="uk-UA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-1713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8" name=""/>
          <p:cNvGraphicFramePr/>
          <p:nvPr/>
        </p:nvGraphicFramePr>
        <p:xfrm>
          <a:off x="5816520" y="5707080"/>
          <a:ext cx="1982880" cy="801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0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16520" y="5707080"/>
                    <a:ext cx="19828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0" name=""/>
          <p:cNvSpPr/>
          <p:nvPr/>
        </p:nvSpPr>
        <p:spPr>
          <a:xfrm>
            <a:off x="6235560" y="5710320"/>
            <a:ext cx="1433520" cy="81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4243320" y="3032280"/>
            <a:ext cx="42840" cy="3271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4044960" y="25099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3" name=""/>
          <p:cNvGraphicFramePr/>
          <p:nvPr/>
        </p:nvGraphicFramePr>
        <p:xfrm>
          <a:off x="5587920" y="2089080"/>
          <a:ext cx="476280" cy="26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1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587920" y="2089080"/>
                    <a:ext cx="4762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5" name=""/>
          <p:cNvSpPr/>
          <p:nvPr/>
        </p:nvSpPr>
        <p:spPr>
          <a:xfrm>
            <a:off x="6078600" y="2013120"/>
            <a:ext cx="315720" cy="44100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000"/>
              <a:gd name="textAreaBottom" fmla="*/ 420840 h 441000"/>
            </a:gdLst>
            <a:ahLst/>
            <a:rect l="textAreaLeft" t="textAreaTop" r="textAreaRight" b="textAreaBottom"/>
            <a:pathLst>
              <a:path w="21600" h="30161">
                <a:moveTo>
                  <a:pt x="0" y="0"/>
                </a:moveTo>
                <a:lnTo>
                  <a:pt x="21600" y="0"/>
                </a:lnTo>
                <a:lnTo>
                  <a:pt x="21600" y="30161"/>
                </a:lnTo>
                <a:lnTo>
                  <a:pt x="0" y="30161"/>
                </a:lnTo>
                <a:close/>
              </a:path>
              <a:path fill="lightenLess" w="21600" h="30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61">
                <a:moveTo>
                  <a:pt x="21600" y="0"/>
                </a:moveTo>
                <a:lnTo>
                  <a:pt x="21600" y="30161"/>
                </a:lnTo>
                <a:lnTo>
                  <a:pt x="20200" y="28761"/>
                </a:lnTo>
                <a:lnTo>
                  <a:pt x="20200" y="1400"/>
                </a:lnTo>
                <a:close/>
              </a:path>
              <a:path fill="darkenLess" w="21600" h="30161">
                <a:moveTo>
                  <a:pt x="21600" y="30161"/>
                </a:moveTo>
                <a:lnTo>
                  <a:pt x="0" y="30161"/>
                </a:lnTo>
                <a:lnTo>
                  <a:pt x="1400" y="28761"/>
                </a:lnTo>
                <a:lnTo>
                  <a:pt x="20200" y="28761"/>
                </a:lnTo>
                <a:close/>
              </a:path>
              <a:path fill="lighten" w="21600" h="30161">
                <a:moveTo>
                  <a:pt x="0" y="30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61"/>
                </a:lnTo>
                <a:close/>
              </a:path>
              <a:path fill="darken" w="21600" h="30161">
                <a:moveTo>
                  <a:pt x="10800" y="1908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61">
                <a:moveTo>
                  <a:pt x="11905" y="18562"/>
                </a:moveTo>
                <a:lnTo>
                  <a:pt x="11905" y="16604"/>
                </a:lnTo>
                <a:cubicBezTo>
                  <a:pt x="11905" y="15777"/>
                  <a:pt x="12236" y="15081"/>
                  <a:pt x="12837" y="15081"/>
                </a:cubicBezTo>
                <a:cubicBezTo>
                  <a:pt x="13968" y="15081"/>
                  <a:pt x="14865" y="13714"/>
                  <a:pt x="14865" y="12130"/>
                </a:cubicBezTo>
                <a:cubicBezTo>
                  <a:pt x="14865" y="9815"/>
                  <a:pt x="13011" y="8074"/>
                  <a:pt x="10800" y="8074"/>
                </a:cubicBezTo>
                <a:cubicBezTo>
                  <a:pt x="8589" y="8074"/>
                  <a:pt x="6918" y="9815"/>
                  <a:pt x="6918" y="12130"/>
                </a:cubicBezTo>
                <a:lnTo>
                  <a:pt x="8772" y="12130"/>
                </a:lnTo>
                <a:cubicBezTo>
                  <a:pt x="8772" y="10990"/>
                  <a:pt x="9695" y="10102"/>
                  <a:pt x="10800" y="10102"/>
                </a:cubicBezTo>
                <a:cubicBezTo>
                  <a:pt x="11905" y="10102"/>
                  <a:pt x="12837" y="10990"/>
                  <a:pt x="12837" y="12130"/>
                </a:cubicBezTo>
                <a:cubicBezTo>
                  <a:pt x="12837" y="12870"/>
                  <a:pt x="12367" y="13601"/>
                  <a:pt x="11905" y="13601"/>
                </a:cubicBezTo>
                <a:cubicBezTo>
                  <a:pt x="10800" y="13601"/>
                  <a:pt x="9695" y="15081"/>
                  <a:pt x="9695" y="16604"/>
                </a:cubicBezTo>
                <a:lnTo>
                  <a:pt x="9695" y="1856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6" name=""/>
          <p:cNvGraphicFramePr/>
          <p:nvPr/>
        </p:nvGraphicFramePr>
        <p:xfrm>
          <a:off x="4521240" y="5049720"/>
          <a:ext cx="1287360" cy="728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1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521240" y="5049720"/>
                    <a:ext cx="128736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8" name="Управляющая кнопка: домой 85">
            <a:hlinkClick r:id="rId20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811548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2212920" y="4487760"/>
            <a:ext cx="26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юючи з вираз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17510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3398760" y="507348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205272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5" name=""/>
          <p:cNvGraphicFramePr/>
          <p:nvPr/>
        </p:nvGraphicFramePr>
        <p:xfrm>
          <a:off x="4792680" y="4921200"/>
          <a:ext cx="10368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2680" y="4921200"/>
                    <a:ext cx="10368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7" name=""/>
          <p:cNvGraphicFramePr/>
          <p:nvPr/>
        </p:nvGraphicFramePr>
        <p:xfrm>
          <a:off x="4703760" y="4468680"/>
          <a:ext cx="221472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3760" y="4468680"/>
                    <a:ext cx="22147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9" name=""/>
          <p:cNvGraphicFramePr/>
          <p:nvPr/>
        </p:nvGraphicFramePr>
        <p:xfrm>
          <a:off x="2279520" y="3449520"/>
          <a:ext cx="4357800" cy="74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9520" y="3449520"/>
                    <a:ext cx="43578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1" name=""/>
          <p:cNvSpPr/>
          <p:nvPr/>
        </p:nvSpPr>
        <p:spPr>
          <a:xfrm>
            <a:off x="5219640" y="4962600"/>
            <a:ext cx="495360" cy="63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1876320" y="4054320"/>
            <a:ext cx="42840" cy="1609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1677960" y="353232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4" name=""/>
          <p:cNvGraphicFramePr/>
          <p:nvPr/>
        </p:nvGraphicFramePr>
        <p:xfrm>
          <a:off x="6546960" y="1839960"/>
          <a:ext cx="498240" cy="35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46960" y="1839960"/>
                    <a:ext cx="4982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6" name=""/>
          <p:cNvSpPr/>
          <p:nvPr/>
        </p:nvSpPr>
        <p:spPr>
          <a:xfrm>
            <a:off x="5888160" y="183204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,  де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7" name=""/>
          <p:cNvGraphicFramePr/>
          <p:nvPr/>
        </p:nvGraphicFramePr>
        <p:xfrm>
          <a:off x="1373040" y="1284120"/>
          <a:ext cx="4751640" cy="147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3040" y="1284120"/>
                    <a:ext cx="475164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9" name=""/>
          <p:cNvSpPr/>
          <p:nvPr/>
        </p:nvSpPr>
        <p:spPr>
          <a:xfrm>
            <a:off x="7039080" y="1743120"/>
            <a:ext cx="442800" cy="507960"/>
          </a:xfrm>
          <a:custGeom>
            <a:avLst/>
            <a:gdLst>
              <a:gd name="textAreaLeft" fmla="*/ 28440 w 442800"/>
              <a:gd name="textAreaRight" fmla="*/ 414360 w 442800"/>
              <a:gd name="textAreaTop" fmla="*/ 28440 h 507960"/>
              <a:gd name="textAreaBottom" fmla="*/ 479520 h 507960"/>
            </a:gdLst>
            <a:ahLst/>
            <a:rect l="textAreaLeft" t="textAreaTop" r="textAreaRight" b="textAreaBottom"/>
            <a:pathLst>
              <a:path w="21600" h="24776">
                <a:moveTo>
                  <a:pt x="0" y="0"/>
                </a:moveTo>
                <a:lnTo>
                  <a:pt x="21600" y="0"/>
                </a:lnTo>
                <a:lnTo>
                  <a:pt x="21600" y="24776"/>
                </a:lnTo>
                <a:lnTo>
                  <a:pt x="0" y="24776"/>
                </a:lnTo>
                <a:close/>
              </a:path>
              <a:path fill="lightenLess" w="21600" h="24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76">
                <a:moveTo>
                  <a:pt x="21600" y="0"/>
                </a:moveTo>
                <a:lnTo>
                  <a:pt x="21600" y="24776"/>
                </a:lnTo>
                <a:lnTo>
                  <a:pt x="20200" y="23376"/>
                </a:lnTo>
                <a:lnTo>
                  <a:pt x="20200" y="1400"/>
                </a:lnTo>
                <a:close/>
              </a:path>
              <a:path fill="darkenLess" w="21600" h="24776">
                <a:moveTo>
                  <a:pt x="21600" y="24776"/>
                </a:moveTo>
                <a:lnTo>
                  <a:pt x="0" y="24776"/>
                </a:lnTo>
                <a:lnTo>
                  <a:pt x="1400" y="23376"/>
                </a:lnTo>
                <a:lnTo>
                  <a:pt x="20200" y="23376"/>
                </a:lnTo>
                <a:close/>
              </a:path>
              <a:path fill="lighten" w="21600" h="24776">
                <a:moveTo>
                  <a:pt x="0" y="24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76"/>
                </a:lnTo>
                <a:close/>
              </a:path>
              <a:path fill="darken" w="21600" h="24776">
                <a:moveTo>
                  <a:pt x="10800" y="1639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776">
                <a:moveTo>
                  <a:pt x="11905" y="15869"/>
                </a:moveTo>
                <a:lnTo>
                  <a:pt x="11905" y="13911"/>
                </a:lnTo>
                <a:cubicBezTo>
                  <a:pt x="11905" y="13084"/>
                  <a:pt x="12236" y="12388"/>
                  <a:pt x="12837" y="12388"/>
                </a:cubicBezTo>
                <a:cubicBezTo>
                  <a:pt x="13968" y="12388"/>
                  <a:pt x="14865" y="11021"/>
                  <a:pt x="14865" y="9437"/>
                </a:cubicBezTo>
                <a:cubicBezTo>
                  <a:pt x="14865" y="7122"/>
                  <a:pt x="13011" y="5381"/>
                  <a:pt x="10800" y="5381"/>
                </a:cubicBezTo>
                <a:cubicBezTo>
                  <a:pt x="8589" y="5381"/>
                  <a:pt x="6918" y="7122"/>
                  <a:pt x="6918" y="9437"/>
                </a:cubicBezTo>
                <a:lnTo>
                  <a:pt x="8772" y="9437"/>
                </a:lnTo>
                <a:cubicBezTo>
                  <a:pt x="8772" y="8297"/>
                  <a:pt x="9695" y="7409"/>
                  <a:pt x="10800" y="7409"/>
                </a:cubicBezTo>
                <a:cubicBezTo>
                  <a:pt x="11905" y="7409"/>
                  <a:pt x="12837" y="8297"/>
                  <a:pt x="12837" y="9437"/>
                </a:cubicBezTo>
                <a:cubicBezTo>
                  <a:pt x="12837" y="10177"/>
                  <a:pt x="12367" y="10908"/>
                  <a:pt x="11905" y="10908"/>
                </a:cubicBezTo>
                <a:cubicBezTo>
                  <a:pt x="10800" y="10908"/>
                  <a:pt x="9695" y="12388"/>
                  <a:pt x="9695" y="13911"/>
                </a:cubicBezTo>
                <a:lnTo>
                  <a:pt x="9695" y="158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341520" y="303120"/>
            <a:ext cx="22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Фізичний ма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99000" y="1278000"/>
          <a:ext cx="69048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9000" y="1278000"/>
                    <a:ext cx="690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4948200" y="2862360"/>
            <a:ext cx="354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випадку малих коливань диференціальне рівняння матиме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443480" y="4694400"/>
          <a:ext cx="920520" cy="4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3480" y="4694400"/>
                    <a:ext cx="9205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6410160" y="4044960"/>
          <a:ext cx="146160" cy="1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0160" y="4044960"/>
                    <a:ext cx="14616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>
            <a:hlinkClick r:id="rId7" action="ppaction://hlinksldjump"/>
          </p:cNvPr>
          <p:cNvSpPr/>
          <p:nvPr/>
        </p:nvSpPr>
        <p:spPr>
          <a:xfrm>
            <a:off x="6551640" y="557676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rId8" action="ppaction://hlinksldjump"/>
          </p:cNvPr>
          <p:cNvSpPr/>
          <p:nvPr/>
        </p:nvSpPr>
        <p:spPr>
          <a:xfrm>
            <a:off x="5273640" y="11937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9" action="ppaction://hlinksldjump"/>
          </p:cNvPr>
          <p:cNvSpPr/>
          <p:nvPr/>
        </p:nvSpPr>
        <p:spPr>
          <a:xfrm>
            <a:off x="5938920" y="362124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41880" y="207504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10" action="ppaction://hlinksldjump"/>
          </p:cNvPr>
          <p:cNvSpPr/>
          <p:nvPr/>
        </p:nvSpPr>
        <p:spPr>
          <a:xfrm>
            <a:off x="5346720" y="46576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371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14760" y="1095480"/>
            <a:ext cx="1467000" cy="695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771560"/>
            <a:ext cx="57168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08200" y="4146480"/>
            <a:ext cx="35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ді залежність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буде тако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000" y="5688000"/>
            <a:ext cx="46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іод малих коливань фізичного мая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956120" y="5635800"/>
          <a:ext cx="1589040" cy="43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6120" y="5635800"/>
                    <a:ext cx="15890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505480" y="112716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62600" y="5510160"/>
            <a:ext cx="25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41840" y="4600440"/>
            <a:ext cx="25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51680" y="355608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3"/>
          <a:stretch/>
        </p:blipFill>
        <p:spPr>
          <a:xfrm rot="18949200">
            <a:off x="1579320" y="974880"/>
            <a:ext cx="2116080" cy="32572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711600" y="2921040"/>
            <a:ext cx="14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центр м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80" y="1252440"/>
            <a:ext cx="180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обертання (перпендикулярна площині рису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255840" y="1208160"/>
            <a:ext cx="287280" cy="409680"/>
            <a:chOff x="3255840" y="1208160"/>
            <a:chExt cx="287280" cy="409680"/>
          </a:xfrm>
        </p:grpSpPr>
        <p:sp>
          <p:nvSpPr>
            <p:cNvPr id="387" name=""/>
            <p:cNvSpPr/>
            <p:nvPr/>
          </p:nvSpPr>
          <p:spPr>
            <a:xfrm>
              <a:off x="3255840" y="120816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8" name=""/>
            <p:cNvGraphicFramePr/>
            <p:nvPr/>
          </p:nvGraphicFramePr>
          <p:xfrm>
            <a:off x="3281400" y="1229040"/>
            <a:ext cx="261720" cy="374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281400" y="1229040"/>
                      <a:ext cx="26172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0" name=""/>
          <p:cNvSpPr/>
          <p:nvPr/>
        </p:nvSpPr>
        <p:spPr>
          <a:xfrm>
            <a:off x="2274840" y="1170000"/>
            <a:ext cx="0" cy="26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84560" y="1779480"/>
            <a:ext cx="49500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51080" y="174132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754360" y="272088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 rot="3128400">
            <a:off x="422640" y="-145440"/>
            <a:ext cx="3297240" cy="283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92" y="4002"/>
                </a:moveTo>
                <a:arcTo wR="10800" hR="10800" stAng="-2340611" swAng="1721451"/>
                <a:lnTo>
                  <a:pt x="10800" y="10800"/>
                </a:lnTo>
                <a:close/>
              </a:path>
              <a:path fill="none" w="21600" h="21600">
                <a:moveTo>
                  <a:pt x="19192" y="4002"/>
                </a:moveTo>
                <a:arcTo wR="10800" hR="10800" stAng="-2340611" swAng="1721451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266920" y="2048040"/>
            <a:ext cx="228600" cy="352440"/>
            <a:chOff x="2266920" y="2048040"/>
            <a:chExt cx="228600" cy="352440"/>
          </a:xfrm>
        </p:grpSpPr>
        <p:sp>
          <p:nvSpPr>
            <p:cNvPr id="396" name=""/>
            <p:cNvSpPr/>
            <p:nvPr/>
          </p:nvSpPr>
          <p:spPr>
            <a:xfrm>
              <a:off x="2266920" y="2048040"/>
              <a:ext cx="16200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7" name=""/>
            <p:cNvGraphicFramePr/>
            <p:nvPr/>
          </p:nvGraphicFramePr>
          <p:xfrm>
            <a:off x="2270160" y="2146320"/>
            <a:ext cx="225360" cy="2541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270160" y="2146320"/>
                      <a:ext cx="225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9" name=""/>
          <p:cNvSpPr/>
          <p:nvPr/>
        </p:nvSpPr>
        <p:spPr>
          <a:xfrm>
            <a:off x="1628640" y="1419120"/>
            <a:ext cx="6289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519280" y="2085840"/>
          <a:ext cx="239760" cy="238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519280" y="2085840"/>
                    <a:ext cx="23976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974960" y="354168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2781360" y="2752560"/>
            <a:ext cx="10000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684520" y="3024360"/>
          <a:ext cx="561960" cy="393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684520" y="3024360"/>
                    <a:ext cx="5619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2666880" y="3038400"/>
            <a:ext cx="200160" cy="3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009520" y="3238560"/>
            <a:ext cx="65700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7800" y="3424320"/>
            <a:ext cx="164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момент інерції  тіла відносно осі обер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39000" y="1805040"/>
            <a:ext cx="31240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сновне рівняння динаміки обертального руху у проекціях на вісь оберта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Управляющая кнопка: домой 85">
            <a:hlinkClick r:id="rId2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3" name=""/>
          <p:cNvGraphicFramePr/>
          <p:nvPr/>
        </p:nvGraphicFramePr>
        <p:xfrm>
          <a:off x="4896000" y="4908600"/>
          <a:ext cx="10569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6000" y="4908600"/>
                    <a:ext cx="1056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5" name=""/>
          <p:cNvGraphicFramePr/>
          <p:nvPr/>
        </p:nvGraphicFramePr>
        <p:xfrm>
          <a:off x="2584440" y="3378240"/>
          <a:ext cx="43894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4440" y="3378240"/>
                    <a:ext cx="43894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7" name=""/>
          <p:cNvSpPr/>
          <p:nvPr/>
        </p:nvSpPr>
        <p:spPr>
          <a:xfrm>
            <a:off x="2401920" y="4513320"/>
            <a:ext cx="26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юючи з вираз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549600" y="509904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9" name=""/>
          <p:cNvGraphicFramePr/>
          <p:nvPr/>
        </p:nvGraphicFramePr>
        <p:xfrm>
          <a:off x="4892760" y="4494240"/>
          <a:ext cx="221436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92760" y="4494240"/>
                    <a:ext cx="22143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1" name=""/>
          <p:cNvSpPr/>
          <p:nvPr/>
        </p:nvSpPr>
        <p:spPr>
          <a:xfrm>
            <a:off x="5380200" y="4913280"/>
            <a:ext cx="466560" cy="66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2173320" y="3986280"/>
            <a:ext cx="42840" cy="1542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74960" y="346392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4" name=""/>
          <p:cNvGraphicFramePr/>
          <p:nvPr/>
        </p:nvGraphicFramePr>
        <p:xfrm>
          <a:off x="6562800" y="1782720"/>
          <a:ext cx="577800" cy="37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62800" y="1782720"/>
                    <a:ext cx="5778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6" name=""/>
          <p:cNvSpPr/>
          <p:nvPr/>
        </p:nvSpPr>
        <p:spPr>
          <a:xfrm>
            <a:off x="5919840" y="178452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,  де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7" name=""/>
          <p:cNvGraphicFramePr/>
          <p:nvPr/>
        </p:nvGraphicFramePr>
        <p:xfrm>
          <a:off x="1379520" y="1254240"/>
          <a:ext cx="4767120" cy="147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9520" y="1254240"/>
                    <a:ext cx="4767120" cy="14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9" name=""/>
          <p:cNvSpPr/>
          <p:nvPr/>
        </p:nvSpPr>
        <p:spPr>
          <a:xfrm>
            <a:off x="7143840" y="1695600"/>
            <a:ext cx="442800" cy="507960"/>
          </a:xfrm>
          <a:custGeom>
            <a:avLst/>
            <a:gdLst>
              <a:gd name="textAreaLeft" fmla="*/ 28440 w 442800"/>
              <a:gd name="textAreaRight" fmla="*/ 414360 w 442800"/>
              <a:gd name="textAreaTop" fmla="*/ 28440 h 507960"/>
              <a:gd name="textAreaBottom" fmla="*/ 479520 h 507960"/>
            </a:gdLst>
            <a:ahLst/>
            <a:rect l="textAreaLeft" t="textAreaTop" r="textAreaRight" b="textAreaBottom"/>
            <a:pathLst>
              <a:path w="21600" h="24776">
                <a:moveTo>
                  <a:pt x="0" y="0"/>
                </a:moveTo>
                <a:lnTo>
                  <a:pt x="21600" y="0"/>
                </a:lnTo>
                <a:lnTo>
                  <a:pt x="21600" y="24776"/>
                </a:lnTo>
                <a:lnTo>
                  <a:pt x="0" y="24776"/>
                </a:lnTo>
                <a:close/>
              </a:path>
              <a:path fill="lightenLess" w="21600" h="24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76">
                <a:moveTo>
                  <a:pt x="21600" y="0"/>
                </a:moveTo>
                <a:lnTo>
                  <a:pt x="21600" y="24776"/>
                </a:lnTo>
                <a:lnTo>
                  <a:pt x="20200" y="23376"/>
                </a:lnTo>
                <a:lnTo>
                  <a:pt x="20200" y="1400"/>
                </a:lnTo>
                <a:close/>
              </a:path>
              <a:path fill="darkenLess" w="21600" h="24776">
                <a:moveTo>
                  <a:pt x="21600" y="24776"/>
                </a:moveTo>
                <a:lnTo>
                  <a:pt x="0" y="24776"/>
                </a:lnTo>
                <a:lnTo>
                  <a:pt x="1400" y="23376"/>
                </a:lnTo>
                <a:lnTo>
                  <a:pt x="20200" y="23376"/>
                </a:lnTo>
                <a:close/>
              </a:path>
              <a:path fill="lighten" w="21600" h="24776">
                <a:moveTo>
                  <a:pt x="0" y="24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76"/>
                </a:lnTo>
                <a:close/>
              </a:path>
              <a:path fill="darken" w="21600" h="24776">
                <a:moveTo>
                  <a:pt x="10800" y="1639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776">
                <a:moveTo>
                  <a:pt x="11905" y="15869"/>
                </a:moveTo>
                <a:lnTo>
                  <a:pt x="11905" y="13911"/>
                </a:lnTo>
                <a:cubicBezTo>
                  <a:pt x="11905" y="13084"/>
                  <a:pt x="12236" y="12388"/>
                  <a:pt x="12837" y="12388"/>
                </a:cubicBezTo>
                <a:cubicBezTo>
                  <a:pt x="13968" y="12388"/>
                  <a:pt x="14865" y="11021"/>
                  <a:pt x="14865" y="9437"/>
                </a:cubicBezTo>
                <a:cubicBezTo>
                  <a:pt x="14865" y="7122"/>
                  <a:pt x="13011" y="5381"/>
                  <a:pt x="10800" y="5381"/>
                </a:cubicBezTo>
                <a:cubicBezTo>
                  <a:pt x="8589" y="5381"/>
                  <a:pt x="6918" y="7122"/>
                  <a:pt x="6918" y="9437"/>
                </a:cubicBezTo>
                <a:lnTo>
                  <a:pt x="8772" y="9437"/>
                </a:lnTo>
                <a:cubicBezTo>
                  <a:pt x="8772" y="8297"/>
                  <a:pt x="9695" y="7409"/>
                  <a:pt x="10800" y="7409"/>
                </a:cubicBezTo>
                <a:cubicBezTo>
                  <a:pt x="11905" y="7409"/>
                  <a:pt x="12837" y="8297"/>
                  <a:pt x="12837" y="9437"/>
                </a:cubicBezTo>
                <a:cubicBezTo>
                  <a:pt x="12837" y="10177"/>
                  <a:pt x="12367" y="10908"/>
                  <a:pt x="11905" y="10908"/>
                </a:cubicBezTo>
                <a:cubicBezTo>
                  <a:pt x="10800" y="10908"/>
                  <a:pt x="9695" y="12388"/>
                  <a:pt x="9695" y="13911"/>
                </a:cubicBezTo>
                <a:lnTo>
                  <a:pt x="9695" y="158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9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0" y="1450800"/>
            <a:ext cx="857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и деякому співвідношенні між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розв'язок диференціального рівняння має вигля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4" name=""/>
          <p:cNvGraphicFramePr/>
          <p:nvPr/>
        </p:nvGraphicFramePr>
        <p:xfrm>
          <a:off x="2717640" y="1832040"/>
          <a:ext cx="298944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7640" y="1832040"/>
                    <a:ext cx="29894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6" name=""/>
          <p:cNvSpPr/>
          <p:nvPr/>
        </p:nvSpPr>
        <p:spPr>
          <a:xfrm>
            <a:off x="5826240" y="1849320"/>
            <a:ext cx="159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 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365040" y="2255760"/>
            <a:ext cx="83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ві довільні константи загального розв'язку однорідного диференціального рівняння другого поряд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9" name=""/>
          <p:cNvGraphicFramePr/>
          <p:nvPr/>
        </p:nvGraphicFramePr>
        <p:xfrm>
          <a:off x="2979720" y="1047600"/>
          <a:ext cx="232740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9720" y="1047600"/>
                    <a:ext cx="2327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1" name=""/>
          <p:cNvSpPr/>
          <p:nvPr/>
        </p:nvSpPr>
        <p:spPr>
          <a:xfrm>
            <a:off x="790560" y="3525840"/>
            <a:ext cx="59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находимо  першу  та  другу  похідні  за  часом від       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942160" y="3562200"/>
                <a:ext cx="4237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5" name=""/>
          <p:cNvGraphicFramePr/>
          <p:nvPr/>
        </p:nvGraphicFramePr>
        <p:xfrm>
          <a:off x="2071800" y="3949560"/>
          <a:ext cx="4994280" cy="3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1800" y="3949560"/>
                    <a:ext cx="49942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8" name=""/>
          <p:cNvGraphicFramePr/>
          <p:nvPr/>
        </p:nvGraphicFramePr>
        <p:xfrm>
          <a:off x="380880" y="4387680"/>
          <a:ext cx="8705880" cy="36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387680"/>
                    <a:ext cx="87058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0" name=""/>
          <p:cNvSpPr/>
          <p:nvPr/>
        </p:nvSpPr>
        <p:spPr>
          <a:xfrm>
            <a:off x="458640" y="4838760"/>
            <a:ext cx="862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ані результати підставляємо у диференціальне рівняння і після спрощення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4" name=""/>
          <p:cNvGraphicFramePr/>
          <p:nvPr/>
        </p:nvGraphicFramePr>
        <p:xfrm>
          <a:off x="3649680" y="5240160"/>
          <a:ext cx="1757520" cy="3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9680" y="5240160"/>
                    <a:ext cx="17575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2968560" y="5772240"/>
            <a:ext cx="9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1219320" y="328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1" name=""/>
          <p:cNvGraphicFramePr/>
          <p:nvPr/>
        </p:nvGraphicFramePr>
        <p:xfrm>
          <a:off x="3773520" y="5697360"/>
          <a:ext cx="15080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73520" y="5697360"/>
                    <a:ext cx="1508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3" name=""/>
          <p:cNvSpPr/>
          <p:nvPr/>
        </p:nvSpPr>
        <p:spPr>
          <a:xfrm>
            <a:off x="3770280" y="5691240"/>
            <a:ext cx="1405080" cy="444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268200" y="3916440"/>
            <a:ext cx="42840" cy="2313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88920" y="3394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2611440" y="2830680"/>
            <a:ext cx="345960" cy="479160"/>
          </a:xfrm>
          <a:custGeom>
            <a:avLst/>
            <a:gdLst>
              <a:gd name="textAreaLeft" fmla="*/ 22320 w 345960"/>
              <a:gd name="textAreaRight" fmla="*/ 323640 w 345960"/>
              <a:gd name="textAreaTop" fmla="*/ 22320 h 479160"/>
              <a:gd name="textAreaBottom" fmla="*/ 456840 h 479160"/>
            </a:gdLst>
            <a:ahLst/>
            <a:rect l="textAreaLeft" t="textAreaTop" r="textAreaRight" b="textAreaBottom"/>
            <a:pathLst>
              <a:path w="21600" h="29908">
                <a:moveTo>
                  <a:pt x="0" y="0"/>
                </a:moveTo>
                <a:lnTo>
                  <a:pt x="21600" y="0"/>
                </a:lnTo>
                <a:lnTo>
                  <a:pt x="21600" y="29908"/>
                </a:lnTo>
                <a:lnTo>
                  <a:pt x="0" y="29908"/>
                </a:lnTo>
                <a:close/>
              </a:path>
              <a:path fill="lightenLess" w="21600" h="29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08">
                <a:moveTo>
                  <a:pt x="21600" y="0"/>
                </a:moveTo>
                <a:lnTo>
                  <a:pt x="21600" y="29908"/>
                </a:lnTo>
                <a:lnTo>
                  <a:pt x="20200" y="28508"/>
                </a:lnTo>
                <a:lnTo>
                  <a:pt x="20200" y="1400"/>
                </a:lnTo>
                <a:close/>
              </a:path>
              <a:path fill="darkenLess" w="21600" h="29908">
                <a:moveTo>
                  <a:pt x="21600" y="29908"/>
                </a:moveTo>
                <a:lnTo>
                  <a:pt x="0" y="29908"/>
                </a:lnTo>
                <a:lnTo>
                  <a:pt x="1400" y="28508"/>
                </a:lnTo>
                <a:lnTo>
                  <a:pt x="20200" y="28508"/>
                </a:lnTo>
                <a:close/>
              </a:path>
              <a:path fill="lighten" w="21600" h="29908">
                <a:moveTo>
                  <a:pt x="0" y="29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08"/>
                </a:lnTo>
                <a:close/>
              </a:path>
              <a:path fill="darken" w="21600" h="29908">
                <a:moveTo>
                  <a:pt x="10800" y="189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908">
                <a:moveTo>
                  <a:pt x="11905" y="18435"/>
                </a:moveTo>
                <a:lnTo>
                  <a:pt x="11905" y="16477"/>
                </a:lnTo>
                <a:cubicBezTo>
                  <a:pt x="11905" y="15650"/>
                  <a:pt x="12236" y="14954"/>
                  <a:pt x="12837" y="14954"/>
                </a:cubicBezTo>
                <a:cubicBezTo>
                  <a:pt x="13968" y="14954"/>
                  <a:pt x="14865" y="13587"/>
                  <a:pt x="14865" y="12003"/>
                </a:cubicBezTo>
                <a:cubicBezTo>
                  <a:pt x="14865" y="9688"/>
                  <a:pt x="13011" y="7947"/>
                  <a:pt x="10800" y="7947"/>
                </a:cubicBezTo>
                <a:cubicBezTo>
                  <a:pt x="8589" y="7947"/>
                  <a:pt x="6918" y="9688"/>
                  <a:pt x="6918" y="12003"/>
                </a:cubicBezTo>
                <a:lnTo>
                  <a:pt x="8772" y="12003"/>
                </a:lnTo>
                <a:cubicBezTo>
                  <a:pt x="8772" y="10863"/>
                  <a:pt x="9695" y="9975"/>
                  <a:pt x="10800" y="9975"/>
                </a:cubicBezTo>
                <a:cubicBezTo>
                  <a:pt x="11905" y="9975"/>
                  <a:pt x="12837" y="10863"/>
                  <a:pt x="12837" y="12003"/>
                </a:cubicBezTo>
                <a:cubicBezTo>
                  <a:pt x="12837" y="12743"/>
                  <a:pt x="12367" y="13474"/>
                  <a:pt x="11905" y="13474"/>
                </a:cubicBezTo>
                <a:cubicBezTo>
                  <a:pt x="10800" y="13474"/>
                  <a:pt x="9695" y="14954"/>
                  <a:pt x="9695" y="16477"/>
                </a:cubicBezTo>
                <a:lnTo>
                  <a:pt x="9695" y="184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2936880" y="2916360"/>
            <a:ext cx="351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Знайдіть вираз для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через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"/>
          <p:cNvSpPr/>
          <p:nvPr/>
        </p:nvSpPr>
        <p:spPr>
          <a:xfrm>
            <a:off x="920880" y="4540320"/>
            <a:ext cx="818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ерніть увагу на останній перехід. Тут враховано те, що       і      додатні.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2" name=""/>
          <p:cNvGraphicFramePr/>
          <p:nvPr/>
        </p:nvGraphicFramePr>
        <p:xfrm>
          <a:off x="2286000" y="1512720"/>
          <a:ext cx="268452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12720"/>
                    <a:ext cx="2684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4" name=""/>
          <p:cNvSpPr/>
          <p:nvPr/>
        </p:nvSpPr>
        <p:spPr>
          <a:xfrm>
            <a:off x="1474920" y="1905120"/>
            <a:ext cx="63133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и якому співвідношенні між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коливання будуть згасати за наведеним закон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5" name=""/>
          <p:cNvGraphicFramePr/>
          <p:nvPr/>
        </p:nvGraphicFramePr>
        <p:xfrm>
          <a:off x="5337000" y="1460520"/>
          <a:ext cx="144792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7000" y="1460520"/>
                    <a:ext cx="14479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7" name=""/>
          <p:cNvSpPr/>
          <p:nvPr/>
        </p:nvSpPr>
        <p:spPr>
          <a:xfrm>
            <a:off x="4757760" y="1563840"/>
            <a:ext cx="79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0" y="34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1" name=""/>
              <p:cNvSpPr txBox="1"/>
              <p:nvPr/>
            </p:nvSpPr>
            <p:spPr>
              <a:xfrm>
                <a:off x="6831000" y="4562640"/>
                <a:ext cx="295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2" name=""/>
          <p:cNvSpPr/>
          <p:nvPr/>
        </p:nvSpPr>
        <p:spPr>
          <a:xfrm>
            <a:off x="843120" y="31226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ля того, щоб коливання відбувалися за наведеним законом, значення виразу під коренем має бути додат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3" name=""/>
              <p:cNvSpPr txBox="1"/>
              <p:nvPr/>
            </p:nvSpPr>
            <p:spPr>
              <a:xfrm>
                <a:off x="2685960" y="3909960"/>
                <a:ext cx="2768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14" name=""/>
          <p:cNvGraphicFramePr/>
          <p:nvPr/>
        </p:nvGraphicFramePr>
        <p:xfrm>
          <a:off x="5504040" y="3933720"/>
          <a:ext cx="869760" cy="37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4040" y="3933720"/>
                    <a:ext cx="8697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7335720" y="4608360"/>
                <a:ext cx="23184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7" name=""/>
          <p:cNvSpPr/>
          <p:nvPr/>
        </p:nvSpPr>
        <p:spPr>
          <a:xfrm>
            <a:off x="5478480" y="3916440"/>
            <a:ext cx="78588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511200" y="3567240"/>
            <a:ext cx="42840" cy="1495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312840" y="304488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Управляющая кнопка: домой 85">
            <a:hlinkClick r:id="rId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1131840" y="1949400"/>
            <a:ext cx="345960" cy="479520"/>
          </a:xfrm>
          <a:custGeom>
            <a:avLst/>
            <a:gdLst>
              <a:gd name="textAreaLeft" fmla="*/ 22320 w 345960"/>
              <a:gd name="textAreaRight" fmla="*/ 323640 w 345960"/>
              <a:gd name="textAreaTop" fmla="*/ 22320 h 479520"/>
              <a:gd name="textAreaBottom" fmla="*/ 457200 h 479520"/>
            </a:gdLst>
            <a:ahLst/>
            <a:rect l="textAreaLeft" t="textAreaTop" r="textAreaRight" b="textAreaBottom"/>
            <a:pathLst>
              <a:path w="21600" h="29930">
                <a:moveTo>
                  <a:pt x="0" y="0"/>
                </a:moveTo>
                <a:lnTo>
                  <a:pt x="21600" y="0"/>
                </a:lnTo>
                <a:lnTo>
                  <a:pt x="21600" y="29930"/>
                </a:lnTo>
                <a:lnTo>
                  <a:pt x="0" y="29930"/>
                </a:lnTo>
                <a:close/>
              </a:path>
              <a:path fill="lightenLess" w="21600" h="299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30">
                <a:moveTo>
                  <a:pt x="21600" y="0"/>
                </a:moveTo>
                <a:lnTo>
                  <a:pt x="21600" y="29930"/>
                </a:lnTo>
                <a:lnTo>
                  <a:pt x="20200" y="28530"/>
                </a:lnTo>
                <a:lnTo>
                  <a:pt x="20200" y="1400"/>
                </a:lnTo>
                <a:close/>
              </a:path>
              <a:path fill="darkenLess" w="21600" h="29930">
                <a:moveTo>
                  <a:pt x="21600" y="29930"/>
                </a:moveTo>
                <a:lnTo>
                  <a:pt x="0" y="29930"/>
                </a:lnTo>
                <a:lnTo>
                  <a:pt x="1400" y="28530"/>
                </a:lnTo>
                <a:lnTo>
                  <a:pt x="20200" y="28530"/>
                </a:lnTo>
                <a:close/>
              </a:path>
              <a:path fill="lighten" w="21600" h="29930">
                <a:moveTo>
                  <a:pt x="0" y="299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30"/>
                </a:lnTo>
                <a:close/>
              </a:path>
              <a:path fill="darken" w="21600" h="29930">
                <a:moveTo>
                  <a:pt x="10800" y="189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930">
                <a:moveTo>
                  <a:pt x="11905" y="18447"/>
                </a:moveTo>
                <a:lnTo>
                  <a:pt x="11905" y="16488"/>
                </a:lnTo>
                <a:cubicBezTo>
                  <a:pt x="11905" y="15661"/>
                  <a:pt x="12236" y="14965"/>
                  <a:pt x="12837" y="14965"/>
                </a:cubicBezTo>
                <a:cubicBezTo>
                  <a:pt x="13968" y="14965"/>
                  <a:pt x="14865" y="13599"/>
                  <a:pt x="14865" y="12015"/>
                </a:cubicBezTo>
                <a:cubicBezTo>
                  <a:pt x="14865" y="9699"/>
                  <a:pt x="13011" y="7959"/>
                  <a:pt x="10800" y="7959"/>
                </a:cubicBezTo>
                <a:cubicBezTo>
                  <a:pt x="8589" y="7959"/>
                  <a:pt x="6918" y="9699"/>
                  <a:pt x="6918" y="12015"/>
                </a:cubicBezTo>
                <a:lnTo>
                  <a:pt x="8772" y="12015"/>
                </a:lnTo>
                <a:cubicBezTo>
                  <a:pt x="8772" y="10874"/>
                  <a:pt x="9695" y="9987"/>
                  <a:pt x="10800" y="9987"/>
                </a:cubicBezTo>
                <a:cubicBezTo>
                  <a:pt x="11905" y="9987"/>
                  <a:pt x="12837" y="10874"/>
                  <a:pt x="12837" y="12015"/>
                </a:cubicBezTo>
                <a:cubicBezTo>
                  <a:pt x="12837" y="12754"/>
                  <a:pt x="12367" y="13485"/>
                  <a:pt x="11905" y="13485"/>
                </a:cubicBezTo>
                <a:cubicBezTo>
                  <a:pt x="10800" y="13485"/>
                  <a:pt x="9695" y="14965"/>
                  <a:pt x="9695" y="16488"/>
                </a:cubicBezTo>
                <a:lnTo>
                  <a:pt x="9695" y="1844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"/>
          <p:cNvSpPr/>
          <p:nvPr/>
        </p:nvSpPr>
        <p:spPr>
          <a:xfrm>
            <a:off x="2347920" y="495360"/>
            <a:ext cx="49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4" name=""/>
          <p:cNvGrpSpPr/>
          <p:nvPr/>
        </p:nvGrpSpPr>
        <p:grpSpPr>
          <a:xfrm>
            <a:off x="1703520" y="879120"/>
            <a:ext cx="3309840" cy="2762280"/>
            <a:chOff x="1703520" y="879120"/>
            <a:chExt cx="3309840" cy="2762280"/>
          </a:xfrm>
        </p:grpSpPr>
        <p:graphicFrame>
          <p:nvGraphicFramePr>
            <p:cNvPr id="2725" name=""/>
            <p:cNvGraphicFramePr/>
            <p:nvPr/>
          </p:nvGraphicFramePr>
          <p:xfrm>
            <a:off x="1708200" y="970200"/>
            <a:ext cx="177480" cy="20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08200" y="970200"/>
                      <a:ext cx="17748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7" name=""/>
            <p:cNvSpPr/>
            <p:nvPr/>
          </p:nvSpPr>
          <p:spPr>
            <a:xfrm flipV="1">
              <a:off x="1703520" y="2716200"/>
              <a:ext cx="33098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V="1">
              <a:off x="1882800" y="879120"/>
              <a:ext cx="0" cy="27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9" name=""/>
            <p:cNvGrpSpPr/>
            <p:nvPr/>
          </p:nvGrpSpPr>
          <p:grpSpPr>
            <a:xfrm>
              <a:off x="1892160" y="1273320"/>
              <a:ext cx="2695320" cy="2113560"/>
              <a:chOff x="1892160" y="1273320"/>
              <a:chExt cx="2695320" cy="2113560"/>
            </a:xfrm>
          </p:grpSpPr>
          <p:sp>
            <p:nvSpPr>
              <p:cNvPr id="2730" name=""/>
              <p:cNvSpPr/>
              <p:nvPr/>
            </p:nvSpPr>
            <p:spPr>
              <a:xfrm>
                <a:off x="1892160" y="1273320"/>
                <a:ext cx="2695320" cy="1401120"/>
              </a:xfrm>
              <a:custGeom>
                <a:avLst/>
                <a:gdLst/>
                <a:ahLst/>
                <a:rect l="l" t="t" r="r" b="b"/>
                <a:pathLst>
                  <a:path w="4244" h="270">
                    <a:moveTo>
                      <a:pt x="0" y="0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43" y="9"/>
                      <a:pt x="43" y="9"/>
                      <a:pt x="43" y="9"/>
                    </a:cubicBezTo>
                    <a:cubicBezTo>
                      <a:pt x="51" y="11"/>
                      <a:pt x="51" y="11"/>
                      <a:pt x="51" y="11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8" y="14"/>
                      <a:pt x="68" y="14"/>
                      <a:pt x="68" y="14"/>
                    </a:cubicBezTo>
                    <a:cubicBezTo>
                      <a:pt x="77" y="15"/>
                      <a:pt x="77" y="15"/>
                      <a:pt x="77" y="15"/>
                    </a:cubicBezTo>
                    <a:cubicBezTo>
                      <a:pt x="85" y="17"/>
                      <a:pt x="85" y="17"/>
                      <a:pt x="85" y="17"/>
                    </a:cubicBezTo>
                    <a:cubicBezTo>
                      <a:pt x="94" y="19"/>
                      <a:pt x="94" y="19"/>
                      <a:pt x="94" y="19"/>
                    </a:cubicBezTo>
                    <a:cubicBezTo>
                      <a:pt x="102" y="20"/>
                      <a:pt x="102" y="20"/>
                      <a:pt x="102" y="20"/>
                    </a:cubicBezTo>
                    <a:cubicBezTo>
                      <a:pt x="111" y="22"/>
                      <a:pt x="111" y="22"/>
                      <a:pt x="111" y="22"/>
                    </a:cubicBezTo>
                    <a:cubicBezTo>
                      <a:pt x="119" y="23"/>
                      <a:pt x="119" y="23"/>
                      <a:pt x="119" y="23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36" y="26"/>
                      <a:pt x="136" y="26"/>
                      <a:pt x="136" y="26"/>
                    </a:cubicBezTo>
                    <a:cubicBezTo>
                      <a:pt x="145" y="28"/>
                      <a:pt x="145" y="28"/>
                      <a:pt x="145" y="28"/>
                    </a:cubicBezTo>
                    <a:cubicBezTo>
                      <a:pt x="153" y="30"/>
                      <a:pt x="153" y="30"/>
                      <a:pt x="153" y="30"/>
                    </a:cubicBezTo>
                    <a:cubicBezTo>
                      <a:pt x="162" y="31"/>
                      <a:pt x="162" y="31"/>
                      <a:pt x="162" y="31"/>
                    </a:cubicBezTo>
                    <a:cubicBezTo>
                      <a:pt x="170" y="33"/>
                      <a:pt x="170" y="33"/>
                      <a:pt x="170" y="33"/>
                    </a:cubicBezTo>
                    <a:cubicBezTo>
                      <a:pt x="179" y="34"/>
                      <a:pt x="179" y="34"/>
                      <a:pt x="179" y="34"/>
                    </a:cubicBezTo>
                    <a:cubicBezTo>
                      <a:pt x="187" y="36"/>
                      <a:pt x="187" y="36"/>
                      <a:pt x="187" y="36"/>
                    </a:cubicBezTo>
                    <a:cubicBezTo>
                      <a:pt x="196" y="37"/>
                      <a:pt x="196" y="37"/>
                      <a:pt x="196" y="37"/>
                    </a:cubicBezTo>
                    <a:cubicBezTo>
                      <a:pt x="204" y="39"/>
                      <a:pt x="204" y="39"/>
                      <a:pt x="204" y="39"/>
                    </a:cubicBezTo>
                    <a:cubicBezTo>
                      <a:pt x="213" y="40"/>
                      <a:pt x="213" y="40"/>
                      <a:pt x="213" y="40"/>
                    </a:cubicBezTo>
                    <a:cubicBezTo>
                      <a:pt x="221" y="41"/>
                      <a:pt x="221" y="41"/>
                      <a:pt x="221" y="41"/>
                    </a:cubicBezTo>
                    <a:cubicBezTo>
                      <a:pt x="230" y="43"/>
                      <a:pt x="230" y="43"/>
                      <a:pt x="230" y="43"/>
                    </a:cubicBezTo>
                    <a:cubicBezTo>
                      <a:pt x="238" y="44"/>
                      <a:pt x="238" y="44"/>
                      <a:pt x="238" y="44"/>
                    </a:cubicBezTo>
                    <a:cubicBezTo>
                      <a:pt x="247" y="46"/>
                      <a:pt x="247" y="46"/>
                      <a:pt x="247" y="46"/>
                    </a:cubicBezTo>
                    <a:cubicBezTo>
                      <a:pt x="255" y="47"/>
                      <a:pt x="255" y="47"/>
                      <a:pt x="255" y="47"/>
                    </a:cubicBezTo>
                    <a:cubicBezTo>
                      <a:pt x="264" y="49"/>
                      <a:pt x="264" y="49"/>
                      <a:pt x="264" y="49"/>
                    </a:cubicBezTo>
                    <a:cubicBezTo>
                      <a:pt x="272" y="50"/>
                      <a:pt x="272" y="50"/>
                      <a:pt x="272" y="50"/>
                    </a:cubicBezTo>
                    <a:cubicBezTo>
                      <a:pt x="281" y="51"/>
                      <a:pt x="281" y="51"/>
                      <a:pt x="281" y="51"/>
                    </a:cubicBezTo>
                    <a:cubicBezTo>
                      <a:pt x="289" y="53"/>
                      <a:pt x="289" y="53"/>
                      <a:pt x="289" y="53"/>
                    </a:cubicBezTo>
                    <a:cubicBezTo>
                      <a:pt x="298" y="54"/>
                      <a:pt x="298" y="54"/>
                      <a:pt x="298" y="54"/>
                    </a:cubicBezTo>
                    <a:cubicBezTo>
                      <a:pt x="306" y="56"/>
                      <a:pt x="306" y="56"/>
                      <a:pt x="306" y="56"/>
                    </a:cubicBezTo>
                    <a:cubicBezTo>
                      <a:pt x="315" y="57"/>
                      <a:pt x="315" y="57"/>
                      <a:pt x="315" y="57"/>
                    </a:cubicBezTo>
                    <a:cubicBezTo>
                      <a:pt x="323" y="58"/>
                      <a:pt x="323" y="58"/>
                      <a:pt x="323" y="58"/>
                    </a:cubicBezTo>
                    <a:cubicBezTo>
                      <a:pt x="332" y="60"/>
                      <a:pt x="332" y="60"/>
                      <a:pt x="332" y="60"/>
                    </a:cubicBezTo>
                    <a:cubicBezTo>
                      <a:pt x="340" y="61"/>
                      <a:pt x="340" y="61"/>
                      <a:pt x="340" y="61"/>
                    </a:cubicBezTo>
                    <a:cubicBezTo>
                      <a:pt x="349" y="62"/>
                      <a:pt x="349" y="62"/>
                      <a:pt x="349" y="62"/>
                    </a:cubicBezTo>
                    <a:cubicBezTo>
                      <a:pt x="357" y="64"/>
                      <a:pt x="357" y="64"/>
                      <a:pt x="357" y="64"/>
                    </a:cubicBezTo>
                    <a:cubicBezTo>
                      <a:pt x="366" y="65"/>
                      <a:pt x="366" y="65"/>
                      <a:pt x="366" y="65"/>
                    </a:cubicBezTo>
                    <a:cubicBezTo>
                      <a:pt x="374" y="66"/>
                      <a:pt x="374" y="66"/>
                      <a:pt x="374" y="66"/>
                    </a:cubicBezTo>
                    <a:cubicBezTo>
                      <a:pt x="383" y="68"/>
                      <a:pt x="383" y="68"/>
                      <a:pt x="383" y="68"/>
                    </a:cubicBezTo>
                    <a:cubicBezTo>
                      <a:pt x="391" y="69"/>
                      <a:pt x="391" y="69"/>
                      <a:pt x="391" y="69"/>
                    </a:cubicBezTo>
                    <a:cubicBezTo>
                      <a:pt x="400" y="70"/>
                      <a:pt x="400" y="70"/>
                      <a:pt x="400" y="70"/>
                    </a:cubicBezTo>
                    <a:cubicBezTo>
                      <a:pt x="408" y="71"/>
                      <a:pt x="408" y="71"/>
                      <a:pt x="408" y="71"/>
                    </a:cubicBezTo>
                    <a:cubicBezTo>
                      <a:pt x="417" y="73"/>
                      <a:pt x="417" y="73"/>
                      <a:pt x="417" y="73"/>
                    </a:cubicBezTo>
                    <a:cubicBezTo>
                      <a:pt x="425" y="74"/>
                      <a:pt x="425" y="74"/>
                      <a:pt x="425" y="74"/>
                    </a:cubicBezTo>
                    <a:cubicBezTo>
                      <a:pt x="434" y="75"/>
                      <a:pt x="434" y="75"/>
                      <a:pt x="434" y="75"/>
                    </a:cubicBezTo>
                    <a:cubicBezTo>
                      <a:pt x="442" y="76"/>
                      <a:pt x="442" y="76"/>
                      <a:pt x="442" y="76"/>
                    </a:cubicBezTo>
                    <a:cubicBezTo>
                      <a:pt x="451" y="78"/>
                      <a:pt x="451" y="78"/>
                      <a:pt x="451" y="78"/>
                    </a:cubicBezTo>
                    <a:cubicBezTo>
                      <a:pt x="459" y="79"/>
                      <a:pt x="459" y="79"/>
                      <a:pt x="459" y="79"/>
                    </a:cubicBezTo>
                    <a:cubicBezTo>
                      <a:pt x="468" y="80"/>
                      <a:pt x="468" y="80"/>
                      <a:pt x="468" y="80"/>
                    </a:cubicBezTo>
                    <a:cubicBezTo>
                      <a:pt x="476" y="81"/>
                      <a:pt x="476" y="81"/>
                      <a:pt x="476" y="81"/>
                    </a:cubicBezTo>
                    <a:cubicBezTo>
                      <a:pt x="485" y="83"/>
                      <a:pt x="485" y="83"/>
                      <a:pt x="485" y="83"/>
                    </a:cubicBezTo>
                    <a:cubicBezTo>
                      <a:pt x="493" y="84"/>
                      <a:pt x="493" y="84"/>
                      <a:pt x="493" y="84"/>
                    </a:cubicBezTo>
                    <a:cubicBezTo>
                      <a:pt x="502" y="85"/>
                      <a:pt x="502" y="85"/>
                      <a:pt x="502" y="85"/>
                    </a:cubicBezTo>
                    <a:cubicBezTo>
                      <a:pt x="510" y="86"/>
                      <a:pt x="510" y="86"/>
                      <a:pt x="510" y="86"/>
                    </a:cubicBezTo>
                    <a:cubicBezTo>
                      <a:pt x="519" y="87"/>
                      <a:pt x="519" y="87"/>
                      <a:pt x="519" y="87"/>
                    </a:cubicBezTo>
                    <a:cubicBezTo>
                      <a:pt x="527" y="89"/>
                      <a:pt x="527" y="89"/>
                      <a:pt x="527" y="89"/>
                    </a:cubicBezTo>
                    <a:cubicBezTo>
                      <a:pt x="536" y="90"/>
                      <a:pt x="536" y="90"/>
                      <a:pt x="536" y="90"/>
                    </a:cubicBezTo>
                    <a:cubicBezTo>
                      <a:pt x="544" y="91"/>
                      <a:pt x="544" y="91"/>
                      <a:pt x="544" y="91"/>
                    </a:cubicBezTo>
                    <a:cubicBezTo>
                      <a:pt x="553" y="92"/>
                      <a:pt x="553" y="92"/>
                      <a:pt x="553" y="92"/>
                    </a:cubicBezTo>
                    <a:cubicBezTo>
                      <a:pt x="561" y="93"/>
                      <a:pt x="561" y="93"/>
                      <a:pt x="561" y="93"/>
                    </a:cubicBezTo>
                    <a:cubicBezTo>
                      <a:pt x="570" y="94"/>
                      <a:pt x="570" y="94"/>
                      <a:pt x="570" y="94"/>
                    </a:cubicBezTo>
                    <a:cubicBezTo>
                      <a:pt x="578" y="95"/>
                      <a:pt x="578" y="95"/>
                      <a:pt x="578" y="95"/>
                    </a:cubicBezTo>
                    <a:cubicBezTo>
                      <a:pt x="587" y="97"/>
                      <a:pt x="587" y="97"/>
                      <a:pt x="587" y="97"/>
                    </a:cubicBezTo>
                    <a:cubicBezTo>
                      <a:pt x="595" y="98"/>
                      <a:pt x="595" y="98"/>
                      <a:pt x="595" y="98"/>
                    </a:cubicBezTo>
                    <a:cubicBezTo>
                      <a:pt x="604" y="99"/>
                      <a:pt x="604" y="99"/>
                      <a:pt x="604" y="99"/>
                    </a:cubicBezTo>
                    <a:cubicBezTo>
                      <a:pt x="612" y="100"/>
                      <a:pt x="612" y="100"/>
                      <a:pt x="612" y="100"/>
                    </a:cubicBezTo>
                    <a:cubicBezTo>
                      <a:pt x="621" y="101"/>
                      <a:pt x="621" y="101"/>
                      <a:pt x="621" y="101"/>
                    </a:cubicBezTo>
                    <a:cubicBezTo>
                      <a:pt x="629" y="102"/>
                      <a:pt x="629" y="102"/>
                      <a:pt x="629" y="102"/>
                    </a:cubicBezTo>
                    <a:cubicBezTo>
                      <a:pt x="638" y="103"/>
                      <a:pt x="638" y="103"/>
                      <a:pt x="638" y="103"/>
                    </a:cubicBezTo>
                    <a:cubicBezTo>
                      <a:pt x="646" y="104"/>
                      <a:pt x="646" y="104"/>
                      <a:pt x="646" y="104"/>
                    </a:cubicBezTo>
                    <a:cubicBezTo>
                      <a:pt x="655" y="105"/>
                      <a:pt x="655" y="105"/>
                      <a:pt x="655" y="105"/>
                    </a:cubicBezTo>
                    <a:cubicBezTo>
                      <a:pt x="663" y="106"/>
                      <a:pt x="663" y="106"/>
                      <a:pt x="663" y="106"/>
                    </a:cubicBezTo>
                    <a:cubicBezTo>
                      <a:pt x="672" y="108"/>
                      <a:pt x="672" y="108"/>
                      <a:pt x="672" y="108"/>
                    </a:cubicBezTo>
                    <a:cubicBezTo>
                      <a:pt x="680" y="109"/>
                      <a:pt x="680" y="109"/>
                      <a:pt x="680" y="109"/>
                    </a:cubicBezTo>
                    <a:cubicBezTo>
                      <a:pt x="689" y="110"/>
                      <a:pt x="689" y="110"/>
                      <a:pt x="689" y="110"/>
                    </a:cubicBezTo>
                    <a:cubicBezTo>
                      <a:pt x="697" y="111"/>
                      <a:pt x="697" y="111"/>
                      <a:pt x="697" y="111"/>
                    </a:cubicBezTo>
                    <a:cubicBezTo>
                      <a:pt x="706" y="112"/>
                      <a:pt x="706" y="112"/>
                      <a:pt x="706" y="112"/>
                    </a:cubicBezTo>
                    <a:cubicBezTo>
                      <a:pt x="714" y="113"/>
                      <a:pt x="714" y="113"/>
                      <a:pt x="714" y="113"/>
                    </a:cubicBezTo>
                    <a:cubicBezTo>
                      <a:pt x="723" y="114"/>
                      <a:pt x="723" y="114"/>
                      <a:pt x="723" y="114"/>
                    </a:cubicBezTo>
                    <a:cubicBezTo>
                      <a:pt x="731" y="115"/>
                      <a:pt x="731" y="115"/>
                      <a:pt x="731" y="115"/>
                    </a:cubicBezTo>
                    <a:cubicBezTo>
                      <a:pt x="740" y="116"/>
                      <a:pt x="740" y="116"/>
                      <a:pt x="740" y="116"/>
                    </a:cubicBezTo>
                    <a:cubicBezTo>
                      <a:pt x="748" y="117"/>
                      <a:pt x="748" y="117"/>
                      <a:pt x="748" y="117"/>
                    </a:cubicBezTo>
                    <a:cubicBezTo>
                      <a:pt x="757" y="118"/>
                      <a:pt x="757" y="118"/>
                      <a:pt x="757" y="118"/>
                    </a:cubicBezTo>
                    <a:cubicBezTo>
                      <a:pt x="765" y="119"/>
                      <a:pt x="765" y="119"/>
                      <a:pt x="765" y="119"/>
                    </a:cubicBezTo>
                    <a:cubicBezTo>
                      <a:pt x="774" y="120"/>
                      <a:pt x="774" y="120"/>
                      <a:pt x="774" y="120"/>
                    </a:cubicBezTo>
                    <a:cubicBezTo>
                      <a:pt x="782" y="121"/>
                      <a:pt x="782" y="121"/>
                      <a:pt x="782" y="121"/>
                    </a:cubicBezTo>
                    <a:cubicBezTo>
                      <a:pt x="791" y="122"/>
                      <a:pt x="791" y="122"/>
                      <a:pt x="791" y="122"/>
                    </a:cubicBezTo>
                    <a:cubicBezTo>
                      <a:pt x="799" y="123"/>
                      <a:pt x="799" y="123"/>
                      <a:pt x="799" y="123"/>
                    </a:cubicBezTo>
                    <a:cubicBezTo>
                      <a:pt x="808" y="124"/>
                      <a:pt x="808" y="124"/>
                      <a:pt x="808" y="124"/>
                    </a:cubicBezTo>
                    <a:cubicBezTo>
                      <a:pt x="816" y="125"/>
                      <a:pt x="816" y="125"/>
                      <a:pt x="816" y="125"/>
                    </a:cubicBezTo>
                    <a:cubicBezTo>
                      <a:pt x="825" y="126"/>
                      <a:pt x="825" y="126"/>
                      <a:pt x="825" y="126"/>
                    </a:cubicBezTo>
                    <a:cubicBezTo>
                      <a:pt x="833" y="127"/>
                      <a:pt x="833" y="127"/>
                      <a:pt x="833" y="127"/>
                    </a:cubicBezTo>
                    <a:cubicBezTo>
                      <a:pt x="842" y="127"/>
                      <a:pt x="842" y="127"/>
                      <a:pt x="842" y="127"/>
                    </a:cubicBezTo>
                    <a:cubicBezTo>
                      <a:pt x="850" y="128"/>
                      <a:pt x="850" y="128"/>
                      <a:pt x="850" y="128"/>
                    </a:cubicBezTo>
                    <a:cubicBezTo>
                      <a:pt x="859" y="129"/>
                      <a:pt x="859" y="129"/>
                      <a:pt x="859" y="129"/>
                    </a:cubicBezTo>
                    <a:cubicBezTo>
                      <a:pt x="868" y="130"/>
                      <a:pt x="868" y="130"/>
                      <a:pt x="868" y="130"/>
                    </a:cubicBezTo>
                    <a:cubicBezTo>
                      <a:pt x="876" y="131"/>
                      <a:pt x="876" y="131"/>
                      <a:pt x="876" y="131"/>
                    </a:cubicBezTo>
                    <a:cubicBezTo>
                      <a:pt x="885" y="132"/>
                      <a:pt x="885" y="132"/>
                      <a:pt x="885" y="132"/>
                    </a:cubicBezTo>
                    <a:cubicBezTo>
                      <a:pt x="893" y="133"/>
                      <a:pt x="893" y="133"/>
                      <a:pt x="893" y="133"/>
                    </a:cubicBezTo>
                    <a:cubicBezTo>
                      <a:pt x="902" y="134"/>
                      <a:pt x="902" y="134"/>
                      <a:pt x="902" y="134"/>
                    </a:cubicBezTo>
                    <a:cubicBezTo>
                      <a:pt x="910" y="135"/>
                      <a:pt x="910" y="135"/>
                      <a:pt x="910" y="135"/>
                    </a:cubicBezTo>
                    <a:cubicBezTo>
                      <a:pt x="919" y="136"/>
                      <a:pt x="919" y="136"/>
                      <a:pt x="919" y="136"/>
                    </a:cubicBezTo>
                    <a:cubicBezTo>
                      <a:pt x="927" y="137"/>
                      <a:pt x="927" y="137"/>
                      <a:pt x="927" y="137"/>
                    </a:cubicBezTo>
                    <a:cubicBezTo>
                      <a:pt x="936" y="137"/>
                      <a:pt x="936" y="137"/>
                      <a:pt x="936" y="137"/>
                    </a:cubicBezTo>
                    <a:cubicBezTo>
                      <a:pt x="944" y="138"/>
                      <a:pt x="944" y="138"/>
                      <a:pt x="944" y="138"/>
                    </a:cubicBezTo>
                    <a:cubicBezTo>
                      <a:pt x="953" y="139"/>
                      <a:pt x="953" y="139"/>
                      <a:pt x="953" y="139"/>
                    </a:cubicBezTo>
                    <a:cubicBezTo>
                      <a:pt x="961" y="140"/>
                      <a:pt x="961" y="140"/>
                      <a:pt x="961" y="140"/>
                    </a:cubicBezTo>
                    <a:cubicBezTo>
                      <a:pt x="970" y="141"/>
                      <a:pt x="970" y="141"/>
                      <a:pt x="970" y="141"/>
                    </a:cubicBezTo>
                    <a:cubicBezTo>
                      <a:pt x="978" y="142"/>
                      <a:pt x="978" y="142"/>
                      <a:pt x="978" y="142"/>
                    </a:cubicBezTo>
                    <a:cubicBezTo>
                      <a:pt x="987" y="143"/>
                      <a:pt x="987" y="143"/>
                      <a:pt x="987" y="143"/>
                    </a:cubicBezTo>
                    <a:cubicBezTo>
                      <a:pt x="995" y="143"/>
                      <a:pt x="995" y="143"/>
                      <a:pt x="995" y="143"/>
                    </a:cubicBezTo>
                    <a:cubicBezTo>
                      <a:pt x="1004" y="144"/>
                      <a:pt x="1004" y="144"/>
                      <a:pt x="1004" y="144"/>
                    </a:cubicBezTo>
                    <a:cubicBezTo>
                      <a:pt x="1012" y="145"/>
                      <a:pt x="1012" y="145"/>
                      <a:pt x="1012" y="145"/>
                    </a:cubicBezTo>
                    <a:cubicBezTo>
                      <a:pt x="1021" y="146"/>
                      <a:pt x="1021" y="146"/>
                      <a:pt x="1021" y="146"/>
                    </a:cubicBezTo>
                    <a:cubicBezTo>
                      <a:pt x="1029" y="147"/>
                      <a:pt x="1029" y="147"/>
                      <a:pt x="1029" y="147"/>
                    </a:cubicBezTo>
                    <a:cubicBezTo>
                      <a:pt x="1038" y="148"/>
                      <a:pt x="1038" y="148"/>
                      <a:pt x="1038" y="148"/>
                    </a:cubicBezTo>
                    <a:cubicBezTo>
                      <a:pt x="1046" y="148"/>
                      <a:pt x="1046" y="148"/>
                      <a:pt x="1046" y="148"/>
                    </a:cubicBezTo>
                    <a:cubicBezTo>
                      <a:pt x="1055" y="149"/>
                      <a:pt x="1055" y="149"/>
                      <a:pt x="1055" y="149"/>
                    </a:cubicBezTo>
                    <a:cubicBezTo>
                      <a:pt x="1063" y="150"/>
                      <a:pt x="1063" y="150"/>
                      <a:pt x="1063" y="150"/>
                    </a:cubicBezTo>
                    <a:cubicBezTo>
                      <a:pt x="1072" y="151"/>
                      <a:pt x="1072" y="151"/>
                      <a:pt x="1072" y="151"/>
                    </a:cubicBezTo>
                    <a:cubicBezTo>
                      <a:pt x="1080" y="152"/>
                      <a:pt x="1080" y="152"/>
                      <a:pt x="1080" y="152"/>
                    </a:cubicBezTo>
                    <a:cubicBezTo>
                      <a:pt x="1089" y="152"/>
                      <a:pt x="1089" y="152"/>
                      <a:pt x="1089" y="152"/>
                    </a:cubicBezTo>
                    <a:cubicBezTo>
                      <a:pt x="1097" y="153"/>
                      <a:pt x="1097" y="153"/>
                      <a:pt x="1097" y="153"/>
                    </a:cubicBezTo>
                    <a:cubicBezTo>
                      <a:pt x="1106" y="154"/>
                      <a:pt x="1106" y="154"/>
                      <a:pt x="1106" y="154"/>
                    </a:cubicBezTo>
                    <a:cubicBezTo>
                      <a:pt x="1114" y="155"/>
                      <a:pt x="1114" y="155"/>
                      <a:pt x="1114" y="155"/>
                    </a:cubicBezTo>
                    <a:cubicBezTo>
                      <a:pt x="1123" y="156"/>
                      <a:pt x="1123" y="156"/>
                      <a:pt x="1123" y="156"/>
                    </a:cubicBezTo>
                    <a:cubicBezTo>
                      <a:pt x="1131" y="156"/>
                      <a:pt x="1131" y="156"/>
                      <a:pt x="1131" y="156"/>
                    </a:cubicBezTo>
                    <a:cubicBezTo>
                      <a:pt x="1140" y="157"/>
                      <a:pt x="1140" y="157"/>
                      <a:pt x="1140" y="157"/>
                    </a:cubicBezTo>
                    <a:cubicBezTo>
                      <a:pt x="1148" y="158"/>
                      <a:pt x="1148" y="158"/>
                      <a:pt x="1148" y="158"/>
                    </a:cubicBezTo>
                    <a:cubicBezTo>
                      <a:pt x="1157" y="159"/>
                      <a:pt x="1157" y="159"/>
                      <a:pt x="1157" y="159"/>
                    </a:cubicBezTo>
                    <a:cubicBezTo>
                      <a:pt x="1165" y="159"/>
                      <a:pt x="1165" y="159"/>
                      <a:pt x="1165" y="159"/>
                    </a:cubicBezTo>
                    <a:cubicBezTo>
                      <a:pt x="1174" y="160"/>
                      <a:pt x="1174" y="160"/>
                      <a:pt x="1174" y="160"/>
                    </a:cubicBezTo>
                    <a:cubicBezTo>
                      <a:pt x="1182" y="161"/>
                      <a:pt x="1182" y="161"/>
                      <a:pt x="1182" y="161"/>
                    </a:cubicBezTo>
                    <a:cubicBezTo>
                      <a:pt x="1191" y="162"/>
                      <a:pt x="1191" y="162"/>
                      <a:pt x="1191" y="162"/>
                    </a:cubicBezTo>
                    <a:cubicBezTo>
                      <a:pt x="1199" y="162"/>
                      <a:pt x="1199" y="162"/>
                      <a:pt x="1199" y="162"/>
                    </a:cubicBezTo>
                    <a:cubicBezTo>
                      <a:pt x="1208" y="163"/>
                      <a:pt x="1208" y="163"/>
                      <a:pt x="1208" y="163"/>
                    </a:cubicBezTo>
                    <a:cubicBezTo>
                      <a:pt x="1216" y="164"/>
                      <a:pt x="1216" y="164"/>
                      <a:pt x="1216" y="164"/>
                    </a:cubicBezTo>
                    <a:cubicBezTo>
                      <a:pt x="1225" y="165"/>
                      <a:pt x="1225" y="165"/>
                      <a:pt x="1225" y="165"/>
                    </a:cubicBezTo>
                    <a:cubicBezTo>
                      <a:pt x="1233" y="165"/>
                      <a:pt x="1233" y="165"/>
                      <a:pt x="1233" y="165"/>
                    </a:cubicBezTo>
                    <a:cubicBezTo>
                      <a:pt x="1242" y="166"/>
                      <a:pt x="1242" y="166"/>
                      <a:pt x="1242" y="166"/>
                    </a:cubicBezTo>
                    <a:cubicBezTo>
                      <a:pt x="1250" y="167"/>
                      <a:pt x="1250" y="167"/>
                      <a:pt x="1250" y="167"/>
                    </a:cubicBezTo>
                    <a:cubicBezTo>
                      <a:pt x="1259" y="167"/>
                      <a:pt x="1259" y="167"/>
                      <a:pt x="1259" y="167"/>
                    </a:cubicBezTo>
                    <a:cubicBezTo>
                      <a:pt x="1267" y="168"/>
                      <a:pt x="1267" y="168"/>
                      <a:pt x="1267" y="168"/>
                    </a:cubicBezTo>
                    <a:cubicBezTo>
                      <a:pt x="1276" y="169"/>
                      <a:pt x="1276" y="169"/>
                      <a:pt x="1276" y="169"/>
                    </a:cubicBezTo>
                    <a:cubicBezTo>
                      <a:pt x="1284" y="169"/>
                      <a:pt x="1284" y="169"/>
                      <a:pt x="1284" y="169"/>
                    </a:cubicBezTo>
                    <a:cubicBezTo>
                      <a:pt x="1293" y="170"/>
                      <a:pt x="1293" y="170"/>
                      <a:pt x="1293" y="170"/>
                    </a:cubicBezTo>
                    <a:cubicBezTo>
                      <a:pt x="1301" y="171"/>
                      <a:pt x="1301" y="171"/>
                      <a:pt x="1301" y="171"/>
                    </a:cubicBezTo>
                    <a:cubicBezTo>
                      <a:pt x="1310" y="171"/>
                      <a:pt x="1310" y="171"/>
                      <a:pt x="1310" y="171"/>
                    </a:cubicBezTo>
                    <a:cubicBezTo>
                      <a:pt x="1318" y="172"/>
                      <a:pt x="1318" y="172"/>
                      <a:pt x="1318" y="172"/>
                    </a:cubicBezTo>
                    <a:cubicBezTo>
                      <a:pt x="1327" y="173"/>
                      <a:pt x="1327" y="173"/>
                      <a:pt x="1327" y="173"/>
                    </a:cubicBezTo>
                    <a:cubicBezTo>
                      <a:pt x="1335" y="173"/>
                      <a:pt x="1335" y="173"/>
                      <a:pt x="1335" y="173"/>
                    </a:cubicBezTo>
                    <a:cubicBezTo>
                      <a:pt x="1344" y="174"/>
                      <a:pt x="1344" y="174"/>
                      <a:pt x="1344" y="174"/>
                    </a:cubicBezTo>
                    <a:cubicBezTo>
                      <a:pt x="1352" y="175"/>
                      <a:pt x="1352" y="175"/>
                      <a:pt x="1352" y="175"/>
                    </a:cubicBezTo>
                    <a:cubicBezTo>
                      <a:pt x="1361" y="175"/>
                      <a:pt x="1361" y="175"/>
                      <a:pt x="1361" y="175"/>
                    </a:cubicBezTo>
                    <a:cubicBezTo>
                      <a:pt x="1369" y="176"/>
                      <a:pt x="1369" y="176"/>
                      <a:pt x="1369" y="176"/>
                    </a:cubicBezTo>
                    <a:cubicBezTo>
                      <a:pt x="1378" y="177"/>
                      <a:pt x="1378" y="177"/>
                      <a:pt x="1378" y="177"/>
                    </a:cubicBezTo>
                    <a:cubicBezTo>
                      <a:pt x="1386" y="177"/>
                      <a:pt x="1386" y="177"/>
                      <a:pt x="1386" y="177"/>
                    </a:cubicBezTo>
                    <a:cubicBezTo>
                      <a:pt x="1395" y="178"/>
                      <a:pt x="1395" y="178"/>
                      <a:pt x="1395" y="178"/>
                    </a:cubicBezTo>
                    <a:cubicBezTo>
                      <a:pt x="1403" y="179"/>
                      <a:pt x="1403" y="179"/>
                      <a:pt x="1403" y="179"/>
                    </a:cubicBezTo>
                    <a:cubicBezTo>
                      <a:pt x="1412" y="179"/>
                      <a:pt x="1412" y="179"/>
                      <a:pt x="1412" y="179"/>
                    </a:cubicBezTo>
                    <a:cubicBezTo>
                      <a:pt x="1420" y="180"/>
                      <a:pt x="1420" y="180"/>
                      <a:pt x="1420" y="180"/>
                    </a:cubicBezTo>
                    <a:cubicBezTo>
                      <a:pt x="1429" y="181"/>
                      <a:pt x="1429" y="181"/>
                      <a:pt x="1429" y="181"/>
                    </a:cubicBezTo>
                    <a:cubicBezTo>
                      <a:pt x="1437" y="181"/>
                      <a:pt x="1437" y="181"/>
                      <a:pt x="1437" y="181"/>
                    </a:cubicBezTo>
                    <a:cubicBezTo>
                      <a:pt x="1446" y="182"/>
                      <a:pt x="1446" y="182"/>
                      <a:pt x="1446" y="182"/>
                    </a:cubicBezTo>
                    <a:cubicBezTo>
                      <a:pt x="1454" y="182"/>
                      <a:pt x="1454" y="182"/>
                      <a:pt x="1454" y="182"/>
                    </a:cubicBezTo>
                    <a:cubicBezTo>
                      <a:pt x="1463" y="183"/>
                      <a:pt x="1463" y="183"/>
                      <a:pt x="1463" y="183"/>
                    </a:cubicBezTo>
                    <a:cubicBezTo>
                      <a:pt x="1471" y="184"/>
                      <a:pt x="1471" y="184"/>
                      <a:pt x="1471" y="184"/>
                    </a:cubicBezTo>
                    <a:cubicBezTo>
                      <a:pt x="1480" y="184"/>
                      <a:pt x="1480" y="184"/>
                      <a:pt x="1480" y="184"/>
                    </a:cubicBezTo>
                    <a:cubicBezTo>
                      <a:pt x="1488" y="185"/>
                      <a:pt x="1488" y="185"/>
                      <a:pt x="1488" y="185"/>
                    </a:cubicBezTo>
                    <a:cubicBezTo>
                      <a:pt x="1497" y="185"/>
                      <a:pt x="1497" y="185"/>
                      <a:pt x="1497" y="185"/>
                    </a:cubicBezTo>
                    <a:cubicBezTo>
                      <a:pt x="1505" y="186"/>
                      <a:pt x="1505" y="186"/>
                      <a:pt x="1505" y="186"/>
                    </a:cubicBezTo>
                    <a:cubicBezTo>
                      <a:pt x="1514" y="187"/>
                      <a:pt x="1514" y="187"/>
                      <a:pt x="1514" y="187"/>
                    </a:cubicBezTo>
                    <a:cubicBezTo>
                      <a:pt x="1522" y="187"/>
                      <a:pt x="1522" y="187"/>
                      <a:pt x="1522" y="187"/>
                    </a:cubicBezTo>
                    <a:cubicBezTo>
                      <a:pt x="1531" y="188"/>
                      <a:pt x="1531" y="188"/>
                      <a:pt x="1531" y="188"/>
                    </a:cubicBezTo>
                    <a:cubicBezTo>
                      <a:pt x="1539" y="188"/>
                      <a:pt x="1539" y="188"/>
                      <a:pt x="1539" y="188"/>
                    </a:cubicBezTo>
                    <a:cubicBezTo>
                      <a:pt x="1548" y="189"/>
                      <a:pt x="1548" y="189"/>
                      <a:pt x="1548" y="189"/>
                    </a:cubicBezTo>
                    <a:cubicBezTo>
                      <a:pt x="1556" y="189"/>
                      <a:pt x="1556" y="189"/>
                      <a:pt x="1556" y="189"/>
                    </a:cubicBezTo>
                    <a:cubicBezTo>
                      <a:pt x="1565" y="190"/>
                      <a:pt x="1565" y="190"/>
                      <a:pt x="1565" y="190"/>
                    </a:cubicBezTo>
                    <a:cubicBezTo>
                      <a:pt x="1573" y="191"/>
                      <a:pt x="1573" y="191"/>
                      <a:pt x="1573" y="191"/>
                    </a:cubicBezTo>
                    <a:cubicBezTo>
                      <a:pt x="1582" y="191"/>
                      <a:pt x="1582" y="191"/>
                      <a:pt x="1582" y="191"/>
                    </a:cubicBezTo>
                    <a:cubicBezTo>
                      <a:pt x="1590" y="192"/>
                      <a:pt x="1590" y="192"/>
                      <a:pt x="1590" y="192"/>
                    </a:cubicBezTo>
                    <a:cubicBezTo>
                      <a:pt x="1599" y="192"/>
                      <a:pt x="1599" y="192"/>
                      <a:pt x="1599" y="192"/>
                    </a:cubicBezTo>
                    <a:cubicBezTo>
                      <a:pt x="1607" y="193"/>
                      <a:pt x="1607" y="193"/>
                      <a:pt x="1607" y="193"/>
                    </a:cubicBezTo>
                    <a:cubicBezTo>
                      <a:pt x="1616" y="193"/>
                      <a:pt x="1616" y="193"/>
                      <a:pt x="1616" y="193"/>
                    </a:cubicBezTo>
                    <a:cubicBezTo>
                      <a:pt x="1624" y="194"/>
                      <a:pt x="1624" y="194"/>
                      <a:pt x="1624" y="194"/>
                    </a:cubicBezTo>
                    <a:cubicBezTo>
                      <a:pt x="1633" y="194"/>
                      <a:pt x="1633" y="194"/>
                      <a:pt x="1633" y="194"/>
                    </a:cubicBezTo>
                    <a:cubicBezTo>
                      <a:pt x="1641" y="195"/>
                      <a:pt x="1641" y="195"/>
                      <a:pt x="1641" y="195"/>
                    </a:cubicBezTo>
                    <a:cubicBezTo>
                      <a:pt x="1650" y="195"/>
                      <a:pt x="1650" y="195"/>
                      <a:pt x="1650" y="195"/>
                    </a:cubicBezTo>
                    <a:cubicBezTo>
                      <a:pt x="1658" y="196"/>
                      <a:pt x="1658" y="196"/>
                      <a:pt x="1658" y="196"/>
                    </a:cubicBezTo>
                    <a:cubicBezTo>
                      <a:pt x="1667" y="197"/>
                      <a:pt x="1667" y="197"/>
                      <a:pt x="1667" y="197"/>
                    </a:cubicBezTo>
                    <a:cubicBezTo>
                      <a:pt x="1675" y="197"/>
                      <a:pt x="1675" y="197"/>
                      <a:pt x="1675" y="197"/>
                    </a:cubicBezTo>
                    <a:cubicBezTo>
                      <a:pt x="1684" y="198"/>
                      <a:pt x="1684" y="198"/>
                      <a:pt x="1684" y="198"/>
                    </a:cubicBezTo>
                    <a:cubicBezTo>
                      <a:pt x="1692" y="198"/>
                      <a:pt x="1692" y="198"/>
                      <a:pt x="1692" y="198"/>
                    </a:cubicBezTo>
                    <a:cubicBezTo>
                      <a:pt x="1701" y="199"/>
                      <a:pt x="1701" y="199"/>
                      <a:pt x="1701" y="199"/>
                    </a:cubicBezTo>
                    <a:cubicBezTo>
                      <a:pt x="1710" y="199"/>
                      <a:pt x="1710" y="199"/>
                      <a:pt x="1710" y="199"/>
                    </a:cubicBezTo>
                    <a:cubicBezTo>
                      <a:pt x="1718" y="200"/>
                      <a:pt x="1718" y="200"/>
                      <a:pt x="1718" y="200"/>
                    </a:cubicBezTo>
                    <a:cubicBezTo>
                      <a:pt x="1727" y="200"/>
                      <a:pt x="1727" y="200"/>
                      <a:pt x="1727" y="200"/>
                    </a:cubicBezTo>
                    <a:cubicBezTo>
                      <a:pt x="1735" y="201"/>
                      <a:pt x="1735" y="201"/>
                      <a:pt x="1735" y="201"/>
                    </a:cubicBezTo>
                    <a:cubicBezTo>
                      <a:pt x="1744" y="201"/>
                      <a:pt x="1744" y="201"/>
                      <a:pt x="1744" y="201"/>
                    </a:cubicBezTo>
                    <a:cubicBezTo>
                      <a:pt x="1752" y="202"/>
                      <a:pt x="1752" y="202"/>
                      <a:pt x="1752" y="202"/>
                    </a:cubicBezTo>
                    <a:cubicBezTo>
                      <a:pt x="1761" y="202"/>
                      <a:pt x="1761" y="202"/>
                      <a:pt x="1761" y="202"/>
                    </a:cubicBezTo>
                    <a:cubicBezTo>
                      <a:pt x="1769" y="203"/>
                      <a:pt x="1769" y="203"/>
                      <a:pt x="1769" y="203"/>
                    </a:cubicBezTo>
                    <a:cubicBezTo>
                      <a:pt x="1778" y="203"/>
                      <a:pt x="1778" y="203"/>
                      <a:pt x="1778" y="203"/>
                    </a:cubicBezTo>
                    <a:cubicBezTo>
                      <a:pt x="1786" y="204"/>
                      <a:pt x="1786" y="204"/>
                      <a:pt x="1786" y="204"/>
                    </a:cubicBezTo>
                    <a:cubicBezTo>
                      <a:pt x="1795" y="204"/>
                      <a:pt x="1795" y="204"/>
                      <a:pt x="1795" y="204"/>
                    </a:cubicBezTo>
                    <a:cubicBezTo>
                      <a:pt x="1803" y="205"/>
                      <a:pt x="1803" y="205"/>
                      <a:pt x="1803" y="205"/>
                    </a:cubicBezTo>
                    <a:cubicBezTo>
                      <a:pt x="1812" y="205"/>
                      <a:pt x="1812" y="205"/>
                      <a:pt x="1812" y="205"/>
                    </a:cubicBezTo>
                    <a:cubicBezTo>
                      <a:pt x="1820" y="205"/>
                      <a:pt x="1820" y="205"/>
                      <a:pt x="1820" y="205"/>
                    </a:cubicBezTo>
                    <a:cubicBezTo>
                      <a:pt x="1829" y="206"/>
                      <a:pt x="1829" y="206"/>
                      <a:pt x="1829" y="206"/>
                    </a:cubicBezTo>
                    <a:cubicBezTo>
                      <a:pt x="1837" y="206"/>
                      <a:pt x="1837" y="206"/>
                      <a:pt x="1837" y="206"/>
                    </a:cubicBezTo>
                    <a:cubicBezTo>
                      <a:pt x="1846" y="207"/>
                      <a:pt x="1846" y="207"/>
                      <a:pt x="1846" y="207"/>
                    </a:cubicBezTo>
                    <a:cubicBezTo>
                      <a:pt x="1854" y="207"/>
                      <a:pt x="1854" y="207"/>
                      <a:pt x="1854" y="207"/>
                    </a:cubicBezTo>
                    <a:cubicBezTo>
                      <a:pt x="1863" y="208"/>
                      <a:pt x="1863" y="208"/>
                      <a:pt x="1863" y="208"/>
                    </a:cubicBezTo>
                    <a:cubicBezTo>
                      <a:pt x="1871" y="208"/>
                      <a:pt x="1871" y="208"/>
                      <a:pt x="1871" y="208"/>
                    </a:cubicBezTo>
                    <a:cubicBezTo>
                      <a:pt x="1880" y="209"/>
                      <a:pt x="1880" y="209"/>
                      <a:pt x="1880" y="209"/>
                    </a:cubicBezTo>
                    <a:cubicBezTo>
                      <a:pt x="1888" y="209"/>
                      <a:pt x="1888" y="209"/>
                      <a:pt x="1888" y="209"/>
                    </a:cubicBezTo>
                    <a:cubicBezTo>
                      <a:pt x="1897" y="210"/>
                      <a:pt x="1897" y="210"/>
                      <a:pt x="1897" y="210"/>
                    </a:cubicBezTo>
                    <a:cubicBezTo>
                      <a:pt x="1905" y="210"/>
                      <a:pt x="1905" y="210"/>
                      <a:pt x="1905" y="210"/>
                    </a:cubicBezTo>
                    <a:cubicBezTo>
                      <a:pt x="1914" y="211"/>
                      <a:pt x="1914" y="211"/>
                      <a:pt x="1914" y="211"/>
                    </a:cubicBezTo>
                    <a:cubicBezTo>
                      <a:pt x="1922" y="211"/>
                      <a:pt x="1922" y="211"/>
                      <a:pt x="1922" y="211"/>
                    </a:cubicBezTo>
                    <a:cubicBezTo>
                      <a:pt x="1931" y="211"/>
                      <a:pt x="1931" y="211"/>
                      <a:pt x="1931" y="211"/>
                    </a:cubicBezTo>
                    <a:cubicBezTo>
                      <a:pt x="1939" y="212"/>
                      <a:pt x="1939" y="212"/>
                      <a:pt x="1939" y="212"/>
                    </a:cubicBezTo>
                    <a:cubicBezTo>
                      <a:pt x="1948" y="212"/>
                      <a:pt x="1948" y="212"/>
                      <a:pt x="1948" y="212"/>
                    </a:cubicBezTo>
                    <a:cubicBezTo>
                      <a:pt x="1956" y="213"/>
                      <a:pt x="1956" y="213"/>
                      <a:pt x="1956" y="213"/>
                    </a:cubicBezTo>
                    <a:cubicBezTo>
                      <a:pt x="1965" y="213"/>
                      <a:pt x="1965" y="213"/>
                      <a:pt x="1965" y="213"/>
                    </a:cubicBezTo>
                    <a:cubicBezTo>
                      <a:pt x="1973" y="214"/>
                      <a:pt x="1973" y="214"/>
                      <a:pt x="1973" y="214"/>
                    </a:cubicBezTo>
                    <a:cubicBezTo>
                      <a:pt x="1982" y="214"/>
                      <a:pt x="1982" y="214"/>
                      <a:pt x="1982" y="214"/>
                    </a:cubicBezTo>
                    <a:cubicBezTo>
                      <a:pt x="1990" y="214"/>
                      <a:pt x="1990" y="214"/>
                      <a:pt x="1990" y="214"/>
                    </a:cubicBezTo>
                    <a:cubicBezTo>
                      <a:pt x="1999" y="215"/>
                      <a:pt x="1999" y="215"/>
                      <a:pt x="1999" y="215"/>
                    </a:cubicBezTo>
                    <a:cubicBezTo>
                      <a:pt x="2007" y="215"/>
                      <a:pt x="2007" y="215"/>
                      <a:pt x="2007" y="215"/>
                    </a:cubicBezTo>
                    <a:cubicBezTo>
                      <a:pt x="2016" y="216"/>
                      <a:pt x="2016" y="216"/>
                      <a:pt x="2016" y="216"/>
                    </a:cubicBezTo>
                    <a:cubicBezTo>
                      <a:pt x="2024" y="216"/>
                      <a:pt x="2024" y="216"/>
                      <a:pt x="2024" y="216"/>
                    </a:cubicBezTo>
                    <a:cubicBezTo>
                      <a:pt x="2033" y="216"/>
                      <a:pt x="2033" y="216"/>
                      <a:pt x="2033" y="216"/>
                    </a:cubicBezTo>
                    <a:cubicBezTo>
                      <a:pt x="2041" y="217"/>
                      <a:pt x="2041" y="217"/>
                      <a:pt x="2041" y="217"/>
                    </a:cubicBezTo>
                    <a:cubicBezTo>
                      <a:pt x="2050" y="217"/>
                      <a:pt x="2050" y="217"/>
                      <a:pt x="2050" y="217"/>
                    </a:cubicBezTo>
                    <a:cubicBezTo>
                      <a:pt x="2058" y="218"/>
                      <a:pt x="2058" y="218"/>
                      <a:pt x="2058" y="218"/>
                    </a:cubicBezTo>
                    <a:cubicBezTo>
                      <a:pt x="2067" y="218"/>
                      <a:pt x="2067" y="218"/>
                      <a:pt x="2067" y="218"/>
                    </a:cubicBezTo>
                    <a:cubicBezTo>
                      <a:pt x="2075" y="218"/>
                      <a:pt x="2075" y="218"/>
                      <a:pt x="2075" y="218"/>
                    </a:cubicBezTo>
                    <a:cubicBezTo>
                      <a:pt x="2084" y="219"/>
                      <a:pt x="2084" y="219"/>
                      <a:pt x="2084" y="219"/>
                    </a:cubicBezTo>
                    <a:cubicBezTo>
                      <a:pt x="2092" y="219"/>
                      <a:pt x="2092" y="219"/>
                      <a:pt x="2092" y="219"/>
                    </a:cubicBezTo>
                    <a:cubicBezTo>
                      <a:pt x="2101" y="220"/>
                      <a:pt x="2101" y="220"/>
                      <a:pt x="2101" y="220"/>
                    </a:cubicBezTo>
                    <a:cubicBezTo>
                      <a:pt x="2109" y="220"/>
                      <a:pt x="2109" y="220"/>
                      <a:pt x="2109" y="220"/>
                    </a:cubicBezTo>
                    <a:cubicBezTo>
                      <a:pt x="2118" y="220"/>
                      <a:pt x="2118" y="220"/>
                      <a:pt x="2118" y="220"/>
                    </a:cubicBezTo>
                    <a:cubicBezTo>
                      <a:pt x="2126" y="221"/>
                      <a:pt x="2126" y="221"/>
                      <a:pt x="2126" y="221"/>
                    </a:cubicBezTo>
                    <a:cubicBezTo>
                      <a:pt x="2135" y="221"/>
                      <a:pt x="2135" y="221"/>
                      <a:pt x="2135" y="221"/>
                    </a:cubicBezTo>
                    <a:cubicBezTo>
                      <a:pt x="2143" y="221"/>
                      <a:pt x="2143" y="221"/>
                      <a:pt x="2143" y="221"/>
                    </a:cubicBezTo>
                    <a:cubicBezTo>
                      <a:pt x="2152" y="222"/>
                      <a:pt x="2152" y="222"/>
                      <a:pt x="2152" y="222"/>
                    </a:cubicBezTo>
                    <a:cubicBezTo>
                      <a:pt x="2160" y="222"/>
                      <a:pt x="2160" y="222"/>
                      <a:pt x="2160" y="222"/>
                    </a:cubicBezTo>
                    <a:cubicBezTo>
                      <a:pt x="2169" y="223"/>
                      <a:pt x="2169" y="223"/>
                      <a:pt x="2169" y="223"/>
                    </a:cubicBezTo>
                    <a:cubicBezTo>
                      <a:pt x="2177" y="223"/>
                      <a:pt x="2177" y="223"/>
                      <a:pt x="2177" y="223"/>
                    </a:cubicBezTo>
                    <a:cubicBezTo>
                      <a:pt x="2186" y="223"/>
                      <a:pt x="2186" y="223"/>
                      <a:pt x="2186" y="223"/>
                    </a:cubicBezTo>
                    <a:cubicBezTo>
                      <a:pt x="2194" y="224"/>
                      <a:pt x="2194" y="224"/>
                      <a:pt x="2194" y="224"/>
                    </a:cubicBezTo>
                    <a:cubicBezTo>
                      <a:pt x="2203" y="224"/>
                      <a:pt x="2203" y="224"/>
                      <a:pt x="2203" y="224"/>
                    </a:cubicBezTo>
                    <a:cubicBezTo>
                      <a:pt x="2211" y="224"/>
                      <a:pt x="2211" y="224"/>
                      <a:pt x="2211" y="224"/>
                    </a:cubicBezTo>
                    <a:cubicBezTo>
                      <a:pt x="2220" y="225"/>
                      <a:pt x="2220" y="225"/>
                      <a:pt x="2220" y="225"/>
                    </a:cubicBezTo>
                    <a:cubicBezTo>
                      <a:pt x="2228" y="225"/>
                      <a:pt x="2228" y="225"/>
                      <a:pt x="2228" y="225"/>
                    </a:cubicBezTo>
                    <a:cubicBezTo>
                      <a:pt x="2237" y="225"/>
                      <a:pt x="2237" y="225"/>
                      <a:pt x="2237" y="225"/>
                    </a:cubicBezTo>
                    <a:cubicBezTo>
                      <a:pt x="2245" y="226"/>
                      <a:pt x="2245" y="226"/>
                      <a:pt x="2245" y="226"/>
                    </a:cubicBezTo>
                    <a:cubicBezTo>
                      <a:pt x="2254" y="226"/>
                      <a:pt x="2254" y="226"/>
                      <a:pt x="2254" y="226"/>
                    </a:cubicBezTo>
                    <a:cubicBezTo>
                      <a:pt x="2262" y="227"/>
                      <a:pt x="2262" y="227"/>
                      <a:pt x="2262" y="227"/>
                    </a:cubicBezTo>
                    <a:cubicBezTo>
                      <a:pt x="2271" y="227"/>
                      <a:pt x="2271" y="227"/>
                      <a:pt x="2271" y="227"/>
                    </a:cubicBezTo>
                    <a:cubicBezTo>
                      <a:pt x="2279" y="227"/>
                      <a:pt x="2279" y="227"/>
                      <a:pt x="2279" y="227"/>
                    </a:cubicBezTo>
                    <a:cubicBezTo>
                      <a:pt x="2288" y="228"/>
                      <a:pt x="2288" y="228"/>
                      <a:pt x="2288" y="228"/>
                    </a:cubicBezTo>
                    <a:cubicBezTo>
                      <a:pt x="2296" y="228"/>
                      <a:pt x="2296" y="228"/>
                      <a:pt x="2296" y="228"/>
                    </a:cubicBezTo>
                    <a:cubicBezTo>
                      <a:pt x="2305" y="228"/>
                      <a:pt x="2305" y="228"/>
                      <a:pt x="2305" y="228"/>
                    </a:cubicBezTo>
                    <a:cubicBezTo>
                      <a:pt x="2313" y="229"/>
                      <a:pt x="2313" y="229"/>
                      <a:pt x="2313" y="229"/>
                    </a:cubicBezTo>
                    <a:cubicBezTo>
                      <a:pt x="2322" y="229"/>
                      <a:pt x="2322" y="229"/>
                      <a:pt x="2322" y="229"/>
                    </a:cubicBezTo>
                    <a:cubicBezTo>
                      <a:pt x="2330" y="229"/>
                      <a:pt x="2330" y="229"/>
                      <a:pt x="2330" y="229"/>
                    </a:cubicBezTo>
                    <a:cubicBezTo>
                      <a:pt x="2339" y="230"/>
                      <a:pt x="2339" y="230"/>
                      <a:pt x="2339" y="230"/>
                    </a:cubicBezTo>
                    <a:cubicBezTo>
                      <a:pt x="2347" y="230"/>
                      <a:pt x="2347" y="230"/>
                      <a:pt x="2347" y="230"/>
                    </a:cubicBezTo>
                    <a:cubicBezTo>
                      <a:pt x="2356" y="230"/>
                      <a:pt x="2356" y="230"/>
                      <a:pt x="2356" y="230"/>
                    </a:cubicBezTo>
                    <a:cubicBezTo>
                      <a:pt x="2364" y="231"/>
                      <a:pt x="2364" y="231"/>
                      <a:pt x="2364" y="231"/>
                    </a:cubicBezTo>
                    <a:cubicBezTo>
                      <a:pt x="2373" y="231"/>
                      <a:pt x="2373" y="231"/>
                      <a:pt x="2373" y="231"/>
                    </a:cubicBezTo>
                    <a:cubicBezTo>
                      <a:pt x="2381" y="231"/>
                      <a:pt x="2381" y="231"/>
                      <a:pt x="2381" y="231"/>
                    </a:cubicBezTo>
                    <a:cubicBezTo>
                      <a:pt x="2390" y="231"/>
                      <a:pt x="2390" y="231"/>
                      <a:pt x="2390" y="231"/>
                    </a:cubicBezTo>
                    <a:cubicBezTo>
                      <a:pt x="2398" y="232"/>
                      <a:pt x="2398" y="232"/>
                      <a:pt x="2398" y="232"/>
                    </a:cubicBezTo>
                    <a:cubicBezTo>
                      <a:pt x="2407" y="232"/>
                      <a:pt x="2407" y="232"/>
                      <a:pt x="2407" y="232"/>
                    </a:cubicBezTo>
                    <a:cubicBezTo>
                      <a:pt x="2415" y="232"/>
                      <a:pt x="2415" y="232"/>
                      <a:pt x="2415" y="232"/>
                    </a:cubicBezTo>
                    <a:cubicBezTo>
                      <a:pt x="2424" y="233"/>
                      <a:pt x="2424" y="233"/>
                      <a:pt x="2424" y="233"/>
                    </a:cubicBezTo>
                    <a:cubicBezTo>
                      <a:pt x="2432" y="233"/>
                      <a:pt x="2432" y="233"/>
                      <a:pt x="2432" y="233"/>
                    </a:cubicBezTo>
                    <a:cubicBezTo>
                      <a:pt x="2441" y="233"/>
                      <a:pt x="2441" y="233"/>
                      <a:pt x="2441" y="233"/>
                    </a:cubicBezTo>
                    <a:cubicBezTo>
                      <a:pt x="2449" y="234"/>
                      <a:pt x="2449" y="234"/>
                      <a:pt x="2449" y="234"/>
                    </a:cubicBezTo>
                    <a:cubicBezTo>
                      <a:pt x="2458" y="234"/>
                      <a:pt x="2458" y="234"/>
                      <a:pt x="2458" y="234"/>
                    </a:cubicBezTo>
                    <a:cubicBezTo>
                      <a:pt x="2466" y="234"/>
                      <a:pt x="2466" y="234"/>
                      <a:pt x="2466" y="234"/>
                    </a:cubicBezTo>
                    <a:cubicBezTo>
                      <a:pt x="2475" y="235"/>
                      <a:pt x="2475" y="235"/>
                      <a:pt x="2475" y="235"/>
                    </a:cubicBezTo>
                    <a:cubicBezTo>
                      <a:pt x="2483" y="235"/>
                      <a:pt x="2483" y="235"/>
                      <a:pt x="2483" y="235"/>
                    </a:cubicBezTo>
                    <a:cubicBezTo>
                      <a:pt x="2492" y="235"/>
                      <a:pt x="2492" y="235"/>
                      <a:pt x="2492" y="235"/>
                    </a:cubicBezTo>
                    <a:cubicBezTo>
                      <a:pt x="2500" y="235"/>
                      <a:pt x="2500" y="235"/>
                      <a:pt x="2500" y="235"/>
                    </a:cubicBezTo>
                    <a:cubicBezTo>
                      <a:pt x="2509" y="236"/>
                      <a:pt x="2509" y="236"/>
                      <a:pt x="2509" y="236"/>
                    </a:cubicBezTo>
                    <a:cubicBezTo>
                      <a:pt x="2517" y="236"/>
                      <a:pt x="2517" y="236"/>
                      <a:pt x="2517" y="236"/>
                    </a:cubicBezTo>
                    <a:cubicBezTo>
                      <a:pt x="2526" y="236"/>
                      <a:pt x="2526" y="236"/>
                      <a:pt x="2526" y="236"/>
                    </a:cubicBezTo>
                    <a:cubicBezTo>
                      <a:pt x="2534" y="237"/>
                      <a:pt x="2534" y="237"/>
                      <a:pt x="2534" y="237"/>
                    </a:cubicBezTo>
                    <a:cubicBezTo>
                      <a:pt x="2543" y="237"/>
                      <a:pt x="2543" y="237"/>
                      <a:pt x="2543" y="237"/>
                    </a:cubicBezTo>
                    <a:cubicBezTo>
                      <a:pt x="2552" y="237"/>
                      <a:pt x="2552" y="237"/>
                      <a:pt x="2552" y="237"/>
                    </a:cubicBezTo>
                    <a:cubicBezTo>
                      <a:pt x="2560" y="237"/>
                      <a:pt x="2560" y="237"/>
                      <a:pt x="2560" y="237"/>
                    </a:cubicBezTo>
                    <a:cubicBezTo>
                      <a:pt x="2569" y="238"/>
                      <a:pt x="2569" y="238"/>
                      <a:pt x="2569" y="238"/>
                    </a:cubicBezTo>
                    <a:cubicBezTo>
                      <a:pt x="2577" y="238"/>
                      <a:pt x="2577" y="238"/>
                      <a:pt x="2577" y="238"/>
                    </a:cubicBezTo>
                    <a:cubicBezTo>
                      <a:pt x="2586" y="238"/>
                      <a:pt x="2586" y="238"/>
                      <a:pt x="2586" y="238"/>
                    </a:cubicBezTo>
                    <a:cubicBezTo>
                      <a:pt x="2594" y="239"/>
                      <a:pt x="2594" y="239"/>
                      <a:pt x="2594" y="239"/>
                    </a:cubicBezTo>
                    <a:cubicBezTo>
                      <a:pt x="2603" y="239"/>
                      <a:pt x="2603" y="239"/>
                      <a:pt x="2603" y="239"/>
                    </a:cubicBezTo>
                    <a:cubicBezTo>
                      <a:pt x="2611" y="239"/>
                      <a:pt x="2611" y="239"/>
                      <a:pt x="2611" y="239"/>
                    </a:cubicBezTo>
                    <a:cubicBezTo>
                      <a:pt x="2620" y="239"/>
                      <a:pt x="2620" y="239"/>
                      <a:pt x="2620" y="239"/>
                    </a:cubicBezTo>
                    <a:cubicBezTo>
                      <a:pt x="2628" y="240"/>
                      <a:pt x="2628" y="240"/>
                      <a:pt x="2628" y="240"/>
                    </a:cubicBezTo>
                    <a:cubicBezTo>
                      <a:pt x="2637" y="240"/>
                      <a:pt x="2637" y="240"/>
                      <a:pt x="2637" y="240"/>
                    </a:cubicBezTo>
                    <a:cubicBezTo>
                      <a:pt x="2645" y="240"/>
                      <a:pt x="2645" y="240"/>
                      <a:pt x="2645" y="240"/>
                    </a:cubicBezTo>
                    <a:cubicBezTo>
                      <a:pt x="2654" y="240"/>
                      <a:pt x="2654" y="240"/>
                      <a:pt x="2654" y="240"/>
                    </a:cubicBezTo>
                    <a:cubicBezTo>
                      <a:pt x="2662" y="241"/>
                      <a:pt x="2662" y="241"/>
                      <a:pt x="2662" y="241"/>
                    </a:cubicBezTo>
                    <a:cubicBezTo>
                      <a:pt x="2671" y="241"/>
                      <a:pt x="2671" y="241"/>
                      <a:pt x="2671" y="241"/>
                    </a:cubicBezTo>
                    <a:cubicBezTo>
                      <a:pt x="2679" y="241"/>
                      <a:pt x="2679" y="241"/>
                      <a:pt x="2679" y="241"/>
                    </a:cubicBezTo>
                    <a:cubicBezTo>
                      <a:pt x="2688" y="241"/>
                      <a:pt x="2688" y="241"/>
                      <a:pt x="2688" y="241"/>
                    </a:cubicBezTo>
                    <a:cubicBezTo>
                      <a:pt x="2696" y="242"/>
                      <a:pt x="2696" y="242"/>
                      <a:pt x="2696" y="242"/>
                    </a:cubicBezTo>
                    <a:cubicBezTo>
                      <a:pt x="2705" y="242"/>
                      <a:pt x="2705" y="242"/>
                      <a:pt x="2705" y="242"/>
                    </a:cubicBezTo>
                    <a:cubicBezTo>
                      <a:pt x="2713" y="242"/>
                      <a:pt x="2713" y="242"/>
                      <a:pt x="2713" y="242"/>
                    </a:cubicBezTo>
                    <a:cubicBezTo>
                      <a:pt x="2722" y="242"/>
                      <a:pt x="2722" y="242"/>
                      <a:pt x="2722" y="242"/>
                    </a:cubicBezTo>
                    <a:cubicBezTo>
                      <a:pt x="2730" y="243"/>
                      <a:pt x="2730" y="243"/>
                      <a:pt x="2730" y="243"/>
                    </a:cubicBezTo>
                    <a:cubicBezTo>
                      <a:pt x="2739" y="243"/>
                      <a:pt x="2739" y="243"/>
                      <a:pt x="2739" y="243"/>
                    </a:cubicBezTo>
                    <a:cubicBezTo>
                      <a:pt x="2747" y="243"/>
                      <a:pt x="2747" y="243"/>
                      <a:pt x="2747" y="243"/>
                    </a:cubicBezTo>
                    <a:cubicBezTo>
                      <a:pt x="2756" y="243"/>
                      <a:pt x="2756" y="243"/>
                      <a:pt x="2756" y="243"/>
                    </a:cubicBezTo>
                    <a:cubicBezTo>
                      <a:pt x="2764" y="244"/>
                      <a:pt x="2764" y="244"/>
                      <a:pt x="2764" y="244"/>
                    </a:cubicBezTo>
                    <a:cubicBezTo>
                      <a:pt x="2773" y="244"/>
                      <a:pt x="2773" y="244"/>
                      <a:pt x="2773" y="244"/>
                    </a:cubicBezTo>
                    <a:cubicBezTo>
                      <a:pt x="2781" y="244"/>
                      <a:pt x="2781" y="244"/>
                      <a:pt x="2781" y="244"/>
                    </a:cubicBezTo>
                    <a:cubicBezTo>
                      <a:pt x="2790" y="244"/>
                      <a:pt x="2790" y="244"/>
                      <a:pt x="2790" y="244"/>
                    </a:cubicBezTo>
                    <a:cubicBezTo>
                      <a:pt x="2798" y="245"/>
                      <a:pt x="2798" y="245"/>
                      <a:pt x="2798" y="245"/>
                    </a:cubicBezTo>
                    <a:cubicBezTo>
                      <a:pt x="2807" y="245"/>
                      <a:pt x="2807" y="245"/>
                      <a:pt x="2807" y="245"/>
                    </a:cubicBezTo>
                    <a:cubicBezTo>
                      <a:pt x="2815" y="245"/>
                      <a:pt x="2815" y="245"/>
                      <a:pt x="2815" y="245"/>
                    </a:cubicBezTo>
                    <a:cubicBezTo>
                      <a:pt x="2824" y="245"/>
                      <a:pt x="2824" y="245"/>
                      <a:pt x="2824" y="245"/>
                    </a:cubicBezTo>
                    <a:cubicBezTo>
                      <a:pt x="2832" y="246"/>
                      <a:pt x="2832" y="246"/>
                      <a:pt x="2832" y="246"/>
                    </a:cubicBezTo>
                    <a:cubicBezTo>
                      <a:pt x="2841" y="246"/>
                      <a:pt x="2841" y="246"/>
                      <a:pt x="2841" y="246"/>
                    </a:cubicBezTo>
                    <a:cubicBezTo>
                      <a:pt x="2849" y="246"/>
                      <a:pt x="2849" y="246"/>
                      <a:pt x="2849" y="246"/>
                    </a:cubicBezTo>
                    <a:cubicBezTo>
                      <a:pt x="2858" y="246"/>
                      <a:pt x="2858" y="246"/>
                      <a:pt x="2858" y="246"/>
                    </a:cubicBezTo>
                    <a:cubicBezTo>
                      <a:pt x="2866" y="246"/>
                      <a:pt x="2866" y="246"/>
                      <a:pt x="2866" y="246"/>
                    </a:cubicBezTo>
                    <a:cubicBezTo>
                      <a:pt x="2875" y="247"/>
                      <a:pt x="2875" y="247"/>
                      <a:pt x="2875" y="247"/>
                    </a:cubicBezTo>
                    <a:cubicBezTo>
                      <a:pt x="2883" y="247"/>
                      <a:pt x="2883" y="247"/>
                      <a:pt x="2883" y="247"/>
                    </a:cubicBezTo>
                    <a:cubicBezTo>
                      <a:pt x="2892" y="247"/>
                      <a:pt x="2892" y="247"/>
                      <a:pt x="2892" y="247"/>
                    </a:cubicBezTo>
                    <a:cubicBezTo>
                      <a:pt x="2900" y="247"/>
                      <a:pt x="2900" y="247"/>
                      <a:pt x="2900" y="247"/>
                    </a:cubicBezTo>
                    <a:cubicBezTo>
                      <a:pt x="2909" y="248"/>
                      <a:pt x="2909" y="248"/>
                      <a:pt x="2909" y="248"/>
                    </a:cubicBezTo>
                    <a:cubicBezTo>
                      <a:pt x="2917" y="248"/>
                      <a:pt x="2917" y="248"/>
                      <a:pt x="2917" y="248"/>
                    </a:cubicBezTo>
                    <a:cubicBezTo>
                      <a:pt x="2926" y="248"/>
                      <a:pt x="2926" y="248"/>
                      <a:pt x="2926" y="248"/>
                    </a:cubicBezTo>
                    <a:cubicBezTo>
                      <a:pt x="2934" y="248"/>
                      <a:pt x="2934" y="248"/>
                      <a:pt x="2934" y="248"/>
                    </a:cubicBezTo>
                    <a:cubicBezTo>
                      <a:pt x="2943" y="248"/>
                      <a:pt x="2943" y="248"/>
                      <a:pt x="2943" y="248"/>
                    </a:cubicBezTo>
                    <a:cubicBezTo>
                      <a:pt x="2951" y="249"/>
                      <a:pt x="2951" y="249"/>
                      <a:pt x="2951" y="249"/>
                    </a:cubicBezTo>
                    <a:cubicBezTo>
                      <a:pt x="2960" y="249"/>
                      <a:pt x="2960" y="249"/>
                      <a:pt x="2960" y="249"/>
                    </a:cubicBezTo>
                    <a:cubicBezTo>
                      <a:pt x="2968" y="249"/>
                      <a:pt x="2968" y="249"/>
                      <a:pt x="2968" y="249"/>
                    </a:cubicBezTo>
                    <a:cubicBezTo>
                      <a:pt x="2977" y="249"/>
                      <a:pt x="2977" y="249"/>
                      <a:pt x="2977" y="249"/>
                    </a:cubicBezTo>
                    <a:cubicBezTo>
                      <a:pt x="2985" y="249"/>
                      <a:pt x="2985" y="249"/>
                      <a:pt x="2985" y="249"/>
                    </a:cubicBezTo>
                    <a:cubicBezTo>
                      <a:pt x="2994" y="250"/>
                      <a:pt x="2994" y="250"/>
                      <a:pt x="2994" y="250"/>
                    </a:cubicBezTo>
                    <a:cubicBezTo>
                      <a:pt x="3002" y="250"/>
                      <a:pt x="3002" y="250"/>
                      <a:pt x="3002" y="250"/>
                    </a:cubicBezTo>
                    <a:cubicBezTo>
                      <a:pt x="3011" y="250"/>
                      <a:pt x="3011" y="250"/>
                      <a:pt x="3011" y="250"/>
                    </a:cubicBezTo>
                    <a:cubicBezTo>
                      <a:pt x="3019" y="250"/>
                      <a:pt x="3019" y="250"/>
                      <a:pt x="3019" y="250"/>
                    </a:cubicBezTo>
                    <a:cubicBezTo>
                      <a:pt x="3028" y="251"/>
                      <a:pt x="3028" y="251"/>
                      <a:pt x="3028" y="251"/>
                    </a:cubicBezTo>
                    <a:cubicBezTo>
                      <a:pt x="3036" y="251"/>
                      <a:pt x="3036" y="251"/>
                      <a:pt x="3036" y="251"/>
                    </a:cubicBezTo>
                    <a:cubicBezTo>
                      <a:pt x="3045" y="251"/>
                      <a:pt x="3045" y="251"/>
                      <a:pt x="3045" y="251"/>
                    </a:cubicBezTo>
                    <a:cubicBezTo>
                      <a:pt x="3053" y="251"/>
                      <a:pt x="3053" y="251"/>
                      <a:pt x="3053" y="251"/>
                    </a:cubicBezTo>
                    <a:cubicBezTo>
                      <a:pt x="3062" y="251"/>
                      <a:pt x="3062" y="251"/>
                      <a:pt x="3062" y="251"/>
                    </a:cubicBezTo>
                    <a:cubicBezTo>
                      <a:pt x="3070" y="252"/>
                      <a:pt x="3070" y="252"/>
                      <a:pt x="3070" y="252"/>
                    </a:cubicBezTo>
                    <a:cubicBezTo>
                      <a:pt x="3079" y="252"/>
                      <a:pt x="3079" y="252"/>
                      <a:pt x="3079" y="252"/>
                    </a:cubicBezTo>
                    <a:cubicBezTo>
                      <a:pt x="3087" y="252"/>
                      <a:pt x="3087" y="252"/>
                      <a:pt x="3087" y="252"/>
                    </a:cubicBezTo>
                    <a:cubicBezTo>
                      <a:pt x="3096" y="252"/>
                      <a:pt x="3096" y="252"/>
                      <a:pt x="3096" y="252"/>
                    </a:cubicBezTo>
                    <a:cubicBezTo>
                      <a:pt x="3104" y="252"/>
                      <a:pt x="3104" y="252"/>
                      <a:pt x="3104" y="252"/>
                    </a:cubicBezTo>
                    <a:cubicBezTo>
                      <a:pt x="3113" y="252"/>
                      <a:pt x="3113" y="252"/>
                      <a:pt x="3113" y="252"/>
                    </a:cubicBezTo>
                    <a:cubicBezTo>
                      <a:pt x="3121" y="253"/>
                      <a:pt x="3121" y="253"/>
                      <a:pt x="3121" y="253"/>
                    </a:cubicBezTo>
                    <a:cubicBezTo>
                      <a:pt x="3130" y="253"/>
                      <a:pt x="3130" y="253"/>
                      <a:pt x="3130" y="253"/>
                    </a:cubicBezTo>
                    <a:cubicBezTo>
                      <a:pt x="3138" y="253"/>
                      <a:pt x="3138" y="253"/>
                      <a:pt x="3138" y="253"/>
                    </a:cubicBezTo>
                    <a:cubicBezTo>
                      <a:pt x="3147" y="253"/>
                      <a:pt x="3147" y="253"/>
                      <a:pt x="3147" y="253"/>
                    </a:cubicBezTo>
                    <a:cubicBezTo>
                      <a:pt x="3155" y="253"/>
                      <a:pt x="3155" y="253"/>
                      <a:pt x="3155" y="253"/>
                    </a:cubicBezTo>
                    <a:cubicBezTo>
                      <a:pt x="3164" y="254"/>
                      <a:pt x="3164" y="254"/>
                      <a:pt x="3164" y="254"/>
                    </a:cubicBezTo>
                    <a:cubicBezTo>
                      <a:pt x="3172" y="254"/>
                      <a:pt x="3172" y="254"/>
                      <a:pt x="3172" y="254"/>
                    </a:cubicBezTo>
                    <a:cubicBezTo>
                      <a:pt x="3181" y="254"/>
                      <a:pt x="3181" y="254"/>
                      <a:pt x="3181" y="254"/>
                    </a:cubicBezTo>
                    <a:cubicBezTo>
                      <a:pt x="3189" y="254"/>
                      <a:pt x="3189" y="254"/>
                      <a:pt x="3189" y="254"/>
                    </a:cubicBezTo>
                    <a:cubicBezTo>
                      <a:pt x="3198" y="254"/>
                      <a:pt x="3198" y="254"/>
                      <a:pt x="3198" y="254"/>
                    </a:cubicBezTo>
                    <a:cubicBezTo>
                      <a:pt x="3206" y="254"/>
                      <a:pt x="3206" y="254"/>
                      <a:pt x="3206" y="254"/>
                    </a:cubicBezTo>
                    <a:cubicBezTo>
                      <a:pt x="3215" y="255"/>
                      <a:pt x="3215" y="255"/>
                      <a:pt x="3215" y="255"/>
                    </a:cubicBezTo>
                    <a:cubicBezTo>
                      <a:pt x="3223" y="255"/>
                      <a:pt x="3223" y="255"/>
                      <a:pt x="3223" y="255"/>
                    </a:cubicBezTo>
                    <a:cubicBezTo>
                      <a:pt x="3232" y="255"/>
                      <a:pt x="3232" y="255"/>
                      <a:pt x="3232" y="255"/>
                    </a:cubicBezTo>
                    <a:cubicBezTo>
                      <a:pt x="3240" y="255"/>
                      <a:pt x="3240" y="255"/>
                      <a:pt x="3240" y="255"/>
                    </a:cubicBezTo>
                    <a:cubicBezTo>
                      <a:pt x="3249" y="255"/>
                      <a:pt x="3249" y="255"/>
                      <a:pt x="3249" y="255"/>
                    </a:cubicBezTo>
                    <a:cubicBezTo>
                      <a:pt x="3257" y="256"/>
                      <a:pt x="3257" y="256"/>
                      <a:pt x="3257" y="256"/>
                    </a:cubicBezTo>
                    <a:cubicBezTo>
                      <a:pt x="3266" y="256"/>
                      <a:pt x="3266" y="256"/>
                      <a:pt x="3266" y="256"/>
                    </a:cubicBezTo>
                    <a:cubicBezTo>
                      <a:pt x="3274" y="256"/>
                      <a:pt x="3274" y="256"/>
                      <a:pt x="3274" y="256"/>
                    </a:cubicBezTo>
                    <a:cubicBezTo>
                      <a:pt x="3283" y="256"/>
                      <a:pt x="3283" y="256"/>
                      <a:pt x="3283" y="256"/>
                    </a:cubicBezTo>
                    <a:cubicBezTo>
                      <a:pt x="3291" y="256"/>
                      <a:pt x="3291" y="256"/>
                      <a:pt x="3291" y="256"/>
                    </a:cubicBezTo>
                    <a:cubicBezTo>
                      <a:pt x="3300" y="256"/>
                      <a:pt x="3300" y="256"/>
                      <a:pt x="3300" y="256"/>
                    </a:cubicBezTo>
                    <a:cubicBezTo>
                      <a:pt x="3308" y="257"/>
                      <a:pt x="3308" y="257"/>
                      <a:pt x="3308" y="257"/>
                    </a:cubicBezTo>
                    <a:cubicBezTo>
                      <a:pt x="3317" y="257"/>
                      <a:pt x="3317" y="257"/>
                      <a:pt x="3317" y="257"/>
                    </a:cubicBezTo>
                    <a:cubicBezTo>
                      <a:pt x="3325" y="257"/>
                      <a:pt x="3325" y="257"/>
                      <a:pt x="3325" y="257"/>
                    </a:cubicBezTo>
                    <a:cubicBezTo>
                      <a:pt x="3334" y="257"/>
                      <a:pt x="3334" y="257"/>
                      <a:pt x="3334" y="257"/>
                    </a:cubicBezTo>
                    <a:cubicBezTo>
                      <a:pt x="3342" y="257"/>
                      <a:pt x="3342" y="257"/>
                      <a:pt x="3342" y="257"/>
                    </a:cubicBezTo>
                    <a:cubicBezTo>
                      <a:pt x="3351" y="257"/>
                      <a:pt x="3351" y="257"/>
                      <a:pt x="3351" y="257"/>
                    </a:cubicBezTo>
                    <a:cubicBezTo>
                      <a:pt x="3359" y="257"/>
                      <a:pt x="3359" y="257"/>
                      <a:pt x="3359" y="257"/>
                    </a:cubicBezTo>
                    <a:cubicBezTo>
                      <a:pt x="3368" y="258"/>
                      <a:pt x="3368" y="258"/>
                      <a:pt x="3368" y="258"/>
                    </a:cubicBezTo>
                    <a:cubicBezTo>
                      <a:pt x="3376" y="258"/>
                      <a:pt x="3376" y="258"/>
                      <a:pt x="3376" y="258"/>
                    </a:cubicBezTo>
                    <a:cubicBezTo>
                      <a:pt x="3385" y="258"/>
                      <a:pt x="3385" y="258"/>
                      <a:pt x="3385" y="258"/>
                    </a:cubicBezTo>
                    <a:cubicBezTo>
                      <a:pt x="3393" y="258"/>
                      <a:pt x="3393" y="258"/>
                      <a:pt x="3393" y="258"/>
                    </a:cubicBezTo>
                    <a:cubicBezTo>
                      <a:pt x="3402" y="258"/>
                      <a:pt x="3402" y="258"/>
                      <a:pt x="3402" y="258"/>
                    </a:cubicBezTo>
                    <a:cubicBezTo>
                      <a:pt x="3411" y="258"/>
                      <a:pt x="3411" y="258"/>
                      <a:pt x="3411" y="258"/>
                    </a:cubicBezTo>
                    <a:cubicBezTo>
                      <a:pt x="3419" y="259"/>
                      <a:pt x="3419" y="259"/>
                      <a:pt x="3419" y="259"/>
                    </a:cubicBezTo>
                    <a:cubicBezTo>
                      <a:pt x="3428" y="259"/>
                      <a:pt x="3428" y="259"/>
                      <a:pt x="3428" y="259"/>
                    </a:cubicBezTo>
                    <a:cubicBezTo>
                      <a:pt x="3436" y="259"/>
                      <a:pt x="3436" y="259"/>
                      <a:pt x="3436" y="259"/>
                    </a:cubicBezTo>
                    <a:cubicBezTo>
                      <a:pt x="3445" y="259"/>
                      <a:pt x="3445" y="259"/>
                      <a:pt x="3445" y="259"/>
                    </a:cubicBezTo>
                    <a:cubicBezTo>
                      <a:pt x="3453" y="259"/>
                      <a:pt x="3453" y="259"/>
                      <a:pt x="3453" y="259"/>
                    </a:cubicBezTo>
                    <a:cubicBezTo>
                      <a:pt x="3462" y="259"/>
                      <a:pt x="3462" y="259"/>
                      <a:pt x="3462" y="259"/>
                    </a:cubicBezTo>
                    <a:cubicBezTo>
                      <a:pt x="3470" y="259"/>
                      <a:pt x="3470" y="259"/>
                      <a:pt x="3470" y="259"/>
                    </a:cubicBezTo>
                    <a:cubicBezTo>
                      <a:pt x="3479" y="260"/>
                      <a:pt x="3479" y="260"/>
                      <a:pt x="3479" y="260"/>
                    </a:cubicBezTo>
                    <a:cubicBezTo>
                      <a:pt x="3487" y="260"/>
                      <a:pt x="3487" y="260"/>
                      <a:pt x="3487" y="260"/>
                    </a:cubicBezTo>
                    <a:cubicBezTo>
                      <a:pt x="3496" y="260"/>
                      <a:pt x="3496" y="260"/>
                      <a:pt x="3496" y="260"/>
                    </a:cubicBezTo>
                    <a:cubicBezTo>
                      <a:pt x="3504" y="260"/>
                      <a:pt x="3504" y="260"/>
                      <a:pt x="3504" y="260"/>
                    </a:cubicBezTo>
                    <a:cubicBezTo>
                      <a:pt x="3513" y="260"/>
                      <a:pt x="3513" y="260"/>
                      <a:pt x="3513" y="260"/>
                    </a:cubicBezTo>
                    <a:cubicBezTo>
                      <a:pt x="3521" y="260"/>
                      <a:pt x="3521" y="260"/>
                      <a:pt x="3521" y="260"/>
                    </a:cubicBezTo>
                    <a:cubicBezTo>
                      <a:pt x="3530" y="260"/>
                      <a:pt x="3530" y="260"/>
                      <a:pt x="3530" y="260"/>
                    </a:cubicBezTo>
                    <a:cubicBezTo>
                      <a:pt x="3538" y="261"/>
                      <a:pt x="3538" y="261"/>
                      <a:pt x="3538" y="261"/>
                    </a:cubicBezTo>
                    <a:cubicBezTo>
                      <a:pt x="3547" y="261"/>
                      <a:pt x="3547" y="261"/>
                      <a:pt x="3547" y="261"/>
                    </a:cubicBezTo>
                    <a:cubicBezTo>
                      <a:pt x="3555" y="261"/>
                      <a:pt x="3555" y="261"/>
                      <a:pt x="3555" y="261"/>
                    </a:cubicBezTo>
                    <a:cubicBezTo>
                      <a:pt x="3564" y="261"/>
                      <a:pt x="3564" y="261"/>
                      <a:pt x="3564" y="261"/>
                    </a:cubicBezTo>
                    <a:cubicBezTo>
                      <a:pt x="3572" y="261"/>
                      <a:pt x="3572" y="261"/>
                      <a:pt x="3572" y="261"/>
                    </a:cubicBezTo>
                    <a:cubicBezTo>
                      <a:pt x="3581" y="261"/>
                      <a:pt x="3581" y="261"/>
                      <a:pt x="3581" y="261"/>
                    </a:cubicBezTo>
                    <a:cubicBezTo>
                      <a:pt x="3589" y="261"/>
                      <a:pt x="3589" y="261"/>
                      <a:pt x="3589" y="261"/>
                    </a:cubicBezTo>
                    <a:cubicBezTo>
                      <a:pt x="3598" y="262"/>
                      <a:pt x="3598" y="262"/>
                      <a:pt x="3598" y="262"/>
                    </a:cubicBezTo>
                    <a:cubicBezTo>
                      <a:pt x="3606" y="262"/>
                      <a:pt x="3606" y="262"/>
                      <a:pt x="3606" y="262"/>
                    </a:cubicBezTo>
                    <a:cubicBezTo>
                      <a:pt x="3615" y="262"/>
                      <a:pt x="3615" y="262"/>
                      <a:pt x="3615" y="262"/>
                    </a:cubicBezTo>
                    <a:cubicBezTo>
                      <a:pt x="3623" y="262"/>
                      <a:pt x="3623" y="262"/>
                      <a:pt x="3623" y="262"/>
                    </a:cubicBezTo>
                    <a:cubicBezTo>
                      <a:pt x="3632" y="262"/>
                      <a:pt x="3632" y="262"/>
                      <a:pt x="3632" y="262"/>
                    </a:cubicBezTo>
                    <a:cubicBezTo>
                      <a:pt x="3640" y="262"/>
                      <a:pt x="3640" y="262"/>
                      <a:pt x="3640" y="262"/>
                    </a:cubicBezTo>
                    <a:cubicBezTo>
                      <a:pt x="3649" y="262"/>
                      <a:pt x="3649" y="262"/>
                      <a:pt x="3649" y="262"/>
                    </a:cubicBezTo>
                    <a:cubicBezTo>
                      <a:pt x="3657" y="263"/>
                      <a:pt x="3657" y="263"/>
                      <a:pt x="3657" y="263"/>
                    </a:cubicBezTo>
                    <a:cubicBezTo>
                      <a:pt x="3666" y="263"/>
                      <a:pt x="3666" y="263"/>
                      <a:pt x="3666" y="263"/>
                    </a:cubicBezTo>
                    <a:cubicBezTo>
                      <a:pt x="3674" y="263"/>
                      <a:pt x="3674" y="263"/>
                      <a:pt x="3674" y="263"/>
                    </a:cubicBezTo>
                    <a:cubicBezTo>
                      <a:pt x="3683" y="263"/>
                      <a:pt x="3683" y="263"/>
                      <a:pt x="3683" y="263"/>
                    </a:cubicBezTo>
                    <a:cubicBezTo>
                      <a:pt x="3691" y="263"/>
                      <a:pt x="3691" y="263"/>
                      <a:pt x="3691" y="263"/>
                    </a:cubicBezTo>
                    <a:cubicBezTo>
                      <a:pt x="3700" y="263"/>
                      <a:pt x="3700" y="263"/>
                      <a:pt x="3700" y="263"/>
                    </a:cubicBezTo>
                    <a:cubicBezTo>
                      <a:pt x="3708" y="263"/>
                      <a:pt x="3708" y="263"/>
                      <a:pt x="3708" y="263"/>
                    </a:cubicBezTo>
                    <a:cubicBezTo>
                      <a:pt x="3717" y="263"/>
                      <a:pt x="3717" y="263"/>
                      <a:pt x="3717" y="263"/>
                    </a:cubicBezTo>
                    <a:cubicBezTo>
                      <a:pt x="3725" y="264"/>
                      <a:pt x="3725" y="264"/>
                      <a:pt x="3725" y="264"/>
                    </a:cubicBezTo>
                    <a:cubicBezTo>
                      <a:pt x="3734" y="264"/>
                      <a:pt x="3734" y="264"/>
                      <a:pt x="3734" y="264"/>
                    </a:cubicBezTo>
                    <a:cubicBezTo>
                      <a:pt x="3742" y="264"/>
                      <a:pt x="3742" y="264"/>
                      <a:pt x="3742" y="264"/>
                    </a:cubicBezTo>
                    <a:cubicBezTo>
                      <a:pt x="3751" y="264"/>
                      <a:pt x="3751" y="264"/>
                      <a:pt x="3751" y="264"/>
                    </a:cubicBezTo>
                    <a:cubicBezTo>
                      <a:pt x="3759" y="264"/>
                      <a:pt x="3759" y="264"/>
                      <a:pt x="3759" y="264"/>
                    </a:cubicBezTo>
                    <a:cubicBezTo>
                      <a:pt x="3768" y="264"/>
                      <a:pt x="3768" y="264"/>
                      <a:pt x="3768" y="264"/>
                    </a:cubicBezTo>
                    <a:cubicBezTo>
                      <a:pt x="3776" y="264"/>
                      <a:pt x="3776" y="264"/>
                      <a:pt x="3776" y="264"/>
                    </a:cubicBezTo>
                    <a:cubicBezTo>
                      <a:pt x="3785" y="264"/>
                      <a:pt x="3785" y="264"/>
                      <a:pt x="3785" y="264"/>
                    </a:cubicBezTo>
                    <a:cubicBezTo>
                      <a:pt x="3793" y="264"/>
                      <a:pt x="3793" y="264"/>
                      <a:pt x="3793" y="264"/>
                    </a:cubicBezTo>
                    <a:cubicBezTo>
                      <a:pt x="3802" y="265"/>
                      <a:pt x="3802" y="265"/>
                      <a:pt x="3802" y="265"/>
                    </a:cubicBezTo>
                    <a:cubicBezTo>
                      <a:pt x="3810" y="265"/>
                      <a:pt x="3810" y="265"/>
                      <a:pt x="3810" y="265"/>
                    </a:cubicBezTo>
                    <a:cubicBezTo>
                      <a:pt x="3819" y="265"/>
                      <a:pt x="3819" y="265"/>
                      <a:pt x="3819" y="265"/>
                    </a:cubicBezTo>
                    <a:cubicBezTo>
                      <a:pt x="3827" y="265"/>
                      <a:pt x="3827" y="265"/>
                      <a:pt x="3827" y="265"/>
                    </a:cubicBezTo>
                    <a:cubicBezTo>
                      <a:pt x="3836" y="265"/>
                      <a:pt x="3836" y="265"/>
                      <a:pt x="3836" y="265"/>
                    </a:cubicBezTo>
                    <a:cubicBezTo>
                      <a:pt x="3844" y="265"/>
                      <a:pt x="3844" y="265"/>
                      <a:pt x="3844" y="265"/>
                    </a:cubicBezTo>
                    <a:cubicBezTo>
                      <a:pt x="3853" y="265"/>
                      <a:pt x="3853" y="265"/>
                      <a:pt x="3853" y="265"/>
                    </a:cubicBezTo>
                    <a:cubicBezTo>
                      <a:pt x="3861" y="265"/>
                      <a:pt x="3861" y="265"/>
                      <a:pt x="3861" y="265"/>
                    </a:cubicBezTo>
                    <a:cubicBezTo>
                      <a:pt x="3870" y="266"/>
                      <a:pt x="3870" y="266"/>
                      <a:pt x="3870" y="266"/>
                    </a:cubicBezTo>
                    <a:cubicBezTo>
                      <a:pt x="3878" y="266"/>
                      <a:pt x="3878" y="266"/>
                      <a:pt x="3878" y="266"/>
                    </a:cubicBezTo>
                    <a:cubicBezTo>
                      <a:pt x="3887" y="266"/>
                      <a:pt x="3887" y="266"/>
                      <a:pt x="3887" y="266"/>
                    </a:cubicBezTo>
                    <a:cubicBezTo>
                      <a:pt x="3895" y="266"/>
                      <a:pt x="3895" y="266"/>
                      <a:pt x="3895" y="266"/>
                    </a:cubicBezTo>
                    <a:cubicBezTo>
                      <a:pt x="3904" y="266"/>
                      <a:pt x="3904" y="266"/>
                      <a:pt x="3904" y="266"/>
                    </a:cubicBezTo>
                    <a:cubicBezTo>
                      <a:pt x="3912" y="266"/>
                      <a:pt x="3912" y="266"/>
                      <a:pt x="3912" y="266"/>
                    </a:cubicBezTo>
                    <a:cubicBezTo>
                      <a:pt x="3921" y="266"/>
                      <a:pt x="3921" y="266"/>
                      <a:pt x="3921" y="266"/>
                    </a:cubicBezTo>
                    <a:cubicBezTo>
                      <a:pt x="3929" y="266"/>
                      <a:pt x="3929" y="266"/>
                      <a:pt x="3929" y="266"/>
                    </a:cubicBezTo>
                    <a:cubicBezTo>
                      <a:pt x="3938" y="266"/>
                      <a:pt x="3938" y="266"/>
                      <a:pt x="3938" y="266"/>
                    </a:cubicBezTo>
                    <a:cubicBezTo>
                      <a:pt x="3946" y="266"/>
                      <a:pt x="3946" y="266"/>
                      <a:pt x="3946" y="266"/>
                    </a:cubicBezTo>
                    <a:cubicBezTo>
                      <a:pt x="3955" y="267"/>
                      <a:pt x="3955" y="267"/>
                      <a:pt x="3955" y="267"/>
                    </a:cubicBezTo>
                    <a:cubicBezTo>
                      <a:pt x="3963" y="267"/>
                      <a:pt x="3963" y="267"/>
                      <a:pt x="3963" y="267"/>
                    </a:cubicBezTo>
                    <a:cubicBezTo>
                      <a:pt x="3972" y="267"/>
                      <a:pt x="3972" y="267"/>
                      <a:pt x="3972" y="267"/>
                    </a:cubicBezTo>
                    <a:cubicBezTo>
                      <a:pt x="3980" y="267"/>
                      <a:pt x="3980" y="267"/>
                      <a:pt x="3980" y="267"/>
                    </a:cubicBezTo>
                    <a:cubicBezTo>
                      <a:pt x="3989" y="267"/>
                      <a:pt x="3989" y="267"/>
                      <a:pt x="3989" y="267"/>
                    </a:cubicBezTo>
                    <a:cubicBezTo>
                      <a:pt x="3997" y="267"/>
                      <a:pt x="3997" y="267"/>
                      <a:pt x="3997" y="267"/>
                    </a:cubicBezTo>
                    <a:cubicBezTo>
                      <a:pt x="4006" y="267"/>
                      <a:pt x="4006" y="267"/>
                      <a:pt x="4006" y="267"/>
                    </a:cubicBezTo>
                    <a:cubicBezTo>
                      <a:pt x="4014" y="267"/>
                      <a:pt x="4014" y="267"/>
                      <a:pt x="4014" y="267"/>
                    </a:cubicBezTo>
                    <a:cubicBezTo>
                      <a:pt x="4023" y="267"/>
                      <a:pt x="4023" y="267"/>
                      <a:pt x="4023" y="267"/>
                    </a:cubicBezTo>
                    <a:cubicBezTo>
                      <a:pt x="4031" y="268"/>
                      <a:pt x="4031" y="268"/>
                      <a:pt x="4031" y="268"/>
                    </a:cubicBezTo>
                    <a:cubicBezTo>
                      <a:pt x="4040" y="268"/>
                      <a:pt x="4040" y="268"/>
                      <a:pt x="4040" y="268"/>
                    </a:cubicBezTo>
                    <a:cubicBezTo>
                      <a:pt x="4048" y="268"/>
                      <a:pt x="4048" y="268"/>
                      <a:pt x="4048" y="268"/>
                    </a:cubicBezTo>
                    <a:cubicBezTo>
                      <a:pt x="4057" y="268"/>
                      <a:pt x="4057" y="268"/>
                      <a:pt x="4057" y="268"/>
                    </a:cubicBezTo>
                    <a:cubicBezTo>
                      <a:pt x="4065" y="268"/>
                      <a:pt x="4065" y="268"/>
                      <a:pt x="4065" y="268"/>
                    </a:cubicBezTo>
                    <a:cubicBezTo>
                      <a:pt x="4074" y="268"/>
                      <a:pt x="4074" y="268"/>
                      <a:pt x="4074" y="268"/>
                    </a:cubicBezTo>
                    <a:cubicBezTo>
                      <a:pt x="4082" y="268"/>
                      <a:pt x="4082" y="268"/>
                      <a:pt x="4082" y="268"/>
                    </a:cubicBezTo>
                    <a:cubicBezTo>
                      <a:pt x="4091" y="268"/>
                      <a:pt x="4091" y="268"/>
                      <a:pt x="4091" y="268"/>
                    </a:cubicBezTo>
                    <a:cubicBezTo>
                      <a:pt x="4099" y="268"/>
                      <a:pt x="4099" y="268"/>
                      <a:pt x="4099" y="268"/>
                    </a:cubicBezTo>
                    <a:cubicBezTo>
                      <a:pt x="4108" y="268"/>
                      <a:pt x="4108" y="268"/>
                      <a:pt x="4108" y="268"/>
                    </a:cubicBezTo>
                    <a:cubicBezTo>
                      <a:pt x="4116" y="268"/>
                      <a:pt x="4116" y="268"/>
                      <a:pt x="4116" y="268"/>
                    </a:cubicBezTo>
                    <a:cubicBezTo>
                      <a:pt x="4125" y="269"/>
                      <a:pt x="4125" y="269"/>
                      <a:pt x="4125" y="269"/>
                    </a:cubicBezTo>
                    <a:cubicBezTo>
                      <a:pt x="4133" y="269"/>
                      <a:pt x="4133" y="269"/>
                      <a:pt x="4133" y="269"/>
                    </a:cubicBezTo>
                    <a:cubicBezTo>
                      <a:pt x="4142" y="269"/>
                      <a:pt x="4142" y="269"/>
                      <a:pt x="4142" y="269"/>
                    </a:cubicBezTo>
                    <a:cubicBezTo>
                      <a:pt x="4150" y="269"/>
                      <a:pt x="4150" y="269"/>
                      <a:pt x="4150" y="269"/>
                    </a:cubicBezTo>
                    <a:cubicBezTo>
                      <a:pt x="4159" y="269"/>
                      <a:pt x="4159" y="269"/>
                      <a:pt x="4159" y="269"/>
                    </a:cubicBezTo>
                    <a:cubicBezTo>
                      <a:pt x="4167" y="269"/>
                      <a:pt x="4167" y="269"/>
                      <a:pt x="4167" y="269"/>
                    </a:cubicBezTo>
                    <a:cubicBezTo>
                      <a:pt x="4176" y="269"/>
                      <a:pt x="4176" y="269"/>
                      <a:pt x="4176" y="269"/>
                    </a:cubicBezTo>
                    <a:cubicBezTo>
                      <a:pt x="4184" y="269"/>
                      <a:pt x="4184" y="269"/>
                      <a:pt x="4184" y="269"/>
                    </a:cubicBezTo>
                    <a:cubicBezTo>
                      <a:pt x="4193" y="269"/>
                      <a:pt x="4193" y="269"/>
                      <a:pt x="4193" y="269"/>
                    </a:cubicBezTo>
                    <a:cubicBezTo>
                      <a:pt x="4201" y="269"/>
                      <a:pt x="4201" y="269"/>
                      <a:pt x="4201" y="269"/>
                    </a:cubicBezTo>
                    <a:cubicBezTo>
                      <a:pt x="4210" y="269"/>
                      <a:pt x="4210" y="269"/>
                      <a:pt x="4210" y="269"/>
                    </a:cubicBezTo>
                    <a:cubicBezTo>
                      <a:pt x="4218" y="270"/>
                      <a:pt x="4218" y="270"/>
                      <a:pt x="4218" y="270"/>
                    </a:cubicBezTo>
                    <a:cubicBezTo>
                      <a:pt x="4227" y="270"/>
                      <a:pt x="4227" y="270"/>
                      <a:pt x="4227" y="270"/>
                    </a:cubicBezTo>
                    <a:cubicBezTo>
                      <a:pt x="4235" y="270"/>
                      <a:pt x="4235" y="270"/>
                      <a:pt x="4235" y="270"/>
                    </a:cubicBezTo>
                    <a:cubicBezTo>
                      <a:pt x="4244" y="270"/>
                      <a:pt x="4244" y="270"/>
                      <a:pt x="4244" y="27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892160" y="1532160"/>
                <a:ext cx="2692800" cy="1854720"/>
              </a:xfrm>
              <a:custGeom>
                <a:avLst/>
                <a:gdLst/>
                <a:ahLst/>
                <a:rect l="l" t="t" r="r" b="b"/>
                <a:pathLst>
                  <a:path w="4240" h="357">
                    <a:moveTo>
                      <a:pt x="0" y="92"/>
                    </a:moveTo>
                    <a:cubicBezTo>
                      <a:pt x="4" y="89"/>
                      <a:pt x="4" y="89"/>
                      <a:pt x="4" y="89"/>
                    </a:cubicBezTo>
                    <a:cubicBezTo>
                      <a:pt x="9" y="86"/>
                      <a:pt x="9" y="86"/>
                      <a:pt x="9" y="86"/>
                    </a:cubicBezTo>
                    <a:cubicBezTo>
                      <a:pt x="13" y="83"/>
                      <a:pt x="13" y="83"/>
                      <a:pt x="13" y="83"/>
                    </a:cubicBezTo>
                    <a:cubicBezTo>
                      <a:pt x="17" y="80"/>
                      <a:pt x="17" y="80"/>
                      <a:pt x="17" y="80"/>
                    </a:cubicBezTo>
                    <a:cubicBezTo>
                      <a:pt x="21" y="77"/>
                      <a:pt x="21" y="77"/>
                      <a:pt x="21" y="77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30" y="71"/>
                      <a:pt x="30" y="71"/>
                      <a:pt x="30" y="71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51" y="58"/>
                      <a:pt x="51" y="58"/>
                      <a:pt x="51" y="58"/>
                    </a:cubicBezTo>
                    <a:cubicBezTo>
                      <a:pt x="60" y="53"/>
                      <a:pt x="60" y="53"/>
                      <a:pt x="60" y="53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85" y="39"/>
                      <a:pt x="85" y="39"/>
                      <a:pt x="85" y="39"/>
                    </a:cubicBezTo>
                    <a:cubicBezTo>
                      <a:pt x="94" y="35"/>
                      <a:pt x="94" y="35"/>
                      <a:pt x="94" y="35"/>
                    </a:cubicBezTo>
                    <a:cubicBezTo>
                      <a:pt x="102" y="31"/>
                      <a:pt x="102" y="31"/>
                      <a:pt x="102" y="31"/>
                    </a:cubicBezTo>
                    <a:cubicBezTo>
                      <a:pt x="111" y="28"/>
                      <a:pt x="111" y="28"/>
                      <a:pt x="111" y="28"/>
                    </a:cubicBezTo>
                    <a:cubicBezTo>
                      <a:pt x="119" y="24"/>
                      <a:pt x="119" y="24"/>
                      <a:pt x="119" y="24"/>
                    </a:cubicBezTo>
                    <a:cubicBezTo>
                      <a:pt x="128" y="21"/>
                      <a:pt x="128" y="21"/>
                      <a:pt x="128" y="21"/>
                    </a:cubicBezTo>
                    <a:cubicBezTo>
                      <a:pt x="136" y="18"/>
                      <a:pt x="136" y="18"/>
                      <a:pt x="136" y="18"/>
                    </a:cubicBezTo>
                    <a:cubicBezTo>
                      <a:pt x="145" y="15"/>
                      <a:pt x="145" y="15"/>
                      <a:pt x="145" y="15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62" y="11"/>
                      <a:pt x="162" y="11"/>
                      <a:pt x="162" y="11"/>
                    </a:cubicBezTo>
                    <a:cubicBezTo>
                      <a:pt x="170" y="9"/>
                      <a:pt x="170" y="9"/>
                      <a:pt x="170" y="9"/>
                    </a:cubicBezTo>
                    <a:cubicBezTo>
                      <a:pt x="179" y="7"/>
                      <a:pt x="179" y="7"/>
                      <a:pt x="179" y="7"/>
                    </a:cubicBezTo>
                    <a:cubicBezTo>
                      <a:pt x="187" y="5"/>
                      <a:pt x="187" y="5"/>
                      <a:pt x="187" y="5"/>
                    </a:cubicBezTo>
                    <a:cubicBezTo>
                      <a:pt x="196" y="4"/>
                      <a:pt x="196" y="4"/>
                      <a:pt x="196" y="4"/>
                    </a:cubicBezTo>
                    <a:cubicBezTo>
                      <a:pt x="204" y="3"/>
                      <a:pt x="204" y="3"/>
                      <a:pt x="204" y="3"/>
                    </a:cubicBezTo>
                    <a:cubicBezTo>
                      <a:pt x="213" y="2"/>
                      <a:pt x="213" y="2"/>
                      <a:pt x="213" y="2"/>
                    </a:cubicBezTo>
                    <a:cubicBezTo>
                      <a:pt x="221" y="1"/>
                      <a:pt x="221" y="1"/>
                      <a:pt x="221" y="1"/>
                    </a:cubicBezTo>
                    <a:cubicBezTo>
                      <a:pt x="230" y="1"/>
                      <a:pt x="230" y="1"/>
                      <a:pt x="230" y="1"/>
                    </a:cubicBezTo>
                    <a:cubicBezTo>
                      <a:pt x="238" y="0"/>
                      <a:pt x="238" y="0"/>
                      <a:pt x="238" y="0"/>
                    </a:cubicBezTo>
                    <a:cubicBezTo>
                      <a:pt x="247" y="0"/>
                      <a:pt x="247" y="0"/>
                      <a:pt x="247" y="0"/>
                    </a:cubicBezTo>
                    <a:cubicBezTo>
                      <a:pt x="255" y="0"/>
                      <a:pt x="255" y="0"/>
                      <a:pt x="255" y="0"/>
                    </a:cubicBezTo>
                    <a:cubicBezTo>
                      <a:pt x="264" y="1"/>
                      <a:pt x="264" y="1"/>
                      <a:pt x="264" y="1"/>
                    </a:cubicBezTo>
                    <a:cubicBezTo>
                      <a:pt x="272" y="1"/>
                      <a:pt x="272" y="1"/>
                      <a:pt x="272" y="1"/>
                    </a:cubicBezTo>
                    <a:cubicBezTo>
                      <a:pt x="281" y="2"/>
                      <a:pt x="281" y="2"/>
                      <a:pt x="281" y="2"/>
                    </a:cubicBezTo>
                    <a:cubicBezTo>
                      <a:pt x="289" y="3"/>
                      <a:pt x="289" y="3"/>
                      <a:pt x="289" y="3"/>
                    </a:cubicBezTo>
                    <a:cubicBezTo>
                      <a:pt x="298" y="4"/>
                      <a:pt x="298" y="4"/>
                      <a:pt x="298" y="4"/>
                    </a:cubicBezTo>
                    <a:cubicBezTo>
                      <a:pt x="306" y="6"/>
                      <a:pt x="306" y="6"/>
                      <a:pt x="306" y="6"/>
                    </a:cubicBezTo>
                    <a:cubicBezTo>
                      <a:pt x="315" y="7"/>
                      <a:pt x="315" y="7"/>
                      <a:pt x="315" y="7"/>
                    </a:cubicBezTo>
                    <a:cubicBezTo>
                      <a:pt x="323" y="9"/>
                      <a:pt x="323" y="9"/>
                      <a:pt x="323" y="9"/>
                    </a:cubicBezTo>
                    <a:cubicBezTo>
                      <a:pt x="332" y="11"/>
                      <a:pt x="332" y="11"/>
                      <a:pt x="332" y="11"/>
                    </a:cubicBezTo>
                    <a:cubicBezTo>
                      <a:pt x="340" y="13"/>
                      <a:pt x="340" y="13"/>
                      <a:pt x="340" y="13"/>
                    </a:cubicBezTo>
                    <a:cubicBezTo>
                      <a:pt x="349" y="15"/>
                      <a:pt x="349" y="15"/>
                      <a:pt x="349" y="15"/>
                    </a:cubicBezTo>
                    <a:cubicBezTo>
                      <a:pt x="357" y="18"/>
                      <a:pt x="357" y="18"/>
                      <a:pt x="357" y="18"/>
                    </a:cubicBezTo>
                    <a:cubicBezTo>
                      <a:pt x="366" y="20"/>
                      <a:pt x="366" y="20"/>
                      <a:pt x="366" y="20"/>
                    </a:cubicBezTo>
                    <a:cubicBezTo>
                      <a:pt x="374" y="23"/>
                      <a:pt x="374" y="23"/>
                      <a:pt x="374" y="23"/>
                    </a:cubicBezTo>
                    <a:cubicBezTo>
                      <a:pt x="383" y="26"/>
                      <a:pt x="383" y="26"/>
                      <a:pt x="383" y="26"/>
                    </a:cubicBezTo>
                    <a:cubicBezTo>
                      <a:pt x="391" y="29"/>
                      <a:pt x="391" y="29"/>
                      <a:pt x="391" y="29"/>
                    </a:cubicBezTo>
                    <a:cubicBezTo>
                      <a:pt x="400" y="32"/>
                      <a:pt x="400" y="32"/>
                      <a:pt x="400" y="32"/>
                    </a:cubicBezTo>
                    <a:cubicBezTo>
                      <a:pt x="408" y="35"/>
                      <a:pt x="408" y="35"/>
                      <a:pt x="408" y="35"/>
                    </a:cubicBezTo>
                    <a:cubicBezTo>
                      <a:pt x="417" y="39"/>
                      <a:pt x="417" y="39"/>
                      <a:pt x="417" y="39"/>
                    </a:cubicBezTo>
                    <a:cubicBezTo>
                      <a:pt x="425" y="42"/>
                      <a:pt x="425" y="42"/>
                      <a:pt x="425" y="42"/>
                    </a:cubicBezTo>
                    <a:cubicBezTo>
                      <a:pt x="434" y="46"/>
                      <a:pt x="434" y="46"/>
                      <a:pt x="434" y="46"/>
                    </a:cubicBezTo>
                    <a:cubicBezTo>
                      <a:pt x="442" y="50"/>
                      <a:pt x="442" y="50"/>
                      <a:pt x="442" y="50"/>
                    </a:cubicBezTo>
                    <a:cubicBezTo>
                      <a:pt x="451" y="54"/>
                      <a:pt x="451" y="54"/>
                      <a:pt x="451" y="54"/>
                    </a:cubicBezTo>
                    <a:cubicBezTo>
                      <a:pt x="459" y="58"/>
                      <a:pt x="459" y="58"/>
                      <a:pt x="459" y="58"/>
                    </a:cubicBezTo>
                    <a:cubicBezTo>
                      <a:pt x="468" y="62"/>
                      <a:pt x="468" y="62"/>
                      <a:pt x="468" y="62"/>
                    </a:cubicBezTo>
                    <a:cubicBezTo>
                      <a:pt x="476" y="67"/>
                      <a:pt x="476" y="67"/>
                      <a:pt x="476" y="67"/>
                    </a:cubicBezTo>
                    <a:cubicBezTo>
                      <a:pt x="485" y="71"/>
                      <a:pt x="485" y="71"/>
                      <a:pt x="485" y="71"/>
                    </a:cubicBezTo>
                    <a:cubicBezTo>
                      <a:pt x="493" y="76"/>
                      <a:pt x="493" y="76"/>
                      <a:pt x="493" y="76"/>
                    </a:cubicBezTo>
                    <a:cubicBezTo>
                      <a:pt x="502" y="80"/>
                      <a:pt x="502" y="80"/>
                      <a:pt x="502" y="80"/>
                    </a:cubicBezTo>
                    <a:cubicBezTo>
                      <a:pt x="510" y="85"/>
                      <a:pt x="510" y="85"/>
                      <a:pt x="510" y="85"/>
                    </a:cubicBezTo>
                    <a:cubicBezTo>
                      <a:pt x="519" y="90"/>
                      <a:pt x="519" y="90"/>
                      <a:pt x="519" y="90"/>
                    </a:cubicBezTo>
                    <a:cubicBezTo>
                      <a:pt x="527" y="94"/>
                      <a:pt x="527" y="94"/>
                      <a:pt x="527" y="94"/>
                    </a:cubicBezTo>
                    <a:cubicBezTo>
                      <a:pt x="536" y="99"/>
                      <a:pt x="536" y="99"/>
                      <a:pt x="536" y="99"/>
                    </a:cubicBezTo>
                    <a:cubicBezTo>
                      <a:pt x="544" y="104"/>
                      <a:pt x="544" y="104"/>
                      <a:pt x="544" y="104"/>
                    </a:cubicBezTo>
                    <a:cubicBezTo>
                      <a:pt x="553" y="109"/>
                      <a:pt x="553" y="109"/>
                      <a:pt x="553" y="109"/>
                    </a:cubicBezTo>
                    <a:cubicBezTo>
                      <a:pt x="561" y="114"/>
                      <a:pt x="561" y="114"/>
                      <a:pt x="561" y="114"/>
                    </a:cubicBezTo>
                    <a:cubicBezTo>
                      <a:pt x="570" y="120"/>
                      <a:pt x="570" y="120"/>
                      <a:pt x="570" y="120"/>
                    </a:cubicBezTo>
                    <a:cubicBezTo>
                      <a:pt x="578" y="125"/>
                      <a:pt x="578" y="125"/>
                      <a:pt x="578" y="125"/>
                    </a:cubicBezTo>
                    <a:cubicBezTo>
                      <a:pt x="587" y="130"/>
                      <a:pt x="587" y="130"/>
                      <a:pt x="587" y="130"/>
                    </a:cubicBezTo>
                    <a:cubicBezTo>
                      <a:pt x="595" y="135"/>
                      <a:pt x="595" y="135"/>
                      <a:pt x="595" y="135"/>
                    </a:cubicBezTo>
                    <a:cubicBezTo>
                      <a:pt x="604" y="140"/>
                      <a:pt x="604" y="140"/>
                      <a:pt x="604" y="140"/>
                    </a:cubicBezTo>
                    <a:cubicBezTo>
                      <a:pt x="612" y="146"/>
                      <a:pt x="612" y="146"/>
                      <a:pt x="612" y="146"/>
                    </a:cubicBezTo>
                    <a:cubicBezTo>
                      <a:pt x="617" y="148"/>
                      <a:pt x="617" y="148"/>
                      <a:pt x="617" y="148"/>
                    </a:cubicBezTo>
                    <a:cubicBezTo>
                      <a:pt x="621" y="151"/>
                      <a:pt x="621" y="151"/>
                      <a:pt x="621" y="151"/>
                    </a:cubicBezTo>
                    <a:cubicBezTo>
                      <a:pt x="625" y="154"/>
                      <a:pt x="625" y="154"/>
                      <a:pt x="625" y="154"/>
                    </a:cubicBezTo>
                    <a:cubicBezTo>
                      <a:pt x="629" y="156"/>
                      <a:pt x="629" y="156"/>
                      <a:pt x="629" y="156"/>
                    </a:cubicBezTo>
                    <a:cubicBezTo>
                      <a:pt x="634" y="159"/>
                      <a:pt x="634" y="159"/>
                      <a:pt x="634" y="159"/>
                    </a:cubicBezTo>
                    <a:cubicBezTo>
                      <a:pt x="638" y="161"/>
                      <a:pt x="638" y="161"/>
                      <a:pt x="638" y="161"/>
                    </a:cubicBezTo>
                    <a:cubicBezTo>
                      <a:pt x="642" y="164"/>
                      <a:pt x="642" y="164"/>
                      <a:pt x="642" y="164"/>
                    </a:cubicBezTo>
                    <a:cubicBezTo>
                      <a:pt x="646" y="167"/>
                      <a:pt x="646" y="167"/>
                      <a:pt x="646" y="167"/>
                    </a:cubicBezTo>
                    <a:cubicBezTo>
                      <a:pt x="651" y="169"/>
                      <a:pt x="651" y="169"/>
                      <a:pt x="651" y="169"/>
                    </a:cubicBezTo>
                    <a:cubicBezTo>
                      <a:pt x="655" y="172"/>
                      <a:pt x="655" y="172"/>
                      <a:pt x="655" y="172"/>
                    </a:cubicBezTo>
                    <a:cubicBezTo>
                      <a:pt x="659" y="175"/>
                      <a:pt x="659" y="175"/>
                      <a:pt x="659" y="175"/>
                    </a:cubicBezTo>
                    <a:cubicBezTo>
                      <a:pt x="663" y="177"/>
                      <a:pt x="663" y="177"/>
                      <a:pt x="663" y="177"/>
                    </a:cubicBezTo>
                    <a:cubicBezTo>
                      <a:pt x="668" y="180"/>
                      <a:pt x="668" y="180"/>
                      <a:pt x="668" y="180"/>
                    </a:cubicBezTo>
                    <a:cubicBezTo>
                      <a:pt x="672" y="183"/>
                      <a:pt x="672" y="183"/>
                      <a:pt x="672" y="183"/>
                    </a:cubicBezTo>
                    <a:cubicBezTo>
                      <a:pt x="685" y="191"/>
                      <a:pt x="685" y="191"/>
                      <a:pt x="685" y="191"/>
                    </a:cubicBezTo>
                    <a:cubicBezTo>
                      <a:pt x="693" y="196"/>
                      <a:pt x="693" y="196"/>
                      <a:pt x="693" y="196"/>
                    </a:cubicBezTo>
                    <a:cubicBezTo>
                      <a:pt x="702" y="201"/>
                      <a:pt x="702" y="201"/>
                      <a:pt x="702" y="201"/>
                    </a:cubicBezTo>
                    <a:cubicBezTo>
                      <a:pt x="710" y="206"/>
                      <a:pt x="710" y="206"/>
                      <a:pt x="710" y="206"/>
                    </a:cubicBezTo>
                    <a:cubicBezTo>
                      <a:pt x="719" y="211"/>
                      <a:pt x="719" y="211"/>
                      <a:pt x="719" y="211"/>
                    </a:cubicBezTo>
                    <a:cubicBezTo>
                      <a:pt x="727" y="216"/>
                      <a:pt x="727" y="216"/>
                      <a:pt x="727" y="216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44" y="226"/>
                      <a:pt x="744" y="226"/>
                      <a:pt x="744" y="226"/>
                    </a:cubicBezTo>
                    <a:cubicBezTo>
                      <a:pt x="753" y="231"/>
                      <a:pt x="753" y="231"/>
                      <a:pt x="753" y="231"/>
                    </a:cubicBezTo>
                    <a:cubicBezTo>
                      <a:pt x="761" y="236"/>
                      <a:pt x="761" y="236"/>
                      <a:pt x="761" y="236"/>
                    </a:cubicBezTo>
                    <a:cubicBezTo>
                      <a:pt x="770" y="241"/>
                      <a:pt x="770" y="241"/>
                      <a:pt x="770" y="241"/>
                    </a:cubicBezTo>
                    <a:cubicBezTo>
                      <a:pt x="778" y="246"/>
                      <a:pt x="778" y="246"/>
                      <a:pt x="778" y="246"/>
                    </a:cubicBezTo>
                    <a:cubicBezTo>
                      <a:pt x="787" y="250"/>
                      <a:pt x="787" y="250"/>
                      <a:pt x="787" y="250"/>
                    </a:cubicBezTo>
                    <a:cubicBezTo>
                      <a:pt x="795" y="255"/>
                      <a:pt x="795" y="255"/>
                      <a:pt x="795" y="255"/>
                    </a:cubicBezTo>
                    <a:cubicBezTo>
                      <a:pt x="804" y="260"/>
                      <a:pt x="804" y="260"/>
                      <a:pt x="804" y="260"/>
                    </a:cubicBezTo>
                    <a:cubicBezTo>
                      <a:pt x="812" y="264"/>
                      <a:pt x="812" y="264"/>
                      <a:pt x="812" y="264"/>
                    </a:cubicBezTo>
                    <a:cubicBezTo>
                      <a:pt x="821" y="269"/>
                      <a:pt x="821" y="269"/>
                      <a:pt x="821" y="269"/>
                    </a:cubicBezTo>
                    <a:cubicBezTo>
                      <a:pt x="829" y="273"/>
                      <a:pt x="829" y="273"/>
                      <a:pt x="829" y="273"/>
                    </a:cubicBezTo>
                    <a:cubicBezTo>
                      <a:pt x="838" y="277"/>
                      <a:pt x="838" y="277"/>
                      <a:pt x="838" y="277"/>
                    </a:cubicBezTo>
                    <a:cubicBezTo>
                      <a:pt x="846" y="281"/>
                      <a:pt x="846" y="281"/>
                      <a:pt x="846" y="281"/>
                    </a:cubicBezTo>
                    <a:cubicBezTo>
                      <a:pt x="855" y="285"/>
                      <a:pt x="855" y="285"/>
                      <a:pt x="855" y="285"/>
                    </a:cubicBezTo>
                    <a:cubicBezTo>
                      <a:pt x="863" y="289"/>
                      <a:pt x="863" y="289"/>
                      <a:pt x="863" y="289"/>
                    </a:cubicBezTo>
                    <a:cubicBezTo>
                      <a:pt x="872" y="293"/>
                      <a:pt x="872" y="293"/>
                      <a:pt x="872" y="293"/>
                    </a:cubicBezTo>
                    <a:cubicBezTo>
                      <a:pt x="880" y="297"/>
                      <a:pt x="880" y="297"/>
                      <a:pt x="880" y="297"/>
                    </a:cubicBezTo>
                    <a:cubicBezTo>
                      <a:pt x="889" y="300"/>
                      <a:pt x="889" y="300"/>
                      <a:pt x="889" y="300"/>
                    </a:cubicBezTo>
                    <a:cubicBezTo>
                      <a:pt x="897" y="304"/>
                      <a:pt x="897" y="304"/>
                      <a:pt x="897" y="304"/>
                    </a:cubicBezTo>
                    <a:cubicBezTo>
                      <a:pt x="906" y="307"/>
                      <a:pt x="906" y="307"/>
                      <a:pt x="906" y="307"/>
                    </a:cubicBezTo>
                    <a:cubicBezTo>
                      <a:pt x="914" y="311"/>
                      <a:pt x="914" y="311"/>
                      <a:pt x="914" y="311"/>
                    </a:cubicBezTo>
                    <a:cubicBezTo>
                      <a:pt x="923" y="314"/>
                      <a:pt x="923" y="314"/>
                      <a:pt x="923" y="314"/>
                    </a:cubicBezTo>
                    <a:cubicBezTo>
                      <a:pt x="931" y="317"/>
                      <a:pt x="931" y="317"/>
                      <a:pt x="931" y="317"/>
                    </a:cubicBezTo>
                    <a:cubicBezTo>
                      <a:pt x="940" y="320"/>
                      <a:pt x="940" y="320"/>
                      <a:pt x="940" y="320"/>
                    </a:cubicBezTo>
                    <a:cubicBezTo>
                      <a:pt x="948" y="323"/>
                      <a:pt x="948" y="323"/>
                      <a:pt x="948" y="323"/>
                    </a:cubicBezTo>
                    <a:cubicBezTo>
                      <a:pt x="957" y="326"/>
                      <a:pt x="957" y="326"/>
                      <a:pt x="957" y="326"/>
                    </a:cubicBezTo>
                    <a:cubicBezTo>
                      <a:pt x="965" y="328"/>
                      <a:pt x="965" y="328"/>
                      <a:pt x="965" y="328"/>
                    </a:cubicBezTo>
                    <a:cubicBezTo>
                      <a:pt x="974" y="331"/>
                      <a:pt x="974" y="331"/>
                      <a:pt x="974" y="331"/>
                    </a:cubicBezTo>
                    <a:cubicBezTo>
                      <a:pt x="982" y="333"/>
                      <a:pt x="982" y="333"/>
                      <a:pt x="982" y="333"/>
                    </a:cubicBezTo>
                    <a:cubicBezTo>
                      <a:pt x="991" y="336"/>
                      <a:pt x="991" y="336"/>
                      <a:pt x="991" y="336"/>
                    </a:cubicBezTo>
                    <a:cubicBezTo>
                      <a:pt x="999" y="338"/>
                      <a:pt x="999" y="338"/>
                      <a:pt x="999" y="338"/>
                    </a:cubicBezTo>
                    <a:cubicBezTo>
                      <a:pt x="1008" y="340"/>
                      <a:pt x="1008" y="340"/>
                      <a:pt x="1008" y="340"/>
                    </a:cubicBezTo>
                    <a:cubicBezTo>
                      <a:pt x="1016" y="342"/>
                      <a:pt x="1016" y="342"/>
                      <a:pt x="1016" y="342"/>
                    </a:cubicBezTo>
                    <a:cubicBezTo>
                      <a:pt x="1025" y="344"/>
                      <a:pt x="1025" y="344"/>
                      <a:pt x="1025" y="344"/>
                    </a:cubicBezTo>
                    <a:cubicBezTo>
                      <a:pt x="1033" y="346"/>
                      <a:pt x="1033" y="346"/>
                      <a:pt x="1033" y="346"/>
                    </a:cubicBezTo>
                    <a:cubicBezTo>
                      <a:pt x="1042" y="347"/>
                      <a:pt x="1042" y="347"/>
                      <a:pt x="1042" y="347"/>
                    </a:cubicBezTo>
                    <a:cubicBezTo>
                      <a:pt x="1050" y="349"/>
                      <a:pt x="1050" y="349"/>
                      <a:pt x="1050" y="349"/>
                    </a:cubicBezTo>
                    <a:cubicBezTo>
                      <a:pt x="1059" y="350"/>
                      <a:pt x="1059" y="350"/>
                      <a:pt x="1059" y="350"/>
                    </a:cubicBezTo>
                    <a:cubicBezTo>
                      <a:pt x="1067" y="351"/>
                      <a:pt x="1067" y="351"/>
                      <a:pt x="1067" y="351"/>
                    </a:cubicBezTo>
                    <a:cubicBezTo>
                      <a:pt x="1076" y="352"/>
                      <a:pt x="1076" y="352"/>
                      <a:pt x="1076" y="352"/>
                    </a:cubicBezTo>
                    <a:cubicBezTo>
                      <a:pt x="1084" y="353"/>
                      <a:pt x="1084" y="353"/>
                      <a:pt x="1084" y="353"/>
                    </a:cubicBezTo>
                    <a:cubicBezTo>
                      <a:pt x="1093" y="354"/>
                      <a:pt x="1093" y="354"/>
                      <a:pt x="1093" y="354"/>
                    </a:cubicBezTo>
                    <a:cubicBezTo>
                      <a:pt x="1101" y="355"/>
                      <a:pt x="1101" y="355"/>
                      <a:pt x="1101" y="355"/>
                    </a:cubicBezTo>
                    <a:cubicBezTo>
                      <a:pt x="1110" y="356"/>
                      <a:pt x="1110" y="356"/>
                      <a:pt x="1110" y="356"/>
                    </a:cubicBezTo>
                    <a:cubicBezTo>
                      <a:pt x="1118" y="356"/>
                      <a:pt x="1118" y="356"/>
                      <a:pt x="1118" y="356"/>
                    </a:cubicBezTo>
                    <a:cubicBezTo>
                      <a:pt x="1127" y="357"/>
                      <a:pt x="1127" y="357"/>
                      <a:pt x="1127" y="357"/>
                    </a:cubicBezTo>
                    <a:cubicBezTo>
                      <a:pt x="1135" y="357"/>
                      <a:pt x="1135" y="357"/>
                      <a:pt x="1135" y="357"/>
                    </a:cubicBezTo>
                    <a:cubicBezTo>
                      <a:pt x="1144" y="357"/>
                      <a:pt x="1144" y="357"/>
                      <a:pt x="1144" y="357"/>
                    </a:cubicBezTo>
                    <a:cubicBezTo>
                      <a:pt x="1152" y="357"/>
                      <a:pt x="1152" y="357"/>
                      <a:pt x="1152" y="357"/>
                    </a:cubicBezTo>
                    <a:cubicBezTo>
                      <a:pt x="1161" y="357"/>
                      <a:pt x="1161" y="357"/>
                      <a:pt x="1161" y="357"/>
                    </a:cubicBezTo>
                    <a:cubicBezTo>
                      <a:pt x="1169" y="357"/>
                      <a:pt x="1169" y="357"/>
                      <a:pt x="1169" y="357"/>
                    </a:cubicBezTo>
                    <a:cubicBezTo>
                      <a:pt x="1178" y="357"/>
                      <a:pt x="1178" y="357"/>
                      <a:pt x="1178" y="357"/>
                    </a:cubicBezTo>
                    <a:cubicBezTo>
                      <a:pt x="1186" y="356"/>
                      <a:pt x="1186" y="356"/>
                      <a:pt x="1186" y="356"/>
                    </a:cubicBezTo>
                    <a:cubicBezTo>
                      <a:pt x="1195" y="356"/>
                      <a:pt x="1195" y="356"/>
                      <a:pt x="1195" y="356"/>
                    </a:cubicBezTo>
                    <a:cubicBezTo>
                      <a:pt x="1203" y="355"/>
                      <a:pt x="1203" y="355"/>
                      <a:pt x="1203" y="355"/>
                    </a:cubicBezTo>
                    <a:cubicBezTo>
                      <a:pt x="1212" y="355"/>
                      <a:pt x="1212" y="355"/>
                      <a:pt x="1212" y="355"/>
                    </a:cubicBezTo>
                    <a:cubicBezTo>
                      <a:pt x="1220" y="354"/>
                      <a:pt x="1220" y="354"/>
                      <a:pt x="1220" y="354"/>
                    </a:cubicBezTo>
                    <a:cubicBezTo>
                      <a:pt x="1229" y="353"/>
                      <a:pt x="1229" y="353"/>
                      <a:pt x="1229" y="353"/>
                    </a:cubicBezTo>
                    <a:cubicBezTo>
                      <a:pt x="1237" y="352"/>
                      <a:pt x="1237" y="352"/>
                      <a:pt x="1237" y="352"/>
                    </a:cubicBezTo>
                    <a:cubicBezTo>
                      <a:pt x="1246" y="351"/>
                      <a:pt x="1246" y="351"/>
                      <a:pt x="1246" y="351"/>
                    </a:cubicBezTo>
                    <a:cubicBezTo>
                      <a:pt x="1254" y="350"/>
                      <a:pt x="1254" y="350"/>
                      <a:pt x="1254" y="350"/>
                    </a:cubicBezTo>
                    <a:cubicBezTo>
                      <a:pt x="1263" y="348"/>
                      <a:pt x="1263" y="348"/>
                      <a:pt x="1263" y="348"/>
                    </a:cubicBezTo>
                    <a:cubicBezTo>
                      <a:pt x="1271" y="347"/>
                      <a:pt x="1271" y="347"/>
                      <a:pt x="1271" y="347"/>
                    </a:cubicBezTo>
                    <a:cubicBezTo>
                      <a:pt x="1280" y="346"/>
                      <a:pt x="1280" y="346"/>
                      <a:pt x="1280" y="346"/>
                    </a:cubicBezTo>
                    <a:cubicBezTo>
                      <a:pt x="1289" y="344"/>
                      <a:pt x="1289" y="344"/>
                      <a:pt x="1289" y="344"/>
                    </a:cubicBezTo>
                    <a:cubicBezTo>
                      <a:pt x="1297" y="343"/>
                      <a:pt x="1297" y="343"/>
                      <a:pt x="1297" y="343"/>
                    </a:cubicBezTo>
                    <a:cubicBezTo>
                      <a:pt x="1306" y="341"/>
                      <a:pt x="1306" y="341"/>
                      <a:pt x="1306" y="341"/>
                    </a:cubicBezTo>
                    <a:cubicBezTo>
                      <a:pt x="1314" y="339"/>
                      <a:pt x="1314" y="339"/>
                      <a:pt x="1314" y="339"/>
                    </a:cubicBezTo>
                    <a:cubicBezTo>
                      <a:pt x="1323" y="337"/>
                      <a:pt x="1323" y="337"/>
                      <a:pt x="1323" y="337"/>
                    </a:cubicBezTo>
                    <a:cubicBezTo>
                      <a:pt x="1331" y="336"/>
                      <a:pt x="1331" y="336"/>
                      <a:pt x="1331" y="336"/>
                    </a:cubicBezTo>
                    <a:cubicBezTo>
                      <a:pt x="1340" y="334"/>
                      <a:pt x="1340" y="334"/>
                      <a:pt x="1340" y="334"/>
                    </a:cubicBezTo>
                    <a:cubicBezTo>
                      <a:pt x="1348" y="332"/>
                      <a:pt x="1348" y="332"/>
                      <a:pt x="1348" y="332"/>
                    </a:cubicBezTo>
                    <a:cubicBezTo>
                      <a:pt x="1357" y="330"/>
                      <a:pt x="1357" y="330"/>
                      <a:pt x="1357" y="330"/>
                    </a:cubicBezTo>
                    <a:cubicBezTo>
                      <a:pt x="1365" y="327"/>
                      <a:pt x="1365" y="327"/>
                      <a:pt x="1365" y="327"/>
                    </a:cubicBezTo>
                    <a:cubicBezTo>
                      <a:pt x="1374" y="325"/>
                      <a:pt x="1374" y="325"/>
                      <a:pt x="1374" y="325"/>
                    </a:cubicBezTo>
                    <a:cubicBezTo>
                      <a:pt x="1382" y="323"/>
                      <a:pt x="1382" y="323"/>
                      <a:pt x="1382" y="323"/>
                    </a:cubicBezTo>
                    <a:cubicBezTo>
                      <a:pt x="1391" y="321"/>
                      <a:pt x="1391" y="321"/>
                      <a:pt x="1391" y="321"/>
                    </a:cubicBezTo>
                    <a:cubicBezTo>
                      <a:pt x="1399" y="318"/>
                      <a:pt x="1399" y="318"/>
                      <a:pt x="1399" y="318"/>
                    </a:cubicBezTo>
                    <a:cubicBezTo>
                      <a:pt x="1408" y="316"/>
                      <a:pt x="1408" y="316"/>
                      <a:pt x="1408" y="316"/>
                    </a:cubicBezTo>
                    <a:cubicBezTo>
                      <a:pt x="1416" y="313"/>
                      <a:pt x="1416" y="313"/>
                      <a:pt x="1416" y="313"/>
                    </a:cubicBezTo>
                    <a:cubicBezTo>
                      <a:pt x="1425" y="311"/>
                      <a:pt x="1425" y="311"/>
                      <a:pt x="1425" y="311"/>
                    </a:cubicBezTo>
                    <a:cubicBezTo>
                      <a:pt x="1433" y="308"/>
                      <a:pt x="1433" y="308"/>
                      <a:pt x="1433" y="308"/>
                    </a:cubicBezTo>
                    <a:cubicBezTo>
                      <a:pt x="1442" y="306"/>
                      <a:pt x="1442" y="306"/>
                      <a:pt x="1442" y="306"/>
                    </a:cubicBezTo>
                    <a:cubicBezTo>
                      <a:pt x="1450" y="303"/>
                      <a:pt x="1450" y="303"/>
                      <a:pt x="1450" y="303"/>
                    </a:cubicBezTo>
                    <a:cubicBezTo>
                      <a:pt x="1459" y="301"/>
                      <a:pt x="1459" y="301"/>
                      <a:pt x="1459" y="301"/>
                    </a:cubicBezTo>
                    <a:cubicBezTo>
                      <a:pt x="1467" y="298"/>
                      <a:pt x="1467" y="298"/>
                      <a:pt x="1467" y="298"/>
                    </a:cubicBezTo>
                    <a:cubicBezTo>
                      <a:pt x="1476" y="295"/>
                      <a:pt x="1476" y="295"/>
                      <a:pt x="1476" y="295"/>
                    </a:cubicBezTo>
                    <a:cubicBezTo>
                      <a:pt x="1484" y="293"/>
                      <a:pt x="1484" y="293"/>
                      <a:pt x="1484" y="293"/>
                    </a:cubicBezTo>
                    <a:cubicBezTo>
                      <a:pt x="1493" y="290"/>
                      <a:pt x="1493" y="290"/>
                      <a:pt x="1493" y="290"/>
                    </a:cubicBezTo>
                    <a:cubicBezTo>
                      <a:pt x="1501" y="287"/>
                      <a:pt x="1501" y="287"/>
                      <a:pt x="1501" y="287"/>
                    </a:cubicBezTo>
                    <a:cubicBezTo>
                      <a:pt x="1510" y="284"/>
                      <a:pt x="1510" y="284"/>
                      <a:pt x="1510" y="284"/>
                    </a:cubicBezTo>
                    <a:cubicBezTo>
                      <a:pt x="1518" y="282"/>
                      <a:pt x="1518" y="282"/>
                      <a:pt x="1518" y="282"/>
                    </a:cubicBezTo>
                    <a:cubicBezTo>
                      <a:pt x="1527" y="279"/>
                      <a:pt x="1527" y="279"/>
                      <a:pt x="1527" y="279"/>
                    </a:cubicBezTo>
                    <a:cubicBezTo>
                      <a:pt x="1535" y="276"/>
                      <a:pt x="1535" y="276"/>
                      <a:pt x="1535" y="276"/>
                    </a:cubicBezTo>
                    <a:cubicBezTo>
                      <a:pt x="1544" y="273"/>
                      <a:pt x="1544" y="273"/>
                      <a:pt x="1544" y="273"/>
                    </a:cubicBezTo>
                    <a:cubicBezTo>
                      <a:pt x="1552" y="270"/>
                      <a:pt x="1552" y="270"/>
                      <a:pt x="1552" y="270"/>
                    </a:cubicBezTo>
                    <a:cubicBezTo>
                      <a:pt x="1561" y="268"/>
                      <a:pt x="1561" y="268"/>
                      <a:pt x="1561" y="268"/>
                    </a:cubicBezTo>
                    <a:cubicBezTo>
                      <a:pt x="1569" y="265"/>
                      <a:pt x="1569" y="265"/>
                      <a:pt x="1569" y="265"/>
                    </a:cubicBezTo>
                    <a:cubicBezTo>
                      <a:pt x="1578" y="262"/>
                      <a:pt x="1578" y="262"/>
                      <a:pt x="1578" y="262"/>
                    </a:cubicBezTo>
                    <a:cubicBezTo>
                      <a:pt x="1586" y="259"/>
                      <a:pt x="1586" y="259"/>
                      <a:pt x="1586" y="259"/>
                    </a:cubicBezTo>
                    <a:cubicBezTo>
                      <a:pt x="1595" y="257"/>
                      <a:pt x="1595" y="257"/>
                      <a:pt x="1595" y="257"/>
                    </a:cubicBezTo>
                    <a:cubicBezTo>
                      <a:pt x="1603" y="254"/>
                      <a:pt x="1603" y="254"/>
                      <a:pt x="1603" y="254"/>
                    </a:cubicBezTo>
                    <a:cubicBezTo>
                      <a:pt x="1612" y="251"/>
                      <a:pt x="1612" y="251"/>
                      <a:pt x="1612" y="251"/>
                    </a:cubicBezTo>
                    <a:cubicBezTo>
                      <a:pt x="1620" y="248"/>
                      <a:pt x="1620" y="248"/>
                      <a:pt x="1620" y="248"/>
                    </a:cubicBezTo>
                    <a:cubicBezTo>
                      <a:pt x="1629" y="246"/>
                      <a:pt x="1629" y="246"/>
                      <a:pt x="1629" y="246"/>
                    </a:cubicBezTo>
                    <a:cubicBezTo>
                      <a:pt x="1637" y="243"/>
                      <a:pt x="1637" y="243"/>
                      <a:pt x="1637" y="243"/>
                    </a:cubicBezTo>
                    <a:cubicBezTo>
                      <a:pt x="1646" y="240"/>
                      <a:pt x="1646" y="240"/>
                      <a:pt x="1646" y="240"/>
                    </a:cubicBezTo>
                    <a:cubicBezTo>
                      <a:pt x="1654" y="238"/>
                      <a:pt x="1654" y="238"/>
                      <a:pt x="1654" y="238"/>
                    </a:cubicBezTo>
                    <a:cubicBezTo>
                      <a:pt x="1663" y="235"/>
                      <a:pt x="1663" y="235"/>
                      <a:pt x="1663" y="235"/>
                    </a:cubicBezTo>
                    <a:cubicBezTo>
                      <a:pt x="1671" y="233"/>
                      <a:pt x="1671" y="233"/>
                      <a:pt x="1671" y="233"/>
                    </a:cubicBezTo>
                    <a:cubicBezTo>
                      <a:pt x="1680" y="230"/>
                      <a:pt x="1680" y="230"/>
                      <a:pt x="1680" y="230"/>
                    </a:cubicBezTo>
                    <a:cubicBezTo>
                      <a:pt x="1688" y="227"/>
                      <a:pt x="1688" y="227"/>
                      <a:pt x="1688" y="227"/>
                    </a:cubicBezTo>
                    <a:cubicBezTo>
                      <a:pt x="1697" y="225"/>
                      <a:pt x="1697" y="225"/>
                      <a:pt x="1697" y="225"/>
                    </a:cubicBezTo>
                    <a:cubicBezTo>
                      <a:pt x="1705" y="223"/>
                      <a:pt x="1705" y="223"/>
                      <a:pt x="1705" y="223"/>
                    </a:cubicBezTo>
                    <a:cubicBezTo>
                      <a:pt x="1714" y="220"/>
                      <a:pt x="1714" y="220"/>
                      <a:pt x="1714" y="220"/>
                    </a:cubicBezTo>
                    <a:cubicBezTo>
                      <a:pt x="1722" y="218"/>
                      <a:pt x="1722" y="218"/>
                      <a:pt x="1722" y="218"/>
                    </a:cubicBezTo>
                    <a:cubicBezTo>
                      <a:pt x="1731" y="216"/>
                      <a:pt x="1731" y="216"/>
                      <a:pt x="1731" y="216"/>
                    </a:cubicBezTo>
                    <a:cubicBezTo>
                      <a:pt x="1739" y="213"/>
                      <a:pt x="1739" y="213"/>
                      <a:pt x="1739" y="213"/>
                    </a:cubicBezTo>
                    <a:cubicBezTo>
                      <a:pt x="1748" y="211"/>
                      <a:pt x="1748" y="211"/>
                      <a:pt x="1748" y="211"/>
                    </a:cubicBezTo>
                    <a:cubicBezTo>
                      <a:pt x="1756" y="209"/>
                      <a:pt x="1756" y="209"/>
                      <a:pt x="1756" y="209"/>
                    </a:cubicBezTo>
                    <a:cubicBezTo>
                      <a:pt x="1765" y="207"/>
                      <a:pt x="1765" y="207"/>
                      <a:pt x="1765" y="207"/>
                    </a:cubicBezTo>
                    <a:cubicBezTo>
                      <a:pt x="1773" y="205"/>
                      <a:pt x="1773" y="205"/>
                      <a:pt x="1773" y="205"/>
                    </a:cubicBezTo>
                    <a:cubicBezTo>
                      <a:pt x="1782" y="203"/>
                      <a:pt x="1782" y="203"/>
                      <a:pt x="1782" y="203"/>
                    </a:cubicBezTo>
                    <a:cubicBezTo>
                      <a:pt x="1790" y="201"/>
                      <a:pt x="1790" y="201"/>
                      <a:pt x="1790" y="201"/>
                    </a:cubicBezTo>
                    <a:cubicBezTo>
                      <a:pt x="1799" y="199"/>
                      <a:pt x="1799" y="199"/>
                      <a:pt x="1799" y="199"/>
                    </a:cubicBezTo>
                    <a:cubicBezTo>
                      <a:pt x="1807" y="197"/>
                      <a:pt x="1807" y="197"/>
                      <a:pt x="1807" y="197"/>
                    </a:cubicBezTo>
                    <a:cubicBezTo>
                      <a:pt x="1816" y="195"/>
                      <a:pt x="1816" y="195"/>
                      <a:pt x="1816" y="195"/>
                    </a:cubicBezTo>
                    <a:cubicBezTo>
                      <a:pt x="1824" y="193"/>
                      <a:pt x="1824" y="193"/>
                      <a:pt x="1824" y="193"/>
                    </a:cubicBezTo>
                    <a:cubicBezTo>
                      <a:pt x="1833" y="192"/>
                      <a:pt x="1833" y="192"/>
                      <a:pt x="1833" y="192"/>
                    </a:cubicBezTo>
                    <a:cubicBezTo>
                      <a:pt x="1841" y="190"/>
                      <a:pt x="1841" y="190"/>
                      <a:pt x="1841" y="190"/>
                    </a:cubicBezTo>
                    <a:cubicBezTo>
                      <a:pt x="1850" y="188"/>
                      <a:pt x="1850" y="188"/>
                      <a:pt x="1850" y="188"/>
                    </a:cubicBezTo>
                    <a:cubicBezTo>
                      <a:pt x="1858" y="187"/>
                      <a:pt x="1858" y="187"/>
                      <a:pt x="1858" y="187"/>
                    </a:cubicBezTo>
                    <a:cubicBezTo>
                      <a:pt x="1867" y="185"/>
                      <a:pt x="1867" y="185"/>
                      <a:pt x="1867" y="185"/>
                    </a:cubicBezTo>
                    <a:cubicBezTo>
                      <a:pt x="1875" y="184"/>
                      <a:pt x="1875" y="184"/>
                      <a:pt x="1875" y="184"/>
                    </a:cubicBezTo>
                    <a:cubicBezTo>
                      <a:pt x="1884" y="183"/>
                      <a:pt x="1884" y="183"/>
                      <a:pt x="1884" y="183"/>
                    </a:cubicBezTo>
                    <a:cubicBezTo>
                      <a:pt x="1892" y="181"/>
                      <a:pt x="1892" y="181"/>
                      <a:pt x="1892" y="181"/>
                    </a:cubicBezTo>
                    <a:cubicBezTo>
                      <a:pt x="1901" y="180"/>
                      <a:pt x="1901" y="180"/>
                      <a:pt x="1901" y="180"/>
                    </a:cubicBezTo>
                    <a:cubicBezTo>
                      <a:pt x="1909" y="179"/>
                      <a:pt x="1909" y="179"/>
                      <a:pt x="1909" y="179"/>
                    </a:cubicBezTo>
                    <a:cubicBezTo>
                      <a:pt x="1918" y="178"/>
                      <a:pt x="1918" y="178"/>
                      <a:pt x="1918" y="178"/>
                    </a:cubicBezTo>
                    <a:cubicBezTo>
                      <a:pt x="1926" y="177"/>
                      <a:pt x="1926" y="177"/>
                      <a:pt x="1926" y="177"/>
                    </a:cubicBezTo>
                    <a:cubicBezTo>
                      <a:pt x="1935" y="176"/>
                      <a:pt x="1935" y="176"/>
                      <a:pt x="1935" y="176"/>
                    </a:cubicBezTo>
                    <a:cubicBezTo>
                      <a:pt x="1943" y="175"/>
                      <a:pt x="1943" y="175"/>
                      <a:pt x="1943" y="175"/>
                    </a:cubicBezTo>
                    <a:cubicBezTo>
                      <a:pt x="1952" y="174"/>
                      <a:pt x="1952" y="174"/>
                      <a:pt x="1952" y="174"/>
                    </a:cubicBezTo>
                    <a:cubicBezTo>
                      <a:pt x="1960" y="174"/>
                      <a:pt x="1960" y="174"/>
                      <a:pt x="1960" y="174"/>
                    </a:cubicBezTo>
                    <a:cubicBezTo>
                      <a:pt x="1969" y="173"/>
                      <a:pt x="1969" y="173"/>
                      <a:pt x="1969" y="173"/>
                    </a:cubicBezTo>
                    <a:cubicBezTo>
                      <a:pt x="1977" y="172"/>
                      <a:pt x="1977" y="172"/>
                      <a:pt x="1977" y="172"/>
                    </a:cubicBezTo>
                    <a:cubicBezTo>
                      <a:pt x="1986" y="172"/>
                      <a:pt x="1986" y="172"/>
                      <a:pt x="1986" y="172"/>
                    </a:cubicBezTo>
                    <a:cubicBezTo>
                      <a:pt x="1994" y="171"/>
                      <a:pt x="1994" y="171"/>
                      <a:pt x="1994" y="171"/>
                    </a:cubicBezTo>
                    <a:cubicBezTo>
                      <a:pt x="2003" y="171"/>
                      <a:pt x="2003" y="171"/>
                      <a:pt x="2003" y="171"/>
                    </a:cubicBezTo>
                    <a:cubicBezTo>
                      <a:pt x="2011" y="170"/>
                      <a:pt x="2011" y="170"/>
                      <a:pt x="2011" y="170"/>
                    </a:cubicBezTo>
                    <a:cubicBezTo>
                      <a:pt x="2020" y="170"/>
                      <a:pt x="2020" y="170"/>
                      <a:pt x="2020" y="170"/>
                    </a:cubicBezTo>
                    <a:cubicBezTo>
                      <a:pt x="2028" y="170"/>
                      <a:pt x="2028" y="170"/>
                      <a:pt x="2028" y="170"/>
                    </a:cubicBezTo>
                    <a:cubicBezTo>
                      <a:pt x="2037" y="169"/>
                      <a:pt x="2037" y="169"/>
                      <a:pt x="2037" y="169"/>
                    </a:cubicBezTo>
                    <a:cubicBezTo>
                      <a:pt x="2045" y="169"/>
                      <a:pt x="2045" y="169"/>
                      <a:pt x="2045" y="169"/>
                    </a:cubicBezTo>
                    <a:cubicBezTo>
                      <a:pt x="2054" y="169"/>
                      <a:pt x="2054" y="169"/>
                      <a:pt x="2054" y="169"/>
                    </a:cubicBezTo>
                    <a:cubicBezTo>
                      <a:pt x="2062" y="169"/>
                      <a:pt x="2062" y="169"/>
                      <a:pt x="2062" y="169"/>
                    </a:cubicBezTo>
                    <a:cubicBezTo>
                      <a:pt x="2071" y="169"/>
                      <a:pt x="2071" y="169"/>
                      <a:pt x="2071" y="169"/>
                    </a:cubicBezTo>
                    <a:cubicBezTo>
                      <a:pt x="2079" y="169"/>
                      <a:pt x="2079" y="169"/>
                      <a:pt x="2079" y="169"/>
                    </a:cubicBezTo>
                    <a:cubicBezTo>
                      <a:pt x="2088" y="169"/>
                      <a:pt x="2088" y="169"/>
                      <a:pt x="2088" y="169"/>
                    </a:cubicBezTo>
                    <a:cubicBezTo>
                      <a:pt x="2096" y="170"/>
                      <a:pt x="2096" y="170"/>
                      <a:pt x="2096" y="170"/>
                    </a:cubicBezTo>
                    <a:cubicBezTo>
                      <a:pt x="2105" y="170"/>
                      <a:pt x="2105" y="170"/>
                      <a:pt x="2105" y="170"/>
                    </a:cubicBezTo>
                    <a:cubicBezTo>
                      <a:pt x="2113" y="170"/>
                      <a:pt x="2113" y="170"/>
                      <a:pt x="2113" y="170"/>
                    </a:cubicBezTo>
                    <a:cubicBezTo>
                      <a:pt x="2122" y="171"/>
                      <a:pt x="2122" y="171"/>
                      <a:pt x="2122" y="171"/>
                    </a:cubicBezTo>
                    <a:cubicBezTo>
                      <a:pt x="2131" y="171"/>
                      <a:pt x="2131" y="171"/>
                      <a:pt x="2131" y="171"/>
                    </a:cubicBezTo>
                    <a:cubicBezTo>
                      <a:pt x="2139" y="171"/>
                      <a:pt x="2139" y="171"/>
                      <a:pt x="2139" y="171"/>
                    </a:cubicBezTo>
                    <a:cubicBezTo>
                      <a:pt x="2148" y="172"/>
                      <a:pt x="2148" y="172"/>
                      <a:pt x="2148" y="172"/>
                    </a:cubicBezTo>
                    <a:cubicBezTo>
                      <a:pt x="2156" y="173"/>
                      <a:pt x="2156" y="173"/>
                      <a:pt x="2156" y="173"/>
                    </a:cubicBezTo>
                    <a:cubicBezTo>
                      <a:pt x="2165" y="173"/>
                      <a:pt x="2165" y="173"/>
                      <a:pt x="2165" y="173"/>
                    </a:cubicBezTo>
                    <a:cubicBezTo>
                      <a:pt x="2173" y="174"/>
                      <a:pt x="2173" y="174"/>
                      <a:pt x="2173" y="174"/>
                    </a:cubicBezTo>
                    <a:cubicBezTo>
                      <a:pt x="2182" y="174"/>
                      <a:pt x="2182" y="174"/>
                      <a:pt x="2182" y="174"/>
                    </a:cubicBezTo>
                    <a:cubicBezTo>
                      <a:pt x="2190" y="175"/>
                      <a:pt x="2190" y="175"/>
                      <a:pt x="2190" y="175"/>
                    </a:cubicBezTo>
                    <a:cubicBezTo>
                      <a:pt x="2199" y="176"/>
                      <a:pt x="2199" y="176"/>
                      <a:pt x="2199" y="176"/>
                    </a:cubicBezTo>
                    <a:cubicBezTo>
                      <a:pt x="2207" y="177"/>
                      <a:pt x="2207" y="177"/>
                      <a:pt x="2207" y="177"/>
                    </a:cubicBezTo>
                    <a:cubicBezTo>
                      <a:pt x="2216" y="178"/>
                      <a:pt x="2216" y="178"/>
                      <a:pt x="2216" y="178"/>
                    </a:cubicBezTo>
                    <a:cubicBezTo>
                      <a:pt x="2224" y="179"/>
                      <a:pt x="2224" y="179"/>
                      <a:pt x="2224" y="179"/>
                    </a:cubicBezTo>
                    <a:cubicBezTo>
                      <a:pt x="2233" y="180"/>
                      <a:pt x="2233" y="180"/>
                      <a:pt x="2233" y="180"/>
                    </a:cubicBezTo>
                    <a:cubicBezTo>
                      <a:pt x="2241" y="181"/>
                      <a:pt x="2241" y="181"/>
                      <a:pt x="2241" y="181"/>
                    </a:cubicBezTo>
                    <a:cubicBezTo>
                      <a:pt x="2250" y="182"/>
                      <a:pt x="2250" y="182"/>
                      <a:pt x="2250" y="182"/>
                    </a:cubicBezTo>
                    <a:cubicBezTo>
                      <a:pt x="2258" y="183"/>
                      <a:pt x="2258" y="183"/>
                      <a:pt x="2258" y="183"/>
                    </a:cubicBezTo>
                    <a:cubicBezTo>
                      <a:pt x="2267" y="184"/>
                      <a:pt x="2267" y="184"/>
                      <a:pt x="2267" y="184"/>
                    </a:cubicBezTo>
                    <a:cubicBezTo>
                      <a:pt x="2275" y="185"/>
                      <a:pt x="2275" y="185"/>
                      <a:pt x="2275" y="185"/>
                    </a:cubicBezTo>
                    <a:cubicBezTo>
                      <a:pt x="2284" y="186"/>
                      <a:pt x="2284" y="186"/>
                      <a:pt x="2284" y="186"/>
                    </a:cubicBezTo>
                    <a:cubicBezTo>
                      <a:pt x="2292" y="187"/>
                      <a:pt x="2292" y="187"/>
                      <a:pt x="2292" y="187"/>
                    </a:cubicBezTo>
                    <a:cubicBezTo>
                      <a:pt x="2301" y="189"/>
                      <a:pt x="2301" y="189"/>
                      <a:pt x="2301" y="189"/>
                    </a:cubicBezTo>
                    <a:cubicBezTo>
                      <a:pt x="2309" y="190"/>
                      <a:pt x="2309" y="190"/>
                      <a:pt x="2309" y="190"/>
                    </a:cubicBezTo>
                    <a:cubicBezTo>
                      <a:pt x="2318" y="191"/>
                      <a:pt x="2318" y="191"/>
                      <a:pt x="2318" y="191"/>
                    </a:cubicBezTo>
                    <a:cubicBezTo>
                      <a:pt x="2326" y="192"/>
                      <a:pt x="2326" y="192"/>
                      <a:pt x="2326" y="192"/>
                    </a:cubicBezTo>
                    <a:cubicBezTo>
                      <a:pt x="2335" y="194"/>
                      <a:pt x="2335" y="194"/>
                      <a:pt x="2335" y="194"/>
                    </a:cubicBezTo>
                    <a:cubicBezTo>
                      <a:pt x="2343" y="195"/>
                      <a:pt x="2343" y="195"/>
                      <a:pt x="2343" y="195"/>
                    </a:cubicBezTo>
                    <a:cubicBezTo>
                      <a:pt x="2352" y="196"/>
                      <a:pt x="2352" y="196"/>
                      <a:pt x="2352" y="196"/>
                    </a:cubicBezTo>
                    <a:cubicBezTo>
                      <a:pt x="2360" y="198"/>
                      <a:pt x="2360" y="198"/>
                      <a:pt x="2360" y="198"/>
                    </a:cubicBezTo>
                    <a:cubicBezTo>
                      <a:pt x="2369" y="199"/>
                      <a:pt x="2369" y="199"/>
                      <a:pt x="2369" y="199"/>
                    </a:cubicBezTo>
                    <a:cubicBezTo>
                      <a:pt x="2377" y="200"/>
                      <a:pt x="2377" y="200"/>
                      <a:pt x="2377" y="200"/>
                    </a:cubicBezTo>
                    <a:cubicBezTo>
                      <a:pt x="2386" y="202"/>
                      <a:pt x="2386" y="202"/>
                      <a:pt x="2386" y="202"/>
                    </a:cubicBezTo>
                    <a:cubicBezTo>
                      <a:pt x="2394" y="203"/>
                      <a:pt x="2394" y="203"/>
                      <a:pt x="2394" y="203"/>
                    </a:cubicBezTo>
                    <a:cubicBezTo>
                      <a:pt x="2403" y="205"/>
                      <a:pt x="2403" y="205"/>
                      <a:pt x="2403" y="205"/>
                    </a:cubicBezTo>
                    <a:cubicBezTo>
                      <a:pt x="2411" y="206"/>
                      <a:pt x="2411" y="206"/>
                      <a:pt x="2411" y="206"/>
                    </a:cubicBezTo>
                    <a:cubicBezTo>
                      <a:pt x="2420" y="208"/>
                      <a:pt x="2420" y="208"/>
                      <a:pt x="2420" y="208"/>
                    </a:cubicBezTo>
                    <a:cubicBezTo>
                      <a:pt x="2428" y="209"/>
                      <a:pt x="2428" y="209"/>
                      <a:pt x="2428" y="209"/>
                    </a:cubicBezTo>
                    <a:cubicBezTo>
                      <a:pt x="2437" y="211"/>
                      <a:pt x="2437" y="211"/>
                      <a:pt x="2437" y="211"/>
                    </a:cubicBezTo>
                    <a:cubicBezTo>
                      <a:pt x="2445" y="212"/>
                      <a:pt x="2445" y="212"/>
                      <a:pt x="2445" y="212"/>
                    </a:cubicBezTo>
                    <a:cubicBezTo>
                      <a:pt x="2454" y="214"/>
                      <a:pt x="2454" y="214"/>
                      <a:pt x="2454" y="214"/>
                    </a:cubicBezTo>
                    <a:cubicBezTo>
                      <a:pt x="2462" y="215"/>
                      <a:pt x="2462" y="215"/>
                      <a:pt x="2462" y="215"/>
                    </a:cubicBezTo>
                    <a:cubicBezTo>
                      <a:pt x="2471" y="216"/>
                      <a:pt x="2471" y="216"/>
                      <a:pt x="2471" y="216"/>
                    </a:cubicBezTo>
                    <a:cubicBezTo>
                      <a:pt x="2479" y="218"/>
                      <a:pt x="2479" y="218"/>
                      <a:pt x="2479" y="218"/>
                    </a:cubicBezTo>
                    <a:cubicBezTo>
                      <a:pt x="2488" y="219"/>
                      <a:pt x="2488" y="219"/>
                      <a:pt x="2488" y="219"/>
                    </a:cubicBezTo>
                    <a:cubicBezTo>
                      <a:pt x="2496" y="221"/>
                      <a:pt x="2496" y="221"/>
                      <a:pt x="2496" y="221"/>
                    </a:cubicBezTo>
                    <a:cubicBezTo>
                      <a:pt x="2505" y="222"/>
                      <a:pt x="2505" y="222"/>
                      <a:pt x="2505" y="222"/>
                    </a:cubicBezTo>
                    <a:cubicBezTo>
                      <a:pt x="2513" y="224"/>
                      <a:pt x="2513" y="224"/>
                      <a:pt x="2513" y="224"/>
                    </a:cubicBezTo>
                    <a:cubicBezTo>
                      <a:pt x="2522" y="225"/>
                      <a:pt x="2522" y="225"/>
                      <a:pt x="2522" y="225"/>
                    </a:cubicBezTo>
                    <a:cubicBezTo>
                      <a:pt x="2530" y="227"/>
                      <a:pt x="2530" y="227"/>
                      <a:pt x="2530" y="227"/>
                    </a:cubicBezTo>
                    <a:cubicBezTo>
                      <a:pt x="2539" y="228"/>
                      <a:pt x="2539" y="228"/>
                      <a:pt x="2539" y="228"/>
                    </a:cubicBezTo>
                    <a:cubicBezTo>
                      <a:pt x="2547" y="229"/>
                      <a:pt x="2547" y="229"/>
                      <a:pt x="2547" y="229"/>
                    </a:cubicBezTo>
                    <a:cubicBezTo>
                      <a:pt x="2556" y="231"/>
                      <a:pt x="2556" y="231"/>
                      <a:pt x="2556" y="231"/>
                    </a:cubicBezTo>
                    <a:cubicBezTo>
                      <a:pt x="2564" y="232"/>
                      <a:pt x="2564" y="232"/>
                      <a:pt x="2564" y="232"/>
                    </a:cubicBezTo>
                    <a:cubicBezTo>
                      <a:pt x="2573" y="234"/>
                      <a:pt x="2573" y="234"/>
                      <a:pt x="2573" y="234"/>
                    </a:cubicBezTo>
                    <a:cubicBezTo>
                      <a:pt x="2581" y="235"/>
                      <a:pt x="2581" y="235"/>
                      <a:pt x="2581" y="235"/>
                    </a:cubicBezTo>
                    <a:cubicBezTo>
                      <a:pt x="2590" y="236"/>
                      <a:pt x="2590" y="236"/>
                      <a:pt x="2590" y="236"/>
                    </a:cubicBezTo>
                    <a:cubicBezTo>
                      <a:pt x="2598" y="238"/>
                      <a:pt x="2598" y="238"/>
                      <a:pt x="2598" y="238"/>
                    </a:cubicBezTo>
                    <a:cubicBezTo>
                      <a:pt x="2607" y="239"/>
                      <a:pt x="2607" y="239"/>
                      <a:pt x="2607" y="239"/>
                    </a:cubicBezTo>
                    <a:cubicBezTo>
                      <a:pt x="2615" y="240"/>
                      <a:pt x="2615" y="240"/>
                      <a:pt x="2615" y="240"/>
                    </a:cubicBezTo>
                    <a:cubicBezTo>
                      <a:pt x="2624" y="241"/>
                      <a:pt x="2624" y="241"/>
                      <a:pt x="2624" y="241"/>
                    </a:cubicBezTo>
                    <a:cubicBezTo>
                      <a:pt x="2632" y="243"/>
                      <a:pt x="2632" y="243"/>
                      <a:pt x="2632" y="243"/>
                    </a:cubicBezTo>
                    <a:cubicBezTo>
                      <a:pt x="2641" y="244"/>
                      <a:pt x="2641" y="244"/>
                      <a:pt x="2641" y="244"/>
                    </a:cubicBezTo>
                    <a:cubicBezTo>
                      <a:pt x="2649" y="245"/>
                      <a:pt x="2649" y="245"/>
                      <a:pt x="2649" y="245"/>
                    </a:cubicBezTo>
                    <a:cubicBezTo>
                      <a:pt x="2658" y="246"/>
                      <a:pt x="2658" y="246"/>
                      <a:pt x="2658" y="246"/>
                    </a:cubicBezTo>
                    <a:cubicBezTo>
                      <a:pt x="2666" y="247"/>
                      <a:pt x="2666" y="247"/>
                      <a:pt x="2666" y="247"/>
                    </a:cubicBezTo>
                    <a:cubicBezTo>
                      <a:pt x="2675" y="248"/>
                      <a:pt x="2675" y="248"/>
                      <a:pt x="2675" y="248"/>
                    </a:cubicBezTo>
                    <a:cubicBezTo>
                      <a:pt x="2683" y="250"/>
                      <a:pt x="2683" y="250"/>
                      <a:pt x="2683" y="250"/>
                    </a:cubicBezTo>
                    <a:cubicBezTo>
                      <a:pt x="2692" y="251"/>
                      <a:pt x="2692" y="251"/>
                      <a:pt x="2692" y="251"/>
                    </a:cubicBezTo>
                    <a:cubicBezTo>
                      <a:pt x="2700" y="252"/>
                      <a:pt x="2700" y="252"/>
                      <a:pt x="2700" y="252"/>
                    </a:cubicBezTo>
                    <a:cubicBezTo>
                      <a:pt x="2709" y="253"/>
                      <a:pt x="2709" y="253"/>
                      <a:pt x="2709" y="253"/>
                    </a:cubicBezTo>
                    <a:cubicBezTo>
                      <a:pt x="2717" y="254"/>
                      <a:pt x="2717" y="254"/>
                      <a:pt x="2717" y="254"/>
                    </a:cubicBezTo>
                    <a:cubicBezTo>
                      <a:pt x="2726" y="255"/>
                      <a:pt x="2726" y="255"/>
                      <a:pt x="2726" y="255"/>
                    </a:cubicBezTo>
                    <a:cubicBezTo>
                      <a:pt x="2734" y="256"/>
                      <a:pt x="2734" y="256"/>
                      <a:pt x="2734" y="256"/>
                    </a:cubicBezTo>
                    <a:cubicBezTo>
                      <a:pt x="2743" y="256"/>
                      <a:pt x="2743" y="256"/>
                      <a:pt x="2743" y="256"/>
                    </a:cubicBezTo>
                    <a:cubicBezTo>
                      <a:pt x="2751" y="257"/>
                      <a:pt x="2751" y="257"/>
                      <a:pt x="2751" y="257"/>
                    </a:cubicBezTo>
                    <a:cubicBezTo>
                      <a:pt x="2760" y="258"/>
                      <a:pt x="2760" y="258"/>
                      <a:pt x="2760" y="258"/>
                    </a:cubicBezTo>
                    <a:cubicBezTo>
                      <a:pt x="2768" y="259"/>
                      <a:pt x="2768" y="259"/>
                      <a:pt x="2768" y="259"/>
                    </a:cubicBezTo>
                    <a:cubicBezTo>
                      <a:pt x="2777" y="260"/>
                      <a:pt x="2777" y="260"/>
                      <a:pt x="2777" y="260"/>
                    </a:cubicBezTo>
                    <a:cubicBezTo>
                      <a:pt x="2785" y="260"/>
                      <a:pt x="2785" y="260"/>
                      <a:pt x="2785" y="260"/>
                    </a:cubicBezTo>
                    <a:cubicBezTo>
                      <a:pt x="2794" y="261"/>
                      <a:pt x="2794" y="261"/>
                      <a:pt x="2794" y="261"/>
                    </a:cubicBezTo>
                    <a:cubicBezTo>
                      <a:pt x="2802" y="262"/>
                      <a:pt x="2802" y="262"/>
                      <a:pt x="2802" y="262"/>
                    </a:cubicBezTo>
                    <a:cubicBezTo>
                      <a:pt x="2811" y="262"/>
                      <a:pt x="2811" y="262"/>
                      <a:pt x="2811" y="262"/>
                    </a:cubicBezTo>
                    <a:cubicBezTo>
                      <a:pt x="2819" y="263"/>
                      <a:pt x="2819" y="263"/>
                      <a:pt x="2819" y="263"/>
                    </a:cubicBezTo>
                    <a:cubicBezTo>
                      <a:pt x="2828" y="264"/>
                      <a:pt x="2828" y="264"/>
                      <a:pt x="2828" y="264"/>
                    </a:cubicBezTo>
                    <a:cubicBezTo>
                      <a:pt x="2836" y="264"/>
                      <a:pt x="2836" y="264"/>
                      <a:pt x="2836" y="264"/>
                    </a:cubicBezTo>
                    <a:cubicBezTo>
                      <a:pt x="2845" y="265"/>
                      <a:pt x="2845" y="265"/>
                      <a:pt x="2845" y="265"/>
                    </a:cubicBezTo>
                    <a:cubicBezTo>
                      <a:pt x="2853" y="265"/>
                      <a:pt x="2853" y="265"/>
                      <a:pt x="2853" y="265"/>
                    </a:cubicBezTo>
                    <a:cubicBezTo>
                      <a:pt x="2862" y="265"/>
                      <a:pt x="2862" y="265"/>
                      <a:pt x="2862" y="265"/>
                    </a:cubicBezTo>
                    <a:cubicBezTo>
                      <a:pt x="2870" y="266"/>
                      <a:pt x="2870" y="266"/>
                      <a:pt x="2870" y="266"/>
                    </a:cubicBezTo>
                    <a:cubicBezTo>
                      <a:pt x="2879" y="266"/>
                      <a:pt x="2879" y="266"/>
                      <a:pt x="2879" y="266"/>
                    </a:cubicBezTo>
                    <a:cubicBezTo>
                      <a:pt x="2887" y="267"/>
                      <a:pt x="2887" y="267"/>
                      <a:pt x="2887" y="267"/>
                    </a:cubicBezTo>
                    <a:cubicBezTo>
                      <a:pt x="2896" y="267"/>
                      <a:pt x="2896" y="267"/>
                      <a:pt x="2896" y="267"/>
                    </a:cubicBezTo>
                    <a:cubicBezTo>
                      <a:pt x="2904" y="267"/>
                      <a:pt x="2904" y="267"/>
                      <a:pt x="2904" y="267"/>
                    </a:cubicBezTo>
                    <a:cubicBezTo>
                      <a:pt x="2913" y="267"/>
                      <a:pt x="2913" y="267"/>
                      <a:pt x="2913" y="267"/>
                    </a:cubicBezTo>
                    <a:cubicBezTo>
                      <a:pt x="2921" y="268"/>
                      <a:pt x="2921" y="268"/>
                      <a:pt x="2921" y="268"/>
                    </a:cubicBezTo>
                    <a:cubicBezTo>
                      <a:pt x="2930" y="268"/>
                      <a:pt x="2930" y="268"/>
                      <a:pt x="2930" y="268"/>
                    </a:cubicBezTo>
                    <a:cubicBezTo>
                      <a:pt x="2938" y="268"/>
                      <a:pt x="2938" y="268"/>
                      <a:pt x="2938" y="268"/>
                    </a:cubicBezTo>
                    <a:cubicBezTo>
                      <a:pt x="2947" y="268"/>
                      <a:pt x="2947" y="268"/>
                      <a:pt x="2947" y="268"/>
                    </a:cubicBezTo>
                    <a:cubicBezTo>
                      <a:pt x="2955" y="268"/>
                      <a:pt x="2955" y="268"/>
                      <a:pt x="2955" y="268"/>
                    </a:cubicBezTo>
                    <a:cubicBezTo>
                      <a:pt x="2964" y="268"/>
                      <a:pt x="2964" y="268"/>
                      <a:pt x="2964" y="268"/>
                    </a:cubicBezTo>
                    <a:cubicBezTo>
                      <a:pt x="2972" y="268"/>
                      <a:pt x="2972" y="268"/>
                      <a:pt x="2972" y="268"/>
                    </a:cubicBezTo>
                    <a:cubicBezTo>
                      <a:pt x="2981" y="268"/>
                      <a:pt x="2981" y="268"/>
                      <a:pt x="2981" y="268"/>
                    </a:cubicBezTo>
                    <a:cubicBezTo>
                      <a:pt x="2990" y="268"/>
                      <a:pt x="2990" y="268"/>
                      <a:pt x="2990" y="268"/>
                    </a:cubicBezTo>
                    <a:cubicBezTo>
                      <a:pt x="2998" y="268"/>
                      <a:pt x="2998" y="268"/>
                      <a:pt x="2998" y="268"/>
                    </a:cubicBezTo>
                    <a:cubicBezTo>
                      <a:pt x="3007" y="268"/>
                      <a:pt x="3007" y="268"/>
                      <a:pt x="3007" y="268"/>
                    </a:cubicBezTo>
                    <a:cubicBezTo>
                      <a:pt x="3015" y="268"/>
                      <a:pt x="3015" y="268"/>
                      <a:pt x="3015" y="268"/>
                    </a:cubicBezTo>
                    <a:cubicBezTo>
                      <a:pt x="3024" y="268"/>
                      <a:pt x="3024" y="268"/>
                      <a:pt x="3024" y="268"/>
                    </a:cubicBezTo>
                    <a:cubicBezTo>
                      <a:pt x="3032" y="267"/>
                      <a:pt x="3032" y="267"/>
                      <a:pt x="3032" y="267"/>
                    </a:cubicBezTo>
                    <a:cubicBezTo>
                      <a:pt x="3041" y="267"/>
                      <a:pt x="3041" y="267"/>
                      <a:pt x="3041" y="267"/>
                    </a:cubicBezTo>
                    <a:cubicBezTo>
                      <a:pt x="3049" y="267"/>
                      <a:pt x="3049" y="267"/>
                      <a:pt x="3049" y="267"/>
                    </a:cubicBezTo>
                    <a:cubicBezTo>
                      <a:pt x="3058" y="267"/>
                      <a:pt x="3058" y="267"/>
                      <a:pt x="3058" y="267"/>
                    </a:cubicBezTo>
                    <a:cubicBezTo>
                      <a:pt x="3066" y="266"/>
                      <a:pt x="3066" y="266"/>
                      <a:pt x="3066" y="266"/>
                    </a:cubicBezTo>
                    <a:cubicBezTo>
                      <a:pt x="3075" y="266"/>
                      <a:pt x="3075" y="266"/>
                      <a:pt x="3075" y="266"/>
                    </a:cubicBezTo>
                    <a:cubicBezTo>
                      <a:pt x="3083" y="266"/>
                      <a:pt x="3083" y="266"/>
                      <a:pt x="3083" y="266"/>
                    </a:cubicBezTo>
                    <a:cubicBezTo>
                      <a:pt x="3092" y="265"/>
                      <a:pt x="3092" y="265"/>
                      <a:pt x="3092" y="265"/>
                    </a:cubicBezTo>
                    <a:cubicBezTo>
                      <a:pt x="3100" y="265"/>
                      <a:pt x="3100" y="265"/>
                      <a:pt x="3100" y="265"/>
                    </a:cubicBezTo>
                    <a:cubicBezTo>
                      <a:pt x="3109" y="264"/>
                      <a:pt x="3109" y="264"/>
                      <a:pt x="3109" y="264"/>
                    </a:cubicBezTo>
                    <a:cubicBezTo>
                      <a:pt x="3117" y="264"/>
                      <a:pt x="3117" y="264"/>
                      <a:pt x="3117" y="264"/>
                    </a:cubicBezTo>
                    <a:cubicBezTo>
                      <a:pt x="3126" y="264"/>
                      <a:pt x="3126" y="264"/>
                      <a:pt x="3126" y="264"/>
                    </a:cubicBezTo>
                    <a:cubicBezTo>
                      <a:pt x="3134" y="263"/>
                      <a:pt x="3134" y="263"/>
                      <a:pt x="3134" y="263"/>
                    </a:cubicBezTo>
                    <a:cubicBezTo>
                      <a:pt x="3143" y="263"/>
                      <a:pt x="3143" y="263"/>
                      <a:pt x="3143" y="263"/>
                    </a:cubicBezTo>
                    <a:cubicBezTo>
                      <a:pt x="3151" y="262"/>
                      <a:pt x="3151" y="262"/>
                      <a:pt x="3151" y="262"/>
                    </a:cubicBezTo>
                    <a:cubicBezTo>
                      <a:pt x="3160" y="261"/>
                      <a:pt x="3160" y="261"/>
                      <a:pt x="3160" y="261"/>
                    </a:cubicBezTo>
                    <a:cubicBezTo>
                      <a:pt x="3168" y="261"/>
                      <a:pt x="3168" y="261"/>
                      <a:pt x="3168" y="261"/>
                    </a:cubicBezTo>
                    <a:cubicBezTo>
                      <a:pt x="3177" y="260"/>
                      <a:pt x="3177" y="260"/>
                      <a:pt x="3177" y="260"/>
                    </a:cubicBezTo>
                    <a:cubicBezTo>
                      <a:pt x="3185" y="260"/>
                      <a:pt x="3185" y="260"/>
                      <a:pt x="3185" y="260"/>
                    </a:cubicBezTo>
                    <a:cubicBezTo>
                      <a:pt x="3194" y="259"/>
                      <a:pt x="3194" y="259"/>
                      <a:pt x="3194" y="259"/>
                    </a:cubicBezTo>
                    <a:cubicBezTo>
                      <a:pt x="3202" y="259"/>
                      <a:pt x="3202" y="259"/>
                      <a:pt x="3202" y="259"/>
                    </a:cubicBezTo>
                    <a:cubicBezTo>
                      <a:pt x="3211" y="258"/>
                      <a:pt x="3211" y="258"/>
                      <a:pt x="3211" y="258"/>
                    </a:cubicBezTo>
                    <a:cubicBezTo>
                      <a:pt x="3219" y="257"/>
                      <a:pt x="3219" y="257"/>
                      <a:pt x="3219" y="257"/>
                    </a:cubicBezTo>
                    <a:cubicBezTo>
                      <a:pt x="3228" y="257"/>
                      <a:pt x="3228" y="257"/>
                      <a:pt x="3228" y="257"/>
                    </a:cubicBezTo>
                    <a:cubicBezTo>
                      <a:pt x="3236" y="256"/>
                      <a:pt x="3236" y="256"/>
                      <a:pt x="3236" y="256"/>
                    </a:cubicBezTo>
                    <a:cubicBezTo>
                      <a:pt x="3245" y="255"/>
                      <a:pt x="3245" y="255"/>
                      <a:pt x="3245" y="255"/>
                    </a:cubicBezTo>
                    <a:cubicBezTo>
                      <a:pt x="3253" y="254"/>
                      <a:pt x="3253" y="254"/>
                      <a:pt x="3253" y="254"/>
                    </a:cubicBezTo>
                    <a:cubicBezTo>
                      <a:pt x="3262" y="254"/>
                      <a:pt x="3262" y="254"/>
                      <a:pt x="3262" y="254"/>
                    </a:cubicBezTo>
                    <a:cubicBezTo>
                      <a:pt x="3270" y="253"/>
                      <a:pt x="3270" y="253"/>
                      <a:pt x="3270" y="253"/>
                    </a:cubicBezTo>
                    <a:cubicBezTo>
                      <a:pt x="3279" y="252"/>
                      <a:pt x="3279" y="252"/>
                      <a:pt x="3279" y="252"/>
                    </a:cubicBezTo>
                    <a:cubicBezTo>
                      <a:pt x="3287" y="252"/>
                      <a:pt x="3287" y="252"/>
                      <a:pt x="3287" y="252"/>
                    </a:cubicBezTo>
                    <a:cubicBezTo>
                      <a:pt x="3296" y="251"/>
                      <a:pt x="3296" y="251"/>
                      <a:pt x="3296" y="251"/>
                    </a:cubicBezTo>
                    <a:cubicBezTo>
                      <a:pt x="3304" y="250"/>
                      <a:pt x="3304" y="250"/>
                      <a:pt x="3304" y="250"/>
                    </a:cubicBezTo>
                    <a:cubicBezTo>
                      <a:pt x="3313" y="249"/>
                      <a:pt x="3313" y="249"/>
                      <a:pt x="3313" y="249"/>
                    </a:cubicBezTo>
                    <a:cubicBezTo>
                      <a:pt x="3321" y="249"/>
                      <a:pt x="3321" y="249"/>
                      <a:pt x="3321" y="249"/>
                    </a:cubicBezTo>
                    <a:cubicBezTo>
                      <a:pt x="3330" y="248"/>
                      <a:pt x="3330" y="248"/>
                      <a:pt x="3330" y="248"/>
                    </a:cubicBezTo>
                    <a:cubicBezTo>
                      <a:pt x="3338" y="247"/>
                      <a:pt x="3338" y="247"/>
                      <a:pt x="3338" y="247"/>
                    </a:cubicBezTo>
                    <a:cubicBezTo>
                      <a:pt x="3347" y="246"/>
                      <a:pt x="3347" y="246"/>
                      <a:pt x="3347" y="246"/>
                    </a:cubicBezTo>
                    <a:cubicBezTo>
                      <a:pt x="3355" y="245"/>
                      <a:pt x="3355" y="245"/>
                      <a:pt x="3355" y="245"/>
                    </a:cubicBezTo>
                    <a:cubicBezTo>
                      <a:pt x="3364" y="245"/>
                      <a:pt x="3364" y="245"/>
                      <a:pt x="3364" y="245"/>
                    </a:cubicBezTo>
                    <a:cubicBezTo>
                      <a:pt x="3372" y="244"/>
                      <a:pt x="3372" y="244"/>
                      <a:pt x="3372" y="244"/>
                    </a:cubicBezTo>
                    <a:cubicBezTo>
                      <a:pt x="3381" y="243"/>
                      <a:pt x="3381" y="243"/>
                      <a:pt x="3381" y="243"/>
                    </a:cubicBezTo>
                    <a:cubicBezTo>
                      <a:pt x="3389" y="242"/>
                      <a:pt x="3389" y="242"/>
                      <a:pt x="3389" y="242"/>
                    </a:cubicBezTo>
                    <a:cubicBezTo>
                      <a:pt x="3398" y="242"/>
                      <a:pt x="3398" y="242"/>
                      <a:pt x="3398" y="242"/>
                    </a:cubicBezTo>
                    <a:cubicBezTo>
                      <a:pt x="3406" y="241"/>
                      <a:pt x="3406" y="241"/>
                      <a:pt x="3406" y="241"/>
                    </a:cubicBezTo>
                    <a:cubicBezTo>
                      <a:pt x="3415" y="240"/>
                      <a:pt x="3415" y="240"/>
                      <a:pt x="3415" y="240"/>
                    </a:cubicBezTo>
                    <a:cubicBezTo>
                      <a:pt x="3423" y="239"/>
                      <a:pt x="3423" y="239"/>
                      <a:pt x="3423" y="239"/>
                    </a:cubicBezTo>
                    <a:cubicBezTo>
                      <a:pt x="3432" y="239"/>
                      <a:pt x="3432" y="239"/>
                      <a:pt x="3432" y="239"/>
                    </a:cubicBezTo>
                    <a:cubicBezTo>
                      <a:pt x="3440" y="238"/>
                      <a:pt x="3440" y="238"/>
                      <a:pt x="3440" y="238"/>
                    </a:cubicBezTo>
                    <a:cubicBezTo>
                      <a:pt x="3449" y="237"/>
                      <a:pt x="3449" y="237"/>
                      <a:pt x="3449" y="237"/>
                    </a:cubicBezTo>
                    <a:cubicBezTo>
                      <a:pt x="3457" y="236"/>
                      <a:pt x="3457" y="236"/>
                      <a:pt x="3457" y="236"/>
                    </a:cubicBezTo>
                    <a:cubicBezTo>
                      <a:pt x="3466" y="236"/>
                      <a:pt x="3466" y="236"/>
                      <a:pt x="3466" y="236"/>
                    </a:cubicBezTo>
                    <a:cubicBezTo>
                      <a:pt x="3474" y="235"/>
                      <a:pt x="3474" y="235"/>
                      <a:pt x="3474" y="235"/>
                    </a:cubicBezTo>
                    <a:cubicBezTo>
                      <a:pt x="3483" y="234"/>
                      <a:pt x="3483" y="234"/>
                      <a:pt x="3483" y="234"/>
                    </a:cubicBezTo>
                    <a:cubicBezTo>
                      <a:pt x="3491" y="233"/>
                      <a:pt x="3491" y="233"/>
                      <a:pt x="3491" y="233"/>
                    </a:cubicBezTo>
                    <a:cubicBezTo>
                      <a:pt x="3500" y="233"/>
                      <a:pt x="3500" y="233"/>
                      <a:pt x="3500" y="233"/>
                    </a:cubicBezTo>
                    <a:cubicBezTo>
                      <a:pt x="3508" y="232"/>
                      <a:pt x="3508" y="232"/>
                      <a:pt x="3508" y="232"/>
                    </a:cubicBezTo>
                    <a:cubicBezTo>
                      <a:pt x="3517" y="231"/>
                      <a:pt x="3517" y="231"/>
                      <a:pt x="3517" y="231"/>
                    </a:cubicBezTo>
                    <a:cubicBezTo>
                      <a:pt x="3525" y="231"/>
                      <a:pt x="3525" y="231"/>
                      <a:pt x="3525" y="231"/>
                    </a:cubicBezTo>
                    <a:cubicBezTo>
                      <a:pt x="3534" y="230"/>
                      <a:pt x="3534" y="230"/>
                      <a:pt x="3534" y="230"/>
                    </a:cubicBezTo>
                    <a:cubicBezTo>
                      <a:pt x="3542" y="229"/>
                      <a:pt x="3542" y="229"/>
                      <a:pt x="3542" y="229"/>
                    </a:cubicBezTo>
                    <a:cubicBezTo>
                      <a:pt x="3551" y="229"/>
                      <a:pt x="3551" y="229"/>
                      <a:pt x="3551" y="229"/>
                    </a:cubicBezTo>
                    <a:cubicBezTo>
                      <a:pt x="3559" y="228"/>
                      <a:pt x="3559" y="228"/>
                      <a:pt x="3559" y="228"/>
                    </a:cubicBezTo>
                    <a:cubicBezTo>
                      <a:pt x="3568" y="227"/>
                      <a:pt x="3568" y="227"/>
                      <a:pt x="3568" y="227"/>
                    </a:cubicBezTo>
                    <a:cubicBezTo>
                      <a:pt x="3576" y="227"/>
                      <a:pt x="3576" y="227"/>
                      <a:pt x="3576" y="227"/>
                    </a:cubicBezTo>
                    <a:cubicBezTo>
                      <a:pt x="3585" y="226"/>
                      <a:pt x="3585" y="226"/>
                      <a:pt x="3585" y="226"/>
                    </a:cubicBezTo>
                    <a:cubicBezTo>
                      <a:pt x="3593" y="226"/>
                      <a:pt x="3593" y="226"/>
                      <a:pt x="3593" y="226"/>
                    </a:cubicBezTo>
                    <a:cubicBezTo>
                      <a:pt x="3602" y="225"/>
                      <a:pt x="3602" y="225"/>
                      <a:pt x="3602" y="225"/>
                    </a:cubicBezTo>
                    <a:cubicBezTo>
                      <a:pt x="3610" y="225"/>
                      <a:pt x="3610" y="225"/>
                      <a:pt x="3610" y="225"/>
                    </a:cubicBezTo>
                    <a:cubicBezTo>
                      <a:pt x="3619" y="224"/>
                      <a:pt x="3619" y="224"/>
                      <a:pt x="3619" y="224"/>
                    </a:cubicBezTo>
                    <a:cubicBezTo>
                      <a:pt x="3627" y="224"/>
                      <a:pt x="3627" y="224"/>
                      <a:pt x="3627" y="224"/>
                    </a:cubicBezTo>
                    <a:cubicBezTo>
                      <a:pt x="3636" y="223"/>
                      <a:pt x="3636" y="223"/>
                      <a:pt x="3636" y="223"/>
                    </a:cubicBezTo>
                    <a:cubicBezTo>
                      <a:pt x="3644" y="223"/>
                      <a:pt x="3644" y="223"/>
                      <a:pt x="3644" y="223"/>
                    </a:cubicBezTo>
                    <a:cubicBezTo>
                      <a:pt x="3653" y="222"/>
                      <a:pt x="3653" y="222"/>
                      <a:pt x="3653" y="222"/>
                    </a:cubicBezTo>
                    <a:cubicBezTo>
                      <a:pt x="3661" y="222"/>
                      <a:pt x="3661" y="222"/>
                      <a:pt x="3661" y="222"/>
                    </a:cubicBezTo>
                    <a:cubicBezTo>
                      <a:pt x="3670" y="221"/>
                      <a:pt x="3670" y="221"/>
                      <a:pt x="3670" y="221"/>
                    </a:cubicBezTo>
                    <a:cubicBezTo>
                      <a:pt x="3678" y="221"/>
                      <a:pt x="3678" y="221"/>
                      <a:pt x="3678" y="221"/>
                    </a:cubicBezTo>
                    <a:cubicBezTo>
                      <a:pt x="3687" y="220"/>
                      <a:pt x="3687" y="220"/>
                      <a:pt x="3687" y="220"/>
                    </a:cubicBezTo>
                    <a:cubicBezTo>
                      <a:pt x="3695" y="220"/>
                      <a:pt x="3695" y="220"/>
                      <a:pt x="3695" y="220"/>
                    </a:cubicBezTo>
                    <a:cubicBezTo>
                      <a:pt x="3704" y="220"/>
                      <a:pt x="3704" y="220"/>
                      <a:pt x="3704" y="220"/>
                    </a:cubicBezTo>
                    <a:cubicBezTo>
                      <a:pt x="3712" y="219"/>
                      <a:pt x="3712" y="219"/>
                      <a:pt x="3712" y="219"/>
                    </a:cubicBezTo>
                    <a:cubicBezTo>
                      <a:pt x="3721" y="219"/>
                      <a:pt x="3721" y="219"/>
                      <a:pt x="3721" y="219"/>
                    </a:cubicBezTo>
                    <a:cubicBezTo>
                      <a:pt x="3729" y="219"/>
                      <a:pt x="3729" y="219"/>
                      <a:pt x="3729" y="219"/>
                    </a:cubicBezTo>
                    <a:cubicBezTo>
                      <a:pt x="3738" y="218"/>
                      <a:pt x="3738" y="218"/>
                      <a:pt x="3738" y="218"/>
                    </a:cubicBezTo>
                    <a:cubicBezTo>
                      <a:pt x="3746" y="218"/>
                      <a:pt x="3746" y="218"/>
                      <a:pt x="3746" y="218"/>
                    </a:cubicBezTo>
                    <a:cubicBezTo>
                      <a:pt x="3755" y="218"/>
                      <a:pt x="3755" y="218"/>
                      <a:pt x="3755" y="218"/>
                    </a:cubicBezTo>
                    <a:cubicBezTo>
                      <a:pt x="3763" y="218"/>
                      <a:pt x="3763" y="218"/>
                      <a:pt x="3763" y="218"/>
                    </a:cubicBezTo>
                    <a:cubicBezTo>
                      <a:pt x="3772" y="217"/>
                      <a:pt x="3772" y="217"/>
                      <a:pt x="3772" y="217"/>
                    </a:cubicBezTo>
                    <a:cubicBezTo>
                      <a:pt x="3780" y="217"/>
                      <a:pt x="3780" y="217"/>
                      <a:pt x="3780" y="217"/>
                    </a:cubicBezTo>
                    <a:cubicBezTo>
                      <a:pt x="3789" y="217"/>
                      <a:pt x="3789" y="217"/>
                      <a:pt x="3789" y="217"/>
                    </a:cubicBezTo>
                    <a:cubicBezTo>
                      <a:pt x="3797" y="217"/>
                      <a:pt x="3797" y="217"/>
                      <a:pt x="3797" y="217"/>
                    </a:cubicBezTo>
                    <a:cubicBezTo>
                      <a:pt x="3806" y="217"/>
                      <a:pt x="3806" y="217"/>
                      <a:pt x="3806" y="217"/>
                    </a:cubicBezTo>
                    <a:cubicBezTo>
                      <a:pt x="3814" y="217"/>
                      <a:pt x="3814" y="217"/>
                      <a:pt x="3814" y="217"/>
                    </a:cubicBezTo>
                    <a:cubicBezTo>
                      <a:pt x="3823" y="216"/>
                      <a:pt x="3823" y="216"/>
                      <a:pt x="3823" y="216"/>
                    </a:cubicBezTo>
                    <a:cubicBezTo>
                      <a:pt x="3832" y="216"/>
                      <a:pt x="3832" y="216"/>
                      <a:pt x="3832" y="216"/>
                    </a:cubicBezTo>
                    <a:cubicBezTo>
                      <a:pt x="3840" y="216"/>
                      <a:pt x="3840" y="216"/>
                      <a:pt x="3840" y="216"/>
                    </a:cubicBezTo>
                    <a:cubicBezTo>
                      <a:pt x="3849" y="216"/>
                      <a:pt x="3849" y="216"/>
                      <a:pt x="3849" y="216"/>
                    </a:cubicBezTo>
                    <a:cubicBezTo>
                      <a:pt x="3857" y="216"/>
                      <a:pt x="3857" y="216"/>
                      <a:pt x="3857" y="216"/>
                    </a:cubicBezTo>
                    <a:cubicBezTo>
                      <a:pt x="3866" y="216"/>
                      <a:pt x="3866" y="216"/>
                      <a:pt x="3866" y="216"/>
                    </a:cubicBezTo>
                    <a:cubicBezTo>
                      <a:pt x="3874" y="216"/>
                      <a:pt x="3874" y="216"/>
                      <a:pt x="3874" y="216"/>
                    </a:cubicBezTo>
                    <a:cubicBezTo>
                      <a:pt x="3883" y="216"/>
                      <a:pt x="3883" y="216"/>
                      <a:pt x="3883" y="216"/>
                    </a:cubicBezTo>
                    <a:cubicBezTo>
                      <a:pt x="3891" y="216"/>
                      <a:pt x="3891" y="216"/>
                      <a:pt x="3891" y="216"/>
                    </a:cubicBezTo>
                    <a:cubicBezTo>
                      <a:pt x="3900" y="216"/>
                      <a:pt x="3900" y="216"/>
                      <a:pt x="3900" y="216"/>
                    </a:cubicBezTo>
                    <a:cubicBezTo>
                      <a:pt x="3908" y="216"/>
                      <a:pt x="3908" y="216"/>
                      <a:pt x="3908" y="216"/>
                    </a:cubicBezTo>
                    <a:cubicBezTo>
                      <a:pt x="3917" y="216"/>
                      <a:pt x="3917" y="216"/>
                      <a:pt x="3917" y="216"/>
                    </a:cubicBezTo>
                    <a:cubicBezTo>
                      <a:pt x="3925" y="216"/>
                      <a:pt x="3925" y="216"/>
                      <a:pt x="3925" y="216"/>
                    </a:cubicBezTo>
                    <a:cubicBezTo>
                      <a:pt x="3934" y="216"/>
                      <a:pt x="3934" y="216"/>
                      <a:pt x="3934" y="216"/>
                    </a:cubicBezTo>
                    <a:cubicBezTo>
                      <a:pt x="3942" y="216"/>
                      <a:pt x="3942" y="216"/>
                      <a:pt x="3942" y="216"/>
                    </a:cubicBezTo>
                    <a:cubicBezTo>
                      <a:pt x="3951" y="217"/>
                      <a:pt x="3951" y="217"/>
                      <a:pt x="3951" y="217"/>
                    </a:cubicBezTo>
                    <a:cubicBezTo>
                      <a:pt x="3959" y="217"/>
                      <a:pt x="3959" y="217"/>
                      <a:pt x="3959" y="217"/>
                    </a:cubicBezTo>
                    <a:cubicBezTo>
                      <a:pt x="3968" y="217"/>
                      <a:pt x="3968" y="217"/>
                      <a:pt x="3968" y="217"/>
                    </a:cubicBezTo>
                    <a:cubicBezTo>
                      <a:pt x="3976" y="217"/>
                      <a:pt x="3976" y="217"/>
                      <a:pt x="3976" y="217"/>
                    </a:cubicBezTo>
                    <a:cubicBezTo>
                      <a:pt x="3985" y="217"/>
                      <a:pt x="3985" y="217"/>
                      <a:pt x="3985" y="217"/>
                    </a:cubicBezTo>
                    <a:cubicBezTo>
                      <a:pt x="3993" y="217"/>
                      <a:pt x="3993" y="217"/>
                      <a:pt x="3993" y="217"/>
                    </a:cubicBezTo>
                    <a:cubicBezTo>
                      <a:pt x="4002" y="218"/>
                      <a:pt x="4002" y="218"/>
                      <a:pt x="4002" y="218"/>
                    </a:cubicBezTo>
                    <a:cubicBezTo>
                      <a:pt x="4010" y="218"/>
                      <a:pt x="4010" y="218"/>
                      <a:pt x="4010" y="218"/>
                    </a:cubicBezTo>
                    <a:cubicBezTo>
                      <a:pt x="4019" y="218"/>
                      <a:pt x="4019" y="218"/>
                      <a:pt x="4019" y="218"/>
                    </a:cubicBezTo>
                    <a:cubicBezTo>
                      <a:pt x="4027" y="218"/>
                      <a:pt x="4027" y="218"/>
                      <a:pt x="4027" y="218"/>
                    </a:cubicBezTo>
                    <a:cubicBezTo>
                      <a:pt x="4036" y="218"/>
                      <a:pt x="4036" y="218"/>
                      <a:pt x="4036" y="218"/>
                    </a:cubicBezTo>
                    <a:cubicBezTo>
                      <a:pt x="4044" y="219"/>
                      <a:pt x="4044" y="219"/>
                      <a:pt x="4044" y="219"/>
                    </a:cubicBezTo>
                    <a:cubicBezTo>
                      <a:pt x="4053" y="219"/>
                      <a:pt x="4053" y="219"/>
                      <a:pt x="4053" y="219"/>
                    </a:cubicBezTo>
                    <a:cubicBezTo>
                      <a:pt x="4061" y="219"/>
                      <a:pt x="4061" y="219"/>
                      <a:pt x="4061" y="219"/>
                    </a:cubicBezTo>
                    <a:cubicBezTo>
                      <a:pt x="4070" y="220"/>
                      <a:pt x="4070" y="220"/>
                      <a:pt x="4070" y="220"/>
                    </a:cubicBezTo>
                    <a:cubicBezTo>
                      <a:pt x="4078" y="220"/>
                      <a:pt x="4078" y="220"/>
                      <a:pt x="4078" y="220"/>
                    </a:cubicBezTo>
                    <a:cubicBezTo>
                      <a:pt x="4087" y="220"/>
                      <a:pt x="4087" y="220"/>
                      <a:pt x="4087" y="220"/>
                    </a:cubicBezTo>
                    <a:cubicBezTo>
                      <a:pt x="4095" y="220"/>
                      <a:pt x="4095" y="220"/>
                      <a:pt x="4095" y="220"/>
                    </a:cubicBezTo>
                    <a:cubicBezTo>
                      <a:pt x="4104" y="221"/>
                      <a:pt x="4104" y="221"/>
                      <a:pt x="4104" y="221"/>
                    </a:cubicBezTo>
                    <a:cubicBezTo>
                      <a:pt x="4112" y="221"/>
                      <a:pt x="4112" y="221"/>
                      <a:pt x="4112" y="221"/>
                    </a:cubicBezTo>
                    <a:cubicBezTo>
                      <a:pt x="4121" y="221"/>
                      <a:pt x="4121" y="221"/>
                      <a:pt x="4121" y="221"/>
                    </a:cubicBezTo>
                    <a:cubicBezTo>
                      <a:pt x="4129" y="222"/>
                      <a:pt x="4129" y="222"/>
                      <a:pt x="4129" y="222"/>
                    </a:cubicBezTo>
                    <a:cubicBezTo>
                      <a:pt x="4138" y="222"/>
                      <a:pt x="4138" y="222"/>
                      <a:pt x="4138" y="222"/>
                    </a:cubicBezTo>
                    <a:cubicBezTo>
                      <a:pt x="4146" y="223"/>
                      <a:pt x="4146" y="223"/>
                      <a:pt x="4146" y="223"/>
                    </a:cubicBezTo>
                    <a:cubicBezTo>
                      <a:pt x="4155" y="223"/>
                      <a:pt x="4155" y="223"/>
                      <a:pt x="4155" y="223"/>
                    </a:cubicBezTo>
                    <a:cubicBezTo>
                      <a:pt x="4163" y="223"/>
                      <a:pt x="4163" y="223"/>
                      <a:pt x="4163" y="223"/>
                    </a:cubicBezTo>
                    <a:cubicBezTo>
                      <a:pt x="4172" y="224"/>
                      <a:pt x="4172" y="224"/>
                      <a:pt x="4172" y="224"/>
                    </a:cubicBezTo>
                    <a:cubicBezTo>
                      <a:pt x="4180" y="224"/>
                      <a:pt x="4180" y="224"/>
                      <a:pt x="4180" y="224"/>
                    </a:cubicBezTo>
                    <a:cubicBezTo>
                      <a:pt x="4189" y="224"/>
                      <a:pt x="4189" y="224"/>
                      <a:pt x="4189" y="224"/>
                    </a:cubicBezTo>
                    <a:cubicBezTo>
                      <a:pt x="4197" y="225"/>
                      <a:pt x="4197" y="225"/>
                      <a:pt x="4197" y="225"/>
                    </a:cubicBezTo>
                    <a:cubicBezTo>
                      <a:pt x="4206" y="225"/>
                      <a:pt x="4206" y="225"/>
                      <a:pt x="4206" y="225"/>
                    </a:cubicBezTo>
                    <a:cubicBezTo>
                      <a:pt x="4214" y="226"/>
                      <a:pt x="4214" y="226"/>
                      <a:pt x="4214" y="226"/>
                    </a:cubicBezTo>
                    <a:cubicBezTo>
                      <a:pt x="4223" y="226"/>
                      <a:pt x="4223" y="226"/>
                      <a:pt x="4223" y="226"/>
                    </a:cubicBezTo>
                    <a:cubicBezTo>
                      <a:pt x="4231" y="226"/>
                      <a:pt x="4231" y="226"/>
                      <a:pt x="4231" y="226"/>
                    </a:cubicBezTo>
                    <a:cubicBezTo>
                      <a:pt x="4240" y="227"/>
                      <a:pt x="4240" y="227"/>
                      <a:pt x="4240" y="227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732" name=""/>
            <p:cNvGraphicFramePr/>
            <p:nvPr/>
          </p:nvGraphicFramePr>
          <p:xfrm>
            <a:off x="4806720" y="2760840"/>
            <a:ext cx="129960" cy="21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6720" y="2760840"/>
                      <a:ext cx="12996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4" name=""/>
            <p:cNvGraphicFramePr/>
            <p:nvPr/>
          </p:nvGraphicFramePr>
          <p:xfrm>
            <a:off x="1704960" y="2716200"/>
            <a:ext cx="150480" cy="236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04960" y="2716200"/>
                      <a:ext cx="15048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36" name=""/>
          <p:cNvGraphicFramePr/>
          <p:nvPr/>
        </p:nvGraphicFramePr>
        <p:xfrm>
          <a:off x="3124080" y="1287360"/>
          <a:ext cx="1335240" cy="39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1287360"/>
                    <a:ext cx="133524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8" name=""/>
          <p:cNvSpPr/>
          <p:nvPr/>
        </p:nvSpPr>
        <p:spPr>
          <a:xfrm flipV="1">
            <a:off x="2473200" y="1593360"/>
            <a:ext cx="60012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 flipH="1">
            <a:off x="3053520" y="15652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0" name=""/>
          <p:cNvGrpSpPr/>
          <p:nvPr/>
        </p:nvGrpSpPr>
        <p:grpSpPr>
          <a:xfrm>
            <a:off x="1188720" y="1292400"/>
            <a:ext cx="689040" cy="494640"/>
            <a:chOff x="1188720" y="1292400"/>
            <a:chExt cx="689040" cy="494640"/>
          </a:xfrm>
        </p:grpSpPr>
        <p:sp>
          <p:nvSpPr>
            <p:cNvPr id="2741" name=""/>
            <p:cNvSpPr/>
            <p:nvPr/>
          </p:nvSpPr>
          <p:spPr>
            <a:xfrm flipH="1">
              <a:off x="1207800" y="1292400"/>
              <a:ext cx="669960" cy="4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H="1">
              <a:off x="1188360" y="1731960"/>
              <a:ext cx="5580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3" name=""/>
          <p:cNvSpPr/>
          <p:nvPr/>
        </p:nvSpPr>
        <p:spPr>
          <a:xfrm>
            <a:off x="838080" y="16002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1222200" y="4140360"/>
            <a:ext cx="59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ам необхідно знайти значення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 момент часу </a:t>
            </a:r>
            <a:r>
              <a:rPr b="0" i="1" lang="en-US" sz="1600" spc="-1" strike="noStrike">
                <a:solidFill>
                  <a:srgbClr val="0000cc"/>
                </a:solidFill>
                <a:latin typeface="Times New Roman"/>
              </a:rPr>
              <a:t>t=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3714840" y="4734000"/>
            <a:ext cx="74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7" name=""/>
          <p:cNvGraphicFramePr/>
          <p:nvPr/>
        </p:nvGraphicFramePr>
        <p:xfrm>
          <a:off x="4443480" y="4694400"/>
          <a:ext cx="1800000" cy="40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43480" y="4694400"/>
                    <a:ext cx="180000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9" name=""/>
          <p:cNvSpPr/>
          <p:nvPr/>
        </p:nvSpPr>
        <p:spPr>
          <a:xfrm>
            <a:off x="846000" y="163512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830920" y="4649760"/>
            <a:ext cx="303120" cy="4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1166760" y="4597560"/>
            <a:ext cx="42840" cy="8427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968400" y="40752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"/>
          <p:cNvSpPr/>
          <p:nvPr/>
        </p:nvSpPr>
        <p:spPr>
          <a:xfrm>
            <a:off x="2347920" y="495360"/>
            <a:ext cx="49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6" name=""/>
          <p:cNvGraphicFramePr/>
          <p:nvPr/>
        </p:nvGraphicFramePr>
        <p:xfrm>
          <a:off x="3063960" y="1447920"/>
          <a:ext cx="258444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960" y="1447920"/>
                    <a:ext cx="25844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58" name=""/>
          <p:cNvGrpSpPr/>
          <p:nvPr/>
        </p:nvGrpSpPr>
        <p:grpSpPr>
          <a:xfrm>
            <a:off x="1639800" y="980640"/>
            <a:ext cx="3310200" cy="2762280"/>
            <a:chOff x="1639800" y="980640"/>
            <a:chExt cx="3310200" cy="2762280"/>
          </a:xfrm>
        </p:grpSpPr>
        <p:graphicFrame>
          <p:nvGraphicFramePr>
            <p:cNvPr id="2759" name=""/>
            <p:cNvGraphicFramePr/>
            <p:nvPr/>
          </p:nvGraphicFramePr>
          <p:xfrm>
            <a:off x="1644840" y="1071720"/>
            <a:ext cx="177840" cy="20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44840" y="1071720"/>
                      <a:ext cx="17784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61" name=""/>
            <p:cNvSpPr/>
            <p:nvPr/>
          </p:nvSpPr>
          <p:spPr>
            <a:xfrm flipV="1">
              <a:off x="1639800" y="2817720"/>
              <a:ext cx="33102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1819440" y="980640"/>
              <a:ext cx="0" cy="27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3" name=""/>
            <p:cNvGrpSpPr/>
            <p:nvPr/>
          </p:nvGrpSpPr>
          <p:grpSpPr>
            <a:xfrm>
              <a:off x="1828800" y="1374840"/>
              <a:ext cx="2695680" cy="2113560"/>
              <a:chOff x="1828800" y="1374840"/>
              <a:chExt cx="2695680" cy="2113560"/>
            </a:xfrm>
          </p:grpSpPr>
          <p:sp>
            <p:nvSpPr>
              <p:cNvPr id="2764" name=""/>
              <p:cNvSpPr/>
              <p:nvPr/>
            </p:nvSpPr>
            <p:spPr>
              <a:xfrm>
                <a:off x="1828800" y="1374840"/>
                <a:ext cx="2695680" cy="1401120"/>
              </a:xfrm>
              <a:custGeom>
                <a:avLst/>
                <a:gdLst/>
                <a:ahLst/>
                <a:rect l="l" t="t" r="r" b="b"/>
                <a:pathLst>
                  <a:path w="4244" h="270">
                    <a:moveTo>
                      <a:pt x="0" y="0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43" y="9"/>
                      <a:pt x="43" y="9"/>
                      <a:pt x="43" y="9"/>
                    </a:cubicBezTo>
                    <a:cubicBezTo>
                      <a:pt x="51" y="11"/>
                      <a:pt x="51" y="11"/>
                      <a:pt x="51" y="11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8" y="14"/>
                      <a:pt x="68" y="14"/>
                      <a:pt x="68" y="14"/>
                    </a:cubicBezTo>
                    <a:cubicBezTo>
                      <a:pt x="77" y="15"/>
                      <a:pt x="77" y="15"/>
                      <a:pt x="77" y="15"/>
                    </a:cubicBezTo>
                    <a:cubicBezTo>
                      <a:pt x="85" y="17"/>
                      <a:pt x="85" y="17"/>
                      <a:pt x="85" y="17"/>
                    </a:cubicBezTo>
                    <a:cubicBezTo>
                      <a:pt x="94" y="19"/>
                      <a:pt x="94" y="19"/>
                      <a:pt x="94" y="19"/>
                    </a:cubicBezTo>
                    <a:cubicBezTo>
                      <a:pt x="102" y="20"/>
                      <a:pt x="102" y="20"/>
                      <a:pt x="102" y="20"/>
                    </a:cubicBezTo>
                    <a:cubicBezTo>
                      <a:pt x="111" y="22"/>
                      <a:pt x="111" y="22"/>
                      <a:pt x="111" y="22"/>
                    </a:cubicBezTo>
                    <a:cubicBezTo>
                      <a:pt x="119" y="23"/>
                      <a:pt x="119" y="23"/>
                      <a:pt x="119" y="23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36" y="26"/>
                      <a:pt x="136" y="26"/>
                      <a:pt x="136" y="26"/>
                    </a:cubicBezTo>
                    <a:cubicBezTo>
                      <a:pt x="145" y="28"/>
                      <a:pt x="145" y="28"/>
                      <a:pt x="145" y="28"/>
                    </a:cubicBezTo>
                    <a:cubicBezTo>
                      <a:pt x="153" y="30"/>
                      <a:pt x="153" y="30"/>
                      <a:pt x="153" y="30"/>
                    </a:cubicBezTo>
                    <a:cubicBezTo>
                      <a:pt x="162" y="31"/>
                      <a:pt x="162" y="31"/>
                      <a:pt x="162" y="31"/>
                    </a:cubicBezTo>
                    <a:cubicBezTo>
                      <a:pt x="170" y="33"/>
                      <a:pt x="170" y="33"/>
                      <a:pt x="170" y="33"/>
                    </a:cubicBezTo>
                    <a:cubicBezTo>
                      <a:pt x="179" y="34"/>
                      <a:pt x="179" y="34"/>
                      <a:pt x="179" y="34"/>
                    </a:cubicBezTo>
                    <a:cubicBezTo>
                      <a:pt x="187" y="36"/>
                      <a:pt x="187" y="36"/>
                      <a:pt x="187" y="36"/>
                    </a:cubicBezTo>
                    <a:cubicBezTo>
                      <a:pt x="196" y="37"/>
                      <a:pt x="196" y="37"/>
                      <a:pt x="196" y="37"/>
                    </a:cubicBezTo>
                    <a:cubicBezTo>
                      <a:pt x="204" y="39"/>
                      <a:pt x="204" y="39"/>
                      <a:pt x="204" y="39"/>
                    </a:cubicBezTo>
                    <a:cubicBezTo>
                      <a:pt x="213" y="40"/>
                      <a:pt x="213" y="40"/>
                      <a:pt x="213" y="40"/>
                    </a:cubicBezTo>
                    <a:cubicBezTo>
                      <a:pt x="221" y="41"/>
                      <a:pt x="221" y="41"/>
                      <a:pt x="221" y="41"/>
                    </a:cubicBezTo>
                    <a:cubicBezTo>
                      <a:pt x="230" y="43"/>
                      <a:pt x="230" y="43"/>
                      <a:pt x="230" y="43"/>
                    </a:cubicBezTo>
                    <a:cubicBezTo>
                      <a:pt x="238" y="44"/>
                      <a:pt x="238" y="44"/>
                      <a:pt x="238" y="44"/>
                    </a:cubicBezTo>
                    <a:cubicBezTo>
                      <a:pt x="247" y="46"/>
                      <a:pt x="247" y="46"/>
                      <a:pt x="247" y="46"/>
                    </a:cubicBezTo>
                    <a:cubicBezTo>
                      <a:pt x="255" y="47"/>
                      <a:pt x="255" y="47"/>
                      <a:pt x="255" y="47"/>
                    </a:cubicBezTo>
                    <a:cubicBezTo>
                      <a:pt x="264" y="49"/>
                      <a:pt x="264" y="49"/>
                      <a:pt x="264" y="49"/>
                    </a:cubicBezTo>
                    <a:cubicBezTo>
                      <a:pt x="272" y="50"/>
                      <a:pt x="272" y="50"/>
                      <a:pt x="272" y="50"/>
                    </a:cubicBezTo>
                    <a:cubicBezTo>
                      <a:pt x="281" y="51"/>
                      <a:pt x="281" y="51"/>
                      <a:pt x="281" y="51"/>
                    </a:cubicBezTo>
                    <a:cubicBezTo>
                      <a:pt x="289" y="53"/>
                      <a:pt x="289" y="53"/>
                      <a:pt x="289" y="53"/>
                    </a:cubicBezTo>
                    <a:cubicBezTo>
                      <a:pt x="298" y="54"/>
                      <a:pt x="298" y="54"/>
                      <a:pt x="298" y="54"/>
                    </a:cubicBezTo>
                    <a:cubicBezTo>
                      <a:pt x="306" y="56"/>
                      <a:pt x="306" y="56"/>
                      <a:pt x="306" y="56"/>
                    </a:cubicBezTo>
                    <a:cubicBezTo>
                      <a:pt x="315" y="57"/>
                      <a:pt x="315" y="57"/>
                      <a:pt x="315" y="57"/>
                    </a:cubicBezTo>
                    <a:cubicBezTo>
                      <a:pt x="323" y="58"/>
                      <a:pt x="323" y="58"/>
                      <a:pt x="323" y="58"/>
                    </a:cubicBezTo>
                    <a:cubicBezTo>
                      <a:pt x="332" y="60"/>
                      <a:pt x="332" y="60"/>
                      <a:pt x="332" y="60"/>
                    </a:cubicBezTo>
                    <a:cubicBezTo>
                      <a:pt x="340" y="61"/>
                      <a:pt x="340" y="61"/>
                      <a:pt x="340" y="61"/>
                    </a:cubicBezTo>
                    <a:cubicBezTo>
                      <a:pt x="349" y="62"/>
                      <a:pt x="349" y="62"/>
                      <a:pt x="349" y="62"/>
                    </a:cubicBezTo>
                    <a:cubicBezTo>
                      <a:pt x="357" y="64"/>
                      <a:pt x="357" y="64"/>
                      <a:pt x="357" y="64"/>
                    </a:cubicBezTo>
                    <a:cubicBezTo>
                      <a:pt x="366" y="65"/>
                      <a:pt x="366" y="65"/>
                      <a:pt x="366" y="65"/>
                    </a:cubicBezTo>
                    <a:cubicBezTo>
                      <a:pt x="374" y="66"/>
                      <a:pt x="374" y="66"/>
                      <a:pt x="374" y="66"/>
                    </a:cubicBezTo>
                    <a:cubicBezTo>
                      <a:pt x="383" y="68"/>
                      <a:pt x="383" y="68"/>
                      <a:pt x="383" y="68"/>
                    </a:cubicBezTo>
                    <a:cubicBezTo>
                      <a:pt x="391" y="69"/>
                      <a:pt x="391" y="69"/>
                      <a:pt x="391" y="69"/>
                    </a:cubicBezTo>
                    <a:cubicBezTo>
                      <a:pt x="400" y="70"/>
                      <a:pt x="400" y="70"/>
                      <a:pt x="400" y="70"/>
                    </a:cubicBezTo>
                    <a:cubicBezTo>
                      <a:pt x="408" y="71"/>
                      <a:pt x="408" y="71"/>
                      <a:pt x="408" y="71"/>
                    </a:cubicBezTo>
                    <a:cubicBezTo>
                      <a:pt x="417" y="73"/>
                      <a:pt x="417" y="73"/>
                      <a:pt x="417" y="73"/>
                    </a:cubicBezTo>
                    <a:cubicBezTo>
                      <a:pt x="425" y="74"/>
                      <a:pt x="425" y="74"/>
                      <a:pt x="425" y="74"/>
                    </a:cubicBezTo>
                    <a:cubicBezTo>
                      <a:pt x="434" y="75"/>
                      <a:pt x="434" y="75"/>
                      <a:pt x="434" y="75"/>
                    </a:cubicBezTo>
                    <a:cubicBezTo>
                      <a:pt x="442" y="76"/>
                      <a:pt x="442" y="76"/>
                      <a:pt x="442" y="76"/>
                    </a:cubicBezTo>
                    <a:cubicBezTo>
                      <a:pt x="451" y="78"/>
                      <a:pt x="451" y="78"/>
                      <a:pt x="451" y="78"/>
                    </a:cubicBezTo>
                    <a:cubicBezTo>
                      <a:pt x="459" y="79"/>
                      <a:pt x="459" y="79"/>
                      <a:pt x="459" y="79"/>
                    </a:cubicBezTo>
                    <a:cubicBezTo>
                      <a:pt x="468" y="80"/>
                      <a:pt x="468" y="80"/>
                      <a:pt x="468" y="80"/>
                    </a:cubicBezTo>
                    <a:cubicBezTo>
                      <a:pt x="476" y="81"/>
                      <a:pt x="476" y="81"/>
                      <a:pt x="476" y="81"/>
                    </a:cubicBezTo>
                    <a:cubicBezTo>
                      <a:pt x="485" y="83"/>
                      <a:pt x="485" y="83"/>
                      <a:pt x="485" y="83"/>
                    </a:cubicBezTo>
                    <a:cubicBezTo>
                      <a:pt x="493" y="84"/>
                      <a:pt x="493" y="84"/>
                      <a:pt x="493" y="84"/>
                    </a:cubicBezTo>
                    <a:cubicBezTo>
                      <a:pt x="502" y="85"/>
                      <a:pt x="502" y="85"/>
                      <a:pt x="502" y="85"/>
                    </a:cubicBezTo>
                    <a:cubicBezTo>
                      <a:pt x="510" y="86"/>
                      <a:pt x="510" y="86"/>
                      <a:pt x="510" y="86"/>
                    </a:cubicBezTo>
                    <a:cubicBezTo>
                      <a:pt x="519" y="87"/>
                      <a:pt x="519" y="87"/>
                      <a:pt x="519" y="87"/>
                    </a:cubicBezTo>
                    <a:cubicBezTo>
                      <a:pt x="527" y="89"/>
                      <a:pt x="527" y="89"/>
                      <a:pt x="527" y="89"/>
                    </a:cubicBezTo>
                    <a:cubicBezTo>
                      <a:pt x="536" y="90"/>
                      <a:pt x="536" y="90"/>
                      <a:pt x="536" y="90"/>
                    </a:cubicBezTo>
                    <a:cubicBezTo>
                      <a:pt x="544" y="91"/>
                      <a:pt x="544" y="91"/>
                      <a:pt x="544" y="91"/>
                    </a:cubicBezTo>
                    <a:cubicBezTo>
                      <a:pt x="553" y="92"/>
                      <a:pt x="553" y="92"/>
                      <a:pt x="553" y="92"/>
                    </a:cubicBezTo>
                    <a:cubicBezTo>
                      <a:pt x="561" y="93"/>
                      <a:pt x="561" y="93"/>
                      <a:pt x="561" y="93"/>
                    </a:cubicBezTo>
                    <a:cubicBezTo>
                      <a:pt x="570" y="94"/>
                      <a:pt x="570" y="94"/>
                      <a:pt x="570" y="94"/>
                    </a:cubicBezTo>
                    <a:cubicBezTo>
                      <a:pt x="578" y="95"/>
                      <a:pt x="578" y="95"/>
                      <a:pt x="578" y="95"/>
                    </a:cubicBezTo>
                    <a:cubicBezTo>
                      <a:pt x="587" y="97"/>
                      <a:pt x="587" y="97"/>
                      <a:pt x="587" y="97"/>
                    </a:cubicBezTo>
                    <a:cubicBezTo>
                      <a:pt x="595" y="98"/>
                      <a:pt x="595" y="98"/>
                      <a:pt x="595" y="98"/>
                    </a:cubicBezTo>
                    <a:cubicBezTo>
                      <a:pt x="604" y="99"/>
                      <a:pt x="604" y="99"/>
                      <a:pt x="604" y="99"/>
                    </a:cubicBezTo>
                    <a:cubicBezTo>
                      <a:pt x="612" y="100"/>
                      <a:pt x="612" y="100"/>
                      <a:pt x="612" y="100"/>
                    </a:cubicBezTo>
                    <a:cubicBezTo>
                      <a:pt x="621" y="101"/>
                      <a:pt x="621" y="101"/>
                      <a:pt x="621" y="101"/>
                    </a:cubicBezTo>
                    <a:cubicBezTo>
                      <a:pt x="629" y="102"/>
                      <a:pt x="629" y="102"/>
                      <a:pt x="629" y="102"/>
                    </a:cubicBezTo>
                    <a:cubicBezTo>
                      <a:pt x="638" y="103"/>
                      <a:pt x="638" y="103"/>
                      <a:pt x="638" y="103"/>
                    </a:cubicBezTo>
                    <a:cubicBezTo>
                      <a:pt x="646" y="104"/>
                      <a:pt x="646" y="104"/>
                      <a:pt x="646" y="104"/>
                    </a:cubicBezTo>
                    <a:cubicBezTo>
                      <a:pt x="655" y="105"/>
                      <a:pt x="655" y="105"/>
                      <a:pt x="655" y="105"/>
                    </a:cubicBezTo>
                    <a:cubicBezTo>
                      <a:pt x="663" y="106"/>
                      <a:pt x="663" y="106"/>
                      <a:pt x="663" y="106"/>
                    </a:cubicBezTo>
                    <a:cubicBezTo>
                      <a:pt x="672" y="108"/>
                      <a:pt x="672" y="108"/>
                      <a:pt x="672" y="108"/>
                    </a:cubicBezTo>
                    <a:cubicBezTo>
                      <a:pt x="680" y="109"/>
                      <a:pt x="680" y="109"/>
                      <a:pt x="680" y="109"/>
                    </a:cubicBezTo>
                    <a:cubicBezTo>
                      <a:pt x="689" y="110"/>
                      <a:pt x="689" y="110"/>
                      <a:pt x="689" y="110"/>
                    </a:cubicBezTo>
                    <a:cubicBezTo>
                      <a:pt x="697" y="111"/>
                      <a:pt x="697" y="111"/>
                      <a:pt x="697" y="111"/>
                    </a:cubicBezTo>
                    <a:cubicBezTo>
                      <a:pt x="706" y="112"/>
                      <a:pt x="706" y="112"/>
                      <a:pt x="706" y="112"/>
                    </a:cubicBezTo>
                    <a:cubicBezTo>
                      <a:pt x="714" y="113"/>
                      <a:pt x="714" y="113"/>
                      <a:pt x="714" y="113"/>
                    </a:cubicBezTo>
                    <a:cubicBezTo>
                      <a:pt x="723" y="114"/>
                      <a:pt x="723" y="114"/>
                      <a:pt x="723" y="114"/>
                    </a:cubicBezTo>
                    <a:cubicBezTo>
                      <a:pt x="731" y="115"/>
                      <a:pt x="731" y="115"/>
                      <a:pt x="731" y="115"/>
                    </a:cubicBezTo>
                    <a:cubicBezTo>
                      <a:pt x="740" y="116"/>
                      <a:pt x="740" y="116"/>
                      <a:pt x="740" y="116"/>
                    </a:cubicBezTo>
                    <a:cubicBezTo>
                      <a:pt x="748" y="117"/>
                      <a:pt x="748" y="117"/>
                      <a:pt x="748" y="117"/>
                    </a:cubicBezTo>
                    <a:cubicBezTo>
                      <a:pt x="757" y="118"/>
                      <a:pt x="757" y="118"/>
                      <a:pt x="757" y="118"/>
                    </a:cubicBezTo>
                    <a:cubicBezTo>
                      <a:pt x="765" y="119"/>
                      <a:pt x="765" y="119"/>
                      <a:pt x="765" y="119"/>
                    </a:cubicBezTo>
                    <a:cubicBezTo>
                      <a:pt x="774" y="120"/>
                      <a:pt x="774" y="120"/>
                      <a:pt x="774" y="120"/>
                    </a:cubicBezTo>
                    <a:cubicBezTo>
                      <a:pt x="782" y="121"/>
                      <a:pt x="782" y="121"/>
                      <a:pt x="782" y="121"/>
                    </a:cubicBezTo>
                    <a:cubicBezTo>
                      <a:pt x="791" y="122"/>
                      <a:pt x="791" y="122"/>
                      <a:pt x="791" y="122"/>
                    </a:cubicBezTo>
                    <a:cubicBezTo>
                      <a:pt x="799" y="123"/>
                      <a:pt x="799" y="123"/>
                      <a:pt x="799" y="123"/>
                    </a:cubicBezTo>
                    <a:cubicBezTo>
                      <a:pt x="808" y="124"/>
                      <a:pt x="808" y="124"/>
                      <a:pt x="808" y="124"/>
                    </a:cubicBezTo>
                    <a:cubicBezTo>
                      <a:pt x="816" y="125"/>
                      <a:pt x="816" y="125"/>
                      <a:pt x="816" y="125"/>
                    </a:cubicBezTo>
                    <a:cubicBezTo>
                      <a:pt x="825" y="126"/>
                      <a:pt x="825" y="126"/>
                      <a:pt x="825" y="126"/>
                    </a:cubicBezTo>
                    <a:cubicBezTo>
                      <a:pt x="833" y="127"/>
                      <a:pt x="833" y="127"/>
                      <a:pt x="833" y="127"/>
                    </a:cubicBezTo>
                    <a:cubicBezTo>
                      <a:pt x="842" y="127"/>
                      <a:pt x="842" y="127"/>
                      <a:pt x="842" y="127"/>
                    </a:cubicBezTo>
                    <a:cubicBezTo>
                      <a:pt x="850" y="128"/>
                      <a:pt x="850" y="128"/>
                      <a:pt x="850" y="128"/>
                    </a:cubicBezTo>
                    <a:cubicBezTo>
                      <a:pt x="859" y="129"/>
                      <a:pt x="859" y="129"/>
                      <a:pt x="859" y="129"/>
                    </a:cubicBezTo>
                    <a:cubicBezTo>
                      <a:pt x="868" y="130"/>
                      <a:pt x="868" y="130"/>
                      <a:pt x="868" y="130"/>
                    </a:cubicBezTo>
                    <a:cubicBezTo>
                      <a:pt x="876" y="131"/>
                      <a:pt x="876" y="131"/>
                      <a:pt x="876" y="131"/>
                    </a:cubicBezTo>
                    <a:cubicBezTo>
                      <a:pt x="885" y="132"/>
                      <a:pt x="885" y="132"/>
                      <a:pt x="885" y="132"/>
                    </a:cubicBezTo>
                    <a:cubicBezTo>
                      <a:pt x="893" y="133"/>
                      <a:pt x="893" y="133"/>
                      <a:pt x="893" y="133"/>
                    </a:cubicBezTo>
                    <a:cubicBezTo>
                      <a:pt x="902" y="134"/>
                      <a:pt x="902" y="134"/>
                      <a:pt x="902" y="134"/>
                    </a:cubicBezTo>
                    <a:cubicBezTo>
                      <a:pt x="910" y="135"/>
                      <a:pt x="910" y="135"/>
                      <a:pt x="910" y="135"/>
                    </a:cubicBezTo>
                    <a:cubicBezTo>
                      <a:pt x="919" y="136"/>
                      <a:pt x="919" y="136"/>
                      <a:pt x="919" y="136"/>
                    </a:cubicBezTo>
                    <a:cubicBezTo>
                      <a:pt x="927" y="137"/>
                      <a:pt x="927" y="137"/>
                      <a:pt x="927" y="137"/>
                    </a:cubicBezTo>
                    <a:cubicBezTo>
                      <a:pt x="936" y="137"/>
                      <a:pt x="936" y="137"/>
                      <a:pt x="936" y="137"/>
                    </a:cubicBezTo>
                    <a:cubicBezTo>
                      <a:pt x="944" y="138"/>
                      <a:pt x="944" y="138"/>
                      <a:pt x="944" y="138"/>
                    </a:cubicBezTo>
                    <a:cubicBezTo>
                      <a:pt x="953" y="139"/>
                      <a:pt x="953" y="139"/>
                      <a:pt x="953" y="139"/>
                    </a:cubicBezTo>
                    <a:cubicBezTo>
                      <a:pt x="961" y="140"/>
                      <a:pt x="961" y="140"/>
                      <a:pt x="961" y="140"/>
                    </a:cubicBezTo>
                    <a:cubicBezTo>
                      <a:pt x="970" y="141"/>
                      <a:pt x="970" y="141"/>
                      <a:pt x="970" y="141"/>
                    </a:cubicBezTo>
                    <a:cubicBezTo>
                      <a:pt x="978" y="142"/>
                      <a:pt x="978" y="142"/>
                      <a:pt x="978" y="142"/>
                    </a:cubicBezTo>
                    <a:cubicBezTo>
                      <a:pt x="987" y="143"/>
                      <a:pt x="987" y="143"/>
                      <a:pt x="987" y="143"/>
                    </a:cubicBezTo>
                    <a:cubicBezTo>
                      <a:pt x="995" y="143"/>
                      <a:pt x="995" y="143"/>
                      <a:pt x="995" y="143"/>
                    </a:cubicBezTo>
                    <a:cubicBezTo>
                      <a:pt x="1004" y="144"/>
                      <a:pt x="1004" y="144"/>
                      <a:pt x="1004" y="144"/>
                    </a:cubicBezTo>
                    <a:cubicBezTo>
                      <a:pt x="1012" y="145"/>
                      <a:pt x="1012" y="145"/>
                      <a:pt x="1012" y="145"/>
                    </a:cubicBezTo>
                    <a:cubicBezTo>
                      <a:pt x="1021" y="146"/>
                      <a:pt x="1021" y="146"/>
                      <a:pt x="1021" y="146"/>
                    </a:cubicBezTo>
                    <a:cubicBezTo>
                      <a:pt x="1029" y="147"/>
                      <a:pt x="1029" y="147"/>
                      <a:pt x="1029" y="147"/>
                    </a:cubicBezTo>
                    <a:cubicBezTo>
                      <a:pt x="1038" y="148"/>
                      <a:pt x="1038" y="148"/>
                      <a:pt x="1038" y="148"/>
                    </a:cubicBezTo>
                    <a:cubicBezTo>
                      <a:pt x="1046" y="148"/>
                      <a:pt x="1046" y="148"/>
                      <a:pt x="1046" y="148"/>
                    </a:cubicBezTo>
                    <a:cubicBezTo>
                      <a:pt x="1055" y="149"/>
                      <a:pt x="1055" y="149"/>
                      <a:pt x="1055" y="149"/>
                    </a:cubicBezTo>
                    <a:cubicBezTo>
                      <a:pt x="1063" y="150"/>
                      <a:pt x="1063" y="150"/>
                      <a:pt x="1063" y="150"/>
                    </a:cubicBezTo>
                    <a:cubicBezTo>
                      <a:pt x="1072" y="151"/>
                      <a:pt x="1072" y="151"/>
                      <a:pt x="1072" y="151"/>
                    </a:cubicBezTo>
                    <a:cubicBezTo>
                      <a:pt x="1080" y="152"/>
                      <a:pt x="1080" y="152"/>
                      <a:pt x="1080" y="152"/>
                    </a:cubicBezTo>
                    <a:cubicBezTo>
                      <a:pt x="1089" y="152"/>
                      <a:pt x="1089" y="152"/>
                      <a:pt x="1089" y="152"/>
                    </a:cubicBezTo>
                    <a:cubicBezTo>
                      <a:pt x="1097" y="153"/>
                      <a:pt x="1097" y="153"/>
                      <a:pt x="1097" y="153"/>
                    </a:cubicBezTo>
                    <a:cubicBezTo>
                      <a:pt x="1106" y="154"/>
                      <a:pt x="1106" y="154"/>
                      <a:pt x="1106" y="154"/>
                    </a:cubicBezTo>
                    <a:cubicBezTo>
                      <a:pt x="1114" y="155"/>
                      <a:pt x="1114" y="155"/>
                      <a:pt x="1114" y="155"/>
                    </a:cubicBezTo>
                    <a:cubicBezTo>
                      <a:pt x="1123" y="156"/>
                      <a:pt x="1123" y="156"/>
                      <a:pt x="1123" y="156"/>
                    </a:cubicBezTo>
                    <a:cubicBezTo>
                      <a:pt x="1131" y="156"/>
                      <a:pt x="1131" y="156"/>
                      <a:pt x="1131" y="156"/>
                    </a:cubicBezTo>
                    <a:cubicBezTo>
                      <a:pt x="1140" y="157"/>
                      <a:pt x="1140" y="157"/>
                      <a:pt x="1140" y="157"/>
                    </a:cubicBezTo>
                    <a:cubicBezTo>
                      <a:pt x="1148" y="158"/>
                      <a:pt x="1148" y="158"/>
                      <a:pt x="1148" y="158"/>
                    </a:cubicBezTo>
                    <a:cubicBezTo>
                      <a:pt x="1157" y="159"/>
                      <a:pt x="1157" y="159"/>
                      <a:pt x="1157" y="159"/>
                    </a:cubicBezTo>
                    <a:cubicBezTo>
                      <a:pt x="1165" y="159"/>
                      <a:pt x="1165" y="159"/>
                      <a:pt x="1165" y="159"/>
                    </a:cubicBezTo>
                    <a:cubicBezTo>
                      <a:pt x="1174" y="160"/>
                      <a:pt x="1174" y="160"/>
                      <a:pt x="1174" y="160"/>
                    </a:cubicBezTo>
                    <a:cubicBezTo>
                      <a:pt x="1182" y="161"/>
                      <a:pt x="1182" y="161"/>
                      <a:pt x="1182" y="161"/>
                    </a:cubicBezTo>
                    <a:cubicBezTo>
                      <a:pt x="1191" y="162"/>
                      <a:pt x="1191" y="162"/>
                      <a:pt x="1191" y="162"/>
                    </a:cubicBezTo>
                    <a:cubicBezTo>
                      <a:pt x="1199" y="162"/>
                      <a:pt x="1199" y="162"/>
                      <a:pt x="1199" y="162"/>
                    </a:cubicBezTo>
                    <a:cubicBezTo>
                      <a:pt x="1208" y="163"/>
                      <a:pt x="1208" y="163"/>
                      <a:pt x="1208" y="163"/>
                    </a:cubicBezTo>
                    <a:cubicBezTo>
                      <a:pt x="1216" y="164"/>
                      <a:pt x="1216" y="164"/>
                      <a:pt x="1216" y="164"/>
                    </a:cubicBezTo>
                    <a:cubicBezTo>
                      <a:pt x="1225" y="165"/>
                      <a:pt x="1225" y="165"/>
                      <a:pt x="1225" y="165"/>
                    </a:cubicBezTo>
                    <a:cubicBezTo>
                      <a:pt x="1233" y="165"/>
                      <a:pt x="1233" y="165"/>
                      <a:pt x="1233" y="165"/>
                    </a:cubicBezTo>
                    <a:cubicBezTo>
                      <a:pt x="1242" y="166"/>
                      <a:pt x="1242" y="166"/>
                      <a:pt x="1242" y="166"/>
                    </a:cubicBezTo>
                    <a:cubicBezTo>
                      <a:pt x="1250" y="167"/>
                      <a:pt x="1250" y="167"/>
                      <a:pt x="1250" y="167"/>
                    </a:cubicBezTo>
                    <a:cubicBezTo>
                      <a:pt x="1259" y="167"/>
                      <a:pt x="1259" y="167"/>
                      <a:pt x="1259" y="167"/>
                    </a:cubicBezTo>
                    <a:cubicBezTo>
                      <a:pt x="1267" y="168"/>
                      <a:pt x="1267" y="168"/>
                      <a:pt x="1267" y="168"/>
                    </a:cubicBezTo>
                    <a:cubicBezTo>
                      <a:pt x="1276" y="169"/>
                      <a:pt x="1276" y="169"/>
                      <a:pt x="1276" y="169"/>
                    </a:cubicBezTo>
                    <a:cubicBezTo>
                      <a:pt x="1284" y="169"/>
                      <a:pt x="1284" y="169"/>
                      <a:pt x="1284" y="169"/>
                    </a:cubicBezTo>
                    <a:cubicBezTo>
                      <a:pt x="1293" y="170"/>
                      <a:pt x="1293" y="170"/>
                      <a:pt x="1293" y="170"/>
                    </a:cubicBezTo>
                    <a:cubicBezTo>
                      <a:pt x="1301" y="171"/>
                      <a:pt x="1301" y="171"/>
                      <a:pt x="1301" y="171"/>
                    </a:cubicBezTo>
                    <a:cubicBezTo>
                      <a:pt x="1310" y="171"/>
                      <a:pt x="1310" y="171"/>
                      <a:pt x="1310" y="171"/>
                    </a:cubicBezTo>
                    <a:cubicBezTo>
                      <a:pt x="1318" y="172"/>
                      <a:pt x="1318" y="172"/>
                      <a:pt x="1318" y="172"/>
                    </a:cubicBezTo>
                    <a:cubicBezTo>
                      <a:pt x="1327" y="173"/>
                      <a:pt x="1327" y="173"/>
                      <a:pt x="1327" y="173"/>
                    </a:cubicBezTo>
                    <a:cubicBezTo>
                      <a:pt x="1335" y="173"/>
                      <a:pt x="1335" y="173"/>
                      <a:pt x="1335" y="173"/>
                    </a:cubicBezTo>
                    <a:cubicBezTo>
                      <a:pt x="1344" y="174"/>
                      <a:pt x="1344" y="174"/>
                      <a:pt x="1344" y="174"/>
                    </a:cubicBezTo>
                    <a:cubicBezTo>
                      <a:pt x="1352" y="175"/>
                      <a:pt x="1352" y="175"/>
                      <a:pt x="1352" y="175"/>
                    </a:cubicBezTo>
                    <a:cubicBezTo>
                      <a:pt x="1361" y="175"/>
                      <a:pt x="1361" y="175"/>
                      <a:pt x="1361" y="175"/>
                    </a:cubicBezTo>
                    <a:cubicBezTo>
                      <a:pt x="1369" y="176"/>
                      <a:pt x="1369" y="176"/>
                      <a:pt x="1369" y="176"/>
                    </a:cubicBezTo>
                    <a:cubicBezTo>
                      <a:pt x="1378" y="177"/>
                      <a:pt x="1378" y="177"/>
                      <a:pt x="1378" y="177"/>
                    </a:cubicBezTo>
                    <a:cubicBezTo>
                      <a:pt x="1386" y="177"/>
                      <a:pt x="1386" y="177"/>
                      <a:pt x="1386" y="177"/>
                    </a:cubicBezTo>
                    <a:cubicBezTo>
                      <a:pt x="1395" y="178"/>
                      <a:pt x="1395" y="178"/>
                      <a:pt x="1395" y="178"/>
                    </a:cubicBezTo>
                    <a:cubicBezTo>
                      <a:pt x="1403" y="179"/>
                      <a:pt x="1403" y="179"/>
                      <a:pt x="1403" y="179"/>
                    </a:cubicBezTo>
                    <a:cubicBezTo>
                      <a:pt x="1412" y="179"/>
                      <a:pt x="1412" y="179"/>
                      <a:pt x="1412" y="179"/>
                    </a:cubicBezTo>
                    <a:cubicBezTo>
                      <a:pt x="1420" y="180"/>
                      <a:pt x="1420" y="180"/>
                      <a:pt x="1420" y="180"/>
                    </a:cubicBezTo>
                    <a:cubicBezTo>
                      <a:pt x="1429" y="181"/>
                      <a:pt x="1429" y="181"/>
                      <a:pt x="1429" y="181"/>
                    </a:cubicBezTo>
                    <a:cubicBezTo>
                      <a:pt x="1437" y="181"/>
                      <a:pt x="1437" y="181"/>
                      <a:pt x="1437" y="181"/>
                    </a:cubicBezTo>
                    <a:cubicBezTo>
                      <a:pt x="1446" y="182"/>
                      <a:pt x="1446" y="182"/>
                      <a:pt x="1446" y="182"/>
                    </a:cubicBezTo>
                    <a:cubicBezTo>
                      <a:pt x="1454" y="182"/>
                      <a:pt x="1454" y="182"/>
                      <a:pt x="1454" y="182"/>
                    </a:cubicBezTo>
                    <a:cubicBezTo>
                      <a:pt x="1463" y="183"/>
                      <a:pt x="1463" y="183"/>
                      <a:pt x="1463" y="183"/>
                    </a:cubicBezTo>
                    <a:cubicBezTo>
                      <a:pt x="1471" y="184"/>
                      <a:pt x="1471" y="184"/>
                      <a:pt x="1471" y="184"/>
                    </a:cubicBezTo>
                    <a:cubicBezTo>
                      <a:pt x="1480" y="184"/>
                      <a:pt x="1480" y="184"/>
                      <a:pt x="1480" y="184"/>
                    </a:cubicBezTo>
                    <a:cubicBezTo>
                      <a:pt x="1488" y="185"/>
                      <a:pt x="1488" y="185"/>
                      <a:pt x="1488" y="185"/>
                    </a:cubicBezTo>
                    <a:cubicBezTo>
                      <a:pt x="1497" y="185"/>
                      <a:pt x="1497" y="185"/>
                      <a:pt x="1497" y="185"/>
                    </a:cubicBezTo>
                    <a:cubicBezTo>
                      <a:pt x="1505" y="186"/>
                      <a:pt x="1505" y="186"/>
                      <a:pt x="1505" y="186"/>
                    </a:cubicBezTo>
                    <a:cubicBezTo>
                      <a:pt x="1514" y="187"/>
                      <a:pt x="1514" y="187"/>
                      <a:pt x="1514" y="187"/>
                    </a:cubicBezTo>
                    <a:cubicBezTo>
                      <a:pt x="1522" y="187"/>
                      <a:pt x="1522" y="187"/>
                      <a:pt x="1522" y="187"/>
                    </a:cubicBezTo>
                    <a:cubicBezTo>
                      <a:pt x="1531" y="188"/>
                      <a:pt x="1531" y="188"/>
                      <a:pt x="1531" y="188"/>
                    </a:cubicBezTo>
                    <a:cubicBezTo>
                      <a:pt x="1539" y="188"/>
                      <a:pt x="1539" y="188"/>
                      <a:pt x="1539" y="188"/>
                    </a:cubicBezTo>
                    <a:cubicBezTo>
                      <a:pt x="1548" y="189"/>
                      <a:pt x="1548" y="189"/>
                      <a:pt x="1548" y="189"/>
                    </a:cubicBezTo>
                    <a:cubicBezTo>
                      <a:pt x="1556" y="189"/>
                      <a:pt x="1556" y="189"/>
                      <a:pt x="1556" y="189"/>
                    </a:cubicBezTo>
                    <a:cubicBezTo>
                      <a:pt x="1565" y="190"/>
                      <a:pt x="1565" y="190"/>
                      <a:pt x="1565" y="190"/>
                    </a:cubicBezTo>
                    <a:cubicBezTo>
                      <a:pt x="1573" y="191"/>
                      <a:pt x="1573" y="191"/>
                      <a:pt x="1573" y="191"/>
                    </a:cubicBezTo>
                    <a:cubicBezTo>
                      <a:pt x="1582" y="191"/>
                      <a:pt x="1582" y="191"/>
                      <a:pt x="1582" y="191"/>
                    </a:cubicBezTo>
                    <a:cubicBezTo>
                      <a:pt x="1590" y="192"/>
                      <a:pt x="1590" y="192"/>
                      <a:pt x="1590" y="192"/>
                    </a:cubicBezTo>
                    <a:cubicBezTo>
                      <a:pt x="1599" y="192"/>
                      <a:pt x="1599" y="192"/>
                      <a:pt x="1599" y="192"/>
                    </a:cubicBezTo>
                    <a:cubicBezTo>
                      <a:pt x="1607" y="193"/>
                      <a:pt x="1607" y="193"/>
                      <a:pt x="1607" y="193"/>
                    </a:cubicBezTo>
                    <a:cubicBezTo>
                      <a:pt x="1616" y="193"/>
                      <a:pt x="1616" y="193"/>
                      <a:pt x="1616" y="193"/>
                    </a:cubicBezTo>
                    <a:cubicBezTo>
                      <a:pt x="1624" y="194"/>
                      <a:pt x="1624" y="194"/>
                      <a:pt x="1624" y="194"/>
                    </a:cubicBezTo>
                    <a:cubicBezTo>
                      <a:pt x="1633" y="194"/>
                      <a:pt x="1633" y="194"/>
                      <a:pt x="1633" y="194"/>
                    </a:cubicBezTo>
                    <a:cubicBezTo>
                      <a:pt x="1641" y="195"/>
                      <a:pt x="1641" y="195"/>
                      <a:pt x="1641" y="195"/>
                    </a:cubicBezTo>
                    <a:cubicBezTo>
                      <a:pt x="1650" y="195"/>
                      <a:pt x="1650" y="195"/>
                      <a:pt x="1650" y="195"/>
                    </a:cubicBezTo>
                    <a:cubicBezTo>
                      <a:pt x="1658" y="196"/>
                      <a:pt x="1658" y="196"/>
                      <a:pt x="1658" y="196"/>
                    </a:cubicBezTo>
                    <a:cubicBezTo>
                      <a:pt x="1667" y="197"/>
                      <a:pt x="1667" y="197"/>
                      <a:pt x="1667" y="197"/>
                    </a:cubicBezTo>
                    <a:cubicBezTo>
                      <a:pt x="1675" y="197"/>
                      <a:pt x="1675" y="197"/>
                      <a:pt x="1675" y="197"/>
                    </a:cubicBezTo>
                    <a:cubicBezTo>
                      <a:pt x="1684" y="198"/>
                      <a:pt x="1684" y="198"/>
                      <a:pt x="1684" y="198"/>
                    </a:cubicBezTo>
                    <a:cubicBezTo>
                      <a:pt x="1692" y="198"/>
                      <a:pt x="1692" y="198"/>
                      <a:pt x="1692" y="198"/>
                    </a:cubicBezTo>
                    <a:cubicBezTo>
                      <a:pt x="1701" y="199"/>
                      <a:pt x="1701" y="199"/>
                      <a:pt x="1701" y="199"/>
                    </a:cubicBezTo>
                    <a:cubicBezTo>
                      <a:pt x="1710" y="199"/>
                      <a:pt x="1710" y="199"/>
                      <a:pt x="1710" y="199"/>
                    </a:cubicBezTo>
                    <a:cubicBezTo>
                      <a:pt x="1718" y="200"/>
                      <a:pt x="1718" y="200"/>
                      <a:pt x="1718" y="200"/>
                    </a:cubicBezTo>
                    <a:cubicBezTo>
                      <a:pt x="1727" y="200"/>
                      <a:pt x="1727" y="200"/>
                      <a:pt x="1727" y="200"/>
                    </a:cubicBezTo>
                    <a:cubicBezTo>
                      <a:pt x="1735" y="201"/>
                      <a:pt x="1735" y="201"/>
                      <a:pt x="1735" y="201"/>
                    </a:cubicBezTo>
                    <a:cubicBezTo>
                      <a:pt x="1744" y="201"/>
                      <a:pt x="1744" y="201"/>
                      <a:pt x="1744" y="201"/>
                    </a:cubicBezTo>
                    <a:cubicBezTo>
                      <a:pt x="1752" y="202"/>
                      <a:pt x="1752" y="202"/>
                      <a:pt x="1752" y="202"/>
                    </a:cubicBezTo>
                    <a:cubicBezTo>
                      <a:pt x="1761" y="202"/>
                      <a:pt x="1761" y="202"/>
                      <a:pt x="1761" y="202"/>
                    </a:cubicBezTo>
                    <a:cubicBezTo>
                      <a:pt x="1769" y="203"/>
                      <a:pt x="1769" y="203"/>
                      <a:pt x="1769" y="203"/>
                    </a:cubicBezTo>
                    <a:cubicBezTo>
                      <a:pt x="1778" y="203"/>
                      <a:pt x="1778" y="203"/>
                      <a:pt x="1778" y="203"/>
                    </a:cubicBezTo>
                    <a:cubicBezTo>
                      <a:pt x="1786" y="204"/>
                      <a:pt x="1786" y="204"/>
                      <a:pt x="1786" y="204"/>
                    </a:cubicBezTo>
                    <a:cubicBezTo>
                      <a:pt x="1795" y="204"/>
                      <a:pt x="1795" y="204"/>
                      <a:pt x="1795" y="204"/>
                    </a:cubicBezTo>
                    <a:cubicBezTo>
                      <a:pt x="1803" y="205"/>
                      <a:pt x="1803" y="205"/>
                      <a:pt x="1803" y="205"/>
                    </a:cubicBezTo>
                    <a:cubicBezTo>
                      <a:pt x="1812" y="205"/>
                      <a:pt x="1812" y="205"/>
                      <a:pt x="1812" y="205"/>
                    </a:cubicBezTo>
                    <a:cubicBezTo>
                      <a:pt x="1820" y="205"/>
                      <a:pt x="1820" y="205"/>
                      <a:pt x="1820" y="205"/>
                    </a:cubicBezTo>
                    <a:cubicBezTo>
                      <a:pt x="1829" y="206"/>
                      <a:pt x="1829" y="206"/>
                      <a:pt x="1829" y="206"/>
                    </a:cubicBezTo>
                    <a:cubicBezTo>
                      <a:pt x="1837" y="206"/>
                      <a:pt x="1837" y="206"/>
                      <a:pt x="1837" y="206"/>
                    </a:cubicBezTo>
                    <a:cubicBezTo>
                      <a:pt x="1846" y="207"/>
                      <a:pt x="1846" y="207"/>
                      <a:pt x="1846" y="207"/>
                    </a:cubicBezTo>
                    <a:cubicBezTo>
                      <a:pt x="1854" y="207"/>
                      <a:pt x="1854" y="207"/>
                      <a:pt x="1854" y="207"/>
                    </a:cubicBezTo>
                    <a:cubicBezTo>
                      <a:pt x="1863" y="208"/>
                      <a:pt x="1863" y="208"/>
                      <a:pt x="1863" y="208"/>
                    </a:cubicBezTo>
                    <a:cubicBezTo>
                      <a:pt x="1871" y="208"/>
                      <a:pt x="1871" y="208"/>
                      <a:pt x="1871" y="208"/>
                    </a:cubicBezTo>
                    <a:cubicBezTo>
                      <a:pt x="1880" y="209"/>
                      <a:pt x="1880" y="209"/>
                      <a:pt x="1880" y="209"/>
                    </a:cubicBezTo>
                    <a:cubicBezTo>
                      <a:pt x="1888" y="209"/>
                      <a:pt x="1888" y="209"/>
                      <a:pt x="1888" y="209"/>
                    </a:cubicBezTo>
                    <a:cubicBezTo>
                      <a:pt x="1897" y="210"/>
                      <a:pt x="1897" y="210"/>
                      <a:pt x="1897" y="210"/>
                    </a:cubicBezTo>
                    <a:cubicBezTo>
                      <a:pt x="1905" y="210"/>
                      <a:pt x="1905" y="210"/>
                      <a:pt x="1905" y="210"/>
                    </a:cubicBezTo>
                    <a:cubicBezTo>
                      <a:pt x="1914" y="211"/>
                      <a:pt x="1914" y="211"/>
                      <a:pt x="1914" y="211"/>
                    </a:cubicBezTo>
                    <a:cubicBezTo>
                      <a:pt x="1922" y="211"/>
                      <a:pt x="1922" y="211"/>
                      <a:pt x="1922" y="211"/>
                    </a:cubicBezTo>
                    <a:cubicBezTo>
                      <a:pt x="1931" y="211"/>
                      <a:pt x="1931" y="211"/>
                      <a:pt x="1931" y="211"/>
                    </a:cubicBezTo>
                    <a:cubicBezTo>
                      <a:pt x="1939" y="212"/>
                      <a:pt x="1939" y="212"/>
                      <a:pt x="1939" y="212"/>
                    </a:cubicBezTo>
                    <a:cubicBezTo>
                      <a:pt x="1948" y="212"/>
                      <a:pt x="1948" y="212"/>
                      <a:pt x="1948" y="212"/>
                    </a:cubicBezTo>
                    <a:cubicBezTo>
                      <a:pt x="1956" y="213"/>
                      <a:pt x="1956" y="213"/>
                      <a:pt x="1956" y="213"/>
                    </a:cubicBezTo>
                    <a:cubicBezTo>
                      <a:pt x="1965" y="213"/>
                      <a:pt x="1965" y="213"/>
                      <a:pt x="1965" y="213"/>
                    </a:cubicBezTo>
                    <a:cubicBezTo>
                      <a:pt x="1973" y="214"/>
                      <a:pt x="1973" y="214"/>
                      <a:pt x="1973" y="214"/>
                    </a:cubicBezTo>
                    <a:cubicBezTo>
                      <a:pt x="1982" y="214"/>
                      <a:pt x="1982" y="214"/>
                      <a:pt x="1982" y="214"/>
                    </a:cubicBezTo>
                    <a:cubicBezTo>
                      <a:pt x="1990" y="214"/>
                      <a:pt x="1990" y="214"/>
                      <a:pt x="1990" y="214"/>
                    </a:cubicBezTo>
                    <a:cubicBezTo>
                      <a:pt x="1999" y="215"/>
                      <a:pt x="1999" y="215"/>
                      <a:pt x="1999" y="215"/>
                    </a:cubicBezTo>
                    <a:cubicBezTo>
                      <a:pt x="2007" y="215"/>
                      <a:pt x="2007" y="215"/>
                      <a:pt x="2007" y="215"/>
                    </a:cubicBezTo>
                    <a:cubicBezTo>
                      <a:pt x="2016" y="216"/>
                      <a:pt x="2016" y="216"/>
                      <a:pt x="2016" y="216"/>
                    </a:cubicBezTo>
                    <a:cubicBezTo>
                      <a:pt x="2024" y="216"/>
                      <a:pt x="2024" y="216"/>
                      <a:pt x="2024" y="216"/>
                    </a:cubicBezTo>
                    <a:cubicBezTo>
                      <a:pt x="2033" y="216"/>
                      <a:pt x="2033" y="216"/>
                      <a:pt x="2033" y="216"/>
                    </a:cubicBezTo>
                    <a:cubicBezTo>
                      <a:pt x="2041" y="217"/>
                      <a:pt x="2041" y="217"/>
                      <a:pt x="2041" y="217"/>
                    </a:cubicBezTo>
                    <a:cubicBezTo>
                      <a:pt x="2050" y="217"/>
                      <a:pt x="2050" y="217"/>
                      <a:pt x="2050" y="217"/>
                    </a:cubicBezTo>
                    <a:cubicBezTo>
                      <a:pt x="2058" y="218"/>
                      <a:pt x="2058" y="218"/>
                      <a:pt x="2058" y="218"/>
                    </a:cubicBezTo>
                    <a:cubicBezTo>
                      <a:pt x="2067" y="218"/>
                      <a:pt x="2067" y="218"/>
                      <a:pt x="2067" y="218"/>
                    </a:cubicBezTo>
                    <a:cubicBezTo>
                      <a:pt x="2075" y="218"/>
                      <a:pt x="2075" y="218"/>
                      <a:pt x="2075" y="218"/>
                    </a:cubicBezTo>
                    <a:cubicBezTo>
                      <a:pt x="2084" y="219"/>
                      <a:pt x="2084" y="219"/>
                      <a:pt x="2084" y="219"/>
                    </a:cubicBezTo>
                    <a:cubicBezTo>
                      <a:pt x="2092" y="219"/>
                      <a:pt x="2092" y="219"/>
                      <a:pt x="2092" y="219"/>
                    </a:cubicBezTo>
                    <a:cubicBezTo>
                      <a:pt x="2101" y="220"/>
                      <a:pt x="2101" y="220"/>
                      <a:pt x="2101" y="220"/>
                    </a:cubicBezTo>
                    <a:cubicBezTo>
                      <a:pt x="2109" y="220"/>
                      <a:pt x="2109" y="220"/>
                      <a:pt x="2109" y="220"/>
                    </a:cubicBezTo>
                    <a:cubicBezTo>
                      <a:pt x="2118" y="220"/>
                      <a:pt x="2118" y="220"/>
                      <a:pt x="2118" y="220"/>
                    </a:cubicBezTo>
                    <a:cubicBezTo>
                      <a:pt x="2126" y="221"/>
                      <a:pt x="2126" y="221"/>
                      <a:pt x="2126" y="221"/>
                    </a:cubicBezTo>
                    <a:cubicBezTo>
                      <a:pt x="2135" y="221"/>
                      <a:pt x="2135" y="221"/>
                      <a:pt x="2135" y="221"/>
                    </a:cubicBezTo>
                    <a:cubicBezTo>
                      <a:pt x="2143" y="221"/>
                      <a:pt x="2143" y="221"/>
                      <a:pt x="2143" y="221"/>
                    </a:cubicBezTo>
                    <a:cubicBezTo>
                      <a:pt x="2152" y="222"/>
                      <a:pt x="2152" y="222"/>
                      <a:pt x="2152" y="222"/>
                    </a:cubicBezTo>
                    <a:cubicBezTo>
                      <a:pt x="2160" y="222"/>
                      <a:pt x="2160" y="222"/>
                      <a:pt x="2160" y="222"/>
                    </a:cubicBezTo>
                    <a:cubicBezTo>
                      <a:pt x="2169" y="223"/>
                      <a:pt x="2169" y="223"/>
                      <a:pt x="2169" y="223"/>
                    </a:cubicBezTo>
                    <a:cubicBezTo>
                      <a:pt x="2177" y="223"/>
                      <a:pt x="2177" y="223"/>
                      <a:pt x="2177" y="223"/>
                    </a:cubicBezTo>
                    <a:cubicBezTo>
                      <a:pt x="2186" y="223"/>
                      <a:pt x="2186" y="223"/>
                      <a:pt x="2186" y="223"/>
                    </a:cubicBezTo>
                    <a:cubicBezTo>
                      <a:pt x="2194" y="224"/>
                      <a:pt x="2194" y="224"/>
                      <a:pt x="2194" y="224"/>
                    </a:cubicBezTo>
                    <a:cubicBezTo>
                      <a:pt x="2203" y="224"/>
                      <a:pt x="2203" y="224"/>
                      <a:pt x="2203" y="224"/>
                    </a:cubicBezTo>
                    <a:cubicBezTo>
                      <a:pt x="2211" y="224"/>
                      <a:pt x="2211" y="224"/>
                      <a:pt x="2211" y="224"/>
                    </a:cubicBezTo>
                    <a:cubicBezTo>
                      <a:pt x="2220" y="225"/>
                      <a:pt x="2220" y="225"/>
                      <a:pt x="2220" y="225"/>
                    </a:cubicBezTo>
                    <a:cubicBezTo>
                      <a:pt x="2228" y="225"/>
                      <a:pt x="2228" y="225"/>
                      <a:pt x="2228" y="225"/>
                    </a:cubicBezTo>
                    <a:cubicBezTo>
                      <a:pt x="2237" y="225"/>
                      <a:pt x="2237" y="225"/>
                      <a:pt x="2237" y="225"/>
                    </a:cubicBezTo>
                    <a:cubicBezTo>
                      <a:pt x="2245" y="226"/>
                      <a:pt x="2245" y="226"/>
                      <a:pt x="2245" y="226"/>
                    </a:cubicBezTo>
                    <a:cubicBezTo>
                      <a:pt x="2254" y="226"/>
                      <a:pt x="2254" y="226"/>
                      <a:pt x="2254" y="226"/>
                    </a:cubicBezTo>
                    <a:cubicBezTo>
                      <a:pt x="2262" y="227"/>
                      <a:pt x="2262" y="227"/>
                      <a:pt x="2262" y="227"/>
                    </a:cubicBezTo>
                    <a:cubicBezTo>
                      <a:pt x="2271" y="227"/>
                      <a:pt x="2271" y="227"/>
                      <a:pt x="2271" y="227"/>
                    </a:cubicBezTo>
                    <a:cubicBezTo>
                      <a:pt x="2279" y="227"/>
                      <a:pt x="2279" y="227"/>
                      <a:pt x="2279" y="227"/>
                    </a:cubicBezTo>
                    <a:cubicBezTo>
                      <a:pt x="2288" y="228"/>
                      <a:pt x="2288" y="228"/>
                      <a:pt x="2288" y="228"/>
                    </a:cubicBezTo>
                    <a:cubicBezTo>
                      <a:pt x="2296" y="228"/>
                      <a:pt x="2296" y="228"/>
                      <a:pt x="2296" y="228"/>
                    </a:cubicBezTo>
                    <a:cubicBezTo>
                      <a:pt x="2305" y="228"/>
                      <a:pt x="2305" y="228"/>
                      <a:pt x="2305" y="228"/>
                    </a:cubicBezTo>
                    <a:cubicBezTo>
                      <a:pt x="2313" y="229"/>
                      <a:pt x="2313" y="229"/>
                      <a:pt x="2313" y="229"/>
                    </a:cubicBezTo>
                    <a:cubicBezTo>
                      <a:pt x="2322" y="229"/>
                      <a:pt x="2322" y="229"/>
                      <a:pt x="2322" y="229"/>
                    </a:cubicBezTo>
                    <a:cubicBezTo>
                      <a:pt x="2330" y="229"/>
                      <a:pt x="2330" y="229"/>
                      <a:pt x="2330" y="229"/>
                    </a:cubicBezTo>
                    <a:cubicBezTo>
                      <a:pt x="2339" y="230"/>
                      <a:pt x="2339" y="230"/>
                      <a:pt x="2339" y="230"/>
                    </a:cubicBezTo>
                    <a:cubicBezTo>
                      <a:pt x="2347" y="230"/>
                      <a:pt x="2347" y="230"/>
                      <a:pt x="2347" y="230"/>
                    </a:cubicBezTo>
                    <a:cubicBezTo>
                      <a:pt x="2356" y="230"/>
                      <a:pt x="2356" y="230"/>
                      <a:pt x="2356" y="230"/>
                    </a:cubicBezTo>
                    <a:cubicBezTo>
                      <a:pt x="2364" y="231"/>
                      <a:pt x="2364" y="231"/>
                      <a:pt x="2364" y="231"/>
                    </a:cubicBezTo>
                    <a:cubicBezTo>
                      <a:pt x="2373" y="231"/>
                      <a:pt x="2373" y="231"/>
                      <a:pt x="2373" y="231"/>
                    </a:cubicBezTo>
                    <a:cubicBezTo>
                      <a:pt x="2381" y="231"/>
                      <a:pt x="2381" y="231"/>
                      <a:pt x="2381" y="231"/>
                    </a:cubicBezTo>
                    <a:cubicBezTo>
                      <a:pt x="2390" y="231"/>
                      <a:pt x="2390" y="231"/>
                      <a:pt x="2390" y="231"/>
                    </a:cubicBezTo>
                    <a:cubicBezTo>
                      <a:pt x="2398" y="232"/>
                      <a:pt x="2398" y="232"/>
                      <a:pt x="2398" y="232"/>
                    </a:cubicBezTo>
                    <a:cubicBezTo>
                      <a:pt x="2407" y="232"/>
                      <a:pt x="2407" y="232"/>
                      <a:pt x="2407" y="232"/>
                    </a:cubicBezTo>
                    <a:cubicBezTo>
                      <a:pt x="2415" y="232"/>
                      <a:pt x="2415" y="232"/>
                      <a:pt x="2415" y="232"/>
                    </a:cubicBezTo>
                    <a:cubicBezTo>
                      <a:pt x="2424" y="233"/>
                      <a:pt x="2424" y="233"/>
                      <a:pt x="2424" y="233"/>
                    </a:cubicBezTo>
                    <a:cubicBezTo>
                      <a:pt x="2432" y="233"/>
                      <a:pt x="2432" y="233"/>
                      <a:pt x="2432" y="233"/>
                    </a:cubicBezTo>
                    <a:cubicBezTo>
                      <a:pt x="2441" y="233"/>
                      <a:pt x="2441" y="233"/>
                      <a:pt x="2441" y="233"/>
                    </a:cubicBezTo>
                    <a:cubicBezTo>
                      <a:pt x="2449" y="234"/>
                      <a:pt x="2449" y="234"/>
                      <a:pt x="2449" y="234"/>
                    </a:cubicBezTo>
                    <a:cubicBezTo>
                      <a:pt x="2458" y="234"/>
                      <a:pt x="2458" y="234"/>
                      <a:pt x="2458" y="234"/>
                    </a:cubicBezTo>
                    <a:cubicBezTo>
                      <a:pt x="2466" y="234"/>
                      <a:pt x="2466" y="234"/>
                      <a:pt x="2466" y="234"/>
                    </a:cubicBezTo>
                    <a:cubicBezTo>
                      <a:pt x="2475" y="235"/>
                      <a:pt x="2475" y="235"/>
                      <a:pt x="2475" y="235"/>
                    </a:cubicBezTo>
                    <a:cubicBezTo>
                      <a:pt x="2483" y="235"/>
                      <a:pt x="2483" y="235"/>
                      <a:pt x="2483" y="235"/>
                    </a:cubicBezTo>
                    <a:cubicBezTo>
                      <a:pt x="2492" y="235"/>
                      <a:pt x="2492" y="235"/>
                      <a:pt x="2492" y="235"/>
                    </a:cubicBezTo>
                    <a:cubicBezTo>
                      <a:pt x="2500" y="235"/>
                      <a:pt x="2500" y="235"/>
                      <a:pt x="2500" y="235"/>
                    </a:cubicBezTo>
                    <a:cubicBezTo>
                      <a:pt x="2509" y="236"/>
                      <a:pt x="2509" y="236"/>
                      <a:pt x="2509" y="236"/>
                    </a:cubicBezTo>
                    <a:cubicBezTo>
                      <a:pt x="2517" y="236"/>
                      <a:pt x="2517" y="236"/>
                      <a:pt x="2517" y="236"/>
                    </a:cubicBezTo>
                    <a:cubicBezTo>
                      <a:pt x="2526" y="236"/>
                      <a:pt x="2526" y="236"/>
                      <a:pt x="2526" y="236"/>
                    </a:cubicBezTo>
                    <a:cubicBezTo>
                      <a:pt x="2534" y="237"/>
                      <a:pt x="2534" y="237"/>
                      <a:pt x="2534" y="237"/>
                    </a:cubicBezTo>
                    <a:cubicBezTo>
                      <a:pt x="2543" y="237"/>
                      <a:pt x="2543" y="237"/>
                      <a:pt x="2543" y="237"/>
                    </a:cubicBezTo>
                    <a:cubicBezTo>
                      <a:pt x="2552" y="237"/>
                      <a:pt x="2552" y="237"/>
                      <a:pt x="2552" y="237"/>
                    </a:cubicBezTo>
                    <a:cubicBezTo>
                      <a:pt x="2560" y="237"/>
                      <a:pt x="2560" y="237"/>
                      <a:pt x="2560" y="237"/>
                    </a:cubicBezTo>
                    <a:cubicBezTo>
                      <a:pt x="2569" y="238"/>
                      <a:pt x="2569" y="238"/>
                      <a:pt x="2569" y="238"/>
                    </a:cubicBezTo>
                    <a:cubicBezTo>
                      <a:pt x="2577" y="238"/>
                      <a:pt x="2577" y="238"/>
                      <a:pt x="2577" y="238"/>
                    </a:cubicBezTo>
                    <a:cubicBezTo>
                      <a:pt x="2586" y="238"/>
                      <a:pt x="2586" y="238"/>
                      <a:pt x="2586" y="238"/>
                    </a:cubicBezTo>
                    <a:cubicBezTo>
                      <a:pt x="2594" y="239"/>
                      <a:pt x="2594" y="239"/>
                      <a:pt x="2594" y="239"/>
                    </a:cubicBezTo>
                    <a:cubicBezTo>
                      <a:pt x="2603" y="239"/>
                      <a:pt x="2603" y="239"/>
                      <a:pt x="2603" y="239"/>
                    </a:cubicBezTo>
                    <a:cubicBezTo>
                      <a:pt x="2611" y="239"/>
                      <a:pt x="2611" y="239"/>
                      <a:pt x="2611" y="239"/>
                    </a:cubicBezTo>
                    <a:cubicBezTo>
                      <a:pt x="2620" y="239"/>
                      <a:pt x="2620" y="239"/>
                      <a:pt x="2620" y="239"/>
                    </a:cubicBezTo>
                    <a:cubicBezTo>
                      <a:pt x="2628" y="240"/>
                      <a:pt x="2628" y="240"/>
                      <a:pt x="2628" y="240"/>
                    </a:cubicBezTo>
                    <a:cubicBezTo>
                      <a:pt x="2637" y="240"/>
                      <a:pt x="2637" y="240"/>
                      <a:pt x="2637" y="240"/>
                    </a:cubicBezTo>
                    <a:cubicBezTo>
                      <a:pt x="2645" y="240"/>
                      <a:pt x="2645" y="240"/>
                      <a:pt x="2645" y="240"/>
                    </a:cubicBezTo>
                    <a:cubicBezTo>
                      <a:pt x="2654" y="240"/>
                      <a:pt x="2654" y="240"/>
                      <a:pt x="2654" y="240"/>
                    </a:cubicBezTo>
                    <a:cubicBezTo>
                      <a:pt x="2662" y="241"/>
                      <a:pt x="2662" y="241"/>
                      <a:pt x="2662" y="241"/>
                    </a:cubicBezTo>
                    <a:cubicBezTo>
                      <a:pt x="2671" y="241"/>
                      <a:pt x="2671" y="241"/>
                      <a:pt x="2671" y="241"/>
                    </a:cubicBezTo>
                    <a:cubicBezTo>
                      <a:pt x="2679" y="241"/>
                      <a:pt x="2679" y="241"/>
                      <a:pt x="2679" y="241"/>
                    </a:cubicBezTo>
                    <a:cubicBezTo>
                      <a:pt x="2688" y="241"/>
                      <a:pt x="2688" y="241"/>
                      <a:pt x="2688" y="241"/>
                    </a:cubicBezTo>
                    <a:cubicBezTo>
                      <a:pt x="2696" y="242"/>
                      <a:pt x="2696" y="242"/>
                      <a:pt x="2696" y="242"/>
                    </a:cubicBezTo>
                    <a:cubicBezTo>
                      <a:pt x="2705" y="242"/>
                      <a:pt x="2705" y="242"/>
                      <a:pt x="2705" y="242"/>
                    </a:cubicBezTo>
                    <a:cubicBezTo>
                      <a:pt x="2713" y="242"/>
                      <a:pt x="2713" y="242"/>
                      <a:pt x="2713" y="242"/>
                    </a:cubicBezTo>
                    <a:cubicBezTo>
                      <a:pt x="2722" y="242"/>
                      <a:pt x="2722" y="242"/>
                      <a:pt x="2722" y="242"/>
                    </a:cubicBezTo>
                    <a:cubicBezTo>
                      <a:pt x="2730" y="243"/>
                      <a:pt x="2730" y="243"/>
                      <a:pt x="2730" y="243"/>
                    </a:cubicBezTo>
                    <a:cubicBezTo>
                      <a:pt x="2739" y="243"/>
                      <a:pt x="2739" y="243"/>
                      <a:pt x="2739" y="243"/>
                    </a:cubicBezTo>
                    <a:cubicBezTo>
                      <a:pt x="2747" y="243"/>
                      <a:pt x="2747" y="243"/>
                      <a:pt x="2747" y="243"/>
                    </a:cubicBezTo>
                    <a:cubicBezTo>
                      <a:pt x="2756" y="243"/>
                      <a:pt x="2756" y="243"/>
                      <a:pt x="2756" y="243"/>
                    </a:cubicBezTo>
                    <a:cubicBezTo>
                      <a:pt x="2764" y="244"/>
                      <a:pt x="2764" y="244"/>
                      <a:pt x="2764" y="244"/>
                    </a:cubicBezTo>
                    <a:cubicBezTo>
                      <a:pt x="2773" y="244"/>
                      <a:pt x="2773" y="244"/>
                      <a:pt x="2773" y="244"/>
                    </a:cubicBezTo>
                    <a:cubicBezTo>
                      <a:pt x="2781" y="244"/>
                      <a:pt x="2781" y="244"/>
                      <a:pt x="2781" y="244"/>
                    </a:cubicBezTo>
                    <a:cubicBezTo>
                      <a:pt x="2790" y="244"/>
                      <a:pt x="2790" y="244"/>
                      <a:pt x="2790" y="244"/>
                    </a:cubicBezTo>
                    <a:cubicBezTo>
                      <a:pt x="2798" y="245"/>
                      <a:pt x="2798" y="245"/>
                      <a:pt x="2798" y="245"/>
                    </a:cubicBezTo>
                    <a:cubicBezTo>
                      <a:pt x="2807" y="245"/>
                      <a:pt x="2807" y="245"/>
                      <a:pt x="2807" y="245"/>
                    </a:cubicBezTo>
                    <a:cubicBezTo>
                      <a:pt x="2815" y="245"/>
                      <a:pt x="2815" y="245"/>
                      <a:pt x="2815" y="245"/>
                    </a:cubicBezTo>
                    <a:cubicBezTo>
                      <a:pt x="2824" y="245"/>
                      <a:pt x="2824" y="245"/>
                      <a:pt x="2824" y="245"/>
                    </a:cubicBezTo>
                    <a:cubicBezTo>
                      <a:pt x="2832" y="246"/>
                      <a:pt x="2832" y="246"/>
                      <a:pt x="2832" y="246"/>
                    </a:cubicBezTo>
                    <a:cubicBezTo>
                      <a:pt x="2841" y="246"/>
                      <a:pt x="2841" y="246"/>
                      <a:pt x="2841" y="246"/>
                    </a:cubicBezTo>
                    <a:cubicBezTo>
                      <a:pt x="2849" y="246"/>
                      <a:pt x="2849" y="246"/>
                      <a:pt x="2849" y="246"/>
                    </a:cubicBezTo>
                    <a:cubicBezTo>
                      <a:pt x="2858" y="246"/>
                      <a:pt x="2858" y="246"/>
                      <a:pt x="2858" y="246"/>
                    </a:cubicBezTo>
                    <a:cubicBezTo>
                      <a:pt x="2866" y="246"/>
                      <a:pt x="2866" y="246"/>
                      <a:pt x="2866" y="246"/>
                    </a:cubicBezTo>
                    <a:cubicBezTo>
                      <a:pt x="2875" y="247"/>
                      <a:pt x="2875" y="247"/>
                      <a:pt x="2875" y="247"/>
                    </a:cubicBezTo>
                    <a:cubicBezTo>
                      <a:pt x="2883" y="247"/>
                      <a:pt x="2883" y="247"/>
                      <a:pt x="2883" y="247"/>
                    </a:cubicBezTo>
                    <a:cubicBezTo>
                      <a:pt x="2892" y="247"/>
                      <a:pt x="2892" y="247"/>
                      <a:pt x="2892" y="247"/>
                    </a:cubicBezTo>
                    <a:cubicBezTo>
                      <a:pt x="2900" y="247"/>
                      <a:pt x="2900" y="247"/>
                      <a:pt x="2900" y="247"/>
                    </a:cubicBezTo>
                    <a:cubicBezTo>
                      <a:pt x="2909" y="248"/>
                      <a:pt x="2909" y="248"/>
                      <a:pt x="2909" y="248"/>
                    </a:cubicBezTo>
                    <a:cubicBezTo>
                      <a:pt x="2917" y="248"/>
                      <a:pt x="2917" y="248"/>
                      <a:pt x="2917" y="248"/>
                    </a:cubicBezTo>
                    <a:cubicBezTo>
                      <a:pt x="2926" y="248"/>
                      <a:pt x="2926" y="248"/>
                      <a:pt x="2926" y="248"/>
                    </a:cubicBezTo>
                    <a:cubicBezTo>
                      <a:pt x="2934" y="248"/>
                      <a:pt x="2934" y="248"/>
                      <a:pt x="2934" y="248"/>
                    </a:cubicBezTo>
                    <a:cubicBezTo>
                      <a:pt x="2943" y="248"/>
                      <a:pt x="2943" y="248"/>
                      <a:pt x="2943" y="248"/>
                    </a:cubicBezTo>
                    <a:cubicBezTo>
                      <a:pt x="2951" y="249"/>
                      <a:pt x="2951" y="249"/>
                      <a:pt x="2951" y="249"/>
                    </a:cubicBezTo>
                    <a:cubicBezTo>
                      <a:pt x="2960" y="249"/>
                      <a:pt x="2960" y="249"/>
                      <a:pt x="2960" y="249"/>
                    </a:cubicBezTo>
                    <a:cubicBezTo>
                      <a:pt x="2968" y="249"/>
                      <a:pt x="2968" y="249"/>
                      <a:pt x="2968" y="249"/>
                    </a:cubicBezTo>
                    <a:cubicBezTo>
                      <a:pt x="2977" y="249"/>
                      <a:pt x="2977" y="249"/>
                      <a:pt x="2977" y="249"/>
                    </a:cubicBezTo>
                    <a:cubicBezTo>
                      <a:pt x="2985" y="249"/>
                      <a:pt x="2985" y="249"/>
                      <a:pt x="2985" y="249"/>
                    </a:cubicBezTo>
                    <a:cubicBezTo>
                      <a:pt x="2994" y="250"/>
                      <a:pt x="2994" y="250"/>
                      <a:pt x="2994" y="250"/>
                    </a:cubicBezTo>
                    <a:cubicBezTo>
                      <a:pt x="3002" y="250"/>
                      <a:pt x="3002" y="250"/>
                      <a:pt x="3002" y="250"/>
                    </a:cubicBezTo>
                    <a:cubicBezTo>
                      <a:pt x="3011" y="250"/>
                      <a:pt x="3011" y="250"/>
                      <a:pt x="3011" y="250"/>
                    </a:cubicBezTo>
                    <a:cubicBezTo>
                      <a:pt x="3019" y="250"/>
                      <a:pt x="3019" y="250"/>
                      <a:pt x="3019" y="250"/>
                    </a:cubicBezTo>
                    <a:cubicBezTo>
                      <a:pt x="3028" y="251"/>
                      <a:pt x="3028" y="251"/>
                      <a:pt x="3028" y="251"/>
                    </a:cubicBezTo>
                    <a:cubicBezTo>
                      <a:pt x="3036" y="251"/>
                      <a:pt x="3036" y="251"/>
                      <a:pt x="3036" y="251"/>
                    </a:cubicBezTo>
                    <a:cubicBezTo>
                      <a:pt x="3045" y="251"/>
                      <a:pt x="3045" y="251"/>
                      <a:pt x="3045" y="251"/>
                    </a:cubicBezTo>
                    <a:cubicBezTo>
                      <a:pt x="3053" y="251"/>
                      <a:pt x="3053" y="251"/>
                      <a:pt x="3053" y="251"/>
                    </a:cubicBezTo>
                    <a:cubicBezTo>
                      <a:pt x="3062" y="251"/>
                      <a:pt x="3062" y="251"/>
                      <a:pt x="3062" y="251"/>
                    </a:cubicBezTo>
                    <a:cubicBezTo>
                      <a:pt x="3070" y="252"/>
                      <a:pt x="3070" y="252"/>
                      <a:pt x="3070" y="252"/>
                    </a:cubicBezTo>
                    <a:cubicBezTo>
                      <a:pt x="3079" y="252"/>
                      <a:pt x="3079" y="252"/>
                      <a:pt x="3079" y="252"/>
                    </a:cubicBezTo>
                    <a:cubicBezTo>
                      <a:pt x="3087" y="252"/>
                      <a:pt x="3087" y="252"/>
                      <a:pt x="3087" y="252"/>
                    </a:cubicBezTo>
                    <a:cubicBezTo>
                      <a:pt x="3096" y="252"/>
                      <a:pt x="3096" y="252"/>
                      <a:pt x="3096" y="252"/>
                    </a:cubicBezTo>
                    <a:cubicBezTo>
                      <a:pt x="3104" y="252"/>
                      <a:pt x="3104" y="252"/>
                      <a:pt x="3104" y="252"/>
                    </a:cubicBezTo>
                    <a:cubicBezTo>
                      <a:pt x="3113" y="252"/>
                      <a:pt x="3113" y="252"/>
                      <a:pt x="3113" y="252"/>
                    </a:cubicBezTo>
                    <a:cubicBezTo>
                      <a:pt x="3121" y="253"/>
                      <a:pt x="3121" y="253"/>
                      <a:pt x="3121" y="253"/>
                    </a:cubicBezTo>
                    <a:cubicBezTo>
                      <a:pt x="3130" y="253"/>
                      <a:pt x="3130" y="253"/>
                      <a:pt x="3130" y="253"/>
                    </a:cubicBezTo>
                    <a:cubicBezTo>
                      <a:pt x="3138" y="253"/>
                      <a:pt x="3138" y="253"/>
                      <a:pt x="3138" y="253"/>
                    </a:cubicBezTo>
                    <a:cubicBezTo>
                      <a:pt x="3147" y="253"/>
                      <a:pt x="3147" y="253"/>
                      <a:pt x="3147" y="253"/>
                    </a:cubicBezTo>
                    <a:cubicBezTo>
                      <a:pt x="3155" y="253"/>
                      <a:pt x="3155" y="253"/>
                      <a:pt x="3155" y="253"/>
                    </a:cubicBezTo>
                    <a:cubicBezTo>
                      <a:pt x="3164" y="254"/>
                      <a:pt x="3164" y="254"/>
                      <a:pt x="3164" y="254"/>
                    </a:cubicBezTo>
                    <a:cubicBezTo>
                      <a:pt x="3172" y="254"/>
                      <a:pt x="3172" y="254"/>
                      <a:pt x="3172" y="254"/>
                    </a:cubicBezTo>
                    <a:cubicBezTo>
                      <a:pt x="3181" y="254"/>
                      <a:pt x="3181" y="254"/>
                      <a:pt x="3181" y="254"/>
                    </a:cubicBezTo>
                    <a:cubicBezTo>
                      <a:pt x="3189" y="254"/>
                      <a:pt x="3189" y="254"/>
                      <a:pt x="3189" y="254"/>
                    </a:cubicBezTo>
                    <a:cubicBezTo>
                      <a:pt x="3198" y="254"/>
                      <a:pt x="3198" y="254"/>
                      <a:pt x="3198" y="254"/>
                    </a:cubicBezTo>
                    <a:cubicBezTo>
                      <a:pt x="3206" y="254"/>
                      <a:pt x="3206" y="254"/>
                      <a:pt x="3206" y="254"/>
                    </a:cubicBezTo>
                    <a:cubicBezTo>
                      <a:pt x="3215" y="255"/>
                      <a:pt x="3215" y="255"/>
                      <a:pt x="3215" y="255"/>
                    </a:cubicBezTo>
                    <a:cubicBezTo>
                      <a:pt x="3223" y="255"/>
                      <a:pt x="3223" y="255"/>
                      <a:pt x="3223" y="255"/>
                    </a:cubicBezTo>
                    <a:cubicBezTo>
                      <a:pt x="3232" y="255"/>
                      <a:pt x="3232" y="255"/>
                      <a:pt x="3232" y="255"/>
                    </a:cubicBezTo>
                    <a:cubicBezTo>
                      <a:pt x="3240" y="255"/>
                      <a:pt x="3240" y="255"/>
                      <a:pt x="3240" y="255"/>
                    </a:cubicBezTo>
                    <a:cubicBezTo>
                      <a:pt x="3249" y="255"/>
                      <a:pt x="3249" y="255"/>
                      <a:pt x="3249" y="255"/>
                    </a:cubicBezTo>
                    <a:cubicBezTo>
                      <a:pt x="3257" y="256"/>
                      <a:pt x="3257" y="256"/>
                      <a:pt x="3257" y="256"/>
                    </a:cubicBezTo>
                    <a:cubicBezTo>
                      <a:pt x="3266" y="256"/>
                      <a:pt x="3266" y="256"/>
                      <a:pt x="3266" y="256"/>
                    </a:cubicBezTo>
                    <a:cubicBezTo>
                      <a:pt x="3274" y="256"/>
                      <a:pt x="3274" y="256"/>
                      <a:pt x="3274" y="256"/>
                    </a:cubicBezTo>
                    <a:cubicBezTo>
                      <a:pt x="3283" y="256"/>
                      <a:pt x="3283" y="256"/>
                      <a:pt x="3283" y="256"/>
                    </a:cubicBezTo>
                    <a:cubicBezTo>
                      <a:pt x="3291" y="256"/>
                      <a:pt x="3291" y="256"/>
                      <a:pt x="3291" y="256"/>
                    </a:cubicBezTo>
                    <a:cubicBezTo>
                      <a:pt x="3300" y="256"/>
                      <a:pt x="3300" y="256"/>
                      <a:pt x="3300" y="256"/>
                    </a:cubicBezTo>
                    <a:cubicBezTo>
                      <a:pt x="3308" y="257"/>
                      <a:pt x="3308" y="257"/>
                      <a:pt x="3308" y="257"/>
                    </a:cubicBezTo>
                    <a:cubicBezTo>
                      <a:pt x="3317" y="257"/>
                      <a:pt x="3317" y="257"/>
                      <a:pt x="3317" y="257"/>
                    </a:cubicBezTo>
                    <a:cubicBezTo>
                      <a:pt x="3325" y="257"/>
                      <a:pt x="3325" y="257"/>
                      <a:pt x="3325" y="257"/>
                    </a:cubicBezTo>
                    <a:cubicBezTo>
                      <a:pt x="3334" y="257"/>
                      <a:pt x="3334" y="257"/>
                      <a:pt x="3334" y="257"/>
                    </a:cubicBezTo>
                    <a:cubicBezTo>
                      <a:pt x="3342" y="257"/>
                      <a:pt x="3342" y="257"/>
                      <a:pt x="3342" y="257"/>
                    </a:cubicBezTo>
                    <a:cubicBezTo>
                      <a:pt x="3351" y="257"/>
                      <a:pt x="3351" y="257"/>
                      <a:pt x="3351" y="257"/>
                    </a:cubicBezTo>
                    <a:cubicBezTo>
                      <a:pt x="3359" y="257"/>
                      <a:pt x="3359" y="257"/>
                      <a:pt x="3359" y="257"/>
                    </a:cubicBezTo>
                    <a:cubicBezTo>
                      <a:pt x="3368" y="258"/>
                      <a:pt x="3368" y="258"/>
                      <a:pt x="3368" y="258"/>
                    </a:cubicBezTo>
                    <a:cubicBezTo>
                      <a:pt x="3376" y="258"/>
                      <a:pt x="3376" y="258"/>
                      <a:pt x="3376" y="258"/>
                    </a:cubicBezTo>
                    <a:cubicBezTo>
                      <a:pt x="3385" y="258"/>
                      <a:pt x="3385" y="258"/>
                      <a:pt x="3385" y="258"/>
                    </a:cubicBezTo>
                    <a:cubicBezTo>
                      <a:pt x="3393" y="258"/>
                      <a:pt x="3393" y="258"/>
                      <a:pt x="3393" y="258"/>
                    </a:cubicBezTo>
                    <a:cubicBezTo>
                      <a:pt x="3402" y="258"/>
                      <a:pt x="3402" y="258"/>
                      <a:pt x="3402" y="258"/>
                    </a:cubicBezTo>
                    <a:cubicBezTo>
                      <a:pt x="3411" y="258"/>
                      <a:pt x="3411" y="258"/>
                      <a:pt x="3411" y="258"/>
                    </a:cubicBezTo>
                    <a:cubicBezTo>
                      <a:pt x="3419" y="259"/>
                      <a:pt x="3419" y="259"/>
                      <a:pt x="3419" y="259"/>
                    </a:cubicBezTo>
                    <a:cubicBezTo>
                      <a:pt x="3428" y="259"/>
                      <a:pt x="3428" y="259"/>
                      <a:pt x="3428" y="259"/>
                    </a:cubicBezTo>
                    <a:cubicBezTo>
                      <a:pt x="3436" y="259"/>
                      <a:pt x="3436" y="259"/>
                      <a:pt x="3436" y="259"/>
                    </a:cubicBezTo>
                    <a:cubicBezTo>
                      <a:pt x="3445" y="259"/>
                      <a:pt x="3445" y="259"/>
                      <a:pt x="3445" y="259"/>
                    </a:cubicBezTo>
                    <a:cubicBezTo>
                      <a:pt x="3453" y="259"/>
                      <a:pt x="3453" y="259"/>
                      <a:pt x="3453" y="259"/>
                    </a:cubicBezTo>
                    <a:cubicBezTo>
                      <a:pt x="3462" y="259"/>
                      <a:pt x="3462" y="259"/>
                      <a:pt x="3462" y="259"/>
                    </a:cubicBezTo>
                    <a:cubicBezTo>
                      <a:pt x="3470" y="259"/>
                      <a:pt x="3470" y="259"/>
                      <a:pt x="3470" y="259"/>
                    </a:cubicBezTo>
                    <a:cubicBezTo>
                      <a:pt x="3479" y="260"/>
                      <a:pt x="3479" y="260"/>
                      <a:pt x="3479" y="260"/>
                    </a:cubicBezTo>
                    <a:cubicBezTo>
                      <a:pt x="3487" y="260"/>
                      <a:pt x="3487" y="260"/>
                      <a:pt x="3487" y="260"/>
                    </a:cubicBezTo>
                    <a:cubicBezTo>
                      <a:pt x="3496" y="260"/>
                      <a:pt x="3496" y="260"/>
                      <a:pt x="3496" y="260"/>
                    </a:cubicBezTo>
                    <a:cubicBezTo>
                      <a:pt x="3504" y="260"/>
                      <a:pt x="3504" y="260"/>
                      <a:pt x="3504" y="260"/>
                    </a:cubicBezTo>
                    <a:cubicBezTo>
                      <a:pt x="3513" y="260"/>
                      <a:pt x="3513" y="260"/>
                      <a:pt x="3513" y="260"/>
                    </a:cubicBezTo>
                    <a:cubicBezTo>
                      <a:pt x="3521" y="260"/>
                      <a:pt x="3521" y="260"/>
                      <a:pt x="3521" y="260"/>
                    </a:cubicBezTo>
                    <a:cubicBezTo>
                      <a:pt x="3530" y="260"/>
                      <a:pt x="3530" y="260"/>
                      <a:pt x="3530" y="260"/>
                    </a:cubicBezTo>
                    <a:cubicBezTo>
                      <a:pt x="3538" y="261"/>
                      <a:pt x="3538" y="261"/>
                      <a:pt x="3538" y="261"/>
                    </a:cubicBezTo>
                    <a:cubicBezTo>
                      <a:pt x="3547" y="261"/>
                      <a:pt x="3547" y="261"/>
                      <a:pt x="3547" y="261"/>
                    </a:cubicBezTo>
                    <a:cubicBezTo>
                      <a:pt x="3555" y="261"/>
                      <a:pt x="3555" y="261"/>
                      <a:pt x="3555" y="261"/>
                    </a:cubicBezTo>
                    <a:cubicBezTo>
                      <a:pt x="3564" y="261"/>
                      <a:pt x="3564" y="261"/>
                      <a:pt x="3564" y="261"/>
                    </a:cubicBezTo>
                    <a:cubicBezTo>
                      <a:pt x="3572" y="261"/>
                      <a:pt x="3572" y="261"/>
                      <a:pt x="3572" y="261"/>
                    </a:cubicBezTo>
                    <a:cubicBezTo>
                      <a:pt x="3581" y="261"/>
                      <a:pt x="3581" y="261"/>
                      <a:pt x="3581" y="261"/>
                    </a:cubicBezTo>
                    <a:cubicBezTo>
                      <a:pt x="3589" y="261"/>
                      <a:pt x="3589" y="261"/>
                      <a:pt x="3589" y="261"/>
                    </a:cubicBezTo>
                    <a:cubicBezTo>
                      <a:pt x="3598" y="262"/>
                      <a:pt x="3598" y="262"/>
                      <a:pt x="3598" y="262"/>
                    </a:cubicBezTo>
                    <a:cubicBezTo>
                      <a:pt x="3606" y="262"/>
                      <a:pt x="3606" y="262"/>
                      <a:pt x="3606" y="262"/>
                    </a:cubicBezTo>
                    <a:cubicBezTo>
                      <a:pt x="3615" y="262"/>
                      <a:pt x="3615" y="262"/>
                      <a:pt x="3615" y="262"/>
                    </a:cubicBezTo>
                    <a:cubicBezTo>
                      <a:pt x="3623" y="262"/>
                      <a:pt x="3623" y="262"/>
                      <a:pt x="3623" y="262"/>
                    </a:cubicBezTo>
                    <a:cubicBezTo>
                      <a:pt x="3632" y="262"/>
                      <a:pt x="3632" y="262"/>
                      <a:pt x="3632" y="262"/>
                    </a:cubicBezTo>
                    <a:cubicBezTo>
                      <a:pt x="3640" y="262"/>
                      <a:pt x="3640" y="262"/>
                      <a:pt x="3640" y="262"/>
                    </a:cubicBezTo>
                    <a:cubicBezTo>
                      <a:pt x="3649" y="262"/>
                      <a:pt x="3649" y="262"/>
                      <a:pt x="3649" y="262"/>
                    </a:cubicBezTo>
                    <a:cubicBezTo>
                      <a:pt x="3657" y="263"/>
                      <a:pt x="3657" y="263"/>
                      <a:pt x="3657" y="263"/>
                    </a:cubicBezTo>
                    <a:cubicBezTo>
                      <a:pt x="3666" y="263"/>
                      <a:pt x="3666" y="263"/>
                      <a:pt x="3666" y="263"/>
                    </a:cubicBezTo>
                    <a:cubicBezTo>
                      <a:pt x="3674" y="263"/>
                      <a:pt x="3674" y="263"/>
                      <a:pt x="3674" y="263"/>
                    </a:cubicBezTo>
                    <a:cubicBezTo>
                      <a:pt x="3683" y="263"/>
                      <a:pt x="3683" y="263"/>
                      <a:pt x="3683" y="263"/>
                    </a:cubicBezTo>
                    <a:cubicBezTo>
                      <a:pt x="3691" y="263"/>
                      <a:pt x="3691" y="263"/>
                      <a:pt x="3691" y="263"/>
                    </a:cubicBezTo>
                    <a:cubicBezTo>
                      <a:pt x="3700" y="263"/>
                      <a:pt x="3700" y="263"/>
                      <a:pt x="3700" y="263"/>
                    </a:cubicBezTo>
                    <a:cubicBezTo>
                      <a:pt x="3708" y="263"/>
                      <a:pt x="3708" y="263"/>
                      <a:pt x="3708" y="263"/>
                    </a:cubicBezTo>
                    <a:cubicBezTo>
                      <a:pt x="3717" y="263"/>
                      <a:pt x="3717" y="263"/>
                      <a:pt x="3717" y="263"/>
                    </a:cubicBezTo>
                    <a:cubicBezTo>
                      <a:pt x="3725" y="264"/>
                      <a:pt x="3725" y="264"/>
                      <a:pt x="3725" y="264"/>
                    </a:cubicBezTo>
                    <a:cubicBezTo>
                      <a:pt x="3734" y="264"/>
                      <a:pt x="3734" y="264"/>
                      <a:pt x="3734" y="264"/>
                    </a:cubicBezTo>
                    <a:cubicBezTo>
                      <a:pt x="3742" y="264"/>
                      <a:pt x="3742" y="264"/>
                      <a:pt x="3742" y="264"/>
                    </a:cubicBezTo>
                    <a:cubicBezTo>
                      <a:pt x="3751" y="264"/>
                      <a:pt x="3751" y="264"/>
                      <a:pt x="3751" y="264"/>
                    </a:cubicBezTo>
                    <a:cubicBezTo>
                      <a:pt x="3759" y="264"/>
                      <a:pt x="3759" y="264"/>
                      <a:pt x="3759" y="264"/>
                    </a:cubicBezTo>
                    <a:cubicBezTo>
                      <a:pt x="3768" y="264"/>
                      <a:pt x="3768" y="264"/>
                      <a:pt x="3768" y="264"/>
                    </a:cubicBezTo>
                    <a:cubicBezTo>
                      <a:pt x="3776" y="264"/>
                      <a:pt x="3776" y="264"/>
                      <a:pt x="3776" y="264"/>
                    </a:cubicBezTo>
                    <a:cubicBezTo>
                      <a:pt x="3785" y="264"/>
                      <a:pt x="3785" y="264"/>
                      <a:pt x="3785" y="264"/>
                    </a:cubicBezTo>
                    <a:cubicBezTo>
                      <a:pt x="3793" y="264"/>
                      <a:pt x="3793" y="264"/>
                      <a:pt x="3793" y="264"/>
                    </a:cubicBezTo>
                    <a:cubicBezTo>
                      <a:pt x="3802" y="265"/>
                      <a:pt x="3802" y="265"/>
                      <a:pt x="3802" y="265"/>
                    </a:cubicBezTo>
                    <a:cubicBezTo>
                      <a:pt x="3810" y="265"/>
                      <a:pt x="3810" y="265"/>
                      <a:pt x="3810" y="265"/>
                    </a:cubicBezTo>
                    <a:cubicBezTo>
                      <a:pt x="3819" y="265"/>
                      <a:pt x="3819" y="265"/>
                      <a:pt x="3819" y="265"/>
                    </a:cubicBezTo>
                    <a:cubicBezTo>
                      <a:pt x="3827" y="265"/>
                      <a:pt x="3827" y="265"/>
                      <a:pt x="3827" y="265"/>
                    </a:cubicBezTo>
                    <a:cubicBezTo>
                      <a:pt x="3836" y="265"/>
                      <a:pt x="3836" y="265"/>
                      <a:pt x="3836" y="265"/>
                    </a:cubicBezTo>
                    <a:cubicBezTo>
                      <a:pt x="3844" y="265"/>
                      <a:pt x="3844" y="265"/>
                      <a:pt x="3844" y="265"/>
                    </a:cubicBezTo>
                    <a:cubicBezTo>
                      <a:pt x="3853" y="265"/>
                      <a:pt x="3853" y="265"/>
                      <a:pt x="3853" y="265"/>
                    </a:cubicBezTo>
                    <a:cubicBezTo>
                      <a:pt x="3861" y="265"/>
                      <a:pt x="3861" y="265"/>
                      <a:pt x="3861" y="265"/>
                    </a:cubicBezTo>
                    <a:cubicBezTo>
                      <a:pt x="3870" y="266"/>
                      <a:pt x="3870" y="266"/>
                      <a:pt x="3870" y="266"/>
                    </a:cubicBezTo>
                    <a:cubicBezTo>
                      <a:pt x="3878" y="266"/>
                      <a:pt x="3878" y="266"/>
                      <a:pt x="3878" y="266"/>
                    </a:cubicBezTo>
                    <a:cubicBezTo>
                      <a:pt x="3887" y="266"/>
                      <a:pt x="3887" y="266"/>
                      <a:pt x="3887" y="266"/>
                    </a:cubicBezTo>
                    <a:cubicBezTo>
                      <a:pt x="3895" y="266"/>
                      <a:pt x="3895" y="266"/>
                      <a:pt x="3895" y="266"/>
                    </a:cubicBezTo>
                    <a:cubicBezTo>
                      <a:pt x="3904" y="266"/>
                      <a:pt x="3904" y="266"/>
                      <a:pt x="3904" y="266"/>
                    </a:cubicBezTo>
                    <a:cubicBezTo>
                      <a:pt x="3912" y="266"/>
                      <a:pt x="3912" y="266"/>
                      <a:pt x="3912" y="266"/>
                    </a:cubicBezTo>
                    <a:cubicBezTo>
                      <a:pt x="3921" y="266"/>
                      <a:pt x="3921" y="266"/>
                      <a:pt x="3921" y="266"/>
                    </a:cubicBezTo>
                    <a:cubicBezTo>
                      <a:pt x="3929" y="266"/>
                      <a:pt x="3929" y="266"/>
                      <a:pt x="3929" y="266"/>
                    </a:cubicBezTo>
                    <a:cubicBezTo>
                      <a:pt x="3938" y="266"/>
                      <a:pt x="3938" y="266"/>
                      <a:pt x="3938" y="266"/>
                    </a:cubicBezTo>
                    <a:cubicBezTo>
                      <a:pt x="3946" y="266"/>
                      <a:pt x="3946" y="266"/>
                      <a:pt x="3946" y="266"/>
                    </a:cubicBezTo>
                    <a:cubicBezTo>
                      <a:pt x="3955" y="267"/>
                      <a:pt x="3955" y="267"/>
                      <a:pt x="3955" y="267"/>
                    </a:cubicBezTo>
                    <a:cubicBezTo>
                      <a:pt x="3963" y="267"/>
                      <a:pt x="3963" y="267"/>
                      <a:pt x="3963" y="267"/>
                    </a:cubicBezTo>
                    <a:cubicBezTo>
                      <a:pt x="3972" y="267"/>
                      <a:pt x="3972" y="267"/>
                      <a:pt x="3972" y="267"/>
                    </a:cubicBezTo>
                    <a:cubicBezTo>
                      <a:pt x="3980" y="267"/>
                      <a:pt x="3980" y="267"/>
                      <a:pt x="3980" y="267"/>
                    </a:cubicBezTo>
                    <a:cubicBezTo>
                      <a:pt x="3989" y="267"/>
                      <a:pt x="3989" y="267"/>
                      <a:pt x="3989" y="267"/>
                    </a:cubicBezTo>
                    <a:cubicBezTo>
                      <a:pt x="3997" y="267"/>
                      <a:pt x="3997" y="267"/>
                      <a:pt x="3997" y="267"/>
                    </a:cubicBezTo>
                    <a:cubicBezTo>
                      <a:pt x="4006" y="267"/>
                      <a:pt x="4006" y="267"/>
                      <a:pt x="4006" y="267"/>
                    </a:cubicBezTo>
                    <a:cubicBezTo>
                      <a:pt x="4014" y="267"/>
                      <a:pt x="4014" y="267"/>
                      <a:pt x="4014" y="267"/>
                    </a:cubicBezTo>
                    <a:cubicBezTo>
                      <a:pt x="4023" y="267"/>
                      <a:pt x="4023" y="267"/>
                      <a:pt x="4023" y="267"/>
                    </a:cubicBezTo>
                    <a:cubicBezTo>
                      <a:pt x="4031" y="268"/>
                      <a:pt x="4031" y="268"/>
                      <a:pt x="4031" y="268"/>
                    </a:cubicBezTo>
                    <a:cubicBezTo>
                      <a:pt x="4040" y="268"/>
                      <a:pt x="4040" y="268"/>
                      <a:pt x="4040" y="268"/>
                    </a:cubicBezTo>
                    <a:cubicBezTo>
                      <a:pt x="4048" y="268"/>
                      <a:pt x="4048" y="268"/>
                      <a:pt x="4048" y="268"/>
                    </a:cubicBezTo>
                    <a:cubicBezTo>
                      <a:pt x="4057" y="268"/>
                      <a:pt x="4057" y="268"/>
                      <a:pt x="4057" y="268"/>
                    </a:cubicBezTo>
                    <a:cubicBezTo>
                      <a:pt x="4065" y="268"/>
                      <a:pt x="4065" y="268"/>
                      <a:pt x="4065" y="268"/>
                    </a:cubicBezTo>
                    <a:cubicBezTo>
                      <a:pt x="4074" y="268"/>
                      <a:pt x="4074" y="268"/>
                      <a:pt x="4074" y="268"/>
                    </a:cubicBezTo>
                    <a:cubicBezTo>
                      <a:pt x="4082" y="268"/>
                      <a:pt x="4082" y="268"/>
                      <a:pt x="4082" y="268"/>
                    </a:cubicBezTo>
                    <a:cubicBezTo>
                      <a:pt x="4091" y="268"/>
                      <a:pt x="4091" y="268"/>
                      <a:pt x="4091" y="268"/>
                    </a:cubicBezTo>
                    <a:cubicBezTo>
                      <a:pt x="4099" y="268"/>
                      <a:pt x="4099" y="268"/>
                      <a:pt x="4099" y="268"/>
                    </a:cubicBezTo>
                    <a:cubicBezTo>
                      <a:pt x="4108" y="268"/>
                      <a:pt x="4108" y="268"/>
                      <a:pt x="4108" y="268"/>
                    </a:cubicBezTo>
                    <a:cubicBezTo>
                      <a:pt x="4116" y="268"/>
                      <a:pt x="4116" y="268"/>
                      <a:pt x="4116" y="268"/>
                    </a:cubicBezTo>
                    <a:cubicBezTo>
                      <a:pt x="4125" y="269"/>
                      <a:pt x="4125" y="269"/>
                      <a:pt x="4125" y="269"/>
                    </a:cubicBezTo>
                    <a:cubicBezTo>
                      <a:pt x="4133" y="269"/>
                      <a:pt x="4133" y="269"/>
                      <a:pt x="4133" y="269"/>
                    </a:cubicBezTo>
                    <a:cubicBezTo>
                      <a:pt x="4142" y="269"/>
                      <a:pt x="4142" y="269"/>
                      <a:pt x="4142" y="269"/>
                    </a:cubicBezTo>
                    <a:cubicBezTo>
                      <a:pt x="4150" y="269"/>
                      <a:pt x="4150" y="269"/>
                      <a:pt x="4150" y="269"/>
                    </a:cubicBezTo>
                    <a:cubicBezTo>
                      <a:pt x="4159" y="269"/>
                      <a:pt x="4159" y="269"/>
                      <a:pt x="4159" y="269"/>
                    </a:cubicBezTo>
                    <a:cubicBezTo>
                      <a:pt x="4167" y="269"/>
                      <a:pt x="4167" y="269"/>
                      <a:pt x="4167" y="269"/>
                    </a:cubicBezTo>
                    <a:cubicBezTo>
                      <a:pt x="4176" y="269"/>
                      <a:pt x="4176" y="269"/>
                      <a:pt x="4176" y="269"/>
                    </a:cubicBezTo>
                    <a:cubicBezTo>
                      <a:pt x="4184" y="269"/>
                      <a:pt x="4184" y="269"/>
                      <a:pt x="4184" y="269"/>
                    </a:cubicBezTo>
                    <a:cubicBezTo>
                      <a:pt x="4193" y="269"/>
                      <a:pt x="4193" y="269"/>
                      <a:pt x="4193" y="269"/>
                    </a:cubicBezTo>
                    <a:cubicBezTo>
                      <a:pt x="4201" y="269"/>
                      <a:pt x="4201" y="269"/>
                      <a:pt x="4201" y="269"/>
                    </a:cubicBezTo>
                    <a:cubicBezTo>
                      <a:pt x="4210" y="269"/>
                      <a:pt x="4210" y="269"/>
                      <a:pt x="4210" y="269"/>
                    </a:cubicBezTo>
                    <a:cubicBezTo>
                      <a:pt x="4218" y="270"/>
                      <a:pt x="4218" y="270"/>
                      <a:pt x="4218" y="270"/>
                    </a:cubicBezTo>
                    <a:cubicBezTo>
                      <a:pt x="4227" y="270"/>
                      <a:pt x="4227" y="270"/>
                      <a:pt x="4227" y="270"/>
                    </a:cubicBezTo>
                    <a:cubicBezTo>
                      <a:pt x="4235" y="270"/>
                      <a:pt x="4235" y="270"/>
                      <a:pt x="4235" y="270"/>
                    </a:cubicBezTo>
                    <a:cubicBezTo>
                      <a:pt x="4244" y="270"/>
                      <a:pt x="4244" y="270"/>
                      <a:pt x="4244" y="27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1828800" y="1633680"/>
                <a:ext cx="2693160" cy="1854720"/>
              </a:xfrm>
              <a:custGeom>
                <a:avLst/>
                <a:gdLst/>
                <a:ahLst/>
                <a:rect l="l" t="t" r="r" b="b"/>
                <a:pathLst>
                  <a:path w="4240" h="357">
                    <a:moveTo>
                      <a:pt x="0" y="92"/>
                    </a:moveTo>
                    <a:cubicBezTo>
                      <a:pt x="4" y="89"/>
                      <a:pt x="4" y="89"/>
                      <a:pt x="4" y="89"/>
                    </a:cubicBezTo>
                    <a:cubicBezTo>
                      <a:pt x="9" y="86"/>
                      <a:pt x="9" y="86"/>
                      <a:pt x="9" y="86"/>
                    </a:cubicBezTo>
                    <a:cubicBezTo>
                      <a:pt x="13" y="83"/>
                      <a:pt x="13" y="83"/>
                      <a:pt x="13" y="83"/>
                    </a:cubicBezTo>
                    <a:cubicBezTo>
                      <a:pt x="17" y="80"/>
                      <a:pt x="17" y="80"/>
                      <a:pt x="17" y="80"/>
                    </a:cubicBezTo>
                    <a:cubicBezTo>
                      <a:pt x="21" y="77"/>
                      <a:pt x="21" y="77"/>
                      <a:pt x="21" y="77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30" y="71"/>
                      <a:pt x="30" y="71"/>
                      <a:pt x="30" y="71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51" y="58"/>
                      <a:pt x="51" y="58"/>
                      <a:pt x="51" y="58"/>
                    </a:cubicBezTo>
                    <a:cubicBezTo>
                      <a:pt x="60" y="53"/>
                      <a:pt x="60" y="53"/>
                      <a:pt x="60" y="53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85" y="39"/>
                      <a:pt x="85" y="39"/>
                      <a:pt x="85" y="39"/>
                    </a:cubicBezTo>
                    <a:cubicBezTo>
                      <a:pt x="94" y="35"/>
                      <a:pt x="94" y="35"/>
                      <a:pt x="94" y="35"/>
                    </a:cubicBezTo>
                    <a:cubicBezTo>
                      <a:pt x="102" y="31"/>
                      <a:pt x="102" y="31"/>
                      <a:pt x="102" y="31"/>
                    </a:cubicBezTo>
                    <a:cubicBezTo>
                      <a:pt x="111" y="28"/>
                      <a:pt x="111" y="28"/>
                      <a:pt x="111" y="28"/>
                    </a:cubicBezTo>
                    <a:cubicBezTo>
                      <a:pt x="119" y="24"/>
                      <a:pt x="119" y="24"/>
                      <a:pt x="119" y="24"/>
                    </a:cubicBezTo>
                    <a:cubicBezTo>
                      <a:pt x="128" y="21"/>
                      <a:pt x="128" y="21"/>
                      <a:pt x="128" y="21"/>
                    </a:cubicBezTo>
                    <a:cubicBezTo>
                      <a:pt x="136" y="18"/>
                      <a:pt x="136" y="18"/>
                      <a:pt x="136" y="18"/>
                    </a:cubicBezTo>
                    <a:cubicBezTo>
                      <a:pt x="145" y="15"/>
                      <a:pt x="145" y="15"/>
                      <a:pt x="145" y="15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62" y="11"/>
                      <a:pt x="162" y="11"/>
                      <a:pt x="162" y="11"/>
                    </a:cubicBezTo>
                    <a:cubicBezTo>
                      <a:pt x="170" y="9"/>
                      <a:pt x="170" y="9"/>
                      <a:pt x="170" y="9"/>
                    </a:cubicBezTo>
                    <a:cubicBezTo>
                      <a:pt x="179" y="7"/>
                      <a:pt x="179" y="7"/>
                      <a:pt x="179" y="7"/>
                    </a:cubicBezTo>
                    <a:cubicBezTo>
                      <a:pt x="187" y="5"/>
                      <a:pt x="187" y="5"/>
                      <a:pt x="187" y="5"/>
                    </a:cubicBezTo>
                    <a:cubicBezTo>
                      <a:pt x="196" y="4"/>
                      <a:pt x="196" y="4"/>
                      <a:pt x="196" y="4"/>
                    </a:cubicBezTo>
                    <a:cubicBezTo>
                      <a:pt x="204" y="3"/>
                      <a:pt x="204" y="3"/>
                      <a:pt x="204" y="3"/>
                    </a:cubicBezTo>
                    <a:cubicBezTo>
                      <a:pt x="213" y="2"/>
                      <a:pt x="213" y="2"/>
                      <a:pt x="213" y="2"/>
                    </a:cubicBezTo>
                    <a:cubicBezTo>
                      <a:pt x="221" y="1"/>
                      <a:pt x="221" y="1"/>
                      <a:pt x="221" y="1"/>
                    </a:cubicBezTo>
                    <a:cubicBezTo>
                      <a:pt x="230" y="1"/>
                      <a:pt x="230" y="1"/>
                      <a:pt x="230" y="1"/>
                    </a:cubicBezTo>
                    <a:cubicBezTo>
                      <a:pt x="238" y="0"/>
                      <a:pt x="238" y="0"/>
                      <a:pt x="238" y="0"/>
                    </a:cubicBezTo>
                    <a:cubicBezTo>
                      <a:pt x="247" y="0"/>
                      <a:pt x="247" y="0"/>
                      <a:pt x="247" y="0"/>
                    </a:cubicBezTo>
                    <a:cubicBezTo>
                      <a:pt x="255" y="0"/>
                      <a:pt x="255" y="0"/>
                      <a:pt x="255" y="0"/>
                    </a:cubicBezTo>
                    <a:cubicBezTo>
                      <a:pt x="264" y="1"/>
                      <a:pt x="264" y="1"/>
                      <a:pt x="264" y="1"/>
                    </a:cubicBezTo>
                    <a:cubicBezTo>
                      <a:pt x="272" y="1"/>
                      <a:pt x="272" y="1"/>
                      <a:pt x="272" y="1"/>
                    </a:cubicBezTo>
                    <a:cubicBezTo>
                      <a:pt x="281" y="2"/>
                      <a:pt x="281" y="2"/>
                      <a:pt x="281" y="2"/>
                    </a:cubicBezTo>
                    <a:cubicBezTo>
                      <a:pt x="289" y="3"/>
                      <a:pt x="289" y="3"/>
                      <a:pt x="289" y="3"/>
                    </a:cubicBezTo>
                    <a:cubicBezTo>
                      <a:pt x="298" y="4"/>
                      <a:pt x="298" y="4"/>
                      <a:pt x="298" y="4"/>
                    </a:cubicBezTo>
                    <a:cubicBezTo>
                      <a:pt x="306" y="6"/>
                      <a:pt x="306" y="6"/>
                      <a:pt x="306" y="6"/>
                    </a:cubicBezTo>
                    <a:cubicBezTo>
                      <a:pt x="315" y="7"/>
                      <a:pt x="315" y="7"/>
                      <a:pt x="315" y="7"/>
                    </a:cubicBezTo>
                    <a:cubicBezTo>
                      <a:pt x="323" y="9"/>
                      <a:pt x="323" y="9"/>
                      <a:pt x="323" y="9"/>
                    </a:cubicBezTo>
                    <a:cubicBezTo>
                      <a:pt x="332" y="11"/>
                      <a:pt x="332" y="11"/>
                      <a:pt x="332" y="11"/>
                    </a:cubicBezTo>
                    <a:cubicBezTo>
                      <a:pt x="340" y="13"/>
                      <a:pt x="340" y="13"/>
                      <a:pt x="340" y="13"/>
                    </a:cubicBezTo>
                    <a:cubicBezTo>
                      <a:pt x="349" y="15"/>
                      <a:pt x="349" y="15"/>
                      <a:pt x="349" y="15"/>
                    </a:cubicBezTo>
                    <a:cubicBezTo>
                      <a:pt x="357" y="18"/>
                      <a:pt x="357" y="18"/>
                      <a:pt x="357" y="18"/>
                    </a:cubicBezTo>
                    <a:cubicBezTo>
                      <a:pt x="366" y="20"/>
                      <a:pt x="366" y="20"/>
                      <a:pt x="366" y="20"/>
                    </a:cubicBezTo>
                    <a:cubicBezTo>
                      <a:pt x="374" y="23"/>
                      <a:pt x="374" y="23"/>
                      <a:pt x="374" y="23"/>
                    </a:cubicBezTo>
                    <a:cubicBezTo>
                      <a:pt x="383" y="26"/>
                      <a:pt x="383" y="26"/>
                      <a:pt x="383" y="26"/>
                    </a:cubicBezTo>
                    <a:cubicBezTo>
                      <a:pt x="391" y="29"/>
                      <a:pt x="391" y="29"/>
                      <a:pt x="391" y="29"/>
                    </a:cubicBezTo>
                    <a:cubicBezTo>
                      <a:pt x="400" y="32"/>
                      <a:pt x="400" y="32"/>
                      <a:pt x="400" y="32"/>
                    </a:cubicBezTo>
                    <a:cubicBezTo>
                      <a:pt x="408" y="35"/>
                      <a:pt x="408" y="35"/>
                      <a:pt x="408" y="35"/>
                    </a:cubicBezTo>
                    <a:cubicBezTo>
                      <a:pt x="417" y="39"/>
                      <a:pt x="417" y="39"/>
                      <a:pt x="417" y="39"/>
                    </a:cubicBezTo>
                    <a:cubicBezTo>
                      <a:pt x="425" y="42"/>
                      <a:pt x="425" y="42"/>
                      <a:pt x="425" y="42"/>
                    </a:cubicBezTo>
                    <a:cubicBezTo>
                      <a:pt x="434" y="46"/>
                      <a:pt x="434" y="46"/>
                      <a:pt x="434" y="46"/>
                    </a:cubicBezTo>
                    <a:cubicBezTo>
                      <a:pt x="442" y="50"/>
                      <a:pt x="442" y="50"/>
                      <a:pt x="442" y="50"/>
                    </a:cubicBezTo>
                    <a:cubicBezTo>
                      <a:pt x="451" y="54"/>
                      <a:pt x="451" y="54"/>
                      <a:pt x="451" y="54"/>
                    </a:cubicBezTo>
                    <a:cubicBezTo>
                      <a:pt x="459" y="58"/>
                      <a:pt x="459" y="58"/>
                      <a:pt x="459" y="58"/>
                    </a:cubicBezTo>
                    <a:cubicBezTo>
                      <a:pt x="468" y="62"/>
                      <a:pt x="468" y="62"/>
                      <a:pt x="468" y="62"/>
                    </a:cubicBezTo>
                    <a:cubicBezTo>
                      <a:pt x="476" y="67"/>
                      <a:pt x="476" y="67"/>
                      <a:pt x="476" y="67"/>
                    </a:cubicBezTo>
                    <a:cubicBezTo>
                      <a:pt x="485" y="71"/>
                      <a:pt x="485" y="71"/>
                      <a:pt x="485" y="71"/>
                    </a:cubicBezTo>
                    <a:cubicBezTo>
                      <a:pt x="493" y="76"/>
                      <a:pt x="493" y="76"/>
                      <a:pt x="493" y="76"/>
                    </a:cubicBezTo>
                    <a:cubicBezTo>
                      <a:pt x="502" y="80"/>
                      <a:pt x="502" y="80"/>
                      <a:pt x="502" y="80"/>
                    </a:cubicBezTo>
                    <a:cubicBezTo>
                      <a:pt x="510" y="85"/>
                      <a:pt x="510" y="85"/>
                      <a:pt x="510" y="85"/>
                    </a:cubicBezTo>
                    <a:cubicBezTo>
                      <a:pt x="519" y="90"/>
                      <a:pt x="519" y="90"/>
                      <a:pt x="519" y="90"/>
                    </a:cubicBezTo>
                    <a:cubicBezTo>
                      <a:pt x="527" y="94"/>
                      <a:pt x="527" y="94"/>
                      <a:pt x="527" y="94"/>
                    </a:cubicBezTo>
                    <a:cubicBezTo>
                      <a:pt x="536" y="99"/>
                      <a:pt x="536" y="99"/>
                      <a:pt x="536" y="99"/>
                    </a:cubicBezTo>
                    <a:cubicBezTo>
                      <a:pt x="544" y="104"/>
                      <a:pt x="544" y="104"/>
                      <a:pt x="544" y="104"/>
                    </a:cubicBezTo>
                    <a:cubicBezTo>
                      <a:pt x="553" y="109"/>
                      <a:pt x="553" y="109"/>
                      <a:pt x="553" y="109"/>
                    </a:cubicBezTo>
                    <a:cubicBezTo>
                      <a:pt x="561" y="114"/>
                      <a:pt x="561" y="114"/>
                      <a:pt x="561" y="114"/>
                    </a:cubicBezTo>
                    <a:cubicBezTo>
                      <a:pt x="570" y="120"/>
                      <a:pt x="570" y="120"/>
                      <a:pt x="570" y="120"/>
                    </a:cubicBezTo>
                    <a:cubicBezTo>
                      <a:pt x="578" y="125"/>
                      <a:pt x="578" y="125"/>
                      <a:pt x="578" y="125"/>
                    </a:cubicBezTo>
                    <a:cubicBezTo>
                      <a:pt x="587" y="130"/>
                      <a:pt x="587" y="130"/>
                      <a:pt x="587" y="130"/>
                    </a:cubicBezTo>
                    <a:cubicBezTo>
                      <a:pt x="595" y="135"/>
                      <a:pt x="595" y="135"/>
                      <a:pt x="595" y="135"/>
                    </a:cubicBezTo>
                    <a:cubicBezTo>
                      <a:pt x="604" y="140"/>
                      <a:pt x="604" y="140"/>
                      <a:pt x="604" y="140"/>
                    </a:cubicBezTo>
                    <a:cubicBezTo>
                      <a:pt x="612" y="146"/>
                      <a:pt x="612" y="146"/>
                      <a:pt x="612" y="146"/>
                    </a:cubicBezTo>
                    <a:cubicBezTo>
                      <a:pt x="617" y="148"/>
                      <a:pt x="617" y="148"/>
                      <a:pt x="617" y="148"/>
                    </a:cubicBezTo>
                    <a:cubicBezTo>
                      <a:pt x="621" y="151"/>
                      <a:pt x="621" y="151"/>
                      <a:pt x="621" y="151"/>
                    </a:cubicBezTo>
                    <a:cubicBezTo>
                      <a:pt x="625" y="154"/>
                      <a:pt x="625" y="154"/>
                      <a:pt x="625" y="154"/>
                    </a:cubicBezTo>
                    <a:cubicBezTo>
                      <a:pt x="629" y="156"/>
                      <a:pt x="629" y="156"/>
                      <a:pt x="629" y="156"/>
                    </a:cubicBezTo>
                    <a:cubicBezTo>
                      <a:pt x="634" y="159"/>
                      <a:pt x="634" y="159"/>
                      <a:pt x="634" y="159"/>
                    </a:cubicBezTo>
                    <a:cubicBezTo>
                      <a:pt x="638" y="161"/>
                      <a:pt x="638" y="161"/>
                      <a:pt x="638" y="161"/>
                    </a:cubicBezTo>
                    <a:cubicBezTo>
                      <a:pt x="642" y="164"/>
                      <a:pt x="642" y="164"/>
                      <a:pt x="642" y="164"/>
                    </a:cubicBezTo>
                    <a:cubicBezTo>
                      <a:pt x="646" y="167"/>
                      <a:pt x="646" y="167"/>
                      <a:pt x="646" y="167"/>
                    </a:cubicBezTo>
                    <a:cubicBezTo>
                      <a:pt x="651" y="169"/>
                      <a:pt x="651" y="169"/>
                      <a:pt x="651" y="169"/>
                    </a:cubicBezTo>
                    <a:cubicBezTo>
                      <a:pt x="655" y="172"/>
                      <a:pt x="655" y="172"/>
                      <a:pt x="655" y="172"/>
                    </a:cubicBezTo>
                    <a:cubicBezTo>
                      <a:pt x="659" y="175"/>
                      <a:pt x="659" y="175"/>
                      <a:pt x="659" y="175"/>
                    </a:cubicBezTo>
                    <a:cubicBezTo>
                      <a:pt x="663" y="177"/>
                      <a:pt x="663" y="177"/>
                      <a:pt x="663" y="177"/>
                    </a:cubicBezTo>
                    <a:cubicBezTo>
                      <a:pt x="668" y="180"/>
                      <a:pt x="668" y="180"/>
                      <a:pt x="668" y="180"/>
                    </a:cubicBezTo>
                    <a:cubicBezTo>
                      <a:pt x="672" y="183"/>
                      <a:pt x="672" y="183"/>
                      <a:pt x="672" y="183"/>
                    </a:cubicBezTo>
                    <a:cubicBezTo>
                      <a:pt x="685" y="191"/>
                      <a:pt x="685" y="191"/>
                      <a:pt x="685" y="191"/>
                    </a:cubicBezTo>
                    <a:cubicBezTo>
                      <a:pt x="693" y="196"/>
                      <a:pt x="693" y="196"/>
                      <a:pt x="693" y="196"/>
                    </a:cubicBezTo>
                    <a:cubicBezTo>
                      <a:pt x="702" y="201"/>
                      <a:pt x="702" y="201"/>
                      <a:pt x="702" y="201"/>
                    </a:cubicBezTo>
                    <a:cubicBezTo>
                      <a:pt x="710" y="206"/>
                      <a:pt x="710" y="206"/>
                      <a:pt x="710" y="206"/>
                    </a:cubicBezTo>
                    <a:cubicBezTo>
                      <a:pt x="719" y="211"/>
                      <a:pt x="719" y="211"/>
                      <a:pt x="719" y="211"/>
                    </a:cubicBezTo>
                    <a:cubicBezTo>
                      <a:pt x="727" y="216"/>
                      <a:pt x="727" y="216"/>
                      <a:pt x="727" y="216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44" y="226"/>
                      <a:pt x="744" y="226"/>
                      <a:pt x="744" y="226"/>
                    </a:cubicBezTo>
                    <a:cubicBezTo>
                      <a:pt x="753" y="231"/>
                      <a:pt x="753" y="231"/>
                      <a:pt x="753" y="231"/>
                    </a:cubicBezTo>
                    <a:cubicBezTo>
                      <a:pt x="761" y="236"/>
                      <a:pt x="761" y="236"/>
                      <a:pt x="761" y="236"/>
                    </a:cubicBezTo>
                    <a:cubicBezTo>
                      <a:pt x="770" y="241"/>
                      <a:pt x="770" y="241"/>
                      <a:pt x="770" y="241"/>
                    </a:cubicBezTo>
                    <a:cubicBezTo>
                      <a:pt x="778" y="246"/>
                      <a:pt x="778" y="246"/>
                      <a:pt x="778" y="246"/>
                    </a:cubicBezTo>
                    <a:cubicBezTo>
                      <a:pt x="787" y="250"/>
                      <a:pt x="787" y="250"/>
                      <a:pt x="787" y="250"/>
                    </a:cubicBezTo>
                    <a:cubicBezTo>
                      <a:pt x="795" y="255"/>
                      <a:pt x="795" y="255"/>
                      <a:pt x="795" y="255"/>
                    </a:cubicBezTo>
                    <a:cubicBezTo>
                      <a:pt x="804" y="260"/>
                      <a:pt x="804" y="260"/>
                      <a:pt x="804" y="260"/>
                    </a:cubicBezTo>
                    <a:cubicBezTo>
                      <a:pt x="812" y="264"/>
                      <a:pt x="812" y="264"/>
                      <a:pt x="812" y="264"/>
                    </a:cubicBezTo>
                    <a:cubicBezTo>
                      <a:pt x="821" y="269"/>
                      <a:pt x="821" y="269"/>
                      <a:pt x="821" y="269"/>
                    </a:cubicBezTo>
                    <a:cubicBezTo>
                      <a:pt x="829" y="273"/>
                      <a:pt x="829" y="273"/>
                      <a:pt x="829" y="273"/>
                    </a:cubicBezTo>
                    <a:cubicBezTo>
                      <a:pt x="838" y="277"/>
                      <a:pt x="838" y="277"/>
                      <a:pt x="838" y="277"/>
                    </a:cubicBezTo>
                    <a:cubicBezTo>
                      <a:pt x="846" y="281"/>
                      <a:pt x="846" y="281"/>
                      <a:pt x="846" y="281"/>
                    </a:cubicBezTo>
                    <a:cubicBezTo>
                      <a:pt x="855" y="285"/>
                      <a:pt x="855" y="285"/>
                      <a:pt x="855" y="285"/>
                    </a:cubicBezTo>
                    <a:cubicBezTo>
                      <a:pt x="863" y="289"/>
                      <a:pt x="863" y="289"/>
                      <a:pt x="863" y="289"/>
                    </a:cubicBezTo>
                    <a:cubicBezTo>
                      <a:pt x="872" y="293"/>
                      <a:pt x="872" y="293"/>
                      <a:pt x="872" y="293"/>
                    </a:cubicBezTo>
                    <a:cubicBezTo>
                      <a:pt x="880" y="297"/>
                      <a:pt x="880" y="297"/>
                      <a:pt x="880" y="297"/>
                    </a:cubicBezTo>
                    <a:cubicBezTo>
                      <a:pt x="889" y="300"/>
                      <a:pt x="889" y="300"/>
                      <a:pt x="889" y="300"/>
                    </a:cubicBezTo>
                    <a:cubicBezTo>
                      <a:pt x="897" y="304"/>
                      <a:pt x="897" y="304"/>
                      <a:pt x="897" y="304"/>
                    </a:cubicBezTo>
                    <a:cubicBezTo>
                      <a:pt x="906" y="307"/>
                      <a:pt x="906" y="307"/>
                      <a:pt x="906" y="307"/>
                    </a:cubicBezTo>
                    <a:cubicBezTo>
                      <a:pt x="914" y="311"/>
                      <a:pt x="914" y="311"/>
                      <a:pt x="914" y="311"/>
                    </a:cubicBezTo>
                    <a:cubicBezTo>
                      <a:pt x="923" y="314"/>
                      <a:pt x="923" y="314"/>
                      <a:pt x="923" y="314"/>
                    </a:cubicBezTo>
                    <a:cubicBezTo>
                      <a:pt x="931" y="317"/>
                      <a:pt x="931" y="317"/>
                      <a:pt x="931" y="317"/>
                    </a:cubicBezTo>
                    <a:cubicBezTo>
                      <a:pt x="940" y="320"/>
                      <a:pt x="940" y="320"/>
                      <a:pt x="940" y="320"/>
                    </a:cubicBezTo>
                    <a:cubicBezTo>
                      <a:pt x="948" y="323"/>
                      <a:pt x="948" y="323"/>
                      <a:pt x="948" y="323"/>
                    </a:cubicBezTo>
                    <a:cubicBezTo>
                      <a:pt x="957" y="326"/>
                      <a:pt x="957" y="326"/>
                      <a:pt x="957" y="326"/>
                    </a:cubicBezTo>
                    <a:cubicBezTo>
                      <a:pt x="965" y="328"/>
                      <a:pt x="965" y="328"/>
                      <a:pt x="965" y="328"/>
                    </a:cubicBezTo>
                    <a:cubicBezTo>
                      <a:pt x="974" y="331"/>
                      <a:pt x="974" y="331"/>
                      <a:pt x="974" y="331"/>
                    </a:cubicBezTo>
                    <a:cubicBezTo>
                      <a:pt x="982" y="333"/>
                      <a:pt x="982" y="333"/>
                      <a:pt x="982" y="333"/>
                    </a:cubicBezTo>
                    <a:cubicBezTo>
                      <a:pt x="991" y="336"/>
                      <a:pt x="991" y="336"/>
                      <a:pt x="991" y="336"/>
                    </a:cubicBezTo>
                    <a:cubicBezTo>
                      <a:pt x="999" y="338"/>
                      <a:pt x="999" y="338"/>
                      <a:pt x="999" y="338"/>
                    </a:cubicBezTo>
                    <a:cubicBezTo>
                      <a:pt x="1008" y="340"/>
                      <a:pt x="1008" y="340"/>
                      <a:pt x="1008" y="340"/>
                    </a:cubicBezTo>
                    <a:cubicBezTo>
                      <a:pt x="1016" y="342"/>
                      <a:pt x="1016" y="342"/>
                      <a:pt x="1016" y="342"/>
                    </a:cubicBezTo>
                    <a:cubicBezTo>
                      <a:pt x="1025" y="344"/>
                      <a:pt x="1025" y="344"/>
                      <a:pt x="1025" y="344"/>
                    </a:cubicBezTo>
                    <a:cubicBezTo>
                      <a:pt x="1033" y="346"/>
                      <a:pt x="1033" y="346"/>
                      <a:pt x="1033" y="346"/>
                    </a:cubicBezTo>
                    <a:cubicBezTo>
                      <a:pt x="1042" y="347"/>
                      <a:pt x="1042" y="347"/>
                      <a:pt x="1042" y="347"/>
                    </a:cubicBezTo>
                    <a:cubicBezTo>
                      <a:pt x="1050" y="349"/>
                      <a:pt x="1050" y="349"/>
                      <a:pt x="1050" y="349"/>
                    </a:cubicBezTo>
                    <a:cubicBezTo>
                      <a:pt x="1059" y="350"/>
                      <a:pt x="1059" y="350"/>
                      <a:pt x="1059" y="350"/>
                    </a:cubicBezTo>
                    <a:cubicBezTo>
                      <a:pt x="1067" y="351"/>
                      <a:pt x="1067" y="351"/>
                      <a:pt x="1067" y="351"/>
                    </a:cubicBezTo>
                    <a:cubicBezTo>
                      <a:pt x="1076" y="352"/>
                      <a:pt x="1076" y="352"/>
                      <a:pt x="1076" y="352"/>
                    </a:cubicBezTo>
                    <a:cubicBezTo>
                      <a:pt x="1084" y="353"/>
                      <a:pt x="1084" y="353"/>
                      <a:pt x="1084" y="353"/>
                    </a:cubicBezTo>
                    <a:cubicBezTo>
                      <a:pt x="1093" y="354"/>
                      <a:pt x="1093" y="354"/>
                      <a:pt x="1093" y="354"/>
                    </a:cubicBezTo>
                    <a:cubicBezTo>
                      <a:pt x="1101" y="355"/>
                      <a:pt x="1101" y="355"/>
                      <a:pt x="1101" y="355"/>
                    </a:cubicBezTo>
                    <a:cubicBezTo>
                      <a:pt x="1110" y="356"/>
                      <a:pt x="1110" y="356"/>
                      <a:pt x="1110" y="356"/>
                    </a:cubicBezTo>
                    <a:cubicBezTo>
                      <a:pt x="1118" y="356"/>
                      <a:pt x="1118" y="356"/>
                      <a:pt x="1118" y="356"/>
                    </a:cubicBezTo>
                    <a:cubicBezTo>
                      <a:pt x="1127" y="357"/>
                      <a:pt x="1127" y="357"/>
                      <a:pt x="1127" y="357"/>
                    </a:cubicBezTo>
                    <a:cubicBezTo>
                      <a:pt x="1135" y="357"/>
                      <a:pt x="1135" y="357"/>
                      <a:pt x="1135" y="357"/>
                    </a:cubicBezTo>
                    <a:cubicBezTo>
                      <a:pt x="1144" y="357"/>
                      <a:pt x="1144" y="357"/>
                      <a:pt x="1144" y="357"/>
                    </a:cubicBezTo>
                    <a:cubicBezTo>
                      <a:pt x="1152" y="357"/>
                      <a:pt x="1152" y="357"/>
                      <a:pt x="1152" y="357"/>
                    </a:cubicBezTo>
                    <a:cubicBezTo>
                      <a:pt x="1161" y="357"/>
                      <a:pt x="1161" y="357"/>
                      <a:pt x="1161" y="357"/>
                    </a:cubicBezTo>
                    <a:cubicBezTo>
                      <a:pt x="1169" y="357"/>
                      <a:pt x="1169" y="357"/>
                      <a:pt x="1169" y="357"/>
                    </a:cubicBezTo>
                    <a:cubicBezTo>
                      <a:pt x="1178" y="357"/>
                      <a:pt x="1178" y="357"/>
                      <a:pt x="1178" y="357"/>
                    </a:cubicBezTo>
                    <a:cubicBezTo>
                      <a:pt x="1186" y="356"/>
                      <a:pt x="1186" y="356"/>
                      <a:pt x="1186" y="356"/>
                    </a:cubicBezTo>
                    <a:cubicBezTo>
                      <a:pt x="1195" y="356"/>
                      <a:pt x="1195" y="356"/>
                      <a:pt x="1195" y="356"/>
                    </a:cubicBezTo>
                    <a:cubicBezTo>
                      <a:pt x="1203" y="355"/>
                      <a:pt x="1203" y="355"/>
                      <a:pt x="1203" y="355"/>
                    </a:cubicBezTo>
                    <a:cubicBezTo>
                      <a:pt x="1212" y="355"/>
                      <a:pt x="1212" y="355"/>
                      <a:pt x="1212" y="355"/>
                    </a:cubicBezTo>
                    <a:cubicBezTo>
                      <a:pt x="1220" y="354"/>
                      <a:pt x="1220" y="354"/>
                      <a:pt x="1220" y="354"/>
                    </a:cubicBezTo>
                    <a:cubicBezTo>
                      <a:pt x="1229" y="353"/>
                      <a:pt x="1229" y="353"/>
                      <a:pt x="1229" y="353"/>
                    </a:cubicBezTo>
                    <a:cubicBezTo>
                      <a:pt x="1237" y="352"/>
                      <a:pt x="1237" y="352"/>
                      <a:pt x="1237" y="352"/>
                    </a:cubicBezTo>
                    <a:cubicBezTo>
                      <a:pt x="1246" y="351"/>
                      <a:pt x="1246" y="351"/>
                      <a:pt x="1246" y="351"/>
                    </a:cubicBezTo>
                    <a:cubicBezTo>
                      <a:pt x="1254" y="350"/>
                      <a:pt x="1254" y="350"/>
                      <a:pt x="1254" y="350"/>
                    </a:cubicBezTo>
                    <a:cubicBezTo>
                      <a:pt x="1263" y="348"/>
                      <a:pt x="1263" y="348"/>
                      <a:pt x="1263" y="348"/>
                    </a:cubicBezTo>
                    <a:cubicBezTo>
                      <a:pt x="1271" y="347"/>
                      <a:pt x="1271" y="347"/>
                      <a:pt x="1271" y="347"/>
                    </a:cubicBezTo>
                    <a:cubicBezTo>
                      <a:pt x="1280" y="346"/>
                      <a:pt x="1280" y="346"/>
                      <a:pt x="1280" y="346"/>
                    </a:cubicBezTo>
                    <a:cubicBezTo>
                      <a:pt x="1289" y="344"/>
                      <a:pt x="1289" y="344"/>
                      <a:pt x="1289" y="344"/>
                    </a:cubicBezTo>
                    <a:cubicBezTo>
                      <a:pt x="1297" y="343"/>
                      <a:pt x="1297" y="343"/>
                      <a:pt x="1297" y="343"/>
                    </a:cubicBezTo>
                    <a:cubicBezTo>
                      <a:pt x="1306" y="341"/>
                      <a:pt x="1306" y="341"/>
                      <a:pt x="1306" y="341"/>
                    </a:cubicBezTo>
                    <a:cubicBezTo>
                      <a:pt x="1314" y="339"/>
                      <a:pt x="1314" y="339"/>
                      <a:pt x="1314" y="339"/>
                    </a:cubicBezTo>
                    <a:cubicBezTo>
                      <a:pt x="1323" y="337"/>
                      <a:pt x="1323" y="337"/>
                      <a:pt x="1323" y="337"/>
                    </a:cubicBezTo>
                    <a:cubicBezTo>
                      <a:pt x="1331" y="336"/>
                      <a:pt x="1331" y="336"/>
                      <a:pt x="1331" y="336"/>
                    </a:cubicBezTo>
                    <a:cubicBezTo>
                      <a:pt x="1340" y="334"/>
                      <a:pt x="1340" y="334"/>
                      <a:pt x="1340" y="334"/>
                    </a:cubicBezTo>
                    <a:cubicBezTo>
                      <a:pt x="1348" y="332"/>
                      <a:pt x="1348" y="332"/>
                      <a:pt x="1348" y="332"/>
                    </a:cubicBezTo>
                    <a:cubicBezTo>
                      <a:pt x="1357" y="330"/>
                      <a:pt x="1357" y="330"/>
                      <a:pt x="1357" y="330"/>
                    </a:cubicBezTo>
                    <a:cubicBezTo>
                      <a:pt x="1365" y="327"/>
                      <a:pt x="1365" y="327"/>
                      <a:pt x="1365" y="327"/>
                    </a:cubicBezTo>
                    <a:cubicBezTo>
                      <a:pt x="1374" y="325"/>
                      <a:pt x="1374" y="325"/>
                      <a:pt x="1374" y="325"/>
                    </a:cubicBezTo>
                    <a:cubicBezTo>
                      <a:pt x="1382" y="323"/>
                      <a:pt x="1382" y="323"/>
                      <a:pt x="1382" y="323"/>
                    </a:cubicBezTo>
                    <a:cubicBezTo>
                      <a:pt x="1391" y="321"/>
                      <a:pt x="1391" y="321"/>
                      <a:pt x="1391" y="321"/>
                    </a:cubicBezTo>
                    <a:cubicBezTo>
                      <a:pt x="1399" y="318"/>
                      <a:pt x="1399" y="318"/>
                      <a:pt x="1399" y="318"/>
                    </a:cubicBezTo>
                    <a:cubicBezTo>
                      <a:pt x="1408" y="316"/>
                      <a:pt x="1408" y="316"/>
                      <a:pt x="1408" y="316"/>
                    </a:cubicBezTo>
                    <a:cubicBezTo>
                      <a:pt x="1416" y="313"/>
                      <a:pt x="1416" y="313"/>
                      <a:pt x="1416" y="313"/>
                    </a:cubicBezTo>
                    <a:cubicBezTo>
                      <a:pt x="1425" y="311"/>
                      <a:pt x="1425" y="311"/>
                      <a:pt x="1425" y="311"/>
                    </a:cubicBezTo>
                    <a:cubicBezTo>
                      <a:pt x="1433" y="308"/>
                      <a:pt x="1433" y="308"/>
                      <a:pt x="1433" y="308"/>
                    </a:cubicBezTo>
                    <a:cubicBezTo>
                      <a:pt x="1442" y="306"/>
                      <a:pt x="1442" y="306"/>
                      <a:pt x="1442" y="306"/>
                    </a:cubicBezTo>
                    <a:cubicBezTo>
                      <a:pt x="1450" y="303"/>
                      <a:pt x="1450" y="303"/>
                      <a:pt x="1450" y="303"/>
                    </a:cubicBezTo>
                    <a:cubicBezTo>
                      <a:pt x="1459" y="301"/>
                      <a:pt x="1459" y="301"/>
                      <a:pt x="1459" y="301"/>
                    </a:cubicBezTo>
                    <a:cubicBezTo>
                      <a:pt x="1467" y="298"/>
                      <a:pt x="1467" y="298"/>
                      <a:pt x="1467" y="298"/>
                    </a:cubicBezTo>
                    <a:cubicBezTo>
                      <a:pt x="1476" y="295"/>
                      <a:pt x="1476" y="295"/>
                      <a:pt x="1476" y="295"/>
                    </a:cubicBezTo>
                    <a:cubicBezTo>
                      <a:pt x="1484" y="293"/>
                      <a:pt x="1484" y="293"/>
                      <a:pt x="1484" y="293"/>
                    </a:cubicBezTo>
                    <a:cubicBezTo>
                      <a:pt x="1493" y="290"/>
                      <a:pt x="1493" y="290"/>
                      <a:pt x="1493" y="290"/>
                    </a:cubicBezTo>
                    <a:cubicBezTo>
                      <a:pt x="1501" y="287"/>
                      <a:pt x="1501" y="287"/>
                      <a:pt x="1501" y="287"/>
                    </a:cubicBezTo>
                    <a:cubicBezTo>
                      <a:pt x="1510" y="284"/>
                      <a:pt x="1510" y="284"/>
                      <a:pt x="1510" y="284"/>
                    </a:cubicBezTo>
                    <a:cubicBezTo>
                      <a:pt x="1518" y="282"/>
                      <a:pt x="1518" y="282"/>
                      <a:pt x="1518" y="282"/>
                    </a:cubicBezTo>
                    <a:cubicBezTo>
                      <a:pt x="1527" y="279"/>
                      <a:pt x="1527" y="279"/>
                      <a:pt x="1527" y="279"/>
                    </a:cubicBezTo>
                    <a:cubicBezTo>
                      <a:pt x="1535" y="276"/>
                      <a:pt x="1535" y="276"/>
                      <a:pt x="1535" y="276"/>
                    </a:cubicBezTo>
                    <a:cubicBezTo>
                      <a:pt x="1544" y="273"/>
                      <a:pt x="1544" y="273"/>
                      <a:pt x="1544" y="273"/>
                    </a:cubicBezTo>
                    <a:cubicBezTo>
                      <a:pt x="1552" y="270"/>
                      <a:pt x="1552" y="270"/>
                      <a:pt x="1552" y="270"/>
                    </a:cubicBezTo>
                    <a:cubicBezTo>
                      <a:pt x="1561" y="268"/>
                      <a:pt x="1561" y="268"/>
                      <a:pt x="1561" y="268"/>
                    </a:cubicBezTo>
                    <a:cubicBezTo>
                      <a:pt x="1569" y="265"/>
                      <a:pt x="1569" y="265"/>
                      <a:pt x="1569" y="265"/>
                    </a:cubicBezTo>
                    <a:cubicBezTo>
                      <a:pt x="1578" y="262"/>
                      <a:pt x="1578" y="262"/>
                      <a:pt x="1578" y="262"/>
                    </a:cubicBezTo>
                    <a:cubicBezTo>
                      <a:pt x="1586" y="259"/>
                      <a:pt x="1586" y="259"/>
                      <a:pt x="1586" y="259"/>
                    </a:cubicBezTo>
                    <a:cubicBezTo>
                      <a:pt x="1595" y="257"/>
                      <a:pt x="1595" y="257"/>
                      <a:pt x="1595" y="257"/>
                    </a:cubicBezTo>
                    <a:cubicBezTo>
                      <a:pt x="1603" y="254"/>
                      <a:pt x="1603" y="254"/>
                      <a:pt x="1603" y="254"/>
                    </a:cubicBezTo>
                    <a:cubicBezTo>
                      <a:pt x="1612" y="251"/>
                      <a:pt x="1612" y="251"/>
                      <a:pt x="1612" y="251"/>
                    </a:cubicBezTo>
                    <a:cubicBezTo>
                      <a:pt x="1620" y="248"/>
                      <a:pt x="1620" y="248"/>
                      <a:pt x="1620" y="248"/>
                    </a:cubicBezTo>
                    <a:cubicBezTo>
                      <a:pt x="1629" y="246"/>
                      <a:pt x="1629" y="246"/>
                      <a:pt x="1629" y="246"/>
                    </a:cubicBezTo>
                    <a:cubicBezTo>
                      <a:pt x="1637" y="243"/>
                      <a:pt x="1637" y="243"/>
                      <a:pt x="1637" y="243"/>
                    </a:cubicBezTo>
                    <a:cubicBezTo>
                      <a:pt x="1646" y="240"/>
                      <a:pt x="1646" y="240"/>
                      <a:pt x="1646" y="240"/>
                    </a:cubicBezTo>
                    <a:cubicBezTo>
                      <a:pt x="1654" y="238"/>
                      <a:pt x="1654" y="238"/>
                      <a:pt x="1654" y="238"/>
                    </a:cubicBezTo>
                    <a:cubicBezTo>
                      <a:pt x="1663" y="235"/>
                      <a:pt x="1663" y="235"/>
                      <a:pt x="1663" y="235"/>
                    </a:cubicBezTo>
                    <a:cubicBezTo>
                      <a:pt x="1671" y="233"/>
                      <a:pt x="1671" y="233"/>
                      <a:pt x="1671" y="233"/>
                    </a:cubicBezTo>
                    <a:cubicBezTo>
                      <a:pt x="1680" y="230"/>
                      <a:pt x="1680" y="230"/>
                      <a:pt x="1680" y="230"/>
                    </a:cubicBezTo>
                    <a:cubicBezTo>
                      <a:pt x="1688" y="227"/>
                      <a:pt x="1688" y="227"/>
                      <a:pt x="1688" y="227"/>
                    </a:cubicBezTo>
                    <a:cubicBezTo>
                      <a:pt x="1697" y="225"/>
                      <a:pt x="1697" y="225"/>
                      <a:pt x="1697" y="225"/>
                    </a:cubicBezTo>
                    <a:cubicBezTo>
                      <a:pt x="1705" y="223"/>
                      <a:pt x="1705" y="223"/>
                      <a:pt x="1705" y="223"/>
                    </a:cubicBezTo>
                    <a:cubicBezTo>
                      <a:pt x="1714" y="220"/>
                      <a:pt x="1714" y="220"/>
                      <a:pt x="1714" y="220"/>
                    </a:cubicBezTo>
                    <a:cubicBezTo>
                      <a:pt x="1722" y="218"/>
                      <a:pt x="1722" y="218"/>
                      <a:pt x="1722" y="218"/>
                    </a:cubicBezTo>
                    <a:cubicBezTo>
                      <a:pt x="1731" y="216"/>
                      <a:pt x="1731" y="216"/>
                      <a:pt x="1731" y="216"/>
                    </a:cubicBezTo>
                    <a:cubicBezTo>
                      <a:pt x="1739" y="213"/>
                      <a:pt x="1739" y="213"/>
                      <a:pt x="1739" y="213"/>
                    </a:cubicBezTo>
                    <a:cubicBezTo>
                      <a:pt x="1748" y="211"/>
                      <a:pt x="1748" y="211"/>
                      <a:pt x="1748" y="211"/>
                    </a:cubicBezTo>
                    <a:cubicBezTo>
                      <a:pt x="1756" y="209"/>
                      <a:pt x="1756" y="209"/>
                      <a:pt x="1756" y="209"/>
                    </a:cubicBezTo>
                    <a:cubicBezTo>
                      <a:pt x="1765" y="207"/>
                      <a:pt x="1765" y="207"/>
                      <a:pt x="1765" y="207"/>
                    </a:cubicBezTo>
                    <a:cubicBezTo>
                      <a:pt x="1773" y="205"/>
                      <a:pt x="1773" y="205"/>
                      <a:pt x="1773" y="205"/>
                    </a:cubicBezTo>
                    <a:cubicBezTo>
                      <a:pt x="1782" y="203"/>
                      <a:pt x="1782" y="203"/>
                      <a:pt x="1782" y="203"/>
                    </a:cubicBezTo>
                    <a:cubicBezTo>
                      <a:pt x="1790" y="201"/>
                      <a:pt x="1790" y="201"/>
                      <a:pt x="1790" y="201"/>
                    </a:cubicBezTo>
                    <a:cubicBezTo>
                      <a:pt x="1799" y="199"/>
                      <a:pt x="1799" y="199"/>
                      <a:pt x="1799" y="199"/>
                    </a:cubicBezTo>
                    <a:cubicBezTo>
                      <a:pt x="1807" y="197"/>
                      <a:pt x="1807" y="197"/>
                      <a:pt x="1807" y="197"/>
                    </a:cubicBezTo>
                    <a:cubicBezTo>
                      <a:pt x="1816" y="195"/>
                      <a:pt x="1816" y="195"/>
                      <a:pt x="1816" y="195"/>
                    </a:cubicBezTo>
                    <a:cubicBezTo>
                      <a:pt x="1824" y="193"/>
                      <a:pt x="1824" y="193"/>
                      <a:pt x="1824" y="193"/>
                    </a:cubicBezTo>
                    <a:cubicBezTo>
                      <a:pt x="1833" y="192"/>
                      <a:pt x="1833" y="192"/>
                      <a:pt x="1833" y="192"/>
                    </a:cubicBezTo>
                    <a:cubicBezTo>
                      <a:pt x="1841" y="190"/>
                      <a:pt x="1841" y="190"/>
                      <a:pt x="1841" y="190"/>
                    </a:cubicBezTo>
                    <a:cubicBezTo>
                      <a:pt x="1850" y="188"/>
                      <a:pt x="1850" y="188"/>
                      <a:pt x="1850" y="188"/>
                    </a:cubicBezTo>
                    <a:cubicBezTo>
                      <a:pt x="1858" y="187"/>
                      <a:pt x="1858" y="187"/>
                      <a:pt x="1858" y="187"/>
                    </a:cubicBezTo>
                    <a:cubicBezTo>
                      <a:pt x="1867" y="185"/>
                      <a:pt x="1867" y="185"/>
                      <a:pt x="1867" y="185"/>
                    </a:cubicBezTo>
                    <a:cubicBezTo>
                      <a:pt x="1875" y="184"/>
                      <a:pt x="1875" y="184"/>
                      <a:pt x="1875" y="184"/>
                    </a:cubicBezTo>
                    <a:cubicBezTo>
                      <a:pt x="1884" y="183"/>
                      <a:pt x="1884" y="183"/>
                      <a:pt x="1884" y="183"/>
                    </a:cubicBezTo>
                    <a:cubicBezTo>
                      <a:pt x="1892" y="181"/>
                      <a:pt x="1892" y="181"/>
                      <a:pt x="1892" y="181"/>
                    </a:cubicBezTo>
                    <a:cubicBezTo>
                      <a:pt x="1901" y="180"/>
                      <a:pt x="1901" y="180"/>
                      <a:pt x="1901" y="180"/>
                    </a:cubicBezTo>
                    <a:cubicBezTo>
                      <a:pt x="1909" y="179"/>
                      <a:pt x="1909" y="179"/>
                      <a:pt x="1909" y="179"/>
                    </a:cubicBezTo>
                    <a:cubicBezTo>
                      <a:pt x="1918" y="178"/>
                      <a:pt x="1918" y="178"/>
                      <a:pt x="1918" y="178"/>
                    </a:cubicBezTo>
                    <a:cubicBezTo>
                      <a:pt x="1926" y="177"/>
                      <a:pt x="1926" y="177"/>
                      <a:pt x="1926" y="177"/>
                    </a:cubicBezTo>
                    <a:cubicBezTo>
                      <a:pt x="1935" y="176"/>
                      <a:pt x="1935" y="176"/>
                      <a:pt x="1935" y="176"/>
                    </a:cubicBezTo>
                    <a:cubicBezTo>
                      <a:pt x="1943" y="175"/>
                      <a:pt x="1943" y="175"/>
                      <a:pt x="1943" y="175"/>
                    </a:cubicBezTo>
                    <a:cubicBezTo>
                      <a:pt x="1952" y="174"/>
                      <a:pt x="1952" y="174"/>
                      <a:pt x="1952" y="174"/>
                    </a:cubicBezTo>
                    <a:cubicBezTo>
                      <a:pt x="1960" y="174"/>
                      <a:pt x="1960" y="174"/>
                      <a:pt x="1960" y="174"/>
                    </a:cubicBezTo>
                    <a:cubicBezTo>
                      <a:pt x="1969" y="173"/>
                      <a:pt x="1969" y="173"/>
                      <a:pt x="1969" y="173"/>
                    </a:cubicBezTo>
                    <a:cubicBezTo>
                      <a:pt x="1977" y="172"/>
                      <a:pt x="1977" y="172"/>
                      <a:pt x="1977" y="172"/>
                    </a:cubicBezTo>
                    <a:cubicBezTo>
                      <a:pt x="1986" y="172"/>
                      <a:pt x="1986" y="172"/>
                      <a:pt x="1986" y="172"/>
                    </a:cubicBezTo>
                    <a:cubicBezTo>
                      <a:pt x="1994" y="171"/>
                      <a:pt x="1994" y="171"/>
                      <a:pt x="1994" y="171"/>
                    </a:cubicBezTo>
                    <a:cubicBezTo>
                      <a:pt x="2003" y="171"/>
                      <a:pt x="2003" y="171"/>
                      <a:pt x="2003" y="171"/>
                    </a:cubicBezTo>
                    <a:cubicBezTo>
                      <a:pt x="2011" y="170"/>
                      <a:pt x="2011" y="170"/>
                      <a:pt x="2011" y="170"/>
                    </a:cubicBezTo>
                    <a:cubicBezTo>
                      <a:pt x="2020" y="170"/>
                      <a:pt x="2020" y="170"/>
                      <a:pt x="2020" y="170"/>
                    </a:cubicBezTo>
                    <a:cubicBezTo>
                      <a:pt x="2028" y="170"/>
                      <a:pt x="2028" y="170"/>
                      <a:pt x="2028" y="170"/>
                    </a:cubicBezTo>
                    <a:cubicBezTo>
                      <a:pt x="2037" y="169"/>
                      <a:pt x="2037" y="169"/>
                      <a:pt x="2037" y="169"/>
                    </a:cubicBezTo>
                    <a:cubicBezTo>
                      <a:pt x="2045" y="169"/>
                      <a:pt x="2045" y="169"/>
                      <a:pt x="2045" y="169"/>
                    </a:cubicBezTo>
                    <a:cubicBezTo>
                      <a:pt x="2054" y="169"/>
                      <a:pt x="2054" y="169"/>
                      <a:pt x="2054" y="169"/>
                    </a:cubicBezTo>
                    <a:cubicBezTo>
                      <a:pt x="2062" y="169"/>
                      <a:pt x="2062" y="169"/>
                      <a:pt x="2062" y="169"/>
                    </a:cubicBezTo>
                    <a:cubicBezTo>
                      <a:pt x="2071" y="169"/>
                      <a:pt x="2071" y="169"/>
                      <a:pt x="2071" y="169"/>
                    </a:cubicBezTo>
                    <a:cubicBezTo>
                      <a:pt x="2079" y="169"/>
                      <a:pt x="2079" y="169"/>
                      <a:pt x="2079" y="169"/>
                    </a:cubicBezTo>
                    <a:cubicBezTo>
                      <a:pt x="2088" y="169"/>
                      <a:pt x="2088" y="169"/>
                      <a:pt x="2088" y="169"/>
                    </a:cubicBezTo>
                    <a:cubicBezTo>
                      <a:pt x="2096" y="170"/>
                      <a:pt x="2096" y="170"/>
                      <a:pt x="2096" y="170"/>
                    </a:cubicBezTo>
                    <a:cubicBezTo>
                      <a:pt x="2105" y="170"/>
                      <a:pt x="2105" y="170"/>
                      <a:pt x="2105" y="170"/>
                    </a:cubicBezTo>
                    <a:cubicBezTo>
                      <a:pt x="2113" y="170"/>
                      <a:pt x="2113" y="170"/>
                      <a:pt x="2113" y="170"/>
                    </a:cubicBezTo>
                    <a:cubicBezTo>
                      <a:pt x="2122" y="171"/>
                      <a:pt x="2122" y="171"/>
                      <a:pt x="2122" y="171"/>
                    </a:cubicBezTo>
                    <a:cubicBezTo>
                      <a:pt x="2131" y="171"/>
                      <a:pt x="2131" y="171"/>
                      <a:pt x="2131" y="171"/>
                    </a:cubicBezTo>
                    <a:cubicBezTo>
                      <a:pt x="2139" y="171"/>
                      <a:pt x="2139" y="171"/>
                      <a:pt x="2139" y="171"/>
                    </a:cubicBezTo>
                    <a:cubicBezTo>
                      <a:pt x="2148" y="172"/>
                      <a:pt x="2148" y="172"/>
                      <a:pt x="2148" y="172"/>
                    </a:cubicBezTo>
                    <a:cubicBezTo>
                      <a:pt x="2156" y="173"/>
                      <a:pt x="2156" y="173"/>
                      <a:pt x="2156" y="173"/>
                    </a:cubicBezTo>
                    <a:cubicBezTo>
                      <a:pt x="2165" y="173"/>
                      <a:pt x="2165" y="173"/>
                      <a:pt x="2165" y="173"/>
                    </a:cubicBezTo>
                    <a:cubicBezTo>
                      <a:pt x="2173" y="174"/>
                      <a:pt x="2173" y="174"/>
                      <a:pt x="2173" y="174"/>
                    </a:cubicBezTo>
                    <a:cubicBezTo>
                      <a:pt x="2182" y="174"/>
                      <a:pt x="2182" y="174"/>
                      <a:pt x="2182" y="174"/>
                    </a:cubicBezTo>
                    <a:cubicBezTo>
                      <a:pt x="2190" y="175"/>
                      <a:pt x="2190" y="175"/>
                      <a:pt x="2190" y="175"/>
                    </a:cubicBezTo>
                    <a:cubicBezTo>
                      <a:pt x="2199" y="176"/>
                      <a:pt x="2199" y="176"/>
                      <a:pt x="2199" y="176"/>
                    </a:cubicBezTo>
                    <a:cubicBezTo>
                      <a:pt x="2207" y="177"/>
                      <a:pt x="2207" y="177"/>
                      <a:pt x="2207" y="177"/>
                    </a:cubicBezTo>
                    <a:cubicBezTo>
                      <a:pt x="2216" y="178"/>
                      <a:pt x="2216" y="178"/>
                      <a:pt x="2216" y="178"/>
                    </a:cubicBezTo>
                    <a:cubicBezTo>
                      <a:pt x="2224" y="179"/>
                      <a:pt x="2224" y="179"/>
                      <a:pt x="2224" y="179"/>
                    </a:cubicBezTo>
                    <a:cubicBezTo>
                      <a:pt x="2233" y="180"/>
                      <a:pt x="2233" y="180"/>
                      <a:pt x="2233" y="180"/>
                    </a:cubicBezTo>
                    <a:cubicBezTo>
                      <a:pt x="2241" y="181"/>
                      <a:pt x="2241" y="181"/>
                      <a:pt x="2241" y="181"/>
                    </a:cubicBezTo>
                    <a:cubicBezTo>
                      <a:pt x="2250" y="182"/>
                      <a:pt x="2250" y="182"/>
                      <a:pt x="2250" y="182"/>
                    </a:cubicBezTo>
                    <a:cubicBezTo>
                      <a:pt x="2258" y="183"/>
                      <a:pt x="2258" y="183"/>
                      <a:pt x="2258" y="183"/>
                    </a:cubicBezTo>
                    <a:cubicBezTo>
                      <a:pt x="2267" y="184"/>
                      <a:pt x="2267" y="184"/>
                      <a:pt x="2267" y="184"/>
                    </a:cubicBezTo>
                    <a:cubicBezTo>
                      <a:pt x="2275" y="185"/>
                      <a:pt x="2275" y="185"/>
                      <a:pt x="2275" y="185"/>
                    </a:cubicBezTo>
                    <a:cubicBezTo>
                      <a:pt x="2284" y="186"/>
                      <a:pt x="2284" y="186"/>
                      <a:pt x="2284" y="186"/>
                    </a:cubicBezTo>
                    <a:cubicBezTo>
                      <a:pt x="2292" y="187"/>
                      <a:pt x="2292" y="187"/>
                      <a:pt x="2292" y="187"/>
                    </a:cubicBezTo>
                    <a:cubicBezTo>
                      <a:pt x="2301" y="189"/>
                      <a:pt x="2301" y="189"/>
                      <a:pt x="2301" y="189"/>
                    </a:cubicBezTo>
                    <a:cubicBezTo>
                      <a:pt x="2309" y="190"/>
                      <a:pt x="2309" y="190"/>
                      <a:pt x="2309" y="190"/>
                    </a:cubicBezTo>
                    <a:cubicBezTo>
                      <a:pt x="2318" y="191"/>
                      <a:pt x="2318" y="191"/>
                      <a:pt x="2318" y="191"/>
                    </a:cubicBezTo>
                    <a:cubicBezTo>
                      <a:pt x="2326" y="192"/>
                      <a:pt x="2326" y="192"/>
                      <a:pt x="2326" y="192"/>
                    </a:cubicBezTo>
                    <a:cubicBezTo>
                      <a:pt x="2335" y="194"/>
                      <a:pt x="2335" y="194"/>
                      <a:pt x="2335" y="194"/>
                    </a:cubicBezTo>
                    <a:cubicBezTo>
                      <a:pt x="2343" y="195"/>
                      <a:pt x="2343" y="195"/>
                      <a:pt x="2343" y="195"/>
                    </a:cubicBezTo>
                    <a:cubicBezTo>
                      <a:pt x="2352" y="196"/>
                      <a:pt x="2352" y="196"/>
                      <a:pt x="2352" y="196"/>
                    </a:cubicBezTo>
                    <a:cubicBezTo>
                      <a:pt x="2360" y="198"/>
                      <a:pt x="2360" y="198"/>
                      <a:pt x="2360" y="198"/>
                    </a:cubicBezTo>
                    <a:cubicBezTo>
                      <a:pt x="2369" y="199"/>
                      <a:pt x="2369" y="199"/>
                      <a:pt x="2369" y="199"/>
                    </a:cubicBezTo>
                    <a:cubicBezTo>
                      <a:pt x="2377" y="200"/>
                      <a:pt x="2377" y="200"/>
                      <a:pt x="2377" y="200"/>
                    </a:cubicBezTo>
                    <a:cubicBezTo>
                      <a:pt x="2386" y="202"/>
                      <a:pt x="2386" y="202"/>
                      <a:pt x="2386" y="202"/>
                    </a:cubicBezTo>
                    <a:cubicBezTo>
                      <a:pt x="2394" y="203"/>
                      <a:pt x="2394" y="203"/>
                      <a:pt x="2394" y="203"/>
                    </a:cubicBezTo>
                    <a:cubicBezTo>
                      <a:pt x="2403" y="205"/>
                      <a:pt x="2403" y="205"/>
                      <a:pt x="2403" y="205"/>
                    </a:cubicBezTo>
                    <a:cubicBezTo>
                      <a:pt x="2411" y="206"/>
                      <a:pt x="2411" y="206"/>
                      <a:pt x="2411" y="206"/>
                    </a:cubicBezTo>
                    <a:cubicBezTo>
                      <a:pt x="2420" y="208"/>
                      <a:pt x="2420" y="208"/>
                      <a:pt x="2420" y="208"/>
                    </a:cubicBezTo>
                    <a:cubicBezTo>
                      <a:pt x="2428" y="209"/>
                      <a:pt x="2428" y="209"/>
                      <a:pt x="2428" y="209"/>
                    </a:cubicBezTo>
                    <a:cubicBezTo>
                      <a:pt x="2437" y="211"/>
                      <a:pt x="2437" y="211"/>
                      <a:pt x="2437" y="211"/>
                    </a:cubicBezTo>
                    <a:cubicBezTo>
                      <a:pt x="2445" y="212"/>
                      <a:pt x="2445" y="212"/>
                      <a:pt x="2445" y="212"/>
                    </a:cubicBezTo>
                    <a:cubicBezTo>
                      <a:pt x="2454" y="214"/>
                      <a:pt x="2454" y="214"/>
                      <a:pt x="2454" y="214"/>
                    </a:cubicBezTo>
                    <a:cubicBezTo>
                      <a:pt x="2462" y="215"/>
                      <a:pt x="2462" y="215"/>
                      <a:pt x="2462" y="215"/>
                    </a:cubicBezTo>
                    <a:cubicBezTo>
                      <a:pt x="2471" y="216"/>
                      <a:pt x="2471" y="216"/>
                      <a:pt x="2471" y="216"/>
                    </a:cubicBezTo>
                    <a:cubicBezTo>
                      <a:pt x="2479" y="218"/>
                      <a:pt x="2479" y="218"/>
                      <a:pt x="2479" y="218"/>
                    </a:cubicBezTo>
                    <a:cubicBezTo>
                      <a:pt x="2488" y="219"/>
                      <a:pt x="2488" y="219"/>
                      <a:pt x="2488" y="219"/>
                    </a:cubicBezTo>
                    <a:cubicBezTo>
                      <a:pt x="2496" y="221"/>
                      <a:pt x="2496" y="221"/>
                      <a:pt x="2496" y="221"/>
                    </a:cubicBezTo>
                    <a:cubicBezTo>
                      <a:pt x="2505" y="222"/>
                      <a:pt x="2505" y="222"/>
                      <a:pt x="2505" y="222"/>
                    </a:cubicBezTo>
                    <a:cubicBezTo>
                      <a:pt x="2513" y="224"/>
                      <a:pt x="2513" y="224"/>
                      <a:pt x="2513" y="224"/>
                    </a:cubicBezTo>
                    <a:cubicBezTo>
                      <a:pt x="2522" y="225"/>
                      <a:pt x="2522" y="225"/>
                      <a:pt x="2522" y="225"/>
                    </a:cubicBezTo>
                    <a:cubicBezTo>
                      <a:pt x="2530" y="227"/>
                      <a:pt x="2530" y="227"/>
                      <a:pt x="2530" y="227"/>
                    </a:cubicBezTo>
                    <a:cubicBezTo>
                      <a:pt x="2539" y="228"/>
                      <a:pt x="2539" y="228"/>
                      <a:pt x="2539" y="228"/>
                    </a:cubicBezTo>
                    <a:cubicBezTo>
                      <a:pt x="2547" y="229"/>
                      <a:pt x="2547" y="229"/>
                      <a:pt x="2547" y="229"/>
                    </a:cubicBezTo>
                    <a:cubicBezTo>
                      <a:pt x="2556" y="231"/>
                      <a:pt x="2556" y="231"/>
                      <a:pt x="2556" y="231"/>
                    </a:cubicBezTo>
                    <a:cubicBezTo>
                      <a:pt x="2564" y="232"/>
                      <a:pt x="2564" y="232"/>
                      <a:pt x="2564" y="232"/>
                    </a:cubicBezTo>
                    <a:cubicBezTo>
                      <a:pt x="2573" y="234"/>
                      <a:pt x="2573" y="234"/>
                      <a:pt x="2573" y="234"/>
                    </a:cubicBezTo>
                    <a:cubicBezTo>
                      <a:pt x="2581" y="235"/>
                      <a:pt x="2581" y="235"/>
                      <a:pt x="2581" y="235"/>
                    </a:cubicBezTo>
                    <a:cubicBezTo>
                      <a:pt x="2590" y="236"/>
                      <a:pt x="2590" y="236"/>
                      <a:pt x="2590" y="236"/>
                    </a:cubicBezTo>
                    <a:cubicBezTo>
                      <a:pt x="2598" y="238"/>
                      <a:pt x="2598" y="238"/>
                      <a:pt x="2598" y="238"/>
                    </a:cubicBezTo>
                    <a:cubicBezTo>
                      <a:pt x="2607" y="239"/>
                      <a:pt x="2607" y="239"/>
                      <a:pt x="2607" y="239"/>
                    </a:cubicBezTo>
                    <a:cubicBezTo>
                      <a:pt x="2615" y="240"/>
                      <a:pt x="2615" y="240"/>
                      <a:pt x="2615" y="240"/>
                    </a:cubicBezTo>
                    <a:cubicBezTo>
                      <a:pt x="2624" y="241"/>
                      <a:pt x="2624" y="241"/>
                      <a:pt x="2624" y="241"/>
                    </a:cubicBezTo>
                    <a:cubicBezTo>
                      <a:pt x="2632" y="243"/>
                      <a:pt x="2632" y="243"/>
                      <a:pt x="2632" y="243"/>
                    </a:cubicBezTo>
                    <a:cubicBezTo>
                      <a:pt x="2641" y="244"/>
                      <a:pt x="2641" y="244"/>
                      <a:pt x="2641" y="244"/>
                    </a:cubicBezTo>
                    <a:cubicBezTo>
                      <a:pt x="2649" y="245"/>
                      <a:pt x="2649" y="245"/>
                      <a:pt x="2649" y="245"/>
                    </a:cubicBezTo>
                    <a:cubicBezTo>
                      <a:pt x="2658" y="246"/>
                      <a:pt x="2658" y="246"/>
                      <a:pt x="2658" y="246"/>
                    </a:cubicBezTo>
                    <a:cubicBezTo>
                      <a:pt x="2666" y="247"/>
                      <a:pt x="2666" y="247"/>
                      <a:pt x="2666" y="247"/>
                    </a:cubicBezTo>
                    <a:cubicBezTo>
                      <a:pt x="2675" y="248"/>
                      <a:pt x="2675" y="248"/>
                      <a:pt x="2675" y="248"/>
                    </a:cubicBezTo>
                    <a:cubicBezTo>
                      <a:pt x="2683" y="250"/>
                      <a:pt x="2683" y="250"/>
                      <a:pt x="2683" y="250"/>
                    </a:cubicBezTo>
                    <a:cubicBezTo>
                      <a:pt x="2692" y="251"/>
                      <a:pt x="2692" y="251"/>
                      <a:pt x="2692" y="251"/>
                    </a:cubicBezTo>
                    <a:cubicBezTo>
                      <a:pt x="2700" y="252"/>
                      <a:pt x="2700" y="252"/>
                      <a:pt x="2700" y="252"/>
                    </a:cubicBezTo>
                    <a:cubicBezTo>
                      <a:pt x="2709" y="253"/>
                      <a:pt x="2709" y="253"/>
                      <a:pt x="2709" y="253"/>
                    </a:cubicBezTo>
                    <a:cubicBezTo>
                      <a:pt x="2717" y="254"/>
                      <a:pt x="2717" y="254"/>
                      <a:pt x="2717" y="254"/>
                    </a:cubicBezTo>
                    <a:cubicBezTo>
                      <a:pt x="2726" y="255"/>
                      <a:pt x="2726" y="255"/>
                      <a:pt x="2726" y="255"/>
                    </a:cubicBezTo>
                    <a:cubicBezTo>
                      <a:pt x="2734" y="256"/>
                      <a:pt x="2734" y="256"/>
                      <a:pt x="2734" y="256"/>
                    </a:cubicBezTo>
                    <a:cubicBezTo>
                      <a:pt x="2743" y="256"/>
                      <a:pt x="2743" y="256"/>
                      <a:pt x="2743" y="256"/>
                    </a:cubicBezTo>
                    <a:cubicBezTo>
                      <a:pt x="2751" y="257"/>
                      <a:pt x="2751" y="257"/>
                      <a:pt x="2751" y="257"/>
                    </a:cubicBezTo>
                    <a:cubicBezTo>
                      <a:pt x="2760" y="258"/>
                      <a:pt x="2760" y="258"/>
                      <a:pt x="2760" y="258"/>
                    </a:cubicBezTo>
                    <a:cubicBezTo>
                      <a:pt x="2768" y="259"/>
                      <a:pt x="2768" y="259"/>
                      <a:pt x="2768" y="259"/>
                    </a:cubicBezTo>
                    <a:cubicBezTo>
                      <a:pt x="2777" y="260"/>
                      <a:pt x="2777" y="260"/>
                      <a:pt x="2777" y="260"/>
                    </a:cubicBezTo>
                    <a:cubicBezTo>
                      <a:pt x="2785" y="260"/>
                      <a:pt x="2785" y="260"/>
                      <a:pt x="2785" y="260"/>
                    </a:cubicBezTo>
                    <a:cubicBezTo>
                      <a:pt x="2794" y="261"/>
                      <a:pt x="2794" y="261"/>
                      <a:pt x="2794" y="261"/>
                    </a:cubicBezTo>
                    <a:cubicBezTo>
                      <a:pt x="2802" y="262"/>
                      <a:pt x="2802" y="262"/>
                      <a:pt x="2802" y="262"/>
                    </a:cubicBezTo>
                    <a:cubicBezTo>
                      <a:pt x="2811" y="262"/>
                      <a:pt x="2811" y="262"/>
                      <a:pt x="2811" y="262"/>
                    </a:cubicBezTo>
                    <a:cubicBezTo>
                      <a:pt x="2819" y="263"/>
                      <a:pt x="2819" y="263"/>
                      <a:pt x="2819" y="263"/>
                    </a:cubicBezTo>
                    <a:cubicBezTo>
                      <a:pt x="2828" y="264"/>
                      <a:pt x="2828" y="264"/>
                      <a:pt x="2828" y="264"/>
                    </a:cubicBezTo>
                    <a:cubicBezTo>
                      <a:pt x="2836" y="264"/>
                      <a:pt x="2836" y="264"/>
                      <a:pt x="2836" y="264"/>
                    </a:cubicBezTo>
                    <a:cubicBezTo>
                      <a:pt x="2845" y="265"/>
                      <a:pt x="2845" y="265"/>
                      <a:pt x="2845" y="265"/>
                    </a:cubicBezTo>
                    <a:cubicBezTo>
                      <a:pt x="2853" y="265"/>
                      <a:pt x="2853" y="265"/>
                      <a:pt x="2853" y="265"/>
                    </a:cubicBezTo>
                    <a:cubicBezTo>
                      <a:pt x="2862" y="265"/>
                      <a:pt x="2862" y="265"/>
                      <a:pt x="2862" y="265"/>
                    </a:cubicBezTo>
                    <a:cubicBezTo>
                      <a:pt x="2870" y="266"/>
                      <a:pt x="2870" y="266"/>
                      <a:pt x="2870" y="266"/>
                    </a:cubicBezTo>
                    <a:cubicBezTo>
                      <a:pt x="2879" y="266"/>
                      <a:pt x="2879" y="266"/>
                      <a:pt x="2879" y="266"/>
                    </a:cubicBezTo>
                    <a:cubicBezTo>
                      <a:pt x="2887" y="267"/>
                      <a:pt x="2887" y="267"/>
                      <a:pt x="2887" y="267"/>
                    </a:cubicBezTo>
                    <a:cubicBezTo>
                      <a:pt x="2896" y="267"/>
                      <a:pt x="2896" y="267"/>
                      <a:pt x="2896" y="267"/>
                    </a:cubicBezTo>
                    <a:cubicBezTo>
                      <a:pt x="2904" y="267"/>
                      <a:pt x="2904" y="267"/>
                      <a:pt x="2904" y="267"/>
                    </a:cubicBezTo>
                    <a:cubicBezTo>
                      <a:pt x="2913" y="267"/>
                      <a:pt x="2913" y="267"/>
                      <a:pt x="2913" y="267"/>
                    </a:cubicBezTo>
                    <a:cubicBezTo>
                      <a:pt x="2921" y="268"/>
                      <a:pt x="2921" y="268"/>
                      <a:pt x="2921" y="268"/>
                    </a:cubicBezTo>
                    <a:cubicBezTo>
                      <a:pt x="2930" y="268"/>
                      <a:pt x="2930" y="268"/>
                      <a:pt x="2930" y="268"/>
                    </a:cubicBezTo>
                    <a:cubicBezTo>
                      <a:pt x="2938" y="268"/>
                      <a:pt x="2938" y="268"/>
                      <a:pt x="2938" y="268"/>
                    </a:cubicBezTo>
                    <a:cubicBezTo>
                      <a:pt x="2947" y="268"/>
                      <a:pt x="2947" y="268"/>
                      <a:pt x="2947" y="268"/>
                    </a:cubicBezTo>
                    <a:cubicBezTo>
                      <a:pt x="2955" y="268"/>
                      <a:pt x="2955" y="268"/>
                      <a:pt x="2955" y="268"/>
                    </a:cubicBezTo>
                    <a:cubicBezTo>
                      <a:pt x="2964" y="268"/>
                      <a:pt x="2964" y="268"/>
                      <a:pt x="2964" y="268"/>
                    </a:cubicBezTo>
                    <a:cubicBezTo>
                      <a:pt x="2972" y="268"/>
                      <a:pt x="2972" y="268"/>
                      <a:pt x="2972" y="268"/>
                    </a:cubicBezTo>
                    <a:cubicBezTo>
                      <a:pt x="2981" y="268"/>
                      <a:pt x="2981" y="268"/>
                      <a:pt x="2981" y="268"/>
                    </a:cubicBezTo>
                    <a:cubicBezTo>
                      <a:pt x="2990" y="268"/>
                      <a:pt x="2990" y="268"/>
                      <a:pt x="2990" y="268"/>
                    </a:cubicBezTo>
                    <a:cubicBezTo>
                      <a:pt x="2998" y="268"/>
                      <a:pt x="2998" y="268"/>
                      <a:pt x="2998" y="268"/>
                    </a:cubicBezTo>
                    <a:cubicBezTo>
                      <a:pt x="3007" y="268"/>
                      <a:pt x="3007" y="268"/>
                      <a:pt x="3007" y="268"/>
                    </a:cubicBezTo>
                    <a:cubicBezTo>
                      <a:pt x="3015" y="268"/>
                      <a:pt x="3015" y="268"/>
                      <a:pt x="3015" y="268"/>
                    </a:cubicBezTo>
                    <a:cubicBezTo>
                      <a:pt x="3024" y="268"/>
                      <a:pt x="3024" y="268"/>
                      <a:pt x="3024" y="268"/>
                    </a:cubicBezTo>
                    <a:cubicBezTo>
                      <a:pt x="3032" y="267"/>
                      <a:pt x="3032" y="267"/>
                      <a:pt x="3032" y="267"/>
                    </a:cubicBezTo>
                    <a:cubicBezTo>
                      <a:pt x="3041" y="267"/>
                      <a:pt x="3041" y="267"/>
                      <a:pt x="3041" y="267"/>
                    </a:cubicBezTo>
                    <a:cubicBezTo>
                      <a:pt x="3049" y="267"/>
                      <a:pt x="3049" y="267"/>
                      <a:pt x="3049" y="267"/>
                    </a:cubicBezTo>
                    <a:cubicBezTo>
                      <a:pt x="3058" y="267"/>
                      <a:pt x="3058" y="267"/>
                      <a:pt x="3058" y="267"/>
                    </a:cubicBezTo>
                    <a:cubicBezTo>
                      <a:pt x="3066" y="266"/>
                      <a:pt x="3066" y="266"/>
                      <a:pt x="3066" y="266"/>
                    </a:cubicBezTo>
                    <a:cubicBezTo>
                      <a:pt x="3075" y="266"/>
                      <a:pt x="3075" y="266"/>
                      <a:pt x="3075" y="266"/>
                    </a:cubicBezTo>
                    <a:cubicBezTo>
                      <a:pt x="3083" y="266"/>
                      <a:pt x="3083" y="266"/>
                      <a:pt x="3083" y="266"/>
                    </a:cubicBezTo>
                    <a:cubicBezTo>
                      <a:pt x="3092" y="265"/>
                      <a:pt x="3092" y="265"/>
                      <a:pt x="3092" y="265"/>
                    </a:cubicBezTo>
                    <a:cubicBezTo>
                      <a:pt x="3100" y="265"/>
                      <a:pt x="3100" y="265"/>
                      <a:pt x="3100" y="265"/>
                    </a:cubicBezTo>
                    <a:cubicBezTo>
                      <a:pt x="3109" y="264"/>
                      <a:pt x="3109" y="264"/>
                      <a:pt x="3109" y="264"/>
                    </a:cubicBezTo>
                    <a:cubicBezTo>
                      <a:pt x="3117" y="264"/>
                      <a:pt x="3117" y="264"/>
                      <a:pt x="3117" y="264"/>
                    </a:cubicBezTo>
                    <a:cubicBezTo>
                      <a:pt x="3126" y="264"/>
                      <a:pt x="3126" y="264"/>
                      <a:pt x="3126" y="264"/>
                    </a:cubicBezTo>
                    <a:cubicBezTo>
                      <a:pt x="3134" y="263"/>
                      <a:pt x="3134" y="263"/>
                      <a:pt x="3134" y="263"/>
                    </a:cubicBezTo>
                    <a:cubicBezTo>
                      <a:pt x="3143" y="263"/>
                      <a:pt x="3143" y="263"/>
                      <a:pt x="3143" y="263"/>
                    </a:cubicBezTo>
                    <a:cubicBezTo>
                      <a:pt x="3151" y="262"/>
                      <a:pt x="3151" y="262"/>
                      <a:pt x="3151" y="262"/>
                    </a:cubicBezTo>
                    <a:cubicBezTo>
                      <a:pt x="3160" y="261"/>
                      <a:pt x="3160" y="261"/>
                      <a:pt x="3160" y="261"/>
                    </a:cubicBezTo>
                    <a:cubicBezTo>
                      <a:pt x="3168" y="261"/>
                      <a:pt x="3168" y="261"/>
                      <a:pt x="3168" y="261"/>
                    </a:cubicBezTo>
                    <a:cubicBezTo>
                      <a:pt x="3177" y="260"/>
                      <a:pt x="3177" y="260"/>
                      <a:pt x="3177" y="260"/>
                    </a:cubicBezTo>
                    <a:cubicBezTo>
                      <a:pt x="3185" y="260"/>
                      <a:pt x="3185" y="260"/>
                      <a:pt x="3185" y="260"/>
                    </a:cubicBezTo>
                    <a:cubicBezTo>
                      <a:pt x="3194" y="259"/>
                      <a:pt x="3194" y="259"/>
                      <a:pt x="3194" y="259"/>
                    </a:cubicBezTo>
                    <a:cubicBezTo>
                      <a:pt x="3202" y="259"/>
                      <a:pt x="3202" y="259"/>
                      <a:pt x="3202" y="259"/>
                    </a:cubicBezTo>
                    <a:cubicBezTo>
                      <a:pt x="3211" y="258"/>
                      <a:pt x="3211" y="258"/>
                      <a:pt x="3211" y="258"/>
                    </a:cubicBezTo>
                    <a:cubicBezTo>
                      <a:pt x="3219" y="257"/>
                      <a:pt x="3219" y="257"/>
                      <a:pt x="3219" y="257"/>
                    </a:cubicBezTo>
                    <a:cubicBezTo>
                      <a:pt x="3228" y="257"/>
                      <a:pt x="3228" y="257"/>
                      <a:pt x="3228" y="257"/>
                    </a:cubicBezTo>
                    <a:cubicBezTo>
                      <a:pt x="3236" y="256"/>
                      <a:pt x="3236" y="256"/>
                      <a:pt x="3236" y="256"/>
                    </a:cubicBezTo>
                    <a:cubicBezTo>
                      <a:pt x="3245" y="255"/>
                      <a:pt x="3245" y="255"/>
                      <a:pt x="3245" y="255"/>
                    </a:cubicBezTo>
                    <a:cubicBezTo>
                      <a:pt x="3253" y="254"/>
                      <a:pt x="3253" y="254"/>
                      <a:pt x="3253" y="254"/>
                    </a:cubicBezTo>
                    <a:cubicBezTo>
                      <a:pt x="3262" y="254"/>
                      <a:pt x="3262" y="254"/>
                      <a:pt x="3262" y="254"/>
                    </a:cubicBezTo>
                    <a:cubicBezTo>
                      <a:pt x="3270" y="253"/>
                      <a:pt x="3270" y="253"/>
                      <a:pt x="3270" y="253"/>
                    </a:cubicBezTo>
                    <a:cubicBezTo>
                      <a:pt x="3279" y="252"/>
                      <a:pt x="3279" y="252"/>
                      <a:pt x="3279" y="252"/>
                    </a:cubicBezTo>
                    <a:cubicBezTo>
                      <a:pt x="3287" y="252"/>
                      <a:pt x="3287" y="252"/>
                      <a:pt x="3287" y="252"/>
                    </a:cubicBezTo>
                    <a:cubicBezTo>
                      <a:pt x="3296" y="251"/>
                      <a:pt x="3296" y="251"/>
                      <a:pt x="3296" y="251"/>
                    </a:cubicBezTo>
                    <a:cubicBezTo>
                      <a:pt x="3304" y="250"/>
                      <a:pt x="3304" y="250"/>
                      <a:pt x="3304" y="250"/>
                    </a:cubicBezTo>
                    <a:cubicBezTo>
                      <a:pt x="3313" y="249"/>
                      <a:pt x="3313" y="249"/>
                      <a:pt x="3313" y="249"/>
                    </a:cubicBezTo>
                    <a:cubicBezTo>
                      <a:pt x="3321" y="249"/>
                      <a:pt x="3321" y="249"/>
                      <a:pt x="3321" y="249"/>
                    </a:cubicBezTo>
                    <a:cubicBezTo>
                      <a:pt x="3330" y="248"/>
                      <a:pt x="3330" y="248"/>
                      <a:pt x="3330" y="248"/>
                    </a:cubicBezTo>
                    <a:cubicBezTo>
                      <a:pt x="3338" y="247"/>
                      <a:pt x="3338" y="247"/>
                      <a:pt x="3338" y="247"/>
                    </a:cubicBezTo>
                    <a:cubicBezTo>
                      <a:pt x="3347" y="246"/>
                      <a:pt x="3347" y="246"/>
                      <a:pt x="3347" y="246"/>
                    </a:cubicBezTo>
                    <a:cubicBezTo>
                      <a:pt x="3355" y="245"/>
                      <a:pt x="3355" y="245"/>
                      <a:pt x="3355" y="245"/>
                    </a:cubicBezTo>
                    <a:cubicBezTo>
                      <a:pt x="3364" y="245"/>
                      <a:pt x="3364" y="245"/>
                      <a:pt x="3364" y="245"/>
                    </a:cubicBezTo>
                    <a:cubicBezTo>
                      <a:pt x="3372" y="244"/>
                      <a:pt x="3372" y="244"/>
                      <a:pt x="3372" y="244"/>
                    </a:cubicBezTo>
                    <a:cubicBezTo>
                      <a:pt x="3381" y="243"/>
                      <a:pt x="3381" y="243"/>
                      <a:pt x="3381" y="243"/>
                    </a:cubicBezTo>
                    <a:cubicBezTo>
                      <a:pt x="3389" y="242"/>
                      <a:pt x="3389" y="242"/>
                      <a:pt x="3389" y="242"/>
                    </a:cubicBezTo>
                    <a:cubicBezTo>
                      <a:pt x="3398" y="242"/>
                      <a:pt x="3398" y="242"/>
                      <a:pt x="3398" y="242"/>
                    </a:cubicBezTo>
                    <a:cubicBezTo>
                      <a:pt x="3406" y="241"/>
                      <a:pt x="3406" y="241"/>
                      <a:pt x="3406" y="241"/>
                    </a:cubicBezTo>
                    <a:cubicBezTo>
                      <a:pt x="3415" y="240"/>
                      <a:pt x="3415" y="240"/>
                      <a:pt x="3415" y="240"/>
                    </a:cubicBezTo>
                    <a:cubicBezTo>
                      <a:pt x="3423" y="239"/>
                      <a:pt x="3423" y="239"/>
                      <a:pt x="3423" y="239"/>
                    </a:cubicBezTo>
                    <a:cubicBezTo>
                      <a:pt x="3432" y="239"/>
                      <a:pt x="3432" y="239"/>
                      <a:pt x="3432" y="239"/>
                    </a:cubicBezTo>
                    <a:cubicBezTo>
                      <a:pt x="3440" y="238"/>
                      <a:pt x="3440" y="238"/>
                      <a:pt x="3440" y="238"/>
                    </a:cubicBezTo>
                    <a:cubicBezTo>
                      <a:pt x="3449" y="237"/>
                      <a:pt x="3449" y="237"/>
                      <a:pt x="3449" y="237"/>
                    </a:cubicBezTo>
                    <a:cubicBezTo>
                      <a:pt x="3457" y="236"/>
                      <a:pt x="3457" y="236"/>
                      <a:pt x="3457" y="236"/>
                    </a:cubicBezTo>
                    <a:cubicBezTo>
                      <a:pt x="3466" y="236"/>
                      <a:pt x="3466" y="236"/>
                      <a:pt x="3466" y="236"/>
                    </a:cubicBezTo>
                    <a:cubicBezTo>
                      <a:pt x="3474" y="235"/>
                      <a:pt x="3474" y="235"/>
                      <a:pt x="3474" y="235"/>
                    </a:cubicBezTo>
                    <a:cubicBezTo>
                      <a:pt x="3483" y="234"/>
                      <a:pt x="3483" y="234"/>
                      <a:pt x="3483" y="234"/>
                    </a:cubicBezTo>
                    <a:cubicBezTo>
                      <a:pt x="3491" y="233"/>
                      <a:pt x="3491" y="233"/>
                      <a:pt x="3491" y="233"/>
                    </a:cubicBezTo>
                    <a:cubicBezTo>
                      <a:pt x="3500" y="233"/>
                      <a:pt x="3500" y="233"/>
                      <a:pt x="3500" y="233"/>
                    </a:cubicBezTo>
                    <a:cubicBezTo>
                      <a:pt x="3508" y="232"/>
                      <a:pt x="3508" y="232"/>
                      <a:pt x="3508" y="232"/>
                    </a:cubicBezTo>
                    <a:cubicBezTo>
                      <a:pt x="3517" y="231"/>
                      <a:pt x="3517" y="231"/>
                      <a:pt x="3517" y="231"/>
                    </a:cubicBezTo>
                    <a:cubicBezTo>
                      <a:pt x="3525" y="231"/>
                      <a:pt x="3525" y="231"/>
                      <a:pt x="3525" y="231"/>
                    </a:cubicBezTo>
                    <a:cubicBezTo>
                      <a:pt x="3534" y="230"/>
                      <a:pt x="3534" y="230"/>
                      <a:pt x="3534" y="230"/>
                    </a:cubicBezTo>
                    <a:cubicBezTo>
                      <a:pt x="3542" y="229"/>
                      <a:pt x="3542" y="229"/>
                      <a:pt x="3542" y="229"/>
                    </a:cubicBezTo>
                    <a:cubicBezTo>
                      <a:pt x="3551" y="229"/>
                      <a:pt x="3551" y="229"/>
                      <a:pt x="3551" y="229"/>
                    </a:cubicBezTo>
                    <a:cubicBezTo>
                      <a:pt x="3559" y="228"/>
                      <a:pt x="3559" y="228"/>
                      <a:pt x="3559" y="228"/>
                    </a:cubicBezTo>
                    <a:cubicBezTo>
                      <a:pt x="3568" y="227"/>
                      <a:pt x="3568" y="227"/>
                      <a:pt x="3568" y="227"/>
                    </a:cubicBezTo>
                    <a:cubicBezTo>
                      <a:pt x="3576" y="227"/>
                      <a:pt x="3576" y="227"/>
                      <a:pt x="3576" y="227"/>
                    </a:cubicBezTo>
                    <a:cubicBezTo>
                      <a:pt x="3585" y="226"/>
                      <a:pt x="3585" y="226"/>
                      <a:pt x="3585" y="226"/>
                    </a:cubicBezTo>
                    <a:cubicBezTo>
                      <a:pt x="3593" y="226"/>
                      <a:pt x="3593" y="226"/>
                      <a:pt x="3593" y="226"/>
                    </a:cubicBezTo>
                    <a:cubicBezTo>
                      <a:pt x="3602" y="225"/>
                      <a:pt x="3602" y="225"/>
                      <a:pt x="3602" y="225"/>
                    </a:cubicBezTo>
                    <a:cubicBezTo>
                      <a:pt x="3610" y="225"/>
                      <a:pt x="3610" y="225"/>
                      <a:pt x="3610" y="225"/>
                    </a:cubicBezTo>
                    <a:cubicBezTo>
                      <a:pt x="3619" y="224"/>
                      <a:pt x="3619" y="224"/>
                      <a:pt x="3619" y="224"/>
                    </a:cubicBezTo>
                    <a:cubicBezTo>
                      <a:pt x="3627" y="224"/>
                      <a:pt x="3627" y="224"/>
                      <a:pt x="3627" y="224"/>
                    </a:cubicBezTo>
                    <a:cubicBezTo>
                      <a:pt x="3636" y="223"/>
                      <a:pt x="3636" y="223"/>
                      <a:pt x="3636" y="223"/>
                    </a:cubicBezTo>
                    <a:cubicBezTo>
                      <a:pt x="3644" y="223"/>
                      <a:pt x="3644" y="223"/>
                      <a:pt x="3644" y="223"/>
                    </a:cubicBezTo>
                    <a:cubicBezTo>
                      <a:pt x="3653" y="222"/>
                      <a:pt x="3653" y="222"/>
                      <a:pt x="3653" y="222"/>
                    </a:cubicBezTo>
                    <a:cubicBezTo>
                      <a:pt x="3661" y="222"/>
                      <a:pt x="3661" y="222"/>
                      <a:pt x="3661" y="222"/>
                    </a:cubicBezTo>
                    <a:cubicBezTo>
                      <a:pt x="3670" y="221"/>
                      <a:pt x="3670" y="221"/>
                      <a:pt x="3670" y="221"/>
                    </a:cubicBezTo>
                    <a:cubicBezTo>
                      <a:pt x="3678" y="221"/>
                      <a:pt x="3678" y="221"/>
                      <a:pt x="3678" y="221"/>
                    </a:cubicBezTo>
                    <a:cubicBezTo>
                      <a:pt x="3687" y="220"/>
                      <a:pt x="3687" y="220"/>
                      <a:pt x="3687" y="220"/>
                    </a:cubicBezTo>
                    <a:cubicBezTo>
                      <a:pt x="3695" y="220"/>
                      <a:pt x="3695" y="220"/>
                      <a:pt x="3695" y="220"/>
                    </a:cubicBezTo>
                    <a:cubicBezTo>
                      <a:pt x="3704" y="220"/>
                      <a:pt x="3704" y="220"/>
                      <a:pt x="3704" y="220"/>
                    </a:cubicBezTo>
                    <a:cubicBezTo>
                      <a:pt x="3712" y="219"/>
                      <a:pt x="3712" y="219"/>
                      <a:pt x="3712" y="219"/>
                    </a:cubicBezTo>
                    <a:cubicBezTo>
                      <a:pt x="3721" y="219"/>
                      <a:pt x="3721" y="219"/>
                      <a:pt x="3721" y="219"/>
                    </a:cubicBezTo>
                    <a:cubicBezTo>
                      <a:pt x="3729" y="219"/>
                      <a:pt x="3729" y="219"/>
                      <a:pt x="3729" y="219"/>
                    </a:cubicBezTo>
                    <a:cubicBezTo>
                      <a:pt x="3738" y="218"/>
                      <a:pt x="3738" y="218"/>
                      <a:pt x="3738" y="218"/>
                    </a:cubicBezTo>
                    <a:cubicBezTo>
                      <a:pt x="3746" y="218"/>
                      <a:pt x="3746" y="218"/>
                      <a:pt x="3746" y="218"/>
                    </a:cubicBezTo>
                    <a:cubicBezTo>
                      <a:pt x="3755" y="218"/>
                      <a:pt x="3755" y="218"/>
                      <a:pt x="3755" y="218"/>
                    </a:cubicBezTo>
                    <a:cubicBezTo>
                      <a:pt x="3763" y="218"/>
                      <a:pt x="3763" y="218"/>
                      <a:pt x="3763" y="218"/>
                    </a:cubicBezTo>
                    <a:cubicBezTo>
                      <a:pt x="3772" y="217"/>
                      <a:pt x="3772" y="217"/>
                      <a:pt x="3772" y="217"/>
                    </a:cubicBezTo>
                    <a:cubicBezTo>
                      <a:pt x="3780" y="217"/>
                      <a:pt x="3780" y="217"/>
                      <a:pt x="3780" y="217"/>
                    </a:cubicBezTo>
                    <a:cubicBezTo>
                      <a:pt x="3789" y="217"/>
                      <a:pt x="3789" y="217"/>
                      <a:pt x="3789" y="217"/>
                    </a:cubicBezTo>
                    <a:cubicBezTo>
                      <a:pt x="3797" y="217"/>
                      <a:pt x="3797" y="217"/>
                      <a:pt x="3797" y="217"/>
                    </a:cubicBezTo>
                    <a:cubicBezTo>
                      <a:pt x="3806" y="217"/>
                      <a:pt x="3806" y="217"/>
                      <a:pt x="3806" y="217"/>
                    </a:cubicBezTo>
                    <a:cubicBezTo>
                      <a:pt x="3814" y="217"/>
                      <a:pt x="3814" y="217"/>
                      <a:pt x="3814" y="217"/>
                    </a:cubicBezTo>
                    <a:cubicBezTo>
                      <a:pt x="3823" y="216"/>
                      <a:pt x="3823" y="216"/>
                      <a:pt x="3823" y="216"/>
                    </a:cubicBezTo>
                    <a:cubicBezTo>
                      <a:pt x="3832" y="216"/>
                      <a:pt x="3832" y="216"/>
                      <a:pt x="3832" y="216"/>
                    </a:cubicBezTo>
                    <a:cubicBezTo>
                      <a:pt x="3840" y="216"/>
                      <a:pt x="3840" y="216"/>
                      <a:pt x="3840" y="216"/>
                    </a:cubicBezTo>
                    <a:cubicBezTo>
                      <a:pt x="3849" y="216"/>
                      <a:pt x="3849" y="216"/>
                      <a:pt x="3849" y="216"/>
                    </a:cubicBezTo>
                    <a:cubicBezTo>
                      <a:pt x="3857" y="216"/>
                      <a:pt x="3857" y="216"/>
                      <a:pt x="3857" y="216"/>
                    </a:cubicBezTo>
                    <a:cubicBezTo>
                      <a:pt x="3866" y="216"/>
                      <a:pt x="3866" y="216"/>
                      <a:pt x="3866" y="216"/>
                    </a:cubicBezTo>
                    <a:cubicBezTo>
                      <a:pt x="3874" y="216"/>
                      <a:pt x="3874" y="216"/>
                      <a:pt x="3874" y="216"/>
                    </a:cubicBezTo>
                    <a:cubicBezTo>
                      <a:pt x="3883" y="216"/>
                      <a:pt x="3883" y="216"/>
                      <a:pt x="3883" y="216"/>
                    </a:cubicBezTo>
                    <a:cubicBezTo>
                      <a:pt x="3891" y="216"/>
                      <a:pt x="3891" y="216"/>
                      <a:pt x="3891" y="216"/>
                    </a:cubicBezTo>
                    <a:cubicBezTo>
                      <a:pt x="3900" y="216"/>
                      <a:pt x="3900" y="216"/>
                      <a:pt x="3900" y="216"/>
                    </a:cubicBezTo>
                    <a:cubicBezTo>
                      <a:pt x="3908" y="216"/>
                      <a:pt x="3908" y="216"/>
                      <a:pt x="3908" y="216"/>
                    </a:cubicBezTo>
                    <a:cubicBezTo>
                      <a:pt x="3917" y="216"/>
                      <a:pt x="3917" y="216"/>
                      <a:pt x="3917" y="216"/>
                    </a:cubicBezTo>
                    <a:cubicBezTo>
                      <a:pt x="3925" y="216"/>
                      <a:pt x="3925" y="216"/>
                      <a:pt x="3925" y="216"/>
                    </a:cubicBezTo>
                    <a:cubicBezTo>
                      <a:pt x="3934" y="216"/>
                      <a:pt x="3934" y="216"/>
                      <a:pt x="3934" y="216"/>
                    </a:cubicBezTo>
                    <a:cubicBezTo>
                      <a:pt x="3942" y="216"/>
                      <a:pt x="3942" y="216"/>
                      <a:pt x="3942" y="216"/>
                    </a:cubicBezTo>
                    <a:cubicBezTo>
                      <a:pt x="3951" y="217"/>
                      <a:pt x="3951" y="217"/>
                      <a:pt x="3951" y="217"/>
                    </a:cubicBezTo>
                    <a:cubicBezTo>
                      <a:pt x="3959" y="217"/>
                      <a:pt x="3959" y="217"/>
                      <a:pt x="3959" y="217"/>
                    </a:cubicBezTo>
                    <a:cubicBezTo>
                      <a:pt x="3968" y="217"/>
                      <a:pt x="3968" y="217"/>
                      <a:pt x="3968" y="217"/>
                    </a:cubicBezTo>
                    <a:cubicBezTo>
                      <a:pt x="3976" y="217"/>
                      <a:pt x="3976" y="217"/>
                      <a:pt x="3976" y="217"/>
                    </a:cubicBezTo>
                    <a:cubicBezTo>
                      <a:pt x="3985" y="217"/>
                      <a:pt x="3985" y="217"/>
                      <a:pt x="3985" y="217"/>
                    </a:cubicBezTo>
                    <a:cubicBezTo>
                      <a:pt x="3993" y="217"/>
                      <a:pt x="3993" y="217"/>
                      <a:pt x="3993" y="217"/>
                    </a:cubicBezTo>
                    <a:cubicBezTo>
                      <a:pt x="4002" y="218"/>
                      <a:pt x="4002" y="218"/>
                      <a:pt x="4002" y="218"/>
                    </a:cubicBezTo>
                    <a:cubicBezTo>
                      <a:pt x="4010" y="218"/>
                      <a:pt x="4010" y="218"/>
                      <a:pt x="4010" y="218"/>
                    </a:cubicBezTo>
                    <a:cubicBezTo>
                      <a:pt x="4019" y="218"/>
                      <a:pt x="4019" y="218"/>
                      <a:pt x="4019" y="218"/>
                    </a:cubicBezTo>
                    <a:cubicBezTo>
                      <a:pt x="4027" y="218"/>
                      <a:pt x="4027" y="218"/>
                      <a:pt x="4027" y="218"/>
                    </a:cubicBezTo>
                    <a:cubicBezTo>
                      <a:pt x="4036" y="218"/>
                      <a:pt x="4036" y="218"/>
                      <a:pt x="4036" y="218"/>
                    </a:cubicBezTo>
                    <a:cubicBezTo>
                      <a:pt x="4044" y="219"/>
                      <a:pt x="4044" y="219"/>
                      <a:pt x="4044" y="219"/>
                    </a:cubicBezTo>
                    <a:cubicBezTo>
                      <a:pt x="4053" y="219"/>
                      <a:pt x="4053" y="219"/>
                      <a:pt x="4053" y="219"/>
                    </a:cubicBezTo>
                    <a:cubicBezTo>
                      <a:pt x="4061" y="219"/>
                      <a:pt x="4061" y="219"/>
                      <a:pt x="4061" y="219"/>
                    </a:cubicBezTo>
                    <a:cubicBezTo>
                      <a:pt x="4070" y="220"/>
                      <a:pt x="4070" y="220"/>
                      <a:pt x="4070" y="220"/>
                    </a:cubicBezTo>
                    <a:cubicBezTo>
                      <a:pt x="4078" y="220"/>
                      <a:pt x="4078" y="220"/>
                      <a:pt x="4078" y="220"/>
                    </a:cubicBezTo>
                    <a:cubicBezTo>
                      <a:pt x="4087" y="220"/>
                      <a:pt x="4087" y="220"/>
                      <a:pt x="4087" y="220"/>
                    </a:cubicBezTo>
                    <a:cubicBezTo>
                      <a:pt x="4095" y="220"/>
                      <a:pt x="4095" y="220"/>
                      <a:pt x="4095" y="220"/>
                    </a:cubicBezTo>
                    <a:cubicBezTo>
                      <a:pt x="4104" y="221"/>
                      <a:pt x="4104" y="221"/>
                      <a:pt x="4104" y="221"/>
                    </a:cubicBezTo>
                    <a:cubicBezTo>
                      <a:pt x="4112" y="221"/>
                      <a:pt x="4112" y="221"/>
                      <a:pt x="4112" y="221"/>
                    </a:cubicBezTo>
                    <a:cubicBezTo>
                      <a:pt x="4121" y="221"/>
                      <a:pt x="4121" y="221"/>
                      <a:pt x="4121" y="221"/>
                    </a:cubicBezTo>
                    <a:cubicBezTo>
                      <a:pt x="4129" y="222"/>
                      <a:pt x="4129" y="222"/>
                      <a:pt x="4129" y="222"/>
                    </a:cubicBezTo>
                    <a:cubicBezTo>
                      <a:pt x="4138" y="222"/>
                      <a:pt x="4138" y="222"/>
                      <a:pt x="4138" y="222"/>
                    </a:cubicBezTo>
                    <a:cubicBezTo>
                      <a:pt x="4146" y="223"/>
                      <a:pt x="4146" y="223"/>
                      <a:pt x="4146" y="223"/>
                    </a:cubicBezTo>
                    <a:cubicBezTo>
                      <a:pt x="4155" y="223"/>
                      <a:pt x="4155" y="223"/>
                      <a:pt x="4155" y="223"/>
                    </a:cubicBezTo>
                    <a:cubicBezTo>
                      <a:pt x="4163" y="223"/>
                      <a:pt x="4163" y="223"/>
                      <a:pt x="4163" y="223"/>
                    </a:cubicBezTo>
                    <a:cubicBezTo>
                      <a:pt x="4172" y="224"/>
                      <a:pt x="4172" y="224"/>
                      <a:pt x="4172" y="224"/>
                    </a:cubicBezTo>
                    <a:cubicBezTo>
                      <a:pt x="4180" y="224"/>
                      <a:pt x="4180" y="224"/>
                      <a:pt x="4180" y="224"/>
                    </a:cubicBezTo>
                    <a:cubicBezTo>
                      <a:pt x="4189" y="224"/>
                      <a:pt x="4189" y="224"/>
                      <a:pt x="4189" y="224"/>
                    </a:cubicBezTo>
                    <a:cubicBezTo>
                      <a:pt x="4197" y="225"/>
                      <a:pt x="4197" y="225"/>
                      <a:pt x="4197" y="225"/>
                    </a:cubicBezTo>
                    <a:cubicBezTo>
                      <a:pt x="4206" y="225"/>
                      <a:pt x="4206" y="225"/>
                      <a:pt x="4206" y="225"/>
                    </a:cubicBezTo>
                    <a:cubicBezTo>
                      <a:pt x="4214" y="226"/>
                      <a:pt x="4214" y="226"/>
                      <a:pt x="4214" y="226"/>
                    </a:cubicBezTo>
                    <a:cubicBezTo>
                      <a:pt x="4223" y="226"/>
                      <a:pt x="4223" y="226"/>
                      <a:pt x="4223" y="226"/>
                    </a:cubicBezTo>
                    <a:cubicBezTo>
                      <a:pt x="4231" y="226"/>
                      <a:pt x="4231" y="226"/>
                      <a:pt x="4231" y="226"/>
                    </a:cubicBezTo>
                    <a:cubicBezTo>
                      <a:pt x="4240" y="227"/>
                      <a:pt x="4240" y="227"/>
                      <a:pt x="4240" y="227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766" name=""/>
            <p:cNvGraphicFramePr/>
            <p:nvPr/>
          </p:nvGraphicFramePr>
          <p:xfrm>
            <a:off x="4743360" y="2862360"/>
            <a:ext cx="13032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43360" y="2862360"/>
                      <a:ext cx="13032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8" name=""/>
            <p:cNvGraphicFramePr/>
            <p:nvPr/>
          </p:nvGraphicFramePr>
          <p:xfrm>
            <a:off x="1641600" y="2817720"/>
            <a:ext cx="150840" cy="23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1600" y="2817720"/>
                      <a:ext cx="15084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70" name=""/>
          <p:cNvSpPr/>
          <p:nvPr/>
        </p:nvSpPr>
        <p:spPr>
          <a:xfrm flipV="1">
            <a:off x="2181240" y="1695600"/>
            <a:ext cx="828720" cy="56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 flipH="1">
            <a:off x="2990160" y="16668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2" name=""/>
          <p:cNvGrpSpPr/>
          <p:nvPr/>
        </p:nvGrpSpPr>
        <p:grpSpPr>
          <a:xfrm>
            <a:off x="1137960" y="2079720"/>
            <a:ext cx="689040" cy="495360"/>
            <a:chOff x="1137960" y="2079720"/>
            <a:chExt cx="689040" cy="495360"/>
          </a:xfrm>
        </p:grpSpPr>
        <p:sp>
          <p:nvSpPr>
            <p:cNvPr id="2773" name=""/>
            <p:cNvSpPr/>
            <p:nvPr/>
          </p:nvSpPr>
          <p:spPr>
            <a:xfrm flipH="1">
              <a:off x="1157040" y="2079720"/>
              <a:ext cx="66996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1137600" y="2519640"/>
              <a:ext cx="5580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5" name=""/>
          <p:cNvSpPr/>
          <p:nvPr/>
        </p:nvSpPr>
        <p:spPr>
          <a:xfrm>
            <a:off x="1441440" y="4311720"/>
            <a:ext cx="59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ам необхідно знайти значення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 момент часу </a:t>
            </a:r>
            <a:r>
              <a:rPr b="0" i="1" lang="en-US" sz="16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i="1" lang="uk-UA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lang="uk-UA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2917800" y="4916520"/>
            <a:ext cx="8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8" name=""/>
          <p:cNvGraphicFramePr/>
          <p:nvPr/>
        </p:nvGraphicFramePr>
        <p:xfrm>
          <a:off x="3638520" y="4881600"/>
          <a:ext cx="29908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8520" y="4881600"/>
                    <a:ext cx="29908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0" name=""/>
          <p:cNvSpPr/>
          <p:nvPr/>
        </p:nvSpPr>
        <p:spPr>
          <a:xfrm>
            <a:off x="789120" y="240660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607000" y="4930920"/>
            <a:ext cx="89388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1262160" y="4721400"/>
            <a:ext cx="42840" cy="8427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1063800" y="419904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"/>
          <p:cNvSpPr/>
          <p:nvPr/>
        </p:nvSpPr>
        <p:spPr>
          <a:xfrm>
            <a:off x="2347920" y="495360"/>
            <a:ext cx="49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7" name=""/>
          <p:cNvGraphicFramePr/>
          <p:nvPr/>
        </p:nvGraphicFramePr>
        <p:xfrm>
          <a:off x="5600880" y="2484360"/>
          <a:ext cx="11286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0880" y="2484360"/>
                    <a:ext cx="1128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89" name=""/>
          <p:cNvGrpSpPr/>
          <p:nvPr/>
        </p:nvGrpSpPr>
        <p:grpSpPr>
          <a:xfrm>
            <a:off x="1373040" y="840960"/>
            <a:ext cx="3411360" cy="2576520"/>
            <a:chOff x="1373040" y="840960"/>
            <a:chExt cx="3411360" cy="2576520"/>
          </a:xfrm>
        </p:grpSpPr>
        <p:graphicFrame>
          <p:nvGraphicFramePr>
            <p:cNvPr id="2790" name=""/>
            <p:cNvGraphicFramePr/>
            <p:nvPr/>
          </p:nvGraphicFramePr>
          <p:xfrm>
            <a:off x="1378080" y="925920"/>
            <a:ext cx="183240" cy="187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8080" y="925920"/>
                      <a:ext cx="183240" cy="18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92" name=""/>
            <p:cNvSpPr/>
            <p:nvPr/>
          </p:nvSpPr>
          <p:spPr>
            <a:xfrm flipV="1">
              <a:off x="1373040" y="2553840"/>
              <a:ext cx="3411360" cy="1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1558080" y="840960"/>
              <a:ext cx="0" cy="25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4" name=""/>
            <p:cNvGrpSpPr/>
            <p:nvPr/>
          </p:nvGrpSpPr>
          <p:grpSpPr>
            <a:xfrm>
              <a:off x="1567800" y="1208520"/>
              <a:ext cx="2778120" cy="1971360"/>
              <a:chOff x="1567800" y="1208520"/>
              <a:chExt cx="2778120" cy="1971360"/>
            </a:xfrm>
          </p:grpSpPr>
          <p:sp>
            <p:nvSpPr>
              <p:cNvPr id="2795" name=""/>
              <p:cNvSpPr/>
              <p:nvPr/>
            </p:nvSpPr>
            <p:spPr>
              <a:xfrm>
                <a:off x="1567800" y="1208520"/>
                <a:ext cx="2778120" cy="1306800"/>
              </a:xfrm>
              <a:custGeom>
                <a:avLst/>
                <a:gdLst/>
                <a:ahLst/>
                <a:rect l="l" t="t" r="r" b="b"/>
                <a:pathLst>
                  <a:path w="4244" h="270">
                    <a:moveTo>
                      <a:pt x="0" y="0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43" y="9"/>
                      <a:pt x="43" y="9"/>
                      <a:pt x="43" y="9"/>
                    </a:cubicBezTo>
                    <a:cubicBezTo>
                      <a:pt x="51" y="11"/>
                      <a:pt x="51" y="11"/>
                      <a:pt x="51" y="11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8" y="14"/>
                      <a:pt x="68" y="14"/>
                      <a:pt x="68" y="14"/>
                    </a:cubicBezTo>
                    <a:cubicBezTo>
                      <a:pt x="77" y="15"/>
                      <a:pt x="77" y="15"/>
                      <a:pt x="77" y="15"/>
                    </a:cubicBezTo>
                    <a:cubicBezTo>
                      <a:pt x="85" y="17"/>
                      <a:pt x="85" y="17"/>
                      <a:pt x="85" y="17"/>
                    </a:cubicBezTo>
                    <a:cubicBezTo>
                      <a:pt x="94" y="19"/>
                      <a:pt x="94" y="19"/>
                      <a:pt x="94" y="19"/>
                    </a:cubicBezTo>
                    <a:cubicBezTo>
                      <a:pt x="102" y="20"/>
                      <a:pt x="102" y="20"/>
                      <a:pt x="102" y="20"/>
                    </a:cubicBezTo>
                    <a:cubicBezTo>
                      <a:pt x="111" y="22"/>
                      <a:pt x="111" y="22"/>
                      <a:pt x="111" y="22"/>
                    </a:cubicBezTo>
                    <a:cubicBezTo>
                      <a:pt x="119" y="23"/>
                      <a:pt x="119" y="23"/>
                      <a:pt x="119" y="23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36" y="26"/>
                      <a:pt x="136" y="26"/>
                      <a:pt x="136" y="26"/>
                    </a:cubicBezTo>
                    <a:cubicBezTo>
                      <a:pt x="145" y="28"/>
                      <a:pt x="145" y="28"/>
                      <a:pt x="145" y="28"/>
                    </a:cubicBezTo>
                    <a:cubicBezTo>
                      <a:pt x="153" y="30"/>
                      <a:pt x="153" y="30"/>
                      <a:pt x="153" y="30"/>
                    </a:cubicBezTo>
                    <a:cubicBezTo>
                      <a:pt x="162" y="31"/>
                      <a:pt x="162" y="31"/>
                      <a:pt x="162" y="31"/>
                    </a:cubicBezTo>
                    <a:cubicBezTo>
                      <a:pt x="170" y="33"/>
                      <a:pt x="170" y="33"/>
                      <a:pt x="170" y="33"/>
                    </a:cubicBezTo>
                    <a:cubicBezTo>
                      <a:pt x="179" y="34"/>
                      <a:pt x="179" y="34"/>
                      <a:pt x="179" y="34"/>
                    </a:cubicBezTo>
                    <a:cubicBezTo>
                      <a:pt x="187" y="36"/>
                      <a:pt x="187" y="36"/>
                      <a:pt x="187" y="36"/>
                    </a:cubicBezTo>
                    <a:cubicBezTo>
                      <a:pt x="196" y="37"/>
                      <a:pt x="196" y="37"/>
                      <a:pt x="196" y="37"/>
                    </a:cubicBezTo>
                    <a:cubicBezTo>
                      <a:pt x="204" y="39"/>
                      <a:pt x="204" y="39"/>
                      <a:pt x="204" y="39"/>
                    </a:cubicBezTo>
                    <a:cubicBezTo>
                      <a:pt x="213" y="40"/>
                      <a:pt x="213" y="40"/>
                      <a:pt x="213" y="40"/>
                    </a:cubicBezTo>
                    <a:cubicBezTo>
                      <a:pt x="221" y="41"/>
                      <a:pt x="221" y="41"/>
                      <a:pt x="221" y="41"/>
                    </a:cubicBezTo>
                    <a:cubicBezTo>
                      <a:pt x="230" y="43"/>
                      <a:pt x="230" y="43"/>
                      <a:pt x="230" y="43"/>
                    </a:cubicBezTo>
                    <a:cubicBezTo>
                      <a:pt x="238" y="44"/>
                      <a:pt x="238" y="44"/>
                      <a:pt x="238" y="44"/>
                    </a:cubicBezTo>
                    <a:cubicBezTo>
                      <a:pt x="247" y="46"/>
                      <a:pt x="247" y="46"/>
                      <a:pt x="247" y="46"/>
                    </a:cubicBezTo>
                    <a:cubicBezTo>
                      <a:pt x="255" y="47"/>
                      <a:pt x="255" y="47"/>
                      <a:pt x="255" y="47"/>
                    </a:cubicBezTo>
                    <a:cubicBezTo>
                      <a:pt x="264" y="49"/>
                      <a:pt x="264" y="49"/>
                      <a:pt x="264" y="49"/>
                    </a:cubicBezTo>
                    <a:cubicBezTo>
                      <a:pt x="272" y="50"/>
                      <a:pt x="272" y="50"/>
                      <a:pt x="272" y="50"/>
                    </a:cubicBezTo>
                    <a:cubicBezTo>
                      <a:pt x="281" y="51"/>
                      <a:pt x="281" y="51"/>
                      <a:pt x="281" y="51"/>
                    </a:cubicBezTo>
                    <a:cubicBezTo>
                      <a:pt x="289" y="53"/>
                      <a:pt x="289" y="53"/>
                      <a:pt x="289" y="53"/>
                    </a:cubicBezTo>
                    <a:cubicBezTo>
                      <a:pt x="298" y="54"/>
                      <a:pt x="298" y="54"/>
                      <a:pt x="298" y="54"/>
                    </a:cubicBezTo>
                    <a:cubicBezTo>
                      <a:pt x="306" y="56"/>
                      <a:pt x="306" y="56"/>
                      <a:pt x="306" y="56"/>
                    </a:cubicBezTo>
                    <a:cubicBezTo>
                      <a:pt x="315" y="57"/>
                      <a:pt x="315" y="57"/>
                      <a:pt x="315" y="57"/>
                    </a:cubicBezTo>
                    <a:cubicBezTo>
                      <a:pt x="323" y="58"/>
                      <a:pt x="323" y="58"/>
                      <a:pt x="323" y="58"/>
                    </a:cubicBezTo>
                    <a:cubicBezTo>
                      <a:pt x="332" y="60"/>
                      <a:pt x="332" y="60"/>
                      <a:pt x="332" y="60"/>
                    </a:cubicBezTo>
                    <a:cubicBezTo>
                      <a:pt x="340" y="61"/>
                      <a:pt x="340" y="61"/>
                      <a:pt x="340" y="61"/>
                    </a:cubicBezTo>
                    <a:cubicBezTo>
                      <a:pt x="349" y="62"/>
                      <a:pt x="349" y="62"/>
                      <a:pt x="349" y="62"/>
                    </a:cubicBezTo>
                    <a:cubicBezTo>
                      <a:pt x="357" y="64"/>
                      <a:pt x="357" y="64"/>
                      <a:pt x="357" y="64"/>
                    </a:cubicBezTo>
                    <a:cubicBezTo>
                      <a:pt x="366" y="65"/>
                      <a:pt x="366" y="65"/>
                      <a:pt x="366" y="65"/>
                    </a:cubicBezTo>
                    <a:cubicBezTo>
                      <a:pt x="374" y="66"/>
                      <a:pt x="374" y="66"/>
                      <a:pt x="374" y="66"/>
                    </a:cubicBezTo>
                    <a:cubicBezTo>
                      <a:pt x="383" y="68"/>
                      <a:pt x="383" y="68"/>
                      <a:pt x="383" y="68"/>
                    </a:cubicBezTo>
                    <a:cubicBezTo>
                      <a:pt x="391" y="69"/>
                      <a:pt x="391" y="69"/>
                      <a:pt x="391" y="69"/>
                    </a:cubicBezTo>
                    <a:cubicBezTo>
                      <a:pt x="400" y="70"/>
                      <a:pt x="400" y="70"/>
                      <a:pt x="400" y="70"/>
                    </a:cubicBezTo>
                    <a:cubicBezTo>
                      <a:pt x="408" y="71"/>
                      <a:pt x="408" y="71"/>
                      <a:pt x="408" y="71"/>
                    </a:cubicBezTo>
                    <a:cubicBezTo>
                      <a:pt x="417" y="73"/>
                      <a:pt x="417" y="73"/>
                      <a:pt x="417" y="73"/>
                    </a:cubicBezTo>
                    <a:cubicBezTo>
                      <a:pt x="425" y="74"/>
                      <a:pt x="425" y="74"/>
                      <a:pt x="425" y="74"/>
                    </a:cubicBezTo>
                    <a:cubicBezTo>
                      <a:pt x="434" y="75"/>
                      <a:pt x="434" y="75"/>
                      <a:pt x="434" y="75"/>
                    </a:cubicBezTo>
                    <a:cubicBezTo>
                      <a:pt x="442" y="76"/>
                      <a:pt x="442" y="76"/>
                      <a:pt x="442" y="76"/>
                    </a:cubicBezTo>
                    <a:cubicBezTo>
                      <a:pt x="451" y="78"/>
                      <a:pt x="451" y="78"/>
                      <a:pt x="451" y="78"/>
                    </a:cubicBezTo>
                    <a:cubicBezTo>
                      <a:pt x="459" y="79"/>
                      <a:pt x="459" y="79"/>
                      <a:pt x="459" y="79"/>
                    </a:cubicBezTo>
                    <a:cubicBezTo>
                      <a:pt x="468" y="80"/>
                      <a:pt x="468" y="80"/>
                      <a:pt x="468" y="80"/>
                    </a:cubicBezTo>
                    <a:cubicBezTo>
                      <a:pt x="476" y="81"/>
                      <a:pt x="476" y="81"/>
                      <a:pt x="476" y="81"/>
                    </a:cubicBezTo>
                    <a:cubicBezTo>
                      <a:pt x="485" y="83"/>
                      <a:pt x="485" y="83"/>
                      <a:pt x="485" y="83"/>
                    </a:cubicBezTo>
                    <a:cubicBezTo>
                      <a:pt x="493" y="84"/>
                      <a:pt x="493" y="84"/>
                      <a:pt x="493" y="84"/>
                    </a:cubicBezTo>
                    <a:cubicBezTo>
                      <a:pt x="502" y="85"/>
                      <a:pt x="502" y="85"/>
                      <a:pt x="502" y="85"/>
                    </a:cubicBezTo>
                    <a:cubicBezTo>
                      <a:pt x="510" y="86"/>
                      <a:pt x="510" y="86"/>
                      <a:pt x="510" y="86"/>
                    </a:cubicBezTo>
                    <a:cubicBezTo>
                      <a:pt x="519" y="87"/>
                      <a:pt x="519" y="87"/>
                      <a:pt x="519" y="87"/>
                    </a:cubicBezTo>
                    <a:cubicBezTo>
                      <a:pt x="527" y="89"/>
                      <a:pt x="527" y="89"/>
                      <a:pt x="527" y="89"/>
                    </a:cubicBezTo>
                    <a:cubicBezTo>
                      <a:pt x="536" y="90"/>
                      <a:pt x="536" y="90"/>
                      <a:pt x="536" y="90"/>
                    </a:cubicBezTo>
                    <a:cubicBezTo>
                      <a:pt x="544" y="91"/>
                      <a:pt x="544" y="91"/>
                      <a:pt x="544" y="91"/>
                    </a:cubicBezTo>
                    <a:cubicBezTo>
                      <a:pt x="553" y="92"/>
                      <a:pt x="553" y="92"/>
                      <a:pt x="553" y="92"/>
                    </a:cubicBezTo>
                    <a:cubicBezTo>
                      <a:pt x="561" y="93"/>
                      <a:pt x="561" y="93"/>
                      <a:pt x="561" y="93"/>
                    </a:cubicBezTo>
                    <a:cubicBezTo>
                      <a:pt x="570" y="94"/>
                      <a:pt x="570" y="94"/>
                      <a:pt x="570" y="94"/>
                    </a:cubicBezTo>
                    <a:cubicBezTo>
                      <a:pt x="578" y="95"/>
                      <a:pt x="578" y="95"/>
                      <a:pt x="578" y="95"/>
                    </a:cubicBezTo>
                    <a:cubicBezTo>
                      <a:pt x="587" y="97"/>
                      <a:pt x="587" y="97"/>
                      <a:pt x="587" y="97"/>
                    </a:cubicBezTo>
                    <a:cubicBezTo>
                      <a:pt x="595" y="98"/>
                      <a:pt x="595" y="98"/>
                      <a:pt x="595" y="98"/>
                    </a:cubicBezTo>
                    <a:cubicBezTo>
                      <a:pt x="604" y="99"/>
                      <a:pt x="604" y="99"/>
                      <a:pt x="604" y="99"/>
                    </a:cubicBezTo>
                    <a:cubicBezTo>
                      <a:pt x="612" y="100"/>
                      <a:pt x="612" y="100"/>
                      <a:pt x="612" y="100"/>
                    </a:cubicBezTo>
                    <a:cubicBezTo>
                      <a:pt x="621" y="101"/>
                      <a:pt x="621" y="101"/>
                      <a:pt x="621" y="101"/>
                    </a:cubicBezTo>
                    <a:cubicBezTo>
                      <a:pt x="629" y="102"/>
                      <a:pt x="629" y="102"/>
                      <a:pt x="629" y="102"/>
                    </a:cubicBezTo>
                    <a:cubicBezTo>
                      <a:pt x="638" y="103"/>
                      <a:pt x="638" y="103"/>
                      <a:pt x="638" y="103"/>
                    </a:cubicBezTo>
                    <a:cubicBezTo>
                      <a:pt x="646" y="104"/>
                      <a:pt x="646" y="104"/>
                      <a:pt x="646" y="104"/>
                    </a:cubicBezTo>
                    <a:cubicBezTo>
                      <a:pt x="655" y="105"/>
                      <a:pt x="655" y="105"/>
                      <a:pt x="655" y="105"/>
                    </a:cubicBezTo>
                    <a:cubicBezTo>
                      <a:pt x="663" y="106"/>
                      <a:pt x="663" y="106"/>
                      <a:pt x="663" y="106"/>
                    </a:cubicBezTo>
                    <a:cubicBezTo>
                      <a:pt x="672" y="108"/>
                      <a:pt x="672" y="108"/>
                      <a:pt x="672" y="108"/>
                    </a:cubicBezTo>
                    <a:cubicBezTo>
                      <a:pt x="680" y="109"/>
                      <a:pt x="680" y="109"/>
                      <a:pt x="680" y="109"/>
                    </a:cubicBezTo>
                    <a:cubicBezTo>
                      <a:pt x="689" y="110"/>
                      <a:pt x="689" y="110"/>
                      <a:pt x="689" y="110"/>
                    </a:cubicBezTo>
                    <a:cubicBezTo>
                      <a:pt x="697" y="111"/>
                      <a:pt x="697" y="111"/>
                      <a:pt x="697" y="111"/>
                    </a:cubicBezTo>
                    <a:cubicBezTo>
                      <a:pt x="706" y="112"/>
                      <a:pt x="706" y="112"/>
                      <a:pt x="706" y="112"/>
                    </a:cubicBezTo>
                    <a:cubicBezTo>
                      <a:pt x="714" y="113"/>
                      <a:pt x="714" y="113"/>
                      <a:pt x="714" y="113"/>
                    </a:cubicBezTo>
                    <a:cubicBezTo>
                      <a:pt x="723" y="114"/>
                      <a:pt x="723" y="114"/>
                      <a:pt x="723" y="114"/>
                    </a:cubicBezTo>
                    <a:cubicBezTo>
                      <a:pt x="731" y="115"/>
                      <a:pt x="731" y="115"/>
                      <a:pt x="731" y="115"/>
                    </a:cubicBezTo>
                    <a:cubicBezTo>
                      <a:pt x="740" y="116"/>
                      <a:pt x="740" y="116"/>
                      <a:pt x="740" y="116"/>
                    </a:cubicBezTo>
                    <a:cubicBezTo>
                      <a:pt x="748" y="117"/>
                      <a:pt x="748" y="117"/>
                      <a:pt x="748" y="117"/>
                    </a:cubicBezTo>
                    <a:cubicBezTo>
                      <a:pt x="757" y="118"/>
                      <a:pt x="757" y="118"/>
                      <a:pt x="757" y="118"/>
                    </a:cubicBezTo>
                    <a:cubicBezTo>
                      <a:pt x="765" y="119"/>
                      <a:pt x="765" y="119"/>
                      <a:pt x="765" y="119"/>
                    </a:cubicBezTo>
                    <a:cubicBezTo>
                      <a:pt x="774" y="120"/>
                      <a:pt x="774" y="120"/>
                      <a:pt x="774" y="120"/>
                    </a:cubicBezTo>
                    <a:cubicBezTo>
                      <a:pt x="782" y="121"/>
                      <a:pt x="782" y="121"/>
                      <a:pt x="782" y="121"/>
                    </a:cubicBezTo>
                    <a:cubicBezTo>
                      <a:pt x="791" y="122"/>
                      <a:pt x="791" y="122"/>
                      <a:pt x="791" y="122"/>
                    </a:cubicBezTo>
                    <a:cubicBezTo>
                      <a:pt x="799" y="123"/>
                      <a:pt x="799" y="123"/>
                      <a:pt x="799" y="123"/>
                    </a:cubicBezTo>
                    <a:cubicBezTo>
                      <a:pt x="808" y="124"/>
                      <a:pt x="808" y="124"/>
                      <a:pt x="808" y="124"/>
                    </a:cubicBezTo>
                    <a:cubicBezTo>
                      <a:pt x="816" y="125"/>
                      <a:pt x="816" y="125"/>
                      <a:pt x="816" y="125"/>
                    </a:cubicBezTo>
                    <a:cubicBezTo>
                      <a:pt x="825" y="126"/>
                      <a:pt x="825" y="126"/>
                      <a:pt x="825" y="126"/>
                    </a:cubicBezTo>
                    <a:cubicBezTo>
                      <a:pt x="833" y="127"/>
                      <a:pt x="833" y="127"/>
                      <a:pt x="833" y="127"/>
                    </a:cubicBezTo>
                    <a:cubicBezTo>
                      <a:pt x="842" y="127"/>
                      <a:pt x="842" y="127"/>
                      <a:pt x="842" y="127"/>
                    </a:cubicBezTo>
                    <a:cubicBezTo>
                      <a:pt x="850" y="128"/>
                      <a:pt x="850" y="128"/>
                      <a:pt x="850" y="128"/>
                    </a:cubicBezTo>
                    <a:cubicBezTo>
                      <a:pt x="859" y="129"/>
                      <a:pt x="859" y="129"/>
                      <a:pt x="859" y="129"/>
                    </a:cubicBezTo>
                    <a:cubicBezTo>
                      <a:pt x="868" y="130"/>
                      <a:pt x="868" y="130"/>
                      <a:pt x="868" y="130"/>
                    </a:cubicBezTo>
                    <a:cubicBezTo>
                      <a:pt x="876" y="131"/>
                      <a:pt x="876" y="131"/>
                      <a:pt x="876" y="131"/>
                    </a:cubicBezTo>
                    <a:cubicBezTo>
                      <a:pt x="885" y="132"/>
                      <a:pt x="885" y="132"/>
                      <a:pt x="885" y="132"/>
                    </a:cubicBezTo>
                    <a:cubicBezTo>
                      <a:pt x="893" y="133"/>
                      <a:pt x="893" y="133"/>
                      <a:pt x="893" y="133"/>
                    </a:cubicBezTo>
                    <a:cubicBezTo>
                      <a:pt x="902" y="134"/>
                      <a:pt x="902" y="134"/>
                      <a:pt x="902" y="134"/>
                    </a:cubicBezTo>
                    <a:cubicBezTo>
                      <a:pt x="910" y="135"/>
                      <a:pt x="910" y="135"/>
                      <a:pt x="910" y="135"/>
                    </a:cubicBezTo>
                    <a:cubicBezTo>
                      <a:pt x="919" y="136"/>
                      <a:pt x="919" y="136"/>
                      <a:pt x="919" y="136"/>
                    </a:cubicBezTo>
                    <a:cubicBezTo>
                      <a:pt x="927" y="137"/>
                      <a:pt x="927" y="137"/>
                      <a:pt x="927" y="137"/>
                    </a:cubicBezTo>
                    <a:cubicBezTo>
                      <a:pt x="936" y="137"/>
                      <a:pt x="936" y="137"/>
                      <a:pt x="936" y="137"/>
                    </a:cubicBezTo>
                    <a:cubicBezTo>
                      <a:pt x="944" y="138"/>
                      <a:pt x="944" y="138"/>
                      <a:pt x="944" y="138"/>
                    </a:cubicBezTo>
                    <a:cubicBezTo>
                      <a:pt x="953" y="139"/>
                      <a:pt x="953" y="139"/>
                      <a:pt x="953" y="139"/>
                    </a:cubicBezTo>
                    <a:cubicBezTo>
                      <a:pt x="961" y="140"/>
                      <a:pt x="961" y="140"/>
                      <a:pt x="961" y="140"/>
                    </a:cubicBezTo>
                    <a:cubicBezTo>
                      <a:pt x="970" y="141"/>
                      <a:pt x="970" y="141"/>
                      <a:pt x="970" y="141"/>
                    </a:cubicBezTo>
                    <a:cubicBezTo>
                      <a:pt x="978" y="142"/>
                      <a:pt x="978" y="142"/>
                      <a:pt x="978" y="142"/>
                    </a:cubicBezTo>
                    <a:cubicBezTo>
                      <a:pt x="987" y="143"/>
                      <a:pt x="987" y="143"/>
                      <a:pt x="987" y="143"/>
                    </a:cubicBezTo>
                    <a:cubicBezTo>
                      <a:pt x="995" y="143"/>
                      <a:pt x="995" y="143"/>
                      <a:pt x="995" y="143"/>
                    </a:cubicBezTo>
                    <a:cubicBezTo>
                      <a:pt x="1004" y="144"/>
                      <a:pt x="1004" y="144"/>
                      <a:pt x="1004" y="144"/>
                    </a:cubicBezTo>
                    <a:cubicBezTo>
                      <a:pt x="1012" y="145"/>
                      <a:pt x="1012" y="145"/>
                      <a:pt x="1012" y="145"/>
                    </a:cubicBezTo>
                    <a:cubicBezTo>
                      <a:pt x="1021" y="146"/>
                      <a:pt x="1021" y="146"/>
                      <a:pt x="1021" y="146"/>
                    </a:cubicBezTo>
                    <a:cubicBezTo>
                      <a:pt x="1029" y="147"/>
                      <a:pt x="1029" y="147"/>
                      <a:pt x="1029" y="147"/>
                    </a:cubicBezTo>
                    <a:cubicBezTo>
                      <a:pt x="1038" y="148"/>
                      <a:pt x="1038" y="148"/>
                      <a:pt x="1038" y="148"/>
                    </a:cubicBezTo>
                    <a:cubicBezTo>
                      <a:pt x="1046" y="148"/>
                      <a:pt x="1046" y="148"/>
                      <a:pt x="1046" y="148"/>
                    </a:cubicBezTo>
                    <a:cubicBezTo>
                      <a:pt x="1055" y="149"/>
                      <a:pt x="1055" y="149"/>
                      <a:pt x="1055" y="149"/>
                    </a:cubicBezTo>
                    <a:cubicBezTo>
                      <a:pt x="1063" y="150"/>
                      <a:pt x="1063" y="150"/>
                      <a:pt x="1063" y="150"/>
                    </a:cubicBezTo>
                    <a:cubicBezTo>
                      <a:pt x="1072" y="151"/>
                      <a:pt x="1072" y="151"/>
                      <a:pt x="1072" y="151"/>
                    </a:cubicBezTo>
                    <a:cubicBezTo>
                      <a:pt x="1080" y="152"/>
                      <a:pt x="1080" y="152"/>
                      <a:pt x="1080" y="152"/>
                    </a:cubicBezTo>
                    <a:cubicBezTo>
                      <a:pt x="1089" y="152"/>
                      <a:pt x="1089" y="152"/>
                      <a:pt x="1089" y="152"/>
                    </a:cubicBezTo>
                    <a:cubicBezTo>
                      <a:pt x="1097" y="153"/>
                      <a:pt x="1097" y="153"/>
                      <a:pt x="1097" y="153"/>
                    </a:cubicBezTo>
                    <a:cubicBezTo>
                      <a:pt x="1106" y="154"/>
                      <a:pt x="1106" y="154"/>
                      <a:pt x="1106" y="154"/>
                    </a:cubicBezTo>
                    <a:cubicBezTo>
                      <a:pt x="1114" y="155"/>
                      <a:pt x="1114" y="155"/>
                      <a:pt x="1114" y="155"/>
                    </a:cubicBezTo>
                    <a:cubicBezTo>
                      <a:pt x="1123" y="156"/>
                      <a:pt x="1123" y="156"/>
                      <a:pt x="1123" y="156"/>
                    </a:cubicBezTo>
                    <a:cubicBezTo>
                      <a:pt x="1131" y="156"/>
                      <a:pt x="1131" y="156"/>
                      <a:pt x="1131" y="156"/>
                    </a:cubicBezTo>
                    <a:cubicBezTo>
                      <a:pt x="1140" y="157"/>
                      <a:pt x="1140" y="157"/>
                      <a:pt x="1140" y="157"/>
                    </a:cubicBezTo>
                    <a:cubicBezTo>
                      <a:pt x="1148" y="158"/>
                      <a:pt x="1148" y="158"/>
                      <a:pt x="1148" y="158"/>
                    </a:cubicBezTo>
                    <a:cubicBezTo>
                      <a:pt x="1157" y="159"/>
                      <a:pt x="1157" y="159"/>
                      <a:pt x="1157" y="159"/>
                    </a:cubicBezTo>
                    <a:cubicBezTo>
                      <a:pt x="1165" y="159"/>
                      <a:pt x="1165" y="159"/>
                      <a:pt x="1165" y="159"/>
                    </a:cubicBezTo>
                    <a:cubicBezTo>
                      <a:pt x="1174" y="160"/>
                      <a:pt x="1174" y="160"/>
                      <a:pt x="1174" y="160"/>
                    </a:cubicBezTo>
                    <a:cubicBezTo>
                      <a:pt x="1182" y="161"/>
                      <a:pt x="1182" y="161"/>
                      <a:pt x="1182" y="161"/>
                    </a:cubicBezTo>
                    <a:cubicBezTo>
                      <a:pt x="1191" y="162"/>
                      <a:pt x="1191" y="162"/>
                      <a:pt x="1191" y="162"/>
                    </a:cubicBezTo>
                    <a:cubicBezTo>
                      <a:pt x="1199" y="162"/>
                      <a:pt x="1199" y="162"/>
                      <a:pt x="1199" y="162"/>
                    </a:cubicBezTo>
                    <a:cubicBezTo>
                      <a:pt x="1208" y="163"/>
                      <a:pt x="1208" y="163"/>
                      <a:pt x="1208" y="163"/>
                    </a:cubicBezTo>
                    <a:cubicBezTo>
                      <a:pt x="1216" y="164"/>
                      <a:pt x="1216" y="164"/>
                      <a:pt x="1216" y="164"/>
                    </a:cubicBezTo>
                    <a:cubicBezTo>
                      <a:pt x="1225" y="165"/>
                      <a:pt x="1225" y="165"/>
                      <a:pt x="1225" y="165"/>
                    </a:cubicBezTo>
                    <a:cubicBezTo>
                      <a:pt x="1233" y="165"/>
                      <a:pt x="1233" y="165"/>
                      <a:pt x="1233" y="165"/>
                    </a:cubicBezTo>
                    <a:cubicBezTo>
                      <a:pt x="1242" y="166"/>
                      <a:pt x="1242" y="166"/>
                      <a:pt x="1242" y="166"/>
                    </a:cubicBezTo>
                    <a:cubicBezTo>
                      <a:pt x="1250" y="167"/>
                      <a:pt x="1250" y="167"/>
                      <a:pt x="1250" y="167"/>
                    </a:cubicBezTo>
                    <a:cubicBezTo>
                      <a:pt x="1259" y="167"/>
                      <a:pt x="1259" y="167"/>
                      <a:pt x="1259" y="167"/>
                    </a:cubicBezTo>
                    <a:cubicBezTo>
                      <a:pt x="1267" y="168"/>
                      <a:pt x="1267" y="168"/>
                      <a:pt x="1267" y="168"/>
                    </a:cubicBezTo>
                    <a:cubicBezTo>
                      <a:pt x="1276" y="169"/>
                      <a:pt x="1276" y="169"/>
                      <a:pt x="1276" y="169"/>
                    </a:cubicBezTo>
                    <a:cubicBezTo>
                      <a:pt x="1284" y="169"/>
                      <a:pt x="1284" y="169"/>
                      <a:pt x="1284" y="169"/>
                    </a:cubicBezTo>
                    <a:cubicBezTo>
                      <a:pt x="1293" y="170"/>
                      <a:pt x="1293" y="170"/>
                      <a:pt x="1293" y="170"/>
                    </a:cubicBezTo>
                    <a:cubicBezTo>
                      <a:pt x="1301" y="171"/>
                      <a:pt x="1301" y="171"/>
                      <a:pt x="1301" y="171"/>
                    </a:cubicBezTo>
                    <a:cubicBezTo>
                      <a:pt x="1310" y="171"/>
                      <a:pt x="1310" y="171"/>
                      <a:pt x="1310" y="171"/>
                    </a:cubicBezTo>
                    <a:cubicBezTo>
                      <a:pt x="1318" y="172"/>
                      <a:pt x="1318" y="172"/>
                      <a:pt x="1318" y="172"/>
                    </a:cubicBezTo>
                    <a:cubicBezTo>
                      <a:pt x="1327" y="173"/>
                      <a:pt x="1327" y="173"/>
                      <a:pt x="1327" y="173"/>
                    </a:cubicBezTo>
                    <a:cubicBezTo>
                      <a:pt x="1335" y="173"/>
                      <a:pt x="1335" y="173"/>
                      <a:pt x="1335" y="173"/>
                    </a:cubicBezTo>
                    <a:cubicBezTo>
                      <a:pt x="1344" y="174"/>
                      <a:pt x="1344" y="174"/>
                      <a:pt x="1344" y="174"/>
                    </a:cubicBezTo>
                    <a:cubicBezTo>
                      <a:pt x="1352" y="175"/>
                      <a:pt x="1352" y="175"/>
                      <a:pt x="1352" y="175"/>
                    </a:cubicBezTo>
                    <a:cubicBezTo>
                      <a:pt x="1361" y="175"/>
                      <a:pt x="1361" y="175"/>
                      <a:pt x="1361" y="175"/>
                    </a:cubicBezTo>
                    <a:cubicBezTo>
                      <a:pt x="1369" y="176"/>
                      <a:pt x="1369" y="176"/>
                      <a:pt x="1369" y="176"/>
                    </a:cubicBezTo>
                    <a:cubicBezTo>
                      <a:pt x="1378" y="177"/>
                      <a:pt x="1378" y="177"/>
                      <a:pt x="1378" y="177"/>
                    </a:cubicBezTo>
                    <a:cubicBezTo>
                      <a:pt x="1386" y="177"/>
                      <a:pt x="1386" y="177"/>
                      <a:pt x="1386" y="177"/>
                    </a:cubicBezTo>
                    <a:cubicBezTo>
                      <a:pt x="1395" y="178"/>
                      <a:pt x="1395" y="178"/>
                      <a:pt x="1395" y="178"/>
                    </a:cubicBezTo>
                    <a:cubicBezTo>
                      <a:pt x="1403" y="179"/>
                      <a:pt x="1403" y="179"/>
                      <a:pt x="1403" y="179"/>
                    </a:cubicBezTo>
                    <a:cubicBezTo>
                      <a:pt x="1412" y="179"/>
                      <a:pt x="1412" y="179"/>
                      <a:pt x="1412" y="179"/>
                    </a:cubicBezTo>
                    <a:cubicBezTo>
                      <a:pt x="1420" y="180"/>
                      <a:pt x="1420" y="180"/>
                      <a:pt x="1420" y="180"/>
                    </a:cubicBezTo>
                    <a:cubicBezTo>
                      <a:pt x="1429" y="181"/>
                      <a:pt x="1429" y="181"/>
                      <a:pt x="1429" y="181"/>
                    </a:cubicBezTo>
                    <a:cubicBezTo>
                      <a:pt x="1437" y="181"/>
                      <a:pt x="1437" y="181"/>
                      <a:pt x="1437" y="181"/>
                    </a:cubicBezTo>
                    <a:cubicBezTo>
                      <a:pt x="1446" y="182"/>
                      <a:pt x="1446" y="182"/>
                      <a:pt x="1446" y="182"/>
                    </a:cubicBezTo>
                    <a:cubicBezTo>
                      <a:pt x="1454" y="182"/>
                      <a:pt x="1454" y="182"/>
                      <a:pt x="1454" y="182"/>
                    </a:cubicBezTo>
                    <a:cubicBezTo>
                      <a:pt x="1463" y="183"/>
                      <a:pt x="1463" y="183"/>
                      <a:pt x="1463" y="183"/>
                    </a:cubicBezTo>
                    <a:cubicBezTo>
                      <a:pt x="1471" y="184"/>
                      <a:pt x="1471" y="184"/>
                      <a:pt x="1471" y="184"/>
                    </a:cubicBezTo>
                    <a:cubicBezTo>
                      <a:pt x="1480" y="184"/>
                      <a:pt x="1480" y="184"/>
                      <a:pt x="1480" y="184"/>
                    </a:cubicBezTo>
                    <a:cubicBezTo>
                      <a:pt x="1488" y="185"/>
                      <a:pt x="1488" y="185"/>
                      <a:pt x="1488" y="185"/>
                    </a:cubicBezTo>
                    <a:cubicBezTo>
                      <a:pt x="1497" y="185"/>
                      <a:pt x="1497" y="185"/>
                      <a:pt x="1497" y="185"/>
                    </a:cubicBezTo>
                    <a:cubicBezTo>
                      <a:pt x="1505" y="186"/>
                      <a:pt x="1505" y="186"/>
                      <a:pt x="1505" y="186"/>
                    </a:cubicBezTo>
                    <a:cubicBezTo>
                      <a:pt x="1514" y="187"/>
                      <a:pt x="1514" y="187"/>
                      <a:pt x="1514" y="187"/>
                    </a:cubicBezTo>
                    <a:cubicBezTo>
                      <a:pt x="1522" y="187"/>
                      <a:pt x="1522" y="187"/>
                      <a:pt x="1522" y="187"/>
                    </a:cubicBezTo>
                    <a:cubicBezTo>
                      <a:pt x="1531" y="188"/>
                      <a:pt x="1531" y="188"/>
                      <a:pt x="1531" y="188"/>
                    </a:cubicBezTo>
                    <a:cubicBezTo>
                      <a:pt x="1539" y="188"/>
                      <a:pt x="1539" y="188"/>
                      <a:pt x="1539" y="188"/>
                    </a:cubicBezTo>
                    <a:cubicBezTo>
                      <a:pt x="1548" y="189"/>
                      <a:pt x="1548" y="189"/>
                      <a:pt x="1548" y="189"/>
                    </a:cubicBezTo>
                    <a:cubicBezTo>
                      <a:pt x="1556" y="189"/>
                      <a:pt x="1556" y="189"/>
                      <a:pt x="1556" y="189"/>
                    </a:cubicBezTo>
                    <a:cubicBezTo>
                      <a:pt x="1565" y="190"/>
                      <a:pt x="1565" y="190"/>
                      <a:pt x="1565" y="190"/>
                    </a:cubicBezTo>
                    <a:cubicBezTo>
                      <a:pt x="1573" y="191"/>
                      <a:pt x="1573" y="191"/>
                      <a:pt x="1573" y="191"/>
                    </a:cubicBezTo>
                    <a:cubicBezTo>
                      <a:pt x="1582" y="191"/>
                      <a:pt x="1582" y="191"/>
                      <a:pt x="1582" y="191"/>
                    </a:cubicBezTo>
                    <a:cubicBezTo>
                      <a:pt x="1590" y="192"/>
                      <a:pt x="1590" y="192"/>
                      <a:pt x="1590" y="192"/>
                    </a:cubicBezTo>
                    <a:cubicBezTo>
                      <a:pt x="1599" y="192"/>
                      <a:pt x="1599" y="192"/>
                      <a:pt x="1599" y="192"/>
                    </a:cubicBezTo>
                    <a:cubicBezTo>
                      <a:pt x="1607" y="193"/>
                      <a:pt x="1607" y="193"/>
                      <a:pt x="1607" y="193"/>
                    </a:cubicBezTo>
                    <a:cubicBezTo>
                      <a:pt x="1616" y="193"/>
                      <a:pt x="1616" y="193"/>
                      <a:pt x="1616" y="193"/>
                    </a:cubicBezTo>
                    <a:cubicBezTo>
                      <a:pt x="1624" y="194"/>
                      <a:pt x="1624" y="194"/>
                      <a:pt x="1624" y="194"/>
                    </a:cubicBezTo>
                    <a:cubicBezTo>
                      <a:pt x="1633" y="194"/>
                      <a:pt x="1633" y="194"/>
                      <a:pt x="1633" y="194"/>
                    </a:cubicBezTo>
                    <a:cubicBezTo>
                      <a:pt x="1641" y="195"/>
                      <a:pt x="1641" y="195"/>
                      <a:pt x="1641" y="195"/>
                    </a:cubicBezTo>
                    <a:cubicBezTo>
                      <a:pt x="1650" y="195"/>
                      <a:pt x="1650" y="195"/>
                      <a:pt x="1650" y="195"/>
                    </a:cubicBezTo>
                    <a:cubicBezTo>
                      <a:pt x="1658" y="196"/>
                      <a:pt x="1658" y="196"/>
                      <a:pt x="1658" y="196"/>
                    </a:cubicBezTo>
                    <a:cubicBezTo>
                      <a:pt x="1667" y="197"/>
                      <a:pt x="1667" y="197"/>
                      <a:pt x="1667" y="197"/>
                    </a:cubicBezTo>
                    <a:cubicBezTo>
                      <a:pt x="1675" y="197"/>
                      <a:pt x="1675" y="197"/>
                      <a:pt x="1675" y="197"/>
                    </a:cubicBezTo>
                    <a:cubicBezTo>
                      <a:pt x="1684" y="198"/>
                      <a:pt x="1684" y="198"/>
                      <a:pt x="1684" y="198"/>
                    </a:cubicBezTo>
                    <a:cubicBezTo>
                      <a:pt x="1692" y="198"/>
                      <a:pt x="1692" y="198"/>
                      <a:pt x="1692" y="198"/>
                    </a:cubicBezTo>
                    <a:cubicBezTo>
                      <a:pt x="1701" y="199"/>
                      <a:pt x="1701" y="199"/>
                      <a:pt x="1701" y="199"/>
                    </a:cubicBezTo>
                    <a:cubicBezTo>
                      <a:pt x="1710" y="199"/>
                      <a:pt x="1710" y="199"/>
                      <a:pt x="1710" y="199"/>
                    </a:cubicBezTo>
                    <a:cubicBezTo>
                      <a:pt x="1718" y="200"/>
                      <a:pt x="1718" y="200"/>
                      <a:pt x="1718" y="200"/>
                    </a:cubicBezTo>
                    <a:cubicBezTo>
                      <a:pt x="1727" y="200"/>
                      <a:pt x="1727" y="200"/>
                      <a:pt x="1727" y="200"/>
                    </a:cubicBezTo>
                    <a:cubicBezTo>
                      <a:pt x="1735" y="201"/>
                      <a:pt x="1735" y="201"/>
                      <a:pt x="1735" y="201"/>
                    </a:cubicBezTo>
                    <a:cubicBezTo>
                      <a:pt x="1744" y="201"/>
                      <a:pt x="1744" y="201"/>
                      <a:pt x="1744" y="201"/>
                    </a:cubicBezTo>
                    <a:cubicBezTo>
                      <a:pt x="1752" y="202"/>
                      <a:pt x="1752" y="202"/>
                      <a:pt x="1752" y="202"/>
                    </a:cubicBezTo>
                    <a:cubicBezTo>
                      <a:pt x="1761" y="202"/>
                      <a:pt x="1761" y="202"/>
                      <a:pt x="1761" y="202"/>
                    </a:cubicBezTo>
                    <a:cubicBezTo>
                      <a:pt x="1769" y="203"/>
                      <a:pt x="1769" y="203"/>
                      <a:pt x="1769" y="203"/>
                    </a:cubicBezTo>
                    <a:cubicBezTo>
                      <a:pt x="1778" y="203"/>
                      <a:pt x="1778" y="203"/>
                      <a:pt x="1778" y="203"/>
                    </a:cubicBezTo>
                    <a:cubicBezTo>
                      <a:pt x="1786" y="204"/>
                      <a:pt x="1786" y="204"/>
                      <a:pt x="1786" y="204"/>
                    </a:cubicBezTo>
                    <a:cubicBezTo>
                      <a:pt x="1795" y="204"/>
                      <a:pt x="1795" y="204"/>
                      <a:pt x="1795" y="204"/>
                    </a:cubicBezTo>
                    <a:cubicBezTo>
                      <a:pt x="1803" y="205"/>
                      <a:pt x="1803" y="205"/>
                      <a:pt x="1803" y="205"/>
                    </a:cubicBezTo>
                    <a:cubicBezTo>
                      <a:pt x="1812" y="205"/>
                      <a:pt x="1812" y="205"/>
                      <a:pt x="1812" y="205"/>
                    </a:cubicBezTo>
                    <a:cubicBezTo>
                      <a:pt x="1820" y="205"/>
                      <a:pt x="1820" y="205"/>
                      <a:pt x="1820" y="205"/>
                    </a:cubicBezTo>
                    <a:cubicBezTo>
                      <a:pt x="1829" y="206"/>
                      <a:pt x="1829" y="206"/>
                      <a:pt x="1829" y="206"/>
                    </a:cubicBezTo>
                    <a:cubicBezTo>
                      <a:pt x="1837" y="206"/>
                      <a:pt x="1837" y="206"/>
                      <a:pt x="1837" y="206"/>
                    </a:cubicBezTo>
                    <a:cubicBezTo>
                      <a:pt x="1846" y="207"/>
                      <a:pt x="1846" y="207"/>
                      <a:pt x="1846" y="207"/>
                    </a:cubicBezTo>
                    <a:cubicBezTo>
                      <a:pt x="1854" y="207"/>
                      <a:pt x="1854" y="207"/>
                      <a:pt x="1854" y="207"/>
                    </a:cubicBezTo>
                    <a:cubicBezTo>
                      <a:pt x="1863" y="208"/>
                      <a:pt x="1863" y="208"/>
                      <a:pt x="1863" y="208"/>
                    </a:cubicBezTo>
                    <a:cubicBezTo>
                      <a:pt x="1871" y="208"/>
                      <a:pt x="1871" y="208"/>
                      <a:pt x="1871" y="208"/>
                    </a:cubicBezTo>
                    <a:cubicBezTo>
                      <a:pt x="1880" y="209"/>
                      <a:pt x="1880" y="209"/>
                      <a:pt x="1880" y="209"/>
                    </a:cubicBezTo>
                    <a:cubicBezTo>
                      <a:pt x="1888" y="209"/>
                      <a:pt x="1888" y="209"/>
                      <a:pt x="1888" y="209"/>
                    </a:cubicBezTo>
                    <a:cubicBezTo>
                      <a:pt x="1897" y="210"/>
                      <a:pt x="1897" y="210"/>
                      <a:pt x="1897" y="210"/>
                    </a:cubicBezTo>
                    <a:cubicBezTo>
                      <a:pt x="1905" y="210"/>
                      <a:pt x="1905" y="210"/>
                      <a:pt x="1905" y="210"/>
                    </a:cubicBezTo>
                    <a:cubicBezTo>
                      <a:pt x="1914" y="211"/>
                      <a:pt x="1914" y="211"/>
                      <a:pt x="1914" y="211"/>
                    </a:cubicBezTo>
                    <a:cubicBezTo>
                      <a:pt x="1922" y="211"/>
                      <a:pt x="1922" y="211"/>
                      <a:pt x="1922" y="211"/>
                    </a:cubicBezTo>
                    <a:cubicBezTo>
                      <a:pt x="1931" y="211"/>
                      <a:pt x="1931" y="211"/>
                      <a:pt x="1931" y="211"/>
                    </a:cubicBezTo>
                    <a:cubicBezTo>
                      <a:pt x="1939" y="212"/>
                      <a:pt x="1939" y="212"/>
                      <a:pt x="1939" y="212"/>
                    </a:cubicBezTo>
                    <a:cubicBezTo>
                      <a:pt x="1948" y="212"/>
                      <a:pt x="1948" y="212"/>
                      <a:pt x="1948" y="212"/>
                    </a:cubicBezTo>
                    <a:cubicBezTo>
                      <a:pt x="1956" y="213"/>
                      <a:pt x="1956" y="213"/>
                      <a:pt x="1956" y="213"/>
                    </a:cubicBezTo>
                    <a:cubicBezTo>
                      <a:pt x="1965" y="213"/>
                      <a:pt x="1965" y="213"/>
                      <a:pt x="1965" y="213"/>
                    </a:cubicBezTo>
                    <a:cubicBezTo>
                      <a:pt x="1973" y="214"/>
                      <a:pt x="1973" y="214"/>
                      <a:pt x="1973" y="214"/>
                    </a:cubicBezTo>
                    <a:cubicBezTo>
                      <a:pt x="1982" y="214"/>
                      <a:pt x="1982" y="214"/>
                      <a:pt x="1982" y="214"/>
                    </a:cubicBezTo>
                    <a:cubicBezTo>
                      <a:pt x="1990" y="214"/>
                      <a:pt x="1990" y="214"/>
                      <a:pt x="1990" y="214"/>
                    </a:cubicBezTo>
                    <a:cubicBezTo>
                      <a:pt x="1999" y="215"/>
                      <a:pt x="1999" y="215"/>
                      <a:pt x="1999" y="215"/>
                    </a:cubicBezTo>
                    <a:cubicBezTo>
                      <a:pt x="2007" y="215"/>
                      <a:pt x="2007" y="215"/>
                      <a:pt x="2007" y="215"/>
                    </a:cubicBezTo>
                    <a:cubicBezTo>
                      <a:pt x="2016" y="216"/>
                      <a:pt x="2016" y="216"/>
                      <a:pt x="2016" y="216"/>
                    </a:cubicBezTo>
                    <a:cubicBezTo>
                      <a:pt x="2024" y="216"/>
                      <a:pt x="2024" y="216"/>
                      <a:pt x="2024" y="216"/>
                    </a:cubicBezTo>
                    <a:cubicBezTo>
                      <a:pt x="2033" y="216"/>
                      <a:pt x="2033" y="216"/>
                      <a:pt x="2033" y="216"/>
                    </a:cubicBezTo>
                    <a:cubicBezTo>
                      <a:pt x="2041" y="217"/>
                      <a:pt x="2041" y="217"/>
                      <a:pt x="2041" y="217"/>
                    </a:cubicBezTo>
                    <a:cubicBezTo>
                      <a:pt x="2050" y="217"/>
                      <a:pt x="2050" y="217"/>
                      <a:pt x="2050" y="217"/>
                    </a:cubicBezTo>
                    <a:cubicBezTo>
                      <a:pt x="2058" y="218"/>
                      <a:pt x="2058" y="218"/>
                      <a:pt x="2058" y="218"/>
                    </a:cubicBezTo>
                    <a:cubicBezTo>
                      <a:pt x="2067" y="218"/>
                      <a:pt x="2067" y="218"/>
                      <a:pt x="2067" y="218"/>
                    </a:cubicBezTo>
                    <a:cubicBezTo>
                      <a:pt x="2075" y="218"/>
                      <a:pt x="2075" y="218"/>
                      <a:pt x="2075" y="218"/>
                    </a:cubicBezTo>
                    <a:cubicBezTo>
                      <a:pt x="2084" y="219"/>
                      <a:pt x="2084" y="219"/>
                      <a:pt x="2084" y="219"/>
                    </a:cubicBezTo>
                    <a:cubicBezTo>
                      <a:pt x="2092" y="219"/>
                      <a:pt x="2092" y="219"/>
                      <a:pt x="2092" y="219"/>
                    </a:cubicBezTo>
                    <a:cubicBezTo>
                      <a:pt x="2101" y="220"/>
                      <a:pt x="2101" y="220"/>
                      <a:pt x="2101" y="220"/>
                    </a:cubicBezTo>
                    <a:cubicBezTo>
                      <a:pt x="2109" y="220"/>
                      <a:pt x="2109" y="220"/>
                      <a:pt x="2109" y="220"/>
                    </a:cubicBezTo>
                    <a:cubicBezTo>
                      <a:pt x="2118" y="220"/>
                      <a:pt x="2118" y="220"/>
                      <a:pt x="2118" y="220"/>
                    </a:cubicBezTo>
                    <a:cubicBezTo>
                      <a:pt x="2126" y="221"/>
                      <a:pt x="2126" y="221"/>
                      <a:pt x="2126" y="221"/>
                    </a:cubicBezTo>
                    <a:cubicBezTo>
                      <a:pt x="2135" y="221"/>
                      <a:pt x="2135" y="221"/>
                      <a:pt x="2135" y="221"/>
                    </a:cubicBezTo>
                    <a:cubicBezTo>
                      <a:pt x="2143" y="221"/>
                      <a:pt x="2143" y="221"/>
                      <a:pt x="2143" y="221"/>
                    </a:cubicBezTo>
                    <a:cubicBezTo>
                      <a:pt x="2152" y="222"/>
                      <a:pt x="2152" y="222"/>
                      <a:pt x="2152" y="222"/>
                    </a:cubicBezTo>
                    <a:cubicBezTo>
                      <a:pt x="2160" y="222"/>
                      <a:pt x="2160" y="222"/>
                      <a:pt x="2160" y="222"/>
                    </a:cubicBezTo>
                    <a:cubicBezTo>
                      <a:pt x="2169" y="223"/>
                      <a:pt x="2169" y="223"/>
                      <a:pt x="2169" y="223"/>
                    </a:cubicBezTo>
                    <a:cubicBezTo>
                      <a:pt x="2177" y="223"/>
                      <a:pt x="2177" y="223"/>
                      <a:pt x="2177" y="223"/>
                    </a:cubicBezTo>
                    <a:cubicBezTo>
                      <a:pt x="2186" y="223"/>
                      <a:pt x="2186" y="223"/>
                      <a:pt x="2186" y="223"/>
                    </a:cubicBezTo>
                    <a:cubicBezTo>
                      <a:pt x="2194" y="224"/>
                      <a:pt x="2194" y="224"/>
                      <a:pt x="2194" y="224"/>
                    </a:cubicBezTo>
                    <a:cubicBezTo>
                      <a:pt x="2203" y="224"/>
                      <a:pt x="2203" y="224"/>
                      <a:pt x="2203" y="224"/>
                    </a:cubicBezTo>
                    <a:cubicBezTo>
                      <a:pt x="2211" y="224"/>
                      <a:pt x="2211" y="224"/>
                      <a:pt x="2211" y="224"/>
                    </a:cubicBezTo>
                    <a:cubicBezTo>
                      <a:pt x="2220" y="225"/>
                      <a:pt x="2220" y="225"/>
                      <a:pt x="2220" y="225"/>
                    </a:cubicBezTo>
                    <a:cubicBezTo>
                      <a:pt x="2228" y="225"/>
                      <a:pt x="2228" y="225"/>
                      <a:pt x="2228" y="225"/>
                    </a:cubicBezTo>
                    <a:cubicBezTo>
                      <a:pt x="2237" y="225"/>
                      <a:pt x="2237" y="225"/>
                      <a:pt x="2237" y="225"/>
                    </a:cubicBezTo>
                    <a:cubicBezTo>
                      <a:pt x="2245" y="226"/>
                      <a:pt x="2245" y="226"/>
                      <a:pt x="2245" y="226"/>
                    </a:cubicBezTo>
                    <a:cubicBezTo>
                      <a:pt x="2254" y="226"/>
                      <a:pt x="2254" y="226"/>
                      <a:pt x="2254" y="226"/>
                    </a:cubicBezTo>
                    <a:cubicBezTo>
                      <a:pt x="2262" y="227"/>
                      <a:pt x="2262" y="227"/>
                      <a:pt x="2262" y="227"/>
                    </a:cubicBezTo>
                    <a:cubicBezTo>
                      <a:pt x="2271" y="227"/>
                      <a:pt x="2271" y="227"/>
                      <a:pt x="2271" y="227"/>
                    </a:cubicBezTo>
                    <a:cubicBezTo>
                      <a:pt x="2279" y="227"/>
                      <a:pt x="2279" y="227"/>
                      <a:pt x="2279" y="227"/>
                    </a:cubicBezTo>
                    <a:cubicBezTo>
                      <a:pt x="2288" y="228"/>
                      <a:pt x="2288" y="228"/>
                      <a:pt x="2288" y="228"/>
                    </a:cubicBezTo>
                    <a:cubicBezTo>
                      <a:pt x="2296" y="228"/>
                      <a:pt x="2296" y="228"/>
                      <a:pt x="2296" y="228"/>
                    </a:cubicBezTo>
                    <a:cubicBezTo>
                      <a:pt x="2305" y="228"/>
                      <a:pt x="2305" y="228"/>
                      <a:pt x="2305" y="228"/>
                    </a:cubicBezTo>
                    <a:cubicBezTo>
                      <a:pt x="2313" y="229"/>
                      <a:pt x="2313" y="229"/>
                      <a:pt x="2313" y="229"/>
                    </a:cubicBezTo>
                    <a:cubicBezTo>
                      <a:pt x="2322" y="229"/>
                      <a:pt x="2322" y="229"/>
                      <a:pt x="2322" y="229"/>
                    </a:cubicBezTo>
                    <a:cubicBezTo>
                      <a:pt x="2330" y="229"/>
                      <a:pt x="2330" y="229"/>
                      <a:pt x="2330" y="229"/>
                    </a:cubicBezTo>
                    <a:cubicBezTo>
                      <a:pt x="2339" y="230"/>
                      <a:pt x="2339" y="230"/>
                      <a:pt x="2339" y="230"/>
                    </a:cubicBezTo>
                    <a:cubicBezTo>
                      <a:pt x="2347" y="230"/>
                      <a:pt x="2347" y="230"/>
                      <a:pt x="2347" y="230"/>
                    </a:cubicBezTo>
                    <a:cubicBezTo>
                      <a:pt x="2356" y="230"/>
                      <a:pt x="2356" y="230"/>
                      <a:pt x="2356" y="230"/>
                    </a:cubicBezTo>
                    <a:cubicBezTo>
                      <a:pt x="2364" y="231"/>
                      <a:pt x="2364" y="231"/>
                      <a:pt x="2364" y="231"/>
                    </a:cubicBezTo>
                    <a:cubicBezTo>
                      <a:pt x="2373" y="231"/>
                      <a:pt x="2373" y="231"/>
                      <a:pt x="2373" y="231"/>
                    </a:cubicBezTo>
                    <a:cubicBezTo>
                      <a:pt x="2381" y="231"/>
                      <a:pt x="2381" y="231"/>
                      <a:pt x="2381" y="231"/>
                    </a:cubicBezTo>
                    <a:cubicBezTo>
                      <a:pt x="2390" y="231"/>
                      <a:pt x="2390" y="231"/>
                      <a:pt x="2390" y="231"/>
                    </a:cubicBezTo>
                    <a:cubicBezTo>
                      <a:pt x="2398" y="232"/>
                      <a:pt x="2398" y="232"/>
                      <a:pt x="2398" y="232"/>
                    </a:cubicBezTo>
                    <a:cubicBezTo>
                      <a:pt x="2407" y="232"/>
                      <a:pt x="2407" y="232"/>
                      <a:pt x="2407" y="232"/>
                    </a:cubicBezTo>
                    <a:cubicBezTo>
                      <a:pt x="2415" y="232"/>
                      <a:pt x="2415" y="232"/>
                      <a:pt x="2415" y="232"/>
                    </a:cubicBezTo>
                    <a:cubicBezTo>
                      <a:pt x="2424" y="233"/>
                      <a:pt x="2424" y="233"/>
                      <a:pt x="2424" y="233"/>
                    </a:cubicBezTo>
                    <a:cubicBezTo>
                      <a:pt x="2432" y="233"/>
                      <a:pt x="2432" y="233"/>
                      <a:pt x="2432" y="233"/>
                    </a:cubicBezTo>
                    <a:cubicBezTo>
                      <a:pt x="2441" y="233"/>
                      <a:pt x="2441" y="233"/>
                      <a:pt x="2441" y="233"/>
                    </a:cubicBezTo>
                    <a:cubicBezTo>
                      <a:pt x="2449" y="234"/>
                      <a:pt x="2449" y="234"/>
                      <a:pt x="2449" y="234"/>
                    </a:cubicBezTo>
                    <a:cubicBezTo>
                      <a:pt x="2458" y="234"/>
                      <a:pt x="2458" y="234"/>
                      <a:pt x="2458" y="234"/>
                    </a:cubicBezTo>
                    <a:cubicBezTo>
                      <a:pt x="2466" y="234"/>
                      <a:pt x="2466" y="234"/>
                      <a:pt x="2466" y="234"/>
                    </a:cubicBezTo>
                    <a:cubicBezTo>
                      <a:pt x="2475" y="235"/>
                      <a:pt x="2475" y="235"/>
                      <a:pt x="2475" y="235"/>
                    </a:cubicBezTo>
                    <a:cubicBezTo>
                      <a:pt x="2483" y="235"/>
                      <a:pt x="2483" y="235"/>
                      <a:pt x="2483" y="235"/>
                    </a:cubicBezTo>
                    <a:cubicBezTo>
                      <a:pt x="2492" y="235"/>
                      <a:pt x="2492" y="235"/>
                      <a:pt x="2492" y="235"/>
                    </a:cubicBezTo>
                    <a:cubicBezTo>
                      <a:pt x="2500" y="235"/>
                      <a:pt x="2500" y="235"/>
                      <a:pt x="2500" y="235"/>
                    </a:cubicBezTo>
                    <a:cubicBezTo>
                      <a:pt x="2509" y="236"/>
                      <a:pt x="2509" y="236"/>
                      <a:pt x="2509" y="236"/>
                    </a:cubicBezTo>
                    <a:cubicBezTo>
                      <a:pt x="2517" y="236"/>
                      <a:pt x="2517" y="236"/>
                      <a:pt x="2517" y="236"/>
                    </a:cubicBezTo>
                    <a:cubicBezTo>
                      <a:pt x="2526" y="236"/>
                      <a:pt x="2526" y="236"/>
                      <a:pt x="2526" y="236"/>
                    </a:cubicBezTo>
                    <a:cubicBezTo>
                      <a:pt x="2534" y="237"/>
                      <a:pt x="2534" y="237"/>
                      <a:pt x="2534" y="237"/>
                    </a:cubicBezTo>
                    <a:cubicBezTo>
                      <a:pt x="2543" y="237"/>
                      <a:pt x="2543" y="237"/>
                      <a:pt x="2543" y="237"/>
                    </a:cubicBezTo>
                    <a:cubicBezTo>
                      <a:pt x="2552" y="237"/>
                      <a:pt x="2552" y="237"/>
                      <a:pt x="2552" y="237"/>
                    </a:cubicBezTo>
                    <a:cubicBezTo>
                      <a:pt x="2560" y="237"/>
                      <a:pt x="2560" y="237"/>
                      <a:pt x="2560" y="237"/>
                    </a:cubicBezTo>
                    <a:cubicBezTo>
                      <a:pt x="2569" y="238"/>
                      <a:pt x="2569" y="238"/>
                      <a:pt x="2569" y="238"/>
                    </a:cubicBezTo>
                    <a:cubicBezTo>
                      <a:pt x="2577" y="238"/>
                      <a:pt x="2577" y="238"/>
                      <a:pt x="2577" y="238"/>
                    </a:cubicBezTo>
                    <a:cubicBezTo>
                      <a:pt x="2586" y="238"/>
                      <a:pt x="2586" y="238"/>
                      <a:pt x="2586" y="238"/>
                    </a:cubicBezTo>
                    <a:cubicBezTo>
                      <a:pt x="2594" y="239"/>
                      <a:pt x="2594" y="239"/>
                      <a:pt x="2594" y="239"/>
                    </a:cubicBezTo>
                    <a:cubicBezTo>
                      <a:pt x="2603" y="239"/>
                      <a:pt x="2603" y="239"/>
                      <a:pt x="2603" y="239"/>
                    </a:cubicBezTo>
                    <a:cubicBezTo>
                      <a:pt x="2611" y="239"/>
                      <a:pt x="2611" y="239"/>
                      <a:pt x="2611" y="239"/>
                    </a:cubicBezTo>
                    <a:cubicBezTo>
                      <a:pt x="2620" y="239"/>
                      <a:pt x="2620" y="239"/>
                      <a:pt x="2620" y="239"/>
                    </a:cubicBezTo>
                    <a:cubicBezTo>
                      <a:pt x="2628" y="240"/>
                      <a:pt x="2628" y="240"/>
                      <a:pt x="2628" y="240"/>
                    </a:cubicBezTo>
                    <a:cubicBezTo>
                      <a:pt x="2637" y="240"/>
                      <a:pt x="2637" y="240"/>
                      <a:pt x="2637" y="240"/>
                    </a:cubicBezTo>
                    <a:cubicBezTo>
                      <a:pt x="2645" y="240"/>
                      <a:pt x="2645" y="240"/>
                      <a:pt x="2645" y="240"/>
                    </a:cubicBezTo>
                    <a:cubicBezTo>
                      <a:pt x="2654" y="240"/>
                      <a:pt x="2654" y="240"/>
                      <a:pt x="2654" y="240"/>
                    </a:cubicBezTo>
                    <a:cubicBezTo>
                      <a:pt x="2662" y="241"/>
                      <a:pt x="2662" y="241"/>
                      <a:pt x="2662" y="241"/>
                    </a:cubicBezTo>
                    <a:cubicBezTo>
                      <a:pt x="2671" y="241"/>
                      <a:pt x="2671" y="241"/>
                      <a:pt x="2671" y="241"/>
                    </a:cubicBezTo>
                    <a:cubicBezTo>
                      <a:pt x="2679" y="241"/>
                      <a:pt x="2679" y="241"/>
                      <a:pt x="2679" y="241"/>
                    </a:cubicBezTo>
                    <a:cubicBezTo>
                      <a:pt x="2688" y="241"/>
                      <a:pt x="2688" y="241"/>
                      <a:pt x="2688" y="241"/>
                    </a:cubicBezTo>
                    <a:cubicBezTo>
                      <a:pt x="2696" y="242"/>
                      <a:pt x="2696" y="242"/>
                      <a:pt x="2696" y="242"/>
                    </a:cubicBezTo>
                    <a:cubicBezTo>
                      <a:pt x="2705" y="242"/>
                      <a:pt x="2705" y="242"/>
                      <a:pt x="2705" y="242"/>
                    </a:cubicBezTo>
                    <a:cubicBezTo>
                      <a:pt x="2713" y="242"/>
                      <a:pt x="2713" y="242"/>
                      <a:pt x="2713" y="242"/>
                    </a:cubicBezTo>
                    <a:cubicBezTo>
                      <a:pt x="2722" y="242"/>
                      <a:pt x="2722" y="242"/>
                      <a:pt x="2722" y="242"/>
                    </a:cubicBezTo>
                    <a:cubicBezTo>
                      <a:pt x="2730" y="243"/>
                      <a:pt x="2730" y="243"/>
                      <a:pt x="2730" y="243"/>
                    </a:cubicBezTo>
                    <a:cubicBezTo>
                      <a:pt x="2739" y="243"/>
                      <a:pt x="2739" y="243"/>
                      <a:pt x="2739" y="243"/>
                    </a:cubicBezTo>
                    <a:cubicBezTo>
                      <a:pt x="2747" y="243"/>
                      <a:pt x="2747" y="243"/>
                      <a:pt x="2747" y="243"/>
                    </a:cubicBezTo>
                    <a:cubicBezTo>
                      <a:pt x="2756" y="243"/>
                      <a:pt x="2756" y="243"/>
                      <a:pt x="2756" y="243"/>
                    </a:cubicBezTo>
                    <a:cubicBezTo>
                      <a:pt x="2764" y="244"/>
                      <a:pt x="2764" y="244"/>
                      <a:pt x="2764" y="244"/>
                    </a:cubicBezTo>
                    <a:cubicBezTo>
                      <a:pt x="2773" y="244"/>
                      <a:pt x="2773" y="244"/>
                      <a:pt x="2773" y="244"/>
                    </a:cubicBezTo>
                    <a:cubicBezTo>
                      <a:pt x="2781" y="244"/>
                      <a:pt x="2781" y="244"/>
                      <a:pt x="2781" y="244"/>
                    </a:cubicBezTo>
                    <a:cubicBezTo>
                      <a:pt x="2790" y="244"/>
                      <a:pt x="2790" y="244"/>
                      <a:pt x="2790" y="244"/>
                    </a:cubicBezTo>
                    <a:cubicBezTo>
                      <a:pt x="2798" y="245"/>
                      <a:pt x="2798" y="245"/>
                      <a:pt x="2798" y="245"/>
                    </a:cubicBezTo>
                    <a:cubicBezTo>
                      <a:pt x="2807" y="245"/>
                      <a:pt x="2807" y="245"/>
                      <a:pt x="2807" y="245"/>
                    </a:cubicBezTo>
                    <a:cubicBezTo>
                      <a:pt x="2815" y="245"/>
                      <a:pt x="2815" y="245"/>
                      <a:pt x="2815" y="245"/>
                    </a:cubicBezTo>
                    <a:cubicBezTo>
                      <a:pt x="2824" y="245"/>
                      <a:pt x="2824" y="245"/>
                      <a:pt x="2824" y="245"/>
                    </a:cubicBezTo>
                    <a:cubicBezTo>
                      <a:pt x="2832" y="246"/>
                      <a:pt x="2832" y="246"/>
                      <a:pt x="2832" y="246"/>
                    </a:cubicBezTo>
                    <a:cubicBezTo>
                      <a:pt x="2841" y="246"/>
                      <a:pt x="2841" y="246"/>
                      <a:pt x="2841" y="246"/>
                    </a:cubicBezTo>
                    <a:cubicBezTo>
                      <a:pt x="2849" y="246"/>
                      <a:pt x="2849" y="246"/>
                      <a:pt x="2849" y="246"/>
                    </a:cubicBezTo>
                    <a:cubicBezTo>
                      <a:pt x="2858" y="246"/>
                      <a:pt x="2858" y="246"/>
                      <a:pt x="2858" y="246"/>
                    </a:cubicBezTo>
                    <a:cubicBezTo>
                      <a:pt x="2866" y="246"/>
                      <a:pt x="2866" y="246"/>
                      <a:pt x="2866" y="246"/>
                    </a:cubicBezTo>
                    <a:cubicBezTo>
                      <a:pt x="2875" y="247"/>
                      <a:pt x="2875" y="247"/>
                      <a:pt x="2875" y="247"/>
                    </a:cubicBezTo>
                    <a:cubicBezTo>
                      <a:pt x="2883" y="247"/>
                      <a:pt x="2883" y="247"/>
                      <a:pt x="2883" y="247"/>
                    </a:cubicBezTo>
                    <a:cubicBezTo>
                      <a:pt x="2892" y="247"/>
                      <a:pt x="2892" y="247"/>
                      <a:pt x="2892" y="247"/>
                    </a:cubicBezTo>
                    <a:cubicBezTo>
                      <a:pt x="2900" y="247"/>
                      <a:pt x="2900" y="247"/>
                      <a:pt x="2900" y="247"/>
                    </a:cubicBezTo>
                    <a:cubicBezTo>
                      <a:pt x="2909" y="248"/>
                      <a:pt x="2909" y="248"/>
                      <a:pt x="2909" y="248"/>
                    </a:cubicBezTo>
                    <a:cubicBezTo>
                      <a:pt x="2917" y="248"/>
                      <a:pt x="2917" y="248"/>
                      <a:pt x="2917" y="248"/>
                    </a:cubicBezTo>
                    <a:cubicBezTo>
                      <a:pt x="2926" y="248"/>
                      <a:pt x="2926" y="248"/>
                      <a:pt x="2926" y="248"/>
                    </a:cubicBezTo>
                    <a:cubicBezTo>
                      <a:pt x="2934" y="248"/>
                      <a:pt x="2934" y="248"/>
                      <a:pt x="2934" y="248"/>
                    </a:cubicBezTo>
                    <a:cubicBezTo>
                      <a:pt x="2943" y="248"/>
                      <a:pt x="2943" y="248"/>
                      <a:pt x="2943" y="248"/>
                    </a:cubicBezTo>
                    <a:cubicBezTo>
                      <a:pt x="2951" y="249"/>
                      <a:pt x="2951" y="249"/>
                      <a:pt x="2951" y="249"/>
                    </a:cubicBezTo>
                    <a:cubicBezTo>
                      <a:pt x="2960" y="249"/>
                      <a:pt x="2960" y="249"/>
                      <a:pt x="2960" y="249"/>
                    </a:cubicBezTo>
                    <a:cubicBezTo>
                      <a:pt x="2968" y="249"/>
                      <a:pt x="2968" y="249"/>
                      <a:pt x="2968" y="249"/>
                    </a:cubicBezTo>
                    <a:cubicBezTo>
                      <a:pt x="2977" y="249"/>
                      <a:pt x="2977" y="249"/>
                      <a:pt x="2977" y="249"/>
                    </a:cubicBezTo>
                    <a:cubicBezTo>
                      <a:pt x="2985" y="249"/>
                      <a:pt x="2985" y="249"/>
                      <a:pt x="2985" y="249"/>
                    </a:cubicBezTo>
                    <a:cubicBezTo>
                      <a:pt x="2994" y="250"/>
                      <a:pt x="2994" y="250"/>
                      <a:pt x="2994" y="250"/>
                    </a:cubicBezTo>
                    <a:cubicBezTo>
                      <a:pt x="3002" y="250"/>
                      <a:pt x="3002" y="250"/>
                      <a:pt x="3002" y="250"/>
                    </a:cubicBezTo>
                    <a:cubicBezTo>
                      <a:pt x="3011" y="250"/>
                      <a:pt x="3011" y="250"/>
                      <a:pt x="3011" y="250"/>
                    </a:cubicBezTo>
                    <a:cubicBezTo>
                      <a:pt x="3019" y="250"/>
                      <a:pt x="3019" y="250"/>
                      <a:pt x="3019" y="250"/>
                    </a:cubicBezTo>
                    <a:cubicBezTo>
                      <a:pt x="3028" y="251"/>
                      <a:pt x="3028" y="251"/>
                      <a:pt x="3028" y="251"/>
                    </a:cubicBezTo>
                    <a:cubicBezTo>
                      <a:pt x="3036" y="251"/>
                      <a:pt x="3036" y="251"/>
                      <a:pt x="3036" y="251"/>
                    </a:cubicBezTo>
                    <a:cubicBezTo>
                      <a:pt x="3045" y="251"/>
                      <a:pt x="3045" y="251"/>
                      <a:pt x="3045" y="251"/>
                    </a:cubicBezTo>
                    <a:cubicBezTo>
                      <a:pt x="3053" y="251"/>
                      <a:pt x="3053" y="251"/>
                      <a:pt x="3053" y="251"/>
                    </a:cubicBezTo>
                    <a:cubicBezTo>
                      <a:pt x="3062" y="251"/>
                      <a:pt x="3062" y="251"/>
                      <a:pt x="3062" y="251"/>
                    </a:cubicBezTo>
                    <a:cubicBezTo>
                      <a:pt x="3070" y="252"/>
                      <a:pt x="3070" y="252"/>
                      <a:pt x="3070" y="252"/>
                    </a:cubicBezTo>
                    <a:cubicBezTo>
                      <a:pt x="3079" y="252"/>
                      <a:pt x="3079" y="252"/>
                      <a:pt x="3079" y="252"/>
                    </a:cubicBezTo>
                    <a:cubicBezTo>
                      <a:pt x="3087" y="252"/>
                      <a:pt x="3087" y="252"/>
                      <a:pt x="3087" y="252"/>
                    </a:cubicBezTo>
                    <a:cubicBezTo>
                      <a:pt x="3096" y="252"/>
                      <a:pt x="3096" y="252"/>
                      <a:pt x="3096" y="252"/>
                    </a:cubicBezTo>
                    <a:cubicBezTo>
                      <a:pt x="3104" y="252"/>
                      <a:pt x="3104" y="252"/>
                      <a:pt x="3104" y="252"/>
                    </a:cubicBezTo>
                    <a:cubicBezTo>
                      <a:pt x="3113" y="252"/>
                      <a:pt x="3113" y="252"/>
                      <a:pt x="3113" y="252"/>
                    </a:cubicBezTo>
                    <a:cubicBezTo>
                      <a:pt x="3121" y="253"/>
                      <a:pt x="3121" y="253"/>
                      <a:pt x="3121" y="253"/>
                    </a:cubicBezTo>
                    <a:cubicBezTo>
                      <a:pt x="3130" y="253"/>
                      <a:pt x="3130" y="253"/>
                      <a:pt x="3130" y="253"/>
                    </a:cubicBezTo>
                    <a:cubicBezTo>
                      <a:pt x="3138" y="253"/>
                      <a:pt x="3138" y="253"/>
                      <a:pt x="3138" y="253"/>
                    </a:cubicBezTo>
                    <a:cubicBezTo>
                      <a:pt x="3147" y="253"/>
                      <a:pt x="3147" y="253"/>
                      <a:pt x="3147" y="253"/>
                    </a:cubicBezTo>
                    <a:cubicBezTo>
                      <a:pt x="3155" y="253"/>
                      <a:pt x="3155" y="253"/>
                      <a:pt x="3155" y="253"/>
                    </a:cubicBezTo>
                    <a:cubicBezTo>
                      <a:pt x="3164" y="254"/>
                      <a:pt x="3164" y="254"/>
                      <a:pt x="3164" y="254"/>
                    </a:cubicBezTo>
                    <a:cubicBezTo>
                      <a:pt x="3172" y="254"/>
                      <a:pt x="3172" y="254"/>
                      <a:pt x="3172" y="254"/>
                    </a:cubicBezTo>
                    <a:cubicBezTo>
                      <a:pt x="3181" y="254"/>
                      <a:pt x="3181" y="254"/>
                      <a:pt x="3181" y="254"/>
                    </a:cubicBezTo>
                    <a:cubicBezTo>
                      <a:pt x="3189" y="254"/>
                      <a:pt x="3189" y="254"/>
                      <a:pt x="3189" y="254"/>
                    </a:cubicBezTo>
                    <a:cubicBezTo>
                      <a:pt x="3198" y="254"/>
                      <a:pt x="3198" y="254"/>
                      <a:pt x="3198" y="254"/>
                    </a:cubicBezTo>
                    <a:cubicBezTo>
                      <a:pt x="3206" y="254"/>
                      <a:pt x="3206" y="254"/>
                      <a:pt x="3206" y="254"/>
                    </a:cubicBezTo>
                    <a:cubicBezTo>
                      <a:pt x="3215" y="255"/>
                      <a:pt x="3215" y="255"/>
                      <a:pt x="3215" y="255"/>
                    </a:cubicBezTo>
                    <a:cubicBezTo>
                      <a:pt x="3223" y="255"/>
                      <a:pt x="3223" y="255"/>
                      <a:pt x="3223" y="255"/>
                    </a:cubicBezTo>
                    <a:cubicBezTo>
                      <a:pt x="3232" y="255"/>
                      <a:pt x="3232" y="255"/>
                      <a:pt x="3232" y="255"/>
                    </a:cubicBezTo>
                    <a:cubicBezTo>
                      <a:pt x="3240" y="255"/>
                      <a:pt x="3240" y="255"/>
                      <a:pt x="3240" y="255"/>
                    </a:cubicBezTo>
                    <a:cubicBezTo>
                      <a:pt x="3249" y="255"/>
                      <a:pt x="3249" y="255"/>
                      <a:pt x="3249" y="255"/>
                    </a:cubicBezTo>
                    <a:cubicBezTo>
                      <a:pt x="3257" y="256"/>
                      <a:pt x="3257" y="256"/>
                      <a:pt x="3257" y="256"/>
                    </a:cubicBezTo>
                    <a:cubicBezTo>
                      <a:pt x="3266" y="256"/>
                      <a:pt x="3266" y="256"/>
                      <a:pt x="3266" y="256"/>
                    </a:cubicBezTo>
                    <a:cubicBezTo>
                      <a:pt x="3274" y="256"/>
                      <a:pt x="3274" y="256"/>
                      <a:pt x="3274" y="256"/>
                    </a:cubicBezTo>
                    <a:cubicBezTo>
                      <a:pt x="3283" y="256"/>
                      <a:pt x="3283" y="256"/>
                      <a:pt x="3283" y="256"/>
                    </a:cubicBezTo>
                    <a:cubicBezTo>
                      <a:pt x="3291" y="256"/>
                      <a:pt x="3291" y="256"/>
                      <a:pt x="3291" y="256"/>
                    </a:cubicBezTo>
                    <a:cubicBezTo>
                      <a:pt x="3300" y="256"/>
                      <a:pt x="3300" y="256"/>
                      <a:pt x="3300" y="256"/>
                    </a:cubicBezTo>
                    <a:cubicBezTo>
                      <a:pt x="3308" y="257"/>
                      <a:pt x="3308" y="257"/>
                      <a:pt x="3308" y="257"/>
                    </a:cubicBezTo>
                    <a:cubicBezTo>
                      <a:pt x="3317" y="257"/>
                      <a:pt x="3317" y="257"/>
                      <a:pt x="3317" y="257"/>
                    </a:cubicBezTo>
                    <a:cubicBezTo>
                      <a:pt x="3325" y="257"/>
                      <a:pt x="3325" y="257"/>
                      <a:pt x="3325" y="257"/>
                    </a:cubicBezTo>
                    <a:cubicBezTo>
                      <a:pt x="3334" y="257"/>
                      <a:pt x="3334" y="257"/>
                      <a:pt x="3334" y="257"/>
                    </a:cubicBezTo>
                    <a:cubicBezTo>
                      <a:pt x="3342" y="257"/>
                      <a:pt x="3342" y="257"/>
                      <a:pt x="3342" y="257"/>
                    </a:cubicBezTo>
                    <a:cubicBezTo>
                      <a:pt x="3351" y="257"/>
                      <a:pt x="3351" y="257"/>
                      <a:pt x="3351" y="257"/>
                    </a:cubicBezTo>
                    <a:cubicBezTo>
                      <a:pt x="3359" y="257"/>
                      <a:pt x="3359" y="257"/>
                      <a:pt x="3359" y="257"/>
                    </a:cubicBezTo>
                    <a:cubicBezTo>
                      <a:pt x="3368" y="258"/>
                      <a:pt x="3368" y="258"/>
                      <a:pt x="3368" y="258"/>
                    </a:cubicBezTo>
                    <a:cubicBezTo>
                      <a:pt x="3376" y="258"/>
                      <a:pt x="3376" y="258"/>
                      <a:pt x="3376" y="258"/>
                    </a:cubicBezTo>
                    <a:cubicBezTo>
                      <a:pt x="3385" y="258"/>
                      <a:pt x="3385" y="258"/>
                      <a:pt x="3385" y="258"/>
                    </a:cubicBezTo>
                    <a:cubicBezTo>
                      <a:pt x="3393" y="258"/>
                      <a:pt x="3393" y="258"/>
                      <a:pt x="3393" y="258"/>
                    </a:cubicBezTo>
                    <a:cubicBezTo>
                      <a:pt x="3402" y="258"/>
                      <a:pt x="3402" y="258"/>
                      <a:pt x="3402" y="258"/>
                    </a:cubicBezTo>
                    <a:cubicBezTo>
                      <a:pt x="3411" y="258"/>
                      <a:pt x="3411" y="258"/>
                      <a:pt x="3411" y="258"/>
                    </a:cubicBezTo>
                    <a:cubicBezTo>
                      <a:pt x="3419" y="259"/>
                      <a:pt x="3419" y="259"/>
                      <a:pt x="3419" y="259"/>
                    </a:cubicBezTo>
                    <a:cubicBezTo>
                      <a:pt x="3428" y="259"/>
                      <a:pt x="3428" y="259"/>
                      <a:pt x="3428" y="259"/>
                    </a:cubicBezTo>
                    <a:cubicBezTo>
                      <a:pt x="3436" y="259"/>
                      <a:pt x="3436" y="259"/>
                      <a:pt x="3436" y="259"/>
                    </a:cubicBezTo>
                    <a:cubicBezTo>
                      <a:pt x="3445" y="259"/>
                      <a:pt x="3445" y="259"/>
                      <a:pt x="3445" y="259"/>
                    </a:cubicBezTo>
                    <a:cubicBezTo>
                      <a:pt x="3453" y="259"/>
                      <a:pt x="3453" y="259"/>
                      <a:pt x="3453" y="259"/>
                    </a:cubicBezTo>
                    <a:cubicBezTo>
                      <a:pt x="3462" y="259"/>
                      <a:pt x="3462" y="259"/>
                      <a:pt x="3462" y="259"/>
                    </a:cubicBezTo>
                    <a:cubicBezTo>
                      <a:pt x="3470" y="259"/>
                      <a:pt x="3470" y="259"/>
                      <a:pt x="3470" y="259"/>
                    </a:cubicBezTo>
                    <a:cubicBezTo>
                      <a:pt x="3479" y="260"/>
                      <a:pt x="3479" y="260"/>
                      <a:pt x="3479" y="260"/>
                    </a:cubicBezTo>
                    <a:cubicBezTo>
                      <a:pt x="3487" y="260"/>
                      <a:pt x="3487" y="260"/>
                      <a:pt x="3487" y="260"/>
                    </a:cubicBezTo>
                    <a:cubicBezTo>
                      <a:pt x="3496" y="260"/>
                      <a:pt x="3496" y="260"/>
                      <a:pt x="3496" y="260"/>
                    </a:cubicBezTo>
                    <a:cubicBezTo>
                      <a:pt x="3504" y="260"/>
                      <a:pt x="3504" y="260"/>
                      <a:pt x="3504" y="260"/>
                    </a:cubicBezTo>
                    <a:cubicBezTo>
                      <a:pt x="3513" y="260"/>
                      <a:pt x="3513" y="260"/>
                      <a:pt x="3513" y="260"/>
                    </a:cubicBezTo>
                    <a:cubicBezTo>
                      <a:pt x="3521" y="260"/>
                      <a:pt x="3521" y="260"/>
                      <a:pt x="3521" y="260"/>
                    </a:cubicBezTo>
                    <a:cubicBezTo>
                      <a:pt x="3530" y="260"/>
                      <a:pt x="3530" y="260"/>
                      <a:pt x="3530" y="260"/>
                    </a:cubicBezTo>
                    <a:cubicBezTo>
                      <a:pt x="3538" y="261"/>
                      <a:pt x="3538" y="261"/>
                      <a:pt x="3538" y="261"/>
                    </a:cubicBezTo>
                    <a:cubicBezTo>
                      <a:pt x="3547" y="261"/>
                      <a:pt x="3547" y="261"/>
                      <a:pt x="3547" y="261"/>
                    </a:cubicBezTo>
                    <a:cubicBezTo>
                      <a:pt x="3555" y="261"/>
                      <a:pt x="3555" y="261"/>
                      <a:pt x="3555" y="261"/>
                    </a:cubicBezTo>
                    <a:cubicBezTo>
                      <a:pt x="3564" y="261"/>
                      <a:pt x="3564" y="261"/>
                      <a:pt x="3564" y="261"/>
                    </a:cubicBezTo>
                    <a:cubicBezTo>
                      <a:pt x="3572" y="261"/>
                      <a:pt x="3572" y="261"/>
                      <a:pt x="3572" y="261"/>
                    </a:cubicBezTo>
                    <a:cubicBezTo>
                      <a:pt x="3581" y="261"/>
                      <a:pt x="3581" y="261"/>
                      <a:pt x="3581" y="261"/>
                    </a:cubicBezTo>
                    <a:cubicBezTo>
                      <a:pt x="3589" y="261"/>
                      <a:pt x="3589" y="261"/>
                      <a:pt x="3589" y="261"/>
                    </a:cubicBezTo>
                    <a:cubicBezTo>
                      <a:pt x="3598" y="262"/>
                      <a:pt x="3598" y="262"/>
                      <a:pt x="3598" y="262"/>
                    </a:cubicBezTo>
                    <a:cubicBezTo>
                      <a:pt x="3606" y="262"/>
                      <a:pt x="3606" y="262"/>
                      <a:pt x="3606" y="262"/>
                    </a:cubicBezTo>
                    <a:cubicBezTo>
                      <a:pt x="3615" y="262"/>
                      <a:pt x="3615" y="262"/>
                      <a:pt x="3615" y="262"/>
                    </a:cubicBezTo>
                    <a:cubicBezTo>
                      <a:pt x="3623" y="262"/>
                      <a:pt x="3623" y="262"/>
                      <a:pt x="3623" y="262"/>
                    </a:cubicBezTo>
                    <a:cubicBezTo>
                      <a:pt x="3632" y="262"/>
                      <a:pt x="3632" y="262"/>
                      <a:pt x="3632" y="262"/>
                    </a:cubicBezTo>
                    <a:cubicBezTo>
                      <a:pt x="3640" y="262"/>
                      <a:pt x="3640" y="262"/>
                      <a:pt x="3640" y="262"/>
                    </a:cubicBezTo>
                    <a:cubicBezTo>
                      <a:pt x="3649" y="262"/>
                      <a:pt x="3649" y="262"/>
                      <a:pt x="3649" y="262"/>
                    </a:cubicBezTo>
                    <a:cubicBezTo>
                      <a:pt x="3657" y="263"/>
                      <a:pt x="3657" y="263"/>
                      <a:pt x="3657" y="263"/>
                    </a:cubicBezTo>
                    <a:cubicBezTo>
                      <a:pt x="3666" y="263"/>
                      <a:pt x="3666" y="263"/>
                      <a:pt x="3666" y="263"/>
                    </a:cubicBezTo>
                    <a:cubicBezTo>
                      <a:pt x="3674" y="263"/>
                      <a:pt x="3674" y="263"/>
                      <a:pt x="3674" y="263"/>
                    </a:cubicBezTo>
                    <a:cubicBezTo>
                      <a:pt x="3683" y="263"/>
                      <a:pt x="3683" y="263"/>
                      <a:pt x="3683" y="263"/>
                    </a:cubicBezTo>
                    <a:cubicBezTo>
                      <a:pt x="3691" y="263"/>
                      <a:pt x="3691" y="263"/>
                      <a:pt x="3691" y="263"/>
                    </a:cubicBezTo>
                    <a:cubicBezTo>
                      <a:pt x="3700" y="263"/>
                      <a:pt x="3700" y="263"/>
                      <a:pt x="3700" y="263"/>
                    </a:cubicBezTo>
                    <a:cubicBezTo>
                      <a:pt x="3708" y="263"/>
                      <a:pt x="3708" y="263"/>
                      <a:pt x="3708" y="263"/>
                    </a:cubicBezTo>
                    <a:cubicBezTo>
                      <a:pt x="3717" y="263"/>
                      <a:pt x="3717" y="263"/>
                      <a:pt x="3717" y="263"/>
                    </a:cubicBezTo>
                    <a:cubicBezTo>
                      <a:pt x="3725" y="264"/>
                      <a:pt x="3725" y="264"/>
                      <a:pt x="3725" y="264"/>
                    </a:cubicBezTo>
                    <a:cubicBezTo>
                      <a:pt x="3734" y="264"/>
                      <a:pt x="3734" y="264"/>
                      <a:pt x="3734" y="264"/>
                    </a:cubicBezTo>
                    <a:cubicBezTo>
                      <a:pt x="3742" y="264"/>
                      <a:pt x="3742" y="264"/>
                      <a:pt x="3742" y="264"/>
                    </a:cubicBezTo>
                    <a:cubicBezTo>
                      <a:pt x="3751" y="264"/>
                      <a:pt x="3751" y="264"/>
                      <a:pt x="3751" y="264"/>
                    </a:cubicBezTo>
                    <a:cubicBezTo>
                      <a:pt x="3759" y="264"/>
                      <a:pt x="3759" y="264"/>
                      <a:pt x="3759" y="264"/>
                    </a:cubicBezTo>
                    <a:cubicBezTo>
                      <a:pt x="3768" y="264"/>
                      <a:pt x="3768" y="264"/>
                      <a:pt x="3768" y="264"/>
                    </a:cubicBezTo>
                    <a:cubicBezTo>
                      <a:pt x="3776" y="264"/>
                      <a:pt x="3776" y="264"/>
                      <a:pt x="3776" y="264"/>
                    </a:cubicBezTo>
                    <a:cubicBezTo>
                      <a:pt x="3785" y="264"/>
                      <a:pt x="3785" y="264"/>
                      <a:pt x="3785" y="264"/>
                    </a:cubicBezTo>
                    <a:cubicBezTo>
                      <a:pt x="3793" y="264"/>
                      <a:pt x="3793" y="264"/>
                      <a:pt x="3793" y="264"/>
                    </a:cubicBezTo>
                    <a:cubicBezTo>
                      <a:pt x="3802" y="265"/>
                      <a:pt x="3802" y="265"/>
                      <a:pt x="3802" y="265"/>
                    </a:cubicBezTo>
                    <a:cubicBezTo>
                      <a:pt x="3810" y="265"/>
                      <a:pt x="3810" y="265"/>
                      <a:pt x="3810" y="265"/>
                    </a:cubicBezTo>
                    <a:cubicBezTo>
                      <a:pt x="3819" y="265"/>
                      <a:pt x="3819" y="265"/>
                      <a:pt x="3819" y="265"/>
                    </a:cubicBezTo>
                    <a:cubicBezTo>
                      <a:pt x="3827" y="265"/>
                      <a:pt x="3827" y="265"/>
                      <a:pt x="3827" y="265"/>
                    </a:cubicBezTo>
                    <a:cubicBezTo>
                      <a:pt x="3836" y="265"/>
                      <a:pt x="3836" y="265"/>
                      <a:pt x="3836" y="265"/>
                    </a:cubicBezTo>
                    <a:cubicBezTo>
                      <a:pt x="3844" y="265"/>
                      <a:pt x="3844" y="265"/>
                      <a:pt x="3844" y="265"/>
                    </a:cubicBezTo>
                    <a:cubicBezTo>
                      <a:pt x="3853" y="265"/>
                      <a:pt x="3853" y="265"/>
                      <a:pt x="3853" y="265"/>
                    </a:cubicBezTo>
                    <a:cubicBezTo>
                      <a:pt x="3861" y="265"/>
                      <a:pt x="3861" y="265"/>
                      <a:pt x="3861" y="265"/>
                    </a:cubicBezTo>
                    <a:cubicBezTo>
                      <a:pt x="3870" y="266"/>
                      <a:pt x="3870" y="266"/>
                      <a:pt x="3870" y="266"/>
                    </a:cubicBezTo>
                    <a:cubicBezTo>
                      <a:pt x="3878" y="266"/>
                      <a:pt x="3878" y="266"/>
                      <a:pt x="3878" y="266"/>
                    </a:cubicBezTo>
                    <a:cubicBezTo>
                      <a:pt x="3887" y="266"/>
                      <a:pt x="3887" y="266"/>
                      <a:pt x="3887" y="266"/>
                    </a:cubicBezTo>
                    <a:cubicBezTo>
                      <a:pt x="3895" y="266"/>
                      <a:pt x="3895" y="266"/>
                      <a:pt x="3895" y="266"/>
                    </a:cubicBezTo>
                    <a:cubicBezTo>
                      <a:pt x="3904" y="266"/>
                      <a:pt x="3904" y="266"/>
                      <a:pt x="3904" y="266"/>
                    </a:cubicBezTo>
                    <a:cubicBezTo>
                      <a:pt x="3912" y="266"/>
                      <a:pt x="3912" y="266"/>
                      <a:pt x="3912" y="266"/>
                    </a:cubicBezTo>
                    <a:cubicBezTo>
                      <a:pt x="3921" y="266"/>
                      <a:pt x="3921" y="266"/>
                      <a:pt x="3921" y="266"/>
                    </a:cubicBezTo>
                    <a:cubicBezTo>
                      <a:pt x="3929" y="266"/>
                      <a:pt x="3929" y="266"/>
                      <a:pt x="3929" y="266"/>
                    </a:cubicBezTo>
                    <a:cubicBezTo>
                      <a:pt x="3938" y="266"/>
                      <a:pt x="3938" y="266"/>
                      <a:pt x="3938" y="266"/>
                    </a:cubicBezTo>
                    <a:cubicBezTo>
                      <a:pt x="3946" y="266"/>
                      <a:pt x="3946" y="266"/>
                      <a:pt x="3946" y="266"/>
                    </a:cubicBezTo>
                    <a:cubicBezTo>
                      <a:pt x="3955" y="267"/>
                      <a:pt x="3955" y="267"/>
                      <a:pt x="3955" y="267"/>
                    </a:cubicBezTo>
                    <a:cubicBezTo>
                      <a:pt x="3963" y="267"/>
                      <a:pt x="3963" y="267"/>
                      <a:pt x="3963" y="267"/>
                    </a:cubicBezTo>
                    <a:cubicBezTo>
                      <a:pt x="3972" y="267"/>
                      <a:pt x="3972" y="267"/>
                      <a:pt x="3972" y="267"/>
                    </a:cubicBezTo>
                    <a:cubicBezTo>
                      <a:pt x="3980" y="267"/>
                      <a:pt x="3980" y="267"/>
                      <a:pt x="3980" y="267"/>
                    </a:cubicBezTo>
                    <a:cubicBezTo>
                      <a:pt x="3989" y="267"/>
                      <a:pt x="3989" y="267"/>
                      <a:pt x="3989" y="267"/>
                    </a:cubicBezTo>
                    <a:cubicBezTo>
                      <a:pt x="3997" y="267"/>
                      <a:pt x="3997" y="267"/>
                      <a:pt x="3997" y="267"/>
                    </a:cubicBezTo>
                    <a:cubicBezTo>
                      <a:pt x="4006" y="267"/>
                      <a:pt x="4006" y="267"/>
                      <a:pt x="4006" y="267"/>
                    </a:cubicBezTo>
                    <a:cubicBezTo>
                      <a:pt x="4014" y="267"/>
                      <a:pt x="4014" y="267"/>
                      <a:pt x="4014" y="267"/>
                    </a:cubicBezTo>
                    <a:cubicBezTo>
                      <a:pt x="4023" y="267"/>
                      <a:pt x="4023" y="267"/>
                      <a:pt x="4023" y="267"/>
                    </a:cubicBezTo>
                    <a:cubicBezTo>
                      <a:pt x="4031" y="268"/>
                      <a:pt x="4031" y="268"/>
                      <a:pt x="4031" y="268"/>
                    </a:cubicBezTo>
                    <a:cubicBezTo>
                      <a:pt x="4040" y="268"/>
                      <a:pt x="4040" y="268"/>
                      <a:pt x="4040" y="268"/>
                    </a:cubicBezTo>
                    <a:cubicBezTo>
                      <a:pt x="4048" y="268"/>
                      <a:pt x="4048" y="268"/>
                      <a:pt x="4048" y="268"/>
                    </a:cubicBezTo>
                    <a:cubicBezTo>
                      <a:pt x="4057" y="268"/>
                      <a:pt x="4057" y="268"/>
                      <a:pt x="4057" y="268"/>
                    </a:cubicBezTo>
                    <a:cubicBezTo>
                      <a:pt x="4065" y="268"/>
                      <a:pt x="4065" y="268"/>
                      <a:pt x="4065" y="268"/>
                    </a:cubicBezTo>
                    <a:cubicBezTo>
                      <a:pt x="4074" y="268"/>
                      <a:pt x="4074" y="268"/>
                      <a:pt x="4074" y="268"/>
                    </a:cubicBezTo>
                    <a:cubicBezTo>
                      <a:pt x="4082" y="268"/>
                      <a:pt x="4082" y="268"/>
                      <a:pt x="4082" y="268"/>
                    </a:cubicBezTo>
                    <a:cubicBezTo>
                      <a:pt x="4091" y="268"/>
                      <a:pt x="4091" y="268"/>
                      <a:pt x="4091" y="268"/>
                    </a:cubicBezTo>
                    <a:cubicBezTo>
                      <a:pt x="4099" y="268"/>
                      <a:pt x="4099" y="268"/>
                      <a:pt x="4099" y="268"/>
                    </a:cubicBezTo>
                    <a:cubicBezTo>
                      <a:pt x="4108" y="268"/>
                      <a:pt x="4108" y="268"/>
                      <a:pt x="4108" y="268"/>
                    </a:cubicBezTo>
                    <a:cubicBezTo>
                      <a:pt x="4116" y="268"/>
                      <a:pt x="4116" y="268"/>
                      <a:pt x="4116" y="268"/>
                    </a:cubicBezTo>
                    <a:cubicBezTo>
                      <a:pt x="4125" y="269"/>
                      <a:pt x="4125" y="269"/>
                      <a:pt x="4125" y="269"/>
                    </a:cubicBezTo>
                    <a:cubicBezTo>
                      <a:pt x="4133" y="269"/>
                      <a:pt x="4133" y="269"/>
                      <a:pt x="4133" y="269"/>
                    </a:cubicBezTo>
                    <a:cubicBezTo>
                      <a:pt x="4142" y="269"/>
                      <a:pt x="4142" y="269"/>
                      <a:pt x="4142" y="269"/>
                    </a:cubicBezTo>
                    <a:cubicBezTo>
                      <a:pt x="4150" y="269"/>
                      <a:pt x="4150" y="269"/>
                      <a:pt x="4150" y="269"/>
                    </a:cubicBezTo>
                    <a:cubicBezTo>
                      <a:pt x="4159" y="269"/>
                      <a:pt x="4159" y="269"/>
                      <a:pt x="4159" y="269"/>
                    </a:cubicBezTo>
                    <a:cubicBezTo>
                      <a:pt x="4167" y="269"/>
                      <a:pt x="4167" y="269"/>
                      <a:pt x="4167" y="269"/>
                    </a:cubicBezTo>
                    <a:cubicBezTo>
                      <a:pt x="4176" y="269"/>
                      <a:pt x="4176" y="269"/>
                      <a:pt x="4176" y="269"/>
                    </a:cubicBezTo>
                    <a:cubicBezTo>
                      <a:pt x="4184" y="269"/>
                      <a:pt x="4184" y="269"/>
                      <a:pt x="4184" y="269"/>
                    </a:cubicBezTo>
                    <a:cubicBezTo>
                      <a:pt x="4193" y="269"/>
                      <a:pt x="4193" y="269"/>
                      <a:pt x="4193" y="269"/>
                    </a:cubicBezTo>
                    <a:cubicBezTo>
                      <a:pt x="4201" y="269"/>
                      <a:pt x="4201" y="269"/>
                      <a:pt x="4201" y="269"/>
                    </a:cubicBezTo>
                    <a:cubicBezTo>
                      <a:pt x="4210" y="269"/>
                      <a:pt x="4210" y="269"/>
                      <a:pt x="4210" y="269"/>
                    </a:cubicBezTo>
                    <a:cubicBezTo>
                      <a:pt x="4218" y="270"/>
                      <a:pt x="4218" y="270"/>
                      <a:pt x="4218" y="270"/>
                    </a:cubicBezTo>
                    <a:cubicBezTo>
                      <a:pt x="4227" y="270"/>
                      <a:pt x="4227" y="270"/>
                      <a:pt x="4227" y="270"/>
                    </a:cubicBezTo>
                    <a:cubicBezTo>
                      <a:pt x="4235" y="270"/>
                      <a:pt x="4235" y="270"/>
                      <a:pt x="4235" y="270"/>
                    </a:cubicBezTo>
                    <a:cubicBezTo>
                      <a:pt x="4244" y="270"/>
                      <a:pt x="4244" y="270"/>
                      <a:pt x="4244" y="27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1567800" y="1450080"/>
                <a:ext cx="2775600" cy="1729800"/>
              </a:xfrm>
              <a:custGeom>
                <a:avLst/>
                <a:gdLst/>
                <a:ahLst/>
                <a:rect l="l" t="t" r="r" b="b"/>
                <a:pathLst>
                  <a:path w="4240" h="357">
                    <a:moveTo>
                      <a:pt x="0" y="92"/>
                    </a:moveTo>
                    <a:cubicBezTo>
                      <a:pt x="4" y="89"/>
                      <a:pt x="4" y="89"/>
                      <a:pt x="4" y="89"/>
                    </a:cubicBezTo>
                    <a:cubicBezTo>
                      <a:pt x="9" y="86"/>
                      <a:pt x="9" y="86"/>
                      <a:pt x="9" y="86"/>
                    </a:cubicBezTo>
                    <a:cubicBezTo>
                      <a:pt x="13" y="83"/>
                      <a:pt x="13" y="83"/>
                      <a:pt x="13" y="83"/>
                    </a:cubicBezTo>
                    <a:cubicBezTo>
                      <a:pt x="17" y="80"/>
                      <a:pt x="17" y="80"/>
                      <a:pt x="17" y="80"/>
                    </a:cubicBezTo>
                    <a:cubicBezTo>
                      <a:pt x="21" y="77"/>
                      <a:pt x="21" y="77"/>
                      <a:pt x="21" y="77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30" y="71"/>
                      <a:pt x="30" y="71"/>
                      <a:pt x="30" y="71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51" y="58"/>
                      <a:pt x="51" y="58"/>
                      <a:pt x="51" y="58"/>
                    </a:cubicBezTo>
                    <a:cubicBezTo>
                      <a:pt x="60" y="53"/>
                      <a:pt x="60" y="53"/>
                      <a:pt x="60" y="53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85" y="39"/>
                      <a:pt x="85" y="39"/>
                      <a:pt x="85" y="39"/>
                    </a:cubicBezTo>
                    <a:cubicBezTo>
                      <a:pt x="94" y="35"/>
                      <a:pt x="94" y="35"/>
                      <a:pt x="94" y="35"/>
                    </a:cubicBezTo>
                    <a:cubicBezTo>
                      <a:pt x="102" y="31"/>
                      <a:pt x="102" y="31"/>
                      <a:pt x="102" y="31"/>
                    </a:cubicBezTo>
                    <a:cubicBezTo>
                      <a:pt x="111" y="28"/>
                      <a:pt x="111" y="28"/>
                      <a:pt x="111" y="28"/>
                    </a:cubicBezTo>
                    <a:cubicBezTo>
                      <a:pt x="119" y="24"/>
                      <a:pt x="119" y="24"/>
                      <a:pt x="119" y="24"/>
                    </a:cubicBezTo>
                    <a:cubicBezTo>
                      <a:pt x="128" y="21"/>
                      <a:pt x="128" y="21"/>
                      <a:pt x="128" y="21"/>
                    </a:cubicBezTo>
                    <a:cubicBezTo>
                      <a:pt x="136" y="18"/>
                      <a:pt x="136" y="18"/>
                      <a:pt x="136" y="18"/>
                    </a:cubicBezTo>
                    <a:cubicBezTo>
                      <a:pt x="145" y="15"/>
                      <a:pt x="145" y="15"/>
                      <a:pt x="145" y="15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62" y="11"/>
                      <a:pt x="162" y="11"/>
                      <a:pt x="162" y="11"/>
                    </a:cubicBezTo>
                    <a:cubicBezTo>
                      <a:pt x="170" y="9"/>
                      <a:pt x="170" y="9"/>
                      <a:pt x="170" y="9"/>
                    </a:cubicBezTo>
                    <a:cubicBezTo>
                      <a:pt x="179" y="7"/>
                      <a:pt x="179" y="7"/>
                      <a:pt x="179" y="7"/>
                    </a:cubicBezTo>
                    <a:cubicBezTo>
                      <a:pt x="187" y="5"/>
                      <a:pt x="187" y="5"/>
                      <a:pt x="187" y="5"/>
                    </a:cubicBezTo>
                    <a:cubicBezTo>
                      <a:pt x="196" y="4"/>
                      <a:pt x="196" y="4"/>
                      <a:pt x="196" y="4"/>
                    </a:cubicBezTo>
                    <a:cubicBezTo>
                      <a:pt x="204" y="3"/>
                      <a:pt x="204" y="3"/>
                      <a:pt x="204" y="3"/>
                    </a:cubicBezTo>
                    <a:cubicBezTo>
                      <a:pt x="213" y="2"/>
                      <a:pt x="213" y="2"/>
                      <a:pt x="213" y="2"/>
                    </a:cubicBezTo>
                    <a:cubicBezTo>
                      <a:pt x="221" y="1"/>
                      <a:pt x="221" y="1"/>
                      <a:pt x="221" y="1"/>
                    </a:cubicBezTo>
                    <a:cubicBezTo>
                      <a:pt x="230" y="1"/>
                      <a:pt x="230" y="1"/>
                      <a:pt x="230" y="1"/>
                    </a:cubicBezTo>
                    <a:cubicBezTo>
                      <a:pt x="238" y="0"/>
                      <a:pt x="238" y="0"/>
                      <a:pt x="238" y="0"/>
                    </a:cubicBezTo>
                    <a:cubicBezTo>
                      <a:pt x="247" y="0"/>
                      <a:pt x="247" y="0"/>
                      <a:pt x="247" y="0"/>
                    </a:cubicBezTo>
                    <a:cubicBezTo>
                      <a:pt x="255" y="0"/>
                      <a:pt x="255" y="0"/>
                      <a:pt x="255" y="0"/>
                    </a:cubicBezTo>
                    <a:cubicBezTo>
                      <a:pt x="264" y="1"/>
                      <a:pt x="264" y="1"/>
                      <a:pt x="264" y="1"/>
                    </a:cubicBezTo>
                    <a:cubicBezTo>
                      <a:pt x="272" y="1"/>
                      <a:pt x="272" y="1"/>
                      <a:pt x="272" y="1"/>
                    </a:cubicBezTo>
                    <a:cubicBezTo>
                      <a:pt x="281" y="2"/>
                      <a:pt x="281" y="2"/>
                      <a:pt x="281" y="2"/>
                    </a:cubicBezTo>
                    <a:cubicBezTo>
                      <a:pt x="289" y="3"/>
                      <a:pt x="289" y="3"/>
                      <a:pt x="289" y="3"/>
                    </a:cubicBezTo>
                    <a:cubicBezTo>
                      <a:pt x="298" y="4"/>
                      <a:pt x="298" y="4"/>
                      <a:pt x="298" y="4"/>
                    </a:cubicBezTo>
                    <a:cubicBezTo>
                      <a:pt x="306" y="6"/>
                      <a:pt x="306" y="6"/>
                      <a:pt x="306" y="6"/>
                    </a:cubicBezTo>
                    <a:cubicBezTo>
                      <a:pt x="315" y="7"/>
                      <a:pt x="315" y="7"/>
                      <a:pt x="315" y="7"/>
                    </a:cubicBezTo>
                    <a:cubicBezTo>
                      <a:pt x="323" y="9"/>
                      <a:pt x="323" y="9"/>
                      <a:pt x="323" y="9"/>
                    </a:cubicBezTo>
                    <a:cubicBezTo>
                      <a:pt x="332" y="11"/>
                      <a:pt x="332" y="11"/>
                      <a:pt x="332" y="11"/>
                    </a:cubicBezTo>
                    <a:cubicBezTo>
                      <a:pt x="340" y="13"/>
                      <a:pt x="340" y="13"/>
                      <a:pt x="340" y="13"/>
                    </a:cubicBezTo>
                    <a:cubicBezTo>
                      <a:pt x="349" y="15"/>
                      <a:pt x="349" y="15"/>
                      <a:pt x="349" y="15"/>
                    </a:cubicBezTo>
                    <a:cubicBezTo>
                      <a:pt x="357" y="18"/>
                      <a:pt x="357" y="18"/>
                      <a:pt x="357" y="18"/>
                    </a:cubicBezTo>
                    <a:cubicBezTo>
                      <a:pt x="366" y="20"/>
                      <a:pt x="366" y="20"/>
                      <a:pt x="366" y="20"/>
                    </a:cubicBezTo>
                    <a:cubicBezTo>
                      <a:pt x="374" y="23"/>
                      <a:pt x="374" y="23"/>
                      <a:pt x="374" y="23"/>
                    </a:cubicBezTo>
                    <a:cubicBezTo>
                      <a:pt x="383" y="26"/>
                      <a:pt x="383" y="26"/>
                      <a:pt x="383" y="26"/>
                    </a:cubicBezTo>
                    <a:cubicBezTo>
                      <a:pt x="391" y="29"/>
                      <a:pt x="391" y="29"/>
                      <a:pt x="391" y="29"/>
                    </a:cubicBezTo>
                    <a:cubicBezTo>
                      <a:pt x="400" y="32"/>
                      <a:pt x="400" y="32"/>
                      <a:pt x="400" y="32"/>
                    </a:cubicBezTo>
                    <a:cubicBezTo>
                      <a:pt x="408" y="35"/>
                      <a:pt x="408" y="35"/>
                      <a:pt x="408" y="35"/>
                    </a:cubicBezTo>
                    <a:cubicBezTo>
                      <a:pt x="417" y="39"/>
                      <a:pt x="417" y="39"/>
                      <a:pt x="417" y="39"/>
                    </a:cubicBezTo>
                    <a:cubicBezTo>
                      <a:pt x="425" y="42"/>
                      <a:pt x="425" y="42"/>
                      <a:pt x="425" y="42"/>
                    </a:cubicBezTo>
                    <a:cubicBezTo>
                      <a:pt x="434" y="46"/>
                      <a:pt x="434" y="46"/>
                      <a:pt x="434" y="46"/>
                    </a:cubicBezTo>
                    <a:cubicBezTo>
                      <a:pt x="442" y="50"/>
                      <a:pt x="442" y="50"/>
                      <a:pt x="442" y="50"/>
                    </a:cubicBezTo>
                    <a:cubicBezTo>
                      <a:pt x="451" y="54"/>
                      <a:pt x="451" y="54"/>
                      <a:pt x="451" y="54"/>
                    </a:cubicBezTo>
                    <a:cubicBezTo>
                      <a:pt x="459" y="58"/>
                      <a:pt x="459" y="58"/>
                      <a:pt x="459" y="58"/>
                    </a:cubicBezTo>
                    <a:cubicBezTo>
                      <a:pt x="468" y="62"/>
                      <a:pt x="468" y="62"/>
                      <a:pt x="468" y="62"/>
                    </a:cubicBezTo>
                    <a:cubicBezTo>
                      <a:pt x="476" y="67"/>
                      <a:pt x="476" y="67"/>
                      <a:pt x="476" y="67"/>
                    </a:cubicBezTo>
                    <a:cubicBezTo>
                      <a:pt x="485" y="71"/>
                      <a:pt x="485" y="71"/>
                      <a:pt x="485" y="71"/>
                    </a:cubicBezTo>
                    <a:cubicBezTo>
                      <a:pt x="493" y="76"/>
                      <a:pt x="493" y="76"/>
                      <a:pt x="493" y="76"/>
                    </a:cubicBezTo>
                    <a:cubicBezTo>
                      <a:pt x="502" y="80"/>
                      <a:pt x="502" y="80"/>
                      <a:pt x="502" y="80"/>
                    </a:cubicBezTo>
                    <a:cubicBezTo>
                      <a:pt x="510" y="85"/>
                      <a:pt x="510" y="85"/>
                      <a:pt x="510" y="85"/>
                    </a:cubicBezTo>
                    <a:cubicBezTo>
                      <a:pt x="519" y="90"/>
                      <a:pt x="519" y="90"/>
                      <a:pt x="519" y="90"/>
                    </a:cubicBezTo>
                    <a:cubicBezTo>
                      <a:pt x="527" y="94"/>
                      <a:pt x="527" y="94"/>
                      <a:pt x="527" y="94"/>
                    </a:cubicBezTo>
                    <a:cubicBezTo>
                      <a:pt x="536" y="99"/>
                      <a:pt x="536" y="99"/>
                      <a:pt x="536" y="99"/>
                    </a:cubicBezTo>
                    <a:cubicBezTo>
                      <a:pt x="544" y="104"/>
                      <a:pt x="544" y="104"/>
                      <a:pt x="544" y="104"/>
                    </a:cubicBezTo>
                    <a:cubicBezTo>
                      <a:pt x="553" y="109"/>
                      <a:pt x="553" y="109"/>
                      <a:pt x="553" y="109"/>
                    </a:cubicBezTo>
                    <a:cubicBezTo>
                      <a:pt x="561" y="114"/>
                      <a:pt x="561" y="114"/>
                      <a:pt x="561" y="114"/>
                    </a:cubicBezTo>
                    <a:cubicBezTo>
                      <a:pt x="570" y="120"/>
                      <a:pt x="570" y="120"/>
                      <a:pt x="570" y="120"/>
                    </a:cubicBezTo>
                    <a:cubicBezTo>
                      <a:pt x="578" y="125"/>
                      <a:pt x="578" y="125"/>
                      <a:pt x="578" y="125"/>
                    </a:cubicBezTo>
                    <a:cubicBezTo>
                      <a:pt x="587" y="130"/>
                      <a:pt x="587" y="130"/>
                      <a:pt x="587" y="130"/>
                    </a:cubicBezTo>
                    <a:cubicBezTo>
                      <a:pt x="595" y="135"/>
                      <a:pt x="595" y="135"/>
                      <a:pt x="595" y="135"/>
                    </a:cubicBezTo>
                    <a:cubicBezTo>
                      <a:pt x="604" y="140"/>
                      <a:pt x="604" y="140"/>
                      <a:pt x="604" y="140"/>
                    </a:cubicBezTo>
                    <a:cubicBezTo>
                      <a:pt x="612" y="146"/>
                      <a:pt x="612" y="146"/>
                      <a:pt x="612" y="146"/>
                    </a:cubicBezTo>
                    <a:cubicBezTo>
                      <a:pt x="617" y="148"/>
                      <a:pt x="617" y="148"/>
                      <a:pt x="617" y="148"/>
                    </a:cubicBezTo>
                    <a:cubicBezTo>
                      <a:pt x="621" y="151"/>
                      <a:pt x="621" y="151"/>
                      <a:pt x="621" y="151"/>
                    </a:cubicBezTo>
                    <a:cubicBezTo>
                      <a:pt x="625" y="154"/>
                      <a:pt x="625" y="154"/>
                      <a:pt x="625" y="154"/>
                    </a:cubicBezTo>
                    <a:cubicBezTo>
                      <a:pt x="629" y="156"/>
                      <a:pt x="629" y="156"/>
                      <a:pt x="629" y="156"/>
                    </a:cubicBezTo>
                    <a:cubicBezTo>
                      <a:pt x="634" y="159"/>
                      <a:pt x="634" y="159"/>
                      <a:pt x="634" y="159"/>
                    </a:cubicBezTo>
                    <a:cubicBezTo>
                      <a:pt x="638" y="161"/>
                      <a:pt x="638" y="161"/>
                      <a:pt x="638" y="161"/>
                    </a:cubicBezTo>
                    <a:cubicBezTo>
                      <a:pt x="642" y="164"/>
                      <a:pt x="642" y="164"/>
                      <a:pt x="642" y="164"/>
                    </a:cubicBezTo>
                    <a:cubicBezTo>
                      <a:pt x="646" y="167"/>
                      <a:pt x="646" y="167"/>
                      <a:pt x="646" y="167"/>
                    </a:cubicBezTo>
                    <a:cubicBezTo>
                      <a:pt x="651" y="169"/>
                      <a:pt x="651" y="169"/>
                      <a:pt x="651" y="169"/>
                    </a:cubicBezTo>
                    <a:cubicBezTo>
                      <a:pt x="655" y="172"/>
                      <a:pt x="655" y="172"/>
                      <a:pt x="655" y="172"/>
                    </a:cubicBezTo>
                    <a:cubicBezTo>
                      <a:pt x="659" y="175"/>
                      <a:pt x="659" y="175"/>
                      <a:pt x="659" y="175"/>
                    </a:cubicBezTo>
                    <a:cubicBezTo>
                      <a:pt x="663" y="177"/>
                      <a:pt x="663" y="177"/>
                      <a:pt x="663" y="177"/>
                    </a:cubicBezTo>
                    <a:cubicBezTo>
                      <a:pt x="668" y="180"/>
                      <a:pt x="668" y="180"/>
                      <a:pt x="668" y="180"/>
                    </a:cubicBezTo>
                    <a:cubicBezTo>
                      <a:pt x="672" y="183"/>
                      <a:pt x="672" y="183"/>
                      <a:pt x="672" y="183"/>
                    </a:cubicBezTo>
                    <a:cubicBezTo>
                      <a:pt x="685" y="191"/>
                      <a:pt x="685" y="191"/>
                      <a:pt x="685" y="191"/>
                    </a:cubicBezTo>
                    <a:cubicBezTo>
                      <a:pt x="693" y="196"/>
                      <a:pt x="693" y="196"/>
                      <a:pt x="693" y="196"/>
                    </a:cubicBezTo>
                    <a:cubicBezTo>
                      <a:pt x="702" y="201"/>
                      <a:pt x="702" y="201"/>
                      <a:pt x="702" y="201"/>
                    </a:cubicBezTo>
                    <a:cubicBezTo>
                      <a:pt x="710" y="206"/>
                      <a:pt x="710" y="206"/>
                      <a:pt x="710" y="206"/>
                    </a:cubicBezTo>
                    <a:cubicBezTo>
                      <a:pt x="719" y="211"/>
                      <a:pt x="719" y="211"/>
                      <a:pt x="719" y="211"/>
                    </a:cubicBezTo>
                    <a:cubicBezTo>
                      <a:pt x="727" y="216"/>
                      <a:pt x="727" y="216"/>
                      <a:pt x="727" y="216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44" y="226"/>
                      <a:pt x="744" y="226"/>
                      <a:pt x="744" y="226"/>
                    </a:cubicBezTo>
                    <a:cubicBezTo>
                      <a:pt x="753" y="231"/>
                      <a:pt x="753" y="231"/>
                      <a:pt x="753" y="231"/>
                    </a:cubicBezTo>
                    <a:cubicBezTo>
                      <a:pt x="761" y="236"/>
                      <a:pt x="761" y="236"/>
                      <a:pt x="761" y="236"/>
                    </a:cubicBezTo>
                    <a:cubicBezTo>
                      <a:pt x="770" y="241"/>
                      <a:pt x="770" y="241"/>
                      <a:pt x="770" y="241"/>
                    </a:cubicBezTo>
                    <a:cubicBezTo>
                      <a:pt x="778" y="246"/>
                      <a:pt x="778" y="246"/>
                      <a:pt x="778" y="246"/>
                    </a:cubicBezTo>
                    <a:cubicBezTo>
                      <a:pt x="787" y="250"/>
                      <a:pt x="787" y="250"/>
                      <a:pt x="787" y="250"/>
                    </a:cubicBezTo>
                    <a:cubicBezTo>
                      <a:pt x="795" y="255"/>
                      <a:pt x="795" y="255"/>
                      <a:pt x="795" y="255"/>
                    </a:cubicBezTo>
                    <a:cubicBezTo>
                      <a:pt x="804" y="260"/>
                      <a:pt x="804" y="260"/>
                      <a:pt x="804" y="260"/>
                    </a:cubicBezTo>
                    <a:cubicBezTo>
                      <a:pt x="812" y="264"/>
                      <a:pt x="812" y="264"/>
                      <a:pt x="812" y="264"/>
                    </a:cubicBezTo>
                    <a:cubicBezTo>
                      <a:pt x="821" y="269"/>
                      <a:pt x="821" y="269"/>
                      <a:pt x="821" y="269"/>
                    </a:cubicBezTo>
                    <a:cubicBezTo>
                      <a:pt x="829" y="273"/>
                      <a:pt x="829" y="273"/>
                      <a:pt x="829" y="273"/>
                    </a:cubicBezTo>
                    <a:cubicBezTo>
                      <a:pt x="838" y="277"/>
                      <a:pt x="838" y="277"/>
                      <a:pt x="838" y="277"/>
                    </a:cubicBezTo>
                    <a:cubicBezTo>
                      <a:pt x="846" y="281"/>
                      <a:pt x="846" y="281"/>
                      <a:pt x="846" y="281"/>
                    </a:cubicBezTo>
                    <a:cubicBezTo>
                      <a:pt x="855" y="285"/>
                      <a:pt x="855" y="285"/>
                      <a:pt x="855" y="285"/>
                    </a:cubicBezTo>
                    <a:cubicBezTo>
                      <a:pt x="863" y="289"/>
                      <a:pt x="863" y="289"/>
                      <a:pt x="863" y="289"/>
                    </a:cubicBezTo>
                    <a:cubicBezTo>
                      <a:pt x="872" y="293"/>
                      <a:pt x="872" y="293"/>
                      <a:pt x="872" y="293"/>
                    </a:cubicBezTo>
                    <a:cubicBezTo>
                      <a:pt x="880" y="297"/>
                      <a:pt x="880" y="297"/>
                      <a:pt x="880" y="297"/>
                    </a:cubicBezTo>
                    <a:cubicBezTo>
                      <a:pt x="889" y="300"/>
                      <a:pt x="889" y="300"/>
                      <a:pt x="889" y="300"/>
                    </a:cubicBezTo>
                    <a:cubicBezTo>
                      <a:pt x="897" y="304"/>
                      <a:pt x="897" y="304"/>
                      <a:pt x="897" y="304"/>
                    </a:cubicBezTo>
                    <a:cubicBezTo>
                      <a:pt x="906" y="307"/>
                      <a:pt x="906" y="307"/>
                      <a:pt x="906" y="307"/>
                    </a:cubicBezTo>
                    <a:cubicBezTo>
                      <a:pt x="914" y="311"/>
                      <a:pt x="914" y="311"/>
                      <a:pt x="914" y="311"/>
                    </a:cubicBezTo>
                    <a:cubicBezTo>
                      <a:pt x="923" y="314"/>
                      <a:pt x="923" y="314"/>
                      <a:pt x="923" y="314"/>
                    </a:cubicBezTo>
                    <a:cubicBezTo>
                      <a:pt x="931" y="317"/>
                      <a:pt x="931" y="317"/>
                      <a:pt x="931" y="317"/>
                    </a:cubicBezTo>
                    <a:cubicBezTo>
                      <a:pt x="940" y="320"/>
                      <a:pt x="940" y="320"/>
                      <a:pt x="940" y="320"/>
                    </a:cubicBezTo>
                    <a:cubicBezTo>
                      <a:pt x="948" y="323"/>
                      <a:pt x="948" y="323"/>
                      <a:pt x="948" y="323"/>
                    </a:cubicBezTo>
                    <a:cubicBezTo>
                      <a:pt x="957" y="326"/>
                      <a:pt x="957" y="326"/>
                      <a:pt x="957" y="326"/>
                    </a:cubicBezTo>
                    <a:cubicBezTo>
                      <a:pt x="965" y="328"/>
                      <a:pt x="965" y="328"/>
                      <a:pt x="965" y="328"/>
                    </a:cubicBezTo>
                    <a:cubicBezTo>
                      <a:pt x="974" y="331"/>
                      <a:pt x="974" y="331"/>
                      <a:pt x="974" y="331"/>
                    </a:cubicBezTo>
                    <a:cubicBezTo>
                      <a:pt x="982" y="333"/>
                      <a:pt x="982" y="333"/>
                      <a:pt x="982" y="333"/>
                    </a:cubicBezTo>
                    <a:cubicBezTo>
                      <a:pt x="991" y="336"/>
                      <a:pt x="991" y="336"/>
                      <a:pt x="991" y="336"/>
                    </a:cubicBezTo>
                    <a:cubicBezTo>
                      <a:pt x="999" y="338"/>
                      <a:pt x="999" y="338"/>
                      <a:pt x="999" y="338"/>
                    </a:cubicBezTo>
                    <a:cubicBezTo>
                      <a:pt x="1008" y="340"/>
                      <a:pt x="1008" y="340"/>
                      <a:pt x="1008" y="340"/>
                    </a:cubicBezTo>
                    <a:cubicBezTo>
                      <a:pt x="1016" y="342"/>
                      <a:pt x="1016" y="342"/>
                      <a:pt x="1016" y="342"/>
                    </a:cubicBezTo>
                    <a:cubicBezTo>
                      <a:pt x="1025" y="344"/>
                      <a:pt x="1025" y="344"/>
                      <a:pt x="1025" y="344"/>
                    </a:cubicBezTo>
                    <a:cubicBezTo>
                      <a:pt x="1033" y="346"/>
                      <a:pt x="1033" y="346"/>
                      <a:pt x="1033" y="346"/>
                    </a:cubicBezTo>
                    <a:cubicBezTo>
                      <a:pt x="1042" y="347"/>
                      <a:pt x="1042" y="347"/>
                      <a:pt x="1042" y="347"/>
                    </a:cubicBezTo>
                    <a:cubicBezTo>
                      <a:pt x="1050" y="349"/>
                      <a:pt x="1050" y="349"/>
                      <a:pt x="1050" y="349"/>
                    </a:cubicBezTo>
                    <a:cubicBezTo>
                      <a:pt x="1059" y="350"/>
                      <a:pt x="1059" y="350"/>
                      <a:pt x="1059" y="350"/>
                    </a:cubicBezTo>
                    <a:cubicBezTo>
                      <a:pt x="1067" y="351"/>
                      <a:pt x="1067" y="351"/>
                      <a:pt x="1067" y="351"/>
                    </a:cubicBezTo>
                    <a:cubicBezTo>
                      <a:pt x="1076" y="352"/>
                      <a:pt x="1076" y="352"/>
                      <a:pt x="1076" y="352"/>
                    </a:cubicBezTo>
                    <a:cubicBezTo>
                      <a:pt x="1084" y="353"/>
                      <a:pt x="1084" y="353"/>
                      <a:pt x="1084" y="353"/>
                    </a:cubicBezTo>
                    <a:cubicBezTo>
                      <a:pt x="1093" y="354"/>
                      <a:pt x="1093" y="354"/>
                      <a:pt x="1093" y="354"/>
                    </a:cubicBezTo>
                    <a:cubicBezTo>
                      <a:pt x="1101" y="355"/>
                      <a:pt x="1101" y="355"/>
                      <a:pt x="1101" y="355"/>
                    </a:cubicBezTo>
                    <a:cubicBezTo>
                      <a:pt x="1110" y="356"/>
                      <a:pt x="1110" y="356"/>
                      <a:pt x="1110" y="356"/>
                    </a:cubicBezTo>
                    <a:cubicBezTo>
                      <a:pt x="1118" y="356"/>
                      <a:pt x="1118" y="356"/>
                      <a:pt x="1118" y="356"/>
                    </a:cubicBezTo>
                    <a:cubicBezTo>
                      <a:pt x="1127" y="357"/>
                      <a:pt x="1127" y="357"/>
                      <a:pt x="1127" y="357"/>
                    </a:cubicBezTo>
                    <a:cubicBezTo>
                      <a:pt x="1135" y="357"/>
                      <a:pt x="1135" y="357"/>
                      <a:pt x="1135" y="357"/>
                    </a:cubicBezTo>
                    <a:cubicBezTo>
                      <a:pt x="1144" y="357"/>
                      <a:pt x="1144" y="357"/>
                      <a:pt x="1144" y="357"/>
                    </a:cubicBezTo>
                    <a:cubicBezTo>
                      <a:pt x="1152" y="357"/>
                      <a:pt x="1152" y="357"/>
                      <a:pt x="1152" y="357"/>
                    </a:cubicBezTo>
                    <a:cubicBezTo>
                      <a:pt x="1161" y="357"/>
                      <a:pt x="1161" y="357"/>
                      <a:pt x="1161" y="357"/>
                    </a:cubicBezTo>
                    <a:cubicBezTo>
                      <a:pt x="1169" y="357"/>
                      <a:pt x="1169" y="357"/>
                      <a:pt x="1169" y="357"/>
                    </a:cubicBezTo>
                    <a:cubicBezTo>
                      <a:pt x="1178" y="357"/>
                      <a:pt x="1178" y="357"/>
                      <a:pt x="1178" y="357"/>
                    </a:cubicBezTo>
                    <a:cubicBezTo>
                      <a:pt x="1186" y="356"/>
                      <a:pt x="1186" y="356"/>
                      <a:pt x="1186" y="356"/>
                    </a:cubicBezTo>
                    <a:cubicBezTo>
                      <a:pt x="1195" y="356"/>
                      <a:pt x="1195" y="356"/>
                      <a:pt x="1195" y="356"/>
                    </a:cubicBezTo>
                    <a:cubicBezTo>
                      <a:pt x="1203" y="355"/>
                      <a:pt x="1203" y="355"/>
                      <a:pt x="1203" y="355"/>
                    </a:cubicBezTo>
                    <a:cubicBezTo>
                      <a:pt x="1212" y="355"/>
                      <a:pt x="1212" y="355"/>
                      <a:pt x="1212" y="355"/>
                    </a:cubicBezTo>
                    <a:cubicBezTo>
                      <a:pt x="1220" y="354"/>
                      <a:pt x="1220" y="354"/>
                      <a:pt x="1220" y="354"/>
                    </a:cubicBezTo>
                    <a:cubicBezTo>
                      <a:pt x="1229" y="353"/>
                      <a:pt x="1229" y="353"/>
                      <a:pt x="1229" y="353"/>
                    </a:cubicBezTo>
                    <a:cubicBezTo>
                      <a:pt x="1237" y="352"/>
                      <a:pt x="1237" y="352"/>
                      <a:pt x="1237" y="352"/>
                    </a:cubicBezTo>
                    <a:cubicBezTo>
                      <a:pt x="1246" y="351"/>
                      <a:pt x="1246" y="351"/>
                      <a:pt x="1246" y="351"/>
                    </a:cubicBezTo>
                    <a:cubicBezTo>
                      <a:pt x="1254" y="350"/>
                      <a:pt x="1254" y="350"/>
                      <a:pt x="1254" y="350"/>
                    </a:cubicBezTo>
                    <a:cubicBezTo>
                      <a:pt x="1263" y="348"/>
                      <a:pt x="1263" y="348"/>
                      <a:pt x="1263" y="348"/>
                    </a:cubicBezTo>
                    <a:cubicBezTo>
                      <a:pt x="1271" y="347"/>
                      <a:pt x="1271" y="347"/>
                      <a:pt x="1271" y="347"/>
                    </a:cubicBezTo>
                    <a:cubicBezTo>
                      <a:pt x="1280" y="346"/>
                      <a:pt x="1280" y="346"/>
                      <a:pt x="1280" y="346"/>
                    </a:cubicBezTo>
                    <a:cubicBezTo>
                      <a:pt x="1289" y="344"/>
                      <a:pt x="1289" y="344"/>
                      <a:pt x="1289" y="344"/>
                    </a:cubicBezTo>
                    <a:cubicBezTo>
                      <a:pt x="1297" y="343"/>
                      <a:pt x="1297" y="343"/>
                      <a:pt x="1297" y="343"/>
                    </a:cubicBezTo>
                    <a:cubicBezTo>
                      <a:pt x="1306" y="341"/>
                      <a:pt x="1306" y="341"/>
                      <a:pt x="1306" y="341"/>
                    </a:cubicBezTo>
                    <a:cubicBezTo>
                      <a:pt x="1314" y="339"/>
                      <a:pt x="1314" y="339"/>
                      <a:pt x="1314" y="339"/>
                    </a:cubicBezTo>
                    <a:cubicBezTo>
                      <a:pt x="1323" y="337"/>
                      <a:pt x="1323" y="337"/>
                      <a:pt x="1323" y="337"/>
                    </a:cubicBezTo>
                    <a:cubicBezTo>
                      <a:pt x="1331" y="336"/>
                      <a:pt x="1331" y="336"/>
                      <a:pt x="1331" y="336"/>
                    </a:cubicBezTo>
                    <a:cubicBezTo>
                      <a:pt x="1340" y="334"/>
                      <a:pt x="1340" y="334"/>
                      <a:pt x="1340" y="334"/>
                    </a:cubicBezTo>
                    <a:cubicBezTo>
                      <a:pt x="1348" y="332"/>
                      <a:pt x="1348" y="332"/>
                      <a:pt x="1348" y="332"/>
                    </a:cubicBezTo>
                    <a:cubicBezTo>
                      <a:pt x="1357" y="330"/>
                      <a:pt x="1357" y="330"/>
                      <a:pt x="1357" y="330"/>
                    </a:cubicBezTo>
                    <a:cubicBezTo>
                      <a:pt x="1365" y="327"/>
                      <a:pt x="1365" y="327"/>
                      <a:pt x="1365" y="327"/>
                    </a:cubicBezTo>
                    <a:cubicBezTo>
                      <a:pt x="1374" y="325"/>
                      <a:pt x="1374" y="325"/>
                      <a:pt x="1374" y="325"/>
                    </a:cubicBezTo>
                    <a:cubicBezTo>
                      <a:pt x="1382" y="323"/>
                      <a:pt x="1382" y="323"/>
                      <a:pt x="1382" y="323"/>
                    </a:cubicBezTo>
                    <a:cubicBezTo>
                      <a:pt x="1391" y="321"/>
                      <a:pt x="1391" y="321"/>
                      <a:pt x="1391" y="321"/>
                    </a:cubicBezTo>
                    <a:cubicBezTo>
                      <a:pt x="1399" y="318"/>
                      <a:pt x="1399" y="318"/>
                      <a:pt x="1399" y="318"/>
                    </a:cubicBezTo>
                    <a:cubicBezTo>
                      <a:pt x="1408" y="316"/>
                      <a:pt x="1408" y="316"/>
                      <a:pt x="1408" y="316"/>
                    </a:cubicBezTo>
                    <a:cubicBezTo>
                      <a:pt x="1416" y="313"/>
                      <a:pt x="1416" y="313"/>
                      <a:pt x="1416" y="313"/>
                    </a:cubicBezTo>
                    <a:cubicBezTo>
                      <a:pt x="1425" y="311"/>
                      <a:pt x="1425" y="311"/>
                      <a:pt x="1425" y="311"/>
                    </a:cubicBezTo>
                    <a:cubicBezTo>
                      <a:pt x="1433" y="308"/>
                      <a:pt x="1433" y="308"/>
                      <a:pt x="1433" y="308"/>
                    </a:cubicBezTo>
                    <a:cubicBezTo>
                      <a:pt x="1442" y="306"/>
                      <a:pt x="1442" y="306"/>
                      <a:pt x="1442" y="306"/>
                    </a:cubicBezTo>
                    <a:cubicBezTo>
                      <a:pt x="1450" y="303"/>
                      <a:pt x="1450" y="303"/>
                      <a:pt x="1450" y="303"/>
                    </a:cubicBezTo>
                    <a:cubicBezTo>
                      <a:pt x="1459" y="301"/>
                      <a:pt x="1459" y="301"/>
                      <a:pt x="1459" y="301"/>
                    </a:cubicBezTo>
                    <a:cubicBezTo>
                      <a:pt x="1467" y="298"/>
                      <a:pt x="1467" y="298"/>
                      <a:pt x="1467" y="298"/>
                    </a:cubicBezTo>
                    <a:cubicBezTo>
                      <a:pt x="1476" y="295"/>
                      <a:pt x="1476" y="295"/>
                      <a:pt x="1476" y="295"/>
                    </a:cubicBezTo>
                    <a:cubicBezTo>
                      <a:pt x="1484" y="293"/>
                      <a:pt x="1484" y="293"/>
                      <a:pt x="1484" y="293"/>
                    </a:cubicBezTo>
                    <a:cubicBezTo>
                      <a:pt x="1493" y="290"/>
                      <a:pt x="1493" y="290"/>
                      <a:pt x="1493" y="290"/>
                    </a:cubicBezTo>
                    <a:cubicBezTo>
                      <a:pt x="1501" y="287"/>
                      <a:pt x="1501" y="287"/>
                      <a:pt x="1501" y="287"/>
                    </a:cubicBezTo>
                    <a:cubicBezTo>
                      <a:pt x="1510" y="284"/>
                      <a:pt x="1510" y="284"/>
                      <a:pt x="1510" y="284"/>
                    </a:cubicBezTo>
                    <a:cubicBezTo>
                      <a:pt x="1518" y="282"/>
                      <a:pt x="1518" y="282"/>
                      <a:pt x="1518" y="282"/>
                    </a:cubicBezTo>
                    <a:cubicBezTo>
                      <a:pt x="1527" y="279"/>
                      <a:pt x="1527" y="279"/>
                      <a:pt x="1527" y="279"/>
                    </a:cubicBezTo>
                    <a:cubicBezTo>
                      <a:pt x="1535" y="276"/>
                      <a:pt x="1535" y="276"/>
                      <a:pt x="1535" y="276"/>
                    </a:cubicBezTo>
                    <a:cubicBezTo>
                      <a:pt x="1544" y="273"/>
                      <a:pt x="1544" y="273"/>
                      <a:pt x="1544" y="273"/>
                    </a:cubicBezTo>
                    <a:cubicBezTo>
                      <a:pt x="1552" y="270"/>
                      <a:pt x="1552" y="270"/>
                      <a:pt x="1552" y="270"/>
                    </a:cubicBezTo>
                    <a:cubicBezTo>
                      <a:pt x="1561" y="268"/>
                      <a:pt x="1561" y="268"/>
                      <a:pt x="1561" y="268"/>
                    </a:cubicBezTo>
                    <a:cubicBezTo>
                      <a:pt x="1569" y="265"/>
                      <a:pt x="1569" y="265"/>
                      <a:pt x="1569" y="265"/>
                    </a:cubicBezTo>
                    <a:cubicBezTo>
                      <a:pt x="1578" y="262"/>
                      <a:pt x="1578" y="262"/>
                      <a:pt x="1578" y="262"/>
                    </a:cubicBezTo>
                    <a:cubicBezTo>
                      <a:pt x="1586" y="259"/>
                      <a:pt x="1586" y="259"/>
                      <a:pt x="1586" y="259"/>
                    </a:cubicBezTo>
                    <a:cubicBezTo>
                      <a:pt x="1595" y="257"/>
                      <a:pt x="1595" y="257"/>
                      <a:pt x="1595" y="257"/>
                    </a:cubicBezTo>
                    <a:cubicBezTo>
                      <a:pt x="1603" y="254"/>
                      <a:pt x="1603" y="254"/>
                      <a:pt x="1603" y="254"/>
                    </a:cubicBezTo>
                    <a:cubicBezTo>
                      <a:pt x="1612" y="251"/>
                      <a:pt x="1612" y="251"/>
                      <a:pt x="1612" y="251"/>
                    </a:cubicBezTo>
                    <a:cubicBezTo>
                      <a:pt x="1620" y="248"/>
                      <a:pt x="1620" y="248"/>
                      <a:pt x="1620" y="248"/>
                    </a:cubicBezTo>
                    <a:cubicBezTo>
                      <a:pt x="1629" y="246"/>
                      <a:pt x="1629" y="246"/>
                      <a:pt x="1629" y="246"/>
                    </a:cubicBezTo>
                    <a:cubicBezTo>
                      <a:pt x="1637" y="243"/>
                      <a:pt x="1637" y="243"/>
                      <a:pt x="1637" y="243"/>
                    </a:cubicBezTo>
                    <a:cubicBezTo>
                      <a:pt x="1646" y="240"/>
                      <a:pt x="1646" y="240"/>
                      <a:pt x="1646" y="240"/>
                    </a:cubicBezTo>
                    <a:cubicBezTo>
                      <a:pt x="1654" y="238"/>
                      <a:pt x="1654" y="238"/>
                      <a:pt x="1654" y="238"/>
                    </a:cubicBezTo>
                    <a:cubicBezTo>
                      <a:pt x="1663" y="235"/>
                      <a:pt x="1663" y="235"/>
                      <a:pt x="1663" y="235"/>
                    </a:cubicBezTo>
                    <a:cubicBezTo>
                      <a:pt x="1671" y="233"/>
                      <a:pt x="1671" y="233"/>
                      <a:pt x="1671" y="233"/>
                    </a:cubicBezTo>
                    <a:cubicBezTo>
                      <a:pt x="1680" y="230"/>
                      <a:pt x="1680" y="230"/>
                      <a:pt x="1680" y="230"/>
                    </a:cubicBezTo>
                    <a:cubicBezTo>
                      <a:pt x="1688" y="227"/>
                      <a:pt x="1688" y="227"/>
                      <a:pt x="1688" y="227"/>
                    </a:cubicBezTo>
                    <a:cubicBezTo>
                      <a:pt x="1697" y="225"/>
                      <a:pt x="1697" y="225"/>
                      <a:pt x="1697" y="225"/>
                    </a:cubicBezTo>
                    <a:cubicBezTo>
                      <a:pt x="1705" y="223"/>
                      <a:pt x="1705" y="223"/>
                      <a:pt x="1705" y="223"/>
                    </a:cubicBezTo>
                    <a:cubicBezTo>
                      <a:pt x="1714" y="220"/>
                      <a:pt x="1714" y="220"/>
                      <a:pt x="1714" y="220"/>
                    </a:cubicBezTo>
                    <a:cubicBezTo>
                      <a:pt x="1722" y="218"/>
                      <a:pt x="1722" y="218"/>
                      <a:pt x="1722" y="218"/>
                    </a:cubicBezTo>
                    <a:cubicBezTo>
                      <a:pt x="1731" y="216"/>
                      <a:pt x="1731" y="216"/>
                      <a:pt x="1731" y="216"/>
                    </a:cubicBezTo>
                    <a:cubicBezTo>
                      <a:pt x="1739" y="213"/>
                      <a:pt x="1739" y="213"/>
                      <a:pt x="1739" y="213"/>
                    </a:cubicBezTo>
                    <a:cubicBezTo>
                      <a:pt x="1748" y="211"/>
                      <a:pt x="1748" y="211"/>
                      <a:pt x="1748" y="211"/>
                    </a:cubicBezTo>
                    <a:cubicBezTo>
                      <a:pt x="1756" y="209"/>
                      <a:pt x="1756" y="209"/>
                      <a:pt x="1756" y="209"/>
                    </a:cubicBezTo>
                    <a:cubicBezTo>
                      <a:pt x="1765" y="207"/>
                      <a:pt x="1765" y="207"/>
                      <a:pt x="1765" y="207"/>
                    </a:cubicBezTo>
                    <a:cubicBezTo>
                      <a:pt x="1773" y="205"/>
                      <a:pt x="1773" y="205"/>
                      <a:pt x="1773" y="205"/>
                    </a:cubicBezTo>
                    <a:cubicBezTo>
                      <a:pt x="1782" y="203"/>
                      <a:pt x="1782" y="203"/>
                      <a:pt x="1782" y="203"/>
                    </a:cubicBezTo>
                    <a:cubicBezTo>
                      <a:pt x="1790" y="201"/>
                      <a:pt x="1790" y="201"/>
                      <a:pt x="1790" y="201"/>
                    </a:cubicBezTo>
                    <a:cubicBezTo>
                      <a:pt x="1799" y="199"/>
                      <a:pt x="1799" y="199"/>
                      <a:pt x="1799" y="199"/>
                    </a:cubicBezTo>
                    <a:cubicBezTo>
                      <a:pt x="1807" y="197"/>
                      <a:pt x="1807" y="197"/>
                      <a:pt x="1807" y="197"/>
                    </a:cubicBezTo>
                    <a:cubicBezTo>
                      <a:pt x="1816" y="195"/>
                      <a:pt x="1816" y="195"/>
                      <a:pt x="1816" y="195"/>
                    </a:cubicBezTo>
                    <a:cubicBezTo>
                      <a:pt x="1824" y="193"/>
                      <a:pt x="1824" y="193"/>
                      <a:pt x="1824" y="193"/>
                    </a:cubicBezTo>
                    <a:cubicBezTo>
                      <a:pt x="1833" y="192"/>
                      <a:pt x="1833" y="192"/>
                      <a:pt x="1833" y="192"/>
                    </a:cubicBezTo>
                    <a:cubicBezTo>
                      <a:pt x="1841" y="190"/>
                      <a:pt x="1841" y="190"/>
                      <a:pt x="1841" y="190"/>
                    </a:cubicBezTo>
                    <a:cubicBezTo>
                      <a:pt x="1850" y="188"/>
                      <a:pt x="1850" y="188"/>
                      <a:pt x="1850" y="188"/>
                    </a:cubicBezTo>
                    <a:cubicBezTo>
                      <a:pt x="1858" y="187"/>
                      <a:pt x="1858" y="187"/>
                      <a:pt x="1858" y="187"/>
                    </a:cubicBezTo>
                    <a:cubicBezTo>
                      <a:pt x="1867" y="185"/>
                      <a:pt x="1867" y="185"/>
                      <a:pt x="1867" y="185"/>
                    </a:cubicBezTo>
                    <a:cubicBezTo>
                      <a:pt x="1875" y="184"/>
                      <a:pt x="1875" y="184"/>
                      <a:pt x="1875" y="184"/>
                    </a:cubicBezTo>
                    <a:cubicBezTo>
                      <a:pt x="1884" y="183"/>
                      <a:pt x="1884" y="183"/>
                      <a:pt x="1884" y="183"/>
                    </a:cubicBezTo>
                    <a:cubicBezTo>
                      <a:pt x="1892" y="181"/>
                      <a:pt x="1892" y="181"/>
                      <a:pt x="1892" y="181"/>
                    </a:cubicBezTo>
                    <a:cubicBezTo>
                      <a:pt x="1901" y="180"/>
                      <a:pt x="1901" y="180"/>
                      <a:pt x="1901" y="180"/>
                    </a:cubicBezTo>
                    <a:cubicBezTo>
                      <a:pt x="1909" y="179"/>
                      <a:pt x="1909" y="179"/>
                      <a:pt x="1909" y="179"/>
                    </a:cubicBezTo>
                    <a:cubicBezTo>
                      <a:pt x="1918" y="178"/>
                      <a:pt x="1918" y="178"/>
                      <a:pt x="1918" y="178"/>
                    </a:cubicBezTo>
                    <a:cubicBezTo>
                      <a:pt x="1926" y="177"/>
                      <a:pt x="1926" y="177"/>
                      <a:pt x="1926" y="177"/>
                    </a:cubicBezTo>
                    <a:cubicBezTo>
                      <a:pt x="1935" y="176"/>
                      <a:pt x="1935" y="176"/>
                      <a:pt x="1935" y="176"/>
                    </a:cubicBezTo>
                    <a:cubicBezTo>
                      <a:pt x="1943" y="175"/>
                      <a:pt x="1943" y="175"/>
                      <a:pt x="1943" y="175"/>
                    </a:cubicBezTo>
                    <a:cubicBezTo>
                      <a:pt x="1952" y="174"/>
                      <a:pt x="1952" y="174"/>
                      <a:pt x="1952" y="174"/>
                    </a:cubicBezTo>
                    <a:cubicBezTo>
                      <a:pt x="1960" y="174"/>
                      <a:pt x="1960" y="174"/>
                      <a:pt x="1960" y="174"/>
                    </a:cubicBezTo>
                    <a:cubicBezTo>
                      <a:pt x="1969" y="173"/>
                      <a:pt x="1969" y="173"/>
                      <a:pt x="1969" y="173"/>
                    </a:cubicBezTo>
                    <a:cubicBezTo>
                      <a:pt x="1977" y="172"/>
                      <a:pt x="1977" y="172"/>
                      <a:pt x="1977" y="172"/>
                    </a:cubicBezTo>
                    <a:cubicBezTo>
                      <a:pt x="1986" y="172"/>
                      <a:pt x="1986" y="172"/>
                      <a:pt x="1986" y="172"/>
                    </a:cubicBezTo>
                    <a:cubicBezTo>
                      <a:pt x="1994" y="171"/>
                      <a:pt x="1994" y="171"/>
                      <a:pt x="1994" y="171"/>
                    </a:cubicBezTo>
                    <a:cubicBezTo>
                      <a:pt x="2003" y="171"/>
                      <a:pt x="2003" y="171"/>
                      <a:pt x="2003" y="171"/>
                    </a:cubicBezTo>
                    <a:cubicBezTo>
                      <a:pt x="2011" y="170"/>
                      <a:pt x="2011" y="170"/>
                      <a:pt x="2011" y="170"/>
                    </a:cubicBezTo>
                    <a:cubicBezTo>
                      <a:pt x="2020" y="170"/>
                      <a:pt x="2020" y="170"/>
                      <a:pt x="2020" y="170"/>
                    </a:cubicBezTo>
                    <a:cubicBezTo>
                      <a:pt x="2028" y="170"/>
                      <a:pt x="2028" y="170"/>
                      <a:pt x="2028" y="170"/>
                    </a:cubicBezTo>
                    <a:cubicBezTo>
                      <a:pt x="2037" y="169"/>
                      <a:pt x="2037" y="169"/>
                      <a:pt x="2037" y="169"/>
                    </a:cubicBezTo>
                    <a:cubicBezTo>
                      <a:pt x="2045" y="169"/>
                      <a:pt x="2045" y="169"/>
                      <a:pt x="2045" y="169"/>
                    </a:cubicBezTo>
                    <a:cubicBezTo>
                      <a:pt x="2054" y="169"/>
                      <a:pt x="2054" y="169"/>
                      <a:pt x="2054" y="169"/>
                    </a:cubicBezTo>
                    <a:cubicBezTo>
                      <a:pt x="2062" y="169"/>
                      <a:pt x="2062" y="169"/>
                      <a:pt x="2062" y="169"/>
                    </a:cubicBezTo>
                    <a:cubicBezTo>
                      <a:pt x="2071" y="169"/>
                      <a:pt x="2071" y="169"/>
                      <a:pt x="2071" y="169"/>
                    </a:cubicBezTo>
                    <a:cubicBezTo>
                      <a:pt x="2079" y="169"/>
                      <a:pt x="2079" y="169"/>
                      <a:pt x="2079" y="169"/>
                    </a:cubicBezTo>
                    <a:cubicBezTo>
                      <a:pt x="2088" y="169"/>
                      <a:pt x="2088" y="169"/>
                      <a:pt x="2088" y="169"/>
                    </a:cubicBezTo>
                    <a:cubicBezTo>
                      <a:pt x="2096" y="170"/>
                      <a:pt x="2096" y="170"/>
                      <a:pt x="2096" y="170"/>
                    </a:cubicBezTo>
                    <a:cubicBezTo>
                      <a:pt x="2105" y="170"/>
                      <a:pt x="2105" y="170"/>
                      <a:pt x="2105" y="170"/>
                    </a:cubicBezTo>
                    <a:cubicBezTo>
                      <a:pt x="2113" y="170"/>
                      <a:pt x="2113" y="170"/>
                      <a:pt x="2113" y="170"/>
                    </a:cubicBezTo>
                    <a:cubicBezTo>
                      <a:pt x="2122" y="171"/>
                      <a:pt x="2122" y="171"/>
                      <a:pt x="2122" y="171"/>
                    </a:cubicBezTo>
                    <a:cubicBezTo>
                      <a:pt x="2131" y="171"/>
                      <a:pt x="2131" y="171"/>
                      <a:pt x="2131" y="171"/>
                    </a:cubicBezTo>
                    <a:cubicBezTo>
                      <a:pt x="2139" y="171"/>
                      <a:pt x="2139" y="171"/>
                      <a:pt x="2139" y="171"/>
                    </a:cubicBezTo>
                    <a:cubicBezTo>
                      <a:pt x="2148" y="172"/>
                      <a:pt x="2148" y="172"/>
                      <a:pt x="2148" y="172"/>
                    </a:cubicBezTo>
                    <a:cubicBezTo>
                      <a:pt x="2156" y="173"/>
                      <a:pt x="2156" y="173"/>
                      <a:pt x="2156" y="173"/>
                    </a:cubicBezTo>
                    <a:cubicBezTo>
                      <a:pt x="2165" y="173"/>
                      <a:pt x="2165" y="173"/>
                      <a:pt x="2165" y="173"/>
                    </a:cubicBezTo>
                    <a:cubicBezTo>
                      <a:pt x="2173" y="174"/>
                      <a:pt x="2173" y="174"/>
                      <a:pt x="2173" y="174"/>
                    </a:cubicBezTo>
                    <a:cubicBezTo>
                      <a:pt x="2182" y="174"/>
                      <a:pt x="2182" y="174"/>
                      <a:pt x="2182" y="174"/>
                    </a:cubicBezTo>
                    <a:cubicBezTo>
                      <a:pt x="2190" y="175"/>
                      <a:pt x="2190" y="175"/>
                      <a:pt x="2190" y="175"/>
                    </a:cubicBezTo>
                    <a:cubicBezTo>
                      <a:pt x="2199" y="176"/>
                      <a:pt x="2199" y="176"/>
                      <a:pt x="2199" y="176"/>
                    </a:cubicBezTo>
                    <a:cubicBezTo>
                      <a:pt x="2207" y="177"/>
                      <a:pt x="2207" y="177"/>
                      <a:pt x="2207" y="177"/>
                    </a:cubicBezTo>
                    <a:cubicBezTo>
                      <a:pt x="2216" y="178"/>
                      <a:pt x="2216" y="178"/>
                      <a:pt x="2216" y="178"/>
                    </a:cubicBezTo>
                    <a:cubicBezTo>
                      <a:pt x="2224" y="179"/>
                      <a:pt x="2224" y="179"/>
                      <a:pt x="2224" y="179"/>
                    </a:cubicBezTo>
                    <a:cubicBezTo>
                      <a:pt x="2233" y="180"/>
                      <a:pt x="2233" y="180"/>
                      <a:pt x="2233" y="180"/>
                    </a:cubicBezTo>
                    <a:cubicBezTo>
                      <a:pt x="2241" y="181"/>
                      <a:pt x="2241" y="181"/>
                      <a:pt x="2241" y="181"/>
                    </a:cubicBezTo>
                    <a:cubicBezTo>
                      <a:pt x="2250" y="182"/>
                      <a:pt x="2250" y="182"/>
                      <a:pt x="2250" y="182"/>
                    </a:cubicBezTo>
                    <a:cubicBezTo>
                      <a:pt x="2258" y="183"/>
                      <a:pt x="2258" y="183"/>
                      <a:pt x="2258" y="183"/>
                    </a:cubicBezTo>
                    <a:cubicBezTo>
                      <a:pt x="2267" y="184"/>
                      <a:pt x="2267" y="184"/>
                      <a:pt x="2267" y="184"/>
                    </a:cubicBezTo>
                    <a:cubicBezTo>
                      <a:pt x="2275" y="185"/>
                      <a:pt x="2275" y="185"/>
                      <a:pt x="2275" y="185"/>
                    </a:cubicBezTo>
                    <a:cubicBezTo>
                      <a:pt x="2284" y="186"/>
                      <a:pt x="2284" y="186"/>
                      <a:pt x="2284" y="186"/>
                    </a:cubicBezTo>
                    <a:cubicBezTo>
                      <a:pt x="2292" y="187"/>
                      <a:pt x="2292" y="187"/>
                      <a:pt x="2292" y="187"/>
                    </a:cubicBezTo>
                    <a:cubicBezTo>
                      <a:pt x="2301" y="189"/>
                      <a:pt x="2301" y="189"/>
                      <a:pt x="2301" y="189"/>
                    </a:cubicBezTo>
                    <a:cubicBezTo>
                      <a:pt x="2309" y="190"/>
                      <a:pt x="2309" y="190"/>
                      <a:pt x="2309" y="190"/>
                    </a:cubicBezTo>
                    <a:cubicBezTo>
                      <a:pt x="2318" y="191"/>
                      <a:pt x="2318" y="191"/>
                      <a:pt x="2318" y="191"/>
                    </a:cubicBezTo>
                    <a:cubicBezTo>
                      <a:pt x="2326" y="192"/>
                      <a:pt x="2326" y="192"/>
                      <a:pt x="2326" y="192"/>
                    </a:cubicBezTo>
                    <a:cubicBezTo>
                      <a:pt x="2335" y="194"/>
                      <a:pt x="2335" y="194"/>
                      <a:pt x="2335" y="194"/>
                    </a:cubicBezTo>
                    <a:cubicBezTo>
                      <a:pt x="2343" y="195"/>
                      <a:pt x="2343" y="195"/>
                      <a:pt x="2343" y="195"/>
                    </a:cubicBezTo>
                    <a:cubicBezTo>
                      <a:pt x="2352" y="196"/>
                      <a:pt x="2352" y="196"/>
                      <a:pt x="2352" y="196"/>
                    </a:cubicBezTo>
                    <a:cubicBezTo>
                      <a:pt x="2360" y="198"/>
                      <a:pt x="2360" y="198"/>
                      <a:pt x="2360" y="198"/>
                    </a:cubicBezTo>
                    <a:cubicBezTo>
                      <a:pt x="2369" y="199"/>
                      <a:pt x="2369" y="199"/>
                      <a:pt x="2369" y="199"/>
                    </a:cubicBezTo>
                    <a:cubicBezTo>
                      <a:pt x="2377" y="200"/>
                      <a:pt x="2377" y="200"/>
                      <a:pt x="2377" y="200"/>
                    </a:cubicBezTo>
                    <a:cubicBezTo>
                      <a:pt x="2386" y="202"/>
                      <a:pt x="2386" y="202"/>
                      <a:pt x="2386" y="202"/>
                    </a:cubicBezTo>
                    <a:cubicBezTo>
                      <a:pt x="2394" y="203"/>
                      <a:pt x="2394" y="203"/>
                      <a:pt x="2394" y="203"/>
                    </a:cubicBezTo>
                    <a:cubicBezTo>
                      <a:pt x="2403" y="205"/>
                      <a:pt x="2403" y="205"/>
                      <a:pt x="2403" y="205"/>
                    </a:cubicBezTo>
                    <a:cubicBezTo>
                      <a:pt x="2411" y="206"/>
                      <a:pt x="2411" y="206"/>
                      <a:pt x="2411" y="206"/>
                    </a:cubicBezTo>
                    <a:cubicBezTo>
                      <a:pt x="2420" y="208"/>
                      <a:pt x="2420" y="208"/>
                      <a:pt x="2420" y="208"/>
                    </a:cubicBezTo>
                    <a:cubicBezTo>
                      <a:pt x="2428" y="209"/>
                      <a:pt x="2428" y="209"/>
                      <a:pt x="2428" y="209"/>
                    </a:cubicBezTo>
                    <a:cubicBezTo>
                      <a:pt x="2437" y="211"/>
                      <a:pt x="2437" y="211"/>
                      <a:pt x="2437" y="211"/>
                    </a:cubicBezTo>
                    <a:cubicBezTo>
                      <a:pt x="2445" y="212"/>
                      <a:pt x="2445" y="212"/>
                      <a:pt x="2445" y="212"/>
                    </a:cubicBezTo>
                    <a:cubicBezTo>
                      <a:pt x="2454" y="214"/>
                      <a:pt x="2454" y="214"/>
                      <a:pt x="2454" y="214"/>
                    </a:cubicBezTo>
                    <a:cubicBezTo>
                      <a:pt x="2462" y="215"/>
                      <a:pt x="2462" y="215"/>
                      <a:pt x="2462" y="215"/>
                    </a:cubicBezTo>
                    <a:cubicBezTo>
                      <a:pt x="2471" y="216"/>
                      <a:pt x="2471" y="216"/>
                      <a:pt x="2471" y="216"/>
                    </a:cubicBezTo>
                    <a:cubicBezTo>
                      <a:pt x="2479" y="218"/>
                      <a:pt x="2479" y="218"/>
                      <a:pt x="2479" y="218"/>
                    </a:cubicBezTo>
                    <a:cubicBezTo>
                      <a:pt x="2488" y="219"/>
                      <a:pt x="2488" y="219"/>
                      <a:pt x="2488" y="219"/>
                    </a:cubicBezTo>
                    <a:cubicBezTo>
                      <a:pt x="2496" y="221"/>
                      <a:pt x="2496" y="221"/>
                      <a:pt x="2496" y="221"/>
                    </a:cubicBezTo>
                    <a:cubicBezTo>
                      <a:pt x="2505" y="222"/>
                      <a:pt x="2505" y="222"/>
                      <a:pt x="2505" y="222"/>
                    </a:cubicBezTo>
                    <a:cubicBezTo>
                      <a:pt x="2513" y="224"/>
                      <a:pt x="2513" y="224"/>
                      <a:pt x="2513" y="224"/>
                    </a:cubicBezTo>
                    <a:cubicBezTo>
                      <a:pt x="2522" y="225"/>
                      <a:pt x="2522" y="225"/>
                      <a:pt x="2522" y="225"/>
                    </a:cubicBezTo>
                    <a:cubicBezTo>
                      <a:pt x="2530" y="227"/>
                      <a:pt x="2530" y="227"/>
                      <a:pt x="2530" y="227"/>
                    </a:cubicBezTo>
                    <a:cubicBezTo>
                      <a:pt x="2539" y="228"/>
                      <a:pt x="2539" y="228"/>
                      <a:pt x="2539" y="228"/>
                    </a:cubicBezTo>
                    <a:cubicBezTo>
                      <a:pt x="2547" y="229"/>
                      <a:pt x="2547" y="229"/>
                      <a:pt x="2547" y="229"/>
                    </a:cubicBezTo>
                    <a:cubicBezTo>
                      <a:pt x="2556" y="231"/>
                      <a:pt x="2556" y="231"/>
                      <a:pt x="2556" y="231"/>
                    </a:cubicBezTo>
                    <a:cubicBezTo>
                      <a:pt x="2564" y="232"/>
                      <a:pt x="2564" y="232"/>
                      <a:pt x="2564" y="232"/>
                    </a:cubicBezTo>
                    <a:cubicBezTo>
                      <a:pt x="2573" y="234"/>
                      <a:pt x="2573" y="234"/>
                      <a:pt x="2573" y="234"/>
                    </a:cubicBezTo>
                    <a:cubicBezTo>
                      <a:pt x="2581" y="235"/>
                      <a:pt x="2581" y="235"/>
                      <a:pt x="2581" y="235"/>
                    </a:cubicBezTo>
                    <a:cubicBezTo>
                      <a:pt x="2590" y="236"/>
                      <a:pt x="2590" y="236"/>
                      <a:pt x="2590" y="236"/>
                    </a:cubicBezTo>
                    <a:cubicBezTo>
                      <a:pt x="2598" y="238"/>
                      <a:pt x="2598" y="238"/>
                      <a:pt x="2598" y="238"/>
                    </a:cubicBezTo>
                    <a:cubicBezTo>
                      <a:pt x="2607" y="239"/>
                      <a:pt x="2607" y="239"/>
                      <a:pt x="2607" y="239"/>
                    </a:cubicBezTo>
                    <a:cubicBezTo>
                      <a:pt x="2615" y="240"/>
                      <a:pt x="2615" y="240"/>
                      <a:pt x="2615" y="240"/>
                    </a:cubicBezTo>
                    <a:cubicBezTo>
                      <a:pt x="2624" y="241"/>
                      <a:pt x="2624" y="241"/>
                      <a:pt x="2624" y="241"/>
                    </a:cubicBezTo>
                    <a:cubicBezTo>
                      <a:pt x="2632" y="243"/>
                      <a:pt x="2632" y="243"/>
                      <a:pt x="2632" y="243"/>
                    </a:cubicBezTo>
                    <a:cubicBezTo>
                      <a:pt x="2641" y="244"/>
                      <a:pt x="2641" y="244"/>
                      <a:pt x="2641" y="244"/>
                    </a:cubicBezTo>
                    <a:cubicBezTo>
                      <a:pt x="2649" y="245"/>
                      <a:pt x="2649" y="245"/>
                      <a:pt x="2649" y="245"/>
                    </a:cubicBezTo>
                    <a:cubicBezTo>
                      <a:pt x="2658" y="246"/>
                      <a:pt x="2658" y="246"/>
                      <a:pt x="2658" y="246"/>
                    </a:cubicBezTo>
                    <a:cubicBezTo>
                      <a:pt x="2666" y="247"/>
                      <a:pt x="2666" y="247"/>
                      <a:pt x="2666" y="247"/>
                    </a:cubicBezTo>
                    <a:cubicBezTo>
                      <a:pt x="2675" y="248"/>
                      <a:pt x="2675" y="248"/>
                      <a:pt x="2675" y="248"/>
                    </a:cubicBezTo>
                    <a:cubicBezTo>
                      <a:pt x="2683" y="250"/>
                      <a:pt x="2683" y="250"/>
                      <a:pt x="2683" y="250"/>
                    </a:cubicBezTo>
                    <a:cubicBezTo>
                      <a:pt x="2692" y="251"/>
                      <a:pt x="2692" y="251"/>
                      <a:pt x="2692" y="251"/>
                    </a:cubicBezTo>
                    <a:cubicBezTo>
                      <a:pt x="2700" y="252"/>
                      <a:pt x="2700" y="252"/>
                      <a:pt x="2700" y="252"/>
                    </a:cubicBezTo>
                    <a:cubicBezTo>
                      <a:pt x="2709" y="253"/>
                      <a:pt x="2709" y="253"/>
                      <a:pt x="2709" y="253"/>
                    </a:cubicBezTo>
                    <a:cubicBezTo>
                      <a:pt x="2717" y="254"/>
                      <a:pt x="2717" y="254"/>
                      <a:pt x="2717" y="254"/>
                    </a:cubicBezTo>
                    <a:cubicBezTo>
                      <a:pt x="2726" y="255"/>
                      <a:pt x="2726" y="255"/>
                      <a:pt x="2726" y="255"/>
                    </a:cubicBezTo>
                    <a:cubicBezTo>
                      <a:pt x="2734" y="256"/>
                      <a:pt x="2734" y="256"/>
                      <a:pt x="2734" y="256"/>
                    </a:cubicBezTo>
                    <a:cubicBezTo>
                      <a:pt x="2743" y="256"/>
                      <a:pt x="2743" y="256"/>
                      <a:pt x="2743" y="256"/>
                    </a:cubicBezTo>
                    <a:cubicBezTo>
                      <a:pt x="2751" y="257"/>
                      <a:pt x="2751" y="257"/>
                      <a:pt x="2751" y="257"/>
                    </a:cubicBezTo>
                    <a:cubicBezTo>
                      <a:pt x="2760" y="258"/>
                      <a:pt x="2760" y="258"/>
                      <a:pt x="2760" y="258"/>
                    </a:cubicBezTo>
                    <a:cubicBezTo>
                      <a:pt x="2768" y="259"/>
                      <a:pt x="2768" y="259"/>
                      <a:pt x="2768" y="259"/>
                    </a:cubicBezTo>
                    <a:cubicBezTo>
                      <a:pt x="2777" y="260"/>
                      <a:pt x="2777" y="260"/>
                      <a:pt x="2777" y="260"/>
                    </a:cubicBezTo>
                    <a:cubicBezTo>
                      <a:pt x="2785" y="260"/>
                      <a:pt x="2785" y="260"/>
                      <a:pt x="2785" y="260"/>
                    </a:cubicBezTo>
                    <a:cubicBezTo>
                      <a:pt x="2794" y="261"/>
                      <a:pt x="2794" y="261"/>
                      <a:pt x="2794" y="261"/>
                    </a:cubicBezTo>
                    <a:cubicBezTo>
                      <a:pt x="2802" y="262"/>
                      <a:pt x="2802" y="262"/>
                      <a:pt x="2802" y="262"/>
                    </a:cubicBezTo>
                    <a:cubicBezTo>
                      <a:pt x="2811" y="262"/>
                      <a:pt x="2811" y="262"/>
                      <a:pt x="2811" y="262"/>
                    </a:cubicBezTo>
                    <a:cubicBezTo>
                      <a:pt x="2819" y="263"/>
                      <a:pt x="2819" y="263"/>
                      <a:pt x="2819" y="263"/>
                    </a:cubicBezTo>
                    <a:cubicBezTo>
                      <a:pt x="2828" y="264"/>
                      <a:pt x="2828" y="264"/>
                      <a:pt x="2828" y="264"/>
                    </a:cubicBezTo>
                    <a:cubicBezTo>
                      <a:pt x="2836" y="264"/>
                      <a:pt x="2836" y="264"/>
                      <a:pt x="2836" y="264"/>
                    </a:cubicBezTo>
                    <a:cubicBezTo>
                      <a:pt x="2845" y="265"/>
                      <a:pt x="2845" y="265"/>
                      <a:pt x="2845" y="265"/>
                    </a:cubicBezTo>
                    <a:cubicBezTo>
                      <a:pt x="2853" y="265"/>
                      <a:pt x="2853" y="265"/>
                      <a:pt x="2853" y="265"/>
                    </a:cubicBezTo>
                    <a:cubicBezTo>
                      <a:pt x="2862" y="265"/>
                      <a:pt x="2862" y="265"/>
                      <a:pt x="2862" y="265"/>
                    </a:cubicBezTo>
                    <a:cubicBezTo>
                      <a:pt x="2870" y="266"/>
                      <a:pt x="2870" y="266"/>
                      <a:pt x="2870" y="266"/>
                    </a:cubicBezTo>
                    <a:cubicBezTo>
                      <a:pt x="2879" y="266"/>
                      <a:pt x="2879" y="266"/>
                      <a:pt x="2879" y="266"/>
                    </a:cubicBezTo>
                    <a:cubicBezTo>
                      <a:pt x="2887" y="267"/>
                      <a:pt x="2887" y="267"/>
                      <a:pt x="2887" y="267"/>
                    </a:cubicBezTo>
                    <a:cubicBezTo>
                      <a:pt x="2896" y="267"/>
                      <a:pt x="2896" y="267"/>
                      <a:pt x="2896" y="267"/>
                    </a:cubicBezTo>
                    <a:cubicBezTo>
                      <a:pt x="2904" y="267"/>
                      <a:pt x="2904" y="267"/>
                      <a:pt x="2904" y="267"/>
                    </a:cubicBezTo>
                    <a:cubicBezTo>
                      <a:pt x="2913" y="267"/>
                      <a:pt x="2913" y="267"/>
                      <a:pt x="2913" y="267"/>
                    </a:cubicBezTo>
                    <a:cubicBezTo>
                      <a:pt x="2921" y="268"/>
                      <a:pt x="2921" y="268"/>
                      <a:pt x="2921" y="268"/>
                    </a:cubicBezTo>
                    <a:cubicBezTo>
                      <a:pt x="2930" y="268"/>
                      <a:pt x="2930" y="268"/>
                      <a:pt x="2930" y="268"/>
                    </a:cubicBezTo>
                    <a:cubicBezTo>
                      <a:pt x="2938" y="268"/>
                      <a:pt x="2938" y="268"/>
                      <a:pt x="2938" y="268"/>
                    </a:cubicBezTo>
                    <a:cubicBezTo>
                      <a:pt x="2947" y="268"/>
                      <a:pt x="2947" y="268"/>
                      <a:pt x="2947" y="268"/>
                    </a:cubicBezTo>
                    <a:cubicBezTo>
                      <a:pt x="2955" y="268"/>
                      <a:pt x="2955" y="268"/>
                      <a:pt x="2955" y="268"/>
                    </a:cubicBezTo>
                    <a:cubicBezTo>
                      <a:pt x="2964" y="268"/>
                      <a:pt x="2964" y="268"/>
                      <a:pt x="2964" y="268"/>
                    </a:cubicBezTo>
                    <a:cubicBezTo>
                      <a:pt x="2972" y="268"/>
                      <a:pt x="2972" y="268"/>
                      <a:pt x="2972" y="268"/>
                    </a:cubicBezTo>
                    <a:cubicBezTo>
                      <a:pt x="2981" y="268"/>
                      <a:pt x="2981" y="268"/>
                      <a:pt x="2981" y="268"/>
                    </a:cubicBezTo>
                    <a:cubicBezTo>
                      <a:pt x="2990" y="268"/>
                      <a:pt x="2990" y="268"/>
                      <a:pt x="2990" y="268"/>
                    </a:cubicBezTo>
                    <a:cubicBezTo>
                      <a:pt x="2998" y="268"/>
                      <a:pt x="2998" y="268"/>
                      <a:pt x="2998" y="268"/>
                    </a:cubicBezTo>
                    <a:cubicBezTo>
                      <a:pt x="3007" y="268"/>
                      <a:pt x="3007" y="268"/>
                      <a:pt x="3007" y="268"/>
                    </a:cubicBezTo>
                    <a:cubicBezTo>
                      <a:pt x="3015" y="268"/>
                      <a:pt x="3015" y="268"/>
                      <a:pt x="3015" y="268"/>
                    </a:cubicBezTo>
                    <a:cubicBezTo>
                      <a:pt x="3024" y="268"/>
                      <a:pt x="3024" y="268"/>
                      <a:pt x="3024" y="268"/>
                    </a:cubicBezTo>
                    <a:cubicBezTo>
                      <a:pt x="3032" y="267"/>
                      <a:pt x="3032" y="267"/>
                      <a:pt x="3032" y="267"/>
                    </a:cubicBezTo>
                    <a:cubicBezTo>
                      <a:pt x="3041" y="267"/>
                      <a:pt x="3041" y="267"/>
                      <a:pt x="3041" y="267"/>
                    </a:cubicBezTo>
                    <a:cubicBezTo>
                      <a:pt x="3049" y="267"/>
                      <a:pt x="3049" y="267"/>
                      <a:pt x="3049" y="267"/>
                    </a:cubicBezTo>
                    <a:cubicBezTo>
                      <a:pt x="3058" y="267"/>
                      <a:pt x="3058" y="267"/>
                      <a:pt x="3058" y="267"/>
                    </a:cubicBezTo>
                    <a:cubicBezTo>
                      <a:pt x="3066" y="266"/>
                      <a:pt x="3066" y="266"/>
                      <a:pt x="3066" y="266"/>
                    </a:cubicBezTo>
                    <a:cubicBezTo>
                      <a:pt x="3075" y="266"/>
                      <a:pt x="3075" y="266"/>
                      <a:pt x="3075" y="266"/>
                    </a:cubicBezTo>
                    <a:cubicBezTo>
                      <a:pt x="3083" y="266"/>
                      <a:pt x="3083" y="266"/>
                      <a:pt x="3083" y="266"/>
                    </a:cubicBezTo>
                    <a:cubicBezTo>
                      <a:pt x="3092" y="265"/>
                      <a:pt x="3092" y="265"/>
                      <a:pt x="3092" y="265"/>
                    </a:cubicBezTo>
                    <a:cubicBezTo>
                      <a:pt x="3100" y="265"/>
                      <a:pt x="3100" y="265"/>
                      <a:pt x="3100" y="265"/>
                    </a:cubicBezTo>
                    <a:cubicBezTo>
                      <a:pt x="3109" y="264"/>
                      <a:pt x="3109" y="264"/>
                      <a:pt x="3109" y="264"/>
                    </a:cubicBezTo>
                    <a:cubicBezTo>
                      <a:pt x="3117" y="264"/>
                      <a:pt x="3117" y="264"/>
                      <a:pt x="3117" y="264"/>
                    </a:cubicBezTo>
                    <a:cubicBezTo>
                      <a:pt x="3126" y="264"/>
                      <a:pt x="3126" y="264"/>
                      <a:pt x="3126" y="264"/>
                    </a:cubicBezTo>
                    <a:cubicBezTo>
                      <a:pt x="3134" y="263"/>
                      <a:pt x="3134" y="263"/>
                      <a:pt x="3134" y="263"/>
                    </a:cubicBezTo>
                    <a:cubicBezTo>
                      <a:pt x="3143" y="263"/>
                      <a:pt x="3143" y="263"/>
                      <a:pt x="3143" y="263"/>
                    </a:cubicBezTo>
                    <a:cubicBezTo>
                      <a:pt x="3151" y="262"/>
                      <a:pt x="3151" y="262"/>
                      <a:pt x="3151" y="262"/>
                    </a:cubicBezTo>
                    <a:cubicBezTo>
                      <a:pt x="3160" y="261"/>
                      <a:pt x="3160" y="261"/>
                      <a:pt x="3160" y="261"/>
                    </a:cubicBezTo>
                    <a:cubicBezTo>
                      <a:pt x="3168" y="261"/>
                      <a:pt x="3168" y="261"/>
                      <a:pt x="3168" y="261"/>
                    </a:cubicBezTo>
                    <a:cubicBezTo>
                      <a:pt x="3177" y="260"/>
                      <a:pt x="3177" y="260"/>
                      <a:pt x="3177" y="260"/>
                    </a:cubicBezTo>
                    <a:cubicBezTo>
                      <a:pt x="3185" y="260"/>
                      <a:pt x="3185" y="260"/>
                      <a:pt x="3185" y="260"/>
                    </a:cubicBezTo>
                    <a:cubicBezTo>
                      <a:pt x="3194" y="259"/>
                      <a:pt x="3194" y="259"/>
                      <a:pt x="3194" y="259"/>
                    </a:cubicBezTo>
                    <a:cubicBezTo>
                      <a:pt x="3202" y="259"/>
                      <a:pt x="3202" y="259"/>
                      <a:pt x="3202" y="259"/>
                    </a:cubicBezTo>
                    <a:cubicBezTo>
                      <a:pt x="3211" y="258"/>
                      <a:pt x="3211" y="258"/>
                      <a:pt x="3211" y="258"/>
                    </a:cubicBezTo>
                    <a:cubicBezTo>
                      <a:pt x="3219" y="257"/>
                      <a:pt x="3219" y="257"/>
                      <a:pt x="3219" y="257"/>
                    </a:cubicBezTo>
                    <a:cubicBezTo>
                      <a:pt x="3228" y="257"/>
                      <a:pt x="3228" y="257"/>
                      <a:pt x="3228" y="257"/>
                    </a:cubicBezTo>
                    <a:cubicBezTo>
                      <a:pt x="3236" y="256"/>
                      <a:pt x="3236" y="256"/>
                      <a:pt x="3236" y="256"/>
                    </a:cubicBezTo>
                    <a:cubicBezTo>
                      <a:pt x="3245" y="255"/>
                      <a:pt x="3245" y="255"/>
                      <a:pt x="3245" y="255"/>
                    </a:cubicBezTo>
                    <a:cubicBezTo>
                      <a:pt x="3253" y="254"/>
                      <a:pt x="3253" y="254"/>
                      <a:pt x="3253" y="254"/>
                    </a:cubicBezTo>
                    <a:cubicBezTo>
                      <a:pt x="3262" y="254"/>
                      <a:pt x="3262" y="254"/>
                      <a:pt x="3262" y="254"/>
                    </a:cubicBezTo>
                    <a:cubicBezTo>
                      <a:pt x="3270" y="253"/>
                      <a:pt x="3270" y="253"/>
                      <a:pt x="3270" y="253"/>
                    </a:cubicBezTo>
                    <a:cubicBezTo>
                      <a:pt x="3279" y="252"/>
                      <a:pt x="3279" y="252"/>
                      <a:pt x="3279" y="252"/>
                    </a:cubicBezTo>
                    <a:cubicBezTo>
                      <a:pt x="3287" y="252"/>
                      <a:pt x="3287" y="252"/>
                      <a:pt x="3287" y="252"/>
                    </a:cubicBezTo>
                    <a:cubicBezTo>
                      <a:pt x="3296" y="251"/>
                      <a:pt x="3296" y="251"/>
                      <a:pt x="3296" y="251"/>
                    </a:cubicBezTo>
                    <a:cubicBezTo>
                      <a:pt x="3304" y="250"/>
                      <a:pt x="3304" y="250"/>
                      <a:pt x="3304" y="250"/>
                    </a:cubicBezTo>
                    <a:cubicBezTo>
                      <a:pt x="3313" y="249"/>
                      <a:pt x="3313" y="249"/>
                      <a:pt x="3313" y="249"/>
                    </a:cubicBezTo>
                    <a:cubicBezTo>
                      <a:pt x="3321" y="249"/>
                      <a:pt x="3321" y="249"/>
                      <a:pt x="3321" y="249"/>
                    </a:cubicBezTo>
                    <a:cubicBezTo>
                      <a:pt x="3330" y="248"/>
                      <a:pt x="3330" y="248"/>
                      <a:pt x="3330" y="248"/>
                    </a:cubicBezTo>
                    <a:cubicBezTo>
                      <a:pt x="3338" y="247"/>
                      <a:pt x="3338" y="247"/>
                      <a:pt x="3338" y="247"/>
                    </a:cubicBezTo>
                    <a:cubicBezTo>
                      <a:pt x="3347" y="246"/>
                      <a:pt x="3347" y="246"/>
                      <a:pt x="3347" y="246"/>
                    </a:cubicBezTo>
                    <a:cubicBezTo>
                      <a:pt x="3355" y="245"/>
                      <a:pt x="3355" y="245"/>
                      <a:pt x="3355" y="245"/>
                    </a:cubicBezTo>
                    <a:cubicBezTo>
                      <a:pt x="3364" y="245"/>
                      <a:pt x="3364" y="245"/>
                      <a:pt x="3364" y="245"/>
                    </a:cubicBezTo>
                    <a:cubicBezTo>
                      <a:pt x="3372" y="244"/>
                      <a:pt x="3372" y="244"/>
                      <a:pt x="3372" y="244"/>
                    </a:cubicBezTo>
                    <a:cubicBezTo>
                      <a:pt x="3381" y="243"/>
                      <a:pt x="3381" y="243"/>
                      <a:pt x="3381" y="243"/>
                    </a:cubicBezTo>
                    <a:cubicBezTo>
                      <a:pt x="3389" y="242"/>
                      <a:pt x="3389" y="242"/>
                      <a:pt x="3389" y="242"/>
                    </a:cubicBezTo>
                    <a:cubicBezTo>
                      <a:pt x="3398" y="242"/>
                      <a:pt x="3398" y="242"/>
                      <a:pt x="3398" y="242"/>
                    </a:cubicBezTo>
                    <a:cubicBezTo>
                      <a:pt x="3406" y="241"/>
                      <a:pt x="3406" y="241"/>
                      <a:pt x="3406" y="241"/>
                    </a:cubicBezTo>
                    <a:cubicBezTo>
                      <a:pt x="3415" y="240"/>
                      <a:pt x="3415" y="240"/>
                      <a:pt x="3415" y="240"/>
                    </a:cubicBezTo>
                    <a:cubicBezTo>
                      <a:pt x="3423" y="239"/>
                      <a:pt x="3423" y="239"/>
                      <a:pt x="3423" y="239"/>
                    </a:cubicBezTo>
                    <a:cubicBezTo>
                      <a:pt x="3432" y="239"/>
                      <a:pt x="3432" y="239"/>
                      <a:pt x="3432" y="239"/>
                    </a:cubicBezTo>
                    <a:cubicBezTo>
                      <a:pt x="3440" y="238"/>
                      <a:pt x="3440" y="238"/>
                      <a:pt x="3440" y="238"/>
                    </a:cubicBezTo>
                    <a:cubicBezTo>
                      <a:pt x="3449" y="237"/>
                      <a:pt x="3449" y="237"/>
                      <a:pt x="3449" y="237"/>
                    </a:cubicBezTo>
                    <a:cubicBezTo>
                      <a:pt x="3457" y="236"/>
                      <a:pt x="3457" y="236"/>
                      <a:pt x="3457" y="236"/>
                    </a:cubicBezTo>
                    <a:cubicBezTo>
                      <a:pt x="3466" y="236"/>
                      <a:pt x="3466" y="236"/>
                      <a:pt x="3466" y="236"/>
                    </a:cubicBezTo>
                    <a:cubicBezTo>
                      <a:pt x="3474" y="235"/>
                      <a:pt x="3474" y="235"/>
                      <a:pt x="3474" y="235"/>
                    </a:cubicBezTo>
                    <a:cubicBezTo>
                      <a:pt x="3483" y="234"/>
                      <a:pt x="3483" y="234"/>
                      <a:pt x="3483" y="234"/>
                    </a:cubicBezTo>
                    <a:cubicBezTo>
                      <a:pt x="3491" y="233"/>
                      <a:pt x="3491" y="233"/>
                      <a:pt x="3491" y="233"/>
                    </a:cubicBezTo>
                    <a:cubicBezTo>
                      <a:pt x="3500" y="233"/>
                      <a:pt x="3500" y="233"/>
                      <a:pt x="3500" y="233"/>
                    </a:cubicBezTo>
                    <a:cubicBezTo>
                      <a:pt x="3508" y="232"/>
                      <a:pt x="3508" y="232"/>
                      <a:pt x="3508" y="232"/>
                    </a:cubicBezTo>
                    <a:cubicBezTo>
                      <a:pt x="3517" y="231"/>
                      <a:pt x="3517" y="231"/>
                      <a:pt x="3517" y="231"/>
                    </a:cubicBezTo>
                    <a:cubicBezTo>
                      <a:pt x="3525" y="231"/>
                      <a:pt x="3525" y="231"/>
                      <a:pt x="3525" y="231"/>
                    </a:cubicBezTo>
                    <a:cubicBezTo>
                      <a:pt x="3534" y="230"/>
                      <a:pt x="3534" y="230"/>
                      <a:pt x="3534" y="230"/>
                    </a:cubicBezTo>
                    <a:cubicBezTo>
                      <a:pt x="3542" y="229"/>
                      <a:pt x="3542" y="229"/>
                      <a:pt x="3542" y="229"/>
                    </a:cubicBezTo>
                    <a:cubicBezTo>
                      <a:pt x="3551" y="229"/>
                      <a:pt x="3551" y="229"/>
                      <a:pt x="3551" y="229"/>
                    </a:cubicBezTo>
                    <a:cubicBezTo>
                      <a:pt x="3559" y="228"/>
                      <a:pt x="3559" y="228"/>
                      <a:pt x="3559" y="228"/>
                    </a:cubicBezTo>
                    <a:cubicBezTo>
                      <a:pt x="3568" y="227"/>
                      <a:pt x="3568" y="227"/>
                      <a:pt x="3568" y="227"/>
                    </a:cubicBezTo>
                    <a:cubicBezTo>
                      <a:pt x="3576" y="227"/>
                      <a:pt x="3576" y="227"/>
                      <a:pt x="3576" y="227"/>
                    </a:cubicBezTo>
                    <a:cubicBezTo>
                      <a:pt x="3585" y="226"/>
                      <a:pt x="3585" y="226"/>
                      <a:pt x="3585" y="226"/>
                    </a:cubicBezTo>
                    <a:cubicBezTo>
                      <a:pt x="3593" y="226"/>
                      <a:pt x="3593" y="226"/>
                      <a:pt x="3593" y="226"/>
                    </a:cubicBezTo>
                    <a:cubicBezTo>
                      <a:pt x="3602" y="225"/>
                      <a:pt x="3602" y="225"/>
                      <a:pt x="3602" y="225"/>
                    </a:cubicBezTo>
                    <a:cubicBezTo>
                      <a:pt x="3610" y="225"/>
                      <a:pt x="3610" y="225"/>
                      <a:pt x="3610" y="225"/>
                    </a:cubicBezTo>
                    <a:cubicBezTo>
                      <a:pt x="3619" y="224"/>
                      <a:pt x="3619" y="224"/>
                      <a:pt x="3619" y="224"/>
                    </a:cubicBezTo>
                    <a:cubicBezTo>
                      <a:pt x="3627" y="224"/>
                      <a:pt x="3627" y="224"/>
                      <a:pt x="3627" y="224"/>
                    </a:cubicBezTo>
                    <a:cubicBezTo>
                      <a:pt x="3636" y="223"/>
                      <a:pt x="3636" y="223"/>
                      <a:pt x="3636" y="223"/>
                    </a:cubicBezTo>
                    <a:cubicBezTo>
                      <a:pt x="3644" y="223"/>
                      <a:pt x="3644" y="223"/>
                      <a:pt x="3644" y="223"/>
                    </a:cubicBezTo>
                    <a:cubicBezTo>
                      <a:pt x="3653" y="222"/>
                      <a:pt x="3653" y="222"/>
                      <a:pt x="3653" y="222"/>
                    </a:cubicBezTo>
                    <a:cubicBezTo>
                      <a:pt x="3661" y="222"/>
                      <a:pt x="3661" y="222"/>
                      <a:pt x="3661" y="222"/>
                    </a:cubicBezTo>
                    <a:cubicBezTo>
                      <a:pt x="3670" y="221"/>
                      <a:pt x="3670" y="221"/>
                      <a:pt x="3670" y="221"/>
                    </a:cubicBezTo>
                    <a:cubicBezTo>
                      <a:pt x="3678" y="221"/>
                      <a:pt x="3678" y="221"/>
                      <a:pt x="3678" y="221"/>
                    </a:cubicBezTo>
                    <a:cubicBezTo>
                      <a:pt x="3687" y="220"/>
                      <a:pt x="3687" y="220"/>
                      <a:pt x="3687" y="220"/>
                    </a:cubicBezTo>
                    <a:cubicBezTo>
                      <a:pt x="3695" y="220"/>
                      <a:pt x="3695" y="220"/>
                      <a:pt x="3695" y="220"/>
                    </a:cubicBezTo>
                    <a:cubicBezTo>
                      <a:pt x="3704" y="220"/>
                      <a:pt x="3704" y="220"/>
                      <a:pt x="3704" y="220"/>
                    </a:cubicBezTo>
                    <a:cubicBezTo>
                      <a:pt x="3712" y="219"/>
                      <a:pt x="3712" y="219"/>
                      <a:pt x="3712" y="219"/>
                    </a:cubicBezTo>
                    <a:cubicBezTo>
                      <a:pt x="3721" y="219"/>
                      <a:pt x="3721" y="219"/>
                      <a:pt x="3721" y="219"/>
                    </a:cubicBezTo>
                    <a:cubicBezTo>
                      <a:pt x="3729" y="219"/>
                      <a:pt x="3729" y="219"/>
                      <a:pt x="3729" y="219"/>
                    </a:cubicBezTo>
                    <a:cubicBezTo>
                      <a:pt x="3738" y="218"/>
                      <a:pt x="3738" y="218"/>
                      <a:pt x="3738" y="218"/>
                    </a:cubicBezTo>
                    <a:cubicBezTo>
                      <a:pt x="3746" y="218"/>
                      <a:pt x="3746" y="218"/>
                      <a:pt x="3746" y="218"/>
                    </a:cubicBezTo>
                    <a:cubicBezTo>
                      <a:pt x="3755" y="218"/>
                      <a:pt x="3755" y="218"/>
                      <a:pt x="3755" y="218"/>
                    </a:cubicBezTo>
                    <a:cubicBezTo>
                      <a:pt x="3763" y="218"/>
                      <a:pt x="3763" y="218"/>
                      <a:pt x="3763" y="218"/>
                    </a:cubicBezTo>
                    <a:cubicBezTo>
                      <a:pt x="3772" y="217"/>
                      <a:pt x="3772" y="217"/>
                      <a:pt x="3772" y="217"/>
                    </a:cubicBezTo>
                    <a:cubicBezTo>
                      <a:pt x="3780" y="217"/>
                      <a:pt x="3780" y="217"/>
                      <a:pt x="3780" y="217"/>
                    </a:cubicBezTo>
                    <a:cubicBezTo>
                      <a:pt x="3789" y="217"/>
                      <a:pt x="3789" y="217"/>
                      <a:pt x="3789" y="217"/>
                    </a:cubicBezTo>
                    <a:cubicBezTo>
                      <a:pt x="3797" y="217"/>
                      <a:pt x="3797" y="217"/>
                      <a:pt x="3797" y="217"/>
                    </a:cubicBezTo>
                    <a:cubicBezTo>
                      <a:pt x="3806" y="217"/>
                      <a:pt x="3806" y="217"/>
                      <a:pt x="3806" y="217"/>
                    </a:cubicBezTo>
                    <a:cubicBezTo>
                      <a:pt x="3814" y="217"/>
                      <a:pt x="3814" y="217"/>
                      <a:pt x="3814" y="217"/>
                    </a:cubicBezTo>
                    <a:cubicBezTo>
                      <a:pt x="3823" y="216"/>
                      <a:pt x="3823" y="216"/>
                      <a:pt x="3823" y="216"/>
                    </a:cubicBezTo>
                    <a:cubicBezTo>
                      <a:pt x="3832" y="216"/>
                      <a:pt x="3832" y="216"/>
                      <a:pt x="3832" y="216"/>
                    </a:cubicBezTo>
                    <a:cubicBezTo>
                      <a:pt x="3840" y="216"/>
                      <a:pt x="3840" y="216"/>
                      <a:pt x="3840" y="216"/>
                    </a:cubicBezTo>
                    <a:cubicBezTo>
                      <a:pt x="3849" y="216"/>
                      <a:pt x="3849" y="216"/>
                      <a:pt x="3849" y="216"/>
                    </a:cubicBezTo>
                    <a:cubicBezTo>
                      <a:pt x="3857" y="216"/>
                      <a:pt x="3857" y="216"/>
                      <a:pt x="3857" y="216"/>
                    </a:cubicBezTo>
                    <a:cubicBezTo>
                      <a:pt x="3866" y="216"/>
                      <a:pt x="3866" y="216"/>
                      <a:pt x="3866" y="216"/>
                    </a:cubicBezTo>
                    <a:cubicBezTo>
                      <a:pt x="3874" y="216"/>
                      <a:pt x="3874" y="216"/>
                      <a:pt x="3874" y="216"/>
                    </a:cubicBezTo>
                    <a:cubicBezTo>
                      <a:pt x="3883" y="216"/>
                      <a:pt x="3883" y="216"/>
                      <a:pt x="3883" y="216"/>
                    </a:cubicBezTo>
                    <a:cubicBezTo>
                      <a:pt x="3891" y="216"/>
                      <a:pt x="3891" y="216"/>
                      <a:pt x="3891" y="216"/>
                    </a:cubicBezTo>
                    <a:cubicBezTo>
                      <a:pt x="3900" y="216"/>
                      <a:pt x="3900" y="216"/>
                      <a:pt x="3900" y="216"/>
                    </a:cubicBezTo>
                    <a:cubicBezTo>
                      <a:pt x="3908" y="216"/>
                      <a:pt x="3908" y="216"/>
                      <a:pt x="3908" y="216"/>
                    </a:cubicBezTo>
                    <a:cubicBezTo>
                      <a:pt x="3917" y="216"/>
                      <a:pt x="3917" y="216"/>
                      <a:pt x="3917" y="216"/>
                    </a:cubicBezTo>
                    <a:cubicBezTo>
                      <a:pt x="3925" y="216"/>
                      <a:pt x="3925" y="216"/>
                      <a:pt x="3925" y="216"/>
                    </a:cubicBezTo>
                    <a:cubicBezTo>
                      <a:pt x="3934" y="216"/>
                      <a:pt x="3934" y="216"/>
                      <a:pt x="3934" y="216"/>
                    </a:cubicBezTo>
                    <a:cubicBezTo>
                      <a:pt x="3942" y="216"/>
                      <a:pt x="3942" y="216"/>
                      <a:pt x="3942" y="216"/>
                    </a:cubicBezTo>
                    <a:cubicBezTo>
                      <a:pt x="3951" y="217"/>
                      <a:pt x="3951" y="217"/>
                      <a:pt x="3951" y="217"/>
                    </a:cubicBezTo>
                    <a:cubicBezTo>
                      <a:pt x="3959" y="217"/>
                      <a:pt x="3959" y="217"/>
                      <a:pt x="3959" y="217"/>
                    </a:cubicBezTo>
                    <a:cubicBezTo>
                      <a:pt x="3968" y="217"/>
                      <a:pt x="3968" y="217"/>
                      <a:pt x="3968" y="217"/>
                    </a:cubicBezTo>
                    <a:cubicBezTo>
                      <a:pt x="3976" y="217"/>
                      <a:pt x="3976" y="217"/>
                      <a:pt x="3976" y="217"/>
                    </a:cubicBezTo>
                    <a:cubicBezTo>
                      <a:pt x="3985" y="217"/>
                      <a:pt x="3985" y="217"/>
                      <a:pt x="3985" y="217"/>
                    </a:cubicBezTo>
                    <a:cubicBezTo>
                      <a:pt x="3993" y="217"/>
                      <a:pt x="3993" y="217"/>
                      <a:pt x="3993" y="217"/>
                    </a:cubicBezTo>
                    <a:cubicBezTo>
                      <a:pt x="4002" y="218"/>
                      <a:pt x="4002" y="218"/>
                      <a:pt x="4002" y="218"/>
                    </a:cubicBezTo>
                    <a:cubicBezTo>
                      <a:pt x="4010" y="218"/>
                      <a:pt x="4010" y="218"/>
                      <a:pt x="4010" y="218"/>
                    </a:cubicBezTo>
                    <a:cubicBezTo>
                      <a:pt x="4019" y="218"/>
                      <a:pt x="4019" y="218"/>
                      <a:pt x="4019" y="218"/>
                    </a:cubicBezTo>
                    <a:cubicBezTo>
                      <a:pt x="4027" y="218"/>
                      <a:pt x="4027" y="218"/>
                      <a:pt x="4027" y="218"/>
                    </a:cubicBezTo>
                    <a:cubicBezTo>
                      <a:pt x="4036" y="218"/>
                      <a:pt x="4036" y="218"/>
                      <a:pt x="4036" y="218"/>
                    </a:cubicBezTo>
                    <a:cubicBezTo>
                      <a:pt x="4044" y="219"/>
                      <a:pt x="4044" y="219"/>
                      <a:pt x="4044" y="219"/>
                    </a:cubicBezTo>
                    <a:cubicBezTo>
                      <a:pt x="4053" y="219"/>
                      <a:pt x="4053" y="219"/>
                      <a:pt x="4053" y="219"/>
                    </a:cubicBezTo>
                    <a:cubicBezTo>
                      <a:pt x="4061" y="219"/>
                      <a:pt x="4061" y="219"/>
                      <a:pt x="4061" y="219"/>
                    </a:cubicBezTo>
                    <a:cubicBezTo>
                      <a:pt x="4070" y="220"/>
                      <a:pt x="4070" y="220"/>
                      <a:pt x="4070" y="220"/>
                    </a:cubicBezTo>
                    <a:cubicBezTo>
                      <a:pt x="4078" y="220"/>
                      <a:pt x="4078" y="220"/>
                      <a:pt x="4078" y="220"/>
                    </a:cubicBezTo>
                    <a:cubicBezTo>
                      <a:pt x="4087" y="220"/>
                      <a:pt x="4087" y="220"/>
                      <a:pt x="4087" y="220"/>
                    </a:cubicBezTo>
                    <a:cubicBezTo>
                      <a:pt x="4095" y="220"/>
                      <a:pt x="4095" y="220"/>
                      <a:pt x="4095" y="220"/>
                    </a:cubicBezTo>
                    <a:cubicBezTo>
                      <a:pt x="4104" y="221"/>
                      <a:pt x="4104" y="221"/>
                      <a:pt x="4104" y="221"/>
                    </a:cubicBezTo>
                    <a:cubicBezTo>
                      <a:pt x="4112" y="221"/>
                      <a:pt x="4112" y="221"/>
                      <a:pt x="4112" y="221"/>
                    </a:cubicBezTo>
                    <a:cubicBezTo>
                      <a:pt x="4121" y="221"/>
                      <a:pt x="4121" y="221"/>
                      <a:pt x="4121" y="221"/>
                    </a:cubicBezTo>
                    <a:cubicBezTo>
                      <a:pt x="4129" y="222"/>
                      <a:pt x="4129" y="222"/>
                      <a:pt x="4129" y="222"/>
                    </a:cubicBezTo>
                    <a:cubicBezTo>
                      <a:pt x="4138" y="222"/>
                      <a:pt x="4138" y="222"/>
                      <a:pt x="4138" y="222"/>
                    </a:cubicBezTo>
                    <a:cubicBezTo>
                      <a:pt x="4146" y="223"/>
                      <a:pt x="4146" y="223"/>
                      <a:pt x="4146" y="223"/>
                    </a:cubicBezTo>
                    <a:cubicBezTo>
                      <a:pt x="4155" y="223"/>
                      <a:pt x="4155" y="223"/>
                      <a:pt x="4155" y="223"/>
                    </a:cubicBezTo>
                    <a:cubicBezTo>
                      <a:pt x="4163" y="223"/>
                      <a:pt x="4163" y="223"/>
                      <a:pt x="4163" y="223"/>
                    </a:cubicBezTo>
                    <a:cubicBezTo>
                      <a:pt x="4172" y="224"/>
                      <a:pt x="4172" y="224"/>
                      <a:pt x="4172" y="224"/>
                    </a:cubicBezTo>
                    <a:cubicBezTo>
                      <a:pt x="4180" y="224"/>
                      <a:pt x="4180" y="224"/>
                      <a:pt x="4180" y="224"/>
                    </a:cubicBezTo>
                    <a:cubicBezTo>
                      <a:pt x="4189" y="224"/>
                      <a:pt x="4189" y="224"/>
                      <a:pt x="4189" y="224"/>
                    </a:cubicBezTo>
                    <a:cubicBezTo>
                      <a:pt x="4197" y="225"/>
                      <a:pt x="4197" y="225"/>
                      <a:pt x="4197" y="225"/>
                    </a:cubicBezTo>
                    <a:cubicBezTo>
                      <a:pt x="4206" y="225"/>
                      <a:pt x="4206" y="225"/>
                      <a:pt x="4206" y="225"/>
                    </a:cubicBezTo>
                    <a:cubicBezTo>
                      <a:pt x="4214" y="226"/>
                      <a:pt x="4214" y="226"/>
                      <a:pt x="4214" y="226"/>
                    </a:cubicBezTo>
                    <a:cubicBezTo>
                      <a:pt x="4223" y="226"/>
                      <a:pt x="4223" y="226"/>
                      <a:pt x="4223" y="226"/>
                    </a:cubicBezTo>
                    <a:cubicBezTo>
                      <a:pt x="4231" y="226"/>
                      <a:pt x="4231" y="226"/>
                      <a:pt x="4231" y="226"/>
                    </a:cubicBezTo>
                    <a:cubicBezTo>
                      <a:pt x="4240" y="227"/>
                      <a:pt x="4240" y="227"/>
                      <a:pt x="4240" y="227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797" name=""/>
            <p:cNvGraphicFramePr/>
            <p:nvPr/>
          </p:nvGraphicFramePr>
          <p:xfrm>
            <a:off x="4571640" y="2595960"/>
            <a:ext cx="134280" cy="20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1640" y="2595960"/>
                      <a:ext cx="134280" cy="20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9" name=""/>
            <p:cNvGraphicFramePr/>
            <p:nvPr/>
          </p:nvGraphicFramePr>
          <p:xfrm>
            <a:off x="1374840" y="2554200"/>
            <a:ext cx="155160" cy="22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0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4840" y="2554200"/>
                      <a:ext cx="155160" cy="22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01" name=""/>
          <p:cNvSpPr/>
          <p:nvPr/>
        </p:nvSpPr>
        <p:spPr>
          <a:xfrm>
            <a:off x="1770120" y="3262320"/>
            <a:ext cx="28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еріод згасаючих колива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2" name=""/>
          <p:cNvGraphicFramePr/>
          <p:nvPr/>
        </p:nvGraphicFramePr>
        <p:xfrm>
          <a:off x="4464000" y="3070080"/>
          <a:ext cx="731880" cy="5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64000" y="3070080"/>
                    <a:ext cx="7318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4" name=""/>
          <p:cNvSpPr/>
          <p:nvPr/>
        </p:nvSpPr>
        <p:spPr>
          <a:xfrm flipV="1">
            <a:off x="1932120" y="1508040"/>
            <a:ext cx="6174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 flipH="1">
            <a:off x="2530440" y="1481040"/>
            <a:ext cx="4464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H="1">
            <a:off x="2950560" y="1879560"/>
            <a:ext cx="4428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2678040" y="2583000"/>
            <a:ext cx="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3873600" y="2589120"/>
            <a:ext cx="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2666880" y="2822400"/>
            <a:ext cx="119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V="1">
            <a:off x="2681280" y="3016080"/>
            <a:ext cx="50004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1" name=""/>
          <p:cNvGraphicFramePr/>
          <p:nvPr/>
        </p:nvGraphicFramePr>
        <p:xfrm>
          <a:off x="2646360" y="1146240"/>
          <a:ext cx="2516040" cy="34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46360" y="1146240"/>
                    <a:ext cx="25160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3" name=""/>
          <p:cNvGraphicFramePr/>
          <p:nvPr/>
        </p:nvGraphicFramePr>
        <p:xfrm>
          <a:off x="2973240" y="1695600"/>
          <a:ext cx="127656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3240" y="1695600"/>
                    <a:ext cx="1276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5" name=""/>
          <p:cNvSpPr/>
          <p:nvPr/>
        </p:nvSpPr>
        <p:spPr>
          <a:xfrm flipV="1">
            <a:off x="2587680" y="1896840"/>
            <a:ext cx="39204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6" name=""/>
          <p:cNvGraphicFramePr/>
          <p:nvPr/>
        </p:nvGraphicFramePr>
        <p:xfrm>
          <a:off x="3164040" y="2822400"/>
          <a:ext cx="206280" cy="219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64040" y="2822400"/>
                    <a:ext cx="2062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8" name=""/>
          <p:cNvSpPr/>
          <p:nvPr/>
        </p:nvSpPr>
        <p:spPr>
          <a:xfrm>
            <a:off x="3159000" y="2822400"/>
            <a:ext cx="195480" cy="22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2666880" y="3254400"/>
            <a:ext cx="4464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939960" y="3848040"/>
            <a:ext cx="709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агадаємо раніше отриманий вираз для частоти згасаючих коливан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2" name=""/>
          <p:cNvGraphicFramePr/>
          <p:nvPr/>
        </p:nvGraphicFramePr>
        <p:xfrm>
          <a:off x="2805120" y="4183200"/>
          <a:ext cx="3476520" cy="907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05120" y="4183200"/>
                    <a:ext cx="34765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4" name=""/>
          <p:cNvSpPr/>
          <p:nvPr/>
        </p:nvSpPr>
        <p:spPr>
          <a:xfrm>
            <a:off x="825480" y="506736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епер можна записати вираз для періоду згасаючих коливан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6" name=""/>
          <p:cNvGraphicFramePr/>
          <p:nvPr/>
        </p:nvGraphicFramePr>
        <p:xfrm>
          <a:off x="3726000" y="5467320"/>
          <a:ext cx="2008080" cy="1165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26000" y="5467320"/>
                    <a:ext cx="20080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8" name=""/>
          <p:cNvSpPr/>
          <p:nvPr/>
        </p:nvSpPr>
        <p:spPr>
          <a:xfrm>
            <a:off x="6713640" y="244476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4179960" y="5418000"/>
            <a:ext cx="1404720" cy="1270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2040" y="4359240"/>
            <a:ext cx="42840" cy="2357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63680" y="383688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Управляющая кнопка: домой 85">
            <a:hlinkClick r:id="rId2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"/>
          <p:cNvSpPr/>
          <p:nvPr/>
        </p:nvSpPr>
        <p:spPr>
          <a:xfrm>
            <a:off x="2347920" y="495360"/>
            <a:ext cx="49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809640" y="1119240"/>
            <a:ext cx="753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ількісно згасання коливань характеризують часом релаксації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час, за який амплітуда згасаючих коливань зменшується в е разів) та логарифмічним декрементом згаса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6" name=""/>
          <p:cNvGraphicFramePr/>
          <p:nvPr/>
        </p:nvGraphicFramePr>
        <p:xfrm>
          <a:off x="2651040" y="2109960"/>
          <a:ext cx="15145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1040" y="2109960"/>
                    <a:ext cx="15145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8" name=""/>
          <p:cNvGraphicFramePr/>
          <p:nvPr/>
        </p:nvGraphicFramePr>
        <p:xfrm>
          <a:off x="5183280" y="2255760"/>
          <a:ext cx="1039680" cy="3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3280" y="2255760"/>
                    <a:ext cx="10396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0" name=""/>
          <p:cNvSpPr/>
          <p:nvPr/>
        </p:nvSpPr>
        <p:spPr>
          <a:xfrm>
            <a:off x="1120680" y="496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914400" y="50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2" name=""/>
          <p:cNvGraphicFramePr/>
          <p:nvPr/>
        </p:nvGraphicFramePr>
        <p:xfrm>
          <a:off x="1994040" y="3438360"/>
          <a:ext cx="4794120" cy="79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4040" y="3438360"/>
                    <a:ext cx="479412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4" name=""/>
          <p:cNvSpPr/>
          <p:nvPr/>
        </p:nvSpPr>
        <p:spPr>
          <a:xfrm>
            <a:off x="3236760" y="462456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5" name=""/>
          <p:cNvGraphicFramePr/>
          <p:nvPr/>
        </p:nvGraphicFramePr>
        <p:xfrm>
          <a:off x="4038480" y="4586400"/>
          <a:ext cx="970200" cy="34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4586400"/>
                    <a:ext cx="9702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7" name=""/>
          <p:cNvSpPr/>
          <p:nvPr/>
        </p:nvSpPr>
        <p:spPr>
          <a:xfrm>
            <a:off x="6227640" y="223524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4491000" y="4562640"/>
            <a:ext cx="40500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1498680" y="4051440"/>
            <a:ext cx="428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1300320" y="352908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"/>
          <p:cNvSpPr/>
          <p:nvPr/>
        </p:nvSpPr>
        <p:spPr>
          <a:xfrm>
            <a:off x="2347920" y="495360"/>
            <a:ext cx="49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4" name=""/>
          <p:cNvGrpSpPr/>
          <p:nvPr/>
        </p:nvGrpSpPr>
        <p:grpSpPr>
          <a:xfrm>
            <a:off x="2286000" y="1181160"/>
            <a:ext cx="3873240" cy="412560"/>
            <a:chOff x="2286000" y="1181160"/>
            <a:chExt cx="3873240" cy="412560"/>
          </a:xfrm>
        </p:grpSpPr>
        <p:grpSp>
          <p:nvGrpSpPr>
            <p:cNvPr id="2855" name=""/>
            <p:cNvGrpSpPr/>
            <p:nvPr/>
          </p:nvGrpSpPr>
          <p:grpSpPr>
            <a:xfrm>
              <a:off x="4819680" y="1181160"/>
              <a:ext cx="1339560" cy="412560"/>
              <a:chOff x="4819680" y="1181160"/>
              <a:chExt cx="1339560" cy="412560"/>
            </a:xfrm>
          </p:grpSpPr>
          <p:graphicFrame>
            <p:nvGraphicFramePr>
              <p:cNvPr id="2856" name=""/>
              <p:cNvGraphicFramePr/>
              <p:nvPr/>
            </p:nvGraphicFramePr>
            <p:xfrm>
              <a:off x="4819680" y="1187640"/>
              <a:ext cx="911160" cy="406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85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819680" y="1187640"/>
                        <a:ext cx="911160" cy="406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58" name=""/>
              <p:cNvSpPr/>
              <p:nvPr/>
            </p:nvSpPr>
            <p:spPr>
              <a:xfrm>
                <a:off x="5537160" y="1181160"/>
                <a:ext cx="62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9" name=""/>
            <p:cNvSpPr/>
            <p:nvPr/>
          </p:nvSpPr>
          <p:spPr>
            <a:xfrm>
              <a:off x="2286000" y="1244520"/>
              <a:ext cx="25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Знайти час релаксац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0" name=""/>
          <p:cNvSpPr/>
          <p:nvPr/>
        </p:nvSpPr>
        <p:spPr>
          <a:xfrm>
            <a:off x="1198440" y="1944720"/>
            <a:ext cx="620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Час релаксації     — це час, за який амплітуда згасаючих коливань зменшується в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азів.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963880" y="2021040"/>
                <a:ext cx="1983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3" name=""/>
          <p:cNvGraphicFramePr/>
          <p:nvPr/>
        </p:nvGraphicFramePr>
        <p:xfrm>
          <a:off x="3494160" y="2786040"/>
          <a:ext cx="170496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4160" y="2786040"/>
                    <a:ext cx="1704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5" name=""/>
          <p:cNvSpPr/>
          <p:nvPr/>
        </p:nvSpPr>
        <p:spPr>
          <a:xfrm>
            <a:off x="879480" y="3438360"/>
            <a:ext cx="801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Користуючись виразом для амплітуди згасаючих коливань           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7" name=""/>
          <p:cNvGraphicFramePr/>
          <p:nvPr/>
        </p:nvGraphicFramePr>
        <p:xfrm>
          <a:off x="7178760" y="3448080"/>
          <a:ext cx="1012680" cy="3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78760" y="3448080"/>
                    <a:ext cx="10126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9" name=""/>
          <p:cNvGraphicFramePr/>
          <p:nvPr/>
        </p:nvGraphicFramePr>
        <p:xfrm>
          <a:off x="3757680" y="5826240"/>
          <a:ext cx="890640" cy="66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57680" y="5826240"/>
                    <a:ext cx="8906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1" name=""/>
          <p:cNvSpPr/>
          <p:nvPr/>
        </p:nvSpPr>
        <p:spPr>
          <a:xfrm rot="5400000">
            <a:off x="4017960" y="5415480"/>
            <a:ext cx="22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 rot="5400000">
            <a:off x="4022640" y="4763520"/>
            <a:ext cx="22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4" name=""/>
          <p:cNvGraphicFramePr/>
          <p:nvPr/>
        </p:nvGraphicFramePr>
        <p:xfrm>
          <a:off x="3436920" y="5072040"/>
          <a:ext cx="120492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36920" y="5072040"/>
                    <a:ext cx="12049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7" name=""/>
          <p:cNvGraphicFramePr/>
          <p:nvPr/>
        </p:nvGraphicFramePr>
        <p:xfrm>
          <a:off x="2962440" y="4095720"/>
          <a:ext cx="2085840" cy="784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62440" y="4095720"/>
                    <a:ext cx="208584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9" name=""/>
          <p:cNvSpPr/>
          <p:nvPr/>
        </p:nvSpPr>
        <p:spPr>
          <a:xfrm>
            <a:off x="4143240" y="5848200"/>
            <a:ext cx="381240" cy="600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5732640" y="1168560"/>
            <a:ext cx="315720" cy="44100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000"/>
              <a:gd name="textAreaBottom" fmla="*/ 420840 h 441000"/>
            </a:gdLst>
            <a:ahLst/>
            <a:rect l="textAreaLeft" t="textAreaTop" r="textAreaRight" b="textAreaBottom"/>
            <a:pathLst>
              <a:path w="21600" h="30161">
                <a:moveTo>
                  <a:pt x="0" y="0"/>
                </a:moveTo>
                <a:lnTo>
                  <a:pt x="21600" y="0"/>
                </a:lnTo>
                <a:lnTo>
                  <a:pt x="21600" y="30161"/>
                </a:lnTo>
                <a:lnTo>
                  <a:pt x="0" y="30161"/>
                </a:lnTo>
                <a:close/>
              </a:path>
              <a:path fill="lightenLess" w="21600" h="30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61">
                <a:moveTo>
                  <a:pt x="21600" y="0"/>
                </a:moveTo>
                <a:lnTo>
                  <a:pt x="21600" y="30161"/>
                </a:lnTo>
                <a:lnTo>
                  <a:pt x="20200" y="28761"/>
                </a:lnTo>
                <a:lnTo>
                  <a:pt x="20200" y="1400"/>
                </a:lnTo>
                <a:close/>
              </a:path>
              <a:path fill="darkenLess" w="21600" h="30161">
                <a:moveTo>
                  <a:pt x="21600" y="30161"/>
                </a:moveTo>
                <a:lnTo>
                  <a:pt x="0" y="30161"/>
                </a:lnTo>
                <a:lnTo>
                  <a:pt x="1400" y="28761"/>
                </a:lnTo>
                <a:lnTo>
                  <a:pt x="20200" y="28761"/>
                </a:lnTo>
                <a:close/>
              </a:path>
              <a:path fill="lighten" w="21600" h="30161">
                <a:moveTo>
                  <a:pt x="0" y="30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61"/>
                </a:lnTo>
                <a:close/>
              </a:path>
              <a:path fill="darken" w="21600" h="30161">
                <a:moveTo>
                  <a:pt x="10800" y="1908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61">
                <a:moveTo>
                  <a:pt x="11905" y="18562"/>
                </a:moveTo>
                <a:lnTo>
                  <a:pt x="11905" y="16604"/>
                </a:lnTo>
                <a:cubicBezTo>
                  <a:pt x="11905" y="15777"/>
                  <a:pt x="12236" y="15081"/>
                  <a:pt x="12837" y="15081"/>
                </a:cubicBezTo>
                <a:cubicBezTo>
                  <a:pt x="13968" y="15081"/>
                  <a:pt x="14865" y="13714"/>
                  <a:pt x="14865" y="12130"/>
                </a:cubicBezTo>
                <a:cubicBezTo>
                  <a:pt x="14865" y="9815"/>
                  <a:pt x="13011" y="8074"/>
                  <a:pt x="10800" y="8074"/>
                </a:cubicBezTo>
                <a:cubicBezTo>
                  <a:pt x="8589" y="8074"/>
                  <a:pt x="6918" y="9815"/>
                  <a:pt x="6918" y="12130"/>
                </a:cubicBezTo>
                <a:lnTo>
                  <a:pt x="8772" y="12130"/>
                </a:lnTo>
                <a:cubicBezTo>
                  <a:pt x="8772" y="10990"/>
                  <a:pt x="9695" y="10102"/>
                  <a:pt x="10800" y="10102"/>
                </a:cubicBezTo>
                <a:cubicBezTo>
                  <a:pt x="11905" y="10102"/>
                  <a:pt x="12837" y="10990"/>
                  <a:pt x="12837" y="12130"/>
                </a:cubicBezTo>
                <a:cubicBezTo>
                  <a:pt x="12837" y="12870"/>
                  <a:pt x="12367" y="13601"/>
                  <a:pt x="11905" y="13601"/>
                </a:cubicBezTo>
                <a:cubicBezTo>
                  <a:pt x="10800" y="13601"/>
                  <a:pt x="9695" y="15081"/>
                  <a:pt x="9695" y="16604"/>
                </a:cubicBezTo>
                <a:lnTo>
                  <a:pt x="9695" y="1856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627120" y="3319560"/>
            <a:ext cx="42840" cy="32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428760" y="27972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7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6" name=""/>
          <p:cNvGraphicFramePr/>
          <p:nvPr/>
        </p:nvGraphicFramePr>
        <p:xfrm>
          <a:off x="1160640" y="826920"/>
          <a:ext cx="6248160" cy="15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826920"/>
                    <a:ext cx="6248160" cy="15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8" name=""/>
          <p:cNvGraphicFramePr/>
          <p:nvPr/>
        </p:nvGraphicFramePr>
        <p:xfrm>
          <a:off x="5559480" y="2128680"/>
          <a:ext cx="450720" cy="3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59480" y="2128680"/>
                    <a:ext cx="45072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822240" y="2857680"/>
            <a:ext cx="83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дставляючи вирази для діючих сил у четверте рівняння,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6" name=""/>
              <p:cNvSpPr txBox="1"/>
              <p:nvPr/>
            </p:nvSpPr>
            <p:spPr>
              <a:xfrm>
                <a:off x="3270240" y="3324240"/>
                <a:ext cx="26575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γ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7" name=""/>
              <p:cNvSpPr txBox="1"/>
              <p:nvPr/>
            </p:nvSpPr>
            <p:spPr>
              <a:xfrm>
                <a:off x="4629240" y="3608280"/>
                <a:ext cx="237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98" name=""/>
          <p:cNvGraphicFramePr/>
          <p:nvPr/>
        </p:nvGraphicFramePr>
        <p:xfrm>
          <a:off x="3078000" y="3892680"/>
          <a:ext cx="2944800" cy="69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8000" y="3892680"/>
                    <a:ext cx="29448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0" name=""/>
          <p:cNvSpPr/>
          <p:nvPr/>
        </p:nvSpPr>
        <p:spPr>
          <a:xfrm>
            <a:off x="1739880" y="5486400"/>
            <a:ext cx="347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695160" y="4737240"/>
            <a:ext cx="317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юючи з рівнянн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2" name=""/>
          <p:cNvGraphicFramePr/>
          <p:nvPr/>
        </p:nvGraphicFramePr>
        <p:xfrm>
          <a:off x="3675240" y="4572000"/>
          <a:ext cx="3058920" cy="68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75240" y="4572000"/>
                    <a:ext cx="30589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4" name=""/>
          <p:cNvSpPr/>
          <p:nvPr/>
        </p:nvSpPr>
        <p:spPr>
          <a:xfrm>
            <a:off x="1704960" y="5286240"/>
            <a:ext cx="233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робимо висновок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5" name=""/>
          <p:cNvGraphicFramePr/>
          <p:nvPr/>
        </p:nvGraphicFramePr>
        <p:xfrm>
          <a:off x="4175280" y="5114880"/>
          <a:ext cx="977760" cy="68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75280" y="5114880"/>
                    <a:ext cx="9777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7" name=""/>
          <p:cNvSpPr/>
          <p:nvPr/>
        </p:nvSpPr>
        <p:spPr>
          <a:xfrm>
            <a:off x="2886120" y="599112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8" name=""/>
          <p:cNvGraphicFramePr/>
          <p:nvPr/>
        </p:nvGraphicFramePr>
        <p:xfrm>
          <a:off x="3720960" y="5818320"/>
          <a:ext cx="1122480" cy="72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20960" y="5818320"/>
                    <a:ext cx="112248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0" name=""/>
          <p:cNvSpPr/>
          <p:nvPr/>
        </p:nvSpPr>
        <p:spPr>
          <a:xfrm>
            <a:off x="6046920" y="2082960"/>
            <a:ext cx="315720" cy="44100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000"/>
              <a:gd name="textAreaBottom" fmla="*/ 420840 h 441000"/>
            </a:gdLst>
            <a:ahLst/>
            <a:rect l="textAreaLeft" t="textAreaTop" r="textAreaRight" b="textAreaBottom"/>
            <a:pathLst>
              <a:path w="21600" h="30161">
                <a:moveTo>
                  <a:pt x="0" y="0"/>
                </a:moveTo>
                <a:lnTo>
                  <a:pt x="21600" y="0"/>
                </a:lnTo>
                <a:lnTo>
                  <a:pt x="21600" y="30161"/>
                </a:lnTo>
                <a:lnTo>
                  <a:pt x="0" y="30161"/>
                </a:lnTo>
                <a:close/>
              </a:path>
              <a:path fill="lightenLess" w="21600" h="30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61">
                <a:moveTo>
                  <a:pt x="21600" y="0"/>
                </a:moveTo>
                <a:lnTo>
                  <a:pt x="21600" y="30161"/>
                </a:lnTo>
                <a:lnTo>
                  <a:pt x="20200" y="28761"/>
                </a:lnTo>
                <a:lnTo>
                  <a:pt x="20200" y="1400"/>
                </a:lnTo>
                <a:close/>
              </a:path>
              <a:path fill="darkenLess" w="21600" h="30161">
                <a:moveTo>
                  <a:pt x="21600" y="30161"/>
                </a:moveTo>
                <a:lnTo>
                  <a:pt x="0" y="30161"/>
                </a:lnTo>
                <a:lnTo>
                  <a:pt x="1400" y="28761"/>
                </a:lnTo>
                <a:lnTo>
                  <a:pt x="20200" y="28761"/>
                </a:lnTo>
                <a:close/>
              </a:path>
              <a:path fill="lighten" w="21600" h="30161">
                <a:moveTo>
                  <a:pt x="0" y="30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61"/>
                </a:lnTo>
                <a:close/>
              </a:path>
              <a:path fill="darken" w="21600" h="30161">
                <a:moveTo>
                  <a:pt x="10800" y="1908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61">
                <a:moveTo>
                  <a:pt x="11905" y="18562"/>
                </a:moveTo>
                <a:lnTo>
                  <a:pt x="11905" y="16604"/>
                </a:lnTo>
                <a:cubicBezTo>
                  <a:pt x="11905" y="15777"/>
                  <a:pt x="12236" y="15081"/>
                  <a:pt x="12837" y="15081"/>
                </a:cubicBezTo>
                <a:cubicBezTo>
                  <a:pt x="13968" y="15081"/>
                  <a:pt x="14865" y="13714"/>
                  <a:pt x="14865" y="12130"/>
                </a:cubicBezTo>
                <a:cubicBezTo>
                  <a:pt x="14865" y="9815"/>
                  <a:pt x="13011" y="8074"/>
                  <a:pt x="10800" y="8074"/>
                </a:cubicBezTo>
                <a:cubicBezTo>
                  <a:pt x="8589" y="8074"/>
                  <a:pt x="6918" y="9815"/>
                  <a:pt x="6918" y="12130"/>
                </a:cubicBezTo>
                <a:lnTo>
                  <a:pt x="8772" y="12130"/>
                </a:lnTo>
                <a:cubicBezTo>
                  <a:pt x="8772" y="10990"/>
                  <a:pt x="9695" y="10102"/>
                  <a:pt x="10800" y="10102"/>
                </a:cubicBezTo>
                <a:cubicBezTo>
                  <a:pt x="11905" y="10102"/>
                  <a:pt x="12837" y="10990"/>
                  <a:pt x="12837" y="12130"/>
                </a:cubicBezTo>
                <a:cubicBezTo>
                  <a:pt x="12837" y="12870"/>
                  <a:pt x="12367" y="13601"/>
                  <a:pt x="11905" y="13601"/>
                </a:cubicBezTo>
                <a:cubicBezTo>
                  <a:pt x="10800" y="13601"/>
                  <a:pt x="9695" y="15081"/>
                  <a:pt x="9695" y="16604"/>
                </a:cubicBezTo>
                <a:lnTo>
                  <a:pt x="9695" y="1856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4210200" y="5896080"/>
            <a:ext cx="476280" cy="628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496800" y="3406680"/>
            <a:ext cx="42840" cy="30448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297000" y="28749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8" name=""/>
          <p:cNvGraphicFramePr/>
          <p:nvPr/>
        </p:nvGraphicFramePr>
        <p:xfrm>
          <a:off x="1089000" y="1112760"/>
          <a:ext cx="621036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112760"/>
                    <a:ext cx="62103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0" name=""/>
          <p:cNvGraphicFramePr/>
          <p:nvPr/>
        </p:nvGraphicFramePr>
        <p:xfrm>
          <a:off x="5060880" y="2405160"/>
          <a:ext cx="58752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0880" y="2405160"/>
                    <a:ext cx="58752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2" name=""/>
              <p:cNvSpPr txBox="1"/>
              <p:nvPr/>
            </p:nvSpPr>
            <p:spPr>
              <a:xfrm>
                <a:off x="5064120" y="3408480"/>
                <a:ext cx="2959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3" name=""/>
          <p:cNvSpPr/>
          <p:nvPr/>
        </p:nvSpPr>
        <p:spPr>
          <a:xfrm>
            <a:off x="1003320" y="3591000"/>
            <a:ext cx="407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юючи отримане раніше рівня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4" name=""/>
          <p:cNvGraphicFramePr/>
          <p:nvPr/>
        </p:nvGraphicFramePr>
        <p:xfrm>
          <a:off x="5335560" y="4132440"/>
          <a:ext cx="3035160" cy="6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560" y="4132440"/>
                    <a:ext cx="30351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6" name=""/>
          <p:cNvSpPr/>
          <p:nvPr/>
        </p:nvSpPr>
        <p:spPr>
          <a:xfrm>
            <a:off x="752400" y="4829040"/>
            <a:ext cx="230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робимо висновок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3368520" y="549900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9" name=""/>
          <p:cNvGraphicFramePr/>
          <p:nvPr/>
        </p:nvGraphicFramePr>
        <p:xfrm>
          <a:off x="3017880" y="4632480"/>
          <a:ext cx="1019160" cy="73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7880" y="4632480"/>
                    <a:ext cx="1019160" cy="73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2" name=""/>
          <p:cNvGraphicFramePr/>
          <p:nvPr/>
        </p:nvGraphicFramePr>
        <p:xfrm>
          <a:off x="4189320" y="5294160"/>
          <a:ext cx="1181160" cy="74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89320" y="5294160"/>
                    <a:ext cx="1181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4" name=""/>
          <p:cNvSpPr/>
          <p:nvPr/>
        </p:nvSpPr>
        <p:spPr>
          <a:xfrm>
            <a:off x="5656320" y="236844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708120" y="4303800"/>
            <a:ext cx="352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(див. відповідь на запитання 1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4040280" y="4286160"/>
            <a:ext cx="13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рівнянн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4735440" y="5295960"/>
            <a:ext cx="513000" cy="723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496800" y="4156200"/>
            <a:ext cx="42840" cy="16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298440" y="35481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27160" y="6397560"/>
            <a:ext cx="61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ля потенціальної енергії       цей рівень прийнятий за нульо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12880" y="341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Гармонічні коливання та закон збереження енерг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416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17680" y="1488960"/>
            <a:ext cx="2663280" cy="1156320"/>
            <a:chOff x="517680" y="1488960"/>
            <a:chExt cx="2663280" cy="11563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517680" y="1488960"/>
              <a:ext cx="216180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623520" y="1779480"/>
              <a:ext cx="114768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1774800" y="1731600"/>
              <a:ext cx="364680" cy="23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578960" y="1982520"/>
              <a:ext cx="4028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22280" y="1963440"/>
              <a:ext cx="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8320" y="2307960"/>
              <a:ext cx="172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ертя відсутн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87280" y="1992240"/>
              <a:ext cx="3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19360" y="197136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38160" y="1885680"/>
              <a:ext cx="44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8" name=""/>
          <p:cNvGraphicFramePr/>
          <p:nvPr/>
        </p:nvGraphicFramePr>
        <p:xfrm>
          <a:off x="1298520" y="1273320"/>
          <a:ext cx="1133640" cy="33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8520" y="1273320"/>
                    <a:ext cx="11336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457440" y="941400"/>
          <a:ext cx="5064120" cy="213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57440" y="941400"/>
                    <a:ext cx="50641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6775560" y="2362320"/>
          <a:ext cx="380880" cy="514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75560" y="2362320"/>
                    <a:ext cx="3808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251400" y="2797200"/>
          <a:ext cx="1497240" cy="74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51400" y="2797200"/>
                    <a:ext cx="14972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736720" y="3595680"/>
          <a:ext cx="5846760" cy="2820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36720" y="3595680"/>
                    <a:ext cx="584676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2571840" y="6378480"/>
          <a:ext cx="299880" cy="365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71840" y="6378480"/>
                    <a:ext cx="29988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0" name=""/>
          <p:cNvGrpSpPr/>
          <p:nvPr/>
        </p:nvGrpSpPr>
        <p:grpSpPr>
          <a:xfrm>
            <a:off x="260280" y="3595680"/>
            <a:ext cx="2251080" cy="2820600"/>
            <a:chOff x="260280" y="3595680"/>
            <a:chExt cx="2251080" cy="2820600"/>
          </a:xfrm>
        </p:grpSpPr>
        <p:grpSp>
          <p:nvGrpSpPr>
            <p:cNvPr id="441" name=""/>
            <p:cNvGrpSpPr/>
            <p:nvPr/>
          </p:nvGrpSpPr>
          <p:grpSpPr>
            <a:xfrm>
              <a:off x="466560" y="3595680"/>
              <a:ext cx="1668240" cy="2509560"/>
              <a:chOff x="466560" y="3595680"/>
              <a:chExt cx="1668240" cy="2509560"/>
            </a:xfrm>
          </p:grpSpPr>
          <p:pic>
            <p:nvPicPr>
              <p:cNvPr id="44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6560" y="5634360"/>
                <a:ext cx="1667520" cy="38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3" name=""/>
              <p:cNvGrpSpPr/>
              <p:nvPr/>
            </p:nvGrpSpPr>
            <p:grpSpPr>
              <a:xfrm>
                <a:off x="1922040" y="3818520"/>
                <a:ext cx="212760" cy="314280"/>
                <a:chOff x="1922040" y="3818520"/>
                <a:chExt cx="212760" cy="3142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922040" y="3818520"/>
                  <a:ext cx="0" cy="31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45" name=""/>
                <p:cNvGraphicFramePr/>
                <p:nvPr/>
              </p:nvGraphicFramePr>
              <p:xfrm>
                <a:off x="1940760" y="3834360"/>
                <a:ext cx="194040" cy="28728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446" name="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1940760" y="3834360"/>
                          <a:ext cx="194040" cy="287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44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59600" y="3595680"/>
                <a:ext cx="84060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1151640" y="3781800"/>
                <a:ext cx="0" cy="232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51640" y="3781800"/>
                <a:ext cx="770040" cy="20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897200" y="5784120"/>
                <a:ext cx="6084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1158840" y="4088880"/>
                <a:ext cx="169200" cy="270000"/>
                <a:chOff x="1158840" y="4088880"/>
                <a:chExt cx="169200" cy="2700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158840" y="4088880"/>
                  <a:ext cx="119880" cy="655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53" name=""/>
                <p:cNvGraphicFramePr/>
                <p:nvPr/>
              </p:nvGraphicFramePr>
              <p:xfrm>
                <a:off x="1161000" y="4164120"/>
                <a:ext cx="167040" cy="194760"/>
              </p:xfrm>
              <a:graphic>
                <a:graphicData uri="http://schemas.openxmlformats.org/presentationml/2006/ole">
                  <p:oleObj r:id="rId20" spid="">
                    <p:embed/>
                    <p:pic>
                      <p:nvPicPr>
                        <p:cNvPr id="454" name="" descr=""/>
                        <p:cNvPicPr/>
                        <p:nvPr/>
                      </p:nvPicPr>
                      <p:blipFill>
                        <a:blip r:embed="rId21"/>
                        <a:stretch/>
                      </p:blipFill>
                      <p:spPr>
                        <a:xfrm>
                          <a:off x="1161000" y="4164120"/>
                          <a:ext cx="167040" cy="194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55" name=""/>
              <p:cNvGraphicFramePr/>
              <p:nvPr/>
            </p:nvGraphicFramePr>
            <p:xfrm>
              <a:off x="1547640" y="4497840"/>
              <a:ext cx="128160" cy="22752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456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1547640" y="4497840"/>
                        <a:ext cx="128160" cy="22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57" name=""/>
            <p:cNvSpPr/>
            <p:nvPr/>
          </p:nvSpPr>
          <p:spPr>
            <a:xfrm>
              <a:off x="260280" y="5987880"/>
              <a:ext cx="225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20840" y="5994000"/>
              <a:ext cx="48096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63520" y="581508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71880" y="560088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79800" y="598500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71880" y="58104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3" name=""/>
            <p:cNvGraphicFramePr/>
            <p:nvPr/>
          </p:nvGraphicFramePr>
          <p:xfrm>
            <a:off x="2208240" y="5586480"/>
            <a:ext cx="169920" cy="24120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2208240" y="5586480"/>
                      <a:ext cx="16992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5" name=""/>
          <p:cNvGrpSpPr/>
          <p:nvPr/>
        </p:nvGrpSpPr>
        <p:grpSpPr>
          <a:xfrm>
            <a:off x="7178760" y="2300400"/>
            <a:ext cx="549360" cy="549000"/>
            <a:chOff x="7178760" y="2300400"/>
            <a:chExt cx="549360" cy="549000"/>
          </a:xfrm>
        </p:grpSpPr>
        <p:sp>
          <p:nvSpPr>
            <p:cNvPr id="466" name="">
              <a:hlinkClick r:id="rId26" action="ppaction://hlinksldjump"/>
            </p:cNvPr>
            <p:cNvSpPr/>
            <p:nvPr/>
          </p:nvSpPr>
          <p:spPr>
            <a:xfrm>
              <a:off x="7178760" y="2360520"/>
              <a:ext cx="470160" cy="488880"/>
            </a:xfrm>
            <a:custGeom>
              <a:avLst/>
              <a:gdLst>
                <a:gd name="textAreaLeft" fmla="*/ 30240 w 470160"/>
                <a:gd name="textAreaRight" fmla="*/ 439920 w 470160"/>
                <a:gd name="textAreaTop" fmla="*/ 30240 h 488880"/>
                <a:gd name="textAreaBottom" fmla="*/ 458640 h 488880"/>
              </a:gdLst>
              <a:ahLst/>
              <a:rect l="textAreaLeft" t="textAreaTop" r="textAreaRight" b="textAreaBottom"/>
              <a:pathLst>
                <a:path w="21600" h="22459">
                  <a:moveTo>
                    <a:pt x="0" y="0"/>
                  </a:moveTo>
                  <a:lnTo>
                    <a:pt x="21600" y="0"/>
                  </a:lnTo>
                  <a:lnTo>
                    <a:pt x="21600" y="22459"/>
                  </a:lnTo>
                  <a:lnTo>
                    <a:pt x="0" y="22459"/>
                  </a:lnTo>
                  <a:close/>
                </a:path>
                <a:path fill="lightenLess" w="21600" h="2245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459">
                  <a:moveTo>
                    <a:pt x="21600" y="0"/>
                  </a:moveTo>
                  <a:lnTo>
                    <a:pt x="21600" y="22459"/>
                  </a:lnTo>
                  <a:lnTo>
                    <a:pt x="20200" y="21059"/>
                  </a:lnTo>
                  <a:lnTo>
                    <a:pt x="20200" y="1400"/>
                  </a:lnTo>
                  <a:close/>
                </a:path>
                <a:path fill="darkenLess" w="21600" h="22459">
                  <a:moveTo>
                    <a:pt x="21600" y="22459"/>
                  </a:moveTo>
                  <a:lnTo>
                    <a:pt x="0" y="22459"/>
                  </a:lnTo>
                  <a:lnTo>
                    <a:pt x="1400" y="21059"/>
                  </a:lnTo>
                  <a:lnTo>
                    <a:pt x="20200" y="21059"/>
                  </a:lnTo>
                  <a:close/>
                </a:path>
                <a:path fill="lighten" w="21600" h="22459">
                  <a:moveTo>
                    <a:pt x="0" y="2245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059"/>
                  </a:lnTo>
                  <a:close/>
                </a:path>
                <a:path fill="darken" w="21600" h="22459">
                  <a:moveTo>
                    <a:pt x="10800" y="15233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459">
                  <a:moveTo>
                    <a:pt x="11905" y="14711"/>
                  </a:moveTo>
                  <a:lnTo>
                    <a:pt x="11905" y="12753"/>
                  </a:lnTo>
                  <a:cubicBezTo>
                    <a:pt x="11905" y="11926"/>
                    <a:pt x="12236" y="11230"/>
                    <a:pt x="12837" y="11230"/>
                  </a:cubicBezTo>
                  <a:cubicBezTo>
                    <a:pt x="13968" y="11230"/>
                    <a:pt x="14865" y="9863"/>
                    <a:pt x="14865" y="8279"/>
                  </a:cubicBezTo>
                  <a:cubicBezTo>
                    <a:pt x="14865" y="5964"/>
                    <a:pt x="13011" y="4223"/>
                    <a:pt x="10800" y="4223"/>
                  </a:cubicBezTo>
                  <a:cubicBezTo>
                    <a:pt x="8589" y="4223"/>
                    <a:pt x="6918" y="5964"/>
                    <a:pt x="6918" y="8279"/>
                  </a:cubicBezTo>
                  <a:lnTo>
                    <a:pt x="8772" y="8279"/>
                  </a:lnTo>
                  <a:cubicBezTo>
                    <a:pt x="8772" y="7139"/>
                    <a:pt x="9695" y="6251"/>
                    <a:pt x="10800" y="6251"/>
                  </a:cubicBezTo>
                  <a:cubicBezTo>
                    <a:pt x="11905" y="6251"/>
                    <a:pt x="12837" y="7139"/>
                    <a:pt x="12837" y="8279"/>
                  </a:cubicBezTo>
                  <a:cubicBezTo>
                    <a:pt x="12837" y="9019"/>
                    <a:pt x="12367" y="9750"/>
                    <a:pt x="11905" y="9750"/>
                  </a:cubicBezTo>
                  <a:cubicBezTo>
                    <a:pt x="10800" y="9750"/>
                    <a:pt x="9695" y="11230"/>
                    <a:pt x="9695" y="12753"/>
                  </a:cubicBezTo>
                  <a:lnTo>
                    <a:pt x="9695" y="1471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74240" y="2300400"/>
              <a:ext cx="35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357720" y="4262400"/>
            <a:ext cx="497880" cy="552240"/>
            <a:chOff x="3357720" y="4262400"/>
            <a:chExt cx="497880" cy="552240"/>
          </a:xfrm>
        </p:grpSpPr>
        <p:sp>
          <p:nvSpPr>
            <p:cNvPr id="469" name="">
              <a:hlinkClick r:id="rId27" action="ppaction://hlinksldjump"/>
            </p:cNvPr>
            <p:cNvSpPr/>
            <p:nvPr/>
          </p:nvSpPr>
          <p:spPr>
            <a:xfrm>
              <a:off x="3357720" y="432576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65440" y="4262400"/>
              <a:ext cx="29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915080" y="5211720"/>
            <a:ext cx="586800" cy="560160"/>
            <a:chOff x="4915080" y="5211720"/>
            <a:chExt cx="586800" cy="560160"/>
          </a:xfrm>
        </p:grpSpPr>
        <p:sp>
          <p:nvSpPr>
            <p:cNvPr id="472" name="">
              <a:hlinkClick r:id="rId28" action="ppaction://hlinksldjump"/>
            </p:cNvPr>
            <p:cNvSpPr/>
            <p:nvPr/>
          </p:nvSpPr>
          <p:spPr>
            <a:xfrm>
              <a:off x="4915080" y="5283000"/>
              <a:ext cx="475920" cy="488880"/>
            </a:xfrm>
            <a:custGeom>
              <a:avLst/>
              <a:gdLst>
                <a:gd name="textAreaLeft" fmla="*/ 30600 w 475920"/>
                <a:gd name="textAreaRight" fmla="*/ 445320 w 47592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88">
                  <a:moveTo>
                    <a:pt x="0" y="0"/>
                  </a:moveTo>
                  <a:lnTo>
                    <a:pt x="21600" y="0"/>
                  </a:lnTo>
                  <a:lnTo>
                    <a:pt x="21600" y="22188"/>
                  </a:lnTo>
                  <a:lnTo>
                    <a:pt x="0" y="22188"/>
                  </a:lnTo>
                  <a:close/>
                </a:path>
                <a:path fill="lightenLess" w="21600" h="221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88">
                  <a:moveTo>
                    <a:pt x="21600" y="0"/>
                  </a:moveTo>
                  <a:lnTo>
                    <a:pt x="21600" y="22188"/>
                  </a:lnTo>
                  <a:lnTo>
                    <a:pt x="20200" y="20788"/>
                  </a:lnTo>
                  <a:lnTo>
                    <a:pt x="20200" y="1400"/>
                  </a:lnTo>
                  <a:close/>
                </a:path>
                <a:path fill="darkenLess" w="21600" h="22188">
                  <a:moveTo>
                    <a:pt x="21600" y="22188"/>
                  </a:moveTo>
                  <a:lnTo>
                    <a:pt x="0" y="22188"/>
                  </a:lnTo>
                  <a:lnTo>
                    <a:pt x="1400" y="20788"/>
                  </a:lnTo>
                  <a:lnTo>
                    <a:pt x="20200" y="20788"/>
                  </a:lnTo>
                  <a:close/>
                </a:path>
                <a:path fill="lighten" w="21600" h="22188">
                  <a:moveTo>
                    <a:pt x="0" y="221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88"/>
                  </a:lnTo>
                  <a:close/>
                </a:path>
                <a:path fill="darken" w="21600" h="22188">
                  <a:moveTo>
                    <a:pt x="10800" y="15098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88">
                  <a:moveTo>
                    <a:pt x="11905" y="14575"/>
                  </a:moveTo>
                  <a:lnTo>
                    <a:pt x="11905" y="12617"/>
                  </a:lnTo>
                  <a:cubicBezTo>
                    <a:pt x="11905" y="11790"/>
                    <a:pt x="12236" y="11094"/>
                    <a:pt x="12837" y="11094"/>
                  </a:cubicBezTo>
                  <a:cubicBezTo>
                    <a:pt x="13968" y="11094"/>
                    <a:pt x="14865" y="9727"/>
                    <a:pt x="14865" y="8143"/>
                  </a:cubicBezTo>
                  <a:cubicBezTo>
                    <a:pt x="14865" y="5828"/>
                    <a:pt x="13011" y="4087"/>
                    <a:pt x="10800" y="4087"/>
                  </a:cubicBezTo>
                  <a:cubicBezTo>
                    <a:pt x="8589" y="4087"/>
                    <a:pt x="6918" y="5828"/>
                    <a:pt x="6918" y="8143"/>
                  </a:cubicBezTo>
                  <a:lnTo>
                    <a:pt x="8772" y="8143"/>
                  </a:lnTo>
                  <a:cubicBezTo>
                    <a:pt x="8772" y="7003"/>
                    <a:pt x="9695" y="6115"/>
                    <a:pt x="10800" y="6115"/>
                  </a:cubicBezTo>
                  <a:cubicBezTo>
                    <a:pt x="11905" y="6115"/>
                    <a:pt x="12837" y="7003"/>
                    <a:pt x="12837" y="8143"/>
                  </a:cubicBezTo>
                  <a:cubicBezTo>
                    <a:pt x="12837" y="8883"/>
                    <a:pt x="12367" y="9614"/>
                    <a:pt x="11905" y="9614"/>
                  </a:cubicBezTo>
                  <a:cubicBezTo>
                    <a:pt x="10800" y="9614"/>
                    <a:pt x="9695" y="11094"/>
                    <a:pt x="9695" y="12617"/>
                  </a:cubicBezTo>
                  <a:lnTo>
                    <a:pt x="9695" y="14575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05160" y="521172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470640" y="4319640"/>
            <a:ext cx="600120" cy="549360"/>
            <a:chOff x="6470640" y="4319640"/>
            <a:chExt cx="600120" cy="549360"/>
          </a:xfrm>
        </p:grpSpPr>
        <p:sp>
          <p:nvSpPr>
            <p:cNvPr id="475" name="">
              <a:hlinkClick r:id="rId29" action="ppaction://hlinksldjump"/>
            </p:cNvPr>
            <p:cNvSpPr/>
            <p:nvPr/>
          </p:nvSpPr>
          <p:spPr>
            <a:xfrm>
              <a:off x="6470640" y="438012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07440" y="4319640"/>
              <a:ext cx="46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74600" y="860400"/>
            <a:ext cx="29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) пружинний мая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7840" y="3151080"/>
            <a:ext cx="29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б) математичний мая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Управляющая кнопка: домой 85">
            <a:hlinkClick r:id="rId30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5" name=""/>
          <p:cNvGraphicFramePr/>
          <p:nvPr/>
        </p:nvGraphicFramePr>
        <p:xfrm>
          <a:off x="3065400" y="1584360"/>
          <a:ext cx="201636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5400" y="1584360"/>
                    <a:ext cx="20163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7" name=""/>
          <p:cNvGraphicFramePr/>
          <p:nvPr/>
        </p:nvGraphicFramePr>
        <p:xfrm>
          <a:off x="1568520" y="861840"/>
          <a:ext cx="3181320" cy="6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8520" y="861840"/>
                    <a:ext cx="318132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4984920" y="1042920"/>
                <a:ext cx="2374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0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5065560" y="154944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369720" y="2498760"/>
            <a:ext cx="43200" cy="3635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171360" y="19764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1" name=""/>
          <p:cNvGraphicFramePr/>
          <p:nvPr/>
        </p:nvGraphicFramePr>
        <p:xfrm>
          <a:off x="3156120" y="3932280"/>
          <a:ext cx="261612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6120" y="3932280"/>
                    <a:ext cx="2616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3" name=""/>
          <p:cNvSpPr/>
          <p:nvPr/>
        </p:nvSpPr>
        <p:spPr>
          <a:xfrm>
            <a:off x="942840" y="2209680"/>
            <a:ext cx="7861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найдемо першу та другу похідні за часом від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а підставимо отримані вирази у диференціальне рівняння. Т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4" name=""/>
          <p:cNvGraphicFramePr/>
          <p:nvPr/>
        </p:nvGraphicFramePr>
        <p:xfrm>
          <a:off x="2060640" y="3211560"/>
          <a:ext cx="393840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60640" y="3211560"/>
                    <a:ext cx="39384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6" name=""/>
          <p:cNvGraphicFramePr/>
          <p:nvPr/>
        </p:nvGraphicFramePr>
        <p:xfrm>
          <a:off x="1219320" y="2720880"/>
          <a:ext cx="7546680" cy="63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2720880"/>
                    <a:ext cx="75466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8" name=""/>
          <p:cNvSpPr/>
          <p:nvPr/>
        </p:nvSpPr>
        <p:spPr>
          <a:xfrm>
            <a:off x="990720" y="3247920"/>
            <a:ext cx="11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9" name=""/>
          <p:cNvGraphicFramePr/>
          <p:nvPr/>
        </p:nvGraphicFramePr>
        <p:xfrm>
          <a:off x="808200" y="3591000"/>
          <a:ext cx="400176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8200" y="3591000"/>
                    <a:ext cx="4001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1" name=""/>
          <p:cNvSpPr/>
          <p:nvPr/>
        </p:nvSpPr>
        <p:spPr>
          <a:xfrm>
            <a:off x="6035760" y="325584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4829040" y="3608280"/>
            <a:ext cx="27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рівняння набуває вигля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5691240" y="3913200"/>
            <a:ext cx="66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е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4" name=""/>
          <p:cNvGraphicFramePr/>
          <p:nvPr/>
        </p:nvGraphicFramePr>
        <p:xfrm>
          <a:off x="768240" y="4281480"/>
          <a:ext cx="4098960" cy="67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8240" y="4281480"/>
                    <a:ext cx="40989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6" name=""/>
          <p:cNvGraphicFramePr/>
          <p:nvPr/>
        </p:nvGraphicFramePr>
        <p:xfrm>
          <a:off x="5419800" y="4371840"/>
          <a:ext cx="3800520" cy="528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9800" y="4371840"/>
                    <a:ext cx="38005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8" name=""/>
          <p:cNvSpPr/>
          <p:nvPr/>
        </p:nvSpPr>
        <p:spPr>
          <a:xfrm flipV="1">
            <a:off x="4178160" y="3996720"/>
            <a:ext cx="357480" cy="222120"/>
          </a:xfrm>
          <a:custGeom>
            <a:avLst/>
            <a:gdLst>
              <a:gd name="textAreaLeft" fmla="*/ 78480 w 357480"/>
              <a:gd name="textAreaRight" fmla="*/ 279000 w 357480"/>
              <a:gd name="textAreaTop" fmla="*/ 48600 h 222120"/>
              <a:gd name="textAreaBottom" fmla="*/ 17352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404640" y="4951440"/>
            <a:ext cx="10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Рівніст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0" name=""/>
          <p:cNvGraphicFramePr/>
          <p:nvPr/>
        </p:nvGraphicFramePr>
        <p:xfrm>
          <a:off x="1438200" y="4950000"/>
          <a:ext cx="2695680" cy="371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38200" y="4950000"/>
                    <a:ext cx="269568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2" name=""/>
          <p:cNvSpPr/>
          <p:nvPr/>
        </p:nvSpPr>
        <p:spPr>
          <a:xfrm>
            <a:off x="392040" y="5283360"/>
            <a:ext cx="889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ипадку, якщо              і                 З останнього рівняння отримуємо вираз для шуканої величини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3" name=""/>
          <p:cNvGraphicFramePr/>
          <p:nvPr/>
        </p:nvGraphicFramePr>
        <p:xfrm>
          <a:off x="2284560" y="5326200"/>
          <a:ext cx="363240" cy="271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8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4560" y="5326200"/>
                    <a:ext cx="36324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5" name=""/>
          <p:cNvGraphicFramePr/>
          <p:nvPr/>
        </p:nvGraphicFramePr>
        <p:xfrm>
          <a:off x="3316320" y="5313240"/>
          <a:ext cx="453960" cy="28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8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16320" y="5313240"/>
                    <a:ext cx="45396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7" name=""/>
          <p:cNvSpPr/>
          <p:nvPr/>
        </p:nvSpPr>
        <p:spPr>
          <a:xfrm>
            <a:off x="2854440" y="3990960"/>
            <a:ext cx="284040" cy="236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660240" y="4492800"/>
            <a:ext cx="284400" cy="236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5035680" y="4506840"/>
            <a:ext cx="357120" cy="222480"/>
          </a:xfrm>
          <a:custGeom>
            <a:avLst/>
            <a:gdLst>
              <a:gd name="textAreaLeft" fmla="*/ 78480 w 357120"/>
              <a:gd name="textAreaRight" fmla="*/ 278640 w 357120"/>
              <a:gd name="textAreaTop" fmla="*/ 48960 h 222480"/>
              <a:gd name="textAreaBottom" fmla="*/ 173520 h 2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flipV="1">
            <a:off x="2602080" y="5001480"/>
            <a:ext cx="357120" cy="222120"/>
          </a:xfrm>
          <a:custGeom>
            <a:avLst/>
            <a:gdLst>
              <a:gd name="textAreaLeft" fmla="*/ 78480 w 357120"/>
              <a:gd name="textAreaRight" fmla="*/ 278640 w 357120"/>
              <a:gd name="textAreaTop" fmla="*/ 48600 h 222120"/>
              <a:gd name="textAreaBottom" fmla="*/ 17352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1317600" y="4992840"/>
            <a:ext cx="284040" cy="236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1971720" y="5337000"/>
            <a:ext cx="284040" cy="236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flipV="1">
            <a:off x="2943360" y="5342760"/>
            <a:ext cx="357120" cy="222120"/>
          </a:xfrm>
          <a:custGeom>
            <a:avLst/>
            <a:gdLst>
              <a:gd name="textAreaLeft" fmla="*/ 78480 w 357120"/>
              <a:gd name="textAreaRight" fmla="*/ 278640 w 357120"/>
              <a:gd name="textAreaTop" fmla="*/ 48600 h 222120"/>
              <a:gd name="textAreaBottom" fmla="*/ 17352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4075200" y="4929120"/>
            <a:ext cx="54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буде виконуватися для всіх значен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лише у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5" name=""/>
          <p:cNvGraphicFramePr/>
          <p:nvPr/>
        </p:nvGraphicFramePr>
        <p:xfrm>
          <a:off x="3386160" y="5721480"/>
          <a:ext cx="1758960" cy="753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9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86160" y="5721480"/>
                    <a:ext cx="175896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7" name=""/>
          <p:cNvSpPr/>
          <p:nvPr/>
        </p:nvSpPr>
        <p:spPr>
          <a:xfrm>
            <a:off x="4054320" y="5702400"/>
            <a:ext cx="951120" cy="723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Управляющая кнопка: домой 85">
            <a:hlinkClick r:id="rId2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920880" y="3203640"/>
            <a:ext cx="71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яку, з урахуванням виразів для 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і     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ожна подати у вигляді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888840" y="1917720"/>
            <a:ext cx="8318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сля підстановки виразу для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у диференціальне рівняння і використання тригонометричних формул для синуса і косинуса різниці двох чисел можна отримати рівняння такої структури:                                     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(див. відповідь на запитання 11.3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3" name=""/>
          <p:cNvGraphicFramePr/>
          <p:nvPr/>
        </p:nvGraphicFramePr>
        <p:xfrm>
          <a:off x="2808360" y="3525840"/>
          <a:ext cx="368460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8360" y="3525840"/>
                    <a:ext cx="36846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5" name=""/>
          <p:cNvSpPr/>
          <p:nvPr/>
        </p:nvSpPr>
        <p:spPr>
          <a:xfrm>
            <a:off x="888840" y="2924280"/>
            <a:ext cx="75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 рівність має виконуватися для всіх значен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маємо сист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6" name=""/>
          <p:cNvGraphicFramePr/>
          <p:nvPr/>
        </p:nvGraphicFramePr>
        <p:xfrm>
          <a:off x="7962840" y="2762280"/>
          <a:ext cx="97632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62840" y="2762280"/>
                    <a:ext cx="9763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9" name=""/>
          <p:cNvGraphicFramePr/>
          <p:nvPr/>
        </p:nvGraphicFramePr>
        <p:xfrm>
          <a:off x="2714760" y="1527120"/>
          <a:ext cx="246996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4760" y="1527120"/>
                    <a:ext cx="2469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1" name=""/>
          <p:cNvGraphicFramePr/>
          <p:nvPr/>
        </p:nvGraphicFramePr>
        <p:xfrm>
          <a:off x="1692360" y="804960"/>
          <a:ext cx="3181320" cy="6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804960"/>
                    <a:ext cx="31813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13" name=""/>
              <p:cNvSpPr txBox="1"/>
              <p:nvPr/>
            </p:nvSpPr>
            <p:spPr>
              <a:xfrm>
                <a:off x="5108400" y="985680"/>
                <a:ext cx="2374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4" name=""/>
          <p:cNvSpPr/>
          <p:nvPr/>
        </p:nvSpPr>
        <p:spPr>
          <a:xfrm>
            <a:off x="5189400" y="149220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5" name=""/>
          <p:cNvGraphicFramePr/>
          <p:nvPr/>
        </p:nvGraphicFramePr>
        <p:xfrm>
          <a:off x="4414680" y="2444760"/>
          <a:ext cx="2419560" cy="33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4680" y="2444760"/>
                    <a:ext cx="2419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7" name=""/>
          <p:cNvSpPr/>
          <p:nvPr/>
        </p:nvSpPr>
        <p:spPr>
          <a:xfrm>
            <a:off x="817560" y="4583160"/>
            <a:ext cx="825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Якщо тепер кожне з рівнянь піднести до квадрата, а потім, враховуючи основну тригонометричну тотожність, додати відповідні частини отриманих рівнянь, то матимемо так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19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9" name=""/>
          <p:cNvGraphicFramePr/>
          <p:nvPr/>
        </p:nvGraphicFramePr>
        <p:xfrm>
          <a:off x="2962440" y="5153040"/>
          <a:ext cx="295092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62440" y="5153040"/>
                    <a:ext cx="29509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1" name=""/>
          <p:cNvSpPr/>
          <p:nvPr/>
        </p:nvSpPr>
        <p:spPr>
          <a:xfrm>
            <a:off x="1989000" y="6029280"/>
            <a:ext cx="109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3" name=""/>
          <p:cNvGraphicFramePr/>
          <p:nvPr/>
        </p:nvGraphicFramePr>
        <p:xfrm>
          <a:off x="3133800" y="5900760"/>
          <a:ext cx="2860560" cy="86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3800" y="5900760"/>
                    <a:ext cx="28605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5" name=""/>
          <p:cNvSpPr/>
          <p:nvPr/>
        </p:nvSpPr>
        <p:spPr>
          <a:xfrm>
            <a:off x="3543480" y="5829480"/>
            <a:ext cx="2295360" cy="914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517680" y="2492280"/>
            <a:ext cx="44280" cy="41292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318960" y="19749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4430880" y="2514600"/>
            <a:ext cx="284040" cy="236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8136000" y="2843280"/>
            <a:ext cx="284040" cy="236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4073400" y="3247920"/>
            <a:ext cx="284400" cy="236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 flipV="1">
            <a:off x="5532480" y="2516040"/>
            <a:ext cx="357120" cy="222480"/>
          </a:xfrm>
          <a:custGeom>
            <a:avLst/>
            <a:gdLst>
              <a:gd name="textAreaLeft" fmla="*/ 78480 w 357120"/>
              <a:gd name="textAreaRight" fmla="*/ 278640 w 357120"/>
              <a:gd name="textAreaTop" fmla="*/ 48960 h 222480"/>
              <a:gd name="textAreaBottom" fmla="*/ 173520 h 2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 flipV="1">
            <a:off x="4614840" y="3252240"/>
            <a:ext cx="357120" cy="222120"/>
          </a:xfrm>
          <a:custGeom>
            <a:avLst/>
            <a:gdLst>
              <a:gd name="textAreaLeft" fmla="*/ 78480 w 357120"/>
              <a:gd name="textAreaRight" fmla="*/ 278640 w 357120"/>
              <a:gd name="textAreaTop" fmla="*/ 48600 h 222120"/>
              <a:gd name="textAreaBottom" fmla="*/ 17352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8128080" y="3202920"/>
            <a:ext cx="357120" cy="222120"/>
          </a:xfrm>
          <a:custGeom>
            <a:avLst/>
            <a:gdLst>
              <a:gd name="textAreaLeft" fmla="*/ 78480 w 357120"/>
              <a:gd name="textAreaRight" fmla="*/ 278640 w 357120"/>
              <a:gd name="textAreaTop" fmla="*/ 48600 h 222120"/>
              <a:gd name="textAreaBottom" fmla="*/ 17352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Управляющая кнопка: домой 85">
            <a:hlinkClick r:id="rId1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"/>
          <p:cNvSpPr/>
          <p:nvPr/>
        </p:nvSpPr>
        <p:spPr>
          <a:xfrm>
            <a:off x="1103400" y="2262240"/>
            <a:ext cx="76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ри                 вираз під знаком квадратного кореня у знаменнику має бути мінімальним. А цей вираз є квадратним тричленом відносно        Дійсно,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8" name=""/>
          <p:cNvGraphicFramePr/>
          <p:nvPr/>
        </p:nvGraphicFramePr>
        <p:xfrm>
          <a:off x="1538280" y="1019160"/>
          <a:ext cx="351144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1019160"/>
                    <a:ext cx="35114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0" name=""/>
          <p:cNvGraphicFramePr/>
          <p:nvPr/>
        </p:nvGraphicFramePr>
        <p:xfrm>
          <a:off x="5175360" y="1187280"/>
          <a:ext cx="1625400" cy="4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75360" y="1187280"/>
                    <a:ext cx="1625400" cy="4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2" name=""/>
          <p:cNvGraphicFramePr/>
          <p:nvPr/>
        </p:nvGraphicFramePr>
        <p:xfrm>
          <a:off x="1685880" y="2252520"/>
          <a:ext cx="878040" cy="3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5880" y="2252520"/>
                    <a:ext cx="87804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1563840" y="110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457200" y="5813280"/>
            <a:ext cx="87393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значимо, що за умови               залежність           взагалі буде монотонно спадно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2932200" y="5322960"/>
            <a:ext cx="94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8" name=""/>
          <p:cNvGraphicFramePr/>
          <p:nvPr/>
        </p:nvGraphicFramePr>
        <p:xfrm>
          <a:off x="3808440" y="5226120"/>
          <a:ext cx="2097000" cy="53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440" y="5226120"/>
                    <a:ext cx="20970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0" name=""/>
          <p:cNvGraphicFramePr/>
          <p:nvPr/>
        </p:nvGraphicFramePr>
        <p:xfrm>
          <a:off x="7156440" y="2468520"/>
          <a:ext cx="442800" cy="35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56440" y="2468520"/>
                    <a:ext cx="4428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2" name=""/>
          <p:cNvSpPr/>
          <p:nvPr/>
        </p:nvSpPr>
        <p:spPr>
          <a:xfrm>
            <a:off x="6818400" y="115236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3828960" y="5229360"/>
            <a:ext cx="1981440" cy="52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4" name=""/>
          <p:cNvGraphicFramePr/>
          <p:nvPr/>
        </p:nvGraphicFramePr>
        <p:xfrm>
          <a:off x="4883040" y="5872320"/>
          <a:ext cx="574920" cy="32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83040" y="5872320"/>
                    <a:ext cx="57492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7" name=""/>
          <p:cNvGraphicFramePr/>
          <p:nvPr/>
        </p:nvGraphicFramePr>
        <p:xfrm>
          <a:off x="2998800" y="5762520"/>
          <a:ext cx="72396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98800" y="5762520"/>
                    <a:ext cx="7239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9" name=""/>
          <p:cNvSpPr/>
          <p:nvPr/>
        </p:nvSpPr>
        <p:spPr>
          <a:xfrm>
            <a:off x="419040" y="2736720"/>
            <a:ext cx="42840" cy="3546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220680" y="221472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1" name=""/>
          <p:cNvGraphicFramePr/>
          <p:nvPr/>
        </p:nvGraphicFramePr>
        <p:xfrm>
          <a:off x="1932120" y="2838600"/>
          <a:ext cx="556416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32120" y="2838600"/>
                    <a:ext cx="5564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3" name=""/>
          <p:cNvSpPr/>
          <p:nvPr/>
        </p:nvSpPr>
        <p:spPr>
          <a:xfrm>
            <a:off x="1141560" y="3392640"/>
            <a:ext cx="71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Який, до того ж, можна переписати, виділивши повний квадра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4" name=""/>
          <p:cNvGraphicFramePr/>
          <p:nvPr/>
        </p:nvGraphicFramePr>
        <p:xfrm>
          <a:off x="565200" y="3693960"/>
          <a:ext cx="8165880" cy="57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5200" y="3693960"/>
                    <a:ext cx="816588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6" name=""/>
          <p:cNvSpPr/>
          <p:nvPr/>
        </p:nvSpPr>
        <p:spPr>
          <a:xfrm>
            <a:off x="507960" y="4340160"/>
            <a:ext cx="809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епер очевидно, що вираз, про який ідеться, буде мінімального значення, ко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7" name=""/>
          <p:cNvGraphicFramePr/>
          <p:nvPr/>
        </p:nvGraphicFramePr>
        <p:xfrm>
          <a:off x="3373560" y="4632480"/>
          <a:ext cx="2328840" cy="533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73560" y="4632480"/>
                    <a:ext cx="2328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9" name="Управляющая кнопка: домой 85">
            <a:hlinkClick r:id="rId2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8172360" y="627696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457200" y="8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2" name=""/>
          <p:cNvGraphicFramePr/>
          <p:nvPr/>
        </p:nvGraphicFramePr>
        <p:xfrm>
          <a:off x="2557440" y="1012680"/>
          <a:ext cx="3240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7440" y="1012680"/>
                    <a:ext cx="3240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4" name=""/>
          <p:cNvGraphicFramePr/>
          <p:nvPr/>
        </p:nvGraphicFramePr>
        <p:xfrm>
          <a:off x="2889360" y="1903320"/>
          <a:ext cx="2232000" cy="4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89360" y="1903320"/>
                    <a:ext cx="22320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6" name=""/>
          <p:cNvSpPr/>
          <p:nvPr/>
        </p:nvSpPr>
        <p:spPr>
          <a:xfrm>
            <a:off x="914400" y="2565360"/>
            <a:ext cx="78962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Як було показано у відповіді на запитання 12.1, при                                під коренем у знаменнику залишається ли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890640" y="4375080"/>
            <a:ext cx="7966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ернемо увагу на той факт, що цю формулу можна використовувати лише для               (див. 12.1), хоча з остаточного виразу для         не видно, чому він буде неправильним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2387520" y="4452840"/>
            <a:ext cx="60962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9" name=""/>
          <p:cNvGraphicFramePr/>
          <p:nvPr/>
        </p:nvGraphicFramePr>
        <p:xfrm>
          <a:off x="3524400" y="3435480"/>
          <a:ext cx="246060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4400" y="3435480"/>
                    <a:ext cx="24606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1" name=""/>
          <p:cNvSpPr/>
          <p:nvPr/>
        </p:nvSpPr>
        <p:spPr>
          <a:xfrm>
            <a:off x="5132520" y="189216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3" name=""/>
          <p:cNvGraphicFramePr/>
          <p:nvPr/>
        </p:nvGraphicFramePr>
        <p:xfrm>
          <a:off x="6326280" y="2517840"/>
          <a:ext cx="166212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6280" y="2517840"/>
                    <a:ext cx="1662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5" name=""/>
          <p:cNvSpPr/>
          <p:nvPr/>
        </p:nvSpPr>
        <p:spPr>
          <a:xfrm>
            <a:off x="-825480" y="35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792600" y="3408480"/>
            <a:ext cx="2076480" cy="85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708120" y="34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8" name=""/>
          <p:cNvGraphicFramePr/>
          <p:nvPr/>
        </p:nvGraphicFramePr>
        <p:xfrm>
          <a:off x="6354720" y="4795920"/>
          <a:ext cx="487440" cy="42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54720" y="4795920"/>
                    <a:ext cx="4874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1" name=""/>
          <p:cNvGraphicFramePr/>
          <p:nvPr/>
        </p:nvGraphicFramePr>
        <p:xfrm>
          <a:off x="3397320" y="5065560"/>
          <a:ext cx="1419120" cy="66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97320" y="5065560"/>
                    <a:ext cx="1419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3" name=""/>
          <p:cNvSpPr/>
          <p:nvPr/>
        </p:nvSpPr>
        <p:spPr>
          <a:xfrm>
            <a:off x="644400" y="3146400"/>
            <a:ext cx="42840" cy="24876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455760" y="26049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5" name=""/>
          <p:cNvGraphicFramePr/>
          <p:nvPr/>
        </p:nvGraphicFramePr>
        <p:xfrm>
          <a:off x="1403280" y="4724280"/>
          <a:ext cx="72396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4724280"/>
                    <a:ext cx="7239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7" name=""/>
          <p:cNvGraphicFramePr/>
          <p:nvPr/>
        </p:nvGraphicFramePr>
        <p:xfrm>
          <a:off x="5108400" y="2898720"/>
          <a:ext cx="1459080" cy="47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8400" y="2898720"/>
                    <a:ext cx="14590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9" name=""/>
          <p:cNvSpPr/>
          <p:nvPr/>
        </p:nvSpPr>
        <p:spPr>
          <a:xfrm>
            <a:off x="2185920" y="3560760"/>
            <a:ext cx="8175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ож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0" name=""/>
          <p:cNvGraphicFramePr/>
          <p:nvPr/>
        </p:nvGraphicFramePr>
        <p:xfrm>
          <a:off x="3046320" y="3602160"/>
          <a:ext cx="487440" cy="425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46320" y="3602160"/>
                    <a:ext cx="4874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2" name="Управляющая кнопка: домой 85">
            <a:hlinkClick r:id="rId1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8172360" y="627696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"/>
          <p:cNvSpPr/>
          <p:nvPr/>
        </p:nvSpPr>
        <p:spPr>
          <a:xfrm>
            <a:off x="4064040" y="1996920"/>
            <a:ext cx="4883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пишемо вирази для амплітуди вимушених коливань для двох різних значень </a:t>
            </a:r>
            <a:r>
              <a:rPr b="0" i="1" lang="el-GR" sz="1800" spc="-1" strike="noStrike">
                <a:solidFill>
                  <a:srgbClr val="000099"/>
                </a:solidFill>
                <a:latin typeface="Times New Roman"/>
              </a:rPr>
              <a:t>β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(     і     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40788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6" name=""/>
          <p:cNvGraphicFramePr/>
          <p:nvPr/>
        </p:nvGraphicFramePr>
        <p:xfrm>
          <a:off x="7797960" y="2282760"/>
          <a:ext cx="26028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7960" y="228276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8" name=""/>
          <p:cNvGraphicFramePr/>
          <p:nvPr/>
        </p:nvGraphicFramePr>
        <p:xfrm>
          <a:off x="8161200" y="2276640"/>
          <a:ext cx="282600" cy="32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61200" y="2276640"/>
                    <a:ext cx="2826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0" name=""/>
          <p:cNvSpPr/>
          <p:nvPr/>
        </p:nvSpPr>
        <p:spPr>
          <a:xfrm>
            <a:off x="2635200" y="1011240"/>
            <a:ext cx="41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графіки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побудовані для різних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мають одну спільну точку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4129200" y="4470480"/>
            <a:ext cx="431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формул видно, що амплітуди мають однакове значення лише за умови, якщ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2" name=""/>
          <p:cNvGraphicFramePr/>
          <p:nvPr/>
        </p:nvGraphicFramePr>
        <p:xfrm>
          <a:off x="8772480" y="5478480"/>
          <a:ext cx="11448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72480" y="54784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4" name=""/>
          <p:cNvGraphicFramePr/>
          <p:nvPr/>
        </p:nvGraphicFramePr>
        <p:xfrm>
          <a:off x="6254640" y="470520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54640" y="47052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6" name=""/>
          <p:cNvGraphicFramePr/>
          <p:nvPr/>
        </p:nvGraphicFramePr>
        <p:xfrm>
          <a:off x="3349800" y="4705200"/>
          <a:ext cx="114120" cy="21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9800" y="4705200"/>
                    <a:ext cx="114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8" name="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0" name=""/>
          <p:cNvGraphicFramePr/>
          <p:nvPr/>
        </p:nvGraphicFramePr>
        <p:xfrm>
          <a:off x="1693800" y="5164200"/>
          <a:ext cx="114480" cy="21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93800" y="51642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2" name=""/>
          <p:cNvSpPr/>
          <p:nvPr/>
        </p:nvSpPr>
        <p:spPr>
          <a:xfrm>
            <a:off x="3892680" y="5483160"/>
            <a:ext cx="53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 з урахуванням того, що             , отримуємо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3" name=""/>
          <p:cNvGraphicFramePr/>
          <p:nvPr/>
        </p:nvGraphicFramePr>
        <p:xfrm>
          <a:off x="6170760" y="1317600"/>
          <a:ext cx="566640" cy="220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2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0760" y="1317600"/>
                    <a:ext cx="566640" cy="2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5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6" name=""/>
          <p:cNvGraphicFramePr/>
          <p:nvPr/>
        </p:nvGraphicFramePr>
        <p:xfrm>
          <a:off x="4772160" y="2571840"/>
          <a:ext cx="3346200" cy="876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72160" y="2571840"/>
                    <a:ext cx="33462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8" name=""/>
          <p:cNvGraphicFramePr/>
          <p:nvPr/>
        </p:nvGraphicFramePr>
        <p:xfrm>
          <a:off x="4667400" y="3495600"/>
          <a:ext cx="3352680" cy="874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67400" y="3495600"/>
                    <a:ext cx="3352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1" name=""/>
          <p:cNvGraphicFramePr/>
          <p:nvPr/>
        </p:nvGraphicFramePr>
        <p:xfrm>
          <a:off x="5432400" y="5108400"/>
          <a:ext cx="1449360" cy="411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32400" y="5108400"/>
                    <a:ext cx="144936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4" name=""/>
          <p:cNvGraphicFramePr/>
          <p:nvPr/>
        </p:nvGraphicFramePr>
        <p:xfrm>
          <a:off x="6491160" y="5489640"/>
          <a:ext cx="781200" cy="36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3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91160" y="5489640"/>
                    <a:ext cx="7812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7" name=""/>
          <p:cNvGraphicFramePr/>
          <p:nvPr/>
        </p:nvGraphicFramePr>
        <p:xfrm>
          <a:off x="5811840" y="5929200"/>
          <a:ext cx="657360" cy="290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3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811840" y="5929200"/>
                    <a:ext cx="6573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9" name=""/>
          <p:cNvSpPr/>
          <p:nvPr/>
        </p:nvSpPr>
        <p:spPr>
          <a:xfrm>
            <a:off x="3375000" y="20509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2252520" y="1036800"/>
            <a:ext cx="384480" cy="520560"/>
          </a:xfrm>
          <a:custGeom>
            <a:avLst/>
            <a:gdLst>
              <a:gd name="textAreaLeft" fmla="*/ 24840 w 384480"/>
              <a:gd name="textAreaRight" fmla="*/ 359640 w 384480"/>
              <a:gd name="textAreaTop" fmla="*/ 24840 h 520560"/>
              <a:gd name="textAreaBottom" fmla="*/ 495720 h 520560"/>
            </a:gdLst>
            <a:ahLst/>
            <a:rect l="textAreaLeft" t="textAreaTop" r="textAreaRight" b="textAreaBottom"/>
            <a:pathLst>
              <a:path w="21600" h="29238">
                <a:moveTo>
                  <a:pt x="0" y="0"/>
                </a:moveTo>
                <a:lnTo>
                  <a:pt x="21600" y="0"/>
                </a:lnTo>
                <a:lnTo>
                  <a:pt x="21600" y="29238"/>
                </a:lnTo>
                <a:lnTo>
                  <a:pt x="0" y="29238"/>
                </a:lnTo>
                <a:close/>
              </a:path>
              <a:path fill="lightenLess" w="21600" h="292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38">
                <a:moveTo>
                  <a:pt x="21600" y="0"/>
                </a:moveTo>
                <a:lnTo>
                  <a:pt x="21600" y="29238"/>
                </a:lnTo>
                <a:lnTo>
                  <a:pt x="20200" y="27838"/>
                </a:lnTo>
                <a:lnTo>
                  <a:pt x="20200" y="1400"/>
                </a:lnTo>
                <a:close/>
              </a:path>
              <a:path fill="darkenLess" w="21600" h="29238">
                <a:moveTo>
                  <a:pt x="21600" y="29238"/>
                </a:moveTo>
                <a:lnTo>
                  <a:pt x="0" y="29238"/>
                </a:lnTo>
                <a:lnTo>
                  <a:pt x="1400" y="27838"/>
                </a:lnTo>
                <a:lnTo>
                  <a:pt x="20200" y="27838"/>
                </a:lnTo>
                <a:close/>
              </a:path>
              <a:path fill="lighten" w="21600" h="29238">
                <a:moveTo>
                  <a:pt x="0" y="292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38"/>
                </a:lnTo>
                <a:close/>
              </a:path>
              <a:path fill="darken" w="21600" h="29238">
                <a:moveTo>
                  <a:pt x="10800" y="1862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238">
                <a:moveTo>
                  <a:pt x="11905" y="18100"/>
                </a:moveTo>
                <a:lnTo>
                  <a:pt x="11905" y="16142"/>
                </a:lnTo>
                <a:cubicBezTo>
                  <a:pt x="11905" y="15315"/>
                  <a:pt x="12236" y="14619"/>
                  <a:pt x="12837" y="14619"/>
                </a:cubicBezTo>
                <a:cubicBezTo>
                  <a:pt x="13968" y="14619"/>
                  <a:pt x="14865" y="13252"/>
                  <a:pt x="14865" y="11668"/>
                </a:cubicBezTo>
                <a:cubicBezTo>
                  <a:pt x="14865" y="9353"/>
                  <a:pt x="13011" y="7612"/>
                  <a:pt x="10800" y="7612"/>
                </a:cubicBezTo>
                <a:cubicBezTo>
                  <a:pt x="8589" y="7612"/>
                  <a:pt x="6918" y="9353"/>
                  <a:pt x="6918" y="11668"/>
                </a:cubicBezTo>
                <a:lnTo>
                  <a:pt x="8772" y="11668"/>
                </a:lnTo>
                <a:cubicBezTo>
                  <a:pt x="8772" y="10528"/>
                  <a:pt x="9695" y="9640"/>
                  <a:pt x="10800" y="9640"/>
                </a:cubicBezTo>
                <a:cubicBezTo>
                  <a:pt x="11905" y="9640"/>
                  <a:pt x="12837" y="10528"/>
                  <a:pt x="12837" y="11668"/>
                </a:cubicBezTo>
                <a:cubicBezTo>
                  <a:pt x="12837" y="12408"/>
                  <a:pt x="12367" y="13139"/>
                  <a:pt x="11905" y="13139"/>
                </a:cubicBezTo>
                <a:cubicBezTo>
                  <a:pt x="10800" y="13139"/>
                  <a:pt x="9695" y="14619"/>
                  <a:pt x="9695" y="16142"/>
                </a:cubicBezTo>
                <a:lnTo>
                  <a:pt x="9695" y="181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1" name="" descr=""/>
          <p:cNvPicPr/>
          <p:nvPr/>
        </p:nvPicPr>
        <p:blipFill>
          <a:blip r:embed="rId27"/>
          <a:stretch/>
        </p:blipFill>
        <p:spPr>
          <a:xfrm>
            <a:off x="426960" y="2022480"/>
            <a:ext cx="286704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2" name=""/>
          <p:cNvGraphicFramePr/>
          <p:nvPr/>
        </p:nvGraphicFramePr>
        <p:xfrm>
          <a:off x="565200" y="4594320"/>
          <a:ext cx="114120" cy="215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143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65200" y="459432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4" name=""/>
          <p:cNvSpPr/>
          <p:nvPr/>
        </p:nvSpPr>
        <p:spPr>
          <a:xfrm>
            <a:off x="320760" y="3848040"/>
            <a:ext cx="3011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5" name=""/>
          <p:cNvGraphicFramePr/>
          <p:nvPr/>
        </p:nvGraphicFramePr>
        <p:xfrm>
          <a:off x="239760" y="1620720"/>
          <a:ext cx="164880" cy="1778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14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39760" y="162072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7" name=""/>
          <p:cNvGraphicFramePr/>
          <p:nvPr/>
        </p:nvGraphicFramePr>
        <p:xfrm>
          <a:off x="3112920" y="3879720"/>
          <a:ext cx="165240" cy="1526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148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3112920" y="3879720"/>
                    <a:ext cx="16524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9" name=""/>
          <p:cNvGraphicFramePr/>
          <p:nvPr/>
        </p:nvGraphicFramePr>
        <p:xfrm>
          <a:off x="255600" y="3857760"/>
          <a:ext cx="127080" cy="1904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150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255600" y="3857760"/>
                    <a:ext cx="1270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1" name=""/>
          <p:cNvSpPr/>
          <p:nvPr/>
        </p:nvSpPr>
        <p:spPr>
          <a:xfrm flipH="1">
            <a:off x="1609560" y="2163600"/>
            <a:ext cx="66384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 flipH="1">
            <a:off x="1658520" y="2816280"/>
            <a:ext cx="66348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3" name=""/>
          <p:cNvGraphicFramePr/>
          <p:nvPr/>
        </p:nvGraphicFramePr>
        <p:xfrm>
          <a:off x="2251080" y="1969920"/>
          <a:ext cx="190440" cy="2415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154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2251080" y="1969920"/>
                    <a:ext cx="19044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5" name=""/>
          <p:cNvGraphicFramePr/>
          <p:nvPr/>
        </p:nvGraphicFramePr>
        <p:xfrm>
          <a:off x="2290680" y="2614680"/>
          <a:ext cx="216000" cy="24120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156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2290680" y="2614680"/>
                    <a:ext cx="2160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7" name=""/>
          <p:cNvSpPr/>
          <p:nvPr/>
        </p:nvSpPr>
        <p:spPr>
          <a:xfrm flipV="1">
            <a:off x="446040" y="1687320"/>
            <a:ext cx="0" cy="22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1244520" y="288756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1433520" y="205884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446040" y="2887560"/>
            <a:ext cx="4481640" cy="779400"/>
          </a:xfrm>
          <a:custGeom>
            <a:avLst/>
            <a:gdLst/>
            <a:ahLst/>
            <a:rect l="l" t="t" r="r" b="b"/>
            <a:pathLst>
              <a:path w="1412" h="417">
                <a:moveTo>
                  <a:pt x="0" y="145"/>
                </a:moveTo>
                <a:cubicBezTo>
                  <a:pt x="6" y="145"/>
                  <a:pt x="6" y="145"/>
                  <a:pt x="6" y="145"/>
                </a:cubicBezTo>
                <a:cubicBezTo>
                  <a:pt x="11" y="145"/>
                  <a:pt x="11" y="145"/>
                  <a:pt x="11" y="145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23" y="144"/>
                  <a:pt x="23" y="144"/>
                  <a:pt x="23" y="144"/>
                </a:cubicBezTo>
                <a:cubicBezTo>
                  <a:pt x="28" y="143"/>
                  <a:pt x="28" y="143"/>
                  <a:pt x="28" y="143"/>
                </a:cubicBezTo>
                <a:cubicBezTo>
                  <a:pt x="34" y="142"/>
                  <a:pt x="34" y="142"/>
                  <a:pt x="34" y="142"/>
                </a:cubicBezTo>
                <a:cubicBezTo>
                  <a:pt x="40" y="141"/>
                  <a:pt x="40" y="141"/>
                  <a:pt x="40" y="141"/>
                </a:cubicBezTo>
                <a:cubicBezTo>
                  <a:pt x="45" y="139"/>
                  <a:pt x="45" y="139"/>
                  <a:pt x="45" y="139"/>
                </a:cubicBezTo>
                <a:cubicBezTo>
                  <a:pt x="51" y="138"/>
                  <a:pt x="51" y="138"/>
                  <a:pt x="51" y="138"/>
                </a:cubicBezTo>
                <a:cubicBezTo>
                  <a:pt x="57" y="136"/>
                  <a:pt x="57" y="136"/>
                  <a:pt x="57" y="136"/>
                </a:cubicBezTo>
                <a:cubicBezTo>
                  <a:pt x="62" y="134"/>
                  <a:pt x="62" y="134"/>
                  <a:pt x="62" y="134"/>
                </a:cubicBezTo>
                <a:cubicBezTo>
                  <a:pt x="68" y="132"/>
                  <a:pt x="68" y="132"/>
                  <a:pt x="68" y="132"/>
                </a:cubicBezTo>
                <a:cubicBezTo>
                  <a:pt x="74" y="130"/>
                  <a:pt x="74" y="130"/>
                  <a:pt x="74" y="130"/>
                </a:cubicBezTo>
                <a:cubicBezTo>
                  <a:pt x="79" y="128"/>
                  <a:pt x="79" y="128"/>
                  <a:pt x="79" y="128"/>
                </a:cubicBezTo>
                <a:cubicBezTo>
                  <a:pt x="85" y="125"/>
                  <a:pt x="85" y="125"/>
                  <a:pt x="85" y="125"/>
                </a:cubicBezTo>
                <a:cubicBezTo>
                  <a:pt x="91" y="122"/>
                  <a:pt x="91" y="122"/>
                  <a:pt x="91" y="122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8" y="112"/>
                  <a:pt x="108" y="112"/>
                  <a:pt x="108" y="112"/>
                </a:cubicBezTo>
                <a:cubicBezTo>
                  <a:pt x="113" y="109"/>
                  <a:pt x="113" y="109"/>
                  <a:pt x="113" y="109"/>
                </a:cubicBezTo>
                <a:cubicBezTo>
                  <a:pt x="119" y="105"/>
                  <a:pt x="119" y="105"/>
                  <a:pt x="119" y="105"/>
                </a:cubicBezTo>
                <a:cubicBezTo>
                  <a:pt x="125" y="101"/>
                  <a:pt x="125" y="101"/>
                  <a:pt x="125" y="101"/>
                </a:cubicBezTo>
                <a:cubicBezTo>
                  <a:pt x="130" y="96"/>
                  <a:pt x="130" y="96"/>
                  <a:pt x="130" y="96"/>
                </a:cubicBezTo>
                <a:cubicBezTo>
                  <a:pt x="136" y="91"/>
                  <a:pt x="136" y="91"/>
                  <a:pt x="136" y="91"/>
                </a:cubicBezTo>
                <a:cubicBezTo>
                  <a:pt x="142" y="87"/>
                  <a:pt x="142" y="87"/>
                  <a:pt x="142" y="87"/>
                </a:cubicBezTo>
                <a:cubicBezTo>
                  <a:pt x="147" y="82"/>
                  <a:pt x="147" y="82"/>
                  <a:pt x="147" y="8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9" y="71"/>
                  <a:pt x="159" y="71"/>
                  <a:pt x="159" y="71"/>
                </a:cubicBezTo>
                <a:cubicBezTo>
                  <a:pt x="164" y="65"/>
                  <a:pt x="164" y="65"/>
                  <a:pt x="164" y="65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6" y="53"/>
                  <a:pt x="176" y="53"/>
                  <a:pt x="176" y="53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7" y="41"/>
                  <a:pt x="187" y="41"/>
                  <a:pt x="187" y="41"/>
                </a:cubicBezTo>
                <a:cubicBezTo>
                  <a:pt x="193" y="35"/>
                  <a:pt x="193" y="35"/>
                  <a:pt x="193" y="35"/>
                </a:cubicBezTo>
                <a:cubicBezTo>
                  <a:pt x="198" y="30"/>
                  <a:pt x="198" y="30"/>
                  <a:pt x="198" y="30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10" y="19"/>
                  <a:pt x="210" y="19"/>
                  <a:pt x="210" y="19"/>
                </a:cubicBezTo>
                <a:cubicBezTo>
                  <a:pt x="215" y="14"/>
                  <a:pt x="215" y="14"/>
                  <a:pt x="215" y="14"/>
                </a:cubicBezTo>
                <a:cubicBezTo>
                  <a:pt x="221" y="9"/>
                  <a:pt x="221" y="9"/>
                  <a:pt x="221" y="9"/>
                </a:cubicBezTo>
                <a:cubicBezTo>
                  <a:pt x="227" y="6"/>
                  <a:pt x="227" y="6"/>
                  <a:pt x="227" y="6"/>
                </a:cubicBezTo>
                <a:cubicBezTo>
                  <a:pt x="232" y="3"/>
                  <a:pt x="232" y="3"/>
                  <a:pt x="232" y="3"/>
                </a:cubicBezTo>
                <a:cubicBezTo>
                  <a:pt x="238" y="1"/>
                  <a:pt x="238" y="1"/>
                  <a:pt x="238" y="1"/>
                </a:cubicBezTo>
                <a:cubicBezTo>
                  <a:pt x="244" y="0"/>
                  <a:pt x="244" y="0"/>
                  <a:pt x="244" y="0"/>
                </a:cubicBezTo>
                <a:cubicBezTo>
                  <a:pt x="249" y="0"/>
                  <a:pt x="249" y="0"/>
                  <a:pt x="249" y="0"/>
                </a:cubicBezTo>
                <a:cubicBezTo>
                  <a:pt x="255" y="2"/>
                  <a:pt x="255" y="2"/>
                  <a:pt x="255" y="2"/>
                </a:cubicBezTo>
                <a:cubicBezTo>
                  <a:pt x="261" y="4"/>
                  <a:pt x="261" y="4"/>
                  <a:pt x="261" y="4"/>
                </a:cubicBezTo>
                <a:cubicBezTo>
                  <a:pt x="266" y="8"/>
                  <a:pt x="266" y="8"/>
                  <a:pt x="266" y="8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8" y="20"/>
                  <a:pt x="278" y="20"/>
                  <a:pt x="278" y="20"/>
                </a:cubicBezTo>
                <a:cubicBezTo>
                  <a:pt x="283" y="28"/>
                  <a:pt x="283" y="28"/>
                  <a:pt x="283" y="28"/>
                </a:cubicBezTo>
                <a:cubicBezTo>
                  <a:pt x="286" y="32"/>
                  <a:pt x="286" y="32"/>
                  <a:pt x="286" y="32"/>
                </a:cubicBezTo>
                <a:cubicBezTo>
                  <a:pt x="289" y="36"/>
                  <a:pt x="289" y="36"/>
                  <a:pt x="289" y="36"/>
                </a:cubicBezTo>
                <a:cubicBezTo>
                  <a:pt x="292" y="41"/>
                  <a:pt x="292" y="41"/>
                  <a:pt x="292" y="41"/>
                </a:cubicBezTo>
                <a:cubicBezTo>
                  <a:pt x="295" y="45"/>
                  <a:pt x="295" y="45"/>
                  <a:pt x="295" y="45"/>
                </a:cubicBezTo>
                <a:cubicBezTo>
                  <a:pt x="298" y="50"/>
                  <a:pt x="298" y="50"/>
                  <a:pt x="298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303" y="60"/>
                  <a:pt x="303" y="60"/>
                  <a:pt x="303" y="60"/>
                </a:cubicBezTo>
                <a:cubicBezTo>
                  <a:pt x="306" y="66"/>
                  <a:pt x="306" y="66"/>
                  <a:pt x="306" y="66"/>
                </a:cubicBezTo>
                <a:cubicBezTo>
                  <a:pt x="309" y="71"/>
                  <a:pt x="309" y="71"/>
                  <a:pt x="309" y="71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5" y="82"/>
                  <a:pt x="315" y="82"/>
                  <a:pt x="315" y="82"/>
                </a:cubicBezTo>
                <a:cubicBezTo>
                  <a:pt x="318" y="88"/>
                  <a:pt x="318" y="88"/>
                  <a:pt x="318" y="88"/>
                </a:cubicBezTo>
                <a:cubicBezTo>
                  <a:pt x="320" y="93"/>
                  <a:pt x="320" y="93"/>
                  <a:pt x="320" y="93"/>
                </a:cubicBezTo>
                <a:cubicBezTo>
                  <a:pt x="323" y="99"/>
                  <a:pt x="323" y="99"/>
                  <a:pt x="323" y="99"/>
                </a:cubicBezTo>
                <a:cubicBezTo>
                  <a:pt x="326" y="104"/>
                  <a:pt x="326" y="104"/>
                  <a:pt x="326" y="104"/>
                </a:cubicBezTo>
                <a:cubicBezTo>
                  <a:pt x="329" y="110"/>
                  <a:pt x="329" y="110"/>
                  <a:pt x="329" y="110"/>
                </a:cubicBezTo>
                <a:cubicBezTo>
                  <a:pt x="332" y="116"/>
                  <a:pt x="332" y="116"/>
                  <a:pt x="332" y="116"/>
                </a:cubicBezTo>
                <a:cubicBezTo>
                  <a:pt x="335" y="121"/>
                  <a:pt x="335" y="121"/>
                  <a:pt x="335" y="121"/>
                </a:cubicBezTo>
                <a:cubicBezTo>
                  <a:pt x="337" y="126"/>
                  <a:pt x="337" y="126"/>
                  <a:pt x="337" y="126"/>
                </a:cubicBezTo>
                <a:cubicBezTo>
                  <a:pt x="340" y="132"/>
                  <a:pt x="340" y="132"/>
                  <a:pt x="340" y="132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6" y="143"/>
                  <a:pt x="346" y="143"/>
                  <a:pt x="346" y="143"/>
                </a:cubicBezTo>
                <a:cubicBezTo>
                  <a:pt x="349" y="148"/>
                  <a:pt x="349" y="148"/>
                  <a:pt x="349" y="148"/>
                </a:cubicBezTo>
                <a:cubicBezTo>
                  <a:pt x="354" y="158"/>
                  <a:pt x="354" y="158"/>
                  <a:pt x="354" y="158"/>
                </a:cubicBezTo>
                <a:cubicBezTo>
                  <a:pt x="357" y="163"/>
                  <a:pt x="357" y="163"/>
                  <a:pt x="357" y="163"/>
                </a:cubicBezTo>
                <a:cubicBezTo>
                  <a:pt x="360" y="168"/>
                  <a:pt x="360" y="168"/>
                  <a:pt x="360" y="168"/>
                </a:cubicBezTo>
                <a:cubicBezTo>
                  <a:pt x="363" y="173"/>
                  <a:pt x="363" y="173"/>
                  <a:pt x="363" y="173"/>
                </a:cubicBezTo>
                <a:cubicBezTo>
                  <a:pt x="366" y="177"/>
                  <a:pt x="366" y="177"/>
                  <a:pt x="366" y="177"/>
                </a:cubicBezTo>
                <a:cubicBezTo>
                  <a:pt x="369" y="182"/>
                  <a:pt x="369" y="182"/>
                  <a:pt x="369" y="182"/>
                </a:cubicBezTo>
                <a:cubicBezTo>
                  <a:pt x="371" y="186"/>
                  <a:pt x="371" y="186"/>
                  <a:pt x="371" y="186"/>
                </a:cubicBezTo>
                <a:cubicBezTo>
                  <a:pt x="374" y="191"/>
                  <a:pt x="374" y="191"/>
                  <a:pt x="374" y="191"/>
                </a:cubicBezTo>
                <a:cubicBezTo>
                  <a:pt x="377" y="195"/>
                  <a:pt x="377" y="195"/>
                  <a:pt x="377" y="195"/>
                </a:cubicBezTo>
                <a:cubicBezTo>
                  <a:pt x="380" y="199"/>
                  <a:pt x="380" y="199"/>
                  <a:pt x="380" y="199"/>
                </a:cubicBezTo>
                <a:cubicBezTo>
                  <a:pt x="386" y="208"/>
                  <a:pt x="386" y="208"/>
                  <a:pt x="386" y="208"/>
                </a:cubicBezTo>
                <a:cubicBezTo>
                  <a:pt x="391" y="215"/>
                  <a:pt x="391" y="215"/>
                  <a:pt x="391" y="215"/>
                </a:cubicBezTo>
                <a:cubicBezTo>
                  <a:pt x="397" y="223"/>
                  <a:pt x="397" y="223"/>
                  <a:pt x="397" y="223"/>
                </a:cubicBezTo>
                <a:cubicBezTo>
                  <a:pt x="403" y="230"/>
                  <a:pt x="403" y="230"/>
                  <a:pt x="403" y="230"/>
                </a:cubicBezTo>
                <a:cubicBezTo>
                  <a:pt x="408" y="237"/>
                  <a:pt x="408" y="237"/>
                  <a:pt x="408" y="237"/>
                </a:cubicBezTo>
                <a:cubicBezTo>
                  <a:pt x="414" y="243"/>
                  <a:pt x="414" y="243"/>
                  <a:pt x="414" y="243"/>
                </a:cubicBezTo>
                <a:cubicBezTo>
                  <a:pt x="420" y="250"/>
                  <a:pt x="420" y="250"/>
                  <a:pt x="420" y="250"/>
                </a:cubicBezTo>
                <a:cubicBezTo>
                  <a:pt x="425" y="256"/>
                  <a:pt x="425" y="256"/>
                  <a:pt x="425" y="256"/>
                </a:cubicBezTo>
                <a:cubicBezTo>
                  <a:pt x="431" y="261"/>
                  <a:pt x="431" y="261"/>
                  <a:pt x="431" y="261"/>
                </a:cubicBezTo>
                <a:cubicBezTo>
                  <a:pt x="437" y="267"/>
                  <a:pt x="437" y="267"/>
                  <a:pt x="437" y="267"/>
                </a:cubicBezTo>
                <a:cubicBezTo>
                  <a:pt x="442" y="272"/>
                  <a:pt x="442" y="272"/>
                  <a:pt x="442" y="272"/>
                </a:cubicBezTo>
                <a:cubicBezTo>
                  <a:pt x="448" y="277"/>
                  <a:pt x="448" y="277"/>
                  <a:pt x="448" y="277"/>
                </a:cubicBezTo>
                <a:cubicBezTo>
                  <a:pt x="454" y="281"/>
                  <a:pt x="454" y="281"/>
                  <a:pt x="454" y="281"/>
                </a:cubicBezTo>
                <a:cubicBezTo>
                  <a:pt x="459" y="286"/>
                  <a:pt x="459" y="286"/>
                  <a:pt x="459" y="286"/>
                </a:cubicBezTo>
                <a:cubicBezTo>
                  <a:pt x="465" y="290"/>
                  <a:pt x="465" y="290"/>
                  <a:pt x="465" y="290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6" y="298"/>
                  <a:pt x="476" y="298"/>
                  <a:pt x="476" y="298"/>
                </a:cubicBezTo>
                <a:cubicBezTo>
                  <a:pt x="482" y="302"/>
                  <a:pt x="482" y="302"/>
                  <a:pt x="482" y="302"/>
                </a:cubicBezTo>
                <a:cubicBezTo>
                  <a:pt x="488" y="306"/>
                  <a:pt x="488" y="306"/>
                  <a:pt x="488" y="306"/>
                </a:cubicBezTo>
                <a:cubicBezTo>
                  <a:pt x="493" y="309"/>
                  <a:pt x="493" y="309"/>
                  <a:pt x="493" y="309"/>
                </a:cubicBezTo>
                <a:cubicBezTo>
                  <a:pt x="499" y="312"/>
                  <a:pt x="499" y="312"/>
                  <a:pt x="499" y="312"/>
                </a:cubicBezTo>
                <a:cubicBezTo>
                  <a:pt x="505" y="315"/>
                  <a:pt x="505" y="315"/>
                  <a:pt x="505" y="315"/>
                </a:cubicBezTo>
                <a:cubicBezTo>
                  <a:pt x="510" y="318"/>
                  <a:pt x="510" y="318"/>
                  <a:pt x="510" y="318"/>
                </a:cubicBezTo>
                <a:cubicBezTo>
                  <a:pt x="516" y="321"/>
                  <a:pt x="516" y="321"/>
                  <a:pt x="516" y="321"/>
                </a:cubicBezTo>
                <a:cubicBezTo>
                  <a:pt x="522" y="324"/>
                  <a:pt x="522" y="324"/>
                  <a:pt x="522" y="324"/>
                </a:cubicBezTo>
                <a:cubicBezTo>
                  <a:pt x="527" y="327"/>
                  <a:pt x="527" y="327"/>
                  <a:pt x="527" y="327"/>
                </a:cubicBezTo>
                <a:cubicBezTo>
                  <a:pt x="533" y="329"/>
                  <a:pt x="533" y="329"/>
                  <a:pt x="533" y="329"/>
                </a:cubicBezTo>
                <a:cubicBezTo>
                  <a:pt x="539" y="332"/>
                  <a:pt x="539" y="332"/>
                  <a:pt x="539" y="332"/>
                </a:cubicBezTo>
                <a:cubicBezTo>
                  <a:pt x="544" y="334"/>
                  <a:pt x="544" y="334"/>
                  <a:pt x="544" y="334"/>
                </a:cubicBezTo>
                <a:cubicBezTo>
                  <a:pt x="550" y="337"/>
                  <a:pt x="550" y="337"/>
                  <a:pt x="550" y="337"/>
                </a:cubicBezTo>
                <a:cubicBezTo>
                  <a:pt x="556" y="339"/>
                  <a:pt x="556" y="339"/>
                  <a:pt x="556" y="339"/>
                </a:cubicBezTo>
                <a:cubicBezTo>
                  <a:pt x="561" y="341"/>
                  <a:pt x="561" y="341"/>
                  <a:pt x="561" y="341"/>
                </a:cubicBezTo>
                <a:cubicBezTo>
                  <a:pt x="567" y="343"/>
                  <a:pt x="567" y="343"/>
                  <a:pt x="567" y="343"/>
                </a:cubicBezTo>
                <a:cubicBezTo>
                  <a:pt x="573" y="345"/>
                  <a:pt x="573" y="345"/>
                  <a:pt x="573" y="345"/>
                </a:cubicBezTo>
                <a:cubicBezTo>
                  <a:pt x="578" y="347"/>
                  <a:pt x="578" y="347"/>
                  <a:pt x="578" y="347"/>
                </a:cubicBezTo>
                <a:cubicBezTo>
                  <a:pt x="584" y="349"/>
                  <a:pt x="584" y="349"/>
                  <a:pt x="584" y="349"/>
                </a:cubicBezTo>
                <a:cubicBezTo>
                  <a:pt x="590" y="351"/>
                  <a:pt x="590" y="351"/>
                  <a:pt x="590" y="351"/>
                </a:cubicBezTo>
                <a:cubicBezTo>
                  <a:pt x="595" y="352"/>
                  <a:pt x="595" y="352"/>
                  <a:pt x="595" y="352"/>
                </a:cubicBezTo>
                <a:cubicBezTo>
                  <a:pt x="601" y="354"/>
                  <a:pt x="601" y="354"/>
                  <a:pt x="601" y="354"/>
                </a:cubicBezTo>
                <a:cubicBezTo>
                  <a:pt x="607" y="356"/>
                  <a:pt x="607" y="356"/>
                  <a:pt x="607" y="356"/>
                </a:cubicBezTo>
                <a:cubicBezTo>
                  <a:pt x="612" y="357"/>
                  <a:pt x="612" y="357"/>
                  <a:pt x="612" y="357"/>
                </a:cubicBezTo>
                <a:cubicBezTo>
                  <a:pt x="618" y="359"/>
                  <a:pt x="618" y="359"/>
                  <a:pt x="618" y="359"/>
                </a:cubicBezTo>
                <a:cubicBezTo>
                  <a:pt x="624" y="360"/>
                  <a:pt x="624" y="360"/>
                  <a:pt x="624" y="360"/>
                </a:cubicBezTo>
                <a:cubicBezTo>
                  <a:pt x="629" y="361"/>
                  <a:pt x="629" y="361"/>
                  <a:pt x="629" y="361"/>
                </a:cubicBezTo>
                <a:cubicBezTo>
                  <a:pt x="635" y="363"/>
                  <a:pt x="635" y="363"/>
                  <a:pt x="635" y="363"/>
                </a:cubicBezTo>
                <a:cubicBezTo>
                  <a:pt x="641" y="364"/>
                  <a:pt x="641" y="364"/>
                  <a:pt x="641" y="364"/>
                </a:cubicBezTo>
                <a:cubicBezTo>
                  <a:pt x="646" y="365"/>
                  <a:pt x="646" y="365"/>
                  <a:pt x="646" y="365"/>
                </a:cubicBezTo>
                <a:cubicBezTo>
                  <a:pt x="652" y="367"/>
                  <a:pt x="652" y="367"/>
                  <a:pt x="652" y="367"/>
                </a:cubicBezTo>
                <a:cubicBezTo>
                  <a:pt x="658" y="368"/>
                  <a:pt x="658" y="368"/>
                  <a:pt x="658" y="368"/>
                </a:cubicBezTo>
                <a:cubicBezTo>
                  <a:pt x="663" y="369"/>
                  <a:pt x="663" y="369"/>
                  <a:pt x="663" y="369"/>
                </a:cubicBezTo>
                <a:cubicBezTo>
                  <a:pt x="669" y="370"/>
                  <a:pt x="669" y="370"/>
                  <a:pt x="669" y="370"/>
                </a:cubicBezTo>
                <a:cubicBezTo>
                  <a:pt x="675" y="371"/>
                  <a:pt x="675" y="371"/>
                  <a:pt x="675" y="371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6" y="373"/>
                  <a:pt x="686" y="373"/>
                  <a:pt x="686" y="373"/>
                </a:cubicBezTo>
                <a:cubicBezTo>
                  <a:pt x="692" y="374"/>
                  <a:pt x="692" y="374"/>
                  <a:pt x="692" y="374"/>
                </a:cubicBezTo>
                <a:cubicBezTo>
                  <a:pt x="697" y="375"/>
                  <a:pt x="697" y="375"/>
                  <a:pt x="697" y="375"/>
                </a:cubicBezTo>
                <a:cubicBezTo>
                  <a:pt x="703" y="376"/>
                  <a:pt x="703" y="376"/>
                  <a:pt x="703" y="376"/>
                </a:cubicBezTo>
                <a:cubicBezTo>
                  <a:pt x="709" y="377"/>
                  <a:pt x="709" y="377"/>
                  <a:pt x="709" y="377"/>
                </a:cubicBezTo>
                <a:cubicBezTo>
                  <a:pt x="714" y="378"/>
                  <a:pt x="714" y="378"/>
                  <a:pt x="714" y="378"/>
                </a:cubicBezTo>
                <a:cubicBezTo>
                  <a:pt x="720" y="379"/>
                  <a:pt x="720" y="379"/>
                  <a:pt x="720" y="379"/>
                </a:cubicBezTo>
                <a:cubicBezTo>
                  <a:pt x="726" y="380"/>
                  <a:pt x="726" y="380"/>
                  <a:pt x="726" y="380"/>
                </a:cubicBezTo>
                <a:cubicBezTo>
                  <a:pt x="731" y="381"/>
                  <a:pt x="731" y="381"/>
                  <a:pt x="731" y="381"/>
                </a:cubicBezTo>
                <a:cubicBezTo>
                  <a:pt x="737" y="382"/>
                  <a:pt x="737" y="382"/>
                  <a:pt x="737" y="382"/>
                </a:cubicBezTo>
                <a:cubicBezTo>
                  <a:pt x="743" y="382"/>
                  <a:pt x="743" y="382"/>
                  <a:pt x="743" y="382"/>
                </a:cubicBezTo>
                <a:cubicBezTo>
                  <a:pt x="748" y="383"/>
                  <a:pt x="748" y="383"/>
                  <a:pt x="748" y="383"/>
                </a:cubicBezTo>
                <a:cubicBezTo>
                  <a:pt x="754" y="384"/>
                  <a:pt x="754" y="384"/>
                  <a:pt x="754" y="384"/>
                </a:cubicBezTo>
                <a:cubicBezTo>
                  <a:pt x="760" y="385"/>
                  <a:pt x="760" y="385"/>
                  <a:pt x="760" y="385"/>
                </a:cubicBezTo>
                <a:cubicBezTo>
                  <a:pt x="765" y="385"/>
                  <a:pt x="765" y="385"/>
                  <a:pt x="765" y="385"/>
                </a:cubicBezTo>
                <a:cubicBezTo>
                  <a:pt x="771" y="386"/>
                  <a:pt x="771" y="386"/>
                  <a:pt x="771" y="386"/>
                </a:cubicBezTo>
                <a:cubicBezTo>
                  <a:pt x="777" y="387"/>
                  <a:pt x="777" y="387"/>
                  <a:pt x="777" y="387"/>
                </a:cubicBezTo>
                <a:cubicBezTo>
                  <a:pt x="782" y="387"/>
                  <a:pt x="782" y="387"/>
                  <a:pt x="782" y="387"/>
                </a:cubicBezTo>
                <a:cubicBezTo>
                  <a:pt x="788" y="388"/>
                  <a:pt x="788" y="388"/>
                  <a:pt x="788" y="388"/>
                </a:cubicBezTo>
                <a:cubicBezTo>
                  <a:pt x="794" y="389"/>
                  <a:pt x="794" y="389"/>
                  <a:pt x="794" y="389"/>
                </a:cubicBezTo>
                <a:cubicBezTo>
                  <a:pt x="799" y="389"/>
                  <a:pt x="799" y="389"/>
                  <a:pt x="799" y="389"/>
                </a:cubicBezTo>
                <a:cubicBezTo>
                  <a:pt x="805" y="390"/>
                  <a:pt x="805" y="390"/>
                  <a:pt x="805" y="390"/>
                </a:cubicBezTo>
                <a:cubicBezTo>
                  <a:pt x="811" y="390"/>
                  <a:pt x="811" y="390"/>
                  <a:pt x="811" y="390"/>
                </a:cubicBezTo>
                <a:cubicBezTo>
                  <a:pt x="816" y="391"/>
                  <a:pt x="816" y="391"/>
                  <a:pt x="816" y="391"/>
                </a:cubicBezTo>
                <a:cubicBezTo>
                  <a:pt x="822" y="392"/>
                  <a:pt x="822" y="392"/>
                  <a:pt x="822" y="392"/>
                </a:cubicBezTo>
                <a:cubicBezTo>
                  <a:pt x="828" y="392"/>
                  <a:pt x="828" y="392"/>
                  <a:pt x="828" y="392"/>
                </a:cubicBezTo>
                <a:cubicBezTo>
                  <a:pt x="833" y="393"/>
                  <a:pt x="833" y="393"/>
                  <a:pt x="833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45" y="394"/>
                  <a:pt x="845" y="394"/>
                  <a:pt x="845" y="394"/>
                </a:cubicBezTo>
                <a:cubicBezTo>
                  <a:pt x="850" y="394"/>
                  <a:pt x="850" y="394"/>
                  <a:pt x="850" y="394"/>
                </a:cubicBezTo>
                <a:cubicBezTo>
                  <a:pt x="856" y="395"/>
                  <a:pt x="856" y="395"/>
                  <a:pt x="856" y="395"/>
                </a:cubicBezTo>
                <a:cubicBezTo>
                  <a:pt x="862" y="395"/>
                  <a:pt x="862" y="395"/>
                  <a:pt x="862" y="395"/>
                </a:cubicBezTo>
                <a:cubicBezTo>
                  <a:pt x="868" y="396"/>
                  <a:pt x="868" y="396"/>
                  <a:pt x="868" y="396"/>
                </a:cubicBezTo>
                <a:cubicBezTo>
                  <a:pt x="873" y="396"/>
                  <a:pt x="873" y="396"/>
                  <a:pt x="873" y="396"/>
                </a:cubicBezTo>
                <a:cubicBezTo>
                  <a:pt x="879" y="397"/>
                  <a:pt x="879" y="397"/>
                  <a:pt x="879" y="397"/>
                </a:cubicBezTo>
                <a:cubicBezTo>
                  <a:pt x="885" y="397"/>
                  <a:pt x="885" y="397"/>
                  <a:pt x="885" y="397"/>
                </a:cubicBezTo>
                <a:cubicBezTo>
                  <a:pt x="890" y="397"/>
                  <a:pt x="890" y="397"/>
                  <a:pt x="890" y="397"/>
                </a:cubicBezTo>
                <a:cubicBezTo>
                  <a:pt x="896" y="398"/>
                  <a:pt x="896" y="398"/>
                  <a:pt x="896" y="398"/>
                </a:cubicBezTo>
                <a:cubicBezTo>
                  <a:pt x="902" y="398"/>
                  <a:pt x="902" y="398"/>
                  <a:pt x="902" y="398"/>
                </a:cubicBezTo>
                <a:cubicBezTo>
                  <a:pt x="907" y="399"/>
                  <a:pt x="907" y="399"/>
                  <a:pt x="907" y="399"/>
                </a:cubicBezTo>
                <a:cubicBezTo>
                  <a:pt x="913" y="399"/>
                  <a:pt x="913" y="399"/>
                  <a:pt x="913" y="399"/>
                </a:cubicBezTo>
                <a:cubicBezTo>
                  <a:pt x="919" y="399"/>
                  <a:pt x="919" y="399"/>
                  <a:pt x="919" y="399"/>
                </a:cubicBezTo>
                <a:cubicBezTo>
                  <a:pt x="924" y="400"/>
                  <a:pt x="924" y="400"/>
                  <a:pt x="924" y="400"/>
                </a:cubicBezTo>
                <a:cubicBezTo>
                  <a:pt x="930" y="400"/>
                  <a:pt x="930" y="400"/>
                  <a:pt x="930" y="400"/>
                </a:cubicBezTo>
                <a:cubicBezTo>
                  <a:pt x="936" y="401"/>
                  <a:pt x="936" y="401"/>
                  <a:pt x="936" y="401"/>
                </a:cubicBezTo>
                <a:cubicBezTo>
                  <a:pt x="941" y="401"/>
                  <a:pt x="941" y="401"/>
                  <a:pt x="941" y="401"/>
                </a:cubicBezTo>
                <a:cubicBezTo>
                  <a:pt x="947" y="401"/>
                  <a:pt x="947" y="401"/>
                  <a:pt x="947" y="401"/>
                </a:cubicBezTo>
                <a:cubicBezTo>
                  <a:pt x="953" y="402"/>
                  <a:pt x="953" y="402"/>
                  <a:pt x="953" y="402"/>
                </a:cubicBezTo>
                <a:cubicBezTo>
                  <a:pt x="958" y="402"/>
                  <a:pt x="958" y="402"/>
                  <a:pt x="958" y="402"/>
                </a:cubicBezTo>
                <a:cubicBezTo>
                  <a:pt x="964" y="402"/>
                  <a:pt x="964" y="402"/>
                  <a:pt x="964" y="402"/>
                </a:cubicBezTo>
                <a:cubicBezTo>
                  <a:pt x="970" y="403"/>
                  <a:pt x="970" y="403"/>
                  <a:pt x="970" y="403"/>
                </a:cubicBezTo>
                <a:cubicBezTo>
                  <a:pt x="975" y="403"/>
                  <a:pt x="975" y="403"/>
                  <a:pt x="975" y="403"/>
                </a:cubicBezTo>
                <a:cubicBezTo>
                  <a:pt x="981" y="403"/>
                  <a:pt x="981" y="403"/>
                  <a:pt x="981" y="403"/>
                </a:cubicBezTo>
                <a:cubicBezTo>
                  <a:pt x="987" y="404"/>
                  <a:pt x="987" y="404"/>
                  <a:pt x="987" y="404"/>
                </a:cubicBezTo>
                <a:cubicBezTo>
                  <a:pt x="992" y="404"/>
                  <a:pt x="992" y="404"/>
                  <a:pt x="992" y="404"/>
                </a:cubicBezTo>
                <a:cubicBezTo>
                  <a:pt x="998" y="404"/>
                  <a:pt x="998" y="404"/>
                  <a:pt x="998" y="404"/>
                </a:cubicBezTo>
                <a:cubicBezTo>
                  <a:pt x="1004" y="404"/>
                  <a:pt x="1004" y="404"/>
                  <a:pt x="1004" y="404"/>
                </a:cubicBezTo>
                <a:cubicBezTo>
                  <a:pt x="1009" y="405"/>
                  <a:pt x="1009" y="405"/>
                  <a:pt x="1009" y="405"/>
                </a:cubicBezTo>
                <a:cubicBezTo>
                  <a:pt x="1015" y="405"/>
                  <a:pt x="1015" y="405"/>
                  <a:pt x="1015" y="405"/>
                </a:cubicBezTo>
                <a:cubicBezTo>
                  <a:pt x="1021" y="405"/>
                  <a:pt x="1021" y="405"/>
                  <a:pt x="1021" y="405"/>
                </a:cubicBezTo>
                <a:cubicBezTo>
                  <a:pt x="1026" y="406"/>
                  <a:pt x="1026" y="406"/>
                  <a:pt x="1026" y="406"/>
                </a:cubicBezTo>
                <a:cubicBezTo>
                  <a:pt x="1032" y="406"/>
                  <a:pt x="1032" y="406"/>
                  <a:pt x="1032" y="406"/>
                </a:cubicBezTo>
                <a:cubicBezTo>
                  <a:pt x="1038" y="406"/>
                  <a:pt x="1038" y="406"/>
                  <a:pt x="1038" y="406"/>
                </a:cubicBezTo>
                <a:cubicBezTo>
                  <a:pt x="1043" y="406"/>
                  <a:pt x="1043" y="406"/>
                  <a:pt x="1043" y="406"/>
                </a:cubicBezTo>
                <a:cubicBezTo>
                  <a:pt x="1049" y="407"/>
                  <a:pt x="1049" y="407"/>
                  <a:pt x="1049" y="407"/>
                </a:cubicBezTo>
                <a:cubicBezTo>
                  <a:pt x="1055" y="407"/>
                  <a:pt x="1055" y="407"/>
                  <a:pt x="1055" y="407"/>
                </a:cubicBezTo>
                <a:cubicBezTo>
                  <a:pt x="1060" y="407"/>
                  <a:pt x="1060" y="407"/>
                  <a:pt x="1060" y="407"/>
                </a:cubicBezTo>
                <a:cubicBezTo>
                  <a:pt x="1066" y="407"/>
                  <a:pt x="1066" y="407"/>
                  <a:pt x="1066" y="407"/>
                </a:cubicBezTo>
                <a:cubicBezTo>
                  <a:pt x="1072" y="408"/>
                  <a:pt x="1072" y="408"/>
                  <a:pt x="1072" y="408"/>
                </a:cubicBezTo>
                <a:cubicBezTo>
                  <a:pt x="1077" y="408"/>
                  <a:pt x="1077" y="408"/>
                  <a:pt x="1077" y="408"/>
                </a:cubicBezTo>
                <a:cubicBezTo>
                  <a:pt x="1083" y="408"/>
                  <a:pt x="1083" y="408"/>
                  <a:pt x="1083" y="408"/>
                </a:cubicBezTo>
                <a:cubicBezTo>
                  <a:pt x="1089" y="408"/>
                  <a:pt x="1089" y="408"/>
                  <a:pt x="1089" y="408"/>
                </a:cubicBezTo>
                <a:cubicBezTo>
                  <a:pt x="1094" y="408"/>
                  <a:pt x="1094" y="408"/>
                  <a:pt x="1094" y="408"/>
                </a:cubicBezTo>
                <a:cubicBezTo>
                  <a:pt x="1100" y="409"/>
                  <a:pt x="1100" y="409"/>
                  <a:pt x="1100" y="409"/>
                </a:cubicBezTo>
                <a:cubicBezTo>
                  <a:pt x="1106" y="409"/>
                  <a:pt x="1106" y="409"/>
                  <a:pt x="1106" y="409"/>
                </a:cubicBezTo>
                <a:cubicBezTo>
                  <a:pt x="1111" y="409"/>
                  <a:pt x="1111" y="409"/>
                  <a:pt x="1111" y="409"/>
                </a:cubicBezTo>
                <a:cubicBezTo>
                  <a:pt x="1117" y="409"/>
                  <a:pt x="1117" y="409"/>
                  <a:pt x="1117" y="409"/>
                </a:cubicBezTo>
                <a:cubicBezTo>
                  <a:pt x="1123" y="410"/>
                  <a:pt x="1123" y="410"/>
                  <a:pt x="1123" y="410"/>
                </a:cubicBezTo>
                <a:cubicBezTo>
                  <a:pt x="1128" y="410"/>
                  <a:pt x="1128" y="410"/>
                  <a:pt x="1128" y="410"/>
                </a:cubicBezTo>
                <a:cubicBezTo>
                  <a:pt x="1134" y="410"/>
                  <a:pt x="1134" y="410"/>
                  <a:pt x="1134" y="410"/>
                </a:cubicBezTo>
                <a:cubicBezTo>
                  <a:pt x="1140" y="410"/>
                  <a:pt x="1140" y="410"/>
                  <a:pt x="1140" y="410"/>
                </a:cubicBezTo>
                <a:cubicBezTo>
                  <a:pt x="1145" y="410"/>
                  <a:pt x="1145" y="410"/>
                  <a:pt x="1145" y="410"/>
                </a:cubicBezTo>
                <a:cubicBezTo>
                  <a:pt x="1151" y="410"/>
                  <a:pt x="1151" y="410"/>
                  <a:pt x="1151" y="410"/>
                </a:cubicBezTo>
                <a:cubicBezTo>
                  <a:pt x="1157" y="411"/>
                  <a:pt x="1157" y="411"/>
                  <a:pt x="1157" y="411"/>
                </a:cubicBezTo>
                <a:cubicBezTo>
                  <a:pt x="1162" y="411"/>
                  <a:pt x="1162" y="411"/>
                  <a:pt x="1162" y="411"/>
                </a:cubicBezTo>
                <a:cubicBezTo>
                  <a:pt x="1168" y="411"/>
                  <a:pt x="1168" y="411"/>
                  <a:pt x="1168" y="411"/>
                </a:cubicBezTo>
                <a:cubicBezTo>
                  <a:pt x="1174" y="411"/>
                  <a:pt x="1174" y="411"/>
                  <a:pt x="1174" y="411"/>
                </a:cubicBezTo>
                <a:cubicBezTo>
                  <a:pt x="1179" y="411"/>
                  <a:pt x="1179" y="411"/>
                  <a:pt x="1179" y="411"/>
                </a:cubicBezTo>
                <a:cubicBezTo>
                  <a:pt x="1185" y="412"/>
                  <a:pt x="1185" y="412"/>
                  <a:pt x="1185" y="412"/>
                </a:cubicBezTo>
                <a:cubicBezTo>
                  <a:pt x="1191" y="412"/>
                  <a:pt x="1191" y="412"/>
                  <a:pt x="1191" y="412"/>
                </a:cubicBezTo>
                <a:cubicBezTo>
                  <a:pt x="1196" y="412"/>
                  <a:pt x="1196" y="412"/>
                  <a:pt x="1196" y="412"/>
                </a:cubicBezTo>
                <a:cubicBezTo>
                  <a:pt x="1202" y="412"/>
                  <a:pt x="1202" y="412"/>
                  <a:pt x="1202" y="412"/>
                </a:cubicBezTo>
                <a:cubicBezTo>
                  <a:pt x="1208" y="412"/>
                  <a:pt x="1208" y="412"/>
                  <a:pt x="1208" y="412"/>
                </a:cubicBezTo>
                <a:cubicBezTo>
                  <a:pt x="1213" y="412"/>
                  <a:pt x="1213" y="412"/>
                  <a:pt x="1213" y="412"/>
                </a:cubicBezTo>
                <a:cubicBezTo>
                  <a:pt x="1219" y="413"/>
                  <a:pt x="1219" y="413"/>
                  <a:pt x="1219" y="413"/>
                </a:cubicBezTo>
                <a:cubicBezTo>
                  <a:pt x="1225" y="413"/>
                  <a:pt x="1225" y="413"/>
                  <a:pt x="1225" y="413"/>
                </a:cubicBezTo>
                <a:cubicBezTo>
                  <a:pt x="1230" y="413"/>
                  <a:pt x="1230" y="413"/>
                  <a:pt x="1230" y="413"/>
                </a:cubicBezTo>
                <a:cubicBezTo>
                  <a:pt x="1236" y="413"/>
                  <a:pt x="1236" y="413"/>
                  <a:pt x="1236" y="413"/>
                </a:cubicBezTo>
                <a:cubicBezTo>
                  <a:pt x="1242" y="413"/>
                  <a:pt x="1242" y="413"/>
                  <a:pt x="1242" y="413"/>
                </a:cubicBezTo>
                <a:cubicBezTo>
                  <a:pt x="1247" y="413"/>
                  <a:pt x="1247" y="413"/>
                  <a:pt x="1247" y="413"/>
                </a:cubicBezTo>
                <a:cubicBezTo>
                  <a:pt x="1253" y="413"/>
                  <a:pt x="1253" y="413"/>
                  <a:pt x="1253" y="413"/>
                </a:cubicBezTo>
                <a:cubicBezTo>
                  <a:pt x="1259" y="414"/>
                  <a:pt x="1259" y="414"/>
                  <a:pt x="1259" y="414"/>
                </a:cubicBezTo>
                <a:cubicBezTo>
                  <a:pt x="1264" y="414"/>
                  <a:pt x="1264" y="414"/>
                  <a:pt x="1264" y="414"/>
                </a:cubicBezTo>
                <a:cubicBezTo>
                  <a:pt x="1270" y="414"/>
                  <a:pt x="1270" y="414"/>
                  <a:pt x="1270" y="414"/>
                </a:cubicBezTo>
                <a:cubicBezTo>
                  <a:pt x="1276" y="414"/>
                  <a:pt x="1276" y="414"/>
                  <a:pt x="1276" y="414"/>
                </a:cubicBezTo>
                <a:cubicBezTo>
                  <a:pt x="1281" y="414"/>
                  <a:pt x="1281" y="414"/>
                  <a:pt x="1281" y="414"/>
                </a:cubicBezTo>
                <a:cubicBezTo>
                  <a:pt x="1287" y="414"/>
                  <a:pt x="1287" y="414"/>
                  <a:pt x="1287" y="414"/>
                </a:cubicBezTo>
                <a:cubicBezTo>
                  <a:pt x="1293" y="414"/>
                  <a:pt x="1293" y="414"/>
                  <a:pt x="1293" y="414"/>
                </a:cubicBezTo>
                <a:cubicBezTo>
                  <a:pt x="1298" y="414"/>
                  <a:pt x="1298" y="414"/>
                  <a:pt x="1298" y="414"/>
                </a:cubicBezTo>
                <a:cubicBezTo>
                  <a:pt x="1304" y="415"/>
                  <a:pt x="1304" y="415"/>
                  <a:pt x="1304" y="415"/>
                </a:cubicBezTo>
                <a:cubicBezTo>
                  <a:pt x="1310" y="415"/>
                  <a:pt x="1310" y="415"/>
                  <a:pt x="1310" y="415"/>
                </a:cubicBezTo>
                <a:cubicBezTo>
                  <a:pt x="1315" y="415"/>
                  <a:pt x="1315" y="415"/>
                  <a:pt x="1315" y="415"/>
                </a:cubicBezTo>
                <a:cubicBezTo>
                  <a:pt x="1321" y="415"/>
                  <a:pt x="1321" y="415"/>
                  <a:pt x="1321" y="415"/>
                </a:cubicBezTo>
                <a:cubicBezTo>
                  <a:pt x="1327" y="415"/>
                  <a:pt x="1327" y="415"/>
                  <a:pt x="1327" y="415"/>
                </a:cubicBezTo>
                <a:cubicBezTo>
                  <a:pt x="1332" y="415"/>
                  <a:pt x="1332" y="415"/>
                  <a:pt x="1332" y="415"/>
                </a:cubicBezTo>
                <a:cubicBezTo>
                  <a:pt x="1338" y="415"/>
                  <a:pt x="1338" y="415"/>
                  <a:pt x="1338" y="415"/>
                </a:cubicBezTo>
                <a:cubicBezTo>
                  <a:pt x="1344" y="415"/>
                  <a:pt x="1344" y="415"/>
                  <a:pt x="1344" y="415"/>
                </a:cubicBezTo>
                <a:cubicBezTo>
                  <a:pt x="1349" y="416"/>
                  <a:pt x="1349" y="416"/>
                  <a:pt x="1349" y="416"/>
                </a:cubicBezTo>
                <a:cubicBezTo>
                  <a:pt x="1355" y="416"/>
                  <a:pt x="1355" y="416"/>
                  <a:pt x="1355" y="416"/>
                </a:cubicBezTo>
                <a:cubicBezTo>
                  <a:pt x="1361" y="416"/>
                  <a:pt x="1361" y="416"/>
                  <a:pt x="1361" y="416"/>
                </a:cubicBezTo>
                <a:cubicBezTo>
                  <a:pt x="1366" y="416"/>
                  <a:pt x="1366" y="416"/>
                  <a:pt x="1366" y="416"/>
                </a:cubicBezTo>
                <a:cubicBezTo>
                  <a:pt x="1372" y="416"/>
                  <a:pt x="1372" y="416"/>
                  <a:pt x="1372" y="416"/>
                </a:cubicBezTo>
                <a:cubicBezTo>
                  <a:pt x="1378" y="416"/>
                  <a:pt x="1378" y="416"/>
                  <a:pt x="1378" y="416"/>
                </a:cubicBezTo>
                <a:cubicBezTo>
                  <a:pt x="1383" y="416"/>
                  <a:pt x="1383" y="416"/>
                  <a:pt x="1383" y="416"/>
                </a:cubicBezTo>
                <a:cubicBezTo>
                  <a:pt x="1389" y="416"/>
                  <a:pt x="1389" y="416"/>
                  <a:pt x="1389" y="416"/>
                </a:cubicBezTo>
                <a:cubicBezTo>
                  <a:pt x="1395" y="416"/>
                  <a:pt x="1395" y="416"/>
                  <a:pt x="1395" y="416"/>
                </a:cubicBezTo>
                <a:cubicBezTo>
                  <a:pt x="1400" y="417"/>
                  <a:pt x="1400" y="417"/>
                  <a:pt x="1400" y="417"/>
                </a:cubicBezTo>
                <a:cubicBezTo>
                  <a:pt x="1406" y="417"/>
                  <a:pt x="1406" y="417"/>
                  <a:pt x="1406" y="417"/>
                </a:cubicBezTo>
                <a:cubicBezTo>
                  <a:pt x="1412" y="417"/>
                  <a:pt x="1412" y="417"/>
                  <a:pt x="1412" y="417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320760" y="3848040"/>
            <a:ext cx="3011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1244520" y="288756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 flipH="1">
            <a:off x="1658520" y="2816280"/>
            <a:ext cx="66348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3056040" y="3365640"/>
            <a:ext cx="195264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 flipV="1">
            <a:off x="809640" y="3857400"/>
            <a:ext cx="438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 flipH="1" flipV="1">
            <a:off x="1434960" y="3868200"/>
            <a:ext cx="52560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7" name=""/>
          <p:cNvGraphicFramePr/>
          <p:nvPr/>
        </p:nvGraphicFramePr>
        <p:xfrm>
          <a:off x="1862280" y="4270320"/>
          <a:ext cx="539640" cy="37800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168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1862280" y="4270320"/>
                    <a:ext cx="539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9" name=""/>
          <p:cNvGraphicFramePr/>
          <p:nvPr/>
        </p:nvGraphicFramePr>
        <p:xfrm>
          <a:off x="1687680" y="4694400"/>
          <a:ext cx="114120" cy="21564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170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1687680" y="46944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1" name=""/>
          <p:cNvGraphicFramePr/>
          <p:nvPr/>
        </p:nvGraphicFramePr>
        <p:xfrm>
          <a:off x="671400" y="4251240"/>
          <a:ext cx="540000" cy="37620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3172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671400" y="4251240"/>
                    <a:ext cx="5400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3" name=""/>
          <p:cNvSpPr/>
          <p:nvPr/>
        </p:nvSpPr>
        <p:spPr>
          <a:xfrm>
            <a:off x="3573360" y="2573280"/>
            <a:ext cx="42840" cy="3676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Управляющая кнопка: домой 85">
            <a:hlinkClick r:id="rId4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8172360" y="627696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7" name=""/>
          <p:cNvGraphicFramePr/>
          <p:nvPr/>
        </p:nvGraphicFramePr>
        <p:xfrm>
          <a:off x="5232240" y="3100320"/>
          <a:ext cx="270216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2240" y="3100320"/>
                    <a:ext cx="27021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9" name=""/>
          <p:cNvGraphicFramePr/>
          <p:nvPr/>
        </p:nvGraphicFramePr>
        <p:xfrm>
          <a:off x="8356680" y="1920960"/>
          <a:ext cx="554040" cy="31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6680" y="1920960"/>
                    <a:ext cx="5540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1" name=""/>
          <p:cNvSpPr/>
          <p:nvPr/>
        </p:nvSpPr>
        <p:spPr>
          <a:xfrm>
            <a:off x="4570560" y="1890720"/>
            <a:ext cx="419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еобхідно знайти значення функції  п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7140600" y="3056040"/>
            <a:ext cx="649440" cy="858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426960" y="350532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4" name=""/>
          <p:cNvGraphicFramePr/>
          <p:nvPr/>
        </p:nvGraphicFramePr>
        <p:xfrm>
          <a:off x="5067360" y="2166840"/>
          <a:ext cx="628560" cy="27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7360" y="2166840"/>
                    <a:ext cx="62856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6" name=""/>
          <p:cNvSpPr/>
          <p:nvPr/>
        </p:nvSpPr>
        <p:spPr>
          <a:xfrm>
            <a:off x="4559400" y="2538360"/>
            <a:ext cx="419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дстановка нуля до формули для      дає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7" name=""/>
          <p:cNvGraphicFramePr/>
          <p:nvPr/>
        </p:nvGraphicFramePr>
        <p:xfrm>
          <a:off x="8308800" y="2570040"/>
          <a:ext cx="565200" cy="32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08800" y="2570040"/>
                    <a:ext cx="565200" cy="3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4133880" y="195588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1" name="" descr=""/>
          <p:cNvPicPr/>
          <p:nvPr/>
        </p:nvPicPr>
        <p:blipFill>
          <a:blip r:embed="rId9"/>
          <a:stretch/>
        </p:blipFill>
        <p:spPr>
          <a:xfrm>
            <a:off x="1055520" y="2306520"/>
            <a:ext cx="2867040" cy="160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2" name=""/>
          <p:cNvGraphicFramePr/>
          <p:nvPr/>
        </p:nvGraphicFramePr>
        <p:xfrm>
          <a:off x="1193760" y="4878360"/>
          <a:ext cx="114480" cy="21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93760" y="487836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4" name=""/>
          <p:cNvSpPr/>
          <p:nvPr/>
        </p:nvSpPr>
        <p:spPr>
          <a:xfrm>
            <a:off x="949320" y="4132440"/>
            <a:ext cx="3011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5" name=""/>
          <p:cNvGraphicFramePr/>
          <p:nvPr/>
        </p:nvGraphicFramePr>
        <p:xfrm>
          <a:off x="858960" y="1905120"/>
          <a:ext cx="164880" cy="177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9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58960" y="190512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7" name=""/>
          <p:cNvGraphicFramePr/>
          <p:nvPr/>
        </p:nvGraphicFramePr>
        <p:xfrm>
          <a:off x="3741840" y="4164120"/>
          <a:ext cx="164880" cy="152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9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41840" y="4164120"/>
                    <a:ext cx="1648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9" name=""/>
          <p:cNvGraphicFramePr/>
          <p:nvPr/>
        </p:nvGraphicFramePr>
        <p:xfrm>
          <a:off x="884160" y="4141800"/>
          <a:ext cx="127080" cy="190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0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84160" y="4141800"/>
                    <a:ext cx="1270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1" name=""/>
          <p:cNvSpPr/>
          <p:nvPr/>
        </p:nvSpPr>
        <p:spPr>
          <a:xfrm flipH="1">
            <a:off x="2238120" y="2448000"/>
            <a:ext cx="66348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2287440" y="3100320"/>
            <a:ext cx="66384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3" name=""/>
          <p:cNvGraphicFramePr/>
          <p:nvPr/>
        </p:nvGraphicFramePr>
        <p:xfrm>
          <a:off x="2879640" y="2254320"/>
          <a:ext cx="190440" cy="241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20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79640" y="2254320"/>
                    <a:ext cx="1904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5" name=""/>
          <p:cNvGraphicFramePr/>
          <p:nvPr/>
        </p:nvGraphicFramePr>
        <p:xfrm>
          <a:off x="2919240" y="2898720"/>
          <a:ext cx="216000" cy="241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19240" y="2898720"/>
                    <a:ext cx="2160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7" name=""/>
          <p:cNvSpPr/>
          <p:nvPr/>
        </p:nvSpPr>
        <p:spPr>
          <a:xfrm flipV="1">
            <a:off x="1074600" y="1971360"/>
            <a:ext cx="0" cy="22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1873080" y="317196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2062080" y="2343240"/>
            <a:ext cx="0" cy="17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1074600" y="3171960"/>
            <a:ext cx="4481640" cy="779400"/>
          </a:xfrm>
          <a:custGeom>
            <a:avLst/>
            <a:gdLst/>
            <a:ahLst/>
            <a:rect l="l" t="t" r="r" b="b"/>
            <a:pathLst>
              <a:path w="1412" h="417">
                <a:moveTo>
                  <a:pt x="0" y="145"/>
                </a:moveTo>
                <a:cubicBezTo>
                  <a:pt x="6" y="145"/>
                  <a:pt x="6" y="145"/>
                  <a:pt x="6" y="145"/>
                </a:cubicBezTo>
                <a:cubicBezTo>
                  <a:pt x="11" y="145"/>
                  <a:pt x="11" y="145"/>
                  <a:pt x="11" y="145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23" y="144"/>
                  <a:pt x="23" y="144"/>
                  <a:pt x="23" y="144"/>
                </a:cubicBezTo>
                <a:cubicBezTo>
                  <a:pt x="28" y="143"/>
                  <a:pt x="28" y="143"/>
                  <a:pt x="28" y="143"/>
                </a:cubicBezTo>
                <a:cubicBezTo>
                  <a:pt x="34" y="142"/>
                  <a:pt x="34" y="142"/>
                  <a:pt x="34" y="142"/>
                </a:cubicBezTo>
                <a:cubicBezTo>
                  <a:pt x="40" y="141"/>
                  <a:pt x="40" y="141"/>
                  <a:pt x="40" y="141"/>
                </a:cubicBezTo>
                <a:cubicBezTo>
                  <a:pt x="45" y="139"/>
                  <a:pt x="45" y="139"/>
                  <a:pt x="45" y="139"/>
                </a:cubicBezTo>
                <a:cubicBezTo>
                  <a:pt x="51" y="138"/>
                  <a:pt x="51" y="138"/>
                  <a:pt x="51" y="138"/>
                </a:cubicBezTo>
                <a:cubicBezTo>
                  <a:pt x="57" y="136"/>
                  <a:pt x="57" y="136"/>
                  <a:pt x="57" y="136"/>
                </a:cubicBezTo>
                <a:cubicBezTo>
                  <a:pt x="62" y="134"/>
                  <a:pt x="62" y="134"/>
                  <a:pt x="62" y="134"/>
                </a:cubicBezTo>
                <a:cubicBezTo>
                  <a:pt x="68" y="132"/>
                  <a:pt x="68" y="132"/>
                  <a:pt x="68" y="132"/>
                </a:cubicBezTo>
                <a:cubicBezTo>
                  <a:pt x="74" y="130"/>
                  <a:pt x="74" y="130"/>
                  <a:pt x="74" y="130"/>
                </a:cubicBezTo>
                <a:cubicBezTo>
                  <a:pt x="79" y="128"/>
                  <a:pt x="79" y="128"/>
                  <a:pt x="79" y="128"/>
                </a:cubicBezTo>
                <a:cubicBezTo>
                  <a:pt x="85" y="125"/>
                  <a:pt x="85" y="125"/>
                  <a:pt x="85" y="125"/>
                </a:cubicBezTo>
                <a:cubicBezTo>
                  <a:pt x="91" y="122"/>
                  <a:pt x="91" y="122"/>
                  <a:pt x="91" y="122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8" y="112"/>
                  <a:pt x="108" y="112"/>
                  <a:pt x="108" y="112"/>
                </a:cubicBezTo>
                <a:cubicBezTo>
                  <a:pt x="113" y="109"/>
                  <a:pt x="113" y="109"/>
                  <a:pt x="113" y="109"/>
                </a:cubicBezTo>
                <a:cubicBezTo>
                  <a:pt x="119" y="105"/>
                  <a:pt x="119" y="105"/>
                  <a:pt x="119" y="105"/>
                </a:cubicBezTo>
                <a:cubicBezTo>
                  <a:pt x="125" y="101"/>
                  <a:pt x="125" y="101"/>
                  <a:pt x="125" y="101"/>
                </a:cubicBezTo>
                <a:cubicBezTo>
                  <a:pt x="130" y="96"/>
                  <a:pt x="130" y="96"/>
                  <a:pt x="130" y="96"/>
                </a:cubicBezTo>
                <a:cubicBezTo>
                  <a:pt x="136" y="91"/>
                  <a:pt x="136" y="91"/>
                  <a:pt x="136" y="91"/>
                </a:cubicBezTo>
                <a:cubicBezTo>
                  <a:pt x="142" y="87"/>
                  <a:pt x="142" y="87"/>
                  <a:pt x="142" y="87"/>
                </a:cubicBezTo>
                <a:cubicBezTo>
                  <a:pt x="147" y="82"/>
                  <a:pt x="147" y="82"/>
                  <a:pt x="147" y="8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9" y="71"/>
                  <a:pt x="159" y="71"/>
                  <a:pt x="159" y="71"/>
                </a:cubicBezTo>
                <a:cubicBezTo>
                  <a:pt x="164" y="65"/>
                  <a:pt x="164" y="65"/>
                  <a:pt x="164" y="65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6" y="53"/>
                  <a:pt x="176" y="53"/>
                  <a:pt x="176" y="53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7" y="41"/>
                  <a:pt x="187" y="41"/>
                  <a:pt x="187" y="41"/>
                </a:cubicBezTo>
                <a:cubicBezTo>
                  <a:pt x="193" y="35"/>
                  <a:pt x="193" y="35"/>
                  <a:pt x="193" y="35"/>
                </a:cubicBezTo>
                <a:cubicBezTo>
                  <a:pt x="198" y="30"/>
                  <a:pt x="198" y="30"/>
                  <a:pt x="198" y="30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10" y="19"/>
                  <a:pt x="210" y="19"/>
                  <a:pt x="210" y="19"/>
                </a:cubicBezTo>
                <a:cubicBezTo>
                  <a:pt x="215" y="14"/>
                  <a:pt x="215" y="14"/>
                  <a:pt x="215" y="14"/>
                </a:cubicBezTo>
                <a:cubicBezTo>
                  <a:pt x="221" y="9"/>
                  <a:pt x="221" y="9"/>
                  <a:pt x="221" y="9"/>
                </a:cubicBezTo>
                <a:cubicBezTo>
                  <a:pt x="227" y="6"/>
                  <a:pt x="227" y="6"/>
                  <a:pt x="227" y="6"/>
                </a:cubicBezTo>
                <a:cubicBezTo>
                  <a:pt x="232" y="3"/>
                  <a:pt x="232" y="3"/>
                  <a:pt x="232" y="3"/>
                </a:cubicBezTo>
                <a:cubicBezTo>
                  <a:pt x="238" y="1"/>
                  <a:pt x="238" y="1"/>
                  <a:pt x="238" y="1"/>
                </a:cubicBezTo>
                <a:cubicBezTo>
                  <a:pt x="244" y="0"/>
                  <a:pt x="244" y="0"/>
                  <a:pt x="244" y="0"/>
                </a:cubicBezTo>
                <a:cubicBezTo>
                  <a:pt x="249" y="0"/>
                  <a:pt x="249" y="0"/>
                  <a:pt x="249" y="0"/>
                </a:cubicBezTo>
                <a:cubicBezTo>
                  <a:pt x="255" y="2"/>
                  <a:pt x="255" y="2"/>
                  <a:pt x="255" y="2"/>
                </a:cubicBezTo>
                <a:cubicBezTo>
                  <a:pt x="261" y="4"/>
                  <a:pt x="261" y="4"/>
                  <a:pt x="261" y="4"/>
                </a:cubicBezTo>
                <a:cubicBezTo>
                  <a:pt x="266" y="8"/>
                  <a:pt x="266" y="8"/>
                  <a:pt x="266" y="8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8" y="20"/>
                  <a:pt x="278" y="20"/>
                  <a:pt x="278" y="20"/>
                </a:cubicBezTo>
                <a:cubicBezTo>
                  <a:pt x="283" y="28"/>
                  <a:pt x="283" y="28"/>
                  <a:pt x="283" y="28"/>
                </a:cubicBezTo>
                <a:cubicBezTo>
                  <a:pt x="286" y="32"/>
                  <a:pt x="286" y="32"/>
                  <a:pt x="286" y="32"/>
                </a:cubicBezTo>
                <a:cubicBezTo>
                  <a:pt x="289" y="36"/>
                  <a:pt x="289" y="36"/>
                  <a:pt x="289" y="36"/>
                </a:cubicBezTo>
                <a:cubicBezTo>
                  <a:pt x="292" y="41"/>
                  <a:pt x="292" y="41"/>
                  <a:pt x="292" y="41"/>
                </a:cubicBezTo>
                <a:cubicBezTo>
                  <a:pt x="295" y="45"/>
                  <a:pt x="295" y="45"/>
                  <a:pt x="295" y="45"/>
                </a:cubicBezTo>
                <a:cubicBezTo>
                  <a:pt x="298" y="50"/>
                  <a:pt x="298" y="50"/>
                  <a:pt x="298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303" y="60"/>
                  <a:pt x="303" y="60"/>
                  <a:pt x="303" y="60"/>
                </a:cubicBezTo>
                <a:cubicBezTo>
                  <a:pt x="306" y="66"/>
                  <a:pt x="306" y="66"/>
                  <a:pt x="306" y="66"/>
                </a:cubicBezTo>
                <a:cubicBezTo>
                  <a:pt x="309" y="71"/>
                  <a:pt x="309" y="71"/>
                  <a:pt x="309" y="71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5" y="82"/>
                  <a:pt x="315" y="82"/>
                  <a:pt x="315" y="82"/>
                </a:cubicBezTo>
                <a:cubicBezTo>
                  <a:pt x="318" y="88"/>
                  <a:pt x="318" y="88"/>
                  <a:pt x="318" y="88"/>
                </a:cubicBezTo>
                <a:cubicBezTo>
                  <a:pt x="320" y="93"/>
                  <a:pt x="320" y="93"/>
                  <a:pt x="320" y="93"/>
                </a:cubicBezTo>
                <a:cubicBezTo>
                  <a:pt x="323" y="99"/>
                  <a:pt x="323" y="99"/>
                  <a:pt x="323" y="99"/>
                </a:cubicBezTo>
                <a:cubicBezTo>
                  <a:pt x="326" y="104"/>
                  <a:pt x="326" y="104"/>
                  <a:pt x="326" y="104"/>
                </a:cubicBezTo>
                <a:cubicBezTo>
                  <a:pt x="329" y="110"/>
                  <a:pt x="329" y="110"/>
                  <a:pt x="329" y="110"/>
                </a:cubicBezTo>
                <a:cubicBezTo>
                  <a:pt x="332" y="116"/>
                  <a:pt x="332" y="116"/>
                  <a:pt x="332" y="116"/>
                </a:cubicBezTo>
                <a:cubicBezTo>
                  <a:pt x="335" y="121"/>
                  <a:pt x="335" y="121"/>
                  <a:pt x="335" y="121"/>
                </a:cubicBezTo>
                <a:cubicBezTo>
                  <a:pt x="337" y="126"/>
                  <a:pt x="337" y="126"/>
                  <a:pt x="337" y="126"/>
                </a:cubicBezTo>
                <a:cubicBezTo>
                  <a:pt x="340" y="132"/>
                  <a:pt x="340" y="132"/>
                  <a:pt x="340" y="132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6" y="143"/>
                  <a:pt x="346" y="143"/>
                  <a:pt x="346" y="143"/>
                </a:cubicBezTo>
                <a:cubicBezTo>
                  <a:pt x="349" y="148"/>
                  <a:pt x="349" y="148"/>
                  <a:pt x="349" y="148"/>
                </a:cubicBezTo>
                <a:cubicBezTo>
                  <a:pt x="354" y="158"/>
                  <a:pt x="354" y="158"/>
                  <a:pt x="354" y="158"/>
                </a:cubicBezTo>
                <a:cubicBezTo>
                  <a:pt x="357" y="163"/>
                  <a:pt x="357" y="163"/>
                  <a:pt x="357" y="163"/>
                </a:cubicBezTo>
                <a:cubicBezTo>
                  <a:pt x="360" y="168"/>
                  <a:pt x="360" y="168"/>
                  <a:pt x="360" y="168"/>
                </a:cubicBezTo>
                <a:cubicBezTo>
                  <a:pt x="363" y="173"/>
                  <a:pt x="363" y="173"/>
                  <a:pt x="363" y="173"/>
                </a:cubicBezTo>
                <a:cubicBezTo>
                  <a:pt x="366" y="177"/>
                  <a:pt x="366" y="177"/>
                  <a:pt x="366" y="177"/>
                </a:cubicBezTo>
                <a:cubicBezTo>
                  <a:pt x="369" y="182"/>
                  <a:pt x="369" y="182"/>
                  <a:pt x="369" y="182"/>
                </a:cubicBezTo>
                <a:cubicBezTo>
                  <a:pt x="371" y="186"/>
                  <a:pt x="371" y="186"/>
                  <a:pt x="371" y="186"/>
                </a:cubicBezTo>
                <a:cubicBezTo>
                  <a:pt x="374" y="191"/>
                  <a:pt x="374" y="191"/>
                  <a:pt x="374" y="191"/>
                </a:cubicBezTo>
                <a:cubicBezTo>
                  <a:pt x="377" y="195"/>
                  <a:pt x="377" y="195"/>
                  <a:pt x="377" y="195"/>
                </a:cubicBezTo>
                <a:cubicBezTo>
                  <a:pt x="380" y="199"/>
                  <a:pt x="380" y="199"/>
                  <a:pt x="380" y="199"/>
                </a:cubicBezTo>
                <a:cubicBezTo>
                  <a:pt x="386" y="208"/>
                  <a:pt x="386" y="208"/>
                  <a:pt x="386" y="208"/>
                </a:cubicBezTo>
                <a:cubicBezTo>
                  <a:pt x="391" y="215"/>
                  <a:pt x="391" y="215"/>
                  <a:pt x="391" y="215"/>
                </a:cubicBezTo>
                <a:cubicBezTo>
                  <a:pt x="397" y="223"/>
                  <a:pt x="397" y="223"/>
                  <a:pt x="397" y="223"/>
                </a:cubicBezTo>
                <a:cubicBezTo>
                  <a:pt x="403" y="230"/>
                  <a:pt x="403" y="230"/>
                  <a:pt x="403" y="230"/>
                </a:cubicBezTo>
                <a:cubicBezTo>
                  <a:pt x="408" y="237"/>
                  <a:pt x="408" y="237"/>
                  <a:pt x="408" y="237"/>
                </a:cubicBezTo>
                <a:cubicBezTo>
                  <a:pt x="414" y="243"/>
                  <a:pt x="414" y="243"/>
                  <a:pt x="414" y="243"/>
                </a:cubicBezTo>
                <a:cubicBezTo>
                  <a:pt x="420" y="250"/>
                  <a:pt x="420" y="250"/>
                  <a:pt x="420" y="250"/>
                </a:cubicBezTo>
                <a:cubicBezTo>
                  <a:pt x="425" y="256"/>
                  <a:pt x="425" y="256"/>
                  <a:pt x="425" y="256"/>
                </a:cubicBezTo>
                <a:cubicBezTo>
                  <a:pt x="431" y="261"/>
                  <a:pt x="431" y="261"/>
                  <a:pt x="431" y="261"/>
                </a:cubicBezTo>
                <a:cubicBezTo>
                  <a:pt x="437" y="267"/>
                  <a:pt x="437" y="267"/>
                  <a:pt x="437" y="267"/>
                </a:cubicBezTo>
                <a:cubicBezTo>
                  <a:pt x="442" y="272"/>
                  <a:pt x="442" y="272"/>
                  <a:pt x="442" y="272"/>
                </a:cubicBezTo>
                <a:cubicBezTo>
                  <a:pt x="448" y="277"/>
                  <a:pt x="448" y="277"/>
                  <a:pt x="448" y="277"/>
                </a:cubicBezTo>
                <a:cubicBezTo>
                  <a:pt x="454" y="281"/>
                  <a:pt x="454" y="281"/>
                  <a:pt x="454" y="281"/>
                </a:cubicBezTo>
                <a:cubicBezTo>
                  <a:pt x="459" y="286"/>
                  <a:pt x="459" y="286"/>
                  <a:pt x="459" y="286"/>
                </a:cubicBezTo>
                <a:cubicBezTo>
                  <a:pt x="465" y="290"/>
                  <a:pt x="465" y="290"/>
                  <a:pt x="465" y="290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6" y="298"/>
                  <a:pt x="476" y="298"/>
                  <a:pt x="476" y="298"/>
                </a:cubicBezTo>
                <a:cubicBezTo>
                  <a:pt x="482" y="302"/>
                  <a:pt x="482" y="302"/>
                  <a:pt x="482" y="302"/>
                </a:cubicBezTo>
                <a:cubicBezTo>
                  <a:pt x="488" y="306"/>
                  <a:pt x="488" y="306"/>
                  <a:pt x="488" y="306"/>
                </a:cubicBezTo>
                <a:cubicBezTo>
                  <a:pt x="493" y="309"/>
                  <a:pt x="493" y="309"/>
                  <a:pt x="493" y="309"/>
                </a:cubicBezTo>
                <a:cubicBezTo>
                  <a:pt x="499" y="312"/>
                  <a:pt x="499" y="312"/>
                  <a:pt x="499" y="312"/>
                </a:cubicBezTo>
                <a:cubicBezTo>
                  <a:pt x="505" y="315"/>
                  <a:pt x="505" y="315"/>
                  <a:pt x="505" y="315"/>
                </a:cubicBezTo>
                <a:cubicBezTo>
                  <a:pt x="510" y="318"/>
                  <a:pt x="510" y="318"/>
                  <a:pt x="510" y="318"/>
                </a:cubicBezTo>
                <a:cubicBezTo>
                  <a:pt x="516" y="321"/>
                  <a:pt x="516" y="321"/>
                  <a:pt x="516" y="321"/>
                </a:cubicBezTo>
                <a:cubicBezTo>
                  <a:pt x="522" y="324"/>
                  <a:pt x="522" y="324"/>
                  <a:pt x="522" y="324"/>
                </a:cubicBezTo>
                <a:cubicBezTo>
                  <a:pt x="527" y="327"/>
                  <a:pt x="527" y="327"/>
                  <a:pt x="527" y="327"/>
                </a:cubicBezTo>
                <a:cubicBezTo>
                  <a:pt x="533" y="329"/>
                  <a:pt x="533" y="329"/>
                  <a:pt x="533" y="329"/>
                </a:cubicBezTo>
                <a:cubicBezTo>
                  <a:pt x="539" y="332"/>
                  <a:pt x="539" y="332"/>
                  <a:pt x="539" y="332"/>
                </a:cubicBezTo>
                <a:cubicBezTo>
                  <a:pt x="544" y="334"/>
                  <a:pt x="544" y="334"/>
                  <a:pt x="544" y="334"/>
                </a:cubicBezTo>
                <a:cubicBezTo>
                  <a:pt x="550" y="337"/>
                  <a:pt x="550" y="337"/>
                  <a:pt x="550" y="337"/>
                </a:cubicBezTo>
                <a:cubicBezTo>
                  <a:pt x="556" y="339"/>
                  <a:pt x="556" y="339"/>
                  <a:pt x="556" y="339"/>
                </a:cubicBezTo>
                <a:cubicBezTo>
                  <a:pt x="561" y="341"/>
                  <a:pt x="561" y="341"/>
                  <a:pt x="561" y="341"/>
                </a:cubicBezTo>
                <a:cubicBezTo>
                  <a:pt x="567" y="343"/>
                  <a:pt x="567" y="343"/>
                  <a:pt x="567" y="343"/>
                </a:cubicBezTo>
                <a:cubicBezTo>
                  <a:pt x="573" y="345"/>
                  <a:pt x="573" y="345"/>
                  <a:pt x="573" y="345"/>
                </a:cubicBezTo>
                <a:cubicBezTo>
                  <a:pt x="578" y="347"/>
                  <a:pt x="578" y="347"/>
                  <a:pt x="578" y="347"/>
                </a:cubicBezTo>
                <a:cubicBezTo>
                  <a:pt x="584" y="349"/>
                  <a:pt x="584" y="349"/>
                  <a:pt x="584" y="349"/>
                </a:cubicBezTo>
                <a:cubicBezTo>
                  <a:pt x="590" y="351"/>
                  <a:pt x="590" y="351"/>
                  <a:pt x="590" y="351"/>
                </a:cubicBezTo>
                <a:cubicBezTo>
                  <a:pt x="595" y="352"/>
                  <a:pt x="595" y="352"/>
                  <a:pt x="595" y="352"/>
                </a:cubicBezTo>
                <a:cubicBezTo>
                  <a:pt x="601" y="354"/>
                  <a:pt x="601" y="354"/>
                  <a:pt x="601" y="354"/>
                </a:cubicBezTo>
                <a:cubicBezTo>
                  <a:pt x="607" y="356"/>
                  <a:pt x="607" y="356"/>
                  <a:pt x="607" y="356"/>
                </a:cubicBezTo>
                <a:cubicBezTo>
                  <a:pt x="612" y="357"/>
                  <a:pt x="612" y="357"/>
                  <a:pt x="612" y="357"/>
                </a:cubicBezTo>
                <a:cubicBezTo>
                  <a:pt x="618" y="359"/>
                  <a:pt x="618" y="359"/>
                  <a:pt x="618" y="359"/>
                </a:cubicBezTo>
                <a:cubicBezTo>
                  <a:pt x="624" y="360"/>
                  <a:pt x="624" y="360"/>
                  <a:pt x="624" y="360"/>
                </a:cubicBezTo>
                <a:cubicBezTo>
                  <a:pt x="629" y="361"/>
                  <a:pt x="629" y="361"/>
                  <a:pt x="629" y="361"/>
                </a:cubicBezTo>
                <a:cubicBezTo>
                  <a:pt x="635" y="363"/>
                  <a:pt x="635" y="363"/>
                  <a:pt x="635" y="363"/>
                </a:cubicBezTo>
                <a:cubicBezTo>
                  <a:pt x="641" y="364"/>
                  <a:pt x="641" y="364"/>
                  <a:pt x="641" y="364"/>
                </a:cubicBezTo>
                <a:cubicBezTo>
                  <a:pt x="646" y="365"/>
                  <a:pt x="646" y="365"/>
                  <a:pt x="646" y="365"/>
                </a:cubicBezTo>
                <a:cubicBezTo>
                  <a:pt x="652" y="367"/>
                  <a:pt x="652" y="367"/>
                  <a:pt x="652" y="367"/>
                </a:cubicBezTo>
                <a:cubicBezTo>
                  <a:pt x="658" y="368"/>
                  <a:pt x="658" y="368"/>
                  <a:pt x="658" y="368"/>
                </a:cubicBezTo>
                <a:cubicBezTo>
                  <a:pt x="663" y="369"/>
                  <a:pt x="663" y="369"/>
                  <a:pt x="663" y="369"/>
                </a:cubicBezTo>
                <a:cubicBezTo>
                  <a:pt x="669" y="370"/>
                  <a:pt x="669" y="370"/>
                  <a:pt x="669" y="370"/>
                </a:cubicBezTo>
                <a:cubicBezTo>
                  <a:pt x="675" y="371"/>
                  <a:pt x="675" y="371"/>
                  <a:pt x="675" y="371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6" y="373"/>
                  <a:pt x="686" y="373"/>
                  <a:pt x="686" y="373"/>
                </a:cubicBezTo>
                <a:cubicBezTo>
                  <a:pt x="692" y="374"/>
                  <a:pt x="692" y="374"/>
                  <a:pt x="692" y="374"/>
                </a:cubicBezTo>
                <a:cubicBezTo>
                  <a:pt x="697" y="375"/>
                  <a:pt x="697" y="375"/>
                  <a:pt x="697" y="375"/>
                </a:cubicBezTo>
                <a:cubicBezTo>
                  <a:pt x="703" y="376"/>
                  <a:pt x="703" y="376"/>
                  <a:pt x="703" y="376"/>
                </a:cubicBezTo>
                <a:cubicBezTo>
                  <a:pt x="709" y="377"/>
                  <a:pt x="709" y="377"/>
                  <a:pt x="709" y="377"/>
                </a:cubicBezTo>
                <a:cubicBezTo>
                  <a:pt x="714" y="378"/>
                  <a:pt x="714" y="378"/>
                  <a:pt x="714" y="378"/>
                </a:cubicBezTo>
                <a:cubicBezTo>
                  <a:pt x="720" y="379"/>
                  <a:pt x="720" y="379"/>
                  <a:pt x="720" y="379"/>
                </a:cubicBezTo>
                <a:cubicBezTo>
                  <a:pt x="726" y="380"/>
                  <a:pt x="726" y="380"/>
                  <a:pt x="726" y="380"/>
                </a:cubicBezTo>
                <a:cubicBezTo>
                  <a:pt x="731" y="381"/>
                  <a:pt x="731" y="381"/>
                  <a:pt x="731" y="381"/>
                </a:cubicBezTo>
                <a:cubicBezTo>
                  <a:pt x="737" y="382"/>
                  <a:pt x="737" y="382"/>
                  <a:pt x="737" y="382"/>
                </a:cubicBezTo>
                <a:cubicBezTo>
                  <a:pt x="743" y="382"/>
                  <a:pt x="743" y="382"/>
                  <a:pt x="743" y="382"/>
                </a:cubicBezTo>
                <a:cubicBezTo>
                  <a:pt x="748" y="383"/>
                  <a:pt x="748" y="383"/>
                  <a:pt x="748" y="383"/>
                </a:cubicBezTo>
                <a:cubicBezTo>
                  <a:pt x="754" y="384"/>
                  <a:pt x="754" y="384"/>
                  <a:pt x="754" y="384"/>
                </a:cubicBezTo>
                <a:cubicBezTo>
                  <a:pt x="760" y="385"/>
                  <a:pt x="760" y="385"/>
                  <a:pt x="760" y="385"/>
                </a:cubicBezTo>
                <a:cubicBezTo>
                  <a:pt x="765" y="385"/>
                  <a:pt x="765" y="385"/>
                  <a:pt x="765" y="385"/>
                </a:cubicBezTo>
                <a:cubicBezTo>
                  <a:pt x="771" y="386"/>
                  <a:pt x="771" y="386"/>
                  <a:pt x="771" y="386"/>
                </a:cubicBezTo>
                <a:cubicBezTo>
                  <a:pt x="777" y="387"/>
                  <a:pt x="777" y="387"/>
                  <a:pt x="777" y="387"/>
                </a:cubicBezTo>
                <a:cubicBezTo>
                  <a:pt x="782" y="387"/>
                  <a:pt x="782" y="387"/>
                  <a:pt x="782" y="387"/>
                </a:cubicBezTo>
                <a:cubicBezTo>
                  <a:pt x="788" y="388"/>
                  <a:pt x="788" y="388"/>
                  <a:pt x="788" y="388"/>
                </a:cubicBezTo>
                <a:cubicBezTo>
                  <a:pt x="794" y="389"/>
                  <a:pt x="794" y="389"/>
                  <a:pt x="794" y="389"/>
                </a:cubicBezTo>
                <a:cubicBezTo>
                  <a:pt x="799" y="389"/>
                  <a:pt x="799" y="389"/>
                  <a:pt x="799" y="389"/>
                </a:cubicBezTo>
                <a:cubicBezTo>
                  <a:pt x="805" y="390"/>
                  <a:pt x="805" y="390"/>
                  <a:pt x="805" y="390"/>
                </a:cubicBezTo>
                <a:cubicBezTo>
                  <a:pt x="811" y="390"/>
                  <a:pt x="811" y="390"/>
                  <a:pt x="811" y="390"/>
                </a:cubicBezTo>
                <a:cubicBezTo>
                  <a:pt x="816" y="391"/>
                  <a:pt x="816" y="391"/>
                  <a:pt x="816" y="391"/>
                </a:cubicBezTo>
                <a:cubicBezTo>
                  <a:pt x="822" y="392"/>
                  <a:pt x="822" y="392"/>
                  <a:pt x="822" y="392"/>
                </a:cubicBezTo>
                <a:cubicBezTo>
                  <a:pt x="828" y="392"/>
                  <a:pt x="828" y="392"/>
                  <a:pt x="828" y="392"/>
                </a:cubicBezTo>
                <a:cubicBezTo>
                  <a:pt x="833" y="393"/>
                  <a:pt x="833" y="393"/>
                  <a:pt x="833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45" y="394"/>
                  <a:pt x="845" y="394"/>
                  <a:pt x="845" y="394"/>
                </a:cubicBezTo>
                <a:cubicBezTo>
                  <a:pt x="850" y="394"/>
                  <a:pt x="850" y="394"/>
                  <a:pt x="850" y="394"/>
                </a:cubicBezTo>
                <a:cubicBezTo>
                  <a:pt x="856" y="395"/>
                  <a:pt x="856" y="395"/>
                  <a:pt x="856" y="395"/>
                </a:cubicBezTo>
                <a:cubicBezTo>
                  <a:pt x="862" y="395"/>
                  <a:pt x="862" y="395"/>
                  <a:pt x="862" y="395"/>
                </a:cubicBezTo>
                <a:cubicBezTo>
                  <a:pt x="868" y="396"/>
                  <a:pt x="868" y="396"/>
                  <a:pt x="868" y="396"/>
                </a:cubicBezTo>
                <a:cubicBezTo>
                  <a:pt x="873" y="396"/>
                  <a:pt x="873" y="396"/>
                  <a:pt x="873" y="396"/>
                </a:cubicBezTo>
                <a:cubicBezTo>
                  <a:pt x="879" y="397"/>
                  <a:pt x="879" y="397"/>
                  <a:pt x="879" y="397"/>
                </a:cubicBezTo>
                <a:cubicBezTo>
                  <a:pt x="885" y="397"/>
                  <a:pt x="885" y="397"/>
                  <a:pt x="885" y="397"/>
                </a:cubicBezTo>
                <a:cubicBezTo>
                  <a:pt x="890" y="397"/>
                  <a:pt x="890" y="397"/>
                  <a:pt x="890" y="397"/>
                </a:cubicBezTo>
                <a:cubicBezTo>
                  <a:pt x="896" y="398"/>
                  <a:pt x="896" y="398"/>
                  <a:pt x="896" y="398"/>
                </a:cubicBezTo>
                <a:cubicBezTo>
                  <a:pt x="902" y="398"/>
                  <a:pt x="902" y="398"/>
                  <a:pt x="902" y="398"/>
                </a:cubicBezTo>
                <a:cubicBezTo>
                  <a:pt x="907" y="399"/>
                  <a:pt x="907" y="399"/>
                  <a:pt x="907" y="399"/>
                </a:cubicBezTo>
                <a:cubicBezTo>
                  <a:pt x="913" y="399"/>
                  <a:pt x="913" y="399"/>
                  <a:pt x="913" y="399"/>
                </a:cubicBezTo>
                <a:cubicBezTo>
                  <a:pt x="919" y="399"/>
                  <a:pt x="919" y="399"/>
                  <a:pt x="919" y="399"/>
                </a:cubicBezTo>
                <a:cubicBezTo>
                  <a:pt x="924" y="400"/>
                  <a:pt x="924" y="400"/>
                  <a:pt x="924" y="400"/>
                </a:cubicBezTo>
                <a:cubicBezTo>
                  <a:pt x="930" y="400"/>
                  <a:pt x="930" y="400"/>
                  <a:pt x="930" y="400"/>
                </a:cubicBezTo>
                <a:cubicBezTo>
                  <a:pt x="936" y="401"/>
                  <a:pt x="936" y="401"/>
                  <a:pt x="936" y="401"/>
                </a:cubicBezTo>
                <a:cubicBezTo>
                  <a:pt x="941" y="401"/>
                  <a:pt x="941" y="401"/>
                  <a:pt x="941" y="401"/>
                </a:cubicBezTo>
                <a:cubicBezTo>
                  <a:pt x="947" y="401"/>
                  <a:pt x="947" y="401"/>
                  <a:pt x="947" y="401"/>
                </a:cubicBezTo>
                <a:cubicBezTo>
                  <a:pt x="953" y="402"/>
                  <a:pt x="953" y="402"/>
                  <a:pt x="953" y="402"/>
                </a:cubicBezTo>
                <a:cubicBezTo>
                  <a:pt x="958" y="402"/>
                  <a:pt x="958" y="402"/>
                  <a:pt x="958" y="402"/>
                </a:cubicBezTo>
                <a:cubicBezTo>
                  <a:pt x="964" y="402"/>
                  <a:pt x="964" y="402"/>
                  <a:pt x="964" y="402"/>
                </a:cubicBezTo>
                <a:cubicBezTo>
                  <a:pt x="970" y="403"/>
                  <a:pt x="970" y="403"/>
                  <a:pt x="970" y="403"/>
                </a:cubicBezTo>
                <a:cubicBezTo>
                  <a:pt x="975" y="403"/>
                  <a:pt x="975" y="403"/>
                  <a:pt x="975" y="403"/>
                </a:cubicBezTo>
                <a:cubicBezTo>
                  <a:pt x="981" y="403"/>
                  <a:pt x="981" y="403"/>
                  <a:pt x="981" y="403"/>
                </a:cubicBezTo>
                <a:cubicBezTo>
                  <a:pt x="987" y="404"/>
                  <a:pt x="987" y="404"/>
                  <a:pt x="987" y="404"/>
                </a:cubicBezTo>
                <a:cubicBezTo>
                  <a:pt x="992" y="404"/>
                  <a:pt x="992" y="404"/>
                  <a:pt x="992" y="404"/>
                </a:cubicBezTo>
                <a:cubicBezTo>
                  <a:pt x="998" y="404"/>
                  <a:pt x="998" y="404"/>
                  <a:pt x="998" y="404"/>
                </a:cubicBezTo>
                <a:cubicBezTo>
                  <a:pt x="1004" y="404"/>
                  <a:pt x="1004" y="404"/>
                  <a:pt x="1004" y="404"/>
                </a:cubicBezTo>
                <a:cubicBezTo>
                  <a:pt x="1009" y="405"/>
                  <a:pt x="1009" y="405"/>
                  <a:pt x="1009" y="405"/>
                </a:cubicBezTo>
                <a:cubicBezTo>
                  <a:pt x="1015" y="405"/>
                  <a:pt x="1015" y="405"/>
                  <a:pt x="1015" y="405"/>
                </a:cubicBezTo>
                <a:cubicBezTo>
                  <a:pt x="1021" y="405"/>
                  <a:pt x="1021" y="405"/>
                  <a:pt x="1021" y="405"/>
                </a:cubicBezTo>
                <a:cubicBezTo>
                  <a:pt x="1026" y="406"/>
                  <a:pt x="1026" y="406"/>
                  <a:pt x="1026" y="406"/>
                </a:cubicBezTo>
                <a:cubicBezTo>
                  <a:pt x="1032" y="406"/>
                  <a:pt x="1032" y="406"/>
                  <a:pt x="1032" y="406"/>
                </a:cubicBezTo>
                <a:cubicBezTo>
                  <a:pt x="1038" y="406"/>
                  <a:pt x="1038" y="406"/>
                  <a:pt x="1038" y="406"/>
                </a:cubicBezTo>
                <a:cubicBezTo>
                  <a:pt x="1043" y="406"/>
                  <a:pt x="1043" y="406"/>
                  <a:pt x="1043" y="406"/>
                </a:cubicBezTo>
                <a:cubicBezTo>
                  <a:pt x="1049" y="407"/>
                  <a:pt x="1049" y="407"/>
                  <a:pt x="1049" y="407"/>
                </a:cubicBezTo>
                <a:cubicBezTo>
                  <a:pt x="1055" y="407"/>
                  <a:pt x="1055" y="407"/>
                  <a:pt x="1055" y="407"/>
                </a:cubicBezTo>
                <a:cubicBezTo>
                  <a:pt x="1060" y="407"/>
                  <a:pt x="1060" y="407"/>
                  <a:pt x="1060" y="407"/>
                </a:cubicBezTo>
                <a:cubicBezTo>
                  <a:pt x="1066" y="407"/>
                  <a:pt x="1066" y="407"/>
                  <a:pt x="1066" y="407"/>
                </a:cubicBezTo>
                <a:cubicBezTo>
                  <a:pt x="1072" y="408"/>
                  <a:pt x="1072" y="408"/>
                  <a:pt x="1072" y="408"/>
                </a:cubicBezTo>
                <a:cubicBezTo>
                  <a:pt x="1077" y="408"/>
                  <a:pt x="1077" y="408"/>
                  <a:pt x="1077" y="408"/>
                </a:cubicBezTo>
                <a:cubicBezTo>
                  <a:pt x="1083" y="408"/>
                  <a:pt x="1083" y="408"/>
                  <a:pt x="1083" y="408"/>
                </a:cubicBezTo>
                <a:cubicBezTo>
                  <a:pt x="1089" y="408"/>
                  <a:pt x="1089" y="408"/>
                  <a:pt x="1089" y="408"/>
                </a:cubicBezTo>
                <a:cubicBezTo>
                  <a:pt x="1094" y="408"/>
                  <a:pt x="1094" y="408"/>
                  <a:pt x="1094" y="408"/>
                </a:cubicBezTo>
                <a:cubicBezTo>
                  <a:pt x="1100" y="409"/>
                  <a:pt x="1100" y="409"/>
                  <a:pt x="1100" y="409"/>
                </a:cubicBezTo>
                <a:cubicBezTo>
                  <a:pt x="1106" y="409"/>
                  <a:pt x="1106" y="409"/>
                  <a:pt x="1106" y="409"/>
                </a:cubicBezTo>
                <a:cubicBezTo>
                  <a:pt x="1111" y="409"/>
                  <a:pt x="1111" y="409"/>
                  <a:pt x="1111" y="409"/>
                </a:cubicBezTo>
                <a:cubicBezTo>
                  <a:pt x="1117" y="409"/>
                  <a:pt x="1117" y="409"/>
                  <a:pt x="1117" y="409"/>
                </a:cubicBezTo>
                <a:cubicBezTo>
                  <a:pt x="1123" y="410"/>
                  <a:pt x="1123" y="410"/>
                  <a:pt x="1123" y="410"/>
                </a:cubicBezTo>
                <a:cubicBezTo>
                  <a:pt x="1128" y="410"/>
                  <a:pt x="1128" y="410"/>
                  <a:pt x="1128" y="410"/>
                </a:cubicBezTo>
                <a:cubicBezTo>
                  <a:pt x="1134" y="410"/>
                  <a:pt x="1134" y="410"/>
                  <a:pt x="1134" y="410"/>
                </a:cubicBezTo>
                <a:cubicBezTo>
                  <a:pt x="1140" y="410"/>
                  <a:pt x="1140" y="410"/>
                  <a:pt x="1140" y="410"/>
                </a:cubicBezTo>
                <a:cubicBezTo>
                  <a:pt x="1145" y="410"/>
                  <a:pt x="1145" y="410"/>
                  <a:pt x="1145" y="410"/>
                </a:cubicBezTo>
                <a:cubicBezTo>
                  <a:pt x="1151" y="410"/>
                  <a:pt x="1151" y="410"/>
                  <a:pt x="1151" y="410"/>
                </a:cubicBezTo>
                <a:cubicBezTo>
                  <a:pt x="1157" y="411"/>
                  <a:pt x="1157" y="411"/>
                  <a:pt x="1157" y="411"/>
                </a:cubicBezTo>
                <a:cubicBezTo>
                  <a:pt x="1162" y="411"/>
                  <a:pt x="1162" y="411"/>
                  <a:pt x="1162" y="411"/>
                </a:cubicBezTo>
                <a:cubicBezTo>
                  <a:pt x="1168" y="411"/>
                  <a:pt x="1168" y="411"/>
                  <a:pt x="1168" y="411"/>
                </a:cubicBezTo>
                <a:cubicBezTo>
                  <a:pt x="1174" y="411"/>
                  <a:pt x="1174" y="411"/>
                  <a:pt x="1174" y="411"/>
                </a:cubicBezTo>
                <a:cubicBezTo>
                  <a:pt x="1179" y="411"/>
                  <a:pt x="1179" y="411"/>
                  <a:pt x="1179" y="411"/>
                </a:cubicBezTo>
                <a:cubicBezTo>
                  <a:pt x="1185" y="412"/>
                  <a:pt x="1185" y="412"/>
                  <a:pt x="1185" y="412"/>
                </a:cubicBezTo>
                <a:cubicBezTo>
                  <a:pt x="1191" y="412"/>
                  <a:pt x="1191" y="412"/>
                  <a:pt x="1191" y="412"/>
                </a:cubicBezTo>
                <a:cubicBezTo>
                  <a:pt x="1196" y="412"/>
                  <a:pt x="1196" y="412"/>
                  <a:pt x="1196" y="412"/>
                </a:cubicBezTo>
                <a:cubicBezTo>
                  <a:pt x="1202" y="412"/>
                  <a:pt x="1202" y="412"/>
                  <a:pt x="1202" y="412"/>
                </a:cubicBezTo>
                <a:cubicBezTo>
                  <a:pt x="1208" y="412"/>
                  <a:pt x="1208" y="412"/>
                  <a:pt x="1208" y="412"/>
                </a:cubicBezTo>
                <a:cubicBezTo>
                  <a:pt x="1213" y="412"/>
                  <a:pt x="1213" y="412"/>
                  <a:pt x="1213" y="412"/>
                </a:cubicBezTo>
                <a:cubicBezTo>
                  <a:pt x="1219" y="413"/>
                  <a:pt x="1219" y="413"/>
                  <a:pt x="1219" y="413"/>
                </a:cubicBezTo>
                <a:cubicBezTo>
                  <a:pt x="1225" y="413"/>
                  <a:pt x="1225" y="413"/>
                  <a:pt x="1225" y="413"/>
                </a:cubicBezTo>
                <a:cubicBezTo>
                  <a:pt x="1230" y="413"/>
                  <a:pt x="1230" y="413"/>
                  <a:pt x="1230" y="413"/>
                </a:cubicBezTo>
                <a:cubicBezTo>
                  <a:pt x="1236" y="413"/>
                  <a:pt x="1236" y="413"/>
                  <a:pt x="1236" y="413"/>
                </a:cubicBezTo>
                <a:cubicBezTo>
                  <a:pt x="1242" y="413"/>
                  <a:pt x="1242" y="413"/>
                  <a:pt x="1242" y="413"/>
                </a:cubicBezTo>
                <a:cubicBezTo>
                  <a:pt x="1247" y="413"/>
                  <a:pt x="1247" y="413"/>
                  <a:pt x="1247" y="413"/>
                </a:cubicBezTo>
                <a:cubicBezTo>
                  <a:pt x="1253" y="413"/>
                  <a:pt x="1253" y="413"/>
                  <a:pt x="1253" y="413"/>
                </a:cubicBezTo>
                <a:cubicBezTo>
                  <a:pt x="1259" y="414"/>
                  <a:pt x="1259" y="414"/>
                  <a:pt x="1259" y="414"/>
                </a:cubicBezTo>
                <a:cubicBezTo>
                  <a:pt x="1264" y="414"/>
                  <a:pt x="1264" y="414"/>
                  <a:pt x="1264" y="414"/>
                </a:cubicBezTo>
                <a:cubicBezTo>
                  <a:pt x="1270" y="414"/>
                  <a:pt x="1270" y="414"/>
                  <a:pt x="1270" y="414"/>
                </a:cubicBezTo>
                <a:cubicBezTo>
                  <a:pt x="1276" y="414"/>
                  <a:pt x="1276" y="414"/>
                  <a:pt x="1276" y="414"/>
                </a:cubicBezTo>
                <a:cubicBezTo>
                  <a:pt x="1281" y="414"/>
                  <a:pt x="1281" y="414"/>
                  <a:pt x="1281" y="414"/>
                </a:cubicBezTo>
                <a:cubicBezTo>
                  <a:pt x="1287" y="414"/>
                  <a:pt x="1287" y="414"/>
                  <a:pt x="1287" y="414"/>
                </a:cubicBezTo>
                <a:cubicBezTo>
                  <a:pt x="1293" y="414"/>
                  <a:pt x="1293" y="414"/>
                  <a:pt x="1293" y="414"/>
                </a:cubicBezTo>
                <a:cubicBezTo>
                  <a:pt x="1298" y="414"/>
                  <a:pt x="1298" y="414"/>
                  <a:pt x="1298" y="414"/>
                </a:cubicBezTo>
                <a:cubicBezTo>
                  <a:pt x="1304" y="415"/>
                  <a:pt x="1304" y="415"/>
                  <a:pt x="1304" y="415"/>
                </a:cubicBezTo>
                <a:cubicBezTo>
                  <a:pt x="1310" y="415"/>
                  <a:pt x="1310" y="415"/>
                  <a:pt x="1310" y="415"/>
                </a:cubicBezTo>
                <a:cubicBezTo>
                  <a:pt x="1315" y="415"/>
                  <a:pt x="1315" y="415"/>
                  <a:pt x="1315" y="415"/>
                </a:cubicBezTo>
                <a:cubicBezTo>
                  <a:pt x="1321" y="415"/>
                  <a:pt x="1321" y="415"/>
                  <a:pt x="1321" y="415"/>
                </a:cubicBezTo>
                <a:cubicBezTo>
                  <a:pt x="1327" y="415"/>
                  <a:pt x="1327" y="415"/>
                  <a:pt x="1327" y="415"/>
                </a:cubicBezTo>
                <a:cubicBezTo>
                  <a:pt x="1332" y="415"/>
                  <a:pt x="1332" y="415"/>
                  <a:pt x="1332" y="415"/>
                </a:cubicBezTo>
                <a:cubicBezTo>
                  <a:pt x="1338" y="415"/>
                  <a:pt x="1338" y="415"/>
                  <a:pt x="1338" y="415"/>
                </a:cubicBezTo>
                <a:cubicBezTo>
                  <a:pt x="1344" y="415"/>
                  <a:pt x="1344" y="415"/>
                  <a:pt x="1344" y="415"/>
                </a:cubicBezTo>
                <a:cubicBezTo>
                  <a:pt x="1349" y="416"/>
                  <a:pt x="1349" y="416"/>
                  <a:pt x="1349" y="416"/>
                </a:cubicBezTo>
                <a:cubicBezTo>
                  <a:pt x="1355" y="416"/>
                  <a:pt x="1355" y="416"/>
                  <a:pt x="1355" y="416"/>
                </a:cubicBezTo>
                <a:cubicBezTo>
                  <a:pt x="1361" y="416"/>
                  <a:pt x="1361" y="416"/>
                  <a:pt x="1361" y="416"/>
                </a:cubicBezTo>
                <a:cubicBezTo>
                  <a:pt x="1366" y="416"/>
                  <a:pt x="1366" y="416"/>
                  <a:pt x="1366" y="416"/>
                </a:cubicBezTo>
                <a:cubicBezTo>
                  <a:pt x="1372" y="416"/>
                  <a:pt x="1372" y="416"/>
                  <a:pt x="1372" y="416"/>
                </a:cubicBezTo>
                <a:cubicBezTo>
                  <a:pt x="1378" y="416"/>
                  <a:pt x="1378" y="416"/>
                  <a:pt x="1378" y="416"/>
                </a:cubicBezTo>
                <a:cubicBezTo>
                  <a:pt x="1383" y="416"/>
                  <a:pt x="1383" y="416"/>
                  <a:pt x="1383" y="416"/>
                </a:cubicBezTo>
                <a:cubicBezTo>
                  <a:pt x="1389" y="416"/>
                  <a:pt x="1389" y="416"/>
                  <a:pt x="1389" y="416"/>
                </a:cubicBezTo>
                <a:cubicBezTo>
                  <a:pt x="1395" y="416"/>
                  <a:pt x="1395" y="416"/>
                  <a:pt x="1395" y="416"/>
                </a:cubicBezTo>
                <a:cubicBezTo>
                  <a:pt x="1400" y="417"/>
                  <a:pt x="1400" y="417"/>
                  <a:pt x="1400" y="417"/>
                </a:cubicBezTo>
                <a:cubicBezTo>
                  <a:pt x="1406" y="417"/>
                  <a:pt x="1406" y="417"/>
                  <a:pt x="1406" y="417"/>
                </a:cubicBezTo>
                <a:cubicBezTo>
                  <a:pt x="1412" y="417"/>
                  <a:pt x="1412" y="417"/>
                  <a:pt x="1412" y="417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949320" y="4132440"/>
            <a:ext cx="3011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1873080" y="317196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 flipH="1">
            <a:off x="2287440" y="3100320"/>
            <a:ext cx="66384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3684600" y="3649680"/>
            <a:ext cx="19335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 flipV="1">
            <a:off x="1438200" y="4141800"/>
            <a:ext cx="43812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 flipH="1" flipV="1">
            <a:off x="2063520" y="4152960"/>
            <a:ext cx="52524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7" name=""/>
          <p:cNvGraphicFramePr/>
          <p:nvPr/>
        </p:nvGraphicFramePr>
        <p:xfrm>
          <a:off x="2490840" y="4554360"/>
          <a:ext cx="539640" cy="378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21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490840" y="4554360"/>
                    <a:ext cx="539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9" name=""/>
          <p:cNvGraphicFramePr/>
          <p:nvPr/>
        </p:nvGraphicFramePr>
        <p:xfrm>
          <a:off x="2316240" y="4978440"/>
          <a:ext cx="114120" cy="2160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220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316240" y="4978440"/>
                    <a:ext cx="114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1" name=""/>
          <p:cNvGraphicFramePr/>
          <p:nvPr/>
        </p:nvGraphicFramePr>
        <p:xfrm>
          <a:off x="1300320" y="4535640"/>
          <a:ext cx="539640" cy="3762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22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300320" y="4535640"/>
                    <a:ext cx="5396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3" name=""/>
          <p:cNvSpPr/>
          <p:nvPr/>
        </p:nvSpPr>
        <p:spPr>
          <a:xfrm flipH="1">
            <a:off x="770040" y="3446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4332240" y="2506680"/>
            <a:ext cx="42840" cy="16095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Управляющая кнопка: домой 85">
            <a:hlinkClick r:id="rId2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8172360" y="627696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"/>
          <p:cNvSpPr/>
          <p:nvPr/>
        </p:nvSpPr>
        <p:spPr>
          <a:xfrm>
            <a:off x="3760920" y="2122560"/>
            <a:ext cx="52545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Якщо повернутися до відповіді на запитання 12.3 і порівняти залежності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l-G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ω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і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l-G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ω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для двох значень </a:t>
            </a:r>
            <a:r>
              <a:rPr b="0" i="1" lang="el-G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l-G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i="1" lang="el-G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то легко побачити, що для всіх значень           будемо мати                           за умови               Дійс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ля всіх             якщо                До того ж, згадуючи формулу для резонансної частоти                                можна зрозуміти, що зі збільшенням  </a:t>
            </a:r>
            <a:r>
              <a:rPr b="0" i="1" lang="el-GR" sz="1800" spc="-1" strike="noStrike">
                <a:solidFill>
                  <a:srgbClr val="000099"/>
                </a:solidFill>
                <a:latin typeface="Times New Roman"/>
              </a:rPr>
              <a:t>β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аксимум зсувається лівору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8" name="" descr=""/>
          <p:cNvPicPr/>
          <p:nvPr/>
        </p:nvPicPr>
        <p:blipFill>
          <a:blip r:embed="rId1"/>
          <a:stretch/>
        </p:blipFill>
        <p:spPr>
          <a:xfrm>
            <a:off x="533520" y="2314440"/>
            <a:ext cx="2867040" cy="1609920"/>
          </a:xfrm>
          <a:prstGeom prst="rect">
            <a:avLst/>
          </a:prstGeom>
          <a:ln w="0">
            <a:noFill/>
          </a:ln>
        </p:spPr>
      </p:pic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311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0" name=""/>
          <p:cNvGraphicFramePr/>
          <p:nvPr/>
        </p:nvGraphicFramePr>
        <p:xfrm>
          <a:off x="7218360" y="4889520"/>
          <a:ext cx="183672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8360" y="4889520"/>
                    <a:ext cx="18367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2" name=""/>
          <p:cNvSpPr/>
          <p:nvPr/>
        </p:nvSpPr>
        <p:spPr>
          <a:xfrm>
            <a:off x="5216400" y="59752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3424320" y="20574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5" name=""/>
          <p:cNvGraphicFramePr/>
          <p:nvPr/>
        </p:nvGraphicFramePr>
        <p:xfrm>
          <a:off x="4643280" y="3130560"/>
          <a:ext cx="540000" cy="28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3130560"/>
                    <a:ext cx="5400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7" name=""/>
          <p:cNvGraphicFramePr/>
          <p:nvPr/>
        </p:nvGraphicFramePr>
        <p:xfrm>
          <a:off x="6531120" y="3097080"/>
          <a:ext cx="1536480" cy="39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31120" y="3097080"/>
                    <a:ext cx="153648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9" name=""/>
          <p:cNvGraphicFramePr/>
          <p:nvPr/>
        </p:nvGraphicFramePr>
        <p:xfrm>
          <a:off x="4727520" y="4689360"/>
          <a:ext cx="658800" cy="31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27520" y="4689360"/>
                    <a:ext cx="6588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1" name=""/>
          <p:cNvGraphicFramePr/>
          <p:nvPr/>
        </p:nvGraphicFramePr>
        <p:xfrm>
          <a:off x="5958000" y="4689360"/>
          <a:ext cx="877680" cy="338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4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58000" y="4689360"/>
                    <a:ext cx="87768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3" name=""/>
          <p:cNvSpPr/>
          <p:nvPr/>
        </p:nvSpPr>
        <p:spPr>
          <a:xfrm>
            <a:off x="5902200" y="5948280"/>
            <a:ext cx="801720" cy="426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4" name=""/>
          <p:cNvGraphicFramePr/>
          <p:nvPr/>
        </p:nvGraphicFramePr>
        <p:xfrm>
          <a:off x="5923080" y="5977080"/>
          <a:ext cx="877680" cy="357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4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23080" y="5977080"/>
                    <a:ext cx="8776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6" name=""/>
          <p:cNvGraphicFramePr/>
          <p:nvPr/>
        </p:nvGraphicFramePr>
        <p:xfrm>
          <a:off x="2411280" y="6270480"/>
          <a:ext cx="114480" cy="216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4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11280" y="62704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8" name=""/>
          <p:cNvGraphicFramePr/>
          <p:nvPr/>
        </p:nvGraphicFramePr>
        <p:xfrm>
          <a:off x="671400" y="4886280"/>
          <a:ext cx="114480" cy="216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4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71400" y="48862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0" name=""/>
          <p:cNvGraphicFramePr/>
          <p:nvPr/>
        </p:nvGraphicFramePr>
        <p:xfrm>
          <a:off x="6410160" y="3720960"/>
          <a:ext cx="2417760" cy="874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25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410160" y="3720960"/>
                    <a:ext cx="24177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2" name=""/>
          <p:cNvSpPr/>
          <p:nvPr/>
        </p:nvSpPr>
        <p:spPr>
          <a:xfrm>
            <a:off x="1131840" y="1085760"/>
            <a:ext cx="384120" cy="5209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520920"/>
              <a:gd name="textAreaBottom" fmla="*/ 496080 h 520920"/>
            </a:gdLst>
            <a:ahLst/>
            <a:rect l="textAreaLeft" t="textAreaTop" r="textAreaRight" b="textAreaBottom"/>
            <a:pathLst>
              <a:path w="21600" h="29285">
                <a:moveTo>
                  <a:pt x="0" y="0"/>
                </a:moveTo>
                <a:lnTo>
                  <a:pt x="21600" y="0"/>
                </a:lnTo>
                <a:lnTo>
                  <a:pt x="21600" y="29285"/>
                </a:lnTo>
                <a:lnTo>
                  <a:pt x="0" y="29285"/>
                </a:lnTo>
                <a:close/>
              </a:path>
              <a:path fill="lightenLess" w="21600" h="292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85">
                <a:moveTo>
                  <a:pt x="21600" y="0"/>
                </a:moveTo>
                <a:lnTo>
                  <a:pt x="21600" y="29285"/>
                </a:lnTo>
                <a:lnTo>
                  <a:pt x="20200" y="27885"/>
                </a:lnTo>
                <a:lnTo>
                  <a:pt x="20200" y="1400"/>
                </a:lnTo>
                <a:close/>
              </a:path>
              <a:path fill="darkenLess" w="21600" h="29285">
                <a:moveTo>
                  <a:pt x="21600" y="29285"/>
                </a:moveTo>
                <a:lnTo>
                  <a:pt x="0" y="29285"/>
                </a:lnTo>
                <a:lnTo>
                  <a:pt x="1400" y="27885"/>
                </a:lnTo>
                <a:lnTo>
                  <a:pt x="20200" y="27885"/>
                </a:lnTo>
                <a:close/>
              </a:path>
              <a:path fill="lighten" w="21600" h="29285">
                <a:moveTo>
                  <a:pt x="0" y="292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85"/>
                </a:lnTo>
                <a:close/>
              </a:path>
              <a:path fill="darken" w="21600" h="29285">
                <a:moveTo>
                  <a:pt x="10800" y="1864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285">
                <a:moveTo>
                  <a:pt x="11905" y="18124"/>
                </a:moveTo>
                <a:lnTo>
                  <a:pt x="11905" y="16166"/>
                </a:lnTo>
                <a:cubicBezTo>
                  <a:pt x="11905" y="15339"/>
                  <a:pt x="12236" y="14643"/>
                  <a:pt x="12837" y="14643"/>
                </a:cubicBezTo>
                <a:cubicBezTo>
                  <a:pt x="13968" y="14643"/>
                  <a:pt x="14865" y="13276"/>
                  <a:pt x="14865" y="11692"/>
                </a:cubicBezTo>
                <a:cubicBezTo>
                  <a:pt x="14865" y="9377"/>
                  <a:pt x="13011" y="7636"/>
                  <a:pt x="10800" y="7636"/>
                </a:cubicBezTo>
                <a:cubicBezTo>
                  <a:pt x="8589" y="7636"/>
                  <a:pt x="6918" y="9377"/>
                  <a:pt x="6918" y="11692"/>
                </a:cubicBezTo>
                <a:lnTo>
                  <a:pt x="8772" y="11692"/>
                </a:lnTo>
                <a:cubicBezTo>
                  <a:pt x="8772" y="10552"/>
                  <a:pt x="9695" y="9664"/>
                  <a:pt x="10800" y="9664"/>
                </a:cubicBezTo>
                <a:cubicBezTo>
                  <a:pt x="11905" y="9664"/>
                  <a:pt x="12837" y="10552"/>
                  <a:pt x="12837" y="11692"/>
                </a:cubicBezTo>
                <a:cubicBezTo>
                  <a:pt x="12837" y="12432"/>
                  <a:pt x="12367" y="13163"/>
                  <a:pt x="11905" y="13163"/>
                </a:cubicBezTo>
                <a:cubicBezTo>
                  <a:pt x="10800" y="13163"/>
                  <a:pt x="9695" y="14643"/>
                  <a:pt x="9695" y="16166"/>
                </a:cubicBezTo>
                <a:lnTo>
                  <a:pt x="9695" y="181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1479600" y="1076400"/>
            <a:ext cx="69120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а з нерівностей відповідає наведеним графікам: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чи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426960" y="4140360"/>
            <a:ext cx="3011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5" name=""/>
          <p:cNvGraphicFramePr/>
          <p:nvPr/>
        </p:nvGraphicFramePr>
        <p:xfrm>
          <a:off x="336600" y="1941480"/>
          <a:ext cx="164880" cy="177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5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36600" y="194148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7" name=""/>
          <p:cNvGraphicFramePr/>
          <p:nvPr/>
        </p:nvGraphicFramePr>
        <p:xfrm>
          <a:off x="3219480" y="4172040"/>
          <a:ext cx="165240" cy="1522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25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219480" y="4172040"/>
                    <a:ext cx="16524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9" name=""/>
          <p:cNvGraphicFramePr/>
          <p:nvPr/>
        </p:nvGraphicFramePr>
        <p:xfrm>
          <a:off x="361800" y="4149720"/>
          <a:ext cx="127080" cy="190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260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61800" y="4149720"/>
                    <a:ext cx="1270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1" name=""/>
          <p:cNvSpPr/>
          <p:nvPr/>
        </p:nvSpPr>
        <p:spPr>
          <a:xfrm flipH="1">
            <a:off x="1715760" y="2455920"/>
            <a:ext cx="66348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 flipH="1">
            <a:off x="1765080" y="3108240"/>
            <a:ext cx="66348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3" name=""/>
          <p:cNvGraphicFramePr/>
          <p:nvPr/>
        </p:nvGraphicFramePr>
        <p:xfrm>
          <a:off x="2357280" y="2262240"/>
          <a:ext cx="190800" cy="2412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264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357280" y="2262240"/>
                    <a:ext cx="1908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5" name=""/>
          <p:cNvGraphicFramePr/>
          <p:nvPr/>
        </p:nvGraphicFramePr>
        <p:xfrm>
          <a:off x="2397240" y="2906640"/>
          <a:ext cx="215640" cy="2412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266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397240" y="2906640"/>
                    <a:ext cx="2156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7" name=""/>
          <p:cNvSpPr/>
          <p:nvPr/>
        </p:nvSpPr>
        <p:spPr>
          <a:xfrm flipV="1">
            <a:off x="552600" y="1979280"/>
            <a:ext cx="0" cy="22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1351080" y="317988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1539720" y="2351160"/>
            <a:ext cx="0" cy="17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552600" y="3179880"/>
            <a:ext cx="4481280" cy="779400"/>
          </a:xfrm>
          <a:custGeom>
            <a:avLst/>
            <a:gdLst/>
            <a:ahLst/>
            <a:rect l="l" t="t" r="r" b="b"/>
            <a:pathLst>
              <a:path w="1412" h="417">
                <a:moveTo>
                  <a:pt x="0" y="145"/>
                </a:moveTo>
                <a:cubicBezTo>
                  <a:pt x="6" y="145"/>
                  <a:pt x="6" y="145"/>
                  <a:pt x="6" y="145"/>
                </a:cubicBezTo>
                <a:cubicBezTo>
                  <a:pt x="11" y="145"/>
                  <a:pt x="11" y="145"/>
                  <a:pt x="11" y="145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23" y="144"/>
                  <a:pt x="23" y="144"/>
                  <a:pt x="23" y="144"/>
                </a:cubicBezTo>
                <a:cubicBezTo>
                  <a:pt x="28" y="143"/>
                  <a:pt x="28" y="143"/>
                  <a:pt x="28" y="143"/>
                </a:cubicBezTo>
                <a:cubicBezTo>
                  <a:pt x="34" y="142"/>
                  <a:pt x="34" y="142"/>
                  <a:pt x="34" y="142"/>
                </a:cubicBezTo>
                <a:cubicBezTo>
                  <a:pt x="40" y="141"/>
                  <a:pt x="40" y="141"/>
                  <a:pt x="40" y="141"/>
                </a:cubicBezTo>
                <a:cubicBezTo>
                  <a:pt x="45" y="139"/>
                  <a:pt x="45" y="139"/>
                  <a:pt x="45" y="139"/>
                </a:cubicBezTo>
                <a:cubicBezTo>
                  <a:pt x="51" y="138"/>
                  <a:pt x="51" y="138"/>
                  <a:pt x="51" y="138"/>
                </a:cubicBezTo>
                <a:cubicBezTo>
                  <a:pt x="57" y="136"/>
                  <a:pt x="57" y="136"/>
                  <a:pt x="57" y="136"/>
                </a:cubicBezTo>
                <a:cubicBezTo>
                  <a:pt x="62" y="134"/>
                  <a:pt x="62" y="134"/>
                  <a:pt x="62" y="134"/>
                </a:cubicBezTo>
                <a:cubicBezTo>
                  <a:pt x="68" y="132"/>
                  <a:pt x="68" y="132"/>
                  <a:pt x="68" y="132"/>
                </a:cubicBezTo>
                <a:cubicBezTo>
                  <a:pt x="74" y="130"/>
                  <a:pt x="74" y="130"/>
                  <a:pt x="74" y="130"/>
                </a:cubicBezTo>
                <a:cubicBezTo>
                  <a:pt x="79" y="128"/>
                  <a:pt x="79" y="128"/>
                  <a:pt x="79" y="128"/>
                </a:cubicBezTo>
                <a:cubicBezTo>
                  <a:pt x="85" y="125"/>
                  <a:pt x="85" y="125"/>
                  <a:pt x="85" y="125"/>
                </a:cubicBezTo>
                <a:cubicBezTo>
                  <a:pt x="91" y="122"/>
                  <a:pt x="91" y="122"/>
                  <a:pt x="91" y="122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8" y="112"/>
                  <a:pt x="108" y="112"/>
                  <a:pt x="108" y="112"/>
                </a:cubicBezTo>
                <a:cubicBezTo>
                  <a:pt x="113" y="109"/>
                  <a:pt x="113" y="109"/>
                  <a:pt x="113" y="109"/>
                </a:cubicBezTo>
                <a:cubicBezTo>
                  <a:pt x="119" y="105"/>
                  <a:pt x="119" y="105"/>
                  <a:pt x="119" y="105"/>
                </a:cubicBezTo>
                <a:cubicBezTo>
                  <a:pt x="125" y="101"/>
                  <a:pt x="125" y="101"/>
                  <a:pt x="125" y="101"/>
                </a:cubicBezTo>
                <a:cubicBezTo>
                  <a:pt x="130" y="96"/>
                  <a:pt x="130" y="96"/>
                  <a:pt x="130" y="96"/>
                </a:cubicBezTo>
                <a:cubicBezTo>
                  <a:pt x="136" y="91"/>
                  <a:pt x="136" y="91"/>
                  <a:pt x="136" y="91"/>
                </a:cubicBezTo>
                <a:cubicBezTo>
                  <a:pt x="142" y="87"/>
                  <a:pt x="142" y="87"/>
                  <a:pt x="142" y="87"/>
                </a:cubicBezTo>
                <a:cubicBezTo>
                  <a:pt x="147" y="82"/>
                  <a:pt x="147" y="82"/>
                  <a:pt x="147" y="8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9" y="71"/>
                  <a:pt x="159" y="71"/>
                  <a:pt x="159" y="71"/>
                </a:cubicBezTo>
                <a:cubicBezTo>
                  <a:pt x="164" y="65"/>
                  <a:pt x="164" y="65"/>
                  <a:pt x="164" y="65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6" y="53"/>
                  <a:pt x="176" y="53"/>
                  <a:pt x="176" y="53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7" y="41"/>
                  <a:pt x="187" y="41"/>
                  <a:pt x="187" y="41"/>
                </a:cubicBezTo>
                <a:cubicBezTo>
                  <a:pt x="193" y="35"/>
                  <a:pt x="193" y="35"/>
                  <a:pt x="193" y="35"/>
                </a:cubicBezTo>
                <a:cubicBezTo>
                  <a:pt x="198" y="30"/>
                  <a:pt x="198" y="30"/>
                  <a:pt x="198" y="30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10" y="19"/>
                  <a:pt x="210" y="19"/>
                  <a:pt x="210" y="19"/>
                </a:cubicBezTo>
                <a:cubicBezTo>
                  <a:pt x="215" y="14"/>
                  <a:pt x="215" y="14"/>
                  <a:pt x="215" y="14"/>
                </a:cubicBezTo>
                <a:cubicBezTo>
                  <a:pt x="221" y="9"/>
                  <a:pt x="221" y="9"/>
                  <a:pt x="221" y="9"/>
                </a:cubicBezTo>
                <a:cubicBezTo>
                  <a:pt x="227" y="6"/>
                  <a:pt x="227" y="6"/>
                  <a:pt x="227" y="6"/>
                </a:cubicBezTo>
                <a:cubicBezTo>
                  <a:pt x="232" y="3"/>
                  <a:pt x="232" y="3"/>
                  <a:pt x="232" y="3"/>
                </a:cubicBezTo>
                <a:cubicBezTo>
                  <a:pt x="238" y="1"/>
                  <a:pt x="238" y="1"/>
                  <a:pt x="238" y="1"/>
                </a:cubicBezTo>
                <a:cubicBezTo>
                  <a:pt x="244" y="0"/>
                  <a:pt x="244" y="0"/>
                  <a:pt x="244" y="0"/>
                </a:cubicBezTo>
                <a:cubicBezTo>
                  <a:pt x="249" y="0"/>
                  <a:pt x="249" y="0"/>
                  <a:pt x="249" y="0"/>
                </a:cubicBezTo>
                <a:cubicBezTo>
                  <a:pt x="255" y="2"/>
                  <a:pt x="255" y="2"/>
                  <a:pt x="255" y="2"/>
                </a:cubicBezTo>
                <a:cubicBezTo>
                  <a:pt x="261" y="4"/>
                  <a:pt x="261" y="4"/>
                  <a:pt x="261" y="4"/>
                </a:cubicBezTo>
                <a:cubicBezTo>
                  <a:pt x="266" y="8"/>
                  <a:pt x="266" y="8"/>
                  <a:pt x="266" y="8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8" y="20"/>
                  <a:pt x="278" y="20"/>
                  <a:pt x="278" y="20"/>
                </a:cubicBezTo>
                <a:cubicBezTo>
                  <a:pt x="283" y="28"/>
                  <a:pt x="283" y="28"/>
                  <a:pt x="283" y="28"/>
                </a:cubicBezTo>
                <a:cubicBezTo>
                  <a:pt x="286" y="32"/>
                  <a:pt x="286" y="32"/>
                  <a:pt x="286" y="32"/>
                </a:cubicBezTo>
                <a:cubicBezTo>
                  <a:pt x="289" y="36"/>
                  <a:pt x="289" y="36"/>
                  <a:pt x="289" y="36"/>
                </a:cubicBezTo>
                <a:cubicBezTo>
                  <a:pt x="292" y="41"/>
                  <a:pt x="292" y="41"/>
                  <a:pt x="292" y="41"/>
                </a:cubicBezTo>
                <a:cubicBezTo>
                  <a:pt x="295" y="45"/>
                  <a:pt x="295" y="45"/>
                  <a:pt x="295" y="45"/>
                </a:cubicBezTo>
                <a:cubicBezTo>
                  <a:pt x="298" y="50"/>
                  <a:pt x="298" y="50"/>
                  <a:pt x="298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303" y="60"/>
                  <a:pt x="303" y="60"/>
                  <a:pt x="303" y="60"/>
                </a:cubicBezTo>
                <a:cubicBezTo>
                  <a:pt x="306" y="66"/>
                  <a:pt x="306" y="66"/>
                  <a:pt x="306" y="66"/>
                </a:cubicBezTo>
                <a:cubicBezTo>
                  <a:pt x="309" y="71"/>
                  <a:pt x="309" y="71"/>
                  <a:pt x="309" y="71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5" y="82"/>
                  <a:pt x="315" y="82"/>
                  <a:pt x="315" y="82"/>
                </a:cubicBezTo>
                <a:cubicBezTo>
                  <a:pt x="318" y="88"/>
                  <a:pt x="318" y="88"/>
                  <a:pt x="318" y="88"/>
                </a:cubicBezTo>
                <a:cubicBezTo>
                  <a:pt x="320" y="93"/>
                  <a:pt x="320" y="93"/>
                  <a:pt x="320" y="93"/>
                </a:cubicBezTo>
                <a:cubicBezTo>
                  <a:pt x="323" y="99"/>
                  <a:pt x="323" y="99"/>
                  <a:pt x="323" y="99"/>
                </a:cubicBezTo>
                <a:cubicBezTo>
                  <a:pt x="326" y="104"/>
                  <a:pt x="326" y="104"/>
                  <a:pt x="326" y="104"/>
                </a:cubicBezTo>
                <a:cubicBezTo>
                  <a:pt x="329" y="110"/>
                  <a:pt x="329" y="110"/>
                  <a:pt x="329" y="110"/>
                </a:cubicBezTo>
                <a:cubicBezTo>
                  <a:pt x="332" y="116"/>
                  <a:pt x="332" y="116"/>
                  <a:pt x="332" y="116"/>
                </a:cubicBezTo>
                <a:cubicBezTo>
                  <a:pt x="335" y="121"/>
                  <a:pt x="335" y="121"/>
                  <a:pt x="335" y="121"/>
                </a:cubicBezTo>
                <a:cubicBezTo>
                  <a:pt x="337" y="126"/>
                  <a:pt x="337" y="126"/>
                  <a:pt x="337" y="126"/>
                </a:cubicBezTo>
                <a:cubicBezTo>
                  <a:pt x="340" y="132"/>
                  <a:pt x="340" y="132"/>
                  <a:pt x="340" y="132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6" y="143"/>
                  <a:pt x="346" y="143"/>
                  <a:pt x="346" y="143"/>
                </a:cubicBezTo>
                <a:cubicBezTo>
                  <a:pt x="349" y="148"/>
                  <a:pt x="349" y="148"/>
                  <a:pt x="349" y="148"/>
                </a:cubicBezTo>
                <a:cubicBezTo>
                  <a:pt x="354" y="158"/>
                  <a:pt x="354" y="158"/>
                  <a:pt x="354" y="158"/>
                </a:cubicBezTo>
                <a:cubicBezTo>
                  <a:pt x="357" y="163"/>
                  <a:pt x="357" y="163"/>
                  <a:pt x="357" y="163"/>
                </a:cubicBezTo>
                <a:cubicBezTo>
                  <a:pt x="360" y="168"/>
                  <a:pt x="360" y="168"/>
                  <a:pt x="360" y="168"/>
                </a:cubicBezTo>
                <a:cubicBezTo>
                  <a:pt x="363" y="173"/>
                  <a:pt x="363" y="173"/>
                  <a:pt x="363" y="173"/>
                </a:cubicBezTo>
                <a:cubicBezTo>
                  <a:pt x="366" y="177"/>
                  <a:pt x="366" y="177"/>
                  <a:pt x="366" y="177"/>
                </a:cubicBezTo>
                <a:cubicBezTo>
                  <a:pt x="369" y="182"/>
                  <a:pt x="369" y="182"/>
                  <a:pt x="369" y="182"/>
                </a:cubicBezTo>
                <a:cubicBezTo>
                  <a:pt x="371" y="186"/>
                  <a:pt x="371" y="186"/>
                  <a:pt x="371" y="186"/>
                </a:cubicBezTo>
                <a:cubicBezTo>
                  <a:pt x="374" y="191"/>
                  <a:pt x="374" y="191"/>
                  <a:pt x="374" y="191"/>
                </a:cubicBezTo>
                <a:cubicBezTo>
                  <a:pt x="377" y="195"/>
                  <a:pt x="377" y="195"/>
                  <a:pt x="377" y="195"/>
                </a:cubicBezTo>
                <a:cubicBezTo>
                  <a:pt x="380" y="199"/>
                  <a:pt x="380" y="199"/>
                  <a:pt x="380" y="199"/>
                </a:cubicBezTo>
                <a:cubicBezTo>
                  <a:pt x="386" y="208"/>
                  <a:pt x="386" y="208"/>
                  <a:pt x="386" y="208"/>
                </a:cubicBezTo>
                <a:cubicBezTo>
                  <a:pt x="391" y="215"/>
                  <a:pt x="391" y="215"/>
                  <a:pt x="391" y="215"/>
                </a:cubicBezTo>
                <a:cubicBezTo>
                  <a:pt x="397" y="223"/>
                  <a:pt x="397" y="223"/>
                  <a:pt x="397" y="223"/>
                </a:cubicBezTo>
                <a:cubicBezTo>
                  <a:pt x="403" y="230"/>
                  <a:pt x="403" y="230"/>
                  <a:pt x="403" y="230"/>
                </a:cubicBezTo>
                <a:cubicBezTo>
                  <a:pt x="408" y="237"/>
                  <a:pt x="408" y="237"/>
                  <a:pt x="408" y="237"/>
                </a:cubicBezTo>
                <a:cubicBezTo>
                  <a:pt x="414" y="243"/>
                  <a:pt x="414" y="243"/>
                  <a:pt x="414" y="243"/>
                </a:cubicBezTo>
                <a:cubicBezTo>
                  <a:pt x="420" y="250"/>
                  <a:pt x="420" y="250"/>
                  <a:pt x="420" y="250"/>
                </a:cubicBezTo>
                <a:cubicBezTo>
                  <a:pt x="425" y="256"/>
                  <a:pt x="425" y="256"/>
                  <a:pt x="425" y="256"/>
                </a:cubicBezTo>
                <a:cubicBezTo>
                  <a:pt x="431" y="261"/>
                  <a:pt x="431" y="261"/>
                  <a:pt x="431" y="261"/>
                </a:cubicBezTo>
                <a:cubicBezTo>
                  <a:pt x="437" y="267"/>
                  <a:pt x="437" y="267"/>
                  <a:pt x="437" y="267"/>
                </a:cubicBezTo>
                <a:cubicBezTo>
                  <a:pt x="442" y="272"/>
                  <a:pt x="442" y="272"/>
                  <a:pt x="442" y="272"/>
                </a:cubicBezTo>
                <a:cubicBezTo>
                  <a:pt x="448" y="277"/>
                  <a:pt x="448" y="277"/>
                  <a:pt x="448" y="277"/>
                </a:cubicBezTo>
                <a:cubicBezTo>
                  <a:pt x="454" y="281"/>
                  <a:pt x="454" y="281"/>
                  <a:pt x="454" y="281"/>
                </a:cubicBezTo>
                <a:cubicBezTo>
                  <a:pt x="459" y="286"/>
                  <a:pt x="459" y="286"/>
                  <a:pt x="459" y="286"/>
                </a:cubicBezTo>
                <a:cubicBezTo>
                  <a:pt x="465" y="290"/>
                  <a:pt x="465" y="290"/>
                  <a:pt x="465" y="290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6" y="298"/>
                  <a:pt x="476" y="298"/>
                  <a:pt x="476" y="298"/>
                </a:cubicBezTo>
                <a:cubicBezTo>
                  <a:pt x="482" y="302"/>
                  <a:pt x="482" y="302"/>
                  <a:pt x="482" y="302"/>
                </a:cubicBezTo>
                <a:cubicBezTo>
                  <a:pt x="488" y="306"/>
                  <a:pt x="488" y="306"/>
                  <a:pt x="488" y="306"/>
                </a:cubicBezTo>
                <a:cubicBezTo>
                  <a:pt x="493" y="309"/>
                  <a:pt x="493" y="309"/>
                  <a:pt x="493" y="309"/>
                </a:cubicBezTo>
                <a:cubicBezTo>
                  <a:pt x="499" y="312"/>
                  <a:pt x="499" y="312"/>
                  <a:pt x="499" y="312"/>
                </a:cubicBezTo>
                <a:cubicBezTo>
                  <a:pt x="505" y="315"/>
                  <a:pt x="505" y="315"/>
                  <a:pt x="505" y="315"/>
                </a:cubicBezTo>
                <a:cubicBezTo>
                  <a:pt x="510" y="318"/>
                  <a:pt x="510" y="318"/>
                  <a:pt x="510" y="318"/>
                </a:cubicBezTo>
                <a:cubicBezTo>
                  <a:pt x="516" y="321"/>
                  <a:pt x="516" y="321"/>
                  <a:pt x="516" y="321"/>
                </a:cubicBezTo>
                <a:cubicBezTo>
                  <a:pt x="522" y="324"/>
                  <a:pt x="522" y="324"/>
                  <a:pt x="522" y="324"/>
                </a:cubicBezTo>
                <a:cubicBezTo>
                  <a:pt x="527" y="327"/>
                  <a:pt x="527" y="327"/>
                  <a:pt x="527" y="327"/>
                </a:cubicBezTo>
                <a:cubicBezTo>
                  <a:pt x="533" y="329"/>
                  <a:pt x="533" y="329"/>
                  <a:pt x="533" y="329"/>
                </a:cubicBezTo>
                <a:cubicBezTo>
                  <a:pt x="539" y="332"/>
                  <a:pt x="539" y="332"/>
                  <a:pt x="539" y="332"/>
                </a:cubicBezTo>
                <a:cubicBezTo>
                  <a:pt x="544" y="334"/>
                  <a:pt x="544" y="334"/>
                  <a:pt x="544" y="334"/>
                </a:cubicBezTo>
                <a:cubicBezTo>
                  <a:pt x="550" y="337"/>
                  <a:pt x="550" y="337"/>
                  <a:pt x="550" y="337"/>
                </a:cubicBezTo>
                <a:cubicBezTo>
                  <a:pt x="556" y="339"/>
                  <a:pt x="556" y="339"/>
                  <a:pt x="556" y="339"/>
                </a:cubicBezTo>
                <a:cubicBezTo>
                  <a:pt x="561" y="341"/>
                  <a:pt x="561" y="341"/>
                  <a:pt x="561" y="341"/>
                </a:cubicBezTo>
                <a:cubicBezTo>
                  <a:pt x="567" y="343"/>
                  <a:pt x="567" y="343"/>
                  <a:pt x="567" y="343"/>
                </a:cubicBezTo>
                <a:cubicBezTo>
                  <a:pt x="573" y="345"/>
                  <a:pt x="573" y="345"/>
                  <a:pt x="573" y="345"/>
                </a:cubicBezTo>
                <a:cubicBezTo>
                  <a:pt x="578" y="347"/>
                  <a:pt x="578" y="347"/>
                  <a:pt x="578" y="347"/>
                </a:cubicBezTo>
                <a:cubicBezTo>
                  <a:pt x="584" y="349"/>
                  <a:pt x="584" y="349"/>
                  <a:pt x="584" y="349"/>
                </a:cubicBezTo>
                <a:cubicBezTo>
                  <a:pt x="590" y="351"/>
                  <a:pt x="590" y="351"/>
                  <a:pt x="590" y="351"/>
                </a:cubicBezTo>
                <a:cubicBezTo>
                  <a:pt x="595" y="352"/>
                  <a:pt x="595" y="352"/>
                  <a:pt x="595" y="352"/>
                </a:cubicBezTo>
                <a:cubicBezTo>
                  <a:pt x="601" y="354"/>
                  <a:pt x="601" y="354"/>
                  <a:pt x="601" y="354"/>
                </a:cubicBezTo>
                <a:cubicBezTo>
                  <a:pt x="607" y="356"/>
                  <a:pt x="607" y="356"/>
                  <a:pt x="607" y="356"/>
                </a:cubicBezTo>
                <a:cubicBezTo>
                  <a:pt x="612" y="357"/>
                  <a:pt x="612" y="357"/>
                  <a:pt x="612" y="357"/>
                </a:cubicBezTo>
                <a:cubicBezTo>
                  <a:pt x="618" y="359"/>
                  <a:pt x="618" y="359"/>
                  <a:pt x="618" y="359"/>
                </a:cubicBezTo>
                <a:cubicBezTo>
                  <a:pt x="624" y="360"/>
                  <a:pt x="624" y="360"/>
                  <a:pt x="624" y="360"/>
                </a:cubicBezTo>
                <a:cubicBezTo>
                  <a:pt x="629" y="361"/>
                  <a:pt x="629" y="361"/>
                  <a:pt x="629" y="361"/>
                </a:cubicBezTo>
                <a:cubicBezTo>
                  <a:pt x="635" y="363"/>
                  <a:pt x="635" y="363"/>
                  <a:pt x="635" y="363"/>
                </a:cubicBezTo>
                <a:cubicBezTo>
                  <a:pt x="641" y="364"/>
                  <a:pt x="641" y="364"/>
                  <a:pt x="641" y="364"/>
                </a:cubicBezTo>
                <a:cubicBezTo>
                  <a:pt x="646" y="365"/>
                  <a:pt x="646" y="365"/>
                  <a:pt x="646" y="365"/>
                </a:cubicBezTo>
                <a:cubicBezTo>
                  <a:pt x="652" y="367"/>
                  <a:pt x="652" y="367"/>
                  <a:pt x="652" y="367"/>
                </a:cubicBezTo>
                <a:cubicBezTo>
                  <a:pt x="658" y="368"/>
                  <a:pt x="658" y="368"/>
                  <a:pt x="658" y="368"/>
                </a:cubicBezTo>
                <a:cubicBezTo>
                  <a:pt x="663" y="369"/>
                  <a:pt x="663" y="369"/>
                  <a:pt x="663" y="369"/>
                </a:cubicBezTo>
                <a:cubicBezTo>
                  <a:pt x="669" y="370"/>
                  <a:pt x="669" y="370"/>
                  <a:pt x="669" y="370"/>
                </a:cubicBezTo>
                <a:cubicBezTo>
                  <a:pt x="675" y="371"/>
                  <a:pt x="675" y="371"/>
                  <a:pt x="675" y="371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6" y="373"/>
                  <a:pt x="686" y="373"/>
                  <a:pt x="686" y="373"/>
                </a:cubicBezTo>
                <a:cubicBezTo>
                  <a:pt x="692" y="374"/>
                  <a:pt x="692" y="374"/>
                  <a:pt x="692" y="374"/>
                </a:cubicBezTo>
                <a:cubicBezTo>
                  <a:pt x="697" y="375"/>
                  <a:pt x="697" y="375"/>
                  <a:pt x="697" y="375"/>
                </a:cubicBezTo>
                <a:cubicBezTo>
                  <a:pt x="703" y="376"/>
                  <a:pt x="703" y="376"/>
                  <a:pt x="703" y="376"/>
                </a:cubicBezTo>
                <a:cubicBezTo>
                  <a:pt x="709" y="377"/>
                  <a:pt x="709" y="377"/>
                  <a:pt x="709" y="377"/>
                </a:cubicBezTo>
                <a:cubicBezTo>
                  <a:pt x="714" y="378"/>
                  <a:pt x="714" y="378"/>
                  <a:pt x="714" y="378"/>
                </a:cubicBezTo>
                <a:cubicBezTo>
                  <a:pt x="720" y="379"/>
                  <a:pt x="720" y="379"/>
                  <a:pt x="720" y="379"/>
                </a:cubicBezTo>
                <a:cubicBezTo>
                  <a:pt x="726" y="380"/>
                  <a:pt x="726" y="380"/>
                  <a:pt x="726" y="380"/>
                </a:cubicBezTo>
                <a:cubicBezTo>
                  <a:pt x="731" y="381"/>
                  <a:pt x="731" y="381"/>
                  <a:pt x="731" y="381"/>
                </a:cubicBezTo>
                <a:cubicBezTo>
                  <a:pt x="737" y="382"/>
                  <a:pt x="737" y="382"/>
                  <a:pt x="737" y="382"/>
                </a:cubicBezTo>
                <a:cubicBezTo>
                  <a:pt x="743" y="382"/>
                  <a:pt x="743" y="382"/>
                  <a:pt x="743" y="382"/>
                </a:cubicBezTo>
                <a:cubicBezTo>
                  <a:pt x="748" y="383"/>
                  <a:pt x="748" y="383"/>
                  <a:pt x="748" y="383"/>
                </a:cubicBezTo>
                <a:cubicBezTo>
                  <a:pt x="754" y="384"/>
                  <a:pt x="754" y="384"/>
                  <a:pt x="754" y="384"/>
                </a:cubicBezTo>
                <a:cubicBezTo>
                  <a:pt x="760" y="385"/>
                  <a:pt x="760" y="385"/>
                  <a:pt x="760" y="385"/>
                </a:cubicBezTo>
                <a:cubicBezTo>
                  <a:pt x="765" y="385"/>
                  <a:pt x="765" y="385"/>
                  <a:pt x="765" y="385"/>
                </a:cubicBezTo>
                <a:cubicBezTo>
                  <a:pt x="771" y="386"/>
                  <a:pt x="771" y="386"/>
                  <a:pt x="771" y="386"/>
                </a:cubicBezTo>
                <a:cubicBezTo>
                  <a:pt x="777" y="387"/>
                  <a:pt x="777" y="387"/>
                  <a:pt x="777" y="387"/>
                </a:cubicBezTo>
                <a:cubicBezTo>
                  <a:pt x="782" y="387"/>
                  <a:pt x="782" y="387"/>
                  <a:pt x="782" y="387"/>
                </a:cubicBezTo>
                <a:cubicBezTo>
                  <a:pt x="788" y="388"/>
                  <a:pt x="788" y="388"/>
                  <a:pt x="788" y="388"/>
                </a:cubicBezTo>
                <a:cubicBezTo>
                  <a:pt x="794" y="389"/>
                  <a:pt x="794" y="389"/>
                  <a:pt x="794" y="389"/>
                </a:cubicBezTo>
                <a:cubicBezTo>
                  <a:pt x="799" y="389"/>
                  <a:pt x="799" y="389"/>
                  <a:pt x="799" y="389"/>
                </a:cubicBezTo>
                <a:cubicBezTo>
                  <a:pt x="805" y="390"/>
                  <a:pt x="805" y="390"/>
                  <a:pt x="805" y="390"/>
                </a:cubicBezTo>
                <a:cubicBezTo>
                  <a:pt x="811" y="390"/>
                  <a:pt x="811" y="390"/>
                  <a:pt x="811" y="390"/>
                </a:cubicBezTo>
                <a:cubicBezTo>
                  <a:pt x="816" y="391"/>
                  <a:pt x="816" y="391"/>
                  <a:pt x="816" y="391"/>
                </a:cubicBezTo>
                <a:cubicBezTo>
                  <a:pt x="822" y="392"/>
                  <a:pt x="822" y="392"/>
                  <a:pt x="822" y="392"/>
                </a:cubicBezTo>
                <a:cubicBezTo>
                  <a:pt x="828" y="392"/>
                  <a:pt x="828" y="392"/>
                  <a:pt x="828" y="392"/>
                </a:cubicBezTo>
                <a:cubicBezTo>
                  <a:pt x="833" y="393"/>
                  <a:pt x="833" y="393"/>
                  <a:pt x="833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45" y="394"/>
                  <a:pt x="845" y="394"/>
                  <a:pt x="845" y="394"/>
                </a:cubicBezTo>
                <a:cubicBezTo>
                  <a:pt x="850" y="394"/>
                  <a:pt x="850" y="394"/>
                  <a:pt x="850" y="394"/>
                </a:cubicBezTo>
                <a:cubicBezTo>
                  <a:pt x="856" y="395"/>
                  <a:pt x="856" y="395"/>
                  <a:pt x="856" y="395"/>
                </a:cubicBezTo>
                <a:cubicBezTo>
                  <a:pt x="862" y="395"/>
                  <a:pt x="862" y="395"/>
                  <a:pt x="862" y="395"/>
                </a:cubicBezTo>
                <a:cubicBezTo>
                  <a:pt x="868" y="396"/>
                  <a:pt x="868" y="396"/>
                  <a:pt x="868" y="396"/>
                </a:cubicBezTo>
                <a:cubicBezTo>
                  <a:pt x="873" y="396"/>
                  <a:pt x="873" y="396"/>
                  <a:pt x="873" y="396"/>
                </a:cubicBezTo>
                <a:cubicBezTo>
                  <a:pt x="879" y="397"/>
                  <a:pt x="879" y="397"/>
                  <a:pt x="879" y="397"/>
                </a:cubicBezTo>
                <a:cubicBezTo>
                  <a:pt x="885" y="397"/>
                  <a:pt x="885" y="397"/>
                  <a:pt x="885" y="397"/>
                </a:cubicBezTo>
                <a:cubicBezTo>
                  <a:pt x="890" y="397"/>
                  <a:pt x="890" y="397"/>
                  <a:pt x="890" y="397"/>
                </a:cubicBezTo>
                <a:cubicBezTo>
                  <a:pt x="896" y="398"/>
                  <a:pt x="896" y="398"/>
                  <a:pt x="896" y="398"/>
                </a:cubicBezTo>
                <a:cubicBezTo>
                  <a:pt x="902" y="398"/>
                  <a:pt x="902" y="398"/>
                  <a:pt x="902" y="398"/>
                </a:cubicBezTo>
                <a:cubicBezTo>
                  <a:pt x="907" y="399"/>
                  <a:pt x="907" y="399"/>
                  <a:pt x="907" y="399"/>
                </a:cubicBezTo>
                <a:cubicBezTo>
                  <a:pt x="913" y="399"/>
                  <a:pt x="913" y="399"/>
                  <a:pt x="913" y="399"/>
                </a:cubicBezTo>
                <a:cubicBezTo>
                  <a:pt x="919" y="399"/>
                  <a:pt x="919" y="399"/>
                  <a:pt x="919" y="399"/>
                </a:cubicBezTo>
                <a:cubicBezTo>
                  <a:pt x="924" y="400"/>
                  <a:pt x="924" y="400"/>
                  <a:pt x="924" y="400"/>
                </a:cubicBezTo>
                <a:cubicBezTo>
                  <a:pt x="930" y="400"/>
                  <a:pt x="930" y="400"/>
                  <a:pt x="930" y="400"/>
                </a:cubicBezTo>
                <a:cubicBezTo>
                  <a:pt x="936" y="401"/>
                  <a:pt x="936" y="401"/>
                  <a:pt x="936" y="401"/>
                </a:cubicBezTo>
                <a:cubicBezTo>
                  <a:pt x="941" y="401"/>
                  <a:pt x="941" y="401"/>
                  <a:pt x="941" y="401"/>
                </a:cubicBezTo>
                <a:cubicBezTo>
                  <a:pt x="947" y="401"/>
                  <a:pt x="947" y="401"/>
                  <a:pt x="947" y="401"/>
                </a:cubicBezTo>
                <a:cubicBezTo>
                  <a:pt x="953" y="402"/>
                  <a:pt x="953" y="402"/>
                  <a:pt x="953" y="402"/>
                </a:cubicBezTo>
                <a:cubicBezTo>
                  <a:pt x="958" y="402"/>
                  <a:pt x="958" y="402"/>
                  <a:pt x="958" y="402"/>
                </a:cubicBezTo>
                <a:cubicBezTo>
                  <a:pt x="964" y="402"/>
                  <a:pt x="964" y="402"/>
                  <a:pt x="964" y="402"/>
                </a:cubicBezTo>
                <a:cubicBezTo>
                  <a:pt x="970" y="403"/>
                  <a:pt x="970" y="403"/>
                  <a:pt x="970" y="403"/>
                </a:cubicBezTo>
                <a:cubicBezTo>
                  <a:pt x="975" y="403"/>
                  <a:pt x="975" y="403"/>
                  <a:pt x="975" y="403"/>
                </a:cubicBezTo>
                <a:cubicBezTo>
                  <a:pt x="981" y="403"/>
                  <a:pt x="981" y="403"/>
                  <a:pt x="981" y="403"/>
                </a:cubicBezTo>
                <a:cubicBezTo>
                  <a:pt x="987" y="404"/>
                  <a:pt x="987" y="404"/>
                  <a:pt x="987" y="404"/>
                </a:cubicBezTo>
                <a:cubicBezTo>
                  <a:pt x="992" y="404"/>
                  <a:pt x="992" y="404"/>
                  <a:pt x="992" y="404"/>
                </a:cubicBezTo>
                <a:cubicBezTo>
                  <a:pt x="998" y="404"/>
                  <a:pt x="998" y="404"/>
                  <a:pt x="998" y="404"/>
                </a:cubicBezTo>
                <a:cubicBezTo>
                  <a:pt x="1004" y="404"/>
                  <a:pt x="1004" y="404"/>
                  <a:pt x="1004" y="404"/>
                </a:cubicBezTo>
                <a:cubicBezTo>
                  <a:pt x="1009" y="405"/>
                  <a:pt x="1009" y="405"/>
                  <a:pt x="1009" y="405"/>
                </a:cubicBezTo>
                <a:cubicBezTo>
                  <a:pt x="1015" y="405"/>
                  <a:pt x="1015" y="405"/>
                  <a:pt x="1015" y="405"/>
                </a:cubicBezTo>
                <a:cubicBezTo>
                  <a:pt x="1021" y="405"/>
                  <a:pt x="1021" y="405"/>
                  <a:pt x="1021" y="405"/>
                </a:cubicBezTo>
                <a:cubicBezTo>
                  <a:pt x="1026" y="406"/>
                  <a:pt x="1026" y="406"/>
                  <a:pt x="1026" y="406"/>
                </a:cubicBezTo>
                <a:cubicBezTo>
                  <a:pt x="1032" y="406"/>
                  <a:pt x="1032" y="406"/>
                  <a:pt x="1032" y="406"/>
                </a:cubicBezTo>
                <a:cubicBezTo>
                  <a:pt x="1038" y="406"/>
                  <a:pt x="1038" y="406"/>
                  <a:pt x="1038" y="406"/>
                </a:cubicBezTo>
                <a:cubicBezTo>
                  <a:pt x="1043" y="406"/>
                  <a:pt x="1043" y="406"/>
                  <a:pt x="1043" y="406"/>
                </a:cubicBezTo>
                <a:cubicBezTo>
                  <a:pt x="1049" y="407"/>
                  <a:pt x="1049" y="407"/>
                  <a:pt x="1049" y="407"/>
                </a:cubicBezTo>
                <a:cubicBezTo>
                  <a:pt x="1055" y="407"/>
                  <a:pt x="1055" y="407"/>
                  <a:pt x="1055" y="407"/>
                </a:cubicBezTo>
                <a:cubicBezTo>
                  <a:pt x="1060" y="407"/>
                  <a:pt x="1060" y="407"/>
                  <a:pt x="1060" y="407"/>
                </a:cubicBezTo>
                <a:cubicBezTo>
                  <a:pt x="1066" y="407"/>
                  <a:pt x="1066" y="407"/>
                  <a:pt x="1066" y="407"/>
                </a:cubicBezTo>
                <a:cubicBezTo>
                  <a:pt x="1072" y="408"/>
                  <a:pt x="1072" y="408"/>
                  <a:pt x="1072" y="408"/>
                </a:cubicBezTo>
                <a:cubicBezTo>
                  <a:pt x="1077" y="408"/>
                  <a:pt x="1077" y="408"/>
                  <a:pt x="1077" y="408"/>
                </a:cubicBezTo>
                <a:cubicBezTo>
                  <a:pt x="1083" y="408"/>
                  <a:pt x="1083" y="408"/>
                  <a:pt x="1083" y="408"/>
                </a:cubicBezTo>
                <a:cubicBezTo>
                  <a:pt x="1089" y="408"/>
                  <a:pt x="1089" y="408"/>
                  <a:pt x="1089" y="408"/>
                </a:cubicBezTo>
                <a:cubicBezTo>
                  <a:pt x="1094" y="408"/>
                  <a:pt x="1094" y="408"/>
                  <a:pt x="1094" y="408"/>
                </a:cubicBezTo>
                <a:cubicBezTo>
                  <a:pt x="1100" y="409"/>
                  <a:pt x="1100" y="409"/>
                  <a:pt x="1100" y="409"/>
                </a:cubicBezTo>
                <a:cubicBezTo>
                  <a:pt x="1106" y="409"/>
                  <a:pt x="1106" y="409"/>
                  <a:pt x="1106" y="409"/>
                </a:cubicBezTo>
                <a:cubicBezTo>
                  <a:pt x="1111" y="409"/>
                  <a:pt x="1111" y="409"/>
                  <a:pt x="1111" y="409"/>
                </a:cubicBezTo>
                <a:cubicBezTo>
                  <a:pt x="1117" y="409"/>
                  <a:pt x="1117" y="409"/>
                  <a:pt x="1117" y="409"/>
                </a:cubicBezTo>
                <a:cubicBezTo>
                  <a:pt x="1123" y="410"/>
                  <a:pt x="1123" y="410"/>
                  <a:pt x="1123" y="410"/>
                </a:cubicBezTo>
                <a:cubicBezTo>
                  <a:pt x="1128" y="410"/>
                  <a:pt x="1128" y="410"/>
                  <a:pt x="1128" y="410"/>
                </a:cubicBezTo>
                <a:cubicBezTo>
                  <a:pt x="1134" y="410"/>
                  <a:pt x="1134" y="410"/>
                  <a:pt x="1134" y="410"/>
                </a:cubicBezTo>
                <a:cubicBezTo>
                  <a:pt x="1140" y="410"/>
                  <a:pt x="1140" y="410"/>
                  <a:pt x="1140" y="410"/>
                </a:cubicBezTo>
                <a:cubicBezTo>
                  <a:pt x="1145" y="410"/>
                  <a:pt x="1145" y="410"/>
                  <a:pt x="1145" y="410"/>
                </a:cubicBezTo>
                <a:cubicBezTo>
                  <a:pt x="1151" y="410"/>
                  <a:pt x="1151" y="410"/>
                  <a:pt x="1151" y="410"/>
                </a:cubicBezTo>
                <a:cubicBezTo>
                  <a:pt x="1157" y="411"/>
                  <a:pt x="1157" y="411"/>
                  <a:pt x="1157" y="411"/>
                </a:cubicBezTo>
                <a:cubicBezTo>
                  <a:pt x="1162" y="411"/>
                  <a:pt x="1162" y="411"/>
                  <a:pt x="1162" y="411"/>
                </a:cubicBezTo>
                <a:cubicBezTo>
                  <a:pt x="1168" y="411"/>
                  <a:pt x="1168" y="411"/>
                  <a:pt x="1168" y="411"/>
                </a:cubicBezTo>
                <a:cubicBezTo>
                  <a:pt x="1174" y="411"/>
                  <a:pt x="1174" y="411"/>
                  <a:pt x="1174" y="411"/>
                </a:cubicBezTo>
                <a:cubicBezTo>
                  <a:pt x="1179" y="411"/>
                  <a:pt x="1179" y="411"/>
                  <a:pt x="1179" y="411"/>
                </a:cubicBezTo>
                <a:cubicBezTo>
                  <a:pt x="1185" y="412"/>
                  <a:pt x="1185" y="412"/>
                  <a:pt x="1185" y="412"/>
                </a:cubicBezTo>
                <a:cubicBezTo>
                  <a:pt x="1191" y="412"/>
                  <a:pt x="1191" y="412"/>
                  <a:pt x="1191" y="412"/>
                </a:cubicBezTo>
                <a:cubicBezTo>
                  <a:pt x="1196" y="412"/>
                  <a:pt x="1196" y="412"/>
                  <a:pt x="1196" y="412"/>
                </a:cubicBezTo>
                <a:cubicBezTo>
                  <a:pt x="1202" y="412"/>
                  <a:pt x="1202" y="412"/>
                  <a:pt x="1202" y="412"/>
                </a:cubicBezTo>
                <a:cubicBezTo>
                  <a:pt x="1208" y="412"/>
                  <a:pt x="1208" y="412"/>
                  <a:pt x="1208" y="412"/>
                </a:cubicBezTo>
                <a:cubicBezTo>
                  <a:pt x="1213" y="412"/>
                  <a:pt x="1213" y="412"/>
                  <a:pt x="1213" y="412"/>
                </a:cubicBezTo>
                <a:cubicBezTo>
                  <a:pt x="1219" y="413"/>
                  <a:pt x="1219" y="413"/>
                  <a:pt x="1219" y="413"/>
                </a:cubicBezTo>
                <a:cubicBezTo>
                  <a:pt x="1225" y="413"/>
                  <a:pt x="1225" y="413"/>
                  <a:pt x="1225" y="413"/>
                </a:cubicBezTo>
                <a:cubicBezTo>
                  <a:pt x="1230" y="413"/>
                  <a:pt x="1230" y="413"/>
                  <a:pt x="1230" y="413"/>
                </a:cubicBezTo>
                <a:cubicBezTo>
                  <a:pt x="1236" y="413"/>
                  <a:pt x="1236" y="413"/>
                  <a:pt x="1236" y="413"/>
                </a:cubicBezTo>
                <a:cubicBezTo>
                  <a:pt x="1242" y="413"/>
                  <a:pt x="1242" y="413"/>
                  <a:pt x="1242" y="413"/>
                </a:cubicBezTo>
                <a:cubicBezTo>
                  <a:pt x="1247" y="413"/>
                  <a:pt x="1247" y="413"/>
                  <a:pt x="1247" y="413"/>
                </a:cubicBezTo>
                <a:cubicBezTo>
                  <a:pt x="1253" y="413"/>
                  <a:pt x="1253" y="413"/>
                  <a:pt x="1253" y="413"/>
                </a:cubicBezTo>
                <a:cubicBezTo>
                  <a:pt x="1259" y="414"/>
                  <a:pt x="1259" y="414"/>
                  <a:pt x="1259" y="414"/>
                </a:cubicBezTo>
                <a:cubicBezTo>
                  <a:pt x="1264" y="414"/>
                  <a:pt x="1264" y="414"/>
                  <a:pt x="1264" y="414"/>
                </a:cubicBezTo>
                <a:cubicBezTo>
                  <a:pt x="1270" y="414"/>
                  <a:pt x="1270" y="414"/>
                  <a:pt x="1270" y="414"/>
                </a:cubicBezTo>
                <a:cubicBezTo>
                  <a:pt x="1276" y="414"/>
                  <a:pt x="1276" y="414"/>
                  <a:pt x="1276" y="414"/>
                </a:cubicBezTo>
                <a:cubicBezTo>
                  <a:pt x="1281" y="414"/>
                  <a:pt x="1281" y="414"/>
                  <a:pt x="1281" y="414"/>
                </a:cubicBezTo>
                <a:cubicBezTo>
                  <a:pt x="1287" y="414"/>
                  <a:pt x="1287" y="414"/>
                  <a:pt x="1287" y="414"/>
                </a:cubicBezTo>
                <a:cubicBezTo>
                  <a:pt x="1293" y="414"/>
                  <a:pt x="1293" y="414"/>
                  <a:pt x="1293" y="414"/>
                </a:cubicBezTo>
                <a:cubicBezTo>
                  <a:pt x="1298" y="414"/>
                  <a:pt x="1298" y="414"/>
                  <a:pt x="1298" y="414"/>
                </a:cubicBezTo>
                <a:cubicBezTo>
                  <a:pt x="1304" y="415"/>
                  <a:pt x="1304" y="415"/>
                  <a:pt x="1304" y="415"/>
                </a:cubicBezTo>
                <a:cubicBezTo>
                  <a:pt x="1310" y="415"/>
                  <a:pt x="1310" y="415"/>
                  <a:pt x="1310" y="415"/>
                </a:cubicBezTo>
                <a:cubicBezTo>
                  <a:pt x="1315" y="415"/>
                  <a:pt x="1315" y="415"/>
                  <a:pt x="1315" y="415"/>
                </a:cubicBezTo>
                <a:cubicBezTo>
                  <a:pt x="1321" y="415"/>
                  <a:pt x="1321" y="415"/>
                  <a:pt x="1321" y="415"/>
                </a:cubicBezTo>
                <a:cubicBezTo>
                  <a:pt x="1327" y="415"/>
                  <a:pt x="1327" y="415"/>
                  <a:pt x="1327" y="415"/>
                </a:cubicBezTo>
                <a:cubicBezTo>
                  <a:pt x="1332" y="415"/>
                  <a:pt x="1332" y="415"/>
                  <a:pt x="1332" y="415"/>
                </a:cubicBezTo>
                <a:cubicBezTo>
                  <a:pt x="1338" y="415"/>
                  <a:pt x="1338" y="415"/>
                  <a:pt x="1338" y="415"/>
                </a:cubicBezTo>
                <a:cubicBezTo>
                  <a:pt x="1344" y="415"/>
                  <a:pt x="1344" y="415"/>
                  <a:pt x="1344" y="415"/>
                </a:cubicBezTo>
                <a:cubicBezTo>
                  <a:pt x="1349" y="416"/>
                  <a:pt x="1349" y="416"/>
                  <a:pt x="1349" y="416"/>
                </a:cubicBezTo>
                <a:cubicBezTo>
                  <a:pt x="1355" y="416"/>
                  <a:pt x="1355" y="416"/>
                  <a:pt x="1355" y="416"/>
                </a:cubicBezTo>
                <a:cubicBezTo>
                  <a:pt x="1361" y="416"/>
                  <a:pt x="1361" y="416"/>
                  <a:pt x="1361" y="416"/>
                </a:cubicBezTo>
                <a:cubicBezTo>
                  <a:pt x="1366" y="416"/>
                  <a:pt x="1366" y="416"/>
                  <a:pt x="1366" y="416"/>
                </a:cubicBezTo>
                <a:cubicBezTo>
                  <a:pt x="1372" y="416"/>
                  <a:pt x="1372" y="416"/>
                  <a:pt x="1372" y="416"/>
                </a:cubicBezTo>
                <a:cubicBezTo>
                  <a:pt x="1378" y="416"/>
                  <a:pt x="1378" y="416"/>
                  <a:pt x="1378" y="416"/>
                </a:cubicBezTo>
                <a:cubicBezTo>
                  <a:pt x="1383" y="416"/>
                  <a:pt x="1383" y="416"/>
                  <a:pt x="1383" y="416"/>
                </a:cubicBezTo>
                <a:cubicBezTo>
                  <a:pt x="1389" y="416"/>
                  <a:pt x="1389" y="416"/>
                  <a:pt x="1389" y="416"/>
                </a:cubicBezTo>
                <a:cubicBezTo>
                  <a:pt x="1395" y="416"/>
                  <a:pt x="1395" y="416"/>
                  <a:pt x="1395" y="416"/>
                </a:cubicBezTo>
                <a:cubicBezTo>
                  <a:pt x="1400" y="417"/>
                  <a:pt x="1400" y="417"/>
                  <a:pt x="1400" y="417"/>
                </a:cubicBezTo>
                <a:cubicBezTo>
                  <a:pt x="1406" y="417"/>
                  <a:pt x="1406" y="417"/>
                  <a:pt x="1406" y="417"/>
                </a:cubicBezTo>
                <a:cubicBezTo>
                  <a:pt x="1412" y="417"/>
                  <a:pt x="1412" y="417"/>
                  <a:pt x="1412" y="417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426960" y="4140360"/>
            <a:ext cx="3011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1351080" y="317988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 flipH="1">
            <a:off x="1765080" y="3108240"/>
            <a:ext cx="66348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3162240" y="3657600"/>
            <a:ext cx="195264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5" name=""/>
          <p:cNvGraphicFramePr/>
          <p:nvPr/>
        </p:nvGraphicFramePr>
        <p:xfrm>
          <a:off x="4470480" y="3429000"/>
          <a:ext cx="839880" cy="3477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27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470480" y="3429000"/>
                    <a:ext cx="8398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7" name=""/>
          <p:cNvSpPr/>
          <p:nvPr/>
        </p:nvSpPr>
        <p:spPr>
          <a:xfrm>
            <a:off x="3622680" y="2579760"/>
            <a:ext cx="42840" cy="3811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915840" y="4149720"/>
            <a:ext cx="43812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 flipH="1" flipV="1">
            <a:off x="1541160" y="4160880"/>
            <a:ext cx="52524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0" name=""/>
          <p:cNvGraphicFramePr/>
          <p:nvPr/>
        </p:nvGraphicFramePr>
        <p:xfrm>
          <a:off x="1968480" y="4562640"/>
          <a:ext cx="539640" cy="3776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281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1968480" y="4562640"/>
                    <a:ext cx="5396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2" name=""/>
          <p:cNvGraphicFramePr/>
          <p:nvPr/>
        </p:nvGraphicFramePr>
        <p:xfrm>
          <a:off x="1793880" y="4986360"/>
          <a:ext cx="114120" cy="21600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283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1793880" y="4986360"/>
                    <a:ext cx="114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4" name=""/>
          <p:cNvGraphicFramePr/>
          <p:nvPr/>
        </p:nvGraphicFramePr>
        <p:xfrm>
          <a:off x="777960" y="4543560"/>
          <a:ext cx="539640" cy="37620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285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777960" y="4543560"/>
                    <a:ext cx="5396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6" name=""/>
          <p:cNvGraphicFramePr/>
          <p:nvPr/>
        </p:nvGraphicFramePr>
        <p:xfrm>
          <a:off x="3781440" y="3711600"/>
          <a:ext cx="2620800" cy="87624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287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3781440" y="3711600"/>
                    <a:ext cx="2620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8" name="Управляющая кнопка: домой 85">
            <a:hlinkClick r:id="rId40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8172360" y="627696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"/>
          <p:cNvSpPr/>
          <p:nvPr/>
        </p:nvSpPr>
        <p:spPr>
          <a:xfrm>
            <a:off x="4056120" y="873000"/>
            <a:ext cx="508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, що для різних значень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амплітуда швидкост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набуває максимального значення, коли              Як співвідносяться між собою різні значення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що наведен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на рисунку?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43080" y="-1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2" name=""/>
          <p:cNvGraphicFramePr/>
          <p:nvPr/>
        </p:nvGraphicFramePr>
        <p:xfrm>
          <a:off x="4640400" y="1427040"/>
          <a:ext cx="787320" cy="3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1427040"/>
                    <a:ext cx="7873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4" name=""/>
          <p:cNvGraphicFramePr/>
          <p:nvPr/>
        </p:nvGraphicFramePr>
        <p:xfrm>
          <a:off x="431640" y="728640"/>
          <a:ext cx="295452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1640" y="728640"/>
                    <a:ext cx="29545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6" name=""/>
          <p:cNvSpPr/>
          <p:nvPr/>
        </p:nvSpPr>
        <p:spPr>
          <a:xfrm>
            <a:off x="1389240" y="4475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3579840" y="3191040"/>
            <a:ext cx="542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сля цього перетворення стає очевидним, що       набуває максимального значення, коли           , і це значення дорівню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цього випливає, що рисунку буде відповіда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аке співвідноше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8" name=""/>
          <p:cNvGraphicFramePr/>
          <p:nvPr/>
        </p:nvGraphicFramePr>
        <p:xfrm>
          <a:off x="7272360" y="5149800"/>
          <a:ext cx="11412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360" y="5149800"/>
                    <a:ext cx="114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0" name=""/>
          <p:cNvSpPr/>
          <p:nvPr/>
        </p:nvSpPr>
        <p:spPr>
          <a:xfrm>
            <a:off x="9020160" y="47196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1" name=""/>
          <p:cNvGraphicFramePr/>
          <p:nvPr/>
        </p:nvGraphicFramePr>
        <p:xfrm>
          <a:off x="8332920" y="3149640"/>
          <a:ext cx="520560" cy="42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32920" y="3149640"/>
                    <a:ext cx="52056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5" name=""/>
          <p:cNvGraphicFramePr/>
          <p:nvPr/>
        </p:nvGraphicFramePr>
        <p:xfrm>
          <a:off x="5756400" y="4402080"/>
          <a:ext cx="1368360" cy="36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56400" y="4402080"/>
                    <a:ext cx="1368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5775480" y="4378320"/>
            <a:ext cx="1233360" cy="39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3487680" y="2625840"/>
            <a:ext cx="42840" cy="1827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3289320" y="21034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330120" y="4621320"/>
            <a:ext cx="47880" cy="15508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2" name=""/>
          <p:cNvGrpSpPr/>
          <p:nvPr/>
        </p:nvGrpSpPr>
        <p:grpSpPr>
          <a:xfrm>
            <a:off x="131760" y="1349280"/>
            <a:ext cx="3249720" cy="2557440"/>
            <a:chOff x="131760" y="1349280"/>
            <a:chExt cx="3249720" cy="2557440"/>
          </a:xfrm>
        </p:grpSpPr>
        <p:sp>
          <p:nvSpPr>
            <p:cNvPr id="3313" name=""/>
            <p:cNvSpPr/>
            <p:nvPr/>
          </p:nvSpPr>
          <p:spPr>
            <a:xfrm flipV="1">
              <a:off x="461880" y="1388880"/>
              <a:ext cx="0" cy="226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36600" y="3549600"/>
              <a:ext cx="301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15" name=""/>
            <p:cNvGraphicFramePr/>
            <p:nvPr/>
          </p:nvGraphicFramePr>
          <p:xfrm>
            <a:off x="3129120" y="3581280"/>
            <a:ext cx="252360" cy="254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1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29120" y="3581280"/>
                      <a:ext cx="252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17" name=""/>
            <p:cNvGraphicFramePr/>
            <p:nvPr/>
          </p:nvGraphicFramePr>
          <p:xfrm>
            <a:off x="271440" y="3558960"/>
            <a:ext cx="166680" cy="273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31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1440" y="3558960"/>
                      <a:ext cx="166680" cy="27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19" name=""/>
            <p:cNvSpPr/>
            <p:nvPr/>
          </p:nvSpPr>
          <p:spPr>
            <a:xfrm>
              <a:off x="1006560" y="2043000"/>
              <a:ext cx="0" cy="1522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66560" y="2012760"/>
              <a:ext cx="2686320" cy="1530360"/>
            </a:xfrm>
            <a:custGeom>
              <a:avLst/>
              <a:gdLst/>
              <a:ahLst/>
              <a:rect l="l" t="t" r="r" b="b"/>
              <a:pathLst>
                <a:path w="1409" h="401">
                  <a:moveTo>
                    <a:pt x="0" y="401"/>
                  </a:moveTo>
                  <a:cubicBezTo>
                    <a:pt x="6" y="395"/>
                    <a:pt x="6" y="395"/>
                    <a:pt x="6" y="395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7" y="384"/>
                    <a:pt x="17" y="384"/>
                    <a:pt x="17" y="384"/>
                  </a:cubicBezTo>
                  <a:cubicBezTo>
                    <a:pt x="23" y="378"/>
                    <a:pt x="23" y="378"/>
                    <a:pt x="23" y="378"/>
                  </a:cubicBezTo>
                  <a:cubicBezTo>
                    <a:pt x="28" y="372"/>
                    <a:pt x="28" y="372"/>
                    <a:pt x="28" y="372"/>
                  </a:cubicBezTo>
                  <a:cubicBezTo>
                    <a:pt x="34" y="367"/>
                    <a:pt x="34" y="367"/>
                    <a:pt x="34" y="367"/>
                  </a:cubicBezTo>
                  <a:cubicBezTo>
                    <a:pt x="40" y="361"/>
                    <a:pt x="40" y="361"/>
                    <a:pt x="40" y="361"/>
                  </a:cubicBezTo>
                  <a:cubicBezTo>
                    <a:pt x="45" y="355"/>
                    <a:pt x="45" y="355"/>
                    <a:pt x="45" y="355"/>
                  </a:cubicBezTo>
                  <a:cubicBezTo>
                    <a:pt x="51" y="349"/>
                    <a:pt x="51" y="349"/>
                    <a:pt x="51" y="349"/>
                  </a:cubicBezTo>
                  <a:cubicBezTo>
                    <a:pt x="57" y="343"/>
                    <a:pt x="57" y="343"/>
                    <a:pt x="57" y="343"/>
                  </a:cubicBezTo>
                  <a:cubicBezTo>
                    <a:pt x="62" y="336"/>
                    <a:pt x="62" y="336"/>
                    <a:pt x="62" y="336"/>
                  </a:cubicBezTo>
                  <a:cubicBezTo>
                    <a:pt x="68" y="330"/>
                    <a:pt x="68" y="330"/>
                    <a:pt x="68" y="330"/>
                  </a:cubicBezTo>
                  <a:cubicBezTo>
                    <a:pt x="74" y="323"/>
                    <a:pt x="74" y="323"/>
                    <a:pt x="74" y="323"/>
                  </a:cubicBezTo>
                  <a:cubicBezTo>
                    <a:pt x="79" y="317"/>
                    <a:pt x="79" y="317"/>
                    <a:pt x="79" y="317"/>
                  </a:cubicBezTo>
                  <a:cubicBezTo>
                    <a:pt x="85" y="310"/>
                    <a:pt x="85" y="310"/>
                    <a:pt x="85" y="310"/>
                  </a:cubicBezTo>
                  <a:cubicBezTo>
                    <a:pt x="91" y="303"/>
                    <a:pt x="91" y="303"/>
                    <a:pt x="91" y="303"/>
                  </a:cubicBezTo>
                  <a:cubicBezTo>
                    <a:pt x="96" y="296"/>
                    <a:pt x="96" y="296"/>
                    <a:pt x="96" y="296"/>
                  </a:cubicBezTo>
                  <a:cubicBezTo>
                    <a:pt x="102" y="288"/>
                    <a:pt x="102" y="288"/>
                    <a:pt x="102" y="288"/>
                  </a:cubicBezTo>
                  <a:cubicBezTo>
                    <a:pt x="108" y="281"/>
                    <a:pt x="108" y="281"/>
                    <a:pt x="108" y="281"/>
                  </a:cubicBezTo>
                  <a:cubicBezTo>
                    <a:pt x="113" y="273"/>
                    <a:pt x="113" y="273"/>
                    <a:pt x="113" y="273"/>
                  </a:cubicBezTo>
                  <a:cubicBezTo>
                    <a:pt x="119" y="265"/>
                    <a:pt x="119" y="265"/>
                    <a:pt x="119" y="265"/>
                  </a:cubicBezTo>
                  <a:cubicBezTo>
                    <a:pt x="122" y="261"/>
                    <a:pt x="122" y="261"/>
                    <a:pt x="122" y="261"/>
                  </a:cubicBezTo>
                  <a:cubicBezTo>
                    <a:pt x="128" y="252"/>
                    <a:pt x="128" y="252"/>
                    <a:pt x="128" y="252"/>
                  </a:cubicBezTo>
                  <a:cubicBezTo>
                    <a:pt x="130" y="248"/>
                    <a:pt x="130" y="248"/>
                    <a:pt x="130" y="248"/>
                  </a:cubicBezTo>
                  <a:cubicBezTo>
                    <a:pt x="133" y="244"/>
                    <a:pt x="133" y="244"/>
                    <a:pt x="133" y="244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42" y="230"/>
                    <a:pt x="142" y="230"/>
                    <a:pt x="142" y="230"/>
                  </a:cubicBezTo>
                  <a:cubicBezTo>
                    <a:pt x="145" y="225"/>
                    <a:pt x="145" y="225"/>
                    <a:pt x="145" y="225"/>
                  </a:cubicBezTo>
                  <a:cubicBezTo>
                    <a:pt x="147" y="221"/>
                    <a:pt x="147" y="221"/>
                    <a:pt x="147" y="221"/>
                  </a:cubicBezTo>
                  <a:cubicBezTo>
                    <a:pt x="150" y="216"/>
                    <a:pt x="150" y="216"/>
                    <a:pt x="150" y="216"/>
                  </a:cubicBezTo>
                  <a:cubicBezTo>
                    <a:pt x="156" y="206"/>
                    <a:pt x="156" y="206"/>
                    <a:pt x="156" y="206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4" y="190"/>
                    <a:pt x="164" y="190"/>
                    <a:pt x="164" y="190"/>
                  </a:cubicBezTo>
                  <a:cubicBezTo>
                    <a:pt x="167" y="185"/>
                    <a:pt x="167" y="185"/>
                    <a:pt x="167" y="185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173" y="174"/>
                    <a:pt x="173" y="174"/>
                    <a:pt x="173" y="174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9" y="163"/>
                    <a:pt x="179" y="163"/>
                    <a:pt x="179" y="163"/>
                  </a:cubicBezTo>
                  <a:cubicBezTo>
                    <a:pt x="181" y="157"/>
                    <a:pt x="181" y="157"/>
                    <a:pt x="181" y="157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7" y="146"/>
                    <a:pt x="187" y="146"/>
                    <a:pt x="187" y="146"/>
                  </a:cubicBezTo>
                  <a:cubicBezTo>
                    <a:pt x="190" y="140"/>
                    <a:pt x="190" y="140"/>
                    <a:pt x="190" y="140"/>
                  </a:cubicBezTo>
                  <a:cubicBezTo>
                    <a:pt x="193" y="134"/>
                    <a:pt x="193" y="134"/>
                    <a:pt x="193" y="134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4" y="110"/>
                    <a:pt x="204" y="110"/>
                    <a:pt x="204" y="110"/>
                  </a:cubicBezTo>
                  <a:cubicBezTo>
                    <a:pt x="207" y="104"/>
                    <a:pt x="207" y="104"/>
                    <a:pt x="207" y="104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13" y="92"/>
                    <a:pt x="213" y="92"/>
                    <a:pt x="213" y="92"/>
                  </a:cubicBezTo>
                  <a:cubicBezTo>
                    <a:pt x="215" y="86"/>
                    <a:pt x="215" y="86"/>
                    <a:pt x="215" y="86"/>
                  </a:cubicBezTo>
                  <a:cubicBezTo>
                    <a:pt x="218" y="80"/>
                    <a:pt x="218" y="80"/>
                    <a:pt x="218" y="80"/>
                  </a:cubicBezTo>
                  <a:cubicBezTo>
                    <a:pt x="221" y="74"/>
                    <a:pt x="221" y="74"/>
                    <a:pt x="221" y="74"/>
                  </a:cubicBezTo>
                  <a:cubicBezTo>
                    <a:pt x="224" y="68"/>
                    <a:pt x="224" y="68"/>
                    <a:pt x="224" y="68"/>
                  </a:cubicBezTo>
                  <a:cubicBezTo>
                    <a:pt x="227" y="63"/>
                    <a:pt x="227" y="63"/>
                    <a:pt x="227" y="63"/>
                  </a:cubicBezTo>
                  <a:cubicBezTo>
                    <a:pt x="230" y="57"/>
                    <a:pt x="230" y="57"/>
                    <a:pt x="230" y="57"/>
                  </a:cubicBezTo>
                  <a:cubicBezTo>
                    <a:pt x="232" y="52"/>
                    <a:pt x="232" y="52"/>
                    <a:pt x="232" y="52"/>
                  </a:cubicBezTo>
                  <a:cubicBezTo>
                    <a:pt x="235" y="47"/>
                    <a:pt x="235" y="47"/>
                    <a:pt x="235" y="47"/>
                  </a:cubicBezTo>
                  <a:cubicBezTo>
                    <a:pt x="238" y="42"/>
                    <a:pt x="238" y="42"/>
                    <a:pt x="238" y="42"/>
                  </a:cubicBezTo>
                  <a:cubicBezTo>
                    <a:pt x="241" y="37"/>
                    <a:pt x="241" y="37"/>
                    <a:pt x="241" y="37"/>
                  </a:cubicBezTo>
                  <a:cubicBezTo>
                    <a:pt x="244" y="32"/>
                    <a:pt x="244" y="32"/>
                    <a:pt x="244" y="32"/>
                  </a:cubicBezTo>
                  <a:cubicBezTo>
                    <a:pt x="247" y="28"/>
                    <a:pt x="247" y="28"/>
                    <a:pt x="247" y="28"/>
                  </a:cubicBezTo>
                  <a:cubicBezTo>
                    <a:pt x="252" y="20"/>
                    <a:pt x="252" y="20"/>
                    <a:pt x="252" y="20"/>
                  </a:cubicBezTo>
                  <a:cubicBezTo>
                    <a:pt x="258" y="14"/>
                    <a:pt x="258" y="14"/>
                    <a:pt x="258" y="14"/>
                  </a:cubicBezTo>
                  <a:cubicBezTo>
                    <a:pt x="264" y="8"/>
                    <a:pt x="264" y="8"/>
                    <a:pt x="264" y="8"/>
                  </a:cubicBezTo>
                  <a:cubicBezTo>
                    <a:pt x="269" y="4"/>
                    <a:pt x="269" y="4"/>
                    <a:pt x="269" y="4"/>
                  </a:cubicBezTo>
                  <a:cubicBezTo>
                    <a:pt x="275" y="2"/>
                    <a:pt x="275" y="2"/>
                    <a:pt x="275" y="2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92" y="1"/>
                    <a:pt x="292" y="1"/>
                    <a:pt x="292" y="1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303" y="7"/>
                    <a:pt x="303" y="7"/>
                    <a:pt x="303" y="7"/>
                  </a:cubicBezTo>
                  <a:cubicBezTo>
                    <a:pt x="309" y="12"/>
                    <a:pt x="309" y="12"/>
                    <a:pt x="309" y="12"/>
                  </a:cubicBezTo>
                  <a:cubicBezTo>
                    <a:pt x="315" y="17"/>
                    <a:pt x="315" y="17"/>
                    <a:pt x="315" y="17"/>
                  </a:cubicBezTo>
                  <a:cubicBezTo>
                    <a:pt x="320" y="22"/>
                    <a:pt x="320" y="22"/>
                    <a:pt x="320" y="22"/>
                  </a:cubicBezTo>
                  <a:cubicBezTo>
                    <a:pt x="326" y="28"/>
                    <a:pt x="326" y="28"/>
                    <a:pt x="326" y="28"/>
                  </a:cubicBezTo>
                  <a:cubicBezTo>
                    <a:pt x="332" y="35"/>
                    <a:pt x="332" y="35"/>
                    <a:pt x="332" y="35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43" y="49"/>
                    <a:pt x="343" y="49"/>
                    <a:pt x="343" y="49"/>
                  </a:cubicBezTo>
                  <a:cubicBezTo>
                    <a:pt x="349" y="56"/>
                    <a:pt x="349" y="56"/>
                    <a:pt x="349" y="56"/>
                  </a:cubicBezTo>
                  <a:cubicBezTo>
                    <a:pt x="354" y="63"/>
                    <a:pt x="354" y="63"/>
                    <a:pt x="354" y="63"/>
                  </a:cubicBezTo>
                  <a:cubicBezTo>
                    <a:pt x="360" y="70"/>
                    <a:pt x="360" y="70"/>
                    <a:pt x="360" y="70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71" y="84"/>
                    <a:pt x="371" y="84"/>
                    <a:pt x="371" y="84"/>
                  </a:cubicBezTo>
                  <a:cubicBezTo>
                    <a:pt x="377" y="91"/>
                    <a:pt x="377" y="91"/>
                    <a:pt x="377" y="91"/>
                  </a:cubicBezTo>
                  <a:cubicBezTo>
                    <a:pt x="383" y="97"/>
                    <a:pt x="383" y="97"/>
                    <a:pt x="383" y="97"/>
                  </a:cubicBezTo>
                  <a:cubicBezTo>
                    <a:pt x="388" y="104"/>
                    <a:pt x="388" y="104"/>
                    <a:pt x="388" y="104"/>
                  </a:cubicBezTo>
                  <a:cubicBezTo>
                    <a:pt x="394" y="110"/>
                    <a:pt x="394" y="110"/>
                    <a:pt x="394" y="110"/>
                  </a:cubicBezTo>
                  <a:cubicBezTo>
                    <a:pt x="400" y="116"/>
                    <a:pt x="400" y="116"/>
                    <a:pt x="400" y="116"/>
                  </a:cubicBezTo>
                  <a:cubicBezTo>
                    <a:pt x="405" y="122"/>
                    <a:pt x="405" y="122"/>
                    <a:pt x="405" y="122"/>
                  </a:cubicBezTo>
                  <a:cubicBezTo>
                    <a:pt x="411" y="128"/>
                    <a:pt x="411" y="128"/>
                    <a:pt x="411" y="128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22" y="139"/>
                    <a:pt x="422" y="139"/>
                    <a:pt x="422" y="139"/>
                  </a:cubicBezTo>
                  <a:cubicBezTo>
                    <a:pt x="428" y="144"/>
                    <a:pt x="428" y="144"/>
                    <a:pt x="428" y="144"/>
                  </a:cubicBezTo>
                  <a:cubicBezTo>
                    <a:pt x="434" y="149"/>
                    <a:pt x="434" y="149"/>
                    <a:pt x="434" y="149"/>
                  </a:cubicBezTo>
                  <a:cubicBezTo>
                    <a:pt x="439" y="154"/>
                    <a:pt x="439" y="154"/>
                    <a:pt x="439" y="154"/>
                  </a:cubicBezTo>
                  <a:cubicBezTo>
                    <a:pt x="445" y="159"/>
                    <a:pt x="445" y="159"/>
                    <a:pt x="445" y="159"/>
                  </a:cubicBezTo>
                  <a:cubicBezTo>
                    <a:pt x="451" y="163"/>
                    <a:pt x="451" y="163"/>
                    <a:pt x="451" y="163"/>
                  </a:cubicBezTo>
                  <a:cubicBezTo>
                    <a:pt x="456" y="168"/>
                    <a:pt x="456" y="168"/>
                    <a:pt x="456" y="168"/>
                  </a:cubicBezTo>
                  <a:cubicBezTo>
                    <a:pt x="462" y="172"/>
                    <a:pt x="462" y="172"/>
                    <a:pt x="462" y="172"/>
                  </a:cubicBezTo>
                  <a:cubicBezTo>
                    <a:pt x="468" y="176"/>
                    <a:pt x="468" y="176"/>
                    <a:pt x="468" y="176"/>
                  </a:cubicBezTo>
                  <a:cubicBezTo>
                    <a:pt x="473" y="180"/>
                    <a:pt x="473" y="180"/>
                    <a:pt x="473" y="180"/>
                  </a:cubicBezTo>
                  <a:cubicBezTo>
                    <a:pt x="479" y="184"/>
                    <a:pt x="479" y="184"/>
                    <a:pt x="479" y="184"/>
                  </a:cubicBezTo>
                  <a:cubicBezTo>
                    <a:pt x="485" y="188"/>
                    <a:pt x="485" y="188"/>
                    <a:pt x="485" y="188"/>
                  </a:cubicBezTo>
                  <a:cubicBezTo>
                    <a:pt x="490" y="191"/>
                    <a:pt x="490" y="191"/>
                    <a:pt x="490" y="191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502" y="198"/>
                    <a:pt x="502" y="198"/>
                    <a:pt x="502" y="198"/>
                  </a:cubicBezTo>
                  <a:cubicBezTo>
                    <a:pt x="507" y="201"/>
                    <a:pt x="507" y="201"/>
                    <a:pt x="507" y="201"/>
                  </a:cubicBezTo>
                  <a:cubicBezTo>
                    <a:pt x="513" y="204"/>
                    <a:pt x="513" y="204"/>
                    <a:pt x="513" y="204"/>
                  </a:cubicBezTo>
                  <a:cubicBezTo>
                    <a:pt x="519" y="208"/>
                    <a:pt x="519" y="208"/>
                    <a:pt x="519" y="208"/>
                  </a:cubicBezTo>
                  <a:cubicBezTo>
                    <a:pt x="524" y="210"/>
                    <a:pt x="524" y="210"/>
                    <a:pt x="524" y="210"/>
                  </a:cubicBezTo>
                  <a:cubicBezTo>
                    <a:pt x="530" y="213"/>
                    <a:pt x="530" y="213"/>
                    <a:pt x="530" y="213"/>
                  </a:cubicBezTo>
                  <a:cubicBezTo>
                    <a:pt x="536" y="216"/>
                    <a:pt x="536" y="216"/>
                    <a:pt x="536" y="216"/>
                  </a:cubicBezTo>
                  <a:cubicBezTo>
                    <a:pt x="541" y="219"/>
                    <a:pt x="541" y="219"/>
                    <a:pt x="541" y="219"/>
                  </a:cubicBezTo>
                  <a:cubicBezTo>
                    <a:pt x="547" y="221"/>
                    <a:pt x="547" y="221"/>
                    <a:pt x="547" y="221"/>
                  </a:cubicBezTo>
                  <a:cubicBezTo>
                    <a:pt x="553" y="224"/>
                    <a:pt x="553" y="224"/>
                    <a:pt x="553" y="224"/>
                  </a:cubicBezTo>
                  <a:cubicBezTo>
                    <a:pt x="558" y="226"/>
                    <a:pt x="558" y="226"/>
                    <a:pt x="558" y="226"/>
                  </a:cubicBezTo>
                  <a:cubicBezTo>
                    <a:pt x="564" y="229"/>
                    <a:pt x="564" y="229"/>
                    <a:pt x="564" y="229"/>
                  </a:cubicBezTo>
                  <a:cubicBezTo>
                    <a:pt x="570" y="231"/>
                    <a:pt x="570" y="231"/>
                    <a:pt x="570" y="231"/>
                  </a:cubicBezTo>
                  <a:cubicBezTo>
                    <a:pt x="576" y="233"/>
                    <a:pt x="576" y="233"/>
                    <a:pt x="576" y="233"/>
                  </a:cubicBezTo>
                  <a:cubicBezTo>
                    <a:pt x="581" y="236"/>
                    <a:pt x="581" y="236"/>
                    <a:pt x="581" y="236"/>
                  </a:cubicBezTo>
                  <a:cubicBezTo>
                    <a:pt x="587" y="238"/>
                    <a:pt x="587" y="238"/>
                    <a:pt x="587" y="238"/>
                  </a:cubicBezTo>
                  <a:cubicBezTo>
                    <a:pt x="593" y="240"/>
                    <a:pt x="593" y="240"/>
                    <a:pt x="593" y="240"/>
                  </a:cubicBezTo>
                  <a:cubicBezTo>
                    <a:pt x="598" y="242"/>
                    <a:pt x="598" y="242"/>
                    <a:pt x="598" y="242"/>
                  </a:cubicBezTo>
                  <a:cubicBezTo>
                    <a:pt x="604" y="244"/>
                    <a:pt x="604" y="244"/>
                    <a:pt x="604" y="244"/>
                  </a:cubicBezTo>
                  <a:cubicBezTo>
                    <a:pt x="610" y="246"/>
                    <a:pt x="610" y="246"/>
                    <a:pt x="610" y="246"/>
                  </a:cubicBezTo>
                  <a:cubicBezTo>
                    <a:pt x="615" y="248"/>
                    <a:pt x="615" y="248"/>
                    <a:pt x="615" y="248"/>
                  </a:cubicBezTo>
                  <a:cubicBezTo>
                    <a:pt x="621" y="250"/>
                    <a:pt x="621" y="250"/>
                    <a:pt x="621" y="250"/>
                  </a:cubicBezTo>
                  <a:cubicBezTo>
                    <a:pt x="627" y="251"/>
                    <a:pt x="627" y="251"/>
                    <a:pt x="627" y="251"/>
                  </a:cubicBezTo>
                  <a:cubicBezTo>
                    <a:pt x="632" y="253"/>
                    <a:pt x="632" y="253"/>
                    <a:pt x="632" y="253"/>
                  </a:cubicBezTo>
                  <a:cubicBezTo>
                    <a:pt x="638" y="255"/>
                    <a:pt x="638" y="255"/>
                    <a:pt x="638" y="255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9" y="258"/>
                    <a:pt x="649" y="258"/>
                    <a:pt x="649" y="258"/>
                  </a:cubicBezTo>
                  <a:cubicBezTo>
                    <a:pt x="655" y="260"/>
                    <a:pt x="655" y="260"/>
                    <a:pt x="655" y="260"/>
                  </a:cubicBezTo>
                  <a:cubicBezTo>
                    <a:pt x="661" y="261"/>
                    <a:pt x="661" y="261"/>
                    <a:pt x="661" y="261"/>
                  </a:cubicBezTo>
                  <a:cubicBezTo>
                    <a:pt x="666" y="263"/>
                    <a:pt x="666" y="263"/>
                    <a:pt x="666" y="263"/>
                  </a:cubicBezTo>
                  <a:cubicBezTo>
                    <a:pt x="672" y="264"/>
                    <a:pt x="672" y="264"/>
                    <a:pt x="672" y="264"/>
                  </a:cubicBezTo>
                  <a:cubicBezTo>
                    <a:pt x="678" y="266"/>
                    <a:pt x="678" y="266"/>
                    <a:pt x="678" y="266"/>
                  </a:cubicBezTo>
                  <a:cubicBezTo>
                    <a:pt x="683" y="267"/>
                    <a:pt x="683" y="267"/>
                    <a:pt x="683" y="267"/>
                  </a:cubicBezTo>
                  <a:cubicBezTo>
                    <a:pt x="689" y="268"/>
                    <a:pt x="689" y="268"/>
                    <a:pt x="689" y="268"/>
                  </a:cubicBezTo>
                  <a:cubicBezTo>
                    <a:pt x="695" y="270"/>
                    <a:pt x="695" y="270"/>
                    <a:pt x="695" y="270"/>
                  </a:cubicBezTo>
                  <a:cubicBezTo>
                    <a:pt x="700" y="271"/>
                    <a:pt x="700" y="271"/>
                    <a:pt x="700" y="271"/>
                  </a:cubicBezTo>
                  <a:cubicBezTo>
                    <a:pt x="706" y="272"/>
                    <a:pt x="706" y="272"/>
                    <a:pt x="706" y="272"/>
                  </a:cubicBezTo>
                  <a:cubicBezTo>
                    <a:pt x="712" y="274"/>
                    <a:pt x="712" y="274"/>
                    <a:pt x="712" y="274"/>
                  </a:cubicBezTo>
                  <a:cubicBezTo>
                    <a:pt x="717" y="275"/>
                    <a:pt x="717" y="275"/>
                    <a:pt x="717" y="275"/>
                  </a:cubicBezTo>
                  <a:cubicBezTo>
                    <a:pt x="723" y="276"/>
                    <a:pt x="723" y="276"/>
                    <a:pt x="723" y="276"/>
                  </a:cubicBezTo>
                  <a:cubicBezTo>
                    <a:pt x="729" y="277"/>
                    <a:pt x="729" y="277"/>
                    <a:pt x="729" y="277"/>
                  </a:cubicBezTo>
                  <a:cubicBezTo>
                    <a:pt x="734" y="279"/>
                    <a:pt x="734" y="279"/>
                    <a:pt x="734" y="279"/>
                  </a:cubicBezTo>
                  <a:cubicBezTo>
                    <a:pt x="740" y="280"/>
                    <a:pt x="740" y="280"/>
                    <a:pt x="740" y="280"/>
                  </a:cubicBezTo>
                  <a:cubicBezTo>
                    <a:pt x="746" y="281"/>
                    <a:pt x="746" y="281"/>
                    <a:pt x="746" y="281"/>
                  </a:cubicBezTo>
                  <a:cubicBezTo>
                    <a:pt x="751" y="282"/>
                    <a:pt x="751" y="282"/>
                    <a:pt x="751" y="282"/>
                  </a:cubicBezTo>
                  <a:cubicBezTo>
                    <a:pt x="757" y="283"/>
                    <a:pt x="757" y="283"/>
                    <a:pt x="757" y="283"/>
                  </a:cubicBezTo>
                  <a:cubicBezTo>
                    <a:pt x="763" y="284"/>
                    <a:pt x="763" y="284"/>
                    <a:pt x="763" y="284"/>
                  </a:cubicBezTo>
                  <a:cubicBezTo>
                    <a:pt x="768" y="285"/>
                    <a:pt x="768" y="285"/>
                    <a:pt x="768" y="285"/>
                  </a:cubicBezTo>
                  <a:cubicBezTo>
                    <a:pt x="774" y="286"/>
                    <a:pt x="774" y="286"/>
                    <a:pt x="774" y="286"/>
                  </a:cubicBezTo>
                  <a:cubicBezTo>
                    <a:pt x="780" y="287"/>
                    <a:pt x="780" y="287"/>
                    <a:pt x="780" y="287"/>
                  </a:cubicBezTo>
                  <a:cubicBezTo>
                    <a:pt x="785" y="288"/>
                    <a:pt x="785" y="288"/>
                    <a:pt x="785" y="288"/>
                  </a:cubicBezTo>
                  <a:cubicBezTo>
                    <a:pt x="791" y="289"/>
                    <a:pt x="791" y="289"/>
                    <a:pt x="791" y="289"/>
                  </a:cubicBezTo>
                  <a:cubicBezTo>
                    <a:pt x="797" y="290"/>
                    <a:pt x="797" y="290"/>
                    <a:pt x="797" y="290"/>
                  </a:cubicBezTo>
                  <a:cubicBezTo>
                    <a:pt x="802" y="291"/>
                    <a:pt x="802" y="291"/>
                    <a:pt x="802" y="291"/>
                  </a:cubicBezTo>
                  <a:cubicBezTo>
                    <a:pt x="808" y="292"/>
                    <a:pt x="808" y="292"/>
                    <a:pt x="808" y="292"/>
                  </a:cubicBezTo>
                  <a:cubicBezTo>
                    <a:pt x="814" y="293"/>
                    <a:pt x="814" y="293"/>
                    <a:pt x="814" y="293"/>
                  </a:cubicBezTo>
                  <a:cubicBezTo>
                    <a:pt x="819" y="294"/>
                    <a:pt x="819" y="294"/>
                    <a:pt x="819" y="294"/>
                  </a:cubicBezTo>
                  <a:cubicBezTo>
                    <a:pt x="825" y="295"/>
                    <a:pt x="825" y="295"/>
                    <a:pt x="825" y="295"/>
                  </a:cubicBezTo>
                  <a:cubicBezTo>
                    <a:pt x="831" y="295"/>
                    <a:pt x="831" y="295"/>
                    <a:pt x="831" y="295"/>
                  </a:cubicBezTo>
                  <a:cubicBezTo>
                    <a:pt x="836" y="296"/>
                    <a:pt x="836" y="296"/>
                    <a:pt x="836" y="296"/>
                  </a:cubicBezTo>
                  <a:cubicBezTo>
                    <a:pt x="842" y="297"/>
                    <a:pt x="842" y="297"/>
                    <a:pt x="842" y="297"/>
                  </a:cubicBezTo>
                  <a:cubicBezTo>
                    <a:pt x="848" y="298"/>
                    <a:pt x="848" y="298"/>
                    <a:pt x="848" y="298"/>
                  </a:cubicBezTo>
                  <a:cubicBezTo>
                    <a:pt x="853" y="299"/>
                    <a:pt x="853" y="299"/>
                    <a:pt x="853" y="299"/>
                  </a:cubicBezTo>
                  <a:cubicBezTo>
                    <a:pt x="859" y="299"/>
                    <a:pt x="859" y="299"/>
                    <a:pt x="859" y="299"/>
                  </a:cubicBezTo>
                  <a:cubicBezTo>
                    <a:pt x="865" y="300"/>
                    <a:pt x="865" y="300"/>
                    <a:pt x="865" y="300"/>
                  </a:cubicBezTo>
                  <a:cubicBezTo>
                    <a:pt x="870" y="301"/>
                    <a:pt x="870" y="301"/>
                    <a:pt x="870" y="301"/>
                  </a:cubicBezTo>
                  <a:cubicBezTo>
                    <a:pt x="876" y="302"/>
                    <a:pt x="876" y="302"/>
                    <a:pt x="876" y="302"/>
                  </a:cubicBezTo>
                  <a:cubicBezTo>
                    <a:pt x="882" y="302"/>
                    <a:pt x="882" y="302"/>
                    <a:pt x="882" y="302"/>
                  </a:cubicBezTo>
                  <a:cubicBezTo>
                    <a:pt x="887" y="303"/>
                    <a:pt x="887" y="303"/>
                    <a:pt x="887" y="303"/>
                  </a:cubicBezTo>
                  <a:cubicBezTo>
                    <a:pt x="893" y="304"/>
                    <a:pt x="893" y="304"/>
                    <a:pt x="893" y="304"/>
                  </a:cubicBezTo>
                  <a:cubicBezTo>
                    <a:pt x="899" y="305"/>
                    <a:pt x="899" y="305"/>
                    <a:pt x="899" y="305"/>
                  </a:cubicBezTo>
                  <a:cubicBezTo>
                    <a:pt x="904" y="305"/>
                    <a:pt x="904" y="305"/>
                    <a:pt x="904" y="305"/>
                  </a:cubicBezTo>
                  <a:cubicBezTo>
                    <a:pt x="910" y="306"/>
                    <a:pt x="910" y="306"/>
                    <a:pt x="910" y="306"/>
                  </a:cubicBezTo>
                  <a:cubicBezTo>
                    <a:pt x="916" y="307"/>
                    <a:pt x="916" y="307"/>
                    <a:pt x="916" y="307"/>
                  </a:cubicBezTo>
                  <a:cubicBezTo>
                    <a:pt x="921" y="307"/>
                    <a:pt x="921" y="307"/>
                    <a:pt x="921" y="307"/>
                  </a:cubicBezTo>
                  <a:cubicBezTo>
                    <a:pt x="927" y="308"/>
                    <a:pt x="927" y="308"/>
                    <a:pt x="927" y="308"/>
                  </a:cubicBezTo>
                  <a:cubicBezTo>
                    <a:pt x="933" y="309"/>
                    <a:pt x="933" y="309"/>
                    <a:pt x="933" y="309"/>
                  </a:cubicBezTo>
                  <a:cubicBezTo>
                    <a:pt x="938" y="309"/>
                    <a:pt x="938" y="309"/>
                    <a:pt x="938" y="309"/>
                  </a:cubicBezTo>
                  <a:cubicBezTo>
                    <a:pt x="944" y="310"/>
                    <a:pt x="944" y="310"/>
                    <a:pt x="944" y="310"/>
                  </a:cubicBezTo>
                  <a:cubicBezTo>
                    <a:pt x="950" y="310"/>
                    <a:pt x="950" y="310"/>
                    <a:pt x="950" y="310"/>
                  </a:cubicBezTo>
                  <a:cubicBezTo>
                    <a:pt x="955" y="311"/>
                    <a:pt x="955" y="311"/>
                    <a:pt x="955" y="311"/>
                  </a:cubicBezTo>
                  <a:cubicBezTo>
                    <a:pt x="961" y="312"/>
                    <a:pt x="961" y="312"/>
                    <a:pt x="961" y="312"/>
                  </a:cubicBezTo>
                  <a:cubicBezTo>
                    <a:pt x="967" y="312"/>
                    <a:pt x="967" y="312"/>
                    <a:pt x="967" y="312"/>
                  </a:cubicBezTo>
                  <a:cubicBezTo>
                    <a:pt x="972" y="313"/>
                    <a:pt x="972" y="313"/>
                    <a:pt x="972" y="313"/>
                  </a:cubicBezTo>
                  <a:cubicBezTo>
                    <a:pt x="978" y="313"/>
                    <a:pt x="978" y="313"/>
                    <a:pt x="978" y="313"/>
                  </a:cubicBezTo>
                  <a:cubicBezTo>
                    <a:pt x="984" y="314"/>
                    <a:pt x="984" y="314"/>
                    <a:pt x="984" y="314"/>
                  </a:cubicBezTo>
                  <a:cubicBezTo>
                    <a:pt x="989" y="315"/>
                    <a:pt x="989" y="315"/>
                    <a:pt x="989" y="315"/>
                  </a:cubicBezTo>
                  <a:cubicBezTo>
                    <a:pt x="995" y="315"/>
                    <a:pt x="995" y="315"/>
                    <a:pt x="995" y="315"/>
                  </a:cubicBezTo>
                  <a:cubicBezTo>
                    <a:pt x="1001" y="316"/>
                    <a:pt x="1001" y="316"/>
                    <a:pt x="1001" y="316"/>
                  </a:cubicBezTo>
                  <a:cubicBezTo>
                    <a:pt x="1006" y="316"/>
                    <a:pt x="1006" y="316"/>
                    <a:pt x="1006" y="316"/>
                  </a:cubicBezTo>
                  <a:cubicBezTo>
                    <a:pt x="1012" y="317"/>
                    <a:pt x="1012" y="317"/>
                    <a:pt x="1012" y="317"/>
                  </a:cubicBezTo>
                  <a:cubicBezTo>
                    <a:pt x="1018" y="317"/>
                    <a:pt x="1018" y="317"/>
                    <a:pt x="1018" y="317"/>
                  </a:cubicBezTo>
                  <a:cubicBezTo>
                    <a:pt x="1023" y="318"/>
                    <a:pt x="1023" y="318"/>
                    <a:pt x="1023" y="318"/>
                  </a:cubicBezTo>
                  <a:cubicBezTo>
                    <a:pt x="1029" y="318"/>
                    <a:pt x="1029" y="318"/>
                    <a:pt x="1029" y="318"/>
                  </a:cubicBezTo>
                  <a:cubicBezTo>
                    <a:pt x="1035" y="319"/>
                    <a:pt x="1035" y="319"/>
                    <a:pt x="1035" y="319"/>
                  </a:cubicBezTo>
                  <a:cubicBezTo>
                    <a:pt x="1040" y="319"/>
                    <a:pt x="1040" y="319"/>
                    <a:pt x="1040" y="319"/>
                  </a:cubicBezTo>
                  <a:cubicBezTo>
                    <a:pt x="1046" y="320"/>
                    <a:pt x="1046" y="320"/>
                    <a:pt x="1046" y="320"/>
                  </a:cubicBezTo>
                  <a:cubicBezTo>
                    <a:pt x="1052" y="320"/>
                    <a:pt x="1052" y="320"/>
                    <a:pt x="1052" y="320"/>
                  </a:cubicBezTo>
                  <a:cubicBezTo>
                    <a:pt x="1057" y="321"/>
                    <a:pt x="1057" y="321"/>
                    <a:pt x="1057" y="321"/>
                  </a:cubicBezTo>
                  <a:cubicBezTo>
                    <a:pt x="1063" y="321"/>
                    <a:pt x="1063" y="321"/>
                    <a:pt x="1063" y="321"/>
                  </a:cubicBezTo>
                  <a:cubicBezTo>
                    <a:pt x="1069" y="322"/>
                    <a:pt x="1069" y="322"/>
                    <a:pt x="1069" y="322"/>
                  </a:cubicBezTo>
                  <a:cubicBezTo>
                    <a:pt x="1074" y="322"/>
                    <a:pt x="1074" y="322"/>
                    <a:pt x="1074" y="322"/>
                  </a:cubicBezTo>
                  <a:cubicBezTo>
                    <a:pt x="1080" y="323"/>
                    <a:pt x="1080" y="323"/>
                    <a:pt x="1080" y="323"/>
                  </a:cubicBezTo>
                  <a:cubicBezTo>
                    <a:pt x="1086" y="323"/>
                    <a:pt x="1086" y="323"/>
                    <a:pt x="1086" y="323"/>
                  </a:cubicBezTo>
                  <a:cubicBezTo>
                    <a:pt x="1091" y="324"/>
                    <a:pt x="1091" y="324"/>
                    <a:pt x="1091" y="324"/>
                  </a:cubicBezTo>
                  <a:cubicBezTo>
                    <a:pt x="1097" y="324"/>
                    <a:pt x="1097" y="324"/>
                    <a:pt x="1097" y="324"/>
                  </a:cubicBezTo>
                  <a:cubicBezTo>
                    <a:pt x="1103" y="324"/>
                    <a:pt x="1103" y="324"/>
                    <a:pt x="1103" y="324"/>
                  </a:cubicBezTo>
                  <a:cubicBezTo>
                    <a:pt x="1108" y="325"/>
                    <a:pt x="1108" y="325"/>
                    <a:pt x="1108" y="325"/>
                  </a:cubicBezTo>
                  <a:cubicBezTo>
                    <a:pt x="1114" y="325"/>
                    <a:pt x="1114" y="325"/>
                    <a:pt x="1114" y="325"/>
                  </a:cubicBezTo>
                  <a:cubicBezTo>
                    <a:pt x="1120" y="326"/>
                    <a:pt x="1120" y="326"/>
                    <a:pt x="1120" y="326"/>
                  </a:cubicBezTo>
                  <a:cubicBezTo>
                    <a:pt x="1125" y="326"/>
                    <a:pt x="1125" y="326"/>
                    <a:pt x="1125" y="326"/>
                  </a:cubicBezTo>
                  <a:cubicBezTo>
                    <a:pt x="1131" y="327"/>
                    <a:pt x="1131" y="327"/>
                    <a:pt x="1131" y="327"/>
                  </a:cubicBezTo>
                  <a:cubicBezTo>
                    <a:pt x="1137" y="327"/>
                    <a:pt x="1137" y="327"/>
                    <a:pt x="1137" y="327"/>
                  </a:cubicBezTo>
                  <a:cubicBezTo>
                    <a:pt x="1143" y="327"/>
                    <a:pt x="1143" y="327"/>
                    <a:pt x="1143" y="327"/>
                  </a:cubicBezTo>
                  <a:cubicBezTo>
                    <a:pt x="1148" y="328"/>
                    <a:pt x="1148" y="328"/>
                    <a:pt x="1148" y="328"/>
                  </a:cubicBezTo>
                  <a:cubicBezTo>
                    <a:pt x="1154" y="328"/>
                    <a:pt x="1154" y="328"/>
                    <a:pt x="1154" y="328"/>
                  </a:cubicBezTo>
                  <a:cubicBezTo>
                    <a:pt x="1160" y="328"/>
                    <a:pt x="1160" y="328"/>
                    <a:pt x="1160" y="328"/>
                  </a:cubicBezTo>
                  <a:cubicBezTo>
                    <a:pt x="1165" y="329"/>
                    <a:pt x="1165" y="329"/>
                    <a:pt x="1165" y="329"/>
                  </a:cubicBezTo>
                  <a:cubicBezTo>
                    <a:pt x="1171" y="329"/>
                    <a:pt x="1171" y="329"/>
                    <a:pt x="1171" y="329"/>
                  </a:cubicBezTo>
                  <a:cubicBezTo>
                    <a:pt x="1177" y="330"/>
                    <a:pt x="1177" y="330"/>
                    <a:pt x="1177" y="330"/>
                  </a:cubicBezTo>
                  <a:cubicBezTo>
                    <a:pt x="1182" y="330"/>
                    <a:pt x="1182" y="330"/>
                    <a:pt x="1182" y="330"/>
                  </a:cubicBezTo>
                  <a:cubicBezTo>
                    <a:pt x="1188" y="330"/>
                    <a:pt x="1188" y="330"/>
                    <a:pt x="1188" y="330"/>
                  </a:cubicBezTo>
                  <a:cubicBezTo>
                    <a:pt x="1194" y="331"/>
                    <a:pt x="1194" y="331"/>
                    <a:pt x="1194" y="331"/>
                  </a:cubicBezTo>
                  <a:cubicBezTo>
                    <a:pt x="1199" y="331"/>
                    <a:pt x="1199" y="331"/>
                    <a:pt x="1199" y="331"/>
                  </a:cubicBezTo>
                  <a:cubicBezTo>
                    <a:pt x="1205" y="331"/>
                    <a:pt x="1205" y="331"/>
                    <a:pt x="1205" y="331"/>
                  </a:cubicBezTo>
                  <a:cubicBezTo>
                    <a:pt x="1211" y="332"/>
                    <a:pt x="1211" y="332"/>
                    <a:pt x="1211" y="332"/>
                  </a:cubicBezTo>
                  <a:cubicBezTo>
                    <a:pt x="1216" y="332"/>
                    <a:pt x="1216" y="332"/>
                    <a:pt x="1216" y="332"/>
                  </a:cubicBezTo>
                  <a:cubicBezTo>
                    <a:pt x="1222" y="333"/>
                    <a:pt x="1222" y="333"/>
                    <a:pt x="1222" y="333"/>
                  </a:cubicBezTo>
                  <a:cubicBezTo>
                    <a:pt x="1228" y="333"/>
                    <a:pt x="1228" y="333"/>
                    <a:pt x="1228" y="333"/>
                  </a:cubicBezTo>
                  <a:cubicBezTo>
                    <a:pt x="1233" y="333"/>
                    <a:pt x="1233" y="333"/>
                    <a:pt x="1233" y="333"/>
                  </a:cubicBezTo>
                  <a:cubicBezTo>
                    <a:pt x="1239" y="334"/>
                    <a:pt x="1239" y="334"/>
                    <a:pt x="1239" y="334"/>
                  </a:cubicBezTo>
                  <a:cubicBezTo>
                    <a:pt x="1245" y="334"/>
                    <a:pt x="1245" y="334"/>
                    <a:pt x="1245" y="334"/>
                  </a:cubicBezTo>
                  <a:cubicBezTo>
                    <a:pt x="1250" y="334"/>
                    <a:pt x="1250" y="334"/>
                    <a:pt x="1250" y="334"/>
                  </a:cubicBezTo>
                  <a:cubicBezTo>
                    <a:pt x="1256" y="335"/>
                    <a:pt x="1256" y="335"/>
                    <a:pt x="1256" y="335"/>
                  </a:cubicBezTo>
                  <a:cubicBezTo>
                    <a:pt x="1262" y="335"/>
                    <a:pt x="1262" y="335"/>
                    <a:pt x="1262" y="335"/>
                  </a:cubicBezTo>
                  <a:cubicBezTo>
                    <a:pt x="1267" y="335"/>
                    <a:pt x="1267" y="335"/>
                    <a:pt x="1267" y="335"/>
                  </a:cubicBezTo>
                  <a:cubicBezTo>
                    <a:pt x="1273" y="335"/>
                    <a:pt x="1273" y="335"/>
                    <a:pt x="1273" y="335"/>
                  </a:cubicBezTo>
                  <a:cubicBezTo>
                    <a:pt x="1279" y="336"/>
                    <a:pt x="1279" y="336"/>
                    <a:pt x="1279" y="336"/>
                  </a:cubicBezTo>
                  <a:cubicBezTo>
                    <a:pt x="1284" y="336"/>
                    <a:pt x="1284" y="336"/>
                    <a:pt x="1284" y="336"/>
                  </a:cubicBezTo>
                  <a:cubicBezTo>
                    <a:pt x="1290" y="336"/>
                    <a:pt x="1290" y="336"/>
                    <a:pt x="1290" y="336"/>
                  </a:cubicBezTo>
                  <a:cubicBezTo>
                    <a:pt x="1296" y="337"/>
                    <a:pt x="1296" y="337"/>
                    <a:pt x="1296" y="337"/>
                  </a:cubicBezTo>
                  <a:cubicBezTo>
                    <a:pt x="1301" y="337"/>
                    <a:pt x="1301" y="337"/>
                    <a:pt x="1301" y="337"/>
                  </a:cubicBezTo>
                  <a:cubicBezTo>
                    <a:pt x="1307" y="337"/>
                    <a:pt x="1307" y="337"/>
                    <a:pt x="1307" y="337"/>
                  </a:cubicBezTo>
                  <a:cubicBezTo>
                    <a:pt x="1313" y="338"/>
                    <a:pt x="1313" y="338"/>
                    <a:pt x="1313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4" y="338"/>
                    <a:pt x="1324" y="338"/>
                    <a:pt x="1324" y="338"/>
                  </a:cubicBezTo>
                  <a:cubicBezTo>
                    <a:pt x="1330" y="338"/>
                    <a:pt x="1330" y="338"/>
                    <a:pt x="1330" y="338"/>
                  </a:cubicBezTo>
                  <a:cubicBezTo>
                    <a:pt x="1335" y="339"/>
                    <a:pt x="1335" y="339"/>
                    <a:pt x="1335" y="339"/>
                  </a:cubicBezTo>
                  <a:cubicBezTo>
                    <a:pt x="1341" y="339"/>
                    <a:pt x="1341" y="339"/>
                    <a:pt x="1341" y="339"/>
                  </a:cubicBezTo>
                  <a:cubicBezTo>
                    <a:pt x="1347" y="339"/>
                    <a:pt x="1347" y="339"/>
                    <a:pt x="1347" y="339"/>
                  </a:cubicBezTo>
                  <a:cubicBezTo>
                    <a:pt x="1352" y="340"/>
                    <a:pt x="1352" y="340"/>
                    <a:pt x="1352" y="340"/>
                  </a:cubicBezTo>
                  <a:cubicBezTo>
                    <a:pt x="1358" y="340"/>
                    <a:pt x="1358" y="340"/>
                    <a:pt x="1358" y="340"/>
                  </a:cubicBezTo>
                  <a:cubicBezTo>
                    <a:pt x="1364" y="340"/>
                    <a:pt x="1364" y="340"/>
                    <a:pt x="1364" y="340"/>
                  </a:cubicBezTo>
                  <a:cubicBezTo>
                    <a:pt x="1369" y="340"/>
                    <a:pt x="1369" y="340"/>
                    <a:pt x="1369" y="340"/>
                  </a:cubicBezTo>
                  <a:cubicBezTo>
                    <a:pt x="1375" y="341"/>
                    <a:pt x="1375" y="341"/>
                    <a:pt x="1375" y="341"/>
                  </a:cubicBezTo>
                  <a:cubicBezTo>
                    <a:pt x="1381" y="341"/>
                    <a:pt x="1381" y="341"/>
                    <a:pt x="1381" y="341"/>
                  </a:cubicBezTo>
                  <a:cubicBezTo>
                    <a:pt x="1386" y="341"/>
                    <a:pt x="1386" y="341"/>
                    <a:pt x="1386" y="341"/>
                  </a:cubicBezTo>
                  <a:cubicBezTo>
                    <a:pt x="1392" y="341"/>
                    <a:pt x="1392" y="341"/>
                    <a:pt x="1392" y="341"/>
                  </a:cubicBezTo>
                  <a:cubicBezTo>
                    <a:pt x="1398" y="342"/>
                    <a:pt x="1398" y="342"/>
                    <a:pt x="1398" y="342"/>
                  </a:cubicBezTo>
                  <a:cubicBezTo>
                    <a:pt x="1403" y="342"/>
                    <a:pt x="1403" y="342"/>
                    <a:pt x="1403" y="342"/>
                  </a:cubicBezTo>
                  <a:cubicBezTo>
                    <a:pt x="1409" y="342"/>
                    <a:pt x="1409" y="342"/>
                    <a:pt x="1409" y="342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77720" y="2527200"/>
              <a:ext cx="2686320" cy="1027080"/>
            </a:xfrm>
            <a:custGeom>
              <a:avLst/>
              <a:gdLst/>
              <a:ahLst/>
              <a:rect l="l" t="t" r="r" b="b"/>
              <a:pathLst>
                <a:path w="1409" h="401">
                  <a:moveTo>
                    <a:pt x="0" y="401"/>
                  </a:moveTo>
                  <a:cubicBezTo>
                    <a:pt x="6" y="395"/>
                    <a:pt x="6" y="395"/>
                    <a:pt x="6" y="395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7" y="384"/>
                    <a:pt x="17" y="384"/>
                    <a:pt x="17" y="384"/>
                  </a:cubicBezTo>
                  <a:cubicBezTo>
                    <a:pt x="23" y="378"/>
                    <a:pt x="23" y="378"/>
                    <a:pt x="23" y="378"/>
                  </a:cubicBezTo>
                  <a:cubicBezTo>
                    <a:pt x="28" y="372"/>
                    <a:pt x="28" y="372"/>
                    <a:pt x="28" y="372"/>
                  </a:cubicBezTo>
                  <a:cubicBezTo>
                    <a:pt x="34" y="367"/>
                    <a:pt x="34" y="367"/>
                    <a:pt x="34" y="367"/>
                  </a:cubicBezTo>
                  <a:cubicBezTo>
                    <a:pt x="40" y="361"/>
                    <a:pt x="40" y="361"/>
                    <a:pt x="40" y="361"/>
                  </a:cubicBezTo>
                  <a:cubicBezTo>
                    <a:pt x="45" y="355"/>
                    <a:pt x="45" y="355"/>
                    <a:pt x="45" y="355"/>
                  </a:cubicBezTo>
                  <a:cubicBezTo>
                    <a:pt x="51" y="349"/>
                    <a:pt x="51" y="349"/>
                    <a:pt x="51" y="349"/>
                  </a:cubicBezTo>
                  <a:cubicBezTo>
                    <a:pt x="57" y="343"/>
                    <a:pt x="57" y="343"/>
                    <a:pt x="57" y="343"/>
                  </a:cubicBezTo>
                  <a:cubicBezTo>
                    <a:pt x="62" y="336"/>
                    <a:pt x="62" y="336"/>
                    <a:pt x="62" y="336"/>
                  </a:cubicBezTo>
                  <a:cubicBezTo>
                    <a:pt x="68" y="330"/>
                    <a:pt x="68" y="330"/>
                    <a:pt x="68" y="330"/>
                  </a:cubicBezTo>
                  <a:cubicBezTo>
                    <a:pt x="74" y="323"/>
                    <a:pt x="74" y="323"/>
                    <a:pt x="74" y="323"/>
                  </a:cubicBezTo>
                  <a:cubicBezTo>
                    <a:pt x="79" y="317"/>
                    <a:pt x="79" y="317"/>
                    <a:pt x="79" y="317"/>
                  </a:cubicBezTo>
                  <a:cubicBezTo>
                    <a:pt x="85" y="310"/>
                    <a:pt x="85" y="310"/>
                    <a:pt x="85" y="310"/>
                  </a:cubicBezTo>
                  <a:cubicBezTo>
                    <a:pt x="91" y="303"/>
                    <a:pt x="91" y="303"/>
                    <a:pt x="91" y="303"/>
                  </a:cubicBezTo>
                  <a:cubicBezTo>
                    <a:pt x="96" y="296"/>
                    <a:pt x="96" y="296"/>
                    <a:pt x="96" y="296"/>
                  </a:cubicBezTo>
                  <a:cubicBezTo>
                    <a:pt x="102" y="288"/>
                    <a:pt x="102" y="288"/>
                    <a:pt x="102" y="288"/>
                  </a:cubicBezTo>
                  <a:cubicBezTo>
                    <a:pt x="108" y="281"/>
                    <a:pt x="108" y="281"/>
                    <a:pt x="108" y="281"/>
                  </a:cubicBezTo>
                  <a:cubicBezTo>
                    <a:pt x="113" y="273"/>
                    <a:pt x="113" y="273"/>
                    <a:pt x="113" y="273"/>
                  </a:cubicBezTo>
                  <a:cubicBezTo>
                    <a:pt x="119" y="265"/>
                    <a:pt x="119" y="265"/>
                    <a:pt x="119" y="265"/>
                  </a:cubicBezTo>
                  <a:cubicBezTo>
                    <a:pt x="122" y="261"/>
                    <a:pt x="122" y="261"/>
                    <a:pt x="122" y="261"/>
                  </a:cubicBezTo>
                  <a:cubicBezTo>
                    <a:pt x="128" y="252"/>
                    <a:pt x="128" y="252"/>
                    <a:pt x="128" y="252"/>
                  </a:cubicBezTo>
                  <a:cubicBezTo>
                    <a:pt x="130" y="248"/>
                    <a:pt x="130" y="248"/>
                    <a:pt x="130" y="248"/>
                  </a:cubicBezTo>
                  <a:cubicBezTo>
                    <a:pt x="133" y="244"/>
                    <a:pt x="133" y="244"/>
                    <a:pt x="133" y="244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42" y="230"/>
                    <a:pt x="142" y="230"/>
                    <a:pt x="142" y="230"/>
                  </a:cubicBezTo>
                  <a:cubicBezTo>
                    <a:pt x="145" y="225"/>
                    <a:pt x="145" y="225"/>
                    <a:pt x="145" y="225"/>
                  </a:cubicBezTo>
                  <a:cubicBezTo>
                    <a:pt x="147" y="221"/>
                    <a:pt x="147" y="221"/>
                    <a:pt x="147" y="221"/>
                  </a:cubicBezTo>
                  <a:cubicBezTo>
                    <a:pt x="150" y="216"/>
                    <a:pt x="150" y="216"/>
                    <a:pt x="150" y="216"/>
                  </a:cubicBezTo>
                  <a:cubicBezTo>
                    <a:pt x="156" y="206"/>
                    <a:pt x="156" y="206"/>
                    <a:pt x="156" y="206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4" y="190"/>
                    <a:pt x="164" y="190"/>
                    <a:pt x="164" y="190"/>
                  </a:cubicBezTo>
                  <a:cubicBezTo>
                    <a:pt x="167" y="185"/>
                    <a:pt x="167" y="185"/>
                    <a:pt x="167" y="185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173" y="174"/>
                    <a:pt x="173" y="174"/>
                    <a:pt x="173" y="174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9" y="163"/>
                    <a:pt x="179" y="163"/>
                    <a:pt x="179" y="163"/>
                  </a:cubicBezTo>
                  <a:cubicBezTo>
                    <a:pt x="181" y="157"/>
                    <a:pt x="181" y="157"/>
                    <a:pt x="181" y="157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7" y="146"/>
                    <a:pt x="187" y="146"/>
                    <a:pt x="187" y="146"/>
                  </a:cubicBezTo>
                  <a:cubicBezTo>
                    <a:pt x="190" y="140"/>
                    <a:pt x="190" y="140"/>
                    <a:pt x="190" y="140"/>
                  </a:cubicBezTo>
                  <a:cubicBezTo>
                    <a:pt x="193" y="134"/>
                    <a:pt x="193" y="134"/>
                    <a:pt x="193" y="134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4" y="110"/>
                    <a:pt x="204" y="110"/>
                    <a:pt x="204" y="110"/>
                  </a:cubicBezTo>
                  <a:cubicBezTo>
                    <a:pt x="207" y="104"/>
                    <a:pt x="207" y="104"/>
                    <a:pt x="207" y="104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13" y="92"/>
                    <a:pt x="213" y="92"/>
                    <a:pt x="213" y="92"/>
                  </a:cubicBezTo>
                  <a:cubicBezTo>
                    <a:pt x="215" y="86"/>
                    <a:pt x="215" y="86"/>
                    <a:pt x="215" y="86"/>
                  </a:cubicBezTo>
                  <a:cubicBezTo>
                    <a:pt x="218" y="80"/>
                    <a:pt x="218" y="80"/>
                    <a:pt x="218" y="80"/>
                  </a:cubicBezTo>
                  <a:cubicBezTo>
                    <a:pt x="221" y="74"/>
                    <a:pt x="221" y="74"/>
                    <a:pt x="221" y="74"/>
                  </a:cubicBezTo>
                  <a:cubicBezTo>
                    <a:pt x="224" y="68"/>
                    <a:pt x="224" y="68"/>
                    <a:pt x="224" y="68"/>
                  </a:cubicBezTo>
                  <a:cubicBezTo>
                    <a:pt x="227" y="63"/>
                    <a:pt x="227" y="63"/>
                    <a:pt x="227" y="63"/>
                  </a:cubicBezTo>
                  <a:cubicBezTo>
                    <a:pt x="230" y="57"/>
                    <a:pt x="230" y="57"/>
                    <a:pt x="230" y="57"/>
                  </a:cubicBezTo>
                  <a:cubicBezTo>
                    <a:pt x="232" y="52"/>
                    <a:pt x="232" y="52"/>
                    <a:pt x="232" y="52"/>
                  </a:cubicBezTo>
                  <a:cubicBezTo>
                    <a:pt x="235" y="47"/>
                    <a:pt x="235" y="47"/>
                    <a:pt x="235" y="47"/>
                  </a:cubicBezTo>
                  <a:cubicBezTo>
                    <a:pt x="238" y="42"/>
                    <a:pt x="238" y="42"/>
                    <a:pt x="238" y="42"/>
                  </a:cubicBezTo>
                  <a:cubicBezTo>
                    <a:pt x="241" y="37"/>
                    <a:pt x="241" y="37"/>
                    <a:pt x="241" y="37"/>
                  </a:cubicBezTo>
                  <a:cubicBezTo>
                    <a:pt x="244" y="32"/>
                    <a:pt x="244" y="32"/>
                    <a:pt x="244" y="32"/>
                  </a:cubicBezTo>
                  <a:cubicBezTo>
                    <a:pt x="247" y="28"/>
                    <a:pt x="247" y="28"/>
                    <a:pt x="247" y="28"/>
                  </a:cubicBezTo>
                  <a:cubicBezTo>
                    <a:pt x="252" y="20"/>
                    <a:pt x="252" y="20"/>
                    <a:pt x="252" y="20"/>
                  </a:cubicBezTo>
                  <a:cubicBezTo>
                    <a:pt x="258" y="14"/>
                    <a:pt x="258" y="14"/>
                    <a:pt x="258" y="14"/>
                  </a:cubicBezTo>
                  <a:cubicBezTo>
                    <a:pt x="264" y="8"/>
                    <a:pt x="264" y="8"/>
                    <a:pt x="264" y="8"/>
                  </a:cubicBezTo>
                  <a:cubicBezTo>
                    <a:pt x="269" y="4"/>
                    <a:pt x="269" y="4"/>
                    <a:pt x="269" y="4"/>
                  </a:cubicBezTo>
                  <a:cubicBezTo>
                    <a:pt x="275" y="2"/>
                    <a:pt x="275" y="2"/>
                    <a:pt x="275" y="2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92" y="1"/>
                    <a:pt x="292" y="1"/>
                    <a:pt x="292" y="1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303" y="7"/>
                    <a:pt x="303" y="7"/>
                    <a:pt x="303" y="7"/>
                  </a:cubicBezTo>
                  <a:cubicBezTo>
                    <a:pt x="309" y="12"/>
                    <a:pt x="309" y="12"/>
                    <a:pt x="309" y="12"/>
                  </a:cubicBezTo>
                  <a:cubicBezTo>
                    <a:pt x="315" y="17"/>
                    <a:pt x="315" y="17"/>
                    <a:pt x="315" y="17"/>
                  </a:cubicBezTo>
                  <a:cubicBezTo>
                    <a:pt x="320" y="22"/>
                    <a:pt x="320" y="22"/>
                    <a:pt x="320" y="22"/>
                  </a:cubicBezTo>
                  <a:cubicBezTo>
                    <a:pt x="326" y="28"/>
                    <a:pt x="326" y="28"/>
                    <a:pt x="326" y="28"/>
                  </a:cubicBezTo>
                  <a:cubicBezTo>
                    <a:pt x="332" y="35"/>
                    <a:pt x="332" y="35"/>
                    <a:pt x="332" y="35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43" y="49"/>
                    <a:pt x="343" y="49"/>
                    <a:pt x="343" y="49"/>
                  </a:cubicBezTo>
                  <a:cubicBezTo>
                    <a:pt x="349" y="56"/>
                    <a:pt x="349" y="56"/>
                    <a:pt x="349" y="56"/>
                  </a:cubicBezTo>
                  <a:cubicBezTo>
                    <a:pt x="354" y="63"/>
                    <a:pt x="354" y="63"/>
                    <a:pt x="354" y="63"/>
                  </a:cubicBezTo>
                  <a:cubicBezTo>
                    <a:pt x="360" y="70"/>
                    <a:pt x="360" y="70"/>
                    <a:pt x="360" y="70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71" y="84"/>
                    <a:pt x="371" y="84"/>
                    <a:pt x="371" y="84"/>
                  </a:cubicBezTo>
                  <a:cubicBezTo>
                    <a:pt x="377" y="91"/>
                    <a:pt x="377" y="91"/>
                    <a:pt x="377" y="91"/>
                  </a:cubicBezTo>
                  <a:cubicBezTo>
                    <a:pt x="383" y="97"/>
                    <a:pt x="383" y="97"/>
                    <a:pt x="383" y="97"/>
                  </a:cubicBezTo>
                  <a:cubicBezTo>
                    <a:pt x="388" y="104"/>
                    <a:pt x="388" y="104"/>
                    <a:pt x="388" y="104"/>
                  </a:cubicBezTo>
                  <a:cubicBezTo>
                    <a:pt x="394" y="110"/>
                    <a:pt x="394" y="110"/>
                    <a:pt x="394" y="110"/>
                  </a:cubicBezTo>
                  <a:cubicBezTo>
                    <a:pt x="400" y="116"/>
                    <a:pt x="400" y="116"/>
                    <a:pt x="400" y="116"/>
                  </a:cubicBezTo>
                  <a:cubicBezTo>
                    <a:pt x="405" y="122"/>
                    <a:pt x="405" y="122"/>
                    <a:pt x="405" y="122"/>
                  </a:cubicBezTo>
                  <a:cubicBezTo>
                    <a:pt x="411" y="128"/>
                    <a:pt x="411" y="128"/>
                    <a:pt x="411" y="128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22" y="139"/>
                    <a:pt x="422" y="139"/>
                    <a:pt x="422" y="139"/>
                  </a:cubicBezTo>
                  <a:cubicBezTo>
                    <a:pt x="428" y="144"/>
                    <a:pt x="428" y="144"/>
                    <a:pt x="428" y="144"/>
                  </a:cubicBezTo>
                  <a:cubicBezTo>
                    <a:pt x="434" y="149"/>
                    <a:pt x="434" y="149"/>
                    <a:pt x="434" y="149"/>
                  </a:cubicBezTo>
                  <a:cubicBezTo>
                    <a:pt x="439" y="154"/>
                    <a:pt x="439" y="154"/>
                    <a:pt x="439" y="154"/>
                  </a:cubicBezTo>
                  <a:cubicBezTo>
                    <a:pt x="445" y="159"/>
                    <a:pt x="445" y="159"/>
                    <a:pt x="445" y="159"/>
                  </a:cubicBezTo>
                  <a:cubicBezTo>
                    <a:pt x="451" y="163"/>
                    <a:pt x="451" y="163"/>
                    <a:pt x="451" y="163"/>
                  </a:cubicBezTo>
                  <a:cubicBezTo>
                    <a:pt x="456" y="168"/>
                    <a:pt x="456" y="168"/>
                    <a:pt x="456" y="168"/>
                  </a:cubicBezTo>
                  <a:cubicBezTo>
                    <a:pt x="462" y="172"/>
                    <a:pt x="462" y="172"/>
                    <a:pt x="462" y="172"/>
                  </a:cubicBezTo>
                  <a:cubicBezTo>
                    <a:pt x="468" y="176"/>
                    <a:pt x="468" y="176"/>
                    <a:pt x="468" y="176"/>
                  </a:cubicBezTo>
                  <a:cubicBezTo>
                    <a:pt x="473" y="180"/>
                    <a:pt x="473" y="180"/>
                    <a:pt x="473" y="180"/>
                  </a:cubicBezTo>
                  <a:cubicBezTo>
                    <a:pt x="479" y="184"/>
                    <a:pt x="479" y="184"/>
                    <a:pt x="479" y="184"/>
                  </a:cubicBezTo>
                  <a:cubicBezTo>
                    <a:pt x="485" y="188"/>
                    <a:pt x="485" y="188"/>
                    <a:pt x="485" y="188"/>
                  </a:cubicBezTo>
                  <a:cubicBezTo>
                    <a:pt x="490" y="191"/>
                    <a:pt x="490" y="191"/>
                    <a:pt x="490" y="191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502" y="198"/>
                    <a:pt x="502" y="198"/>
                    <a:pt x="502" y="198"/>
                  </a:cubicBezTo>
                  <a:cubicBezTo>
                    <a:pt x="507" y="201"/>
                    <a:pt x="507" y="201"/>
                    <a:pt x="507" y="201"/>
                  </a:cubicBezTo>
                  <a:cubicBezTo>
                    <a:pt x="513" y="204"/>
                    <a:pt x="513" y="204"/>
                    <a:pt x="513" y="204"/>
                  </a:cubicBezTo>
                  <a:cubicBezTo>
                    <a:pt x="519" y="208"/>
                    <a:pt x="519" y="208"/>
                    <a:pt x="519" y="208"/>
                  </a:cubicBezTo>
                  <a:cubicBezTo>
                    <a:pt x="524" y="210"/>
                    <a:pt x="524" y="210"/>
                    <a:pt x="524" y="210"/>
                  </a:cubicBezTo>
                  <a:cubicBezTo>
                    <a:pt x="530" y="213"/>
                    <a:pt x="530" y="213"/>
                    <a:pt x="530" y="213"/>
                  </a:cubicBezTo>
                  <a:cubicBezTo>
                    <a:pt x="536" y="216"/>
                    <a:pt x="536" y="216"/>
                    <a:pt x="536" y="216"/>
                  </a:cubicBezTo>
                  <a:cubicBezTo>
                    <a:pt x="541" y="219"/>
                    <a:pt x="541" y="219"/>
                    <a:pt x="541" y="219"/>
                  </a:cubicBezTo>
                  <a:cubicBezTo>
                    <a:pt x="547" y="221"/>
                    <a:pt x="547" y="221"/>
                    <a:pt x="547" y="221"/>
                  </a:cubicBezTo>
                  <a:cubicBezTo>
                    <a:pt x="553" y="224"/>
                    <a:pt x="553" y="224"/>
                    <a:pt x="553" y="224"/>
                  </a:cubicBezTo>
                  <a:cubicBezTo>
                    <a:pt x="558" y="226"/>
                    <a:pt x="558" y="226"/>
                    <a:pt x="558" y="226"/>
                  </a:cubicBezTo>
                  <a:cubicBezTo>
                    <a:pt x="564" y="229"/>
                    <a:pt x="564" y="229"/>
                    <a:pt x="564" y="229"/>
                  </a:cubicBezTo>
                  <a:cubicBezTo>
                    <a:pt x="570" y="231"/>
                    <a:pt x="570" y="231"/>
                    <a:pt x="570" y="231"/>
                  </a:cubicBezTo>
                  <a:cubicBezTo>
                    <a:pt x="576" y="233"/>
                    <a:pt x="576" y="233"/>
                    <a:pt x="576" y="233"/>
                  </a:cubicBezTo>
                  <a:cubicBezTo>
                    <a:pt x="581" y="236"/>
                    <a:pt x="581" y="236"/>
                    <a:pt x="581" y="236"/>
                  </a:cubicBezTo>
                  <a:cubicBezTo>
                    <a:pt x="587" y="238"/>
                    <a:pt x="587" y="238"/>
                    <a:pt x="587" y="238"/>
                  </a:cubicBezTo>
                  <a:cubicBezTo>
                    <a:pt x="593" y="240"/>
                    <a:pt x="593" y="240"/>
                    <a:pt x="593" y="240"/>
                  </a:cubicBezTo>
                  <a:cubicBezTo>
                    <a:pt x="598" y="242"/>
                    <a:pt x="598" y="242"/>
                    <a:pt x="598" y="242"/>
                  </a:cubicBezTo>
                  <a:cubicBezTo>
                    <a:pt x="604" y="244"/>
                    <a:pt x="604" y="244"/>
                    <a:pt x="604" y="244"/>
                  </a:cubicBezTo>
                  <a:cubicBezTo>
                    <a:pt x="610" y="246"/>
                    <a:pt x="610" y="246"/>
                    <a:pt x="610" y="246"/>
                  </a:cubicBezTo>
                  <a:cubicBezTo>
                    <a:pt x="615" y="248"/>
                    <a:pt x="615" y="248"/>
                    <a:pt x="615" y="248"/>
                  </a:cubicBezTo>
                  <a:cubicBezTo>
                    <a:pt x="621" y="250"/>
                    <a:pt x="621" y="250"/>
                    <a:pt x="621" y="250"/>
                  </a:cubicBezTo>
                  <a:cubicBezTo>
                    <a:pt x="627" y="251"/>
                    <a:pt x="627" y="251"/>
                    <a:pt x="627" y="251"/>
                  </a:cubicBezTo>
                  <a:cubicBezTo>
                    <a:pt x="632" y="253"/>
                    <a:pt x="632" y="253"/>
                    <a:pt x="632" y="253"/>
                  </a:cubicBezTo>
                  <a:cubicBezTo>
                    <a:pt x="638" y="255"/>
                    <a:pt x="638" y="255"/>
                    <a:pt x="638" y="255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9" y="258"/>
                    <a:pt x="649" y="258"/>
                    <a:pt x="649" y="258"/>
                  </a:cubicBezTo>
                  <a:cubicBezTo>
                    <a:pt x="655" y="260"/>
                    <a:pt x="655" y="260"/>
                    <a:pt x="655" y="260"/>
                  </a:cubicBezTo>
                  <a:cubicBezTo>
                    <a:pt x="661" y="261"/>
                    <a:pt x="661" y="261"/>
                    <a:pt x="661" y="261"/>
                  </a:cubicBezTo>
                  <a:cubicBezTo>
                    <a:pt x="666" y="263"/>
                    <a:pt x="666" y="263"/>
                    <a:pt x="666" y="263"/>
                  </a:cubicBezTo>
                  <a:cubicBezTo>
                    <a:pt x="672" y="264"/>
                    <a:pt x="672" y="264"/>
                    <a:pt x="672" y="264"/>
                  </a:cubicBezTo>
                  <a:cubicBezTo>
                    <a:pt x="678" y="266"/>
                    <a:pt x="678" y="266"/>
                    <a:pt x="678" y="266"/>
                  </a:cubicBezTo>
                  <a:cubicBezTo>
                    <a:pt x="683" y="267"/>
                    <a:pt x="683" y="267"/>
                    <a:pt x="683" y="267"/>
                  </a:cubicBezTo>
                  <a:cubicBezTo>
                    <a:pt x="689" y="268"/>
                    <a:pt x="689" y="268"/>
                    <a:pt x="689" y="268"/>
                  </a:cubicBezTo>
                  <a:cubicBezTo>
                    <a:pt x="695" y="270"/>
                    <a:pt x="695" y="270"/>
                    <a:pt x="695" y="270"/>
                  </a:cubicBezTo>
                  <a:cubicBezTo>
                    <a:pt x="700" y="271"/>
                    <a:pt x="700" y="271"/>
                    <a:pt x="700" y="271"/>
                  </a:cubicBezTo>
                  <a:cubicBezTo>
                    <a:pt x="706" y="272"/>
                    <a:pt x="706" y="272"/>
                    <a:pt x="706" y="272"/>
                  </a:cubicBezTo>
                  <a:cubicBezTo>
                    <a:pt x="712" y="274"/>
                    <a:pt x="712" y="274"/>
                    <a:pt x="712" y="274"/>
                  </a:cubicBezTo>
                  <a:cubicBezTo>
                    <a:pt x="717" y="275"/>
                    <a:pt x="717" y="275"/>
                    <a:pt x="717" y="275"/>
                  </a:cubicBezTo>
                  <a:cubicBezTo>
                    <a:pt x="723" y="276"/>
                    <a:pt x="723" y="276"/>
                    <a:pt x="723" y="276"/>
                  </a:cubicBezTo>
                  <a:cubicBezTo>
                    <a:pt x="729" y="277"/>
                    <a:pt x="729" y="277"/>
                    <a:pt x="729" y="277"/>
                  </a:cubicBezTo>
                  <a:cubicBezTo>
                    <a:pt x="734" y="279"/>
                    <a:pt x="734" y="279"/>
                    <a:pt x="734" y="279"/>
                  </a:cubicBezTo>
                  <a:cubicBezTo>
                    <a:pt x="740" y="280"/>
                    <a:pt x="740" y="280"/>
                    <a:pt x="740" y="280"/>
                  </a:cubicBezTo>
                  <a:cubicBezTo>
                    <a:pt x="746" y="281"/>
                    <a:pt x="746" y="281"/>
                    <a:pt x="746" y="281"/>
                  </a:cubicBezTo>
                  <a:cubicBezTo>
                    <a:pt x="751" y="282"/>
                    <a:pt x="751" y="282"/>
                    <a:pt x="751" y="282"/>
                  </a:cubicBezTo>
                  <a:cubicBezTo>
                    <a:pt x="757" y="283"/>
                    <a:pt x="757" y="283"/>
                    <a:pt x="757" y="283"/>
                  </a:cubicBezTo>
                  <a:cubicBezTo>
                    <a:pt x="763" y="284"/>
                    <a:pt x="763" y="284"/>
                    <a:pt x="763" y="284"/>
                  </a:cubicBezTo>
                  <a:cubicBezTo>
                    <a:pt x="768" y="285"/>
                    <a:pt x="768" y="285"/>
                    <a:pt x="768" y="285"/>
                  </a:cubicBezTo>
                  <a:cubicBezTo>
                    <a:pt x="774" y="286"/>
                    <a:pt x="774" y="286"/>
                    <a:pt x="774" y="286"/>
                  </a:cubicBezTo>
                  <a:cubicBezTo>
                    <a:pt x="780" y="287"/>
                    <a:pt x="780" y="287"/>
                    <a:pt x="780" y="287"/>
                  </a:cubicBezTo>
                  <a:cubicBezTo>
                    <a:pt x="785" y="288"/>
                    <a:pt x="785" y="288"/>
                    <a:pt x="785" y="288"/>
                  </a:cubicBezTo>
                  <a:cubicBezTo>
                    <a:pt x="791" y="289"/>
                    <a:pt x="791" y="289"/>
                    <a:pt x="791" y="289"/>
                  </a:cubicBezTo>
                  <a:cubicBezTo>
                    <a:pt x="797" y="290"/>
                    <a:pt x="797" y="290"/>
                    <a:pt x="797" y="290"/>
                  </a:cubicBezTo>
                  <a:cubicBezTo>
                    <a:pt x="802" y="291"/>
                    <a:pt x="802" y="291"/>
                    <a:pt x="802" y="291"/>
                  </a:cubicBezTo>
                  <a:cubicBezTo>
                    <a:pt x="808" y="292"/>
                    <a:pt x="808" y="292"/>
                    <a:pt x="808" y="292"/>
                  </a:cubicBezTo>
                  <a:cubicBezTo>
                    <a:pt x="814" y="293"/>
                    <a:pt x="814" y="293"/>
                    <a:pt x="814" y="293"/>
                  </a:cubicBezTo>
                  <a:cubicBezTo>
                    <a:pt x="819" y="294"/>
                    <a:pt x="819" y="294"/>
                    <a:pt x="819" y="294"/>
                  </a:cubicBezTo>
                  <a:cubicBezTo>
                    <a:pt x="825" y="295"/>
                    <a:pt x="825" y="295"/>
                    <a:pt x="825" y="295"/>
                  </a:cubicBezTo>
                  <a:cubicBezTo>
                    <a:pt x="831" y="295"/>
                    <a:pt x="831" y="295"/>
                    <a:pt x="831" y="295"/>
                  </a:cubicBezTo>
                  <a:cubicBezTo>
                    <a:pt x="836" y="296"/>
                    <a:pt x="836" y="296"/>
                    <a:pt x="836" y="296"/>
                  </a:cubicBezTo>
                  <a:cubicBezTo>
                    <a:pt x="842" y="297"/>
                    <a:pt x="842" y="297"/>
                    <a:pt x="842" y="297"/>
                  </a:cubicBezTo>
                  <a:cubicBezTo>
                    <a:pt x="848" y="298"/>
                    <a:pt x="848" y="298"/>
                    <a:pt x="848" y="298"/>
                  </a:cubicBezTo>
                  <a:cubicBezTo>
                    <a:pt x="853" y="299"/>
                    <a:pt x="853" y="299"/>
                    <a:pt x="853" y="299"/>
                  </a:cubicBezTo>
                  <a:cubicBezTo>
                    <a:pt x="859" y="299"/>
                    <a:pt x="859" y="299"/>
                    <a:pt x="859" y="299"/>
                  </a:cubicBezTo>
                  <a:cubicBezTo>
                    <a:pt x="865" y="300"/>
                    <a:pt x="865" y="300"/>
                    <a:pt x="865" y="300"/>
                  </a:cubicBezTo>
                  <a:cubicBezTo>
                    <a:pt x="870" y="301"/>
                    <a:pt x="870" y="301"/>
                    <a:pt x="870" y="301"/>
                  </a:cubicBezTo>
                  <a:cubicBezTo>
                    <a:pt x="876" y="302"/>
                    <a:pt x="876" y="302"/>
                    <a:pt x="876" y="302"/>
                  </a:cubicBezTo>
                  <a:cubicBezTo>
                    <a:pt x="882" y="302"/>
                    <a:pt x="882" y="302"/>
                    <a:pt x="882" y="302"/>
                  </a:cubicBezTo>
                  <a:cubicBezTo>
                    <a:pt x="887" y="303"/>
                    <a:pt x="887" y="303"/>
                    <a:pt x="887" y="303"/>
                  </a:cubicBezTo>
                  <a:cubicBezTo>
                    <a:pt x="893" y="304"/>
                    <a:pt x="893" y="304"/>
                    <a:pt x="893" y="304"/>
                  </a:cubicBezTo>
                  <a:cubicBezTo>
                    <a:pt x="899" y="305"/>
                    <a:pt x="899" y="305"/>
                    <a:pt x="899" y="305"/>
                  </a:cubicBezTo>
                  <a:cubicBezTo>
                    <a:pt x="904" y="305"/>
                    <a:pt x="904" y="305"/>
                    <a:pt x="904" y="305"/>
                  </a:cubicBezTo>
                  <a:cubicBezTo>
                    <a:pt x="910" y="306"/>
                    <a:pt x="910" y="306"/>
                    <a:pt x="910" y="306"/>
                  </a:cubicBezTo>
                  <a:cubicBezTo>
                    <a:pt x="916" y="307"/>
                    <a:pt x="916" y="307"/>
                    <a:pt x="916" y="307"/>
                  </a:cubicBezTo>
                  <a:cubicBezTo>
                    <a:pt x="921" y="307"/>
                    <a:pt x="921" y="307"/>
                    <a:pt x="921" y="307"/>
                  </a:cubicBezTo>
                  <a:cubicBezTo>
                    <a:pt x="927" y="308"/>
                    <a:pt x="927" y="308"/>
                    <a:pt x="927" y="308"/>
                  </a:cubicBezTo>
                  <a:cubicBezTo>
                    <a:pt x="933" y="309"/>
                    <a:pt x="933" y="309"/>
                    <a:pt x="933" y="309"/>
                  </a:cubicBezTo>
                  <a:cubicBezTo>
                    <a:pt x="938" y="309"/>
                    <a:pt x="938" y="309"/>
                    <a:pt x="938" y="309"/>
                  </a:cubicBezTo>
                  <a:cubicBezTo>
                    <a:pt x="944" y="310"/>
                    <a:pt x="944" y="310"/>
                    <a:pt x="944" y="310"/>
                  </a:cubicBezTo>
                  <a:cubicBezTo>
                    <a:pt x="950" y="310"/>
                    <a:pt x="950" y="310"/>
                    <a:pt x="950" y="310"/>
                  </a:cubicBezTo>
                  <a:cubicBezTo>
                    <a:pt x="955" y="311"/>
                    <a:pt x="955" y="311"/>
                    <a:pt x="955" y="311"/>
                  </a:cubicBezTo>
                  <a:cubicBezTo>
                    <a:pt x="961" y="312"/>
                    <a:pt x="961" y="312"/>
                    <a:pt x="961" y="312"/>
                  </a:cubicBezTo>
                  <a:cubicBezTo>
                    <a:pt x="967" y="312"/>
                    <a:pt x="967" y="312"/>
                    <a:pt x="967" y="312"/>
                  </a:cubicBezTo>
                  <a:cubicBezTo>
                    <a:pt x="972" y="313"/>
                    <a:pt x="972" y="313"/>
                    <a:pt x="972" y="313"/>
                  </a:cubicBezTo>
                  <a:cubicBezTo>
                    <a:pt x="978" y="313"/>
                    <a:pt x="978" y="313"/>
                    <a:pt x="978" y="313"/>
                  </a:cubicBezTo>
                  <a:cubicBezTo>
                    <a:pt x="984" y="314"/>
                    <a:pt x="984" y="314"/>
                    <a:pt x="984" y="314"/>
                  </a:cubicBezTo>
                  <a:cubicBezTo>
                    <a:pt x="989" y="315"/>
                    <a:pt x="989" y="315"/>
                    <a:pt x="989" y="315"/>
                  </a:cubicBezTo>
                  <a:cubicBezTo>
                    <a:pt x="995" y="315"/>
                    <a:pt x="995" y="315"/>
                    <a:pt x="995" y="315"/>
                  </a:cubicBezTo>
                  <a:cubicBezTo>
                    <a:pt x="1001" y="316"/>
                    <a:pt x="1001" y="316"/>
                    <a:pt x="1001" y="316"/>
                  </a:cubicBezTo>
                  <a:cubicBezTo>
                    <a:pt x="1006" y="316"/>
                    <a:pt x="1006" y="316"/>
                    <a:pt x="1006" y="316"/>
                  </a:cubicBezTo>
                  <a:cubicBezTo>
                    <a:pt x="1012" y="317"/>
                    <a:pt x="1012" y="317"/>
                    <a:pt x="1012" y="317"/>
                  </a:cubicBezTo>
                  <a:cubicBezTo>
                    <a:pt x="1018" y="317"/>
                    <a:pt x="1018" y="317"/>
                    <a:pt x="1018" y="317"/>
                  </a:cubicBezTo>
                  <a:cubicBezTo>
                    <a:pt x="1023" y="318"/>
                    <a:pt x="1023" y="318"/>
                    <a:pt x="1023" y="318"/>
                  </a:cubicBezTo>
                  <a:cubicBezTo>
                    <a:pt x="1029" y="318"/>
                    <a:pt x="1029" y="318"/>
                    <a:pt x="1029" y="318"/>
                  </a:cubicBezTo>
                  <a:cubicBezTo>
                    <a:pt x="1035" y="319"/>
                    <a:pt x="1035" y="319"/>
                    <a:pt x="1035" y="319"/>
                  </a:cubicBezTo>
                  <a:cubicBezTo>
                    <a:pt x="1040" y="319"/>
                    <a:pt x="1040" y="319"/>
                    <a:pt x="1040" y="319"/>
                  </a:cubicBezTo>
                  <a:cubicBezTo>
                    <a:pt x="1046" y="320"/>
                    <a:pt x="1046" y="320"/>
                    <a:pt x="1046" y="320"/>
                  </a:cubicBezTo>
                  <a:cubicBezTo>
                    <a:pt x="1052" y="320"/>
                    <a:pt x="1052" y="320"/>
                    <a:pt x="1052" y="320"/>
                  </a:cubicBezTo>
                  <a:cubicBezTo>
                    <a:pt x="1057" y="321"/>
                    <a:pt x="1057" y="321"/>
                    <a:pt x="1057" y="321"/>
                  </a:cubicBezTo>
                  <a:cubicBezTo>
                    <a:pt x="1063" y="321"/>
                    <a:pt x="1063" y="321"/>
                    <a:pt x="1063" y="321"/>
                  </a:cubicBezTo>
                  <a:cubicBezTo>
                    <a:pt x="1069" y="322"/>
                    <a:pt x="1069" y="322"/>
                    <a:pt x="1069" y="322"/>
                  </a:cubicBezTo>
                  <a:cubicBezTo>
                    <a:pt x="1074" y="322"/>
                    <a:pt x="1074" y="322"/>
                    <a:pt x="1074" y="322"/>
                  </a:cubicBezTo>
                  <a:cubicBezTo>
                    <a:pt x="1080" y="323"/>
                    <a:pt x="1080" y="323"/>
                    <a:pt x="1080" y="323"/>
                  </a:cubicBezTo>
                  <a:cubicBezTo>
                    <a:pt x="1086" y="323"/>
                    <a:pt x="1086" y="323"/>
                    <a:pt x="1086" y="323"/>
                  </a:cubicBezTo>
                  <a:cubicBezTo>
                    <a:pt x="1091" y="324"/>
                    <a:pt x="1091" y="324"/>
                    <a:pt x="1091" y="324"/>
                  </a:cubicBezTo>
                  <a:cubicBezTo>
                    <a:pt x="1097" y="324"/>
                    <a:pt x="1097" y="324"/>
                    <a:pt x="1097" y="324"/>
                  </a:cubicBezTo>
                  <a:cubicBezTo>
                    <a:pt x="1103" y="324"/>
                    <a:pt x="1103" y="324"/>
                    <a:pt x="1103" y="324"/>
                  </a:cubicBezTo>
                  <a:cubicBezTo>
                    <a:pt x="1108" y="325"/>
                    <a:pt x="1108" y="325"/>
                    <a:pt x="1108" y="325"/>
                  </a:cubicBezTo>
                  <a:cubicBezTo>
                    <a:pt x="1114" y="325"/>
                    <a:pt x="1114" y="325"/>
                    <a:pt x="1114" y="325"/>
                  </a:cubicBezTo>
                  <a:cubicBezTo>
                    <a:pt x="1120" y="326"/>
                    <a:pt x="1120" y="326"/>
                    <a:pt x="1120" y="326"/>
                  </a:cubicBezTo>
                  <a:cubicBezTo>
                    <a:pt x="1125" y="326"/>
                    <a:pt x="1125" y="326"/>
                    <a:pt x="1125" y="326"/>
                  </a:cubicBezTo>
                  <a:cubicBezTo>
                    <a:pt x="1131" y="327"/>
                    <a:pt x="1131" y="327"/>
                    <a:pt x="1131" y="327"/>
                  </a:cubicBezTo>
                  <a:cubicBezTo>
                    <a:pt x="1137" y="327"/>
                    <a:pt x="1137" y="327"/>
                    <a:pt x="1137" y="327"/>
                  </a:cubicBezTo>
                  <a:cubicBezTo>
                    <a:pt x="1143" y="327"/>
                    <a:pt x="1143" y="327"/>
                    <a:pt x="1143" y="327"/>
                  </a:cubicBezTo>
                  <a:cubicBezTo>
                    <a:pt x="1148" y="328"/>
                    <a:pt x="1148" y="328"/>
                    <a:pt x="1148" y="328"/>
                  </a:cubicBezTo>
                  <a:cubicBezTo>
                    <a:pt x="1154" y="328"/>
                    <a:pt x="1154" y="328"/>
                    <a:pt x="1154" y="328"/>
                  </a:cubicBezTo>
                  <a:cubicBezTo>
                    <a:pt x="1160" y="328"/>
                    <a:pt x="1160" y="328"/>
                    <a:pt x="1160" y="328"/>
                  </a:cubicBezTo>
                  <a:cubicBezTo>
                    <a:pt x="1165" y="329"/>
                    <a:pt x="1165" y="329"/>
                    <a:pt x="1165" y="329"/>
                  </a:cubicBezTo>
                  <a:cubicBezTo>
                    <a:pt x="1171" y="329"/>
                    <a:pt x="1171" y="329"/>
                    <a:pt x="1171" y="329"/>
                  </a:cubicBezTo>
                  <a:cubicBezTo>
                    <a:pt x="1177" y="330"/>
                    <a:pt x="1177" y="330"/>
                    <a:pt x="1177" y="330"/>
                  </a:cubicBezTo>
                  <a:cubicBezTo>
                    <a:pt x="1182" y="330"/>
                    <a:pt x="1182" y="330"/>
                    <a:pt x="1182" y="330"/>
                  </a:cubicBezTo>
                  <a:cubicBezTo>
                    <a:pt x="1188" y="330"/>
                    <a:pt x="1188" y="330"/>
                    <a:pt x="1188" y="330"/>
                  </a:cubicBezTo>
                  <a:cubicBezTo>
                    <a:pt x="1194" y="331"/>
                    <a:pt x="1194" y="331"/>
                    <a:pt x="1194" y="331"/>
                  </a:cubicBezTo>
                  <a:cubicBezTo>
                    <a:pt x="1199" y="331"/>
                    <a:pt x="1199" y="331"/>
                    <a:pt x="1199" y="331"/>
                  </a:cubicBezTo>
                  <a:cubicBezTo>
                    <a:pt x="1205" y="331"/>
                    <a:pt x="1205" y="331"/>
                    <a:pt x="1205" y="331"/>
                  </a:cubicBezTo>
                  <a:cubicBezTo>
                    <a:pt x="1211" y="332"/>
                    <a:pt x="1211" y="332"/>
                    <a:pt x="1211" y="332"/>
                  </a:cubicBezTo>
                  <a:cubicBezTo>
                    <a:pt x="1216" y="332"/>
                    <a:pt x="1216" y="332"/>
                    <a:pt x="1216" y="332"/>
                  </a:cubicBezTo>
                  <a:cubicBezTo>
                    <a:pt x="1222" y="333"/>
                    <a:pt x="1222" y="333"/>
                    <a:pt x="1222" y="333"/>
                  </a:cubicBezTo>
                  <a:cubicBezTo>
                    <a:pt x="1228" y="333"/>
                    <a:pt x="1228" y="333"/>
                    <a:pt x="1228" y="333"/>
                  </a:cubicBezTo>
                  <a:cubicBezTo>
                    <a:pt x="1233" y="333"/>
                    <a:pt x="1233" y="333"/>
                    <a:pt x="1233" y="333"/>
                  </a:cubicBezTo>
                  <a:cubicBezTo>
                    <a:pt x="1239" y="334"/>
                    <a:pt x="1239" y="334"/>
                    <a:pt x="1239" y="334"/>
                  </a:cubicBezTo>
                  <a:cubicBezTo>
                    <a:pt x="1245" y="334"/>
                    <a:pt x="1245" y="334"/>
                    <a:pt x="1245" y="334"/>
                  </a:cubicBezTo>
                  <a:cubicBezTo>
                    <a:pt x="1250" y="334"/>
                    <a:pt x="1250" y="334"/>
                    <a:pt x="1250" y="334"/>
                  </a:cubicBezTo>
                  <a:cubicBezTo>
                    <a:pt x="1256" y="335"/>
                    <a:pt x="1256" y="335"/>
                    <a:pt x="1256" y="335"/>
                  </a:cubicBezTo>
                  <a:cubicBezTo>
                    <a:pt x="1262" y="335"/>
                    <a:pt x="1262" y="335"/>
                    <a:pt x="1262" y="335"/>
                  </a:cubicBezTo>
                  <a:cubicBezTo>
                    <a:pt x="1267" y="335"/>
                    <a:pt x="1267" y="335"/>
                    <a:pt x="1267" y="335"/>
                  </a:cubicBezTo>
                  <a:cubicBezTo>
                    <a:pt x="1273" y="335"/>
                    <a:pt x="1273" y="335"/>
                    <a:pt x="1273" y="335"/>
                  </a:cubicBezTo>
                  <a:cubicBezTo>
                    <a:pt x="1279" y="336"/>
                    <a:pt x="1279" y="336"/>
                    <a:pt x="1279" y="336"/>
                  </a:cubicBezTo>
                  <a:cubicBezTo>
                    <a:pt x="1284" y="336"/>
                    <a:pt x="1284" y="336"/>
                    <a:pt x="1284" y="336"/>
                  </a:cubicBezTo>
                  <a:cubicBezTo>
                    <a:pt x="1290" y="336"/>
                    <a:pt x="1290" y="336"/>
                    <a:pt x="1290" y="336"/>
                  </a:cubicBezTo>
                  <a:cubicBezTo>
                    <a:pt x="1296" y="337"/>
                    <a:pt x="1296" y="337"/>
                    <a:pt x="1296" y="337"/>
                  </a:cubicBezTo>
                  <a:cubicBezTo>
                    <a:pt x="1301" y="337"/>
                    <a:pt x="1301" y="337"/>
                    <a:pt x="1301" y="337"/>
                  </a:cubicBezTo>
                  <a:cubicBezTo>
                    <a:pt x="1307" y="337"/>
                    <a:pt x="1307" y="337"/>
                    <a:pt x="1307" y="337"/>
                  </a:cubicBezTo>
                  <a:cubicBezTo>
                    <a:pt x="1313" y="338"/>
                    <a:pt x="1313" y="338"/>
                    <a:pt x="1313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4" y="338"/>
                    <a:pt x="1324" y="338"/>
                    <a:pt x="1324" y="338"/>
                  </a:cubicBezTo>
                  <a:cubicBezTo>
                    <a:pt x="1330" y="338"/>
                    <a:pt x="1330" y="338"/>
                    <a:pt x="1330" y="338"/>
                  </a:cubicBezTo>
                  <a:cubicBezTo>
                    <a:pt x="1335" y="339"/>
                    <a:pt x="1335" y="339"/>
                    <a:pt x="1335" y="339"/>
                  </a:cubicBezTo>
                  <a:cubicBezTo>
                    <a:pt x="1341" y="339"/>
                    <a:pt x="1341" y="339"/>
                    <a:pt x="1341" y="339"/>
                  </a:cubicBezTo>
                  <a:cubicBezTo>
                    <a:pt x="1347" y="339"/>
                    <a:pt x="1347" y="339"/>
                    <a:pt x="1347" y="339"/>
                  </a:cubicBezTo>
                  <a:cubicBezTo>
                    <a:pt x="1352" y="340"/>
                    <a:pt x="1352" y="340"/>
                    <a:pt x="1352" y="340"/>
                  </a:cubicBezTo>
                  <a:cubicBezTo>
                    <a:pt x="1358" y="340"/>
                    <a:pt x="1358" y="340"/>
                    <a:pt x="1358" y="340"/>
                  </a:cubicBezTo>
                  <a:cubicBezTo>
                    <a:pt x="1364" y="340"/>
                    <a:pt x="1364" y="340"/>
                    <a:pt x="1364" y="340"/>
                  </a:cubicBezTo>
                  <a:cubicBezTo>
                    <a:pt x="1369" y="340"/>
                    <a:pt x="1369" y="340"/>
                    <a:pt x="1369" y="340"/>
                  </a:cubicBezTo>
                  <a:cubicBezTo>
                    <a:pt x="1375" y="341"/>
                    <a:pt x="1375" y="341"/>
                    <a:pt x="1375" y="341"/>
                  </a:cubicBezTo>
                  <a:cubicBezTo>
                    <a:pt x="1381" y="341"/>
                    <a:pt x="1381" y="341"/>
                    <a:pt x="1381" y="341"/>
                  </a:cubicBezTo>
                  <a:cubicBezTo>
                    <a:pt x="1386" y="341"/>
                    <a:pt x="1386" y="341"/>
                    <a:pt x="1386" y="341"/>
                  </a:cubicBezTo>
                  <a:cubicBezTo>
                    <a:pt x="1392" y="341"/>
                    <a:pt x="1392" y="341"/>
                    <a:pt x="1392" y="341"/>
                  </a:cubicBezTo>
                  <a:cubicBezTo>
                    <a:pt x="1398" y="342"/>
                    <a:pt x="1398" y="342"/>
                    <a:pt x="1398" y="342"/>
                  </a:cubicBezTo>
                  <a:cubicBezTo>
                    <a:pt x="1403" y="342"/>
                    <a:pt x="1403" y="342"/>
                    <a:pt x="1403" y="342"/>
                  </a:cubicBezTo>
                  <a:cubicBezTo>
                    <a:pt x="1409" y="342"/>
                    <a:pt x="1409" y="342"/>
                    <a:pt x="1409" y="342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68360" y="2954160"/>
              <a:ext cx="2685960" cy="590760"/>
            </a:xfrm>
            <a:custGeom>
              <a:avLst/>
              <a:gdLst/>
              <a:ahLst/>
              <a:rect l="l" t="t" r="r" b="b"/>
              <a:pathLst>
                <a:path w="1409" h="401">
                  <a:moveTo>
                    <a:pt x="0" y="401"/>
                  </a:moveTo>
                  <a:cubicBezTo>
                    <a:pt x="6" y="395"/>
                    <a:pt x="6" y="395"/>
                    <a:pt x="6" y="395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7" y="384"/>
                    <a:pt x="17" y="384"/>
                    <a:pt x="17" y="384"/>
                  </a:cubicBezTo>
                  <a:cubicBezTo>
                    <a:pt x="23" y="378"/>
                    <a:pt x="23" y="378"/>
                    <a:pt x="23" y="378"/>
                  </a:cubicBezTo>
                  <a:cubicBezTo>
                    <a:pt x="28" y="372"/>
                    <a:pt x="28" y="372"/>
                    <a:pt x="28" y="372"/>
                  </a:cubicBezTo>
                  <a:cubicBezTo>
                    <a:pt x="34" y="367"/>
                    <a:pt x="34" y="367"/>
                    <a:pt x="34" y="367"/>
                  </a:cubicBezTo>
                  <a:cubicBezTo>
                    <a:pt x="40" y="361"/>
                    <a:pt x="40" y="361"/>
                    <a:pt x="40" y="361"/>
                  </a:cubicBezTo>
                  <a:cubicBezTo>
                    <a:pt x="45" y="355"/>
                    <a:pt x="45" y="355"/>
                    <a:pt x="45" y="355"/>
                  </a:cubicBezTo>
                  <a:cubicBezTo>
                    <a:pt x="51" y="349"/>
                    <a:pt x="51" y="349"/>
                    <a:pt x="51" y="349"/>
                  </a:cubicBezTo>
                  <a:cubicBezTo>
                    <a:pt x="57" y="343"/>
                    <a:pt x="57" y="343"/>
                    <a:pt x="57" y="343"/>
                  </a:cubicBezTo>
                  <a:cubicBezTo>
                    <a:pt x="62" y="336"/>
                    <a:pt x="62" y="336"/>
                    <a:pt x="62" y="336"/>
                  </a:cubicBezTo>
                  <a:cubicBezTo>
                    <a:pt x="68" y="330"/>
                    <a:pt x="68" y="330"/>
                    <a:pt x="68" y="330"/>
                  </a:cubicBezTo>
                  <a:cubicBezTo>
                    <a:pt x="74" y="323"/>
                    <a:pt x="74" y="323"/>
                    <a:pt x="74" y="323"/>
                  </a:cubicBezTo>
                  <a:cubicBezTo>
                    <a:pt x="79" y="317"/>
                    <a:pt x="79" y="317"/>
                    <a:pt x="79" y="317"/>
                  </a:cubicBezTo>
                  <a:cubicBezTo>
                    <a:pt x="85" y="310"/>
                    <a:pt x="85" y="310"/>
                    <a:pt x="85" y="310"/>
                  </a:cubicBezTo>
                  <a:cubicBezTo>
                    <a:pt x="91" y="303"/>
                    <a:pt x="91" y="303"/>
                    <a:pt x="91" y="303"/>
                  </a:cubicBezTo>
                  <a:cubicBezTo>
                    <a:pt x="96" y="296"/>
                    <a:pt x="96" y="296"/>
                    <a:pt x="96" y="296"/>
                  </a:cubicBezTo>
                  <a:cubicBezTo>
                    <a:pt x="102" y="288"/>
                    <a:pt x="102" y="288"/>
                    <a:pt x="102" y="288"/>
                  </a:cubicBezTo>
                  <a:cubicBezTo>
                    <a:pt x="108" y="281"/>
                    <a:pt x="108" y="281"/>
                    <a:pt x="108" y="281"/>
                  </a:cubicBezTo>
                  <a:cubicBezTo>
                    <a:pt x="113" y="273"/>
                    <a:pt x="113" y="273"/>
                    <a:pt x="113" y="273"/>
                  </a:cubicBezTo>
                  <a:cubicBezTo>
                    <a:pt x="119" y="265"/>
                    <a:pt x="119" y="265"/>
                    <a:pt x="119" y="265"/>
                  </a:cubicBezTo>
                  <a:cubicBezTo>
                    <a:pt x="122" y="261"/>
                    <a:pt x="122" y="261"/>
                    <a:pt x="122" y="261"/>
                  </a:cubicBezTo>
                  <a:cubicBezTo>
                    <a:pt x="128" y="252"/>
                    <a:pt x="128" y="252"/>
                    <a:pt x="128" y="252"/>
                  </a:cubicBezTo>
                  <a:cubicBezTo>
                    <a:pt x="130" y="248"/>
                    <a:pt x="130" y="248"/>
                    <a:pt x="130" y="248"/>
                  </a:cubicBezTo>
                  <a:cubicBezTo>
                    <a:pt x="133" y="244"/>
                    <a:pt x="133" y="244"/>
                    <a:pt x="133" y="244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42" y="230"/>
                    <a:pt x="142" y="230"/>
                    <a:pt x="142" y="230"/>
                  </a:cubicBezTo>
                  <a:cubicBezTo>
                    <a:pt x="145" y="225"/>
                    <a:pt x="145" y="225"/>
                    <a:pt x="145" y="225"/>
                  </a:cubicBezTo>
                  <a:cubicBezTo>
                    <a:pt x="147" y="221"/>
                    <a:pt x="147" y="221"/>
                    <a:pt x="147" y="221"/>
                  </a:cubicBezTo>
                  <a:cubicBezTo>
                    <a:pt x="150" y="216"/>
                    <a:pt x="150" y="216"/>
                    <a:pt x="150" y="216"/>
                  </a:cubicBezTo>
                  <a:cubicBezTo>
                    <a:pt x="156" y="206"/>
                    <a:pt x="156" y="206"/>
                    <a:pt x="156" y="206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4" y="190"/>
                    <a:pt x="164" y="190"/>
                    <a:pt x="164" y="190"/>
                  </a:cubicBezTo>
                  <a:cubicBezTo>
                    <a:pt x="167" y="185"/>
                    <a:pt x="167" y="185"/>
                    <a:pt x="167" y="185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173" y="174"/>
                    <a:pt x="173" y="174"/>
                    <a:pt x="173" y="174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9" y="163"/>
                    <a:pt x="179" y="163"/>
                    <a:pt x="179" y="163"/>
                  </a:cubicBezTo>
                  <a:cubicBezTo>
                    <a:pt x="181" y="157"/>
                    <a:pt x="181" y="157"/>
                    <a:pt x="181" y="157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7" y="146"/>
                    <a:pt x="187" y="146"/>
                    <a:pt x="187" y="146"/>
                  </a:cubicBezTo>
                  <a:cubicBezTo>
                    <a:pt x="190" y="140"/>
                    <a:pt x="190" y="140"/>
                    <a:pt x="190" y="140"/>
                  </a:cubicBezTo>
                  <a:cubicBezTo>
                    <a:pt x="193" y="134"/>
                    <a:pt x="193" y="134"/>
                    <a:pt x="193" y="134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4" y="110"/>
                    <a:pt x="204" y="110"/>
                    <a:pt x="204" y="110"/>
                  </a:cubicBezTo>
                  <a:cubicBezTo>
                    <a:pt x="207" y="104"/>
                    <a:pt x="207" y="104"/>
                    <a:pt x="207" y="104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13" y="92"/>
                    <a:pt x="213" y="92"/>
                    <a:pt x="213" y="92"/>
                  </a:cubicBezTo>
                  <a:cubicBezTo>
                    <a:pt x="215" y="86"/>
                    <a:pt x="215" y="86"/>
                    <a:pt x="215" y="86"/>
                  </a:cubicBezTo>
                  <a:cubicBezTo>
                    <a:pt x="218" y="80"/>
                    <a:pt x="218" y="80"/>
                    <a:pt x="218" y="80"/>
                  </a:cubicBezTo>
                  <a:cubicBezTo>
                    <a:pt x="221" y="74"/>
                    <a:pt x="221" y="74"/>
                    <a:pt x="221" y="74"/>
                  </a:cubicBezTo>
                  <a:cubicBezTo>
                    <a:pt x="224" y="68"/>
                    <a:pt x="224" y="68"/>
                    <a:pt x="224" y="68"/>
                  </a:cubicBezTo>
                  <a:cubicBezTo>
                    <a:pt x="227" y="63"/>
                    <a:pt x="227" y="63"/>
                    <a:pt x="227" y="63"/>
                  </a:cubicBezTo>
                  <a:cubicBezTo>
                    <a:pt x="230" y="57"/>
                    <a:pt x="230" y="57"/>
                    <a:pt x="230" y="57"/>
                  </a:cubicBezTo>
                  <a:cubicBezTo>
                    <a:pt x="232" y="52"/>
                    <a:pt x="232" y="52"/>
                    <a:pt x="232" y="52"/>
                  </a:cubicBezTo>
                  <a:cubicBezTo>
                    <a:pt x="235" y="47"/>
                    <a:pt x="235" y="47"/>
                    <a:pt x="235" y="47"/>
                  </a:cubicBezTo>
                  <a:cubicBezTo>
                    <a:pt x="238" y="42"/>
                    <a:pt x="238" y="42"/>
                    <a:pt x="238" y="42"/>
                  </a:cubicBezTo>
                  <a:cubicBezTo>
                    <a:pt x="241" y="37"/>
                    <a:pt x="241" y="37"/>
                    <a:pt x="241" y="37"/>
                  </a:cubicBezTo>
                  <a:cubicBezTo>
                    <a:pt x="244" y="32"/>
                    <a:pt x="244" y="32"/>
                    <a:pt x="244" y="32"/>
                  </a:cubicBezTo>
                  <a:cubicBezTo>
                    <a:pt x="247" y="28"/>
                    <a:pt x="247" y="28"/>
                    <a:pt x="247" y="28"/>
                  </a:cubicBezTo>
                  <a:cubicBezTo>
                    <a:pt x="252" y="20"/>
                    <a:pt x="252" y="20"/>
                    <a:pt x="252" y="20"/>
                  </a:cubicBezTo>
                  <a:cubicBezTo>
                    <a:pt x="258" y="14"/>
                    <a:pt x="258" y="14"/>
                    <a:pt x="258" y="14"/>
                  </a:cubicBezTo>
                  <a:cubicBezTo>
                    <a:pt x="264" y="8"/>
                    <a:pt x="264" y="8"/>
                    <a:pt x="264" y="8"/>
                  </a:cubicBezTo>
                  <a:cubicBezTo>
                    <a:pt x="269" y="4"/>
                    <a:pt x="269" y="4"/>
                    <a:pt x="269" y="4"/>
                  </a:cubicBezTo>
                  <a:cubicBezTo>
                    <a:pt x="275" y="2"/>
                    <a:pt x="275" y="2"/>
                    <a:pt x="275" y="2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92" y="1"/>
                    <a:pt x="292" y="1"/>
                    <a:pt x="292" y="1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303" y="7"/>
                    <a:pt x="303" y="7"/>
                    <a:pt x="303" y="7"/>
                  </a:cubicBezTo>
                  <a:cubicBezTo>
                    <a:pt x="309" y="12"/>
                    <a:pt x="309" y="12"/>
                    <a:pt x="309" y="12"/>
                  </a:cubicBezTo>
                  <a:cubicBezTo>
                    <a:pt x="315" y="17"/>
                    <a:pt x="315" y="17"/>
                    <a:pt x="315" y="17"/>
                  </a:cubicBezTo>
                  <a:cubicBezTo>
                    <a:pt x="320" y="22"/>
                    <a:pt x="320" y="22"/>
                    <a:pt x="320" y="22"/>
                  </a:cubicBezTo>
                  <a:cubicBezTo>
                    <a:pt x="326" y="28"/>
                    <a:pt x="326" y="28"/>
                    <a:pt x="326" y="28"/>
                  </a:cubicBezTo>
                  <a:cubicBezTo>
                    <a:pt x="332" y="35"/>
                    <a:pt x="332" y="35"/>
                    <a:pt x="332" y="35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43" y="49"/>
                    <a:pt x="343" y="49"/>
                    <a:pt x="343" y="49"/>
                  </a:cubicBezTo>
                  <a:cubicBezTo>
                    <a:pt x="349" y="56"/>
                    <a:pt x="349" y="56"/>
                    <a:pt x="349" y="56"/>
                  </a:cubicBezTo>
                  <a:cubicBezTo>
                    <a:pt x="354" y="63"/>
                    <a:pt x="354" y="63"/>
                    <a:pt x="354" y="63"/>
                  </a:cubicBezTo>
                  <a:cubicBezTo>
                    <a:pt x="360" y="70"/>
                    <a:pt x="360" y="70"/>
                    <a:pt x="360" y="70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71" y="84"/>
                    <a:pt x="371" y="84"/>
                    <a:pt x="371" y="84"/>
                  </a:cubicBezTo>
                  <a:cubicBezTo>
                    <a:pt x="377" y="91"/>
                    <a:pt x="377" y="91"/>
                    <a:pt x="377" y="91"/>
                  </a:cubicBezTo>
                  <a:cubicBezTo>
                    <a:pt x="383" y="97"/>
                    <a:pt x="383" y="97"/>
                    <a:pt x="383" y="97"/>
                  </a:cubicBezTo>
                  <a:cubicBezTo>
                    <a:pt x="388" y="104"/>
                    <a:pt x="388" y="104"/>
                    <a:pt x="388" y="104"/>
                  </a:cubicBezTo>
                  <a:cubicBezTo>
                    <a:pt x="394" y="110"/>
                    <a:pt x="394" y="110"/>
                    <a:pt x="394" y="110"/>
                  </a:cubicBezTo>
                  <a:cubicBezTo>
                    <a:pt x="400" y="116"/>
                    <a:pt x="400" y="116"/>
                    <a:pt x="400" y="116"/>
                  </a:cubicBezTo>
                  <a:cubicBezTo>
                    <a:pt x="405" y="122"/>
                    <a:pt x="405" y="122"/>
                    <a:pt x="405" y="122"/>
                  </a:cubicBezTo>
                  <a:cubicBezTo>
                    <a:pt x="411" y="128"/>
                    <a:pt x="411" y="128"/>
                    <a:pt x="411" y="128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22" y="139"/>
                    <a:pt x="422" y="139"/>
                    <a:pt x="422" y="139"/>
                  </a:cubicBezTo>
                  <a:cubicBezTo>
                    <a:pt x="428" y="144"/>
                    <a:pt x="428" y="144"/>
                    <a:pt x="428" y="144"/>
                  </a:cubicBezTo>
                  <a:cubicBezTo>
                    <a:pt x="434" y="149"/>
                    <a:pt x="434" y="149"/>
                    <a:pt x="434" y="149"/>
                  </a:cubicBezTo>
                  <a:cubicBezTo>
                    <a:pt x="439" y="154"/>
                    <a:pt x="439" y="154"/>
                    <a:pt x="439" y="154"/>
                  </a:cubicBezTo>
                  <a:cubicBezTo>
                    <a:pt x="445" y="159"/>
                    <a:pt x="445" y="159"/>
                    <a:pt x="445" y="159"/>
                  </a:cubicBezTo>
                  <a:cubicBezTo>
                    <a:pt x="451" y="163"/>
                    <a:pt x="451" y="163"/>
                    <a:pt x="451" y="163"/>
                  </a:cubicBezTo>
                  <a:cubicBezTo>
                    <a:pt x="456" y="168"/>
                    <a:pt x="456" y="168"/>
                    <a:pt x="456" y="168"/>
                  </a:cubicBezTo>
                  <a:cubicBezTo>
                    <a:pt x="462" y="172"/>
                    <a:pt x="462" y="172"/>
                    <a:pt x="462" y="172"/>
                  </a:cubicBezTo>
                  <a:cubicBezTo>
                    <a:pt x="468" y="176"/>
                    <a:pt x="468" y="176"/>
                    <a:pt x="468" y="176"/>
                  </a:cubicBezTo>
                  <a:cubicBezTo>
                    <a:pt x="473" y="180"/>
                    <a:pt x="473" y="180"/>
                    <a:pt x="473" y="180"/>
                  </a:cubicBezTo>
                  <a:cubicBezTo>
                    <a:pt x="479" y="184"/>
                    <a:pt x="479" y="184"/>
                    <a:pt x="479" y="184"/>
                  </a:cubicBezTo>
                  <a:cubicBezTo>
                    <a:pt x="485" y="188"/>
                    <a:pt x="485" y="188"/>
                    <a:pt x="485" y="188"/>
                  </a:cubicBezTo>
                  <a:cubicBezTo>
                    <a:pt x="490" y="191"/>
                    <a:pt x="490" y="191"/>
                    <a:pt x="490" y="191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502" y="198"/>
                    <a:pt x="502" y="198"/>
                    <a:pt x="502" y="198"/>
                  </a:cubicBezTo>
                  <a:cubicBezTo>
                    <a:pt x="507" y="201"/>
                    <a:pt x="507" y="201"/>
                    <a:pt x="507" y="201"/>
                  </a:cubicBezTo>
                  <a:cubicBezTo>
                    <a:pt x="513" y="204"/>
                    <a:pt x="513" y="204"/>
                    <a:pt x="513" y="204"/>
                  </a:cubicBezTo>
                  <a:cubicBezTo>
                    <a:pt x="519" y="208"/>
                    <a:pt x="519" y="208"/>
                    <a:pt x="519" y="208"/>
                  </a:cubicBezTo>
                  <a:cubicBezTo>
                    <a:pt x="524" y="210"/>
                    <a:pt x="524" y="210"/>
                    <a:pt x="524" y="210"/>
                  </a:cubicBezTo>
                  <a:cubicBezTo>
                    <a:pt x="530" y="213"/>
                    <a:pt x="530" y="213"/>
                    <a:pt x="530" y="213"/>
                  </a:cubicBezTo>
                  <a:cubicBezTo>
                    <a:pt x="536" y="216"/>
                    <a:pt x="536" y="216"/>
                    <a:pt x="536" y="216"/>
                  </a:cubicBezTo>
                  <a:cubicBezTo>
                    <a:pt x="541" y="219"/>
                    <a:pt x="541" y="219"/>
                    <a:pt x="541" y="219"/>
                  </a:cubicBezTo>
                  <a:cubicBezTo>
                    <a:pt x="547" y="221"/>
                    <a:pt x="547" y="221"/>
                    <a:pt x="547" y="221"/>
                  </a:cubicBezTo>
                  <a:cubicBezTo>
                    <a:pt x="553" y="224"/>
                    <a:pt x="553" y="224"/>
                    <a:pt x="553" y="224"/>
                  </a:cubicBezTo>
                  <a:cubicBezTo>
                    <a:pt x="558" y="226"/>
                    <a:pt x="558" y="226"/>
                    <a:pt x="558" y="226"/>
                  </a:cubicBezTo>
                  <a:cubicBezTo>
                    <a:pt x="564" y="229"/>
                    <a:pt x="564" y="229"/>
                    <a:pt x="564" y="229"/>
                  </a:cubicBezTo>
                  <a:cubicBezTo>
                    <a:pt x="570" y="231"/>
                    <a:pt x="570" y="231"/>
                    <a:pt x="570" y="231"/>
                  </a:cubicBezTo>
                  <a:cubicBezTo>
                    <a:pt x="576" y="233"/>
                    <a:pt x="576" y="233"/>
                    <a:pt x="576" y="233"/>
                  </a:cubicBezTo>
                  <a:cubicBezTo>
                    <a:pt x="581" y="236"/>
                    <a:pt x="581" y="236"/>
                    <a:pt x="581" y="236"/>
                  </a:cubicBezTo>
                  <a:cubicBezTo>
                    <a:pt x="587" y="238"/>
                    <a:pt x="587" y="238"/>
                    <a:pt x="587" y="238"/>
                  </a:cubicBezTo>
                  <a:cubicBezTo>
                    <a:pt x="593" y="240"/>
                    <a:pt x="593" y="240"/>
                    <a:pt x="593" y="240"/>
                  </a:cubicBezTo>
                  <a:cubicBezTo>
                    <a:pt x="598" y="242"/>
                    <a:pt x="598" y="242"/>
                    <a:pt x="598" y="242"/>
                  </a:cubicBezTo>
                  <a:cubicBezTo>
                    <a:pt x="604" y="244"/>
                    <a:pt x="604" y="244"/>
                    <a:pt x="604" y="244"/>
                  </a:cubicBezTo>
                  <a:cubicBezTo>
                    <a:pt x="610" y="246"/>
                    <a:pt x="610" y="246"/>
                    <a:pt x="610" y="246"/>
                  </a:cubicBezTo>
                  <a:cubicBezTo>
                    <a:pt x="615" y="248"/>
                    <a:pt x="615" y="248"/>
                    <a:pt x="615" y="248"/>
                  </a:cubicBezTo>
                  <a:cubicBezTo>
                    <a:pt x="621" y="250"/>
                    <a:pt x="621" y="250"/>
                    <a:pt x="621" y="250"/>
                  </a:cubicBezTo>
                  <a:cubicBezTo>
                    <a:pt x="627" y="251"/>
                    <a:pt x="627" y="251"/>
                    <a:pt x="627" y="251"/>
                  </a:cubicBezTo>
                  <a:cubicBezTo>
                    <a:pt x="632" y="253"/>
                    <a:pt x="632" y="253"/>
                    <a:pt x="632" y="253"/>
                  </a:cubicBezTo>
                  <a:cubicBezTo>
                    <a:pt x="638" y="255"/>
                    <a:pt x="638" y="255"/>
                    <a:pt x="638" y="255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9" y="258"/>
                    <a:pt x="649" y="258"/>
                    <a:pt x="649" y="258"/>
                  </a:cubicBezTo>
                  <a:cubicBezTo>
                    <a:pt x="655" y="260"/>
                    <a:pt x="655" y="260"/>
                    <a:pt x="655" y="260"/>
                  </a:cubicBezTo>
                  <a:cubicBezTo>
                    <a:pt x="661" y="261"/>
                    <a:pt x="661" y="261"/>
                    <a:pt x="661" y="261"/>
                  </a:cubicBezTo>
                  <a:cubicBezTo>
                    <a:pt x="666" y="263"/>
                    <a:pt x="666" y="263"/>
                    <a:pt x="666" y="263"/>
                  </a:cubicBezTo>
                  <a:cubicBezTo>
                    <a:pt x="672" y="264"/>
                    <a:pt x="672" y="264"/>
                    <a:pt x="672" y="264"/>
                  </a:cubicBezTo>
                  <a:cubicBezTo>
                    <a:pt x="678" y="266"/>
                    <a:pt x="678" y="266"/>
                    <a:pt x="678" y="266"/>
                  </a:cubicBezTo>
                  <a:cubicBezTo>
                    <a:pt x="683" y="267"/>
                    <a:pt x="683" y="267"/>
                    <a:pt x="683" y="267"/>
                  </a:cubicBezTo>
                  <a:cubicBezTo>
                    <a:pt x="689" y="268"/>
                    <a:pt x="689" y="268"/>
                    <a:pt x="689" y="268"/>
                  </a:cubicBezTo>
                  <a:cubicBezTo>
                    <a:pt x="695" y="270"/>
                    <a:pt x="695" y="270"/>
                    <a:pt x="695" y="270"/>
                  </a:cubicBezTo>
                  <a:cubicBezTo>
                    <a:pt x="700" y="271"/>
                    <a:pt x="700" y="271"/>
                    <a:pt x="700" y="271"/>
                  </a:cubicBezTo>
                  <a:cubicBezTo>
                    <a:pt x="706" y="272"/>
                    <a:pt x="706" y="272"/>
                    <a:pt x="706" y="272"/>
                  </a:cubicBezTo>
                  <a:cubicBezTo>
                    <a:pt x="712" y="274"/>
                    <a:pt x="712" y="274"/>
                    <a:pt x="712" y="274"/>
                  </a:cubicBezTo>
                  <a:cubicBezTo>
                    <a:pt x="717" y="275"/>
                    <a:pt x="717" y="275"/>
                    <a:pt x="717" y="275"/>
                  </a:cubicBezTo>
                  <a:cubicBezTo>
                    <a:pt x="723" y="276"/>
                    <a:pt x="723" y="276"/>
                    <a:pt x="723" y="276"/>
                  </a:cubicBezTo>
                  <a:cubicBezTo>
                    <a:pt x="729" y="277"/>
                    <a:pt x="729" y="277"/>
                    <a:pt x="729" y="277"/>
                  </a:cubicBezTo>
                  <a:cubicBezTo>
                    <a:pt x="734" y="279"/>
                    <a:pt x="734" y="279"/>
                    <a:pt x="734" y="279"/>
                  </a:cubicBezTo>
                  <a:cubicBezTo>
                    <a:pt x="740" y="280"/>
                    <a:pt x="740" y="280"/>
                    <a:pt x="740" y="280"/>
                  </a:cubicBezTo>
                  <a:cubicBezTo>
                    <a:pt x="746" y="281"/>
                    <a:pt x="746" y="281"/>
                    <a:pt x="746" y="281"/>
                  </a:cubicBezTo>
                  <a:cubicBezTo>
                    <a:pt x="751" y="282"/>
                    <a:pt x="751" y="282"/>
                    <a:pt x="751" y="282"/>
                  </a:cubicBezTo>
                  <a:cubicBezTo>
                    <a:pt x="757" y="283"/>
                    <a:pt x="757" y="283"/>
                    <a:pt x="757" y="283"/>
                  </a:cubicBezTo>
                  <a:cubicBezTo>
                    <a:pt x="763" y="284"/>
                    <a:pt x="763" y="284"/>
                    <a:pt x="763" y="284"/>
                  </a:cubicBezTo>
                  <a:cubicBezTo>
                    <a:pt x="768" y="285"/>
                    <a:pt x="768" y="285"/>
                    <a:pt x="768" y="285"/>
                  </a:cubicBezTo>
                  <a:cubicBezTo>
                    <a:pt x="774" y="286"/>
                    <a:pt x="774" y="286"/>
                    <a:pt x="774" y="286"/>
                  </a:cubicBezTo>
                  <a:cubicBezTo>
                    <a:pt x="780" y="287"/>
                    <a:pt x="780" y="287"/>
                    <a:pt x="780" y="287"/>
                  </a:cubicBezTo>
                  <a:cubicBezTo>
                    <a:pt x="785" y="288"/>
                    <a:pt x="785" y="288"/>
                    <a:pt x="785" y="288"/>
                  </a:cubicBezTo>
                  <a:cubicBezTo>
                    <a:pt x="791" y="289"/>
                    <a:pt x="791" y="289"/>
                    <a:pt x="791" y="289"/>
                  </a:cubicBezTo>
                  <a:cubicBezTo>
                    <a:pt x="797" y="290"/>
                    <a:pt x="797" y="290"/>
                    <a:pt x="797" y="290"/>
                  </a:cubicBezTo>
                  <a:cubicBezTo>
                    <a:pt x="802" y="291"/>
                    <a:pt x="802" y="291"/>
                    <a:pt x="802" y="291"/>
                  </a:cubicBezTo>
                  <a:cubicBezTo>
                    <a:pt x="808" y="292"/>
                    <a:pt x="808" y="292"/>
                    <a:pt x="808" y="292"/>
                  </a:cubicBezTo>
                  <a:cubicBezTo>
                    <a:pt x="814" y="293"/>
                    <a:pt x="814" y="293"/>
                    <a:pt x="814" y="293"/>
                  </a:cubicBezTo>
                  <a:cubicBezTo>
                    <a:pt x="819" y="294"/>
                    <a:pt x="819" y="294"/>
                    <a:pt x="819" y="294"/>
                  </a:cubicBezTo>
                  <a:cubicBezTo>
                    <a:pt x="825" y="295"/>
                    <a:pt x="825" y="295"/>
                    <a:pt x="825" y="295"/>
                  </a:cubicBezTo>
                  <a:cubicBezTo>
                    <a:pt x="831" y="295"/>
                    <a:pt x="831" y="295"/>
                    <a:pt x="831" y="295"/>
                  </a:cubicBezTo>
                  <a:cubicBezTo>
                    <a:pt x="836" y="296"/>
                    <a:pt x="836" y="296"/>
                    <a:pt x="836" y="296"/>
                  </a:cubicBezTo>
                  <a:cubicBezTo>
                    <a:pt x="842" y="297"/>
                    <a:pt x="842" y="297"/>
                    <a:pt x="842" y="297"/>
                  </a:cubicBezTo>
                  <a:cubicBezTo>
                    <a:pt x="848" y="298"/>
                    <a:pt x="848" y="298"/>
                    <a:pt x="848" y="298"/>
                  </a:cubicBezTo>
                  <a:cubicBezTo>
                    <a:pt x="853" y="299"/>
                    <a:pt x="853" y="299"/>
                    <a:pt x="853" y="299"/>
                  </a:cubicBezTo>
                  <a:cubicBezTo>
                    <a:pt x="859" y="299"/>
                    <a:pt x="859" y="299"/>
                    <a:pt x="859" y="299"/>
                  </a:cubicBezTo>
                  <a:cubicBezTo>
                    <a:pt x="865" y="300"/>
                    <a:pt x="865" y="300"/>
                    <a:pt x="865" y="300"/>
                  </a:cubicBezTo>
                  <a:cubicBezTo>
                    <a:pt x="870" y="301"/>
                    <a:pt x="870" y="301"/>
                    <a:pt x="870" y="301"/>
                  </a:cubicBezTo>
                  <a:cubicBezTo>
                    <a:pt x="876" y="302"/>
                    <a:pt x="876" y="302"/>
                    <a:pt x="876" y="302"/>
                  </a:cubicBezTo>
                  <a:cubicBezTo>
                    <a:pt x="882" y="302"/>
                    <a:pt x="882" y="302"/>
                    <a:pt x="882" y="302"/>
                  </a:cubicBezTo>
                  <a:cubicBezTo>
                    <a:pt x="887" y="303"/>
                    <a:pt x="887" y="303"/>
                    <a:pt x="887" y="303"/>
                  </a:cubicBezTo>
                  <a:cubicBezTo>
                    <a:pt x="893" y="304"/>
                    <a:pt x="893" y="304"/>
                    <a:pt x="893" y="304"/>
                  </a:cubicBezTo>
                  <a:cubicBezTo>
                    <a:pt x="899" y="305"/>
                    <a:pt x="899" y="305"/>
                    <a:pt x="899" y="305"/>
                  </a:cubicBezTo>
                  <a:cubicBezTo>
                    <a:pt x="904" y="305"/>
                    <a:pt x="904" y="305"/>
                    <a:pt x="904" y="305"/>
                  </a:cubicBezTo>
                  <a:cubicBezTo>
                    <a:pt x="910" y="306"/>
                    <a:pt x="910" y="306"/>
                    <a:pt x="910" y="306"/>
                  </a:cubicBezTo>
                  <a:cubicBezTo>
                    <a:pt x="916" y="307"/>
                    <a:pt x="916" y="307"/>
                    <a:pt x="916" y="307"/>
                  </a:cubicBezTo>
                  <a:cubicBezTo>
                    <a:pt x="921" y="307"/>
                    <a:pt x="921" y="307"/>
                    <a:pt x="921" y="307"/>
                  </a:cubicBezTo>
                  <a:cubicBezTo>
                    <a:pt x="927" y="308"/>
                    <a:pt x="927" y="308"/>
                    <a:pt x="927" y="308"/>
                  </a:cubicBezTo>
                  <a:cubicBezTo>
                    <a:pt x="933" y="309"/>
                    <a:pt x="933" y="309"/>
                    <a:pt x="933" y="309"/>
                  </a:cubicBezTo>
                  <a:cubicBezTo>
                    <a:pt x="938" y="309"/>
                    <a:pt x="938" y="309"/>
                    <a:pt x="938" y="309"/>
                  </a:cubicBezTo>
                  <a:cubicBezTo>
                    <a:pt x="944" y="310"/>
                    <a:pt x="944" y="310"/>
                    <a:pt x="944" y="310"/>
                  </a:cubicBezTo>
                  <a:cubicBezTo>
                    <a:pt x="950" y="310"/>
                    <a:pt x="950" y="310"/>
                    <a:pt x="950" y="310"/>
                  </a:cubicBezTo>
                  <a:cubicBezTo>
                    <a:pt x="955" y="311"/>
                    <a:pt x="955" y="311"/>
                    <a:pt x="955" y="311"/>
                  </a:cubicBezTo>
                  <a:cubicBezTo>
                    <a:pt x="961" y="312"/>
                    <a:pt x="961" y="312"/>
                    <a:pt x="961" y="312"/>
                  </a:cubicBezTo>
                  <a:cubicBezTo>
                    <a:pt x="967" y="312"/>
                    <a:pt x="967" y="312"/>
                    <a:pt x="967" y="312"/>
                  </a:cubicBezTo>
                  <a:cubicBezTo>
                    <a:pt x="972" y="313"/>
                    <a:pt x="972" y="313"/>
                    <a:pt x="972" y="313"/>
                  </a:cubicBezTo>
                  <a:cubicBezTo>
                    <a:pt x="978" y="313"/>
                    <a:pt x="978" y="313"/>
                    <a:pt x="978" y="313"/>
                  </a:cubicBezTo>
                  <a:cubicBezTo>
                    <a:pt x="984" y="314"/>
                    <a:pt x="984" y="314"/>
                    <a:pt x="984" y="314"/>
                  </a:cubicBezTo>
                  <a:cubicBezTo>
                    <a:pt x="989" y="315"/>
                    <a:pt x="989" y="315"/>
                    <a:pt x="989" y="315"/>
                  </a:cubicBezTo>
                  <a:cubicBezTo>
                    <a:pt x="995" y="315"/>
                    <a:pt x="995" y="315"/>
                    <a:pt x="995" y="315"/>
                  </a:cubicBezTo>
                  <a:cubicBezTo>
                    <a:pt x="1001" y="316"/>
                    <a:pt x="1001" y="316"/>
                    <a:pt x="1001" y="316"/>
                  </a:cubicBezTo>
                  <a:cubicBezTo>
                    <a:pt x="1006" y="316"/>
                    <a:pt x="1006" y="316"/>
                    <a:pt x="1006" y="316"/>
                  </a:cubicBezTo>
                  <a:cubicBezTo>
                    <a:pt x="1012" y="317"/>
                    <a:pt x="1012" y="317"/>
                    <a:pt x="1012" y="317"/>
                  </a:cubicBezTo>
                  <a:cubicBezTo>
                    <a:pt x="1018" y="317"/>
                    <a:pt x="1018" y="317"/>
                    <a:pt x="1018" y="317"/>
                  </a:cubicBezTo>
                  <a:cubicBezTo>
                    <a:pt x="1023" y="318"/>
                    <a:pt x="1023" y="318"/>
                    <a:pt x="1023" y="318"/>
                  </a:cubicBezTo>
                  <a:cubicBezTo>
                    <a:pt x="1029" y="318"/>
                    <a:pt x="1029" y="318"/>
                    <a:pt x="1029" y="318"/>
                  </a:cubicBezTo>
                  <a:cubicBezTo>
                    <a:pt x="1035" y="319"/>
                    <a:pt x="1035" y="319"/>
                    <a:pt x="1035" y="319"/>
                  </a:cubicBezTo>
                  <a:cubicBezTo>
                    <a:pt x="1040" y="319"/>
                    <a:pt x="1040" y="319"/>
                    <a:pt x="1040" y="319"/>
                  </a:cubicBezTo>
                  <a:cubicBezTo>
                    <a:pt x="1046" y="320"/>
                    <a:pt x="1046" y="320"/>
                    <a:pt x="1046" y="320"/>
                  </a:cubicBezTo>
                  <a:cubicBezTo>
                    <a:pt x="1052" y="320"/>
                    <a:pt x="1052" y="320"/>
                    <a:pt x="1052" y="320"/>
                  </a:cubicBezTo>
                  <a:cubicBezTo>
                    <a:pt x="1057" y="321"/>
                    <a:pt x="1057" y="321"/>
                    <a:pt x="1057" y="321"/>
                  </a:cubicBezTo>
                  <a:cubicBezTo>
                    <a:pt x="1063" y="321"/>
                    <a:pt x="1063" y="321"/>
                    <a:pt x="1063" y="321"/>
                  </a:cubicBezTo>
                  <a:cubicBezTo>
                    <a:pt x="1069" y="322"/>
                    <a:pt x="1069" y="322"/>
                    <a:pt x="1069" y="322"/>
                  </a:cubicBezTo>
                  <a:cubicBezTo>
                    <a:pt x="1074" y="322"/>
                    <a:pt x="1074" y="322"/>
                    <a:pt x="1074" y="322"/>
                  </a:cubicBezTo>
                  <a:cubicBezTo>
                    <a:pt x="1080" y="323"/>
                    <a:pt x="1080" y="323"/>
                    <a:pt x="1080" y="323"/>
                  </a:cubicBezTo>
                  <a:cubicBezTo>
                    <a:pt x="1086" y="323"/>
                    <a:pt x="1086" y="323"/>
                    <a:pt x="1086" y="323"/>
                  </a:cubicBezTo>
                  <a:cubicBezTo>
                    <a:pt x="1091" y="324"/>
                    <a:pt x="1091" y="324"/>
                    <a:pt x="1091" y="324"/>
                  </a:cubicBezTo>
                  <a:cubicBezTo>
                    <a:pt x="1097" y="324"/>
                    <a:pt x="1097" y="324"/>
                    <a:pt x="1097" y="324"/>
                  </a:cubicBezTo>
                  <a:cubicBezTo>
                    <a:pt x="1103" y="324"/>
                    <a:pt x="1103" y="324"/>
                    <a:pt x="1103" y="324"/>
                  </a:cubicBezTo>
                  <a:cubicBezTo>
                    <a:pt x="1108" y="325"/>
                    <a:pt x="1108" y="325"/>
                    <a:pt x="1108" y="325"/>
                  </a:cubicBezTo>
                  <a:cubicBezTo>
                    <a:pt x="1114" y="325"/>
                    <a:pt x="1114" y="325"/>
                    <a:pt x="1114" y="325"/>
                  </a:cubicBezTo>
                  <a:cubicBezTo>
                    <a:pt x="1120" y="326"/>
                    <a:pt x="1120" y="326"/>
                    <a:pt x="1120" y="326"/>
                  </a:cubicBezTo>
                  <a:cubicBezTo>
                    <a:pt x="1125" y="326"/>
                    <a:pt x="1125" y="326"/>
                    <a:pt x="1125" y="326"/>
                  </a:cubicBezTo>
                  <a:cubicBezTo>
                    <a:pt x="1131" y="327"/>
                    <a:pt x="1131" y="327"/>
                    <a:pt x="1131" y="327"/>
                  </a:cubicBezTo>
                  <a:cubicBezTo>
                    <a:pt x="1137" y="327"/>
                    <a:pt x="1137" y="327"/>
                    <a:pt x="1137" y="327"/>
                  </a:cubicBezTo>
                  <a:cubicBezTo>
                    <a:pt x="1143" y="327"/>
                    <a:pt x="1143" y="327"/>
                    <a:pt x="1143" y="327"/>
                  </a:cubicBezTo>
                  <a:cubicBezTo>
                    <a:pt x="1148" y="328"/>
                    <a:pt x="1148" y="328"/>
                    <a:pt x="1148" y="328"/>
                  </a:cubicBezTo>
                  <a:cubicBezTo>
                    <a:pt x="1154" y="328"/>
                    <a:pt x="1154" y="328"/>
                    <a:pt x="1154" y="328"/>
                  </a:cubicBezTo>
                  <a:cubicBezTo>
                    <a:pt x="1160" y="328"/>
                    <a:pt x="1160" y="328"/>
                    <a:pt x="1160" y="328"/>
                  </a:cubicBezTo>
                  <a:cubicBezTo>
                    <a:pt x="1165" y="329"/>
                    <a:pt x="1165" y="329"/>
                    <a:pt x="1165" y="329"/>
                  </a:cubicBezTo>
                  <a:cubicBezTo>
                    <a:pt x="1171" y="329"/>
                    <a:pt x="1171" y="329"/>
                    <a:pt x="1171" y="329"/>
                  </a:cubicBezTo>
                  <a:cubicBezTo>
                    <a:pt x="1177" y="330"/>
                    <a:pt x="1177" y="330"/>
                    <a:pt x="1177" y="330"/>
                  </a:cubicBezTo>
                  <a:cubicBezTo>
                    <a:pt x="1182" y="330"/>
                    <a:pt x="1182" y="330"/>
                    <a:pt x="1182" y="330"/>
                  </a:cubicBezTo>
                  <a:cubicBezTo>
                    <a:pt x="1188" y="330"/>
                    <a:pt x="1188" y="330"/>
                    <a:pt x="1188" y="330"/>
                  </a:cubicBezTo>
                  <a:cubicBezTo>
                    <a:pt x="1194" y="331"/>
                    <a:pt x="1194" y="331"/>
                    <a:pt x="1194" y="331"/>
                  </a:cubicBezTo>
                  <a:cubicBezTo>
                    <a:pt x="1199" y="331"/>
                    <a:pt x="1199" y="331"/>
                    <a:pt x="1199" y="331"/>
                  </a:cubicBezTo>
                  <a:cubicBezTo>
                    <a:pt x="1205" y="331"/>
                    <a:pt x="1205" y="331"/>
                    <a:pt x="1205" y="331"/>
                  </a:cubicBezTo>
                  <a:cubicBezTo>
                    <a:pt x="1211" y="332"/>
                    <a:pt x="1211" y="332"/>
                    <a:pt x="1211" y="332"/>
                  </a:cubicBezTo>
                  <a:cubicBezTo>
                    <a:pt x="1216" y="332"/>
                    <a:pt x="1216" y="332"/>
                    <a:pt x="1216" y="332"/>
                  </a:cubicBezTo>
                  <a:cubicBezTo>
                    <a:pt x="1222" y="333"/>
                    <a:pt x="1222" y="333"/>
                    <a:pt x="1222" y="333"/>
                  </a:cubicBezTo>
                  <a:cubicBezTo>
                    <a:pt x="1228" y="333"/>
                    <a:pt x="1228" y="333"/>
                    <a:pt x="1228" y="333"/>
                  </a:cubicBezTo>
                  <a:cubicBezTo>
                    <a:pt x="1233" y="333"/>
                    <a:pt x="1233" y="333"/>
                    <a:pt x="1233" y="333"/>
                  </a:cubicBezTo>
                  <a:cubicBezTo>
                    <a:pt x="1239" y="334"/>
                    <a:pt x="1239" y="334"/>
                    <a:pt x="1239" y="334"/>
                  </a:cubicBezTo>
                  <a:cubicBezTo>
                    <a:pt x="1245" y="334"/>
                    <a:pt x="1245" y="334"/>
                    <a:pt x="1245" y="334"/>
                  </a:cubicBezTo>
                  <a:cubicBezTo>
                    <a:pt x="1250" y="334"/>
                    <a:pt x="1250" y="334"/>
                    <a:pt x="1250" y="334"/>
                  </a:cubicBezTo>
                  <a:cubicBezTo>
                    <a:pt x="1256" y="335"/>
                    <a:pt x="1256" y="335"/>
                    <a:pt x="1256" y="335"/>
                  </a:cubicBezTo>
                  <a:cubicBezTo>
                    <a:pt x="1262" y="335"/>
                    <a:pt x="1262" y="335"/>
                    <a:pt x="1262" y="335"/>
                  </a:cubicBezTo>
                  <a:cubicBezTo>
                    <a:pt x="1267" y="335"/>
                    <a:pt x="1267" y="335"/>
                    <a:pt x="1267" y="335"/>
                  </a:cubicBezTo>
                  <a:cubicBezTo>
                    <a:pt x="1273" y="335"/>
                    <a:pt x="1273" y="335"/>
                    <a:pt x="1273" y="335"/>
                  </a:cubicBezTo>
                  <a:cubicBezTo>
                    <a:pt x="1279" y="336"/>
                    <a:pt x="1279" y="336"/>
                    <a:pt x="1279" y="336"/>
                  </a:cubicBezTo>
                  <a:cubicBezTo>
                    <a:pt x="1284" y="336"/>
                    <a:pt x="1284" y="336"/>
                    <a:pt x="1284" y="336"/>
                  </a:cubicBezTo>
                  <a:cubicBezTo>
                    <a:pt x="1290" y="336"/>
                    <a:pt x="1290" y="336"/>
                    <a:pt x="1290" y="336"/>
                  </a:cubicBezTo>
                  <a:cubicBezTo>
                    <a:pt x="1296" y="337"/>
                    <a:pt x="1296" y="337"/>
                    <a:pt x="1296" y="337"/>
                  </a:cubicBezTo>
                  <a:cubicBezTo>
                    <a:pt x="1301" y="337"/>
                    <a:pt x="1301" y="337"/>
                    <a:pt x="1301" y="337"/>
                  </a:cubicBezTo>
                  <a:cubicBezTo>
                    <a:pt x="1307" y="337"/>
                    <a:pt x="1307" y="337"/>
                    <a:pt x="1307" y="337"/>
                  </a:cubicBezTo>
                  <a:cubicBezTo>
                    <a:pt x="1313" y="338"/>
                    <a:pt x="1313" y="338"/>
                    <a:pt x="1313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4" y="338"/>
                    <a:pt x="1324" y="338"/>
                    <a:pt x="1324" y="338"/>
                  </a:cubicBezTo>
                  <a:cubicBezTo>
                    <a:pt x="1330" y="338"/>
                    <a:pt x="1330" y="338"/>
                    <a:pt x="1330" y="338"/>
                  </a:cubicBezTo>
                  <a:cubicBezTo>
                    <a:pt x="1335" y="339"/>
                    <a:pt x="1335" y="339"/>
                    <a:pt x="1335" y="339"/>
                  </a:cubicBezTo>
                  <a:cubicBezTo>
                    <a:pt x="1341" y="339"/>
                    <a:pt x="1341" y="339"/>
                    <a:pt x="1341" y="339"/>
                  </a:cubicBezTo>
                  <a:cubicBezTo>
                    <a:pt x="1347" y="339"/>
                    <a:pt x="1347" y="339"/>
                    <a:pt x="1347" y="339"/>
                  </a:cubicBezTo>
                  <a:cubicBezTo>
                    <a:pt x="1352" y="340"/>
                    <a:pt x="1352" y="340"/>
                    <a:pt x="1352" y="340"/>
                  </a:cubicBezTo>
                  <a:cubicBezTo>
                    <a:pt x="1358" y="340"/>
                    <a:pt x="1358" y="340"/>
                    <a:pt x="1358" y="340"/>
                  </a:cubicBezTo>
                  <a:cubicBezTo>
                    <a:pt x="1364" y="340"/>
                    <a:pt x="1364" y="340"/>
                    <a:pt x="1364" y="340"/>
                  </a:cubicBezTo>
                  <a:cubicBezTo>
                    <a:pt x="1369" y="340"/>
                    <a:pt x="1369" y="340"/>
                    <a:pt x="1369" y="340"/>
                  </a:cubicBezTo>
                  <a:cubicBezTo>
                    <a:pt x="1375" y="341"/>
                    <a:pt x="1375" y="341"/>
                    <a:pt x="1375" y="341"/>
                  </a:cubicBezTo>
                  <a:cubicBezTo>
                    <a:pt x="1381" y="341"/>
                    <a:pt x="1381" y="341"/>
                    <a:pt x="1381" y="341"/>
                  </a:cubicBezTo>
                  <a:cubicBezTo>
                    <a:pt x="1386" y="341"/>
                    <a:pt x="1386" y="341"/>
                    <a:pt x="1386" y="341"/>
                  </a:cubicBezTo>
                  <a:cubicBezTo>
                    <a:pt x="1392" y="341"/>
                    <a:pt x="1392" y="341"/>
                    <a:pt x="1392" y="341"/>
                  </a:cubicBezTo>
                  <a:cubicBezTo>
                    <a:pt x="1398" y="342"/>
                    <a:pt x="1398" y="342"/>
                    <a:pt x="1398" y="342"/>
                  </a:cubicBezTo>
                  <a:cubicBezTo>
                    <a:pt x="1403" y="342"/>
                    <a:pt x="1403" y="342"/>
                    <a:pt x="1403" y="342"/>
                  </a:cubicBezTo>
                  <a:cubicBezTo>
                    <a:pt x="1409" y="342"/>
                    <a:pt x="1409" y="342"/>
                    <a:pt x="1409" y="342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31760" y="13492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H="1">
              <a:off x="1234800" y="2038320"/>
              <a:ext cx="66348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1226880" y="2709720"/>
              <a:ext cx="66348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26" name=""/>
            <p:cNvGraphicFramePr/>
            <p:nvPr/>
          </p:nvGraphicFramePr>
          <p:xfrm>
            <a:off x="1876320" y="1825560"/>
            <a:ext cx="241560" cy="331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876320" y="1825560"/>
                      <a:ext cx="24156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28" name=""/>
            <p:cNvGraphicFramePr/>
            <p:nvPr/>
          </p:nvGraphicFramePr>
          <p:xfrm>
            <a:off x="1866960" y="2508120"/>
            <a:ext cx="255600" cy="331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32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866960" y="2508120"/>
                      <a:ext cx="25560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0" name=""/>
            <p:cNvSpPr/>
            <p:nvPr/>
          </p:nvSpPr>
          <p:spPr>
            <a:xfrm flipH="1">
              <a:off x="1225440" y="2355840"/>
              <a:ext cx="66384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31" name=""/>
            <p:cNvGraphicFramePr/>
            <p:nvPr/>
          </p:nvGraphicFramePr>
          <p:xfrm>
            <a:off x="1895400" y="2163600"/>
            <a:ext cx="273240" cy="331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33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895400" y="2163600"/>
                      <a:ext cx="27324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33" name=""/>
            <p:cNvGraphicFramePr/>
            <p:nvPr/>
          </p:nvGraphicFramePr>
          <p:xfrm>
            <a:off x="900000" y="3544920"/>
            <a:ext cx="324000" cy="3618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33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900000" y="3544920"/>
                      <a:ext cx="32400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35" name=""/>
          <p:cNvSpPr/>
          <p:nvPr/>
        </p:nvSpPr>
        <p:spPr>
          <a:xfrm>
            <a:off x="425520" y="4702320"/>
            <a:ext cx="85453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uk-UA" sz="1600" spc="-1" strike="noStrike" u="sng">
                <a:solidFill>
                  <a:srgbClr val="0000cc"/>
                </a:solidFill>
                <a:uFillTx/>
                <a:latin typeface="Comic Sans MS"/>
              </a:rPr>
              <a:t>Загальне зауваження до 12.1 і 1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розуміло, що знаходити значення аргументу, при якому функція має максимум, можна стандартним способом, прирівнюючи до нуля похідну. Спробуйте пройти таким шляхом і порівняйте його з тим, який наведений у “Відповідях”  до запитань 12.1 і 13.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3638520" y="976320"/>
            <a:ext cx="384120" cy="52056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520560"/>
              <a:gd name="textAreaBottom" fmla="*/ 495720 h 520560"/>
            </a:gdLst>
            <a:ahLst/>
            <a:rect l="textAreaLeft" t="textAreaTop" r="textAreaRight" b="textAreaBottom"/>
            <a:pathLst>
              <a:path w="21600" h="29265">
                <a:moveTo>
                  <a:pt x="0" y="0"/>
                </a:moveTo>
                <a:lnTo>
                  <a:pt x="21600" y="0"/>
                </a:lnTo>
                <a:lnTo>
                  <a:pt x="21600" y="29265"/>
                </a:lnTo>
                <a:lnTo>
                  <a:pt x="0" y="29265"/>
                </a:lnTo>
                <a:close/>
              </a:path>
              <a:path fill="lightenLess" w="21600" h="292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65">
                <a:moveTo>
                  <a:pt x="21600" y="0"/>
                </a:moveTo>
                <a:lnTo>
                  <a:pt x="21600" y="29265"/>
                </a:lnTo>
                <a:lnTo>
                  <a:pt x="20200" y="27865"/>
                </a:lnTo>
                <a:lnTo>
                  <a:pt x="20200" y="1400"/>
                </a:lnTo>
                <a:close/>
              </a:path>
              <a:path fill="darkenLess" w="21600" h="29265">
                <a:moveTo>
                  <a:pt x="21600" y="29265"/>
                </a:moveTo>
                <a:lnTo>
                  <a:pt x="0" y="29265"/>
                </a:lnTo>
                <a:lnTo>
                  <a:pt x="1400" y="27865"/>
                </a:lnTo>
                <a:lnTo>
                  <a:pt x="20200" y="27865"/>
                </a:lnTo>
                <a:close/>
              </a:path>
              <a:path fill="lighten" w="21600" h="29265">
                <a:moveTo>
                  <a:pt x="0" y="292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65"/>
                </a:lnTo>
                <a:close/>
              </a:path>
              <a:path fill="darken" w="21600" h="29265">
                <a:moveTo>
                  <a:pt x="10800" y="1863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265">
                <a:moveTo>
                  <a:pt x="11905" y="18114"/>
                </a:moveTo>
                <a:lnTo>
                  <a:pt x="11905" y="16156"/>
                </a:lnTo>
                <a:cubicBezTo>
                  <a:pt x="11905" y="15329"/>
                  <a:pt x="12236" y="14633"/>
                  <a:pt x="12837" y="14633"/>
                </a:cubicBezTo>
                <a:cubicBezTo>
                  <a:pt x="13968" y="14633"/>
                  <a:pt x="14865" y="13266"/>
                  <a:pt x="14865" y="11682"/>
                </a:cubicBezTo>
                <a:cubicBezTo>
                  <a:pt x="14865" y="9367"/>
                  <a:pt x="13011" y="7626"/>
                  <a:pt x="10800" y="7626"/>
                </a:cubicBezTo>
                <a:cubicBezTo>
                  <a:pt x="8589" y="7626"/>
                  <a:pt x="6918" y="9367"/>
                  <a:pt x="6918" y="11682"/>
                </a:cubicBezTo>
                <a:lnTo>
                  <a:pt x="8772" y="11682"/>
                </a:lnTo>
                <a:cubicBezTo>
                  <a:pt x="8772" y="10542"/>
                  <a:pt x="9695" y="9654"/>
                  <a:pt x="10800" y="9654"/>
                </a:cubicBezTo>
                <a:cubicBezTo>
                  <a:pt x="11905" y="9654"/>
                  <a:pt x="12837" y="10542"/>
                  <a:pt x="12837" y="11682"/>
                </a:cubicBezTo>
                <a:cubicBezTo>
                  <a:pt x="12837" y="12422"/>
                  <a:pt x="12367" y="13153"/>
                  <a:pt x="11905" y="13153"/>
                </a:cubicBezTo>
                <a:cubicBezTo>
                  <a:pt x="10800" y="13153"/>
                  <a:pt x="9695" y="14633"/>
                  <a:pt x="9695" y="16156"/>
                </a:cubicBezTo>
                <a:lnTo>
                  <a:pt x="9695" y="181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7" name=""/>
          <p:cNvGraphicFramePr/>
          <p:nvPr/>
        </p:nvGraphicFramePr>
        <p:xfrm>
          <a:off x="3774960" y="2085840"/>
          <a:ext cx="514512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3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74960" y="2085840"/>
                    <a:ext cx="51451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9" name=""/>
          <p:cNvGraphicFramePr/>
          <p:nvPr/>
        </p:nvGraphicFramePr>
        <p:xfrm>
          <a:off x="5559480" y="3673440"/>
          <a:ext cx="907920" cy="399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4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59480" y="3673440"/>
                    <a:ext cx="9079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1" name=""/>
          <p:cNvGraphicFramePr/>
          <p:nvPr/>
        </p:nvGraphicFramePr>
        <p:xfrm>
          <a:off x="7570800" y="3411360"/>
          <a:ext cx="587520" cy="38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34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70800" y="3411360"/>
                    <a:ext cx="587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3" name="Управляющая кнопка: домой 85">
            <a:hlinkClick r:id="rId2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816300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483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 rot="18949200">
            <a:off x="1579320" y="974880"/>
            <a:ext cx="2116080" cy="32572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11600" y="2921040"/>
            <a:ext cx="14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центр м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080" y="1252440"/>
            <a:ext cx="180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обертання (перпендикулярна площині рису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255840" y="1208160"/>
            <a:ext cx="287280" cy="409680"/>
            <a:chOff x="3255840" y="1208160"/>
            <a:chExt cx="287280" cy="409680"/>
          </a:xfrm>
        </p:grpSpPr>
        <p:sp>
          <p:nvSpPr>
            <p:cNvPr id="489" name=""/>
            <p:cNvSpPr/>
            <p:nvPr/>
          </p:nvSpPr>
          <p:spPr>
            <a:xfrm>
              <a:off x="3255840" y="120816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0" name=""/>
            <p:cNvGraphicFramePr/>
            <p:nvPr/>
          </p:nvGraphicFramePr>
          <p:xfrm>
            <a:off x="3281400" y="1229040"/>
            <a:ext cx="261720" cy="37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81400" y="1229040"/>
                      <a:ext cx="26172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2" name=""/>
          <p:cNvSpPr/>
          <p:nvPr/>
        </p:nvSpPr>
        <p:spPr>
          <a:xfrm>
            <a:off x="2274840" y="1170000"/>
            <a:ext cx="0" cy="26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4560" y="1779480"/>
            <a:ext cx="49500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1080" y="174132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54360" y="272088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 rot="3128400">
            <a:off x="422640" y="-145440"/>
            <a:ext cx="3297240" cy="283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92" y="4002"/>
                </a:moveTo>
                <a:arcTo wR="10800" hR="10800" stAng="-2340611" swAng="1721451"/>
                <a:lnTo>
                  <a:pt x="10800" y="10800"/>
                </a:lnTo>
                <a:close/>
              </a:path>
              <a:path fill="none" w="21600" h="21600">
                <a:moveTo>
                  <a:pt x="19192" y="4002"/>
                </a:moveTo>
                <a:arcTo wR="10800" hR="10800" stAng="-2340611" swAng="1721451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66920" y="2048040"/>
            <a:ext cx="228600" cy="352440"/>
            <a:chOff x="2266920" y="2048040"/>
            <a:chExt cx="228600" cy="352440"/>
          </a:xfrm>
        </p:grpSpPr>
        <p:sp>
          <p:nvSpPr>
            <p:cNvPr id="498" name=""/>
            <p:cNvSpPr/>
            <p:nvPr/>
          </p:nvSpPr>
          <p:spPr>
            <a:xfrm>
              <a:off x="2266920" y="2048040"/>
              <a:ext cx="16200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9" name=""/>
            <p:cNvGraphicFramePr/>
            <p:nvPr/>
          </p:nvGraphicFramePr>
          <p:xfrm>
            <a:off x="2270160" y="2146320"/>
            <a:ext cx="225360" cy="254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0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70160" y="2146320"/>
                      <a:ext cx="225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1" name=""/>
          <p:cNvSpPr/>
          <p:nvPr/>
        </p:nvSpPr>
        <p:spPr>
          <a:xfrm>
            <a:off x="1628640" y="1419120"/>
            <a:ext cx="6289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519280" y="2085840"/>
          <a:ext cx="239760" cy="23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19280" y="2085840"/>
                    <a:ext cx="23976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974960" y="354168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2781360" y="2752560"/>
            <a:ext cx="10000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684520" y="3024360"/>
          <a:ext cx="561960" cy="39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84520" y="3024360"/>
                    <a:ext cx="5619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2666880" y="3038400"/>
            <a:ext cx="200160" cy="3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009520" y="3238560"/>
            <a:ext cx="65700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0120" y="3443400"/>
            <a:ext cx="1452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момент інерції тіла відносно осі обер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95320" y="2838600"/>
            <a:ext cx="28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294160" y="817560"/>
            <a:ext cx="1398600" cy="359640"/>
            <a:chOff x="5294160" y="817560"/>
            <a:chExt cx="1398600" cy="359640"/>
          </a:xfrm>
        </p:grpSpPr>
        <p:graphicFrame>
          <p:nvGraphicFramePr>
            <p:cNvPr id="513" name=""/>
            <p:cNvGraphicFramePr/>
            <p:nvPr/>
          </p:nvGraphicFramePr>
          <p:xfrm>
            <a:off x="5813280" y="817560"/>
            <a:ext cx="879480" cy="349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1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813280" y="817560"/>
                      <a:ext cx="8794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5" name=""/>
            <p:cNvSpPr/>
            <p:nvPr/>
          </p:nvSpPr>
          <p:spPr>
            <a:xfrm>
              <a:off x="5294160" y="87012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Comic Sans MS"/>
                </a:rPr>
                <a:t>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6" name=""/>
          <p:cNvGraphicFramePr/>
          <p:nvPr/>
        </p:nvGraphicFramePr>
        <p:xfrm>
          <a:off x="4521240" y="1324080"/>
          <a:ext cx="4160880" cy="1400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21240" y="1324080"/>
                    <a:ext cx="41608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"/>
          <p:cNvSpPr/>
          <p:nvPr/>
        </p:nvSpPr>
        <p:spPr>
          <a:xfrm>
            <a:off x="303120" y="4460760"/>
            <a:ext cx="8439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Узагальнюючий висновок: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якщо вираз для потенціальної енергії тіла можна звести до вигляду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— узагальнена координата), а для кінетичної енергії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до вигляду                 (   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загальнена швидкість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 це означає, що тіло здійснює гармонічні коливання з період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2536920" y="5006880"/>
          <a:ext cx="93492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36920" y="5006880"/>
                    <a:ext cx="934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2279520" y="4732200"/>
          <a:ext cx="1009800" cy="382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79520" y="4732200"/>
                    <a:ext cx="10098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3557520" y="5030640"/>
          <a:ext cx="204840" cy="298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557520" y="5030640"/>
                    <a:ext cx="2048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3692520" y="5776920"/>
          <a:ext cx="515880" cy="279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92520" y="5776920"/>
                    <a:ext cx="5158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7" name=""/>
          <p:cNvGrpSpPr/>
          <p:nvPr/>
        </p:nvGrpSpPr>
        <p:grpSpPr>
          <a:xfrm>
            <a:off x="5118120" y="1662120"/>
            <a:ext cx="620280" cy="550800"/>
            <a:chOff x="5118120" y="1662120"/>
            <a:chExt cx="620280" cy="550800"/>
          </a:xfrm>
        </p:grpSpPr>
        <p:sp>
          <p:nvSpPr>
            <p:cNvPr id="528" name="">
              <a:hlinkClick r:id="rId22" action="ppaction://hlinksldjump"/>
            </p:cNvPr>
            <p:cNvSpPr/>
            <p:nvPr/>
          </p:nvSpPr>
          <p:spPr>
            <a:xfrm>
              <a:off x="5118120" y="172404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60680" y="1662120"/>
              <a:ext cx="47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121360" y="2176560"/>
            <a:ext cx="539280" cy="549000"/>
            <a:chOff x="5121360" y="2176560"/>
            <a:chExt cx="539280" cy="549000"/>
          </a:xfrm>
        </p:grpSpPr>
        <p:sp>
          <p:nvSpPr>
            <p:cNvPr id="531" name="">
              <a:hlinkClick r:id="rId23" action="ppaction://hlinksldjump"/>
            </p:cNvPr>
            <p:cNvSpPr/>
            <p:nvPr/>
          </p:nvSpPr>
          <p:spPr>
            <a:xfrm>
              <a:off x="5121360" y="2236680"/>
              <a:ext cx="461880" cy="488880"/>
            </a:xfrm>
            <a:custGeom>
              <a:avLst/>
              <a:gdLst>
                <a:gd name="textAreaLeft" fmla="*/ 29880 w 461880"/>
                <a:gd name="textAreaRight" fmla="*/ 432000 w 461880"/>
                <a:gd name="textAreaTop" fmla="*/ 29880 h 488880"/>
                <a:gd name="textAreaBottom" fmla="*/ 459000 h 488880"/>
              </a:gdLst>
              <a:ahLst/>
              <a:rect l="textAreaLeft" t="textAreaTop" r="textAreaRight" b="textAreaBottom"/>
              <a:pathLst>
                <a:path w="21600" h="22862">
                  <a:moveTo>
                    <a:pt x="0" y="0"/>
                  </a:moveTo>
                  <a:lnTo>
                    <a:pt x="21600" y="0"/>
                  </a:lnTo>
                  <a:lnTo>
                    <a:pt x="21600" y="22862"/>
                  </a:lnTo>
                  <a:lnTo>
                    <a:pt x="0" y="22862"/>
                  </a:lnTo>
                  <a:close/>
                </a:path>
                <a:path fill="lightenLess" w="21600" h="2286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862">
                  <a:moveTo>
                    <a:pt x="21600" y="0"/>
                  </a:moveTo>
                  <a:lnTo>
                    <a:pt x="21600" y="22862"/>
                  </a:lnTo>
                  <a:lnTo>
                    <a:pt x="20200" y="21462"/>
                  </a:lnTo>
                  <a:lnTo>
                    <a:pt x="20200" y="1400"/>
                  </a:lnTo>
                  <a:close/>
                </a:path>
                <a:path fill="darkenLess" w="21600" h="22862">
                  <a:moveTo>
                    <a:pt x="21600" y="22862"/>
                  </a:moveTo>
                  <a:lnTo>
                    <a:pt x="0" y="22862"/>
                  </a:lnTo>
                  <a:lnTo>
                    <a:pt x="1400" y="21462"/>
                  </a:lnTo>
                  <a:lnTo>
                    <a:pt x="20200" y="21462"/>
                  </a:lnTo>
                  <a:close/>
                </a:path>
                <a:path fill="lighten" w="21600" h="22862">
                  <a:moveTo>
                    <a:pt x="0" y="2286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462"/>
                  </a:lnTo>
                  <a:close/>
                </a:path>
                <a:path fill="darken" w="21600" h="22862">
                  <a:moveTo>
                    <a:pt x="10800" y="1543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862">
                  <a:moveTo>
                    <a:pt x="11905" y="14912"/>
                  </a:moveTo>
                  <a:lnTo>
                    <a:pt x="11905" y="12954"/>
                  </a:lnTo>
                  <a:cubicBezTo>
                    <a:pt x="11905" y="12127"/>
                    <a:pt x="12236" y="11431"/>
                    <a:pt x="12837" y="11431"/>
                  </a:cubicBezTo>
                  <a:cubicBezTo>
                    <a:pt x="13968" y="11431"/>
                    <a:pt x="14865" y="10064"/>
                    <a:pt x="14865" y="8480"/>
                  </a:cubicBezTo>
                  <a:cubicBezTo>
                    <a:pt x="14865" y="6165"/>
                    <a:pt x="13011" y="4424"/>
                    <a:pt x="10800" y="4424"/>
                  </a:cubicBezTo>
                  <a:cubicBezTo>
                    <a:pt x="8589" y="4424"/>
                    <a:pt x="6918" y="6165"/>
                    <a:pt x="6918" y="8480"/>
                  </a:cubicBezTo>
                  <a:lnTo>
                    <a:pt x="8772" y="8480"/>
                  </a:lnTo>
                  <a:cubicBezTo>
                    <a:pt x="8772" y="7340"/>
                    <a:pt x="9695" y="6452"/>
                    <a:pt x="10800" y="6452"/>
                  </a:cubicBezTo>
                  <a:cubicBezTo>
                    <a:pt x="11905" y="6452"/>
                    <a:pt x="12837" y="7340"/>
                    <a:pt x="12837" y="8480"/>
                  </a:cubicBezTo>
                  <a:cubicBezTo>
                    <a:pt x="12837" y="9220"/>
                    <a:pt x="12367" y="9951"/>
                    <a:pt x="11905" y="9951"/>
                  </a:cubicBezTo>
                  <a:cubicBezTo>
                    <a:pt x="10800" y="9951"/>
                    <a:pt x="9695" y="11431"/>
                    <a:pt x="9695" y="12954"/>
                  </a:cubicBezTo>
                  <a:lnTo>
                    <a:pt x="9695" y="1491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13240" y="2176560"/>
              <a:ext cx="34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500880" y="1338120"/>
            <a:ext cx="497880" cy="552240"/>
            <a:chOff x="6500880" y="1338120"/>
            <a:chExt cx="497880" cy="552240"/>
          </a:xfrm>
        </p:grpSpPr>
        <p:sp>
          <p:nvSpPr>
            <p:cNvPr id="534" name="">
              <a:hlinkClick r:id="rId24" action="ppaction://hlinksldjump"/>
            </p:cNvPr>
            <p:cNvSpPr/>
            <p:nvPr/>
          </p:nvSpPr>
          <p:spPr>
            <a:xfrm>
              <a:off x="6500880" y="140148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08600" y="1338120"/>
              <a:ext cx="29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230720" y="5611680"/>
            <a:ext cx="587520" cy="560160"/>
            <a:chOff x="4230720" y="5611680"/>
            <a:chExt cx="587520" cy="560160"/>
          </a:xfrm>
        </p:grpSpPr>
        <p:sp>
          <p:nvSpPr>
            <p:cNvPr id="537" name="">
              <a:hlinkClick r:id="rId25" action="ppaction://hlinksldjump"/>
            </p:cNvPr>
            <p:cNvSpPr/>
            <p:nvPr/>
          </p:nvSpPr>
          <p:spPr>
            <a:xfrm>
              <a:off x="4230720" y="5682960"/>
              <a:ext cx="476280" cy="48888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71">
                  <a:moveTo>
                    <a:pt x="0" y="0"/>
                  </a:moveTo>
                  <a:lnTo>
                    <a:pt x="21600" y="0"/>
                  </a:lnTo>
                  <a:lnTo>
                    <a:pt x="21600" y="22171"/>
                  </a:lnTo>
                  <a:lnTo>
                    <a:pt x="0" y="22171"/>
                  </a:lnTo>
                  <a:close/>
                </a:path>
                <a:path fill="lightenLess" w="21600" h="2217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71">
                  <a:moveTo>
                    <a:pt x="21600" y="0"/>
                  </a:moveTo>
                  <a:lnTo>
                    <a:pt x="21600" y="22171"/>
                  </a:lnTo>
                  <a:lnTo>
                    <a:pt x="20200" y="20771"/>
                  </a:lnTo>
                  <a:lnTo>
                    <a:pt x="20200" y="1400"/>
                  </a:lnTo>
                  <a:close/>
                </a:path>
                <a:path fill="darkenLess" w="21600" h="22171">
                  <a:moveTo>
                    <a:pt x="21600" y="22171"/>
                  </a:moveTo>
                  <a:lnTo>
                    <a:pt x="0" y="22171"/>
                  </a:lnTo>
                  <a:lnTo>
                    <a:pt x="1400" y="20771"/>
                  </a:lnTo>
                  <a:lnTo>
                    <a:pt x="20200" y="20771"/>
                  </a:lnTo>
                  <a:close/>
                </a:path>
                <a:path fill="lighten" w="21600" h="22171">
                  <a:moveTo>
                    <a:pt x="0" y="2217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71"/>
                  </a:lnTo>
                  <a:close/>
                </a:path>
                <a:path fill="darken" w="21600" h="22171">
                  <a:moveTo>
                    <a:pt x="10800" y="15089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71">
                  <a:moveTo>
                    <a:pt x="11905" y="14567"/>
                  </a:moveTo>
                  <a:lnTo>
                    <a:pt x="11905" y="12609"/>
                  </a:lnTo>
                  <a:cubicBezTo>
                    <a:pt x="11905" y="11782"/>
                    <a:pt x="12236" y="11085"/>
                    <a:pt x="12837" y="11085"/>
                  </a:cubicBezTo>
                  <a:cubicBezTo>
                    <a:pt x="13968" y="11085"/>
                    <a:pt x="14865" y="9719"/>
                    <a:pt x="14865" y="8135"/>
                  </a:cubicBezTo>
                  <a:cubicBezTo>
                    <a:pt x="14865" y="5820"/>
                    <a:pt x="13011" y="4079"/>
                    <a:pt x="10800" y="4079"/>
                  </a:cubicBezTo>
                  <a:cubicBezTo>
                    <a:pt x="8589" y="4079"/>
                    <a:pt x="6918" y="5820"/>
                    <a:pt x="6918" y="8135"/>
                  </a:cubicBezTo>
                  <a:lnTo>
                    <a:pt x="8772" y="8135"/>
                  </a:lnTo>
                  <a:cubicBezTo>
                    <a:pt x="8772" y="6995"/>
                    <a:pt x="9695" y="6107"/>
                    <a:pt x="10800" y="6107"/>
                  </a:cubicBezTo>
                  <a:cubicBezTo>
                    <a:pt x="11905" y="6107"/>
                    <a:pt x="12837" y="6995"/>
                    <a:pt x="12837" y="8135"/>
                  </a:cubicBezTo>
                  <a:cubicBezTo>
                    <a:pt x="12837" y="8875"/>
                    <a:pt x="12367" y="9606"/>
                    <a:pt x="11905" y="9606"/>
                  </a:cubicBezTo>
                  <a:cubicBezTo>
                    <a:pt x="10800" y="9606"/>
                    <a:pt x="9695" y="11085"/>
                    <a:pt x="9695" y="12609"/>
                  </a:cubicBezTo>
                  <a:lnTo>
                    <a:pt x="9695" y="145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21160" y="561168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73160" y="495360"/>
            <a:ext cx="29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) фізичний мая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Управляющая кнопка: домой 85">
            <a:hlinkClick r:id="rId26" action="ppaction://hlinksldjump"/>
          </p:cNvPr>
          <p:cNvSpPr/>
          <p:nvPr/>
        </p:nvSpPr>
        <p:spPr>
          <a:xfrm>
            <a:off x="98280" y="586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513240" y="2214720"/>
            <a:ext cx="2638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Кінетична енергія обертального руху циліндра у системі відліку центра мас, яка рухається поступ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545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>
            <a:hlinkClick r:id="rId1" action="ppaction://hlinksldjump"/>
          </p:cNvPr>
          <p:cNvSpPr/>
          <p:nvPr/>
        </p:nvSpPr>
        <p:spPr>
          <a:xfrm>
            <a:off x="4251240" y="61056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03400" y="231840"/>
            <a:ext cx="71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остінний циліндр радіус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катається без проковзування по циліндричній поверхні радіус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у полі тяжіння (див. рис.) так, що вісь циліндра здійснює гармонічні коливання. Треба знайти пері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9080" y="1457280"/>
            <a:ext cx="5064120" cy="4176360"/>
            <a:chOff x="19080" y="1457280"/>
            <a:chExt cx="5064120" cy="4176360"/>
          </a:xfrm>
        </p:grpSpPr>
        <p:pic>
          <p:nvPicPr>
            <p:cNvPr id="550" name="" descr=""/>
            <p:cNvPicPr/>
            <p:nvPr/>
          </p:nvPicPr>
          <p:blipFill>
            <a:blip r:embed="rId2"/>
            <a:stretch/>
          </p:blipFill>
          <p:spPr>
            <a:xfrm>
              <a:off x="19080" y="3666960"/>
              <a:ext cx="4514760" cy="8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2247840" y="1457280"/>
              <a:ext cx="0" cy="305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20560" y="1457280"/>
              <a:ext cx="1727280" cy="249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3" name=""/>
            <p:cNvGraphicFramePr/>
            <p:nvPr/>
          </p:nvGraphicFramePr>
          <p:xfrm>
            <a:off x="1095480" y="2567160"/>
            <a:ext cx="215640" cy="24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95480" y="2567160"/>
                      <a:ext cx="215640" cy="2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5" name=""/>
            <p:cNvSpPr/>
            <p:nvPr/>
          </p:nvSpPr>
          <p:spPr>
            <a:xfrm>
              <a:off x="3371760" y="3867120"/>
              <a:ext cx="324000" cy="324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47840" y="1457280"/>
              <a:ext cx="1190520" cy="2398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2255760" y="1779480"/>
              <a:ext cx="228600" cy="352440"/>
              <a:chOff x="2255760" y="1779480"/>
              <a:chExt cx="228600" cy="352440"/>
            </a:xfrm>
          </p:grpSpPr>
          <p:sp>
            <p:nvSpPr>
              <p:cNvPr id="558" name=""/>
              <p:cNvSpPr/>
              <p:nvPr/>
            </p:nvSpPr>
            <p:spPr>
              <a:xfrm>
                <a:off x="2255760" y="1779480"/>
                <a:ext cx="162000" cy="85680"/>
              </a:xfrm>
              <a:custGeom>
                <a:avLst/>
                <a:gdLst/>
                <a:ahLst/>
                <a:rect l="l" t="t" r="r" b="b"/>
                <a:pathLst>
                  <a:path w="102" h="54">
                    <a:moveTo>
                      <a:pt x="0" y="54"/>
                    </a:moveTo>
                    <a:cubicBezTo>
                      <a:pt x="31" y="48"/>
                      <a:pt x="58" y="42"/>
                      <a:pt x="84" y="24"/>
                    </a:cubicBezTo>
                    <a:cubicBezTo>
                      <a:pt x="98" y="4"/>
                      <a:pt x="91" y="11"/>
                      <a:pt x="102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59" name=""/>
              <p:cNvGraphicFramePr/>
              <p:nvPr/>
            </p:nvGraphicFramePr>
            <p:xfrm>
              <a:off x="2259000" y="1877760"/>
              <a:ext cx="225360" cy="254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6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259000" y="1877760"/>
                        <a:ext cx="225360" cy="254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61" name=""/>
            <p:cNvGraphicFramePr/>
            <p:nvPr/>
          </p:nvGraphicFramePr>
          <p:xfrm>
            <a:off x="3479760" y="3613320"/>
            <a:ext cx="415800" cy="24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79760" y="3613320"/>
                      <a:ext cx="41580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63" name=""/>
            <p:cNvGrpSpPr/>
            <p:nvPr/>
          </p:nvGrpSpPr>
          <p:grpSpPr>
            <a:xfrm>
              <a:off x="3027240" y="1522440"/>
              <a:ext cx="287280" cy="409680"/>
              <a:chOff x="3027240" y="1522440"/>
              <a:chExt cx="287280" cy="409680"/>
            </a:xfrm>
          </p:grpSpPr>
          <p:sp>
            <p:nvSpPr>
              <p:cNvPr id="564" name=""/>
              <p:cNvSpPr/>
              <p:nvPr/>
            </p:nvSpPr>
            <p:spPr>
              <a:xfrm>
                <a:off x="3027240" y="1522440"/>
                <a:ext cx="0" cy="4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65" name=""/>
              <p:cNvGraphicFramePr/>
              <p:nvPr/>
            </p:nvGraphicFramePr>
            <p:xfrm>
              <a:off x="3052800" y="1543320"/>
              <a:ext cx="261720" cy="3744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6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52800" y="1543320"/>
                        <a:ext cx="26172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67" name=""/>
            <p:cNvSpPr/>
            <p:nvPr/>
          </p:nvSpPr>
          <p:spPr>
            <a:xfrm flipV="1">
              <a:off x="561960" y="4304880"/>
              <a:ext cx="55260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7040" y="4770360"/>
              <a:ext cx="4140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600" y="4764240"/>
              <a:ext cx="149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Comic Sans MS"/>
                </a:rPr>
                <a:t>циліндрична поверх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00440" y="5110200"/>
              <a:ext cx="4104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3610080" y="4190760"/>
              <a:ext cx="55224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2828880" y="4161960"/>
              <a:ext cx="61920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87760" y="4761000"/>
              <a:ext cx="149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Comic Sans MS"/>
                </a:rPr>
                <a:t>без проковзува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16160" y="5113440"/>
              <a:ext cx="149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Comic Sans MS"/>
                </a:rPr>
                <a:t>тонкостінний  цилінд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6492960" y="15303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475160" y="603108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5546880" y="1670040"/>
          <a:ext cx="2658960" cy="39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46880" y="1670040"/>
                    <a:ext cx="26589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5751360" y="4324320"/>
          <a:ext cx="1249560" cy="37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51360" y="4324320"/>
                    <a:ext cx="1249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4726080" y="1103400"/>
            <a:ext cx="3990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Підказки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: Кінетична енергія циліндра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>
            <a:hlinkClick r:id="rId15" action="ppaction://hlinksldjump"/>
          </p:cNvPr>
          <p:cNvSpPr/>
          <p:nvPr/>
        </p:nvSpPr>
        <p:spPr>
          <a:xfrm>
            <a:off x="6254640" y="16048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rId16" action="ppaction://hlinksldjump"/>
          </p:cNvPr>
          <p:cNvSpPr/>
          <p:nvPr/>
        </p:nvSpPr>
        <p:spPr>
          <a:xfrm>
            <a:off x="7273800" y="15955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738840" y="1749600"/>
            <a:ext cx="200160" cy="31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910120" y="2063880"/>
            <a:ext cx="324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08280" y="233856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43480" y="3044880"/>
            <a:ext cx="42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Кутова швидкість (а не циклічна частота коливань!), з якою тонкостінний циліндр обертається навколо власної ос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rId17" action="ppaction://hlinksldjump"/>
          </p:cNvPr>
          <p:cNvSpPr/>
          <p:nvPr/>
        </p:nvSpPr>
        <p:spPr>
          <a:xfrm>
            <a:off x="6272280" y="421308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43360" y="384336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 умови відсутності проковзува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5799240" y="5180040"/>
          <a:ext cx="1417680" cy="458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799240" y="5180040"/>
                    <a:ext cx="14176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>
            <a:hlinkClick r:id="rId20" action="ppaction://hlinksldjump"/>
          </p:cNvPr>
          <p:cNvSpPr/>
          <p:nvPr/>
        </p:nvSpPr>
        <p:spPr>
          <a:xfrm>
            <a:off x="6413400" y="510048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621480" y="50324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96200" y="41353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500960" y="15238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483240" y="1521000"/>
            <a:ext cx="2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65720" y="1490760"/>
            <a:ext cx="933480" cy="74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58160" y="2413080"/>
            <a:ext cx="210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Кінетична енергія центра мас цилін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211880" y="1479600"/>
            <a:ext cx="990720" cy="743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19440" y="2209680"/>
            <a:ext cx="229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194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241760" y="2176560"/>
            <a:ext cx="21924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226280" y="247968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6030720" y="2060640"/>
            <a:ext cx="7808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996160" y="304956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56200" y="47275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 потенціальна енергія цилінд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7040" y="5716440"/>
            <a:ext cx="846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Скориставшись узагальненим висновком щодо періоду гармонічних коливань (див. 7.4), можна отрима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3759120" y="6188040"/>
          <a:ext cx="1063800" cy="405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59120" y="6188040"/>
                    <a:ext cx="10638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8229600" y="1911240"/>
            <a:ext cx="17640" cy="1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4040" y="25092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Comic Sans MS"/>
              </a:rPr>
              <a:t>За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Управляющая кнопка: домой 85">
            <a:hlinkClick r:id="rId23" action="ppaction://hlinksldjump"/>
          </p:cNvPr>
          <p:cNvSpPr/>
          <p:nvPr/>
        </p:nvSpPr>
        <p:spPr>
          <a:xfrm>
            <a:off x="76320" y="5724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16:39:23Z</dcterms:created>
  <dc:creator>Vial</dc:creator>
  <dc:description/>
  <dc:language>en-US</dc:language>
  <cp:lastModifiedBy>User</cp:lastModifiedBy>
  <dcterms:modified xsi:type="dcterms:W3CDTF">2010-09-04T14:47:20Z</dcterms:modified>
  <cp:revision>586</cp:revision>
  <dc:subject/>
  <dc:title>Слайд 1</dc:title>
</cp:coreProperties>
</file>