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media/image127.wmf" ContentType="image/x-wmf"/>
  <Override PartName="/ppt/media/image195.wmf" ContentType="image/x-wmf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8.wmf" ContentType="image/x-wmf"/>
  <Override PartName="/ppt/media/image186.wmf" ContentType="image/x-wmf"/>
  <Override PartName="/ppt/media/image117.wmf" ContentType="image/x-wmf"/>
  <Override PartName="/ppt/media/image185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9.wmf" ContentType="image/x-wmf"/>
  <Override PartName="/ppt/media/image177.wmf" ContentType="image/x-wmf"/>
  <Override PartName="/ppt/media/image108.wmf" ContentType="image/x-wmf"/>
  <Override PartName="/ppt/media/image176.wmf" ContentType="image/x-wmf"/>
  <Override PartName="/ppt/media/image107.wmf" ContentType="image/x-wmf"/>
  <Override PartName="/ppt/media/image175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7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0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88.wmf" ContentType="image/x-wmf"/>
  <Override PartName="/ppt/media/image20.png" ContentType="image/png"/>
  <Override PartName="/ppt/media/image89.wmf" ContentType="image/x-wmf"/>
  <Override PartName="/ppt/media/image21.png" ContentType="image/png"/>
  <Override PartName="/ppt/media/image80.wmf" ContentType="image/x-wmf"/>
  <Override PartName="/ppt/media/image15.wmf" ContentType="image/x-wmf"/>
  <Override PartName="/ppt/media/image83.wmf" ContentType="image/x-wmf"/>
  <Override PartName="/ppt/media/image24.wmf" ContentType="image/x-wmf"/>
  <Override PartName="/ppt/media/image92.wmf" ContentType="image/x-wmf"/>
  <Override PartName="/ppt/media/image31.wmf" ContentType="image/x-wmf"/>
  <Override PartName="/ppt/media/image9.wmf" ContentType="image/x-wmf"/>
  <Override PartName="/ppt/media/image25.wmf" ContentType="image/x-wmf"/>
  <Override PartName="/ppt/media/image93.wmf" ContentType="image/x-wmf"/>
  <Override PartName="/ppt/media/image14.wmf" ContentType="image/x-wmf"/>
  <Override PartName="/ppt/media/image82.wmf" ContentType="image/x-wmf"/>
  <Override PartName="/ppt/media/image2.wmf" ContentType="image/x-wmf"/>
  <Override PartName="/ppt/media/image19.png" ContentType="image/png"/>
  <Override PartName="/ppt/media/image154.wmf" ContentType="image/x-wmf"/>
  <Override PartName="/ppt/media/image3.png" ContentType="image/png"/>
  <Override PartName="/ppt/media/image215.wmf" ContentType="image/x-wmf"/>
  <Override PartName="/ppt/media/image33.png" ContentType="image/png"/>
  <Override PartName="/ppt/media/image100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98.wmf" ContentType="image/x-wmf"/>
  <Override PartName="/ppt/media/image30.png" ContentType="image/png"/>
  <Override PartName="/ppt/media/image78.wmf" ContentType="image/x-wmf"/>
  <Override PartName="/ppt/media/image10.png" ContentType="image/png"/>
  <Override PartName="/ppt/media/image50.wmf" ContentType="image/x-wmf"/>
  <Override PartName="/ppt/media/image17.wmf" ContentType="image/x-wmf"/>
  <Override PartName="/ppt/media/image85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79.wmf" ContentType="image/x-wmf"/>
  <Override PartName="/ppt/media/image11.png" ContentType="image/png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12.png" ContentType="image/png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99.wmf" ContentType="image/x-wmf"/>
  <Override PartName="/ppt/media/image37.wmf" ContentType="image/x-wmf"/>
  <Override PartName="/ppt/media/image203.wmf" ContentType="image/x-wmf"/>
  <Override PartName="/ppt/media/image47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206.wmf" ContentType="image/x-wmf"/>
  <Override PartName="/ppt/media/image207.wmf" ContentType="image/x-wmf"/>
  <Override PartName="/ppt/media/image213.wmf" ContentType="image/x-wmf"/>
  <Override PartName="/ppt/media/image57.wmf" ContentType="image/x-wmf"/>
  <Override PartName="/ppt/media/image198.wmf" ContentType="image/x-wmf"/>
  <Override PartName="/ppt/media/image214.wmf" ContentType="image/x-wmf"/>
  <Override PartName="/ppt/media/image58.wmf" ContentType="image/x-wmf"/>
  <Override PartName="/ppt/media/image216.wmf" ContentType="image/x-wmf"/>
  <Override PartName="/ppt/media/image217.wmf" ContentType="image/x-wmf"/>
  <Override PartName="/ppt/media/image218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40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41.wmf" ContentType="image/x-wmf"/>
  <Override PartName="/ppt/media/image8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42.wmf" ContentType="image/x-wmf"/>
  <Override PartName="/ppt/media/image243.wmf" ContentType="image/x-wmf"/>
  <Override PartName="/ppt/media/image244.wmf" ContentType="image/x-wmf"/>
  <Override PartName="/ppt/media/image245.wmf" ContentType="image/x-wmf"/>
  <Override PartName="/ppt/media/image140.wmf" ContentType="image/x-wmf"/>
  <Override PartName="/ppt/media/image246.wmf" ContentType="image/x-wmf"/>
  <Override PartName="/ppt/media/image141.wmf" ContentType="image/x-wmf"/>
  <Override PartName="/ppt/media/image210.wmf" ContentType="image/x-wmf"/>
  <Override PartName="/ppt/media/image54.wmf" ContentType="image/x-wmf"/>
  <Override PartName="/ppt/media/image247.wmf" ContentType="image/x-wmf"/>
  <Override PartName="/ppt/media/image142.wmf" ContentType="image/x-wmf"/>
  <Override PartName="/ppt/media/image211.wmf" ContentType="image/x-wmf"/>
  <Override PartName="/ppt/media/image55.wmf" ContentType="image/x-wmf"/>
  <Override PartName="/ppt/media/image248.wmf" ContentType="image/x-wmf"/>
  <Override PartName="/ppt/media/image143.wmf" ContentType="image/x-wmf"/>
  <Override PartName="/ppt/media/image208.wmf" ContentType="image/x-wmf"/>
  <Override PartName="/ppt/media/image250.wmf" ContentType="image/x-wmf"/>
  <Override PartName="/ppt/media/image212.wmf" ContentType="image/x-wmf"/>
  <Override PartName="/ppt/media/image56.wmf" ContentType="image/x-wmf"/>
  <Override PartName="/ppt/media/image249.wmf" ContentType="image/x-wmf"/>
  <Override PartName="/ppt/media/image144.wmf" ContentType="image/x-wmf"/>
  <Override PartName="/ppt/media/image209.wmf" ContentType="image/x-wmf"/>
  <Override PartName="/ppt/media/image25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36.wmf" ContentType="image/x-wmf"/>
  <Override PartName="/ppt/media/image131.wmf" ContentType="image/x-wmf"/>
  <Override PartName="/ppt/media/image235.wmf" ContentType="image/x-wmf"/>
  <Override PartName="/ppt/media/image130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29.wmf" ContentType="image/x-wmf"/>
  <Override PartName="/ppt/media/image230.wmf" ContentType="image/x-wmf"/>
  <Override PartName="/ppt/media/image228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162.wmf" ContentType="image/x-wmf"/>
  <Override PartName="/ppt/media/image161.wmf" ContentType="image/x-wmf"/>
  <Override PartName="/ppt/media/image160.wmf" ContentType="image/x-wmf"/>
  <Override PartName="/ppt/media/image155.wmf" ContentType="image/x-wmf"/>
  <Override PartName="/ppt/media/image152.wmf" ContentType="image/x-wmf"/>
  <Override PartName="/ppt/media/image150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51.png" ContentType="image/png"/>
  <Override PartName="/ppt/media/image105.wmf" ContentType="image/x-wmf"/>
  <Override PartName="/ppt/media/image173.wmf" ContentType="image/x-wmf"/>
  <Override PartName="/ppt/media/image43.wmf" ContentType="image/x-wmf"/>
  <Override PartName="/ppt/media/image84.png" ContentType="image/png"/>
  <Override PartName="/ppt/media/image151.wmf" ContentType="image/x-wmf"/>
  <Override PartName="/ppt/media/image32.png" ContentType="image/png"/>
  <Override PartName="/ppt/media/image61.wmf" ContentType="image/x-wmf"/>
  <Override PartName="/ppt/media/image52.png" ContentType="image/png"/>
  <Override PartName="/ppt/media/image39.png" ContentType="image/png"/>
  <Override PartName="/ppt/media/image106.wmf" ContentType="image/x-wmf"/>
  <Override PartName="/ppt/media/image174.wmf" ContentType="image/x-wmf"/>
  <Override PartName="/ppt/media/image153.wmf" ContentType="image/x-wmf"/>
  <Override PartName="/ppt/media/image1.wmf" ContentType="image/x-wmf"/>
  <Override PartName="/ppt/media/image40.png" ContentType="image/png"/>
  <Override PartName="/ppt/media/image38.wmf" ContentType="image/x-wmf"/>
  <Override PartName="/ppt/media/image7.wmf" ContentType="image/x-wmf"/>
  <Override PartName="/ppt/media/image15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DFE-E64E-4812-A95D-A9D21137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22AC-534A-4349-8BA0-0328146E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6F9-67D6-4F84-981A-BD9AD5D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B11-145E-43B0-9F47-D9502F54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A2D-C3A0-4313-89DF-93F3ED4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FE1-2FE2-482B-B3CF-C3F001CF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F1E-924C-4913-ACDD-2158471E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3B8-00A7-4A31-8F79-A594D665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B748-AD6D-4D77-A42B-0582515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C59-85F7-409C-BA18-16EF9F9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F46-E70C-4874-A675-986010C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785-F2B0-4864-B9EB-7D3EA93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BCB8-5876-43B0-A2C7-5C07A65E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6.xml"/><Relationship Id="rId11" Type="http://schemas.openxmlformats.org/officeDocument/2006/relationships/slide" Target="slide5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2.xml"/><Relationship Id="rId18" Type="http://schemas.openxmlformats.org/officeDocument/2006/relationships/slide" Target="slide7.xml"/><Relationship Id="rId19" Type="http://schemas.openxmlformats.org/officeDocument/2006/relationships/slide" Target="slide9.xml"/><Relationship Id="rId20" Type="http://schemas.openxmlformats.org/officeDocument/2006/relationships/slide" Target="slide1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" Target="slide46.xml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" Target="slide47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slide" Target="slide49.xml"/><Relationship Id="rId5" Type="http://schemas.openxmlformats.org/officeDocument/2006/relationships/slide" Target="slide50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9.wmf"/><Relationship Id="rId20" Type="http://schemas.openxmlformats.org/officeDocument/2006/relationships/slide" Target="slide51.xml"/><Relationship Id="rId21" Type="http://schemas.openxmlformats.org/officeDocument/2006/relationships/slide" Target="slide52.xml"/><Relationship Id="rId22" Type="http://schemas.openxmlformats.org/officeDocument/2006/relationships/slide" Target="slide53.xml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50.wmf"/><Relationship Id="rId25" Type="http://schemas.openxmlformats.org/officeDocument/2006/relationships/image" Target="../media/image51.png"/><Relationship Id="rId26" Type="http://schemas.openxmlformats.org/officeDocument/2006/relationships/image" Target="../media/image52.png"/><Relationship Id="rId27" Type="http://schemas.openxmlformats.org/officeDocument/2006/relationships/oleObject" Target="../embeddings/oleObject11.bin"/><Relationship Id="rId28" Type="http://schemas.openxmlformats.org/officeDocument/2006/relationships/image" Target="../media/image53.wmf"/><Relationship Id="rId29" Type="http://schemas.openxmlformats.org/officeDocument/2006/relationships/oleObject" Target="../embeddings/oleObject12.bin"/><Relationship Id="rId30" Type="http://schemas.openxmlformats.org/officeDocument/2006/relationships/image" Target="../media/image54.wmf"/><Relationship Id="rId31" Type="http://schemas.openxmlformats.org/officeDocument/2006/relationships/oleObject" Target="../embeddings/oleObject13.bin"/><Relationship Id="rId32" Type="http://schemas.openxmlformats.org/officeDocument/2006/relationships/image" Target="../media/image55.wmf"/><Relationship Id="rId33" Type="http://schemas.openxmlformats.org/officeDocument/2006/relationships/oleObject" Target="../embeddings/oleObject14.bin"/><Relationship Id="rId34" Type="http://schemas.openxmlformats.org/officeDocument/2006/relationships/image" Target="../media/image56.wmf"/><Relationship Id="rId35" Type="http://schemas.openxmlformats.org/officeDocument/2006/relationships/oleObject" Target="../embeddings/oleObject15.bin"/><Relationship Id="rId36" Type="http://schemas.openxmlformats.org/officeDocument/2006/relationships/image" Target="../media/image57.wmf"/><Relationship Id="rId37" Type="http://schemas.openxmlformats.org/officeDocument/2006/relationships/oleObject" Target="../embeddings/oleObject16.bin"/><Relationship Id="rId38" Type="http://schemas.openxmlformats.org/officeDocument/2006/relationships/image" Target="../media/image58.wmf"/><Relationship Id="rId39" Type="http://schemas.openxmlformats.org/officeDocument/2006/relationships/oleObject" Target="../embeddings/oleObject17.bin"/><Relationship Id="rId40" Type="http://schemas.openxmlformats.org/officeDocument/2006/relationships/image" Target="../media/image59.wmf"/><Relationship Id="rId41" Type="http://schemas.openxmlformats.org/officeDocument/2006/relationships/oleObject" Target="../embeddings/oleObject18.bin"/><Relationship Id="rId42" Type="http://schemas.openxmlformats.org/officeDocument/2006/relationships/image" Target="../media/image60.wmf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" Target="slide54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wmf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0.wmf"/><Relationship Id="rId17" Type="http://schemas.openxmlformats.org/officeDocument/2006/relationships/slide" Target="slide56.xml"/><Relationship Id="rId18" Type="http://schemas.openxmlformats.org/officeDocument/2006/relationships/slide" Target="slide1.xml"/><Relationship Id="rId1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slide" Target="slide58.xml"/><Relationship Id="rId6" Type="http://schemas.openxmlformats.org/officeDocument/2006/relationships/slide" Target="slide59.xml"/><Relationship Id="rId7" Type="http://schemas.openxmlformats.org/officeDocument/2006/relationships/oleObject" Target="../embeddings/oleObject3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7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0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3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67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" Target="slide19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image" Target="../media/image8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5.wmf"/><Relationship Id="rId8" Type="http://schemas.openxmlformats.org/officeDocument/2006/relationships/slide" Target="slide1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slide" Target="slide1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slide" Target="slide1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image" Target="../media/image10.png"/><Relationship Id="rId6" Type="http://schemas.openxmlformats.org/officeDocument/2006/relationships/slide" Target="slide1.xml"/><Relationship Id="rId7" Type="http://schemas.openxmlformats.org/officeDocument/2006/relationships/slide" Target="slide4.xml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1.wmf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slide" Target="slide1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image" Target="../media/image19.png"/><Relationship Id="rId14" Type="http://schemas.openxmlformats.org/officeDocument/2006/relationships/slide" Target="slide1.xml"/><Relationship Id="rId15" Type="http://schemas.openxmlformats.org/officeDocument/2006/relationships/slide" Target="slide6.xml"/><Relationship Id="rId1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" Target="slide1.xml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slide" Target="slide1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image" Target="../media/image21.png"/><Relationship Id="rId4" Type="http://schemas.openxmlformats.org/officeDocument/2006/relationships/slide" Target="slide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5.wmf"/><Relationship Id="rId4" Type="http://schemas.openxmlformats.org/officeDocument/2006/relationships/slide" Target="slide1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wmf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slide" Target="slide1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wmf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slide" Target="slide1.xml"/><Relationship Id="rId6" Type="http://schemas.openxmlformats.org/officeDocument/2006/relationships/slide" Target="slide8.xm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slide" Target="slide1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6.wmf"/><Relationship Id="rId4" Type="http://schemas.openxmlformats.org/officeDocument/2006/relationships/slide" Target="slide1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slide" Target="slide1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image" Target="../media/image32.png"/><Relationship Id="rId4" Type="http://schemas.openxmlformats.org/officeDocument/2006/relationships/slide" Target="slide1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3.wmf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5.wmf"/><Relationship Id="rId17" Type="http://schemas.openxmlformats.org/officeDocument/2006/relationships/slide" Target="slide1.xml"/><Relationship Id="rId1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9.wmf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2.wmf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9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" Target="slide27.xml"/><Relationship Id="rId6" Type="http://schemas.openxmlformats.org/officeDocument/2006/relationships/slide" Target="slide26.xml"/><Relationship Id="rId7" Type="http://schemas.openxmlformats.org/officeDocument/2006/relationships/slide" Target="slide28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3.wmf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1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2.wmf"/><Relationship Id="rId27" Type="http://schemas.openxmlformats.org/officeDocument/2006/relationships/slide" Target="slide1.xml"/><Relationship Id="rId2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9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4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0.wmf"/><Relationship Id="rId21" Type="http://schemas.openxmlformats.org/officeDocument/2006/relationships/slide" Target="slide1.xml"/><Relationship Id="rId2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3.wmf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3.wmf"/><Relationship Id="rId25" Type="http://schemas.openxmlformats.org/officeDocument/2006/relationships/slide" Target="slide1.xml"/><Relationship Id="rId2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4.wmf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9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image" Target="../media/image19.png"/><Relationship Id="rId15" Type="http://schemas.openxmlformats.org/officeDocument/2006/relationships/slide" Target="slide30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2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9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0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3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34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33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35.wmf"/><Relationship Id="rId59" Type="http://schemas.openxmlformats.org/officeDocument/2006/relationships/slide" Target="slide1.xml"/><Relationship Id="rId60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5.wmf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1.wmf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34.xml"/><Relationship Id="rId3" Type="http://schemas.openxmlformats.org/officeDocument/2006/relationships/image" Target="../media/image21.png"/><Relationship Id="rId4" Type="http://schemas.openxmlformats.org/officeDocument/2006/relationships/slide" Target="slide36.xml"/><Relationship Id="rId5" Type="http://schemas.openxmlformats.org/officeDocument/2006/relationships/slide" Target="slide37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slide" Target="slide33.xml"/><Relationship Id="rId17" Type="http://schemas.openxmlformats.org/officeDocument/2006/relationships/slide" Target="slide32.xml"/><Relationship Id="rId18" Type="http://schemas.openxmlformats.org/officeDocument/2006/relationships/slide" Target="slide35.xml"/><Relationship Id="rId19" Type="http://schemas.openxmlformats.org/officeDocument/2006/relationships/slide" Target="slide1.xml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" Target="slide38.xml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image" Target="../media/image30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1.wmf"/><Relationship Id="rId23" Type="http://schemas.openxmlformats.org/officeDocument/2006/relationships/slide" Target="slide40.xml"/><Relationship Id="rId24" Type="http://schemas.openxmlformats.org/officeDocument/2006/relationships/slide" Target="slide40.xml"/><Relationship Id="rId25" Type="http://schemas.openxmlformats.org/officeDocument/2006/relationships/slide" Target="slide40.xml"/><Relationship Id="rId26" Type="http://schemas.openxmlformats.org/officeDocument/2006/relationships/slide" Target="slide40.xml"/><Relationship Id="rId27" Type="http://schemas.openxmlformats.org/officeDocument/2006/relationships/slide" Target="slide1.xml"/><Relationship Id="rId2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4788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БЕРТАЛЬНИЙ РУХ ТВЕРДОГО ТІ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17480" y="868320"/>
            <a:ext cx="8263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НЕТИЧНА ЕНЕРГІЯ ОБЕРТАЛЬНОГО РУХУ ТВЕРДОГО ТІ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Управляющая кнопка: документ 8">
            <a:hlinkClick r:id="rId1" action="ppaction://hlinksldjump"/>
          </p:cNvPr>
          <p:cNvSpPr/>
          <p:nvPr/>
        </p:nvSpPr>
        <p:spPr>
          <a:xfrm>
            <a:off x="1492200" y="126684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85880" y="3689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Момент інерції ку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кумент 10">
            <a:hlinkClick r:id="rId2" action="ppaction://hlinksldjump"/>
          </p:cNvPr>
          <p:cNvSpPr/>
          <p:nvPr/>
        </p:nvSpPr>
        <p:spPr>
          <a:xfrm>
            <a:off x="2208240" y="182556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окумент 12">
            <a:hlinkClick r:id="rId3" action="ppaction://hlinksldjump"/>
          </p:cNvPr>
          <p:cNvSpPr/>
          <p:nvPr/>
        </p:nvSpPr>
        <p:spPr>
          <a:xfrm>
            <a:off x="2192400" y="3641760"/>
            <a:ext cx="412560" cy="43344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3440"/>
              <a:gd name="textAreaBottom" fmla="*/ 406800 h 433440"/>
            </a:gdLst>
            <a:ahLst/>
            <a:rect l="textAreaLeft" t="textAreaTop" r="textAreaRight" b="textAreaBottom"/>
            <a:pathLst>
              <a:path w="21600" h="22692">
                <a:moveTo>
                  <a:pt x="0" y="0"/>
                </a:moveTo>
                <a:lnTo>
                  <a:pt x="21600" y="0"/>
                </a:lnTo>
                <a:lnTo>
                  <a:pt x="21600" y="22692"/>
                </a:lnTo>
                <a:lnTo>
                  <a:pt x="0" y="22692"/>
                </a:lnTo>
                <a:close/>
              </a:path>
              <a:path fill="lightenLess" w="21600" h="22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2">
                <a:moveTo>
                  <a:pt x="21600" y="0"/>
                </a:moveTo>
                <a:lnTo>
                  <a:pt x="21600" y="22692"/>
                </a:lnTo>
                <a:lnTo>
                  <a:pt x="20200" y="21292"/>
                </a:lnTo>
                <a:lnTo>
                  <a:pt x="20200" y="1400"/>
                </a:lnTo>
                <a:close/>
              </a:path>
              <a:path fill="darkenLess" w="21600" h="22692">
                <a:moveTo>
                  <a:pt x="21600" y="22692"/>
                </a:moveTo>
                <a:lnTo>
                  <a:pt x="0" y="22692"/>
                </a:lnTo>
                <a:lnTo>
                  <a:pt x="1400" y="21292"/>
                </a:lnTo>
                <a:lnTo>
                  <a:pt x="20200" y="21292"/>
                </a:lnTo>
                <a:close/>
              </a:path>
              <a:path fill="lighten" w="21600" h="22692">
                <a:moveTo>
                  <a:pt x="0" y="22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2"/>
                </a:lnTo>
                <a:close/>
              </a:path>
              <a:path fill="darkenLess" w="21600" h="22692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2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Управляющая кнопка: документ 16">
            <a:hlinkClick r:id="rId4" action="ppaction://hlinksldjump"/>
          </p:cNvPr>
          <p:cNvSpPr/>
          <p:nvPr/>
        </p:nvSpPr>
        <p:spPr>
          <a:xfrm>
            <a:off x="325440" y="241128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документ 20">
            <a:hlinkClick r:id="rId5" action="ppaction://hlinksldjump"/>
          </p:cNvPr>
          <p:cNvSpPr/>
          <p:nvPr/>
        </p:nvSpPr>
        <p:spPr>
          <a:xfrm>
            <a:off x="320760" y="4861080"/>
            <a:ext cx="444240" cy="417240"/>
          </a:xfrm>
          <a:custGeom>
            <a:avLst/>
            <a:gdLst>
              <a:gd name="textAreaLeft" fmla="*/ 27000 w 444240"/>
              <a:gd name="textAreaRight" fmla="*/ 417240 w 44424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2997" h="21600">
                <a:moveTo>
                  <a:pt x="0" y="0"/>
                </a:moveTo>
                <a:lnTo>
                  <a:pt x="22997" y="0"/>
                </a:lnTo>
                <a:lnTo>
                  <a:pt x="22997" y="21600"/>
                </a:lnTo>
                <a:lnTo>
                  <a:pt x="0" y="21600"/>
                </a:lnTo>
                <a:close/>
              </a:path>
              <a:path fill="lightenLess" w="22997" h="21600">
                <a:moveTo>
                  <a:pt x="0" y="0"/>
                </a:moveTo>
                <a:lnTo>
                  <a:pt x="22997" y="0"/>
                </a:lnTo>
                <a:lnTo>
                  <a:pt x="21597" y="1400"/>
                </a:lnTo>
                <a:lnTo>
                  <a:pt x="1400" y="1400"/>
                </a:lnTo>
                <a:close/>
              </a:path>
              <a:path fill="darken" w="22997" h="21600">
                <a:moveTo>
                  <a:pt x="22997" y="0"/>
                </a:moveTo>
                <a:lnTo>
                  <a:pt x="22997" y="21600"/>
                </a:lnTo>
                <a:lnTo>
                  <a:pt x="21597" y="20200"/>
                </a:lnTo>
                <a:lnTo>
                  <a:pt x="21597" y="1400"/>
                </a:lnTo>
                <a:close/>
              </a:path>
              <a:path fill="darkenLess" w="22997" h="21600">
                <a:moveTo>
                  <a:pt x="22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97" y="20200"/>
                </a:lnTo>
                <a:close/>
              </a:path>
              <a:path fill="lighten" w="22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97" h="21600">
                <a:moveTo>
                  <a:pt x="5971" y="3985"/>
                </a:moveTo>
                <a:lnTo>
                  <a:pt x="12969" y="3985"/>
                </a:lnTo>
                <a:lnTo>
                  <a:pt x="17025" y="7484"/>
                </a:lnTo>
                <a:lnTo>
                  <a:pt x="17025" y="17615"/>
                </a:lnTo>
                <a:lnTo>
                  <a:pt x="5971" y="17615"/>
                </a:lnTo>
                <a:close/>
              </a:path>
              <a:path fill="darken" w="22997" h="21600">
                <a:moveTo>
                  <a:pt x="12969" y="3985"/>
                </a:moveTo>
                <a:lnTo>
                  <a:pt x="17025" y="7484"/>
                </a:lnTo>
                <a:lnTo>
                  <a:pt x="1296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41240" y="4911840"/>
            <a:ext cx="4538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ОРЕМА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8578800" y="83664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документ 8">
            <a:hlinkClick r:id="rId7" action="ppaction://hlinksldjump"/>
          </p:cNvPr>
          <p:cNvSpPr/>
          <p:nvPr/>
        </p:nvSpPr>
        <p:spPr>
          <a:xfrm>
            <a:off x="287280" y="792000"/>
            <a:ext cx="442800" cy="417600"/>
          </a:xfrm>
          <a:custGeom>
            <a:avLst/>
            <a:gdLst>
              <a:gd name="textAreaLeft" fmla="*/ 27000 w 442800"/>
              <a:gd name="textAreaRight" fmla="*/ 415800 w 442800"/>
              <a:gd name="textAreaTop" fmla="*/ 27000 h 417600"/>
              <a:gd name="textAreaBottom" fmla="*/ 390600 h 417600"/>
            </a:gdLst>
            <a:ahLst/>
            <a:rect l="textAreaLeft" t="textAreaTop" r="textAreaRight" b="textAreaBottom"/>
            <a:pathLst>
              <a:path w="22902" h="21600">
                <a:moveTo>
                  <a:pt x="0" y="0"/>
                </a:moveTo>
                <a:lnTo>
                  <a:pt x="22902" y="0"/>
                </a:lnTo>
                <a:lnTo>
                  <a:pt x="22902" y="21600"/>
                </a:lnTo>
                <a:lnTo>
                  <a:pt x="0" y="21600"/>
                </a:lnTo>
                <a:close/>
              </a:path>
              <a:path fill="lightenLess" w="22902" h="21600">
                <a:moveTo>
                  <a:pt x="0" y="0"/>
                </a:moveTo>
                <a:lnTo>
                  <a:pt x="22902" y="0"/>
                </a:lnTo>
                <a:lnTo>
                  <a:pt x="21502" y="1400"/>
                </a:lnTo>
                <a:lnTo>
                  <a:pt x="1400" y="1400"/>
                </a:lnTo>
                <a:close/>
              </a:path>
              <a:path fill="darken" w="22902" h="21600">
                <a:moveTo>
                  <a:pt x="22902" y="0"/>
                </a:moveTo>
                <a:lnTo>
                  <a:pt x="22902" y="21600"/>
                </a:lnTo>
                <a:lnTo>
                  <a:pt x="21502" y="20200"/>
                </a:lnTo>
                <a:lnTo>
                  <a:pt x="21502" y="1400"/>
                </a:lnTo>
                <a:close/>
              </a:path>
              <a:path fill="darkenLess" w="22902" h="21600">
                <a:moveTo>
                  <a:pt x="22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2" y="20200"/>
                </a:lnTo>
                <a:close/>
              </a:path>
              <a:path fill="lighten" w="22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2902" h="21600">
                <a:moveTo>
                  <a:pt x="5924" y="3985"/>
                </a:moveTo>
                <a:lnTo>
                  <a:pt x="12922" y="3985"/>
                </a:lnTo>
                <a:lnTo>
                  <a:pt x="16978" y="7484"/>
                </a:lnTo>
                <a:lnTo>
                  <a:pt x="16978" y="17615"/>
                </a:lnTo>
                <a:lnTo>
                  <a:pt x="5924" y="17615"/>
                </a:lnTo>
                <a:close/>
              </a:path>
              <a:path fill="darken" w="22902" h="21600">
                <a:moveTo>
                  <a:pt x="12922" y="3985"/>
                </a:moveTo>
                <a:lnTo>
                  <a:pt x="16978" y="7484"/>
                </a:lnTo>
                <a:lnTo>
                  <a:pt x="12922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7921800" y="12826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8277120" y="12873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548160" y="24811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4119480" y="1886040"/>
            <a:ext cx="292320" cy="34740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65">
                <a:moveTo>
                  <a:pt x="0" y="0"/>
                </a:moveTo>
                <a:lnTo>
                  <a:pt x="21600" y="0"/>
                </a:lnTo>
                <a:lnTo>
                  <a:pt x="21600" y="25665"/>
                </a:lnTo>
                <a:lnTo>
                  <a:pt x="0" y="25665"/>
                </a:lnTo>
                <a:close/>
              </a:path>
              <a:path fill="lightenLess" w="21600" h="25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65">
                <a:moveTo>
                  <a:pt x="21600" y="0"/>
                </a:moveTo>
                <a:lnTo>
                  <a:pt x="21600" y="25665"/>
                </a:lnTo>
                <a:lnTo>
                  <a:pt x="20200" y="24265"/>
                </a:lnTo>
                <a:lnTo>
                  <a:pt x="20200" y="1400"/>
                </a:lnTo>
                <a:close/>
              </a:path>
              <a:path fill="darkenLess" w="21600" h="25665">
                <a:moveTo>
                  <a:pt x="21600" y="25665"/>
                </a:moveTo>
                <a:lnTo>
                  <a:pt x="0" y="25665"/>
                </a:lnTo>
                <a:lnTo>
                  <a:pt x="1400" y="24265"/>
                </a:lnTo>
                <a:lnTo>
                  <a:pt x="20200" y="24265"/>
                </a:lnTo>
                <a:close/>
              </a:path>
              <a:path fill="lighten" w="21600" h="25665">
                <a:moveTo>
                  <a:pt x="0" y="25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6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3402000" y="31050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943520" y="371952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4716360" y="438948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222880" y="4915080"/>
            <a:ext cx="291960" cy="34740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400"/>
              <a:gd name="textAreaBottom" fmla="*/ 328680 h 34740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5572080" y="49179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3382920" y="5524560"/>
            <a:ext cx="292320" cy="347760"/>
          </a:xfrm>
          <a:custGeom>
            <a:avLst/>
            <a:gdLst>
              <a:gd name="textAreaLeft" fmla="*/ 18720 w 292320"/>
              <a:gd name="textAreaRight" fmla="*/ 273600 w 29232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692">
                <a:moveTo>
                  <a:pt x="0" y="0"/>
                </a:moveTo>
                <a:lnTo>
                  <a:pt x="21600" y="0"/>
                </a:lnTo>
                <a:lnTo>
                  <a:pt x="21600" y="25692"/>
                </a:lnTo>
                <a:lnTo>
                  <a:pt x="0" y="25692"/>
                </a:lnTo>
                <a:close/>
              </a:path>
              <a:path fill="lightenLess" w="21600" h="25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2">
                <a:moveTo>
                  <a:pt x="21600" y="0"/>
                </a:moveTo>
                <a:lnTo>
                  <a:pt x="21600" y="25692"/>
                </a:lnTo>
                <a:lnTo>
                  <a:pt x="20200" y="24292"/>
                </a:lnTo>
                <a:lnTo>
                  <a:pt x="20200" y="1400"/>
                </a:lnTo>
                <a:close/>
              </a:path>
              <a:path fill="darkenLess" w="21600" h="25692">
                <a:moveTo>
                  <a:pt x="21600" y="25692"/>
                </a:moveTo>
                <a:lnTo>
                  <a:pt x="0" y="25692"/>
                </a:lnTo>
                <a:lnTo>
                  <a:pt x="1400" y="24292"/>
                </a:lnTo>
                <a:lnTo>
                  <a:pt x="20200" y="24292"/>
                </a:lnTo>
                <a:close/>
              </a:path>
              <a:path fill="lighten" w="21600" h="25692">
                <a:moveTo>
                  <a:pt x="0" y="25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911240" y="1352520"/>
            <a:ext cx="6021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ипадки, що вимагають нескладного інтегр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11440" y="1940040"/>
            <a:ext cx="1536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43040" y="2498760"/>
            <a:ext cx="27684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ИСНА ТЕО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документ 10">
            <a:hlinkClick r:id="rId18" action="ppaction://hlinksldjump"/>
          </p:cNvPr>
          <p:cNvSpPr/>
          <p:nvPr/>
        </p:nvSpPr>
        <p:spPr>
          <a:xfrm>
            <a:off x="1501920" y="298296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24200" y="3097080"/>
            <a:ext cx="15364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правляющая кнопка: документ 10">
            <a:hlinkClick r:id="rId19" action="ppaction://hlinksldjump"/>
          </p:cNvPr>
          <p:cNvSpPr/>
          <p:nvPr/>
        </p:nvSpPr>
        <p:spPr>
          <a:xfrm>
            <a:off x="2830680" y="4281480"/>
            <a:ext cx="412560" cy="434880"/>
          </a:xfrm>
          <a:custGeom>
            <a:avLst/>
            <a:gdLst>
              <a:gd name="textAreaLeft" fmla="*/ 26640 w 412560"/>
              <a:gd name="textAreaRight" fmla="*/ 385920 w 41256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68">
                <a:moveTo>
                  <a:pt x="0" y="0"/>
                </a:moveTo>
                <a:lnTo>
                  <a:pt x="21600" y="0"/>
                </a:lnTo>
                <a:lnTo>
                  <a:pt x="21600" y="22768"/>
                </a:lnTo>
                <a:lnTo>
                  <a:pt x="0" y="22768"/>
                </a:lnTo>
                <a:close/>
              </a:path>
              <a:path fill="lightenLess" w="21600" h="22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8">
                <a:moveTo>
                  <a:pt x="21600" y="0"/>
                </a:moveTo>
                <a:lnTo>
                  <a:pt x="21600" y="22768"/>
                </a:lnTo>
                <a:lnTo>
                  <a:pt x="20200" y="21368"/>
                </a:lnTo>
                <a:lnTo>
                  <a:pt x="20200" y="1400"/>
                </a:lnTo>
                <a:close/>
              </a:path>
              <a:path fill="darkenLess" w="21600" h="22768">
                <a:moveTo>
                  <a:pt x="21600" y="22768"/>
                </a:moveTo>
                <a:lnTo>
                  <a:pt x="0" y="22768"/>
                </a:lnTo>
                <a:lnTo>
                  <a:pt x="1400" y="21368"/>
                </a:lnTo>
                <a:lnTo>
                  <a:pt x="20200" y="21368"/>
                </a:lnTo>
                <a:close/>
              </a:path>
              <a:path fill="lighten" w="21600" h="22768">
                <a:moveTo>
                  <a:pt x="0" y="22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8"/>
                </a:lnTo>
                <a:close/>
              </a:path>
              <a:path fill="darkenLess" w="21600" h="22768">
                <a:moveTo>
                  <a:pt x="5273" y="4569"/>
                </a:moveTo>
                <a:lnTo>
                  <a:pt x="12271" y="4569"/>
                </a:lnTo>
                <a:lnTo>
                  <a:pt x="16327" y="8068"/>
                </a:lnTo>
                <a:lnTo>
                  <a:pt x="16327" y="18199"/>
                </a:lnTo>
                <a:lnTo>
                  <a:pt x="5273" y="18199"/>
                </a:lnTo>
                <a:close/>
              </a:path>
              <a:path fill="darken" w="21600" h="22768">
                <a:moveTo>
                  <a:pt x="12271" y="4569"/>
                </a:moveTo>
                <a:lnTo>
                  <a:pt x="16327" y="8068"/>
                </a:lnTo>
                <a:lnTo>
                  <a:pt x="12271" y="806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252960" y="4395960"/>
            <a:ext cx="1536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правляющая кнопка: документ 10">
            <a:hlinkClick r:id="rId20" action="ppaction://hlinksldjump"/>
          </p:cNvPr>
          <p:cNvSpPr/>
          <p:nvPr/>
        </p:nvSpPr>
        <p:spPr>
          <a:xfrm>
            <a:off x="1503360" y="5389560"/>
            <a:ext cx="412920" cy="434880"/>
          </a:xfrm>
          <a:custGeom>
            <a:avLst/>
            <a:gdLst>
              <a:gd name="textAreaLeft" fmla="*/ 26640 w 412920"/>
              <a:gd name="textAreaRight" fmla="*/ 386280 w 412920"/>
              <a:gd name="textAreaTop" fmla="*/ 26640 h 434880"/>
              <a:gd name="textAreaBottom" fmla="*/ 408240 h 434880"/>
            </a:gdLst>
            <a:ahLst/>
            <a:rect l="textAreaLeft" t="textAreaTop" r="textAreaRight" b="textAreaBottom"/>
            <a:pathLst>
              <a:path w="21600" h="22748">
                <a:moveTo>
                  <a:pt x="0" y="0"/>
                </a:moveTo>
                <a:lnTo>
                  <a:pt x="21600" y="0"/>
                </a:lnTo>
                <a:lnTo>
                  <a:pt x="21600" y="22748"/>
                </a:lnTo>
                <a:lnTo>
                  <a:pt x="0" y="22748"/>
                </a:lnTo>
                <a:close/>
              </a:path>
              <a:path fill="lightenLess" w="21600" h="227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48">
                <a:moveTo>
                  <a:pt x="21600" y="0"/>
                </a:moveTo>
                <a:lnTo>
                  <a:pt x="21600" y="22748"/>
                </a:lnTo>
                <a:lnTo>
                  <a:pt x="20200" y="21348"/>
                </a:lnTo>
                <a:lnTo>
                  <a:pt x="20200" y="1400"/>
                </a:lnTo>
                <a:close/>
              </a:path>
              <a:path fill="darkenLess" w="21600" h="22748">
                <a:moveTo>
                  <a:pt x="21600" y="22748"/>
                </a:moveTo>
                <a:lnTo>
                  <a:pt x="0" y="22748"/>
                </a:lnTo>
                <a:lnTo>
                  <a:pt x="1400" y="21348"/>
                </a:lnTo>
                <a:lnTo>
                  <a:pt x="20200" y="21348"/>
                </a:lnTo>
                <a:close/>
              </a:path>
              <a:path fill="lighten" w="21600" h="22748">
                <a:moveTo>
                  <a:pt x="0" y="227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48"/>
                </a:lnTo>
                <a:close/>
              </a:path>
              <a:path fill="darkenLess" w="21600" h="22748">
                <a:moveTo>
                  <a:pt x="5273" y="4559"/>
                </a:moveTo>
                <a:lnTo>
                  <a:pt x="12271" y="4559"/>
                </a:lnTo>
                <a:lnTo>
                  <a:pt x="16327" y="8058"/>
                </a:lnTo>
                <a:lnTo>
                  <a:pt x="16327" y="18189"/>
                </a:lnTo>
                <a:lnTo>
                  <a:pt x="5273" y="18189"/>
                </a:lnTo>
                <a:close/>
              </a:path>
              <a:path fill="darken" w="21600" h="22748">
                <a:moveTo>
                  <a:pt x="12271" y="4559"/>
                </a:moveTo>
                <a:lnTo>
                  <a:pt x="16327" y="8058"/>
                </a:lnTo>
                <a:lnTo>
                  <a:pt x="12271" y="8058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906560" y="5504040"/>
            <a:ext cx="1536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Усні впр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документ 20"/>
          <p:cNvSpPr/>
          <p:nvPr/>
        </p:nvSpPr>
        <p:spPr>
          <a:xfrm>
            <a:off x="357120" y="6012000"/>
            <a:ext cx="444600" cy="417240"/>
          </a:xfrm>
          <a:custGeom>
            <a:avLst/>
            <a:gdLst>
              <a:gd name="textAreaLeft" fmla="*/ 27000 w 444600"/>
              <a:gd name="textAreaRight" fmla="*/ 417600 w 444600"/>
              <a:gd name="textAreaTop" fmla="*/ 27000 h 417240"/>
              <a:gd name="textAreaBottom" fmla="*/ 390240 h 41724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015" h="21600">
                <a:moveTo>
                  <a:pt x="5981" y="3985"/>
                </a:moveTo>
                <a:lnTo>
                  <a:pt x="12979" y="3985"/>
                </a:lnTo>
                <a:lnTo>
                  <a:pt x="17034" y="7484"/>
                </a:lnTo>
                <a:lnTo>
                  <a:pt x="17034" y="17615"/>
                </a:lnTo>
                <a:lnTo>
                  <a:pt x="5981" y="17615"/>
                </a:lnTo>
                <a:close/>
              </a:path>
              <a:path fill="darken" w="23015" h="21600">
                <a:moveTo>
                  <a:pt x="12979" y="3985"/>
                </a:moveTo>
                <a:lnTo>
                  <a:pt x="17034" y="7484"/>
                </a:lnTo>
                <a:lnTo>
                  <a:pt x="12979" y="7484"/>
                </a:lnTo>
                <a:close/>
              </a:path>
            </a:pathLst>
          </a:custGeom>
          <a:solidFill>
            <a:srgbClr val="ffffff"/>
          </a:solidFill>
          <a:ln cap="rnd" w="3168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68240" y="6024600"/>
            <a:ext cx="5167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НЗОР ІНЕРЦІЇ ТА ЕЛІПСОЇД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86560" y="60562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39000" y="605628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872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6116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452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6960" y="6064200"/>
            <a:ext cx="291960" cy="347760"/>
          </a:xfrm>
          <a:custGeom>
            <a:avLst/>
            <a:gdLst>
              <a:gd name="textAreaLeft" fmla="*/ 18720 w 291960"/>
              <a:gd name="textAreaRight" fmla="*/ 273240 w 291960"/>
              <a:gd name="textAreaTop" fmla="*/ 18720 h 347760"/>
              <a:gd name="textAreaBottom" fmla="*/ 329040 h 347760"/>
            </a:gdLst>
            <a:ahLst/>
            <a:rect l="textAreaLeft" t="textAreaTop" r="textAreaRight" b="textAreaBottom"/>
            <a:pathLst>
              <a:path w="21600" h="25723">
                <a:moveTo>
                  <a:pt x="0" y="0"/>
                </a:moveTo>
                <a:lnTo>
                  <a:pt x="21600" y="0"/>
                </a:lnTo>
                <a:lnTo>
                  <a:pt x="21600" y="25723"/>
                </a:lnTo>
                <a:lnTo>
                  <a:pt x="0" y="25723"/>
                </a:lnTo>
                <a:close/>
              </a:path>
              <a:path fill="lightenLess" w="21600" h="257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23">
                <a:moveTo>
                  <a:pt x="21600" y="0"/>
                </a:moveTo>
                <a:lnTo>
                  <a:pt x="21600" y="25723"/>
                </a:lnTo>
                <a:lnTo>
                  <a:pt x="20200" y="24323"/>
                </a:lnTo>
                <a:lnTo>
                  <a:pt x="20200" y="1400"/>
                </a:lnTo>
                <a:close/>
              </a:path>
              <a:path fill="darkenLess" w="21600" h="25723">
                <a:moveTo>
                  <a:pt x="21600" y="25723"/>
                </a:moveTo>
                <a:lnTo>
                  <a:pt x="0" y="25723"/>
                </a:lnTo>
                <a:lnTo>
                  <a:pt x="1400" y="24323"/>
                </a:lnTo>
                <a:lnTo>
                  <a:pt x="20200" y="24323"/>
                </a:lnTo>
                <a:close/>
              </a:path>
              <a:path fill="lighten" w="21600" h="25723">
                <a:moveTo>
                  <a:pt x="0" y="257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2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00160" y="743040"/>
            <a:ext cx="89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и інерції тіла м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двох паралельних осей, одна з яких проходить через центр мас тіла, пов'язані формулою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орема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24320" y="1684440"/>
            <a:ext cx="32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– відстань між осями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70520" y="3487680"/>
            <a:ext cx="486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осі, що проходить через центр мас, позначено через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чи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68640" y="4537080"/>
            <a:ext cx="4162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ідказка для можливого варіанту доведення теореми Гюйгенса-Штейнера на наступному слайді!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rId1" action="ppaction://hlinksldjump"/>
          </p:cNvPr>
          <p:cNvSpPr/>
          <p:nvPr/>
        </p:nvSpPr>
        <p:spPr>
          <a:xfrm>
            <a:off x="3559320" y="3541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1280" y="1546200"/>
            <a:ext cx="3730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, що проходить через центр мас ті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631800" y="1871640"/>
            <a:ext cx="2652840" cy="40417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21026400">
            <a:off x="1752120" y="203976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55800" y="201312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4280" y="174960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355840" y="1865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3760" y="4645080"/>
            <a:ext cx="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21026400">
            <a:off x="2226960" y="20574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59080" y="200196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65160" y="569916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49320" y="5330880"/>
            <a:ext cx="524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55680" y="1784160"/>
            <a:ext cx="148248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010120" y="1203480"/>
          <a:ext cx="164952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1203480"/>
                    <a:ext cx="1649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54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8200" y="257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787920" y="3457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373480" y="5157720"/>
            <a:ext cx="148248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35440" y="5743440"/>
            <a:ext cx="4752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840120" y="5619600"/>
            <a:ext cx="4330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я вісь не обов'язково має проходити крізь ті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57560" y="2525760"/>
            <a:ext cx="4762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припустити, що наведена формула правильна, то як збагнути, яка відповідь на таке запитання: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989600" y="1238400"/>
            <a:ext cx="1546200" cy="3823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800360" y="237960"/>
            <a:ext cx="592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казка для можливого варіанту доведення теореми Гюйгенса-Штей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844800" y="1976400"/>
          <a:ext cx="14828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4800" y="1976400"/>
                    <a:ext cx="1482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2" name=""/>
          <p:cNvGrpSpPr/>
          <p:nvPr/>
        </p:nvGrpSpPr>
        <p:grpSpPr>
          <a:xfrm>
            <a:off x="990720" y="4044960"/>
            <a:ext cx="6470280" cy="1170000"/>
            <a:chOff x="990720" y="4044960"/>
            <a:chExt cx="6470280" cy="1170000"/>
          </a:xfrm>
        </p:grpSpPr>
        <p:graphicFrame>
          <p:nvGraphicFramePr>
            <p:cNvPr id="563" name=""/>
            <p:cNvGraphicFramePr/>
            <p:nvPr/>
          </p:nvGraphicFramePr>
          <p:xfrm>
            <a:off x="4027320" y="4044960"/>
            <a:ext cx="3433680" cy="117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27320" y="4044960"/>
                      <a:ext cx="34336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5" name=""/>
            <p:cNvSpPr/>
            <p:nvPr/>
          </p:nvSpPr>
          <p:spPr>
            <a:xfrm>
              <a:off x="990720" y="4378320"/>
              <a:ext cx="37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Врахуйте під час доведення, щ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01880" y="5343480"/>
            <a:ext cx="692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 взялося останнє твердження, яке рекомендовано врахува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rId5" action="ppaction://hlinksldjump"/>
          </p:cNvPr>
          <p:cNvSpPr/>
          <p:nvPr/>
        </p:nvSpPr>
        <p:spPr>
          <a:xfrm>
            <a:off x="446040" y="52005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4000" y="961920"/>
            <a:ext cx="86104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ташуємо систему координат так, щоб її початок співпадав з центром мас тіла, а ми цікавилися моментами інерції відносно ос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 осі, яка паралельна до неї. Нехай вісь, яка паралельна осі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тинає площину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точці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к, що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68240" y="2633760"/>
            <a:ext cx="7654680" cy="1082160"/>
            <a:chOff x="768240" y="2633760"/>
            <a:chExt cx="7654680" cy="1082160"/>
          </a:xfrm>
        </p:grpSpPr>
        <p:graphicFrame>
          <p:nvGraphicFramePr>
            <p:cNvPr id="570" name=""/>
            <p:cNvGraphicFramePr/>
            <p:nvPr/>
          </p:nvGraphicFramePr>
          <p:xfrm>
            <a:off x="1382400" y="2633760"/>
            <a:ext cx="2616120" cy="1064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82400" y="2633760"/>
                      <a:ext cx="2616120" cy="10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2" name=""/>
            <p:cNvSpPr/>
            <p:nvPr/>
          </p:nvSpPr>
          <p:spPr>
            <a:xfrm>
              <a:off x="768240" y="2904840"/>
              <a:ext cx="74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Тод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47760" y="2903400"/>
              <a:ext cx="5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, 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4" name=""/>
            <p:cNvGraphicFramePr/>
            <p:nvPr/>
          </p:nvGraphicFramePr>
          <p:xfrm>
            <a:off x="4422600" y="2651040"/>
            <a:ext cx="4000320" cy="1064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22600" y="2651040"/>
                      <a:ext cx="4000320" cy="10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6" name=""/>
          <p:cNvSpPr/>
          <p:nvPr/>
        </p:nvSpPr>
        <p:spPr>
          <a:xfrm>
            <a:off x="5230800" y="20937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305920" y="29113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3600" y="5975280"/>
            <a:ext cx="40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Продовжіть доведення самостій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381880" y="200160"/>
            <a:ext cx="609840" cy="495000"/>
            <a:chOff x="8381880" y="200160"/>
            <a:chExt cx="609840" cy="495000"/>
          </a:xfrm>
        </p:grpSpPr>
        <p:sp>
          <p:nvSpPr>
            <p:cNvPr id="580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81880" y="2570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79320" y="51181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08200" y="328464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62360" y="331632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59200" y="477216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15120" y="47926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0" action="ppaction://hlinksldjump"/>
          </p:cNvPr>
          <p:cNvSpPr/>
          <p:nvPr/>
        </p:nvSpPr>
        <p:spPr>
          <a:xfrm>
            <a:off x="442800" y="58863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57360" y="5842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7967520" y="628956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previousslide"/>
          </p:cNvPr>
          <p:cNvSpPr/>
          <p:nvPr/>
        </p:nvSpPr>
        <p:spPr>
          <a:xfrm>
            <a:off x="6838920" y="62928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52640" y="348840"/>
            <a:ext cx="72388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теорему Гюйгенса-Штейнера та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rId1" action="ppaction://hlinksldjump"/>
          </p:cNvPr>
          <p:cNvSpPr/>
          <p:nvPr/>
        </p:nvSpPr>
        <p:spPr>
          <a:xfrm>
            <a:off x="498600" y="19749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49880" y="1601640"/>
            <a:ext cx="34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2. Однорідний прямокутний паралелепі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477040" y="2205000"/>
            <a:ext cx="2728800" cy="1757520"/>
            <a:chOff x="5477040" y="2205000"/>
            <a:chExt cx="2728800" cy="1757520"/>
          </a:xfrm>
        </p:grpSpPr>
        <p:sp>
          <p:nvSpPr>
            <p:cNvPr id="596" name=""/>
            <p:cNvSpPr/>
            <p:nvPr/>
          </p:nvSpPr>
          <p:spPr>
            <a:xfrm>
              <a:off x="5477040" y="2571840"/>
              <a:ext cx="1495440" cy="1076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6222960" y="226980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32600" y="229392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22960" y="228456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91280" y="2205000"/>
              <a:ext cx="11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89600" y="359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783480" y="3363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45480" y="2754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477040" y="2571480"/>
              <a:ext cx="1490400" cy="2667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43440" y="2567160"/>
              <a:ext cx="957240" cy="2714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221520" y="36349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790560" y="395280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Гантель (кулі та стержень однорідн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008080" y="4665600"/>
            <a:ext cx="3568680" cy="1571760"/>
            <a:chOff x="2008080" y="4665600"/>
            <a:chExt cx="3568680" cy="15717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4702320" y="5127480"/>
              <a:ext cx="76500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843440" y="482436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3"/>
            <a:stretch/>
          </p:blipFill>
          <p:spPr>
            <a:xfrm>
              <a:off x="2008080" y="5119560"/>
              <a:ext cx="765360" cy="75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2760840" y="4665600"/>
              <a:ext cx="1979280" cy="1571760"/>
              <a:chOff x="2760840" y="4665600"/>
              <a:chExt cx="1979280" cy="1571760"/>
            </a:xfrm>
          </p:grpSpPr>
          <p:sp>
            <p:nvSpPr>
              <p:cNvPr id="613" name=""/>
              <p:cNvSpPr/>
              <p:nvPr/>
            </p:nvSpPr>
            <p:spPr>
              <a:xfrm>
                <a:off x="3751200" y="4665600"/>
                <a:ext cx="0" cy="157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637080" y="4751280"/>
                <a:ext cx="199800" cy="23832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760 h 238320"/>
                  <a:gd name="textAreaBottom" fmla="*/ 172800 h 23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51200" y="469440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051440" y="51087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116160" y="50976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760840" y="532260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721400" y="533988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60840" y="538020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68840" y="53881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0200" y="538020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60840" y="550404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718080" y="544212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08160" y="483228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04960" y="1479600"/>
            <a:ext cx="3039840" cy="2084040"/>
            <a:chOff x="804960" y="1479600"/>
            <a:chExt cx="3039840" cy="2084040"/>
          </a:xfrm>
        </p:grpSpPr>
        <p:sp>
          <p:nvSpPr>
            <p:cNvPr id="627" name=""/>
            <p:cNvSpPr/>
            <p:nvPr/>
          </p:nvSpPr>
          <p:spPr>
            <a:xfrm>
              <a:off x="804960" y="147960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Кругла тонка пласти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73120" y="2184480"/>
              <a:ext cx="119880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1392120" y="1841400"/>
              <a:ext cx="190440" cy="1722240"/>
              <a:chOff x="1392120" y="1841400"/>
              <a:chExt cx="190440" cy="1722240"/>
            </a:xfrm>
          </p:grpSpPr>
          <p:sp>
            <p:nvSpPr>
              <p:cNvPr id="630" name=""/>
              <p:cNvSpPr/>
              <p:nvPr/>
            </p:nvSpPr>
            <p:spPr>
              <a:xfrm>
                <a:off x="1476000" y="33922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477800" y="184140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477800" y="2174760"/>
                <a:ext cx="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92120" y="1917360"/>
                <a:ext cx="190440" cy="238320"/>
              </a:xfrm>
              <a:custGeom>
                <a:avLst/>
                <a:gdLst>
                  <a:gd name="textAreaLeft" fmla="*/ 25560 w 190440"/>
                  <a:gd name="textAreaRight" fmla="*/ 164880 w 190440"/>
                  <a:gd name="textAreaTop" fmla="*/ 41760 h 238320"/>
                  <a:gd name="textAreaBottom" fmla="*/ 172800 h 23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77800" y="1898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2414520" y="19256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>
            <a:hlinkClick r:id="rId4" action="ppaction://hlinksldjump"/>
          </p:cNvPr>
          <p:cNvSpPr/>
          <p:nvPr/>
        </p:nvSpPr>
        <p:spPr>
          <a:xfrm>
            <a:off x="4670280" y="1978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5" action="ppaction://hlinksldjump"/>
          </p:cNvPr>
          <p:cNvSpPr/>
          <p:nvPr/>
        </p:nvSpPr>
        <p:spPr>
          <a:xfrm>
            <a:off x="1187280" y="4792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8381880" y="200160"/>
            <a:ext cx="609840" cy="495000"/>
            <a:chOff x="8381880" y="200160"/>
            <a:chExt cx="609840" cy="495000"/>
          </a:xfrm>
        </p:grpSpPr>
        <p:sp>
          <p:nvSpPr>
            <p:cNvPr id="639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81880" y="2570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390680" y="47214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71880" y="1903320"/>
            <a:ext cx="2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28640" y="19051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2520" y="3535200"/>
            <a:ext cx="27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37" descr=""/>
          <p:cNvPicPr/>
          <p:nvPr/>
        </p:nvPicPr>
        <p:blipFill>
          <a:blip r:embed="rId1"/>
          <a:stretch/>
        </p:blipFill>
        <p:spPr>
          <a:xfrm>
            <a:off x="-874800" y="0"/>
            <a:ext cx="4768920" cy="4761000"/>
          </a:xfrm>
          <a:prstGeom prst="rect">
            <a:avLst/>
          </a:prstGeom>
          <a:ln w="0">
            <a:noFill/>
          </a:ln>
        </p:spPr>
      </p:pic>
      <p:sp>
        <p:nvSpPr>
          <p:cNvPr id="649" name="TextBox 23"/>
          <p:cNvSpPr/>
          <p:nvPr/>
        </p:nvSpPr>
        <p:spPr>
          <a:xfrm>
            <a:off x="2778120" y="765000"/>
            <a:ext cx="42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за означенням моменту інерції відносно ос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01"/>
          <p:cNvSpPr/>
          <p:nvPr/>
        </p:nvSpPr>
        <p:spPr>
          <a:xfrm>
            <a:off x="3700440" y="4226040"/>
            <a:ext cx="57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шуканий момент інерції можна подати у такому вигляд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5"/>
          <p:cNvGraphicFramePr/>
          <p:nvPr/>
        </p:nvGraphicFramePr>
        <p:xfrm>
          <a:off x="3821040" y="1328760"/>
          <a:ext cx="60156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1040" y="1328760"/>
                    <a:ext cx="6015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8"/>
          <p:cNvGraphicFramePr/>
          <p:nvPr/>
        </p:nvGraphicFramePr>
        <p:xfrm>
          <a:off x="4524480" y="3067200"/>
          <a:ext cx="2174760" cy="49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24480" y="3067200"/>
                    <a:ext cx="2174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9"/>
          <p:cNvGraphicFramePr/>
          <p:nvPr/>
        </p:nvGraphicFramePr>
        <p:xfrm>
          <a:off x="155520" y="4732200"/>
          <a:ext cx="8772480" cy="5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5520" y="4732200"/>
                    <a:ext cx="87724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1"/>
          <p:cNvGraphicFramePr/>
          <p:nvPr/>
        </p:nvGraphicFramePr>
        <p:xfrm>
          <a:off x="4349880" y="1311120"/>
          <a:ext cx="83340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9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9880" y="1311120"/>
                    <a:ext cx="8334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4"/>
          <p:cNvGraphicFramePr/>
          <p:nvPr/>
        </p:nvGraphicFramePr>
        <p:xfrm>
          <a:off x="7128000" y="1347840"/>
          <a:ext cx="1490400" cy="649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61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28000" y="1347840"/>
                    <a:ext cx="14904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5"/>
          <p:cNvGraphicFramePr/>
          <p:nvPr/>
        </p:nvGraphicFramePr>
        <p:xfrm>
          <a:off x="6611760" y="1353960"/>
          <a:ext cx="51300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11760" y="1353960"/>
                    <a:ext cx="513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TextBox 30"/>
          <p:cNvSpPr/>
          <p:nvPr/>
        </p:nvSpPr>
        <p:spPr>
          <a:xfrm>
            <a:off x="3900600" y="1928880"/>
            <a:ext cx="494496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прямокутній декартовій системі координат, використовуюч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мість звичних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 також відповідні позначення для проекцій   , 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5" name="Object 16"/>
          <p:cNvGraphicFramePr/>
          <p:nvPr/>
        </p:nvGraphicFramePr>
        <p:xfrm>
          <a:off x="6975360" y="3063960"/>
          <a:ext cx="922320" cy="387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66" name="Object 1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975360" y="3063960"/>
                    <a:ext cx="922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Box 100"/>
          <p:cNvSpPr/>
          <p:nvPr/>
        </p:nvSpPr>
        <p:spPr>
          <a:xfrm>
            <a:off x="-77760" y="95400"/>
            <a:ext cx="88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 Unicode MS"/>
              </a:rPr>
              <a:t>МОМЕНТ ІНЕРЦІЇ ТІЛА ВІДНОСНО ОСІ, ЩО ПРОХОДИТЬ ЧЕРЕЗ ПОЧАТОК КООРДИНАТ, А ЇЇ НАПРЯМОК ЗАДАЄТЬСЯ ОДИНИЧНИМ ВЕКТОР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1"/>
          <p:cNvSpPr/>
          <p:nvPr/>
        </p:nvSpPr>
        <p:spPr>
          <a:xfrm>
            <a:off x="3902040" y="3902040"/>
            <a:ext cx="32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співвіднош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Object 68"/>
          <p:cNvGraphicFramePr/>
          <p:nvPr/>
        </p:nvGraphicFramePr>
        <p:xfrm>
          <a:off x="6991200" y="3838680"/>
          <a:ext cx="1757520" cy="412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0" name="Object 6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991200" y="3838680"/>
                    <a:ext cx="17575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extBox 77"/>
          <p:cNvSpPr/>
          <p:nvPr/>
        </p:nvSpPr>
        <p:spPr>
          <a:xfrm>
            <a:off x="6138720" y="3630600"/>
            <a:ext cx="26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скалярний добуток векто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91"/>
          <p:cNvSpPr/>
          <p:nvPr/>
        </p:nvSpPr>
        <p:spPr>
          <a:xfrm>
            <a:off x="461880" y="5340240"/>
            <a:ext cx="21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Отримайте вираз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93"/>
          <p:cNvSpPr/>
          <p:nvPr/>
        </p:nvSpPr>
        <p:spPr>
          <a:xfrm>
            <a:off x="539640" y="5902200"/>
            <a:ext cx="582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загальний вираз для       можна записати 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    — символ Кронек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Object 87"/>
          <p:cNvGraphicFramePr/>
          <p:nvPr/>
        </p:nvGraphicFramePr>
        <p:xfrm>
          <a:off x="3595680" y="5925960"/>
          <a:ext cx="263520" cy="393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75" name="Object 87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595680" y="5925960"/>
                    <a:ext cx="263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">
            <a:hlinkClick r:id="rId20" action="ppaction://hlinksldjump"/>
          </p:cNvPr>
          <p:cNvSpPr/>
          <p:nvPr/>
        </p:nvSpPr>
        <p:spPr>
          <a:xfrm>
            <a:off x="4052880" y="3052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49800" y="2994120"/>
            <a:ext cx="33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rId21" action="ppaction://hlinksldjump"/>
          </p:cNvPr>
          <p:cNvSpPr/>
          <p:nvPr/>
        </p:nvSpPr>
        <p:spPr>
          <a:xfrm>
            <a:off x="79200" y="52815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85840" y="524016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rId22" action="ppaction://hlinksldjump"/>
          </p:cNvPr>
          <p:cNvSpPr/>
          <p:nvPr/>
        </p:nvSpPr>
        <p:spPr>
          <a:xfrm>
            <a:off x="103320" y="59720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07800" y="5921280"/>
            <a:ext cx="3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Object 3"/>
          <p:cNvGraphicFramePr/>
          <p:nvPr/>
        </p:nvGraphicFramePr>
        <p:xfrm>
          <a:off x="8213760" y="336600"/>
          <a:ext cx="369720" cy="417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3" name="Object 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13760" y="336600"/>
                    <a:ext cx="3697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3814920" y="1206360"/>
            <a:ext cx="1363680" cy="74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140440" y="3029040"/>
            <a:ext cx="939600" cy="55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46640" y="378000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665680" y="3590640"/>
            <a:ext cx="48096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Line 38" descr=""/>
          <p:cNvPicPr/>
          <p:nvPr/>
        </p:nvPicPr>
        <p:blipFill>
          <a:blip r:embed="rId25"/>
          <a:stretch/>
        </p:blipFill>
        <p:spPr>
          <a:xfrm>
            <a:off x="474840" y="149220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689" name="Oval 41" descr=""/>
          <p:cNvPicPr/>
          <p:nvPr/>
        </p:nvPicPr>
        <p:blipFill>
          <a:blip r:embed="rId26"/>
          <a:stretch/>
        </p:blipFill>
        <p:spPr>
          <a:xfrm>
            <a:off x="736560" y="1717560"/>
            <a:ext cx="1231920" cy="1236600"/>
          </a:xfrm>
          <a:prstGeom prst="rect">
            <a:avLst/>
          </a:prstGeom>
          <a:ln w="0">
            <a:noFill/>
          </a:ln>
        </p:spPr>
      </p:pic>
      <p:sp>
        <p:nvSpPr>
          <p:cNvPr id="690" name="Овал 135"/>
          <p:cNvSpPr/>
          <p:nvPr/>
        </p:nvSpPr>
        <p:spPr>
          <a:xfrm>
            <a:off x="1333440" y="2343240"/>
            <a:ext cx="19080" cy="1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136"/>
          <p:cNvSpPr/>
          <p:nvPr/>
        </p:nvSpPr>
        <p:spPr>
          <a:xfrm>
            <a:off x="2759040" y="3773520"/>
            <a:ext cx="19080" cy="17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137"/>
          <p:cNvSpPr/>
          <p:nvPr/>
        </p:nvSpPr>
        <p:spPr>
          <a:xfrm>
            <a:off x="1716120" y="1849320"/>
            <a:ext cx="28440" cy="28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Прямая со стрелкой 138"/>
          <p:cNvCxnSpPr>
            <a:stCxn id="690" idx="7"/>
            <a:endCxn id="692" idx="4"/>
          </p:cNvCxnSpPr>
          <p:nvPr/>
        </p:nvCxnSpPr>
        <p:spPr>
          <a:xfrm flipV="1">
            <a:off x="1348200" y="1877400"/>
            <a:ext cx="381960" cy="469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</p:cxnSp>
      <p:cxnSp>
        <p:nvCxnSpPr>
          <p:cNvPr id="694" name="Прямая со стрелкой 139"/>
          <p:cNvCxnSpPr>
            <a:endCxn id="692" idx="5"/>
          </p:cNvCxnSpPr>
          <p:nvPr/>
        </p:nvCxnSpPr>
        <p:spPr>
          <a:xfrm flipH="1" flipV="1">
            <a:off x="1739520" y="1885320"/>
            <a:ext cx="613440" cy="11149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</p:cxnSp>
      <p:sp>
        <p:nvSpPr>
          <p:cNvPr id="695" name="Прямая соединительная линия 140"/>
          <p:cNvSpPr/>
          <p:nvPr/>
        </p:nvSpPr>
        <p:spPr>
          <a:xfrm flipH="1" flipV="1">
            <a:off x="1344240" y="2359080"/>
            <a:ext cx="107964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ая соединительная линия 141"/>
          <p:cNvSpPr/>
          <p:nvPr/>
        </p:nvSpPr>
        <p:spPr>
          <a:xfrm>
            <a:off x="2768760" y="2473200"/>
            <a:ext cx="0" cy="131940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ая соединительная линия 143"/>
          <p:cNvSpPr/>
          <p:nvPr/>
        </p:nvSpPr>
        <p:spPr>
          <a:xfrm flipH="1">
            <a:off x="2765160" y="3773520"/>
            <a:ext cx="104436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80"/>
          <p:cNvGraphicFramePr/>
          <p:nvPr/>
        </p:nvGraphicFramePr>
        <p:xfrm>
          <a:off x="2149560" y="4363920"/>
          <a:ext cx="164880" cy="241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9" name="Object 8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149560" y="4363920"/>
                    <a:ext cx="16488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0" name="Object 81"/>
              <p:cNvSpPr txBox="1"/>
              <p:nvPr/>
            </p:nvSpPr>
            <p:spPr>
              <a:xfrm>
                <a:off x="1965240" y="2025720"/>
                <a:ext cx="20664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1" name="Параллелограмм 148"/>
          <p:cNvSpPr/>
          <p:nvPr/>
        </p:nvSpPr>
        <p:spPr>
          <a:xfrm rot="18120000">
            <a:off x="1267920" y="2225520"/>
            <a:ext cx="131760" cy="100080"/>
          </a:xfrm>
          <a:prstGeom prst="parallelogram">
            <a:avLst>
              <a:gd name="adj" fmla="val 2586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Object 82"/>
              <p:cNvSpPr txBox="1"/>
              <p:nvPr/>
            </p:nvSpPr>
            <p:spPr>
              <a:xfrm>
                <a:off x="1441440" y="2590920"/>
                <a:ext cx="206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|</m:t>
                        </m:r>
                        <m:r>
                          <m:t xml:space="preserve">|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83"/>
              <p:cNvSpPr txBox="1"/>
              <p:nvPr/>
            </p:nvSpPr>
            <p:spPr>
              <a:xfrm>
                <a:off x="1187280" y="1725480"/>
                <a:ext cx="227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04" name="Прямая соединительная линия 151"/>
          <p:cNvSpPr/>
          <p:nvPr/>
        </p:nvSpPr>
        <p:spPr>
          <a:xfrm flipH="1" flipV="1">
            <a:off x="2476440" y="3490920"/>
            <a:ext cx="2872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84"/>
              <p:cNvSpPr txBox="1"/>
              <p:nvPr/>
            </p:nvSpPr>
            <p:spPr>
              <a:xfrm>
                <a:off x="2411280" y="3627360"/>
                <a:ext cx="2066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86"/>
              <p:cNvSpPr txBox="1"/>
              <p:nvPr/>
            </p:nvSpPr>
            <p:spPr>
              <a:xfrm>
                <a:off x="1573200" y="1563840"/>
                <a:ext cx="357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7" name="Прямая со стрелкой 155"/>
          <p:cNvCxnSpPr/>
          <p:nvPr/>
        </p:nvCxnSpPr>
        <p:spPr>
          <a:xfrm flipH="1" flipV="1">
            <a:off x="2350440" y="2997000"/>
            <a:ext cx="43884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8" name="TextBox 106"/>
          <p:cNvSpPr/>
          <p:nvPr/>
        </p:nvSpPr>
        <p:spPr>
          <a:xfrm>
            <a:off x="-76320" y="4081320"/>
            <a:ext cx="158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одиничний вектор, який задає напрямок осі (ор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117"/>
          <p:cNvSpPr/>
          <p:nvPr/>
        </p:nvSpPr>
        <p:spPr>
          <a:xfrm>
            <a:off x="2500200" y="220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радіус-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92520" y="9540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33560" y="988920"/>
            <a:ext cx="102420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8"/>
          <p:cNvSpPr/>
          <p:nvPr/>
        </p:nvSpPr>
        <p:spPr>
          <a:xfrm>
            <a:off x="1963800" y="2001960"/>
            <a:ext cx="245880" cy="341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513160" y="23130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205000" y="2189160"/>
            <a:ext cx="34128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Овал 48"/>
          <p:cNvSpPr/>
          <p:nvPr/>
        </p:nvSpPr>
        <p:spPr>
          <a:xfrm>
            <a:off x="2376360" y="3611520"/>
            <a:ext cx="246240" cy="341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06520" y="4199040"/>
            <a:ext cx="4140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459080" y="3812760"/>
            <a:ext cx="92376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68760" y="3790800"/>
            <a:ext cx="73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74880" y="3782880"/>
            <a:ext cx="6984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85"/>
              <p:cNvSpPr txBox="1"/>
              <p:nvPr/>
            </p:nvSpPr>
            <p:spPr>
              <a:xfrm>
                <a:off x="2738520" y="3794040"/>
                <a:ext cx="1807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Прямая соединительная линия 142"/>
          <p:cNvSpPr/>
          <p:nvPr/>
        </p:nvSpPr>
        <p:spPr>
          <a:xfrm flipV="1">
            <a:off x="2055960" y="3771360"/>
            <a:ext cx="722160" cy="722160"/>
          </a:xfrm>
          <a:prstGeom prst="line">
            <a:avLst/>
          </a:prstGeom>
          <a:ln w="2232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51320" y="1449360"/>
            <a:ext cx="1363680" cy="266760"/>
          </a:xfrm>
          <a:custGeom>
            <a:avLst/>
            <a:gdLst>
              <a:gd name="textAreaLeft" fmla="*/ 153000 w 1363680"/>
              <a:gd name="textAreaRight" fmla="*/ 1210680 w 1363680"/>
              <a:gd name="textAreaTop" fmla="*/ 54000 h 266760"/>
              <a:gd name="textAreaBottom" fmla="*/ 212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4371"/>
                </a:moveTo>
                <a:lnTo>
                  <a:pt x="17526" y="4371"/>
                </a:lnTo>
                <a:lnTo>
                  <a:pt x="17526" y="0"/>
                </a:lnTo>
                <a:lnTo>
                  <a:pt x="21600" y="10800"/>
                </a:lnTo>
                <a:lnTo>
                  <a:pt x="17526" y="21600"/>
                </a:lnTo>
                <a:lnTo>
                  <a:pt x="17526" y="17229"/>
                </a:lnTo>
                <a:lnTo>
                  <a:pt x="0" y="17229"/>
                </a:lnTo>
                <a:lnTo>
                  <a:pt x="2425" y="10800"/>
                </a:lnTo>
                <a:lnTo>
                  <a:pt x="0" y="437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Object 9"/>
          <p:cNvGraphicFramePr/>
          <p:nvPr/>
        </p:nvGraphicFramePr>
        <p:xfrm>
          <a:off x="2565360" y="5307120"/>
          <a:ext cx="2052720" cy="35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4" name="Object 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5360" y="5307120"/>
                    <a:ext cx="20527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TextBox 91"/>
          <p:cNvSpPr/>
          <p:nvPr/>
        </p:nvSpPr>
        <p:spPr>
          <a:xfrm>
            <a:off x="4594320" y="5338800"/>
            <a:ext cx="23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у вигляді інтегралів ти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6" name="Object 14"/>
          <p:cNvGraphicFramePr/>
          <p:nvPr/>
        </p:nvGraphicFramePr>
        <p:xfrm>
          <a:off x="6856560" y="5249880"/>
          <a:ext cx="1755720" cy="625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856560" y="5249880"/>
                    <a:ext cx="17557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4"/>
          <p:cNvGraphicFramePr/>
          <p:nvPr/>
        </p:nvGraphicFramePr>
        <p:xfrm>
          <a:off x="6202440" y="5865840"/>
          <a:ext cx="2463840" cy="647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29" name="Object 1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202440" y="5865840"/>
                    <a:ext cx="2463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4"/>
          <p:cNvGraphicFramePr/>
          <p:nvPr/>
        </p:nvGraphicFramePr>
        <p:xfrm>
          <a:off x="843120" y="6219720"/>
          <a:ext cx="282240" cy="371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31" name="Object 1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843120" y="6219720"/>
                    <a:ext cx="282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80"/>
          <p:cNvGraphicFramePr/>
          <p:nvPr/>
        </p:nvGraphicFramePr>
        <p:xfrm>
          <a:off x="3660840" y="3746520"/>
          <a:ext cx="190440" cy="2412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33" name="Object 8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60840" y="3746520"/>
                    <a:ext cx="1904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80"/>
          <p:cNvGraphicFramePr/>
          <p:nvPr/>
        </p:nvGraphicFramePr>
        <p:xfrm>
          <a:off x="2811600" y="2470320"/>
          <a:ext cx="177840" cy="2412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35" name="Object 80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11600" y="2470320"/>
                    <a:ext cx="1778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8580600" y="88920"/>
            <a:ext cx="496800" cy="4953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580600" y="1461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264280" y="120960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ив. ри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Object 87"/>
          <p:cNvGraphicFramePr/>
          <p:nvPr/>
        </p:nvGraphicFramePr>
        <p:xfrm>
          <a:off x="8532720" y="2376360"/>
          <a:ext cx="208080" cy="3002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40" name="Object 8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8532720" y="2376360"/>
                    <a:ext cx="2080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6480000" y="303696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502480" y="532116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6560" y="5597640"/>
            <a:ext cx="361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інтегрування  ведеться по всьому ті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7967520" y="637524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previousslide"/>
          </p:cNvPr>
          <p:cNvSpPr/>
          <p:nvPr/>
        </p:nvSpPr>
        <p:spPr>
          <a:xfrm>
            <a:off x="6838920" y="637848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3384720" y="34452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ТЕНЗОР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Object 3"/>
          <p:cNvGraphicFramePr/>
          <p:nvPr/>
        </p:nvGraphicFramePr>
        <p:xfrm>
          <a:off x="1349280" y="1668600"/>
          <a:ext cx="1463760" cy="42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1668600"/>
                    <a:ext cx="14637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4"/>
          <p:cNvGraphicFramePr/>
          <p:nvPr/>
        </p:nvGraphicFramePr>
        <p:xfrm>
          <a:off x="1036800" y="2862360"/>
          <a:ext cx="673092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6800" y="2862360"/>
                    <a:ext cx="67309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Box 28"/>
          <p:cNvSpPr/>
          <p:nvPr/>
        </p:nvSpPr>
        <p:spPr>
          <a:xfrm>
            <a:off x="781200" y="505152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симетричності матриці тензора інерції перевірте, що такий запис для      відповідає наведеному на попередньому основному слай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29"/>
          <p:cNvSpPr/>
          <p:nvPr/>
        </p:nvSpPr>
        <p:spPr>
          <a:xfrm>
            <a:off x="635040" y="912960"/>
            <a:ext cx="811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очений запис виразу для моменту інерції тіла відносно осі, що проходить через початок координат, а напрямок якої задається ортом    , має вигля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20"/>
          <p:cNvSpPr/>
          <p:nvPr/>
        </p:nvSpPr>
        <p:spPr>
          <a:xfrm>
            <a:off x="2463840" y="16016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де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4" name="Object 5"/>
          <p:cNvGraphicFramePr/>
          <p:nvPr/>
        </p:nvGraphicFramePr>
        <p:xfrm>
          <a:off x="3139920" y="1665360"/>
          <a:ext cx="53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1665360"/>
                    <a:ext cx="53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TextBox 23"/>
          <p:cNvSpPr/>
          <p:nvPr/>
        </p:nvSpPr>
        <p:spPr>
          <a:xfrm>
            <a:off x="3586320" y="1682640"/>
            <a:ext cx="49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нзор інерції тіла відносно початку координ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31"/>
          <p:cNvSpPr/>
          <p:nvPr/>
        </p:nvSpPr>
        <p:spPr>
          <a:xfrm>
            <a:off x="1666800" y="203184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ий може бути поданий у вигляді симетричної матриці 3</a:t>
            </a:r>
            <a:r>
              <a:rPr b="0" lang="uk-UA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8"/>
          <p:cNvSpPr/>
          <p:nvPr/>
        </p:nvSpPr>
        <p:spPr>
          <a:xfrm>
            <a:off x="417600" y="252396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більш розгорнутому вигляді, знайомому з курсу лінійної алгебри,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Object 3"/>
          <p:cNvGraphicFramePr/>
          <p:nvPr/>
        </p:nvGraphicFramePr>
        <p:xfrm>
          <a:off x="6527880" y="1162080"/>
          <a:ext cx="311040" cy="35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0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7880" y="1162080"/>
                    <a:ext cx="3110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>
            <a:hlinkClick r:id="rId9" action="ppaction://hlinksldjump"/>
          </p:cNvPr>
          <p:cNvSpPr/>
          <p:nvPr/>
        </p:nvSpPr>
        <p:spPr>
          <a:xfrm>
            <a:off x="303120" y="5032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20560" y="4981680"/>
            <a:ext cx="3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3"/>
          <p:cNvGraphicFramePr/>
          <p:nvPr/>
        </p:nvGraphicFramePr>
        <p:xfrm>
          <a:off x="1890720" y="5288040"/>
          <a:ext cx="307800" cy="366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4" name="Object 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90720" y="5288040"/>
                    <a:ext cx="3078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49640" y="1525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10040" y="1515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Управляющая кнопка: домой 85">
            <a:hlinkClick r:id="rId12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Box 3"/>
          <p:cNvSpPr/>
          <p:nvPr/>
        </p:nvSpPr>
        <p:spPr>
          <a:xfrm>
            <a:off x="3209760" y="281160"/>
            <a:ext cx="27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ЕЛІПСОЇД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9"/>
          <p:cNvSpPr/>
          <p:nvPr/>
        </p:nvSpPr>
        <p:spPr>
          <a:xfrm>
            <a:off x="635040" y="912960"/>
            <a:ext cx="811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ормула для моменту інерції                                 може отримати наоч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еометричну інтерпретацію, якщо її порівняти з формулою для поверх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ругого поря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534960" y="2517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8240" y="245916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29"/>
          <p:cNvSpPr/>
          <p:nvPr/>
        </p:nvSpPr>
        <p:spPr>
          <a:xfrm>
            <a:off x="1027080" y="2500200"/>
            <a:ext cx="7318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“відстань”                            від початку координат до точки,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оложення якої на цій поверхні вказує орт     (тобто                        ), бу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рівнювати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29"/>
          <p:cNvSpPr/>
          <p:nvPr/>
        </p:nvSpPr>
        <p:spPr>
          <a:xfrm>
            <a:off x="641520" y="4508640"/>
            <a:ext cx="811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систему координат повернути так, щоб її осі йшли вздовж головних осей еліпсоїда, то матриця, яка представляє тензор інерції тіла, набуде діагонального вигля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2" action="ppaction://hlinksldjump"/>
          </p:cNvPr>
          <p:cNvSpPr/>
          <p:nvPr/>
        </p:nvSpPr>
        <p:spPr>
          <a:xfrm>
            <a:off x="552600" y="5478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5443560"/>
            <a:ext cx="33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27080" y="5446800"/>
            <a:ext cx="811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ористуючись поняттям еліпсоїда інерції та міркуваннями симетрії, обчисліть момент інерції тонкої круглої пластини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) відносно осі, що проходить через її центр і утворює кут     з нормаллю до площини пласт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811680" y="714240"/>
          <a:ext cx="1873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714240"/>
                    <a:ext cx="1873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3"/>
          <p:cNvGraphicFramePr/>
          <p:nvPr/>
        </p:nvGraphicFramePr>
        <p:xfrm>
          <a:off x="4780080" y="2941560"/>
          <a:ext cx="24912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0080" y="2941560"/>
                    <a:ext cx="249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3"/>
          <p:cNvGraphicFramePr/>
          <p:nvPr/>
        </p:nvGraphicFramePr>
        <p:xfrm>
          <a:off x="2360520" y="1655640"/>
          <a:ext cx="1717920" cy="82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0520" y="1655640"/>
                    <a:ext cx="17179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3"/>
          <p:cNvGraphicFramePr/>
          <p:nvPr/>
        </p:nvGraphicFramePr>
        <p:xfrm>
          <a:off x="3170160" y="2433600"/>
          <a:ext cx="131940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70160" y="2433600"/>
                    <a:ext cx="13194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2287440" y="3268800"/>
          <a:ext cx="779760" cy="44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7440" y="3268800"/>
                    <a:ext cx="7797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3"/>
          <p:cNvGraphicFramePr/>
          <p:nvPr/>
        </p:nvGraphicFramePr>
        <p:xfrm>
          <a:off x="1434960" y="5977080"/>
          <a:ext cx="198720" cy="21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2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34960" y="5977080"/>
                    <a:ext cx="1987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3"/>
          <p:cNvGraphicFramePr/>
          <p:nvPr/>
        </p:nvGraphicFramePr>
        <p:xfrm>
          <a:off x="5594400" y="2773440"/>
          <a:ext cx="1200240" cy="650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4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94400" y="2773440"/>
                    <a:ext cx="1200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>
            <a:hlinkClick r:id="rId17" action="ppaction://hlinksldjump"/>
          </p:cNvPr>
          <p:cNvSpPr/>
          <p:nvPr/>
        </p:nvSpPr>
        <p:spPr>
          <a:xfrm>
            <a:off x="500040" y="3751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9560" y="3716280"/>
            <a:ext cx="3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66960" y="3807000"/>
            <a:ext cx="699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поверхня, про яку йшлося, є 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еліпсоїд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центр якого співпадає з початком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Управляющая кнопка: домой 85">
            <a:hlinkClick r:id="rId1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7967520" y="628020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previousslide"/>
          </p:cNvPr>
          <p:cNvSpPr/>
          <p:nvPr/>
        </p:nvSpPr>
        <p:spPr>
          <a:xfrm>
            <a:off x="6838920" y="628344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Box 3"/>
          <p:cNvSpPr/>
          <p:nvPr/>
        </p:nvSpPr>
        <p:spPr>
          <a:xfrm>
            <a:off x="684360" y="95400"/>
            <a:ext cx="74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КІНЕТИЧНА ЕНЕРГІЯ І МОМЕНТ ІМПУЛЬСУ ТВЕРДОГО ТІЛА, ЩО ОБЕРТАЄТЬСЯ НАВКОЛО НЕРУХОМ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01680" y="77328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вісь обертання проходить через початок координат, а її напрямок задається одиничним вектором  , що співпадає за напрямком з кутовою швидкістю    , то скорочений запис виразу для кінетичної енергії має вигля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3586320" y="1522440"/>
          <a:ext cx="1577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6320" y="1522440"/>
                    <a:ext cx="1577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4"/>
          <p:cNvGraphicFramePr/>
          <p:nvPr/>
        </p:nvGraphicFramePr>
        <p:xfrm>
          <a:off x="1701720" y="3581280"/>
          <a:ext cx="163188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581280"/>
                    <a:ext cx="16318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1141560" y="2319480"/>
            <a:ext cx="470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це твердження, згадавши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629240" y="1563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rId5" action="ppaction://hlinksldjump"/>
          </p:cNvPr>
          <p:cNvSpPr/>
          <p:nvPr/>
        </p:nvSpPr>
        <p:spPr>
          <a:xfrm>
            <a:off x="660240" y="22240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84160" y="21654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6" action="ppaction://hlinksldjump"/>
          </p:cNvPr>
          <p:cNvSpPr/>
          <p:nvPr/>
        </p:nvSpPr>
        <p:spPr>
          <a:xfrm>
            <a:off x="657360" y="49197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71560" y="486108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5" name="Object 4"/>
          <p:cNvGraphicFramePr/>
          <p:nvPr/>
        </p:nvGraphicFramePr>
        <p:xfrm>
          <a:off x="5089680" y="2139840"/>
          <a:ext cx="3720960" cy="67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9680" y="2139840"/>
                    <a:ext cx="37209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"/>
          <p:cNvSpPr/>
          <p:nvPr/>
        </p:nvSpPr>
        <p:spPr>
          <a:xfrm>
            <a:off x="395280" y="3160800"/>
            <a:ext cx="8335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 означенням момент імпульсу тіла відносно початку координат визначається формуло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8" name="Object 4"/>
          <p:cNvGraphicFramePr/>
          <p:nvPr/>
        </p:nvGraphicFramePr>
        <p:xfrm>
          <a:off x="3654360" y="3652920"/>
          <a:ext cx="118584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3652920"/>
                    <a:ext cx="11858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"/>
          <p:cNvSpPr/>
          <p:nvPr/>
        </p:nvSpPr>
        <p:spPr>
          <a:xfrm>
            <a:off x="4782960" y="3656160"/>
            <a:ext cx="4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4"/>
          <p:cNvGraphicFramePr/>
          <p:nvPr/>
        </p:nvGraphicFramePr>
        <p:xfrm>
          <a:off x="5070600" y="3638520"/>
          <a:ext cx="1263600" cy="37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0600" y="3638520"/>
                    <a:ext cx="1263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4"/>
          <p:cNvGraphicFramePr/>
          <p:nvPr/>
        </p:nvGraphicFramePr>
        <p:xfrm>
          <a:off x="1479600" y="1271520"/>
          <a:ext cx="255600" cy="2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9600" y="1271520"/>
                    <a:ext cx="255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1114560" y="4748040"/>
            <a:ext cx="8103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гадавши вираз для елементів тензора інерц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скориставшись формулою для подвійного векторного добут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“бац мінус цаб”) доведіть, щ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Object 4"/>
          <p:cNvGraphicFramePr/>
          <p:nvPr/>
        </p:nvGraphicFramePr>
        <p:xfrm>
          <a:off x="3790800" y="1031760"/>
          <a:ext cx="217800" cy="27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7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90800" y="1031760"/>
                    <a:ext cx="2178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3287880" y="3633840"/>
            <a:ext cx="4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9" name="Object 4"/>
          <p:cNvGraphicFramePr/>
          <p:nvPr/>
        </p:nvGraphicFramePr>
        <p:xfrm>
          <a:off x="1243080" y="5732640"/>
          <a:ext cx="3300480" cy="525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0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43080" y="5732640"/>
                    <a:ext cx="33004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4"/>
          <p:cNvGraphicFramePr/>
          <p:nvPr/>
        </p:nvGraphicFramePr>
        <p:xfrm>
          <a:off x="5962680" y="4807080"/>
          <a:ext cx="2548080" cy="452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2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4807080"/>
                    <a:ext cx="25480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7554960" y="5761080"/>
          <a:ext cx="928800" cy="37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4960" y="5761080"/>
                    <a:ext cx="928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7994520" y="56516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535720" y="3579840"/>
            <a:ext cx="788760" cy="50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03640" y="3529080"/>
            <a:ext cx="880920" cy="63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94200" y="4051440"/>
            <a:ext cx="56340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5361120" y="4049640"/>
            <a:ext cx="37152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05040" y="4070520"/>
            <a:ext cx="18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екторний доб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18000" y="420696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319720" y="422100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4520" y="4394160"/>
            <a:ext cx="451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Примітка: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інтегрування ведеться по всьому ті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324560" y="21621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>
            <a:hlinkClick r:id="" action="ppaction://hlinkshowjump?jump=nextslide"/>
          </p:cNvPr>
          <p:cNvSpPr/>
          <p:nvPr/>
        </p:nvSpPr>
        <p:spPr>
          <a:xfrm>
            <a:off x="7967520" y="632772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>
            <a:hlinkClick r:id="" action="ppaction://hlinkshowjump?jump=previousslide"/>
          </p:cNvPr>
          <p:cNvSpPr/>
          <p:nvPr/>
        </p:nvSpPr>
        <p:spPr>
          <a:xfrm>
            <a:off x="6838920" y="633096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3"/>
          <p:cNvSpPr/>
          <p:nvPr/>
        </p:nvSpPr>
        <p:spPr>
          <a:xfrm>
            <a:off x="1400040" y="307800"/>
            <a:ext cx="63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ГОЛОВНІ ОСІ ТА ГОЛОВНІ МОМЕНТИ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61960" y="689040"/>
            <a:ext cx="8002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ензор інерції характеризує розподіл мас тіла по відношенню до фіксованої точки простору. Матриця, яка його представляє у декартовій системі координат з початком у цій точці, набуває діагонального вигляду, якщо осі координат спрямовані за головними осями відповідного еліпсоїда інерції. Моменти інерції тіла відносно цих осей і самі осі інерції називають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головним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для даної точки. Якщо ж ця точка є центром мас тіла, то —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головними центральними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87320" y="2536920"/>
            <a:ext cx="7513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і елементи матриці, що представляє тензор інерції тіла у даній декартовій системі координат, будуть дорівнювати нулю, якщо з трьох осей координат лиш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співпадає з головною віссю інерції тіла для точ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73360" y="3448080"/>
            <a:ext cx="35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і корисні твердж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77960" y="3960720"/>
            <a:ext cx="759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Головна вісь інерції залишається головною для всіх своїх точок тоді і лише тоді, коли вона є головною центральною віссю інерції цього ті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08200" y="4821120"/>
            <a:ext cx="761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що у тіла є вісь матеріальної симетрії, то вона є головною центральною віссю інерції цього ті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89120" y="5581800"/>
            <a:ext cx="779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>
            <a:hlinkClick r:id="rId1" action="ppaction://hlinksldjump"/>
          </p:cNvPr>
          <p:cNvSpPr/>
          <p:nvPr/>
        </p:nvSpPr>
        <p:spPr>
          <a:xfrm>
            <a:off x="324000" y="25765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7560" y="251784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>
            <a:hlinkClick r:id="rId2" action="ppaction://hlinksldjump"/>
          </p:cNvPr>
          <p:cNvSpPr/>
          <p:nvPr/>
        </p:nvSpPr>
        <p:spPr>
          <a:xfrm>
            <a:off x="318960" y="39304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38718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rId3" action="ppaction://hlinksldjump"/>
          </p:cNvPr>
          <p:cNvSpPr/>
          <p:nvPr/>
        </p:nvSpPr>
        <p:spPr>
          <a:xfrm>
            <a:off x="361800" y="47991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76360" y="474012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rId4" action="ppaction://hlinksldjump"/>
          </p:cNvPr>
          <p:cNvSpPr/>
          <p:nvPr/>
        </p:nvSpPr>
        <p:spPr>
          <a:xfrm>
            <a:off x="344520" y="562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58720" y="556272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967520" y="629928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previousslide"/>
          </p:cNvPr>
          <p:cNvSpPr/>
          <p:nvPr/>
        </p:nvSpPr>
        <p:spPr>
          <a:xfrm>
            <a:off x="6838920" y="630252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Box 3"/>
          <p:cNvSpPr/>
          <p:nvPr/>
        </p:nvSpPr>
        <p:spPr>
          <a:xfrm>
            <a:off x="1400040" y="307800"/>
            <a:ext cx="63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ДЕКІЛЬКА КОНТРОЛЬНИХ ЗАПИТАНЬ, ПОВ</a:t>
            </a:r>
            <a:r>
              <a:rPr b="1" lang="uk-UA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uk-UA" sz="2000" spc="-1" strike="noStrike">
                <a:solidFill>
                  <a:srgbClr val="000000"/>
                </a:solidFill>
                <a:latin typeface="Arial Unicode MS"/>
              </a:rPr>
              <a:t>ЯЗАНИХ З ТЕНЗОРОМ ІНЕР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rId1" action="ppaction://hlinksldjump"/>
          </p:cNvPr>
          <p:cNvSpPr/>
          <p:nvPr/>
        </p:nvSpPr>
        <p:spPr>
          <a:xfrm>
            <a:off x="297000" y="1257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0560" y="119844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95240" y="1268280"/>
            <a:ext cx="8058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і максимальне і мінімальне значення моменту інерції однорідного куба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 довжиною ребра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осі, що проходить через його верши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rId2" action="ppaction://hlinksldjump"/>
          </p:cNvPr>
          <p:cNvSpPr/>
          <p:nvPr/>
        </p:nvSpPr>
        <p:spPr>
          <a:xfrm>
            <a:off x="311040" y="24033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25600" y="234468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rId3" action="ppaction://hlinksldjump"/>
          </p:cNvPr>
          <p:cNvSpPr/>
          <p:nvPr/>
        </p:nvSpPr>
        <p:spPr>
          <a:xfrm>
            <a:off x="326880" y="3687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1440" y="362916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334800" y="48718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8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49360" y="481320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76160" y="2355840"/>
            <a:ext cx="771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висотою і діаметром однорідного циліндра його момент інерції відносно осі, що проходить через центр мас, не залежатиме від її напрям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98480" y="3692520"/>
            <a:ext cx="77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куті між віссю кругового однорідного конуса і його твірною еліпсоїд інерції з центром у вершині конуса виродиться у сфе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47800" y="4843440"/>
            <a:ext cx="746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необхідна і достатня умова того, щоб момент імпульсу тіла, що обертається навколо нерухомої осі, обчислений відносно будь-якої точки на осі обертання, співпадав за напрямком з вектором кутової швидкості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381880" y="200160"/>
            <a:ext cx="497160" cy="495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389800" y="26028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2476440" y="309600"/>
            <a:ext cx="42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3643200" y="2541600"/>
          <a:ext cx="2117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3200" y="2541600"/>
                    <a:ext cx="2117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/>
          <p:nvPr/>
        </p:nvSpPr>
        <p:spPr>
          <a:xfrm>
            <a:off x="3657600" y="2708280"/>
            <a:ext cx="5461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4108320" y="2325240"/>
            <a:ext cx="83340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933800" y="229536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954680" y="2106720"/>
            <a:ext cx="3633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нетична енергія диференціально малого елемен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84800" y="2768760"/>
            <a:ext cx="476280" cy="514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3360240" y="3255840"/>
            <a:ext cx="206244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346560" y="4584600"/>
            <a:ext cx="4104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3"/>
          <a:stretch/>
        </p:blipFill>
        <p:spPr>
          <a:xfrm>
            <a:off x="604800" y="2066760"/>
            <a:ext cx="2652840" cy="40420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835280" y="2843280"/>
            <a:ext cx="4680" cy="258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21026400">
            <a:off x="1725120" y="22446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2217600"/>
            <a:ext cx="0" cy="11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197000" y="3736800"/>
            <a:ext cx="1285920" cy="29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282760" y="3957480"/>
            <a:ext cx="4608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835280" y="3857760"/>
            <a:ext cx="4521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40000" y="2190600"/>
            <a:ext cx="47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69920" y="3665520"/>
            <a:ext cx="47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1000" y="3954600"/>
            <a:ext cx="800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01840" y="3975120"/>
            <a:ext cx="107964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371760" y="4554360"/>
            <a:ext cx="363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Comic Sans MS"/>
              </a:rPr>
              <a:t>маса диференціально малого елемента ті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11360" y="4552920"/>
            <a:ext cx="352116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31760" y="820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79360" y="2585880"/>
            <a:ext cx="42840" cy="3603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01520" y="1992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982800"/>
            <a:ext cx="4618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у фізичну величину позначено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91920" y="5789520"/>
            <a:ext cx="601812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бчисліть момент інерції тонкостінного циліндра відносно власної осі за відомими масо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254160" y="57373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84640" y="3235320"/>
            <a:ext cx="2828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утова швидкість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uk-UA" sz="1600" spc="-1" strike="noStrike">
                <a:solidFill>
                  <a:srgbClr val="000000"/>
                </a:solidFill>
                <a:latin typeface="Comic Sans MS"/>
              </a:rPr>
              <a:t>однакова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всіх елементів тіла!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78240" y="321156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84440" y="1658880"/>
          <a:ext cx="4465800" cy="14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84440" y="1658880"/>
                    <a:ext cx="446580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503520" y="1828800"/>
            <a:ext cx="5461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954600" y="1445760"/>
            <a:ext cx="83340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0080" y="141588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227240"/>
            <a:ext cx="3633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інетична енергія диференціально малого елемента ті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84480" y="2658960"/>
            <a:ext cx="298440" cy="317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87240" y="2984400"/>
            <a:ext cx="73980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170160" y="3913200"/>
          <a:ext cx="3633840" cy="117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70160" y="3913200"/>
                    <a:ext cx="3633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126120" y="3970440"/>
            <a:ext cx="193680" cy="412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080" y="4815000"/>
            <a:ext cx="595440" cy="66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1240" y="4375080"/>
            <a:ext cx="250560" cy="11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37120" y="535464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83200" y="5324400"/>
            <a:ext cx="2489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іла відносно заданої ос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77200" y="2076480"/>
            <a:ext cx="476280" cy="51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58080" y="2552760"/>
            <a:ext cx="36216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20240" y="27050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0" y="2867040"/>
            <a:ext cx="414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8300880" y="2611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450720" y="1187280"/>
            <a:ext cx="2652840" cy="4042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81200" y="1963800"/>
            <a:ext cx="4680" cy="2584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026400">
            <a:off x="1571400" y="136512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4720" y="1338120"/>
            <a:ext cx="0" cy="119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857680"/>
            <a:ext cx="1285920" cy="291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8680" y="3078000"/>
            <a:ext cx="4608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2978280"/>
            <a:ext cx="4525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5920" y="1311120"/>
            <a:ext cx="479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6200" y="2786040"/>
            <a:ext cx="479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96920" y="3075120"/>
            <a:ext cx="800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5320" y="506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НЕТИЧНА ЕНЕРГІЯ ОБЕРТАЛЬНОГО РУХУ ТВЕРДОГО ТІ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117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534520" y="2552760"/>
            <a:ext cx="24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49640" y="463248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78440" y="3916440"/>
            <a:ext cx="1774800" cy="1301760"/>
          </a:xfrm>
          <a:custGeom>
            <a:avLst/>
            <a:gdLst/>
            <a:ahLst/>
            <a:rect l="l" t="t" r="r" b="b"/>
            <a:pathLst>
              <a:path w="1181" h="911">
                <a:moveTo>
                  <a:pt x="225" y="120"/>
                </a:moveTo>
                <a:cubicBezTo>
                  <a:pt x="249" y="112"/>
                  <a:pt x="255" y="93"/>
                  <a:pt x="275" y="80"/>
                </a:cubicBezTo>
                <a:cubicBezTo>
                  <a:pt x="301" y="63"/>
                  <a:pt x="287" y="70"/>
                  <a:pt x="315" y="60"/>
                </a:cubicBezTo>
                <a:cubicBezTo>
                  <a:pt x="361" y="14"/>
                  <a:pt x="440" y="7"/>
                  <a:pt x="502" y="0"/>
                </a:cubicBezTo>
                <a:cubicBezTo>
                  <a:pt x="574" y="4"/>
                  <a:pt x="646" y="5"/>
                  <a:pt x="717" y="13"/>
                </a:cubicBezTo>
                <a:cubicBezTo>
                  <a:pt x="757" y="17"/>
                  <a:pt x="789" y="38"/>
                  <a:pt x="824" y="53"/>
                </a:cubicBezTo>
                <a:cubicBezTo>
                  <a:pt x="848" y="63"/>
                  <a:pt x="879" y="68"/>
                  <a:pt x="904" y="74"/>
                </a:cubicBezTo>
                <a:cubicBezTo>
                  <a:pt x="952" y="86"/>
                  <a:pt x="998" y="106"/>
                  <a:pt x="1045" y="120"/>
                </a:cubicBezTo>
                <a:cubicBezTo>
                  <a:pt x="1058" y="129"/>
                  <a:pt x="1076" y="134"/>
                  <a:pt x="1085" y="147"/>
                </a:cubicBezTo>
                <a:cubicBezTo>
                  <a:pt x="1100" y="171"/>
                  <a:pt x="1118" y="195"/>
                  <a:pt x="1139" y="214"/>
                </a:cubicBezTo>
                <a:cubicBezTo>
                  <a:pt x="1157" y="294"/>
                  <a:pt x="1181" y="435"/>
                  <a:pt x="1085" y="469"/>
                </a:cubicBezTo>
                <a:cubicBezTo>
                  <a:pt x="1065" y="489"/>
                  <a:pt x="1051" y="500"/>
                  <a:pt x="1025" y="509"/>
                </a:cubicBezTo>
                <a:cubicBezTo>
                  <a:pt x="1004" y="529"/>
                  <a:pt x="976" y="536"/>
                  <a:pt x="951" y="549"/>
                </a:cubicBezTo>
                <a:cubicBezTo>
                  <a:pt x="924" y="562"/>
                  <a:pt x="913" y="586"/>
                  <a:pt x="884" y="596"/>
                </a:cubicBezTo>
                <a:cubicBezTo>
                  <a:pt x="869" y="640"/>
                  <a:pt x="885" y="588"/>
                  <a:pt x="852" y="624"/>
                </a:cubicBezTo>
                <a:cubicBezTo>
                  <a:pt x="809" y="659"/>
                  <a:pt x="875" y="632"/>
                  <a:pt x="824" y="650"/>
                </a:cubicBezTo>
                <a:cubicBezTo>
                  <a:pt x="799" y="685"/>
                  <a:pt x="758" y="693"/>
                  <a:pt x="730" y="723"/>
                </a:cubicBezTo>
                <a:cubicBezTo>
                  <a:pt x="714" y="740"/>
                  <a:pt x="705" y="749"/>
                  <a:pt x="683" y="757"/>
                </a:cubicBezTo>
                <a:cubicBezTo>
                  <a:pt x="672" y="773"/>
                  <a:pt x="671" y="779"/>
                  <a:pt x="656" y="790"/>
                </a:cubicBezTo>
                <a:cubicBezTo>
                  <a:pt x="643" y="800"/>
                  <a:pt x="616" y="817"/>
                  <a:pt x="616" y="817"/>
                </a:cubicBezTo>
                <a:cubicBezTo>
                  <a:pt x="583" y="868"/>
                  <a:pt x="466" y="891"/>
                  <a:pt x="409" y="911"/>
                </a:cubicBezTo>
                <a:cubicBezTo>
                  <a:pt x="335" y="909"/>
                  <a:pt x="262" y="908"/>
                  <a:pt x="188" y="904"/>
                </a:cubicBezTo>
                <a:cubicBezTo>
                  <a:pt x="165" y="903"/>
                  <a:pt x="127" y="871"/>
                  <a:pt x="127" y="871"/>
                </a:cubicBezTo>
                <a:cubicBezTo>
                  <a:pt x="110" y="844"/>
                  <a:pt x="88" y="833"/>
                  <a:pt x="67" y="810"/>
                </a:cubicBezTo>
                <a:cubicBezTo>
                  <a:pt x="50" y="762"/>
                  <a:pt x="74" y="820"/>
                  <a:pt x="40" y="770"/>
                </a:cubicBezTo>
                <a:cubicBezTo>
                  <a:pt x="19" y="738"/>
                  <a:pt x="12" y="699"/>
                  <a:pt x="0" y="663"/>
                </a:cubicBezTo>
                <a:cubicBezTo>
                  <a:pt x="2" y="634"/>
                  <a:pt x="0" y="570"/>
                  <a:pt x="20" y="536"/>
                </a:cubicBezTo>
                <a:cubicBezTo>
                  <a:pt x="33" y="515"/>
                  <a:pt x="59" y="502"/>
                  <a:pt x="74" y="482"/>
                </a:cubicBezTo>
                <a:cubicBezTo>
                  <a:pt x="110" y="434"/>
                  <a:pt x="82" y="448"/>
                  <a:pt x="121" y="435"/>
                </a:cubicBezTo>
                <a:cubicBezTo>
                  <a:pt x="129" y="408"/>
                  <a:pt x="146" y="390"/>
                  <a:pt x="154" y="362"/>
                </a:cubicBezTo>
                <a:cubicBezTo>
                  <a:pt x="170" y="307"/>
                  <a:pt x="179" y="250"/>
                  <a:pt x="188" y="194"/>
                </a:cubicBezTo>
                <a:cubicBezTo>
                  <a:pt x="194" y="160"/>
                  <a:pt x="225" y="150"/>
                  <a:pt x="225" y="12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1880" y="5675400"/>
            <a:ext cx="2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Управляющая кнопка: домой 85">
            <a:hlinkClick r:id="rId8" action="ppaction://hlinksldjump"/>
          </p:cNvPr>
          <p:cNvSpPr/>
          <p:nvPr/>
        </p:nvSpPr>
        <p:spPr>
          <a:xfrm>
            <a:off x="155520" y="1350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67520" y="63374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838920" y="634032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2416320" y="345960"/>
            <a:ext cx="43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2935440" y="4454640"/>
          <a:ext cx="46004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454640"/>
                    <a:ext cx="46004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"/>
          <p:cNvSpPr/>
          <p:nvPr/>
        </p:nvSpPr>
        <p:spPr>
          <a:xfrm>
            <a:off x="2792520" y="2192400"/>
            <a:ext cx="5392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 від будь-якого диференціально малого елемента тонкостінного циліндра до заданої осі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однаков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дорівню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див. рис.)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963880" y="399096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бо, використовуючи формулу-означенн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2" name=""/>
          <p:cNvGraphicFramePr/>
          <p:nvPr/>
        </p:nvGraphicFramePr>
        <p:xfrm>
          <a:off x="4729320" y="3230640"/>
          <a:ext cx="10713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3230640"/>
                    <a:ext cx="1071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4" name=""/>
          <p:cNvGrpSpPr/>
          <p:nvPr/>
        </p:nvGrpSpPr>
        <p:grpSpPr>
          <a:xfrm>
            <a:off x="812880" y="2468520"/>
            <a:ext cx="1508040" cy="2690640"/>
            <a:chOff x="812880" y="2468520"/>
            <a:chExt cx="1508040" cy="2690640"/>
          </a:xfrm>
        </p:grpSpPr>
        <p:pic>
          <p:nvPicPr>
            <p:cNvPr id="925" name="" descr=""/>
            <p:cNvPicPr/>
            <p:nvPr/>
          </p:nvPicPr>
          <p:blipFill>
            <a:blip r:embed="rId5"/>
            <a:stretch/>
          </p:blipFill>
          <p:spPr>
            <a:xfrm>
              <a:off x="812880" y="2805120"/>
              <a:ext cx="1508040" cy="21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"/>
            <p:cNvSpPr/>
            <p:nvPr/>
          </p:nvSpPr>
          <p:spPr>
            <a:xfrm>
              <a:off x="1541520" y="2468520"/>
              <a:ext cx="0" cy="6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44760" y="4903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44560" y="3711600"/>
              <a:ext cx="140328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44760" y="3119400"/>
              <a:ext cx="0" cy="177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54440" y="3898800"/>
              <a:ext cx="41040" cy="3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38280" y="3825720"/>
              <a:ext cx="4446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1026400">
              <a:off x="1474560" y="2552400"/>
              <a:ext cx="152280" cy="201600"/>
            </a:xfrm>
            <a:custGeom>
              <a:avLst/>
              <a:gdLst>
                <a:gd name="textAreaLeft" fmla="*/ 20160 w 152280"/>
                <a:gd name="textAreaRight" fmla="*/ 132120 w 152280"/>
                <a:gd name="textAreaTop" fmla="*/ 35280 h 201600"/>
                <a:gd name="textAreaBottom" fmla="*/ 146160 h 2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46200" y="2502000"/>
              <a:ext cx="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335400" y="52275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56080" y="521820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773760" y="4687920"/>
            <a:ext cx="628920" cy="482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1731960" y="3659040"/>
          <a:ext cx="198360" cy="21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31960" y="3659040"/>
                    <a:ext cx="1983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79360" y="2860560"/>
            <a:ext cx="42840" cy="2730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01520" y="2305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76120" y="919080"/>
            <a:ext cx="82026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бчисліть момент інерції тонкостінного циліндра відносно власної осі за відомими масо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rId9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55560" y="3548160"/>
            <a:ext cx="98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84440" y="2104920"/>
            <a:ext cx="309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353960" y="229860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85880" y="226836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4270320" y="3575160"/>
            <a:ext cx="1995480" cy="1038240"/>
            <a:chOff x="4270320" y="3575160"/>
            <a:chExt cx="1995480" cy="1038240"/>
          </a:xfrm>
        </p:grpSpPr>
        <p:graphicFrame>
          <p:nvGraphicFramePr>
            <p:cNvPr id="950" name=""/>
            <p:cNvGraphicFramePr/>
            <p:nvPr/>
          </p:nvGraphicFramePr>
          <p:xfrm>
            <a:off x="4465800" y="423396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65800" y="423396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2" name=""/>
            <p:cNvGraphicFramePr/>
            <p:nvPr/>
          </p:nvGraphicFramePr>
          <p:xfrm>
            <a:off x="4270320" y="357516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70320" y="357516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4" name=""/>
            <p:cNvSpPr/>
            <p:nvPr/>
          </p:nvSpPr>
          <p:spPr>
            <a:xfrm flipH="1">
              <a:off x="4608720" y="394488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05280" y="365904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94440" y="361800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00800" y="398952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8" name=""/>
            <p:cNvGraphicFramePr/>
            <p:nvPr/>
          </p:nvGraphicFramePr>
          <p:xfrm>
            <a:off x="5721480" y="401796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1480" y="401796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0" name=""/>
            <p:cNvSpPr/>
            <p:nvPr/>
          </p:nvSpPr>
          <p:spPr>
            <a:xfrm>
              <a:off x="4467240" y="417996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526360" y="404172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655560" y="2347920"/>
            <a:ext cx="0" cy="248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46200" y="367200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50800" y="241452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55560" y="23860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951200" y="3586320"/>
            <a:ext cx="0" cy="61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016000" y="359424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51040" y="375768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016000" y="37656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60560" y="37195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55560" y="41194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158840" y="3841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824200" y="31827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729400" y="3927600"/>
            <a:ext cx="247680" cy="81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910120" y="4708440"/>
            <a:ext cx="44784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324480" y="52182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405160" y="36504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91440" y="5099040"/>
            <a:ext cx="2476440" cy="552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338880" y="506556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назвати лінійною або погонною густи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79360" y="2585880"/>
            <a:ext cx="42840" cy="3205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7760" y="1984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4120" y="1157400"/>
            <a:ext cx="3192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можна назвати вираз      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3151080" y="1000080"/>
          <a:ext cx="263520" cy="5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1080" y="1000080"/>
                    <a:ext cx="2635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981000" y="3452760"/>
            <a:ext cx="9864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09880" y="2009880"/>
            <a:ext cx="3095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679400" y="220356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911320" y="217332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4480" y="5273640"/>
            <a:ext cx="106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941720" y="2776680"/>
            <a:ext cx="1995480" cy="1038240"/>
            <a:chOff x="4941720" y="2776680"/>
            <a:chExt cx="1995480" cy="1038240"/>
          </a:xfrm>
        </p:grpSpPr>
        <p:graphicFrame>
          <p:nvGraphicFramePr>
            <p:cNvPr id="994" name=""/>
            <p:cNvGraphicFramePr/>
            <p:nvPr/>
          </p:nvGraphicFramePr>
          <p:xfrm>
            <a:off x="5137200" y="343548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37200" y="343548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6" name=""/>
            <p:cNvGraphicFramePr/>
            <p:nvPr/>
          </p:nvGraphicFramePr>
          <p:xfrm>
            <a:off x="4941720" y="277668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41720" y="277668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 flipH="1">
              <a:off x="5280120" y="314640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76680" y="286056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65840" y="281952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172200" y="319104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6392880" y="321948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92880" y="321948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4" name=""/>
            <p:cNvSpPr/>
            <p:nvPr/>
          </p:nvSpPr>
          <p:spPr>
            <a:xfrm>
              <a:off x="5138640" y="338148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197760" y="324324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6" name=""/>
          <p:cNvGraphicFramePr/>
          <p:nvPr/>
        </p:nvGraphicFramePr>
        <p:xfrm>
          <a:off x="2212920" y="4854600"/>
          <a:ext cx="5562720" cy="11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2920" y="4854600"/>
                    <a:ext cx="5562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8" name=""/>
          <p:cNvSpPr/>
          <p:nvPr/>
        </p:nvSpPr>
        <p:spPr>
          <a:xfrm>
            <a:off x="981000" y="2252520"/>
            <a:ext cx="0" cy="248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971640" y="357660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876240" y="2319480"/>
            <a:ext cx="219240" cy="26640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400"/>
              <a:gd name="textAreaBottom" fmla="*/ 193320 h 26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981000" y="22906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276640" y="34909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1440" y="349884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076480" y="366228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41440" y="36702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86000" y="36241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981000" y="40244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484280" y="3746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49640" y="308772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381400" y="293760"/>
            <a:ext cx="44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991200" y="4905360"/>
            <a:ext cx="706680" cy="797040"/>
          </a:xfrm>
          <a:custGeom>
            <a:avLst/>
            <a:gdLst>
              <a:gd name="textAreaLeft" fmla="*/ 34200 w 706680"/>
              <a:gd name="textAreaRight" fmla="*/ 672480 w 706680"/>
              <a:gd name="textAreaTop" fmla="*/ 34200 h 797040"/>
              <a:gd name="textAreaBottom" fmla="*/ 762840 h 797040"/>
            </a:gdLst>
            <a:ahLst/>
            <a:rect l="textAreaLeft" t="textAreaTop" r="textAreaRight" b="textAreaBottom"/>
            <a:pathLst>
              <a:path w="21600" h="24360">
                <a:moveTo>
                  <a:pt x="3600" y="0"/>
                </a:moveTo>
                <a:arcTo wR="3600" hR="3600" stAng="16200000" swAng="-5400000"/>
                <a:lnTo>
                  <a:pt x="0" y="20760"/>
                </a:lnTo>
                <a:arcTo wR="3600" hR="3600" stAng="10800000" swAng="-5400000"/>
                <a:lnTo>
                  <a:pt x="18000" y="243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9844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52360" y="2443320"/>
            <a:ext cx="42840" cy="3430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7760" y="18637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55640" y="1074600"/>
            <a:ext cx="2868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одовжіть обчисл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3316320" y="841320"/>
          <a:ext cx="14479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16320" y="841320"/>
                    <a:ext cx="14479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rId12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511440" y="1922400"/>
            <a:ext cx="4516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71560" y="163836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80920" y="175248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500280" y="21780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681120" y="2435400"/>
            <a:ext cx="3108240" cy="408780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1332000" y="290520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32000" y="343836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122640" y="339084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339920" y="495144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6680" y="350532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36680" y="208548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112840" y="2238480"/>
            <a:ext cx="257400" cy="352440"/>
          </a:xfrm>
          <a:custGeom>
            <a:avLst/>
            <a:gdLst>
              <a:gd name="textAreaLeft" fmla="*/ 34200 w 257400"/>
              <a:gd name="textAreaRight" fmla="*/ 223200 w 25740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236680" y="21812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550520" y="3381480"/>
            <a:ext cx="676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579760" y="3057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873520" y="2922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760400" y="3295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930400" y="2897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390840" y="2538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801520" y="2189160"/>
            <a:ext cx="730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67360" y="458136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4873680" y="4275000"/>
            <a:ext cx="2160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27480" y="4443480"/>
            <a:ext cx="300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фізичним змістом є густиною матеріалу, з якого виготовлений циліндр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 flipV="1">
            <a:off x="899640" y="1757520"/>
            <a:ext cx="46692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482920" y="284040"/>
            <a:ext cx="42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12640" y="34783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04720" y="552456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9720" y="347832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68280" y="42973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"/>
          <p:cNvGraphicFramePr/>
          <p:nvPr/>
        </p:nvGraphicFramePr>
        <p:xfrm>
          <a:off x="3960720" y="3305160"/>
          <a:ext cx="4667400" cy="79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720" y="330516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 flipV="1">
            <a:off x="5900760" y="3795480"/>
            <a:ext cx="20808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6796080" y="354636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567320" y="3263760"/>
            <a:ext cx="698400" cy="100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6326280" y="380664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7043760" y="355284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159520" y="4470480"/>
            <a:ext cx="2958840" cy="833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31760" y="785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1440" y="2060640"/>
            <a:ext cx="42840" cy="4538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01520" y="15382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61960" y="952560"/>
            <a:ext cx="654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им за фізичним змістом є вираз          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1" name=""/>
          <p:cNvGraphicFramePr/>
          <p:nvPr/>
        </p:nvGraphicFramePr>
        <p:xfrm>
          <a:off x="3967200" y="771480"/>
          <a:ext cx="592200" cy="59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0" y="771480"/>
                    <a:ext cx="5922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062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rId7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5" name=""/>
          <p:cNvGraphicFramePr/>
          <p:nvPr/>
        </p:nvGraphicFramePr>
        <p:xfrm>
          <a:off x="3960720" y="2789280"/>
          <a:ext cx="466740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0720" y="278928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"/>
          <p:cNvSpPr/>
          <p:nvPr/>
        </p:nvSpPr>
        <p:spPr>
          <a:xfrm>
            <a:off x="4406760" y="5511960"/>
            <a:ext cx="1068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4248000" y="3855960"/>
          <a:ext cx="3751560" cy="21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8000" y="3855960"/>
                    <a:ext cx="37515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"/>
          <p:cNvSpPr/>
          <p:nvPr/>
        </p:nvSpPr>
        <p:spPr>
          <a:xfrm>
            <a:off x="3494160" y="1822320"/>
            <a:ext cx="4479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масо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53920" y="153828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863640" y="16527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483000" y="207792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5"/>
          <a:stretch/>
        </p:blipFill>
        <p:spPr>
          <a:xfrm>
            <a:off x="663480" y="2335320"/>
            <a:ext cx="3108600" cy="40878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1314360" y="280512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314360" y="33386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105000" y="329076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322280" y="485136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219400" y="340524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219400" y="1986120"/>
            <a:ext cx="0" cy="39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95560" y="2138400"/>
            <a:ext cx="257040" cy="352440"/>
          </a:xfrm>
          <a:custGeom>
            <a:avLst/>
            <a:gdLst>
              <a:gd name="textAreaLeft" fmla="*/ 34200 w 257040"/>
              <a:gd name="textAreaRight" fmla="*/ 222840 w 25704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219400" y="208116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1533600" y="3281400"/>
            <a:ext cx="6760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2610000" y="2976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2894040" y="284148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743120" y="3195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946240" y="28274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560760" y="2536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2784600" y="2089080"/>
            <a:ext cx="73008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 flipV="1">
            <a:off x="882720" y="1657440"/>
            <a:ext cx="46656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419200" y="28908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03280" y="338148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95360" y="542772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30360" y="338148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8920" y="420048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900760" y="327960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6796080" y="303048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326280" y="329076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043760" y="3036960"/>
            <a:ext cx="20808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186520" y="6178680"/>
            <a:ext cx="2197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Від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не залеж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508800" y="5145120"/>
            <a:ext cx="755640" cy="79524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795240"/>
              <a:gd name="textAreaBottom" fmla="*/ 758520 h 795240"/>
            </a:gdLst>
            <a:ahLst/>
            <a:rect l="textAreaLeft" t="textAreaTop" r="textAreaRight" b="textAreaBottom"/>
            <a:pathLst>
              <a:path w="21600" h="22731">
                <a:moveTo>
                  <a:pt x="3600" y="0"/>
                </a:moveTo>
                <a:arcTo wR="3600" hR="3600" stAng="16200000" swAng="-5400000"/>
                <a:lnTo>
                  <a:pt x="0" y="19131"/>
                </a:lnTo>
                <a:arcTo wR="3600" hR="3600" stAng="10800000" swAng="-5400000"/>
                <a:lnTo>
                  <a:pt x="18000" y="22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31760" y="746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11040" y="2013120"/>
            <a:ext cx="42840" cy="4495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5000" y="14526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95440" y="890640"/>
            <a:ext cx="822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однорідного суцільного циліндра відносно власної о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350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rId7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3357720" y="3763800"/>
            <a:ext cx="5153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н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івкільця такий самий, як і момент інерції кільця (відносно вказаної осі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Зверніть уваг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те, що порівнюються об’єкти, які мають однакові маси і радіуси, а не такі, що один є частиною іншого.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928800" y="2563920"/>
            <a:ext cx="1942920" cy="1993320"/>
            <a:chOff x="928800" y="2563920"/>
            <a:chExt cx="1942920" cy="1993320"/>
          </a:xfrm>
        </p:grpSpPr>
        <p:sp>
          <p:nvSpPr>
            <p:cNvPr id="1120" name=""/>
            <p:cNvSpPr/>
            <p:nvPr/>
          </p:nvSpPr>
          <p:spPr>
            <a:xfrm>
              <a:off x="928800" y="256392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Напівкільц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1" name="" descr=""/>
            <p:cNvPicPr/>
            <p:nvPr/>
          </p:nvPicPr>
          <p:blipFill>
            <a:blip r:embed="rId1"/>
            <a:stretch/>
          </p:blipFill>
          <p:spPr>
            <a:xfrm>
              <a:off x="1028880" y="3578040"/>
              <a:ext cx="127620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1809720" y="3597120"/>
              <a:ext cx="0" cy="60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09760" y="303048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1693800" y="2985840"/>
              <a:ext cx="200160" cy="1571400"/>
              <a:chOff x="1693800" y="2985840"/>
              <a:chExt cx="200160" cy="157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1808280" y="298584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693800" y="3071160"/>
                <a:ext cx="200160" cy="23760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600"/>
                  <a:gd name="textAreaBottom" fmla="*/ 172440 h 237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08280" y="301392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 flipV="1">
              <a:off x="1390680" y="3625560"/>
              <a:ext cx="885960" cy="51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384280" y="36684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276720" y="2166840"/>
            <a:ext cx="51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 від будь-якого диференціально малого елемента тіла до заданої осі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однакова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дорівню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а це означає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5114880" y="3164040"/>
          <a:ext cx="1266840" cy="46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4880" y="3164040"/>
                    <a:ext cx="12668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"/>
          <p:cNvSpPr/>
          <p:nvPr/>
        </p:nvSpPr>
        <p:spPr>
          <a:xfrm>
            <a:off x="5583240" y="3170160"/>
            <a:ext cx="660240" cy="44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79360" y="2733840"/>
            <a:ext cx="42840" cy="2457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83473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напівкільця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3427560" y="1708200"/>
            <a:ext cx="55116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стержень розламали посередині і скла-ли обидві половини разом так, як показано на ниж-ньому рисунку. Така “перебудова” тіла не змінить моменту інерції. Це стає особливо зрозумілим, якщо уявити, що ліву половину стержня переміщують не паралельним переносом, а обертаючи навколо вка-заної осі. При цьому відстань від кожного диферен-ціально малого елемента тіла до осі обертання не буде змінюватися!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цей випадок уже був розібраний раніше (дивись відповідь на запитання 2.2 — момент інерції стержня відносно перпендикулярної осі, що проходить через один з його кінців). Лише треба виконати замі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689200" y="38736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41520" y="2044800"/>
            <a:ext cx="2890800" cy="4251240"/>
            <a:chOff x="641520" y="2044800"/>
            <a:chExt cx="2890800" cy="4251240"/>
          </a:xfrm>
        </p:grpSpPr>
        <p:grpSp>
          <p:nvGrpSpPr>
            <p:cNvPr id="1143" name=""/>
            <p:cNvGrpSpPr/>
            <p:nvPr/>
          </p:nvGrpSpPr>
          <p:grpSpPr>
            <a:xfrm>
              <a:off x="641520" y="2044800"/>
              <a:ext cx="2566800" cy="1979640"/>
              <a:chOff x="641520" y="2044800"/>
              <a:chExt cx="2566800" cy="197964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641520" y="2044800"/>
                <a:ext cx="2566800" cy="1979640"/>
                <a:chOff x="641520" y="2044800"/>
                <a:chExt cx="2566800" cy="197964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641520" y="2044800"/>
                  <a:ext cx="1619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Comic Sans MS"/>
                    </a:rPr>
                    <a:t>   </a:t>
                  </a:r>
                  <a:r>
                    <a:rPr b="0" lang="uk-UA" sz="1600" spc="-1" strike="noStrike">
                      <a:solidFill>
                        <a:srgbClr val="000000"/>
                      </a:solidFill>
                      <a:latin typeface="Comic Sans MS"/>
                    </a:rPr>
                    <a:t>Стержен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935360" y="2453040"/>
                  <a:ext cx="0" cy="157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944640" y="3291120"/>
                  <a:ext cx="1962000" cy="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1820880" y="2538720"/>
                  <a:ext cx="200160" cy="237960"/>
                </a:xfrm>
                <a:custGeom>
                  <a:avLst/>
                  <a:gdLst>
                    <a:gd name="textAreaLeft" fmla="*/ 26640 w 200160"/>
                    <a:gd name="textAreaRight" fmla="*/ 173520 w 200160"/>
                    <a:gd name="textAreaTop" fmla="*/ 41400 h 237960"/>
                    <a:gd name="textAreaBottom" fmla="*/ 172440 h 237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935360" y="2481480"/>
                  <a:ext cx="0" cy="20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646360" y="235440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, 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235240" y="289584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i="1" lang="uk-UA" sz="16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300320" y="2884680"/>
                  <a:ext cx="56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i="1" lang="uk-UA" sz="16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V="1">
                  <a:off x="944640" y="310968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2905200" y="3127680"/>
                  <a:ext cx="0" cy="18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944640" y="3167280"/>
                  <a:ext cx="9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952640" y="3175200"/>
                  <a:ext cx="9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/>
              <p:nvPr/>
            </p:nvSpPr>
            <p:spPr>
              <a:xfrm>
                <a:off x="954000" y="316728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835280" y="4724640"/>
              <a:ext cx="1697040" cy="1571400"/>
              <a:chOff x="1835280" y="4724640"/>
              <a:chExt cx="1697040" cy="15714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949400" y="472464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941480" y="5562720"/>
                <a:ext cx="979560" cy="0"/>
              </a:xfrm>
              <a:prstGeom prst="line">
                <a:avLst/>
              </a:prstGeom>
              <a:ln w="6048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835280" y="4810320"/>
                <a:ext cx="199800" cy="23796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949400" y="47530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18000" y="4781520"/>
                <a:ext cx="81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249640" y="516744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2919600" y="539892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957320" y="544680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67" name=""/>
                <p:cNvSpPr txBox="1"/>
                <p:nvPr/>
              </p:nvSpPr>
              <p:spPr>
                <a:xfrm>
                  <a:off x="1811520" y="4146840"/>
                  <a:ext cx="406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⇓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68" name=""/>
          <p:cNvGraphicFramePr/>
          <p:nvPr/>
        </p:nvGraphicFramePr>
        <p:xfrm>
          <a:off x="5502240" y="5111640"/>
          <a:ext cx="93672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5111640"/>
                    <a:ext cx="9367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4433760" y="54957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таточно отримуємо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5189400" y="5873760"/>
          <a:ext cx="12495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5873760"/>
                    <a:ext cx="1249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5673600" y="5911920"/>
            <a:ext cx="628920" cy="796680"/>
          </a:xfrm>
          <a:custGeom>
            <a:avLst/>
            <a:gdLst>
              <a:gd name="textAreaLeft" fmla="*/ 30600 w 628920"/>
              <a:gd name="textAreaRight" fmla="*/ 598320 w 628920"/>
              <a:gd name="textAreaTop" fmla="*/ 30600 h 796680"/>
              <a:gd name="textAreaBottom" fmla="*/ 766080 h 796680"/>
            </a:gdLst>
            <a:ahLst/>
            <a:rect l="textAreaLeft" t="textAreaTop" r="textAreaRight" b="textAreaBottom"/>
            <a:pathLst>
              <a:path w="21600" h="27358">
                <a:moveTo>
                  <a:pt x="3600" y="0"/>
                </a:moveTo>
                <a:arcTo wR="3600" hR="3600" stAng="16200000" swAng="-5400000"/>
                <a:lnTo>
                  <a:pt x="0" y="23758"/>
                </a:lnTo>
                <a:arcTo wR="3600" hR="3600" stAng="10800000" swAng="-5400000"/>
                <a:lnTo>
                  <a:pt x="18000" y="27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79360" y="2400480"/>
            <a:ext cx="42840" cy="4059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01520" y="1844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84280" y="9334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стержня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довжин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rId6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365640" y="3803760"/>
            <a:ext cx="55530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сектора такий самий, як і момент інерції пластини або суцільного циліндра (відносно вказаної осі)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Зверніть уваг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що порівнюються об’єкти, які мають однакові маси і радіуси, а не такі, що один є частиною іншого.</a:t>
            </a:r>
            <a:r>
              <a:rPr b="0" lang="ru-RU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782640" y="3762360"/>
            <a:ext cx="905040" cy="51444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07800" y="2554200"/>
            <a:ext cx="28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ектор круглої пласт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1566720" y="3094200"/>
            <a:ext cx="200160" cy="1571400"/>
            <a:chOff x="1566720" y="3094200"/>
            <a:chExt cx="200160" cy="1571400"/>
          </a:xfrm>
        </p:grpSpPr>
        <p:sp>
          <p:nvSpPr>
            <p:cNvPr id="1184" name=""/>
            <p:cNvSpPr/>
            <p:nvPr/>
          </p:nvSpPr>
          <p:spPr>
            <a:xfrm>
              <a:off x="1681200" y="3094200"/>
              <a:ext cx="0" cy="157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6720" y="3179520"/>
              <a:ext cx="200160" cy="237600"/>
            </a:xfrm>
            <a:custGeom>
              <a:avLst/>
              <a:gdLst>
                <a:gd name="textAreaLeft" fmla="*/ 26640 w 200160"/>
                <a:gd name="textAreaRight" fmla="*/ 173520 w 200160"/>
                <a:gd name="textAreaTop" fmla="*/ 41400 h 237600"/>
                <a:gd name="textAreaBottom" fmla="*/ 172440 h 23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681200" y="3122280"/>
              <a:ext cx="0" cy="20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1906560" y="3243240"/>
            <a:ext cx="80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44560" y="4152600"/>
            <a:ext cx="809640" cy="1047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301760" y="4019400"/>
            <a:ext cx="20880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038240" y="3851280"/>
            <a:ext cx="31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16120" y="3800520"/>
            <a:ext cx="1523880" cy="7048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424240" y="33012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338640" y="1782720"/>
            <a:ext cx="56052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речовину, з якої виготовлений сектор, “розподіляють” так, щоб утворити круглу пластину, але тоншу за ту, з якої був вирізаний сектор, причому всі диференціально малі елементи тіла переміщують по колу, не змінюючи відстані до осі обер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відносно вказаної осі при цьому не зміни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5086440" y="4610160"/>
          <a:ext cx="134784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86440" y="4610160"/>
                    <a:ext cx="13478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6" name=""/>
          <p:cNvSpPr/>
          <p:nvPr/>
        </p:nvSpPr>
        <p:spPr>
          <a:xfrm>
            <a:off x="5564160" y="4646520"/>
            <a:ext cx="736560" cy="797040"/>
          </a:xfrm>
          <a:custGeom>
            <a:avLst/>
            <a:gdLst>
              <a:gd name="textAreaLeft" fmla="*/ 35640 w 736560"/>
              <a:gd name="textAreaRight" fmla="*/ 700920 w 736560"/>
              <a:gd name="textAreaTop" fmla="*/ 35640 h 797040"/>
              <a:gd name="textAreaBottom" fmla="*/ 761400 h 797040"/>
            </a:gdLst>
            <a:ahLst/>
            <a:rect l="textAreaLeft" t="textAreaTop" r="textAreaRight" b="textAreaBottom"/>
            <a:pathLst>
              <a:path w="21600" h="23373">
                <a:moveTo>
                  <a:pt x="3600" y="0"/>
                </a:moveTo>
                <a:arcTo wR="3600" hR="3600" stAng="16200000" swAng="-5400000"/>
                <a:lnTo>
                  <a:pt x="0" y="19773"/>
                </a:lnTo>
                <a:arcTo wR="3600" hR="3600" stAng="10800000" swAng="-5400000"/>
                <a:lnTo>
                  <a:pt x="18000" y="23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79360" y="2376360"/>
            <a:ext cx="42840" cy="3883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01520" y="18208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933480"/>
            <a:ext cx="8505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сектора кругл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кутом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2390760" y="3240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759120" y="3660840"/>
            <a:ext cx="49784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як і момент інерції стержня довжиною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а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носно перпендикулярної до нього осі, що проходить через центр мас (дивись відповідь на завдання 4.2), шуканий момент інерції пластини буде дорівнюва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5746680" y="5092560"/>
          <a:ext cx="6127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6680" y="5092560"/>
                    <a:ext cx="612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7" name=""/>
          <p:cNvSpPr/>
          <p:nvPr/>
        </p:nvSpPr>
        <p:spPr>
          <a:xfrm>
            <a:off x="3757680" y="1855800"/>
            <a:ext cx="49496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явіть, що речовину пластинки “стискають”  так, щоб усі диференціально малі елементи тіла перемістилися паралельно осі обертання і утворили стержень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 при цьому відстань від кожного елемента  до осі обертання не змінюється, момент інерції тіла залишається такий сами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608040" y="2160720"/>
            <a:ext cx="3305160" cy="3828600"/>
            <a:chOff x="608040" y="2160720"/>
            <a:chExt cx="3305160" cy="3828600"/>
          </a:xfrm>
        </p:grpSpPr>
        <p:grpSp>
          <p:nvGrpSpPr>
            <p:cNvPr id="1209" name=""/>
            <p:cNvGrpSpPr/>
            <p:nvPr/>
          </p:nvGrpSpPr>
          <p:grpSpPr>
            <a:xfrm>
              <a:off x="608040" y="2160720"/>
              <a:ext cx="3305160" cy="1899000"/>
              <a:chOff x="608040" y="2160720"/>
              <a:chExt cx="3305160" cy="1899000"/>
            </a:xfrm>
          </p:grpSpPr>
          <p:sp>
            <p:nvSpPr>
              <p:cNvPr id="1210" name=""/>
              <p:cNvSpPr/>
              <p:nvPr/>
            </p:nvSpPr>
            <p:spPr>
              <a:xfrm>
                <a:off x="608040" y="2160720"/>
                <a:ext cx="330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Прямокутна тонка пластин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17720" y="3300120"/>
                <a:ext cx="1866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446480" y="2881080"/>
                <a:ext cx="1371600" cy="809280"/>
              </a:xfrm>
              <a:prstGeom prst="rect">
                <a:avLst/>
              </a:prstGeom>
              <a:solidFill>
                <a:srgbClr val="808080">
                  <a:alpha val="7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1017720" y="3300120"/>
                <a:ext cx="419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797200" y="329868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1055160" y="3214440"/>
                <a:ext cx="228600" cy="161640"/>
              </a:xfrm>
              <a:custGeom>
                <a:avLst/>
                <a:gdLst>
                  <a:gd name="textAreaLeft" fmla="*/ 39600 w 228600"/>
                  <a:gd name="textAreaRight" fmla="*/ 165600 w 228600"/>
                  <a:gd name="textAreaTop" fmla="*/ 21600 h 161640"/>
                  <a:gd name="textAreaBottom" fmla="*/ 140040 h 16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60640" y="330012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908440" y="2476080"/>
                <a:ext cx="8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a, 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944720" y="372240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943360" y="3072960"/>
                <a:ext cx="49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446480" y="36619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26000" y="36698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446480" y="3785760"/>
                <a:ext cx="138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789280" y="287136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806920" y="3688920"/>
                <a:ext cx="33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989440" y="2862000"/>
                <a:ext cx="0" cy="81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6" name=""/>
                <p:cNvSpPr txBox="1"/>
                <p:nvPr/>
              </p:nvSpPr>
              <p:spPr>
                <a:xfrm>
                  <a:off x="1949400" y="4346640"/>
                  <a:ext cx="406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⇓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227" name=""/>
            <p:cNvGrpSpPr/>
            <p:nvPr/>
          </p:nvGrpSpPr>
          <p:grpSpPr>
            <a:xfrm>
              <a:off x="1033200" y="4952880"/>
              <a:ext cx="2485800" cy="1036440"/>
              <a:chOff x="1033200" y="4952880"/>
              <a:chExt cx="2485800" cy="1036440"/>
            </a:xfrm>
          </p:grpSpPr>
          <p:sp>
            <p:nvSpPr>
              <p:cNvPr id="1228" name=""/>
              <p:cNvSpPr/>
              <p:nvPr/>
            </p:nvSpPr>
            <p:spPr>
              <a:xfrm>
                <a:off x="1033560" y="5590800"/>
                <a:ext cx="1866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52360" y="5171760"/>
                <a:ext cx="42480" cy="809640"/>
              </a:xfrm>
              <a:prstGeom prst="rect">
                <a:avLst/>
              </a:prstGeom>
              <a:solidFill>
                <a:srgbClr val="808080">
                  <a:alpha val="7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1033200" y="5590800"/>
                <a:ext cx="418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2098440" y="5589360"/>
                <a:ext cx="151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1071360" y="5505120"/>
                <a:ext cx="228240" cy="162000"/>
              </a:xfrm>
              <a:custGeom>
                <a:avLst/>
                <a:gdLst>
                  <a:gd name="textAreaLeft" fmla="*/ 40320 w 228240"/>
                  <a:gd name="textAreaRight" fmla="*/ 165960 w 228240"/>
                  <a:gd name="textAreaTop" fmla="*/ 21600 h 162000"/>
                  <a:gd name="textAreaBottom" fmla="*/ 140400 h 1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176120" y="559080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690640" y="495288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266560" y="5248080"/>
                <a:ext cx="495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090520" y="5171760"/>
                <a:ext cx="3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107800" y="59893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290680" y="5162400"/>
                <a:ext cx="0" cy="81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9" name=""/>
          <p:cNvSpPr/>
          <p:nvPr/>
        </p:nvSpPr>
        <p:spPr>
          <a:xfrm>
            <a:off x="3781440" y="578016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 довжини сторони, що паралельна осі обертання, відповідь не залежи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45240" y="5094360"/>
            <a:ext cx="479520" cy="674640"/>
          </a:xfrm>
          <a:custGeom>
            <a:avLst/>
            <a:gdLst>
              <a:gd name="textAreaLeft" fmla="*/ 23400 w 479520"/>
              <a:gd name="textAreaRight" fmla="*/ 456120 w 479520"/>
              <a:gd name="textAreaTop" fmla="*/ 23400 h 674640"/>
              <a:gd name="textAreaBottom" fmla="*/ 651240 h 674640"/>
            </a:gdLst>
            <a:ahLst/>
            <a:rect l="textAreaLeft" t="textAreaTop" r="textAreaRight" b="textAreaBottom"/>
            <a:pathLst>
              <a:path w="21600" h="30383">
                <a:moveTo>
                  <a:pt x="3600" y="0"/>
                </a:moveTo>
                <a:arcTo wR="3600" hR="3600" stAng="16200000" swAng="-5400000"/>
                <a:lnTo>
                  <a:pt x="0" y="26783"/>
                </a:lnTo>
                <a:arcTo wR="3600" hR="3600" stAng="10800000" swAng="-5400000"/>
                <a:lnTo>
                  <a:pt x="18000" y="30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31760" y="8967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79360" y="2368440"/>
            <a:ext cx="42840" cy="40197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01520" y="1868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84280" y="933480"/>
            <a:ext cx="85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рямокутн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Управляющая кнопка: домой 85">
            <a:hlinkClick r:id="rId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rId4" action="ppaction://hlinksldjump"/>
          </p:cNvPr>
          <p:cNvSpPr/>
          <p:nvPr/>
        </p:nvSpPr>
        <p:spPr>
          <a:xfrm>
            <a:off x="7866000" y="6275520"/>
            <a:ext cx="1035000" cy="48564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6016" h="21600">
                <a:moveTo>
                  <a:pt x="0" y="0"/>
                </a:moveTo>
                <a:lnTo>
                  <a:pt x="46016" y="0"/>
                </a:lnTo>
                <a:lnTo>
                  <a:pt x="46016" y="21600"/>
                </a:lnTo>
                <a:lnTo>
                  <a:pt x="0" y="21600"/>
                </a:lnTo>
                <a:close/>
              </a:path>
              <a:path fill="lightenLess" w="46016" h="21600">
                <a:moveTo>
                  <a:pt x="0" y="0"/>
                </a:moveTo>
                <a:lnTo>
                  <a:pt x="46016" y="0"/>
                </a:lnTo>
                <a:lnTo>
                  <a:pt x="44616" y="1400"/>
                </a:lnTo>
                <a:lnTo>
                  <a:pt x="1400" y="1400"/>
                </a:lnTo>
                <a:close/>
              </a:path>
              <a:path fill="darken" w="46016" h="21600">
                <a:moveTo>
                  <a:pt x="46016" y="0"/>
                </a:moveTo>
                <a:lnTo>
                  <a:pt x="46016" y="21600"/>
                </a:lnTo>
                <a:lnTo>
                  <a:pt x="44616" y="20200"/>
                </a:lnTo>
                <a:lnTo>
                  <a:pt x="44616" y="1400"/>
                </a:lnTo>
                <a:close/>
              </a:path>
              <a:path fill="darkenLess" w="46016" h="21600">
                <a:moveTo>
                  <a:pt x="4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16" y="20200"/>
                </a:lnTo>
                <a:close/>
              </a:path>
              <a:path fill="lighten" w="4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16" h="21600">
                <a:moveTo>
                  <a:pt x="16002" y="7493"/>
                </a:moveTo>
                <a:lnTo>
                  <a:pt x="19509" y="7493"/>
                </a:lnTo>
                <a:lnTo>
                  <a:pt x="19509" y="12828"/>
                </a:lnTo>
                <a:cubicBezTo>
                  <a:pt x="19509" y="13751"/>
                  <a:pt x="20310" y="14482"/>
                  <a:pt x="21346" y="14482"/>
                </a:cubicBezTo>
                <a:lnTo>
                  <a:pt x="23008" y="14482"/>
                </a:lnTo>
                <a:cubicBezTo>
                  <a:pt x="24044" y="14482"/>
                  <a:pt x="24844" y="13751"/>
                  <a:pt x="24844" y="12828"/>
                </a:cubicBezTo>
                <a:lnTo>
                  <a:pt x="24844" y="7493"/>
                </a:lnTo>
                <a:lnTo>
                  <a:pt x="23008" y="7493"/>
                </a:lnTo>
                <a:lnTo>
                  <a:pt x="26516" y="3985"/>
                </a:lnTo>
                <a:lnTo>
                  <a:pt x="30189" y="7493"/>
                </a:lnTo>
                <a:lnTo>
                  <a:pt x="28352" y="7493"/>
                </a:lnTo>
                <a:lnTo>
                  <a:pt x="28352" y="12828"/>
                </a:lnTo>
                <a:cubicBezTo>
                  <a:pt x="28352" y="15596"/>
                  <a:pt x="25776" y="18155"/>
                  <a:pt x="23008" y="18155"/>
                </a:cubicBezTo>
                <a:lnTo>
                  <a:pt x="21346" y="18155"/>
                </a:lnTo>
                <a:cubicBezTo>
                  <a:pt x="18578" y="18155"/>
                  <a:pt x="16002" y="15596"/>
                  <a:pt x="1600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2362320" y="2998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04920" y="1874880"/>
            <a:ext cx="725472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Головну ідею можна сформулювати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диференціально малий елемент тіла перемістити, не змінюючи відстані до осі обертання, то його “внесок” у загальний момент інерції всього тіла не зміни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ож, момент інерції напівкільця такий самий, як і момент інерції кільця; момент інерції сектора такий самий, як і момент інерції к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тут порівнюються об’єкти, що мають однакові маси і радіуси, а не такі, що один є частиною іншог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ією ж ідеєю ми скористалися і у випадках стержня та пластини. </a:t>
            </a:r>
            <a:r>
              <a:rPr b="1" lang="ru-RU" sz="1600" spc="-1" strike="noStrike" baseline="30000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89080" y="2266920"/>
            <a:ext cx="7146720" cy="798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31760" y="8730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26880" y="2432160"/>
            <a:ext cx="42840" cy="2406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49400" y="18763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17680" y="996840"/>
            <a:ext cx="823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формулюйте ідеї, якими Ви користувалися для усного виконання завд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rId2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АДКИ, ЩО ВИМАГАЮТЬ НЕСКЛАДНОГО ІНТЕГР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105000"/>
            <a:ext cx="9828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71880" y="1662120"/>
            <a:ext cx="309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ий однорідний стерж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41400" y="1855800"/>
            <a:ext cx="124632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73320" y="18255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6480" y="4802040"/>
            <a:ext cx="1068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03720" y="2428920"/>
            <a:ext cx="1995480" cy="1038240"/>
            <a:chOff x="5103720" y="2428920"/>
            <a:chExt cx="1995480" cy="1038240"/>
          </a:xfrm>
        </p:grpSpPr>
        <p:graphicFrame>
          <p:nvGraphicFramePr>
            <p:cNvPr id="134" name=""/>
            <p:cNvGraphicFramePr/>
            <p:nvPr/>
          </p:nvGraphicFramePr>
          <p:xfrm>
            <a:off x="5299200" y="3087720"/>
            <a:ext cx="181080" cy="19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99200" y="3087720"/>
                      <a:ext cx="18108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5103720" y="2428920"/>
            <a:ext cx="1308240" cy="3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3720" y="2428920"/>
                      <a:ext cx="130824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 flipH="1">
              <a:off x="5442120" y="2798640"/>
              <a:ext cx="2332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2512800"/>
              <a:ext cx="167040" cy="3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27840" y="2471760"/>
              <a:ext cx="40968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4200" y="2843280"/>
              <a:ext cx="9828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6554880" y="2871720"/>
            <a:ext cx="51120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4880" y="2871720"/>
                      <a:ext cx="5112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5300640" y="3033720"/>
              <a:ext cx="166680" cy="31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9760" y="2895480"/>
              <a:ext cx="739440" cy="571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2619360" y="4591080"/>
          <a:ext cx="3357720" cy="11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9360" y="4591080"/>
                    <a:ext cx="335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43000" y="1905120"/>
            <a:ext cx="0" cy="24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33640" y="3228840"/>
            <a:ext cx="27144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8240" y="197172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9432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1431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3440" y="315108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3314880"/>
            <a:ext cx="19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3440" y="332280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48000" y="327672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3676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6280" y="33987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11640" y="27399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62800" y="2781360"/>
            <a:ext cx="247680" cy="81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215040" y="3508200"/>
            <a:ext cx="387360" cy="5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84800" y="402732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7753320" y="37260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5978520" y="47466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166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172200" y="4699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69320" y="366876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05200" y="53355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8960" y="387360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жна назв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967520" y="6251400"/>
            <a:ext cx="1033560" cy="46224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2240"/>
              <a:gd name="textAreaBottom" fmla="*/ 432360 h 462240"/>
            </a:gdLst>
            <a:ahLst/>
            <a:rect l="textAreaLeft" t="textAreaTop" r="textAreaRight" b="textAreaBottom"/>
            <a:pathLst>
              <a:path w="48276" h="21600">
                <a:moveTo>
                  <a:pt x="0" y="0"/>
                </a:moveTo>
                <a:lnTo>
                  <a:pt x="48276" y="0"/>
                </a:lnTo>
                <a:lnTo>
                  <a:pt x="48276" y="21600"/>
                </a:lnTo>
                <a:lnTo>
                  <a:pt x="0" y="21600"/>
                </a:lnTo>
                <a:close/>
              </a:path>
              <a:path fill="lightenLess" w="48276" h="21600">
                <a:moveTo>
                  <a:pt x="0" y="0"/>
                </a:moveTo>
                <a:lnTo>
                  <a:pt x="48276" y="0"/>
                </a:lnTo>
                <a:lnTo>
                  <a:pt x="46876" y="1400"/>
                </a:lnTo>
                <a:lnTo>
                  <a:pt x="1400" y="1400"/>
                </a:lnTo>
                <a:close/>
              </a:path>
              <a:path fill="darken" w="48276" h="21600">
                <a:moveTo>
                  <a:pt x="48276" y="0"/>
                </a:moveTo>
                <a:lnTo>
                  <a:pt x="48276" y="21600"/>
                </a:lnTo>
                <a:lnTo>
                  <a:pt x="46876" y="20200"/>
                </a:lnTo>
                <a:lnTo>
                  <a:pt x="46876" y="1400"/>
                </a:lnTo>
                <a:close/>
              </a:path>
              <a:path fill="darkenLess" w="48276" h="21600">
                <a:moveTo>
                  <a:pt x="4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76" y="20200"/>
                </a:lnTo>
                <a:close/>
              </a:path>
              <a:path fill="lighten" w="4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76" h="21600">
                <a:moveTo>
                  <a:pt x="17132" y="3794"/>
                </a:moveTo>
                <a:lnTo>
                  <a:pt x="31145" y="10800"/>
                </a:lnTo>
                <a:lnTo>
                  <a:pt x="171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838920" y="625464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6" name=""/>
          <p:cNvGraphicFramePr/>
          <p:nvPr/>
        </p:nvGraphicFramePr>
        <p:xfrm>
          <a:off x="5006880" y="2519280"/>
          <a:ext cx="192420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6880" y="2519280"/>
                    <a:ext cx="19242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8" name=""/>
          <p:cNvGraphicFramePr/>
          <p:nvPr/>
        </p:nvGraphicFramePr>
        <p:xfrm>
          <a:off x="4062240" y="3025800"/>
          <a:ext cx="167976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3025800"/>
                    <a:ext cx="16797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"/>
          <p:cNvGraphicFramePr/>
          <p:nvPr/>
        </p:nvGraphicFramePr>
        <p:xfrm>
          <a:off x="6732720" y="2994120"/>
          <a:ext cx="9954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994120"/>
                    <a:ext cx="995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2" name=""/>
          <p:cNvSpPr/>
          <p:nvPr/>
        </p:nvSpPr>
        <p:spPr>
          <a:xfrm>
            <a:off x="4289400" y="3409920"/>
            <a:ext cx="1300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симетрія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5810400" y="1753920"/>
            <a:ext cx="252360" cy="3909960"/>
          </a:xfrm>
          <a:custGeom>
            <a:avLst/>
            <a:gdLst>
              <a:gd name="textAreaLeft" fmla="*/ 161280 w 252360"/>
              <a:gd name="textAreaRight" fmla="*/ 252720 w 252360"/>
              <a:gd name="textAreaTop" fmla="*/ 101880 h 3909960"/>
              <a:gd name="textAreaBottom" fmla="*/ 3808080 h 390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5840280" y="4035600"/>
          <a:ext cx="23364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35600"/>
                    <a:ext cx="2336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6" name=""/>
          <p:cNvSpPr/>
          <p:nvPr/>
        </p:nvSpPr>
        <p:spPr>
          <a:xfrm>
            <a:off x="6005520" y="406224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5518080" y="5140440"/>
          <a:ext cx="146232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18080" y="5140440"/>
                    <a:ext cx="14623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2425680" y="331920"/>
            <a:ext cx="43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5370480" y="4600440"/>
          <a:ext cx="126828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70480" y="4600440"/>
                    <a:ext cx="12682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2" name=""/>
          <p:cNvGrpSpPr/>
          <p:nvPr/>
        </p:nvGrpSpPr>
        <p:grpSpPr>
          <a:xfrm>
            <a:off x="846000" y="2506680"/>
            <a:ext cx="2511720" cy="2168640"/>
            <a:chOff x="846000" y="2506680"/>
            <a:chExt cx="2511720" cy="2168640"/>
          </a:xfrm>
        </p:grpSpPr>
        <p:grpSp>
          <p:nvGrpSpPr>
            <p:cNvPr id="1273" name=""/>
            <p:cNvGrpSpPr/>
            <p:nvPr/>
          </p:nvGrpSpPr>
          <p:grpSpPr>
            <a:xfrm>
              <a:off x="846000" y="2668680"/>
              <a:ext cx="2511720" cy="2006640"/>
              <a:chOff x="846000" y="2668680"/>
              <a:chExt cx="2511720" cy="2006640"/>
            </a:xfrm>
          </p:grpSpPr>
          <p:pic>
            <p:nvPicPr>
              <p:cNvPr id="12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922320" y="2668680"/>
                <a:ext cx="206712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5" name=""/>
              <p:cNvSpPr/>
              <p:nvPr/>
            </p:nvSpPr>
            <p:spPr>
              <a:xfrm>
                <a:off x="2879640" y="3998880"/>
                <a:ext cx="17784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860040" y="4159440"/>
                <a:ext cx="142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2832120" y="394992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46000" y="412920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576520" y="272268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0" name=""/>
            <p:cNvSpPr/>
            <p:nvPr/>
          </p:nvSpPr>
          <p:spPr>
            <a:xfrm flipV="1">
              <a:off x="2003400" y="258444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73160" y="2506680"/>
              <a:ext cx="3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4811760" y="5437080"/>
            <a:ext cx="954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958000" y="5146560"/>
            <a:ext cx="895320" cy="789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79360" y="2725560"/>
            <a:ext cx="42840" cy="3129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30360" y="947880"/>
            <a:ext cx="81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тонкостінної сфер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осі, що проходить через її цент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Управляющая кнопка: домой 85">
            <a:hlinkClick r:id="rId1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1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82560" y="1658880"/>
            <a:ext cx="6056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ДОВЕДЕННЯ КОРИСНОЇ ТЕОР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1" name=""/>
          <p:cNvGraphicFramePr/>
          <p:nvPr/>
        </p:nvGraphicFramePr>
        <p:xfrm>
          <a:off x="4908600" y="2319480"/>
          <a:ext cx="23623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8600" y="2319480"/>
                    <a:ext cx="23623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"/>
          <p:cNvSpPr/>
          <p:nvPr/>
        </p:nvSpPr>
        <p:spPr>
          <a:xfrm>
            <a:off x="3695760" y="4272120"/>
            <a:ext cx="49575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3776760" y="4365720"/>
          <a:ext cx="468612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6760" y="4365720"/>
                    <a:ext cx="46861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5084640" y="5987880"/>
          <a:ext cx="1873440" cy="4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84640" y="5987880"/>
                    <a:ext cx="1873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"/>
          <p:cNvSpPr/>
          <p:nvPr/>
        </p:nvSpPr>
        <p:spPr>
          <a:xfrm>
            <a:off x="4287960" y="4979880"/>
            <a:ext cx="803160" cy="96048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7008480" y="4897440"/>
            <a:ext cx="1214280" cy="108108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760320" y="2165400"/>
            <a:ext cx="3081600" cy="4095720"/>
            <a:chOff x="760320" y="2165400"/>
            <a:chExt cx="3081600" cy="4095720"/>
          </a:xfrm>
        </p:grpSpPr>
        <p:pic>
          <p:nvPicPr>
            <p:cNvPr id="1301" name="" descr=""/>
            <p:cNvPicPr/>
            <p:nvPr/>
          </p:nvPicPr>
          <p:blipFill>
            <a:blip r:embed="rId7"/>
            <a:stretch/>
          </p:blipFill>
          <p:spPr>
            <a:xfrm>
              <a:off x="760320" y="2219040"/>
              <a:ext cx="265284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1990800" y="2995560"/>
              <a:ext cx="4680" cy="2584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4320" y="2179440"/>
              <a:ext cx="9720" cy="73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152800" y="4081320"/>
              <a:ext cx="4608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44880" y="3922560"/>
              <a:ext cx="736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73160" y="3792600"/>
              <a:ext cx="4953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986120" y="4289400"/>
              <a:ext cx="1171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1499760" y="4289400"/>
              <a:ext cx="505080" cy="2761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38480" y="4289400"/>
              <a:ext cx="43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87400" y="4568760"/>
              <a:ext cx="61272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174400" y="4287600"/>
              <a:ext cx="466920" cy="255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36840" y="4545000"/>
              <a:ext cx="61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76560" y="41079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52480" y="480384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79960" y="424980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76400" y="2165400"/>
              <a:ext cx="47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2332080" y="28404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881600" y="510372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ісля інтегрування по всьому тілу отриму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35040" y="727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55680" y="2163600"/>
            <a:ext cx="42840" cy="4286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84320" y="159876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143000" y="925560"/>
            <a:ext cx="2313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еор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>
            <a:hlinkClick r:id="rId9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2419200" y="368280"/>
            <a:ext cx="438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41320" y="2308320"/>
            <a:ext cx="62154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ластина лежить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координати всіх матеріальних точок дорівнюють нулю, а тому момент інерції </a:t>
            </a:r>
            <a:r>
              <a:rPr b="0" lang="el-GR" sz="2000" spc="-1" strike="noStrike">
                <a:solidFill>
                  <a:srgbClr val="333399"/>
                </a:solidFill>
                <a:latin typeface="Times New Roman"/>
              </a:rPr>
              <a:t>Θ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ластинки відносно початку координат буде мати вигл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3252960" y="3246480"/>
          <a:ext cx="27730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46480"/>
                    <a:ext cx="27730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1792440" y="4340160"/>
            <a:ext cx="6148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 буде дорівнювати моменту інерції пластинки відносно ос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Таким чином, у випадку площинного розподілу ма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4149720" y="5116680"/>
          <a:ext cx="98100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9720" y="5116680"/>
                    <a:ext cx="9810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2" name=""/>
          <p:cNvSpPr/>
          <p:nvPr/>
        </p:nvSpPr>
        <p:spPr>
          <a:xfrm>
            <a:off x="3618000" y="399096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157640" y="5073480"/>
            <a:ext cx="85572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395360" y="2776680"/>
            <a:ext cx="42840" cy="2768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225440" y="2238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27120" y="100656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пов'яз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а      ?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341360" y="1392120"/>
          <a:ext cx="30816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1360" y="1392120"/>
                    <a:ext cx="3081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"/>
          <p:cNvGraphicFramePr/>
          <p:nvPr/>
        </p:nvGraphicFramePr>
        <p:xfrm>
          <a:off x="792000" y="1363680"/>
          <a:ext cx="30816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000" y="1363680"/>
                    <a:ext cx="3081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2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2395440" y="33804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70040" y="2174760"/>
            <a:ext cx="6215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ластина лежить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координати всіх матеріальних точок дорівнюють нулю, а тому момент інерції </a:t>
            </a:r>
            <a:r>
              <a:rPr b="0" lang="el-GR" sz="2000" spc="-1" strike="noStrike">
                <a:solidFill>
                  <a:srgbClr val="333399"/>
                </a:solidFill>
                <a:latin typeface="Times New Roman"/>
              </a:rPr>
              <a:t>Θ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ластинки відносно початку координат буде дорівнювати моменту інерції пластинки відносно осі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709640" y="4002120"/>
            <a:ext cx="619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 іншого боку,                            (див. відповідь на завдання 5.2 — корисна теорема). Відповідно, у випадку площинного розподілу мас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3894120" y="3408480"/>
          <a:ext cx="8334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4120" y="3408480"/>
                    <a:ext cx="8334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3776760" y="4834080"/>
          <a:ext cx="1514520" cy="50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76760" y="4834080"/>
                    <a:ext cx="15145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1" name=""/>
          <p:cNvSpPr/>
          <p:nvPr/>
        </p:nvSpPr>
        <p:spPr>
          <a:xfrm>
            <a:off x="4789440" y="3457440"/>
            <a:ext cx="38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6.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2" name=""/>
          <p:cNvGraphicFramePr/>
          <p:nvPr/>
        </p:nvGraphicFramePr>
        <p:xfrm>
          <a:off x="3343320" y="4017960"/>
          <a:ext cx="1644480" cy="35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3320" y="4017960"/>
                    <a:ext cx="16444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4" name=""/>
          <p:cNvSpPr/>
          <p:nvPr/>
        </p:nvSpPr>
        <p:spPr>
          <a:xfrm>
            <a:off x="3762360" y="4802040"/>
            <a:ext cx="1397160" cy="482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336680" y="2666880"/>
            <a:ext cx="42840" cy="27590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158840" y="21114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2600" y="93024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пов'яза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та    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1646280" y="1287360"/>
          <a:ext cx="30312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6280" y="1287360"/>
                    <a:ext cx="30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"/>
          <p:cNvGraphicFramePr/>
          <p:nvPr/>
        </p:nvGraphicFramePr>
        <p:xfrm>
          <a:off x="1049400" y="1289160"/>
          <a:ext cx="29988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9400" y="1289160"/>
                    <a:ext cx="29988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"/>
          <p:cNvGraphicFramePr/>
          <p:nvPr/>
        </p:nvGraphicFramePr>
        <p:xfrm>
          <a:off x="625320" y="1292400"/>
          <a:ext cx="290520" cy="358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5320" y="1292400"/>
                    <a:ext cx="2905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5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rId14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435400" y="252360"/>
            <a:ext cx="43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514680" y="169056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ористаємось формулою, отриманою для випадку площинного розподілу мас (дивись відповідь на завдання 6.2)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5275440" y="2473200"/>
          <a:ext cx="14284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5440" y="2473200"/>
                    <a:ext cx="142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"/>
          <p:cNvSpPr/>
          <p:nvPr/>
        </p:nvSpPr>
        <p:spPr>
          <a:xfrm>
            <a:off x="3557520" y="2849400"/>
            <a:ext cx="5105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значити осі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, як показано на рисунку, т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де перпендикулярна до площини пласти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и інерції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uk-UA" sz="2000" spc="-1" strike="noStrike" baseline="-25000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uk-UA" sz="2000" spc="-1" strike="noStrike" baseline="-25000">
                <a:solidFill>
                  <a:srgbClr val="333399"/>
                </a:solidFill>
                <a:latin typeface="Times New Roman"/>
              </a:rPr>
              <a:t>у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дуть однаковими, тобто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4788000" y="4254480"/>
          <a:ext cx="194148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254480"/>
                    <a:ext cx="19414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4" name=""/>
          <p:cNvSpPr/>
          <p:nvPr/>
        </p:nvSpPr>
        <p:spPr>
          <a:xfrm>
            <a:off x="692280" y="5091120"/>
            <a:ext cx="8265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момент інерції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руглої тонкої пластини буде таким самим, як і момент інерції суцільного циліндра відносно його осі (дивись відповідь на завдання 3.2)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2181240" y="5865840"/>
          <a:ext cx="134460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1240" y="5865840"/>
                    <a:ext cx="13446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7" name=""/>
          <p:cNvGraphicFramePr/>
          <p:nvPr/>
        </p:nvGraphicFramePr>
        <p:xfrm>
          <a:off x="4676760" y="5861160"/>
          <a:ext cx="1473120" cy="91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6760" y="5861160"/>
                    <a:ext cx="147312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9" name=""/>
          <p:cNvGrpSpPr/>
          <p:nvPr/>
        </p:nvGrpSpPr>
        <p:grpSpPr>
          <a:xfrm>
            <a:off x="557280" y="1857240"/>
            <a:ext cx="3039840" cy="2313720"/>
            <a:chOff x="557280" y="1857240"/>
            <a:chExt cx="3039840" cy="2313720"/>
          </a:xfrm>
        </p:grpSpPr>
        <p:sp>
          <p:nvSpPr>
            <p:cNvPr id="1380" name=""/>
            <p:cNvSpPr/>
            <p:nvPr/>
          </p:nvSpPr>
          <p:spPr>
            <a:xfrm>
              <a:off x="557280" y="185724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Кругла тонка пласти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1260360" y="2185920"/>
              <a:ext cx="1721520" cy="1722240"/>
              <a:chOff x="1260360" y="2185920"/>
              <a:chExt cx="1721520" cy="1722240"/>
            </a:xfrm>
          </p:grpSpPr>
          <p:sp>
            <p:nvSpPr>
              <p:cNvPr id="1382" name=""/>
              <p:cNvSpPr/>
              <p:nvPr/>
            </p:nvSpPr>
            <p:spPr>
              <a:xfrm>
                <a:off x="1858320" y="373680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260360" y="2528640"/>
                <a:ext cx="1198080" cy="1200240"/>
              </a:xfrm>
              <a:prstGeom prst="ellipse">
                <a:avLst/>
              </a:prstGeom>
              <a:solidFill>
                <a:srgbClr val="808080">
                  <a:alpha val="90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860120" y="2185920"/>
                <a:ext cx="0" cy="3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60120" y="2519280"/>
                <a:ext cx="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774080" y="2262240"/>
                <a:ext cx="190440" cy="237960"/>
              </a:xfrm>
              <a:custGeom>
                <a:avLst/>
                <a:gdLst>
                  <a:gd name="textAreaLeft" fmla="*/ 25560 w 190440"/>
                  <a:gd name="textAreaRight" fmla="*/ 164880 w 19044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860120" y="224316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201400" y="2270160"/>
                <a:ext cx="78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1722240" y="3833640"/>
              <a:ext cx="3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26920" y="2935080"/>
              <a:ext cx="43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169640" y="31161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515880" y="4308480"/>
            <a:ext cx="27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857760" y="6186600"/>
            <a:ext cx="91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200560" y="5884920"/>
            <a:ext cx="793800" cy="857160"/>
          </a:xfrm>
          <a:custGeom>
            <a:avLst/>
            <a:gdLst>
              <a:gd name="textAreaLeft" fmla="*/ 38520 w 793800"/>
              <a:gd name="textAreaRight" fmla="*/ 755280 w 793800"/>
              <a:gd name="textAreaTop" fmla="*/ 38520 h 857160"/>
              <a:gd name="textAreaBottom" fmla="*/ 818640 h 857160"/>
            </a:gdLst>
            <a:ahLst/>
            <a:rect l="textAreaLeft" t="textAreaTop" r="textAreaRight" b="textAreaBottom"/>
            <a:pathLst>
              <a:path w="21600" h="23323">
                <a:moveTo>
                  <a:pt x="3600" y="0"/>
                </a:moveTo>
                <a:arcTo wR="3600" hR="3600" stAng="16200000" swAng="-5400000"/>
                <a:lnTo>
                  <a:pt x="0" y="19723"/>
                </a:lnTo>
                <a:arcTo wR="3600" hR="3600" stAng="10800000" swAng="-5400000"/>
                <a:lnTo>
                  <a:pt x="18000" y="23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0080" y="754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54160" y="2254320"/>
            <a:ext cx="42840" cy="436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1520" y="1709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33520" y="73188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1" name=""/>
          <p:cNvGrpSpPr/>
          <p:nvPr/>
        </p:nvGrpSpPr>
        <p:grpSpPr>
          <a:xfrm>
            <a:off x="750960" y="3257640"/>
            <a:ext cx="2211120" cy="620280"/>
            <a:chOff x="750960" y="3257640"/>
            <a:chExt cx="2211120" cy="620280"/>
          </a:xfrm>
        </p:grpSpPr>
        <p:sp>
          <p:nvSpPr>
            <p:cNvPr id="1402" name=""/>
            <p:cNvSpPr/>
            <p:nvPr/>
          </p:nvSpPr>
          <p:spPr>
            <a:xfrm>
              <a:off x="753840" y="3273480"/>
              <a:ext cx="2190960" cy="600120"/>
            </a:xfrm>
            <a:prstGeom prst="parallelogram">
              <a:avLst>
                <a:gd name="adj" fmla="val 91272"/>
              </a:avLst>
            </a:prstGeom>
            <a:solidFill>
              <a:srgbClr val="808080">
                <a:alpha val="8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50960" y="38768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2398680" y="3257640"/>
              <a:ext cx="56340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758880" y="3259080"/>
              <a:ext cx="56340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2354400" y="262080"/>
            <a:ext cx="45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371840" y="4905360"/>
            <a:ext cx="262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результаті матиме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8" name=""/>
          <p:cNvGraphicFramePr/>
          <p:nvPr/>
        </p:nvGraphicFramePr>
        <p:xfrm>
          <a:off x="5037120" y="3075120"/>
          <a:ext cx="136692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7120" y="3075120"/>
                    <a:ext cx="1366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3621240" y="1739880"/>
            <a:ext cx="521316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значимо вісь обертання як вісь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uk-UA" sz="20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осі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еремо так, як показано на рису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алі скористаємось отриманими формулами для випадку площинного розподілу ма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4438800" y="5497560"/>
          <a:ext cx="2793960" cy="98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8800" y="5497560"/>
                    <a:ext cx="27939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"/>
          <p:cNvSpPr/>
          <p:nvPr/>
        </p:nvSpPr>
        <p:spPr>
          <a:xfrm>
            <a:off x="6651720" y="391176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 відповідь на завдання  4.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"/>
          <p:cNvGraphicFramePr/>
          <p:nvPr/>
        </p:nvGraphicFramePr>
        <p:xfrm>
          <a:off x="4092480" y="3720960"/>
          <a:ext cx="12128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92480" y="3720960"/>
                    <a:ext cx="12128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6" name=""/>
          <p:cNvGraphicFramePr/>
          <p:nvPr/>
        </p:nvGraphicFramePr>
        <p:xfrm>
          <a:off x="5445000" y="3740040"/>
          <a:ext cx="1152720" cy="81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5000" y="3740040"/>
                    <a:ext cx="11527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8" name=""/>
          <p:cNvSpPr/>
          <p:nvPr/>
        </p:nvSpPr>
        <p:spPr>
          <a:xfrm>
            <a:off x="576360" y="2219400"/>
            <a:ext cx="30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ямокутна тонка плас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414520" y="2637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854360" y="279720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854360" y="3873600"/>
            <a:ext cx="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849320" y="35863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66880" y="2862360"/>
            <a:ext cx="190440" cy="237960"/>
          </a:xfrm>
          <a:custGeom>
            <a:avLst/>
            <a:gdLst>
              <a:gd name="textAreaLeft" fmla="*/ 25560 w 190440"/>
              <a:gd name="textAreaRight" fmla="*/ 164880 w 190440"/>
              <a:gd name="textAreaTop" fmla="*/ 41400 h 237960"/>
              <a:gd name="textAreaBottom" fmla="*/ 172440 h 23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854360" y="28353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744640" y="32544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546200" y="3835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887400" y="3570120"/>
            <a:ext cx="224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1380960" y="3112920"/>
            <a:ext cx="905040" cy="9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158840" y="396720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863800" y="350532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631880" y="2556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443640" y="3054240"/>
            <a:ext cx="254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6.2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465880" y="5465880"/>
            <a:ext cx="1641240" cy="101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3120" y="2305080"/>
            <a:ext cx="42840" cy="4329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30320" y="176544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84280" y="933480"/>
            <a:ext cx="85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рямокутної тонкої пластин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rId10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2451240" y="201600"/>
            <a:ext cx="43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774720" y="2368440"/>
            <a:ext cx="21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верть круглої тонкої 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313080" y="2133720"/>
            <a:ext cx="5300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астосувати ідею про перенесення диференціально малих мас тіла, то можна дійти висновку, що момент інерції чверті круглої пластини дорівнює моменту інерції цілої пластини з такими сами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3" name=""/>
          <p:cNvGraphicFramePr/>
          <p:nvPr/>
        </p:nvGraphicFramePr>
        <p:xfrm>
          <a:off x="4807080" y="3492360"/>
          <a:ext cx="1474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3492360"/>
                    <a:ext cx="1474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5" name=""/>
          <p:cNvSpPr/>
          <p:nvPr/>
        </p:nvSpPr>
        <p:spPr>
          <a:xfrm>
            <a:off x="3325680" y="4552920"/>
            <a:ext cx="5477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ійсно, якщо кожний з диференціально малих елементів поділити на чотири рівних за масою частини, а потім, залишивши одну з них на своєму місці, три інші перемістити так, як показано на рисунку, то отримаємо цілу пластинку з тим самим моментом інерції, бо відповідні відстані до осі обертання не зміня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474840" y="3013200"/>
            <a:ext cx="2687040" cy="2852280"/>
            <a:chOff x="474840" y="3013200"/>
            <a:chExt cx="2687040" cy="2852280"/>
          </a:xfrm>
        </p:grpSpPr>
        <p:sp>
          <p:nvSpPr>
            <p:cNvPr id="1447" name=""/>
            <p:cNvSpPr/>
            <p:nvPr/>
          </p:nvSpPr>
          <p:spPr>
            <a:xfrm>
              <a:off x="720720" y="3473640"/>
              <a:ext cx="2274480" cy="2276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3"/>
            <a:stretch/>
          </p:blipFill>
          <p:spPr>
            <a:xfrm>
              <a:off x="474840" y="3013200"/>
              <a:ext cx="14713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1782720" y="3092400"/>
              <a:ext cx="190080" cy="238320"/>
            </a:xfrm>
            <a:custGeom>
              <a:avLst/>
              <a:gdLst>
                <a:gd name="textAreaLeft" fmla="*/ 25200 w 190080"/>
                <a:gd name="textAreaRight" fmla="*/ 164880 w 190080"/>
                <a:gd name="textAreaTop" fmla="*/ 41760 h 238320"/>
                <a:gd name="textAreaBottom" fmla="*/ 172800 h 23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79560" y="305136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60400" y="3187800"/>
              <a:ext cx="7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030320" y="4565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09480" y="4051440"/>
              <a:ext cx="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535040" y="4041720"/>
              <a:ext cx="67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509480" y="4051440"/>
              <a:ext cx="72360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11120" y="400536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66640" y="517536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457280" y="4003920"/>
              <a:ext cx="75600" cy="75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226960" y="5183280"/>
              <a:ext cx="75960" cy="763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5720" y="4624560"/>
              <a:ext cx="257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876320" y="3288960"/>
              <a:ext cx="0" cy="25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5289480" y="3470400"/>
            <a:ext cx="844560" cy="1012680"/>
          </a:xfrm>
          <a:custGeom>
            <a:avLst/>
            <a:gdLst>
              <a:gd name="textAreaLeft" fmla="*/ 41040 w 844560"/>
              <a:gd name="textAreaRight" fmla="*/ 803520 w 844560"/>
              <a:gd name="textAreaTop" fmla="*/ 41040 h 1012680"/>
              <a:gd name="textAreaBottom" fmla="*/ 971640 h 1012680"/>
            </a:gdLst>
            <a:ahLst/>
            <a:rect l="textAreaLeft" t="textAreaTop" r="textAreaRight" b="textAreaBottom"/>
            <a:pathLst>
              <a:path w="21600" h="25898">
                <a:moveTo>
                  <a:pt x="3600" y="0"/>
                </a:moveTo>
                <a:arcTo wR="3600" hR="3600" stAng="16200000" swAng="-5400000"/>
                <a:lnTo>
                  <a:pt x="0" y="22298"/>
                </a:lnTo>
                <a:arcTo wR="3600" hR="3600" stAng="10800000" swAng="-5400000"/>
                <a:lnTo>
                  <a:pt x="18000" y="258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9880" y="2573280"/>
            <a:ext cx="43200" cy="3800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22400" y="2017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04800" y="95076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чверті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446200" y="274680"/>
            <a:ext cx="434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8360" y="195732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оловина тонкостінної сф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111320" y="2472840"/>
            <a:ext cx="2329920" cy="2410200"/>
            <a:chOff x="1111320" y="2472840"/>
            <a:chExt cx="2329920" cy="2410200"/>
          </a:xfrm>
        </p:grpSpPr>
        <p:pic>
          <p:nvPicPr>
            <p:cNvPr id="1472" name="" descr=""/>
            <p:cNvPicPr/>
            <p:nvPr/>
          </p:nvPicPr>
          <p:blipFill>
            <a:blip r:embed="rId1"/>
            <a:stretch/>
          </p:blipFill>
          <p:spPr>
            <a:xfrm>
              <a:off x="1111320" y="2663640"/>
              <a:ext cx="1731600" cy="21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 flipV="1">
              <a:off x="2130120" y="2472840"/>
              <a:ext cx="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16000" y="2530440"/>
              <a:ext cx="209160" cy="257040"/>
            </a:xfrm>
            <a:custGeom>
              <a:avLst/>
              <a:gdLst>
                <a:gd name="textAreaLeft" fmla="*/ 27720 w 209160"/>
                <a:gd name="textAreaRight" fmla="*/ 181440 w 209160"/>
                <a:gd name="textAreaTop" fmla="*/ 45000 h 257040"/>
                <a:gd name="textAreaBottom" fmla="*/ 18648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130120" y="24922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0120" y="4730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60400" y="260352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4122720" y="1857240"/>
            <a:ext cx="46418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стосуємо ідею про перенесення диференціально малих елементів тіла, отримавши з половини сфери цілу сферу з такими ж масою і радіусом. Для цього кожен елемент тіла поділимо на дві рівних за масою частини, а потім, залишивши одну на своєму місці, другу розмістимо у точці, яка розташована симетрично відносно осі оберт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момент інерції половини сфери дорівнює моменту інерції цілої сфери з такими самими масою і радіусом (дивись відповідь на завдання 5.1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9" name=""/>
          <p:cNvGraphicFramePr/>
          <p:nvPr/>
        </p:nvGraphicFramePr>
        <p:xfrm>
          <a:off x="5342040" y="5388120"/>
          <a:ext cx="160164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2040" y="5388120"/>
                    <a:ext cx="16016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1" name=""/>
          <p:cNvSpPr/>
          <p:nvPr/>
        </p:nvSpPr>
        <p:spPr>
          <a:xfrm>
            <a:off x="5800680" y="5324400"/>
            <a:ext cx="1022400" cy="1013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15920" y="8888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79360" y="2446200"/>
            <a:ext cx="42840" cy="3556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19160" y="1916280"/>
            <a:ext cx="420480" cy="46008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33">
                <a:moveTo>
                  <a:pt x="0" y="0"/>
                </a:moveTo>
                <a:lnTo>
                  <a:pt x="21600" y="0"/>
                </a:lnTo>
                <a:lnTo>
                  <a:pt x="21600" y="23633"/>
                </a:lnTo>
                <a:lnTo>
                  <a:pt x="0" y="23633"/>
                </a:lnTo>
                <a:close/>
              </a:path>
              <a:path fill="lightenLess" w="21600" h="23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3">
                <a:moveTo>
                  <a:pt x="21600" y="0"/>
                </a:moveTo>
                <a:lnTo>
                  <a:pt x="21600" y="23633"/>
                </a:lnTo>
                <a:lnTo>
                  <a:pt x="20200" y="22233"/>
                </a:lnTo>
                <a:lnTo>
                  <a:pt x="20200" y="1400"/>
                </a:lnTo>
                <a:close/>
              </a:path>
              <a:path fill="darkenLess" w="21600" h="23633">
                <a:moveTo>
                  <a:pt x="21600" y="23633"/>
                </a:moveTo>
                <a:lnTo>
                  <a:pt x="0" y="23633"/>
                </a:lnTo>
                <a:lnTo>
                  <a:pt x="1400" y="22233"/>
                </a:lnTo>
                <a:lnTo>
                  <a:pt x="20200" y="22233"/>
                </a:lnTo>
                <a:close/>
              </a:path>
              <a:path fill="lighten" w="21600" h="23633">
                <a:moveTo>
                  <a:pt x="0" y="23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3"/>
                </a:lnTo>
                <a:close/>
              </a:path>
              <a:path fill="darken" w="21600" h="23633">
                <a:moveTo>
                  <a:pt x="10800" y="481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3">
                <a:moveTo>
                  <a:pt x="10800" y="518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3">
                <a:moveTo>
                  <a:pt x="8224" y="9240"/>
                </a:moveTo>
                <a:lnTo>
                  <a:pt x="12088" y="9240"/>
                </a:lnTo>
                <a:lnTo>
                  <a:pt x="12088" y="16238"/>
                </a:lnTo>
                <a:lnTo>
                  <a:pt x="13376" y="16238"/>
                </a:lnTo>
                <a:lnTo>
                  <a:pt x="13376" y="17160"/>
                </a:lnTo>
                <a:lnTo>
                  <a:pt x="8224" y="17160"/>
                </a:lnTo>
                <a:lnTo>
                  <a:pt x="8224" y="16238"/>
                </a:lnTo>
                <a:lnTo>
                  <a:pt x="9512" y="16238"/>
                </a:lnTo>
                <a:lnTo>
                  <a:pt x="9512" y="10145"/>
                </a:lnTo>
                <a:lnTo>
                  <a:pt x="8224" y="1014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33520" y="874800"/>
            <a:ext cx="85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оловини тонкостінної сфер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rId5" action="ppaction://hlinksldjump"/>
          </p:cNvPr>
          <p:cNvSpPr/>
          <p:nvPr/>
        </p:nvSpPr>
        <p:spPr>
          <a:xfrm>
            <a:off x="7866000" y="612288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2440080" y="27144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718080" y="3852720"/>
            <a:ext cx="542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 можна дійти висновку, що момент інерції кулі відносно вказаної осі (    ) пов’язаний з моментом інерції відносно її центра (    ) та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0" name=""/>
          <p:cNvGraphicFramePr/>
          <p:nvPr/>
        </p:nvGraphicFramePr>
        <p:xfrm>
          <a:off x="6008760" y="4106880"/>
          <a:ext cx="19512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8760" y="4106880"/>
                    <a:ext cx="19512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6359400" y="4357800"/>
          <a:ext cx="27324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9400" y="4357800"/>
                    <a:ext cx="273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5450040" y="4753080"/>
          <a:ext cx="124920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0040" y="4753080"/>
                    <a:ext cx="1249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6" name=""/>
          <p:cNvGrpSpPr/>
          <p:nvPr/>
        </p:nvGrpSpPr>
        <p:grpSpPr>
          <a:xfrm>
            <a:off x="1171440" y="2475000"/>
            <a:ext cx="1866960" cy="1593360"/>
            <a:chOff x="1171440" y="2475000"/>
            <a:chExt cx="1866960" cy="1593360"/>
          </a:xfrm>
        </p:grpSpPr>
        <p:pic>
          <p:nvPicPr>
            <p:cNvPr id="1497" name="" descr=""/>
            <p:cNvPicPr/>
            <p:nvPr/>
          </p:nvPicPr>
          <p:blipFill>
            <a:blip r:embed="rId7"/>
            <a:stretch/>
          </p:blipFill>
          <p:spPr>
            <a:xfrm>
              <a:off x="1171440" y="2523960"/>
              <a:ext cx="1274760" cy="14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"/>
            <p:cNvSpPr/>
            <p:nvPr/>
          </p:nvSpPr>
          <p:spPr>
            <a:xfrm>
              <a:off x="1815840" y="39639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747440" y="2512800"/>
              <a:ext cx="152640" cy="19008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33120 h 190080"/>
                <a:gd name="textAreaBottom" fmla="*/ 13788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257200" y="247500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20520" y="247500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4591080" y="286560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 міркуваннями симетрії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5272200" y="2271600"/>
          <a:ext cx="1873080" cy="46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72200" y="2271600"/>
                    <a:ext cx="18730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3855960" y="1824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скористатися корисною теорем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6" name=""/>
          <p:cNvGraphicFramePr/>
          <p:nvPr/>
        </p:nvGraphicFramePr>
        <p:xfrm>
          <a:off x="5334120" y="3298680"/>
          <a:ext cx="1423800" cy="463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34120" y="3298680"/>
                    <a:ext cx="14238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7169040" y="2303640"/>
            <a:ext cx="12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5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243400" y="2208240"/>
            <a:ext cx="300060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308560" y="3235320"/>
            <a:ext cx="13240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60240" y="5576760"/>
            <a:ext cx="782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уважимо, що такими ж міркуваннями ми користувалися, обчислюючи момент інерції тонкостінної сфери відносно осі, що проходить через її центр (див. відповідь на завдання 5.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894280" y="4716360"/>
            <a:ext cx="362160" cy="825480"/>
          </a:xfrm>
          <a:custGeom>
            <a:avLst/>
            <a:gdLst>
              <a:gd name="textAreaLeft" fmla="*/ 17640 w 362160"/>
              <a:gd name="textAreaRight" fmla="*/ 344520 w 362160"/>
              <a:gd name="textAreaTop" fmla="*/ 17640 h 825480"/>
              <a:gd name="textAreaBottom" fmla="*/ 807840 h 825480"/>
            </a:gdLst>
            <a:ahLst/>
            <a:rect l="textAreaLeft" t="textAreaTop" r="textAreaRight" b="textAreaBottom"/>
            <a:pathLst>
              <a:path w="21600" h="49206">
                <a:moveTo>
                  <a:pt x="3600" y="0"/>
                </a:moveTo>
                <a:arcTo wR="3600" hR="3600" stAng="16200000" swAng="-5400000"/>
                <a:lnTo>
                  <a:pt x="0" y="45606"/>
                </a:lnTo>
                <a:arcTo wR="3600" hR="3600" stAng="10800000" swAng="-5400000"/>
                <a:lnTo>
                  <a:pt x="18000" y="49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65120" y="8888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71440" y="2440080"/>
            <a:ext cx="42840" cy="41432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01520" y="18716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46080" y="909720"/>
            <a:ext cx="82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пов'язані між собою момент інерції кулі відносно вказаної осі (    ) і  момент інерції кулі відносно її центра (    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7" name=""/>
          <p:cNvGraphicFramePr/>
          <p:nvPr/>
        </p:nvGraphicFramePr>
        <p:xfrm>
          <a:off x="7843680" y="932040"/>
          <a:ext cx="179640" cy="284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3680" y="932040"/>
                    <a:ext cx="17964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9" name=""/>
          <p:cNvGraphicFramePr/>
          <p:nvPr/>
        </p:nvGraphicFramePr>
        <p:xfrm>
          <a:off x="4851360" y="1181160"/>
          <a:ext cx="247680" cy="301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51360" y="1181160"/>
                    <a:ext cx="2476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1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rId17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432160" y="244440"/>
            <a:ext cx="43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04760" y="1955880"/>
            <a:ext cx="49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аса тонкого сферичного шару радіуса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dr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изначить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1220760" y="3394080"/>
          <a:ext cx="368136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3394080"/>
                    <a:ext cx="36813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"/>
          <p:cNvSpPr/>
          <p:nvPr/>
        </p:nvSpPr>
        <p:spPr>
          <a:xfrm>
            <a:off x="1846440" y="3400560"/>
            <a:ext cx="942840" cy="12729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895480" y="3489480"/>
            <a:ext cx="463680" cy="5713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473200" y="3009960"/>
            <a:ext cx="546120" cy="426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244680" y="4017960"/>
            <a:ext cx="425520" cy="666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002040" y="298620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643200" y="4651200"/>
            <a:ext cx="47880" cy="43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998800" y="2809800"/>
            <a:ext cx="29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'ємна густина матеріалу, з якого виготовлена ку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3668760" y="4541760"/>
          <a:ext cx="9874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8760" y="4541760"/>
                    <a:ext cx="9874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"/>
          <p:cNvSpPr/>
          <p:nvPr/>
        </p:nvSpPr>
        <p:spPr>
          <a:xfrm>
            <a:off x="4576680" y="4633920"/>
            <a:ext cx="353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об'єм тонкого сферичного шару знаходиться як добуток площі сфери на товщину шар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639960" y="3371760"/>
            <a:ext cx="84636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5732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23880" y="2440080"/>
            <a:ext cx="42840" cy="30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6680" y="18921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33440" y="878040"/>
            <a:ext cx="58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асу шару радіус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6200640" y="2166840"/>
            <a:ext cx="1586160" cy="1511280"/>
            <a:chOff x="6200640" y="2166840"/>
            <a:chExt cx="1586160" cy="1511280"/>
          </a:xfrm>
        </p:grpSpPr>
        <p:sp>
          <p:nvSpPr>
            <p:cNvPr id="1543" name=""/>
            <p:cNvSpPr/>
            <p:nvPr/>
          </p:nvSpPr>
          <p:spPr>
            <a:xfrm>
              <a:off x="6200640" y="2166840"/>
              <a:ext cx="1511640" cy="1511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554880" y="2482560"/>
              <a:ext cx="824040" cy="84168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6970680" y="2600280"/>
              <a:ext cx="2412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77160" y="2903400"/>
              <a:ext cx="35064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18280" y="2904840"/>
              <a:ext cx="23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400880" y="290340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942240" y="328608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912000" y="250488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386840" y="261756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rId6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271000" y="2117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102440" y="42703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122720" y="2662200"/>
          <a:ext cx="466740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2720" y="2662200"/>
                    <a:ext cx="4667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986360" y="4106880"/>
          <a:ext cx="210816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6360" y="4106880"/>
                    <a:ext cx="210816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503520" y="1214280"/>
            <a:ext cx="454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тонкостінний циліндр масою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 складовий елемент суцільного цилінд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3640" y="828720"/>
            <a:ext cx="338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суцільний цилі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73000" y="94284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62760" y="315252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958080" y="290340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13683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673200" y="1625760"/>
            <a:ext cx="3108240" cy="4087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24080" y="209556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24080" y="262908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14720" y="2581200"/>
            <a:ext cx="0" cy="2048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4141800"/>
            <a:ext cx="1790640" cy="1019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8760" y="2695680"/>
            <a:ext cx="0" cy="27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28760" y="127584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04920" y="1428840"/>
            <a:ext cx="257400" cy="352440"/>
          </a:xfrm>
          <a:custGeom>
            <a:avLst/>
            <a:gdLst>
              <a:gd name="textAreaLeft" fmla="*/ 34200 w 257400"/>
              <a:gd name="textAreaRight" fmla="*/ 223200 w 257400"/>
              <a:gd name="textAreaTop" fmla="*/ 61560 h 352440"/>
              <a:gd name="textAreaBottom" fmla="*/ 255600 h 3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8760" y="137160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542600" y="2571840"/>
            <a:ext cx="676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08200" y="2247480"/>
            <a:ext cx="29700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94040" y="2122560"/>
            <a:ext cx="276120" cy="12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24861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70360" y="2131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70120" y="1763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793600" y="1379520"/>
            <a:ext cx="73044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9320" y="2620800"/>
            <a:ext cx="698400" cy="100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99320" y="2427120"/>
            <a:ext cx="4104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02080" y="2457000"/>
            <a:ext cx="5907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891720" y="947880"/>
            <a:ext cx="466920" cy="11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20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26120" y="48340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97560" y="4214880"/>
            <a:ext cx="2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1720" y="2664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3800" y="471024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" y="2664000"/>
            <a:ext cx="0" cy="2046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48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9600" y="206064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88280" y="3163680"/>
            <a:ext cx="20772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205760" y="2909880"/>
            <a:ext cx="2077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13360" y="2246400"/>
            <a:ext cx="25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 фізичним змістом 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967520" y="6318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838920" y="632160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2379600" y="363600"/>
            <a:ext cx="44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2327400" y="2174760"/>
          <a:ext cx="378756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2174760"/>
                    <a:ext cx="3787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7" name=""/>
          <p:cNvSpPr/>
          <p:nvPr/>
        </p:nvSpPr>
        <p:spPr>
          <a:xfrm>
            <a:off x="3389400" y="2057400"/>
            <a:ext cx="1187280" cy="1155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927680" y="368316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297320" y="3119400"/>
            <a:ext cx="649440" cy="584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0" name=""/>
          <p:cNvGraphicFramePr/>
          <p:nvPr/>
        </p:nvGraphicFramePr>
        <p:xfrm>
          <a:off x="4954680" y="3519360"/>
          <a:ext cx="515880" cy="3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4680" y="3519360"/>
                    <a:ext cx="5158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2" name=""/>
          <p:cNvSpPr/>
          <p:nvPr/>
        </p:nvSpPr>
        <p:spPr>
          <a:xfrm>
            <a:off x="722160" y="4033800"/>
            <a:ext cx="779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верніть увагу на те, що під час обчислення моменту інерції кулі відносно її центра диференціально малими елементами цієї кулі ми вважали тонкі сферичні шари, з яких складається куля (“тонкостінні сфери”, як іноді спрощено їх називаю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973760" y="2178000"/>
            <a:ext cx="94284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16080" y="878040"/>
            <a:ext cx="448920" cy="574560"/>
          </a:xfrm>
          <a:custGeom>
            <a:avLst/>
            <a:gdLst>
              <a:gd name="textAreaLeft" fmla="*/ 28800 w 448920"/>
              <a:gd name="textAreaRight" fmla="*/ 420120 w 44892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40">
                <a:moveTo>
                  <a:pt x="0" y="0"/>
                </a:moveTo>
                <a:lnTo>
                  <a:pt x="21600" y="0"/>
                </a:lnTo>
                <a:lnTo>
                  <a:pt x="21600" y="27640"/>
                </a:lnTo>
                <a:lnTo>
                  <a:pt x="0" y="27640"/>
                </a:lnTo>
                <a:close/>
              </a:path>
              <a:path fill="lightenLess" w="21600" h="27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40">
                <a:moveTo>
                  <a:pt x="21600" y="0"/>
                </a:moveTo>
                <a:lnTo>
                  <a:pt x="21600" y="27640"/>
                </a:lnTo>
                <a:lnTo>
                  <a:pt x="20200" y="26240"/>
                </a:lnTo>
                <a:lnTo>
                  <a:pt x="20200" y="1400"/>
                </a:lnTo>
                <a:close/>
              </a:path>
              <a:path fill="darkenLess" w="21600" h="27640">
                <a:moveTo>
                  <a:pt x="21600" y="27640"/>
                </a:moveTo>
                <a:lnTo>
                  <a:pt x="0" y="27640"/>
                </a:lnTo>
                <a:lnTo>
                  <a:pt x="1400" y="26240"/>
                </a:lnTo>
                <a:lnTo>
                  <a:pt x="20200" y="26240"/>
                </a:lnTo>
                <a:close/>
              </a:path>
              <a:path fill="lighten" w="21600" h="27640">
                <a:moveTo>
                  <a:pt x="0" y="27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40"/>
                </a:lnTo>
                <a:close/>
              </a:path>
              <a:path fill="darken" w="21600" h="27640">
                <a:moveTo>
                  <a:pt x="10800" y="1782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40">
                <a:moveTo>
                  <a:pt x="11905" y="17302"/>
                </a:moveTo>
                <a:lnTo>
                  <a:pt x="11905" y="15343"/>
                </a:lnTo>
                <a:cubicBezTo>
                  <a:pt x="11905" y="14516"/>
                  <a:pt x="12236" y="13820"/>
                  <a:pt x="12837" y="13820"/>
                </a:cubicBezTo>
                <a:cubicBezTo>
                  <a:pt x="13968" y="13820"/>
                  <a:pt x="14865" y="12454"/>
                  <a:pt x="14865" y="10870"/>
                </a:cubicBezTo>
                <a:cubicBezTo>
                  <a:pt x="14865" y="8554"/>
                  <a:pt x="13011" y="6814"/>
                  <a:pt x="10800" y="6814"/>
                </a:cubicBezTo>
                <a:cubicBezTo>
                  <a:pt x="8589" y="6814"/>
                  <a:pt x="6918" y="8554"/>
                  <a:pt x="6918" y="10870"/>
                </a:cubicBezTo>
                <a:lnTo>
                  <a:pt x="8772" y="10870"/>
                </a:lnTo>
                <a:cubicBezTo>
                  <a:pt x="8772" y="9729"/>
                  <a:pt x="9695" y="8842"/>
                  <a:pt x="10800" y="8842"/>
                </a:cubicBezTo>
                <a:cubicBezTo>
                  <a:pt x="11905" y="8842"/>
                  <a:pt x="12837" y="9729"/>
                  <a:pt x="12837" y="10870"/>
                </a:cubicBezTo>
                <a:cubicBezTo>
                  <a:pt x="12837" y="11609"/>
                  <a:pt x="12367" y="12341"/>
                  <a:pt x="11905" y="12341"/>
                </a:cubicBezTo>
                <a:cubicBezTo>
                  <a:pt x="10800" y="12341"/>
                  <a:pt x="9695" y="13820"/>
                  <a:pt x="9695" y="15343"/>
                </a:cubicBezTo>
                <a:lnTo>
                  <a:pt x="9695" y="1730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414360" y="2496960"/>
            <a:ext cx="42840" cy="26258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35080" y="196524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96960" y="1017720"/>
            <a:ext cx="49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кулі відносно її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>
            <a:hlinkClick r:id="rId6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2319480" y="3477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2502000" y="3073320"/>
          <a:ext cx="3865320" cy="16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2000" y="3073320"/>
                    <a:ext cx="386532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1547640" y="1922400"/>
            <a:ext cx="614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знаходження моменту інерції кулі відносно осі, що проходить через її центр, треба розв'язати таку систему рівнян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359320" y="3422520"/>
            <a:ext cx="884160" cy="933480"/>
          </a:xfrm>
          <a:custGeom>
            <a:avLst/>
            <a:gdLst>
              <a:gd name="textAreaLeft" fmla="*/ 42840 w 884160"/>
              <a:gd name="textAreaRight" fmla="*/ 841320 w 884160"/>
              <a:gd name="textAreaTop" fmla="*/ 42840 h 933480"/>
              <a:gd name="textAreaBottom" fmla="*/ 890640 h 933480"/>
            </a:gdLst>
            <a:ahLst/>
            <a:rect l="textAreaLeft" t="textAreaTop" r="textAreaRight" b="textAreaBottom"/>
            <a:pathLst>
              <a:path w="21600" h="22804">
                <a:moveTo>
                  <a:pt x="3600" y="0"/>
                </a:moveTo>
                <a:arcTo wR="3600" hR="3600" stAng="16200000" swAng="-5400000"/>
                <a:lnTo>
                  <a:pt x="0" y="19204"/>
                </a:lnTo>
                <a:arcTo wR="3600" hR="3600" stAng="10800000" swAng="-5400000"/>
                <a:lnTo>
                  <a:pt x="18000" y="22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24000" y="91908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135080" y="2389320"/>
            <a:ext cx="42840" cy="2449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947880" y="18684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66720" y="1042920"/>
            <a:ext cx="790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найдіть момент інерції кулі відносно осі, що проходить через її цент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Управляющая кнопка: домой 85">
            <a:hlinkClick r:id="rId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>
            <a:hlinkClick r:id="rId4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2336760" y="320760"/>
            <a:ext cx="45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911160" y="2070000"/>
            <a:ext cx="3039840" cy="2401920"/>
            <a:chOff x="911160" y="2070000"/>
            <a:chExt cx="3039840" cy="2401920"/>
          </a:xfrm>
        </p:grpSpPr>
        <p:sp>
          <p:nvSpPr>
            <p:cNvPr id="1583" name=""/>
            <p:cNvSpPr/>
            <p:nvPr/>
          </p:nvSpPr>
          <p:spPr>
            <a:xfrm>
              <a:off x="911160" y="207000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Половина однорідної ку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4" name="" descr=""/>
            <p:cNvPicPr/>
            <p:nvPr/>
          </p:nvPicPr>
          <p:blipFill>
            <a:blip r:embed="rId1"/>
            <a:stretch/>
          </p:blipFill>
          <p:spPr>
            <a:xfrm>
              <a:off x="1212480" y="3046320"/>
              <a:ext cx="1874880" cy="14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5" name=""/>
            <p:cNvGrpSpPr/>
            <p:nvPr/>
          </p:nvGrpSpPr>
          <p:grpSpPr>
            <a:xfrm>
              <a:off x="2058840" y="2732040"/>
              <a:ext cx="171360" cy="324000"/>
              <a:chOff x="2058840" y="2732040"/>
              <a:chExt cx="171360" cy="324000"/>
            </a:xfrm>
          </p:grpSpPr>
          <p:sp>
            <p:nvSpPr>
              <p:cNvPr id="1586" name=""/>
              <p:cNvSpPr/>
              <p:nvPr/>
            </p:nvSpPr>
            <p:spPr>
              <a:xfrm flipV="1">
                <a:off x="2144520" y="273204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058840" y="278928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144520" y="275112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2550960" y="275724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141280" y="304308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4122720" y="1944720"/>
            <a:ext cx="4641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астосувати ідею про перенесення диференціально малих елементів тіла (паралельно осі), то можна зрозуміти, що момент інерції половини кулі дорівнює моменту інерції цілої кулі (з такими самими масою і радіусом, відносно вказаної осі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2" name=""/>
          <p:cNvGraphicFramePr/>
          <p:nvPr/>
        </p:nvGraphicFramePr>
        <p:xfrm>
          <a:off x="5324400" y="3879720"/>
          <a:ext cx="1514520" cy="8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24400" y="3879720"/>
                    <a:ext cx="15145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"/>
          <p:cNvSpPr/>
          <p:nvPr/>
        </p:nvSpPr>
        <p:spPr>
          <a:xfrm>
            <a:off x="2284560" y="5079960"/>
            <a:ext cx="4671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умайте над тим, які саме елементи і куди треба переносити, та спробуйте надати розгорнуті пояснення (на зразок тих, що наведені у відповідях на завдання 6.5; 6.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791320" y="3841920"/>
            <a:ext cx="903240" cy="954000"/>
          </a:xfrm>
          <a:custGeom>
            <a:avLst/>
            <a:gdLst>
              <a:gd name="textAreaLeft" fmla="*/ 43920 w 903240"/>
              <a:gd name="textAreaRight" fmla="*/ 859320 w 903240"/>
              <a:gd name="textAreaTop" fmla="*/ 43920 h 954000"/>
              <a:gd name="textAreaBottom" fmla="*/ 910080 h 954000"/>
            </a:gdLst>
            <a:ahLst/>
            <a:rect l="textAreaLeft" t="textAreaTop" r="textAreaRight" b="textAreaBottom"/>
            <a:pathLst>
              <a:path w="21600" h="22813">
                <a:moveTo>
                  <a:pt x="3600" y="0"/>
                </a:moveTo>
                <a:arcTo wR="3600" hR="3600" stAng="16200000" swAng="-5400000"/>
                <a:lnTo>
                  <a:pt x="0" y="19213"/>
                </a:lnTo>
                <a:arcTo wR="3600" hR="3600" stAng="10800000" swAng="-5400000"/>
                <a:lnTo>
                  <a:pt x="18000" y="228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20760" y="2473200"/>
            <a:ext cx="42840" cy="3348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152280" y="19350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63040" y="784080"/>
            <a:ext cx="8339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половини однорідної кулі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rId5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2413080" y="100080"/>
            <a:ext cx="439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825720" y="1546200"/>
            <a:ext cx="496584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тіла не зміниться, якщо паралелепіпед “стиснути” у тонку прямокутну пластинку, що лежить у площин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якщо вважати вісь обертання вісс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исота паралелепіпеда не буде входити до відповіді!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епер згадаємо співвідношення, яке має місце для будь-якої тонкої пластини, що лежить у площин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2671920" y="4910040"/>
          <a:ext cx="125712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4910040"/>
                    <a:ext cx="1257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6" name=""/>
          <p:cNvGrpSpPr/>
          <p:nvPr/>
        </p:nvGrpSpPr>
        <p:grpSpPr>
          <a:xfrm>
            <a:off x="646200" y="1878120"/>
            <a:ext cx="3492360" cy="2284560"/>
            <a:chOff x="646200" y="1878120"/>
            <a:chExt cx="3492360" cy="2284560"/>
          </a:xfrm>
        </p:grpSpPr>
        <p:sp>
          <p:nvSpPr>
            <p:cNvPr id="1607" name=""/>
            <p:cNvSpPr/>
            <p:nvPr/>
          </p:nvSpPr>
          <p:spPr>
            <a:xfrm>
              <a:off x="646200" y="1878120"/>
              <a:ext cx="349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Однорідний прямокутний паралелепіпе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"/>
            <p:cNvGrpSpPr/>
            <p:nvPr/>
          </p:nvGrpSpPr>
          <p:grpSpPr>
            <a:xfrm>
              <a:off x="1157400" y="2405160"/>
              <a:ext cx="2815920" cy="1757520"/>
              <a:chOff x="1157400" y="2405160"/>
              <a:chExt cx="2815920" cy="1757520"/>
            </a:xfrm>
          </p:grpSpPr>
          <p:sp>
            <p:nvSpPr>
              <p:cNvPr id="1609" name=""/>
              <p:cNvSpPr/>
              <p:nvPr/>
            </p:nvSpPr>
            <p:spPr>
              <a:xfrm>
                <a:off x="1244520" y="2772000"/>
                <a:ext cx="1495440" cy="107604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1243080" y="250308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157400" y="255132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243080" y="253224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859120" y="240516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a, b,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57440" y="3794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550960" y="35640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712960" y="2954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7" name=""/>
          <p:cNvSpPr/>
          <p:nvPr/>
        </p:nvSpPr>
        <p:spPr>
          <a:xfrm>
            <a:off x="568440" y="4151160"/>
            <a:ext cx="849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и інерції пластини відносно осей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знайти “перетворивши” по черзі пластину у стержні з довжинами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.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икориставши попередні результати (дивись відповідь на завдання 2.2), отрима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8" name=""/>
          <p:cNvGraphicFramePr/>
          <p:nvPr/>
        </p:nvGraphicFramePr>
        <p:xfrm>
          <a:off x="5165640" y="3692520"/>
          <a:ext cx="13654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5640" y="3692520"/>
                    <a:ext cx="1365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1" name=""/>
          <p:cNvGraphicFramePr/>
          <p:nvPr/>
        </p:nvGraphicFramePr>
        <p:xfrm>
          <a:off x="4915080" y="4900680"/>
          <a:ext cx="1236600" cy="91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5080" y="4900680"/>
                    <a:ext cx="12366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3" name=""/>
          <p:cNvSpPr/>
          <p:nvPr/>
        </p:nvSpPr>
        <p:spPr>
          <a:xfrm>
            <a:off x="657360" y="6108840"/>
            <a:ext cx="220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відповід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4" name=""/>
          <p:cNvGraphicFramePr/>
          <p:nvPr/>
        </p:nvGraphicFramePr>
        <p:xfrm>
          <a:off x="2943360" y="5738760"/>
          <a:ext cx="26841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43360" y="5738760"/>
                    <a:ext cx="26841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6" name=""/>
          <p:cNvSpPr/>
          <p:nvPr/>
        </p:nvSpPr>
        <p:spPr>
          <a:xfrm>
            <a:off x="6585120" y="3619440"/>
            <a:ext cx="244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ись відповідь на завдання  6.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965400" y="5699160"/>
            <a:ext cx="1533600" cy="101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131760" y="6667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71440" y="2163600"/>
            <a:ext cx="42840" cy="4438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101520" y="16113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82480" y="646200"/>
            <a:ext cx="8498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однорідного прямокутного паралелепіпеда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1592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rId10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2465280" y="15408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491000" y="1898640"/>
            <a:ext cx="437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знов застосувати ідею про перенесення диференціально малих елементів тіла, можна збагнути, що моменти інерції зображеної частини кулі відносно кожної із запропонованих осей дорівнюють моменту інерції цілої кулі з такими сами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дносно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і, що проходить через центр кулі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595840" y="4113360"/>
          <a:ext cx="151308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5840" y="4113360"/>
                    <a:ext cx="151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8" name=""/>
          <p:cNvSpPr/>
          <p:nvPr/>
        </p:nvSpPr>
        <p:spPr>
          <a:xfrm>
            <a:off x="762120" y="192096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Частина однорідної суцільної ку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ідносно кожної з осе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375920" y="2424240"/>
            <a:ext cx="2561040" cy="2506680"/>
            <a:chOff x="1375920" y="2424240"/>
            <a:chExt cx="2561040" cy="2506680"/>
          </a:xfrm>
        </p:grpSpPr>
        <p:pic>
          <p:nvPicPr>
            <p:cNvPr id="1640" name="" descr=""/>
            <p:cNvPicPr/>
            <p:nvPr/>
          </p:nvPicPr>
          <p:blipFill>
            <a:blip r:embed="rId3"/>
            <a:stretch/>
          </p:blipFill>
          <p:spPr>
            <a:xfrm>
              <a:off x="1471680" y="2575080"/>
              <a:ext cx="22366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1" name=""/>
            <p:cNvSpPr/>
            <p:nvPr/>
          </p:nvSpPr>
          <p:spPr>
            <a:xfrm flipV="1">
              <a:off x="2595600" y="247680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1375920" y="4207320"/>
              <a:ext cx="266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510000" y="4083480"/>
              <a:ext cx="295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602080" y="4816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1446120" y="3591000"/>
              <a:ext cx="216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401840" y="4188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8680" y="40816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584440" y="2424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060720" y="28054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2449440" y="5113440"/>
            <a:ext cx="4672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умайте над тим, які саме елементи і куди треба переносити у кожному з трьох випадків, та спробуйте надати розгорнуті пояснення (на зразок тих, що наведені у відповідях на завдання</a:t>
            </a:r>
            <a:r>
              <a:rPr b="0" lang="uk-UA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6.5; 6.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6103800" y="4049640"/>
            <a:ext cx="884520" cy="1013040"/>
          </a:xfrm>
          <a:custGeom>
            <a:avLst/>
            <a:gdLst>
              <a:gd name="textAreaLeft" fmla="*/ 42840 w 884520"/>
              <a:gd name="textAreaRight" fmla="*/ 841680 w 884520"/>
              <a:gd name="textAreaTop" fmla="*/ 42840 h 1013040"/>
              <a:gd name="textAreaBottom" fmla="*/ 970200 h 1013040"/>
            </a:gdLst>
            <a:ahLst/>
            <a:rect l="textAreaLeft" t="textAreaTop" r="textAreaRight" b="textAreaBottom"/>
            <a:pathLst>
              <a:path w="21600" h="24737">
                <a:moveTo>
                  <a:pt x="3600" y="0"/>
                </a:moveTo>
                <a:arcTo wR="3600" hR="3600" stAng="16200000" swAng="-5400000"/>
                <a:lnTo>
                  <a:pt x="0" y="21137"/>
                </a:lnTo>
                <a:arcTo wR="3600" hR="3600" stAng="10800000" swAng="-5400000"/>
                <a:lnTo>
                  <a:pt x="18000" y="24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93560" y="2384280"/>
            <a:ext cx="42840" cy="3775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316080" y="1828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23800" y="784080"/>
            <a:ext cx="83390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частини  однорідної суцільної кулі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кожної з осей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Управляющая кнопка: домой 85">
            <a:hlinkClick r:id="rId4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>
            <a:hlinkClick r:id="rId5" action="ppaction://hlinksldjump"/>
          </p:cNvPr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2289240" y="127080"/>
            <a:ext cx="46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692520" y="2179800"/>
            <a:ext cx="535320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взяти значення відстані між осями </a:t>
            </a:r>
            <a:r>
              <a:rPr b="0" i="1" lang="uk-UA" sz="2000" spc="-1" strike="noStrike">
                <a:solidFill>
                  <a:srgbClr val="333399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багато більшим, ніж максимальний лінійний розмір тіла, то значення моменту інерції відносно осі, що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не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роходить через центр мас, має прямувати до   , бо тіло можна буде вважати матеріальною точко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такій вимозі у наведеній формулі задовольняє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а не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Отже, якщо формула правильна,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тіла відносно осі, що проходить через центр мас тіла, позначено через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uk-UA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63480" y="1735200"/>
            <a:ext cx="3730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, що проходить через центр мас ті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1"/>
          <a:stretch/>
        </p:blipFill>
        <p:spPr>
          <a:xfrm>
            <a:off x="954000" y="2060640"/>
            <a:ext cx="2652840" cy="4041720"/>
          </a:xfrm>
          <a:prstGeom prst="rect">
            <a:avLst/>
          </a:prstGeom>
          <a:ln w="0">
            <a:noFill/>
          </a:ln>
        </p:spPr>
      </p:pic>
      <p:sp>
        <p:nvSpPr>
          <p:cNvPr id="1662" name=""/>
          <p:cNvSpPr/>
          <p:nvPr/>
        </p:nvSpPr>
        <p:spPr>
          <a:xfrm rot="21026400">
            <a:off x="2074680" y="222876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178000" y="2201760"/>
            <a:ext cx="0" cy="1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636480" y="193824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78040" y="20541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85960" y="4834080"/>
            <a:ext cx="0" cy="128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rot="21026400">
            <a:off x="2549160" y="2246400"/>
            <a:ext cx="209520" cy="293760"/>
          </a:xfrm>
          <a:custGeom>
            <a:avLst/>
            <a:gdLst>
              <a:gd name="textAreaLeft" fmla="*/ 28080 w 209520"/>
              <a:gd name="textAreaRight" fmla="*/ 181440 w 209520"/>
              <a:gd name="textAreaTop" fmla="*/ 51120 h 293760"/>
              <a:gd name="textAreaBottom" fmla="*/ 213120 h 29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681280" y="2190600"/>
            <a:ext cx="0" cy="11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187720" y="588816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171880" y="5519880"/>
            <a:ext cx="523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677520" y="1973160"/>
            <a:ext cx="1482840" cy="60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5238720" y="1281240"/>
          <a:ext cx="160992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720" y="1281240"/>
                    <a:ext cx="160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4" name=""/>
          <p:cNvGraphicFramePr/>
          <p:nvPr/>
        </p:nvGraphicFramePr>
        <p:xfrm>
          <a:off x="5254560" y="3427560"/>
          <a:ext cx="474840" cy="34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4560" y="3427560"/>
                    <a:ext cx="474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6" name=""/>
          <p:cNvSpPr/>
          <p:nvPr/>
        </p:nvSpPr>
        <p:spPr>
          <a:xfrm flipH="1" flipV="1">
            <a:off x="2693880" y="5613480"/>
            <a:ext cx="77472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441600" y="6394320"/>
            <a:ext cx="4788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457440" y="6264360"/>
            <a:ext cx="44085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ця вісь не обов'язково має проходити крізь ті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943440" y="5451480"/>
            <a:ext cx="48276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31760" y="7142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1960" y="2155680"/>
            <a:ext cx="42840" cy="4380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00080" y="15825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73120" y="709560"/>
            <a:ext cx="8281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теоремі Гюйгенса-Штейнера момент інерції тіла відносно осі, що проходить через центр мас, позначено через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чи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764400" y="1476360"/>
            <a:ext cx="10008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232240" y="1289160"/>
            <a:ext cx="1532160" cy="4204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1079640" y="1046160"/>
            <a:ext cx="74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відки взялося твердження                                      , яке рекомендовано врахува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381400" y="295200"/>
            <a:ext cx="44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63680" y="2257560"/>
            <a:ext cx="88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е твердження пов'язано із формулою-визначенням радіус-вектора центра мас тіла 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1" name=""/>
          <p:cNvGraphicFramePr/>
          <p:nvPr/>
        </p:nvGraphicFramePr>
        <p:xfrm>
          <a:off x="704880" y="2684520"/>
          <a:ext cx="20289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684520"/>
                    <a:ext cx="20289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"/>
          <p:cNvSpPr/>
          <p:nvPr/>
        </p:nvSpPr>
        <p:spPr>
          <a:xfrm>
            <a:off x="3736800" y="2900520"/>
            <a:ext cx="435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 система координат була обрана так, щоб її початок співпадав з центром мас тіла, то 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4114800" y="3951360"/>
          <a:ext cx="312120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951360"/>
                    <a:ext cx="31212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"/>
          <p:cNvSpPr/>
          <p:nvPr/>
        </p:nvSpPr>
        <p:spPr>
          <a:xfrm>
            <a:off x="1146240" y="3368520"/>
            <a:ext cx="131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348160" y="462276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216080" y="4370400"/>
            <a:ext cx="124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33200" y="5084640"/>
            <a:ext cx="88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танню векторну рівність можна переписати, як відомо, у вигляді трьох скалярни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1814400" y="5456160"/>
          <a:ext cx="486108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4400" y="5456160"/>
                    <a:ext cx="4861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2" name=""/>
          <p:cNvSpPr/>
          <p:nvPr/>
        </p:nvSpPr>
        <p:spPr>
          <a:xfrm>
            <a:off x="622440" y="2214720"/>
            <a:ext cx="8394480" cy="42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98320" y="10382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79360" y="2725560"/>
            <a:ext cx="42840" cy="3705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09440" y="2135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6" name=""/>
          <p:cNvGraphicFramePr/>
          <p:nvPr/>
        </p:nvGraphicFramePr>
        <p:xfrm>
          <a:off x="3968640" y="895320"/>
          <a:ext cx="239400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8640" y="895320"/>
                    <a:ext cx="23940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8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2349360" y="203040"/>
            <a:ext cx="452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122480" y="801720"/>
            <a:ext cx="57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одовжіть доведення теореми Гюйгенса-Штейн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3147840" y="4575240"/>
          <a:ext cx="302904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7840" y="4575240"/>
                    <a:ext cx="30290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4" name=""/>
          <p:cNvGraphicFramePr/>
          <p:nvPr/>
        </p:nvGraphicFramePr>
        <p:xfrm>
          <a:off x="1633680" y="4530600"/>
          <a:ext cx="272880" cy="3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4530600"/>
                    <a:ext cx="27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6" name=""/>
          <p:cNvSpPr/>
          <p:nvPr/>
        </p:nvSpPr>
        <p:spPr>
          <a:xfrm>
            <a:off x="993600" y="1628640"/>
            <a:ext cx="36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наємо деякі перетвор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7" name=""/>
          <p:cNvGraphicFramePr/>
          <p:nvPr/>
        </p:nvGraphicFramePr>
        <p:xfrm>
          <a:off x="482760" y="1914480"/>
          <a:ext cx="3749400" cy="10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760" y="1914480"/>
                    <a:ext cx="37494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9" name=""/>
          <p:cNvGraphicFramePr/>
          <p:nvPr/>
        </p:nvGraphicFramePr>
        <p:xfrm>
          <a:off x="4346640" y="1911240"/>
          <a:ext cx="4746600" cy="106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911240"/>
                    <a:ext cx="47466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1" name=""/>
          <p:cNvGraphicFramePr/>
          <p:nvPr/>
        </p:nvGraphicFramePr>
        <p:xfrm>
          <a:off x="625320" y="2948040"/>
          <a:ext cx="827424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5320" y="2948040"/>
                    <a:ext cx="82742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3" name=""/>
          <p:cNvGraphicFramePr/>
          <p:nvPr/>
        </p:nvGraphicFramePr>
        <p:xfrm>
          <a:off x="4213080" y="4506840"/>
          <a:ext cx="27324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3080" y="4506840"/>
                    <a:ext cx="27324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5" name=""/>
          <p:cNvSpPr/>
          <p:nvPr/>
        </p:nvSpPr>
        <p:spPr>
          <a:xfrm>
            <a:off x="2298600" y="489888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6" name=""/>
          <p:cNvGraphicFramePr/>
          <p:nvPr/>
        </p:nvGraphicFramePr>
        <p:xfrm>
          <a:off x="6672240" y="4829040"/>
          <a:ext cx="1366920" cy="408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2240" y="4829040"/>
                    <a:ext cx="1366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8" name=""/>
          <p:cNvGraphicFramePr/>
          <p:nvPr/>
        </p:nvGraphicFramePr>
        <p:xfrm>
          <a:off x="6651720" y="4398840"/>
          <a:ext cx="55404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51720" y="4398840"/>
                    <a:ext cx="554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0" name=""/>
          <p:cNvSpPr/>
          <p:nvPr/>
        </p:nvSpPr>
        <p:spPr>
          <a:xfrm>
            <a:off x="7089840" y="445932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кіль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813280" y="2913120"/>
            <a:ext cx="2051280" cy="1292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17480" y="2583000"/>
            <a:ext cx="1063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65000" y="2890800"/>
            <a:ext cx="2051280" cy="12924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354560" y="254484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333399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070080" y="2905200"/>
            <a:ext cx="2586240" cy="129204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1711440" y="4286160"/>
            <a:ext cx="71280" cy="219240"/>
            <a:chOff x="1711440" y="4286160"/>
            <a:chExt cx="71280" cy="219240"/>
          </a:xfrm>
        </p:grpSpPr>
        <p:sp>
          <p:nvSpPr>
            <p:cNvPr id="1737" name=""/>
            <p:cNvSpPr/>
            <p:nvPr/>
          </p:nvSpPr>
          <p:spPr>
            <a:xfrm>
              <a:off x="1711440" y="428616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82720" y="428796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4281480" y="4278240"/>
            <a:ext cx="71280" cy="219240"/>
            <a:chOff x="4281480" y="4278240"/>
            <a:chExt cx="71280" cy="219240"/>
          </a:xfrm>
        </p:grpSpPr>
        <p:sp>
          <p:nvSpPr>
            <p:cNvPr id="1740" name=""/>
            <p:cNvSpPr/>
            <p:nvPr/>
          </p:nvSpPr>
          <p:spPr>
            <a:xfrm>
              <a:off x="4281480" y="427824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52760" y="428004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6786720" y="4259160"/>
            <a:ext cx="71280" cy="219240"/>
            <a:chOff x="6786720" y="4259160"/>
            <a:chExt cx="71280" cy="219240"/>
          </a:xfrm>
        </p:grpSpPr>
        <p:sp>
          <p:nvSpPr>
            <p:cNvPr id="1743" name=""/>
            <p:cNvSpPr/>
            <p:nvPr/>
          </p:nvSpPr>
          <p:spPr>
            <a:xfrm>
              <a:off x="6786720" y="4259160"/>
              <a:ext cx="0" cy="217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858000" y="4260960"/>
              <a:ext cx="0" cy="217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681120" y="701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95200" y="2046240"/>
            <a:ext cx="42840" cy="3616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11240" y="153036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Управляющая кнопка: домой 85">
            <a:hlinkClick r:id="rId17" action="ppaction://hlinksldjump"/>
          </p:cNvPr>
          <p:cNvSpPr/>
          <p:nvPr/>
        </p:nvSpPr>
        <p:spPr>
          <a:xfrm>
            <a:off x="174600" y="1062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2394000" y="23652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755640" y="2092320"/>
            <a:ext cx="30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ругл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24160" y="2797200"/>
            <a:ext cx="1198440" cy="1200240"/>
          </a:xfrm>
          <a:prstGeom prst="ellipse">
            <a:avLst/>
          </a:prstGeom>
          <a:solidFill>
            <a:srgbClr val="808080">
              <a:alpha val="9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440000" y="40179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428840" y="245412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428840" y="2787480"/>
            <a:ext cx="0" cy="12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1343160" y="2530440"/>
            <a:ext cx="190440" cy="238320"/>
          </a:xfrm>
          <a:custGeom>
            <a:avLst/>
            <a:gdLst>
              <a:gd name="textAreaLeft" fmla="*/ 25560 w 190440"/>
              <a:gd name="textAreaRight" fmla="*/ 164880 w 190440"/>
              <a:gd name="textAreaTop" fmla="*/ 41760 h 238320"/>
              <a:gd name="textAreaBottom" fmla="*/ 172800 h 23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428840" y="251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365200" y="253836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9" name=""/>
          <p:cNvGraphicFramePr/>
          <p:nvPr/>
        </p:nvGraphicFramePr>
        <p:xfrm>
          <a:off x="6224760" y="2779560"/>
          <a:ext cx="134604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760" y="2779560"/>
                    <a:ext cx="13460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1" name=""/>
          <p:cNvSpPr/>
          <p:nvPr/>
        </p:nvSpPr>
        <p:spPr>
          <a:xfrm>
            <a:off x="3851280" y="1744560"/>
            <a:ext cx="518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гадаємо раніше отриманий результат для осі, що була у площині пластини і проходила через її центр (дивись відповідь на завдання 6.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197240" y="2552760"/>
            <a:ext cx="1722240" cy="1722240"/>
            <a:chOff x="4197240" y="2552760"/>
            <a:chExt cx="1722240" cy="1722240"/>
          </a:xfrm>
        </p:grpSpPr>
        <p:sp>
          <p:nvSpPr>
            <p:cNvPr id="1763" name=""/>
            <p:cNvSpPr/>
            <p:nvPr/>
          </p:nvSpPr>
          <p:spPr>
            <a:xfrm>
              <a:off x="4795560" y="410364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97240" y="2895480"/>
              <a:ext cx="119844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97360" y="2552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97360" y="288612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711320" y="2629080"/>
              <a:ext cx="190800" cy="23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797360" y="26100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38640" y="263700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0" name=""/>
          <p:cNvSpPr/>
          <p:nvPr/>
        </p:nvSpPr>
        <p:spPr>
          <a:xfrm>
            <a:off x="3648240" y="4444920"/>
            <a:ext cx="50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аємо теорему Гюйгенса-Штейн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1" name=""/>
          <p:cNvGraphicFramePr/>
          <p:nvPr/>
        </p:nvGraphicFramePr>
        <p:xfrm>
          <a:off x="2614680" y="4960800"/>
          <a:ext cx="3743280" cy="8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4680" y="4960800"/>
                    <a:ext cx="37432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3" name=""/>
          <p:cNvSpPr/>
          <p:nvPr/>
        </p:nvSpPr>
        <p:spPr>
          <a:xfrm>
            <a:off x="3127320" y="4869000"/>
            <a:ext cx="851040" cy="10206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452840" y="5248440"/>
            <a:ext cx="268560" cy="369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979720" y="5827680"/>
            <a:ext cx="370080" cy="70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605480" y="5614920"/>
            <a:ext cx="573120" cy="684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7" name=""/>
          <p:cNvGraphicFramePr/>
          <p:nvPr/>
        </p:nvGraphicFramePr>
        <p:xfrm>
          <a:off x="3056040" y="6338880"/>
          <a:ext cx="272880" cy="3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6040" y="6338880"/>
                    <a:ext cx="27288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9" name=""/>
          <p:cNvSpPr/>
          <p:nvPr/>
        </p:nvSpPr>
        <p:spPr>
          <a:xfrm>
            <a:off x="2960640" y="651528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153040" y="6269040"/>
            <a:ext cx="47520" cy="42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5229360" y="6164280"/>
          <a:ext cx="214200" cy="24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29360" y="6164280"/>
                    <a:ext cx="21420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"/>
          <p:cNvSpPr/>
          <p:nvPr/>
        </p:nvSpPr>
        <p:spPr>
          <a:xfrm>
            <a:off x="546120" y="4183200"/>
            <a:ext cx="275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132520" y="5016600"/>
            <a:ext cx="1071360" cy="84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3176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17520" y="2266920"/>
            <a:ext cx="42840" cy="4395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42920" y="172872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568080" y="56304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круглої тонкої пластинки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адіусом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Управляющая кнопка: домой 85">
            <a:hlinkClick r:id="rId9" action="ppaction://hlinksldjump"/>
          </p:cNvPr>
          <p:cNvSpPr/>
          <p:nvPr/>
        </p:nvSpPr>
        <p:spPr>
          <a:xfrm>
            <a:off x="174600" y="1252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2340000" y="152280"/>
            <a:ext cx="45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52520" y="1959120"/>
            <a:ext cx="303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днорідний прямокутний паралелепіп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922320" y="2592360"/>
            <a:ext cx="2728800" cy="1757520"/>
            <a:chOff x="922320" y="2592360"/>
            <a:chExt cx="2728800" cy="1757520"/>
          </a:xfrm>
        </p:grpSpPr>
        <p:sp>
          <p:nvSpPr>
            <p:cNvPr id="1794" name=""/>
            <p:cNvSpPr/>
            <p:nvPr/>
          </p:nvSpPr>
          <p:spPr>
            <a:xfrm>
              <a:off x="922320" y="2959200"/>
              <a:ext cx="1495440" cy="107640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1668240" y="2657160"/>
              <a:ext cx="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577880" y="268128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68240" y="267192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536560" y="2592360"/>
              <a:ext cx="11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334880" y="3981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28760" y="3751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390760" y="3141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922320" y="2958840"/>
              <a:ext cx="1490400" cy="2667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188720" y="2954520"/>
              <a:ext cx="957240" cy="2714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1666800" y="402228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3716280" y="1601640"/>
            <a:ext cx="529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аємо теорему Гюйгенса-Штейнера та раніше отриманий результат для осі, на якій лежить  ребро паралелепіпеда (дивись відповідь на завдання 8.2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4233960" y="2590920"/>
            <a:ext cx="2815920" cy="1757520"/>
            <a:chOff x="4233960" y="2590920"/>
            <a:chExt cx="2815920" cy="1757520"/>
          </a:xfrm>
        </p:grpSpPr>
        <p:sp>
          <p:nvSpPr>
            <p:cNvPr id="1807" name=""/>
            <p:cNvSpPr/>
            <p:nvPr/>
          </p:nvSpPr>
          <p:spPr>
            <a:xfrm>
              <a:off x="4321080" y="2957760"/>
              <a:ext cx="1495440" cy="1076040"/>
            </a:xfrm>
            <a:prstGeom prst="cube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319640" y="2688840"/>
              <a:ext cx="0" cy="15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33960" y="2737080"/>
              <a:ext cx="171360" cy="247680"/>
            </a:xfrm>
            <a:custGeom>
              <a:avLst/>
              <a:gdLst>
                <a:gd name="textAreaLeft" fmla="*/ 22680 w 171360"/>
                <a:gd name="textAreaRight" fmla="*/ 148680 w 171360"/>
                <a:gd name="textAreaTop" fmla="*/ 43200 h 247680"/>
                <a:gd name="textAreaBottom" fmla="*/ 179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19640" y="271800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35680" y="2590920"/>
              <a:ext cx="111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a, b,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34000" y="39801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627520" y="3749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789520" y="31402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5" name=""/>
          <p:cNvGraphicFramePr/>
          <p:nvPr/>
        </p:nvGraphicFramePr>
        <p:xfrm>
          <a:off x="6689880" y="3110040"/>
          <a:ext cx="193824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9880" y="3110040"/>
                    <a:ext cx="193824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7" name=""/>
          <p:cNvSpPr/>
          <p:nvPr/>
        </p:nvSpPr>
        <p:spPr>
          <a:xfrm>
            <a:off x="425520" y="5556240"/>
            <a:ext cx="866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б не було вимоги обов'язково скористатися теоремою Гюйгенса-Штейнера, то можна було б “стиснути” паралелепіпед до тонкої прямокутної пластини і одразу записати відповідь (дивись відповідь на завдання 6.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8" name=""/>
          <p:cNvGraphicFramePr/>
          <p:nvPr/>
        </p:nvGraphicFramePr>
        <p:xfrm>
          <a:off x="1679400" y="4468680"/>
          <a:ext cx="417672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4468680"/>
                    <a:ext cx="41767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0" name=""/>
          <p:cNvGraphicFramePr/>
          <p:nvPr/>
        </p:nvGraphicFramePr>
        <p:xfrm>
          <a:off x="6129360" y="4470480"/>
          <a:ext cx="2257560" cy="98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9360" y="4470480"/>
                    <a:ext cx="225756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2" name=""/>
          <p:cNvSpPr/>
          <p:nvPr/>
        </p:nvSpPr>
        <p:spPr>
          <a:xfrm>
            <a:off x="6688080" y="4419720"/>
            <a:ext cx="155412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8000" y="7650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25440" y="2235240"/>
            <a:ext cx="42840" cy="436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49400" y="169380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552240" y="56304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однорідного прямокутного паралелепіпеда масою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і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розмірам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ідносно заданої осі (див. рис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1443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06320" y="448920"/>
            <a:ext cx="7734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695160" y="14018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6240" y="5699160"/>
            <a:ext cx="47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формулюйте ідеї, якими Ви користувалися для усного виконання завдан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01640" y="57085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31920" y="1488960"/>
            <a:ext cx="1942920" cy="1994040"/>
            <a:chOff x="1231920" y="1488960"/>
            <a:chExt cx="1942920" cy="1994040"/>
          </a:xfrm>
        </p:grpSpPr>
        <p:sp>
          <p:nvSpPr>
            <p:cNvPr id="228" name=""/>
            <p:cNvSpPr/>
            <p:nvPr/>
          </p:nvSpPr>
          <p:spPr>
            <a:xfrm>
              <a:off x="1231920" y="1488960"/>
              <a:ext cx="16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Напівкільц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1332000" y="2503440"/>
              <a:ext cx="1276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112840" y="252252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12880" y="1955880"/>
              <a:ext cx="5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996920" y="1911240"/>
              <a:ext cx="200160" cy="1571760"/>
              <a:chOff x="1996920" y="1911240"/>
              <a:chExt cx="200160" cy="1571760"/>
            </a:xfrm>
          </p:grpSpPr>
          <p:sp>
            <p:nvSpPr>
              <p:cNvPr id="233" name=""/>
              <p:cNvSpPr/>
              <p:nvPr/>
            </p:nvSpPr>
            <p:spPr>
              <a:xfrm>
                <a:off x="2111400" y="1911240"/>
                <a:ext cx="0" cy="157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96920" y="1996920"/>
                <a:ext cx="200160" cy="23796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11400" y="19396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V="1">
              <a:off x="1693800" y="2550600"/>
              <a:ext cx="885960" cy="51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26200" y="1515960"/>
            <a:ext cx="2566800" cy="1979640"/>
            <a:chOff x="5326200" y="1515960"/>
            <a:chExt cx="2566800" cy="1979640"/>
          </a:xfrm>
        </p:grpSpPr>
        <p:grpSp>
          <p:nvGrpSpPr>
            <p:cNvPr id="238" name=""/>
            <p:cNvGrpSpPr/>
            <p:nvPr/>
          </p:nvGrpSpPr>
          <p:grpSpPr>
            <a:xfrm>
              <a:off x="5326200" y="1515960"/>
              <a:ext cx="2566800" cy="1979640"/>
              <a:chOff x="5326200" y="1515960"/>
              <a:chExt cx="2566800" cy="1979640"/>
            </a:xfrm>
          </p:grpSpPr>
          <p:sp>
            <p:nvSpPr>
              <p:cNvPr id="239" name=""/>
              <p:cNvSpPr/>
              <p:nvPr/>
            </p:nvSpPr>
            <p:spPr>
              <a:xfrm>
                <a:off x="5326200" y="1515960"/>
                <a:ext cx="16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Comic Sans MS"/>
                  </a:rPr>
                  <a:t>2. Стержен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620040" y="192420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629320" y="276228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05560" y="2009880"/>
                <a:ext cx="200160" cy="237960"/>
              </a:xfrm>
              <a:custGeom>
                <a:avLst/>
                <a:gdLst>
                  <a:gd name="textAreaLeft" fmla="*/ 26640 w 200160"/>
                  <a:gd name="textAreaRight" fmla="*/ 173520 w 20016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20040" y="195264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31040" y="18255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, 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19920" y="23670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985000" y="235584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629320" y="258084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589880" y="259884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29320" y="263844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37320" y="264636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5638680" y="2638440"/>
              <a:ext cx="9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24400" y="3679920"/>
            <a:ext cx="3305160" cy="1899360"/>
            <a:chOff x="5324400" y="3679920"/>
            <a:chExt cx="3305160" cy="1899360"/>
          </a:xfrm>
        </p:grpSpPr>
        <p:sp>
          <p:nvSpPr>
            <p:cNvPr id="253" name=""/>
            <p:cNvSpPr/>
            <p:nvPr/>
          </p:nvSpPr>
          <p:spPr>
            <a:xfrm>
              <a:off x="5324400" y="3679920"/>
              <a:ext cx="330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4. Прямокутна тонка пласти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34080" y="4819680"/>
              <a:ext cx="186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62840" y="4400640"/>
              <a:ext cx="1371600" cy="809640"/>
            </a:xfrm>
            <a:prstGeom prst="rect">
              <a:avLst/>
            </a:prstGeom>
            <a:solidFill>
              <a:srgbClr val="808080">
                <a:alpha val="7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734080" y="4819680"/>
              <a:ext cx="41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13560" y="481824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771520" y="4734000"/>
              <a:ext cx="228600" cy="162000"/>
            </a:xfrm>
            <a:custGeom>
              <a:avLst/>
              <a:gdLst>
                <a:gd name="textAreaLeft" fmla="*/ 39600 w 228600"/>
                <a:gd name="textAreaRight" fmla="*/ 165600 w 228600"/>
                <a:gd name="textAreaTop" fmla="*/ 21600 h 162000"/>
                <a:gd name="textAreaBottom" fmla="*/ 14040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77000" y="481968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4800" y="3995640"/>
              <a:ext cx="8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a,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6108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59720" y="459252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62840" y="518148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42360" y="518940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62840" y="5305320"/>
              <a:ext cx="13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505640" y="4390920"/>
              <a:ext cx="3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23280" y="52084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5800" y="4381560"/>
              <a:ext cx="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822320" y="4610160"/>
            <a:ext cx="9050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17440" y="3622680"/>
            <a:ext cx="30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Сектор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руглої пласт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06760" y="3941640"/>
            <a:ext cx="199800" cy="1571760"/>
            <a:chOff x="2606760" y="3941640"/>
            <a:chExt cx="199800" cy="1571760"/>
          </a:xfrm>
        </p:grpSpPr>
        <p:sp>
          <p:nvSpPr>
            <p:cNvPr id="272" name=""/>
            <p:cNvSpPr/>
            <p:nvPr/>
          </p:nvSpPr>
          <p:spPr>
            <a:xfrm>
              <a:off x="2720880" y="3941640"/>
              <a:ext cx="0" cy="157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06760" y="4027320"/>
              <a:ext cx="199800" cy="237960"/>
            </a:xfrm>
            <a:custGeom>
              <a:avLst/>
              <a:gdLst>
                <a:gd name="textAreaLeft" fmla="*/ 26640 w 199800"/>
                <a:gd name="textAreaRight" fmla="*/ 173160 w 199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20880" y="3970080"/>
              <a:ext cx="0" cy="20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46240" y="4091040"/>
            <a:ext cx="80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84240" y="5000400"/>
            <a:ext cx="809640" cy="10476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41440" y="4867200"/>
            <a:ext cx="208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77920" y="4699080"/>
            <a:ext cx="31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55800" y="4648320"/>
            <a:ext cx="1523880" cy="704880"/>
          </a:xfrm>
          <a:prstGeom prst="ellipse">
            <a:avLst/>
          </a:prstGeom>
          <a:noFill/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5" action="ppaction://hlinksldjump"/>
          </p:cNvPr>
          <p:cNvSpPr/>
          <p:nvPr/>
        </p:nvSpPr>
        <p:spPr>
          <a:xfrm>
            <a:off x="698400" y="355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6" action="ppaction://hlinksldjump"/>
          </p:cNvPr>
          <p:cNvSpPr/>
          <p:nvPr/>
        </p:nvSpPr>
        <p:spPr>
          <a:xfrm>
            <a:off x="4813200" y="13874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7" action="ppaction://hlinksldjump"/>
          </p:cNvPr>
          <p:cNvSpPr/>
          <p:nvPr/>
        </p:nvSpPr>
        <p:spPr>
          <a:xfrm>
            <a:off x="4813200" y="3551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284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043600" y="349416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19840" y="132408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93880" y="565632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7920" y="3473280"/>
            <a:ext cx="2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27000" y="1333440"/>
            <a:ext cx="3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Управляющая кнопка: домой 85">
            <a:hlinkClick r:id="rId8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7967520" y="63086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6838920" y="631188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2400480" y="222120"/>
            <a:ext cx="44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1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490760" y="162864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Гантель (кулі та стержень однорідні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888840" y="2241720"/>
            <a:ext cx="3568680" cy="1571400"/>
            <a:chOff x="888840" y="2241720"/>
            <a:chExt cx="3568680" cy="1571400"/>
          </a:xfrm>
        </p:grpSpPr>
        <p:pic>
          <p:nvPicPr>
            <p:cNvPr id="1832" name="" descr=""/>
            <p:cNvPicPr/>
            <p:nvPr/>
          </p:nvPicPr>
          <p:blipFill>
            <a:blip r:embed="rId1"/>
            <a:stretch/>
          </p:blipFill>
          <p:spPr>
            <a:xfrm>
              <a:off x="3583080" y="2703240"/>
              <a:ext cx="765000" cy="75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3724200" y="240012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4" name="" descr=""/>
            <p:cNvPicPr/>
            <p:nvPr/>
          </p:nvPicPr>
          <p:blipFill>
            <a:blip r:embed="rId2"/>
            <a:stretch/>
          </p:blipFill>
          <p:spPr>
            <a:xfrm>
              <a:off x="888840" y="2695320"/>
              <a:ext cx="765360" cy="753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5" name=""/>
            <p:cNvGrpSpPr/>
            <p:nvPr/>
          </p:nvGrpSpPr>
          <p:grpSpPr>
            <a:xfrm>
              <a:off x="1641600" y="2241720"/>
              <a:ext cx="1979280" cy="1571400"/>
              <a:chOff x="1641600" y="2241720"/>
              <a:chExt cx="1979280" cy="1571400"/>
            </a:xfrm>
          </p:grpSpPr>
          <p:sp>
            <p:nvSpPr>
              <p:cNvPr id="1836" name=""/>
              <p:cNvSpPr/>
              <p:nvPr/>
            </p:nvSpPr>
            <p:spPr>
              <a:xfrm>
                <a:off x="2631960" y="2241720"/>
                <a:ext cx="0" cy="15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517840" y="2327040"/>
                <a:ext cx="199800" cy="237960"/>
              </a:xfrm>
              <a:custGeom>
                <a:avLst/>
                <a:gdLst>
                  <a:gd name="textAreaLeft" fmla="*/ 26640 w 199800"/>
                  <a:gd name="textAreaRight" fmla="*/ 173160 w 199800"/>
                  <a:gd name="textAreaTop" fmla="*/ 41400 h 237960"/>
                  <a:gd name="textAreaBottom" fmla="*/ 172440 h 23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631960" y="2270160"/>
                <a:ext cx="0" cy="20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32200" y="268452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996920" y="267336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uk-UA" sz="16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1641600" y="289872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3602160" y="291600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1641600" y="295596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649600" y="296388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1650960" y="2955960"/>
                <a:ext cx="9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1641600" y="3079800"/>
                <a:ext cx="1962000" cy="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7" name=""/>
            <p:cNvSpPr/>
            <p:nvPr/>
          </p:nvSpPr>
          <p:spPr>
            <a:xfrm>
              <a:off x="2598840" y="3017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88920" y="2408040"/>
              <a:ext cx="73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9" name=""/>
          <p:cNvSpPr/>
          <p:nvPr/>
        </p:nvSpPr>
        <p:spPr>
          <a:xfrm>
            <a:off x="4851360" y="1812960"/>
            <a:ext cx="41133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є адитивною величиною. Отже, момент інерції гантелі дорівнює сумі моментів інерції  двох куль та стерж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овуючи попередні результа-ти (дивись відповіді на завдання 4.2; 7.4) та теорему Гюйгенса-Штейнера (для знаходження моменту інерції кулі відносно вказаної осі обертання)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514440" y="3860640"/>
          <a:ext cx="8316720" cy="30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3860640"/>
                    <a:ext cx="83167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2" name=""/>
          <p:cNvSpPr/>
          <p:nvPr/>
        </p:nvSpPr>
        <p:spPr>
          <a:xfrm>
            <a:off x="5048280" y="4711680"/>
            <a:ext cx="3647880" cy="127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81000" y="758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0000" y="2119320"/>
            <a:ext cx="42840" cy="4659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01520" y="16081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44320" y="539280"/>
            <a:ext cx="84042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 Гюйгенса-Штейнера та попередні результати, </a:t>
            </a:r>
            <a:r>
              <a:rPr b="0" i="1" lang="uk-UA" sz="1600" spc="-1" strike="noStrike">
                <a:solidFill>
                  <a:srgbClr val="000000"/>
                </a:solidFill>
                <a:latin typeface="Comic Sans MS"/>
              </a:rPr>
              <a:t>усно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найдіть момент інерції зображеної на рисунку гантелі відносно заданої ос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Управляющая кнопка: домой 85">
            <a:hlinkClick r:id="rId5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500040" y="792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Box 30"/>
          <p:cNvSpPr/>
          <p:nvPr/>
        </p:nvSpPr>
        <p:spPr>
          <a:xfrm>
            <a:off x="320760" y="676440"/>
            <a:ext cx="855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У прямокутній декартовій системі координат, використовуюч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амість звичних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а також враховуючи відповідні позначення для    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745920" y="2025720"/>
            <a:ext cx="839772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99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пишемо вирази для     і      у прямокутній декартовій системі координ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користовуючи                   замість                і запропоновані  позначення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: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3490920" y="2325600"/>
                <a:ext cx="2253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3878280" y="2314440"/>
                <a:ext cx="2332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64" name=""/>
          <p:cNvGraphicFramePr/>
          <p:nvPr/>
        </p:nvGraphicFramePr>
        <p:xfrm>
          <a:off x="1177920" y="3459240"/>
          <a:ext cx="296712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3459240"/>
                    <a:ext cx="29671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6" name=""/>
          <p:cNvGraphicFramePr/>
          <p:nvPr/>
        </p:nvGraphicFramePr>
        <p:xfrm>
          <a:off x="4859280" y="3475080"/>
          <a:ext cx="29037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75080"/>
                    <a:ext cx="29037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8" name=""/>
          <p:cNvSpPr/>
          <p:nvPr/>
        </p:nvSpPr>
        <p:spPr>
          <a:xfrm>
            <a:off x="725400" y="4006800"/>
            <a:ext cx="85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ортонормованість базису                                                        отримаємо вираз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2948040" y="4448160"/>
          <a:ext cx="32076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8040" y="4448160"/>
                    <a:ext cx="320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1" name=""/>
          <p:cNvGraphicFramePr/>
          <p:nvPr/>
        </p:nvGraphicFramePr>
        <p:xfrm>
          <a:off x="3222720" y="6035760"/>
          <a:ext cx="25351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22720" y="6035760"/>
                    <a:ext cx="25351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3" name=""/>
          <p:cNvGraphicFramePr/>
          <p:nvPr/>
        </p:nvGraphicFramePr>
        <p:xfrm>
          <a:off x="2689200" y="4821120"/>
          <a:ext cx="386388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89200" y="4821120"/>
                    <a:ext cx="3863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5" name=""/>
          <p:cNvSpPr/>
          <p:nvPr/>
        </p:nvSpPr>
        <p:spPr>
          <a:xfrm>
            <a:off x="3425760" y="4821120"/>
            <a:ext cx="29512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6" name=""/>
          <p:cNvGraphicFramePr/>
          <p:nvPr/>
        </p:nvGraphicFramePr>
        <p:xfrm>
          <a:off x="4757760" y="3905280"/>
          <a:ext cx="3825720" cy="80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7760" y="3905280"/>
                    <a:ext cx="382572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8" name=""/>
          <p:cNvSpPr/>
          <p:nvPr/>
        </p:nvSpPr>
        <p:spPr>
          <a:xfrm>
            <a:off x="290520" y="5386320"/>
            <a:ext cx="891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алярний добуток двох векторів дорівнює сумі добутків їх відповідних коорди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повідн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211800" y="4809960"/>
            <a:ext cx="122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52520" y="2862360"/>
            <a:ext cx="42840" cy="3698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64960" y="23241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2" name="Object 87"/>
          <p:cNvGraphicFramePr/>
          <p:nvPr/>
        </p:nvGraphicFramePr>
        <p:xfrm>
          <a:off x="6621480" y="973080"/>
          <a:ext cx="208080" cy="30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3" name="Object 8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1480" y="973080"/>
                    <a:ext cx="2080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4" name=""/>
          <p:cNvSpPr/>
          <p:nvPr/>
        </p:nvSpPr>
        <p:spPr>
          <a:xfrm>
            <a:off x="3873600" y="6059520"/>
            <a:ext cx="17524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5" name="Object 8"/>
          <p:cNvGraphicFramePr/>
          <p:nvPr/>
        </p:nvGraphicFramePr>
        <p:xfrm>
          <a:off x="2746440" y="1347840"/>
          <a:ext cx="2174760" cy="49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86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6440" y="1347840"/>
                    <a:ext cx="2174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7" name="Object 16"/>
          <p:cNvGraphicFramePr/>
          <p:nvPr/>
        </p:nvGraphicFramePr>
        <p:xfrm>
          <a:off x="5197320" y="1344600"/>
          <a:ext cx="922320" cy="387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88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97320" y="1344600"/>
                    <a:ext cx="922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9" name="TextBox 77"/>
          <p:cNvSpPr/>
          <p:nvPr/>
        </p:nvSpPr>
        <p:spPr>
          <a:xfrm>
            <a:off x="4361040" y="1911240"/>
            <a:ext cx="26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скалярний добуток вектор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362400" y="1309680"/>
            <a:ext cx="939600" cy="55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368960" y="2060640"/>
            <a:ext cx="41040" cy="41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H="1" flipV="1">
            <a:off x="3887280" y="1871280"/>
            <a:ext cx="48132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4702320" y="131760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4" name=""/>
          <p:cNvGraphicFramePr/>
          <p:nvPr/>
        </p:nvGraphicFramePr>
        <p:xfrm>
          <a:off x="2544840" y="2735280"/>
          <a:ext cx="1028520" cy="38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44840" y="2735280"/>
                    <a:ext cx="1028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6" name=""/>
          <p:cNvGraphicFramePr/>
          <p:nvPr/>
        </p:nvGraphicFramePr>
        <p:xfrm>
          <a:off x="4392720" y="2698920"/>
          <a:ext cx="819000" cy="419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92720" y="2698920"/>
                    <a:ext cx="8190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8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/>
          <p:nvPr/>
        </p:nvSpPr>
        <p:spPr>
          <a:xfrm>
            <a:off x="5548320" y="2171880"/>
            <a:ext cx="254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3399"/>
                </a:solidFill>
                <a:latin typeface="Comic Sans MS"/>
              </a:rPr>
              <a:t>спеціально введений множник, який дорівнює одини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1" name="Object 9"/>
          <p:cNvGraphicFramePr/>
          <p:nvPr/>
        </p:nvGraphicFramePr>
        <p:xfrm>
          <a:off x="593640" y="550800"/>
          <a:ext cx="85186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0800"/>
                    <a:ext cx="85186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3" name=""/>
          <p:cNvGraphicFramePr/>
          <p:nvPr/>
        </p:nvGraphicFramePr>
        <p:xfrm>
          <a:off x="927000" y="4089240"/>
          <a:ext cx="7764480" cy="10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4089240"/>
                    <a:ext cx="7764480" cy="10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6" name=""/>
          <p:cNvGraphicFramePr/>
          <p:nvPr/>
        </p:nvGraphicFramePr>
        <p:xfrm>
          <a:off x="635040" y="5353200"/>
          <a:ext cx="223848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040" y="5353200"/>
                    <a:ext cx="22384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8" name="TextBox 91"/>
          <p:cNvSpPr/>
          <p:nvPr/>
        </p:nvSpPr>
        <p:spPr>
          <a:xfrm>
            <a:off x="677880" y="1266840"/>
            <a:ext cx="21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Отримайте вираз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77920" y="11271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0" name="Object 9"/>
          <p:cNvGraphicFramePr/>
          <p:nvPr/>
        </p:nvGraphicFramePr>
        <p:xfrm>
          <a:off x="2781360" y="1233360"/>
          <a:ext cx="2052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1360" y="1233360"/>
                    <a:ext cx="205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TextBox 91"/>
          <p:cNvSpPr/>
          <p:nvPr/>
        </p:nvSpPr>
        <p:spPr>
          <a:xfrm>
            <a:off x="4809960" y="1265400"/>
            <a:ext cx="235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у вигляді інтегралів ти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3" name="Object 14"/>
          <p:cNvGraphicFramePr/>
          <p:nvPr/>
        </p:nvGraphicFramePr>
        <p:xfrm>
          <a:off x="7080120" y="1144440"/>
          <a:ext cx="1738440" cy="62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0120" y="1144440"/>
                    <a:ext cx="17384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5" name=""/>
          <p:cNvGraphicFramePr/>
          <p:nvPr/>
        </p:nvGraphicFramePr>
        <p:xfrm>
          <a:off x="8085240" y="1824120"/>
          <a:ext cx="94752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85240" y="1824120"/>
                    <a:ext cx="947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7" name=""/>
          <p:cNvGraphicFramePr/>
          <p:nvPr/>
        </p:nvGraphicFramePr>
        <p:xfrm>
          <a:off x="1247760" y="2733840"/>
          <a:ext cx="7570800" cy="100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47760" y="2733840"/>
                    <a:ext cx="75708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9" name=""/>
          <p:cNvSpPr/>
          <p:nvPr/>
        </p:nvSpPr>
        <p:spPr>
          <a:xfrm>
            <a:off x="672840" y="1870200"/>
            <a:ext cx="75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очатку запишемо у потрібному для подальших перетворень вираз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76480" y="3675240"/>
            <a:ext cx="886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алі підставимо отриманий результат у формулу для моменту інерції тіла відносно осі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1" name=""/>
          <p:cNvGraphicFramePr/>
          <p:nvPr/>
        </p:nvGraphicFramePr>
        <p:xfrm>
          <a:off x="3171960" y="5383080"/>
          <a:ext cx="2168280" cy="513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71960" y="5383080"/>
                    <a:ext cx="21682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3" name=""/>
          <p:cNvGraphicFramePr/>
          <p:nvPr/>
        </p:nvGraphicFramePr>
        <p:xfrm>
          <a:off x="5759280" y="5361120"/>
          <a:ext cx="2284560" cy="53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59280" y="5361120"/>
                    <a:ext cx="22845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5" name=""/>
          <p:cNvGraphicFramePr/>
          <p:nvPr/>
        </p:nvGraphicFramePr>
        <p:xfrm>
          <a:off x="3127320" y="5965920"/>
          <a:ext cx="2184480" cy="485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7320" y="5965920"/>
                    <a:ext cx="2184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"/>
          <p:cNvGraphicFramePr/>
          <p:nvPr/>
        </p:nvGraphicFramePr>
        <p:xfrm>
          <a:off x="5756400" y="5952960"/>
          <a:ext cx="2019240" cy="52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56400" y="5952960"/>
                    <a:ext cx="20192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9" name=""/>
          <p:cNvSpPr/>
          <p:nvPr/>
        </p:nvSpPr>
        <p:spPr>
          <a:xfrm>
            <a:off x="558360" y="501804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0" name=""/>
          <p:cNvGraphicFramePr/>
          <p:nvPr/>
        </p:nvGraphicFramePr>
        <p:xfrm>
          <a:off x="608040" y="5938920"/>
          <a:ext cx="2070000" cy="512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8040" y="5938920"/>
                    <a:ext cx="20700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2" name=""/>
          <p:cNvSpPr/>
          <p:nvPr/>
        </p:nvSpPr>
        <p:spPr>
          <a:xfrm>
            <a:off x="254160" y="2462040"/>
            <a:ext cx="42840" cy="39052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6600" y="192420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05160" y="230976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увавши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2344680" y="2085840"/>
          <a:ext cx="992160" cy="731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44680" y="2085840"/>
                    <a:ext cx="9921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7" name=""/>
          <p:cNvSpPr/>
          <p:nvPr/>
        </p:nvSpPr>
        <p:spPr>
          <a:xfrm rot="16200000">
            <a:off x="4914000" y="2017800"/>
            <a:ext cx="152280" cy="1322640"/>
          </a:xfrm>
          <a:custGeom>
            <a:avLst/>
            <a:gdLst>
              <a:gd name="textAreaLeft" fmla="*/ 0 w 152280"/>
              <a:gd name="textAreaRight" fmla="*/ 55080 w 152280"/>
              <a:gd name="textAreaTop" fmla="*/ 34200 h 1322640"/>
              <a:gd name="textAreaBottom" fmla="*/ 1288440 h 132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4995720" y="2328840"/>
            <a:ext cx="574920" cy="254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70640" y="2298600"/>
            <a:ext cx="36360" cy="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38200" y="5338800"/>
            <a:ext cx="7469280" cy="1104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8085240" y="633240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496440" y="2786040"/>
            <a:ext cx="63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з урахуванням цього запишемо вирази для</a:t>
            </a:r>
            <a:r>
              <a:rPr b="0" lang="uk-UA" sz="16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797040" y="4772160"/>
            <a:ext cx="817236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рівнявши отримані вирази із наведеними на попередньому слайді, бачим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вони співпадають. Зрозуміло, що і для інших значень    та    загальний вираз для       можна записати у запропонованому вигляд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-19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6" name=""/>
          <p:cNvGraphicFramePr/>
          <p:nvPr/>
        </p:nvGraphicFramePr>
        <p:xfrm>
          <a:off x="3808440" y="1913040"/>
          <a:ext cx="179712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440" y="1913040"/>
                    <a:ext cx="179712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8" name=""/>
          <p:cNvGraphicFramePr/>
          <p:nvPr/>
        </p:nvGraphicFramePr>
        <p:xfrm>
          <a:off x="5029200" y="2779560"/>
          <a:ext cx="144288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779560"/>
                    <a:ext cx="14428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0" name=""/>
          <p:cNvGraphicFramePr/>
          <p:nvPr/>
        </p:nvGraphicFramePr>
        <p:xfrm>
          <a:off x="6853320" y="2774880"/>
          <a:ext cx="220824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3320" y="2774880"/>
                    <a:ext cx="22082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"/>
          <p:cNvGraphicFramePr/>
          <p:nvPr/>
        </p:nvGraphicFramePr>
        <p:xfrm>
          <a:off x="6541920" y="5200560"/>
          <a:ext cx="154080" cy="26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41920" y="5200560"/>
                    <a:ext cx="1540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"/>
          <p:cNvGraphicFramePr/>
          <p:nvPr/>
        </p:nvGraphicFramePr>
        <p:xfrm>
          <a:off x="1176480" y="3316320"/>
          <a:ext cx="7127640" cy="52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6480" y="3316320"/>
                    <a:ext cx="7127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6" name=""/>
          <p:cNvGraphicFramePr/>
          <p:nvPr/>
        </p:nvGraphicFramePr>
        <p:xfrm>
          <a:off x="2211480" y="3976560"/>
          <a:ext cx="4545000" cy="52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11480" y="3976560"/>
                    <a:ext cx="45450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1312920" y="5452920"/>
                <a:ext cx="291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9" name="TextBox 93"/>
          <p:cNvSpPr/>
          <p:nvPr/>
        </p:nvSpPr>
        <p:spPr>
          <a:xfrm>
            <a:off x="806400" y="914400"/>
            <a:ext cx="582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загальний вираз для       можна записати у вигля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е      — символ Кронек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0" name="Object 87"/>
          <p:cNvGraphicFramePr/>
          <p:nvPr/>
        </p:nvGraphicFramePr>
        <p:xfrm>
          <a:off x="3862440" y="938160"/>
          <a:ext cx="26352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1" name="Object 8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62440" y="938160"/>
                    <a:ext cx="2635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2" name=""/>
          <p:cNvSpPr/>
          <p:nvPr/>
        </p:nvSpPr>
        <p:spPr>
          <a:xfrm>
            <a:off x="403200" y="984240"/>
            <a:ext cx="390600" cy="531720"/>
          </a:xfrm>
          <a:custGeom>
            <a:avLst/>
            <a:gdLst>
              <a:gd name="textAreaLeft" fmla="*/ 25200 w 390600"/>
              <a:gd name="textAreaRight" fmla="*/ 365400 w 390600"/>
              <a:gd name="textAreaTop" fmla="*/ 25200 h 531720"/>
              <a:gd name="textAreaBottom" fmla="*/ 506520 h 531720"/>
            </a:gdLst>
            <a:ahLst/>
            <a:rect l="textAreaLeft" t="textAreaTop" r="textAreaRight" b="textAreaBottom"/>
            <a:pathLst>
              <a:path w="21600" h="29397">
                <a:moveTo>
                  <a:pt x="0" y="0"/>
                </a:moveTo>
                <a:lnTo>
                  <a:pt x="21600" y="0"/>
                </a:lnTo>
                <a:lnTo>
                  <a:pt x="21600" y="29397"/>
                </a:lnTo>
                <a:lnTo>
                  <a:pt x="0" y="29397"/>
                </a:lnTo>
                <a:close/>
              </a:path>
              <a:path fill="lightenLess" w="21600" h="293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97">
                <a:moveTo>
                  <a:pt x="21600" y="0"/>
                </a:moveTo>
                <a:lnTo>
                  <a:pt x="21600" y="29397"/>
                </a:lnTo>
                <a:lnTo>
                  <a:pt x="20200" y="27997"/>
                </a:lnTo>
                <a:lnTo>
                  <a:pt x="20200" y="1400"/>
                </a:lnTo>
                <a:close/>
              </a:path>
              <a:path fill="darkenLess" w="21600" h="29397">
                <a:moveTo>
                  <a:pt x="21600" y="29397"/>
                </a:moveTo>
                <a:lnTo>
                  <a:pt x="0" y="29397"/>
                </a:lnTo>
                <a:lnTo>
                  <a:pt x="1400" y="27997"/>
                </a:lnTo>
                <a:lnTo>
                  <a:pt x="20200" y="27997"/>
                </a:lnTo>
                <a:close/>
              </a:path>
              <a:path fill="lighten" w="21600" h="29397">
                <a:moveTo>
                  <a:pt x="0" y="293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97"/>
                </a:lnTo>
                <a:close/>
              </a:path>
              <a:path fill="darken" w="21600" h="29397">
                <a:moveTo>
                  <a:pt x="10800" y="1870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397">
                <a:moveTo>
                  <a:pt x="11905" y="18180"/>
                </a:moveTo>
                <a:lnTo>
                  <a:pt x="11905" y="16221"/>
                </a:lnTo>
                <a:cubicBezTo>
                  <a:pt x="11905" y="15395"/>
                  <a:pt x="12236" y="14698"/>
                  <a:pt x="12837" y="14698"/>
                </a:cubicBezTo>
                <a:cubicBezTo>
                  <a:pt x="13968" y="14698"/>
                  <a:pt x="14865" y="13332"/>
                  <a:pt x="14865" y="11748"/>
                </a:cubicBezTo>
                <a:cubicBezTo>
                  <a:pt x="14865" y="9433"/>
                  <a:pt x="13011" y="7692"/>
                  <a:pt x="10800" y="7692"/>
                </a:cubicBezTo>
                <a:cubicBezTo>
                  <a:pt x="8589" y="7692"/>
                  <a:pt x="6918" y="9433"/>
                  <a:pt x="6918" y="11748"/>
                </a:cubicBezTo>
                <a:lnTo>
                  <a:pt x="8772" y="11748"/>
                </a:lnTo>
                <a:cubicBezTo>
                  <a:pt x="8772" y="10608"/>
                  <a:pt x="9695" y="9720"/>
                  <a:pt x="10800" y="9720"/>
                </a:cubicBezTo>
                <a:cubicBezTo>
                  <a:pt x="11905" y="9720"/>
                  <a:pt x="12837" y="10608"/>
                  <a:pt x="12837" y="11748"/>
                </a:cubicBezTo>
                <a:cubicBezTo>
                  <a:pt x="12837" y="12488"/>
                  <a:pt x="12367" y="13219"/>
                  <a:pt x="11905" y="13219"/>
                </a:cubicBezTo>
                <a:cubicBezTo>
                  <a:pt x="10800" y="13219"/>
                  <a:pt x="9695" y="14698"/>
                  <a:pt x="9695" y="16221"/>
                </a:cubicBezTo>
                <a:lnTo>
                  <a:pt x="9695" y="181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3" name="Object 14"/>
          <p:cNvGraphicFramePr/>
          <p:nvPr/>
        </p:nvGraphicFramePr>
        <p:xfrm>
          <a:off x="6469200" y="878040"/>
          <a:ext cx="2463840" cy="647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4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69200" y="878040"/>
                    <a:ext cx="2463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5" name="Object 14"/>
          <p:cNvGraphicFramePr/>
          <p:nvPr/>
        </p:nvGraphicFramePr>
        <p:xfrm>
          <a:off x="1109520" y="1231920"/>
          <a:ext cx="282600" cy="371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66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09520" y="1231920"/>
                    <a:ext cx="2826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7" name=""/>
          <p:cNvSpPr/>
          <p:nvPr/>
        </p:nvSpPr>
        <p:spPr>
          <a:xfrm>
            <a:off x="2149560" y="2120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означення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8" name=""/>
          <p:cNvGraphicFramePr/>
          <p:nvPr/>
        </p:nvGraphicFramePr>
        <p:xfrm>
          <a:off x="6961320" y="5192640"/>
          <a:ext cx="201600" cy="31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61320" y="5192640"/>
                    <a:ext cx="20160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0" name=""/>
          <p:cNvSpPr/>
          <p:nvPr/>
        </p:nvSpPr>
        <p:spPr>
          <a:xfrm>
            <a:off x="382680" y="2506680"/>
            <a:ext cx="42840" cy="3322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95120" y="19684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86600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696960" y="1646280"/>
            <a:ext cx="59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очатку виконаємо множення матриці на стовпец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6" name=""/>
          <p:cNvGraphicFramePr/>
          <p:nvPr/>
        </p:nvGraphicFramePr>
        <p:xfrm>
          <a:off x="2660760" y="2017800"/>
          <a:ext cx="4300560" cy="12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2017800"/>
                    <a:ext cx="430056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8" name=""/>
          <p:cNvGraphicFramePr/>
          <p:nvPr/>
        </p:nvGraphicFramePr>
        <p:xfrm>
          <a:off x="412920" y="3659040"/>
          <a:ext cx="850716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3659040"/>
                    <a:ext cx="850716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"/>
          <p:cNvSpPr/>
          <p:nvPr/>
        </p:nvSpPr>
        <p:spPr>
          <a:xfrm>
            <a:off x="466560" y="5494320"/>
            <a:ext cx="865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симетричність тензора інерції                    , спростимо останній вираз і запишемо кінцевий результат у потрібному вигляді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812880" y="6107040"/>
          <a:ext cx="71848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2880" y="6107040"/>
                    <a:ext cx="71848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3" name="TextBox 28"/>
          <p:cNvSpPr/>
          <p:nvPr/>
        </p:nvSpPr>
        <p:spPr>
          <a:xfrm>
            <a:off x="771480" y="752400"/>
            <a:ext cx="821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еревірте, що вираз для      , наведений на попередньому основному слайді, може бути поданий я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41280" y="9018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5" name="Object 3"/>
          <p:cNvGraphicFramePr/>
          <p:nvPr/>
        </p:nvGraphicFramePr>
        <p:xfrm>
          <a:off x="3497400" y="838080"/>
          <a:ext cx="30780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7400" y="838080"/>
                    <a:ext cx="3078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7" name=""/>
          <p:cNvSpPr/>
          <p:nvPr/>
        </p:nvSpPr>
        <p:spPr>
          <a:xfrm>
            <a:off x="736560" y="3344760"/>
            <a:ext cx="50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епер рядок помножимо на отриманий стовпец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1517760" y="5408640"/>
            <a:ext cx="61884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500280" y="5416560"/>
            <a:ext cx="619200" cy="0"/>
          </a:xfrm>
          <a:prstGeom prst="line">
            <a:avLst/>
          </a:prstGeom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506680" y="541008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335640" y="546264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327640" y="5443560"/>
            <a:ext cx="619200" cy="0"/>
          </a:xfrm>
          <a:prstGeom prst="line">
            <a:avLst/>
          </a:prstGeom>
          <a:ln w="1584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7321680" y="5429160"/>
            <a:ext cx="618840" cy="0"/>
          </a:xfrm>
          <a:prstGeom prst="line">
            <a:avLst/>
          </a:prstGeom>
          <a:ln w="1584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503440" y="546264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6335640" y="5413320"/>
            <a:ext cx="619200" cy="0"/>
          </a:xfrm>
          <a:prstGeom prst="line">
            <a:avLst/>
          </a:prstGeom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01680" y="2197080"/>
            <a:ext cx="42840" cy="42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14480" y="1658880"/>
            <a:ext cx="420480" cy="4604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51">
                <a:moveTo>
                  <a:pt x="0" y="0"/>
                </a:moveTo>
                <a:lnTo>
                  <a:pt x="21600" y="0"/>
                </a:lnTo>
                <a:lnTo>
                  <a:pt x="21600" y="23651"/>
                </a:lnTo>
                <a:lnTo>
                  <a:pt x="0" y="23651"/>
                </a:lnTo>
                <a:close/>
              </a:path>
              <a:path fill="lightenLess" w="21600" h="23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51">
                <a:moveTo>
                  <a:pt x="21600" y="0"/>
                </a:moveTo>
                <a:lnTo>
                  <a:pt x="21600" y="23651"/>
                </a:lnTo>
                <a:lnTo>
                  <a:pt x="20200" y="22251"/>
                </a:lnTo>
                <a:lnTo>
                  <a:pt x="20200" y="1400"/>
                </a:lnTo>
                <a:close/>
              </a:path>
              <a:path fill="darkenLess" w="21600" h="23651">
                <a:moveTo>
                  <a:pt x="21600" y="23651"/>
                </a:moveTo>
                <a:lnTo>
                  <a:pt x="0" y="23651"/>
                </a:lnTo>
                <a:lnTo>
                  <a:pt x="1400" y="22251"/>
                </a:lnTo>
                <a:lnTo>
                  <a:pt x="20200" y="22251"/>
                </a:lnTo>
                <a:close/>
              </a:path>
              <a:path fill="lighten" w="21600" h="23651">
                <a:moveTo>
                  <a:pt x="0" y="23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51"/>
                </a:lnTo>
                <a:close/>
              </a:path>
              <a:path fill="darken" w="21600" h="23651">
                <a:moveTo>
                  <a:pt x="10800" y="481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51">
                <a:moveTo>
                  <a:pt x="10800" y="519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51">
                <a:moveTo>
                  <a:pt x="8224" y="9249"/>
                </a:moveTo>
                <a:lnTo>
                  <a:pt x="12088" y="9249"/>
                </a:lnTo>
                <a:lnTo>
                  <a:pt x="12088" y="16247"/>
                </a:lnTo>
                <a:lnTo>
                  <a:pt x="13376" y="16247"/>
                </a:lnTo>
                <a:lnTo>
                  <a:pt x="13376" y="17170"/>
                </a:lnTo>
                <a:lnTo>
                  <a:pt x="8224" y="17170"/>
                </a:lnTo>
                <a:lnTo>
                  <a:pt x="8224" y="16247"/>
                </a:lnTo>
                <a:lnTo>
                  <a:pt x="9512" y="16247"/>
                </a:lnTo>
                <a:lnTo>
                  <a:pt x="9512" y="10154"/>
                </a:lnTo>
                <a:lnTo>
                  <a:pt x="8224" y="1015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8" name="Object 3"/>
          <p:cNvGraphicFramePr/>
          <p:nvPr/>
        </p:nvGraphicFramePr>
        <p:xfrm>
          <a:off x="3106800" y="1206360"/>
          <a:ext cx="59508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6800" y="1206360"/>
                    <a:ext cx="595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0" name=""/>
          <p:cNvSpPr/>
          <p:nvPr/>
        </p:nvSpPr>
        <p:spPr>
          <a:xfrm>
            <a:off x="3236760" y="105264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1" name="Object 3"/>
          <p:cNvGraphicFramePr/>
          <p:nvPr/>
        </p:nvGraphicFramePr>
        <p:xfrm>
          <a:off x="4989600" y="5433840"/>
          <a:ext cx="116496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2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9600" y="5433840"/>
                    <a:ext cx="1164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/>
          <p:nvPr/>
        </p:nvSpPr>
        <p:spPr>
          <a:xfrm>
            <a:off x="2842560" y="297648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оділивши обидві частини рівнянн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Box 29"/>
          <p:cNvSpPr/>
          <p:nvPr/>
        </p:nvSpPr>
        <p:spPr>
          <a:xfrm>
            <a:off x="992160" y="722160"/>
            <a:ext cx="804708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“відстань”                            від початку координат до точки, на положення якої на цій поверхні вказує орт     (тобто                        ), буде дорівнювати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41360" y="-22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61960" y="866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9" name="Object 3"/>
          <p:cNvGraphicFramePr/>
          <p:nvPr/>
        </p:nvGraphicFramePr>
        <p:xfrm>
          <a:off x="3359160" y="1255680"/>
          <a:ext cx="24912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1255680"/>
                    <a:ext cx="249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1" name="Object 3"/>
          <p:cNvGraphicFramePr/>
          <p:nvPr/>
        </p:nvGraphicFramePr>
        <p:xfrm>
          <a:off x="3143160" y="782640"/>
          <a:ext cx="13194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782640"/>
                    <a:ext cx="13194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3" name="Object 3"/>
          <p:cNvGraphicFramePr/>
          <p:nvPr/>
        </p:nvGraphicFramePr>
        <p:xfrm>
          <a:off x="7118280" y="1197000"/>
          <a:ext cx="71928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8280" y="1197000"/>
                    <a:ext cx="719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5" name="Object 3"/>
          <p:cNvGraphicFramePr/>
          <p:nvPr/>
        </p:nvGraphicFramePr>
        <p:xfrm>
          <a:off x="4160880" y="1101600"/>
          <a:ext cx="12002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0880" y="1101600"/>
                    <a:ext cx="1200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7" name=""/>
          <p:cNvGraphicFramePr/>
          <p:nvPr/>
        </p:nvGraphicFramePr>
        <p:xfrm>
          <a:off x="6853320" y="2970360"/>
          <a:ext cx="33012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3320" y="2970360"/>
                    <a:ext cx="3301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9" name=""/>
          <p:cNvGraphicFramePr/>
          <p:nvPr/>
        </p:nvGraphicFramePr>
        <p:xfrm>
          <a:off x="915840" y="2712960"/>
          <a:ext cx="2033640" cy="8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5840" y="2712960"/>
                    <a:ext cx="2033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1" name=""/>
          <p:cNvSpPr/>
          <p:nvPr/>
        </p:nvSpPr>
        <p:spPr>
          <a:xfrm>
            <a:off x="489600" y="2295360"/>
            <a:ext cx="86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ираз для моменту інерції                                   можна привести до потрібного вигля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2182680" y="3639960"/>
          <a:ext cx="121464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82680" y="3639960"/>
                    <a:ext cx="1214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"/>
          <p:cNvGraphicFramePr/>
          <p:nvPr/>
        </p:nvGraphicFramePr>
        <p:xfrm>
          <a:off x="3629160" y="3629160"/>
          <a:ext cx="126684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29160" y="3629160"/>
                    <a:ext cx="1266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6" name=""/>
          <p:cNvGraphicFramePr/>
          <p:nvPr/>
        </p:nvGraphicFramePr>
        <p:xfrm>
          <a:off x="5091120" y="3643200"/>
          <a:ext cx="1227240" cy="393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91120" y="3643200"/>
                    <a:ext cx="1227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8" name=""/>
          <p:cNvSpPr/>
          <p:nvPr/>
        </p:nvSpPr>
        <p:spPr>
          <a:xfrm>
            <a:off x="7081920" y="2973240"/>
            <a:ext cx="19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вводячи заміни: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12280" y="424008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найдемо шукану “відстань”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1390680" y="4751280"/>
          <a:ext cx="6396120" cy="95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90680" y="4751280"/>
                    <a:ext cx="63961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3141720" y="2075040"/>
                <a:ext cx="20905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230040" y="2824200"/>
            <a:ext cx="51120" cy="3259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0760" y="2146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70160" y="5718240"/>
            <a:ext cx="41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верніть увагу на розмірність “відстані”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Управляющая кнопка: домой 85">
            <a:hlinkClick r:id="rId2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1087560" y="85716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54120" y="912960"/>
            <a:ext cx="699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Доведіть, що поверхня, про яку йшлося, є </a:t>
            </a:r>
            <a:r>
              <a:rPr b="1" lang="uk-UA" sz="1400" spc="-1" strike="noStrike">
                <a:solidFill>
                  <a:srgbClr val="000000"/>
                </a:solidFill>
                <a:latin typeface="Comic Sans MS"/>
              </a:rPr>
              <a:t>еліпсоїдом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, центр якого співпадає з початком координ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41360" y="-7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1" name=""/>
          <p:cNvGraphicFramePr/>
          <p:nvPr/>
        </p:nvGraphicFramePr>
        <p:xfrm>
          <a:off x="946080" y="2583000"/>
          <a:ext cx="7797960" cy="43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6080" y="2583000"/>
                    <a:ext cx="7797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3" name=""/>
          <p:cNvSpPr/>
          <p:nvPr/>
        </p:nvSpPr>
        <p:spPr>
          <a:xfrm>
            <a:off x="534960" y="192708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 було доведено раніше, формулу для моменту інерції можна унаочнити за допомогою поверхні другого поряд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39560" y="3119400"/>
            <a:ext cx="8602920" cy="22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стань” від початку координат до точки на цій поверхні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я відстань обмежена. Серед поверхонь другого порядку обмежені лише еліпсоїди. Тобто наочною інтерпретацією тензора інерції є еліпсоїд інерції. У випадку наявності такого напрямку, для якого              (уздовж тонкого стержня), еліпсоїд вироджується в цилін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5" name=""/>
          <p:cNvGraphicFramePr/>
          <p:nvPr/>
        </p:nvGraphicFramePr>
        <p:xfrm>
          <a:off x="6513480" y="3084480"/>
          <a:ext cx="234648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3480" y="3084480"/>
                    <a:ext cx="2346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7" name=""/>
          <p:cNvSpPr/>
          <p:nvPr/>
        </p:nvSpPr>
        <p:spPr>
          <a:xfrm>
            <a:off x="334800" y="2457360"/>
            <a:ext cx="43200" cy="2854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47600" y="193032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9" name=""/>
          <p:cNvGraphicFramePr/>
          <p:nvPr/>
        </p:nvGraphicFramePr>
        <p:xfrm>
          <a:off x="3240000" y="4665600"/>
          <a:ext cx="798480" cy="3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0" y="4665600"/>
                    <a:ext cx="7984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1" name="Управляющая кнопка: домой 85">
            <a:hlinkClick r:id="rId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/>
          <p:nvPr/>
        </p:nvSpPr>
        <p:spPr>
          <a:xfrm flipH="1" flipV="1">
            <a:off x="692280" y="1498680"/>
            <a:ext cx="474480" cy="11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1195560" y="2284200"/>
            <a:ext cx="1056960" cy="44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Box 29"/>
          <p:cNvSpPr/>
          <p:nvPr/>
        </p:nvSpPr>
        <p:spPr>
          <a:xfrm>
            <a:off x="590400" y="3344760"/>
            <a:ext cx="8553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ож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зрозуміло, що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цієї пластини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раній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истемі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усі інші компоненти тензор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нерції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дцентрові моменти)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орівнюватимуть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улю.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значимо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                (див. рис.) називають напрямними косинусами, бо вони є косинусами кутів між вектором      і ортами системи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             відповід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система координат обрана так, як показано на рисунку,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671400" y="5796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Box 29"/>
          <p:cNvSpPr/>
          <p:nvPr/>
        </p:nvSpPr>
        <p:spPr>
          <a:xfrm>
            <a:off x="1146240" y="547560"/>
            <a:ext cx="811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Користуючись поняттям еліпсоїда інерції та міркуваннями симетрії обчисліть момент інерції тонкої круглої пластини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) відносно осі, що проходить через її центр і утворює кут     з нормаллю до площини пласт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8" name="Object 3"/>
          <p:cNvGraphicFramePr/>
          <p:nvPr/>
        </p:nvGraphicFramePr>
        <p:xfrm>
          <a:off x="1538280" y="1085760"/>
          <a:ext cx="198360" cy="2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1085760"/>
                    <a:ext cx="19836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23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1" name="Object 3"/>
          <p:cNvGraphicFramePr/>
          <p:nvPr/>
        </p:nvGraphicFramePr>
        <p:xfrm>
          <a:off x="1035000" y="2239920"/>
          <a:ext cx="17784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5000" y="2239920"/>
                    <a:ext cx="177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3" name=""/>
          <p:cNvSpPr/>
          <p:nvPr/>
        </p:nvSpPr>
        <p:spPr>
          <a:xfrm rot="20437200">
            <a:off x="1069920" y="2639880"/>
            <a:ext cx="98640" cy="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>
            <a:off x="1803240" y="1925640"/>
            <a:ext cx="3351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119320" y="190512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187280" y="1611360"/>
            <a:ext cx="0" cy="16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463680" y="2415960"/>
            <a:ext cx="1469880" cy="63468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082520" y="1677960"/>
            <a:ext cx="219240" cy="266760"/>
          </a:xfrm>
          <a:custGeom>
            <a:avLst/>
            <a:gdLst>
              <a:gd name="textAreaLeft" fmla="*/ 29160 w 219240"/>
              <a:gd name="textAreaRight" fmla="*/ 190080 w 2192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187280" y="1649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 flipV="1">
            <a:off x="1010880" y="2290320"/>
            <a:ext cx="16020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638360" y="2550960"/>
            <a:ext cx="5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,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Box 29"/>
          <p:cNvSpPr/>
          <p:nvPr/>
        </p:nvSpPr>
        <p:spPr>
          <a:xfrm>
            <a:off x="1963800" y="1785960"/>
            <a:ext cx="21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онка кругла пластина (вигляд збо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093680" y="2408400"/>
            <a:ext cx="84240" cy="91800"/>
          </a:xfrm>
          <a:custGeom>
            <a:avLst/>
            <a:gdLst/>
            <a:ahLst/>
            <a:rect l="l" t="t" r="r" b="b"/>
            <a:pathLst>
              <a:path w="53" h="58">
                <a:moveTo>
                  <a:pt x="0" y="58"/>
                </a:moveTo>
                <a:cubicBezTo>
                  <a:pt x="2" y="45"/>
                  <a:pt x="0" y="32"/>
                  <a:pt x="5" y="20"/>
                </a:cubicBezTo>
                <a:cubicBezTo>
                  <a:pt x="11" y="6"/>
                  <a:pt x="53" y="0"/>
                  <a:pt x="53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Box 29"/>
          <p:cNvSpPr/>
          <p:nvPr/>
        </p:nvSpPr>
        <p:spPr>
          <a:xfrm>
            <a:off x="4000680" y="1565280"/>
            <a:ext cx="517680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чаток координат обрати у центрі мас пластини, а віс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спрямувати вздовж вектора нормалі, то моменти інерції відносно координатних осей буде нескладно знайт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5" name="Object 3"/>
          <p:cNvGraphicFramePr/>
          <p:nvPr/>
        </p:nvGraphicFramePr>
        <p:xfrm>
          <a:off x="4835520" y="2746440"/>
          <a:ext cx="1014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35520" y="2746440"/>
                    <a:ext cx="1014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7" name="Object 3"/>
          <p:cNvGraphicFramePr/>
          <p:nvPr/>
        </p:nvGraphicFramePr>
        <p:xfrm>
          <a:off x="5994360" y="2749680"/>
          <a:ext cx="136836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94360" y="2749680"/>
                    <a:ext cx="1368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9" name="Object 3"/>
          <p:cNvGraphicFramePr/>
          <p:nvPr/>
        </p:nvGraphicFramePr>
        <p:xfrm>
          <a:off x="2173320" y="2295360"/>
          <a:ext cx="228600" cy="24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0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73320" y="229536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1" name="TextBox 29"/>
          <p:cNvSpPr/>
          <p:nvPr/>
        </p:nvSpPr>
        <p:spPr>
          <a:xfrm>
            <a:off x="568440" y="558180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2" name=""/>
          <p:cNvGraphicFramePr/>
          <p:nvPr/>
        </p:nvGraphicFramePr>
        <p:xfrm>
          <a:off x="693720" y="5762520"/>
          <a:ext cx="7096320" cy="68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720" y="5762520"/>
                    <a:ext cx="70963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Object 3"/>
          <p:cNvGraphicFramePr/>
          <p:nvPr/>
        </p:nvGraphicFramePr>
        <p:xfrm>
          <a:off x="555480" y="1512720"/>
          <a:ext cx="228600" cy="24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5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5480" y="1512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6" name=""/>
          <p:cNvSpPr/>
          <p:nvPr/>
        </p:nvSpPr>
        <p:spPr>
          <a:xfrm flipV="1">
            <a:off x="984240" y="2128320"/>
            <a:ext cx="219240" cy="95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1185840" y="2087640"/>
            <a:ext cx="0" cy="61128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 flipV="1">
            <a:off x="1193760" y="2136240"/>
            <a:ext cx="185760" cy="490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9" name="Object 3"/>
          <p:cNvGraphicFramePr/>
          <p:nvPr/>
        </p:nvGraphicFramePr>
        <p:xfrm>
          <a:off x="1212840" y="1982880"/>
          <a:ext cx="18252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0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2840" y="1982880"/>
                    <a:ext cx="1825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1" name=""/>
          <p:cNvSpPr/>
          <p:nvPr/>
        </p:nvSpPr>
        <p:spPr>
          <a:xfrm>
            <a:off x="5952960" y="5776920"/>
            <a:ext cx="1708200" cy="66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2" name=""/>
          <p:cNvGraphicFramePr/>
          <p:nvPr/>
        </p:nvGraphicFramePr>
        <p:xfrm>
          <a:off x="2389320" y="4146480"/>
          <a:ext cx="709560" cy="358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89320" y="4146480"/>
                    <a:ext cx="7095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4" name=""/>
          <p:cNvGraphicFramePr/>
          <p:nvPr/>
        </p:nvGraphicFramePr>
        <p:xfrm>
          <a:off x="3827520" y="4565520"/>
          <a:ext cx="14436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27520" y="4565520"/>
                    <a:ext cx="1443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6" name=""/>
          <p:cNvGraphicFramePr/>
          <p:nvPr/>
        </p:nvGraphicFramePr>
        <p:xfrm>
          <a:off x="7023240" y="4522680"/>
          <a:ext cx="695160" cy="358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23240" y="4522680"/>
                    <a:ext cx="6951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8" name=""/>
          <p:cNvGraphicFramePr/>
          <p:nvPr/>
        </p:nvGraphicFramePr>
        <p:xfrm>
          <a:off x="3548160" y="5264280"/>
          <a:ext cx="2493720" cy="363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48160" y="5264280"/>
                    <a:ext cx="249372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0" name=""/>
          <p:cNvSpPr/>
          <p:nvPr/>
        </p:nvSpPr>
        <p:spPr>
          <a:xfrm>
            <a:off x="276120" y="1941480"/>
            <a:ext cx="42840" cy="4524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88920" y="14032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Управляющая кнопка: домой 85">
            <a:hlinkClick r:id="rId25" action="ppaction://hlinksldjump"/>
          </p:cNvPr>
          <p:cNvSpPr/>
          <p:nvPr/>
        </p:nvSpPr>
        <p:spPr>
          <a:xfrm>
            <a:off x="98280" y="684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47840" y="-1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43000" y="10476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95160" y="1384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що вісь обертання проходить через початок координат, а її напрямок задається одиничним вектором  , що співпадає за напрямком з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, то скорочений запис виразу для кінетичної енергії має вигля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7" name="Object 4"/>
          <p:cNvGraphicFramePr/>
          <p:nvPr/>
        </p:nvGraphicFramePr>
        <p:xfrm>
          <a:off x="2706840" y="2173320"/>
          <a:ext cx="137772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6840" y="2173320"/>
                    <a:ext cx="1377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9" name=""/>
          <p:cNvSpPr/>
          <p:nvPr/>
        </p:nvSpPr>
        <p:spPr>
          <a:xfrm>
            <a:off x="709560" y="1087560"/>
            <a:ext cx="29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твердже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3597120" y="217656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1" name="Object 4"/>
          <p:cNvGraphicFramePr/>
          <p:nvPr/>
        </p:nvGraphicFramePr>
        <p:xfrm>
          <a:off x="3456000" y="2665440"/>
          <a:ext cx="37209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6000" y="2665440"/>
                    <a:ext cx="3720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3" name="Object 4"/>
          <p:cNvGraphicFramePr/>
          <p:nvPr/>
        </p:nvGraphicFramePr>
        <p:xfrm>
          <a:off x="7943760" y="1641600"/>
          <a:ext cx="25560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43760" y="1641600"/>
                    <a:ext cx="255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5" name="Object 4"/>
          <p:cNvGraphicFramePr/>
          <p:nvPr/>
        </p:nvGraphicFramePr>
        <p:xfrm>
          <a:off x="4122720" y="1650960"/>
          <a:ext cx="217440" cy="2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22720" y="1650960"/>
                    <a:ext cx="21744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7" name=""/>
          <p:cNvSpPr/>
          <p:nvPr/>
        </p:nvSpPr>
        <p:spPr>
          <a:xfrm>
            <a:off x="5691240" y="2679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1022400" y="2849400"/>
            <a:ext cx="25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Скористайтеся таким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79360" y="4191120"/>
            <a:ext cx="42840" cy="1369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01520" y="36590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23880" y="3789360"/>
            <a:ext cx="80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 наведені вище формули, отриму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2" name="Object 4"/>
          <p:cNvGraphicFramePr/>
          <p:nvPr/>
        </p:nvGraphicFramePr>
        <p:xfrm>
          <a:off x="1063800" y="4253040"/>
          <a:ext cx="6997680" cy="73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3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3800" y="4253040"/>
                    <a:ext cx="69976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4" name=""/>
          <p:cNvSpPr/>
          <p:nvPr/>
        </p:nvSpPr>
        <p:spPr>
          <a:xfrm>
            <a:off x="3268800" y="4287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788080" y="42926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7493040" y="43020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06440" y="5186520"/>
            <a:ext cx="30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 і потрібно було дове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Управляющая кнопка: домой 85">
            <a:hlinkClick r:id="rId1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"/>
          <p:cNvSpPr/>
          <p:nvPr/>
        </p:nvSpPr>
        <p:spPr>
          <a:xfrm>
            <a:off x="550800" y="858960"/>
            <a:ext cx="859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, що                згадавши вираз для елементів тензора інерції і скориставшись формулою для подвійного векторного добутку (“бац мінус цаб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47840" y="-13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3" name="Object 4"/>
          <p:cNvGraphicFramePr/>
          <p:nvPr/>
        </p:nvGraphicFramePr>
        <p:xfrm>
          <a:off x="554040" y="2220840"/>
          <a:ext cx="18414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2220840"/>
                    <a:ext cx="18414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5" name=""/>
          <p:cNvSpPr/>
          <p:nvPr/>
        </p:nvSpPr>
        <p:spPr>
          <a:xfrm>
            <a:off x="704880" y="1941480"/>
            <a:ext cx="84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означенням моменту імпульсу тіла відносно початку координат має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6" name="Object 4"/>
          <p:cNvGraphicFramePr/>
          <p:nvPr/>
        </p:nvGraphicFramePr>
        <p:xfrm>
          <a:off x="2736720" y="2259000"/>
          <a:ext cx="126396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6720" y="2259000"/>
                    <a:ext cx="1263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8" name=""/>
          <p:cNvSpPr/>
          <p:nvPr/>
        </p:nvSpPr>
        <p:spPr>
          <a:xfrm>
            <a:off x="2354400" y="2266920"/>
            <a:ext cx="4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9" name=""/>
          <p:cNvGraphicFramePr/>
          <p:nvPr/>
        </p:nvGraphicFramePr>
        <p:xfrm>
          <a:off x="1996920" y="888840"/>
          <a:ext cx="866880" cy="4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6920" y="888840"/>
                    <a:ext cx="86688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1" name=""/>
          <p:cNvSpPr/>
          <p:nvPr/>
        </p:nvSpPr>
        <p:spPr>
          <a:xfrm>
            <a:off x="2378160" y="803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279360" y="2395440"/>
            <a:ext cx="42840" cy="3138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101520" y="185256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4" name="Object 4"/>
          <p:cNvGraphicFramePr/>
          <p:nvPr/>
        </p:nvGraphicFramePr>
        <p:xfrm>
          <a:off x="1552680" y="3276720"/>
          <a:ext cx="565776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52680" y="3276720"/>
                    <a:ext cx="56577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6" name=""/>
          <p:cNvSpPr/>
          <p:nvPr/>
        </p:nvSpPr>
        <p:spPr>
          <a:xfrm>
            <a:off x="563400" y="2760840"/>
            <a:ext cx="81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користаємось формулою подвійного векторного добутк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17680" y="3873600"/>
            <a:ext cx="57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ереходячи до координатного запису, отримує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8" name="Object 4"/>
          <p:cNvGraphicFramePr/>
          <p:nvPr/>
        </p:nvGraphicFramePr>
        <p:xfrm>
          <a:off x="623880" y="4206960"/>
          <a:ext cx="815652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3880" y="4206960"/>
                    <a:ext cx="81565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0" name=""/>
          <p:cNvSpPr/>
          <p:nvPr/>
        </p:nvSpPr>
        <p:spPr>
          <a:xfrm>
            <a:off x="582480" y="5226120"/>
            <a:ext cx="22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А це означає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1" name=""/>
          <p:cNvGraphicFramePr/>
          <p:nvPr/>
        </p:nvGraphicFramePr>
        <p:xfrm>
          <a:off x="2563920" y="5175360"/>
          <a:ext cx="847440" cy="36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63920" y="5175360"/>
                    <a:ext cx="84744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3" name=""/>
          <p:cNvSpPr/>
          <p:nvPr/>
        </p:nvSpPr>
        <p:spPr>
          <a:xfrm>
            <a:off x="2943360" y="50706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60200" y="263160"/>
            <a:ext cx="36673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ИСНА ТЕО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27160" y="6049800"/>
            <a:ext cx="2313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еор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0200" y="3200400"/>
            <a:ext cx="4276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тонкостінної сфери відносно осі, що проходить через її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568440" y="591804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55600" y="865080"/>
          <a:ext cx="236232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5600" y="865080"/>
                    <a:ext cx="23623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H="1">
            <a:off x="849240" y="1353960"/>
            <a:ext cx="41760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34840" y="1353960"/>
            <a:ext cx="100476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37720" y="1263600"/>
            <a:ext cx="162900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0160" y="166860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3120" y="1616040"/>
            <a:ext cx="2577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и інерції відносно координатних ос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67160" y="1189080"/>
            <a:ext cx="5619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17960" y="1319040"/>
            <a:ext cx="41400" cy="39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0440" y="1212840"/>
            <a:ext cx="27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момент інерції відносно точки перетину координатних ос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592440" y="1719360"/>
          <a:ext cx="3222720" cy="116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92440" y="1719360"/>
                    <a:ext cx="3222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122800" y="24732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03720" y="2820960"/>
            <a:ext cx="4140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07080" y="2698920"/>
            <a:ext cx="2698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квадрат відстані до початку координа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1222200"/>
            <a:ext cx="2170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фізичного змісту не має, але допомагає у розрахунках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5080" y="1206360"/>
            <a:ext cx="2049480" cy="6526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100400" y="3776760"/>
          <a:ext cx="1679760" cy="46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00400" y="3776760"/>
                    <a:ext cx="16797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770520" y="3745080"/>
          <a:ext cx="995400" cy="396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70520" y="3745080"/>
                    <a:ext cx="9954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327560" y="4160880"/>
            <a:ext cx="1299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симетрія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5848200" y="2504520"/>
            <a:ext cx="252360" cy="3910320"/>
          </a:xfrm>
          <a:custGeom>
            <a:avLst/>
            <a:gdLst>
              <a:gd name="textAreaLeft" fmla="*/ 161280 w 252360"/>
              <a:gd name="textAreaRight" fmla="*/ 252720 w 252360"/>
              <a:gd name="textAreaTop" fmla="*/ 101880 h 3910320"/>
              <a:gd name="textAreaBottom" fmla="*/ 3808440 h 391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850000" y="4573440"/>
          <a:ext cx="233280" cy="395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50000" y="4573440"/>
                    <a:ext cx="233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004080" y="4581360"/>
            <a:ext cx="2743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використовуючи теор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827680" y="5184720"/>
          <a:ext cx="409680" cy="308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827680" y="5184720"/>
                    <a:ext cx="40968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915840" y="3573360"/>
            <a:ext cx="2511720" cy="2168640"/>
            <a:chOff x="915840" y="3573360"/>
            <a:chExt cx="2511720" cy="2168640"/>
          </a:xfrm>
        </p:grpSpPr>
        <p:grpSp>
          <p:nvGrpSpPr>
            <p:cNvPr id="327" name=""/>
            <p:cNvGrpSpPr/>
            <p:nvPr/>
          </p:nvGrpSpPr>
          <p:grpSpPr>
            <a:xfrm>
              <a:off x="915840" y="3735360"/>
              <a:ext cx="2511720" cy="2006640"/>
              <a:chOff x="915840" y="3735360"/>
              <a:chExt cx="2511720" cy="2006640"/>
            </a:xfrm>
          </p:grpSpPr>
          <p:pic>
            <p:nvPicPr>
              <p:cNvPr id="3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92160" y="3735360"/>
                <a:ext cx="2067120" cy="20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949480" y="5065560"/>
                <a:ext cx="17784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929880" y="5226120"/>
                <a:ext cx="142920" cy="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01960" y="501660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15840" y="5195880"/>
                <a:ext cx="38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46360" y="3789360"/>
                <a:ext cx="78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 flipV="1">
              <a:off x="2073240" y="3651120"/>
              <a:ext cx="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3000" y="3573360"/>
              <a:ext cx="38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>
            <a:hlinkClick r:id="rId15" action="ppaction://hlinksldjump"/>
          </p:cNvPr>
          <p:cNvSpPr/>
          <p:nvPr/>
        </p:nvSpPr>
        <p:spPr>
          <a:xfrm>
            <a:off x="6253200" y="5021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338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481800" y="4956120"/>
            <a:ext cx="1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3280" y="58514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78280" y="2452680"/>
            <a:ext cx="106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по всьому ті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37240" y="1876320"/>
            <a:ext cx="1585800" cy="6066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правляющая кнопка: домой 85">
            <a:hlinkClick r:id="rId1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7967520" y="632772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6838920" y="633096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31760" y="9208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35040" y="851040"/>
            <a:ext cx="8369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Які елементи матриці, що представляє тензор інерції тіла у даній декартовій системі координат, будуть дорівнювати нулю, якщо з трьох осей координат лише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 співпадає з головною віссю інерції тіла для точки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87280" y="2378160"/>
            <a:ext cx="42840" cy="43495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09440" y="184644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60240" y="1814400"/>
            <a:ext cx="8318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Якщо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є головною віссю інерції тіла для точки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то поворотом навколо цієї осі можна перейти до системи координат, де матриця, що представляє тензор інерції, набуде діагональног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вигляду, а рівняння еліпсоїда інерції запишеться т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2" name="Object 4"/>
          <p:cNvGraphicFramePr/>
          <p:nvPr/>
        </p:nvGraphicFramePr>
        <p:xfrm>
          <a:off x="1546200" y="2671920"/>
          <a:ext cx="300816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2671920"/>
                    <a:ext cx="300816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4" name="Object 4"/>
          <p:cNvGraphicFramePr/>
          <p:nvPr/>
        </p:nvGraphicFramePr>
        <p:xfrm>
          <a:off x="5424480" y="2716200"/>
          <a:ext cx="698400" cy="2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2716200"/>
                    <a:ext cx="69840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6" name="Object 4"/>
          <p:cNvGraphicFramePr/>
          <p:nvPr/>
        </p:nvGraphicFramePr>
        <p:xfrm>
          <a:off x="396720" y="5351400"/>
          <a:ext cx="874728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720" y="5351400"/>
                    <a:ext cx="8747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8" name=""/>
          <p:cNvSpPr/>
          <p:nvPr/>
        </p:nvSpPr>
        <p:spPr>
          <a:xfrm>
            <a:off x="4506840" y="2701800"/>
            <a:ext cx="13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прич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652840" y="3052800"/>
            <a:ext cx="64911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А як виразити координати         і         через      і     , можна зрозуміти з наведеного креслення. Дійсно, якщо вектор з координатами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1;0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у сис-тем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XOY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буде у систем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Y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*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мати координати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                     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а з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0;1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матиме </a:t>
            </a:r>
            <a:r>
              <a:rPr b="0" lang="uk-UA" sz="1600" spc="-1" strike="noStrike">
                <a:solidFill>
                  <a:srgbClr val="333399"/>
                </a:solidFill>
                <a:latin typeface="Times New Roman"/>
              </a:rPr>
              <a:t>(                         )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, 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52520" y="4782960"/>
            <a:ext cx="85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Після підстановки виразів для                і        у рівняння еліпсоїда інерції і відповідного групу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вання доданків отримаєм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1" name="Object 4"/>
          <p:cNvGraphicFramePr/>
          <p:nvPr/>
        </p:nvGraphicFramePr>
        <p:xfrm>
          <a:off x="5710320" y="3062160"/>
          <a:ext cx="39528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0320" y="3062160"/>
                    <a:ext cx="395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3" name="Object 4"/>
          <p:cNvGraphicFramePr/>
          <p:nvPr/>
        </p:nvGraphicFramePr>
        <p:xfrm>
          <a:off x="5102280" y="4470480"/>
          <a:ext cx="33984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2280" y="4470480"/>
                    <a:ext cx="3398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5" name="Object 4"/>
          <p:cNvGraphicFramePr/>
          <p:nvPr/>
        </p:nvGraphicFramePr>
        <p:xfrm>
          <a:off x="5200560" y="3062160"/>
          <a:ext cx="376200" cy="26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6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00560" y="3062160"/>
                    <a:ext cx="37620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7" name="Object 4"/>
          <p:cNvGraphicFramePr/>
          <p:nvPr/>
        </p:nvGraphicFramePr>
        <p:xfrm>
          <a:off x="7062840" y="3544920"/>
          <a:ext cx="112860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8" name="Object 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62840" y="3544920"/>
                    <a:ext cx="11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9" name="Object 4"/>
          <p:cNvGraphicFramePr/>
          <p:nvPr/>
        </p:nvGraphicFramePr>
        <p:xfrm>
          <a:off x="7021440" y="3117960"/>
          <a:ext cx="238320" cy="26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0" name="Object 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1440" y="3117960"/>
                    <a:ext cx="23832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1" name="Object 4"/>
          <p:cNvGraphicFramePr/>
          <p:nvPr/>
        </p:nvGraphicFramePr>
        <p:xfrm>
          <a:off x="6659640" y="3117960"/>
          <a:ext cx="217440" cy="20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2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59640" y="3117960"/>
                    <a:ext cx="2174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3" name="Object 4"/>
          <p:cNvGraphicFramePr/>
          <p:nvPr/>
        </p:nvGraphicFramePr>
        <p:xfrm>
          <a:off x="3403440" y="4057560"/>
          <a:ext cx="4316400" cy="355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4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03440" y="4057560"/>
                    <a:ext cx="4316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5" name="Object 4"/>
          <p:cNvGraphicFramePr/>
          <p:nvPr/>
        </p:nvGraphicFramePr>
        <p:xfrm>
          <a:off x="3479760" y="3803760"/>
          <a:ext cx="1308240" cy="304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86" name="Object 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79760" y="3803760"/>
                    <a:ext cx="13082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"/>
          <p:cNvSpPr/>
          <p:nvPr/>
        </p:nvSpPr>
        <p:spPr>
          <a:xfrm rot="16200000">
            <a:off x="5159160" y="3628440"/>
            <a:ext cx="73080" cy="1533600"/>
          </a:xfrm>
          <a:custGeom>
            <a:avLst/>
            <a:gdLst>
              <a:gd name="textAreaLeft" fmla="*/ 46800 w 73080"/>
              <a:gd name="textAreaRight" fmla="*/ 73440 w 73080"/>
              <a:gd name="textAreaTop" fmla="*/ 39960 h 1533600"/>
              <a:gd name="textAreaBottom" fmla="*/ 149364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 rot="16200000">
            <a:off x="6794280" y="3631680"/>
            <a:ext cx="73080" cy="1533600"/>
          </a:xfrm>
          <a:custGeom>
            <a:avLst/>
            <a:gdLst>
              <a:gd name="textAreaLeft" fmla="*/ 46800 w 73080"/>
              <a:gd name="textAreaRight" fmla="*/ 73440 w 73080"/>
              <a:gd name="textAreaTop" fmla="*/ 39960 h 1533600"/>
              <a:gd name="textAreaBottom" fmla="*/ 149364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9" name="Object 4"/>
          <p:cNvGraphicFramePr/>
          <p:nvPr/>
        </p:nvGraphicFramePr>
        <p:xfrm>
          <a:off x="6696000" y="4452840"/>
          <a:ext cx="395280" cy="314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90" name="Object 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96000" y="4452840"/>
                    <a:ext cx="395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1" name="Object 4"/>
          <p:cNvGraphicFramePr/>
          <p:nvPr/>
        </p:nvGraphicFramePr>
        <p:xfrm>
          <a:off x="3362400" y="4799160"/>
          <a:ext cx="716040" cy="304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92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62400" y="4799160"/>
                    <a:ext cx="7160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3" name=""/>
          <p:cNvSpPr/>
          <p:nvPr/>
        </p:nvSpPr>
        <p:spPr>
          <a:xfrm rot="16200000">
            <a:off x="1518480" y="4688640"/>
            <a:ext cx="68400" cy="2184480"/>
          </a:xfrm>
          <a:custGeom>
            <a:avLst/>
            <a:gdLst>
              <a:gd name="textAreaLeft" fmla="*/ 43920 w 68400"/>
              <a:gd name="textAreaRight" fmla="*/ 68760 w 68400"/>
              <a:gd name="textAreaTop" fmla="*/ 56880 h 2184480"/>
              <a:gd name="textAreaBottom" fmla="*/ 2127600 h 218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rot="16200000">
            <a:off x="4288680" y="4688640"/>
            <a:ext cx="68400" cy="2184480"/>
          </a:xfrm>
          <a:custGeom>
            <a:avLst/>
            <a:gdLst>
              <a:gd name="textAreaLeft" fmla="*/ 43920 w 68400"/>
              <a:gd name="textAreaRight" fmla="*/ 68760 w 68400"/>
              <a:gd name="textAreaTop" fmla="*/ 56880 h 2184480"/>
              <a:gd name="textAreaBottom" fmla="*/ 2127600 h 218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4"/>
                </a:lnTo>
                <a:cubicBezTo>
                  <a:pt x="10800" y="9994"/>
                  <a:pt x="5400" y="10894"/>
                  <a:pt x="0" y="10894"/>
                </a:cubicBezTo>
                <a:cubicBezTo>
                  <a:pt x="5400" y="10894"/>
                  <a:pt x="10800" y="11794"/>
                  <a:pt x="10800" y="1269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rot="16200000">
            <a:off x="6765840" y="4971960"/>
            <a:ext cx="52560" cy="1608480"/>
          </a:xfrm>
          <a:custGeom>
            <a:avLst/>
            <a:gdLst>
              <a:gd name="textAreaLeft" fmla="*/ 33480 w 52560"/>
              <a:gd name="textAreaRight" fmla="*/ 52920 w 52560"/>
              <a:gd name="textAreaTop" fmla="*/ 41760 h 1608480"/>
              <a:gd name="textAreaBottom" fmla="*/ 1566720 h 160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rot="16200000">
            <a:off x="8316000" y="5583960"/>
            <a:ext cx="60480" cy="277920"/>
          </a:xfrm>
          <a:custGeom>
            <a:avLst/>
            <a:gdLst>
              <a:gd name="textAreaLeft" fmla="*/ 38520 w 60480"/>
              <a:gd name="textAreaRight" fmla="*/ 60840 w 60480"/>
              <a:gd name="textAreaTop" fmla="*/ 7200 h 277920"/>
              <a:gd name="textAreaBottom" fmla="*/ 270720 h 27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Object 4"/>
          <p:cNvGraphicFramePr/>
          <p:nvPr/>
        </p:nvGraphicFramePr>
        <p:xfrm>
          <a:off x="4240080" y="4805280"/>
          <a:ext cx="32256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98" name="Object 4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40080" y="4805280"/>
                    <a:ext cx="32256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9" name="Object 4"/>
          <p:cNvGraphicFramePr/>
          <p:nvPr/>
        </p:nvGraphicFramePr>
        <p:xfrm>
          <a:off x="4206960" y="5856120"/>
          <a:ext cx="355680" cy="366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00" name="Object 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06960" y="5856120"/>
                    <a:ext cx="355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1" name="Object 4"/>
          <p:cNvGraphicFramePr/>
          <p:nvPr/>
        </p:nvGraphicFramePr>
        <p:xfrm>
          <a:off x="1425600" y="5838840"/>
          <a:ext cx="304920" cy="322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202" name="Object 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425600" y="5838840"/>
                    <a:ext cx="3049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3" name="Object 4"/>
          <p:cNvGraphicFramePr/>
          <p:nvPr/>
        </p:nvGraphicFramePr>
        <p:xfrm>
          <a:off x="8205840" y="5808600"/>
          <a:ext cx="334800" cy="331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204" name="Object 4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205840" y="5808600"/>
                    <a:ext cx="3348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5" name="Object 4"/>
          <p:cNvGraphicFramePr/>
          <p:nvPr/>
        </p:nvGraphicFramePr>
        <p:xfrm>
          <a:off x="6313320" y="5834160"/>
          <a:ext cx="1094040" cy="355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06" name="Object 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313320" y="5834160"/>
                    <a:ext cx="1094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7" name=""/>
          <p:cNvSpPr/>
          <p:nvPr/>
        </p:nvSpPr>
        <p:spPr>
          <a:xfrm>
            <a:off x="396720" y="6249960"/>
            <a:ext cx="52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Як бачимо, дорівнюють нулю такі елементи матриц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8" name="Object 4"/>
          <p:cNvGraphicFramePr/>
          <p:nvPr/>
        </p:nvGraphicFramePr>
        <p:xfrm>
          <a:off x="5237280" y="6248520"/>
          <a:ext cx="1434960" cy="3553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209" name="Object 4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237280" y="6248520"/>
                    <a:ext cx="14349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0" name=""/>
          <p:cNvSpPr/>
          <p:nvPr/>
        </p:nvSpPr>
        <p:spPr>
          <a:xfrm>
            <a:off x="1612800" y="6229440"/>
            <a:ext cx="4954680" cy="36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634320" y="3151080"/>
            <a:ext cx="1989720" cy="1470240"/>
            <a:chOff x="634320" y="3151080"/>
            <a:chExt cx="1989720" cy="1470240"/>
          </a:xfrm>
        </p:grpSpPr>
        <p:sp>
          <p:nvSpPr>
            <p:cNvPr id="2212" name=""/>
            <p:cNvSpPr/>
            <p:nvPr/>
          </p:nvSpPr>
          <p:spPr>
            <a:xfrm flipH="1" flipV="1">
              <a:off x="892080" y="3276720"/>
              <a:ext cx="37944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1027080" y="3823920"/>
              <a:ext cx="133020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4" name="Object 3"/>
            <p:cNvGraphicFramePr/>
            <p:nvPr/>
          </p:nvGraphicFramePr>
          <p:xfrm>
            <a:off x="1600200" y="4145040"/>
            <a:ext cx="133200" cy="1429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2215" name="Object 3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1600200" y="4145040"/>
                      <a:ext cx="13320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6" name=""/>
            <p:cNvSpPr/>
            <p:nvPr/>
          </p:nvSpPr>
          <p:spPr>
            <a:xfrm flipV="1">
              <a:off x="1292400" y="3151080"/>
              <a:ext cx="0" cy="14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292400" y="318924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1007640" y="3563640"/>
              <a:ext cx="282600" cy="7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824120" y="3754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 rot="6290400">
              <a:off x="1497240" y="4185000"/>
              <a:ext cx="84240" cy="918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0" y="58"/>
                  </a:moveTo>
                  <a:cubicBezTo>
                    <a:pt x="2" y="45"/>
                    <a:pt x="0" y="32"/>
                    <a:pt x="5" y="20"/>
                  </a:cubicBezTo>
                  <a:cubicBezTo>
                    <a:pt x="11" y="6"/>
                    <a:pt x="53" y="0"/>
                    <a:pt x="53" y="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1" name="Object 3"/>
            <p:cNvGraphicFramePr/>
            <p:nvPr/>
          </p:nvGraphicFramePr>
          <p:xfrm>
            <a:off x="1324080" y="3166920"/>
            <a:ext cx="358560" cy="28116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222" name="Object 3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1324080" y="3166920"/>
                      <a:ext cx="358560" cy="2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3" name=""/>
            <p:cNvSpPr/>
            <p:nvPr/>
          </p:nvSpPr>
          <p:spPr>
            <a:xfrm>
              <a:off x="634320" y="4278240"/>
              <a:ext cx="18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1288440" y="3985920"/>
              <a:ext cx="70164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25" name="Object 3"/>
            <p:cNvGraphicFramePr/>
            <p:nvPr/>
          </p:nvGraphicFramePr>
          <p:xfrm>
            <a:off x="1185840" y="4286160"/>
            <a:ext cx="111240" cy="1666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226" name="Object 3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1185840" y="4286160"/>
                      <a:ext cx="111240" cy="16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7" name="Object 3"/>
            <p:cNvGraphicFramePr/>
            <p:nvPr/>
          </p:nvGraphicFramePr>
          <p:xfrm>
            <a:off x="2219400" y="4287960"/>
            <a:ext cx="404640" cy="2808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228" name="Object 3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2219400" y="4287960"/>
                      <a:ext cx="40464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9" name="Object 3"/>
            <p:cNvGraphicFramePr/>
            <p:nvPr/>
          </p:nvGraphicFramePr>
          <p:xfrm>
            <a:off x="733320" y="3301920"/>
            <a:ext cx="187560" cy="21924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230" name="Object 3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733320" y="3301920"/>
                      <a:ext cx="187560" cy="2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1" name="Object 3"/>
            <p:cNvGraphicFramePr/>
            <p:nvPr/>
          </p:nvGraphicFramePr>
          <p:xfrm>
            <a:off x="2176560" y="3857760"/>
            <a:ext cx="249120" cy="2188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2232" name="Object 3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2176560" y="3857760"/>
                      <a:ext cx="24912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3" name=""/>
            <p:cNvSpPr/>
            <p:nvPr/>
          </p:nvSpPr>
          <p:spPr>
            <a:xfrm>
              <a:off x="1969920" y="399888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023840" y="360036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36800" y="359100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295280" y="3987720"/>
              <a:ext cx="681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41320" y="3457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03480" y="349560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030320" y="418932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93840" y="398952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968480" y="4186080"/>
              <a:ext cx="88920" cy="8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2" name="Object 3"/>
            <p:cNvGraphicFramePr/>
            <p:nvPr/>
          </p:nvGraphicFramePr>
          <p:xfrm>
            <a:off x="1822320" y="4327560"/>
            <a:ext cx="324000" cy="14292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2243" name="Object 3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1822320" y="4327560"/>
                      <a:ext cx="32400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4" name="Object 3"/>
            <p:cNvGraphicFramePr/>
            <p:nvPr/>
          </p:nvGraphicFramePr>
          <p:xfrm>
            <a:off x="695160" y="4430880"/>
            <a:ext cx="371520" cy="1616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2245" name="Object 3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695160" y="4430880"/>
                      <a:ext cx="371520" cy="16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6" name="Object 3"/>
            <p:cNvGraphicFramePr/>
            <p:nvPr/>
          </p:nvGraphicFramePr>
          <p:xfrm>
            <a:off x="1316160" y="3537000"/>
            <a:ext cx="323640" cy="14292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2247" name="Object 3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1316160" y="3537000"/>
                      <a:ext cx="32364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8" name="Object 3"/>
            <p:cNvGraphicFramePr/>
            <p:nvPr/>
          </p:nvGraphicFramePr>
          <p:xfrm>
            <a:off x="1609560" y="3716280"/>
            <a:ext cx="285840" cy="16200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2249" name="Object 3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1609560" y="3716280"/>
                      <a:ext cx="285840" cy="1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0" name=""/>
            <p:cNvSpPr/>
            <p:nvPr/>
          </p:nvSpPr>
          <p:spPr>
            <a:xfrm flipH="1">
              <a:off x="1303200" y="3811680"/>
              <a:ext cx="3002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819000" y="4289040"/>
              <a:ext cx="2001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2" name="Управляющая кнопка: домой 85">
            <a:hlinkClick r:id="rId59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293760" y="5499000"/>
            <a:ext cx="872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им чином, якщо центр мас тіла буде належати ос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                          І навп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и: якщо                           т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тже, головна вісь інерції залишається головною для всіх своїх точок тоді і лише тоді, коли вона є головною центральною віссю інерції цього ті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2427120" y="2340000"/>
            <a:ext cx="6716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й факт, що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є головною у “старій” системі координат означає, що у цій системі               дорівнюють нулю (див. відп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). Нові координати точок тіла пов'язані зі с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рими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цікавих для нас елементів “нової” матриці матимемо вираз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31760" y="6271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279360" y="1940040"/>
            <a:ext cx="42840" cy="48132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01520" y="13842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92200" y="546120"/>
            <a:ext cx="837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Головна вісь інерції залишається головною для всіх своїх точок тоді і лише тоді, коли вона є головною центральною віссю інерції цього тіл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485640" y="1336680"/>
            <a:ext cx="865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рипустимо, що головною віссю інерції є 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беремо довільну точку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осі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проведемо через неї, паралельно осям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вісі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400" spc="-1" strike="noStrike">
                <a:solidFill>
                  <a:srgbClr val="333399"/>
                </a:solidFill>
                <a:latin typeface="Comic Sans MS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при цьому буде співпадати з віссю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рис.). З'ясуємо, за яких умов вісь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'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Z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е головною для точк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'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434880" y="2355840"/>
            <a:ext cx="1814400" cy="2242440"/>
            <a:chOff x="434880" y="2355840"/>
            <a:chExt cx="1814400" cy="2242440"/>
          </a:xfrm>
        </p:grpSpPr>
        <p:sp>
          <p:nvSpPr>
            <p:cNvPr id="2263" name=""/>
            <p:cNvSpPr/>
            <p:nvPr/>
          </p:nvSpPr>
          <p:spPr>
            <a:xfrm flipV="1">
              <a:off x="1006560" y="2417760"/>
              <a:ext cx="0" cy="13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998640" y="3764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565200" y="3754440"/>
              <a:ext cx="44928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017720" y="3316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557280" y="3318120"/>
              <a:ext cx="449280" cy="77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914400" y="236880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69960" y="2355840"/>
              <a:ext cx="4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98600" y="429120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4880" y="392760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16120" y="371484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9880" y="327528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06400" y="3706920"/>
              <a:ext cx="5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55720" y="3063960"/>
              <a:ext cx="50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998640" y="3314880"/>
              <a:ext cx="117360" cy="449280"/>
            </a:xfrm>
            <a:custGeom>
              <a:avLst/>
              <a:gdLst>
                <a:gd name="textAreaLeft" fmla="*/ 0 w 117360"/>
                <a:gd name="textAreaRight" fmla="*/ 42480 w 117360"/>
                <a:gd name="textAreaTop" fmla="*/ 11520 h 449280"/>
                <a:gd name="textAreaBottom" fmla="*/ 43776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066680" y="3370320"/>
              <a:ext cx="32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8" name=""/>
          <p:cNvSpPr/>
          <p:nvPr/>
        </p:nvSpPr>
        <p:spPr>
          <a:xfrm>
            <a:off x="2446200" y="2305080"/>
            <a:ext cx="559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9" name=""/>
          <p:cNvGraphicFramePr/>
          <p:nvPr/>
        </p:nvGraphicFramePr>
        <p:xfrm>
          <a:off x="4024440" y="3416400"/>
          <a:ext cx="2809800" cy="37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4440" y="3416400"/>
                    <a:ext cx="280980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1" name=""/>
          <p:cNvGraphicFramePr/>
          <p:nvPr/>
        </p:nvGraphicFramePr>
        <p:xfrm>
          <a:off x="5168880" y="2610000"/>
          <a:ext cx="77940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8880" y="2610000"/>
                    <a:ext cx="7794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3" name=""/>
          <p:cNvGraphicFramePr/>
          <p:nvPr/>
        </p:nvGraphicFramePr>
        <p:xfrm>
          <a:off x="6494400" y="5513400"/>
          <a:ext cx="14781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94400" y="5513400"/>
                    <a:ext cx="1478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5" name=""/>
          <p:cNvGraphicFramePr/>
          <p:nvPr/>
        </p:nvGraphicFramePr>
        <p:xfrm>
          <a:off x="4889520" y="5205240"/>
          <a:ext cx="824040" cy="4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9520" y="5205240"/>
                    <a:ext cx="8240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7" name=""/>
          <p:cNvGraphicFramePr/>
          <p:nvPr/>
        </p:nvGraphicFramePr>
        <p:xfrm>
          <a:off x="480960" y="4513320"/>
          <a:ext cx="512604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960" y="4513320"/>
                    <a:ext cx="51260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9" name=""/>
          <p:cNvGraphicFramePr/>
          <p:nvPr/>
        </p:nvGraphicFramePr>
        <p:xfrm>
          <a:off x="4264200" y="5127480"/>
          <a:ext cx="225360" cy="24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4200" y="5127480"/>
                    <a:ext cx="225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1" name=""/>
          <p:cNvGraphicFramePr/>
          <p:nvPr/>
        </p:nvGraphicFramePr>
        <p:xfrm>
          <a:off x="5694480" y="4492800"/>
          <a:ext cx="3317760" cy="49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94480" y="4492800"/>
                    <a:ext cx="3317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3" name=""/>
          <p:cNvSpPr/>
          <p:nvPr/>
        </p:nvSpPr>
        <p:spPr>
          <a:xfrm>
            <a:off x="4894200" y="4513320"/>
            <a:ext cx="592200" cy="501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8269200" y="4498920"/>
            <a:ext cx="650880" cy="51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4309920" y="4948200"/>
            <a:ext cx="72720" cy="190440"/>
            <a:chOff x="4309920" y="4948200"/>
            <a:chExt cx="72720" cy="190440"/>
          </a:xfrm>
        </p:grpSpPr>
        <p:sp>
          <p:nvSpPr>
            <p:cNvPr id="2296" name=""/>
            <p:cNvSpPr/>
            <p:nvPr/>
          </p:nvSpPr>
          <p:spPr>
            <a:xfrm>
              <a:off x="4382640" y="49514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309920" y="49482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8" name=""/>
          <p:cNvGraphicFramePr/>
          <p:nvPr/>
        </p:nvGraphicFramePr>
        <p:xfrm>
          <a:off x="7694640" y="5126040"/>
          <a:ext cx="225360" cy="24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4640" y="5126040"/>
                    <a:ext cx="225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0" name=""/>
          <p:cNvGrpSpPr/>
          <p:nvPr/>
        </p:nvGrpSpPr>
        <p:grpSpPr>
          <a:xfrm>
            <a:off x="7740720" y="4923000"/>
            <a:ext cx="72720" cy="190440"/>
            <a:chOff x="7740720" y="4923000"/>
            <a:chExt cx="72720" cy="190440"/>
          </a:xfrm>
        </p:grpSpPr>
        <p:sp>
          <p:nvSpPr>
            <p:cNvPr id="2301" name=""/>
            <p:cNvSpPr/>
            <p:nvPr/>
          </p:nvSpPr>
          <p:spPr>
            <a:xfrm>
              <a:off x="7813440" y="49262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740720" y="492300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3" name=""/>
          <p:cNvGrpSpPr/>
          <p:nvPr/>
        </p:nvGrpSpPr>
        <p:grpSpPr>
          <a:xfrm>
            <a:off x="5156280" y="5048280"/>
            <a:ext cx="73080" cy="191880"/>
            <a:chOff x="5156280" y="5048280"/>
            <a:chExt cx="73080" cy="191880"/>
          </a:xfrm>
        </p:grpSpPr>
        <p:sp>
          <p:nvSpPr>
            <p:cNvPr id="2304" name=""/>
            <p:cNvSpPr/>
            <p:nvPr/>
          </p:nvSpPr>
          <p:spPr>
            <a:xfrm>
              <a:off x="5229360" y="504828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156280" y="505296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6" name=""/>
          <p:cNvGrpSpPr/>
          <p:nvPr/>
        </p:nvGrpSpPr>
        <p:grpSpPr>
          <a:xfrm>
            <a:off x="8578800" y="5057640"/>
            <a:ext cx="73080" cy="191880"/>
            <a:chOff x="8578800" y="5057640"/>
            <a:chExt cx="73080" cy="191880"/>
          </a:xfrm>
        </p:grpSpPr>
        <p:sp>
          <p:nvSpPr>
            <p:cNvPr id="2307" name=""/>
            <p:cNvSpPr/>
            <p:nvPr/>
          </p:nvSpPr>
          <p:spPr>
            <a:xfrm>
              <a:off x="8651880" y="505764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578800" y="5062320"/>
              <a:ext cx="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09" name=""/>
          <p:cNvGraphicFramePr/>
          <p:nvPr/>
        </p:nvGraphicFramePr>
        <p:xfrm>
          <a:off x="8286840" y="5183280"/>
          <a:ext cx="844560" cy="414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6840" y="5183280"/>
                    <a:ext cx="8445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"/>
          <p:cNvGraphicFramePr/>
          <p:nvPr/>
        </p:nvGraphicFramePr>
        <p:xfrm>
          <a:off x="1290600" y="5753160"/>
          <a:ext cx="1478160" cy="388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0600" y="5753160"/>
                    <a:ext cx="1478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3" name=""/>
          <p:cNvGraphicFramePr/>
          <p:nvPr/>
        </p:nvGraphicFramePr>
        <p:xfrm>
          <a:off x="3156120" y="5732640"/>
          <a:ext cx="1685880" cy="361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56120" y="5732640"/>
                    <a:ext cx="16858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5" name="Управляющая кнопка: домой 85">
            <a:hlinkClick r:id="rId23" action="ppaction://hlinksldjump"/>
          </p:cNvPr>
          <p:cNvSpPr/>
          <p:nvPr/>
        </p:nvSpPr>
        <p:spPr>
          <a:xfrm>
            <a:off x="174600" y="8748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8085240" y="6342120"/>
            <a:ext cx="1035000" cy="48564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46016" h="21600">
                <a:moveTo>
                  <a:pt x="0" y="0"/>
                </a:moveTo>
                <a:lnTo>
                  <a:pt x="46016" y="0"/>
                </a:lnTo>
                <a:lnTo>
                  <a:pt x="46016" y="21600"/>
                </a:lnTo>
                <a:lnTo>
                  <a:pt x="0" y="21600"/>
                </a:lnTo>
                <a:close/>
              </a:path>
              <a:path fill="lightenLess" w="46016" h="21600">
                <a:moveTo>
                  <a:pt x="0" y="0"/>
                </a:moveTo>
                <a:lnTo>
                  <a:pt x="46016" y="0"/>
                </a:lnTo>
                <a:lnTo>
                  <a:pt x="44616" y="1400"/>
                </a:lnTo>
                <a:lnTo>
                  <a:pt x="1400" y="1400"/>
                </a:lnTo>
                <a:close/>
              </a:path>
              <a:path fill="darken" w="46016" h="21600">
                <a:moveTo>
                  <a:pt x="46016" y="0"/>
                </a:moveTo>
                <a:lnTo>
                  <a:pt x="46016" y="21600"/>
                </a:lnTo>
                <a:lnTo>
                  <a:pt x="44616" y="20200"/>
                </a:lnTo>
                <a:lnTo>
                  <a:pt x="44616" y="1400"/>
                </a:lnTo>
                <a:close/>
              </a:path>
              <a:path fill="darkenLess" w="46016" h="21600">
                <a:moveTo>
                  <a:pt x="46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16" y="20200"/>
                </a:lnTo>
                <a:close/>
              </a:path>
              <a:path fill="lighten" w="46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16" h="21600">
                <a:moveTo>
                  <a:pt x="16002" y="7493"/>
                </a:moveTo>
                <a:lnTo>
                  <a:pt x="19509" y="7493"/>
                </a:lnTo>
                <a:lnTo>
                  <a:pt x="19509" y="12828"/>
                </a:lnTo>
                <a:cubicBezTo>
                  <a:pt x="19509" y="13751"/>
                  <a:pt x="20310" y="14482"/>
                  <a:pt x="21346" y="14482"/>
                </a:cubicBezTo>
                <a:lnTo>
                  <a:pt x="23008" y="14482"/>
                </a:lnTo>
                <a:cubicBezTo>
                  <a:pt x="24044" y="14482"/>
                  <a:pt x="24844" y="13751"/>
                  <a:pt x="24844" y="12828"/>
                </a:cubicBezTo>
                <a:lnTo>
                  <a:pt x="24844" y="7493"/>
                </a:lnTo>
                <a:lnTo>
                  <a:pt x="23008" y="7493"/>
                </a:lnTo>
                <a:lnTo>
                  <a:pt x="26516" y="3985"/>
                </a:lnTo>
                <a:lnTo>
                  <a:pt x="30189" y="7493"/>
                </a:lnTo>
                <a:lnTo>
                  <a:pt x="28352" y="7493"/>
                </a:lnTo>
                <a:lnTo>
                  <a:pt x="28352" y="12828"/>
                </a:lnTo>
                <a:cubicBezTo>
                  <a:pt x="28352" y="15596"/>
                  <a:pt x="25776" y="18155"/>
                  <a:pt x="23008" y="18155"/>
                </a:cubicBezTo>
                <a:lnTo>
                  <a:pt x="21346" y="18155"/>
                </a:lnTo>
                <a:cubicBezTo>
                  <a:pt x="18578" y="18155"/>
                  <a:pt x="16002" y="15596"/>
                  <a:pt x="1600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279360" y="2813040"/>
            <a:ext cx="42840" cy="26049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01520" y="2257560"/>
            <a:ext cx="420840" cy="46008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080"/>
              <a:gd name="textAreaBottom" fmla="*/ 433080 h 460080"/>
            </a:gdLst>
            <a:ahLst/>
            <a:rect l="textAreaLeft" t="textAreaTop" r="textAreaRight" b="textAreaBottom"/>
            <a:pathLst>
              <a:path w="21600" h="23612">
                <a:moveTo>
                  <a:pt x="0" y="0"/>
                </a:moveTo>
                <a:lnTo>
                  <a:pt x="21600" y="0"/>
                </a:lnTo>
                <a:lnTo>
                  <a:pt x="21600" y="23612"/>
                </a:lnTo>
                <a:lnTo>
                  <a:pt x="0" y="23612"/>
                </a:lnTo>
                <a:close/>
              </a:path>
              <a:path fill="lightenLess" w="21600" h="23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12">
                <a:moveTo>
                  <a:pt x="21600" y="0"/>
                </a:moveTo>
                <a:lnTo>
                  <a:pt x="21600" y="23612"/>
                </a:lnTo>
                <a:lnTo>
                  <a:pt x="20200" y="22212"/>
                </a:lnTo>
                <a:lnTo>
                  <a:pt x="20200" y="1400"/>
                </a:lnTo>
                <a:close/>
              </a:path>
              <a:path fill="darkenLess" w="21600" h="23612">
                <a:moveTo>
                  <a:pt x="21600" y="23612"/>
                </a:moveTo>
                <a:lnTo>
                  <a:pt x="0" y="23612"/>
                </a:lnTo>
                <a:lnTo>
                  <a:pt x="1400" y="22212"/>
                </a:lnTo>
                <a:lnTo>
                  <a:pt x="20200" y="22212"/>
                </a:lnTo>
                <a:close/>
              </a:path>
              <a:path fill="lighten" w="21600" h="23612">
                <a:moveTo>
                  <a:pt x="0" y="23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12"/>
                </a:lnTo>
                <a:close/>
              </a:path>
              <a:path fill="darken" w="21600" h="23612">
                <a:moveTo>
                  <a:pt x="10800" y="4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12">
                <a:moveTo>
                  <a:pt x="10800" y="517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12">
                <a:moveTo>
                  <a:pt x="8224" y="9230"/>
                </a:moveTo>
                <a:lnTo>
                  <a:pt x="12088" y="9230"/>
                </a:lnTo>
                <a:lnTo>
                  <a:pt x="12088" y="16228"/>
                </a:lnTo>
                <a:lnTo>
                  <a:pt x="13376" y="16228"/>
                </a:lnTo>
                <a:lnTo>
                  <a:pt x="13376" y="17150"/>
                </a:lnTo>
                <a:lnTo>
                  <a:pt x="8224" y="17150"/>
                </a:lnTo>
                <a:lnTo>
                  <a:pt x="8224" y="16228"/>
                </a:lnTo>
                <a:lnTo>
                  <a:pt x="9512" y="16228"/>
                </a:lnTo>
                <a:lnTo>
                  <a:pt x="9512" y="10135"/>
                </a:lnTo>
                <a:lnTo>
                  <a:pt x="8224" y="101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23880" y="950760"/>
            <a:ext cx="83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Якщо у тіла є вісь матеріальної симетрії, то вона є головною центральною віссю інерції цього тіл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620640" y="2270160"/>
            <a:ext cx="83106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сю матеріальної симетрії називають пряму, що має таку властивість: якщо з будь-якої точки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провести пряму, перпендикулярну до цієї осі, то на продовженні цієї прямої обов'язково знайдеться інша точка з такою самою масою і розташована на такій самій відстані від осі.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ут точками названі диференціально малі елементи тіла, на які можна його умовно поділити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, якщо позначити вісь симетрії через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з властивостей матеріальної симетрії випливає, що  для кожної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ої точки тіла з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можна знайти точку з такою самою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координатами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е означає, щ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x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y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уть дорівнювати нулю, причому, незалежно від положення початку координат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на осі матеріальної симетрії. Отже, вісь матеріальної симетрії є головною центральною віссю інерції цього тіла (див. відповіді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623880" y="871560"/>
            <a:ext cx="83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оведіть таке корисне твердження: “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79360" y="2725560"/>
            <a:ext cx="42840" cy="18766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01520" y="217008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68160" y="2268360"/>
            <a:ext cx="83106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іло має площину матеріальної симетрії, якщо для будь-якої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-ої точки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жна знайти іншу точку з такою самою масою, що розташована на загальному перпендикулярі до площини, але з іншого боку від не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позначити площину симетрії через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Х</a:t>
            </a:r>
            <a:r>
              <a:rPr b="0" i="1" lang="en-US" sz="1600" spc="-1" strike="noStrike">
                <a:solidFill>
                  <a:srgbClr val="333399"/>
                </a:solidFill>
                <a:latin typeface="Times New Roman"/>
              </a:rPr>
              <a:t>O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, то для кожної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400" spc="-1" strike="noStrike">
                <a:solidFill>
                  <a:srgbClr val="333399"/>
                </a:solidFill>
                <a:latin typeface="Times New Roman"/>
              </a:rPr>
              <a:t>і</a:t>
            </a:r>
            <a:r>
              <a:rPr b="0" lang="uk-UA" sz="1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ої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точки тіла з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можна знайти точку з такою самою масою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координатам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, </a:t>
            </a:r>
            <a:r>
              <a:rPr b="0" i="1" lang="uk-UA" sz="16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Це означає, що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x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333399"/>
                </a:solidFill>
                <a:latin typeface="Times New Roman"/>
              </a:rPr>
              <a:t>y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будуть дорівнювати нулю. Таким чином, якщо у тіла є площина матеріальної симетрії, то будь-яка пряма, яка перпендикулярна цій площині, є головною віссю для точки, де ця пряма перетинає площину матеріальної симетр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/>
          <p:nvPr/>
        </p:nvSpPr>
        <p:spPr>
          <a:xfrm>
            <a:off x="2290680" y="9036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ВД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279360" y="2384280"/>
            <a:ext cx="42840" cy="43214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01520" y="182880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601560" y="936720"/>
            <a:ext cx="839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і максимальне і мінімальне значення моменту інерції однорідного куба мас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з довжиною ребра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ідносно осі, що проходить через його вершин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566640" y="1809720"/>
            <a:ext cx="83106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сі, що проходять через центри протилежних граней однорідного куба, безперечно є головними центральними осями інерції, бо вони є осями матеріальної симетрії (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3). Моменти інерції куба відносно них однакові. Отже, еліпсоїд інерції, побудований для центра куба, є сферою.  Відповідно, будь-яка вісь, що проходить через центр однорідного куба є головною центральною віссю інер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б знайти момент інерції відповідно осі, що проходить через вершину куба, треба до момента інерції відносно паралельної осі, що проходить через центр куба,  додати      ,  де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— відстань  між осями  (за теоремою Гюйгенса-Штейне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розуміло, що               (вісь проходить через вершину і центр куба),  а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вісь перпендикулярна осі, що дає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раховуючи, що для однорідного куба будь-який головний момент інерції дорівнює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для максимального і мінімального моментів інерції відносно осі, що проходить через вершину, матиме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9" name=""/>
          <p:cNvGraphicFramePr/>
          <p:nvPr/>
        </p:nvGraphicFramePr>
        <p:xfrm>
          <a:off x="2122560" y="4203720"/>
          <a:ext cx="79056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4203720"/>
                    <a:ext cx="790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1" name=""/>
          <p:cNvGraphicFramePr/>
          <p:nvPr/>
        </p:nvGraphicFramePr>
        <p:xfrm>
          <a:off x="2249640" y="5869080"/>
          <a:ext cx="460980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5869080"/>
                    <a:ext cx="4609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3" name=""/>
          <p:cNvGraphicFramePr/>
          <p:nvPr/>
        </p:nvGraphicFramePr>
        <p:xfrm>
          <a:off x="2752560" y="3836880"/>
          <a:ext cx="150840" cy="26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2560" y="3836880"/>
                    <a:ext cx="1508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5" name=""/>
          <p:cNvGraphicFramePr/>
          <p:nvPr/>
        </p:nvGraphicFramePr>
        <p:xfrm>
          <a:off x="1974960" y="3774960"/>
          <a:ext cx="433440" cy="31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74960"/>
                    <a:ext cx="4334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7" name=""/>
          <p:cNvGraphicFramePr/>
          <p:nvPr/>
        </p:nvGraphicFramePr>
        <p:xfrm>
          <a:off x="7626240" y="4038480"/>
          <a:ext cx="118584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6240" y="4038480"/>
                    <a:ext cx="11858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9" name=""/>
          <p:cNvGraphicFramePr/>
          <p:nvPr/>
        </p:nvGraphicFramePr>
        <p:xfrm>
          <a:off x="4041720" y="4462560"/>
          <a:ext cx="3762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41720" y="4462560"/>
                    <a:ext cx="376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1" name=""/>
          <p:cNvSpPr/>
          <p:nvPr/>
        </p:nvSpPr>
        <p:spPr>
          <a:xfrm>
            <a:off x="2246400" y="5850000"/>
            <a:ext cx="4524120" cy="78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2" name=""/>
              <p:cNvSpPr txBox="1"/>
              <p:nvPr/>
            </p:nvSpPr>
            <p:spPr>
              <a:xfrm>
                <a:off x="1646280" y="5016600"/>
                <a:ext cx="585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3" name="Управляющая кнопка: домой 85">
            <a:hlinkClick r:id="rId13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131760" y="58896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79360" y="2038320"/>
            <a:ext cx="42840" cy="4632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01520" y="1482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608040" y="504720"/>
            <a:ext cx="83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співвідношенні між висотою і діаметром однорідного циліндра його момент інерції відносно осі, що проходить через центр мас, не залежатиме від її напрямк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77800" y="1409760"/>
            <a:ext cx="8310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Еліпсоїд інерції для однорідного циліндра, побудований для центра мас, є фігурою обертання відносно осі, що співпадає з віссю циліндра (чому?). Щоб такий еліпсоїд виродився у сферу (а саме це нам треба за умовою), необхідно так підібрати співвідношення між висотою і діаметром, щоб момент інерції відносно осі циліндра дорівнював моменту інерції відносно осі, яка перпендикулярна першій і проходить через центр м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омент інерції відносно осі циліндра добре відом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ля обчислення другого моменту подумки розіб'ємо циліндр на тонкі диски. Внесок окремого диска до загального моменту інерції буде так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                         — висота циліндра,    — відстань від окремого диска до осі, ві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осно якої обчислюється момент інерції. Отж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мова               дає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1" name=""/>
              <p:cNvSpPr txBox="1"/>
              <p:nvPr/>
            </p:nvSpPr>
            <p:spPr>
              <a:xfrm>
                <a:off x="6086520" y="2662200"/>
                <a:ext cx="21049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2" name=""/>
              <p:cNvSpPr txBox="1"/>
              <p:nvPr/>
            </p:nvSpPr>
            <p:spPr>
              <a:xfrm>
                <a:off x="3424320" y="3935520"/>
                <a:ext cx="2025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/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993600" y="4454640"/>
                <a:ext cx="1171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2141640" y="4613400"/>
                <a:ext cx="2775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4343400" y="4632480"/>
                <a:ext cx="2001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6" name=""/>
              <p:cNvSpPr txBox="1"/>
              <p:nvPr/>
            </p:nvSpPr>
            <p:spPr>
              <a:xfrm>
                <a:off x="1374840" y="5365800"/>
                <a:ext cx="6097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7" name=""/>
              <p:cNvSpPr txBox="1"/>
              <p:nvPr/>
            </p:nvSpPr>
            <p:spPr>
              <a:xfrm>
                <a:off x="1542960" y="6321600"/>
                <a:ext cx="716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8" name=""/>
              <p:cNvSpPr txBox="1"/>
              <p:nvPr/>
            </p:nvSpPr>
            <p:spPr>
              <a:xfrm>
                <a:off x="2841480" y="6121440"/>
                <a:ext cx="993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9" name=""/>
          <p:cNvSpPr/>
          <p:nvPr/>
        </p:nvSpPr>
        <p:spPr>
          <a:xfrm>
            <a:off x="2824200" y="6130800"/>
            <a:ext cx="901800" cy="663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777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131760" y="6523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79360" y="2038320"/>
            <a:ext cx="42840" cy="46450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01520" y="14828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11280" y="628560"/>
            <a:ext cx="835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При якому куті між віссю кругового однорідного конуса і його твірною еліпсоїд інерції з центром у вершині конуса виродиться у сфер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236760" y="1409760"/>
            <a:ext cx="5651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Еліпсоїд інерції кругового однорідного конуса з центром у вершині конуса у загальному випадку є фігурою обертання відносно осі, що співпадає з віссю конуса (чому?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що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— вершина конуса, який розташований відносно системи координат так,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як показано на рисунку (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ає з віссю конуса), то нам треба забезпечити рівність моментів інерції відносно осі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будь-якої о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 у площині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ХО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353880" y="3909960"/>
            <a:ext cx="8676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Розглянемо, який внесок до     і     робить тонкий диск (як складова частина конуса), що розташований на відстані    від площини 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XOY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де       — маса ди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труктура виразів дозволяє без інтегрування зробити висновок: щоб        , треба забезпечити рівність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об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3394080" y="3913200"/>
                <a:ext cx="2682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384120" y="4494240"/>
                <a:ext cx="8499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α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4249800"/>
                <a:ext cx="19836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3746520" y="3929040"/>
                <a:ext cx="2602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3695760" y="5781600"/>
                <a:ext cx="1857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696960" y="5183280"/>
                <a:ext cx="3762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7564320" y="5419800"/>
                <a:ext cx="701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1004760" y="6407280"/>
                <a:ext cx="1182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7" name=""/>
          <p:cNvSpPr/>
          <p:nvPr/>
        </p:nvSpPr>
        <p:spPr>
          <a:xfrm>
            <a:off x="1020600" y="6400800"/>
            <a:ext cx="1057320" cy="32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1225440" y="2692440"/>
            <a:ext cx="997200" cy="0"/>
          </a:xfrm>
          <a:prstGeom prst="line">
            <a:avLst/>
          </a:prstGeom>
          <a:ln w="41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730520" y="1976400"/>
            <a:ext cx="0" cy="13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846000" y="333216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941400" y="2290680"/>
            <a:ext cx="159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638360" y="19368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460600" y="329724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727280" y="2286000"/>
            <a:ext cx="50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011240" y="2797200"/>
            <a:ext cx="33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349280" y="23763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463760" y="3274920"/>
            <a:ext cx="50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79320" y="257652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1725120" y="2289240"/>
            <a:ext cx="808200" cy="104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V="1">
            <a:off x="1230480" y="254304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222200" y="261612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1227240" y="269712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930240" y="2295360"/>
            <a:ext cx="0" cy="103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1898640" y="270504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890720" y="2528280"/>
            <a:ext cx="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H="1">
            <a:off x="1896840" y="252396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927000" y="2284560"/>
            <a:ext cx="808200" cy="10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 rot="5400000">
            <a:off x="1742760" y="3133800"/>
            <a:ext cx="83880" cy="106200"/>
          </a:xfrm>
          <a:custGeom>
            <a:avLst/>
            <a:gdLst/>
            <a:ahLst/>
            <a:rect l="l" t="t" r="r" b="b"/>
            <a:pathLst>
              <a:path w="53" h="58">
                <a:moveTo>
                  <a:pt x="0" y="58"/>
                </a:moveTo>
                <a:cubicBezTo>
                  <a:pt x="2" y="45"/>
                  <a:pt x="0" y="32"/>
                  <a:pt x="5" y="20"/>
                </a:cubicBezTo>
                <a:cubicBezTo>
                  <a:pt x="11" y="6"/>
                  <a:pt x="53" y="0"/>
                  <a:pt x="53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1739880" y="2998800"/>
                <a:ext cx="174600" cy="1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0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7776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"/>
          <p:cNvSpPr/>
          <p:nvPr/>
        </p:nvSpPr>
        <p:spPr>
          <a:xfrm>
            <a:off x="2214720" y="903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ПОВІДЬ НА ЗАПИТАННЯ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31760" y="9446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79360" y="2736720"/>
            <a:ext cx="42840" cy="34308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01520" y="2181240"/>
            <a:ext cx="420840" cy="460440"/>
          </a:xfrm>
          <a:custGeom>
            <a:avLst/>
            <a:gdLst>
              <a:gd name="textAreaLeft" fmla="*/ 27000 w 420840"/>
              <a:gd name="textAreaRight" fmla="*/ 393840 w 420840"/>
              <a:gd name="textAreaTop" fmla="*/ 27000 h 460440"/>
              <a:gd name="textAreaBottom" fmla="*/ 433440 h 460440"/>
            </a:gdLst>
            <a:ahLst/>
            <a:rect l="textAreaLeft" t="textAreaTop" r="textAreaRight" b="textAreaBottom"/>
            <a:pathLst>
              <a:path w="21600" h="23631">
                <a:moveTo>
                  <a:pt x="0" y="0"/>
                </a:moveTo>
                <a:lnTo>
                  <a:pt x="21600" y="0"/>
                </a:lnTo>
                <a:lnTo>
                  <a:pt x="21600" y="23631"/>
                </a:lnTo>
                <a:lnTo>
                  <a:pt x="0" y="23631"/>
                </a:lnTo>
                <a:close/>
              </a:path>
              <a:path fill="lightenLess" w="21600" h="23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31">
                <a:moveTo>
                  <a:pt x="21600" y="0"/>
                </a:moveTo>
                <a:lnTo>
                  <a:pt x="21600" y="23631"/>
                </a:lnTo>
                <a:lnTo>
                  <a:pt x="20200" y="22231"/>
                </a:lnTo>
                <a:lnTo>
                  <a:pt x="20200" y="1400"/>
                </a:lnTo>
                <a:close/>
              </a:path>
              <a:path fill="darkenLess" w="21600" h="23631">
                <a:moveTo>
                  <a:pt x="21600" y="23631"/>
                </a:moveTo>
                <a:lnTo>
                  <a:pt x="0" y="23631"/>
                </a:lnTo>
                <a:lnTo>
                  <a:pt x="1400" y="22231"/>
                </a:lnTo>
                <a:lnTo>
                  <a:pt x="20200" y="22231"/>
                </a:lnTo>
                <a:close/>
              </a:path>
              <a:path fill="lighten" w="21600" h="23631">
                <a:moveTo>
                  <a:pt x="0" y="23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31"/>
                </a:lnTo>
                <a:close/>
              </a:path>
              <a:path fill="darken" w="21600" h="23631">
                <a:moveTo>
                  <a:pt x="10800" y="480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631">
                <a:moveTo>
                  <a:pt x="10800" y="518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631">
                <a:moveTo>
                  <a:pt x="8224" y="9239"/>
                </a:moveTo>
                <a:lnTo>
                  <a:pt x="12088" y="9239"/>
                </a:lnTo>
                <a:lnTo>
                  <a:pt x="12088" y="16237"/>
                </a:lnTo>
                <a:lnTo>
                  <a:pt x="13376" y="16237"/>
                </a:lnTo>
                <a:lnTo>
                  <a:pt x="13376" y="17159"/>
                </a:lnTo>
                <a:lnTo>
                  <a:pt x="8224" y="17159"/>
                </a:lnTo>
                <a:lnTo>
                  <a:pt x="8224" y="16237"/>
                </a:lnTo>
                <a:lnTo>
                  <a:pt x="9512" y="16237"/>
                </a:lnTo>
                <a:lnTo>
                  <a:pt x="9512" y="10144"/>
                </a:lnTo>
                <a:lnTo>
                  <a:pt x="8224" y="101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593640" y="898560"/>
            <a:ext cx="834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Яка необхідна і достатня умова того, щоб момент імпульсу тіла, що обертається навколо нерухомої осі, обчислений відносно будь-якої точки на осі обертання, співпадав за напрямком з вектором кутової швидкості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544680" y="2262240"/>
            <a:ext cx="84834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99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Матриця тензора інерції є матрицею перетворення вектора кутової швидкості у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ектор моменту імпульсу (                       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5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 Обернем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вісь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истеми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координат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так,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щоб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он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ал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за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прямком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з      (т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цьому випадку        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   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Співпаді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напрямків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екторів   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означає, що                     Відповідно,                     Отже, віс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є головною віссю інерції для точки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(див. відповідь на завдання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1, де замість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Х</a:t>
            </a:r>
            <a:r>
              <a:rPr b="0" lang="uk-UA" sz="1800" spc="-1" strike="noStrike" baseline="-25000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було зручніше використовувати позначення </a:t>
            </a:r>
            <a:r>
              <a:rPr b="0" i="1" lang="uk-UA" sz="1800" spc="-1" strike="noStrike">
                <a:solidFill>
                  <a:srgbClr val="333399"/>
                </a:solidFill>
                <a:latin typeface="Times New Roman"/>
              </a:rPr>
              <a:t>О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У завданні йдеться про обчислення моменту імпульсу відносно </a:t>
            </a:r>
            <a:r>
              <a:rPr b="0" i="1" lang="uk-UA" sz="1600" spc="-1" strike="noStrike">
                <a:solidFill>
                  <a:srgbClr val="333399"/>
                </a:solidFill>
                <a:latin typeface="Comic Sans MS"/>
              </a:rPr>
              <a:t>будь-якої точки на осі обертання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 Це означає, що вісь обертання має бу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головною </a:t>
            </a:r>
            <a:r>
              <a:rPr b="1" lang="uk-UA" sz="1600" spc="-1" strike="noStrike">
                <a:solidFill>
                  <a:srgbClr val="333399"/>
                </a:solidFill>
                <a:latin typeface="Comic Sans MS"/>
              </a:rPr>
              <a:t>центральною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 віссю інерції ті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(див. відповідь на завдання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16</a:t>
            </a:r>
            <a:r>
              <a:rPr b="0" lang="uk-UA" sz="1600" spc="-1" strike="noStrike">
                <a:solidFill>
                  <a:srgbClr val="333399"/>
                </a:solidFill>
                <a:latin typeface="Comic Sans MS"/>
              </a:rPr>
              <a:t>.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8116920" y="3174840"/>
                <a:ext cx="241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595440" y="3467160"/>
                <a:ext cx="12366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3247920" y="2602080"/>
                <a:ext cx="130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8209080" y="3500280"/>
                <a:ext cx="24120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8650440" y="3411360"/>
                <a:ext cx="2268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3921120" y="3483000"/>
                <a:ext cx="10098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4354560" y="3857760"/>
                <a:ext cx="12272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1849320" y="3852720"/>
                <a:ext cx="11494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6" name=""/>
          <p:cNvSpPr/>
          <p:nvPr/>
        </p:nvSpPr>
        <p:spPr>
          <a:xfrm>
            <a:off x="2671920" y="5616720"/>
            <a:ext cx="4217760" cy="30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Управляющая кнопка: домой 85">
            <a:hlinkClick r:id="rId1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8056440" y="6313320"/>
            <a:ext cx="1035000" cy="486000"/>
          </a:xfrm>
          <a:custGeom>
            <a:avLst/>
            <a:gdLst>
              <a:gd name="textAreaLeft" fmla="*/ 31320 w 1035000"/>
              <a:gd name="textAreaRight" fmla="*/ 1003680 w 103500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45982" h="21600">
                <a:moveTo>
                  <a:pt x="0" y="0"/>
                </a:moveTo>
                <a:lnTo>
                  <a:pt x="45982" y="0"/>
                </a:lnTo>
                <a:lnTo>
                  <a:pt x="45982" y="21600"/>
                </a:lnTo>
                <a:lnTo>
                  <a:pt x="0" y="21600"/>
                </a:lnTo>
                <a:close/>
              </a:path>
              <a:path fill="lightenLess" w="45982" h="21600">
                <a:moveTo>
                  <a:pt x="0" y="0"/>
                </a:moveTo>
                <a:lnTo>
                  <a:pt x="45982" y="0"/>
                </a:lnTo>
                <a:lnTo>
                  <a:pt x="44582" y="1400"/>
                </a:lnTo>
                <a:lnTo>
                  <a:pt x="1400" y="1400"/>
                </a:lnTo>
                <a:close/>
              </a:path>
              <a:path fill="darken" w="45982" h="21600">
                <a:moveTo>
                  <a:pt x="45982" y="0"/>
                </a:moveTo>
                <a:lnTo>
                  <a:pt x="45982" y="21600"/>
                </a:lnTo>
                <a:lnTo>
                  <a:pt x="44582" y="20200"/>
                </a:lnTo>
                <a:lnTo>
                  <a:pt x="44582" y="1400"/>
                </a:lnTo>
                <a:close/>
              </a:path>
              <a:path fill="darkenLess" w="45982" h="21600">
                <a:moveTo>
                  <a:pt x="4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82" y="20200"/>
                </a:lnTo>
                <a:close/>
              </a:path>
              <a:path fill="lighten" w="4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982" h="21600">
                <a:moveTo>
                  <a:pt x="15984" y="7493"/>
                </a:moveTo>
                <a:lnTo>
                  <a:pt x="19492" y="7493"/>
                </a:lnTo>
                <a:lnTo>
                  <a:pt x="19492" y="12828"/>
                </a:lnTo>
                <a:cubicBezTo>
                  <a:pt x="19492" y="13751"/>
                  <a:pt x="20293" y="14482"/>
                  <a:pt x="21329" y="14482"/>
                </a:cubicBezTo>
                <a:lnTo>
                  <a:pt x="22991" y="14482"/>
                </a:lnTo>
                <a:cubicBezTo>
                  <a:pt x="24027" y="14482"/>
                  <a:pt x="24827" y="13751"/>
                  <a:pt x="24827" y="12828"/>
                </a:cubicBezTo>
                <a:lnTo>
                  <a:pt x="24827" y="7493"/>
                </a:lnTo>
                <a:lnTo>
                  <a:pt x="22991" y="7493"/>
                </a:lnTo>
                <a:lnTo>
                  <a:pt x="26499" y="3985"/>
                </a:lnTo>
                <a:lnTo>
                  <a:pt x="30172" y="7493"/>
                </a:lnTo>
                <a:lnTo>
                  <a:pt x="28335" y="7493"/>
                </a:lnTo>
                <a:lnTo>
                  <a:pt x="28335" y="12828"/>
                </a:lnTo>
                <a:cubicBezTo>
                  <a:pt x="28335" y="15596"/>
                  <a:pt x="25759" y="18155"/>
                  <a:pt x="22991" y="18155"/>
                </a:cubicBezTo>
                <a:lnTo>
                  <a:pt x="21329" y="18155"/>
                </a:lnTo>
                <a:cubicBezTo>
                  <a:pt x="18561" y="18155"/>
                  <a:pt x="15984" y="15596"/>
                  <a:pt x="1598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1207800"/>
            <a:ext cx="77342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5440" y="4940280"/>
            <a:ext cx="18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4. Половина тонкостінної сф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7520" y="2049480"/>
            <a:ext cx="30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1. Кругл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76480" y="2362320"/>
            <a:ext cx="1722240" cy="1722240"/>
            <a:chOff x="1176480" y="2362320"/>
            <a:chExt cx="1722240" cy="1722240"/>
          </a:xfrm>
        </p:grpSpPr>
        <p:sp>
          <p:nvSpPr>
            <p:cNvPr id="351" name=""/>
            <p:cNvSpPr/>
            <p:nvPr/>
          </p:nvSpPr>
          <p:spPr>
            <a:xfrm>
              <a:off x="1774800" y="391320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76480" y="2705040"/>
              <a:ext cx="1198440" cy="1200240"/>
            </a:xfrm>
            <a:prstGeom prst="ellipse">
              <a:avLst/>
            </a:prstGeom>
            <a:solidFill>
              <a:srgbClr val="808080">
                <a:alpha val="9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76600" y="236232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76600" y="269568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0560" y="2438640"/>
              <a:ext cx="190800" cy="237960"/>
            </a:xfrm>
            <a:custGeom>
              <a:avLst/>
              <a:gdLst>
                <a:gd name="textAreaLeft" fmla="*/ 25560 w 190800"/>
                <a:gd name="textAreaRight" fmla="*/ 165240 w 19080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76600" y="241956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7880" y="244656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614680" y="4797360"/>
            <a:ext cx="1912680" cy="1938240"/>
            <a:chOff x="2614680" y="4797360"/>
            <a:chExt cx="1912680" cy="193824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2614680" y="5011560"/>
              <a:ext cx="129528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262320" y="4857480"/>
              <a:ext cx="209520" cy="257400"/>
            </a:xfrm>
            <a:custGeom>
              <a:avLst/>
              <a:gdLst>
                <a:gd name="textAreaLeft" fmla="*/ 28080 w 209520"/>
                <a:gd name="textAreaRight" fmla="*/ 181440 w 209520"/>
                <a:gd name="textAreaTop" fmla="*/ 45000 h 257400"/>
                <a:gd name="textAreaBottom" fmla="*/ 186840 h 2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76440" y="484020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76440" y="6583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46520" y="479736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517680" y="27860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16240" y="206532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2. Прямокутна тонка пласт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772320" y="2076480"/>
            <a:ext cx="215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Чверть круглої тонкої пласт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305840" y="2635200"/>
            <a:ext cx="1098360" cy="1498320"/>
            <a:chOff x="7305840" y="2635200"/>
            <a:chExt cx="1098360" cy="1498320"/>
          </a:xfrm>
        </p:grpSpPr>
        <p:pic>
          <p:nvPicPr>
            <p:cNvPr id="368" name="" descr=""/>
            <p:cNvPicPr/>
            <p:nvPr/>
          </p:nvPicPr>
          <p:blipFill>
            <a:blip r:embed="rId3"/>
            <a:stretch/>
          </p:blipFill>
          <p:spPr>
            <a:xfrm>
              <a:off x="7305840" y="2635200"/>
              <a:ext cx="10569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8213760" y="2680920"/>
              <a:ext cx="190440" cy="23832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41760 h 238320"/>
                <a:gd name="textAreaBottom" fmla="*/ 172800 h 23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10600" y="26636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21400" y="26794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5120" y="376524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6904080" y="275112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1886040" y="50356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080" y="439560"/>
            <a:ext cx="8686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Як для тонкої пластинки довільної форми, що лежить у площині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Y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пов'язані: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а)      та      ;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б)   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   та    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868400" y="787320"/>
          <a:ext cx="343080" cy="33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68400" y="787320"/>
                    <a:ext cx="34308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1258920" y="728640"/>
          <a:ext cx="341280" cy="420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728640"/>
                    <a:ext cx="341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151680" y="744480"/>
          <a:ext cx="342720" cy="42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51680" y="744480"/>
                    <a:ext cx="3427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5565600" y="758880"/>
          <a:ext cx="341640" cy="4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5600" y="758880"/>
                    <a:ext cx="341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148360" y="743040"/>
          <a:ext cx="341280" cy="42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743040"/>
                    <a:ext cx="3412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>
            <a:hlinkClick r:id="rId16" action="ppaction://hlinksldjump"/>
          </p:cNvPr>
          <p:cNvSpPr/>
          <p:nvPr/>
        </p:nvSpPr>
        <p:spPr>
          <a:xfrm>
            <a:off x="4460760" y="7444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7" action="ppaction://hlinksldjump"/>
          </p:cNvPr>
          <p:cNvSpPr/>
          <p:nvPr/>
        </p:nvSpPr>
        <p:spPr>
          <a:xfrm>
            <a:off x="568440" y="781200"/>
            <a:ext cx="420480" cy="527040"/>
          </a:xfrm>
          <a:custGeom>
            <a:avLst/>
            <a:gdLst>
              <a:gd name="textAreaLeft" fmla="*/ 27000 w 420480"/>
              <a:gd name="textAreaRight" fmla="*/ 393480 w 420480"/>
              <a:gd name="textAreaTop" fmla="*/ 27000 h 527040"/>
              <a:gd name="textAreaBottom" fmla="*/ 500040 h 527040"/>
            </a:gdLst>
            <a:ahLst/>
            <a:rect l="textAreaLeft" t="textAreaTop" r="textAreaRight" b="textAreaBottom"/>
            <a:pathLst>
              <a:path w="21600" h="27069">
                <a:moveTo>
                  <a:pt x="0" y="0"/>
                </a:moveTo>
                <a:lnTo>
                  <a:pt x="21600" y="0"/>
                </a:lnTo>
                <a:lnTo>
                  <a:pt x="21600" y="27069"/>
                </a:lnTo>
                <a:lnTo>
                  <a:pt x="0" y="27069"/>
                </a:lnTo>
                <a:close/>
              </a:path>
              <a:path fill="lightenLess" w="21600" h="27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69">
                <a:moveTo>
                  <a:pt x="21600" y="0"/>
                </a:moveTo>
                <a:lnTo>
                  <a:pt x="21600" y="27069"/>
                </a:lnTo>
                <a:lnTo>
                  <a:pt x="20200" y="25669"/>
                </a:lnTo>
                <a:lnTo>
                  <a:pt x="20200" y="1400"/>
                </a:lnTo>
                <a:close/>
              </a:path>
              <a:path fill="darkenLess" w="21600" h="27069">
                <a:moveTo>
                  <a:pt x="21600" y="27069"/>
                </a:moveTo>
                <a:lnTo>
                  <a:pt x="0" y="27069"/>
                </a:lnTo>
                <a:lnTo>
                  <a:pt x="1400" y="25669"/>
                </a:lnTo>
                <a:lnTo>
                  <a:pt x="20200" y="25669"/>
                </a:lnTo>
                <a:close/>
              </a:path>
              <a:path fill="lighten" w="21600" h="27069">
                <a:moveTo>
                  <a:pt x="0" y="27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69"/>
                </a:lnTo>
                <a:close/>
              </a:path>
              <a:path fill="darken" w="21600" h="27069">
                <a:moveTo>
                  <a:pt x="10800" y="1753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69">
                <a:moveTo>
                  <a:pt x="11905" y="17016"/>
                </a:moveTo>
                <a:lnTo>
                  <a:pt x="11905" y="15058"/>
                </a:lnTo>
                <a:cubicBezTo>
                  <a:pt x="11905" y="14231"/>
                  <a:pt x="12236" y="13535"/>
                  <a:pt x="12837" y="13535"/>
                </a:cubicBezTo>
                <a:cubicBezTo>
                  <a:pt x="13968" y="13535"/>
                  <a:pt x="14865" y="12168"/>
                  <a:pt x="14865" y="10584"/>
                </a:cubicBezTo>
                <a:cubicBezTo>
                  <a:pt x="14865" y="8269"/>
                  <a:pt x="13011" y="6528"/>
                  <a:pt x="10800" y="6528"/>
                </a:cubicBezTo>
                <a:cubicBezTo>
                  <a:pt x="8589" y="6528"/>
                  <a:pt x="6918" y="8269"/>
                  <a:pt x="6918" y="10584"/>
                </a:cubicBezTo>
                <a:lnTo>
                  <a:pt x="8772" y="10584"/>
                </a:lnTo>
                <a:cubicBezTo>
                  <a:pt x="8772" y="9444"/>
                  <a:pt x="9695" y="8556"/>
                  <a:pt x="10800" y="8556"/>
                </a:cubicBezTo>
                <a:cubicBezTo>
                  <a:pt x="11905" y="8556"/>
                  <a:pt x="12837" y="9444"/>
                  <a:pt x="12837" y="10584"/>
                </a:cubicBezTo>
                <a:cubicBezTo>
                  <a:pt x="12837" y="11324"/>
                  <a:pt x="12367" y="12055"/>
                  <a:pt x="11905" y="12055"/>
                </a:cubicBezTo>
                <a:cubicBezTo>
                  <a:pt x="10800" y="12055"/>
                  <a:pt x="9695" y="13535"/>
                  <a:pt x="9695" y="15058"/>
                </a:cubicBezTo>
                <a:lnTo>
                  <a:pt x="9695" y="1701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8381880" y="257040"/>
            <a:ext cx="497160" cy="495000"/>
            <a:chOff x="8381880" y="257040"/>
            <a:chExt cx="497160" cy="495000"/>
          </a:xfrm>
        </p:grpSpPr>
        <p:sp>
          <p:nvSpPr>
            <p:cNvPr id="389" name=""/>
            <p:cNvSpPr/>
            <p:nvPr/>
          </p:nvSpPr>
          <p:spPr>
            <a:xfrm>
              <a:off x="8381880" y="25704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58200" y="3139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16040" y="272268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0000" y="6858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120080" y="268776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88040" y="2413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, 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18" action="ppaction://hlinksldjump"/>
          </p:cNvPr>
          <p:cNvSpPr/>
          <p:nvPr/>
        </p:nvSpPr>
        <p:spPr>
          <a:xfrm>
            <a:off x="3305160" y="273528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2080" y="26640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3280" y="71604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09960" y="49752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00" y="4087800"/>
            <a:ext cx="27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4032360"/>
            <a:ext cx="275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перпендикулярна  площині пластинки і проходить через її цен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4040280"/>
            <a:ext cx="24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Вісь у площині пласти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30600" y="2549520"/>
            <a:ext cx="2255760" cy="1447920"/>
            <a:chOff x="3630600" y="2549520"/>
            <a:chExt cx="2255760" cy="1447920"/>
          </a:xfrm>
        </p:grpSpPr>
        <p:sp>
          <p:nvSpPr>
            <p:cNvPr id="403" name=""/>
            <p:cNvSpPr/>
            <p:nvPr/>
          </p:nvSpPr>
          <p:spPr>
            <a:xfrm>
              <a:off x="3633840" y="3054240"/>
              <a:ext cx="2190600" cy="600120"/>
            </a:xfrm>
            <a:prstGeom prst="parallelogram">
              <a:avLst>
                <a:gd name="adj" fmla="val 91257"/>
              </a:avLst>
            </a:prstGeom>
            <a:solidFill>
              <a:srgbClr val="808080">
                <a:alpha val="8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29320" y="2549520"/>
              <a:ext cx="0" cy="7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29320" y="365436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7520" y="33386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1840" y="2614680"/>
              <a:ext cx="190440" cy="237960"/>
            </a:xfrm>
            <a:custGeom>
              <a:avLst/>
              <a:gdLst>
                <a:gd name="textAreaLeft" fmla="*/ 25560 w 190440"/>
                <a:gd name="textAreaRight" fmla="*/ 164880 w 190440"/>
                <a:gd name="textAreaTop" fmla="*/ 41400 h 237960"/>
                <a:gd name="textAreaBottom" fmla="*/ 1724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29320" y="2587680"/>
              <a:ext cx="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33920" y="318276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03800" y="362916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48240" y="3047760"/>
              <a:ext cx="2182680" cy="60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87880" y="3038400"/>
              <a:ext cx="109224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30600" y="3657600"/>
              <a:ext cx="164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278320" y="3038400"/>
              <a:ext cx="56376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638520" y="3039840"/>
              <a:ext cx="56376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Управляющая кнопка: домой 85">
            <a:hlinkClick r:id="rId19" action="ppaction://hlinksldjump"/>
          </p:cNvPr>
          <p:cNvSpPr/>
          <p:nvPr/>
        </p:nvSpPr>
        <p:spPr>
          <a:xfrm>
            <a:off x="79200" y="77760"/>
            <a:ext cx="390600" cy="363600"/>
          </a:xfrm>
          <a:custGeom>
            <a:avLst/>
            <a:gdLst>
              <a:gd name="textAreaLeft" fmla="*/ 23400 w 390600"/>
              <a:gd name="textAreaRight" fmla="*/ 367200 w 39060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3202" h="21600">
                <a:moveTo>
                  <a:pt x="0" y="0"/>
                </a:moveTo>
                <a:lnTo>
                  <a:pt x="23202" y="0"/>
                </a:lnTo>
                <a:lnTo>
                  <a:pt x="23202" y="21600"/>
                </a:lnTo>
                <a:lnTo>
                  <a:pt x="0" y="21600"/>
                </a:lnTo>
                <a:close/>
              </a:path>
              <a:path fill="lightenLess" w="23202" h="21600">
                <a:moveTo>
                  <a:pt x="0" y="0"/>
                </a:moveTo>
                <a:lnTo>
                  <a:pt x="23202" y="0"/>
                </a:lnTo>
                <a:lnTo>
                  <a:pt x="21802" y="1400"/>
                </a:lnTo>
                <a:lnTo>
                  <a:pt x="1400" y="1400"/>
                </a:lnTo>
                <a:close/>
              </a:path>
              <a:path fill="darken" w="23202" h="21600">
                <a:moveTo>
                  <a:pt x="23202" y="0"/>
                </a:moveTo>
                <a:lnTo>
                  <a:pt x="23202" y="21600"/>
                </a:lnTo>
                <a:lnTo>
                  <a:pt x="21802" y="20200"/>
                </a:lnTo>
                <a:lnTo>
                  <a:pt x="21802" y="1400"/>
                </a:lnTo>
                <a:close/>
              </a:path>
              <a:path fill="darkenLess" w="23202" h="21600">
                <a:moveTo>
                  <a:pt x="23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2" y="20200"/>
                </a:lnTo>
                <a:close/>
              </a:path>
              <a:path fill="lighten" w="23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02" h="21600">
                <a:moveTo>
                  <a:pt x="11601" y="3837"/>
                </a:moveTo>
                <a:lnTo>
                  <a:pt x="14177" y="6448"/>
                </a:lnTo>
                <a:lnTo>
                  <a:pt x="14177" y="4707"/>
                </a:lnTo>
                <a:lnTo>
                  <a:pt x="15953" y="4707"/>
                </a:lnTo>
                <a:lnTo>
                  <a:pt x="15953" y="8224"/>
                </a:lnTo>
                <a:lnTo>
                  <a:pt x="18564" y="10800"/>
                </a:lnTo>
                <a:lnTo>
                  <a:pt x="16910" y="10800"/>
                </a:lnTo>
                <a:lnTo>
                  <a:pt x="16910" y="17989"/>
                </a:lnTo>
                <a:lnTo>
                  <a:pt x="6292" y="17989"/>
                </a:lnTo>
                <a:lnTo>
                  <a:pt x="6292" y="10800"/>
                </a:lnTo>
                <a:lnTo>
                  <a:pt x="4638" y="10800"/>
                </a:lnTo>
                <a:close/>
              </a:path>
              <a:path fill="darkenLess" w="23202" h="21600">
                <a:moveTo>
                  <a:pt x="14177" y="6448"/>
                </a:moveTo>
                <a:lnTo>
                  <a:pt x="14177" y="4707"/>
                </a:lnTo>
                <a:lnTo>
                  <a:pt x="15953" y="4707"/>
                </a:lnTo>
                <a:lnTo>
                  <a:pt x="15953" y="8224"/>
                </a:lnTo>
                <a:close/>
              </a:path>
              <a:path fill="darkenLess" w="23202" h="21600">
                <a:moveTo>
                  <a:pt x="10679" y="14299"/>
                </a:moveTo>
                <a:lnTo>
                  <a:pt x="12524" y="14299"/>
                </a:lnTo>
                <a:lnTo>
                  <a:pt x="12524" y="17989"/>
                </a:lnTo>
                <a:lnTo>
                  <a:pt x="16910" y="17989"/>
                </a:lnTo>
                <a:lnTo>
                  <a:pt x="16910" y="10800"/>
                </a:lnTo>
                <a:lnTo>
                  <a:pt x="6292" y="10800"/>
                </a:lnTo>
                <a:lnTo>
                  <a:pt x="6292" y="17989"/>
                </a:lnTo>
                <a:lnTo>
                  <a:pt x="10679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7967520" y="633744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6838920" y="634032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98480" y="477720"/>
            <a:ext cx="72280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бчисліть момент інерції однорідної кулі відносно осі, що проходить через її центр, заповнюючи пропу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365640" y="1295280"/>
            <a:ext cx="5425920" cy="824040"/>
            <a:chOff x="3365640" y="1295280"/>
            <a:chExt cx="5425920" cy="824040"/>
          </a:xfrm>
        </p:grpSpPr>
        <p:sp>
          <p:nvSpPr>
            <p:cNvPr id="421" name=""/>
            <p:cNvSpPr/>
            <p:nvPr/>
          </p:nvSpPr>
          <p:spPr>
            <a:xfrm>
              <a:off x="3365640" y="1295280"/>
              <a:ext cx="542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Момент інерції кулі відносно вказаної осі (    ) пов’язаний з моментом інерції відносно її центра (    ) так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7947000" y="1300320"/>
            <a:ext cx="195120" cy="3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47000" y="1300320"/>
                      <a:ext cx="19512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4" name=""/>
            <p:cNvGraphicFramePr/>
            <p:nvPr/>
          </p:nvGraphicFramePr>
          <p:xfrm>
            <a:off x="8353440" y="1550880"/>
            <a:ext cx="272880" cy="33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53440" y="155088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6" name=""/>
          <p:cNvGraphicFramePr/>
          <p:nvPr/>
        </p:nvGraphicFramePr>
        <p:xfrm>
          <a:off x="5041800" y="2075040"/>
          <a:ext cx="122868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1800" y="2075040"/>
                    <a:ext cx="1228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592200" y="2925720"/>
            <a:ext cx="5840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Для знаходження    уявимо, що куля складається з концентричних тонких сферичних шарів (“тонкостінних сфер”). Маса шару радіус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і завтовш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 визначить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751120" y="2916360"/>
          <a:ext cx="273240" cy="33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51120" y="2916360"/>
                    <a:ext cx="2732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3073320" y="5222880"/>
            <a:ext cx="51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З урахуванням  зв'язку між     та       отримуємо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454560" y="5884920"/>
          <a:ext cx="896760" cy="48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4560" y="5884920"/>
                    <a:ext cx="8967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4" name=""/>
          <p:cNvGrpSpPr/>
          <p:nvPr/>
        </p:nvGrpSpPr>
        <p:grpSpPr>
          <a:xfrm>
            <a:off x="5830920" y="5211720"/>
            <a:ext cx="793800" cy="338040"/>
            <a:chOff x="5830920" y="5211720"/>
            <a:chExt cx="793800" cy="338040"/>
          </a:xfrm>
        </p:grpSpPr>
        <p:graphicFrame>
          <p:nvGraphicFramePr>
            <p:cNvPr id="435" name=""/>
            <p:cNvGraphicFramePr/>
            <p:nvPr/>
          </p:nvGraphicFramePr>
          <p:xfrm>
            <a:off x="5830920" y="5211720"/>
            <a:ext cx="195480" cy="30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30920" y="5211720"/>
                      <a:ext cx="195480" cy="3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7" name=""/>
            <p:cNvGraphicFramePr/>
            <p:nvPr/>
          </p:nvGraphicFramePr>
          <p:xfrm>
            <a:off x="6351840" y="5217840"/>
            <a:ext cx="272880" cy="331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51840" y="5217840"/>
                      <a:ext cx="27288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9" name="">
            <a:hlinkClick r:id="rId15" action="ppaction://hlinksldjump"/>
          </p:cNvPr>
          <p:cNvSpPr/>
          <p:nvPr/>
        </p:nvSpPr>
        <p:spPr>
          <a:xfrm>
            <a:off x="5464080" y="20034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260440" y="4014720"/>
          <a:ext cx="1541520" cy="486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60440" y="4014720"/>
                    <a:ext cx="154152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>
            <a:hlinkClick r:id="rId18" action="ppaction://hlinksldjump"/>
          </p:cNvPr>
          <p:cNvSpPr/>
          <p:nvPr/>
        </p:nvSpPr>
        <p:spPr>
          <a:xfrm>
            <a:off x="2873520" y="39067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7680" y="451800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Отже, за означенням моменту інерції відносно точки (див. 5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19" action="ppaction://hlinksldjump"/>
          </p:cNvPr>
          <p:cNvSpPr/>
          <p:nvPr/>
        </p:nvSpPr>
        <p:spPr>
          <a:xfrm>
            <a:off x="3862440" y="57546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006560" y="1295280"/>
            <a:ext cx="1866960" cy="1594080"/>
            <a:chOff x="1006560" y="1295280"/>
            <a:chExt cx="1866960" cy="1594080"/>
          </a:xfrm>
        </p:grpSpPr>
        <p:pic>
          <p:nvPicPr>
            <p:cNvPr id="446" name="" descr=""/>
            <p:cNvPicPr/>
            <p:nvPr/>
          </p:nvPicPr>
          <p:blipFill>
            <a:blip r:embed="rId20"/>
            <a:stretch/>
          </p:blipFill>
          <p:spPr>
            <a:xfrm>
              <a:off x="1006560" y="1344600"/>
              <a:ext cx="127476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1650960" y="27846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2560" y="1333440"/>
              <a:ext cx="152640" cy="190440"/>
            </a:xfrm>
            <a:custGeom>
              <a:avLst/>
              <a:gdLst>
                <a:gd name="textAreaLeft" fmla="*/ 20160 w 152640"/>
                <a:gd name="textAreaRight" fmla="*/ 132480 w 152640"/>
                <a:gd name="textAreaTop" fmla="*/ 33120 h 190440"/>
                <a:gd name="textAreaBottom" fmla="*/ 1382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92320" y="129528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55640" y="12952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707160" y="2832120"/>
            <a:ext cx="1585440" cy="1511280"/>
            <a:chOff x="6707160" y="2832120"/>
            <a:chExt cx="1585440" cy="1511280"/>
          </a:xfrm>
        </p:grpSpPr>
        <p:sp>
          <p:nvSpPr>
            <p:cNvPr id="452" name=""/>
            <p:cNvSpPr/>
            <p:nvPr/>
          </p:nvSpPr>
          <p:spPr>
            <a:xfrm>
              <a:off x="6707160" y="2832120"/>
              <a:ext cx="1511280" cy="1511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61040" y="3147840"/>
              <a:ext cx="823680" cy="84168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76840" y="3265560"/>
              <a:ext cx="2408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83320" y="3568680"/>
              <a:ext cx="350280" cy="6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4440" y="357012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07040" y="3568680"/>
              <a:ext cx="3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48400" y="395136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18160" y="317016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93000" y="3282840"/>
              <a:ext cx="39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462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086280" y="38448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87800" y="5684760"/>
            <a:ext cx="1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94480" y="193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776160" y="4921200"/>
          <a:ext cx="2163960" cy="949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76160" y="4921200"/>
                    <a:ext cx="21639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>
            <a:hlinkClick r:id="rId23" action="ppaction://hlinksldjump"/>
          </p:cNvPr>
          <p:cNvSpPr/>
          <p:nvPr/>
        </p:nvSpPr>
        <p:spPr>
          <a:xfrm>
            <a:off x="1424160" y="5145120"/>
            <a:ext cx="385560" cy="574560"/>
          </a:xfrm>
          <a:custGeom>
            <a:avLst/>
            <a:gdLst>
              <a:gd name="textAreaLeft" fmla="*/ 24840 w 385560"/>
              <a:gd name="textAreaRight" fmla="*/ 360720 w 385560"/>
              <a:gd name="textAreaTop" fmla="*/ 24840 h 574560"/>
              <a:gd name="textAreaBottom" fmla="*/ 549720 h 574560"/>
            </a:gdLst>
            <a:ahLst/>
            <a:rect l="textAreaLeft" t="textAreaTop" r="textAreaRight" b="textAreaBottom"/>
            <a:pathLst>
              <a:path w="21600" h="32178">
                <a:moveTo>
                  <a:pt x="0" y="0"/>
                </a:moveTo>
                <a:lnTo>
                  <a:pt x="21600" y="0"/>
                </a:lnTo>
                <a:lnTo>
                  <a:pt x="21600" y="32178"/>
                </a:lnTo>
                <a:lnTo>
                  <a:pt x="0" y="32178"/>
                </a:lnTo>
                <a:close/>
              </a:path>
              <a:path fill="lightenLess" w="21600" h="321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178">
                <a:moveTo>
                  <a:pt x="21600" y="0"/>
                </a:moveTo>
                <a:lnTo>
                  <a:pt x="21600" y="32178"/>
                </a:lnTo>
                <a:lnTo>
                  <a:pt x="20200" y="30778"/>
                </a:lnTo>
                <a:lnTo>
                  <a:pt x="20200" y="1400"/>
                </a:lnTo>
                <a:close/>
              </a:path>
              <a:path fill="darkenLess" w="21600" h="32178">
                <a:moveTo>
                  <a:pt x="21600" y="32178"/>
                </a:moveTo>
                <a:lnTo>
                  <a:pt x="0" y="32178"/>
                </a:lnTo>
                <a:lnTo>
                  <a:pt x="1400" y="30778"/>
                </a:lnTo>
                <a:lnTo>
                  <a:pt x="20200" y="30778"/>
                </a:lnTo>
                <a:close/>
              </a:path>
              <a:path fill="lighten" w="21600" h="32178">
                <a:moveTo>
                  <a:pt x="0" y="321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0778"/>
                </a:lnTo>
                <a:close/>
              </a:path>
              <a:path fill="darken" w="21600" h="32178">
                <a:moveTo>
                  <a:pt x="10800" y="2009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178">
                <a:moveTo>
                  <a:pt x="11905" y="19571"/>
                </a:moveTo>
                <a:lnTo>
                  <a:pt x="11905" y="17612"/>
                </a:lnTo>
                <a:cubicBezTo>
                  <a:pt x="11905" y="16785"/>
                  <a:pt x="12236" y="16089"/>
                  <a:pt x="12837" y="16089"/>
                </a:cubicBezTo>
                <a:cubicBezTo>
                  <a:pt x="13968" y="16089"/>
                  <a:pt x="14865" y="14723"/>
                  <a:pt x="14865" y="13139"/>
                </a:cubicBezTo>
                <a:cubicBezTo>
                  <a:pt x="14865" y="10823"/>
                  <a:pt x="13011" y="9083"/>
                  <a:pt x="10800" y="9083"/>
                </a:cubicBezTo>
                <a:cubicBezTo>
                  <a:pt x="8589" y="9083"/>
                  <a:pt x="6918" y="10823"/>
                  <a:pt x="6918" y="13139"/>
                </a:cubicBezTo>
                <a:lnTo>
                  <a:pt x="8772" y="13139"/>
                </a:lnTo>
                <a:cubicBezTo>
                  <a:pt x="8772" y="11998"/>
                  <a:pt x="9695" y="11111"/>
                  <a:pt x="10800" y="11111"/>
                </a:cubicBezTo>
                <a:cubicBezTo>
                  <a:pt x="11905" y="11111"/>
                  <a:pt x="12837" y="11998"/>
                  <a:pt x="12837" y="13139"/>
                </a:cubicBezTo>
                <a:cubicBezTo>
                  <a:pt x="12837" y="13878"/>
                  <a:pt x="12367" y="14610"/>
                  <a:pt x="11905" y="14610"/>
                </a:cubicBezTo>
                <a:cubicBezTo>
                  <a:pt x="10800" y="14610"/>
                  <a:pt x="9695" y="16089"/>
                  <a:pt x="9695" y="17612"/>
                </a:cubicBezTo>
                <a:lnTo>
                  <a:pt x="9695" y="195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24" action="ppaction://hlinksldjump"/>
          </p:cNvPr>
          <p:cNvSpPr/>
          <p:nvPr/>
        </p:nvSpPr>
        <p:spPr>
          <a:xfrm>
            <a:off x="2417760" y="509904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4040" y="504972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73200" y="5083200"/>
            <a:ext cx="20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150920" y="5576760"/>
            <a:ext cx="331560" cy="403200"/>
            <a:chOff x="1150920" y="5576760"/>
            <a:chExt cx="331560" cy="403200"/>
          </a:xfrm>
        </p:grpSpPr>
        <p:sp>
          <p:nvSpPr>
            <p:cNvPr id="474" name="">
              <a:hlinkClick r:id="rId25" action="ppaction://hlinksldjump"/>
            </p:cNvPr>
            <p:cNvSpPr/>
            <p:nvPr/>
          </p:nvSpPr>
          <p:spPr>
            <a:xfrm>
              <a:off x="1150920" y="5641920"/>
              <a:ext cx="252360" cy="338040"/>
            </a:xfrm>
            <a:custGeom>
              <a:avLst/>
              <a:gdLst>
                <a:gd name="textAreaLeft" fmla="*/ 16200 w 252360"/>
                <a:gd name="textAreaRight" fmla="*/ 236160 w 252360"/>
                <a:gd name="textAreaTop" fmla="*/ 16200 h 338040"/>
                <a:gd name="textAreaBottom" fmla="*/ 321840 h 338040"/>
              </a:gdLst>
              <a:ahLst/>
              <a:rect l="textAreaLeft" t="textAreaTop" r="textAreaRight" b="textAreaBottom"/>
              <a:pathLst>
                <a:path w="21600" h="28923">
                  <a:moveTo>
                    <a:pt x="0" y="0"/>
                  </a:moveTo>
                  <a:lnTo>
                    <a:pt x="21600" y="0"/>
                  </a:lnTo>
                  <a:lnTo>
                    <a:pt x="21600" y="28923"/>
                  </a:lnTo>
                  <a:lnTo>
                    <a:pt x="0" y="28923"/>
                  </a:lnTo>
                  <a:close/>
                </a:path>
                <a:path fill="lightenLess" w="21600" h="2892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923">
                  <a:moveTo>
                    <a:pt x="21600" y="0"/>
                  </a:moveTo>
                  <a:lnTo>
                    <a:pt x="21600" y="28923"/>
                  </a:lnTo>
                  <a:lnTo>
                    <a:pt x="20200" y="27523"/>
                  </a:lnTo>
                  <a:lnTo>
                    <a:pt x="20200" y="1400"/>
                  </a:lnTo>
                  <a:close/>
                </a:path>
                <a:path fill="darkenLess" w="21600" h="28923">
                  <a:moveTo>
                    <a:pt x="21600" y="28923"/>
                  </a:moveTo>
                  <a:lnTo>
                    <a:pt x="0" y="28923"/>
                  </a:lnTo>
                  <a:lnTo>
                    <a:pt x="1400" y="27523"/>
                  </a:lnTo>
                  <a:lnTo>
                    <a:pt x="20200" y="27523"/>
                  </a:lnTo>
                  <a:close/>
                </a:path>
                <a:path fill="lighten" w="21600" h="28923">
                  <a:moveTo>
                    <a:pt x="0" y="2892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523"/>
                  </a:lnTo>
                  <a:close/>
                </a:path>
                <a:path fill="darken" w="21600" h="28923">
                  <a:moveTo>
                    <a:pt x="10800" y="1846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8923">
                  <a:moveTo>
                    <a:pt x="11905" y="17943"/>
                  </a:moveTo>
                  <a:lnTo>
                    <a:pt x="11905" y="15985"/>
                  </a:lnTo>
                  <a:cubicBezTo>
                    <a:pt x="11905" y="15158"/>
                    <a:pt x="12236" y="14462"/>
                    <a:pt x="12837" y="14462"/>
                  </a:cubicBezTo>
                  <a:cubicBezTo>
                    <a:pt x="13968" y="14462"/>
                    <a:pt x="14865" y="13095"/>
                    <a:pt x="14865" y="11511"/>
                  </a:cubicBezTo>
                  <a:cubicBezTo>
                    <a:pt x="14865" y="9196"/>
                    <a:pt x="13011" y="7455"/>
                    <a:pt x="10800" y="7455"/>
                  </a:cubicBezTo>
                  <a:cubicBezTo>
                    <a:pt x="8589" y="7455"/>
                    <a:pt x="6918" y="9196"/>
                    <a:pt x="6918" y="11511"/>
                  </a:cubicBezTo>
                  <a:lnTo>
                    <a:pt x="8772" y="11511"/>
                  </a:lnTo>
                  <a:cubicBezTo>
                    <a:pt x="8772" y="10371"/>
                    <a:pt x="9695" y="9483"/>
                    <a:pt x="10800" y="9483"/>
                  </a:cubicBezTo>
                  <a:cubicBezTo>
                    <a:pt x="11905" y="9483"/>
                    <a:pt x="12837" y="10371"/>
                    <a:pt x="12837" y="11511"/>
                  </a:cubicBezTo>
                  <a:cubicBezTo>
                    <a:pt x="12837" y="12251"/>
                    <a:pt x="12367" y="12982"/>
                    <a:pt x="11905" y="12982"/>
                  </a:cubicBezTo>
                  <a:cubicBezTo>
                    <a:pt x="10800" y="12982"/>
                    <a:pt x="9695" y="14462"/>
                    <a:pt x="9695" y="15985"/>
                  </a:cubicBezTo>
                  <a:lnTo>
                    <a:pt x="9695" y="1794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91960" y="5576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155600" y="4751280"/>
            <a:ext cx="331560" cy="403200"/>
            <a:chOff x="1155600" y="4751280"/>
            <a:chExt cx="331560" cy="403200"/>
          </a:xfrm>
        </p:grpSpPr>
        <p:sp>
          <p:nvSpPr>
            <p:cNvPr id="477" name="">
              <a:hlinkClick r:id="rId26" action="ppaction://hlinksldjump"/>
            </p:cNvPr>
            <p:cNvSpPr/>
            <p:nvPr/>
          </p:nvSpPr>
          <p:spPr>
            <a:xfrm>
              <a:off x="1155600" y="4816440"/>
              <a:ext cx="252360" cy="338040"/>
            </a:xfrm>
            <a:custGeom>
              <a:avLst/>
              <a:gdLst>
                <a:gd name="textAreaLeft" fmla="*/ 16200 w 252360"/>
                <a:gd name="textAreaRight" fmla="*/ 236160 w 252360"/>
                <a:gd name="textAreaTop" fmla="*/ 16200 h 338040"/>
                <a:gd name="textAreaBottom" fmla="*/ 321840 h 338040"/>
              </a:gdLst>
              <a:ahLst/>
              <a:rect l="textAreaLeft" t="textAreaTop" r="textAreaRight" b="textAreaBottom"/>
              <a:pathLst>
                <a:path w="21600" h="28923">
                  <a:moveTo>
                    <a:pt x="0" y="0"/>
                  </a:moveTo>
                  <a:lnTo>
                    <a:pt x="21600" y="0"/>
                  </a:lnTo>
                  <a:lnTo>
                    <a:pt x="21600" y="28923"/>
                  </a:lnTo>
                  <a:lnTo>
                    <a:pt x="0" y="28923"/>
                  </a:lnTo>
                  <a:close/>
                </a:path>
                <a:path fill="lightenLess" w="21600" h="2892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8923">
                  <a:moveTo>
                    <a:pt x="21600" y="0"/>
                  </a:moveTo>
                  <a:lnTo>
                    <a:pt x="21600" y="28923"/>
                  </a:lnTo>
                  <a:lnTo>
                    <a:pt x="20200" y="27523"/>
                  </a:lnTo>
                  <a:lnTo>
                    <a:pt x="20200" y="1400"/>
                  </a:lnTo>
                  <a:close/>
                </a:path>
                <a:path fill="darkenLess" w="21600" h="28923">
                  <a:moveTo>
                    <a:pt x="21600" y="28923"/>
                  </a:moveTo>
                  <a:lnTo>
                    <a:pt x="0" y="28923"/>
                  </a:lnTo>
                  <a:lnTo>
                    <a:pt x="1400" y="27523"/>
                  </a:lnTo>
                  <a:lnTo>
                    <a:pt x="20200" y="27523"/>
                  </a:lnTo>
                  <a:close/>
                </a:path>
                <a:path fill="lighten" w="21600" h="28923">
                  <a:moveTo>
                    <a:pt x="0" y="2892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7523"/>
                  </a:lnTo>
                  <a:close/>
                </a:path>
                <a:path fill="darken" w="21600" h="28923">
                  <a:moveTo>
                    <a:pt x="10800" y="18465"/>
                  </a:moveTo>
                  <a:arcTo wR="1471" hR="1471" stAng="16200000" swAng="-5400000"/>
                  <a:arcTo wR="1471" hR="1471" stAng="10800000" swAng="-5400000"/>
                  <a:arcTo wR="1471" hR="1471" stAng="5400000" swAng="-5400000"/>
                  <a:arcTo wR="1471" hR="1471" stAng="0" swAng="-5400000"/>
                  <a:close/>
                </a:path>
                <a:path fill="darken" w="21600" h="28923">
                  <a:moveTo>
                    <a:pt x="11905" y="17943"/>
                  </a:moveTo>
                  <a:lnTo>
                    <a:pt x="11905" y="15985"/>
                  </a:lnTo>
                  <a:cubicBezTo>
                    <a:pt x="11905" y="15158"/>
                    <a:pt x="12236" y="14462"/>
                    <a:pt x="12837" y="14462"/>
                  </a:cubicBezTo>
                  <a:cubicBezTo>
                    <a:pt x="13968" y="14462"/>
                    <a:pt x="14865" y="13095"/>
                    <a:pt x="14865" y="11511"/>
                  </a:cubicBezTo>
                  <a:cubicBezTo>
                    <a:pt x="14865" y="9196"/>
                    <a:pt x="13011" y="7455"/>
                    <a:pt x="10800" y="7455"/>
                  </a:cubicBezTo>
                  <a:cubicBezTo>
                    <a:pt x="8589" y="7455"/>
                    <a:pt x="6918" y="9196"/>
                    <a:pt x="6918" y="11511"/>
                  </a:cubicBezTo>
                  <a:lnTo>
                    <a:pt x="8772" y="11511"/>
                  </a:lnTo>
                  <a:cubicBezTo>
                    <a:pt x="8772" y="10371"/>
                    <a:pt x="9695" y="9483"/>
                    <a:pt x="10800" y="9483"/>
                  </a:cubicBezTo>
                  <a:cubicBezTo>
                    <a:pt x="11905" y="9483"/>
                    <a:pt x="12837" y="10371"/>
                    <a:pt x="12837" y="11511"/>
                  </a:cubicBezTo>
                  <a:cubicBezTo>
                    <a:pt x="12837" y="12251"/>
                    <a:pt x="12367" y="12982"/>
                    <a:pt x="11905" y="12982"/>
                  </a:cubicBezTo>
                  <a:cubicBezTo>
                    <a:pt x="10800" y="12982"/>
                    <a:pt x="9695" y="14462"/>
                    <a:pt x="9695" y="15985"/>
                  </a:cubicBezTo>
                  <a:lnTo>
                    <a:pt x="9695" y="17943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96640" y="47512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c66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Управляющая кнопка: домой 85">
            <a:hlinkClick r:id="rId27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7967520" y="6318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6838920" y="6321600"/>
            <a:ext cx="1033560" cy="46008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080"/>
              <a:gd name="textAreaBottom" fmla="*/ 430560 h 460080"/>
            </a:gdLst>
            <a:ahLst/>
            <a:rect l="textAreaLeft" t="textAreaTop" r="textAreaRight" b="textAreaBottom"/>
            <a:pathLst>
              <a:path w="48503" h="21600">
                <a:moveTo>
                  <a:pt x="0" y="0"/>
                </a:moveTo>
                <a:lnTo>
                  <a:pt x="48503" y="0"/>
                </a:lnTo>
                <a:lnTo>
                  <a:pt x="48503" y="21600"/>
                </a:lnTo>
                <a:lnTo>
                  <a:pt x="0" y="21600"/>
                </a:lnTo>
                <a:close/>
              </a:path>
              <a:path fill="lightenLess" w="48503" h="21600">
                <a:moveTo>
                  <a:pt x="0" y="0"/>
                </a:moveTo>
                <a:lnTo>
                  <a:pt x="48503" y="0"/>
                </a:lnTo>
                <a:lnTo>
                  <a:pt x="47103" y="1400"/>
                </a:lnTo>
                <a:lnTo>
                  <a:pt x="1400" y="1400"/>
                </a:lnTo>
                <a:close/>
              </a:path>
              <a:path fill="darken" w="48503" h="21600">
                <a:moveTo>
                  <a:pt x="48503" y="0"/>
                </a:moveTo>
                <a:lnTo>
                  <a:pt x="48503" y="21600"/>
                </a:lnTo>
                <a:lnTo>
                  <a:pt x="47103" y="20200"/>
                </a:lnTo>
                <a:lnTo>
                  <a:pt x="47103" y="1400"/>
                </a:lnTo>
                <a:close/>
              </a:path>
              <a:path fill="darkenLess" w="48503" h="21600">
                <a:moveTo>
                  <a:pt x="48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03" y="20200"/>
                </a:lnTo>
                <a:close/>
              </a:path>
              <a:path fill="lighten" w="48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03" h="21600">
                <a:moveTo>
                  <a:pt x="17245" y="10800"/>
                </a:moveTo>
                <a:lnTo>
                  <a:pt x="31258" y="3794"/>
                </a:lnTo>
                <a:lnTo>
                  <a:pt x="3125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36560" y="415800"/>
            <a:ext cx="7734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овуючи попередні результати,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сн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найдіть моменти інерції тіл у випадк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36880" y="4361040"/>
            <a:ext cx="3888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3. Частина однорідної суцільної ку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omic Sans MS"/>
              </a:rPr>
              <a:t>(відносно кожної з осе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294920" y="4046400"/>
            <a:ext cx="2561040" cy="2506680"/>
            <a:chOff x="1294920" y="4046400"/>
            <a:chExt cx="2561040" cy="250668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1390680" y="4197240"/>
              <a:ext cx="223668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 flipV="1">
              <a:off x="2514600" y="4098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294920" y="5829480"/>
              <a:ext cx="26676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9000" y="5705640"/>
              <a:ext cx="2952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21080" y="6438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1365120" y="5213160"/>
              <a:ext cx="216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20840" y="581040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87680" y="5703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503440" y="404640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79720" y="44276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221440" y="1363680"/>
            <a:ext cx="3492360" cy="2284560"/>
            <a:chOff x="5221440" y="1363680"/>
            <a:chExt cx="3492360" cy="2284560"/>
          </a:xfrm>
        </p:grpSpPr>
        <p:sp>
          <p:nvSpPr>
            <p:cNvPr id="496" name=""/>
            <p:cNvSpPr/>
            <p:nvPr/>
          </p:nvSpPr>
          <p:spPr>
            <a:xfrm>
              <a:off x="5221440" y="1363680"/>
              <a:ext cx="349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2. Однорідний прямокутний паралелепіпе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732640" y="1890720"/>
              <a:ext cx="2815920" cy="1757520"/>
              <a:chOff x="5732640" y="1890720"/>
              <a:chExt cx="2815920" cy="1757520"/>
            </a:xfrm>
          </p:grpSpPr>
          <p:sp>
            <p:nvSpPr>
              <p:cNvPr id="498" name=""/>
              <p:cNvSpPr/>
              <p:nvPr/>
            </p:nvSpPr>
            <p:spPr>
              <a:xfrm>
                <a:off x="5819760" y="2257560"/>
                <a:ext cx="1495440" cy="1076040"/>
              </a:xfrm>
              <a:prstGeom prst="cube">
                <a:avLst>
                  <a:gd name="adj" fmla="val 25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5818320" y="1988640"/>
                <a:ext cx="0" cy="15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732640" y="203688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18320" y="201780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34360" y="189072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, a, b, 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32680" y="3279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26200" y="30495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88200" y="2440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966960" y="1414440"/>
            <a:ext cx="3039840" cy="2401920"/>
            <a:chOff x="966960" y="1414440"/>
            <a:chExt cx="3039840" cy="2401920"/>
          </a:xfrm>
        </p:grpSpPr>
        <p:sp>
          <p:nvSpPr>
            <p:cNvPr id="507" name=""/>
            <p:cNvSpPr/>
            <p:nvPr/>
          </p:nvSpPr>
          <p:spPr>
            <a:xfrm>
              <a:off x="966960" y="1414440"/>
              <a:ext cx="30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Comic Sans MS"/>
                </a:rPr>
                <a:t>1. Половина однорідної ку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1268280" y="2390760"/>
              <a:ext cx="1874880" cy="14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2114640" y="2076480"/>
              <a:ext cx="171360" cy="324000"/>
              <a:chOff x="2114640" y="2076480"/>
              <a:chExt cx="171360" cy="324000"/>
            </a:xfrm>
          </p:grpSpPr>
          <p:sp>
            <p:nvSpPr>
              <p:cNvPr id="510" name=""/>
              <p:cNvSpPr/>
              <p:nvPr/>
            </p:nvSpPr>
            <p:spPr>
              <a:xfrm flipV="1">
                <a:off x="2200320" y="207648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114640" y="2133720"/>
                <a:ext cx="171360" cy="247680"/>
              </a:xfrm>
              <a:custGeom>
                <a:avLst/>
                <a:gdLst>
                  <a:gd name="textAreaLeft" fmla="*/ 22680 w 171360"/>
                  <a:gd name="textAreaRight" fmla="*/ 148680 w 171360"/>
                  <a:gd name="textAreaTop" fmla="*/ 43200 h 247680"/>
                  <a:gd name="textAreaBottom" fmla="*/ 179640 h 247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200320" y="209556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606760" y="2101680"/>
              <a:ext cx="78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,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97080" y="238752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>
            <a:hlinkClick r:id="rId3" action="ppaction://hlinksldjump"/>
          </p:cNvPr>
          <p:cNvSpPr/>
          <p:nvPr/>
        </p:nvSpPr>
        <p:spPr>
          <a:xfrm>
            <a:off x="952560" y="1978200"/>
            <a:ext cx="449280" cy="57456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560"/>
              <a:gd name="textAreaBottom" fmla="*/ 545760 h 574560"/>
            </a:gdLst>
            <a:ahLst/>
            <a:rect l="textAreaLeft" t="textAreaTop" r="textAreaRight" b="textAreaBottom"/>
            <a:pathLst>
              <a:path w="21600" h="27618">
                <a:moveTo>
                  <a:pt x="0" y="0"/>
                </a:moveTo>
                <a:lnTo>
                  <a:pt x="21600" y="0"/>
                </a:lnTo>
                <a:lnTo>
                  <a:pt x="21600" y="27618"/>
                </a:lnTo>
                <a:lnTo>
                  <a:pt x="0" y="27618"/>
                </a:lnTo>
                <a:close/>
              </a:path>
              <a:path fill="lightenLess" w="21600" h="27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18">
                <a:moveTo>
                  <a:pt x="21600" y="0"/>
                </a:moveTo>
                <a:lnTo>
                  <a:pt x="21600" y="27618"/>
                </a:lnTo>
                <a:lnTo>
                  <a:pt x="20200" y="26218"/>
                </a:lnTo>
                <a:lnTo>
                  <a:pt x="20200" y="1400"/>
                </a:lnTo>
                <a:close/>
              </a:path>
              <a:path fill="darkenLess" w="21600" h="27618">
                <a:moveTo>
                  <a:pt x="21600" y="27618"/>
                </a:moveTo>
                <a:lnTo>
                  <a:pt x="0" y="27618"/>
                </a:lnTo>
                <a:lnTo>
                  <a:pt x="1400" y="26218"/>
                </a:lnTo>
                <a:lnTo>
                  <a:pt x="20200" y="26218"/>
                </a:lnTo>
                <a:close/>
              </a:path>
              <a:path fill="lighten" w="21600" h="27618">
                <a:moveTo>
                  <a:pt x="0" y="27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18"/>
                </a:lnTo>
                <a:close/>
              </a:path>
              <a:path fill="darken" w="21600" h="27618">
                <a:moveTo>
                  <a:pt x="10800" y="1781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18">
                <a:moveTo>
                  <a:pt x="11905" y="17291"/>
                </a:moveTo>
                <a:lnTo>
                  <a:pt x="11905" y="15332"/>
                </a:lnTo>
                <a:cubicBezTo>
                  <a:pt x="11905" y="14505"/>
                  <a:pt x="12236" y="13809"/>
                  <a:pt x="12837" y="13809"/>
                </a:cubicBezTo>
                <a:cubicBezTo>
                  <a:pt x="13968" y="13809"/>
                  <a:pt x="14865" y="12443"/>
                  <a:pt x="14865" y="10859"/>
                </a:cubicBezTo>
                <a:cubicBezTo>
                  <a:pt x="14865" y="8543"/>
                  <a:pt x="13011" y="6803"/>
                  <a:pt x="10800" y="6803"/>
                </a:cubicBezTo>
                <a:cubicBezTo>
                  <a:pt x="8589" y="6803"/>
                  <a:pt x="6918" y="8543"/>
                  <a:pt x="6918" y="10859"/>
                </a:cubicBezTo>
                <a:lnTo>
                  <a:pt x="8772" y="10859"/>
                </a:lnTo>
                <a:cubicBezTo>
                  <a:pt x="8772" y="9718"/>
                  <a:pt x="9695" y="8831"/>
                  <a:pt x="10800" y="8831"/>
                </a:cubicBezTo>
                <a:cubicBezTo>
                  <a:pt x="11905" y="8831"/>
                  <a:pt x="12837" y="9718"/>
                  <a:pt x="12837" y="10859"/>
                </a:cubicBezTo>
                <a:cubicBezTo>
                  <a:pt x="12837" y="11598"/>
                  <a:pt x="12367" y="12329"/>
                  <a:pt x="11905" y="12329"/>
                </a:cubicBezTo>
                <a:cubicBezTo>
                  <a:pt x="10800" y="12329"/>
                  <a:pt x="9695" y="13809"/>
                  <a:pt x="9695" y="15332"/>
                </a:cubicBezTo>
                <a:lnTo>
                  <a:pt x="9695" y="172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4" action="ppaction://hlinksldjump"/>
          </p:cNvPr>
          <p:cNvSpPr/>
          <p:nvPr/>
        </p:nvSpPr>
        <p:spPr>
          <a:xfrm>
            <a:off x="4789440" y="199692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5" action="ppaction://hlinksldjump"/>
          </p:cNvPr>
          <p:cNvSpPr/>
          <p:nvPr/>
        </p:nvSpPr>
        <p:spPr>
          <a:xfrm>
            <a:off x="990720" y="4127400"/>
            <a:ext cx="449280" cy="574920"/>
          </a:xfrm>
          <a:custGeom>
            <a:avLst/>
            <a:gdLst>
              <a:gd name="textAreaLeft" fmla="*/ 28800 w 449280"/>
              <a:gd name="textAreaRight" fmla="*/ 420480 w 449280"/>
              <a:gd name="textAreaTop" fmla="*/ 28800 h 574920"/>
              <a:gd name="textAreaBottom" fmla="*/ 546120 h 574920"/>
            </a:gdLst>
            <a:ahLst/>
            <a:rect l="textAreaLeft" t="textAreaTop" r="textAreaRight" b="textAreaBottom"/>
            <a:pathLst>
              <a:path w="21600" h="27636">
                <a:moveTo>
                  <a:pt x="0" y="0"/>
                </a:moveTo>
                <a:lnTo>
                  <a:pt x="21600" y="0"/>
                </a:lnTo>
                <a:lnTo>
                  <a:pt x="21600" y="27636"/>
                </a:lnTo>
                <a:lnTo>
                  <a:pt x="0" y="27636"/>
                </a:lnTo>
                <a:close/>
              </a:path>
              <a:path fill="lightenLess" w="21600" h="27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36">
                <a:moveTo>
                  <a:pt x="21600" y="0"/>
                </a:moveTo>
                <a:lnTo>
                  <a:pt x="21600" y="27636"/>
                </a:lnTo>
                <a:lnTo>
                  <a:pt x="20200" y="26236"/>
                </a:lnTo>
                <a:lnTo>
                  <a:pt x="20200" y="1400"/>
                </a:lnTo>
                <a:close/>
              </a:path>
              <a:path fill="darkenLess" w="21600" h="27636">
                <a:moveTo>
                  <a:pt x="21600" y="27636"/>
                </a:moveTo>
                <a:lnTo>
                  <a:pt x="0" y="27636"/>
                </a:lnTo>
                <a:lnTo>
                  <a:pt x="1400" y="26236"/>
                </a:lnTo>
                <a:lnTo>
                  <a:pt x="20200" y="26236"/>
                </a:lnTo>
                <a:close/>
              </a:path>
              <a:path fill="lighten" w="21600" h="27636">
                <a:moveTo>
                  <a:pt x="0" y="27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36"/>
                </a:lnTo>
                <a:close/>
              </a:path>
              <a:path fill="darken" w="21600" h="27636">
                <a:moveTo>
                  <a:pt x="10800" y="1782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636">
                <a:moveTo>
                  <a:pt x="11905" y="17299"/>
                </a:moveTo>
                <a:lnTo>
                  <a:pt x="11905" y="15341"/>
                </a:lnTo>
                <a:cubicBezTo>
                  <a:pt x="11905" y="14514"/>
                  <a:pt x="12236" y="13818"/>
                  <a:pt x="12837" y="13818"/>
                </a:cubicBezTo>
                <a:cubicBezTo>
                  <a:pt x="13968" y="13818"/>
                  <a:pt x="14865" y="12451"/>
                  <a:pt x="14865" y="10867"/>
                </a:cubicBezTo>
                <a:cubicBezTo>
                  <a:pt x="14865" y="8552"/>
                  <a:pt x="13011" y="6811"/>
                  <a:pt x="10800" y="6811"/>
                </a:cubicBezTo>
                <a:cubicBezTo>
                  <a:pt x="8589" y="6811"/>
                  <a:pt x="6918" y="8552"/>
                  <a:pt x="6918" y="10867"/>
                </a:cubicBezTo>
                <a:lnTo>
                  <a:pt x="8772" y="10867"/>
                </a:lnTo>
                <a:cubicBezTo>
                  <a:pt x="8772" y="9727"/>
                  <a:pt x="9695" y="8839"/>
                  <a:pt x="10800" y="8839"/>
                </a:cubicBezTo>
                <a:cubicBezTo>
                  <a:pt x="11905" y="8839"/>
                  <a:pt x="12837" y="9727"/>
                  <a:pt x="12837" y="10867"/>
                </a:cubicBezTo>
                <a:cubicBezTo>
                  <a:pt x="12837" y="11607"/>
                  <a:pt x="12367" y="12338"/>
                  <a:pt x="11905" y="12338"/>
                </a:cubicBezTo>
                <a:cubicBezTo>
                  <a:pt x="10800" y="12338"/>
                  <a:pt x="9695" y="13818"/>
                  <a:pt x="9695" y="15341"/>
                </a:cubicBezTo>
                <a:lnTo>
                  <a:pt x="9695" y="1729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8381880" y="200160"/>
            <a:ext cx="497160" cy="495000"/>
            <a:chOff x="8381880" y="200160"/>
            <a:chExt cx="497160" cy="495000"/>
          </a:xfrm>
        </p:grpSpPr>
        <p:sp>
          <p:nvSpPr>
            <p:cNvPr id="519" name=""/>
            <p:cNvSpPr/>
            <p:nvPr/>
          </p:nvSpPr>
          <p:spPr>
            <a:xfrm>
              <a:off x="8381880" y="200160"/>
              <a:ext cx="497160" cy="495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58200" y="25704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008680" y="19350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87280" y="191124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01680" y="405936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66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Управляющая кнопка: домой 85">
            <a:hlinkClick r:id="rId6" action="ppaction://hlinksldjump"/>
          </p:cNvPr>
          <p:cNvSpPr/>
          <p:nvPr/>
        </p:nvSpPr>
        <p:spPr>
          <a:xfrm>
            <a:off x="174600" y="201600"/>
            <a:ext cx="457200" cy="430200"/>
          </a:xfrm>
          <a:custGeom>
            <a:avLst/>
            <a:gdLst>
              <a:gd name="textAreaLeft" fmla="*/ 27720 w 457200"/>
              <a:gd name="textAreaRight" fmla="*/ 429480 w 457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2955" h="21600">
                <a:moveTo>
                  <a:pt x="0" y="0"/>
                </a:moveTo>
                <a:lnTo>
                  <a:pt x="22955" y="0"/>
                </a:lnTo>
                <a:lnTo>
                  <a:pt x="22955" y="21600"/>
                </a:lnTo>
                <a:lnTo>
                  <a:pt x="0" y="21600"/>
                </a:lnTo>
                <a:close/>
              </a:path>
              <a:path fill="lightenLess" w="22955" h="21600">
                <a:moveTo>
                  <a:pt x="0" y="0"/>
                </a:moveTo>
                <a:lnTo>
                  <a:pt x="22955" y="0"/>
                </a:lnTo>
                <a:lnTo>
                  <a:pt x="21555" y="1400"/>
                </a:lnTo>
                <a:lnTo>
                  <a:pt x="1400" y="1400"/>
                </a:lnTo>
                <a:close/>
              </a:path>
              <a:path fill="darken" w="22955" h="21600">
                <a:moveTo>
                  <a:pt x="22955" y="0"/>
                </a:moveTo>
                <a:lnTo>
                  <a:pt x="22955" y="21600"/>
                </a:lnTo>
                <a:lnTo>
                  <a:pt x="21555" y="20200"/>
                </a:lnTo>
                <a:lnTo>
                  <a:pt x="21555" y="1400"/>
                </a:lnTo>
                <a:close/>
              </a:path>
              <a:path fill="darkenLess" w="22955" h="21600">
                <a:moveTo>
                  <a:pt x="22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55" y="20200"/>
                </a:lnTo>
                <a:close/>
              </a:path>
              <a:path fill="lighten" w="22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55" h="21600">
                <a:moveTo>
                  <a:pt x="11477" y="3837"/>
                </a:moveTo>
                <a:lnTo>
                  <a:pt x="14054" y="6448"/>
                </a:ln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lnTo>
                  <a:pt x="18440" y="10800"/>
                </a:lnTo>
                <a:lnTo>
                  <a:pt x="16787" y="10800"/>
                </a:lnTo>
                <a:lnTo>
                  <a:pt x="16787" y="17989"/>
                </a:lnTo>
                <a:lnTo>
                  <a:pt x="6168" y="17989"/>
                </a:lnTo>
                <a:lnTo>
                  <a:pt x="6168" y="10800"/>
                </a:lnTo>
                <a:lnTo>
                  <a:pt x="4514" y="10800"/>
                </a:lnTo>
                <a:close/>
              </a:path>
              <a:path fill="darkenLess" w="22955" h="21600">
                <a:moveTo>
                  <a:pt x="14054" y="6448"/>
                </a:moveTo>
                <a:lnTo>
                  <a:pt x="14054" y="4707"/>
                </a:lnTo>
                <a:lnTo>
                  <a:pt x="15829" y="4707"/>
                </a:lnTo>
                <a:lnTo>
                  <a:pt x="15829" y="8224"/>
                </a:lnTo>
                <a:close/>
              </a:path>
              <a:path fill="darkenLess" w="22955" h="21600">
                <a:moveTo>
                  <a:pt x="10555" y="14299"/>
                </a:moveTo>
                <a:lnTo>
                  <a:pt x="12400" y="14299"/>
                </a:lnTo>
                <a:lnTo>
                  <a:pt x="12400" y="17989"/>
                </a:lnTo>
                <a:lnTo>
                  <a:pt x="16787" y="17989"/>
                </a:lnTo>
                <a:lnTo>
                  <a:pt x="16787" y="10800"/>
                </a:lnTo>
                <a:lnTo>
                  <a:pt x="6168" y="10800"/>
                </a:lnTo>
                <a:lnTo>
                  <a:pt x="6168" y="17989"/>
                </a:lnTo>
                <a:lnTo>
                  <a:pt x="10555" y="17989"/>
                </a:lnTo>
                <a:close/>
              </a:path>
            </a:pathLst>
          </a:custGeom>
          <a:noFill/>
          <a:ln w="255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7967520" y="6156360"/>
            <a:ext cx="1033560" cy="461880"/>
          </a:xfrm>
          <a:custGeom>
            <a:avLst/>
            <a:gdLst>
              <a:gd name="textAreaLeft" fmla="*/ 29880 w 1033560"/>
              <a:gd name="textAreaRight" fmla="*/ 1003680 w 103356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48314" h="21600">
                <a:moveTo>
                  <a:pt x="0" y="0"/>
                </a:moveTo>
                <a:lnTo>
                  <a:pt x="48314" y="0"/>
                </a:lnTo>
                <a:lnTo>
                  <a:pt x="48314" y="21600"/>
                </a:lnTo>
                <a:lnTo>
                  <a:pt x="0" y="21600"/>
                </a:lnTo>
                <a:close/>
              </a:path>
              <a:path fill="lightenLess" w="48314" h="21600">
                <a:moveTo>
                  <a:pt x="0" y="0"/>
                </a:moveTo>
                <a:lnTo>
                  <a:pt x="48314" y="0"/>
                </a:lnTo>
                <a:lnTo>
                  <a:pt x="46914" y="1400"/>
                </a:lnTo>
                <a:lnTo>
                  <a:pt x="1400" y="1400"/>
                </a:lnTo>
                <a:close/>
              </a:path>
              <a:path fill="darken" w="48314" h="21600">
                <a:moveTo>
                  <a:pt x="48314" y="0"/>
                </a:moveTo>
                <a:lnTo>
                  <a:pt x="48314" y="21600"/>
                </a:lnTo>
                <a:lnTo>
                  <a:pt x="46914" y="20200"/>
                </a:lnTo>
                <a:lnTo>
                  <a:pt x="46914" y="1400"/>
                </a:lnTo>
                <a:close/>
              </a:path>
              <a:path fill="darkenLess" w="48314" h="21600">
                <a:moveTo>
                  <a:pt x="48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14" y="20200"/>
                </a:lnTo>
                <a:close/>
              </a:path>
              <a:path fill="lighten" w="48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14" h="21600">
                <a:moveTo>
                  <a:pt x="17151" y="3794"/>
                </a:moveTo>
                <a:lnTo>
                  <a:pt x="31163" y="10800"/>
                </a:lnTo>
                <a:lnTo>
                  <a:pt x="171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previousslide"/>
          </p:cNvPr>
          <p:cNvSpPr/>
          <p:nvPr/>
        </p:nvSpPr>
        <p:spPr>
          <a:xfrm>
            <a:off x="6838920" y="6159600"/>
            <a:ext cx="1033560" cy="460440"/>
          </a:xfrm>
          <a:custGeom>
            <a:avLst/>
            <a:gdLst>
              <a:gd name="textAreaLeft" fmla="*/ 29520 w 1033560"/>
              <a:gd name="textAreaRight" fmla="*/ 1004040 w 1033560"/>
              <a:gd name="textAreaTop" fmla="*/ 29520 h 460440"/>
              <a:gd name="textAreaBottom" fmla="*/ 430920 h 460440"/>
            </a:gdLst>
            <a:ahLst/>
            <a:rect l="textAreaLeft" t="textAreaTop" r="textAreaRight" b="textAreaBottom"/>
            <a:pathLst>
              <a:path w="48465" h="21600">
                <a:moveTo>
                  <a:pt x="0" y="0"/>
                </a:moveTo>
                <a:lnTo>
                  <a:pt x="48465" y="0"/>
                </a:lnTo>
                <a:lnTo>
                  <a:pt x="48465" y="21600"/>
                </a:lnTo>
                <a:lnTo>
                  <a:pt x="0" y="21600"/>
                </a:lnTo>
                <a:close/>
              </a:path>
              <a:path fill="lightenLess" w="48465" h="21600">
                <a:moveTo>
                  <a:pt x="0" y="0"/>
                </a:moveTo>
                <a:lnTo>
                  <a:pt x="48465" y="0"/>
                </a:lnTo>
                <a:lnTo>
                  <a:pt x="47065" y="1400"/>
                </a:lnTo>
                <a:lnTo>
                  <a:pt x="1400" y="1400"/>
                </a:lnTo>
                <a:close/>
              </a:path>
              <a:path fill="darken" w="48465" h="21600">
                <a:moveTo>
                  <a:pt x="48465" y="0"/>
                </a:moveTo>
                <a:lnTo>
                  <a:pt x="48465" y="21600"/>
                </a:lnTo>
                <a:lnTo>
                  <a:pt x="47065" y="20200"/>
                </a:lnTo>
                <a:lnTo>
                  <a:pt x="47065" y="1400"/>
                </a:lnTo>
                <a:close/>
              </a:path>
              <a:path fill="darkenLess" w="48465" h="21600">
                <a:moveTo>
                  <a:pt x="48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65" y="20200"/>
                </a:lnTo>
                <a:close/>
              </a:path>
              <a:path fill="lighten" w="48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65" h="21600">
                <a:moveTo>
                  <a:pt x="17226" y="10800"/>
                </a:moveTo>
                <a:lnTo>
                  <a:pt x="31239" y="3794"/>
                </a:lnTo>
                <a:lnTo>
                  <a:pt x="312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4:01:28Z</dcterms:created>
  <dc:creator>Vial</dc:creator>
  <dc:description/>
  <dc:language>en-US</dc:language>
  <cp:lastModifiedBy>User</cp:lastModifiedBy>
  <dcterms:modified xsi:type="dcterms:W3CDTF">2011-12-11T16:31:52Z</dcterms:modified>
  <cp:revision>366</cp:revision>
  <dc:subject/>
  <dc:title>КІНЕТИЧНА ЕНЕРГІЯ ОРБІТАЛЬНОГО РУХУ ТІЛА</dc:title>
</cp:coreProperties>
</file>