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1B2-ABAE-4D24-949D-0AEE1E71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85C-46C8-436B-B389-4307FC0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B83-8011-43DC-B629-25859823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640-74A7-4549-A9C5-9DA53780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7CA9-AB02-4973-A201-F59E83E2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4E56-3C98-4CD1-B8B8-C6391D60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341C-6FD9-4AA4-A1E9-61C7D703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713F-DC22-41BB-A811-6C7605C8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EAC5-D10E-4229-B05E-6D89DE5A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393F-476A-4470-AEE6-E78AEB96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1595-2561-4637-B774-3BCBD303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E96-3FC0-494D-8B1C-6DCBAF53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7665-622B-4849-B540-40BB561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D5D9-39F5-46DE-BC0F-2E866EC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CE42-2E79-4A2E-A672-4EE411C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D222-23FB-4331-A87B-0C978DC2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18C-9734-4044-A6DE-15B44424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CA6F-A35D-4F62-A516-C4A817C6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29A-D145-4F56-B62C-EF2EF9B1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9BD-B48E-465F-A84F-1E203808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833-6CFF-4174-ABF8-C2FA5826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4AE-AA9B-4BCE-92B4-168C9FB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4A3-3F8E-4928-93C8-331CEC8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2C1-648E-4FBC-888B-935FB01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3E7-E165-4F51-A056-A29F32A0F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B56E-D6E0-454E-BC9F-E5A2EBBFC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6400800" cy="2260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Comic Sans MS"/>
              </a:rPr>
              <a:t>Вуглевод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752120" y="38858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Comic Sans MS"/>
              </a:rPr>
              <a:t>Їх властивості та значен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4419720" y="5943600"/>
            <a:ext cx="426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omic Sans MS"/>
              </a:rPr>
              <a:t>Проект підготували учні 11-А класу: Гера Анна, Дранчук Галина, Щекотіхін Віктор, Марушко Артур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5029200" y="685800"/>
            <a:ext cx="29145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и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8380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371600"/>
            <a:ext cx="411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ахариди — вуглеводи, які при нагріванні з водою в присутності мінеральних кислот чи під дією ферментів піддаються гідролізу, розкладаються на дві молекули моносахарид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895480" y="3881520"/>
            <a:ext cx="5410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уряковий та тростинний цукор (сахароза), С12 Н22 О11 — важливіший із дисахаридів. Добувається із цукрового буряку (в ньому знаходиться до 28% сахарози від сухої речовини) чи із цукрової тростини; знаходиться в соку берези, клену і деяких фруктах. Сахароза — цінний харчовий продукт. При гідролізі він розпадається з утворенням молекули глюкози і молекули фруктоз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3876840" cy="1825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4"/>
          <a:stretch/>
        </p:blipFill>
        <p:spPr>
          <a:xfrm>
            <a:off x="228600" y="3200400"/>
            <a:ext cx="1836720" cy="2057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4876920" y="838080"/>
            <a:ext cx="31525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і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0" y="1066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52280" y="1523880"/>
            <a:ext cx="4191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ісахариди — це вуглеводи, які багато в чому відрізняються від моносахаридів і дисахаридів і не мають солодкого смаку, і майже не розчинні в воді. Вони представляють собою складні високомолекулярні сполуки, які під каталітичним впливом кислот чи ферментів піддаються гідролізу з утворенням простіших поліцукридів, потім дицукридів, і, зрештою, багато (сотні і тисячі) молекул моноцукриді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962160" cy="1904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3276360" cy="2305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4724280" y="838080"/>
            <a:ext cx="33051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ліго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28600" y="9907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0" y="144792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лігосахариди — хімічні сполуки, в яких кілька залишків молекул моносахаридів з'єднані між собою ковалентними зв'язками. Серед них найпоширеніші дисахариди, які утворені внаслідок сполучення залишків двох молекул моносахаридів. Наприклад буряковий (або тростинний) цукор — сахароза — складається із залишків глюкози та фруктози, а солодовий — мальтоза — лише з залишків глюкози. Дисахариди мають солодкий присмак. Вони, як і моносахариди, добре розчинні у во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2819520" cy="277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4"/>
          <a:stretch/>
        </p:blipFill>
        <p:spPr>
          <a:xfrm>
            <a:off x="5410080" y="4952880"/>
            <a:ext cx="2086200" cy="1381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228600" y="152280"/>
            <a:ext cx="195264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же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666880" y="685800"/>
            <a:ext cx="5486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углеводи є найпоширенішими органічними сполуками, що підтверджується тим фактом, що більше половини органічного вуглецю на Землі існує у формі вуглевод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ебільшого вуглеводи є сполуками рослинного походження — це продукти фотосинтезу і таким чином вони є базовою ланкою у трансформації сонячної енергії у хімічну для забезпечення життя на Земл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ширена в природі група багатоатомних спиртів (цукрів, целюлози, крохмалю тощо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углеводи у великій кількості містяться в рослинних і тваринних організмах. У природі переважно поширені пентози і гексоз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40048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5"/>
          <p:cNvSpPr txBox="1"/>
          <p:nvPr/>
        </p:nvSpPr>
        <p:spPr>
          <a:xfrm>
            <a:off x="152280" y="152280"/>
            <a:ext cx="543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углеводи - склад та буд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2666880" cy="2173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3429000" y="91440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углеводи — органічні сполуки з емпіричною формулою Cm(H2O)n, до складу яких входять тільки Вуглець, Кисень та Водень. Вуглеводи є складовою частиною клітин усіх живих організм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28600" y="3276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яд з білками і жирами, вуглеводи — важлива складова частина харчування людини і тварин, багато з них використовується як технічна продукці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 хімічної точки зору це є полігідроксикарбонільні сполуки та їхні похідні із загальною формулою СnH2n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2400120" cy="2514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52280" y="152280"/>
            <a:ext cx="543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углеводи - склад та буд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28600" y="11430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йвідомішими представниками вуглеводів є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28600" y="1523880"/>
            <a:ext cx="266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 Целюлоза - полісахарид, волокниста речовина, головна складова частина оболонки рослинних кліти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971800" y="15238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́ль - полісахарид рослинного походження, що нагромаджується в результаті фотосинтезу у росли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1320" y="1523880"/>
            <a:ext cx="259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 Глюкоза -  виноградний цукор, або декстроза зустрічається в соку багатьох фруктів і ягід, у тому числі і винограду, від чого й пішла назва цього виду цукр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80880" y="35053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руктоза- моносахарид, який у вільному вигляді присутній майже у всіх солодких ягодах і плода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048120" y="396252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укро́за, сахаро́за (цукор), буряковий та тростинний цукор, важливий дисахари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1"/>
          <a:stretch/>
        </p:blipFill>
        <p:spPr>
          <a:xfrm>
            <a:off x="5638680" y="4343400"/>
            <a:ext cx="2691000" cy="1774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5791320" y="106668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юло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920" y="990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3667320" cy="169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3504960" cy="1892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228600" y="144792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начення целюлози дуже велике. З целюлози виробляють папір і картон, а шляхом хімічної переробки — цілий ряд різноманітних продуктів: штучне волокно, пластичні маси, лаки, бездимний порох, етиловий спир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638680" y="3657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257800" y="41148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люлоза не розчиняється в воді і діетиловому ефірі і етиловому спирті. Вона не розчеплюється під дією розбавлених кислот, стійка до дії лугів і слабких окисникі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4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5867280" y="1066680"/>
            <a:ext cx="1962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хмал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7"/>
          <p:cNvSpPr/>
          <p:nvPr/>
        </p:nvSpPr>
        <p:spPr>
          <a:xfrm>
            <a:off x="0" y="9907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Отримання крохмал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ль одержують з картоплі і рису, рідше — з інших зернових. Саго — крохмалистий продукт з деревини сагової пальми, а також деяких саговник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28600" y="2819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228600" y="320040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ль широко застосовується в харчовій галузі, при виробництві патоки різного вуглеводного складу, для одержання декстринів, глюкози, у медицині, у побут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133720" y="5105520"/>
            <a:ext cx="6400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охмаль та декстрини (продукти неповного гідролізу лінійних полісахаридів) позитивно впливають на холестериновий обмін, поліпшують травлення. Він входить як важливий компонент практично до всіх діє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5715000" y="990720"/>
            <a:ext cx="19335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люко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2819520" cy="1447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8"/>
          <p:cNvSpPr/>
          <p:nvPr/>
        </p:nvSpPr>
        <p:spPr>
          <a:xfrm>
            <a:off x="0" y="9907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Фізичні властивості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0" y="1523880"/>
            <a:ext cx="29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барвна кристалічна речовина солодкого смаку, розчинна у воді і органічних розчинниках, розчинні у реактиве Швейцера: аміачному розчині гідроксиду міді - Cu (NH3) 4 (OH) 2, в концентрованому розчині хлориду цинку і концентрованому розчині сірчаної кисло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4"/>
          <a:stretch/>
        </p:blipFill>
        <p:spPr>
          <a:xfrm>
            <a:off x="7086600" y="48769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1"/>
          <p:cNvSpPr/>
          <p:nvPr/>
        </p:nvSpPr>
        <p:spPr>
          <a:xfrm>
            <a:off x="2895480" y="3962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стосуванн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289548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Глюкзоа широко використовується в медицині, фармації, побуті, у харчовій промисловості тощ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5"/>
          <a:stretch/>
        </p:blipFill>
        <p:spPr>
          <a:xfrm>
            <a:off x="3429000" y="1600200"/>
            <a:ext cx="1565280" cy="1695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52280" y="228600"/>
            <a:ext cx="6734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арактеристика деяких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5562720" y="990720"/>
            <a:ext cx="24620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укоро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3210120" cy="18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2486160" cy="2089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"/>
          <p:cNvSpPr/>
          <p:nvPr/>
        </p:nvSpPr>
        <p:spPr>
          <a:xfrm>
            <a:off x="0" y="9144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Загальна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0" y="1295280"/>
            <a:ext cx="518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бутова назва — цукор. Білі, солодкі на смак кристали, добре розчинні у воді, погано — в спирт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лекула цукрози складається з залишків молекул глюкози і фруктоз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уже поширена у природі: синтезується в клітинах усіх зелених рослин і нагромаджується в стеблах, коренях, плодах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ож її використовують у харчовій та мікробіологічній промисловості для одержання спиртів, лимонної та молочної кислот, поверхнево-активних речовин. Ферментацією цукрози виробляєтся значний обсяг етилового спирт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228600" y="114300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Вуглеводи поділяються н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52280" y="1828800"/>
            <a:ext cx="221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носахариди — прості вуглеводи, вони не піддаються гідролізу — не розщеплюються водою на простіші вуглевод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286000" y="1828800"/>
            <a:ext cx="213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исахариди — вуглеводи, які при нагріванні з водою в присутності мінеральних кислот чи під дією ферментів піддаються гідроліз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267080" y="236232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лісахариди — це вуглеводи, які багато в чому відрізняються від моносахаридів і дисахаридів і не мають солодкого смаку, і майже не розчинні в во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6477120" y="236232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лігосахариди — хімічні сполуки, в яких кілька залишків молекул моносахаридів з'єднані між собою ковалентними зв'язк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11" descr=""/>
          <p:cNvPicPr/>
          <p:nvPr/>
        </p:nvPicPr>
        <p:blipFill>
          <a:blip r:embed="rId2"/>
          <a:stretch/>
        </p:blipFill>
        <p:spPr>
          <a:xfrm>
            <a:off x="4724280" y="5181480"/>
            <a:ext cx="3295800" cy="155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4"/>
          <p:cNvSpPr txBox="1"/>
          <p:nvPr/>
        </p:nvSpPr>
        <p:spPr>
          <a:xfrm>
            <a:off x="152280" y="152280"/>
            <a:ext cx="4743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асифікація вуглеводі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5105520" y="990720"/>
            <a:ext cx="2962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осахарид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9144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Comic Sans MS"/>
              </a:rPr>
              <a:t>Представники та їх характерис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1447920"/>
            <a:ext cx="4724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люкоза і виноградний цукор, С6Н12О6 - найважливіші з моносахаридів; білі кристали солодкі на смак, легко розчиняються у воді. Знаходяться в соку винограду, в багатьох фруктах, а також у крові тварин і людей. М'язова робота виконується головним чином за рахунок енергії, яка виділяється при окисленні глюкози. Глюкоза отримується при гідролізі полісахаридів крохмалю і целюлози. Використовується як засіб посиленого харчування, або як лікарська речовина, при обробці тканин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2847960" cy="1228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"/>
          <p:cNvPicPr/>
          <p:nvPr/>
        </p:nvPicPr>
        <p:blipFill>
          <a:blip r:embed="rId4"/>
          <a:stretch/>
        </p:blipFill>
        <p:spPr>
          <a:xfrm>
            <a:off x="4800600" y="3124080"/>
            <a:ext cx="3286080" cy="298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5-03-17T13:1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