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A47-12BC-4D3A-8AC8-B9F7C649F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FAA4-C7C0-4716-91BA-FA3C27A769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8275-BECC-457F-BACE-DEFF9483F3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EF6-BB39-43E2-9A27-7F6F795F10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5B25-40D0-4667-A919-75529ECBD9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DC9-4389-42ED-A8AA-639B38E11A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222-6DA0-4B14-A197-1878B90A8F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131-0747-47C9-A758-74AF9FA128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9662-3233-4D91-9B0C-FD71A71D78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08E1-5C00-4A8A-8695-8293E5F68A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EE1-7072-44C6-9146-5EE0081C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F1F-4471-4C00-8882-05AA457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B35-9905-4DD1-B142-4DD9392F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B57-F07C-4965-A018-7B936BE3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6A4B-124A-4FDE-A3E0-C99CA80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4134-49FA-48B9-BD99-926636D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870F-5BC2-4353-871E-E99A78DC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145-968F-4C8F-B31B-233498C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BEF1-BCF8-41F8-B878-1528EAF5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F82-5121-4D0F-BB5A-8ED519F4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BCD0-E98A-478A-AE9F-E6E4FC3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2C4-020E-4C92-8FD6-FC58D0C3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6D93-5780-4206-8046-9BEA969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52E0-90C6-4B20-A6E9-DBDFC33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4071-CD1B-4E5A-A18C-EF92ED1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9D48-ED08-4628-88EA-AAA1AF97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6170-8B51-4750-9C0F-D08D540E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F4C-6EDF-4A76-A0CB-4F20A99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EBE-BD92-4A43-8040-DA84640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077-CB8C-4220-8290-20450357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54A-3BCE-4DFF-ADCC-2B04766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56B-B0F3-4DD5-B4CF-B5338A8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095-B8A8-438D-9B86-0C5A807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F8-F73B-4482-9B40-D03D709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E578-43DE-4DD4-B30E-D2BE6708B9B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C7D9-4D8D-47AD-90F7-84D1895CED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r>
              <a:rPr b="0" lang="ru-RU" sz="8000" spc="-1" strike="noStrike">
                <a:solidFill>
                  <a:srgbClr val="ffff12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2"/>
                </a:solidFill>
                <a:latin typeface="Tahoma"/>
              </a:rPr>
              <a:t>Україна-Гетьманщ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іодизація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86160" y="1143000"/>
          <a:ext cx="4643640" cy="27147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714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ші великі перемоги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изволення значної частини українських зем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286160" y="4022640"/>
          <a:ext cx="4643640" cy="28353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озбудова Української козацької держави, продовження боротьб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2920" y="1214280"/>
          <a:ext cx="3071880" cy="26434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6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48 - серпень 1649 рр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4200" y="4143240"/>
          <a:ext cx="2928960" cy="2530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 періо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пень 1649  — січень 1654 рокі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Прямая со стрелкой 20" descr=""/>
          <p:cNvPicPr/>
          <p:nvPr/>
        </p:nvPicPr>
        <p:blipFill>
          <a:blip r:embed="rId1"/>
          <a:stretch/>
        </p:blipFill>
        <p:spPr>
          <a:xfrm>
            <a:off x="3060720" y="2335320"/>
            <a:ext cx="1328760" cy="66348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23"/>
          <p:cNvCxnSpPr/>
          <p:nvPr/>
        </p:nvCxnSpPr>
        <p:spPr>
          <a:xfrm>
            <a:off x="3142800" y="5500800"/>
            <a:ext cx="11437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572000" y="214200"/>
          <a:ext cx="4429080" cy="300060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0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яславська рада. Вступ Московського царства у війн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плетіння громадянської війни з визвольною боротьбою проти Польщі і Моск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2920" y="214200"/>
          <a:ext cx="3286080" cy="314028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314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І період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54 — липень 1657 р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42920" y="3475080"/>
          <a:ext cx="3357360" cy="323064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32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пень 1657 — червень 1663 р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3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4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0" y="214200"/>
          <a:ext cx="4429080" cy="301788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амагання польського і російського урядів поділити українську держав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агострення політичної боротьби, посилення втручання іноземних держав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іквідація державних інститутів на Правобережжі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разка революці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2920" y="214200"/>
          <a:ext cx="3071880" cy="28576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85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3 – 1668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2920" y="3475080"/>
          <a:ext cx="3143160" cy="32306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23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8 – 1676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9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0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00152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0" y="142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183cf"/>
                </a:solidFill>
                <a:latin typeface="Times New Roman"/>
                <a:ea typeface="Times New Roman"/>
              </a:rPr>
              <a:t>Б.  Хмельницький (1595-16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ttp://mykrai.files.wordpress.com/2012/04/bogdan_hmelnitskii.jpg"/>
          <p:cNvPicPr/>
          <p:nvPr/>
        </p:nvPicPr>
        <p:blipFill>
          <a:blip r:embed="rId1"/>
          <a:stretch/>
        </p:blipFill>
        <p:spPr>
          <a:xfrm>
            <a:off x="1692360" y="1197000"/>
            <a:ext cx="6116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одився  у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ім'ї укр. шляхтич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.Хмельницького 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гирині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Закінчив 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 єзуїтський колегіум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Знав кілька мов, історію, юриспруденцію, військову справу тощ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 складі військ коронного гетьмана С. Жолкевського, разом з батьком, брав участь у  поході проти Оттоманської Порти. У битві під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Цецорою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20 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батько Б. Хмельницького загинув, а сам він потрапив у полон (звільнився через два роки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4200" y="14292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нувшись із неволі, вступив до козацького реєстрового війська, досяг посад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ійськового пис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ле після поразки селянсько-козацького повстання  1637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38 рр. польський уряд позбавив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ельниц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ади, зробивш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гиринським сотн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42920" y="364320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олодів маєтком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хутором Суботовим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 Був одружений з донькою  переяславського купця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анною Сомко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четверо дітей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атерину, Олену, Тимоша та Юрк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езпосереднім приводом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 виступу Хмельницького проти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ул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собиста образа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ої йому завдав чигиринський підстароста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Д.Чаплінський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ін захопив  хутір Хмельницького в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Суботові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йже до смерті побив його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сина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икрав кохану жінку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лен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з якою той збирався одружитися. Намагання Хмельницького знайти управу н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Чаплінського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 польському суді не дали ніяких результаті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27 липня 165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раптова смерть зупинила діяльність гетьмана</a:t>
            </a:r>
            <a:r>
              <a:rPr b="0" lang="uk-UA" sz="3200" spc="-1" strike="noStrike">
                <a:solidFill>
                  <a:srgbClr val="ffff1a"/>
                </a:solidFill>
                <a:latin typeface="Tahoma"/>
              </a:rPr>
              <a:t>.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Похований в Іллінській церкві в Субботов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57168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ідготовк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до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овстанн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 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чаток підготовки до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-1647 р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ерівний центр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(Вешняк, Гиря, Кривоніс, брати Нечаї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Серпень-вересень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7 р.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проведення таємних рад щодо планів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02.1648 р.</a:t>
            </a: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оволодів З.С. і був обраний гетьм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ідготовка основної військової бази на З.С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Залучення реєстровц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Агітація міщ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1. </a:t>
            </a: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Причини революції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силка універсалів із закликом до боротьб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становлення дипломатичних відносин з Кримським х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іжнародна обстанов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56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була виснажена війнами з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Московією та Швецією та тридцятирічною війно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нгл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еволю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Франц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часи фрон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імеччин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тридцятирічна вій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Стрелка вправо 4"/>
          <p:cNvSpPr/>
          <p:nvPr/>
        </p:nvSpPr>
        <p:spPr>
          <a:xfrm>
            <a:off x="2786040" y="36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право 5"/>
          <p:cNvSpPr/>
          <p:nvPr/>
        </p:nvSpPr>
        <p:spPr>
          <a:xfrm>
            <a:off x="3000240" y="4429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право 6"/>
          <p:cNvSpPr/>
          <p:nvPr/>
        </p:nvSpPr>
        <p:spPr>
          <a:xfrm>
            <a:off x="3643200" y="5357880"/>
            <a:ext cx="1000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Основні події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143240"/>
                <a:gridCol w="5000760"/>
              </a:tblGrid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8 р. </a:t>
                      </a:r>
                      <a:r>
                        <a:rPr b="1" lang="ru-RU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и під Жовтими Водами, Корсунем, Пилявц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9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овим. 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озгром польс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1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ід Берестечком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. Поразка козац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ілоцерк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2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атого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4" descr="А. Серебряков Битва пыд Корсунем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4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429080" y="42876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. Серебряков  Битва під Корсу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А.С. Зборов.jpg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5214960" y="10000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. Серебряков  Битва під Збров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Зборівський договір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, Брацлавщина, Чернігівщина 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4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овстанцям – амністі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3" descr="А.С. Берестечко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542916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. Серебряко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ва під Бересте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Білоцерківський догові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 –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2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рив союзу Б.Х. з Крим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рава православної церк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еяславська Рад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8.01.1654 р.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– козацька рада в Переяславі (протекторат Росії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переконав старшину виступити на підтримку Москові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У січні-лютому 1654 </a:t>
            </a: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р.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 до присяги було приведено 177 нас-х пункт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дмовилися присягати полковник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ahoma"/>
              </a:rPr>
              <a:t>І.Богун та І.Сірк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хема 16" descr=""/>
          <p:cNvPicPr/>
          <p:nvPr/>
        </p:nvPicPr>
        <p:blipFill>
          <a:blip r:embed="rId1"/>
          <a:stretch/>
        </p:blipFill>
        <p:spPr>
          <a:xfrm>
            <a:off x="-12600" y="189000"/>
            <a:ext cx="9186840" cy="63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ерезневі статті (1654)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00080"/>
          <a:ext cx="9144000" cy="5673600"/>
        </p:xfrm>
        <a:graphic>
          <a:graphicData uri="http://schemas.openxmlformats.org/drawingml/2006/table">
            <a:tbl>
              <a:tblPr/>
              <a:tblGrid>
                <a:gridCol w="571680"/>
                <a:gridCol w="8572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ерховенство московського царя над Україно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єстр – 20 тис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етьмана обирає козацьке військо і сповіщає цар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одатки збирають укр. чинов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 містах - самоуправлі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сковія вступає у віну з Р.П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Оцінка  Переяслав-ського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договору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4200"/>
          <a:ext cx="9144000" cy="6467760"/>
        </p:xfrm>
        <a:graphic>
          <a:graphicData uri="http://schemas.openxmlformats.org/drawingml/2006/table">
            <a:tbl>
              <a:tblPr/>
              <a:tblGrid>
                <a:gridCol w="3714840"/>
                <a:gridCol w="5429160"/>
              </a:tblGrid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сональна уні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дин монарх. Збереження самоврядуванн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5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тектора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кр. – васальна, залежна територі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альна уні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лиття держа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42920"/>
          <a:ext cx="8929800" cy="65008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53005"/>
                          </a:solidFill>
                          <a:latin typeface="Tahoma"/>
                        </a:rPr>
                        <a:t>Неповна інкорпорація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cab8aa"/>
                    </a:solidFill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ійськово-політичний союз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21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озз'єднання України з Росією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начення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 Переяслав-ського договору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4354560" cy="63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Украї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2920" y="1000080"/>
            <a:ext cx="435456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берігав державність та устрі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сія - союзник проти Р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позбавив утисків на православ'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4720" y="213840"/>
            <a:ext cx="4498920" cy="63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1a"/>
                </a:solidFill>
                <a:latin typeface="Tahoma"/>
              </a:rPr>
              <a:t>Росі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1000080"/>
            <a:ext cx="449892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більшення армії за рахунок козац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ові землі й сир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козацькі війська захищали від турок та тат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повнення казни за рахунок податків з Украї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uk-UA" sz="80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Становлення української державності в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рок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ahoma"/>
              </a:rPr>
              <a:t>революції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3" descr="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479PX-~1"/>
          <p:cNvPicPr/>
          <p:nvPr/>
        </p:nvPicPr>
        <p:blipFill>
          <a:blip r:embed="rId1"/>
          <a:stretch/>
        </p:blipFill>
        <p:spPr>
          <a:xfrm>
            <a:off x="4786200" y="128592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7149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ена в сучасній науковій літературі назва укр. козацької держави на землях Наддніпрянщини, Сіверщини та Поділля у 1648-1764 p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фіційних документах вона називалась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ійсько Запорізьке, Князівство Руське, Мала Русь або Малоросі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тьманщ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Прямая со стрелкой 5"/>
          <p:cNvCxnSpPr/>
          <p:nvPr/>
        </p:nvCxnSpPr>
        <p:spPr>
          <a:xfrm flipH="1">
            <a:off x="3428640" y="927720"/>
            <a:ext cx="3643920" cy="286200"/>
          </a:xfrm>
          <a:prstGeom prst="straightConnector1">
            <a:avLst/>
          </a:prstGeom>
          <a:ln w="38160">
            <a:solidFill>
              <a:srgbClr val="f8a500"/>
            </a:solidFill>
            <a:miter/>
            <a:tailEnd len="med" type="arrow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gradFill rotWithShape="0">
            <a:gsLst>
              <a:gs pos="0">
                <a:srgbClr val="ffd27c"/>
              </a:gs>
              <a:gs pos="100000">
                <a:srgbClr val="fff1d9"/>
              </a:gs>
            </a:gsLst>
            <a:lin ang="16200000"/>
          </a:gradFill>
          <a:ln w="9360">
            <a:solidFill>
              <a:srgbClr val="f9a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3300"/>
                </a:solidFill>
                <a:latin typeface="Tahoma"/>
              </a:rPr>
              <a:t>Ознаки держав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2214360" cy="5072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12"/>
                </a:solidFill>
                <a:latin typeface="Tahoma"/>
              </a:rPr>
              <a:t>Будь-яка держава володіє певним набором ознак, що дозволяють визначати її як держа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2962440" y="1316160"/>
            <a:ext cx="6059160" cy="552924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право 5"/>
          <p:cNvSpPr/>
          <p:nvPr/>
        </p:nvSpPr>
        <p:spPr>
          <a:xfrm>
            <a:off x="2505240" y="3676680"/>
            <a:ext cx="547560" cy="48420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f8a5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16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"/>
              </a:rPr>
              <a:t>Політична влад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Ра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тьм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неральний уряд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33200"/>
            <a:ext cx="916920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тьман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ерував рад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чолюва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дміністр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Дипломатичні відноси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Очолював військ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онодавств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Судова функці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Резиденції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гетьмані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Чигирин, Гадяч, Батурин, Глух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Б.Хмельницький</a:t>
            </a:r>
            <a:r>
              <a:rPr b="0" lang="uk-UA" sz="44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азивав себе „единовладцем и самодержцем руським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великі земельні володіння - „рангові маєтності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особисту охорну (жолдаки), наймане військо (компанійці і сердюки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ідзнаки влади - клейн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лейнод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Хоругва             Була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ечатка            Бунчу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Литаври            Пірна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Пользователь\Документы\Картинки\Гетьманщина  XVII -XVIII СТ\bulava1[1].jpg"/>
          <p:cNvPicPr/>
          <p:nvPr/>
        </p:nvPicPr>
        <p:blipFill>
          <a:blip r:embed="rId1"/>
          <a:stretch/>
        </p:blipFill>
        <p:spPr>
          <a:xfrm>
            <a:off x="500040" y="214200"/>
            <a:ext cx="3929040" cy="628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Пользователь\Документы\Картинки\Гетьманщина  XVII -XVIII СТ\15[1].jpg"/>
          <p:cNvPicPr/>
          <p:nvPr/>
        </p:nvPicPr>
        <p:blipFill>
          <a:blip r:embed="rId2"/>
          <a:stretch/>
        </p:blipFill>
        <p:spPr>
          <a:xfrm>
            <a:off x="5143680" y="142920"/>
            <a:ext cx="3481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Пользователь\Документы\Картинки\Велике Князівство Литовське\перше козацтво\клейноди\kleinody.jpg"/>
          <p:cNvPicPr/>
          <p:nvPr/>
        </p:nvPicPr>
        <p:blipFill>
          <a:blip r:embed="rId1"/>
          <a:stretch/>
        </p:blipFill>
        <p:spPr>
          <a:xfrm>
            <a:off x="428760" y="142920"/>
            <a:ext cx="8572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Пользователь\Документы\Картинки\Гетьманщина  XVII -XVIII СТ\16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неральної Рад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голошення війни і підписання мир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зація військових поход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окарання злочинц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ибори гетьмана та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Гетьман, полковники та старшина збиралися на </a:t>
            </a: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раду генеральної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а раді готувалися питання, які виносилися на обговорення козацької р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Згодом до ради старшин переходить уся повнота влад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хема 16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Генеральна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3880" y="388620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старшин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-49320" y="55440"/>
            <a:ext cx="920592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19080" y="-49320"/>
            <a:ext cx="91756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a"/>
                </a:solidFill>
                <a:latin typeface="Arial"/>
              </a:rPr>
              <a:t>Територі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войовані українськими військами земл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200 тис. кв. к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ордони змінювалися згідно українсько-польським договор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560" y="6429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1a"/>
                </a:solidFill>
                <a:latin typeface="Tahoma"/>
              </a:rPr>
              <a:t>Політико-адміністративний устрі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Arial"/>
              </a:rPr>
              <a:t>Політико-адміністративний устрі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мість воєводств і повітів була створена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лкова – сотенна систем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16 полків, 272 сотні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лк міг охоплювати від 11 до 22 сот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овник,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олковий уряд, полков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Сотня      сотник, сотенний уряд, сотенн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Стрелка вправо с вырезом 3"/>
          <p:cNvSpPr/>
          <p:nvPr/>
        </p:nvSpPr>
        <p:spPr>
          <a:xfrm>
            <a:off x="2857680" y="571680"/>
            <a:ext cx="977760" cy="48384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3840"/>
              <a:gd name="textAreaBottom" fmla="*/ 362880 h 48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триховая стрелка вправо 4"/>
          <p:cNvSpPr/>
          <p:nvPr/>
        </p:nvSpPr>
        <p:spPr>
          <a:xfrm>
            <a:off x="3714840" y="3429000"/>
            <a:ext cx="977760" cy="484200"/>
          </a:xfrm>
          <a:custGeom>
            <a:avLst/>
            <a:gdLst/>
            <a:ahLst/>
            <a:rect l="l" t="t" r="r" b="b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Великі міста – магістрат  (магдебурзьке право)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Інші міста – городов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Села – сільськ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З.С. - автоном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1a"/>
                </a:solidFill>
                <a:latin typeface="Arial"/>
              </a:rPr>
              <a:t>Право та судочинст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Ґрунтувалося на нормах козацького, звичаєвого, церковного, магдебурзького прав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Польське законодавство не діяло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16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9174240" cy="64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Судова система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139760"/>
            <a:ext cx="9180360" cy="59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Принципи судочинств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мага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Глас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ідкритість судових засіда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Колегіальність при вирішенні судових спра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борність судд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пеляційне оскарження судових ріш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Фінансова система та податки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інанси поповнювались з основних джере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емельного ф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ів від промисл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атки і ор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1654 р. – введена посада ген. підскарб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Митні податки: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індукта – на ім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евекта – на екс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Arial"/>
              </a:rPr>
              <a:t>Збройні сили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560" y="142848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300 тис. вояк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іхот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Кінно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Артилері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Гармат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6" name="Picture 5" descr="C:\Users\Пользователь\Документы\Картинки\Велике Князівство Литовське\Війни, зброя, воїни\оружие\Козацькі гармати, мортири та ядра.jpg"/>
          <p:cNvPicPr/>
          <p:nvPr/>
        </p:nvPicPr>
        <p:blipFill>
          <a:blip r:embed="rId1"/>
          <a:stretch/>
        </p:blipFill>
        <p:spPr>
          <a:xfrm>
            <a:off x="1214280" y="92880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Соціальна структур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8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133640"/>
            <a:ext cx="9169200" cy="58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Зовнішня політик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Міжнародне визнання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Гетьман мав дипломатичні відносини з </a:t>
            </a: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Австрією, Кримом,  Молдовою, Польщею, Росією та ін.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Особливості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Складне геополітичне становище, яке обумовило надзвичайну ситу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ержава виникла з надр З.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Переплетіння республіканської і монархічної форм правлі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йськово-територіальний поді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Своєрідність правової систе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творення армії не по класичній схемі (військо створює свої державні інститути)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e183cf"/>
                </a:solidFill>
                <a:latin typeface="Arial"/>
              </a:rPr>
              <a:t>Рушійні сили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Разом з українцями у війні брали участь </a:t>
            </a:r>
            <a:r>
              <a:rPr b="1" lang="uk-UA" sz="5400" spc="-1" strike="noStrike">
                <a:solidFill>
                  <a:srgbClr val="e183cf"/>
                </a:solidFill>
                <a:latin typeface="Tahoma"/>
              </a:rPr>
              <a:t>23 народності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росія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іло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молдов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сер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олга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Причини поразк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ідсутність досвіду державного будівництва у еліти, яка очолила визво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ереважання у козацтва особистих, групових чи станових інтересів над національними, державн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рада національних інтересів більшістю  української елі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сформованість національної іде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озкол України на два гетьман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рорахунки наступних урядів у проведенні внутрішньої політики, які загострили соціа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зні зовнішньополітичні орієнтації старшинських угруповань, що були спричинені пошуками виходу із складного геополітичного становищ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стійна агресія з боку сусідніх держ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емографічні втрати населення від епідемій, голоду, міграцій склали 2,5-3 млн людей (з 5 млн. етнічних українців Речі Посполитої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Значенн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ривела до створення національної держав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ула 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новлен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традиці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державотворення українського нар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формувала і проголосила національну ідею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ею незалежності, свободи і побудови власної держа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іграла визначальну роль у формуванні нової політичної ел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тала імпульсом для розвитку національної самосвідомост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багатила традиції боротьби проти національно-релігійного та соціального гнобл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ірвала плани Ватикану про укладення „універсальної унії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їнському народу вдалося зберегти свою етнічну самобутність, свою мову, культуру, звичаї, врятуватися від геноци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правила глибокий і тривалий вплив на розвиток народної творчості, історичної та художньої літерату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результаті визвольних змагань за державою закріплюється назва «Украї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279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8a500"/>
                </a:solidFill>
                <a:latin typeface="Arial"/>
              </a:rPr>
              <a:t>Завданн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206360"/>
            <a:ext cx="935676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49:49Z</dcterms:created>
  <dc:creator>user</dc:creator>
  <dc:description/>
  <dc:language>en-US</dc:language>
  <cp:lastModifiedBy>Admin</cp:lastModifiedBy>
  <dcterms:modified xsi:type="dcterms:W3CDTF">2013-11-20T09:42:19Z</dcterms:modified>
  <cp:revision>321</cp:revision>
  <dc:subject/>
  <dc:title>Тема лекції: </dc:title>
</cp:coreProperties>
</file>