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AF82E-CC8B-4952-8E79-F0B3768A0D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332C0-AA47-482E-B882-D7E41B9251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27C69-2523-4484-80AE-38B0886E86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D4CB9-289E-4F11-86BA-B325C0EC50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F25B0-162D-4D5C-8E4F-008EBCBC68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343B8-7DF4-4D23-9167-B102051DD6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6DC66-C9FA-4BDA-98DD-C87DD8F051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CA5AB-069F-42E6-A7C2-D26EE0AA70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E3DB0-AA4C-41CA-A4B0-C71A40B560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008A1-0943-4C31-812A-4FD7FB17B6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ADFDA-3251-4D48-97CF-510720FB4F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9829C-1A9A-4951-9833-63076DB6CD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3FDAE-9259-49EA-8BAF-90FB648F8C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D120D-31DB-478A-9D32-F9BC67E5A6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C6E61-AEAE-4952-8545-D64AC6C92B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11A20-542D-4B65-9893-4CA67E1435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F9ECF-484D-47C6-A0C1-32FF56A732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9A434-0E80-40A7-AD3C-02269E4BED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530F0-33F1-43F6-8B2C-292A16E866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6C047-4F66-49E8-B264-345404E9DB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EF4BD-6E2E-4428-AAB3-FD2EEA5433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81C8A-F309-4D48-A86B-8BEB528D25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300D2-6216-45B1-BD88-EA70FAF8DB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E2293-7674-4738-8DA2-321BEDA9C1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63319-9726-4A91-9743-7C9E84213B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DC826-C6F2-4DBD-87A9-8B3D81890D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C2F40-25B2-4D69-A849-5D8F38B029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DD9FC-5CA8-470E-9762-3083B515ED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E4EE0-AF68-47CC-88B2-CC8E9A4BDB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C8EA2-550B-409F-9D90-EAAAA81F9B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30055-F838-4BD1-975D-3D7F586682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246B3-EA1C-4B91-BF5B-2B56259499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AA2D8-8080-4FF5-8043-4791495613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DCC5D-AB73-4E61-921E-F96BF7F369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50B1C-2827-433E-B255-3462D7F25D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216A4-60EF-4EE7-8174-1236631630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F6EDC-7691-4B4C-9C33-A8ED12B30A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8D225-5810-4C91-808E-CEF9E4570A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B4D97-C993-4010-823C-5EAE7904D6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5D5DD-72A9-4901-B528-CD42A55461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B3564-62A0-4646-AFBD-BED0CE212B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53E83-3F9E-4771-A1CB-39203BFEBC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BAFD2-58BD-4128-BB5D-3AB374DD37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718-2E07-4745-AEC8-2822B5E7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E4C-D3EF-440F-8DB0-FD31D6C0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CE8-99C8-4464-BD40-00C2C560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668-12CB-4515-9FEF-FE34517D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373-4AEE-4997-9CE8-92227888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79E-757C-4C57-B76A-E30F26FE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423-11A2-4AB0-86CF-34CCD2FF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1E1-3C07-4351-BE9A-36A20EB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269-6C63-4994-B5A3-D00CF465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9D6-9E24-451A-8C7C-E8EB42AC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072-A59D-4CEB-8269-F1818B4F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BAF-C702-431E-8A14-B24C211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2FF589-8607-4905-AC74-4EF1D93AF0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5440" y="207720"/>
            <a:ext cx="942984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Звичаєве право </a:t>
            </a:r>
            <a:br>
              <a:rPr sz="8000"/>
            </a:br>
            <a:r>
              <a:rPr b="1" lang="uk-UA" sz="8000" spc="-1" strike="noStrike">
                <a:solidFill>
                  <a:srgbClr val="00b0f0"/>
                </a:solidFill>
                <a:latin typeface="Arial"/>
              </a:rPr>
              <a:t>запорозьких козаків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584360" y="3419640"/>
            <a:ext cx="6638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44200" cy="19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Форми перетворення звичаїв </a:t>
            </a: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у правові форм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Содержимое 4" descr=""/>
          <p:cNvPicPr/>
          <p:nvPr/>
        </p:nvPicPr>
        <p:blipFill>
          <a:blip r:embed="rId1"/>
          <a:stretch/>
        </p:blipFill>
        <p:spPr>
          <a:xfrm>
            <a:off x="-19080" y="1908000"/>
            <a:ext cx="10242720" cy="55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9600"/>
            <a:ext cx="1008072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вичаєве право 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апорозьких козаків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07800"/>
            <a:ext cx="9720360" cy="63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купність правових звичаїв, які діяли на території Запорозьких Вольностей в XVI - XVIII 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 flipH="1">
            <a:off x="2325600" y="3637080"/>
            <a:ext cx="2857680" cy="500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5183280" y="3637080"/>
            <a:ext cx="2857320" cy="357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5183280" y="3637080"/>
            <a:ext cx="1440" cy="25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8360" y="3994200"/>
            <a:ext cx="33796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рматив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54160" y="6012000"/>
            <a:ext cx="950112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мовлювалися конкретно-історич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овами існування козаць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спі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969160" y="3994200"/>
            <a:ext cx="39290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ускалися верховн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жаною влад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Матеріальна основа 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козацького права 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2565360"/>
            <a:ext cx="100807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пецифічні суспільно-економічні відносини, які склалися в Запорозькій Січ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3"/>
          <p:cNvSpPr/>
          <p:nvPr/>
        </p:nvSpPr>
        <p:spPr>
          <a:xfrm>
            <a:off x="4754520" y="2279520"/>
            <a:ext cx="500040" cy="9288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Юридичне</a:t>
            </a:r>
            <a:br>
              <a:rPr sz="8000"/>
            </a:b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 джерело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350800"/>
            <a:ext cx="100807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нсформовані норми давньоруського права, пристосовані до конкретно-історичних умов, норми звичаєвого права українського народу, різноманітні запозичення з правових норм і традицій сусідніх народ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3"/>
          <p:cNvSpPr/>
          <p:nvPr/>
        </p:nvSpPr>
        <p:spPr>
          <a:xfrm>
            <a:off x="7326360" y="1565280"/>
            <a:ext cx="500040" cy="9288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6080"/>
            <a:ext cx="10080720" cy="1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Етапи розвитку правових норм запорожців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(М. Слабченко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1240" y="1851120"/>
          <a:ext cx="9824760" cy="5572080"/>
        </p:xfrm>
        <a:graphic>
          <a:graphicData uri="http://schemas.openxmlformats.org/drawingml/2006/table">
            <a:tbl>
              <a:tblPr/>
              <a:tblGrid>
                <a:gridCol w="3274920"/>
                <a:gridCol w="3274920"/>
                <a:gridCol w="3274920"/>
              </a:tblGrid>
              <a:tr h="998280">
                <a:tc>
                  <a:txBody>
                    <a:bodyPr lIns="90000" rIns="90000" tIns="784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 етап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4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І ета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84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ІІ ета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 ст. –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8 р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8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9 рр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488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9 –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5 рр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9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іод окремих вироків, що часто повторюючись, відтворювали поняття про прецеде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іод, що викликав до життя, на ґрунті цих прецедентів, звича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іод, в якому фігурували писані закони, характерні для класового пануван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2160" y="-360"/>
            <a:ext cx="98982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еріодизація звичаєвого права</a:t>
            </a:r>
            <a:br>
              <a:rPr sz="4400"/>
            </a:b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(зміни у характері правових норм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165240" y="1719360"/>
            <a:ext cx="976464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11240" y="1636200"/>
            <a:ext cx="978696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262699"/>
                </a:solidFill>
                <a:latin typeface="Arial"/>
              </a:rPr>
              <a:t>Причини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262699"/>
                </a:solidFill>
                <a:latin typeface="Arial"/>
              </a:rPr>
              <a:t>існування звичаєвого права в усній форм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237960" y="-115920"/>
            <a:ext cx="9850680" cy="76802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ая соединительная линия 4"/>
          <p:cNvSpPr/>
          <p:nvPr/>
        </p:nvSpPr>
        <p:spPr>
          <a:xfrm>
            <a:off x="4824360" y="1116000"/>
            <a:ext cx="647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36440"/>
            <a:ext cx="9898200" cy="714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Право регулювал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ядок ведення військових ді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ядок користування спільними зем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тановлювало покарання за злоч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ватні мотиви в праві були практично відсут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низ 2"/>
          <p:cNvSpPr/>
          <p:nvPr/>
        </p:nvSpPr>
        <p:spPr>
          <a:xfrm>
            <a:off x="4464000" y="1187280"/>
            <a:ext cx="1008000" cy="100836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0b8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58320"/>
            <a:ext cx="98982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Характерні риси 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вичаєвого права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767960"/>
            <a:ext cx="9969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поративність п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інуюча роль «публічного пра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ідсутність поділу на окремі галузі пр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на форма вираження правових н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серва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ядові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сить суворі покар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ироке застосування смертної ка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трелка вниз 3"/>
          <p:cNvSpPr/>
          <p:nvPr/>
        </p:nvSpPr>
        <p:spPr>
          <a:xfrm>
            <a:off x="8280360" y="1258920"/>
            <a:ext cx="100800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0920" cy="1494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Зміст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1494000"/>
            <a:ext cx="989820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514440" indent="-514440" algn="ctr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вичаєве право запорозьких коза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ивільн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1 Право власнос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2 Зобов’язальн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Кримінальн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1 Поняття і види злоч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2 Мета і види покар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. Процесуальн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240" y="0"/>
            <a:ext cx="9858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Норми звичаєвого права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(за змістом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160" y="1767960"/>
            <a:ext cx="4714920" cy="558324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ублічне пр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ювало суспільні відносини: військово-адміністративний устрій, воєнні справи, порядок судочинства та і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674960" cy="558324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Приватне пр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ювало відносини цивільно-правового характер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власності на особисте майно, різноманітні угоди тощ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 flipH="1">
            <a:off x="1753920" y="1208160"/>
            <a:ext cx="3071880" cy="571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4826160" y="1208160"/>
            <a:ext cx="2928600" cy="5713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http://lib.rus.ec/i/68/249668/_56.png"/>
          <p:cNvPicPr/>
          <p:nvPr/>
        </p:nvPicPr>
        <p:blipFill>
          <a:blip r:embed="rId1"/>
          <a:stretch/>
        </p:blipFill>
        <p:spPr>
          <a:xfrm>
            <a:off x="1224000" y="17928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600" y="4788000"/>
            <a:ext cx="957276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2. Цивільне право</a:t>
            </a:r>
            <a:br>
              <a:rPr sz="9600"/>
            </a:b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7134120" y="2124000"/>
            <a:ext cx="2081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авюр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0880" y="-360"/>
            <a:ext cx="996948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б'єкти цивільно-правових відносин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4160" y="1708200"/>
            <a:ext cx="4643280" cy="7048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ватні особ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4160" y="2422440"/>
            <a:ext cx="4643280" cy="492912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апорозькі коза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сполиті (піддані Війська Запорозьког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торонні особи (купці, поселенці, іноземц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1360" y="1692360"/>
            <a:ext cx="4705200" cy="7048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лективні особ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21360" y="2397240"/>
            <a:ext cx="4705200" cy="495432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і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урі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исливська арті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ибальська т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Чумацька в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орговельна кампан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онаст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3.bp.blogspot.com/_rD8Z4TOWahM/TDt5qjyzFvI/AAAAAAAAAFk/IBv0wwqJCu0/s1600/___+__+________glrx-458538818.jpg"/>
          <p:cNvPicPr/>
          <p:nvPr/>
        </p:nvPicPr>
        <p:blipFill>
          <a:blip r:embed="rId1"/>
          <a:stretch/>
        </p:blipFill>
        <p:spPr>
          <a:xfrm>
            <a:off x="396720" y="1994040"/>
            <a:ext cx="9215640" cy="49291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754200" y="136440"/>
            <a:ext cx="75722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Чумацька вал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0880" y="-360"/>
            <a:ext cx="996948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б'єкти цивільно-правових відносин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4160" y="2064960"/>
            <a:ext cx="4643280" cy="53578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Мисливські угідд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Рибальські угідд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Лі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121360" y="2064960"/>
            <a:ext cx="4705200" cy="53578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Сіножат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Корисні копали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Різноманітне рухоме і нерухоме май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«Угги» запорожских казаков Богдана Хмельницкого, подковы к ним и русский ватник образца 1915 года — они еще вернутся на подиум!"/>
          <p:cNvPicPr/>
          <p:nvPr/>
        </p:nvPicPr>
        <p:blipFill>
          <a:blip r:embed="rId1"/>
          <a:stretch/>
        </p:blipFill>
        <p:spPr>
          <a:xfrm>
            <a:off x="2303640" y="0"/>
            <a:ext cx="4743360" cy="5248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4160" y="4500360"/>
            <a:ext cx="95724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Право власності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7056360" y="684360"/>
            <a:ext cx="316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зуття та  одяг коза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720" cy="1494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сновні підстави для отримання права власності на речі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520" y="1636560"/>
            <a:ext cx="971568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готовлення речі своєю праце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римання приплоду від худоби або урожа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стки при розділі здобич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бутки від торгів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римання майна або грошей за угодою, у спадщ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нахі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кінчення строку давності володі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3"/>
          <p:cNvSpPr/>
          <p:nvPr/>
        </p:nvSpPr>
        <p:spPr>
          <a:xfrm>
            <a:off x="8928000" y="900000"/>
            <a:ext cx="100800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0880" y="-360"/>
            <a:ext cx="996948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Власність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4160" y="1493640"/>
            <a:ext cx="4643280" cy="9190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иват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4160" y="2422440"/>
            <a:ext cx="4643280" cy="492912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ізноманітне рухоме та нерухоме майн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«дуван», будинки, шинки, льодовники, реманен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ші, житл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1280" y="1494000"/>
            <a:ext cx="4705560" cy="84744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лекти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21360" y="2397240"/>
            <a:ext cx="4705200" cy="495432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альновійськова влас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інна власн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сність різноманітних промислових товари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сність торгівельних кампа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82160" y="136080"/>
            <a:ext cx="4714920" cy="9190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 fontScale="18000"/>
          </a:bodyPr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гальновійсь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74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82160" y="1065240"/>
            <a:ext cx="4714920" cy="649440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исливські угідд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ибальські угідд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Ліси та сіножа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орисні копа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дм. та господарські спору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Церк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карб Війсь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0360" y="136080"/>
            <a:ext cx="4857840" cy="91908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b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урін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40360" y="1065240"/>
            <a:ext cx="4857840" cy="6494400"/>
          </a:xfrm>
          <a:prstGeom prst="rect">
            <a:avLst/>
          </a:prstGeom>
          <a:noFill/>
          <a:ln w="57240">
            <a:solidFill>
              <a:srgbClr val="ffff00"/>
            </a:solidFill>
            <a:round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зар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Курінні крамниці та ши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бро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Боєприпа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бмундир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ові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http://histans.com/EHU/Z/Zymivnyk.jpg"/>
          <p:cNvPicPr/>
          <p:nvPr/>
        </p:nvPicPr>
        <p:blipFill>
          <a:blip r:embed="rId1"/>
          <a:stretch/>
        </p:blipFill>
        <p:spPr>
          <a:xfrm>
            <a:off x="0" y="900000"/>
            <a:ext cx="10110960" cy="6659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793440" cy="2447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8000" spc="-1" strike="noStrike">
                <a:solidFill>
                  <a:srgbClr val="0070c0"/>
                </a:solidFill>
                <a:latin typeface="Arial"/>
              </a:rPr>
              <a:t>Право</a:t>
            </a:r>
            <a:r>
              <a:rPr b="1" lang="ru-RU" sz="8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70c0"/>
                </a:solidFill>
                <a:latin typeface="Arial"/>
              </a:rPr>
              <a:t>власності на землю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9" descr="Каламар.jpg"/>
          <p:cNvPicPr/>
          <p:nvPr/>
        </p:nvPicPr>
        <p:blipFill>
          <a:blip r:embed="rId1"/>
          <a:srcRect l="18838" t="24743" r="18388" b="0"/>
          <a:stretch/>
        </p:blipFill>
        <p:spPr>
          <a:xfrm>
            <a:off x="3600360" y="0"/>
            <a:ext cx="287964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02920" y="1994040"/>
            <a:ext cx="906948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-332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262699"/>
                </a:solidFill>
                <a:latin typeface="Arial"/>
              </a:rPr>
              <a:t>Звичаєве право запорозьких козакі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1240" y="136440"/>
            <a:ext cx="985824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Усі землі Запорожжя вважалися спільною власністю Війська Запорозького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Дв</a:t>
            </a: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і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категорі</a:t>
            </a: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ї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земель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з різним правовим статус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 землі, що підлягали щорічному розподілу шляхом жеребк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2. земл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які передавалися власникам зимівників і слобід у довічне корис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2520" y="0"/>
            <a:ext cx="971568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во на свої землі запорожці отримали в результаті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ершого 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займу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цих земель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е право неодноразово визнавали своїми нормативними актами (універсалами та грамотами) литовські князі, польські королі та російські цар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82160" y="207720"/>
            <a:ext cx="9644040" cy="70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Займанщин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це норма звичаєвого права,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яка дозволяла на підставі першого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йняття володіти, користуватися і навіть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озпоряджатися земле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82520" y="136440"/>
            <a:ext cx="971568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Займати можна було лише вільні земл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мисливські т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ибальскі угіддя,сіножаті, пасовища (впродовж 1 рок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ільні землі з дозволу Коша (до самої смерт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Особливост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В цій галузі існувало поняття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давність волод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В окремих випадках допускалася </a:t>
            </a: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ренда земл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4"/>
          <p:cNvCxnSpPr/>
          <p:nvPr/>
        </p:nvCxnSpPr>
        <p:spPr>
          <a:xfrm flipH="1">
            <a:off x="1110960" y="4494240"/>
            <a:ext cx="6287040" cy="357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Прямая со стрелкой 10"/>
          <p:cNvCxnSpPr/>
          <p:nvPr/>
        </p:nvCxnSpPr>
        <p:spPr>
          <a:xfrm flipH="1">
            <a:off x="7396920" y="4424400"/>
            <a:ext cx="2520" cy="16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6720" y="13608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Охорона природи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2520" y="1767960"/>
            <a:ext cx="971568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б’єкти охорони природи на території Запорозьких Воль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і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сливські угідд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ибальські угідд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іножа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родні копалини (вапно, марму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низ 3"/>
          <p:cNvSpPr/>
          <p:nvPr/>
        </p:nvSpPr>
        <p:spPr>
          <a:xfrm>
            <a:off x="8785080" y="900000"/>
            <a:ext cx="1008360" cy="100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2160" y="207720"/>
            <a:ext cx="9644040" cy="71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заками були встановлені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користування лісами,  угіддя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ідповідальність за порушення цих прави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іш Запорозької Січі регулярно надсилав паланковим полковникам накази, що впорядковували охорону приро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ворювалис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еціальні команд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боротьби із самовільними вирубками лісу. Окремі лісові ділянки передавалися під нагляд власникам зимівників і слобі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160" y="69480"/>
            <a:ext cx="98982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собливе значення мала охорона лісів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3800" y="1767960"/>
            <a:ext cx="9644040" cy="5583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лісові масиви займали  800 тис. десятин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заки і піддані Війська Запорозького могли користуватися лісами для власних потреб без особливого дозв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оронні особи повинні були отримати дозвіл Коша або кошового отама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6920" y="3634920"/>
            <a:ext cx="957276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Зобов’язальне право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http://assets.freelancehunt.com/snippet/59/6e/25272/kozaki.jpg"/>
          <p:cNvPicPr/>
          <p:nvPr/>
        </p:nvPicPr>
        <p:blipFill>
          <a:blip r:embed="rId1"/>
          <a:srcRect l="771" t="51198" r="50631" b="1961"/>
          <a:stretch/>
        </p:blipFill>
        <p:spPr>
          <a:xfrm>
            <a:off x="2448000" y="53964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82160" y="279000"/>
            <a:ext cx="9572760" cy="7280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Підстави виникнення зобов'яза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обов’язання, які виникали внаслідок заподіяння шко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ідшкодуванню підлягала тільки пряма дійсна шк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обов’язання з договорі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7"/>
          <p:cNvCxnSpPr/>
          <p:nvPr/>
        </p:nvCxnSpPr>
        <p:spPr>
          <a:xfrm flipH="1">
            <a:off x="1039320" y="1708200"/>
            <a:ext cx="6073200" cy="1072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Прямая со стрелкой 10"/>
          <p:cNvCxnSpPr/>
          <p:nvPr/>
        </p:nvCxnSpPr>
        <p:spPr>
          <a:xfrm flipH="1">
            <a:off x="7039800" y="1708200"/>
            <a:ext cx="2520" cy="3931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Договори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4160" y="1800000"/>
            <a:ext cx="95724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купівлі-продаж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поста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мі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дар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позики (письмо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особистого най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говір підря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Arial"/>
              </a:rPr>
              <a:t>Козацьке право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6960" y="1850760"/>
            <a:ext cx="992340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сукупність правових звичаїв, б</a:t>
            </a: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ільшість з яких склались в 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 Запорозькій Січ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3"/>
          <p:cNvSpPr/>
          <p:nvPr/>
        </p:nvSpPr>
        <p:spPr>
          <a:xfrm>
            <a:off x="4968720" y="1351080"/>
            <a:ext cx="785880" cy="7855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4160" y="3564000"/>
            <a:ext cx="9572400" cy="3573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Кримінальне право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https://encrypted-tbn0.gstatic.com/images?q=tbn:ANd9GcRztkszC0W68mIamCjggi_FT5T797BZJGUzvpXM-wWglUPYXBfxpg"/>
          <p:cNvPicPr/>
          <p:nvPr/>
        </p:nvPicPr>
        <p:blipFill>
          <a:blip r:embed="rId1"/>
          <a:stretch/>
        </p:blipFill>
        <p:spPr>
          <a:xfrm>
            <a:off x="4970520" y="395280"/>
            <a:ext cx="5110200" cy="374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Суды и наказания у казаков Запорожья."/>
          <p:cNvPicPr/>
          <p:nvPr/>
        </p:nvPicPr>
        <p:blipFill>
          <a:blip r:embed="rId2">
            <a:grayscl/>
          </a:blip>
          <a:srcRect l="0" t="0" r="0" b="3956"/>
          <a:stretch/>
        </p:blipFill>
        <p:spPr>
          <a:xfrm>
            <a:off x="0" y="395280"/>
            <a:ext cx="495288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4160" y="23760"/>
            <a:ext cx="9501120" cy="154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0"/>
            </a:b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Поняття злочину</a:t>
            </a:r>
            <a:br>
              <a:rPr sz="8000"/>
            </a:b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2160" y="1279440"/>
            <a:ext cx="964404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3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лочин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- це дія, що завдала шкоди та збитків життю, здоров’ю, майну, честі окремої особи або всього Війська Запорозьк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23760"/>
            <a:ext cx="9070920" cy="154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Суб’єкт злочину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" y="1351080"/>
            <a:ext cx="9786960" cy="620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особа, що досягла 16 рокі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(психічно хворі не звільнялися від кримінальної відповідальност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Об’єкт злочин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рядок управління і судочин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оба (життя, здоров’я, чес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й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 стрелкой 7"/>
          <p:cNvCxnSpPr/>
          <p:nvPr/>
        </p:nvCxnSpPr>
        <p:spPr>
          <a:xfrm flipH="1">
            <a:off x="5325480" y="1135440"/>
            <a:ext cx="2500920" cy="5007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arrow" w="med"/>
          </a:ln>
        </p:spPr>
      </p:cxn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160" y="23760"/>
            <a:ext cx="964404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000"/>
            </a:b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Злочини</a:t>
            </a:r>
            <a:br>
              <a:rPr sz="6000"/>
            </a:b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767960"/>
            <a:ext cx="100807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вмисн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еобережні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ипадков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 flipH="1">
            <a:off x="1539720" y="922320"/>
            <a:ext cx="3011760" cy="1071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40320" y="922320"/>
            <a:ext cx="0" cy="2428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4540320" y="922320"/>
            <a:ext cx="4000320" cy="1714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 нагайка "/>
          <p:cNvPicPr/>
          <p:nvPr/>
        </p:nvPicPr>
        <p:blipFill>
          <a:blip r:embed="rId1">
            <a:grayscl/>
          </a:blip>
          <a:stretch/>
        </p:blipFill>
        <p:spPr>
          <a:xfrm>
            <a:off x="4896000" y="4067280"/>
            <a:ext cx="5184720" cy="29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5" name="TextBox 7"/>
          <p:cNvSpPr/>
          <p:nvPr/>
        </p:nvSpPr>
        <p:spPr>
          <a:xfrm>
            <a:off x="8064360" y="7020000"/>
            <a:ext cx="187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га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Сажание на кол"/>
          <p:cNvPicPr/>
          <p:nvPr/>
        </p:nvPicPr>
        <p:blipFill>
          <a:blip r:embed="rId2">
            <a:grayscl/>
          </a:blip>
          <a:srcRect l="2660" t="0" r="5339" b="0"/>
          <a:stretch/>
        </p:blipFill>
        <p:spPr>
          <a:xfrm>
            <a:off x="0" y="4067280"/>
            <a:ext cx="4968720" cy="2952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67" name="TextBox 9"/>
          <p:cNvSpPr/>
          <p:nvPr/>
        </p:nvSpPr>
        <p:spPr>
          <a:xfrm>
            <a:off x="2592360" y="7020000"/>
            <a:ext cx="187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а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1"/>
          <p:cNvSpPr/>
          <p:nvPr/>
        </p:nvSpPr>
        <p:spPr>
          <a:xfrm>
            <a:off x="3780000" y="3060720"/>
            <a:ext cx="2700000" cy="196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лочи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"/>
          <p:cNvSpPr/>
          <p:nvPr/>
        </p:nvSpPr>
        <p:spPr>
          <a:xfrm>
            <a:off x="720720" y="1260360"/>
            <a:ext cx="2879640" cy="19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йьков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3897360" y="565200"/>
            <a:ext cx="2879640" cy="19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ужбо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6840360" y="1979640"/>
            <a:ext cx="2880000" cy="19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3325680" y="5423040"/>
            <a:ext cx="2880000" cy="1979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лас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325440" y="3780000"/>
            <a:ext cx="3094200" cy="228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авлі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і су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6300720" y="4500720"/>
            <a:ext cx="2879640" cy="19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ра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 flipV="1">
            <a:off x="5254200" y="2494080"/>
            <a:ext cx="3240" cy="56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V="1">
            <a:off x="6300720" y="3350880"/>
            <a:ext cx="66852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H="1" flipV="1">
            <a:off x="3254040" y="2850840"/>
            <a:ext cx="78588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3254040" y="4280040"/>
            <a:ext cx="571320" cy="14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5040360" y="4994280"/>
            <a:ext cx="14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6119640" y="4680000"/>
            <a:ext cx="492120" cy="2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82160" y="136440"/>
            <a:ext cx="964404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Arial"/>
              </a:rPr>
              <a:t>Військові злочин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рушення правил служб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езертир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хилення від служб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живання спиртних напоїв під час військових поході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82160" y="136440"/>
            <a:ext cx="964404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Злочини проти особ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бив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вдання каліцтва, ран та побої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лочини проти власност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радіж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айдамац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1240" y="136440"/>
            <a:ext cx="978696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лужбові злочи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знокра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ищення службових повноважень і зловживання службовим становищ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лочини проти порядку управління і су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рутальн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покора адміністр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льшивомонетниц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ідроблення печаток і докум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жеприся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жесвідч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Arial"/>
              </a:rPr>
              <a:t>Мета покарання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2520" y="1636560"/>
            <a:ext cx="9715680" cy="578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лякув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обігання новим злочин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дп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одіяння муки злочинц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ксплуатація його прац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дшкодування збитків, завданих злочинними ді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1"/>
          <p:cNvSpPr/>
          <p:nvPr/>
        </p:nvSpPr>
        <p:spPr>
          <a:xfrm>
            <a:off x="3611520" y="2565360"/>
            <a:ext cx="3000240" cy="242892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02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кар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"/>
          <p:cNvSpPr/>
          <p:nvPr/>
        </p:nvSpPr>
        <p:spPr>
          <a:xfrm>
            <a:off x="182520" y="2340000"/>
            <a:ext cx="341784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ілесн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6659640" y="2879640"/>
            <a:ext cx="330984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бавлен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л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4680000" y="4859280"/>
            <a:ext cx="314640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гн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1325520" y="4680000"/>
            <a:ext cx="335448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бавл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й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1897200" y="208080"/>
            <a:ext cx="334620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мерт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5400720" y="395280"/>
            <a:ext cx="3568680" cy="251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Майнові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4420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Звичай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574640"/>
            <a:ext cx="10080720" cy="58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стереотипне правило і спосіб поведінки, який стихійно самовідроджується в певному суспільстві чи соціальній групі і є традиційним для їх члені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3"/>
          <p:cNvSpPr/>
          <p:nvPr/>
        </p:nvSpPr>
        <p:spPr>
          <a:xfrm>
            <a:off x="4968720" y="1208160"/>
            <a:ext cx="50004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4160" y="1279080"/>
            <a:ext cx="957240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вбив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елику крадіж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желозтво і скотолоз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бун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бій і гайдамац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законні вчинки і образу військовими старшинами козак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діжка січового ма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яцтво під час пох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оягузтво і програш старшиною бит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одити на Січ жі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82160" y="0"/>
            <a:ext cx="9898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Смертна кара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5080" y="13608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Види смертної кари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654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віш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зстрі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топл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ідсікання гол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адження на пал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пування живцем у земл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бивання киями біля стов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82160" y="178920"/>
            <a:ext cx="9572760" cy="71010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Тілесні покаранн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иття ки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ідсікання частин ті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збавлення вол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ковування до стов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ковування до гарма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02920" y="1767960"/>
            <a:ext cx="946620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82160" y="360360"/>
            <a:ext cx="9356760" cy="69912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Позбавлення честі й пра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адженя злочинця на дерев’яну коби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гана і громадський ос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унення від пос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Майнові покаран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ідбирання одя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ідбирання худ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зграбування майна ремісників і торговц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4160" y="208080"/>
            <a:ext cx="9572400" cy="692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9600"/>
            </a:br>
            <a:r>
              <a:rPr b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Процесуальне право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http://sevastopol.su/images/news/16140_18642.jpg"/>
          <p:cNvPicPr/>
          <p:nvPr/>
        </p:nvPicPr>
        <p:blipFill>
          <a:blip r:embed="rId1"/>
          <a:stretch/>
        </p:blipFill>
        <p:spPr>
          <a:xfrm>
            <a:off x="3240000" y="324000"/>
            <a:ext cx="37162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10080720" cy="742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удочинство не мало чіткого поділу на цивільний та кримінальний процес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Процес був усний, здійснювався відкрит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Розпочинався за позовом зацікавленої сторон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Могли брати участь сторонні особи, які висловлювали свої думки на справи, надавали власні клопотанн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7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Arial"/>
              </a:rPr>
              <a:t>Попереднє слідство проводили осавул, довбиши або інші уповноважені посадові особ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208080"/>
            <a:ext cx="1008072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66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ідозрюваних у вчинені злочину арештовували, а місцем попереднього ув’язнення були пушкарні або спеціально вириті 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66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ході розслідування справи складали реєстри майна обвинувачених. Це майно після суду призначалося для покриття збитків скривдженої сторони, судових вит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66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 незначних кримінальних і цивільних справах суд намагався дійти до примирення обох сторін. Коли мета досягалася, провадження припиняло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208080"/>
            <a:ext cx="1008072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ирок у кримінальних справах оголошував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довбиш.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вбиш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вказував місце виконання покарання, якщо таке застосовувалося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Рішення козацького суду виконувались негайно, окрім смертної кар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208080"/>
            <a:ext cx="10080720" cy="721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вичаєве право передбачало </a:t>
            </a:r>
            <a:r>
              <a:rPr b="1" lang="uk-UA" sz="4000" spc="-1" strike="noStrike">
                <a:solidFill>
                  <a:srgbClr val="ffff00"/>
                </a:solidFill>
                <a:latin typeface="Arial"/>
              </a:rPr>
              <a:t>інститут помилування чи пом’якшення покарання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(заміна смертної кари на побиття киями, пов’язана з необхідністю паланкового козака утримувати сі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ю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милування здійснювалося козацькою радо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удові рішення і вироки виконували посадові особи (осавул), козацьке товариство, самі засудже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207720"/>
            <a:ext cx="9969480" cy="73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Докази</a:t>
            </a:r>
            <a:r>
              <a:rPr b="0" lang="uk-UA" sz="8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ізнання обвинуваче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казання свід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ечові дока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исновки експерт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исьмові документи: векселі, розпис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ід час допиту застосовувалися торту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73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8000"/>
            </a:br>
            <a:br>
              <a:rPr sz="8000"/>
            </a:br>
            <a:br>
              <a:rPr sz="8000"/>
            </a:br>
            <a:r>
              <a:rPr b="1" lang="uk-UA" sz="9600" spc="-1" strike="noStrike">
                <a:solidFill>
                  <a:srgbClr val="262699"/>
                </a:solidFill>
                <a:latin typeface="Arial"/>
              </a:rPr>
              <a:t>Характерні </a:t>
            </a:r>
            <a:br>
              <a:rPr sz="9600"/>
            </a:br>
            <a:r>
              <a:rPr b="1" lang="uk-UA" sz="9600" spc="-1" strike="noStrike">
                <a:solidFill>
                  <a:srgbClr val="262699"/>
                </a:solidFill>
                <a:latin typeface="Arial"/>
              </a:rPr>
              <a:t>ознаки звичаю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http://romch.org/2/repin3.jpg"/>
          <p:cNvPicPr/>
          <p:nvPr/>
        </p:nvPicPr>
        <p:blipFill>
          <a:blip r:embed="rId1"/>
          <a:stretch/>
        </p:blipFill>
        <p:spPr>
          <a:xfrm>
            <a:off x="2592360" y="324000"/>
            <a:ext cx="4762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31280" y="0"/>
            <a:ext cx="906948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Arial"/>
              </a:rPr>
              <a:t>Висновк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http://s010.radikal.ru/i314/1108/79/8c82409b6b58.jpg"/>
          <p:cNvPicPr/>
          <p:nvPr/>
        </p:nvPicPr>
        <p:blipFill>
          <a:blip r:embed="rId1"/>
          <a:stretch/>
        </p:blipFill>
        <p:spPr>
          <a:xfrm>
            <a:off x="2376360" y="2340000"/>
            <a:ext cx="523728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47760" y="136440"/>
            <a:ext cx="943272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вичаєве право запорозьких козаків становить сукупність правових звичаїв, які діяли на території Запорозьких Вольностей в XVI-XVIII с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ли нормативний характер, зумовлювалися конкретно-історичними умовами існування козацького суспільства, допускалися державною владо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-360" y="136440"/>
            <a:ext cx="989820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ffff00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Характерними рисами козацького права були: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омінуюча роль «публічного права», консерватизм, усна форма вираження, обрядовість, суворість, військовий характе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жливе місце в цивільно-правових відносинах займало право власності на земл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47760" y="136440"/>
            <a:ext cx="9432720" cy="73915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59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стерігається інтенсивний розвиток норм зобов’язального пра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59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орми кримінально-правового характеру були найбільш розвинутими на Запорожж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59000"/>
              <a:buFont typeface="Wingdings" charset="2"/>
              <a:buChar char="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 запорозьких козаків не було чіткого поділу судового процесу на цивільний та кримінальний проц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7" descr=""/>
          <p:cNvPicPr/>
          <p:nvPr/>
        </p:nvPicPr>
        <p:blipFill>
          <a:blip r:embed="rId1"/>
          <a:stretch/>
        </p:blipFill>
        <p:spPr>
          <a:xfrm>
            <a:off x="-60480" y="-23760"/>
            <a:ext cx="1022832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4420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Arial"/>
              </a:rPr>
              <a:t>Правовий звичай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6960" y="1574280"/>
            <a:ext cx="9923400" cy="5985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вичай регулятивного характеру, якйй стосується </a:t>
            </a:r>
            <a:r>
              <a:rPr b="1" lang="ru-RU" sz="5300" spc="-1" strike="noStrike">
                <a:solidFill>
                  <a:srgbClr val="000000"/>
                </a:solidFill>
                <a:latin typeface="Arial"/>
              </a:rPr>
              <a:t>майнових, владних, виробничх, розподільних та інших соціальних відносин, офіційно визнаний або санкціонований державою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3"/>
          <p:cNvSpPr/>
          <p:nvPr/>
        </p:nvSpPr>
        <p:spPr>
          <a:xfrm>
            <a:off x="5397480" y="1136520"/>
            <a:ext cx="500040" cy="71460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442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Звичаєве </a:t>
            </a:r>
            <a:br>
              <a:rPr sz="9600"/>
            </a:b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право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2565360"/>
            <a:ext cx="100807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сукупність правових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вичаї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3"/>
          <p:cNvSpPr/>
          <p:nvPr/>
        </p:nvSpPr>
        <p:spPr>
          <a:xfrm>
            <a:off x="4683240" y="2565360"/>
            <a:ext cx="785520" cy="9288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b8ff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6:57:38Z</dcterms:created>
  <dc:creator>vika </dc:creator>
  <dc:description/>
  <dc:language>en-US</dc:language>
  <cp:lastModifiedBy>Пользователь</cp:lastModifiedBy>
  <dcterms:modified xsi:type="dcterms:W3CDTF">2013-11-05T23:19:09Z</dcterms:modified>
  <cp:revision>68</cp:revision>
  <dc:subject/>
  <dc:title>Право запорозьких козаків</dc:title>
</cp:coreProperties>
</file>