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A05F-5B21-4AC2-8BED-97BF757EB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5A17-A59B-445E-A3A1-0533B85541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7405-CC40-4329-9291-C49B847727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39CC-3CA0-4F97-8B35-79D277DDC3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7778-09F5-47E5-BA48-43FECF6AAF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5548-2435-423C-8680-FDDA528815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AAB0-866E-4622-A075-36D6EB2325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1F2E-79C7-495B-AD91-6B0DD49E9F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CC10-8374-4421-A78D-C9B29B466D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76C2-E830-47FE-A29C-33C5E53BCA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D28-4265-47C7-A71B-23A02508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BEE-FD99-45F4-B2B0-AD88D02E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278-7ECA-4D84-8601-BAFDD70D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DD7-AC90-4877-8235-AB0A3569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ED65-70F6-4C38-B177-37397656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C427-1804-41E7-B390-B4B4FBAA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1CC7-CF70-41C0-8E3F-0E6385E1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43C5-B9E5-40EE-B4BA-021E4EB7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2593-4342-4CD5-BC29-34425755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342A-B23F-4529-8EB3-9DC1999F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C9D8-D477-4FE7-96BF-ED84D776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E5F-B96E-4914-B010-5B9B06B9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9C06-4744-4652-8770-94083652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F078-7350-4DD4-A066-0F44B38F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FF90-194C-4E7D-8FCC-7C646593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6257-2F92-4395-BCD5-F4C55FB6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4B61-1713-4300-93DB-BC6DFCC8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263-2D63-4B5B-A0B9-46431663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A90-3CBC-405B-A9EC-51AF4D90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C6A-8445-4D74-99F3-32830D4B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C0E-B85E-4186-BDC0-32B90B43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3D2-75B4-480B-963A-6C95D7E2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8FE-3D0F-4B1F-BA3A-DDB72826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96A-BB39-4B8B-90CF-87CF05E2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7BDC-DD71-41BB-AF66-F7FA83D8419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4D00-3679-4550-AC97-03924D162B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42560" y="214200"/>
            <a:ext cx="900108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12"/>
                </a:solidFill>
                <a:latin typeface="Tahoma"/>
              </a:rPr>
              <a:t>Українська національ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12"/>
                </a:solidFill>
                <a:latin typeface="Tahoma"/>
              </a:rPr>
              <a:t>революція.</a:t>
            </a:r>
            <a:r>
              <a:rPr b="0" lang="ru-RU" sz="8000" spc="-1" strike="noStrike">
                <a:solidFill>
                  <a:srgbClr val="ffff12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2"/>
                </a:solidFill>
                <a:latin typeface="Tahoma"/>
              </a:rPr>
              <a:t>Україна-Гетьманщи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Періодизація 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286160" y="1143000"/>
          <a:ext cx="4643640" cy="2714760"/>
        </p:xfrm>
        <a:graphic>
          <a:graphicData uri="http://schemas.openxmlformats.org/drawingml/2006/table">
            <a:tbl>
              <a:tblPr/>
              <a:tblGrid>
                <a:gridCol w="4643640"/>
              </a:tblGrid>
              <a:tr h="2714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ші великі перемоги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изволення значної частини українських зем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286160" y="4022640"/>
          <a:ext cx="4643640" cy="2835360"/>
        </p:xfrm>
        <a:graphic>
          <a:graphicData uri="http://schemas.openxmlformats.org/drawingml/2006/table">
            <a:tbl>
              <a:tblPr/>
              <a:tblGrid>
                <a:gridCol w="464364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озбудова Української козацької держави, продовження боротьб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2920" y="1214280"/>
          <a:ext cx="3071880" cy="264348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264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 пері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ічень 1648 - серпень 1649 рр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4200" y="4143240"/>
          <a:ext cx="2928960" cy="253044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25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І періо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пень 1649  — січень 1654 рокі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Прямая со стрелкой 20" descr=""/>
          <p:cNvPicPr/>
          <p:nvPr/>
        </p:nvPicPr>
        <p:blipFill>
          <a:blip r:embed="rId1"/>
          <a:stretch/>
        </p:blipFill>
        <p:spPr>
          <a:xfrm>
            <a:off x="3060720" y="2335320"/>
            <a:ext cx="1328760" cy="663480"/>
          </a:xfrm>
          <a:prstGeom prst="rect">
            <a:avLst/>
          </a:prstGeom>
          <a:ln w="0">
            <a:noFill/>
          </a:ln>
        </p:spPr>
      </p:pic>
      <p:cxnSp>
        <p:nvCxnSpPr>
          <p:cNvPr id="178" name="Прямая со стрелкой 23"/>
          <p:cNvCxnSpPr/>
          <p:nvPr/>
        </p:nvCxnSpPr>
        <p:spPr>
          <a:xfrm>
            <a:off x="3142800" y="5500800"/>
            <a:ext cx="114372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572000" y="214200"/>
          <a:ext cx="4429080" cy="300060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3000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еяславська рада. Вступ Московського царства у війну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3280" y="3546360"/>
          <a:ext cx="4357800" cy="331164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331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еплетіння громадянської війни з визвольною боротьбою проти Польщі і Москв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42920" y="214200"/>
          <a:ext cx="3286080" cy="3140280"/>
        </p:xfrm>
        <a:graphic>
          <a:graphicData uri="http://schemas.openxmlformats.org/drawingml/2006/table">
            <a:tbl>
              <a:tblPr/>
              <a:tblGrid>
                <a:gridCol w="3286080"/>
              </a:tblGrid>
              <a:tr h="314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ІІ період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ічень 1654 — липень 1657 р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42920" y="3475080"/>
          <a:ext cx="3357360" cy="3230640"/>
        </p:xfrm>
        <a:graphic>
          <a:graphicData uri="http://schemas.openxmlformats.org/drawingml/2006/table">
            <a:tbl>
              <a:tblPr/>
              <a:tblGrid>
                <a:gridCol w="3357360"/>
              </a:tblGrid>
              <a:tr h="323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ері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пень 1657 — червень 1663 р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183" name="Прямая со стрелкой 27"/>
          <p:cNvCxnSpPr/>
          <p:nvPr/>
        </p:nvCxnSpPr>
        <p:spPr>
          <a:xfrm>
            <a:off x="3286080" y="1643040"/>
            <a:ext cx="1215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84" name="Прямая со стрелкой 32"/>
          <p:cNvCxnSpPr/>
          <p:nvPr/>
        </p:nvCxnSpPr>
        <p:spPr>
          <a:xfrm>
            <a:off x="3286080" y="5428800"/>
            <a:ext cx="128664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0" y="214200"/>
          <a:ext cx="4429080" cy="301788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амагання польського і російського урядів поділити українську держав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643280" y="3546360"/>
          <a:ext cx="4357800" cy="331164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331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Загострення політичної боротьби, посилення втручання іноземних держав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іквідація державних інститутів на Правобережжі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оразка революції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42920" y="214200"/>
          <a:ext cx="3071880" cy="285768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2857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еріод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3 – 1668 р.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42920" y="3475080"/>
          <a:ext cx="3143160" cy="3230640"/>
        </p:xfrm>
        <a:graphic>
          <a:graphicData uri="http://schemas.openxmlformats.org/drawingml/2006/table">
            <a:tbl>
              <a:tblPr/>
              <a:tblGrid>
                <a:gridCol w="3143160"/>
              </a:tblGrid>
              <a:tr h="323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 періо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8 – 1676 р.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189" name="Прямая со стрелкой 27"/>
          <p:cNvCxnSpPr/>
          <p:nvPr/>
        </p:nvCxnSpPr>
        <p:spPr>
          <a:xfrm>
            <a:off x="3286080" y="1643040"/>
            <a:ext cx="1215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90" name="Прямая со стрелкой 32"/>
          <p:cNvCxnSpPr/>
          <p:nvPr/>
        </p:nvCxnSpPr>
        <p:spPr>
          <a:xfrm>
            <a:off x="3286080" y="5428800"/>
            <a:ext cx="128664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001520"/>
            <a:ext cx="914400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0" y="142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183cf"/>
                </a:solidFill>
                <a:latin typeface="Times New Roman"/>
                <a:ea typeface="Times New Roman"/>
              </a:rPr>
              <a:t>Б.  Хмельницький (1595-1657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http://mykrai.files.wordpress.com/2012/04/bogdan_hmelnitskii.jpg"/>
          <p:cNvPicPr/>
          <p:nvPr/>
        </p:nvPicPr>
        <p:blipFill>
          <a:blip r:embed="rId1"/>
          <a:stretch/>
        </p:blipFill>
        <p:spPr>
          <a:xfrm>
            <a:off x="1692360" y="1197000"/>
            <a:ext cx="61164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родився  у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ім'ї укр. шляхтича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.Хмельницького  в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игирині</a:t>
            </a: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 Закінчив </a:t>
            </a: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 єзуїтський колегіум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. Знав кілька мов, історію, юриспруденцію, військову справу тощо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 складі військ коронного гетьмана С. Жолкевського, разом з батьком, брав участь у  поході проти Оттоманської Порти. У битві під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Цецорою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у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620 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 батько Б. Хмельницького загинув, а сам він потрапив у полон (звільнився через два роки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14200" y="142920"/>
            <a:ext cx="8786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ернувшись із неволі, вступив до козацького реєстрового війська, досяг посад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ійськового писар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ле після поразки селянсько-козацького повстання  1637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638 рр. польський уряд позбавив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мельницьког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сади, зробивш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гиринським сотник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42920" y="3643200"/>
            <a:ext cx="90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олодів маєтком -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хутором Суботовим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. Був одружений з донькою  переяславського купця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Ганною Сомко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, мав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четверо дітей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Катерину, Олену, Тимоша та Юрка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Безпосереднім приводом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о виступу Хмельницького проти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.П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бул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собиста образа,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ої йому завдав чигиринський підстароста </a:t>
            </a:r>
            <a:r>
              <a:rPr b="1" lang="uk-UA" sz="3200" spc="-1" strike="noStrike">
                <a:solidFill>
                  <a:srgbClr val="ffff1a"/>
                </a:solidFill>
                <a:latin typeface="Tahoma"/>
              </a:rPr>
              <a:t>Д.Чаплінський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Він захопив  хутір Хмельницького в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Суботові,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майже до смерті побив його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сина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викрав кохану жінку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лену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, з якою той збирався одружитися. Намагання Хмельницького знайти управу н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Чаплінського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в польському суді не дали ніяких результаті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27 липня 1657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раптова смерть зупинила діяльність гетьмана</a:t>
            </a:r>
            <a:r>
              <a:rPr b="0" lang="uk-UA" sz="3200" spc="-1" strike="noStrike">
                <a:solidFill>
                  <a:srgbClr val="ffff1a"/>
                </a:solidFill>
                <a:latin typeface="Tahoma"/>
              </a:rPr>
              <a:t>. </a:t>
            </a:r>
            <a:r>
              <a:rPr b="1" lang="uk-UA" sz="3200" spc="-1" strike="noStrike">
                <a:solidFill>
                  <a:srgbClr val="ffff1a"/>
                </a:solidFill>
                <a:latin typeface="Tahoma"/>
              </a:rPr>
              <a:t>Похований в Іллінській церкві в Субботов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571680"/>
            <a:ext cx="8543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Підготовка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до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повстання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6 р.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початок підготовки до повста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6-1647 рр.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керівний центр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(Вешняк, Гиря, Кривоніс, брати Нечаї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Серпень-вересень</a:t>
            </a:r>
            <a:r>
              <a:rPr b="0" lang="uk-UA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7 р.</a:t>
            </a:r>
            <a:r>
              <a:rPr b="0" lang="uk-UA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проведення таємних рад щодо планів повста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34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02.1648 р.</a:t>
            </a:r>
            <a:r>
              <a:rPr b="0" lang="uk-UA" sz="5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Б.Х. оволодів З.С. і був обраний гетьман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Підготовка основної військової бази на З.С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Залучення реєстровц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Агітація міща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2560" y="21384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uk-UA" sz="7200" spc="-1" strike="noStrike">
                <a:solidFill>
                  <a:srgbClr val="ffff12"/>
                </a:solidFill>
                <a:latin typeface="Tahoma"/>
              </a:rPr>
              <a:t>1. </a:t>
            </a:r>
            <a:r>
              <a:rPr b="1" lang="ru-RU" sz="7200" spc="-1" strike="noStrike">
                <a:solidFill>
                  <a:srgbClr val="ffff12"/>
                </a:solidFill>
                <a:latin typeface="Tahoma"/>
              </a:rPr>
              <a:t>Українська національн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12"/>
                </a:solidFill>
                <a:latin typeface="Tahoma"/>
              </a:rPr>
              <a:t>революція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12"/>
                </a:solidFill>
                <a:latin typeface="Tahoma"/>
              </a:rPr>
              <a:t>Причини революції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lnSpc>
                <a:spcPct val="80000"/>
              </a:lnSpc>
              <a:spcBef>
                <a:spcPts val="20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озсилка універсалів із закликом до боротьб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становлення дипломатичних відносин з Кримським хан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929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Міжнародна обстановк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35684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.П.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була виснажена війнами з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Московією та Швецією та тридцятирічною війною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Англія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еволюц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Франція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часи фрон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Німеччина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тридцятирічна війн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Стрелка вправо 4"/>
          <p:cNvSpPr/>
          <p:nvPr/>
        </p:nvSpPr>
        <p:spPr>
          <a:xfrm>
            <a:off x="2786040" y="3643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Стрелка вправо 5"/>
          <p:cNvSpPr/>
          <p:nvPr/>
        </p:nvSpPr>
        <p:spPr>
          <a:xfrm>
            <a:off x="3000240" y="4429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трелка вправо 6"/>
          <p:cNvSpPr/>
          <p:nvPr/>
        </p:nvSpPr>
        <p:spPr>
          <a:xfrm>
            <a:off x="3643200" y="5357880"/>
            <a:ext cx="1000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Основні події</a:t>
            </a:r>
            <a:br>
              <a:rPr sz="4800"/>
            </a:b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000080"/>
          <a:ext cx="9144000" cy="5857920"/>
        </p:xfrm>
        <a:graphic>
          <a:graphicData uri="http://schemas.openxmlformats.org/drawingml/2006/table">
            <a:tbl>
              <a:tblPr/>
              <a:tblGrid>
                <a:gridCol w="4143240"/>
                <a:gridCol w="5000760"/>
              </a:tblGrid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48 р. </a:t>
                      </a:r>
                      <a:r>
                        <a:rPr b="1" lang="ru-RU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и під Жовтими Водами, Корсунем, Пилявц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18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49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під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боровим. </a:t>
                      </a: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озгром польського війська.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борівський догові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8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51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ід Берестечком</a:t>
                      </a: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. Поразка козацького війська.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ілоцерківський догові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52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під </a:t>
                      </a: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атого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Содержимое 4" descr="А. Серебряков Битва пыд Корсунем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00040" y="357120"/>
            <a:ext cx="8429760" cy="61437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4429080" y="42876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. Серебряков  Битва під Корсу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3" descr="А.С. Зборов.jpg"/>
          <p:cNvPicPr/>
          <p:nvPr/>
        </p:nvPicPr>
        <p:blipFill>
          <a:blip r:embed="rId1"/>
          <a:stretch/>
        </p:blipFill>
        <p:spPr>
          <a:xfrm>
            <a:off x="357120" y="500040"/>
            <a:ext cx="8358120" cy="61437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4"/>
          <p:cNvSpPr/>
          <p:nvPr/>
        </p:nvSpPr>
        <p:spPr>
          <a:xfrm>
            <a:off x="5214960" y="100008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. Серебряков  Битва під Збров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Зборівський договір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Київщина, Брацлавщина, Чернігівщина  територія Гетьманщи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еєстр - 40 тися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Повстанцям – амністі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одержимое 3" descr="А.С. Берестечко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3579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4"/>
          <p:cNvSpPr/>
          <p:nvPr/>
        </p:nvSpPr>
        <p:spPr>
          <a:xfrm>
            <a:off x="5429160" y="71424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. Серебряко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итва під Берестеч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Білоцерківський договір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Київщина – територія Гетьманщи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еєстр - 20 тися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озрив союзу Б.Х. з Крим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рава православної церкв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Переяславська Рада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Tahoma"/>
              </a:rPr>
              <a:t>8.01.1654 р. 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– козацька рада в Переяславі (протекторат Росії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Б.Х. переконав старшину виступити на підтримку Московії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У січні-лютому 1654 </a:t>
            </a:r>
            <a:r>
              <a:rPr b="1" lang="uk-UA" sz="5400" spc="-1" strike="noStrike">
                <a:solidFill>
                  <a:srgbClr val="ffff1a"/>
                </a:solidFill>
                <a:latin typeface="Tahoma"/>
              </a:rPr>
              <a:t>р.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 до присяги було приведено 177 нас-х пункт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ідмовилися присягати полковники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ahoma"/>
              </a:rPr>
              <a:t>І.Богун та І.Сірк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хема 16" descr=""/>
          <p:cNvPicPr/>
          <p:nvPr/>
        </p:nvPicPr>
        <p:blipFill>
          <a:blip r:embed="rId1"/>
          <a:stretch/>
        </p:blipFill>
        <p:spPr>
          <a:xfrm>
            <a:off x="-12600" y="189000"/>
            <a:ext cx="9186840" cy="638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Березневі статті (1654)</a:t>
            </a:r>
            <a:br>
              <a:rPr sz="4800"/>
            </a:b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000080"/>
          <a:ext cx="9144000" cy="5673600"/>
        </p:xfrm>
        <a:graphic>
          <a:graphicData uri="http://schemas.openxmlformats.org/drawingml/2006/table">
            <a:tbl>
              <a:tblPr/>
              <a:tblGrid>
                <a:gridCol w="571680"/>
                <a:gridCol w="8572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ерховенство московського царя над Україно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еєстр – 20 тис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Гетьмана обирає козацьке військо і сповіщає цар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одатки збирають укр. чинов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У містах - самоуправлінн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Московія вступає у віну з Р.П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42920" y="285480"/>
            <a:ext cx="88581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Оцінка  Переяслав-ського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договору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214200"/>
          <a:ext cx="9144000" cy="6467760"/>
        </p:xfrm>
        <a:graphic>
          <a:graphicData uri="http://schemas.openxmlformats.org/drawingml/2006/table">
            <a:tbl>
              <a:tblPr/>
              <a:tblGrid>
                <a:gridCol w="3714840"/>
                <a:gridCol w="5429160"/>
              </a:tblGrid>
              <a:tr h="252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ерсональна унія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Один монарх. Збереження самоврядування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252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5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ротекторат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Укр. – васальна, залежна територія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4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еальна уні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лиття держа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ea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142920"/>
          <a:ext cx="8929800" cy="65008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21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53005"/>
                          </a:solidFill>
                          <a:latin typeface="Tahoma"/>
                        </a:rPr>
                        <a:t>Неповна інкорпорація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cab8aa"/>
                    </a:solidFill>
                  </a:tcPr>
                </a:tc>
              </a:tr>
              <a:tr h="21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ійськово-політичний союз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21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озз'єднання України з Росією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Значення</a:t>
            </a:r>
            <a:br>
              <a:rPr sz="9600"/>
            </a:b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 Переяслав-ського договору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4354560" cy="63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1a"/>
                </a:solidFill>
                <a:latin typeface="Tahoma"/>
              </a:rPr>
              <a:t>Украї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2920" y="1000080"/>
            <a:ext cx="4354560" cy="5857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берігав державність та устрі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Росія - союзник проти Р.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позбавив утисків на православ'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4720" y="213840"/>
            <a:ext cx="4498920" cy="63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1a"/>
                </a:solidFill>
                <a:latin typeface="Tahoma"/>
              </a:rPr>
              <a:t>Росі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1000080"/>
            <a:ext cx="4498920" cy="5857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збільшення армії за рахунок козац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ові землі й сиров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козацькі війська захищали від турок та тат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повнення казни за рахунок податків з Украї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uk-UA" sz="80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Становлення української державності в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роки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ahoma"/>
              </a:rPr>
              <a:t>революції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одержимое 3" descr="9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479PX-~1"/>
          <p:cNvPicPr/>
          <p:nvPr/>
        </p:nvPicPr>
        <p:blipFill>
          <a:blip r:embed="rId1"/>
          <a:stretch/>
        </p:blipFill>
        <p:spPr>
          <a:xfrm>
            <a:off x="4786200" y="1285920"/>
            <a:ext cx="4214880" cy="542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47149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лена в сучасній науковій літературі назва укр. козацької держави на землях Наддніпрянщини, Сіверщини та Поділля у 1648-1764 p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фіційних документах вона називалась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ійсько Запорізьке, Князівство Руське, Мала Русь або Малоросі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тьманщи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Прямая со стрелкой 5"/>
          <p:cNvCxnSpPr/>
          <p:nvPr/>
        </p:nvCxnSpPr>
        <p:spPr>
          <a:xfrm flipH="1">
            <a:off x="3428640" y="927720"/>
            <a:ext cx="3643920" cy="286200"/>
          </a:xfrm>
          <a:prstGeom prst="straightConnector1">
            <a:avLst/>
          </a:prstGeom>
          <a:ln w="38160">
            <a:solidFill>
              <a:srgbClr val="f8a500"/>
            </a:solidFill>
            <a:miter/>
            <a:tailEnd len="med" type="arrow" w="med"/>
          </a:ln>
        </p:spPr>
      </p:cxn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gradFill rotWithShape="0">
            <a:gsLst>
              <a:gs pos="0">
                <a:srgbClr val="ffd27c"/>
              </a:gs>
              <a:gs pos="100000">
                <a:srgbClr val="fff1d9"/>
              </a:gs>
            </a:gsLst>
            <a:lin ang="16200000"/>
          </a:gradFill>
          <a:ln w="9360">
            <a:solidFill>
              <a:srgbClr val="f9a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3300"/>
                </a:solidFill>
                <a:latin typeface="Tahoma"/>
              </a:rPr>
              <a:t>Ознаки держав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480" y="1571400"/>
            <a:ext cx="2214360" cy="50720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12"/>
                </a:solidFill>
                <a:latin typeface="Tahoma"/>
              </a:rPr>
              <a:t>Будь-яка держава володіє певним набором ознак, що дозволяють визначати її як держа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Содержимое 4" descr=""/>
          <p:cNvPicPr/>
          <p:nvPr/>
        </p:nvPicPr>
        <p:blipFill>
          <a:blip r:embed="rId1"/>
          <a:stretch/>
        </p:blipFill>
        <p:spPr>
          <a:xfrm>
            <a:off x="2962440" y="1316160"/>
            <a:ext cx="6059160" cy="5529240"/>
          </a:xfrm>
          <a:prstGeom prst="rect">
            <a:avLst/>
          </a:prstGeom>
          <a:ln w="0">
            <a:noFill/>
          </a:ln>
        </p:spPr>
      </p:pic>
      <p:sp>
        <p:nvSpPr>
          <p:cNvPr id="241" name="Стрелка вправо 5"/>
          <p:cNvSpPr/>
          <p:nvPr/>
        </p:nvSpPr>
        <p:spPr>
          <a:xfrm>
            <a:off x="2505240" y="3676680"/>
            <a:ext cx="547560" cy="484200"/>
          </a:xfrm>
          <a:prstGeom prst="rightArrow">
            <a:avLst>
              <a:gd name="adj1" fmla="val 50000"/>
              <a:gd name="adj2" fmla="val 49878"/>
            </a:avLst>
          </a:prstGeom>
          <a:solidFill>
            <a:srgbClr val="f8a5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хема 16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93027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582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Arial"/>
              </a:rPr>
              <a:t>Політична влад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25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Рад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етьман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енеральний уряд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133200"/>
            <a:ext cx="9169200" cy="67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Компетенція гетьмана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ерував радам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чолював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дміністраці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Дипломатичні відносин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Очолював військ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онодавство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Судова функці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3582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25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1a"/>
                </a:solidFill>
                <a:latin typeface="Tahoma"/>
              </a:rPr>
              <a:t>Резиденції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гетьманів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Чигирин, Гадяч, Батурин, Глух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00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1a"/>
                </a:solidFill>
                <a:latin typeface="Tahoma"/>
              </a:rPr>
              <a:t>Б.Хмельницький</a:t>
            </a:r>
            <a:r>
              <a:rPr b="0" lang="uk-UA" sz="4400" spc="-1" strike="noStrike">
                <a:solidFill>
                  <a:srgbClr val="ffff1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азивав себе „единовладцем и самодержцем руським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Мав великі земельні володіння - „рангові маєтності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Мав особисту охорну (жолдаки), наймане військо (компанійці і сердюки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Відзнаки влади - клейн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лейноди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Хоругва             Булав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ечатка            Бунчу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Литаври            Пірнач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Пользователь\Документы\Картинки\Гетьманщина  XVII -XVIII СТ\bulava1[1].jpg"/>
          <p:cNvPicPr/>
          <p:nvPr/>
        </p:nvPicPr>
        <p:blipFill>
          <a:blip r:embed="rId1"/>
          <a:stretch/>
        </p:blipFill>
        <p:spPr>
          <a:xfrm>
            <a:off x="500040" y="214200"/>
            <a:ext cx="3929040" cy="6286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Пользователь\Документы\Картинки\Гетьманщина  XVII -XVIII СТ\15[1].jpg"/>
          <p:cNvPicPr/>
          <p:nvPr/>
        </p:nvPicPr>
        <p:blipFill>
          <a:blip r:embed="rId2"/>
          <a:stretch/>
        </p:blipFill>
        <p:spPr>
          <a:xfrm>
            <a:off x="5143680" y="142920"/>
            <a:ext cx="34812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Пользователь\Документы\Картинки\Велике Князівство Литовське\перше козацтво\клейноди\kleinody.jpg"/>
          <p:cNvPicPr/>
          <p:nvPr/>
        </p:nvPicPr>
        <p:blipFill>
          <a:blip r:embed="rId1"/>
          <a:stretch/>
        </p:blipFill>
        <p:spPr>
          <a:xfrm>
            <a:off x="428760" y="142920"/>
            <a:ext cx="85723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Users\Пользователь\Документы\Картинки\Гетьманщина  XVII -XVIII СТ\16[1].jpg"/>
          <p:cNvPicPr/>
          <p:nvPr/>
        </p:nvPicPr>
        <p:blipFill>
          <a:blip r:embed="rId1"/>
          <a:stretch/>
        </p:blipFill>
        <p:spPr>
          <a:xfrm>
            <a:off x="428760" y="428760"/>
            <a:ext cx="81439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Компетенція генеральної Ради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425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Оголошення війни і підписання мир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Організація військових поход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окарання злочинц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Вибори гетьмана та старши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42560" y="142920"/>
            <a:ext cx="90010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Гетьман, полковники та старшина збиралися на </a:t>
            </a:r>
            <a:r>
              <a:rPr b="1" lang="uk-UA" sz="4400" spc="-1" strike="noStrike">
                <a:solidFill>
                  <a:srgbClr val="ffff1a"/>
                </a:solidFill>
                <a:latin typeface="Tahoma"/>
              </a:rPr>
              <a:t>раду генеральної старши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На раді готувалися питання, які виносилися на обговорення козацької ра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Згодом до ради старшин переходить уся повнота влад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Схема 16" descr=""/>
          <p:cNvPicPr/>
          <p:nvPr/>
        </p:nvPicPr>
        <p:blipFill>
          <a:blip r:embed="rId1"/>
          <a:stretch/>
        </p:blipFill>
        <p:spPr>
          <a:xfrm>
            <a:off x="-12600" y="212760"/>
            <a:ext cx="93027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67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392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Генеральна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3880" y="388620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старшин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1" name="Содержимое 3" descr=""/>
          <p:cNvPicPr/>
          <p:nvPr/>
        </p:nvPicPr>
        <p:blipFill>
          <a:blip r:embed="rId1"/>
          <a:stretch/>
        </p:blipFill>
        <p:spPr>
          <a:xfrm>
            <a:off x="-49320" y="55440"/>
            <a:ext cx="920592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-19080" y="-49320"/>
            <a:ext cx="917568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1a"/>
                </a:solidFill>
                <a:latin typeface="Arial"/>
              </a:rPr>
              <a:t>Територі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Завойовані українськими військами землі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1649 р. – 200 тис. кв. к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Кордони змінювалися згідно українсько-польським договора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42560" y="642960"/>
            <a:ext cx="9001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1a"/>
                </a:solidFill>
                <a:latin typeface="Tahoma"/>
              </a:rPr>
              <a:t>Політико-адміністративний устрі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1a"/>
                </a:solidFill>
                <a:latin typeface="Arial"/>
              </a:rPr>
              <a:t>Політико-адміністративний устрі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Замість воєводств і повітів була створена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лкова – сотенна систем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1649 р. – 16 полків, 272 сотні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Полк міг охоплювати від 11 до 22 сот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42560" y="21384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Полк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полковник, </a:t>
            </a: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олковий уряд, полкова ра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Сотня      сотник, сотенний уряд, сотенна ра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Стрелка вправо с вырезом 3"/>
          <p:cNvSpPr/>
          <p:nvPr/>
        </p:nvSpPr>
        <p:spPr>
          <a:xfrm>
            <a:off x="2857680" y="571680"/>
            <a:ext cx="977760" cy="48384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3840"/>
              <a:gd name="textAreaBottom" fmla="*/ 362880 h 483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Штриховая стрелка вправо 4"/>
          <p:cNvSpPr/>
          <p:nvPr/>
        </p:nvSpPr>
        <p:spPr>
          <a:xfrm>
            <a:off x="3714840" y="3429000"/>
            <a:ext cx="977760" cy="484200"/>
          </a:xfrm>
          <a:custGeom>
            <a:avLst/>
            <a:gdLst/>
            <a:ahLst/>
            <a:rect l="l" t="t" r="r" b="b"/>
            <a:pathLst>
              <a:path w="977900" h="484188">
                <a:moveTo>
                  <a:pt x="0" y="121047"/>
                </a:moveTo>
                <a:lnTo>
                  <a:pt x="15131" y="121047"/>
                </a:lnTo>
                <a:lnTo>
                  <a:pt x="15131" y="363141"/>
                </a:lnTo>
                <a:lnTo>
                  <a:pt x="0" y="363141"/>
                </a:lnTo>
                <a:lnTo>
                  <a:pt x="0" y="121047"/>
                </a:lnTo>
                <a:close/>
                <a:moveTo>
                  <a:pt x="30262" y="121047"/>
                </a:moveTo>
                <a:lnTo>
                  <a:pt x="60524" y="121047"/>
                </a:lnTo>
                <a:lnTo>
                  <a:pt x="60524" y="363141"/>
                </a:lnTo>
                <a:lnTo>
                  <a:pt x="30262" y="363141"/>
                </a:lnTo>
                <a:lnTo>
                  <a:pt x="30262" y="121047"/>
                </a:lnTo>
                <a:close/>
                <a:moveTo>
                  <a:pt x="75654" y="121047"/>
                </a:moveTo>
                <a:lnTo>
                  <a:pt x="735806" y="121047"/>
                </a:lnTo>
                <a:lnTo>
                  <a:pt x="735806" y="0"/>
                </a:lnTo>
                <a:lnTo>
                  <a:pt x="977900" y="242094"/>
                </a:lnTo>
                <a:lnTo>
                  <a:pt x="735806" y="484188"/>
                </a:lnTo>
                <a:lnTo>
                  <a:pt x="735806" y="363141"/>
                </a:lnTo>
                <a:lnTo>
                  <a:pt x="75654" y="363141"/>
                </a:lnTo>
                <a:lnTo>
                  <a:pt x="75654" y="121047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67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Великі міста – магістрат  (магдебурзьке право)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Інші міста – городові отамани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Села – сільські отамани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З.С. - автономн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1a"/>
                </a:solidFill>
                <a:latin typeface="Arial"/>
              </a:rPr>
              <a:t>Право та судочинство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ffff"/>
                </a:solidFill>
                <a:latin typeface="Tahoma"/>
              </a:rPr>
              <a:t>Ґрунтувалося на нормах козацького, звичаєвого, церковного, магдебурзького прав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2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ffff"/>
                </a:solidFill>
                <a:latin typeface="Tahoma"/>
              </a:rPr>
              <a:t>Польське законодавство не діяло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хема 16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9174240" cy="642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a"/>
                </a:solidFill>
                <a:latin typeface="Arial"/>
              </a:rPr>
              <a:t>Судова система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6" name="Рисунок SmartArt 6" descr=""/>
          <p:cNvPicPr/>
          <p:nvPr/>
        </p:nvPicPr>
        <p:blipFill>
          <a:blip r:embed="rId1"/>
          <a:stretch/>
        </p:blipFill>
        <p:spPr>
          <a:xfrm>
            <a:off x="-23760" y="1139760"/>
            <a:ext cx="9180360" cy="59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Arial"/>
              </a:rPr>
              <a:t>Принципи судочинств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Змагальні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Гласні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Відкритість судових засіда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Колегіальність при вирішенні судових спра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Виборність судді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Апеляційне оскарження судових ріше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Arial"/>
              </a:rPr>
              <a:t>Фінансова система та податки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Фінанси поповнювались з основних джерел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емельного ф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ходів від промисл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датки і оре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1654 р. – введена посада ген. підскарб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a"/>
                </a:solidFill>
                <a:latin typeface="Arial"/>
              </a:rPr>
              <a:t>Митні податки: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індукта – на імпортні товар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6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евекта – на експортні товар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b050"/>
                </a:solidFill>
                <a:latin typeface="Arial"/>
              </a:rPr>
              <a:t>Збройні сили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2560" y="142848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300 тис. вояк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Піхота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Кіннот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Артилері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b050"/>
                </a:solidFill>
                <a:latin typeface="Arial"/>
              </a:rPr>
              <a:t>Гармати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6" name="Picture 5" descr="C:\Users\Пользователь\Документы\Картинки\Велике Князівство Литовське\Війни, зброя, воїни\оружие\Козацькі гармати, мортири та ядра.jpg"/>
          <p:cNvPicPr/>
          <p:nvPr/>
        </p:nvPicPr>
        <p:blipFill>
          <a:blip r:embed="rId1"/>
          <a:stretch/>
        </p:blipFill>
        <p:spPr>
          <a:xfrm>
            <a:off x="1214280" y="92880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b050"/>
                </a:solidFill>
                <a:latin typeface="Arial"/>
              </a:rPr>
              <a:t>Соціальна структура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8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1133640"/>
            <a:ext cx="9169200" cy="58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b050"/>
                </a:solidFill>
                <a:latin typeface="Arial"/>
              </a:rPr>
              <a:t>Зовнішня політика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76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ff"/>
                </a:solidFill>
                <a:latin typeface="Tahoma"/>
              </a:rPr>
              <a:t>Міжнародне визнання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276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100" spc="-1" strike="noStrike">
                <a:solidFill>
                  <a:srgbClr val="ffffff"/>
                </a:solidFill>
                <a:latin typeface="Tahoma"/>
              </a:rPr>
              <a:t>Гетьман мав дипломатичні відносини з </a:t>
            </a:r>
            <a:r>
              <a:rPr b="1" lang="ru-RU" sz="5100" spc="-1" strike="noStrike">
                <a:solidFill>
                  <a:srgbClr val="ffffff"/>
                </a:solidFill>
                <a:latin typeface="Tahoma"/>
              </a:rPr>
              <a:t>Австрією, Кримом,  Молдовою, Польщею, Росією та ін.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Особливості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Складне геополітичне становище, яке обумовило надзвичайну ситуаці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Держава виникла з надр З.С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Переплетіння республіканської і монархічної форм правлі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ійськово-територіальний поді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Своєрідність правової систе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творення армії не по класичній схемі (військо створює свої державні інститути)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e183cf"/>
                </a:solidFill>
                <a:latin typeface="Arial"/>
              </a:rPr>
              <a:t>Рушійні сили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Разом з українцями у війні брали участь </a:t>
            </a:r>
            <a:r>
              <a:rPr b="1" lang="uk-UA" sz="5400" spc="-1" strike="noStrike">
                <a:solidFill>
                  <a:srgbClr val="e183cf"/>
                </a:solidFill>
                <a:latin typeface="Tahoma"/>
              </a:rPr>
              <a:t>23 народності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росія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білору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молдова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серб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болга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Причини поразки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Відсутність досвіду державного будівництва у еліти, яка очолила визвольну боротьб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ереважання у козацтва особистих, групових чи станових інтересів над національними, державни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Зрада національних інтересів більшістю  української елі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сформованість національної іде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озкол України на два гетьманст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рорахунки наступних урядів у проведенні внутрішньої політики, які загострили соціальну боротьб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ізні зовнішньополітичні орієнтації старшинських угруповань, що були спричинені пошуками виходу із складного геополітичного становищ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стійна агресія з боку сусідніх держ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емографічні втрати населення від епідемій, голоду, міграцій склали 2,5-3 млн людей (з 5 млн. етнічних українців Речі Посполитої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Значення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Привела до створення національної держав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ула 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ідновлен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традиці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державотворення українського нар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формувала і проголосила національну ідею -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ідею незалежності, свободи і побудови власної держа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ідіграла визначальну роль у формуванні нової політичної елі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тала імпульсом для розвитку національної самосвідомост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багатила традиції боротьби проти національно-релігійного та соціального гноблен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ірвала плани Ватикану про укладення „універсальної унії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аїнському народу вдалося зберегти свою етнічну самобутність, свою мову, культуру, звичаї, врятуватися від геноци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правила глибокий і тривалий вплив на розвиток народної творчості, історичної та художньої літерату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результаті визвольних змагань за державою закріплюється назва «Україн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Содержимое 4" descr=""/>
          <p:cNvPicPr/>
          <p:nvPr/>
        </p:nvPicPr>
        <p:blipFill>
          <a:blip r:embed="rId1"/>
          <a:stretch/>
        </p:blipFill>
        <p:spPr>
          <a:xfrm>
            <a:off x="-12600" y="212760"/>
            <a:ext cx="92790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8a500"/>
                </a:solidFill>
                <a:latin typeface="Arial"/>
              </a:rPr>
              <a:t>Завдання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Рисунок SmartArt 6" descr=""/>
          <p:cNvPicPr/>
          <p:nvPr/>
        </p:nvPicPr>
        <p:blipFill>
          <a:blip r:embed="rId1"/>
          <a:stretch/>
        </p:blipFill>
        <p:spPr>
          <a:xfrm>
            <a:off x="-23760" y="1206360"/>
            <a:ext cx="9356760" cy="60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7:49:49Z</dcterms:created>
  <dc:creator>user</dc:creator>
  <dc:description/>
  <dc:language>en-US</dc:language>
  <cp:lastModifiedBy>Admin</cp:lastModifiedBy>
  <dcterms:modified xsi:type="dcterms:W3CDTF">2013-11-20T09:42:19Z</dcterms:modified>
  <cp:revision>321</cp:revision>
  <dc:subject/>
  <dc:title>Тема лекції: </dc:title>
</cp:coreProperties>
</file>