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7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42.jpeg" ContentType="image/jpeg"/>
  <Override PartName="/ppt/media/image25.png" ContentType="image/png"/>
  <Override PartName="/ppt/media/image19.jpeg" ContentType="image/jpeg"/>
  <Override PartName="/ppt/media/image39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1.jpeg" ContentType="image/jpeg"/>
  <Override PartName="/ppt/media/image5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62.png" ContentType="image/png"/>
  <Override PartName="/ppt/media/image51.jpeg" ContentType="image/jpeg"/>
  <Override PartName="/ppt/media/image27.png" ContentType="image/png"/>
  <Override PartName="/ppt/media/image17.jpeg" ContentType="image/jpeg"/>
  <Override PartName="/ppt/media/image11.png" ContentType="image/png"/>
  <Override PartName="/ppt/media/image6.jpeg" ContentType="image/jpeg"/>
  <Override PartName="/ppt/media/image63.jpeg" ContentType="image/jpeg"/>
  <Override PartName="/ppt/media/image29.png" ContentType="image/png"/>
  <Override PartName="/ppt/media/image21.jpeg" ContentType="image/jpeg"/>
  <Override PartName="/ppt/media/image60.jpeg" ContentType="image/jpeg"/>
  <Override PartName="/ppt/media/image30.png" ContentType="image/png"/>
  <Override PartName="/ppt/media/image1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18.jpeg" ContentType="image/jpeg"/>
  <Override PartName="/ppt/media/image15.jpeg" ContentType="image/jpeg"/>
  <Override PartName="/ppt/media/image5.jpeg" ContentType="image/jpeg"/>
  <Override PartName="/ppt/media/image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20.jpeg" ContentType="image/jpeg"/>
  <Override PartName="/ppt/media/image31.png" ContentType="image/png"/>
  <Override PartName="/ppt/media/image34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43B-F6B8-4AF7-885C-0DF7A868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77E-2D55-4069-925B-464A1F4B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390-A8C7-45AC-9E3B-5342CCC8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0D7-49D8-473C-8A6B-8725619C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E5B2-B208-4577-AF8C-EDFC83F8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4104-778C-4672-9277-4C8A6875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555-926A-42F7-8552-C82EC935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4F01-E5BE-4F56-AA50-7B39C107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5371-344E-4D06-96B0-3C479834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156-D32D-4D68-8B47-EC048E9D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B7D7-1F80-4FF6-BC31-0AB17DFB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469-861C-4842-A5C1-A9E484FA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393D-92F2-4DF0-A8CD-07FBD66F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FC68-74F4-4CDF-855C-ED230054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1B75-93C7-49AF-8421-BC6814F4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06A1-7FC5-43F7-982A-4B9F26A6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464B-F0D4-4512-848F-007966DE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944-28FF-4314-AB0A-2F41A429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A1E-BB4F-44D5-A3C9-790B754D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399-6AF8-4220-B305-B3C18D07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A68-9092-43F0-81C9-26531A6A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B92-9134-4A78-B741-C3AB61B0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77F-00C8-4E8D-B1BD-CE4419A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7AB-775E-40CA-8324-0F682D4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Franklin Gothic Book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B845-2B53-4608-90BF-3AA1416F0E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Franklin Gothic Book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9702-5951-4D90-9A3F-A119DCF974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history.franko.lviv.ua/IIIs_2.htm#&#1057;&#1042;&#1071;&#1058;&#1054;&#1057;&#1051;&#1040;&#1042;%20&#1030;&#1043;&#1054;&#1056;&#1054;&#1042;&#1048;&#1063;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Пользователь\Документы\Картинки\Киевская Русь\P1010111.JPG"/>
          <p:cNvPicPr/>
          <p:nvPr/>
        </p:nvPicPr>
        <p:blipFill>
          <a:blip r:embed="rId1"/>
          <a:stretch/>
        </p:blipFill>
        <p:spPr>
          <a:xfrm>
            <a:off x="571680" y="2214720"/>
            <a:ext cx="6786360" cy="4483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7200" spc="-1" strike="noStrike">
                <a:solidFill>
                  <a:srgbClr val="ff0000"/>
                </a:solidFill>
                <a:latin typeface="Vivaldi"/>
              </a:rPr>
              <a:t>КИЇВСЬКА  РУСЬ </a:t>
            </a: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uk-UA" sz="6600" spc="-1" strike="noStrike">
                <a:solidFill>
                  <a:srgbClr val="ff0000"/>
                </a:solidFill>
                <a:latin typeface="Vivaldi"/>
              </a:rPr>
              <a:t>кін. ІХ – поч. ХІІ ст</a:t>
            </a:r>
            <a:r>
              <a:rPr b="1" lang="uk-UA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)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42560" y="142920"/>
            <a:ext cx="90010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3. Скандинавські імена послів, що зафіксовані у договорах із Візантією у Х ст. свідчать про те, що нормани запрошувалися для виконання </a:t>
            </a:r>
            <a:r>
              <a:rPr b="1" lang="uk-UA" sz="3800" spc="-1" strike="noStrike">
                <a:solidFill>
                  <a:srgbClr val="ffffff"/>
                </a:solidFill>
                <a:latin typeface="Arial"/>
              </a:rPr>
              <a:t>дипломатичних функці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4. Нормани не могли експортувати державність і державні структури у Східну Європу оскільки у Скандинавії у цей період ще не завершився процес розпаду первіснообщинних відносин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Franklin Gothic Book"/>
              </a:rPr>
              <a:t>ПЕРЕДУМОВИ ФОРМУВАННЯ КИЇВСЬКОЇ ДЕРЖАВИ</a:t>
            </a:r>
            <a:endParaRPr b="1" lang="en-US" sz="4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8929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Етнічна спільність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слов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янських плем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Намагання о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днати сили для боротьби з кочівниками та Візантіє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Розповсюдження та визнання єдиної християнської вір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456440" y="3246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142560"/>
            <a:ext cx="89298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Економічні інтерес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Намагання позбавитись внутрішніх міжусобних вій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Заснування Києва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(кін.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 - поч.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І ст.) 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політичного центру східних слов'я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456440" y="3246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Franklin Gothic Book"/>
              </a:rPr>
              <a:t>Етапи формування Давньоруської державності</a:t>
            </a:r>
            <a:endParaRPr b="1" lang="en-US" sz="48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133" name="Picture 6" descr="image010"/>
          <p:cNvPicPr/>
          <p:nvPr/>
        </p:nvPicPr>
        <p:blipFill>
          <a:blip r:embed="rId1"/>
          <a:stretch/>
        </p:blipFill>
        <p:spPr>
          <a:xfrm>
            <a:off x="500040" y="2320920"/>
            <a:ext cx="800100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9298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r>
              <a:rPr b="1" lang="uk-UA" sz="4000" spc="-1" strike="noStrike">
                <a:solidFill>
                  <a:srgbClr val="ff0000"/>
                </a:solidFill>
                <a:latin typeface="Franklin Gothic Book"/>
              </a:rPr>
              <a:t>Слов'яни</a:t>
            </a:r>
            <a:r>
              <a:rPr b="1" lang="uk-UA" sz="40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1" lang="uk-UA" sz="3200" spc="-1" strike="noStrike">
                <a:solidFill>
                  <a:srgbClr val="eaeaea"/>
                </a:solidFill>
                <a:latin typeface="Franklin Gothic Book"/>
              </a:rPr>
              <a:t>– це велика група європейських народів, які об'єднанні спільністю мов та походженням </a:t>
            </a:r>
            <a:endParaRPr b="1" lang="en-US" sz="32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8929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Слов'я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східні                     західні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        півден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9720" y="4071600"/>
            <a:ext cx="75438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Слов'я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Венеди                склави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склав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Прямая со стрелкой 7"/>
          <p:cNvCxnSpPr/>
          <p:nvPr/>
        </p:nvCxnSpPr>
        <p:spPr>
          <a:xfrm flipH="1">
            <a:off x="4785480" y="4787640"/>
            <a:ext cx="2520" cy="929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8" name="Прямая со стрелкой 9"/>
          <p:cNvCxnSpPr/>
          <p:nvPr/>
        </p:nvCxnSpPr>
        <p:spPr>
          <a:xfrm flipH="1">
            <a:off x="4498200" y="2571840"/>
            <a:ext cx="2520" cy="1002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9" name="Прямая со стрелкой 11"/>
          <p:cNvCxnSpPr/>
          <p:nvPr/>
        </p:nvCxnSpPr>
        <p:spPr>
          <a:xfrm>
            <a:off x="4500360" y="2571480"/>
            <a:ext cx="1286280" cy="572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0" name="Прямая со стрелкой 14"/>
          <p:cNvCxnSpPr/>
          <p:nvPr/>
        </p:nvCxnSpPr>
        <p:spPr>
          <a:xfrm flipH="1">
            <a:off x="2785320" y="2570760"/>
            <a:ext cx="1715400" cy="572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1" name="Прямая со стрелкой 22"/>
          <p:cNvCxnSpPr/>
          <p:nvPr/>
        </p:nvCxnSpPr>
        <p:spPr>
          <a:xfrm>
            <a:off x="4785840" y="4785840"/>
            <a:ext cx="1072440" cy="500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2" name="Прямая со стрелкой 28"/>
          <p:cNvCxnSpPr/>
          <p:nvPr/>
        </p:nvCxnSpPr>
        <p:spPr>
          <a:xfrm flipH="1">
            <a:off x="3785760" y="4785120"/>
            <a:ext cx="1000800" cy="500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Franklin Gothic Book"/>
              </a:rPr>
              <a:t>На території сучасної України</a:t>
            </a:r>
            <a:endParaRPr b="1" lang="en-US" sz="5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3840" y="1981080"/>
            <a:ext cx="4357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оля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ревля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Сіверц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Тиверц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личі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олиня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Внешний вид древних славян."/>
          <p:cNvPicPr/>
          <p:nvPr/>
        </p:nvPicPr>
        <p:blipFill>
          <a:blip r:embed="rId1"/>
          <a:srcRect l="8571" t="11344" r="36957" b="10378"/>
          <a:stretch/>
        </p:blipFill>
        <p:spPr>
          <a:xfrm>
            <a:off x="4176720" y="1654200"/>
            <a:ext cx="469440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4000" y="189000"/>
            <a:ext cx="401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Релігі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еру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Стрибо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Сварож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еле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аждьбо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http://xn----otbhelfmphcp4fjf.xn--p1ai/wp-content/uploads/2012/12/drevnie_slavjane.jpg"/>
          <p:cNvPicPr/>
          <p:nvPr/>
        </p:nvPicPr>
        <p:blipFill>
          <a:blip r:embed="rId1"/>
          <a:stretch/>
        </p:blipFill>
        <p:spPr>
          <a:xfrm>
            <a:off x="4500720" y="1844640"/>
            <a:ext cx="439092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    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Періодизаці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державотворчог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процес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східних слов'ян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http://www.ido.rudn.ru/nfpk/hist/pic/2/v2_15.jpg"/>
          <p:cNvPicPr/>
          <p:nvPr/>
        </p:nvPicPr>
        <p:blipFill>
          <a:blip r:embed="rId1"/>
          <a:srcRect l="148" t="13534" r="-144" b="4844"/>
          <a:stretch/>
        </p:blipFill>
        <p:spPr>
          <a:xfrm>
            <a:off x="1374840" y="2938320"/>
            <a:ext cx="6753240" cy="379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    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66"/>
                </a:solidFill>
                <a:latin typeface="Arial"/>
              </a:rPr>
              <a:t>І етап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VI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VII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 ст</a:t>
            </a:r>
            <a:r>
              <a:rPr b="0" lang="uk-UA" sz="6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єднання понад 100 слов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нських племен в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14 союзів племен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(поляни, древляни, в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тичі, сіверці…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Відомості про 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14 союзів племен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містяться  у “ПМЛ” Несто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7152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uk-UA" sz="6000" spc="-1" strike="noStrike">
                <a:solidFill>
                  <a:srgbClr val="ffff66"/>
                </a:solidFill>
                <a:latin typeface="Franklin Gothic Book"/>
              </a:rPr>
              <a:t>ІІ етап</a:t>
            </a:r>
            <a:r>
              <a:rPr b="1" lang="uk-UA" sz="6000" spc="-1" strike="noStrike">
                <a:solidFill>
                  <a:srgbClr val="eaeaea"/>
                </a:solidFill>
                <a:latin typeface="Franklin Gothic Book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Franklin Gothic Book"/>
              </a:rPr>
              <a:t>VII</a:t>
            </a: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 - </a:t>
            </a:r>
            <a:r>
              <a:rPr b="1" lang="en-US" sz="6000" spc="-1" strike="noStrike">
                <a:solidFill>
                  <a:srgbClr val="ffff00"/>
                </a:solidFill>
                <a:latin typeface="Franklin Gothic Book"/>
              </a:rPr>
              <a:t>VII</a:t>
            </a: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І ст. </a:t>
            </a:r>
            <a:br>
              <a:rPr sz="6000"/>
            </a:b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2920" y="121428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єднання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південних  союзів племен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на чолі з полянами в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союз союзів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48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Русь</a:t>
            </a:r>
            <a:r>
              <a:rPr b="0" lang="uk-UA" sz="48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з центром у 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Києві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арабськими джерелами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в цей період  існувало три політичних центри –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Куявія, Славія, Артан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Зміст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Утворення давньоруської держав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2. Суспільний ла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3. Державний ла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4. Правова систем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2560" y="214200"/>
            <a:ext cx="9001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ІІІ етап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ІІІ - ІХ ст.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1. Переростання південного союзу союзів 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Русь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”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 державне  о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днання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Руська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Згідно 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“ПМЛ”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равила у цьому  державному  о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днанні </a:t>
            </a: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династія К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(Аскольд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і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Дір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C:\Users\73B5~1\AppData\Local\Temp\Rar$DI00.939\Аскольд.jpg"/>
          <p:cNvPicPr/>
          <p:nvPr/>
        </p:nvPicPr>
        <p:blipFill>
          <a:blip r:embed="rId1"/>
          <a:stretch/>
        </p:blipFill>
        <p:spPr>
          <a:xfrm>
            <a:off x="324000" y="4581360"/>
            <a:ext cx="2124000" cy="21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4200" y="285480"/>
            <a:ext cx="8715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Об'єднання </a:t>
            </a:r>
            <a:r>
              <a:rPr b="0" lang="uk-UA" sz="6000" spc="-1" strike="noStrike">
                <a:solidFill>
                  <a:srgbClr val="ffff00"/>
                </a:solidFill>
                <a:latin typeface="Arial"/>
              </a:rPr>
              <a:t>північних союзів племен 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на чолі зі словенами в союз созів </a:t>
            </a:r>
            <a:r>
              <a:rPr b="0" lang="uk-UA" sz="6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Славія” 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з центром у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00"/>
                </a:solidFill>
                <a:latin typeface="Arial"/>
              </a:rPr>
              <a:t>Новгороді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71524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І</a:t>
            </a:r>
            <a:r>
              <a:rPr b="1" lang="en-US" sz="6000" spc="-1" strike="noStrike">
                <a:solidFill>
                  <a:srgbClr val="ffff00"/>
                </a:solidFill>
                <a:latin typeface="Franklin Gothic Book"/>
              </a:rPr>
              <a:t>V</a:t>
            </a: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 етап    </a:t>
            </a:r>
            <a:br>
              <a:rPr sz="6000"/>
            </a:b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кін. ІХ ст. (882 р.)    </a:t>
            </a:r>
            <a:br>
              <a:rPr sz="5400"/>
            </a:b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4200" y="1844640"/>
            <a:ext cx="8715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єднання південного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(Руська земля)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і північного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(Славія)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державних об'єднань у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Давньоруську державу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(центр – Київ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71524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8000" spc="-1" strike="noStrike">
                <a:solidFill>
                  <a:srgbClr val="ffff00"/>
                </a:solidFill>
                <a:latin typeface="Franklin Gothic Book"/>
              </a:rPr>
              <a:t>Висновки</a:t>
            </a:r>
            <a:br>
              <a:rPr sz="8000"/>
            </a:br>
            <a:endParaRPr b="1" lang="en-US" sz="8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2920" y="164304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К.Р.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виникла в процесі еволюції  східнослов'янських племе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2. Ядром держави стала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Руська земл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    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ПЕРІОДИЗАЦІ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ІСТОРІЇ       КИЇВСЬКОЇ РУСІ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Стародавній Київ X-XIII ст. Макет, фрагмент. Місто Ярослава. Художник Д. Мазюкевич"/>
          <p:cNvPicPr/>
          <p:nvPr/>
        </p:nvPicPr>
        <p:blipFill>
          <a:blip r:embed="rId1"/>
          <a:stretch/>
        </p:blipFill>
        <p:spPr>
          <a:xfrm>
            <a:off x="1763640" y="2637000"/>
            <a:ext cx="5961240" cy="39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2560" y="115920"/>
            <a:ext cx="9001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І період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(кін. ІХ ст. - кін. Х ст.) 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никнення і становлення  Давньоруської держав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ІІ період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(кін. Х - сер. ХІ ст.)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   Піднесення та розквіт К.Р.  Зміцнення державності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(проведення державних реформ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C:\Users\Пользователь\Документы\Картинки\Киевская Русь\Дворец св. князя Владимира..jpg"/>
          <p:cNvPicPr/>
          <p:nvPr/>
        </p:nvPicPr>
        <p:blipFill>
          <a:blip r:embed="rId1"/>
          <a:stretch/>
        </p:blipFill>
        <p:spPr>
          <a:xfrm>
            <a:off x="5143680" y="3214800"/>
            <a:ext cx="3762360" cy="3081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ІІІ період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(кін. ХІ – 30/ХІІ ст.)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очаток розпаду Київської Рус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V </a:t>
            </a: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період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(30/ХІІ - ХІ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 ст.)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олітична роздроблені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Напад кочівник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іжусобні вій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Руїна 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непад держа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Содержимое 3" descr="Per_odizats_ya Ki_vsko_ Rus_ 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7120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Franklin Gothic Book"/>
              </a:rPr>
              <a:t>2. Суспільний лад</a:t>
            </a:r>
            <a:endParaRPr b="1" lang="en-US" sz="88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170" name="Picture 7" descr="Жіночій костюм 13-14 ст. Київська Русь"/>
          <p:cNvPicPr/>
          <p:nvPr/>
        </p:nvPicPr>
        <p:blipFill>
          <a:blip r:embed="rId1"/>
          <a:srcRect l="0" t="50002" r="0" b="0"/>
          <a:stretch/>
        </p:blipFill>
        <p:spPr>
          <a:xfrm>
            <a:off x="1763640" y="2276640"/>
            <a:ext cx="619128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5" descr=""/>
          <p:cNvPicPr/>
          <p:nvPr/>
        </p:nvPicPr>
        <p:blipFill>
          <a:blip r:embed="rId1"/>
          <a:stretch/>
        </p:blipFill>
        <p:spPr>
          <a:xfrm>
            <a:off x="347760" y="139680"/>
            <a:ext cx="8667720" cy="64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213840"/>
            <a:ext cx="8786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Етногенез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 – походження народ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C:\Users\73B5~1\AppData\Local\Temp\Rar$DI21.156\Соломенный 3429-3 Киевская Русь18.png"/>
          <p:cNvPicPr/>
          <p:nvPr/>
        </p:nvPicPr>
        <p:blipFill>
          <a:blip r:embed="rId1"/>
          <a:stretch/>
        </p:blipFill>
        <p:spPr>
          <a:xfrm>
            <a:off x="428760" y="1571760"/>
            <a:ext cx="80010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5720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grpSp>
        <p:nvGrpSpPr>
          <p:cNvPr id="173" name="Organization Chart 5"/>
          <p:cNvGrpSpPr/>
          <p:nvPr/>
        </p:nvGrpSpPr>
        <p:grpSpPr>
          <a:xfrm>
            <a:off x="96840" y="142920"/>
            <a:ext cx="8814960" cy="6571440"/>
            <a:chOff x="96840" y="142920"/>
            <a:chExt cx="8814960" cy="6571440"/>
          </a:xfrm>
        </p:grpSpPr>
        <p:sp>
          <p:nvSpPr>
            <p:cNvPr id="174" name="_s1039"/>
            <p:cNvSpPr/>
            <p:nvPr/>
          </p:nvSpPr>
          <p:spPr>
            <a:xfrm>
              <a:off x="763920" y="142920"/>
              <a:ext cx="411012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Вільне</a:t>
              </a:r>
              <a:endParaRPr b="0" lang="en-US" sz="7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5" name="_s1040"/>
            <p:cNvSpPr/>
            <p:nvPr/>
          </p:nvSpPr>
          <p:spPr>
            <a:xfrm>
              <a:off x="96840" y="1570680"/>
              <a:ext cx="233892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4000" spc="-1" strike="noStrike">
                  <a:solidFill>
                    <a:srgbClr val="ffff00"/>
                  </a:solidFill>
                  <a:latin typeface="Arial"/>
                  <a:ea typeface="Arial"/>
                </a:rPr>
                <a:t>Феодали</a:t>
              </a:r>
              <a:endParaRPr b="0" lang="en-US" sz="40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6" name="_s1041"/>
            <p:cNvSpPr/>
            <p:nvPr/>
          </p:nvSpPr>
          <p:spPr>
            <a:xfrm>
              <a:off x="667800" y="2771280"/>
              <a:ext cx="261540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Духовенство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7" name="_s1042"/>
            <p:cNvSpPr/>
            <p:nvPr/>
          </p:nvSpPr>
          <p:spPr>
            <a:xfrm>
              <a:off x="3854520" y="2710800"/>
              <a:ext cx="194148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Селяни-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общинники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8" name="_s1043"/>
            <p:cNvSpPr/>
            <p:nvPr/>
          </p:nvSpPr>
          <p:spPr>
            <a:xfrm>
              <a:off x="6037200" y="945000"/>
              <a:ext cx="275184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Міські 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мешканці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9" name="_s1044"/>
            <p:cNvSpPr/>
            <p:nvPr/>
          </p:nvSpPr>
          <p:spPr>
            <a:xfrm>
              <a:off x="166320" y="5322960"/>
              <a:ext cx="3144960" cy="13914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Князь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Місцеві князі 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Бояри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0" name="_s1045"/>
            <p:cNvSpPr/>
            <p:nvPr/>
          </p:nvSpPr>
          <p:spPr>
            <a:xfrm>
              <a:off x="1229760" y="4032000"/>
              <a:ext cx="1570680" cy="1213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Біле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Чорне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1" name="_s1046"/>
            <p:cNvSpPr/>
            <p:nvPr/>
          </p:nvSpPr>
          <p:spPr>
            <a:xfrm>
              <a:off x="3327120" y="4159440"/>
              <a:ext cx="1341000" cy="1390680"/>
            </a:xfrm>
            <a:custGeom>
              <a:avLst/>
              <a:gdLst>
                <a:gd name="textAreaLeft" fmla="*/ 65160 w 1341000"/>
                <a:gd name="textAreaRight" fmla="*/ 1275840 w 1341000"/>
                <a:gd name="textAreaTop" fmla="*/ 65160 h 1390680"/>
                <a:gd name="textAreaBottom" fmla="*/ 1325520 h 1390680"/>
              </a:gdLst>
              <a:ahLst/>
              <a:rect l="textAreaLeft" t="textAreaTop" r="textAreaRight" b="textAreaBottom"/>
              <a:pathLst>
                <a:path w="21600" h="22400">
                  <a:moveTo>
                    <a:pt x="3600" y="0"/>
                  </a:moveTo>
                  <a:arcTo wR="3600" hR="3600" stAng="16200000" swAng="-5400000"/>
                  <a:lnTo>
                    <a:pt x="0" y="18800"/>
                  </a:lnTo>
                  <a:arcTo wR="3600" hR="3600" stAng="10800000" swAng="-5400000"/>
                  <a:lnTo>
                    <a:pt x="18000" y="2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Смерди</a:t>
              </a:r>
              <a:endParaRPr b="0" lang="en-US" sz="28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Сябри</a:t>
              </a:r>
              <a:endParaRPr b="0" lang="en-US" sz="28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2" name="_s1047"/>
            <p:cNvSpPr/>
            <p:nvPr/>
          </p:nvSpPr>
          <p:spPr>
            <a:xfrm>
              <a:off x="4874400" y="4199400"/>
              <a:ext cx="218088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Міська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1" lang="uk-UA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аристократія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3" name="_s1048"/>
            <p:cNvSpPr/>
            <p:nvPr/>
          </p:nvSpPr>
          <p:spPr>
            <a:xfrm>
              <a:off x="4826160" y="5701320"/>
              <a:ext cx="223056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Лихварі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Купці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Чиновники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4" name="_s1049"/>
            <p:cNvSpPr/>
            <p:nvPr/>
          </p:nvSpPr>
          <p:spPr>
            <a:xfrm>
              <a:off x="7071120" y="3433680"/>
              <a:ext cx="180972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Міські 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низи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5" name="_s1050"/>
            <p:cNvSpPr/>
            <p:nvPr/>
          </p:nvSpPr>
          <p:spPr>
            <a:xfrm>
              <a:off x="7071120" y="4878360"/>
              <a:ext cx="1840680" cy="1069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Ремісники</a:t>
              </a:r>
              <a:endParaRPr b="0" lang="en-US" sz="20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Дрібні торгівці</a:t>
              </a:r>
              <a:endParaRPr b="0" lang="en-US" sz="2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cxnSp>
        <p:nvCxnSpPr>
          <p:cNvPr id="186" name="Прямая со стрелкой 2"/>
          <p:cNvCxnSpPr>
            <a:stCxn id="174" idx="2"/>
            <a:endCxn id="175" idx="0"/>
          </p:cNvCxnSpPr>
          <p:nvPr/>
        </p:nvCxnSpPr>
        <p:spPr>
          <a:xfrm flipH="1">
            <a:off x="1266120" y="1106640"/>
            <a:ext cx="1553400" cy="465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7" name="Прямая со стрелкой 4"/>
          <p:cNvCxnSpPr>
            <a:stCxn id="174" idx="2"/>
            <a:endCxn id="178" idx="1"/>
          </p:cNvCxnSpPr>
          <p:nvPr/>
        </p:nvCxnSpPr>
        <p:spPr>
          <a:xfrm>
            <a:off x="2819520" y="1106640"/>
            <a:ext cx="3218400" cy="3211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8" name="Прямая со стрелкой 6"/>
          <p:cNvCxnSpPr/>
          <p:nvPr/>
        </p:nvCxnSpPr>
        <p:spPr>
          <a:xfrm>
            <a:off x="394920" y="2533680"/>
            <a:ext cx="1080" cy="27914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Прямая со стрелкой 8"/>
          <p:cNvCxnSpPr>
            <a:stCxn id="174" idx="2"/>
          </p:cNvCxnSpPr>
          <p:nvPr/>
        </p:nvCxnSpPr>
        <p:spPr>
          <a:xfrm flipH="1">
            <a:off x="2818800" y="1106280"/>
            <a:ext cx="1080" cy="1665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0" name="Прямая со стрелкой 19"/>
          <p:cNvCxnSpPr/>
          <p:nvPr/>
        </p:nvCxnSpPr>
        <p:spPr>
          <a:xfrm>
            <a:off x="1907640" y="3712680"/>
            <a:ext cx="1080" cy="320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1" name="Прямая со стрелкой 26"/>
          <p:cNvCxnSpPr>
            <a:stCxn id="174" idx="2"/>
            <a:endCxn id="177" idx="0"/>
          </p:cNvCxnSpPr>
          <p:nvPr/>
        </p:nvCxnSpPr>
        <p:spPr>
          <a:xfrm>
            <a:off x="2819520" y="1106640"/>
            <a:ext cx="2007360" cy="1605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2" name="Прямая со стрелкой 28"/>
          <p:cNvCxnSpPr>
            <a:stCxn id="177" idx="2"/>
            <a:endCxn id="181" idx="0"/>
          </p:cNvCxnSpPr>
          <p:nvPr/>
        </p:nvCxnSpPr>
        <p:spPr>
          <a:xfrm flipH="1">
            <a:off x="3997080" y="3675240"/>
            <a:ext cx="829440" cy="484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3" name="Прямая со стрелкой 30"/>
          <p:cNvCxnSpPr/>
          <p:nvPr/>
        </p:nvCxnSpPr>
        <p:spPr>
          <a:xfrm>
            <a:off x="7632360" y="1937880"/>
            <a:ext cx="127800" cy="1491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4" name="Прямая со стрелкой 29698"/>
          <p:cNvCxnSpPr/>
          <p:nvPr/>
        </p:nvCxnSpPr>
        <p:spPr>
          <a:xfrm flipH="1">
            <a:off x="5905080" y="1907640"/>
            <a:ext cx="1728000" cy="2251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" name="Прямая со стрелкой 29723"/>
          <p:cNvCxnSpPr>
            <a:stCxn id="182" idx="2"/>
          </p:cNvCxnSpPr>
          <p:nvPr/>
        </p:nvCxnSpPr>
        <p:spPr>
          <a:xfrm flipH="1">
            <a:off x="5965200" y="5162400"/>
            <a:ext cx="1080" cy="540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6" name="Прямая со стрелкой 29725"/>
          <p:cNvCxnSpPr>
            <a:stCxn id="184" idx="2"/>
          </p:cNvCxnSpPr>
          <p:nvPr/>
        </p:nvCxnSpPr>
        <p:spPr>
          <a:xfrm flipH="1">
            <a:off x="7974720" y="4398480"/>
            <a:ext cx="1080" cy="443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152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Franklin Gothic Book"/>
              </a:rPr>
              <a:t>Вільне </a:t>
            </a:r>
            <a:br>
              <a:rPr sz="9600"/>
            </a:br>
            <a:r>
              <a:rPr b="1" lang="uk-UA" sz="9600" spc="-1" strike="noStrike">
                <a:solidFill>
                  <a:srgbClr val="ffff00"/>
                </a:solidFill>
                <a:latin typeface="Franklin Gothic Book"/>
              </a:rPr>
              <a:t>населення</a:t>
            </a:r>
            <a:endParaRPr b="1" lang="en-US" sz="96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198" name="Picture 28" descr="C:\Users\Пользователь\Документы\Картинки\Киевская Русь\Князь и княгиня времен Киевской Руси.jpg"/>
          <p:cNvPicPr/>
          <p:nvPr/>
        </p:nvPicPr>
        <p:blipFill>
          <a:blip r:embed="rId1"/>
          <a:stretch/>
        </p:blipFill>
        <p:spPr>
          <a:xfrm>
            <a:off x="3378240" y="2997360"/>
            <a:ext cx="2828880" cy="371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6516720" y="5229360"/>
            <a:ext cx="215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  <a:ea typeface="Arial"/>
              </a:rPr>
              <a:t>Княжа родина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73B5~1\AppData\Local\Temp\Rar$DI50.495\Садиби бояр.jpg"/>
          <p:cNvPicPr/>
          <p:nvPr/>
        </p:nvPicPr>
        <p:blipFill>
          <a:blip r:embed="rId1"/>
          <a:stretch/>
        </p:blipFill>
        <p:spPr>
          <a:xfrm>
            <a:off x="2411280" y="1862280"/>
            <a:ext cx="6516720" cy="4717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Franklin Gothic Book"/>
              </a:rPr>
              <a:t>Садиба боярина</a:t>
            </a:r>
            <a:endParaRPr b="1" lang="en-US" sz="80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02" name="Picture 7" descr="http://upload.wikimedia.org/wikipedia/commons/thumb/1/13/Bojaren.jpg/220px-Bojaren.jpg"/>
          <p:cNvPicPr/>
          <p:nvPr/>
        </p:nvPicPr>
        <p:blipFill>
          <a:blip r:embed="rId2"/>
          <a:srcRect l="0" t="0" r="34723" b="8464"/>
          <a:stretch/>
        </p:blipFill>
        <p:spPr>
          <a:xfrm>
            <a:off x="27000" y="2492280"/>
            <a:ext cx="238428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ukrmap.su/program2009/uh7/7_1011/267_resize.jpg"/>
          <p:cNvPicPr/>
          <p:nvPr/>
        </p:nvPicPr>
        <p:blipFill>
          <a:blip r:embed="rId1"/>
          <a:stretch/>
        </p:blipFill>
        <p:spPr>
          <a:xfrm>
            <a:off x="492120" y="476280"/>
            <a:ext cx="3816360" cy="507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ukrmap.su/program2009/uh7/7_1011/283_resize.jpg"/>
          <p:cNvPicPr/>
          <p:nvPr/>
        </p:nvPicPr>
        <p:blipFill>
          <a:blip r:embed="rId2"/>
          <a:stretch/>
        </p:blipFill>
        <p:spPr>
          <a:xfrm>
            <a:off x="5219640" y="170028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250920" y="5950080"/>
            <a:ext cx="40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  <a:ea typeface="Arial"/>
              </a:rPr>
              <a:t>Смерди, ХІ ст.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5508720" y="47628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  <a:ea typeface="Arial"/>
              </a:rPr>
              <a:t>Заможні смерди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62000" y="5343480"/>
            <a:ext cx="40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  <a:ea typeface="Arial"/>
              </a:rPr>
              <a:t>Міщани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08" name="Picture 2" descr="http://ukrmap.su/program2009/uh7/7_1011/269_resize.jpg"/>
          <p:cNvPicPr/>
          <p:nvPr/>
        </p:nvPicPr>
        <p:blipFill>
          <a:blip r:embed="rId1"/>
          <a:stretch/>
        </p:blipFill>
        <p:spPr>
          <a:xfrm>
            <a:off x="636480" y="933480"/>
            <a:ext cx="3287880" cy="435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Святитель Алексий, митрополит Московский и всея Руси.  Икона XVIII в."/>
          <p:cNvPicPr/>
          <p:nvPr/>
        </p:nvPicPr>
        <p:blipFill>
          <a:blip r:embed="rId2"/>
          <a:stretch/>
        </p:blipFill>
        <p:spPr>
          <a:xfrm>
            <a:off x="5219640" y="1557360"/>
            <a:ext cx="3333960" cy="50007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5003640" y="549360"/>
            <a:ext cx="37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  <a:ea typeface="Arial"/>
              </a:rPr>
              <a:t>Митрополит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C:\Users\73B5~1\AppData\Local\Temp\Rar$DI03.656\Садиба XI ст. Київ, Поділ..jpg"/>
          <p:cNvPicPr/>
          <p:nvPr/>
        </p:nvPicPr>
        <p:blipFill>
          <a:blip r:embed="rId1"/>
          <a:stretch/>
        </p:blipFill>
        <p:spPr>
          <a:xfrm>
            <a:off x="2428920" y="4357800"/>
            <a:ext cx="5400720" cy="2500200"/>
          </a:xfrm>
          <a:prstGeom prst="rect">
            <a:avLst/>
          </a:prstGeom>
          <a:ln w="0">
            <a:noFill/>
          </a:ln>
        </p:spPr>
      </p:pic>
      <p:grpSp>
        <p:nvGrpSpPr>
          <p:cNvPr id="212" name="Organization Chart 5"/>
          <p:cNvGrpSpPr/>
          <p:nvPr/>
        </p:nvGrpSpPr>
        <p:grpSpPr>
          <a:xfrm>
            <a:off x="0" y="287280"/>
            <a:ext cx="9143640" cy="3924000"/>
            <a:chOff x="0" y="287280"/>
            <a:chExt cx="9143640" cy="3924000"/>
          </a:xfrm>
        </p:grpSpPr>
        <p:cxnSp>
          <p:nvCxnSpPr>
            <p:cNvPr id="213" name="_s137220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607360" y="956880"/>
              <a:ext cx="572040" cy="251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6" name="_s137221"/>
            <p:cNvCxnSpPr>
              <a:endCxn id="215" idx="2"/>
            </p:cNvCxnSpPr>
            <p:nvPr/>
          </p:nvCxnSpPr>
          <p:spPr>
            <a:xfrm flipH="1" flipV="1">
              <a:off x="4634640" y="1929960"/>
              <a:ext cx="9360" cy="355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7" name="_s137222"/>
            <p:cNvCxnSpPr>
              <a:stCxn id="218" idx="0"/>
              <a:endCxn id="215" idx="2"/>
            </p:cNvCxnSpPr>
            <p:nvPr/>
          </p:nvCxnSpPr>
          <p:spPr>
            <a:xfrm flipH="1" flipV="1" rot="5400000">
              <a:off x="2940480" y="873360"/>
              <a:ext cx="644400" cy="2745360"/>
            </a:xfrm>
            <a:prstGeom prst="bentConnector3">
              <a:avLst>
                <a:gd name="adj1" fmla="val 4997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5" name="_s137223"/>
            <p:cNvSpPr/>
            <p:nvPr/>
          </p:nvSpPr>
          <p:spPr>
            <a:xfrm>
              <a:off x="1901880" y="287280"/>
              <a:ext cx="5462640" cy="16434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0066"/>
                  </a:solidFill>
                  <a:latin typeface="Arial"/>
                  <a:ea typeface="Arial"/>
                </a:rPr>
                <a:t>ЗАЛЕЖНЕ </a:t>
              </a:r>
              <a:endParaRPr b="0" lang="en-US" sz="54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0066"/>
                  </a:solidFill>
                  <a:latin typeface="Arial"/>
                  <a:ea typeface="Arial"/>
                </a:rPr>
                <a:t>НАСЕЛЕННЯ</a:t>
              </a:r>
              <a:endParaRPr b="0" lang="en-US" sz="5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8" name="_s137224"/>
            <p:cNvSpPr/>
            <p:nvPr/>
          </p:nvSpPr>
          <p:spPr>
            <a:xfrm>
              <a:off x="0" y="2567880"/>
              <a:ext cx="3774960" cy="16434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080808"/>
                  </a:solidFill>
                  <a:latin typeface="Arial"/>
                  <a:ea typeface="Arial"/>
                </a:rPr>
                <a:t>Рядовичи</a:t>
              </a:r>
              <a:endParaRPr b="0" lang="en-US" sz="5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4" name="_s137226"/>
            <p:cNvSpPr/>
            <p:nvPr/>
          </p:nvSpPr>
          <p:spPr>
            <a:xfrm>
              <a:off x="5159520" y="2495520"/>
              <a:ext cx="3984120" cy="17157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6000" spc="-1" strike="noStrike">
                  <a:solidFill>
                    <a:srgbClr val="080808"/>
                  </a:solidFill>
                  <a:latin typeface="Arial"/>
                  <a:ea typeface="Arial"/>
                </a:rPr>
                <a:t>Закупи</a:t>
              </a:r>
              <a:endParaRPr b="0" lang="en-US" sz="6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Organization Chart 5"/>
          <p:cNvGrpSpPr/>
          <p:nvPr/>
        </p:nvGrpSpPr>
        <p:grpSpPr>
          <a:xfrm>
            <a:off x="195120" y="279360"/>
            <a:ext cx="8651520" cy="3857400"/>
            <a:chOff x="195120" y="279360"/>
            <a:chExt cx="8651520" cy="3857400"/>
          </a:xfrm>
        </p:grpSpPr>
        <p:cxnSp>
          <p:nvCxnSpPr>
            <p:cNvPr id="220" name="_s137220"/>
            <p:cNvCxnSpPr>
              <a:stCxn id="221" idx="0"/>
              <a:endCxn id="222" idx="2"/>
            </p:cNvCxnSpPr>
            <p:nvPr/>
          </p:nvCxnSpPr>
          <p:spPr>
            <a:xfrm flipV="1" rot="16200000">
              <a:off x="5347440" y="872640"/>
              <a:ext cx="649440" cy="2574720"/>
            </a:xfrm>
            <a:prstGeom prst="bentConnector3">
              <a:avLst>
                <a:gd name="adj1" fmla="val 4997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3" name="_s137222"/>
            <p:cNvCxnSpPr>
              <a:stCxn id="224" idx="0"/>
              <a:endCxn id="222" idx="2"/>
            </p:cNvCxnSpPr>
            <p:nvPr/>
          </p:nvCxnSpPr>
          <p:spPr>
            <a:xfrm flipH="1" flipV="1" rot="5400000">
              <a:off x="2859120" y="968040"/>
              <a:ext cx="647640" cy="2398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2" name="_s137223"/>
            <p:cNvSpPr/>
            <p:nvPr/>
          </p:nvSpPr>
          <p:spPr>
            <a:xfrm>
              <a:off x="727920" y="279360"/>
              <a:ext cx="7308720" cy="1564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800" spc="-1" strike="noStrike">
                  <a:solidFill>
                    <a:srgbClr val="ff0066"/>
                  </a:solidFill>
                  <a:latin typeface="Arial"/>
                  <a:ea typeface="Arial"/>
                </a:rPr>
                <a:t>НЕВІЛЬНЕ </a:t>
              </a:r>
              <a:endParaRPr b="0" lang="en-US" sz="48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800" spc="-1" strike="noStrike">
                  <a:solidFill>
                    <a:srgbClr val="ff0066"/>
                  </a:solidFill>
                  <a:latin typeface="Arial"/>
                  <a:ea typeface="Arial"/>
                </a:rPr>
                <a:t>НАСЕЛЕННЯ</a:t>
              </a:r>
              <a:endParaRPr b="0" lang="en-US" sz="4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4" name="_s137224"/>
            <p:cNvSpPr/>
            <p:nvPr/>
          </p:nvSpPr>
          <p:spPr>
            <a:xfrm>
              <a:off x="195120" y="2491200"/>
              <a:ext cx="3578760" cy="1573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6000" spc="-1" strike="noStrike">
                  <a:solidFill>
                    <a:srgbClr val="080808"/>
                  </a:solidFill>
                  <a:latin typeface="Arial"/>
                  <a:ea typeface="Arial"/>
                </a:rPr>
                <a:t>Холопи</a:t>
              </a:r>
              <a:endParaRPr b="0" lang="en-US" sz="6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1" name="_s137226"/>
            <p:cNvSpPr/>
            <p:nvPr/>
          </p:nvSpPr>
          <p:spPr>
            <a:xfrm>
              <a:off x="5069160" y="2491200"/>
              <a:ext cx="3777480" cy="1645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6000" spc="-1" strike="noStrike">
                  <a:solidFill>
                    <a:srgbClr val="080808"/>
                  </a:solidFill>
                  <a:latin typeface="Arial"/>
                  <a:ea typeface="Arial"/>
                </a:rPr>
                <a:t>Челядь</a:t>
              </a:r>
              <a:endParaRPr b="0" lang="en-US" sz="6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pic>
        <p:nvPicPr>
          <p:cNvPr id="225" name="Picture 9" descr="C:\Users\73B5~1\AppData\Local\Temp\Rar$DI27.656\Селище.jpg"/>
          <p:cNvPicPr/>
          <p:nvPr/>
        </p:nvPicPr>
        <p:blipFill>
          <a:blip r:embed="rId1"/>
          <a:stretch/>
        </p:blipFill>
        <p:spPr>
          <a:xfrm>
            <a:off x="641520" y="4359240"/>
            <a:ext cx="4429080" cy="22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http://maskball.ru/images/russia_costume_bilibin_holop.jpg"/>
          <p:cNvPicPr/>
          <p:nvPr/>
        </p:nvPicPr>
        <p:blipFill>
          <a:blip r:embed="rId2"/>
          <a:stretch/>
        </p:blipFill>
        <p:spPr>
          <a:xfrm>
            <a:off x="6746760" y="4226040"/>
            <a:ext cx="129060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5"/>
          <p:cNvGrpSpPr/>
          <p:nvPr/>
        </p:nvGrpSpPr>
        <p:grpSpPr>
          <a:xfrm>
            <a:off x="285840" y="355680"/>
            <a:ext cx="8643240" cy="6143400"/>
            <a:chOff x="285840" y="355680"/>
            <a:chExt cx="8643240" cy="6143400"/>
          </a:xfrm>
        </p:grpSpPr>
        <p:cxnSp>
          <p:nvCxnSpPr>
            <p:cNvPr id="228" name="_s137220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061240" y="2350440"/>
              <a:ext cx="1601280" cy="2153160"/>
            </a:xfrm>
            <a:prstGeom prst="bentConnector3">
              <a:avLst>
                <a:gd name="adj1" fmla="val 499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37221"/>
            <p:cNvCxnSpPr>
              <a:endCxn id="230" idx="2"/>
            </p:cNvCxnSpPr>
            <p:nvPr/>
          </p:nvCxnSpPr>
          <p:spPr>
            <a:xfrm flipH="1" flipV="1">
              <a:off x="4781880" y="2626560"/>
              <a:ext cx="1080" cy="5119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2" name="_s137222"/>
            <p:cNvCxnSpPr>
              <a:stCxn id="233" idx="0"/>
              <a:endCxn id="230" idx="2"/>
            </p:cNvCxnSpPr>
            <p:nvPr/>
          </p:nvCxnSpPr>
          <p:spPr>
            <a:xfrm flipH="1" flipV="1" rot="5400000">
              <a:off x="2680560" y="2113200"/>
              <a:ext cx="1601280" cy="2610000"/>
            </a:xfrm>
            <a:prstGeom prst="bentConnector3">
              <a:avLst>
                <a:gd name="adj1" fmla="val 499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0" name="_s137223"/>
            <p:cNvSpPr/>
            <p:nvPr/>
          </p:nvSpPr>
          <p:spPr>
            <a:xfrm>
              <a:off x="2052360" y="355680"/>
              <a:ext cx="5463000" cy="22712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ff0066"/>
                  </a:solidFill>
                  <a:latin typeface="Arial"/>
                  <a:ea typeface="Arial"/>
                </a:rPr>
                <a:t>ІЗГОЇ</a:t>
              </a:r>
              <a:endParaRPr b="0" lang="en-US" sz="7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33" name="_s137224"/>
            <p:cNvSpPr/>
            <p:nvPr/>
          </p:nvSpPr>
          <p:spPr>
            <a:xfrm>
              <a:off x="285840" y="4227840"/>
              <a:ext cx="3775320" cy="22712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80808"/>
                  </a:solidFill>
                  <a:latin typeface="Arial"/>
                  <a:ea typeface="Arial"/>
                </a:rPr>
                <a:t>Вільні</a:t>
              </a:r>
              <a:endParaRPr b="0" lang="en-US" sz="7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9" name="_s137226"/>
            <p:cNvSpPr/>
            <p:nvPr/>
          </p:nvSpPr>
          <p:spPr>
            <a:xfrm>
              <a:off x="4944600" y="4227840"/>
              <a:ext cx="3984480" cy="22712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80808"/>
                  </a:solidFill>
                  <a:latin typeface="Arial"/>
                  <a:ea typeface="Arial"/>
                </a:rPr>
                <a:t>Залежні</a:t>
              </a:r>
              <a:endParaRPr b="0" lang="en-US" sz="7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0" y="304920"/>
            <a:ext cx="8429400" cy="64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Franklin Gothic Book"/>
              </a:rPr>
              <a:t>3.</a:t>
            </a:r>
            <a:r>
              <a:rPr b="1" lang="uk-UA" sz="7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Державний лад Київської Русі </a:t>
            </a: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( кін. ІХ - 30-ті рр. ХІІ ст.)</a:t>
            </a:r>
            <a:br>
              <a:rPr sz="6600"/>
            </a:br>
            <a:r>
              <a:rPr b="1" lang="uk-UA" sz="6600" spc="-1" strike="noStrike">
                <a:solidFill>
                  <a:srgbClr val="ffff00"/>
                </a:solidFill>
                <a:latin typeface="Franklin Gothic Book"/>
              </a:rPr>
              <a:t>Ранньофеодальна монархія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SmartArt 6" descr=""/>
          <p:cNvPicPr/>
          <p:nvPr/>
        </p:nvPicPr>
        <p:blipFill>
          <a:blip r:embed="rId1"/>
          <a:stretch/>
        </p:blipFill>
        <p:spPr>
          <a:xfrm>
            <a:off x="201600" y="133200"/>
            <a:ext cx="8740800" cy="69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Franklin Gothic Book"/>
              </a:rPr>
              <a:t>Теорії походження держави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116" name="Рисунок SmartArt 9" descr=""/>
          <p:cNvPicPr/>
          <p:nvPr/>
        </p:nvPicPr>
        <p:blipFill>
          <a:blip r:embed="rId1"/>
          <a:stretch/>
        </p:blipFill>
        <p:spPr>
          <a:xfrm>
            <a:off x="628560" y="1090440"/>
            <a:ext cx="8313840" cy="56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Franklin Gothic Book"/>
              </a:rPr>
              <a:t>Функції  князя</a:t>
            </a:r>
            <a:endParaRPr b="1" lang="en-US" sz="7200" spc="-1" strike="noStrike">
              <a:solidFill>
                <a:srgbClr val="eaeaea"/>
              </a:solidFill>
              <a:latin typeface="Franklin Gothic Book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214200" y="1285920"/>
            <a:ext cx="8712360" cy="5428800"/>
            <a:chOff x="214200" y="1285920"/>
            <a:chExt cx="8712360" cy="5428800"/>
          </a:xfrm>
        </p:grpSpPr>
        <p:pic>
          <p:nvPicPr>
            <p:cNvPr id="238" name="_s5125" descr=""/>
            <p:cNvPicPr/>
            <p:nvPr/>
          </p:nvPicPr>
          <p:blipFill>
            <a:blip r:embed="rId1"/>
            <a:stretch/>
          </p:blipFill>
          <p:spPr>
            <a:xfrm>
              <a:off x="2908440" y="1914120"/>
              <a:ext cx="848160" cy="31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_s5126" descr=""/>
            <p:cNvPicPr/>
            <p:nvPr/>
          </p:nvPicPr>
          <p:blipFill>
            <a:blip r:embed="rId2"/>
            <a:stretch/>
          </p:blipFill>
          <p:spPr>
            <a:xfrm>
              <a:off x="2908440" y="1914120"/>
              <a:ext cx="848160" cy="44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_s5127" descr=""/>
            <p:cNvPicPr/>
            <p:nvPr/>
          </p:nvPicPr>
          <p:blipFill>
            <a:blip r:embed="rId3"/>
            <a:stretch/>
          </p:blipFill>
          <p:spPr>
            <a:xfrm>
              <a:off x="2908440" y="1914120"/>
              <a:ext cx="848160" cy="18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_s5128" descr=""/>
            <p:cNvPicPr/>
            <p:nvPr/>
          </p:nvPicPr>
          <p:blipFill>
            <a:blip r:embed="rId4"/>
            <a:stretch/>
          </p:blipFill>
          <p:spPr>
            <a:xfrm>
              <a:off x="2908440" y="1914120"/>
              <a:ext cx="8481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_s5129"/>
            <p:cNvGrpSpPr/>
            <p:nvPr/>
          </p:nvGrpSpPr>
          <p:grpSpPr>
            <a:xfrm>
              <a:off x="214200" y="1285920"/>
              <a:ext cx="5519520" cy="688320"/>
              <a:chOff x="214200" y="1285920"/>
              <a:chExt cx="5519520" cy="688320"/>
            </a:xfrm>
          </p:grpSpPr>
          <p:pic>
            <p:nvPicPr>
              <p:cNvPr id="243" name="_s5129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200" y="1285920"/>
                <a:ext cx="5519520" cy="6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264600" y="1341000"/>
                <a:ext cx="541620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5400" spc="-1" strike="noStrike">
                    <a:solidFill>
                      <a:srgbClr val="ff0066"/>
                    </a:solidFill>
                    <a:latin typeface="Tahoma"/>
                  </a:rPr>
                  <a:t>Військова</a:t>
                </a:r>
                <a:endParaRPr b="0" lang="en-US" sz="54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5" name="_s5130"/>
            <p:cNvGrpSpPr/>
            <p:nvPr/>
          </p:nvGrpSpPr>
          <p:grpSpPr>
            <a:xfrm>
              <a:off x="3678840" y="2252880"/>
              <a:ext cx="5247720" cy="918720"/>
              <a:chOff x="3678840" y="2252880"/>
              <a:chExt cx="5247720" cy="918720"/>
            </a:xfrm>
          </p:grpSpPr>
          <p:pic>
            <p:nvPicPr>
              <p:cNvPr id="246" name="_s5130" descr=""/>
              <p:cNvPicPr/>
              <p:nvPr/>
            </p:nvPicPr>
            <p:blipFill>
              <a:blip r:embed="rId6"/>
              <a:stretch/>
            </p:blipFill>
            <p:spPr>
              <a:xfrm>
                <a:off x="3678840" y="2252880"/>
                <a:ext cx="5247720" cy="91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3745800" y="2315520"/>
                <a:ext cx="511704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8" name="_s5131"/>
            <p:cNvGrpSpPr/>
            <p:nvPr/>
          </p:nvGrpSpPr>
          <p:grpSpPr>
            <a:xfrm>
              <a:off x="3678840" y="3214080"/>
              <a:ext cx="5247720" cy="991800"/>
              <a:chOff x="3678840" y="3214080"/>
              <a:chExt cx="5247720" cy="991800"/>
            </a:xfrm>
          </p:grpSpPr>
          <p:pic>
            <p:nvPicPr>
              <p:cNvPr id="249" name="_s5131" descr=""/>
              <p:cNvPicPr/>
              <p:nvPr/>
            </p:nvPicPr>
            <p:blipFill>
              <a:blip r:embed="rId7"/>
              <a:stretch/>
            </p:blipFill>
            <p:spPr>
              <a:xfrm>
                <a:off x="3678840" y="3214080"/>
                <a:ext cx="524772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3749040" y="3281760"/>
                <a:ext cx="5110200" cy="85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3600" spc="-1" strike="noStrike">
                    <a:solidFill>
                      <a:srgbClr val="080808"/>
                    </a:solidFill>
                    <a:latin typeface="Tahoma"/>
                  </a:rPr>
                  <a:t>охорона кордонів</a:t>
                </a:r>
                <a:endParaRPr b="0" lang="en-US" sz="36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51" name="_s5132"/>
            <p:cNvGrpSpPr/>
            <p:nvPr/>
          </p:nvGrpSpPr>
          <p:grpSpPr>
            <a:xfrm>
              <a:off x="3678840" y="5789520"/>
              <a:ext cx="5247720" cy="925200"/>
              <a:chOff x="3678840" y="5789520"/>
              <a:chExt cx="5247720" cy="925200"/>
            </a:xfrm>
          </p:grpSpPr>
          <p:pic>
            <p:nvPicPr>
              <p:cNvPr id="252" name="_s5132" descr=""/>
              <p:cNvPicPr/>
              <p:nvPr/>
            </p:nvPicPr>
            <p:blipFill>
              <a:blip r:embed="rId8"/>
              <a:stretch/>
            </p:blipFill>
            <p:spPr>
              <a:xfrm>
                <a:off x="3678840" y="5789520"/>
                <a:ext cx="5247720" cy="9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3745800" y="5851800"/>
                <a:ext cx="5116680" cy="79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54" name="_s5133"/>
            <p:cNvGrpSpPr/>
            <p:nvPr/>
          </p:nvGrpSpPr>
          <p:grpSpPr>
            <a:xfrm>
              <a:off x="3678840" y="4387320"/>
              <a:ext cx="5247720" cy="1148040"/>
              <a:chOff x="3678840" y="4387320"/>
              <a:chExt cx="5247720" cy="1148040"/>
            </a:xfrm>
          </p:grpSpPr>
          <p:pic>
            <p:nvPicPr>
              <p:cNvPr id="255" name="_s5133" descr=""/>
              <p:cNvPicPr/>
              <p:nvPr/>
            </p:nvPicPr>
            <p:blipFill>
              <a:blip r:embed="rId9"/>
              <a:stretch/>
            </p:blipFill>
            <p:spPr>
              <a:xfrm>
                <a:off x="3678840" y="4387320"/>
                <a:ext cx="5247720" cy="114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3756600" y="4460400"/>
                <a:ext cx="5095080" cy="9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57" name="Прямоугольник 15"/>
          <p:cNvSpPr/>
          <p:nvPr/>
        </p:nvSpPr>
        <p:spPr>
          <a:xfrm>
            <a:off x="3857760" y="228600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0808"/>
                </a:solidFill>
                <a:latin typeface="Tahoma"/>
                <a:ea typeface="Arial"/>
              </a:rPr>
              <a:t>організація дружини та ополчення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8" name="Прямоугольник 18"/>
          <p:cNvSpPr/>
          <p:nvPr/>
        </p:nvSpPr>
        <p:spPr>
          <a:xfrm>
            <a:off x="3714840" y="442908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80808"/>
                </a:solidFill>
                <a:latin typeface="Tahoma"/>
                <a:ea typeface="Arial"/>
              </a:rPr>
              <a:t>придушення повстань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3786120" y="564372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80808"/>
                </a:solidFill>
                <a:latin typeface="Tahoma"/>
                <a:ea typeface="Arial"/>
              </a:rPr>
              <a:t>головнокомандувач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Organization Chart 5"/>
          <p:cNvGrpSpPr/>
          <p:nvPr/>
        </p:nvGrpSpPr>
        <p:grpSpPr>
          <a:xfrm>
            <a:off x="214200" y="214200"/>
            <a:ext cx="8712360" cy="6500520"/>
            <a:chOff x="214200" y="214200"/>
            <a:chExt cx="8712360" cy="6500520"/>
          </a:xfrm>
        </p:grpSpPr>
        <p:pic>
          <p:nvPicPr>
            <p:cNvPr id="261" name="_s5126" descr=""/>
            <p:cNvPicPr/>
            <p:nvPr/>
          </p:nvPicPr>
          <p:blipFill>
            <a:blip r:embed="rId1"/>
            <a:stretch/>
          </p:blipFill>
          <p:spPr>
            <a:xfrm>
              <a:off x="2799000" y="1145880"/>
              <a:ext cx="987480" cy="51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_s5127" descr=""/>
            <p:cNvPicPr/>
            <p:nvPr/>
          </p:nvPicPr>
          <p:blipFill>
            <a:blip r:embed="rId2"/>
            <a:stretch/>
          </p:blipFill>
          <p:spPr>
            <a:xfrm>
              <a:off x="2799000" y="2352240"/>
              <a:ext cx="987480" cy="218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_s5128" descr=""/>
            <p:cNvPicPr/>
            <p:nvPr/>
          </p:nvPicPr>
          <p:blipFill>
            <a:blip r:embed="rId3"/>
            <a:stretch/>
          </p:blipFill>
          <p:spPr>
            <a:xfrm>
              <a:off x="2908440" y="1635840"/>
              <a:ext cx="848160" cy="11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_s5129"/>
            <p:cNvGrpSpPr/>
            <p:nvPr/>
          </p:nvGrpSpPr>
          <p:grpSpPr>
            <a:xfrm>
              <a:off x="214200" y="214200"/>
              <a:ext cx="5519520" cy="1478880"/>
              <a:chOff x="214200" y="214200"/>
              <a:chExt cx="5519520" cy="1478880"/>
            </a:xfrm>
          </p:grpSpPr>
          <p:pic>
            <p:nvPicPr>
              <p:cNvPr id="265" name="_s5129" descr=""/>
              <p:cNvPicPr/>
              <p:nvPr/>
            </p:nvPicPr>
            <p:blipFill>
              <a:blip r:embed="rId4"/>
              <a:stretch/>
            </p:blipFill>
            <p:spPr>
              <a:xfrm>
                <a:off x="214200" y="214200"/>
                <a:ext cx="5519520" cy="14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303480" y="303480"/>
                <a:ext cx="5338080" cy="13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4800" spc="-1" strike="noStrike">
                    <a:solidFill>
                      <a:srgbClr val="ff0000"/>
                    </a:solidFill>
                    <a:latin typeface="Tahoma"/>
                  </a:rPr>
                  <a:t>Адміністративна</a:t>
                </a:r>
                <a:endParaRPr b="0" lang="en-US" sz="4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67" name="_s5130"/>
            <p:cNvGrpSpPr/>
            <p:nvPr/>
          </p:nvGrpSpPr>
          <p:grpSpPr>
            <a:xfrm>
              <a:off x="3678840" y="2023920"/>
              <a:ext cx="5247720" cy="1333440"/>
              <a:chOff x="3678840" y="2023920"/>
              <a:chExt cx="5247720" cy="1333440"/>
            </a:xfrm>
          </p:grpSpPr>
          <p:pic>
            <p:nvPicPr>
              <p:cNvPr id="268" name="_s5130" descr=""/>
              <p:cNvPicPr/>
              <p:nvPr/>
            </p:nvPicPr>
            <p:blipFill>
              <a:blip r:embed="rId5"/>
              <a:stretch/>
            </p:blipFill>
            <p:spPr>
              <a:xfrm>
                <a:off x="3678840" y="2023920"/>
                <a:ext cx="5247720" cy="13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3765240" y="2109240"/>
                <a:ext cx="507744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70" name="_s5131"/>
            <p:cNvGrpSpPr/>
            <p:nvPr/>
          </p:nvGrpSpPr>
          <p:grpSpPr>
            <a:xfrm>
              <a:off x="3624120" y="3745440"/>
              <a:ext cx="5247720" cy="1150920"/>
              <a:chOff x="3624120" y="3745440"/>
              <a:chExt cx="5247720" cy="1150920"/>
            </a:xfrm>
          </p:grpSpPr>
          <p:pic>
            <p:nvPicPr>
              <p:cNvPr id="271" name="_s5131" descr=""/>
              <p:cNvPicPr/>
              <p:nvPr/>
            </p:nvPicPr>
            <p:blipFill>
              <a:blip r:embed="rId6"/>
              <a:stretch/>
            </p:blipFill>
            <p:spPr>
              <a:xfrm>
                <a:off x="3624120" y="3745440"/>
                <a:ext cx="5247720" cy="11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702240" y="3820320"/>
                <a:ext cx="5094720" cy="100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Допомагав збирачам </a:t>
                </a:r>
                <a:endParaRPr b="0" lang="en-US" sz="2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податків</a:t>
                </a:r>
                <a:endParaRPr b="0" lang="en-US" sz="2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73" name="_s5133"/>
            <p:cNvGrpSpPr/>
            <p:nvPr/>
          </p:nvGrpSpPr>
          <p:grpSpPr>
            <a:xfrm>
              <a:off x="3624120" y="5381640"/>
              <a:ext cx="5247720" cy="1333080"/>
              <a:chOff x="3624120" y="5381640"/>
              <a:chExt cx="5247720" cy="1333080"/>
            </a:xfrm>
          </p:grpSpPr>
          <p:pic>
            <p:nvPicPr>
              <p:cNvPr id="274" name="_s5133" descr=""/>
              <p:cNvPicPr/>
              <p:nvPr/>
            </p:nvPicPr>
            <p:blipFill>
              <a:blip r:embed="rId7"/>
              <a:stretch/>
            </p:blipFill>
            <p:spPr>
              <a:xfrm>
                <a:off x="3624120" y="5381640"/>
                <a:ext cx="5247720" cy="13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711240" y="5464800"/>
                <a:ext cx="5077080" cy="11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Підтримував і наводив</a:t>
                </a:r>
                <a:endParaRPr b="0" lang="en-US" sz="2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 </a:t>
                </a: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порядок на місцях</a:t>
                </a:r>
                <a:endParaRPr b="0" lang="en-US" sz="2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76" name="Прямоугольник 15"/>
          <p:cNvSpPr/>
          <p:nvPr/>
        </p:nvSpPr>
        <p:spPr>
          <a:xfrm>
            <a:off x="3857760" y="214308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0808"/>
                </a:solidFill>
                <a:latin typeface="Franklin Gothic Book"/>
              </a:rPr>
              <a:t>Призначав вищих посадових осіб у державі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3857760" y="507204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8" descr=""/>
          <p:cNvPicPr/>
          <p:nvPr/>
        </p:nvPicPr>
        <p:blipFill>
          <a:blip r:embed="rId1"/>
          <a:stretch/>
        </p:blipFill>
        <p:spPr>
          <a:xfrm>
            <a:off x="274680" y="182520"/>
            <a:ext cx="8888400" cy="64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572680" cy="18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Великі князі київські   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 Олег   882 - 912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80" name="Picture 2" descr="C:\Users\Пользователь\Документы\Картинки\Киевская Русь\Князь Олег.jpg"/>
          <p:cNvPicPr/>
          <p:nvPr/>
        </p:nvPicPr>
        <p:blipFill>
          <a:blip r:embed="rId1"/>
          <a:stretch/>
        </p:blipFill>
        <p:spPr>
          <a:xfrm>
            <a:off x="2643120" y="2714760"/>
            <a:ext cx="31813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723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uk-UA" sz="7200" spc="-1" strike="noStrike">
                <a:solidFill>
                  <a:srgbClr val="ff0000"/>
                </a:solidFill>
                <a:latin typeface="Franklin Gothic Book"/>
              </a:rPr>
              <a:t>Ігор   912 - 945</a:t>
            </a:r>
            <a:endParaRPr b="1" lang="en-US" sz="72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82" name="Picture 4" descr="C:\Users\Пользователь\Документы\Картинки\Киевская Русь\Киевский князь Игорь (877-945).jpg"/>
          <p:cNvPicPr/>
          <p:nvPr/>
        </p:nvPicPr>
        <p:blipFill>
          <a:blip r:embed="rId1"/>
          <a:stretch/>
        </p:blipFill>
        <p:spPr>
          <a:xfrm>
            <a:off x="1714680" y="2071800"/>
            <a:ext cx="566100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304560"/>
            <a:ext cx="8253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  </a:t>
            </a: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Ольга 945 - 964 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84" name="Picture 4" descr="398_1528170030"/>
          <p:cNvPicPr/>
          <p:nvPr/>
        </p:nvPicPr>
        <p:blipFill>
          <a:blip r:embed="rId1"/>
          <a:stretch/>
        </p:blipFill>
        <p:spPr>
          <a:xfrm>
            <a:off x="3357720" y="2000160"/>
            <a:ext cx="417672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6439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</a:t>
            </a:r>
            <a:r>
              <a:rPr b="1" lang="uk-UA" sz="6600" spc="-1" strike="noStrike">
                <a:solidFill>
                  <a:srgbClr val="ff0000"/>
                </a:solidFill>
                <a:latin typeface="Century"/>
              </a:rPr>
              <a:t>Святослав </a:t>
            </a: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Century"/>
              </a:rPr>
              <a:t>964 - 972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766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святослав"/>
          <p:cNvPicPr/>
          <p:nvPr/>
        </p:nvPicPr>
        <p:blipFill>
          <a:blip r:embed="rId1"/>
          <a:stretch/>
        </p:blipFill>
        <p:spPr>
          <a:xfrm>
            <a:off x="3000240" y="2143080"/>
            <a:ext cx="381636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володимир великий"/>
          <p:cNvPicPr/>
          <p:nvPr/>
        </p:nvPicPr>
        <p:blipFill>
          <a:blip r:embed="rId1"/>
          <a:stretch/>
        </p:blipFill>
        <p:spPr>
          <a:xfrm>
            <a:off x="3071880" y="2500200"/>
            <a:ext cx="5214960" cy="4187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840" y="304560"/>
            <a:ext cx="8643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Franklin Gothic Book"/>
              </a:rPr>
              <a:t>Володимир Великий </a:t>
            </a:r>
            <a:br>
              <a:rPr sz="5400"/>
            </a:br>
            <a:r>
              <a:rPr b="1" lang="uk-UA" sz="5400" spc="-1" strike="noStrike">
                <a:solidFill>
                  <a:srgbClr val="ff0000"/>
                </a:solidFill>
                <a:latin typeface="Franklin Gothic Book"/>
              </a:rPr>
              <a:t>980 - 1015</a:t>
            </a:r>
            <a:endParaRPr b="1" lang="en-US" sz="5400" spc="-1" strike="noStrike">
              <a:solidFill>
                <a:srgbClr val="eaeaea"/>
              </a:solidFill>
              <a:latin typeface="Franklin Gothic Book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9680" y="304560"/>
            <a:ext cx="8358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Ярослав Мудрий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1019 - 1054 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mudriy ярослав"/>
          <p:cNvPicPr/>
          <p:nvPr/>
        </p:nvPicPr>
        <p:blipFill>
          <a:blip r:embed="rId2"/>
          <a:stretch/>
        </p:blipFill>
        <p:spPr>
          <a:xfrm>
            <a:off x="3071880" y="1857240"/>
            <a:ext cx="521496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Володимир</a:t>
            </a: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uk-UA" sz="4800" spc="-1" strike="noStrike">
                <a:solidFill>
                  <a:srgbClr val="ff0000"/>
                </a:solidFill>
                <a:latin typeface="Franklin Gothic Book"/>
              </a:rPr>
              <a:t>Мономах</a:t>
            </a:r>
            <a:br>
              <a:rPr sz="4800"/>
            </a:br>
            <a:r>
              <a:rPr b="1" lang="uk-UA" sz="4800" spc="-1" strike="noStrike">
                <a:solidFill>
                  <a:srgbClr val="ff0000"/>
                </a:solidFill>
                <a:latin typeface="Franklin Gothic Book"/>
              </a:rPr>
              <a:t>1113 - 1125</a:t>
            </a:r>
            <a:endParaRPr b="1" lang="en-US" sz="48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94" name="Picture 4" descr="vladimir_monomax"/>
          <p:cNvPicPr/>
          <p:nvPr/>
        </p:nvPicPr>
        <p:blipFill>
          <a:blip r:embed="rId1"/>
          <a:stretch/>
        </p:blipFill>
        <p:spPr>
          <a:xfrm>
            <a:off x="2714760" y="2033640"/>
            <a:ext cx="4752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53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Норманська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85520" y="1785960"/>
            <a:ext cx="80010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Засновник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Байєр      Міллер   Шльоц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3357720"/>
            <a:ext cx="82868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Сутність: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Державність, як і саму назву Русь, на київські землі принесли нормани (вихідці зі Скандинавії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Функції княжої ради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3840" y="1500120"/>
            <a:ext cx="83962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ак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онодавств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Схвалення міжнародних договорі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Внутрішнє управлінн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Судова функці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429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Феодальні снеми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85480" y="1714680"/>
            <a:ext cx="86439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72, 1097, 1101, 1103, 1155, 1223, 1230 р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итання внутрішньої полі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Організація оборо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Ухвалення нових законодавчих акт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1439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Функції віче </a:t>
            </a:r>
            <a:br>
              <a:rPr sz="6600"/>
            </a:b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итання війни і мир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Комплектування ополче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Су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C:\Users\Пользователь\Документы\Картинки\Киевская Русь\03.jpg"/>
          <p:cNvPicPr/>
          <p:nvPr/>
        </p:nvPicPr>
        <p:blipFill>
          <a:blip r:embed="rId1"/>
          <a:stretch/>
        </p:blipFill>
        <p:spPr>
          <a:xfrm>
            <a:off x="1000080" y="3714840"/>
            <a:ext cx="723888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C:\Users\Пользователь\Документы\Картинки\Киевская Русь\f97.jpg"/>
          <p:cNvPicPr/>
          <p:nvPr/>
        </p:nvPicPr>
        <p:blipFill>
          <a:blip r:embed="rId1"/>
          <a:stretch/>
        </p:blipFill>
        <p:spPr>
          <a:xfrm>
            <a:off x="5500800" y="14292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Users\Пользователь\Документы\Картинки\Киевская Русь\Оружие и доспехи воинов Киевской Руси  IX-XI вв.jpg"/>
          <p:cNvPicPr/>
          <p:nvPr/>
        </p:nvPicPr>
        <p:blipFill>
          <a:blip r:embed="rId2"/>
          <a:stretch/>
        </p:blipFill>
        <p:spPr>
          <a:xfrm>
            <a:off x="6143760" y="2500200"/>
            <a:ext cx="2357280" cy="4143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5429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</a:t>
            </a:r>
            <a:r>
              <a:rPr b="1" lang="uk-UA" sz="5400" spc="-1" strike="noStrike">
                <a:solidFill>
                  <a:srgbClr val="ff0000"/>
                </a:solidFill>
                <a:latin typeface="Franklin Gothic Book"/>
              </a:rPr>
              <a:t>Збройні сили</a:t>
            </a:r>
            <a:endParaRPr b="1" lang="en-US" sz="5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нязівськ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друж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Дружина місцевих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нязі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Народне ополче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Наймані загон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78688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Franklin Gothic Book"/>
              </a:rPr>
              <a:t>Адміністративно-територіальний поділ</a:t>
            </a:r>
            <a:br>
              <a:rPr sz="3200"/>
            </a:br>
            <a:r>
              <a:rPr b="1" i="1" lang="uk-UA" sz="32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1" i="1" lang="uk-UA" sz="3200" spc="-1" strike="noStrike">
                <a:solidFill>
                  <a:srgbClr val="ffff00"/>
                </a:solidFill>
                <a:latin typeface="Franklin Gothic Book"/>
              </a:rPr>
              <a:t>Територія Київської Русі </a:t>
            </a:r>
            <a:br>
              <a:rPr sz="3200"/>
            </a:br>
            <a:r>
              <a:rPr b="1" lang="uk-UA" sz="3200" spc="-1" strike="noStrike">
                <a:solidFill>
                  <a:srgbClr val="ffff00"/>
                </a:solidFill>
                <a:latin typeface="Franklin Gothic Book"/>
              </a:rPr>
              <a:t>ІХ ст. </a:t>
            </a:r>
            <a:r>
              <a:rPr b="1" lang="uk-UA" sz="3200" spc="-1" strike="noStrike">
                <a:solidFill>
                  <a:srgbClr val="eaeaea"/>
                </a:solidFill>
                <a:latin typeface="Franklin Gothic Book"/>
              </a:rPr>
              <a:t>– 800 тис. кв. км</a:t>
            </a:r>
            <a:br>
              <a:rPr sz="3200"/>
            </a:br>
            <a:r>
              <a:rPr b="1" i="1" lang="uk-UA" sz="3200" spc="-1" strike="noStrike">
                <a:solidFill>
                  <a:srgbClr val="ffff00"/>
                </a:solidFill>
                <a:latin typeface="Franklin Gothic Book"/>
              </a:rPr>
              <a:t>Х ст.  </a:t>
            </a:r>
            <a:r>
              <a:rPr b="1" i="1" lang="uk-UA" sz="3200" spc="-1" strike="noStrike">
                <a:solidFill>
                  <a:srgbClr val="eaeaea"/>
                </a:solidFill>
                <a:latin typeface="Franklin Gothic Book"/>
              </a:rPr>
              <a:t>-  1,3 -1,8  млн. кв. км </a:t>
            </a:r>
            <a:br>
              <a:rPr sz="3200"/>
            </a:br>
            <a:r>
              <a:rPr b="1" i="1" lang="uk-UA" sz="3200" spc="-1" strike="noStrike">
                <a:solidFill>
                  <a:srgbClr val="ffff00"/>
                </a:solidFill>
                <a:latin typeface="Franklin Gothic Book"/>
              </a:rPr>
              <a:t>Населення</a:t>
            </a:r>
            <a:r>
              <a:rPr b="1" i="1" lang="uk-UA" sz="3200" spc="-1" strike="noStrike">
                <a:solidFill>
                  <a:srgbClr val="eaeaea"/>
                </a:solidFill>
                <a:latin typeface="Franklin Gothic Book"/>
              </a:rPr>
              <a:t>  </a:t>
            </a:r>
            <a:r>
              <a:rPr b="1" i="1" lang="uk-UA" sz="3200" spc="-1" strike="noStrike">
                <a:solidFill>
                  <a:srgbClr val="ffff00"/>
                </a:solidFill>
                <a:latin typeface="Franklin Gothic Book"/>
              </a:rPr>
              <a:t>(Х ст.) -   </a:t>
            </a:r>
            <a:r>
              <a:rPr b="1" i="1" lang="uk-UA" sz="3200" spc="-1" strike="noStrike">
                <a:solidFill>
                  <a:srgbClr val="eaeaea"/>
                </a:solidFill>
                <a:latin typeface="Franklin Gothic Book"/>
              </a:rPr>
              <a:t>до 4,7 – 7, 9 млн. </a:t>
            </a:r>
            <a:endParaRPr b="1" lang="en-US" sz="32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307" name="Picture 5" descr="http://megatour.by/uploads/posts/2011-04/1302468431_3-florovskij-monastyr-2.jpg"/>
          <p:cNvPicPr/>
          <p:nvPr/>
        </p:nvPicPr>
        <p:blipFill>
          <a:blip r:embed="rId1"/>
          <a:stretch/>
        </p:blipFill>
        <p:spPr>
          <a:xfrm>
            <a:off x="2124000" y="3065400"/>
            <a:ext cx="5121360" cy="37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2052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309" name="Содержимое 3" descr=""/>
          <p:cNvPicPr/>
          <p:nvPr/>
        </p:nvPicPr>
        <p:blipFill>
          <a:blip r:embed="rId1"/>
          <a:stretch/>
        </p:blipFill>
        <p:spPr>
          <a:xfrm>
            <a:off x="347760" y="274680"/>
            <a:ext cx="8808840" cy="67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Содержимое 5" descr=""/>
          <p:cNvPicPr/>
          <p:nvPr/>
        </p:nvPicPr>
        <p:blipFill>
          <a:blip r:embed="rId1"/>
          <a:stretch/>
        </p:blipFill>
        <p:spPr>
          <a:xfrm>
            <a:off x="360360" y="-85680"/>
            <a:ext cx="8783640" cy="69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Місцеві княз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6" descr="мстислав1"/>
          <p:cNvPicPr/>
          <p:nvPr/>
        </p:nvPicPr>
        <p:blipFill>
          <a:blip r:embed="rId1"/>
          <a:stretch/>
        </p:blipFill>
        <p:spPr>
          <a:xfrm>
            <a:off x="5500800" y="1143000"/>
            <a:ext cx="3396960" cy="4071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31"/>
          <p:cNvPicPr/>
          <p:nvPr/>
        </p:nvPicPr>
        <p:blipFill>
          <a:blip r:embed="rId2"/>
          <a:stretch/>
        </p:blipFill>
        <p:spPr>
          <a:xfrm>
            <a:off x="428760" y="1143000"/>
            <a:ext cx="2736720" cy="4038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rededa1"/>
          <p:cNvPicPr/>
          <p:nvPr/>
        </p:nvPicPr>
        <p:blipFill>
          <a:blip r:embed="rId3"/>
          <a:stretch/>
        </p:blipFill>
        <p:spPr>
          <a:xfrm>
            <a:off x="3000240" y="3929040"/>
            <a:ext cx="30927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Органи  влади в князівствах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ра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віч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друж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357200" y="3143160"/>
            <a:ext cx="371484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Помічники</a:t>
            </a:r>
            <a:endParaRPr b="0" lang="en-US" sz="4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тіуни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мечники 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мостники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17" name="Picture 7" descr="Безымянный"/>
          <p:cNvPicPr/>
          <p:nvPr/>
        </p:nvPicPr>
        <p:blipFill>
          <a:blip r:embed="rId1"/>
          <a:stretch/>
        </p:blipFill>
        <p:spPr>
          <a:xfrm>
            <a:off x="5286240" y="2286000"/>
            <a:ext cx="3672000" cy="2847960"/>
          </a:xfrm>
          <a:prstGeom prst="rect">
            <a:avLst/>
          </a:prstGeom>
          <a:ln w="0">
            <a:noFill/>
          </a:ln>
        </p:spPr>
      </p:pic>
      <p:sp>
        <p:nvSpPr>
          <p:cNvPr id="318" name="Стрелка вниз 5"/>
          <p:cNvSpPr/>
          <p:nvPr/>
        </p:nvSpPr>
        <p:spPr>
          <a:xfrm>
            <a:off x="4286160" y="928800"/>
            <a:ext cx="484200" cy="2477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9" name="Стрелка вниз 5"/>
          <p:cNvSpPr/>
          <p:nvPr/>
        </p:nvSpPr>
        <p:spPr>
          <a:xfrm>
            <a:off x="571680" y="785880"/>
            <a:ext cx="483840" cy="4284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723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Система управління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321" name="Содержимое 3" descr=""/>
          <p:cNvPicPr/>
          <p:nvPr/>
        </p:nvPicPr>
        <p:blipFill>
          <a:blip r:embed="rId1"/>
          <a:stretch/>
        </p:blipFill>
        <p:spPr>
          <a:xfrm>
            <a:off x="274680" y="1328760"/>
            <a:ext cx="874692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4200" y="213840"/>
            <a:ext cx="8786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Аргументи теорі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1. Русь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отримала свою назву від слова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„руотсі”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(ще й зараз фіни називають шведів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«руотсі»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у значенні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«мореплавець»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що етимологічно близьке до слова «Рус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2. Імена перших руських князів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, мають скандинавське походження, ніж слов'янське -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Олег (Хелг), Ігор (Інгвар), Ольга (Хелг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5480" y="304560"/>
            <a:ext cx="8643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Franklin Gothic Book"/>
              </a:rPr>
              <a:t>Судова система</a:t>
            </a:r>
            <a:endParaRPr b="1" lang="en-US" sz="88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323" name="Picture 7" descr="img21tit"/>
          <p:cNvPicPr/>
          <p:nvPr/>
        </p:nvPicPr>
        <p:blipFill>
          <a:blip r:embed="rId1"/>
          <a:stretch/>
        </p:blipFill>
        <p:spPr>
          <a:xfrm>
            <a:off x="714240" y="2071800"/>
            <a:ext cx="5715000" cy="1666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img21p01"/>
          <p:cNvPicPr/>
          <p:nvPr/>
        </p:nvPicPr>
        <p:blipFill>
          <a:blip r:embed="rId2"/>
          <a:stretch/>
        </p:blipFill>
        <p:spPr>
          <a:xfrm>
            <a:off x="2857680" y="3786120"/>
            <a:ext cx="51433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Содержимое 5" descr=""/>
          <p:cNvPicPr/>
          <p:nvPr/>
        </p:nvPicPr>
        <p:blipFill>
          <a:blip r:embed="rId1"/>
          <a:stretch/>
        </p:blipFill>
        <p:spPr>
          <a:xfrm>
            <a:off x="268200" y="0"/>
            <a:ext cx="88948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C:\Users\Пользователь\Документы\Картинки\Киевская Русь\Крещение Руси -князем Владимиро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2867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Історичне значення 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Київської   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Русі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єднала всі східносло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нські племена в єдину держав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Заклала засади державності у деяких несло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нських народі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Закрила доступ східним ордам до Європи, тим самим захистивши її від руйнаці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87152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Зміцнила обороноздатність східних сло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н, захистила їх від фізичного винищення з боку кочівникі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Зміцнила міжнародні з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зки, підняла авторитет східних сло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Сприяла розвитку культу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3. Більшість імен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руських послів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, що зафіксовані у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договорах з Візантією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(911, 944 рр.), мають скандинавське походження –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арл, Інегельд, Фарлоф, Верему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4. Посилання на “ПМЛ” Несто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Антинорманська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3840" y="128592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Засновник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М.В. Ломонос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2999880"/>
            <a:ext cx="864396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Сутність: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аснування держави та й сама назва «Русь» мають винятково слов'янські коріння та походже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425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Аргументи теорі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1. Назва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"Русь" 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лов'янського походження, оскільки пов'язана з назвами річок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Рось, Руса, Роставиця 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у Центральній Україн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2. Археологічні матеріали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із міст та торговельних шляхів Східної Європи свідчать про обмежений вплив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"варязького фактора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53:26Z</dcterms:created>
  <dc:creator>Customer</dc:creator>
  <dc:description/>
  <dc:language>en-US</dc:language>
  <cp:lastModifiedBy>Admin</cp:lastModifiedBy>
  <dcterms:modified xsi:type="dcterms:W3CDTF">2013-09-18T22:18:18Z</dcterms:modified>
  <cp:revision>129</cp:revision>
  <dc:subject/>
  <dc:title>      КИЇВСЬКА  РУСЬ</dc:title>
</cp:coreProperties>
</file>