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9.png" ContentType="image/png"/>
  <Override PartName="/ppt/media/image27.png" ContentType="image/png"/>
  <Override PartName="/ppt/media/image15.png" ContentType="image/png"/>
  <Override PartName="/ppt/media/image26.jpeg" ContentType="image/jpeg"/>
  <Override PartName="/ppt/media/image19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4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0DD-F40B-41EB-BD45-EA79BBC0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4D8-2BEC-4C3F-8F27-8DB2DBF6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9DC-9260-464F-A76D-7DD58180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9C9-45F3-48B4-A1DA-CD68FD8B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9E6-C1B2-4DED-B819-4DEC71B2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EF8-3A65-4F56-B647-0218EAD7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7DD-FA09-470E-9947-218CF5FA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28F-A5FD-4EFB-8A54-E10FE31E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E08-239F-4432-BF65-1531C889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02B-D254-4C59-BC93-0099045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F08-DE9F-4824-8DBF-E90B082F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4E5-EBA2-4B3C-ACB2-3AF9D1C3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657E-22A1-425C-9ED6-06A997C8B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wikipedia.org/w/index.php?title=&#1060;&#1072;&#1081;&#1083;:Alex_K_Halych-Volhynia_3.png&amp;filetimestamp=20070908144408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6" descr=""/>
          <p:cNvPicPr/>
          <p:nvPr/>
        </p:nvPicPr>
        <p:blipFill>
          <a:blip r:embed="rId1"/>
          <a:stretch/>
        </p:blipFill>
        <p:spPr>
          <a:xfrm>
            <a:off x="0" y="139680"/>
            <a:ext cx="9034560" cy="653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а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лицько-Волинське кн-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Складалось з двох части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Власне Г-В земл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Кн-ва, що знаходились у  володінні або в залежності від   г-в правителі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Київське 1203 – 1205 рр., Турово-Пінське, Закарпаття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Alex K Halych-Volhynia 3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795240"/>
            <a:ext cx="8215200" cy="606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Передумови виникненн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643200" y="6286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ВК сер. ХІІІ – Х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1357200" y="857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В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1357200" y="12859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В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1357200" y="24289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1357200" y="1785960"/>
            <a:ext cx="92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</a:rPr>
              <a:t>Інші руські кн-в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1357200" y="1000080"/>
            <a:ext cx="928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newsflash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1420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1. Вдале географічне положен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Віддаленість від Києва послаблювала вплив центральної влад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Кн-во розташовувалось на перехресті стратегічно важливих шляхі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0" y="0"/>
            <a:ext cx="914400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Необхідність спільної боротьби двох князівств</a:t>
            </a:r>
            <a:r>
              <a:rPr b="0" lang="uk-UA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Проти агресії з боку Польщі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Проти монгольського нашест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0" y="214200"/>
            <a:ext cx="91440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Господарські відносин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4. Енергійна об'єднавча політика Романа Мстиславича (1199-1205) та Данила Галицького (1238-126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-360" y="1425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uk-UA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8800" spc="-1" strike="noStrike">
                <a:solidFill>
                  <a:srgbClr val="ffff00"/>
                </a:solidFill>
                <a:latin typeface="Arial"/>
              </a:rPr>
              <a:t>Державний устрі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Пользователь\Документы\Картинки\Галицько-Волинське князівство\Столица.jpg"/>
          <p:cNvPicPr/>
          <p:nvPr/>
        </p:nvPicPr>
        <p:blipFill>
          <a:blip r:embed="rId1"/>
          <a:stretch/>
        </p:blipFill>
        <p:spPr>
          <a:xfrm>
            <a:off x="928800" y="3357720"/>
            <a:ext cx="714348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Times New Roman"/>
              </a:rPr>
              <a:t>Періодизація державного розвитк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ff"/>
                </a:solidFill>
                <a:latin typeface="Times New Roman"/>
              </a:rPr>
              <a:t>Галицько-Волинського князів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42920" y="0"/>
            <a:ext cx="9144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 період (1199-1205) – 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утворення та становлення держав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0" y="1571760"/>
            <a:ext cx="89647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3" descr="Безымянный2"/>
          <p:cNvPicPr/>
          <p:nvPr/>
        </p:nvPicPr>
        <p:blipFill>
          <a:blip r:embed="rId1"/>
          <a:stretch/>
        </p:blipFill>
        <p:spPr>
          <a:xfrm>
            <a:off x="6095880" y="3186000"/>
            <a:ext cx="3048120" cy="3672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1"/>
          <p:cNvSpPr/>
          <p:nvPr/>
        </p:nvSpPr>
        <p:spPr>
          <a:xfrm>
            <a:off x="0" y="2571840"/>
            <a:ext cx="914400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 період (1205-1238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uk-UA" sz="6600" spc="-1" strike="noStrike">
                <a:solidFill>
                  <a:srgbClr val="000000"/>
                </a:solidFill>
                <a:latin typeface="Times New Roman"/>
              </a:rPr>
              <a:t>тимчасовий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Times New Roman"/>
              </a:rPr>
              <a:t>розпад єдиної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Times New Roman"/>
              </a:rPr>
              <a:t>держав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271476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 період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(1264-1323)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стабільність та піднесен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0" y="0"/>
            <a:ext cx="90010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 період (1238-1264)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– об'єднання та піднесення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б-ба із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золотоординним іг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0" y="464328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 період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(1323-1340)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поступовий занепа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Центральні органи влад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1052640"/>
            <a:ext cx="524988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Великий княз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14200" y="3000240"/>
            <a:ext cx="53215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Боярська дум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Віч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Снем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3203640" y="6308640"/>
            <a:ext cx="1366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9" descr="Безымянный2"/>
          <p:cNvPicPr/>
          <p:nvPr/>
        </p:nvPicPr>
        <p:blipFill>
          <a:blip r:embed="rId1"/>
          <a:stretch/>
        </p:blipFill>
        <p:spPr>
          <a:xfrm>
            <a:off x="5786280" y="4214880"/>
            <a:ext cx="2714760" cy="2201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1"/>
          <p:cNvPicPr/>
          <p:nvPr/>
        </p:nvPicPr>
        <p:blipFill>
          <a:blip r:embed="rId2"/>
          <a:stretch/>
        </p:blipFill>
        <p:spPr>
          <a:xfrm>
            <a:off x="6000840" y="1071720"/>
            <a:ext cx="257184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9" descr="galicia_04b.gif"/>
          <p:cNvPicPr/>
          <p:nvPr/>
        </p:nvPicPr>
        <p:blipFill>
          <a:blip r:embed="rId1"/>
          <a:stretch/>
        </p:blipFill>
        <p:spPr>
          <a:xfrm>
            <a:off x="714240" y="357120"/>
            <a:ext cx="7786800" cy="608508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Функції княз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414360" y="914400"/>
            <a:ext cx="874224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Данило Галицький </a:t>
            </a:r>
            <a:br>
              <a:rPr sz="6000"/>
            </a:b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(1238-1264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9" descr="untitled2.bmp"/>
          <p:cNvPicPr/>
          <p:nvPr/>
        </p:nvPicPr>
        <p:blipFill>
          <a:blip r:embed="rId1"/>
          <a:stretch/>
        </p:blipFill>
        <p:spPr>
          <a:xfrm>
            <a:off x="5059440" y="1841400"/>
            <a:ext cx="3243240" cy="4529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Пользователь\Документы\Картинки\Галицько-Волинське князівство\Корона Данила Галицкого.jpeg"/>
          <p:cNvPicPr/>
          <p:nvPr/>
        </p:nvPicPr>
        <p:blipFill>
          <a:blip r:embed="rId2"/>
          <a:stretch/>
        </p:blipFill>
        <p:spPr>
          <a:xfrm>
            <a:off x="1000080" y="2143080"/>
            <a:ext cx="2152800" cy="28576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357120" y="5500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53 р. – коронаці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. Галицьког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105520" y="214200"/>
            <a:ext cx="403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Юрій 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(1301 – 1308 (1315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Users\Пользователь\Документы\Картинки\Галицько-Волинське князівство\Юрій Львович.jpg"/>
          <p:cNvPicPr/>
          <p:nvPr/>
        </p:nvPicPr>
        <p:blipFill>
          <a:blip r:embed="rId1"/>
          <a:stretch/>
        </p:blipFill>
        <p:spPr>
          <a:xfrm>
            <a:off x="5214960" y="2286000"/>
            <a:ext cx="3429000" cy="4038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Пользователь\Документы\Картинки\Галицько-Волинське князівство\Лев Галицкий.jpg"/>
          <p:cNvPicPr/>
          <p:nvPr/>
        </p:nvPicPr>
        <p:blipFill>
          <a:blip r:embed="rId2"/>
          <a:stretch/>
        </p:blipFill>
        <p:spPr>
          <a:xfrm>
            <a:off x="428760" y="214200"/>
            <a:ext cx="4143240" cy="47674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6"/>
          <p:cNvSpPr/>
          <p:nvPr/>
        </p:nvSpPr>
        <p:spPr>
          <a:xfrm>
            <a:off x="500040" y="5214960"/>
            <a:ext cx="407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е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(1264 – 13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Особливості княжої вла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692280"/>
            <a:ext cx="91440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Використання титулів  “російських королів”, “принцепсов”, “князів Російської землі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299736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Нові атрибути влад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корона (вінець), герб, прапор, печа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1928880"/>
            <a:ext cx="91440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Встановлення дуумвіраті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Данило і Василько, Андрі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 Ле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I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3933720"/>
            <a:ext cx="9001080" cy="17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Призначення єпископів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(лише після цього вони посвячувались в сан київським митрополитом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5643720"/>
            <a:ext cx="8715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Постійна боротьба із боярств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Боярська ра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5" descr=""/>
          <p:cNvPicPr/>
          <p:nvPr/>
        </p:nvPicPr>
        <p:blipFill>
          <a:blip r:embed="rId1"/>
          <a:stretch/>
        </p:blipFill>
        <p:spPr>
          <a:xfrm>
            <a:off x="-115920" y="1073160"/>
            <a:ext cx="9259920" cy="597384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низ 7"/>
          <p:cNvSpPr/>
          <p:nvPr/>
        </p:nvSpPr>
        <p:spPr>
          <a:xfrm>
            <a:off x="1643040" y="2428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Стрелка вправо 6"/>
          <p:cNvSpPr/>
          <p:nvPr/>
        </p:nvSpPr>
        <p:spPr>
          <a:xfrm>
            <a:off x="2214720" y="1500120"/>
            <a:ext cx="2000160" cy="4842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Arial"/>
              </a:rPr>
              <a:t>Скликалася рада за ініціативою боярства або княз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Arial"/>
              </a:rPr>
              <a:t>Права і компетенція Ради визначені не бул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1205 р. – Боярська рад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не дозвол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дові Романа правити від імені свого малолітнього сина Данила та вигнали її з дітьми з Гали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аконні спадкоємці перебували в Угорщин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Віч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Скликалося за ініціативою княз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Не мало чіткої компетенці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З ХІІІ ст. – вічовий устрій занепада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Віч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1213  та 1235 р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Данило Галицький виступав з пропозиціє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подолати боярські міжусобц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об'єднати державу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8" descr="Безымянный31"/>
          <p:cNvPicPr/>
          <p:nvPr/>
        </p:nvPicPr>
        <p:blipFill>
          <a:blip r:embed="rId1"/>
          <a:stretch/>
        </p:blipFill>
        <p:spPr>
          <a:xfrm>
            <a:off x="785880" y="785880"/>
            <a:ext cx="7107120" cy="30128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"/>
          <p:cNvSpPr/>
          <p:nvPr/>
        </p:nvSpPr>
        <p:spPr>
          <a:xfrm>
            <a:off x="179280" y="4221000"/>
            <a:ext cx="43214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Великокнязівська друж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Боярські загони (оружники, стрільці)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Народне ополчення (вої)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Найманці (з угрів та половці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3203640" y="6308640"/>
            <a:ext cx="1366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472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Збройні си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78152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C:\Documents and Settings\Иван\Рабочий стол\гал-вол.кн-во2.bmp"/>
          <p:cNvPicPr/>
          <p:nvPr/>
        </p:nvPicPr>
        <p:blipFill>
          <a:blip r:embed="rId1"/>
          <a:stretch/>
        </p:blipFill>
        <p:spPr>
          <a:xfrm>
            <a:off x="1928880" y="1357200"/>
            <a:ext cx="5429160" cy="39290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C:\Documents and Settings\Иван\Рабочий стол\гал-вол.кн-во2.bmp"/>
          <p:cNvPicPr/>
          <p:nvPr/>
        </p:nvPicPr>
        <p:blipFill>
          <a:blip r:embed="rId2"/>
          <a:stretch/>
        </p:blipFill>
        <p:spPr>
          <a:xfrm>
            <a:off x="1928880" y="1357200"/>
            <a:ext cx="5429160" cy="3929040"/>
          </a:xfrm>
          <a:prstGeom prst="rect">
            <a:avLst/>
          </a:prstGeom>
          <a:ln w="0">
            <a:noFill/>
          </a:ln>
        </p:spPr>
      </p:pic>
    </p:spTree>
  </p:cSld>
  <p:transition advTm="2000"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C:\Users\Пользователь\Документы\Картинки\Галицько-Волинське князівство\Копейщик Г-В княжества 13 век.jpg"/>
          <p:cNvPicPr/>
          <p:nvPr/>
        </p:nvPicPr>
        <p:blipFill>
          <a:blip r:embed="rId1"/>
          <a:stretch/>
        </p:blipFill>
        <p:spPr>
          <a:xfrm>
            <a:off x="142920" y="2500200"/>
            <a:ext cx="2333520" cy="3343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58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Військова реформа </a:t>
            </a:r>
            <a:br>
              <a:rPr sz="4800"/>
            </a:b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Д. Галицьк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Регулярна піхота – “пешці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ажкоозброєн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оруж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ійськова ра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Місцеві органи влад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"/>
          <p:cNvPicPr/>
          <p:nvPr/>
        </p:nvPicPr>
        <p:blipFill>
          <a:blip r:embed="rId1"/>
          <a:stretch/>
        </p:blipFill>
        <p:spPr>
          <a:xfrm>
            <a:off x="-12600" y="695160"/>
            <a:ext cx="9169200" cy="6334200"/>
          </a:xfrm>
          <a:prstGeom prst="rect">
            <a:avLst/>
          </a:prstGeom>
          <a:ln w="0">
            <a:noFill/>
          </a:ln>
        </p:spPr>
      </p:pic>
      <p:cxnSp>
        <p:nvCxnSpPr>
          <p:cNvPr id="123" name="Прямая со стрелкой 6"/>
          <p:cNvCxnSpPr/>
          <p:nvPr/>
        </p:nvCxnSpPr>
        <p:spPr>
          <a:xfrm>
            <a:off x="3214800" y="6500880"/>
            <a:ext cx="429120" cy="216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24" name="Прямая со стрелкой 8"/>
          <p:cNvCxnSpPr/>
          <p:nvPr/>
        </p:nvCxnSpPr>
        <p:spPr>
          <a:xfrm>
            <a:off x="5072040" y="6500880"/>
            <a:ext cx="572400" cy="216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Волостел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-12600" y="963720"/>
            <a:ext cx="91692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Система управління - </a:t>
            </a:r>
            <a:br>
              <a:rPr sz="7200"/>
            </a:b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двірцево-вотчинна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928800"/>
            <a:ext cx="9286920" cy="58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4"/>
          <p:cNvSpPr/>
          <p:nvPr/>
        </p:nvSpPr>
        <p:spPr>
          <a:xfrm flipV="1">
            <a:off x="250920" y="1142640"/>
            <a:ext cx="5257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00108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59529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вірськ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ав усім княжим двором і охороною княз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ечатни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канцлер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іг княжу печатку, складав і розсилав грамоти, очолював канцелярі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ідельнич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ізовував прийом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ружник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ав озброєнням війсь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3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итячі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исті охоронці у мирний ча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Суд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"/>
          <p:cNvPicPr/>
          <p:nvPr/>
        </p:nvPicPr>
        <p:blipFill>
          <a:blip r:embed="rId1"/>
          <a:stretch/>
        </p:blipFill>
        <p:spPr>
          <a:xfrm>
            <a:off x="-12600" y="1212840"/>
            <a:ext cx="91692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Судова систе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2560" y="128556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уд не був відокремлений від адміністраці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На місцях судові функції виконували: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оєв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олостел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с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тар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Суспільний  ла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Users\73B5~1\AppData\Local\Temp\Rar$DI09.546\Костюми киян різних соціальних груп..jpg"/>
          <p:cNvPicPr/>
          <p:nvPr/>
        </p:nvPicPr>
        <p:blipFill>
          <a:blip r:embed="rId1"/>
          <a:stretch/>
        </p:blipFill>
        <p:spPr>
          <a:xfrm>
            <a:off x="2071800" y="2143080"/>
            <a:ext cx="540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одержимое 4" descr=""/>
          <p:cNvPicPr/>
          <p:nvPr/>
        </p:nvPicPr>
        <p:blipFill>
          <a:blip r:embed="rId1"/>
          <a:stretch/>
        </p:blipFill>
        <p:spPr>
          <a:xfrm>
            <a:off x="-19080" y="128520"/>
            <a:ext cx="9034560" cy="6527880"/>
          </a:xfrm>
          <a:prstGeom prst="rect">
            <a:avLst/>
          </a:prstGeom>
          <a:ln w="0">
            <a:noFill/>
          </a:ln>
        </p:spPr>
      </p:pic>
      <p:sp>
        <p:nvSpPr>
          <p:cNvPr id="138" name="Стрелка вниз 2"/>
          <p:cNvSpPr/>
          <p:nvPr/>
        </p:nvSpPr>
        <p:spPr>
          <a:xfrm>
            <a:off x="4143240" y="150012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57208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Organization Chart 5"/>
          <p:cNvGrpSpPr/>
          <p:nvPr/>
        </p:nvGrpSpPr>
        <p:grpSpPr>
          <a:xfrm>
            <a:off x="142920" y="214200"/>
            <a:ext cx="8857800" cy="6500160"/>
            <a:chOff x="142920" y="214200"/>
            <a:chExt cx="8857800" cy="6500160"/>
          </a:xfrm>
        </p:grpSpPr>
        <p:cxnSp>
          <p:nvCxnSpPr>
            <p:cNvPr id="141" name="_s1034"/>
            <p:cNvCxnSpPr/>
            <p:nvPr/>
          </p:nvCxnSpPr>
          <p:spPr>
            <a:xfrm flipV="1">
              <a:off x="1498320" y="1250280"/>
              <a:ext cx="2930040" cy="3162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1039"/>
            <p:cNvSpPr/>
            <p:nvPr/>
          </p:nvSpPr>
          <p:spPr>
            <a:xfrm>
              <a:off x="713880" y="214200"/>
              <a:ext cx="7501320" cy="102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800" spc="-1" strike="noStrike">
                  <a:solidFill>
                    <a:srgbClr val="ff0000"/>
                  </a:solidFill>
                  <a:latin typeface="Arial"/>
                </a:rPr>
                <a:t>Вільне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1040"/>
            <p:cNvSpPr/>
            <p:nvPr/>
          </p:nvSpPr>
          <p:spPr>
            <a:xfrm>
              <a:off x="142920" y="1739880"/>
              <a:ext cx="2714760" cy="102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00000"/>
                  </a:solidFill>
                  <a:latin typeface="Times New Roman"/>
                </a:rPr>
                <a:t>Князі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1041"/>
            <p:cNvSpPr/>
            <p:nvPr/>
          </p:nvSpPr>
          <p:spPr>
            <a:xfrm>
              <a:off x="3072240" y="4348800"/>
              <a:ext cx="2809440" cy="102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Духовенств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1042"/>
            <p:cNvSpPr/>
            <p:nvPr/>
          </p:nvSpPr>
          <p:spPr>
            <a:xfrm>
              <a:off x="6143760" y="4023000"/>
              <a:ext cx="2856960" cy="165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Селяни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Общинники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(смерди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1043"/>
            <p:cNvSpPr/>
            <p:nvPr/>
          </p:nvSpPr>
          <p:spPr>
            <a:xfrm>
              <a:off x="5500080" y="1496880"/>
              <a:ext cx="3500640" cy="102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Міські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мешканц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1044"/>
            <p:cNvSpPr/>
            <p:nvPr/>
          </p:nvSpPr>
          <p:spPr>
            <a:xfrm>
              <a:off x="142920" y="3576600"/>
              <a:ext cx="2714760" cy="3137760"/>
            </a:xfrm>
            <a:custGeom>
              <a:avLst/>
              <a:gdLst>
                <a:gd name="textAreaLeft" fmla="*/ 132480 w 2714760"/>
                <a:gd name="textAreaRight" fmla="*/ 2582280 w 2714760"/>
                <a:gd name="textAreaTop" fmla="*/ 132480 h 3137760"/>
                <a:gd name="textAreaBottom" fmla="*/ 3005280 h 3137760"/>
              </a:gdLst>
              <a:ahLst/>
              <a:rect l="textAreaLeft" t="textAreaTop" r="textAreaRight" b="textAreaBottom"/>
              <a:pathLst>
                <a:path w="21600" h="24965">
                  <a:moveTo>
                    <a:pt x="3600" y="0"/>
                  </a:moveTo>
                  <a:arcTo wR="3600" hR="3600" stAng="16200000" swAng="-5400000"/>
                  <a:lnTo>
                    <a:pt x="0" y="21365"/>
                  </a:lnTo>
                  <a:arcTo wR="3600" hR="3600" stAng="10800000" swAng="-5400000"/>
                  <a:lnTo>
                    <a:pt x="18000" y="249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Times New Roman"/>
                </a:rPr>
                <a:t>Бояри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_s1033"/>
            <p:cNvCxnSpPr>
              <a:stCxn id="144" idx="0"/>
              <a:endCxn id="142" idx="2"/>
            </p:cNvCxnSpPr>
            <p:nvPr/>
          </p:nvCxnSpPr>
          <p:spPr>
            <a:xfrm flipH="1" flipV="1">
              <a:off x="4465080" y="1243080"/>
              <a:ext cx="11520" cy="310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149" name="_s1033"/>
          <p:cNvCxnSpPr>
            <a:endCxn id="142" idx="2"/>
          </p:cNvCxnSpPr>
          <p:nvPr/>
        </p:nvCxnSpPr>
        <p:spPr>
          <a:xfrm flipH="1" flipV="1">
            <a:off x="4463640" y="1242720"/>
            <a:ext cx="1037520" cy="54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_s1033"/>
          <p:cNvCxnSpPr>
            <a:stCxn id="143" idx="0"/>
            <a:endCxn id="142" idx="2"/>
          </p:cNvCxnSpPr>
          <p:nvPr/>
        </p:nvCxnSpPr>
        <p:spPr>
          <a:xfrm flipV="1">
            <a:off x="1499040" y="1242720"/>
            <a:ext cx="2964600" cy="497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_s1033"/>
          <p:cNvCxnSpPr>
            <a:endCxn id="142" idx="2"/>
          </p:cNvCxnSpPr>
          <p:nvPr/>
        </p:nvCxnSpPr>
        <p:spPr>
          <a:xfrm flipH="1" flipV="1">
            <a:off x="4463280" y="1242360"/>
            <a:ext cx="2251800" cy="261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М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І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560" y="135684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Утворення Г-В кн-в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Державний устрі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Суспільний ла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Правова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холоп"/>
          <p:cNvPicPr/>
          <p:nvPr/>
        </p:nvPicPr>
        <p:blipFill>
          <a:blip r:embed="rId1"/>
          <a:stretch/>
        </p:blipFill>
        <p:spPr>
          <a:xfrm>
            <a:off x="6286680" y="1000080"/>
            <a:ext cx="2714400" cy="47862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0" y="0"/>
            <a:ext cx="685800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28560" indent="-62856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Велике боярств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мужі галицькі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Середнє боярств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Дрібне боярств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73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marL="427320" indent="-427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Мужі галицькі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Володіли крупними вотчинами та залежними селян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Мали власні військові дружи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Не сприймали втручання князя у свої справ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Від їхньої волі залежала доля князівського стол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Здійснювали управлі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142920"/>
            <a:ext cx="900108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marL="496440" indent="-496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Середнє боярств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Дрібне боярств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находились на службі 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княз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Одержували за службу земл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Міські мешканці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4" descr=""/>
          <p:cNvPicPr/>
          <p:nvPr/>
        </p:nvPicPr>
        <p:blipFill>
          <a:blip r:embed="rId1"/>
          <a:stretch/>
        </p:blipFill>
        <p:spPr>
          <a:xfrm>
            <a:off x="-42840" y="1285920"/>
            <a:ext cx="91314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Пользователь\Документы\Картинки\Галицько-Волинське князівство\СОБОР святого ЮРА.jpg"/>
          <p:cNvPicPr/>
          <p:nvPr/>
        </p:nvPicPr>
        <p:blipFill>
          <a:blip r:embed="rId1"/>
          <a:stretch/>
        </p:blipFill>
        <p:spPr>
          <a:xfrm>
            <a:off x="2428920" y="642960"/>
            <a:ext cx="6500880" cy="53499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3"/>
          <p:cNvSpPr/>
          <p:nvPr/>
        </p:nvSpPr>
        <p:spPr>
          <a:xfrm>
            <a:off x="142920" y="214200"/>
            <a:ext cx="38577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 Галицько-Волинській держав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уло понад 80 міс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ал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Хол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олодими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Льві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ерест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еремиш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4286160" y="6027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обор Святого Юра, 14 с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. Льв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214200" y="0"/>
            <a:ext cx="4786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Times New Roman"/>
              </a:rPr>
              <a:t>Смерд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ли власне невелике господарство та май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Сплачували подат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Несли військову повинні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C:\Users\73B5~1\AppData\Local\Temp\Rar$DI18.968\Костюми давньоруських селян..jpg"/>
          <p:cNvPicPr/>
          <p:nvPr/>
        </p:nvPicPr>
        <p:blipFill>
          <a:blip r:embed="rId1"/>
          <a:stretch/>
        </p:blipFill>
        <p:spPr>
          <a:xfrm>
            <a:off x="5072040" y="214200"/>
            <a:ext cx="3959280" cy="650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142920" y="142920"/>
            <a:ext cx="885816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28560" indent="-539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Невільн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539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Холопство не набуло широкого поширенн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539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Холопів садовили на земл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539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Сплачували рент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539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Виконували повинност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539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Особливості </a:t>
            </a:r>
            <a:br>
              <a:rPr sz="6600"/>
            </a:b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Г-В кн-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28760" y="3071880"/>
            <a:ext cx="822960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плив боярст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4354560" cy="9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Вплив боярства на 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центральне управлі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2920" y="1285560"/>
            <a:ext cx="4354560" cy="5429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ід волі боярства нерідко залежала доля  кня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гутність боярства відобразилась на ролі –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оярської 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ерш. пол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т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абував чинності лише після  ухвалення його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оярською радою і  підписання княз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0" y="142920"/>
            <a:ext cx="4284720" cy="9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b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Вплив боярства на  місцеве управлі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5080" y="1285560"/>
            <a:ext cx="4284720" cy="5429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Боярство  привласнило право роздавати міста і волості, наділяти земельними ділянками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0" y="142920"/>
            <a:ext cx="900108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плив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олотої Орди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ув значно меншим, ніж на інші руські князі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-1094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-В кн-во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е поділялося на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ді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245 р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формою правління став своєрідний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уумвірат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іч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не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ало істотного знач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Галицькі землі були рано відірвані від торгового шляху «із варяг у гре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94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Галицьке князів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ІІ/ХІ ст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. – утворення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Галицького князів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Засновник –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князь Ростислав Володимирович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(династія Ростиславичів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28760" y="1071720"/>
            <a:ext cx="82152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Arial"/>
              </a:rPr>
              <a:t>4. Правова систем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9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Джерела пра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907920"/>
            <a:ext cx="90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вича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2357280"/>
            <a:ext cx="8893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Законодавчі ак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1500120"/>
            <a:ext cx="889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Міжнародні договори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000240"/>
            <a:ext cx="8964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Руська Прав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0" y="378612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Норми церковного пра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0" y="4714920"/>
            <a:ext cx="8964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Норми магдебурзьк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ра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0" y="607212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Судовий прецеден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6" descr="Безымянный"/>
          <p:cNvPicPr/>
          <p:nvPr/>
        </p:nvPicPr>
        <p:blipFill>
          <a:blip r:embed="rId1"/>
          <a:stretch/>
        </p:blipFill>
        <p:spPr>
          <a:xfrm>
            <a:off x="6264360" y="4786200"/>
            <a:ext cx="2879640" cy="189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2"/>
          <p:cNvPicPr/>
          <p:nvPr/>
        </p:nvPicPr>
        <p:blipFill>
          <a:blip r:embed="rId2"/>
          <a:stretch/>
        </p:blipFill>
        <p:spPr>
          <a:xfrm>
            <a:off x="7215120" y="2000160"/>
            <a:ext cx="178596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520"/>
                            </p:stCondLst>
                            <p:childTnLst>
                              <p:par>
                                <p:cTn id="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52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252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452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0" y="2357280"/>
            <a:ext cx="8893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7" descr="3"/>
          <p:cNvPicPr/>
          <p:nvPr/>
        </p:nvPicPr>
        <p:blipFill>
          <a:blip r:embed="rId1"/>
          <a:stretch/>
        </p:blipFill>
        <p:spPr>
          <a:xfrm>
            <a:off x="6357960" y="1214280"/>
            <a:ext cx="2548080" cy="459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840" y="928800"/>
            <a:ext cx="592956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Законодавчі акти княжої влади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71524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Грамота князя </a:t>
            </a:r>
            <a:br>
              <a:rPr sz="4800"/>
            </a:b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Івана Ростиславича 1134 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ламентувала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правове становище іноземних купців на руських земл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Встановлювала пільги для болгарських купців щодо товарів “на заказ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7152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Рукописання князя Володимира Васильковича 1287  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2920" y="2428560"/>
            <a:ext cx="885816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Порядок передачі князями своїм спадкоємцям прав на земельне володіння разом феодально залежним населення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Уставна грамота князя </a:t>
            </a:r>
            <a:br>
              <a:rPr sz="5400"/>
            </a:b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Мстислава Даниловича 1289 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4200" y="2500200"/>
            <a:ext cx="8715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Регламентувала розміри та форми феодальних повинностей міського населення на користь княз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Міста отримували права на самоврядування, але не в повному обсяз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1324 р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м. Володимир-Волинсь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1339 р.  - м. Сян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179280" y="214200"/>
            <a:ext cx="8964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Норми магдебурзького пра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1428840"/>
            <a:ext cx="9001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ява нових видів рядів: застави, поручництва, дарування нерухомого ма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силюється майнова відповідальність сторі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Особиста залежність боржника від кредитор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179280" y="0"/>
            <a:ext cx="8964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Зобов'язальне прав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1642680"/>
            <a:ext cx="9001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мертна к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Вигн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Конфіскація ма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юремне ув'язн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Штраф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ілесні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179280" y="0"/>
            <a:ext cx="8964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Кримінальне прав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Покаранн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900108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imes New Roman"/>
              </a:rPr>
              <a:t>Особливості правової систем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1141 р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. – столиц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м. Гали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Після Любецького з'їзду (1097 р.)  Галицька земля стала незалежною від Киє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214200"/>
            <a:ext cx="8856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береження в основному правової системи, що функціонувала на Ру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457200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Створення нових законодавчих акті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14200" y="2714760"/>
            <a:ext cx="87854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Внесення змін до чинних руських джере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142920" y="3714840"/>
            <a:ext cx="885672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Знищення правових пам'яток монголо-татарською навало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58920" y="214200"/>
            <a:ext cx="8785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Вплив західноєвропейського пра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2920" y="3429000"/>
            <a:ext cx="87850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Роль Г-В князівств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08000" y="2357280"/>
            <a:ext cx="885672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хороняла Україну від поневолення та асиміляції з боку Литви, Угорщини, Польщі та інших сусідніх держа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08000" y="1500120"/>
            <a:ext cx="8928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б'єднання близько 90% української територі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08000" y="4149720"/>
            <a:ext cx="9036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одернізувала давньоруську державну організаці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08000" y="5357880"/>
            <a:ext cx="9036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тала новим після занепаду Києва центром політичного та економічного життя украї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85438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ричини занепаду Галицько-Волинського князівства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42920" y="1600200"/>
            <a:ext cx="88581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Монголо-татарське і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Деструктивна політика боярської олігархі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Припинення княжої династії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Агресія з боку Польщі, Литв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зквіт кн-ва за правління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рослава Осьмомис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1153 – 118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1187 р.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галицькі бояри запросили на престол волинського князя –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мана,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кий не зміг утримати вл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187 – 1198 рр. –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и владі син Осмомисла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– Володи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198 р. – династія Ростиславичів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ипиняє існ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85672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Волинське князів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1214280"/>
            <a:ext cx="91440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Формування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кн-ва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– за правління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Мстислава Ізяславича (1167- 1170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1170 - 1199 рр.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Роман Мстиславич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856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142920"/>
            <a:ext cx="56437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1199 р.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Роман 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об'єднав </a:t>
            </a: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Галицьке і Волинськ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кн-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Roman_Mstislavich_%2C_Roman_of_Halych%2C_Roman_the_Great"/>
          <p:cNvPicPr/>
          <p:nvPr/>
        </p:nvPicPr>
        <p:blipFill>
          <a:blip r:embed="rId1"/>
          <a:stretch/>
        </p:blipFill>
        <p:spPr>
          <a:xfrm>
            <a:off x="5500800" y="357120"/>
            <a:ext cx="3475080" cy="49467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357120" y="564372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лоща 320 – 330 тис. кв. к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6:53:05Z</dcterms:created>
  <dc:creator>Gena</dc:creator>
  <dc:description/>
  <dc:language>en-US</dc:language>
  <cp:lastModifiedBy>Admin</cp:lastModifiedBy>
  <dcterms:modified xsi:type="dcterms:W3CDTF">2015-09-06T06:10:00Z</dcterms:modified>
  <cp:revision>198</cp:revision>
  <dc:subject/>
  <dc:title>Україна гетьманщина II половини  XVII - кінця XVIII століття</dc:title>
</cp:coreProperties>
</file>